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61E-71D7-4BE9-A612-65B4B5B5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26B-139A-4384-AE7D-55381F63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0A6-9C23-4820-A839-CFDEA599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36F-A686-4CC0-8329-D8151222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8A0-B410-442F-A0E7-1E302B18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8EF-5219-4EE0-839B-2E25F670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BFA-993B-4F97-B48B-E5C026A4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FD0-1D2E-44E2-83C3-74394D67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703-1760-44C3-AD17-76437FC6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14C-F9C2-4FBE-B615-DB5171E3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185-6337-4194-B06E-500FAE6B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423-E49C-4F06-944B-6AD7485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7A35-7634-4115-A93A-488EC3E996B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04640"/>
            <a:ext cx="8352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Roditelji - vanjski suradnici </a:t>
            </a:r>
            <a:br>
              <a:rPr sz="3600"/>
            </a:b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odgojno-obrazovnog sustava šk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4581360"/>
            <a:ext cx="377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upanijsko stručno vje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log, 22. veljače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072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nita Bakovljanec, pr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49640"/>
            <a:ext cx="9144000" cy="2808360"/>
          </a:xfrm>
          <a:prstGeom prst="rect">
            <a:avLst/>
          </a:prstGeom>
          <a:gradFill rotWithShape="0">
            <a:gsLst>
              <a:gs pos="0">
                <a:srgbClr val="ffc165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MUDR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I trudih se da mudrošću istražim i dokučim sve što biva pod nebom; o kako mučnu zadaću dade Bog sinovima ljudsk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ropovjednik, 1,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20400" y="404280"/>
            <a:ext cx="70232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.Rađenović-M.Smiljanić: Priručnik za razrednike,2007.,Zagreb ,Ali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.dr.sc.V.Rosić- dr.sc.J.Zloković: Modeli suradnje obitelji i škole,2003,Đakovo,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.G.Thompson: Nastavnik uspješni timski radnik iz Priručnika za razrednike 2009./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.Rečić: Kako mogu surađivati sa školom,2006,Đakovo,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.Živković: Susreti s roditeljima1 i 2, priručnik za održavanje roditeljskih sastanaka, 2005,Đakovo,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.sc.A.Ivanek i ostali: Razrednik(ica) pedagoško psihološki voditelj razrednog odjela,2005,Zagreb, 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623736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*Prve suze djeteta su molbe; ako ih ne spriječite, postat će naredbe</a:t>
            </a:r>
            <a:r>
              <a:rPr b="0" lang="hr-HR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DAGOŠKA RADIONICA, VJEŽ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1. Vježba: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upoznavanje roditelja na početku roditeljskog sastanka, (susreta). Papirići sa zadacima (samo jedan zadatak po sudioniku) bit će zaljepljeni ispod stolca. Nakon izvršenog zadatka roditelji (sudionici) iznose osvtr i doživlj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ILJEVI: potaknuti roditelje na međusobnu suradnju; na lakše iznošenje problema i razgovor o istima; opuštena atmosfera međusobnog poštovanja i stvaranje večeg povjerenja između roditelja i rauredni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2. VJEŽB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 zajednički roditeljski učitelja i roditelja. Podjela po skupinama, 6 obojenih razmišljanja. Bacanje kocke sa 6 boja odabire se boja polja o kojem će se razgovarati. Prvo se individualno ispuni listić, zatim svi u skupini čitaju što su napisali i raspravljaju o zadanoj te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" y="0"/>
          <a:ext cx="9109080" cy="7173720"/>
        </p:xfrm>
        <a:graphic>
          <a:graphicData uri="http://schemas.openxmlformats.org/drawingml/2006/table">
            <a:tbl>
              <a:tblPr/>
              <a:tblGrid>
                <a:gridCol w="1793880"/>
                <a:gridCol w="1828800"/>
                <a:gridCol w="1828800"/>
                <a:gridCol w="1828800"/>
                <a:gridCol w="1828800"/>
              </a:tblGrid>
              <a:tr h="18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otapšaj osobu do sebe po lijevom ramenu i reci joj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OBZIRA NA RECESIJU I PROBLEME, SVE ĆE BITI DOBRO!”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ruži ruku osobi ispred sebe i reci joj da ti je drago što pripadate istoj skupin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ditelja, razreda, vjeroučitelja, vijeća...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Odaberi osobu u razredu i reci joj da ti je drago što njeno i vaše dijete idu u isti razr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Dođi do razrednice i zahvali joj na ljubaznom dočeku i zanimljivo pripremljenom roditeljskom sastanku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Odaberi jednu osobu i zagrli j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Osobi iza sebe (ili s lijeve strane) reci nešto lijep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sobi sa desne strane daj bombon koji ti je zaljepljen ispod stol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Upoznaj se sa osobom koju baš ne poznaješ, pitaj odakle je i kako se zove njezino dijet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Osobi koja se danas odjenula baš kako ti se sviđa priđi i recite da ti se sviđa kako se odjenul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sobi ispred sebe reci kako ti sa svojim djetetom radiš ili si radio ili bi radio/la zadaću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Četvrtoj osobi od sebe reci kakva si ti mama, kakav si ti tata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Trečoj osobi od sebe reci za što bi posebno pohvalio/la svoje dijete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Sedmoj osobi od sebe, brojeći s lijeve strane, reci koje bi učitelje svoga djeteta posebno pohvalio/la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. Vježba:</a:t>
                      </a: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poznavanje roditelja na početku roditeljskog sastanka, (susreta). Papirići sa zadacima (samo jedan zadatak po sudioniku) bit će zaljepljeni ispod stolca. Nakon izvršenog zadatka roditelji (sudionici) iznose osvtr i doživljaj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JEVI: potaknuti roditelje na međusobnu suradnju; na lakše iznošenje problema i razgovor o istima; opuštena atmosfera međusobnog poštovanja i stvaranje večeg povjerenja između roditelja i raurednika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5958000"/>
        </p:xfrm>
        <a:graphic>
          <a:graphicData uri="http://schemas.openxmlformats.org/drawingml/2006/table">
            <a:tbl>
              <a:tblPr/>
              <a:tblGrid>
                <a:gridCol w="2340000"/>
                <a:gridCol w="2232000"/>
                <a:gridCol w="2286000"/>
                <a:gridCol w="2286000"/>
              </a:tblGrid>
              <a:tr h="158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je dijete zove se ____, posebno bi na  njemu volio/la istaknuti</a:t>
                      </a: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_______ </a:t>
                      </a: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sobinu, ponašanje, uspjeh, vještinu.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to jer</a:t>
                      </a: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je dijete za učitelje kažu da su_______,  a posebno je zadovoljan sa _____ zato jer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afa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je dijete nije baš zadovoljno sa ______ zato jer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školovanje svog djeteta mjesečno izdvajam 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lim da ______, a vi ostali, što vi misli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je dijete, situaciju u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redu, ostale učenike,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jedenje, opisuje kao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lim da bi _______, a što vi ostali misl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e bih opisala/o kao ____ roditelja, zato jer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više cijenim roditelj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i_____, zato jer 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roditelja očekujem da bi trebali_______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to jer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d sebe kao vjeroučitelja, (razrednika) istaknula/o  bih da sam __ zato jer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lim da me djeca, učenici doživljavaj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o _______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to jer_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am roditelj (ili kad ću biti roditelj)  moje ć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ete _____, zato jer ću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cc"/>
                        </a:gs>
                        <a:gs pos="100000">
                          <a:srgbClr val="fa32c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tram da je kod odgoja djeteta najvažnije____, zato jer__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95280" y="5950080"/>
            <a:ext cx="835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Arial"/>
              </a:rPr>
              <a:t>2. VJEŽBA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: zajednički roditeljski učitelja i roditelja. Podjela po skupinama, 6 obojenih razmišljanja. Bacanje kocke sa 6 boja odabire se boja polja o kojem će se razgovarati. Prvo se individualno ispuni listić, zatim svi u skupini čitaju što su napisali i raspravljaju o zadanoj tem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612000" y="1377000"/>
            <a:ext cx="1440000" cy="21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ZADACI ZA RODITEL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-612000" y="4041000"/>
            <a:ext cx="1440000" cy="21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3300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ZADACI ZA UČITEL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12640" y="648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3. VJEŽBA: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oditelji daruju uče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kao što učenici izrađuju poklone za Majčin dan ili Dan očeva ili Dan obitel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ako roditelji izrađuju poklone za djecu povodom Dječjeg dana – Dana dječjih prava ili Božić, Usk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iljevi: * razveseliti dijete poklonom izrađenim vlastitom ruko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* poučiti djecu vrijednostima osobnog karakter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* razvijati kod djeteta osjećaj vrijednosti i (samo)poštovanj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* s roditeljskog donijeti poklon, a ne samo ocj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TAK: Izrada ukrasnih kutijica za, npr. bombone, i u njih će se staviti poruka za dijete od roditel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4. VJEŽB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ma za cilj * pomoći roditelju da se nosi sa stresom i negativnim emocijama kad su posrijedi loše ocjene ili neprimjereno ponašanje djete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* poučiti roditelja kako djetetu dopustiti neuspjeh i voditi ga uspje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149720"/>
            <a:ext cx="8785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greške u percepci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dimo negativnosti koje drugi nemaju, ali ih imamo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dimo i čujemo ono što hoćemo, a ne ono što je – večinu nosimo u se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racionalna mišlj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E VJEŽBE MOGU SE PRIMEJNITI U RADU ŽSV U SVRHU BOLJEG UPOZNAVANJA, POVEZIVANJA, SURADNJE I RAZUMIJEVANJA ČLANOVA VIJEĆA KAO I LAKŠE OTVARANJE I RJEŠAVANJE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0" lang="hr-HR" sz="4400" spc="-1" strike="noStrike">
                <a:solidFill>
                  <a:srgbClr val="333399"/>
                </a:solidFill>
                <a:latin typeface="Comic Sans MS"/>
              </a:rPr>
              <a:t>Znamo li mjeru opterećen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57360"/>
            <a:ext cx="9144000" cy="180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vi modeli i sva pedagogija ne vrij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ništa ako nema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LJUBAV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3284640"/>
            <a:ext cx="640872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Svi mogu obrazovat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ali ih malo može odgajat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ITELJ                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sred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Š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odgojni čimbenic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VJERO)UČITEL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SURADNICI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prava i duž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Cilje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stvaranje mogućnosti za znanje i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spje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osposobiti, naučiti i pomag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- pripremiti za mogućnosti i iskušen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- poučiti vrijednostima dostojnima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čovjek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0"/>
            <a:ext cx="817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oditelji - vanjski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ff9900"/>
                </a:solidFill>
                <a:latin typeface="Arial"/>
              </a:rPr>
              <a:t>SURADNICI</a:t>
            </a:r>
            <a:r>
              <a:rPr b="1" lang="hr-HR" sz="20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000"/>
            </a:br>
            <a:r>
              <a:rPr b="1" lang="hr-HR" sz="20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gojno-obrazovnog sustava šk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640080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e6700"/>
                </a:solidFill>
                <a:latin typeface="Arial"/>
              </a:rPr>
              <a:t>*Djeca su ogledalo svojih roditelja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47280" y="188640"/>
            <a:ext cx="7596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4000" spc="-1" strike="noStrike" u="sng">
                <a:solidFill>
                  <a:srgbClr val="000000"/>
                </a:solidFill>
                <a:uFillTx/>
                <a:latin typeface="Arial"/>
              </a:rPr>
              <a:t>Model otvorene ško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* dan otvorenih vr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* škola za roditel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* što mogu učiniti za svoju ško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* roditelj – učitel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* moja obitel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* roditeljsko vijeć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27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e6700"/>
                </a:solidFill>
                <a:latin typeface="Arial"/>
              </a:rPr>
              <a:t>*Djeca, to su naši sutrašnji suci.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URADNICI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oblici suradnj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 individualni razgov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 roditeljski sastanci;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jednički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anje skupine rod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- savjetovalište za roditel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- posjet rod. šk. i upozna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- zajedničke ak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- program usavršavanja roditel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- informiranje roditel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- posjet nastavnika obitel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652140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e6700"/>
                </a:solidFill>
                <a:latin typeface="Arial"/>
              </a:rPr>
              <a:t>*Roditeljstvo je težak posao,</a:t>
            </a:r>
            <a:r>
              <a:rPr b="0" lang="hr-HR" sz="1600" spc="-1" strike="noStrike">
                <a:solidFill>
                  <a:srgbClr val="fe67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fe6700"/>
                </a:solidFill>
                <a:latin typeface="Arial"/>
              </a:rPr>
              <a:t>koji samo RODITELJI mogu dobro obaviti.*</a:t>
            </a:r>
            <a:r>
              <a:rPr b="0" lang="hr-HR" sz="1600" spc="-1" strike="noStrike">
                <a:solidFill>
                  <a:srgbClr val="fe67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35280" y="0"/>
            <a:ext cx="730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o roditelji mogu - mora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shvati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a je najveće egzistencijalno bogatstvo </a:t>
            </a:r>
            <a:r>
              <a:rPr b="1" lang="hr-HR" sz="2800" spc="-1" strike="noStrike" u="sng">
                <a:solidFill>
                  <a:srgbClr val="ff9900"/>
                </a:solidFill>
                <a:uFillTx/>
                <a:latin typeface="Arial"/>
              </a:rPr>
              <a:t>dobro odgojeno i  obrazovano dijete</a:t>
            </a:r>
            <a:r>
              <a:rPr b="0" lang="hr-HR" sz="2800" spc="-1" strike="noStrike" u="sng">
                <a:solidFill>
                  <a:srgbClr val="ff9900"/>
                </a:solidFill>
                <a:uFillTx/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hr-HR" sz="2800" spc="-1" strike="noStrike" u="sng">
                <a:solidFill>
                  <a:srgbClr val="ff9900"/>
                </a:solidFill>
                <a:uFillTx/>
                <a:latin typeface="Arial"/>
              </a:rPr>
              <a:t>surađivati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hr-HR" sz="28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hr-HR" sz="2800" spc="-1" strike="noStrike" u="sng">
                <a:solidFill>
                  <a:srgbClr val="ff9900"/>
                </a:solidFill>
                <a:uFillTx/>
                <a:latin typeface="Arial"/>
              </a:rPr>
              <a:t>samoobrazovati s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traživati potrebe 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vjete rada dj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hr-HR" sz="2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hr-HR" sz="2800" spc="-1" strike="noStrike" u="sng">
                <a:solidFill>
                  <a:srgbClr val="ff9900"/>
                </a:solidFill>
                <a:uFillTx/>
                <a:latin typeface="Arial"/>
              </a:rPr>
              <a:t>biti tu </a:t>
            </a:r>
            <a:r>
              <a:rPr b="1" lang="hr-HR" sz="1800" spc="-1" strike="noStrike" u="sng">
                <a:solidFill>
                  <a:srgbClr val="ff9900"/>
                </a:solidFill>
                <a:uFillTx/>
                <a:latin typeface="Arial"/>
              </a:rPr>
              <a:t>(škola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sustvovati priredbama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eativnim radionicama, sportskim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uženjima...dani kru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hr-HR" sz="28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hr-HR" sz="2800" spc="-1" strike="noStrike" u="sng">
                <a:solidFill>
                  <a:srgbClr val="ff9900"/>
                </a:solidFill>
                <a:uFillTx/>
                <a:latin typeface="Arial"/>
              </a:rPr>
              <a:t>informirati s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 uspjehu djeteta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oditeljski sastanci, individualnim razgovorim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0" lang="hr-HR" sz="28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 u="sng">
                <a:solidFill>
                  <a:srgbClr val="ff9900"/>
                </a:solidFill>
                <a:uFillTx/>
                <a:latin typeface="Arial"/>
              </a:rPr>
              <a:t>biti tu </a:t>
            </a:r>
            <a:r>
              <a:rPr b="1" lang="hr-HR" sz="1800" spc="-1" strike="noStrike" u="sng">
                <a:solidFill>
                  <a:srgbClr val="ff9900"/>
                </a:solidFill>
                <a:uFillTx/>
                <a:latin typeface="Arial"/>
              </a:rPr>
              <a:t>(kuća):</a:t>
            </a:r>
            <a:r>
              <a:rPr b="1" lang="hr-HR" sz="28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vrt na dan, zadaća, glupiranje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enje, ponavljanje, slušanje, surfanje..face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d, riječi ljubavi i podrš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9240" y="6427080"/>
            <a:ext cx="69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e6700"/>
                </a:solidFill>
                <a:latin typeface="Arial"/>
              </a:rPr>
              <a:t>*Pametni ljudi dopuštaju svojoj djeci da ponekad i pogriješe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64800" y="0"/>
            <a:ext cx="72788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rednik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 učitelj/nastavnik osposobljen za preuzimanje funkcije pedagoškog voditelja određenog odjela pri čemu u prvi plan stavlja odgojnu ulogu škole kroz pozitivno socijalno i odgojno usmjeravanje odjela”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.Rađenović-M.Smiljanić (200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SLOVI RAZRE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rješava različite administrativne poslove vezane uz učenika i razredni od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brine o ostvarivanju učeničkih prava i ispunjavanju obav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surađuje s roditeljima, učiteljima, stručnim suradnicima u i izvan škole, širom zajedn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dogovara i realizira različite aktivnosti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mora poznavati zakone, pravilnike, poslovn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imati razvijene socijalne vještine, komuniciranja, motiviranja i vođenje pojedinca (učenika, roditelja) i razrednog od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*Razrednik je zid između mene i učitelja kad činim gluposti i mene i roditelja kad za to trebaju saznati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19280" y="260280"/>
            <a:ext cx="75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to učitelji mogu – moraj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RAZRED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surađivati: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đusobno povjerenje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štovanje,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a komun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zraditi plan rada s roditelji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teme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tivnosti, vremenik, radionice, neformalna druženja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informir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organizirati i vod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odgaj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biti posrednik, k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biti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suosjeć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usavršavati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332000" y="188640"/>
            <a:ext cx="781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rist od surad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učenici(djeca)-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olja motiviranost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e samopoštovanje, samopouzdanje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olji uspjeh,vjeruju u pomoć roditelja,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nje posežu za drogama i alkoholom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ostaje neodgovorno ponašanj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roditelj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bolje razumijevanje r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kole, sigurniji u obavljanju roditeljski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užnosti,proširuju znanje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učitelji-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širuju spoznaje, jačaj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mopouzd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ostvarivanje zadać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 obiteljsk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zadovoljst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                      “</a:t>
            </a:r>
            <a:r>
              <a:rPr b="1" i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NEUSPJEH JE PRIRODNI DIO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KREATIVNOG  PROCESA”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rekao je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WALT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DISNEY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onoga jutra kad je dobio otkaz n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slu zbog NEMAŠTOVIT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                    “</a:t>
            </a:r>
            <a:r>
              <a:rPr b="1" i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Djeca su kao trava, a travi treba i rosa i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kosa” -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stara hrvatska poslovic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kle, odgoj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jeteta traži toplinu, ljubav, srce, ali i rad i ste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ke roditelje potrebno je naučiti </a:t>
            </a:r>
            <a:r>
              <a:rPr b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da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postoje usponi i padovi u stjecanju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znanja</a:t>
            </a:r>
            <a:r>
              <a:rPr b="0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koje je potrebno svladavati, a to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ogu jedino redovitom suradnjom s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čiteljima.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6165720"/>
            <a:ext cx="63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e6700"/>
                </a:solidFill>
                <a:latin typeface="Arial"/>
              </a:rPr>
              <a:t>* Djeca su za sve ljude njihov život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05:37Z</dcterms:created>
  <dc:creator>ANITA</dc:creator>
  <dc:description/>
  <dc:language>en-US</dc:language>
  <cp:lastModifiedBy>gbarudzija</cp:lastModifiedBy>
  <dcterms:modified xsi:type="dcterms:W3CDTF">2010-04-12T06:07:51Z</dcterms:modified>
  <cp:revision>3</cp:revision>
  <dc:subject/>
  <dc:title>Slide 1</dc:title>
</cp:coreProperties>
</file>