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990-F31D-47EA-B309-4578B8CC2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92B4-4B7D-4CD8-8080-2F6168D1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A9D-CA82-4949-9369-2BE7F13A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85B-9131-43B9-A09F-D6EA46F5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B6CA0-3F6A-4AC9-9C7B-C371629DE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B56513-7E53-4F25-BF1D-5D859B79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235F1-70F9-40D0-A97D-6B900F59B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61C541-1779-435A-8025-54895A12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5AACA-9FD6-4683-8ACF-5300E72C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F8D295-2C2D-4E75-A884-BBA6298A9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CFBEA8-AA75-4842-BD17-8B693F7D2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0034-2913-43A2-8BAE-ABF95A3C4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807F9-B02E-4E33-9268-9F868626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5ADC22-09D4-4C32-B268-D59DBA47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D3A8D-ED50-43EC-B32F-74F72F4B0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99DED-7924-4745-BBE6-0B2CF0E5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F1022-7BFB-48FE-A7E0-0D501C8F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A2E5-3C7B-4C88-B722-AAB266E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7050-C62A-4677-90F3-09C54F4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BCF-80A9-4D19-A12E-02F31C5F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90C2-9FA3-4984-AC0B-23E1FC25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932-C431-4255-9C77-E81F6165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72D7-66C2-4B96-A099-C6FFD5DE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157E-7AE9-40BA-9B36-7B237FAD3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FD5A-5E9B-4D66-A8B4-E499D5FA21FB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D791-E4FA-404E-8686-2BE39E8B19C4}" type="slidenum">
              <a:rPr b="0" lang="hr-H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6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25892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USTAVNO PROVOĐE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NJEMAČKO-HRVATSKOG JEZI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ROZ OSTVARIV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IMARNOG PROGR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oguća rješenj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skupine s djecom ne više od dva različita godiš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aktivnosti na većoj površini objekta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uvođenje u rad trećeg odgojitel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gra za povezivanje skupine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iječ na da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REPORUČENA LITERATUR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Čurković-Kalebić,S.(2003.).Jezik i društvena situacija.Zagreb:Školska knji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Skljarov,M.(1987.).Jezik i govor u nastavi stranih jezika.Zagreb:Školska knji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Vilke,M.(1991.).Vaše dijete i jezik,materinski,drugi i strani jezik.Zagreb:Školska knji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DV "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ibor"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07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travnja 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20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Voditeljica radionic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Luja Zamečnik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Igra za poticanje aktivnosti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  “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Mačka i miš” / “Katze und Mau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Igra za poticanje aktivnosti</a:t>
            </a:r>
            <a:br>
              <a:rPr sz="40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Mačka i miš – Katze und Maus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VOD</a:t>
            </a:r>
            <a:br>
              <a:rPr sz="2800"/>
            </a:b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  Organizacija rada u skupini cjelodnevnog        programa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  Važnost suradnje s osnovnom školom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  Ostale suradnje : Goethe Institut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Udruga Podunavskih Švaba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Internacionalni kazališni festival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ječji vrtići iz Pforzheima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Dječji vrtić iz Baje,Mađarska</a:t>
            </a:r>
            <a:br>
              <a:rPr sz="2800"/>
            </a:b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OŠ ‘Retfala’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000"/>
            </a:b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4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DV ”Josipovac”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0000" y="820800"/>
            <a:ext cx="8244000" cy="603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773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Teme za rad po skupinam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1.Imam rođendan/ Ich habe Geburst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2.Moje tijelo i ja/ Mein K</a:t>
            </a:r>
            <a:r>
              <a:rPr b="0" lang="hu-HU" sz="2800" spc="-1" strike="noStrike">
                <a:solidFill>
                  <a:srgbClr val="ffffff"/>
                </a:solidFill>
                <a:latin typeface="Tahoma"/>
              </a:rPr>
              <a:t>ö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per und i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3.Ja mogu…/ Ich kann’s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Veliko - malo / Das ist groß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kle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5.Moja obitelj/ Meine Fami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6.Na ulici…/ Auf der Straße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7.Dva učenika kupuju…/ Zwei Schüler kauf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Razrada i izlaganje osmišljenih aktivnosti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o skupin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Primjeri iz osobne prak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Tahoma"/>
              </a:rPr>
              <a:t>ZAKLJUČA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Planiranje i programir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Ciljevi i zadaće(raditi na kvaliteti,a ne kvantitet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Uređenje sobe dnevnog boravka i ostalih pros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(zajedno s djecom,uvijek ostaviti mogućnost nadopune i izmjene centra/kutić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Ozračje u skupi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Osobitosti rada u dvojezičnoj skupin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kroz cjelodnevni pr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Prednosti:-interakcija djece različite dob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cjelovit i potpu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vremenski provedeno više vremena zajed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bogatije kreiranje prosto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susret s njemačkim jezikom prije ško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Nedostaci:-broj djece u skupin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velika razlika u dobi djece(od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do 6god.) radi pozornost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-opsežnost u planiranj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hr-HR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17:23:14Z</dcterms:created>
  <dc:creator>Andrej</dc:creator>
  <dc:description/>
  <dc:language>en-US</dc:language>
  <cp:lastModifiedBy>Ilija</cp:lastModifiedBy>
  <dcterms:modified xsi:type="dcterms:W3CDTF">2010-04-05T19:41:31Z</dcterms:modified>
  <cp:revision>8</cp:revision>
  <dc:subject/>
  <dc:title>SUSTAVNO PROVOĐENJE NJEMAČKO-HRVATSKOG JEZIKA KROZ OSTVARIVANJE PRIMARNOG PROGRAMA             DV ’Sunčica’’       </dc:title>
</cp:coreProperties>
</file>