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0.gif" ContentType="image/gif"/>
  <Override PartName="/ppt/media/image12.png" ContentType="image/png"/>
  <Override PartName="/ppt/media/image11.wmf" ContentType="image/x-wmf"/>
  <Override PartName="/ppt/media/image3.png" ContentType="image/png"/>
  <Override PartName="/ppt/media/image9.gif" ContentType="image/gif"/>
  <Override PartName="/ppt/media/image7.gif" ContentType="image/gif"/>
  <Override PartName="/ppt/media/image6.png" ContentType="image/png"/>
  <Override PartName="/ppt/media/image8.gif" ContentType="image/gif"/>
  <Override PartName="/ppt/media/image20.png" ContentType="image/png"/>
  <Override PartName="/ppt/media/image19.gif" ContentType="image/gif"/>
  <Override PartName="/ppt/media/image17.gif" ContentType="image/gif"/>
  <Override PartName="/ppt/media/image22.png" ContentType="image/png"/>
  <Override PartName="/ppt/media/image1.jpeg" ContentType="image/jpeg"/>
  <Override PartName="/ppt/media/image5.png" ContentType="image/png"/>
  <Override PartName="/ppt/media/image18.gif" ContentType="image/gif"/>
  <Override PartName="/ppt/media/image21.png" ContentType="image/png"/>
  <Override PartName="/ppt/media/image16.gif" ContentType="image/gif"/>
  <Override PartName="/ppt/media/image15.jpeg" ContentType="image/jpeg"/>
  <Override PartName="/ppt/media/image14.png" ContentType="image/png"/>
  <Override PartName="/ppt/media/image2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84EE0-9D5F-444B-B826-36F3C6CB7BB7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F00FD-DB22-47A2-8CD4-32FCFEEFF931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49525-724B-44A5-A9E7-529D49805BF5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74872-7CA3-48FF-B2BD-7C249594F30C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08C66-A8E0-4EDC-977A-3E265DBAEC4B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90F28-B29E-42C8-890C-B331427D82A3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C725F-6C22-4D7F-BEF4-99DA76A7CB3D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8FA06-2C6B-43F0-B303-4767F341B031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080E6-3681-4C2E-AB0C-4F8191E45DA4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9BAFD-C7A7-4781-9A54-294ADE4B054E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1AF5D-D94D-4AA1-A651-8CBFBBA8CEBC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99384-C250-442E-947C-4769D13F4779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7089E-B908-4B1B-AF28-C3CBEF6D66E5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78C9C-6A63-43B9-A8D1-90D1D249F408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FDFD8-33B5-4882-99A4-F5B2FFCE44E8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C8381-5A10-463D-9DB1-559FBAA9C8D6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B0317-7798-4289-B402-7B07E4A5CF05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F3B75-07A6-43D7-91C4-270C91F9F1E6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FB672-FEFC-4C71-AF1B-BE61ACFE188A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E20C4-7141-4EAE-B027-6B258C228AC1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160FD-169B-4C6F-BC25-791F41526B86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Rezervirano mjesto broja slajd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9B87A-754F-491A-AB58-DAAB936E8471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A9BD0-6800-4ACD-ACB8-77C19B824E69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C7FF1-C976-4D62-9C02-79793C3FE263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5AAB0-EB81-4C4D-8EBD-203F7383BD0A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1101E-C636-483B-983E-0773A0E46F63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8D4AC-BB5D-471E-BAF8-41BBFE3076CA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FFA33-E5D5-4214-83BF-CFDF15F5B55A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E719A-DC6E-4051-AA98-00E3B2260A07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3AF1-4951-4032-AF8D-5CCBCFE2D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43A5-0E84-4E3F-8019-1F8C8A7D9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9DE6-BE8B-446E-AC82-9D3D362FB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0505-5EFA-4CD1-BF0E-79C58A226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A5C96-8C3D-484B-BFAB-3473CC024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699D3-D1BC-488E-B606-AE62970C5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F9D0E-6A44-4D91-BD70-558EAB1AB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DFF01-94F3-4388-BD24-9F817885F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154A0-CB29-43C2-BBE3-774FB0FF0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99106-07F2-4879-B7DB-C615BF588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2B678-378A-40B5-89B6-EEDD3B94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D0B0-3A74-417E-B358-CF015426E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39B85-ABE3-427C-9880-F23A887E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5D6D1-02D1-4CB4-B230-3E9E8E3C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B446B-563D-4FDA-A9A5-16D31BEC3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54367-183D-470B-97C8-5E2FACB3A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339EB-86B3-4709-91BC-428F67391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76F92-D37B-4AC5-AC51-4B7AB0E9B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4A2A6-CF0E-4A88-9787-3F2A68AA3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70D6D-63D5-486E-8C39-41829D6E5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BA2AF-0FD4-44CF-9C35-3263D0D31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CEAAE-3450-4502-AF73-7F8908E43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F1BF-92D3-46AB-8301-21F0BA477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FC8F0-5E76-4788-A329-81E89D701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30B26-A664-48DB-94E2-596E409D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DC0C9-637A-40FF-B568-52DA76A4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783D5-1F62-4A91-A728-28A9822B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01E48-0266-44A5-9E2F-676370BFE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C93E2-EC11-42CC-980A-99ABD8E8D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D2038-741B-4312-8228-570D44058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6C4B3-830B-498B-954F-FB5F78447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FE418-44DD-48CD-9BC0-6ED0E17E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D2BC6-3BBC-4921-9459-E132A3018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9CE4-7919-4182-9E82-38B8F63E6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33D97-DEDE-4A17-B135-BC715C14A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3DF9C-78AE-4FB7-98DA-A7C9EB2B7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2696F-8E2B-4A2F-A7D5-4929FB770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6B4B2-B59D-42F1-A638-19267AFD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493E5-818A-48DC-A048-54840625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3607E-529A-495C-9434-A862063B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F54DB-997D-49CE-899F-4065615ED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B0FC9-142C-41E1-850A-169D3523C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15D46-A21D-4D4B-9F35-C3CFABEEF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EF54-D1C6-4C07-B845-9B9502B72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5FEA-E97F-431A-8172-29101AF6A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0549-201F-45E0-8236-78323C8E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C650-FE4D-48B2-ACFA-E7935187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623B-7F16-4382-AFDD-20298C36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DC835-85D8-4AE4-9025-637CB2E8087F}" type="datetime">
              <a:rPr b="0" lang="sr-Latn-CS" sz="1200" spc="-1" strike="noStrike">
                <a:solidFill>
                  <a:srgbClr val="045c75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45c75"/>
                </a:solidFill>
                <a:latin typeface="Constantia"/>
              </a:rPr>
              <a:t>Ninočka Truck-Biljan, AZOO, travanj 201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12976-6200-4066-9FEB-D184416CC964}" type="slidenum">
              <a:rPr b="0" lang="hr-H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FCFB0-34A0-4E77-B4D5-24CCF8DDCA43}" type="datetime">
              <a:rPr b="0" lang="sr-Latn-CS" sz="1200" spc="-1" strike="noStrike">
                <a:solidFill>
                  <a:srgbClr val="d1eaee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d1eaee"/>
                </a:solidFill>
                <a:latin typeface="Constantia"/>
              </a:rPr>
              <a:t>Ninočka Truck-Biljan, AZOO, travanj 201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E002D-7DA0-46A5-93CA-D6972210DAFB}" type="slidenum">
              <a:rPr b="0" lang="hr-HR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88D8E-ADFA-4312-B208-6786D448584B}" type="datetime">
              <a:rPr b="0" lang="sr-Latn-CS" sz="1200" spc="-1" strike="noStrike">
                <a:solidFill>
                  <a:srgbClr val="d1eaee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d1eaee"/>
                </a:solidFill>
                <a:latin typeface="Constantia"/>
              </a:rPr>
              <a:t>Ninočka Truck-Biljan, AZOO, travanj 201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4CA13-4DF4-4BE1-9C01-51BD50221EC4}" type="slidenum">
              <a:rPr b="0" lang="hr-HR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3E1B5-76E8-40DC-905C-7E176C445E26}" type="datetime">
              <a:rPr b="0" lang="sr-Latn-CS" sz="1200" spc="-1" strike="noStrike">
                <a:solidFill>
                  <a:srgbClr val="045c75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45c75"/>
                </a:solidFill>
                <a:latin typeface="Constantia"/>
              </a:rPr>
              <a:t>Ninočka Truck-Biljan, AZOO, travanj 201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E871E-3ED4-435A-9E9B-2DE39992A13D}" type="slidenum">
              <a:rPr b="0" lang="hr-HR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lovine.com/hobbes/wonderland.html" TargetMode="External"/><Relationship Id="rId2" Type="http://schemas.openxmlformats.org/officeDocument/2006/relationships/hyperlink" Target="http://www.gocomics.com/explore/comic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347760" y="933480"/>
            <a:ext cx="8345520" cy="257184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" descr="C:\Users\Nina\Desktop\Lisa_Simpson.gif"/>
          <p:cNvPicPr/>
          <p:nvPr/>
        </p:nvPicPr>
        <p:blipFill>
          <a:blip r:embed="rId2"/>
          <a:stretch/>
        </p:blipFill>
        <p:spPr>
          <a:xfrm>
            <a:off x="7340760" y="4917960"/>
            <a:ext cx="914400" cy="1000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C:\Users\Nina\Desktop\Bart_Simpson_2.gif"/>
          <p:cNvPicPr/>
          <p:nvPr/>
        </p:nvPicPr>
        <p:blipFill>
          <a:blip r:embed="rId3"/>
          <a:stretch/>
        </p:blipFill>
        <p:spPr>
          <a:xfrm>
            <a:off x="3857760" y="4260960"/>
            <a:ext cx="1714320" cy="1450800"/>
          </a:xfrm>
          <a:prstGeom prst="rect">
            <a:avLst/>
          </a:prstGeom>
          <a:ln w="0">
            <a:noFill/>
          </a:ln>
        </p:spPr>
      </p:pic>
      <p:sp>
        <p:nvSpPr>
          <p:cNvPr id="205" name="Footer Placeholder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d1eaee"/>
                </a:solidFill>
                <a:latin typeface="Constantia"/>
              </a:rPr>
              <a:t>Ninočka Truck-Biljan, AZOO, travanj 20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" descr="C:\Users\Nina\Desktop\maggie-01.gif"/>
          <p:cNvPicPr/>
          <p:nvPr/>
        </p:nvPicPr>
        <p:blipFill>
          <a:blip r:embed="rId4"/>
          <a:stretch/>
        </p:blipFill>
        <p:spPr>
          <a:xfrm>
            <a:off x="1000080" y="4500720"/>
            <a:ext cx="1508040" cy="15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20001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promjene u tjelesnom izgledu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kosti rastu brže od mišić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gruba motorik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razvija se fina motorik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Footer Placeholder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45c75"/>
                </a:solidFill>
                <a:latin typeface="Constantia"/>
              </a:rPr>
              <a:t>Ninočka Truck-Biljan, AZOO, travanj 20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2" descr="C:\Users\Nina\Desktop\bart-01.gif"/>
          <p:cNvPicPr/>
          <p:nvPr/>
        </p:nvPicPr>
        <p:blipFill>
          <a:blip r:embed="rId1"/>
          <a:stretch/>
        </p:blipFill>
        <p:spPr>
          <a:xfrm>
            <a:off x="6858000" y="4286160"/>
            <a:ext cx="1206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4617b"/>
                </a:solidFill>
                <a:latin typeface="Arial"/>
                <a:ea typeface="Arial"/>
              </a:rPr>
              <a:t>Implikacije za nastavu stranih jezik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57120" y="2142720"/>
            <a:ext cx="8229600" cy="41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ograničiti aktivnosti natjecanja (veći, jači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osigurati vrijeme za tjelesne aktivnosti (</a:t>
            </a:r>
            <a:r>
              <a:rPr b="0" i="1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TPR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omogućiti izrezivanje, bojenje, modeliranj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Pisanje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Footer Placeholder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45c75"/>
                </a:solidFill>
                <a:latin typeface="Constantia"/>
              </a:rPr>
              <a:t>Ninočka Truck-Biljan, AZOO, travanj 20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3" descr="C:\Users\Nina\Desktop\bart-05.gif"/>
          <p:cNvPicPr/>
          <p:nvPr/>
        </p:nvPicPr>
        <p:blipFill>
          <a:blip r:embed="rId1"/>
          <a:stretch/>
        </p:blipFill>
        <p:spPr>
          <a:xfrm>
            <a:off x="7786800" y="4714920"/>
            <a:ext cx="112068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4617b"/>
                </a:solidFill>
                <a:latin typeface="Arial"/>
                <a:ea typeface="Arial"/>
              </a:rPr>
              <a:t>Kognitivni razvoj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8568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Razvoj složenih misaonih procesa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rasuđivanj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mišljenj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uočavanj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rješavanja problem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kreativnoga stvaranja..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Footer Placeholder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45c75"/>
                </a:solidFill>
                <a:latin typeface="Constantia"/>
              </a:rPr>
              <a:t>Ninočka Truck-Biljan, AZOO, travanj 20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2" descr="C:\Users\Nina\Desktop\Lisa_Simpson.gif"/>
          <p:cNvPicPr/>
          <p:nvPr/>
        </p:nvPicPr>
        <p:blipFill>
          <a:blip r:embed="rId1"/>
          <a:stretch/>
        </p:blipFill>
        <p:spPr>
          <a:xfrm>
            <a:off x="7572240" y="5072040"/>
            <a:ext cx="9144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ooter Placeholder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45c75"/>
                </a:solidFill>
                <a:latin typeface="Constantia"/>
              </a:rPr>
              <a:t>Ninočka Truck-Biljan, AZOO, travanj 20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071360"/>
            <a:ext cx="8229600" cy="52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konkretno razvojno razdoblje (Piaget)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ili povećanje kapaciteta obrade informacija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razvoj mozg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poboljšanje kapaciteta obrade informacij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poboljšanje pažnj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razvoj baze dugoročnoga znanj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metakognicij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13840" y="714240"/>
            <a:ext cx="8929800" cy="857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4617b"/>
                </a:solidFill>
                <a:latin typeface="Arial"/>
                <a:ea typeface="Arial"/>
              </a:rPr>
              <a:t>Implikacije za nastavu stranih jezik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20001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smisleno učenje – razina kognitivnoga razvoj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konkretno prije apstraktnog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što veći broj različitih aktivnost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dinamika nastavnoga sat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komunikacijski pristup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Footer Placeholder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45c75"/>
                </a:solidFill>
                <a:latin typeface="Constantia"/>
              </a:rPr>
              <a:t>Ninočka Truck-Biljan, AZOO, travanj 20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5" descr="C:\Users\Nina\Desktop\RAZVOJNA PSIHOLOGIJA\bart-03.gif"/>
          <p:cNvPicPr/>
          <p:nvPr/>
        </p:nvPicPr>
        <p:blipFill>
          <a:blip r:embed="rId1"/>
          <a:stretch/>
        </p:blipFill>
        <p:spPr>
          <a:xfrm>
            <a:off x="7531200" y="5072040"/>
            <a:ext cx="93492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ne inzistirati na metajeziku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postupno kasnije uvođenje gramatik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poticanje na razvijanje strategija učenj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pohvale, pomoć, potpora, motivacij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slika o seb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Footer Placeholder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45c75"/>
                </a:solidFill>
                <a:latin typeface="Constantia"/>
              </a:rPr>
              <a:t>Ninočka Truck-Biljan, AZOO, travanj 20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4" descr="C:\Users\Nina\Desktop\RAZVOJNA PSIHOLOGIJA\Bart_Simpson_2.gif"/>
          <p:cNvPicPr/>
          <p:nvPr/>
        </p:nvPicPr>
        <p:blipFill>
          <a:blip r:embed="rId1"/>
          <a:stretch/>
        </p:blipFill>
        <p:spPr>
          <a:xfrm>
            <a:off x="7429680" y="5143680"/>
            <a:ext cx="13046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000" spc="-1" strike="noStrike">
                <a:solidFill>
                  <a:srgbClr val="04617b"/>
                </a:solidFill>
                <a:latin typeface="Calibri"/>
              </a:rPr>
              <a:t>Razvijanje čitanja i pisanj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postupnost je najbolja mjer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kod početnoga učenja stranih jezika – ne žuriti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slušanje – govor – čitanje – pisanj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pisanje ne treba u početku ocjenjivati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diktati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Footer Placeholder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45c75"/>
                </a:solidFill>
                <a:latin typeface="Constantia"/>
              </a:rPr>
              <a:t>Ninočka Truck-Biljan, AZOO, travanj 20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C:\Users\Nina\Desktop\book-09.gif"/>
          <p:cNvPicPr/>
          <p:nvPr/>
        </p:nvPicPr>
        <p:blipFill>
          <a:blip r:embed="rId1"/>
          <a:stretch/>
        </p:blipFill>
        <p:spPr>
          <a:xfrm>
            <a:off x="7572240" y="5286240"/>
            <a:ext cx="10004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000" spc="-1" strike="noStrike">
                <a:solidFill>
                  <a:srgbClr val="04617b"/>
                </a:solidFill>
                <a:latin typeface="Calibri"/>
              </a:rPr>
              <a:t>Individualne razlik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tempo razvoja – različi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različiti IQ i sposobnosti (8? 9?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učenici s posebnim potrebam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djevojčice – dječac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strah od jezika kao novoga medija...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Footer Placeholder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45c75"/>
                </a:solidFill>
                <a:latin typeface="Constantia"/>
              </a:rPr>
              <a:t>Ninočka Truck-Biljan, AZOO, travanj 20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2" descr="C:\Users\Nina\Desktop\RAZVOJNA PSIHOLOGIJA\bart-03.gif"/>
          <p:cNvPicPr/>
          <p:nvPr/>
        </p:nvPicPr>
        <p:blipFill>
          <a:blip r:embed="rId1"/>
          <a:stretch/>
        </p:blipFill>
        <p:spPr>
          <a:xfrm>
            <a:off x="7429680" y="1214280"/>
            <a:ext cx="1223640" cy="15112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6" descr="C:\Users\Nina\Desktop\RAZVOJNA PSIHOLOGIJA\Lisa_Simpson.gif"/>
          <p:cNvPicPr/>
          <p:nvPr/>
        </p:nvPicPr>
        <p:blipFill>
          <a:blip r:embed="rId2"/>
          <a:stretch/>
        </p:blipFill>
        <p:spPr>
          <a:xfrm>
            <a:off x="7500960" y="5143680"/>
            <a:ext cx="9144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4617b"/>
                </a:solidFill>
                <a:latin typeface="Arial"/>
                <a:ea typeface="Arial"/>
              </a:rPr>
              <a:t>Implikacije za nastavu stranih jezik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4304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prilagodba zadataka mogućnostima pojedinc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individualizirani pristup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različiti oblici rad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praćenje napretka i procjena uspjeha bez usporedbe s drugim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EJP, ZEROJ, HNOS, metodički naputci iz NPiP-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Footer Placeholder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45c75"/>
                </a:solidFill>
                <a:latin typeface="Constantia"/>
              </a:rPr>
              <a:t>Ninočka Truck-Biljan, AZOO, travanj 20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4617b"/>
                </a:solidFill>
                <a:latin typeface="Arial"/>
                <a:ea typeface="Arial"/>
              </a:rPr>
              <a:t>Usklađenost prakse i razvojnih obilježj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785600"/>
            <a:ext cx="82296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Početak: slučajevi “krutosti” zbog nepoznavanja,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Kasnije: uglavnom prilagodba uz uvažavanj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naputci i dokument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metodik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stručna usavršavanj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literatur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5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profesionalni razvoj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Footer Placeholder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45c75"/>
                </a:solidFill>
                <a:latin typeface="Constantia"/>
              </a:rPr>
              <a:t>Ninočka Truck-Biljan, AZOO, travanj 20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4617b"/>
                </a:solidFill>
                <a:latin typeface="Arial"/>
                <a:ea typeface="Arial"/>
              </a:rPr>
              <a:t>Istraživanje - anket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Cilj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  <a:ea typeface="Arial"/>
              </a:rPr>
              <a:t>upoznatost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  <a:ea typeface="Arial"/>
              </a:rPr>
              <a:t>što, kako, koliko dugo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  <a:ea typeface="Arial"/>
              </a:rPr>
              <a:t>tko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Footer Placeholder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45c75"/>
                </a:solidFill>
                <a:latin typeface="Constantia"/>
              </a:rPr>
              <a:t>Ninočka Truck-Biljan, AZOO, travanj 20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6" descr="D:\Personal Data\My Documents\Doktorski studij\RAZVOJNA PSIHOLOGIJA\felix21.gif"/>
          <p:cNvPicPr/>
          <p:nvPr/>
        </p:nvPicPr>
        <p:blipFill>
          <a:blip r:embed="rId1"/>
          <a:stretch/>
        </p:blipFill>
        <p:spPr>
          <a:xfrm>
            <a:off x="6643800" y="4786200"/>
            <a:ext cx="21906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4617b"/>
                </a:solidFill>
                <a:latin typeface="Arial"/>
                <a:ea typeface="Arial"/>
              </a:rPr>
              <a:t>Danas: sve više sastavni dio kurikula</a:t>
            </a:r>
            <a:br>
              <a:rPr sz="32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Footer Placeholder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45c75"/>
                </a:solidFill>
                <a:latin typeface="Constantia"/>
              </a:rPr>
              <a:t>Ninočka Truck-Biljan, AZOO, travanj 20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8" descr="C:\Users\Nina\Desktop\RAZVOJNA PSIHOLOGIJA\reading.gif"/>
          <p:cNvPicPr/>
          <p:nvPr/>
        </p:nvPicPr>
        <p:blipFill>
          <a:blip r:embed="rId1"/>
          <a:stretch/>
        </p:blipFill>
        <p:spPr>
          <a:xfrm>
            <a:off x="3056040" y="2428920"/>
            <a:ext cx="34146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4617b"/>
                </a:solidFill>
                <a:latin typeface="Arial"/>
                <a:ea typeface="Arial"/>
              </a:rPr>
              <a:t>Radionica: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Linija iskustva” – 3 minu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Podjela u skupin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Zadatak – 20 minuta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f00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Pročitati radni list u skupin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f00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Odrediti razred (dob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f00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Izdvojiti i istaknuti najvažnij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f0000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Načiniti plak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Nove skupin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Razgledavanje – “domaćini i gosti” – 10 minut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zaključa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Footer Placeholder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45c75"/>
                </a:solidFill>
                <a:latin typeface="Constantia"/>
              </a:rPr>
              <a:t>Ninočka Truck-Biljan, AZOO, travanj 20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2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4617b"/>
                </a:solidFill>
                <a:latin typeface="Arial"/>
                <a:ea typeface="Arial"/>
              </a:rPr>
              <a:t>Hvala na pažnji!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Footer Placeholder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45c75"/>
                </a:solidFill>
                <a:latin typeface="Constantia"/>
              </a:rPr>
              <a:t>Ninočka Truck-Biljan, AZOO, travanj 20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5" descr="C:\Users\Nina\Desktop\RAZVOJNA PSIHOLOGIJA\dim.gif"/>
          <p:cNvPicPr/>
          <p:nvPr/>
        </p:nvPicPr>
        <p:blipFill>
          <a:blip r:embed="rId2"/>
          <a:stretch/>
        </p:blipFill>
        <p:spPr>
          <a:xfrm>
            <a:off x="0" y="142920"/>
            <a:ext cx="914400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45c75"/>
                </a:solidFill>
                <a:latin typeface="Constantia"/>
              </a:rPr>
              <a:t>Ninočka Truck-Biljan, AZOO, travanj 20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Callout 4"/>
          <p:cNvSpPr/>
          <p:nvPr/>
        </p:nvSpPr>
        <p:spPr>
          <a:xfrm>
            <a:off x="1571760" y="1643040"/>
            <a:ext cx="5929200" cy="3429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6bdbfa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4617b"/>
                </a:solidFill>
                <a:latin typeface="Arial"/>
              </a:rPr>
              <a:t>“</a:t>
            </a:r>
            <a:r>
              <a:rPr b="0" lang="hr-HR" sz="3600" spc="-1" strike="noStrike">
                <a:solidFill>
                  <a:srgbClr val="04617b"/>
                </a:solidFill>
                <a:latin typeface="Arial"/>
              </a:rPr>
              <a:t>Svijet nije tako loš ako samo možeš izaći van u njemu..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92844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br>
              <a:rPr sz="5000"/>
            </a:br>
            <a:r>
              <a:rPr b="0" lang="hr-HR" sz="5000" spc="-1" strike="noStrike" u="sng">
                <a:solidFill>
                  <a:srgbClr val="04617b"/>
                </a:solidFill>
                <a:uFillTx/>
                <a:latin typeface="Calibri"/>
              </a:rPr>
              <a:t>Literatura:</a:t>
            </a:r>
            <a:br>
              <a:rPr sz="5000"/>
            </a:b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Berk, L.E. (2007). </a:t>
            </a:r>
            <a:r>
              <a:rPr b="0" i="1" lang="hr-HR" sz="2600" spc="-1" strike="noStrike">
                <a:solidFill>
                  <a:srgbClr val="000000"/>
                </a:solidFill>
                <a:latin typeface="Constantia"/>
              </a:rPr>
              <a:t>Psihologija cjeloživotnog razvoja.</a:t>
            </a: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 Zagreb: Naklada Slap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Cameron, L. (2002). (3</a:t>
            </a:r>
            <a:r>
              <a:rPr b="0" lang="hr-HR" sz="2600" spc="-1" strike="noStrike" baseline="30000">
                <a:solidFill>
                  <a:srgbClr val="000000"/>
                </a:solidFill>
                <a:latin typeface="Constantia"/>
              </a:rPr>
              <a:t>rd</a:t>
            </a: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 edition.). </a:t>
            </a:r>
            <a:r>
              <a:rPr b="0" i="1" lang="hr-HR" sz="2600" spc="-1" strike="noStrike">
                <a:solidFill>
                  <a:srgbClr val="000000"/>
                </a:solidFill>
                <a:latin typeface="Constantia"/>
              </a:rPr>
              <a:t>Teaching Languages to Young Learners. </a:t>
            </a: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Cambridge: Cambridge University Pres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Mihaljević Djigunović, J. (1998). </a:t>
            </a:r>
            <a:r>
              <a:rPr b="0" i="1" lang="hr-HR" sz="2600" spc="-1" strike="noStrike">
                <a:solidFill>
                  <a:srgbClr val="000000"/>
                </a:solidFill>
                <a:latin typeface="Constantia"/>
              </a:rPr>
              <a:t>Uloga afektivnih faktora u učenju stranog jezika</a:t>
            </a: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, Zagreb: Filozofski fakultet Sveučilišta u Zagreb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Rezervirano mjesto podnožja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45c75"/>
                </a:solidFill>
                <a:latin typeface="Constantia"/>
              </a:rPr>
              <a:t>Ninočka Truck-Biljan, PDSG, veljača 20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457200" y="856800"/>
            <a:ext cx="8229600" cy="54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Mihaljević Djigunović, J. (2009). Impact of Learning Conditions on Young FL Learners´ Motivation. in Nikolov, M. et. al (ed). </a:t>
            </a:r>
            <a:r>
              <a:rPr b="0" i="1" lang="hr-HR" sz="2600" spc="-1" strike="noStrike">
                <a:solidFill>
                  <a:srgbClr val="000000"/>
                </a:solidFill>
                <a:latin typeface="Constantia"/>
              </a:rPr>
              <a:t>Early Learning of Modern Foreign Languages: Process and Outcomes. </a:t>
            </a: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Bristol. Buffalo. Toronto: Multilingual Matter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Nastavni plan i program za osnovnu školu (2006). Zagreb: MZOŠ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Philips, S. (1993). </a:t>
            </a:r>
            <a:r>
              <a:rPr b="0" i="1" lang="hr-HR" sz="2600" spc="-1" strike="noStrike">
                <a:solidFill>
                  <a:srgbClr val="000000"/>
                </a:solidFill>
                <a:latin typeface="Constantia"/>
              </a:rPr>
              <a:t>Young Learners. </a:t>
            </a: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Oxford: Oxford University Pres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Rezervirano mjesto podnožja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45c75"/>
                </a:solidFill>
                <a:latin typeface="Constantia"/>
              </a:rPr>
              <a:t>Ninočka Truck-Biljan, PDSG, veljača 20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457200" y="714240"/>
            <a:ext cx="8229600" cy="56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Prebeg-Vilke, M. (1991). </a:t>
            </a:r>
            <a:r>
              <a:rPr b="0" i="1" lang="hr-HR" sz="2600" spc="-1" strike="noStrike">
                <a:solidFill>
                  <a:srgbClr val="000000"/>
                </a:solidFill>
                <a:latin typeface="Constantia"/>
              </a:rPr>
              <a:t>Vaše dijete i jezik: materinski, drugi i strani jezik. </a:t>
            </a: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Zagreb: Školska knjig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Prebeg-Vilke, M (1977). </a:t>
            </a:r>
            <a:r>
              <a:rPr b="0" i="1" lang="hr-HR" sz="2600" spc="-1" strike="noStrike">
                <a:solidFill>
                  <a:srgbClr val="000000"/>
                </a:solidFill>
                <a:latin typeface="Constantia"/>
              </a:rPr>
              <a:t>Glotodidaktika</a:t>
            </a: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. Školska knjiga: Zagreb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Saville-Troike, M. (2008). (6th edition). </a:t>
            </a:r>
            <a:r>
              <a:rPr b="0" i="1" lang="hr-HR" sz="2600" spc="-1" strike="noStrike">
                <a:solidFill>
                  <a:srgbClr val="000000"/>
                </a:solidFill>
                <a:latin typeface="Constantia"/>
              </a:rPr>
              <a:t>Intoducing Second Language Acquisition.</a:t>
            </a: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 Cambridge: Cambridge University Pres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Scott, W. A. &amp; Ytreberg, L.H. (1991). </a:t>
            </a:r>
            <a:r>
              <a:rPr b="0" i="1" lang="hr-HR" sz="2600" spc="-1" strike="noStrike">
                <a:solidFill>
                  <a:srgbClr val="000000"/>
                </a:solidFill>
                <a:latin typeface="Constantia"/>
              </a:rPr>
              <a:t>Teaching English to Children.</a:t>
            </a: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 London and New York: Longma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Rezervirano mjesto podnožja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45c75"/>
                </a:solidFill>
                <a:latin typeface="Constantia"/>
              </a:rPr>
              <a:t>Ninočka Truck-Biljan, PDSG, veljača 20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457200" y="928800"/>
            <a:ext cx="8229600" cy="53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Vilke, M. (2001). Should we teach children grammar? in Vrhovac, Y. et al. (Eds.). </a:t>
            </a:r>
            <a:r>
              <a:rPr b="0" i="1" lang="hr-HR" sz="2600" spc="-1" strike="noStrike">
                <a:solidFill>
                  <a:srgbClr val="000000"/>
                </a:solidFill>
                <a:latin typeface="Constantia"/>
              </a:rPr>
              <a:t>Children and foreign languages III. </a:t>
            </a: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Zagreb: Faculty of Philosophy, University of Zagreb, 13-21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Vasta, R., Haith, M. M., Miller, S. A. (1997). </a:t>
            </a:r>
            <a:r>
              <a:rPr b="0" i="1" lang="hr-HR" sz="2600" spc="-1" strike="noStrike">
                <a:solidFill>
                  <a:srgbClr val="000000"/>
                </a:solidFill>
                <a:latin typeface="Constantia"/>
              </a:rPr>
              <a:t>Dječja psihologija.</a:t>
            </a: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 Zagreb: Naklada Slap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600" spc="-1" strike="noStrike">
                <a:solidFill>
                  <a:srgbClr val="000000"/>
                </a:solidFill>
                <a:latin typeface="Constantia"/>
              </a:rPr>
              <a:t>Zajednički europski referentni okvir za jezike: učenje, poučavanje, vrednovanje </a:t>
            </a: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(2005). Vijeće za kulturnu suradnju, Odbor za obrazovanje, Odjel za suvremene jezike, Strassbourg. Zagreb: Školska knjig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Rezervirano mjesto podnožja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45c75"/>
                </a:solidFill>
                <a:latin typeface="Constantia"/>
              </a:rPr>
              <a:t>Ninočka Truck-Biljan, PDSG, veljača 20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457200" y="1428480"/>
            <a:ext cx="8229600" cy="4895640"/>
          </a:xfrm>
          <a:prstGeom prst="rect">
            <a:avLst/>
          </a:prstGeom>
          <a:solidFill>
            <a:srgbClr val="0076a3"/>
          </a:solidFill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ffffff"/>
                </a:solidFill>
                <a:latin typeface="Constantia"/>
              </a:rPr>
              <a:t>www.bestanimations.co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http://www.lovine.com/hobbes/wonderland.htm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http://www.gocomics.com/explore/comic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Rezervirano mjesto podnožja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45c75"/>
                </a:solidFill>
                <a:latin typeface="Constantia"/>
              </a:rPr>
              <a:t>Ninočka Truck-Biljan, PDSG, veljača 20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4617b"/>
                </a:solidFill>
                <a:latin typeface="Arial"/>
                <a:ea typeface="Arial"/>
              </a:rPr>
              <a:t>Sudionici: učitelji1.-4. raz</a:t>
            </a:r>
            <a:r>
              <a:rPr b="0" lang="hr-HR" sz="3200" spc="-1" strike="noStrike">
                <a:solidFill>
                  <a:srgbClr val="04617b"/>
                </a:solidFill>
                <a:latin typeface="Calibri"/>
              </a:rPr>
              <a:t>./148/90/93%-7%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Footer Placeholder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45c75"/>
                </a:solidFill>
                <a:latin typeface="Constantia"/>
              </a:rPr>
              <a:t>Ninočka Truck-Biljan, AZOO, travanj 20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642960" y="1643040"/>
            <a:ext cx="796608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4617b"/>
                </a:solidFill>
                <a:latin typeface="Arial"/>
                <a:ea typeface="Arial"/>
              </a:rPr>
              <a:t>Opća upoznatost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Footer Placeholder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45c75"/>
                </a:solidFill>
                <a:latin typeface="Constantia"/>
              </a:rPr>
              <a:t>Ninočka Truck-Biljan, AZOO, travanj 20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928800" y="1785960"/>
            <a:ext cx="7215120" cy="45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4617b"/>
                </a:solidFill>
                <a:latin typeface="Arial"/>
                <a:ea typeface="Arial"/>
              </a:rPr>
              <a:t>Koliko znamo o programima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Footer Placeholder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45c75"/>
                </a:solidFill>
                <a:latin typeface="Constantia"/>
              </a:rPr>
              <a:t>Ninočka Truck-Biljan, AZOO, travanj 20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704880" y="1785960"/>
            <a:ext cx="758196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4617b"/>
                </a:solidFill>
                <a:latin typeface="Arial"/>
                <a:ea typeface="Arial"/>
              </a:rPr>
              <a:t>Nastavak ili početak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Poznaju li učitelji stranih jezika u osnovnim školama programe učenja stranih jezika u predškolskim ustanovama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Dobivaju li učitelji u osnovnim školama obavijesti o predznanju učenika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Nastavak ili početak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Footer Placeholder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45c75"/>
                </a:solidFill>
                <a:latin typeface="Constantia"/>
              </a:rPr>
              <a:t>Ninočka Truck-Biljan, AZOO, travanj 20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6" descr="D:\Personal Data\My Documents\Doktorski studij\RAZVOJNA PSIHOLOGIJA\felix21.gif"/>
          <p:cNvPicPr/>
          <p:nvPr/>
        </p:nvPicPr>
        <p:blipFill>
          <a:blip r:embed="rId1"/>
          <a:stretch/>
        </p:blipFill>
        <p:spPr>
          <a:xfrm>
            <a:off x="6715080" y="5286240"/>
            <a:ext cx="21909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500040" y="1182600"/>
            <a:ext cx="8040600" cy="202428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  <a:ea typeface="Arial"/>
              </a:rPr>
              <a:t>(srednje djetinjstvo)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6" name="Picture 2" descr="C:\Users\Nina\Desktop\Lisa_Simpson.gif"/>
          <p:cNvPicPr/>
          <p:nvPr/>
        </p:nvPicPr>
        <p:blipFill>
          <a:blip r:embed="rId2"/>
          <a:stretch/>
        </p:blipFill>
        <p:spPr>
          <a:xfrm>
            <a:off x="7340760" y="4917960"/>
            <a:ext cx="914400" cy="1000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C:\Users\Nina\Desktop\Bart_Simpson_2.gif"/>
          <p:cNvPicPr/>
          <p:nvPr/>
        </p:nvPicPr>
        <p:blipFill>
          <a:blip r:embed="rId3"/>
          <a:stretch/>
        </p:blipFill>
        <p:spPr>
          <a:xfrm>
            <a:off x="3857760" y="4260960"/>
            <a:ext cx="1714320" cy="1450800"/>
          </a:xfrm>
          <a:prstGeom prst="rect">
            <a:avLst/>
          </a:prstGeom>
          <a:ln w="0">
            <a:noFill/>
          </a:ln>
        </p:spPr>
      </p:pic>
      <p:sp>
        <p:nvSpPr>
          <p:cNvPr id="228" name="Footer Placeholder 6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d1eaee"/>
                </a:solidFill>
                <a:latin typeface="Constantia"/>
              </a:rPr>
              <a:t>Ninočka Truck-Biljan, AZOO, travanj 20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" descr="C:\Users\Nina\Desktop\maggie-01.gif"/>
          <p:cNvPicPr/>
          <p:nvPr/>
        </p:nvPicPr>
        <p:blipFill>
          <a:blip r:embed="rId4"/>
          <a:stretch/>
        </p:blipFill>
        <p:spPr>
          <a:xfrm>
            <a:off x="1000080" y="4500720"/>
            <a:ext cx="1508040" cy="15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4617b"/>
                </a:solidFill>
                <a:latin typeface="Arial"/>
                <a:ea typeface="Arial"/>
              </a:rPr>
              <a:t>Početak školovanja!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Footer Placeholder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45c75"/>
                </a:solidFill>
                <a:latin typeface="Constantia"/>
              </a:rPr>
              <a:t>Ninočka Truck-Biljan, AZOO, travanj 20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C:\Users\Nina\Desktop\64635_ljhvg_jpg7766f681c072a6262c193a2f922fa336.jpg"/>
          <p:cNvPicPr/>
          <p:nvPr/>
        </p:nvPicPr>
        <p:blipFill>
          <a:blip r:embed="rId1"/>
          <a:stretch/>
        </p:blipFill>
        <p:spPr>
          <a:xfrm>
            <a:off x="1571760" y="1579680"/>
            <a:ext cx="6000480" cy="51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000" spc="-1" strike="noStrike">
                <a:solidFill>
                  <a:srgbClr val="04617b"/>
                </a:solidFill>
                <a:latin typeface="Calibri"/>
              </a:rPr>
              <a:t>Tjelesni razvoj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20001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visina oko 105 centimetar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tjelesni rast se usporav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djevojčice – dječac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velike razlike među djecom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Footer Placeholder 3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45c75"/>
                </a:solidFill>
                <a:latin typeface="Constantia"/>
              </a:rPr>
              <a:t>Ninočka Truck-Biljan, AZOO, travanj 20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" descr="C:\Users\Nina\Desktop\maggie-01.gif"/>
          <p:cNvPicPr/>
          <p:nvPr/>
        </p:nvPicPr>
        <p:blipFill>
          <a:blip r:embed="rId1"/>
          <a:stretch/>
        </p:blipFill>
        <p:spPr>
          <a:xfrm>
            <a:off x="6786720" y="4641840"/>
            <a:ext cx="150804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8T23:17:18Z</dcterms:created>
  <dc:creator>Nina</dc:creator>
  <dc:description/>
  <dc:language>en-US</dc:language>
  <cp:lastModifiedBy>Nina</cp:lastModifiedBy>
  <dcterms:modified xsi:type="dcterms:W3CDTF">2010-05-03T19:15:41Z</dcterms:modified>
  <cp:revision>33</cp:revision>
  <dc:subject/>
  <dc:title>Tjelesni i kognitivni razvoj djeteta od 6 do 11 godina</dc:title>
</cp:coreProperties>
</file>