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833-3BDF-4720-9586-505D572F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717-0AC4-4FA7-9C28-0FD8027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1B3-5A09-423F-B5FF-9D28B552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D02-39A5-43B1-91FF-A19021F8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16EE-AF40-4908-80BF-226B5D19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84D0-2CB5-4D5A-864F-283A014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D21E-0DB3-47CD-85BB-3A7DCFB8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9A68-E9B2-4079-82E2-1A3D170F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11F-F682-4861-A354-33AFDDCF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8FC2-16CB-439E-9791-861AC9E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A541-058C-4F6E-941E-0905972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C8F-33F0-4D16-9DB6-EC733853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5F66-AACB-41D1-BED4-A246149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3B1F-E5EC-4FE5-9F74-1BE1966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C323-E609-4587-AB2F-956E50F7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961-B90B-42F9-9A32-EA4CC5DE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D09-24AC-4D78-84F2-0F0830A8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6F4-8D9E-4DC1-BE03-696311C4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4F6-86B5-44E5-B3E1-C7B7C3E8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910-ACF0-4EDE-A135-1907FCE1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49E-EE52-4F58-9A18-E968D58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EC4-C307-4553-A70C-59D83F19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7C5-93F3-418F-B3CA-72F76BD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4BB-50B9-4D87-B076-B1CEB8DE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DD32-7B2D-428F-AE3C-382DA78BF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7797-24E0-405D-BDD0-59F2A8759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RYVILLE, SUHOGRAD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7148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trogas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700360" y="2924280"/>
            <a:ext cx="3832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čistač otpadnih vo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39607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droelekt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556000" y="2276640"/>
            <a:ext cx="563076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će i povr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92360" y="2394000"/>
            <a:ext cx="57006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62728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gov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059280" y="2349360"/>
            <a:ext cx="47624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d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635280" y="1268280"/>
            <a:ext cx="377028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vor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37148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mio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2565360"/>
            <a:ext cx="41720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oelektr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453060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te li ikada imali želju započeti sve iz početk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žda vam je dosadio život u gradu i htjeli ste izgraditi svoj novi mali grad daleko od civilizacij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jeli ste ga nazvati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37144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or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59280" y="2349360"/>
            <a:ext cx="46954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praon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52056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klear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340000" y="2043000"/>
            <a:ext cx="573552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4000" y="2852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Jeste li pretjerali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ate li snage početi ispočetka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alazite mjesto za vaš gr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 biste počeli graditi grad trebate vodu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te je pronaći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71448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435640" y="5084640"/>
            <a:ext cx="22860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476000" y="2565000"/>
            <a:ext cx="7210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zv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k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z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n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3714840" cy="295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98960" y="2997360"/>
            <a:ext cx="1765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37148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Diagram of how ground water occurs underground"/>
          <p:cNvPicPr/>
          <p:nvPr/>
        </p:nvPicPr>
        <p:blipFill>
          <a:blip r:embed="rId3"/>
          <a:stretch/>
        </p:blipFill>
        <p:spPr>
          <a:xfrm>
            <a:off x="250920" y="1413000"/>
            <a:ext cx="85327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67676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VOD VODE U KUĆ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893960" y="-8652960"/>
            <a:ext cx="720" cy="222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60200" bIns="54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36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893960" y="28706760"/>
          <a:ext cx="5357880" cy="1951200"/>
        </p:xfrm>
        <a:graphic>
          <a:graphicData uri="http://schemas.openxmlformats.org/drawingml/2006/table">
            <a:tbl>
              <a:tblPr/>
              <a:tblGrid>
                <a:gridCol w="5357880"/>
              </a:tblGrid>
              <a:tr h="195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</a:t>
                      </a:r>
                      <a:r>
                        <a:rPr b="0" lang="hr-HR" sz="10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                </a:t>
                      </a: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re's a good chance that the average Joe who had to dig 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066760" y="28752840"/>
            <a:ext cx="14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0000" y="1916280"/>
            <a:ext cx="727236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dosprem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19640" y="5084640"/>
            <a:ext cx="1047960" cy="2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6364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303800" y="765000"/>
            <a:ext cx="4065480" cy="5693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2565000"/>
            <a:ext cx="460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den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714840" cy="2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lav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627280" y="4221000"/>
            <a:ext cx="4359240" cy="10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9:01:59Z</dcterms:created>
  <dc:creator>Sanja</dc:creator>
  <dc:description/>
  <dc:language>en-US</dc:language>
  <cp:lastModifiedBy>Sanja</cp:lastModifiedBy>
  <dcterms:modified xsi:type="dcterms:W3CDTF">2008-03-05T23:04:34Z</dcterms:modified>
  <cp:revision>7</cp:revision>
  <dc:subject/>
  <dc:title>DRYVILLE, SUHOGRAD…</dc:title>
</cp:coreProperties>
</file>