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61D-3A22-4BA0-A337-81A6F11B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8DE-FD14-47B4-9E7F-8584656B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80D-B211-4ED7-9A8F-0FD0032FE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3C6-65E9-4302-88D0-8DF1B5FF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E6F-9F6C-4981-A0A2-A2DB3548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A64-DAE0-4A71-8B8D-AE0EB93A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E46-D4F8-4315-AE65-0CC2FB53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F2D-874D-44D1-8B0E-9C6DC4CC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679-195B-49AE-A0FF-5BA8F753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654-6B93-4AF1-8A56-AD17B207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A18-E2F8-4D02-96A8-1815E94C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797-4289-4A3D-9C8A-C4DF82F5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F5BF-38B6-4A69-A796-2A0F1F142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hxchange.net/main" TargetMode="External"/><Relationship Id="rId2" Type="http://schemas.openxmlformats.org/officeDocument/2006/relationships/hyperlink" Target="http://www.youthxchange.net/main" TargetMode="External"/><Relationship Id="rId3" Type="http://schemas.openxmlformats.org/officeDocument/2006/relationships/hyperlink" Target="http://www.youthxchange.net/main" TargetMode="External"/><Relationship Id="rId4" Type="http://schemas.openxmlformats.org/officeDocument/2006/relationships/hyperlink" Target="http://www.youthxchange.net/main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rpsor.hr/" TargetMode="External"/><Relationship Id="rId2" Type="http://schemas.openxmlformats.org/officeDocument/2006/relationships/hyperlink" Target="http://www.hrpsor.hr/" TargetMode="External"/><Relationship Id="rId3" Type="http://schemas.openxmlformats.org/officeDocument/2006/relationships/hyperlink" Target="http://www.hrpsor.hr/" TargetMode="External"/><Relationship Id="rId4" Type="http://schemas.openxmlformats.org/officeDocument/2006/relationships/hyperlink" Target="http://www.huzp.hr/" TargetMode="External"/><Relationship Id="rId5" Type="http://schemas.openxmlformats.org/officeDocument/2006/relationships/hyperlink" Target="http://www.huzp.hr/" TargetMode="External"/><Relationship Id="rId6" Type="http://schemas.openxmlformats.org/officeDocument/2006/relationships/hyperlink" Target="http://www.huzp.hr/" TargetMode="External"/><Relationship Id="rId7" Type="http://schemas.openxmlformats.org/officeDocument/2006/relationships/hyperlink" Target="http://www.hura.hr/" TargetMode="External"/><Relationship Id="rId8" Type="http://schemas.openxmlformats.org/officeDocument/2006/relationships/hyperlink" Target="http://www.huoj.hr/" TargetMode="External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zopu.hr/default.aspx?id=5396" TargetMode="External"/><Relationship Id="rId2" Type="http://schemas.openxmlformats.org/officeDocument/2006/relationships/hyperlink" Target="http://www.mzopu.hr/default.aspx?id=5396" TargetMode="External"/><Relationship Id="rId3" Type="http://schemas.openxmlformats.org/officeDocument/2006/relationships/hyperlink" Target="http://www.mzopu.hr/default.aspx?id=5396" TargetMode="External"/><Relationship Id="rId4" Type="http://schemas.openxmlformats.org/officeDocument/2006/relationships/hyperlink" Target="http://www.mzopu.hr/default.aspx?id=5396" TargetMode="External"/><Relationship Id="rId5" Type="http://schemas.openxmlformats.org/officeDocument/2006/relationships/hyperlink" Target="http://www.mzopu.hr/default.aspx?id=5396" TargetMode="External"/><Relationship Id="rId6" Type="http://schemas.openxmlformats.org/officeDocument/2006/relationships/hyperlink" Target="http://www.mzopu.hr/default.aspx?id=5396" TargetMode="External"/><Relationship Id="rId7" Type="http://schemas.openxmlformats.org/officeDocument/2006/relationships/hyperlink" Target="http://www.mzopu.hr/default.aspx?id=5396" TargetMode="External"/><Relationship Id="rId8" Type="http://schemas.openxmlformats.org/officeDocument/2006/relationships/hyperlink" Target="http://www.hzn.hr/" TargetMode="External"/><Relationship Id="rId9" Type="http://schemas.openxmlformats.org/officeDocument/2006/relationships/hyperlink" Target="http://www.hzn.hr/" TargetMode="External"/><Relationship Id="rId10" Type="http://schemas.openxmlformats.org/officeDocument/2006/relationships/hyperlink" Target="http://www.hzn.hr/" TargetMode="External"/><Relationship Id="rId11" Type="http://schemas.openxmlformats.org/officeDocument/2006/relationships/hyperlink" Target="http://www.dnv.hr/" TargetMode="External"/><Relationship Id="rId12" Type="http://schemas.openxmlformats.org/officeDocument/2006/relationships/hyperlink" Target="http://www.dnv.hr/" TargetMode="External"/><Relationship Id="rId13" Type="http://schemas.openxmlformats.org/officeDocument/2006/relationships/hyperlink" Target="http://www.dnv.hr/" TargetMode="External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hepesco.hr/esco/projekt/ucinkovitost.aspx" TargetMode="External"/><Relationship Id="rId2" Type="http://schemas.openxmlformats.org/officeDocument/2006/relationships/hyperlink" Target="http://www.hepesco.hr/esco/reference/varazdin/default.aspx" TargetMode="External"/><Relationship Id="rId3" Type="http://schemas.openxmlformats.org/officeDocument/2006/relationships/hyperlink" Target="http://www.hepesco.hr/esco/reference/varazdin/default.aspx" TargetMode="External"/><Relationship Id="rId4" Type="http://schemas.openxmlformats.org/officeDocument/2006/relationships/hyperlink" Target="http://www.hepesco.hr/esco/reference/varazdin/default.aspx" TargetMode="External"/><Relationship Id="rId5" Type="http://schemas.openxmlformats.org/officeDocument/2006/relationships/hyperlink" Target="http://www.hepesco.hr/esco/reference/varazdin/default.aspx" TargetMode="External"/><Relationship Id="rId6" Type="http://schemas.openxmlformats.org/officeDocument/2006/relationships/hyperlink" Target="http://www.hepesco.hr/esco/reference/varazdin/default.aspx" TargetMode="External"/><Relationship Id="rId7" Type="http://schemas.openxmlformats.org/officeDocument/2006/relationships/hyperlink" Target="http://www.hepesco.hr/esco/reference/varazdin/default.aspx" TargetMode="External"/><Relationship Id="rId8" Type="http://schemas.openxmlformats.org/officeDocument/2006/relationships/hyperlink" Target="http://www.hepesco.hr/esco/reference/varazdin/default.aspx" TargetMode="External"/><Relationship Id="rId9" Type="http://schemas.openxmlformats.org/officeDocument/2006/relationships/hyperlink" Target="http://www.hepesco.hr/esco/reference/varazdin/default.aspx" TargetMode="External"/><Relationship Id="rId10" Type="http://schemas.openxmlformats.org/officeDocument/2006/relationships/hyperlink" Target="http://www.hepesco.hr/esco/reference/varazdin/default.aspx" TargetMode="External"/><Relationship Id="rId11" Type="http://schemas.openxmlformats.org/officeDocument/2006/relationships/hyperlink" Target="http://www.hepesco.hr/esco/reference/varazdin/default.aspx" TargetMode="External"/><Relationship Id="rId12" Type="http://schemas.openxmlformats.org/officeDocument/2006/relationships/hyperlink" Target="http://www.sajema.hr/index.php?option=com_content&amp;view=article&amp;id=186%3Aenergetski-certifikat-za-stambene-i-nestambene-zgrade&amp;catid=45%3Anovosti&amp;Itemid=110&amp;lang=hr" TargetMode="External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mo.hr/" TargetMode="External"/><Relationship Id="rId2" Type="http://schemas.openxmlformats.org/officeDocument/2006/relationships/hyperlink" Target="http://www.gmo.hr/" TargetMode="External"/><Relationship Id="rId3" Type="http://schemas.openxmlformats.org/officeDocument/2006/relationships/hyperlink" Target="http://www.gmo.hr/" TargetMode="External"/><Relationship Id="rId4" Type="http://schemas.openxmlformats.org/officeDocument/2006/relationships/hyperlink" Target="http://www.azo.hr/Default.aspx?art=1252&amp;sec=62" TargetMode="External"/><Relationship Id="rId5" Type="http://schemas.openxmlformats.org/officeDocument/2006/relationships/hyperlink" Target="http://www.hzn.hr/codex.html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nergetska-efikasnost.undp.hr/index.php?option=com_content&amp;view=article&amp;id=274&amp;Itemid=232" TargetMode="External"/><Relationship Id="rId2" Type="http://schemas.openxmlformats.org/officeDocument/2006/relationships/hyperlink" Target="http://www.energetska-efikasnost.undp.hr/index.php?option=com_content&amp;view=article&amp;id=274&amp;Itemid=232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rustica.hr/" TargetMode="External"/><Relationship Id="rId2" Type="http://schemas.openxmlformats.org/officeDocument/2006/relationships/hyperlink" Target="http://public.mzos.hr/Default.aspx?art=9344&amp;sec=1933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zdravi-gradovi.com.hr/hrv/index.asp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pv-zg.hr/" TargetMode="External"/><Relationship Id="rId2" Type="http://schemas.openxmlformats.org/officeDocument/2006/relationships/hyperlink" Target="http://www.zet.hr/" TargetMode="External"/><Relationship Id="rId3" Type="http://schemas.openxmlformats.org/officeDocument/2006/relationships/hyperlink" Target="http://www.bicikl.hr/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zopu.hr/doc/Odrziva_potrosnja_i_proizvodnja.pd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920"/>
            <a:ext cx="7761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inistarstvo zaštite okoliša, prostornog uređenja i graditeljst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ff"/>
                </a:solidFill>
                <a:latin typeface="Arial"/>
              </a:rPr>
              <a:t>Strategija održivog razvitka Republike Hrvats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ff"/>
                </a:solidFill>
                <a:latin typeface="Arial"/>
              </a:rPr>
              <a:t>i prateće aktiv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ff"/>
                </a:solidFill>
                <a:latin typeface="Arial"/>
              </a:rPr>
              <a:t>Ministarstva zaštite okoliša, prostornog uređenja i graditeljst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189000"/>
          <a:ext cx="56988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5698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124000" y="5734080"/>
            <a:ext cx="68407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Marina Gršković, Odjel za održivi razvo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Stručni skup </a:t>
            </a:r>
            <a:r>
              <a:rPr b="1" i="1" lang="hr-HR" sz="1600" spc="-1" strike="noStrike">
                <a:solidFill>
                  <a:srgbClr val="000000"/>
                </a:solidFill>
                <a:latin typeface="Arial"/>
              </a:rPr>
              <a:t>Odgoj i obrazovanje za održivi razvo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šice, 3. 11. 2009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Aktivnosti MZOPUG-a u 2009. god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139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rošura Youth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vedena u svijetu na više jezika i uključena u obrazovni su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ve godine je prevedena i na hrvat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rebno je dodati podatke o studijama iz RH da bi se dovršilo adaptaciju za upotrebu u Hrvatsk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rebno je i napraviti plan za njezino uključivanje u formalno 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eformal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raz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še podataka na stranic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dc6ff"/>
                </a:solidFill>
                <a:latin typeface="Arial"/>
              </a:rPr>
              <a:t>	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ww.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youthxchange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.net/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main</a:t>
            </a:r>
            <a:r>
              <a:rPr b="0" lang="hr-HR" sz="2400" spc="-1" strike="noStrike">
                <a:solidFill>
                  <a:srgbClr val="8dc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012000" y="3789360"/>
            <a:ext cx="26636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O brošuri Održiva potrošnja i proizvodnj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rošura Programa Ujedinjenih naroda za okoliš (UNEP DTIE) koja se sastoji od 12 letaka o različitim temama vezanim uz održivi razvoj u kojima se analiziraju utjecaji aktivnosti na okoliš i društvo i daju primjeri najboljih iskustava iz čitavog svijeta i savjeti za održivije ponašanje u svakodnevnom živo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99"/>
                </a:solidFill>
                <a:latin typeface="Arial"/>
              </a:rPr>
              <a:t>U hrvatskom izdanju dodan je 13 letak s lokalnim informacijama o tim temama, primjerima iz prakse i projektima u toku u Hrvatskoj.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1. letak: Promidžba i komunika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egativni utjeca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kontrolirano oglašavanje svjetlećim reklamama troši puno energije i svjetlosno zagađuje naš okoliš, a brojni letci troše goleme količine pap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eklame potiču pretjeranu potrošnju i neodrživo ponaš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kološko pranje” – lažno reklamiranje proizvoda kao ekološk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zitivni utjeca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vrtke počinju paziti na održivost pri proizvodnji, jer postoje potrošači kojima je do tog stalo pri odabiru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rganizatori događaja isto počinju obraćati pažnju na održiv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bog oglašavanja održivog pristupa proizvodnji, potrošači mogu birati održive proizv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1. letak: Promidžba i komunikacija – u Hrvatsko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jesto s izvješćima o održivom razvoju raznih tvrtki koje ih objavljuju u Hrvatskoj i o održivosti u proizvodnj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www.</a:t>
            </a:r>
            <a:r>
              <a:rPr b="0" lang="hr-HR" sz="20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rpsor</a:t>
            </a:r>
            <a:r>
              <a:rPr b="0" lang="hr-HR" sz="20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.h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Hrvatski poslovni savjet za održivi razvo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jesto na kojem potrošači mogu dobiti korisne savjete o tvrtkama i proizvodi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www.</a:t>
            </a:r>
            <a:r>
              <a:rPr b="0" lang="hr-HR" sz="20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huzp</a:t>
            </a:r>
            <a:r>
              <a:rPr b="0" lang="hr-HR" sz="20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.h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Hrvatska udruga za zaštitu potrošač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druge za oglašavanje (često same reguliraju to područje kroz kodekse ponašanja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www.hura.h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Udruženje društava za tržišno komuniciranje) i </a:t>
            </a:r>
            <a:r>
              <a:rPr b="0" lang="hr-HR" sz="20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www.huoj.hr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Hrvatska udruga za odnose s javnošć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2. letak: Ekološki dizaj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kološki dizaj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: oblikovanje proizvoda i/ili usluga na takav način da oni na okoliš utječu u najmanjoj mogućoj mjeri. Primjenjivati u cijelom životnom ciklusu proizvo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gativni utjecaj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onečišćenje pri preradi sirov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velika potrošnja energije pri preradi, proizvodnji i prijevo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ambalaža kao ot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proizvod kao otpad na kraju vijeka traj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ješenja/pravilno postup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avilan odabir materijala, optimizacija proizvodnje, razvrstavanje otpada, lokalna proizvodnja, optimizacija tereta i izbor goriva pri prijevozu, proizvodi koji su trajni i daju se popravljati te ih je lako reciklir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2. letak: Ekološki dizajn – u Hrvatsko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ertificiranje proizvoda u skladu s normama kvalitete i zadovoljavanjem kriterija održivosti u Hrvatsko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mzopu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.hr/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default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.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aspx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?id=5396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Znak zaštite okoliša, Ministarstvo zaštite okoliša, prostornog uređenja i graditeljst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www.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hzn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.hr/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Hrvatski zavod za nor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www.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dnv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.h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Det Norske Veritas Hrvats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3. letak: Energ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trošnja energije u 20. se stoljeću povećala 13 puta. Postoje razni načini proizvodnje energije, od kojih mnogi zagađuju okoliš (staklenički plinovi i klima, otrovna isparenja, kisele kiše koje uništavaju vegetaciju), a i svjetske zalihe sirovina koje služe za dobivanje energije uskoro će biti iscrplj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Rješe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proizvodnja energije iz obnovljivih iz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upotreba novih vrsta goriva u prijevo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upotreba štednih žaru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postavljanje bolje izolacije u zgradama (grijanje, klima-uređaj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Brošura OPP – 3. letak: Energija – u Hrvatsko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jekt energetske učinkovit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www.hepesco.hr/esco/projekt/ucinkovitost.asp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općeni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hepesco</a:t>
            </a: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.hr/</a:t>
            </a: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esco</a:t>
            </a: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/reference/</a:t>
            </a: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varazdin</a:t>
            </a: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/</a:t>
            </a: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default</a:t>
            </a: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.</a:t>
            </a: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aspx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(štedna javna rasvj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jekt energetske efikasnosti u objektima državne uprave “Dovesti svoju kuću u r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jekt “Sustavno gospodarenje energijom u gradovima i županijama Republike Hrvats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ertificiranje zgrada po kategorijama energetske učinkovitosti – obavezno za sve nove zgrade pri izgradnji, prodaji i iznajmljivanju </a:t>
            </a:r>
            <a:r>
              <a:rPr b="0" lang="hr-HR" sz="18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http://www.sajema.hr/index.php?option=com_content&amp;view=article&amp;id=186%3Aenergetski-certifikat-za-stambene-i-nestambene-zgrade&amp;catid=45%3Anovosti&amp;Itemid=110&amp;lang=hr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asivne kuć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4. letak: Prehr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ble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smanjivanje biološke raznolikosti (i G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manje plodne zem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onečišćena 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zatrovanost hrane pesticid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ješe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kontrola prijevoza opasnih tvari (Roterdamska konvenc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ekološko poljodjelst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proizvodnja koja odgovara potreb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4. letak: Prehrana – u Hrvatsko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blematika genetski modificiranih organizama u Hrvatskoj 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gmo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.hr/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aci o praćenju biološke raznolik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http://www.azo.hr/Default.aspx?art=1252&amp;sec=62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odex Alimentarius (norme o sigurnosti hrane) 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http://www.hzn.hr/codex.html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efinicija održivog razvit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Održivi razvoj je razvoj koji udovoljava potrebama sadašnjice pri tom ne ugrožavajući mogućnosti budućih generacija da udovolje svojim potrebam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(Brundtland Report,1987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ri sastavnice održivog razvitk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 ekono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. socija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3. zaštita okoliš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5. letak: Stanov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ble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upotreba tvari koje onečišćuju okoliš u izgradn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kratkoročne građevine – brza i jeftina izgradnja, kratko tr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nezdrava ispar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rasipanje energ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ješe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upotreba lokalnih materijala i lokalnog načina grad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uspostavljanje toplinske ravnote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5. letak: Stanovanje – u Hrvatsko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okalni stil gradnje koji je primjereniji klimi – kamene kuće u primorskim krajevima, u kojima klimatizacija tokom ljeta praktički nije potreb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asivne kuć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www.energetska-efikasnost.undp.hr/index.php?option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=com_content&amp;view=article&amp;id=274&amp;Itemid=23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6. letak: Slobodno vrij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gativne stra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sječa drveć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opasne kemikalije u bojama i pesticid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gubitak biljne raznolik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zitivne stra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društveno poveziv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prenamjena odbačenih predmeta i materij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 Hrvatsko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o hobijima u održivom obliku: </a:t>
            </a:r>
            <a:r>
              <a:rPr b="0" lang="en-GB" sz="20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www.rustica.hr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o njegovanju domaće biološke raznolikosti u sklopu obrazovanja: </a:t>
            </a:r>
            <a:r>
              <a:rPr b="0" lang="en-GB" sz="20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public.mzos.hr/Default.aspx?art=9344&amp;sec=1933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7. letak: Životni stilo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ojim odabirima u životu utječemo na svijet oko sebe i na očuvanje ili uništavanje prirode – </a:t>
            </a:r>
            <a:r>
              <a:rPr b="0" lang="hr-HR" sz="2400" spc="-1" strike="noStrike">
                <a:solidFill>
                  <a:srgbClr val="0000ff"/>
                </a:solidFill>
                <a:latin typeface="Arial"/>
              </a:rPr>
              <a:t>ekološki otisa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pokazuje koliko opterećujemo okoliš (transport – staklenički plinovi, otpad – jednokratne ambalaže, uređaji koji se teško recikliraj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zitivni odabiri: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proizvodnja i kupovina u skladu s principima održivosti, korištenje javnog prijevoza, hodanja ili bicikla, štedljivo korištenje energije i v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 Hrvatskoj: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društveno organiziran održivi pristup životnom stilu: 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www.zdravi-gradovi.com.hr/hrv/index.asp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8. letak: Pokretljiv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egativnos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dernog načina živ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onečišćenje zraka i negativni utjecaj toga na zdrav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promjene u krajoliku zbog cesta i pr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zitivni izbor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ojima se one mogu umanj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korištenje javnog prijevoza, hodanje, vožnja biciklom ili zajedničko korištenje automob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korištenje biogor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motori koji manje onečišćuju z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8. letak: Pokretljivost – u Hrvatsko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laniranje prometnih mogućnosti i javnog prijevoza: </a:t>
            </a:r>
            <a:r>
              <a:rPr b="0" lang="en-GB" sz="2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www.ipv-zg.h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avni prijevoz u gradu – organizacija prijevoza i odabir održivijih goriva za njega: 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zet.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rištenje bicikla kao prijevoznog sredstva umjesto au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http://www.bicikl.h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9. letak: NIKT-o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gativ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većana potrošnja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lektronički otpad – teški metali i opasne tv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sihološka ovisnost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zitivni utjecaj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širenje obrazovanja, znanja i inform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brinjavanje električnog i elektroničkog otpada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 Hrvatsko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eeotpad.wordpress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fzoeu.hr/hrv/index.asp?s=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10. letak: Tekstilni proizvo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gativni aspekt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proizvodnje tekstilnih proizvo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sintetička vlakna – teško recikliranje, onečišće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proizvodnja – velika potrošnja vode, zagađenje zraka i okoliša kemikalij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društvena komponenta – iskorištavanje jeftinog dječjeg rada u nerazvijenim zemlj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zitivna nastoj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izbor ekoloških materijala i proizvodnih proc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poboljšavanje radnih uvjeta u tekstilnoj industr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 Hrvatsko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naše zakonodavstvo – ekološka proizvodnja tekstilnih predme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http://infos.hok.hr/hr/faq/f_tehnicka_pitanja/f6_propisi_norme_i_standardi/standardi/ekoloska_proizvodnja_u_preradi_vlakan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11. letak: Turiz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egativni utjecaji turiz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ugrožavanje prirodnih bogatstava i biološke raznolik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onečišćivanje zraka, tla i m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kulturološke i društvene promj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zitivna nastoj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održivi turizam: ekološki turizam, dodjeljivanje znaka zaštite okoliša za hotele i kampove, plave zastave na plaž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11. letak: Turizam – u Hrvatsko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d na održivosti i zaštiti bioraznolik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argonauta.hr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ntrola kakvoće mo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mzopu.hr/default.aspx?ID=5299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 plavoj zastav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htz.hr/Hrvatski/O_Hrvatskoj/JadranskoMore.aspx?idEntry=blue_flag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oski turiz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seoski-turizam.net/index.html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spitivanja utjecaja turizma na okoliš – Institut za turiz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iztzg.hr/en/odrzivi_razvoj/sustainable_touris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ključivanje održivog turizma u obrazovanje budućih turističkih djelatni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zsm.hr/hr/program-i-smjerovi/specijalisticki-studij-oglasna.aspx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eđunarodni kontek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N-ova konferencija o okolišu i razvitk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Rio de Janeiro (1992.) – Agenda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UN-ova Milenijska deklaracij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Milenijski razvojni ciljevi,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w York (2000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vjetski sastanak na vrhu o održivom razvitk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Johannesburg, (200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Mediteranska strategija održivog razvo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Portorož (2005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U Ugovor iz Amsterdam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199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othenburška strategija održivog razvit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2001., revidirana 2006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Brošura OPP – 12. letak: V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egativ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nedostatak vode u nekim krajevima zem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onečišćenje v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zitivna nastoj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smanjiti onečišćenje vode i njezinu potrošnju – centri za čistiju proizvod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štednja vode u kućanstvima – aeratori na slavi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Brošura OPP – 12. letak: Vode – u Hrvatsko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ravljanje vodnim resursima u Hrvatsko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www.voda.h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rvatski centar za čistiju proizvodnj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ro-cpc.h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zentacija s informacijama o vo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www.gradri.hr/adminmax/files/class/HIDROLOGIJA_I-Uvodno_predavanje.pdf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Još neke brošure MZOPUG-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izanje svijesti javnosti o zaštiti ozonskog omota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obni doprinos u borbi protiv klimatskih prom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rošure se mogu naći na internetskim stranicama MZOPUG-a, na stranici s publikaci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ttp://www.mzopu.hr/default.aspx?id=3684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1603440" cy="218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1585800" cy="2187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050920" y="2133720"/>
            <a:ext cx="21114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ff"/>
                </a:solidFill>
                <a:latin typeface="Arial"/>
              </a:rPr>
              <a:t>Hvala na pažnj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Hrvatski kontek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kon o zaštiti okoliš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, 2007. godine – ističe važnost održivog razvitka – načelo održivog razvitka, dokumenti održivog razvi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trategija održivog razvit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epublike Hrvatsk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– krovni dokument održivog razvitka, usvojena 20. veljače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ugoročno usmjerava prema održivom razvitku 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stoji pronaći prikladna rješenja za sve tri sastavnice održivog razvo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ospodarski r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ocijalna ravnote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koli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trategija održivog razvitka R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pća nač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romicanje i zaštita temeljnih ljudskih prav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zaštita zdravlja ljud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solidarnost unutar i među generacijam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ostvarenje otvorenog i demokratskog društv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ključivanje građan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ključivanje poslodavaca i socijalnih partne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socijalna odgovornost poslodava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integracija gospodarskih, socijalnih i okolišnih sastavnica u izradi svih politik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66"/>
                </a:solidFill>
                <a:latin typeface="Verdana"/>
              </a:rPr>
              <a:t>obrazovanje za održivi razvoj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sklađenost politika svih razina uprave i lokalne samouprav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upotrebe najbolje moguće dostupne tehnologij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obnavljanje prirodnih resurs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romicanje održive potrošnje i proizvodnj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predostrožnost i prevencij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onečišćivač plaća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trategija održivog razvitka R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ljučni izazo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oticaj rasta broja stanovnika 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okoliš i prirodna do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9933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9933ff"/>
                </a:solidFill>
                <a:latin typeface="Verdana"/>
              </a:rPr>
              <a:t>usmjeravanje na održivu proizvodnju i potrošnj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ostvarivanje socijalne i teritorijalne kohezije i    prav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ostizanje energetske neovisnosti i rasta učinkovitosti korištenja energ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jačanje javnog zdravst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povezivanje Republike Hrvats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zaštita Jadranskog mora, priobalja i oto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trategija održivog razvitka R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svakom od 8 ključnih izazova potrebno je ostvariti sljedeće pretpostav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vesti reforme i nastaviti izgrađivati učinkovitu držav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66"/>
                </a:solidFill>
                <a:latin typeface="Arial"/>
              </a:rPr>
              <a:t>podići obrazovnu razinu svih građana i graditi društvo temeljeno na znanju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upirati kulturu istraživanja i ulaganja u razvit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lagoditi se klimatskim promjen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trategija održivog razvitka R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počela izrada akcijskih planova, pomoću kojih će se provoditi strateg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vi akcijski plan – Akcijski plan za održivu potrošnju i proizvodnju, MZOP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1. radionica održana 21. – 22. 5.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osnovan upravni od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osnivanje radne sku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Aktivnosti MZOPUG-a u 2009. god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898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oš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vedena 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aptirana dodavanjem hrvatskog le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iskana u 10.000 primjer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istribuira se u škole za primjenu kao dodatni nastavni materijal (6 primjeraka po ško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lazi se i na internetskoj stranici MZOPUG-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92360" cy="3373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544500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5373720"/>
            <a:ext cx="7859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5373720"/>
            <a:ext cx="806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http://www.mzopu.hr/doc/Odrziva_potrosnja_i_proizvodnja.pdf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12:56:31Z</dcterms:created>
  <dc:creator>MGrskovic</dc:creator>
  <dc:description/>
  <dc:language>en-US</dc:language>
  <cp:lastModifiedBy>MGrskovic</cp:lastModifiedBy>
  <dcterms:modified xsi:type="dcterms:W3CDTF">2009-11-02T16:54:06Z</dcterms:modified>
  <cp:revision>21</cp:revision>
  <dc:subject/>
  <dc:title>Ministarstvo zaštite okoliša, prostornog uređenja i graditeljstva</dc:title>
</cp:coreProperties>
</file>