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39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25.wmf" ContentType="image/x-wm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20.png" ContentType="image/png"/>
  <Override PartName="/ppt/media/image32.jpeg" ContentType="image/jpeg"/>
  <Override PartName="/ppt/media/image5.jpeg" ContentType="image/jpeg"/>
  <Override PartName="/ppt/media/image11.jpeg" ContentType="image/jpeg"/>
  <Override PartName="/ppt/media/image40.png" ContentType="image/png"/>
  <Override PartName="/ppt/media/image48.png" ContentType="image/png"/>
  <Override PartName="/ppt/media/image9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27.png" ContentType="image/png"/>
  <Override PartName="/ppt/media/image33.jpeg" ContentType="image/jpeg"/>
  <Override PartName="/ppt/media/image46.png" ContentType="image/png"/>
  <Override PartName="/ppt/media/image4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EC6E-3689-46D9-9D03-253536D6F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DC86E-2252-48DC-82D2-6382FCB101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600120" y="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A36-772D-4C91-B6FF-5ADB8F20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81C-8A76-49A9-B96C-49CC0B6E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3DD-F02F-4E83-BC15-6C95F30E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8E0-1444-445B-ACBC-2305A114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32D-5615-4A97-AF62-6781BFC8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CB5-4FE7-48D5-9CBF-F5EF796D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3FC-EE39-43D6-BF91-72395811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BE54-BA38-45E9-841E-6C49B300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A23-402D-4B69-9EBC-69866F1B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C69-775E-4869-930C-6F87B59F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929-0FC3-4F34-B367-CA8A9A13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076F-8972-40B8-8666-E9D82F42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1FB6-10E7-4E88-BF8A-A2C60FB3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9.png"/><Relationship Id="rId6" Type="http://schemas.openxmlformats.org/officeDocument/2006/relationships/image" Target="../media/image36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121200" cy="468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633240" y="476280"/>
            <a:ext cx="844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Bodoni MT Condensed"/>
              </a:rPr>
              <a:t>EKOLOŠKI OTISAK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000000"/>
                </a:solidFill>
                <a:latin typeface="Bodoni MT Condensed"/>
              </a:rPr>
              <a:t>	</a:t>
            </a:r>
            <a:r>
              <a:rPr b="0" lang="hr-HR" sz="4800" spc="-1" strike="noStrike">
                <a:solidFill>
                  <a:srgbClr val="000000"/>
                </a:solidFill>
                <a:latin typeface="Bodoni MT Condensed"/>
              </a:rPr>
              <a:t>	</a:t>
            </a:r>
            <a:r>
              <a:rPr b="0" lang="hr-HR" sz="4800" spc="-1" strike="noStrike">
                <a:solidFill>
                  <a:srgbClr val="000000"/>
                </a:solidFill>
                <a:latin typeface="Bodoni MT Condensed"/>
              </a:rPr>
              <a:t>	</a:t>
            </a:r>
            <a:r>
              <a:rPr b="0" lang="hr-HR" sz="4800" spc="-1" strike="noStrike">
                <a:solidFill>
                  <a:srgbClr val="000000"/>
                </a:solidFill>
                <a:latin typeface="Bodoni MT Condensed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Bodoni MT Condensed"/>
              </a:rPr>
              <a:t>/// Kako gazimo svijet i Hrvats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-27000"/>
            <a:ext cx="914400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44280"/>
            <a:ext cx="1010916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187200"/>
            <a:ext cx="828036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 Narrow"/>
              </a:rPr>
              <a:t>///  JE LI MOGU</a:t>
            </a:r>
            <a:r>
              <a:rPr b="1" lang="hr-HR" sz="2200" spc="-1" strike="noStrike">
                <a:solidFill>
                  <a:srgbClr val="ffffff"/>
                </a:solidFill>
                <a:latin typeface="Arial Narrow"/>
              </a:rPr>
              <a:t>Ć</a:t>
            </a:r>
            <a:r>
              <a:rPr b="1" lang="hr-HR" sz="2400" spc="-1" strike="noStrike">
                <a:solidFill>
                  <a:srgbClr val="ffffff"/>
                </a:solidFill>
                <a:latin typeface="Arial Narrow"/>
              </a:rPr>
              <a:t> LAGANI OTISAK ZA KVALITETAN ŽIVOT?   /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-36360" y="806400"/>
            <a:ext cx="9142200" cy="58626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237440" y="5149800"/>
            <a:ext cx="4352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Arial Unicode MS"/>
              </a:rPr>
              <a:t>Kub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15720" y="45831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Hrvats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581360"/>
            <a:ext cx="576360" cy="216000"/>
          </a:xfrm>
          <a:prstGeom prst="rect">
            <a:avLst/>
          </a:prstGeom>
          <a:solidFill>
            <a:srgbClr val="ff0000">
              <a:alpha val="42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0146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0" y="3438360"/>
            <a:ext cx="4541760" cy="2582640"/>
            <a:chOff x="0" y="3438360"/>
            <a:chExt cx="4541760" cy="2582640"/>
          </a:xfrm>
        </p:grpSpPr>
        <p:grpSp>
          <p:nvGrpSpPr>
            <p:cNvPr id="325" name=""/>
            <p:cNvGrpSpPr/>
            <p:nvPr/>
          </p:nvGrpSpPr>
          <p:grpSpPr>
            <a:xfrm>
              <a:off x="0" y="3438360"/>
              <a:ext cx="4541760" cy="1366920"/>
              <a:chOff x="0" y="3438360"/>
              <a:chExt cx="4541760" cy="1366920"/>
            </a:xfrm>
          </p:grpSpPr>
          <p:pic>
            <p:nvPicPr>
              <p:cNvPr id="3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240" y="3944880"/>
                <a:ext cx="78084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3"/>
              <a:srcRect l="0" t="0" r="0" b="60018"/>
              <a:stretch/>
            </p:blipFill>
            <p:spPr>
              <a:xfrm>
                <a:off x="0" y="3438360"/>
                <a:ext cx="4541760" cy="30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4"/>
              <a:srcRect l="0" t="0" r="69171" b="0"/>
              <a:stretch/>
            </p:blipFill>
            <p:spPr>
              <a:xfrm>
                <a:off x="971640" y="3941640"/>
                <a:ext cx="239760" cy="5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5"/>
              <a:srcRect l="0" t="0" r="13130" b="0"/>
              <a:stretch/>
            </p:blipFill>
            <p:spPr>
              <a:xfrm>
                <a:off x="249120" y="4579560"/>
                <a:ext cx="938160" cy="225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0" name="" descr=""/>
            <p:cNvPicPr/>
            <p:nvPr/>
          </p:nvPicPr>
          <p:blipFill>
            <a:blip r:embed="rId6"/>
            <a:srcRect l="0" t="3601" r="0" b="0"/>
            <a:stretch/>
          </p:blipFill>
          <p:spPr>
            <a:xfrm>
              <a:off x="250920" y="5057640"/>
              <a:ext cx="981000" cy="96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" descr=""/>
          <p:cNvPicPr/>
          <p:nvPr/>
        </p:nvPicPr>
        <p:blipFill>
          <a:blip r:embed="rId7"/>
          <a:srcRect l="0" t="1260" r="582" b="1260"/>
          <a:stretch/>
        </p:blipFill>
        <p:spPr>
          <a:xfrm>
            <a:off x="1763640" y="3851280"/>
            <a:ext cx="7345440" cy="33228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558120" y="334980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Narrow"/>
              </a:rPr>
              <a:t>http://www.myfootpr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0" y="-27000"/>
            <a:ext cx="9144000" cy="934920"/>
            <a:chOff x="0" y="-27000"/>
            <a:chExt cx="9144000" cy="934920"/>
          </a:xfrm>
        </p:grpSpPr>
        <p:sp>
          <p:nvSpPr>
            <p:cNvPr id="334" name=""/>
            <p:cNvSpPr/>
            <p:nvPr/>
          </p:nvSpPr>
          <p:spPr>
            <a:xfrm>
              <a:off x="0" y="-27000"/>
              <a:ext cx="9144000" cy="9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0" y="44280"/>
              <a:ext cx="9144000" cy="719280"/>
              <a:chOff x="0" y="44280"/>
              <a:chExt cx="9144000" cy="71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44280"/>
                <a:ext cx="9144000" cy="71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9280" y="187200"/>
                <a:ext cx="7489800" cy="459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400" spc="-1" strike="noStrike">
                    <a:solidFill>
                      <a:srgbClr val="ffffff"/>
                    </a:solidFill>
                    <a:latin typeface="Arial Narrow"/>
                  </a:rPr>
                  <a:t>///  GDJE POČETI?   //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-36360" y="2276640"/>
            <a:ext cx="4474080" cy="4608360"/>
            <a:chOff x="-36360" y="2276640"/>
            <a:chExt cx="4474080" cy="4608360"/>
          </a:xfrm>
        </p:grpSpPr>
        <p:grpSp>
          <p:nvGrpSpPr>
            <p:cNvPr id="339" name=""/>
            <p:cNvGrpSpPr/>
            <p:nvPr/>
          </p:nvGrpSpPr>
          <p:grpSpPr>
            <a:xfrm>
              <a:off x="-36360" y="2276640"/>
              <a:ext cx="3097440" cy="3744000"/>
              <a:chOff x="-36360" y="2276640"/>
              <a:chExt cx="3097440" cy="374400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-36360" y="3287880"/>
                <a:ext cx="1782360" cy="2732760"/>
                <a:chOff x="-36360" y="3287880"/>
                <a:chExt cx="1782360" cy="273276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-36360" y="3287880"/>
                  <a:ext cx="1782360" cy="2732760"/>
                  <a:chOff x="-36360" y="3287880"/>
                  <a:chExt cx="1782360" cy="273276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-36360" y="3287880"/>
                    <a:ext cx="935280" cy="2732760"/>
                    <a:chOff x="-36360" y="3287880"/>
                    <a:chExt cx="935280" cy="2732760"/>
                  </a:xfrm>
                </p:grpSpPr>
                <p:pic>
                  <p:nvPicPr>
                    <p:cNvPr id="34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-32400" y="3287880"/>
                      <a:ext cx="931320" cy="78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4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-36360" y="4064760"/>
                      <a:ext cx="9277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3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80200" y="4069080"/>
                    <a:ext cx="865800" cy="176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6" name="" descr=""/>
                  <p:cNvPicPr/>
                  <p:nvPr/>
                </p:nvPicPr>
                <p:blipFill>
                  <a:blip r:embed="rId11"/>
                  <a:srcRect l="0" t="0" r="12143" b="0"/>
                  <a:stretch/>
                </p:blipFill>
                <p:spPr>
                  <a:xfrm>
                    <a:off x="898920" y="3300120"/>
                    <a:ext cx="845640" cy="7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34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84160" y="5826600"/>
                  <a:ext cx="861840" cy="194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4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-15480" y="2276640"/>
                <a:ext cx="3076560" cy="1042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49" name="" descr=""/>
            <p:cNvPicPr/>
            <p:nvPr/>
          </p:nvPicPr>
          <p:blipFill>
            <a:blip r:embed="rId14"/>
            <a:stretch/>
          </p:blipFill>
          <p:spPr>
            <a:xfrm>
              <a:off x="-7920" y="6058080"/>
              <a:ext cx="14842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1701360" y="3349800"/>
              <a:ext cx="2736360" cy="3682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http://www.creativechange.net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-27000"/>
            <a:ext cx="9144000" cy="934920"/>
            <a:chOff x="0" y="-27000"/>
            <a:chExt cx="9144000" cy="934920"/>
          </a:xfrm>
        </p:grpSpPr>
        <p:sp>
          <p:nvSpPr>
            <p:cNvPr id="352" name=""/>
            <p:cNvSpPr/>
            <p:nvPr/>
          </p:nvSpPr>
          <p:spPr>
            <a:xfrm>
              <a:off x="0" y="-27000"/>
              <a:ext cx="9144000" cy="9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0" y="44280"/>
              <a:ext cx="9144000" cy="719280"/>
              <a:chOff x="0" y="44280"/>
              <a:chExt cx="9144000" cy="71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4280"/>
                <a:ext cx="9144000" cy="71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9280" y="187200"/>
                <a:ext cx="7489800" cy="459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400" spc="-1" strike="noStrike">
                    <a:solidFill>
                      <a:srgbClr val="ffffff"/>
                    </a:solidFill>
                    <a:latin typeface="Arial Narrow"/>
                  </a:rPr>
                  <a:t>///  GDJE POČETI?   //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835280" y="4005360"/>
            <a:ext cx="6191280" cy="28573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301464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0" y="3654360"/>
            <a:ext cx="4541760" cy="2583000"/>
            <a:chOff x="0" y="3654360"/>
            <a:chExt cx="4541760" cy="2583000"/>
          </a:xfrm>
        </p:grpSpPr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34920" y="4160880"/>
              <a:ext cx="7812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" descr=""/>
            <p:cNvPicPr/>
            <p:nvPr/>
          </p:nvPicPr>
          <p:blipFill>
            <a:blip r:embed="rId4"/>
            <a:srcRect l="0" t="0" r="0" b="60018"/>
            <a:stretch/>
          </p:blipFill>
          <p:spPr>
            <a:xfrm>
              <a:off x="0" y="3654360"/>
              <a:ext cx="454176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5"/>
            <a:srcRect l="0" t="3601" r="0" b="0"/>
            <a:stretch/>
          </p:blipFill>
          <p:spPr>
            <a:xfrm>
              <a:off x="250920" y="5273640"/>
              <a:ext cx="981000" cy="9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6"/>
            <a:srcRect l="0" t="0" r="23041" b="0"/>
            <a:stretch/>
          </p:blipFill>
          <p:spPr>
            <a:xfrm>
              <a:off x="801720" y="4149720"/>
              <a:ext cx="6015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7"/>
            <a:stretch/>
          </p:blipFill>
          <p:spPr>
            <a:xfrm>
              <a:off x="108000" y="4848120"/>
              <a:ext cx="1152360" cy="2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6523200" y="356724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 Narrow"/>
              </a:rPr>
              <a:t>http://www.myfootpr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34920" y="765000"/>
            <a:ext cx="9074160" cy="6119640"/>
            <a:chOff x="34920" y="765000"/>
            <a:chExt cx="9074160" cy="6119640"/>
          </a:xfrm>
        </p:grpSpPr>
        <p:sp>
          <p:nvSpPr>
            <p:cNvPr id="366" name=""/>
            <p:cNvSpPr/>
            <p:nvPr/>
          </p:nvSpPr>
          <p:spPr>
            <a:xfrm>
              <a:off x="7616880" y="1420200"/>
              <a:ext cx="1454040" cy="51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Koncept 4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Reduce /// smanji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Repair /// popravi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Reuse /// ponov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koristi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Recycle /// reciklira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7960" y="1724040"/>
              <a:ext cx="2158920" cy="51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Trebamo li nešto zaist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ko nešto trebamo, je li kupnja jedina opcij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ko nešto trebamo kupiti, mo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mo li na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ć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i nešto 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č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ija proizvodnja nije ugrozila okoliš i ljud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Je li mogu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ć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 nešto što kupimo, iskoristiti nakon korištenj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48240" y="1577520"/>
              <a:ext cx="1809720" cy="51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vion kad nema druge op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Manje korištenje auta /// javni prijevoz i bicik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Pješa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č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Dijeljenje au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konomski automobil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r>
                <a:rPr b="0" lang="hr-H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 anti SU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Odr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vanje au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5720" y="1577520"/>
              <a:ext cx="1622520" cy="51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Lokalna h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Organska h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Manje m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Sezonska preh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Više svje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ga i kuhan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920" y="1359360"/>
              <a:ext cx="1990800" cy="51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Štednja /// dizaj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nergetski efikasna izolacija /// solarni pasivni dizaj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Obnovljivi izvori energ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fikasno grijanje /// razina termost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nergetski efikasni uređaji (A ili viša klas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Štedne 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rul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16880" y="837000"/>
              <a:ext cx="14540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otp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57960" y="837000"/>
              <a:ext cx="21589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robe i uslu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8240" y="837000"/>
              <a:ext cx="18097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25720" y="837000"/>
              <a:ext cx="16225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hr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920" y="837000"/>
              <a:ext cx="199080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energij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920" y="765000"/>
              <a:ext cx="9072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920" y="1347840"/>
              <a:ext cx="907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920" y="6812640"/>
              <a:ext cx="9072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920" y="765000"/>
              <a:ext cx="0" cy="603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25720" y="765000"/>
              <a:ext cx="0" cy="60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48240" y="765000"/>
              <a:ext cx="0" cy="60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57960" y="765000"/>
              <a:ext cx="0" cy="60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616880" y="765000"/>
              <a:ext cx="0" cy="60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109080" y="765000"/>
              <a:ext cx="0" cy="603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-36360" y="-27000"/>
            <a:ext cx="9180000" cy="719280"/>
            <a:chOff x="-36360" y="-27000"/>
            <a:chExt cx="9180000" cy="719280"/>
          </a:xfrm>
        </p:grpSpPr>
        <p:sp>
          <p:nvSpPr>
            <p:cNvPr id="386" name=""/>
            <p:cNvSpPr/>
            <p:nvPr/>
          </p:nvSpPr>
          <p:spPr>
            <a:xfrm>
              <a:off x="-36360" y="-27000"/>
              <a:ext cx="9180000" cy="71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3360" y="142920"/>
              <a:ext cx="25732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 Narrow"/>
                </a:rPr>
                <a:t>/// GDJE POČETI? //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34920" y="765000"/>
            <a:ext cx="9074160" cy="6119640"/>
            <a:chOff x="34920" y="765000"/>
            <a:chExt cx="9074160" cy="6119640"/>
          </a:xfrm>
        </p:grpSpPr>
        <p:sp>
          <p:nvSpPr>
            <p:cNvPr id="389" name=""/>
            <p:cNvSpPr/>
            <p:nvPr/>
          </p:nvSpPr>
          <p:spPr>
            <a:xfrm>
              <a:off x="7616880" y="1420200"/>
              <a:ext cx="1454040" cy="51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Koncept 4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Reduce /// smanji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Repair /// popravi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Reuse /// ponov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koristi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Recycle /// reciklirat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57960" y="1724040"/>
              <a:ext cx="2158920" cy="51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Trebamo li nešto zaist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ko nešto trebamo, je li kupnja jedina opcij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ko nešto trebamo kupiti, mo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mo li na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ć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i nešto 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č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ija proizvodnja nije ugrozila okoliš i ljud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Je li mogu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ć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 nešto što kupimo, iskoristiti nakon korištenja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48240" y="1577520"/>
              <a:ext cx="1809720" cy="51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vion kad nema druge op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Manje korištenje auta /// javni prijevoz i bicik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Pješa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č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Dijeljenje au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konomski automobil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(</a:t>
              </a:r>
              <a:r>
                <a:rPr b="0" lang="hr-H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 anti SU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Odr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vanje au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25720" y="1577520"/>
              <a:ext cx="1622520" cy="51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Lokalna h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Organska h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Manje m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Sezonska prehra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Više svje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ga i kuhan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920" y="1359360"/>
              <a:ext cx="1990800" cy="51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Štednja /// dizaj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nergetski efikasna izolacija /// solarni pasivni dizaj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Obnovljivi izvori energ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fikasno grijanje /// razina termost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Energetski efikasni uređaji (A ili viša klas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Štedne 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 Narrow"/>
                </a:rPr>
                <a:t>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 Narrow"/>
                </a:rPr>
                <a:t>arul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16880" y="837000"/>
              <a:ext cx="145404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otp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57960" y="837000"/>
              <a:ext cx="21589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robe i uslu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48240" y="837000"/>
              <a:ext cx="18097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25720" y="837000"/>
              <a:ext cx="162252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hr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920" y="837000"/>
              <a:ext cx="199080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Vrinda"/>
                </a:rPr>
                <a:t>energij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920" y="765000"/>
              <a:ext cx="9072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920" y="1347840"/>
              <a:ext cx="907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920" y="6812640"/>
              <a:ext cx="9072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920" y="765000"/>
              <a:ext cx="0" cy="603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25720" y="765000"/>
              <a:ext cx="0" cy="60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8240" y="765000"/>
              <a:ext cx="0" cy="60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57960" y="765000"/>
              <a:ext cx="0" cy="60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16880" y="765000"/>
              <a:ext cx="0" cy="603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109080" y="765000"/>
              <a:ext cx="0" cy="603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-36360" y="-27000"/>
            <a:ext cx="9180000" cy="719280"/>
            <a:chOff x="-36360" y="-27000"/>
            <a:chExt cx="9180000" cy="719280"/>
          </a:xfrm>
        </p:grpSpPr>
        <p:sp>
          <p:nvSpPr>
            <p:cNvPr id="409" name=""/>
            <p:cNvSpPr/>
            <p:nvPr/>
          </p:nvSpPr>
          <p:spPr>
            <a:xfrm>
              <a:off x="-36360" y="-27000"/>
              <a:ext cx="9180000" cy="71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3360" y="142920"/>
              <a:ext cx="25732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 Narrow"/>
                </a:rPr>
                <a:t>/// GDJE POČETI? //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0" y="-27000"/>
            <a:ext cx="9144000" cy="719280"/>
            <a:chOff x="0" y="-27000"/>
            <a:chExt cx="9144000" cy="719280"/>
          </a:xfrm>
        </p:grpSpPr>
        <p:sp>
          <p:nvSpPr>
            <p:cNvPr id="412" name=""/>
            <p:cNvSpPr/>
            <p:nvPr/>
          </p:nvSpPr>
          <p:spPr>
            <a:xfrm>
              <a:off x="0" y="-27000"/>
              <a:ext cx="9144000" cy="71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0" y="27720"/>
              <a:ext cx="9144000" cy="569520"/>
              <a:chOff x="0" y="27720"/>
              <a:chExt cx="9144000" cy="569520"/>
            </a:xfrm>
          </p:grpSpPr>
          <p:sp>
            <p:nvSpPr>
              <p:cNvPr id="414" name=""/>
              <p:cNvSpPr/>
              <p:nvPr/>
            </p:nvSpPr>
            <p:spPr>
              <a:xfrm>
                <a:off x="0" y="27720"/>
                <a:ext cx="9144000" cy="55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9280" y="137520"/>
                <a:ext cx="7489800" cy="459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400" spc="-1" strike="noStrike">
                    <a:solidFill>
                      <a:srgbClr val="ffffff"/>
                    </a:solidFill>
                    <a:latin typeface="Arial Narrow"/>
                  </a:rPr>
                  <a:t>///  GDJE ZAVRŠITI?   //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66680" y="3273480"/>
            <a:ext cx="8867880" cy="3395520"/>
            <a:chOff x="166680" y="3273480"/>
            <a:chExt cx="8867880" cy="3395520"/>
          </a:xfrm>
        </p:grpSpPr>
        <p:sp>
          <p:nvSpPr>
            <p:cNvPr id="51" name=""/>
            <p:cNvSpPr/>
            <p:nvPr/>
          </p:nvSpPr>
          <p:spPr>
            <a:xfrm>
              <a:off x="166680" y="3273480"/>
              <a:ext cx="7500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Računamo u 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globalnim 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hekt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rima koliko nam je potrebno d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zadovoljimo sve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naše potrebe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 u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: hran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, stanovanj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u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, energij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i,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transport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u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, otpa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du te drugim va</a:t>
              </a:r>
              <a:r>
                <a:rPr b="1" lang="hr-HR" sz="1600" spc="-1" strike="noStrike">
                  <a:solidFill>
                    <a:srgbClr val="000000"/>
                  </a:solidFill>
                  <a:latin typeface="Bookman Old Style"/>
                </a:rPr>
                <a:t>ž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nim podru</a:t>
              </a:r>
              <a:r>
                <a:rPr b="0" lang="hr-HR" sz="1800" spc="-1" strike="noStrike">
                  <a:solidFill>
                    <a:srgbClr val="000000"/>
                  </a:solidFill>
                  <a:latin typeface="Bookman Old Style"/>
                </a:rPr>
                <a:t>č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jim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7061040" y="4095720"/>
              <a:ext cx="1973520" cy="257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0" y="-27000"/>
            <a:ext cx="914400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25360"/>
            <a:ext cx="74898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 Narrow"/>
              </a:rPr>
              <a:t>///  EKOLOŠKI OTISAK   /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1131840"/>
            <a:ext cx="8864640" cy="2152800"/>
            <a:chOff x="0" y="1131840"/>
            <a:chExt cx="8864640" cy="2152800"/>
          </a:xfrm>
        </p:grpSpPr>
        <p:sp>
          <p:nvSpPr>
            <p:cNvPr id="56" name=""/>
            <p:cNvSpPr/>
            <p:nvPr/>
          </p:nvSpPr>
          <p:spPr>
            <a:xfrm>
              <a:off x="542880" y="1131840"/>
              <a:ext cx="832176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Bookman Old Style"/>
                </a:rPr>
                <a:t>Ekološki oti</a:t>
              </a:r>
              <a:r>
                <a:rPr b="1" lang="hr-HR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r>
                <a:rPr b="1" lang="en-GB" sz="2000" spc="-1" strike="noStrike">
                  <a:solidFill>
                    <a:srgbClr val="000000"/>
                  </a:solidFill>
                  <a:latin typeface="Bookman Old Style"/>
                </a:rPr>
                <a:t>ak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 je 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tlo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 i voda potrebn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 da podr</a:t>
              </a:r>
              <a:r>
                <a:rPr b="1" lang="en-GB" sz="1600" spc="-1" strike="noStrike">
                  <a:solidFill>
                    <a:srgbClr val="000000"/>
                  </a:solidFill>
                  <a:latin typeface="Bookman Old Style"/>
                </a:rPr>
                <a:t>ž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Bookman Old Style"/>
                </a:rPr>
                <a:t>ž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ivotni stil određe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7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                 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 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populacije uz korištenje prevladavaju</a:t>
              </a:r>
              <a:r>
                <a:rPr b="0" lang="en-GB" sz="1800" spc="-1" strike="noStrike">
                  <a:solidFill>
                    <a:srgbClr val="000000"/>
                  </a:solidFill>
                  <a:latin typeface="Bookman Old Style"/>
                </a:rPr>
                <a:t>ć</a:t>
              </a:r>
              <a:r>
                <a:rPr b="0" lang="en-GB" sz="2000" spc="-1" strike="noStrike">
                  <a:solidFill>
                    <a:srgbClr val="000000"/>
                  </a:solidFill>
                  <a:latin typeface="Bookman Old Style"/>
                </a:rPr>
                <a:t>e tehnologije</a:t>
              </a:r>
              <a:r>
                <a:rPr b="0" lang="en-GB" sz="2400" spc="-1" strike="noStrike">
                  <a:solidFill>
                    <a:srgbClr val="000000"/>
                  </a:solidFill>
                  <a:latin typeface="Bookman Old Style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rcRect l="0" t="3005" r="0" b="0"/>
            <a:stretch/>
          </p:blipFill>
          <p:spPr>
            <a:xfrm>
              <a:off x="108000" y="1629000"/>
              <a:ext cx="2016000" cy="1419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58" name=""/>
            <p:cNvSpPr/>
            <p:nvPr/>
          </p:nvSpPr>
          <p:spPr>
            <a:xfrm>
              <a:off x="2050920" y="1844640"/>
              <a:ext cx="730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853000"/>
              <a:ext cx="241128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629000"/>
              <a:ext cx="324000" cy="165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79280" y="5084640"/>
            <a:ext cx="6558480" cy="1681200"/>
            <a:chOff x="179280" y="5084640"/>
            <a:chExt cx="6558480" cy="1681200"/>
          </a:xfrm>
        </p:grpSpPr>
        <p:sp>
          <p:nvSpPr>
            <p:cNvPr id="62" name=""/>
            <p:cNvSpPr/>
            <p:nvPr/>
          </p:nvSpPr>
          <p:spPr>
            <a:xfrm>
              <a:off x="369360" y="5084640"/>
              <a:ext cx="6368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Naš otisak (potra</a:t>
              </a:r>
              <a:r>
                <a:rPr b="1" lang="hr-HR" sz="1600" spc="-1" strike="noStrike">
                  <a:solidFill>
                    <a:srgbClr val="000000"/>
                  </a:solidFill>
                  <a:latin typeface="Bookman Old Style"/>
                </a:rPr>
                <a:t>ž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nja) dovodimo u odnos 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                      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bioproduktivnim podru</a:t>
              </a:r>
              <a:r>
                <a:rPr b="0" lang="hr-HR" sz="1800" spc="-1" strike="noStrike">
                  <a:solidFill>
                    <a:srgbClr val="000000"/>
                  </a:solidFill>
                  <a:latin typeface="Bookman Old Style"/>
                </a:rPr>
                <a:t>č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jima (ponuda) 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                      </a:t>
              </a:r>
              <a:r>
                <a:rPr b="0" lang="hr-HR" sz="2000" spc="-1" strike="noStrike">
                  <a:solidFill>
                    <a:srgbClr val="000000"/>
                  </a:solidFill>
                  <a:latin typeface="Bookman Old Style"/>
                </a:rPr>
                <a:t>dobivamo ekološki minus ili plu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179280" y="5487840"/>
              <a:ext cx="1403280" cy="127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4138560" y="-27000"/>
            <a:ext cx="50418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29520" y="4672080"/>
            <a:ext cx="4591080" cy="2213280"/>
            <a:chOff x="-29520" y="4672080"/>
            <a:chExt cx="4591080" cy="2213280"/>
          </a:xfrm>
        </p:grpSpPr>
        <p:sp>
          <p:nvSpPr>
            <p:cNvPr id="66" name=""/>
            <p:cNvSpPr/>
            <p:nvPr/>
          </p:nvSpPr>
          <p:spPr>
            <a:xfrm>
              <a:off x="-29520" y="6386400"/>
              <a:ext cx="4591080" cy="498960"/>
            </a:xfrm>
            <a:prstGeom prst="rect">
              <a:avLst/>
            </a:prstGeom>
            <a:gradFill rotWithShape="0">
              <a:gsLst>
                <a:gs pos="0">
                  <a:srgbClr val="ea0000">
                    <a:alpha val="46274"/>
                  </a:srgbClr>
                </a:gs>
                <a:gs pos="100000">
                  <a:srgbClr val="6b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Globalni ekološki minus je 0,6gh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661760" y="4672080"/>
              <a:ext cx="2346120" cy="14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-36360" y="907920"/>
            <a:ext cx="8559000" cy="1571760"/>
            <a:chOff x="-36360" y="907920"/>
            <a:chExt cx="8559000" cy="157176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-36360" y="907920"/>
              <a:ext cx="216036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311560" y="1073160"/>
              <a:ext cx="6211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Trenutni biokapacitet planete omogućava 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svi zadovoljimo sve svoje potrebe na </a:t>
              </a: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2,06 g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h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8200" y="3103560"/>
            <a:ext cx="9055800" cy="1620720"/>
            <a:chOff x="88200" y="3103560"/>
            <a:chExt cx="9055800" cy="1620720"/>
          </a:xfrm>
        </p:grpSpPr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7343640" y="3363840"/>
              <a:ext cx="1800360" cy="13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8200" y="3103560"/>
              <a:ext cx="71499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Trenutno </a:t>
              </a: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naša po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troš</a:t>
              </a: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nj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resurs</a:t>
              </a: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i proizvod</a:t>
              </a: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nj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otpad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</a:t>
              </a: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zahtijev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2,</a:t>
              </a: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7 g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ha</a:t>
              </a:r>
              <a:r>
                <a:rPr b="0" lang="hr-HR" sz="28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po osobi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0" y="-27000"/>
            <a:ext cx="914400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25360"/>
            <a:ext cx="74898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 Narrow"/>
              </a:rPr>
              <a:t>///  SADAŠNJOST   /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560" y="765000"/>
            <a:ext cx="1639800" cy="107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560" y="1913040"/>
            <a:ext cx="1639800" cy="12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1538" t="2179" r="1538" b="2179"/>
          <a:stretch/>
        </p:blipFill>
        <p:spPr>
          <a:xfrm>
            <a:off x="52560" y="3166920"/>
            <a:ext cx="1639800" cy="114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rcRect l="0" t="0" r="0" b="3490"/>
          <a:stretch/>
        </p:blipFill>
        <p:spPr>
          <a:xfrm>
            <a:off x="5508720" y="5661000"/>
            <a:ext cx="1655640" cy="1155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rcRect l="0" t="0" r="0" b="3380"/>
          <a:stretch/>
        </p:blipFill>
        <p:spPr>
          <a:xfrm>
            <a:off x="7236000" y="5661000"/>
            <a:ext cx="1800000" cy="1157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763640" y="5661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2987640" y="566100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4643280" y="5661000"/>
            <a:ext cx="797040" cy="115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36360" y="4365720"/>
            <a:ext cx="1656000" cy="1235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rcRect l="1260" t="2100" r="1260" b="2100"/>
          <a:stretch/>
        </p:blipFill>
        <p:spPr>
          <a:xfrm>
            <a:off x="34920" y="5661000"/>
            <a:ext cx="1657440" cy="1152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rcRect l="763" t="763" r="763" b="763"/>
          <a:stretch/>
        </p:blipFill>
        <p:spPr>
          <a:xfrm>
            <a:off x="1835280" y="1268280"/>
            <a:ext cx="4030560" cy="4029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1836720" y="1484280"/>
            <a:ext cx="5646600" cy="3794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1878120" y="1484280"/>
            <a:ext cx="5646600" cy="3794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82720" y="185724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 Narrow"/>
              </a:rPr>
              <a:t>š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640" y="2063880"/>
            <a:ext cx="32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 Narrow"/>
              </a:rPr>
              <a:t>usje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08920" y="1646280"/>
            <a:ext cx="48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 Narrow"/>
              </a:rPr>
              <a:t>ribare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08560" y="185724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 Narrow"/>
              </a:rPr>
              <a:t>pašnja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08920" y="2063880"/>
            <a:ext cx="44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 Narrow"/>
              </a:rPr>
              <a:t>energ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28200" y="25606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 Narrow"/>
              </a:rPr>
              <a:t>biokapacit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949680" y="3167640"/>
            <a:ext cx="184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 Narrow"/>
              </a:rPr>
              <a:t>ekološki otisak (broj plane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-27000"/>
            <a:ext cx="9144000" cy="719280"/>
            <a:chOff x="0" y="-27000"/>
            <a:chExt cx="9144000" cy="719280"/>
          </a:xfrm>
        </p:grpSpPr>
        <p:sp>
          <p:nvSpPr>
            <p:cNvPr id="97" name=""/>
            <p:cNvSpPr/>
            <p:nvPr/>
          </p:nvSpPr>
          <p:spPr>
            <a:xfrm>
              <a:off x="0" y="-27000"/>
              <a:ext cx="9144000" cy="71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280" y="115920"/>
              <a:ext cx="748980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ffffff"/>
                  </a:solidFill>
                  <a:latin typeface="Arial Narrow"/>
                </a:rPr>
                <a:t>///  PROŠLOST   //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561840" y="166212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 Narrow"/>
              </a:rPr>
              <a:t>graditeljst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-27000"/>
            <a:ext cx="9144000" cy="934920"/>
            <a:chOff x="0" y="-27000"/>
            <a:chExt cx="9144000" cy="934920"/>
          </a:xfrm>
        </p:grpSpPr>
        <p:sp>
          <p:nvSpPr>
            <p:cNvPr id="101" name=""/>
            <p:cNvSpPr/>
            <p:nvPr/>
          </p:nvSpPr>
          <p:spPr>
            <a:xfrm>
              <a:off x="0" y="-27000"/>
              <a:ext cx="9144000" cy="9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0" y="44280"/>
              <a:ext cx="9144000" cy="719280"/>
              <a:chOff x="0" y="44280"/>
              <a:chExt cx="9144000" cy="719280"/>
            </a:xfrm>
          </p:grpSpPr>
          <p:sp>
            <p:nvSpPr>
              <p:cNvPr id="103" name=""/>
              <p:cNvSpPr/>
              <p:nvPr/>
            </p:nvSpPr>
            <p:spPr>
              <a:xfrm>
                <a:off x="0" y="44280"/>
                <a:ext cx="9144000" cy="71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9280" y="187200"/>
                <a:ext cx="7489800" cy="459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400" spc="-1" strike="noStrike">
                    <a:solidFill>
                      <a:srgbClr val="ffffff"/>
                    </a:solidFill>
                    <a:latin typeface="Arial Narrow"/>
                  </a:rPr>
                  <a:t>///  ODGOVORNOST   //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5" name="" descr=""/>
          <p:cNvPicPr/>
          <p:nvPr/>
        </p:nvPicPr>
        <p:blipFill>
          <a:blip r:embed="rId1"/>
          <a:srcRect l="361" t="781" r="361" b="781"/>
          <a:stretch/>
        </p:blipFill>
        <p:spPr>
          <a:xfrm>
            <a:off x="324000" y="2471760"/>
            <a:ext cx="8364240" cy="383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63000" y="6092280"/>
            <a:ext cx="45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 Narrow"/>
              </a:rPr>
              <a:t>Izvor:  Global Footprint Network &amp; WWF (2007) Living Planet Report 2006, Gland: WWF:16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3444840"/>
            <a:ext cx="4897440" cy="32972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-27000"/>
            <a:ext cx="9178920" cy="934920"/>
            <a:chOff x="0" y="-27000"/>
            <a:chExt cx="9178920" cy="934920"/>
          </a:xfrm>
        </p:grpSpPr>
        <p:sp>
          <p:nvSpPr>
            <p:cNvPr id="109" name=""/>
            <p:cNvSpPr/>
            <p:nvPr/>
          </p:nvSpPr>
          <p:spPr>
            <a:xfrm>
              <a:off x="0" y="-27000"/>
              <a:ext cx="9144000" cy="9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4920" y="115920"/>
              <a:ext cx="9144000" cy="719280"/>
              <a:chOff x="34920" y="115920"/>
              <a:chExt cx="9144000" cy="719280"/>
            </a:xfrm>
          </p:grpSpPr>
          <p:sp>
            <p:nvSpPr>
              <p:cNvPr id="111" name=""/>
              <p:cNvSpPr/>
              <p:nvPr/>
            </p:nvSpPr>
            <p:spPr>
              <a:xfrm>
                <a:off x="34920" y="115920"/>
                <a:ext cx="9144000" cy="71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4200" y="258840"/>
                <a:ext cx="7489800" cy="459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400" spc="-1" strike="noStrike">
                    <a:solidFill>
                      <a:srgbClr val="ffffff"/>
                    </a:solidFill>
                    <a:latin typeface="Arial Narrow"/>
                  </a:rPr>
                  <a:t>///  ODGOVORNOST   //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1465200" cy="1943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084720" y="907920"/>
            <a:ext cx="2975040" cy="4627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948360" y="3860640"/>
            <a:ext cx="1584360" cy="158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4944960" y="3740040"/>
            <a:ext cx="4380120" cy="2713320"/>
            <a:chOff x="4944960" y="3740040"/>
            <a:chExt cx="4380120" cy="27133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16113" r="0" b="8138"/>
            <a:stretch/>
          </p:blipFill>
          <p:spPr>
            <a:xfrm>
              <a:off x="4944960" y="4116240"/>
              <a:ext cx="4380120" cy="23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089760" y="3740040"/>
              <a:ext cx="205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Komponente oti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-4572000" y="37137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-27000"/>
            <a:ext cx="914400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4500720" y="125280"/>
            <a:ext cx="12674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/// EKOLOŠKI OTISAK U HRVATSKOJ ///        </a:t>
            </a:r>
            <a:r>
              <a:rPr b="0" lang="hr-HR" sz="20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1981080" y="4941720"/>
            <a:ext cx="489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981080" y="5459400"/>
            <a:ext cx="3390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52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57880" y="5373720"/>
            <a:ext cx="7365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757080" y="5373720"/>
            <a:ext cx="6851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757080" y="5891040"/>
            <a:ext cx="6851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41360" y="6424560"/>
            <a:ext cx="98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41360" y="64245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5400" y="64245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692280"/>
            <a:ext cx="0" cy="58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03760" y="6597720"/>
            <a:ext cx="77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lobal Footprint Network      www.footprintnetwork.org      +1.510.839.8879      info@footprintnetwork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64360" y="1052640"/>
            <a:ext cx="4020840" cy="2665440"/>
            <a:chOff x="5364360" y="1052640"/>
            <a:chExt cx="4020840" cy="2665440"/>
          </a:xfrm>
        </p:grpSpPr>
        <p:grpSp>
          <p:nvGrpSpPr>
            <p:cNvPr id="134" name=""/>
            <p:cNvGrpSpPr/>
            <p:nvPr/>
          </p:nvGrpSpPr>
          <p:grpSpPr>
            <a:xfrm>
              <a:off x="5417640" y="1052640"/>
              <a:ext cx="3967560" cy="2305080"/>
              <a:chOff x="5417640" y="1052640"/>
              <a:chExt cx="3967560" cy="23050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558200" y="1271520"/>
                <a:ext cx="1827000" cy="398520"/>
                <a:chOff x="7558200" y="1271520"/>
                <a:chExt cx="1827000" cy="3985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8483760" y="1271520"/>
                  <a:ext cx="901440" cy="2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200" spc="-1" strike="noStrike">
                      <a:solidFill>
                        <a:srgbClr val="000000"/>
                      </a:solidFill>
                      <a:latin typeface="Arial"/>
                    </a:rPr>
                    <a:t>Svije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85200" y="1271520"/>
                  <a:ext cx="863640" cy="28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200" spc="-1" strike="noStrike">
                      <a:solidFill>
                        <a:srgbClr val="000000"/>
                      </a:solidFill>
                      <a:latin typeface="Arial"/>
                    </a:rPr>
                    <a:t>Hrvatska </a:t>
                  </a:r>
                  <a:r>
                    <a:rPr b="0" lang="hr-HR" sz="900" spc="-1" strike="noStrike">
                      <a:solidFill>
                        <a:srgbClr val="000000"/>
                      </a:solidFill>
                      <a:latin typeface="Arial"/>
                    </a:rPr>
                    <a:t>       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558200" y="1670040"/>
                  <a:ext cx="15746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558200" y="1384200"/>
                  <a:ext cx="0" cy="28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132840" y="1384200"/>
                  <a:ext cx="0" cy="28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5417640" y="1052640"/>
                <a:ext cx="3823200" cy="2305080"/>
                <a:chOff x="5417640" y="1052640"/>
                <a:chExt cx="3823200" cy="23050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420160" y="1052640"/>
                  <a:ext cx="1826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r-HR" sz="1400" spc="-1" strike="noStrike">
                      <a:solidFill>
                        <a:srgbClr val="000000"/>
                      </a:solidFill>
                      <a:latin typeface="Arial"/>
                    </a:rPr>
                    <a:t>Rezultati indikator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420520" y="1712880"/>
                  <a:ext cx="2000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200" spc="-1" strike="noStrike">
                      <a:solidFill>
                        <a:srgbClr val="000000"/>
                      </a:solidFill>
                      <a:latin typeface="Arial"/>
                    </a:rPr>
                    <a:t>Otisak po stanovniku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gh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412120" y="1701720"/>
                  <a:ext cx="75744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,</a:t>
                  </a:r>
                  <a:r>
                    <a:rPr b="0" lang="hr-HR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812000" y="1700280"/>
                  <a:ext cx="56520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3,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596360" y="1916280"/>
                  <a:ext cx="13222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596360" y="1628640"/>
                  <a:ext cx="0" cy="28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918640" y="1628640"/>
                  <a:ext cx="0" cy="287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417640" y="2131920"/>
                  <a:ext cx="2401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200" spc="-1" strike="noStrike">
                      <a:solidFill>
                        <a:srgbClr val="000000"/>
                      </a:solidFill>
                      <a:latin typeface="Arial"/>
                    </a:rPr>
                    <a:t>Biokapacitet po stanovniku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gh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431200" y="2176560"/>
                  <a:ext cx="7383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</a:t>
                  </a:r>
                  <a:r>
                    <a:rPr b="0" lang="hr-HR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,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821720" y="2176560"/>
                  <a:ext cx="62712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,</a:t>
                  </a:r>
                  <a:r>
                    <a:rPr b="0" lang="hr-HR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05720" y="1960560"/>
                  <a:ext cx="1287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05720" y="1960560"/>
                  <a:ext cx="0" cy="244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93080" y="1960560"/>
                  <a:ext cx="0" cy="244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448840" y="2608200"/>
                  <a:ext cx="73656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r-HR" sz="1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,2</a:t>
                  </a:r>
                  <a:r>
                    <a:rPr b="1" lang="hr-HR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748640" y="2608200"/>
                  <a:ext cx="700200" cy="24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1,</a:t>
                  </a:r>
                  <a:r>
                    <a:rPr b="1" lang="hr-HR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45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05720" y="2492280"/>
                  <a:ext cx="12873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605720" y="2247840"/>
                  <a:ext cx="0" cy="244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893080" y="2247840"/>
                  <a:ext cx="0" cy="244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18720" y="2577960"/>
                  <a:ext cx="20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200" spc="-1" strike="noStrike">
                      <a:solidFill>
                        <a:srgbClr val="000000"/>
                      </a:solidFill>
                      <a:latin typeface="Arial"/>
                    </a:rPr>
                    <a:t>Omjer potražnje na ponudu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419080" y="2898720"/>
                  <a:ext cx="21952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200" spc="-1" strike="noStrike">
                      <a:solidFill>
                        <a:srgbClr val="000000"/>
                      </a:solidFill>
                      <a:latin typeface="Arial"/>
                    </a:rPr>
                    <a:t>Potrebni planeti ukoliko bi svi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1200" spc="-1" strike="noStrike">
                      <a:solidFill>
                        <a:srgbClr val="000000"/>
                      </a:solidFill>
                      <a:latin typeface="Arial"/>
                    </a:rPr>
                    <a:t>imali otisak kao Hrvatska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504280" y="3112920"/>
                  <a:ext cx="73656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969696"/>
                      </a:solidFill>
                      <a:latin typeface="Tahoma"/>
                      <a:ea typeface="Tahoma"/>
                    </a:rPr>
                    <a:t>   </a:t>
                  </a:r>
                  <a:r>
                    <a:rPr b="0" lang="en-US" sz="1200" spc="-1" strike="noStrike">
                      <a:solidFill>
                        <a:srgbClr val="969696"/>
                      </a:solidFill>
                      <a:latin typeface="Tahoma"/>
                      <a:ea typeface="Tahoma"/>
                    </a:rPr>
                    <a:t>n/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826400" y="3112920"/>
                  <a:ext cx="55080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r-HR" sz="12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77000" y="2536920"/>
                  <a:ext cx="1287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677000" y="2779560"/>
                  <a:ext cx="1287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677000" y="2536920"/>
                  <a:ext cx="0" cy="242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964720" y="2536920"/>
                  <a:ext cx="0" cy="242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5425920" y="3471840"/>
              <a:ext cx="2664000" cy="217440"/>
            </a:xfrm>
            <a:prstGeom prst="rect">
              <a:avLst/>
            </a:prstGeom>
            <a:solidFill>
              <a:srgbClr val="ff0000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64360" y="3471840"/>
              <a:ext cx="25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000" spc="-1" strike="noStrike">
                  <a:solidFill>
                    <a:srgbClr val="000000"/>
                  </a:solidFill>
                  <a:latin typeface="Arial"/>
                </a:rPr>
                <a:t>Hrvatska je u ekološkom minusu 1 gha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-9252000" y="3009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5862600" y="2781360"/>
            <a:ext cx="21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7437600" y="2781360"/>
            <a:ext cx="673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7437600" y="2781360"/>
            <a:ext cx="3009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7437600" y="278136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4427640" y="278136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654520" y="3932280"/>
            <a:ext cx="215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8271000" y="3932280"/>
            <a:ext cx="182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9540720" y="393228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4219560" y="393228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5654520" y="4280040"/>
            <a:ext cx="215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4219560" y="4280040"/>
            <a:ext cx="0" cy="51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263080" y="3716280"/>
            <a:ext cx="182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9532800" y="371628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4211640" y="371628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5646600" y="4495680"/>
            <a:ext cx="215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-7221600" y="4495680"/>
            <a:ext cx="6732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4211640" y="449568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5654520" y="4856040"/>
            <a:ext cx="215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9540720" y="5373720"/>
            <a:ext cx="532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9540720" y="485604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4219560" y="485604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445080" y="5157720"/>
            <a:ext cx="0" cy="517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8280360" y="5589720"/>
            <a:ext cx="191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-181080" y="2565360"/>
            <a:ext cx="5329440" cy="3961080"/>
            <a:chOff x="-181080" y="2565360"/>
            <a:chExt cx="5329440" cy="3961080"/>
          </a:xfrm>
        </p:grpSpPr>
        <p:sp>
          <p:nvSpPr>
            <p:cNvPr id="195" name=""/>
            <p:cNvSpPr/>
            <p:nvPr/>
          </p:nvSpPr>
          <p:spPr>
            <a:xfrm>
              <a:off x="108000" y="27939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19680" y="2624040"/>
              <a:ext cx="1218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97400" y="2565360"/>
              <a:ext cx="2156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84480" y="2624040"/>
              <a:ext cx="90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Godin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22400" y="2565360"/>
              <a:ext cx="6732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22400" y="2565360"/>
              <a:ext cx="3009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22400" y="3083040"/>
              <a:ext cx="3009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22400" y="25653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32360" y="256536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840" y="3116160"/>
              <a:ext cx="22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kološki otisak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Potražnj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4080" y="3132000"/>
              <a:ext cx="193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o</a:t>
              </a: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kapacite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Ponud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200" y="342900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79720" y="342900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21120" y="3716280"/>
              <a:ext cx="1219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Ribare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05120" y="3716280"/>
              <a:ext cx="216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03680" y="3716280"/>
              <a:ext cx="901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.</a:t>
              </a: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1</a:t>
              </a: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3920" y="3933720"/>
              <a:ext cx="66348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3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89000" y="37162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00" y="3921120"/>
              <a:ext cx="9252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Ribaren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81080" y="3716280"/>
              <a:ext cx="5321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-181080" y="37162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40440" y="37162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05120" y="4064040"/>
              <a:ext cx="216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560" y="4292640"/>
              <a:ext cx="6555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3.7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58920" y="4292640"/>
              <a:ext cx="787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.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0440" y="406404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29040" y="3632040"/>
              <a:ext cx="8492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šnja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13040" y="3500280"/>
              <a:ext cx="216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11600" y="3703680"/>
              <a:ext cx="9014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2.7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7000" y="3645000"/>
              <a:ext cx="59976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6920" y="3500280"/>
              <a:ext cx="182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6680" y="3645000"/>
              <a:ext cx="8125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Pašnja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-173160" y="35002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48360" y="350028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13040" y="4280040"/>
              <a:ext cx="216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560" y="4508640"/>
              <a:ext cx="66348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,4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38400" y="4280040"/>
              <a:ext cx="6732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87280" y="4579920"/>
              <a:ext cx="8589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.1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960" y="4567320"/>
              <a:ext cx="6602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Usjev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6680" y="4797360"/>
              <a:ext cx="4711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48360" y="428004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05120" y="4640400"/>
              <a:ext cx="216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93920" y="5086440"/>
              <a:ext cx="1729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60    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Graditeljst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6360" y="4797360"/>
              <a:ext cx="5205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6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89000" y="4640400"/>
              <a:ext cx="182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9280" y="4869000"/>
              <a:ext cx="11430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Graditeljst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-181080" y="5157720"/>
              <a:ext cx="5321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-181080" y="464040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40440" y="4640400"/>
              <a:ext cx="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01840" y="5229360"/>
              <a:ext cx="649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7.</a:t>
              </a:r>
              <a:r>
                <a:rPr b="0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61</a:t>
              </a: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5240" y="5229360"/>
              <a:ext cx="1157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Energ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14560" y="4941720"/>
              <a:ext cx="0" cy="517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68440" y="56610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60720" y="566100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14640" y="5589720"/>
              <a:ext cx="1079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Ukupni biokapacit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90800" y="5718240"/>
              <a:ext cx="9511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9.99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52520" y="5805360"/>
              <a:ext cx="9064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</a:t>
              </a:r>
              <a:r>
                <a:rPr b="1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4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</a:t>
              </a:r>
              <a:r>
                <a:rPr b="1" lang="hr-H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59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79640" y="5373720"/>
              <a:ext cx="1918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360" y="5805360"/>
              <a:ext cx="89856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Arial"/>
                </a:rPr>
                <a:t>Ukupni otisa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2720" y="6249960"/>
              <a:ext cx="180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kološki minu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Arial"/>
                </a:rPr>
                <a:t>(Deficit)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1177920" y="6006960"/>
              <a:ext cx="1944360" cy="517680"/>
              <a:chOff x="1177920" y="6006960"/>
              <a:chExt cx="1944360" cy="517680"/>
            </a:xfrm>
          </p:grpSpPr>
          <p:sp>
            <p:nvSpPr>
              <p:cNvPr id="256" name=""/>
              <p:cNvSpPr/>
              <p:nvPr/>
            </p:nvSpPr>
            <p:spPr>
              <a:xfrm>
                <a:off x="2291760" y="6006960"/>
                <a:ext cx="83052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(</a:t>
                </a:r>
                <a:r>
                  <a:rPr b="0" lang="hr-HR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4,6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177920" y="6006960"/>
                <a:ext cx="11138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177920" y="6006960"/>
                <a:ext cx="19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177920" y="6524640"/>
                <a:ext cx="1944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177920" y="6006960"/>
                <a:ext cx="0" cy="517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22280" y="6006960"/>
                <a:ext cx="0" cy="517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24000" y="3429000"/>
              <a:ext cx="2012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900" spc="-1" strike="noStrike">
                  <a:solidFill>
                    <a:srgbClr val="808080"/>
                  </a:solidFill>
                  <a:latin typeface="Arial"/>
                </a:rPr>
                <a:t>Vrijednosti u 1000 globalnih hekta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9040" y="4292640"/>
              <a:ext cx="84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Šu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15360" y="458136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Usjev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15000" y="429264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Šu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50920" y="981000"/>
            <a:ext cx="4520880" cy="1594440"/>
            <a:chOff x="250920" y="981000"/>
            <a:chExt cx="4520880" cy="1594440"/>
          </a:xfrm>
        </p:grpSpPr>
        <p:pic>
          <p:nvPicPr>
            <p:cNvPr id="267" name="GFN_primary photo" descr=""/>
            <p:cNvPicPr/>
            <p:nvPr/>
          </p:nvPicPr>
          <p:blipFill>
            <a:blip r:embed="rId2"/>
            <a:stretch/>
          </p:blipFill>
          <p:spPr>
            <a:xfrm>
              <a:off x="250920" y="981000"/>
              <a:ext cx="18669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121480" y="2003400"/>
              <a:ext cx="114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Hrvats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13880" y="2268360"/>
              <a:ext cx="229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Izračun nacionalnog otis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332160" y="981000"/>
              <a:ext cx="1439640" cy="893880"/>
              <a:chOff x="3332160" y="981000"/>
              <a:chExt cx="1439640" cy="893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332160" y="1413000"/>
                <a:ext cx="1439640" cy="360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5040" y="1217520"/>
                <a:ext cx="266760" cy="236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338280" y="1197000"/>
                <a:ext cx="1217520" cy="287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op. 4,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38280" y="981000"/>
                <a:ext cx="1433520" cy="236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</a:rPr>
                  <a:t>Hrvatsk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338280" y="981000"/>
                <a:ext cx="1433520" cy="0"/>
              </a:xfrm>
              <a:prstGeom prst="line">
                <a:avLst/>
              </a:prstGeom>
              <a:ln cap="rnd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338280" y="1844640"/>
                <a:ext cx="11667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38280" y="981000"/>
                <a:ext cx="0" cy="744480"/>
              </a:xfrm>
              <a:prstGeom prst="line">
                <a:avLst/>
              </a:prstGeom>
              <a:ln cap="rnd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771800" y="981000"/>
                <a:ext cx="0" cy="744480"/>
              </a:xfrm>
              <a:prstGeom prst="line">
                <a:avLst/>
              </a:prstGeom>
              <a:ln cap="rnd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05040" y="1700280"/>
                <a:ext cx="266760" cy="0"/>
              </a:xfrm>
              <a:prstGeom prst="line">
                <a:avLst/>
              </a:prstGeom>
              <a:ln cap="rnd"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32160" y="1773360"/>
                <a:ext cx="1439640" cy="0"/>
              </a:xfrm>
              <a:prstGeom prst="line">
                <a:avLst/>
              </a:prstGeom>
              <a:ln w="1522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38280" y="1628640"/>
                <a:ext cx="1424160" cy="246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</a:rPr>
                  <a:t>Srednji ekonomski ra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2" name=""/>
          <p:cNvSpPr/>
          <p:nvPr/>
        </p:nvSpPr>
        <p:spPr>
          <a:xfrm>
            <a:off x="2989440" y="4292640"/>
            <a:ext cx="1798560" cy="288720"/>
          </a:xfrm>
          <a:prstGeom prst="rect">
            <a:avLst/>
          </a:prstGeom>
          <a:solidFill>
            <a:srgbClr val="ff00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21600" y="866880"/>
            <a:ext cx="9158760" cy="1698480"/>
            <a:chOff x="21600" y="866880"/>
            <a:chExt cx="9158760" cy="1698480"/>
          </a:xfrm>
        </p:grpSpPr>
        <p:sp>
          <p:nvSpPr>
            <p:cNvPr id="284" name=""/>
            <p:cNvSpPr/>
            <p:nvPr/>
          </p:nvSpPr>
          <p:spPr>
            <a:xfrm>
              <a:off x="21600" y="988920"/>
              <a:ext cx="38826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HUMAN DEVELOPMENT IND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//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INDEKS LJUDSKOG RAZVOJ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"/>
            <a:stretch/>
          </p:blipFill>
          <p:spPr>
            <a:xfrm>
              <a:off x="8329680" y="866880"/>
              <a:ext cx="850680" cy="16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4007160" y="981000"/>
            <a:ext cx="2466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&gt;&gt;&gt;</a:t>
            </a:r>
            <a:r>
              <a:rPr b="1" lang="hr-H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životna d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&gt;&gt;&gt;</a:t>
            </a:r>
            <a:r>
              <a:rPr b="1" lang="hr-H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pisme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&gt;&gt;&gt;</a:t>
            </a:r>
            <a:r>
              <a:rPr b="1" lang="hr-H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obrazova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&gt;&gt;&gt;</a:t>
            </a:r>
            <a:r>
              <a:rPr b="1" lang="hr-HR" sz="1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BDP per cap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68360" y="3357720"/>
            <a:ext cx="8659800" cy="3311280"/>
            <a:chOff x="468360" y="3357720"/>
            <a:chExt cx="8659800" cy="331128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468360" y="3357720"/>
              <a:ext cx="775656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452720" y="3690360"/>
              <a:ext cx="210600" cy="194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34240" y="3690360"/>
              <a:ext cx="13939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Visok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HDI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– 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znad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0,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52720" y="4013280"/>
              <a:ext cx="210600" cy="19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34960" y="4037400"/>
              <a:ext cx="1387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Srednji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HDI – 0,5-07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52720" y="4337640"/>
              <a:ext cx="210600" cy="194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34240" y="4361760"/>
              <a:ext cx="13939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Nizak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 HDI – 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ispod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0,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52720" y="4662000"/>
              <a:ext cx="210600" cy="194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44680" y="4662000"/>
              <a:ext cx="3909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 Narrow"/>
                  <a:ea typeface="Arial Unicode MS"/>
                </a:rPr>
                <a:t>n 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95280" y="2205000"/>
            <a:ext cx="6443640" cy="1013040"/>
            <a:chOff x="395280" y="2205000"/>
            <a:chExt cx="6443640" cy="1013040"/>
          </a:xfrm>
        </p:grpSpPr>
        <p:pic>
          <p:nvPicPr>
            <p:cNvPr id="298" name="" descr=""/>
            <p:cNvPicPr/>
            <p:nvPr/>
          </p:nvPicPr>
          <p:blipFill>
            <a:blip r:embed="rId3"/>
            <a:stretch/>
          </p:blipFill>
          <p:spPr>
            <a:xfrm>
              <a:off x="395280" y="2349360"/>
              <a:ext cx="3270240" cy="80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4"/>
            <a:stretch/>
          </p:blipFill>
          <p:spPr>
            <a:xfrm>
              <a:off x="3635280" y="2205000"/>
              <a:ext cx="3203640" cy="1013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" name=""/>
          <p:cNvGrpSpPr/>
          <p:nvPr/>
        </p:nvGrpSpPr>
        <p:grpSpPr>
          <a:xfrm>
            <a:off x="0" y="-27000"/>
            <a:ext cx="9144000" cy="934920"/>
            <a:chOff x="0" y="-27000"/>
            <a:chExt cx="9144000" cy="934920"/>
          </a:xfrm>
        </p:grpSpPr>
        <p:sp>
          <p:nvSpPr>
            <p:cNvPr id="301" name=""/>
            <p:cNvSpPr/>
            <p:nvPr/>
          </p:nvSpPr>
          <p:spPr>
            <a:xfrm>
              <a:off x="0" y="-27000"/>
              <a:ext cx="9144000" cy="9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0" y="44280"/>
              <a:ext cx="9144000" cy="719280"/>
              <a:chOff x="0" y="44280"/>
              <a:chExt cx="9144000" cy="71928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44280"/>
                <a:ext cx="9144000" cy="71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9280" y="187200"/>
                <a:ext cx="7489800" cy="459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400" spc="-1" strike="noStrike">
                    <a:solidFill>
                      <a:srgbClr val="ffffff"/>
                    </a:solidFill>
                    <a:latin typeface="Arial Narrow"/>
                  </a:rPr>
                  <a:t>///  GDJE SE JOŠ KRIJE ODRŽIVOST?   //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44280"/>
            <a:ext cx="1010916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-27000"/>
            <a:ext cx="9144000" cy="934920"/>
            <a:chOff x="0" y="-27000"/>
            <a:chExt cx="9144000" cy="934920"/>
          </a:xfrm>
        </p:grpSpPr>
        <p:sp>
          <p:nvSpPr>
            <p:cNvPr id="307" name=""/>
            <p:cNvSpPr/>
            <p:nvPr/>
          </p:nvSpPr>
          <p:spPr>
            <a:xfrm>
              <a:off x="0" y="-27000"/>
              <a:ext cx="9144000" cy="93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0" y="44280"/>
              <a:ext cx="9144000" cy="719280"/>
              <a:chOff x="0" y="44280"/>
              <a:chExt cx="9144000" cy="71928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44280"/>
                <a:ext cx="9144000" cy="71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79280" y="187200"/>
                <a:ext cx="7489800" cy="459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2400" spc="-1" strike="noStrike">
                    <a:solidFill>
                      <a:srgbClr val="ffffff"/>
                    </a:solidFill>
                    <a:latin typeface="Arial Narrow"/>
                  </a:rPr>
                  <a:t>///  OBRAZOVANJE ZA ODRŽIVI RAZVOJ?   //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11" name=""/>
          <p:cNvGraphicFramePr/>
          <p:nvPr/>
        </p:nvGraphicFramePr>
        <p:xfrm>
          <a:off x="179280" y="1628640"/>
          <a:ext cx="5749920" cy="4753080"/>
        </p:xfrm>
        <a:graphic>
          <a:graphicData uri="http://schemas.openxmlformats.org/drawingml/2006/table">
            <a:tbl>
              <a:tblPr/>
              <a:tblGrid>
                <a:gridCol w="1123920"/>
                <a:gridCol w="1123920"/>
                <a:gridCol w="1208160"/>
                <a:gridCol w="1152720"/>
                <a:gridCol w="1141200"/>
              </a:tblGrid>
              <a:tr h="99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28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DI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Ž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votna do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ismenost odrasli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Kombinirani stupanj upisanih u obrazovni sust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DP po glavi stanovnika u ppp-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orveška (0,96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apan (82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Gruzija (99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ustralija (1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uksemburg (69,9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 Slovačka (0,85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 Meksiko (75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 Moldavija (98,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 Njemačka (88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strija (37,37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 Urugvaj (0,8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 Barbados (75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Bugarska (98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 Malta (81,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 Izrael (26,31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 Hrvatska (0,87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 Hrvatska (76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 Hrvatska (98,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 Hrvatska (77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 Hrvatska (16,0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 Latvija (0,84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 Panama (75,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 Meksiko (92,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 Malezija (73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 Trinidad i Tobago (12,18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 Argentina (0,86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 Argentina (74,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. Saudijska Arabija (85,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. Alžir (73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 Mauricijus (12,02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. Niger (0,3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. Swaziland (31,3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. Mali (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 Niger (21,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. Siera Leone (56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2" name=""/>
          <p:cNvGrpSpPr/>
          <p:nvPr/>
        </p:nvGrpSpPr>
        <p:grpSpPr>
          <a:xfrm>
            <a:off x="6589800" y="1649520"/>
            <a:ext cx="2303280" cy="4781520"/>
            <a:chOff x="6589800" y="1649520"/>
            <a:chExt cx="2303280" cy="478152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6589800" y="1649520"/>
              <a:ext cx="230328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2">
              <a:biLevel thresh="50000"/>
              <a:alphaModFix amt="0"/>
            </a:blip>
            <a:stretch/>
          </p:blipFill>
          <p:spPr>
            <a:xfrm>
              <a:off x="6732720" y="3284640"/>
              <a:ext cx="1903320" cy="190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7164360" y="5516640"/>
              <a:ext cx="12366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8:27:01Z</dcterms:created>
  <dc:creator>Dražen Šimleša</dc:creator>
  <dc:description/>
  <dc:language>en-US</dc:language>
  <cp:lastModifiedBy>Skola_Dir</cp:lastModifiedBy>
  <dcterms:modified xsi:type="dcterms:W3CDTF">2009-11-03T13:25:44Z</dcterms:modified>
  <cp:revision>76</cp:revision>
  <dc:subject/>
  <dc:title>Slide 1</dc:title>
</cp:coreProperties>
</file>