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jpeg" ContentType="image/jpeg"/>
  <Override PartName="/ppt/media/image1.jpeg" ContentType="image/jpeg"/>
  <Override PartName="/ppt/media/image13.jpeg" ContentType="image/jpeg"/>
  <Override PartName="/ppt/media/image7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EB2-A6AA-4FCB-AEB8-A7B24080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C13A-2C85-4439-A9C7-00EEE1FB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855-8F97-4BBC-9E2D-E281EB4E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97C-CEFE-4541-9901-A070AA1C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E52-9760-4BB8-A8D3-6A599F69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7B9-0F44-420F-8A8C-11141CAC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DD5-57AA-464F-9663-90F6F66C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E2A4-BF71-4922-8B84-DDCE95D4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48C-0C12-430E-B45F-CA78A627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162-E137-492C-B0E2-C2DC42CE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ECC8-4967-4EC8-A56B-8E8B3DD2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49B-2CC1-418F-B433-82696AF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6D3C-44EA-4851-BFE1-6DD30576F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unep.org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hxchange.net/main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zopu.hr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zopu.hr/" TargetMode="External"/><Relationship Id="rId2" Type="http://schemas.openxmlformats.org/officeDocument/2006/relationships/hyperlink" Target="http://www.youthxchange.net/" TargetMode="External"/><Relationship Id="rId3" Type="http://schemas.openxmlformats.org/officeDocument/2006/relationships/hyperlink" Target="http://www.unep.org/pdf/sc/sc_resourcekit.pdf" TargetMode="External"/><Relationship Id="rId4" Type="http://schemas.openxmlformats.org/officeDocument/2006/relationships/hyperlink" Target="http://www.unesco.org/education/tlsf/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548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Ministarstvo zaštite okoliša, prostornog uređenja i graditeljst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060280"/>
            <a:ext cx="856944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trategija održivog razvitka Republike Hrvat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Aktivnosti Ministarstva zaštite okoliša, prostornog uređenja i graditelj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89000"/>
          <a:ext cx="56988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5698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124000" y="5734080"/>
            <a:ext cx="6840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Žana Fakin, Odjel za međunarodnu surad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Stručni skup </a:t>
            </a:r>
            <a:r>
              <a:rPr b="1" i="1" lang="hr-HR" sz="1600" spc="-1" strike="noStrike">
                <a:solidFill>
                  <a:srgbClr val="000000"/>
                </a:solidFill>
                <a:latin typeface="Arial"/>
              </a:rPr>
              <a:t>Odgoj i obrazovanje za održivi razvo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Varaždin, 27. veljače 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trategija održivog razvitka R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cijski plano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rada putem radionica tijekom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državat će detalje 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govornim akterima za proved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redstvima za provođenje planova i proj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vorima financir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dionicima u planovima i projek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okovima za ostvarenje predviđenih cil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čekivanim rezulta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govornima za nadziranje određenih plan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ktivnosti MZOPUG u 200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5040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MIDŽBA I KOMUNIK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KOLOŠKI DIZA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NER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H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AN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LOBODNO VRI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ŽIVOTNI STIL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KRET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IKT (Nove informacijske i komunikacijske tehnolog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KST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URIZ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United Nations Environment Programme -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5516640"/>
            <a:ext cx="555480" cy="647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70680" y="5516640"/>
            <a:ext cx="388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ited Nations Environmental Program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nvironment fo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Division of Communications and Public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43280" y="2205000"/>
            <a:ext cx="4248360" cy="318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ktivnosti MZOPUG u 200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56163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vedena na više jezika i uključena u obrazovni su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rada plana uključivanja u formalno i neformalno obraz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poruka je da se ubace podaci o studijama iz 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še podataka na stranic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hr-H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youthxchange.net/main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7047000" cy="81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24360" y="3213000"/>
            <a:ext cx="31672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zopu.h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- PUBL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190188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732720" y="3933720"/>
            <a:ext cx="1982520" cy="2735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24000" y="1557360"/>
            <a:ext cx="7020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Svatko može učiniti nešto za spas ozonskog omot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odizanje svijesti javnosti o zaštiti ozonskog omota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149720"/>
            <a:ext cx="6337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Prihvatite izazov težak jednu t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što svaki pojedinac može učiniti u borbi protiv klimatskih prom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posljednje poglavlje – Dječji ku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8920" y="465300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ošure su izrađene u okviru projekta “Institucijsko osnaživanje u svrhu provedbe Montrealskog protokola u RH” koji se provodilo u MZOPUG (strip je napravila uprava UNEP-a za tehnologiju, industriju i ekonomij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268360" y="1125360"/>
            <a:ext cx="2232000" cy="3240000"/>
            <a:chOff x="2268360" y="1125360"/>
            <a:chExt cx="2232000" cy="32400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2268360" y="1125360"/>
              <a:ext cx="114804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3342960" y="1397160"/>
              <a:ext cx="1111320" cy="150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2321280" y="2592000"/>
              <a:ext cx="1112400" cy="15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3342960" y="2810160"/>
              <a:ext cx="1157400" cy="155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50920" y="333360"/>
            <a:ext cx="2111400" cy="302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4500720" y="476280"/>
            <a:ext cx="2116080" cy="2949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6659640" y="1413000"/>
            <a:ext cx="21366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orisni linko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ZOP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zopu.hr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Youth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outhxchange.net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source Kit on Sustainable Consumption and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ep.org/pdf/sc/sc_resourcekit.pdf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aching and learning for sustainabl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unesco.org/education/tlsf/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efinicija održivog razvo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Održivi razvoj je razvoj koji udovoljava potrebama sadašnjice pri tom ne ugrožavajući mogućnosti budućih generacija da udovolje svojim potreba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”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(Brundtland Report,1987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32000" y="4941720"/>
            <a:ext cx="1604880" cy="3430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Maiandra GD"/>
              </a:rPr>
              <a:t>OKOLI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48000" y="4941720"/>
            <a:ext cx="2376360" cy="343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Maiandra GD"/>
              </a:rPr>
              <a:t>GOSPODA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84720" y="4941720"/>
            <a:ext cx="1872000" cy="3430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Maiandra GD"/>
              </a:rPr>
              <a:t>DRUŠ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796000" y="1413000"/>
            <a:ext cx="2856960" cy="2628360"/>
            <a:chOff x="5796000" y="1413000"/>
            <a:chExt cx="2856960" cy="2628360"/>
          </a:xfrm>
        </p:grpSpPr>
        <p:sp>
          <p:nvSpPr>
            <p:cNvPr id="52" name="_s1028"/>
            <p:cNvSpPr/>
            <p:nvPr/>
          </p:nvSpPr>
          <p:spPr>
            <a:xfrm>
              <a:off x="6138720" y="1413000"/>
              <a:ext cx="2057040" cy="205704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28"/>
            <p:cNvSpPr/>
            <p:nvPr/>
          </p:nvSpPr>
          <p:spPr>
            <a:xfrm>
              <a:off x="5796000" y="1984320"/>
              <a:ext cx="2057040" cy="205704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28"/>
            <p:cNvSpPr/>
            <p:nvPr/>
          </p:nvSpPr>
          <p:spPr>
            <a:xfrm>
              <a:off x="6595920" y="1984320"/>
              <a:ext cx="2057040" cy="20570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197080" y="5373720"/>
            <a:ext cx="4607640" cy="1015920"/>
            <a:chOff x="2197080" y="5373720"/>
            <a:chExt cx="4607640" cy="1015920"/>
          </a:xfrm>
        </p:grpSpPr>
        <p:sp>
          <p:nvSpPr>
            <p:cNvPr id="56" name=""/>
            <p:cNvSpPr/>
            <p:nvPr/>
          </p:nvSpPr>
          <p:spPr>
            <a:xfrm>
              <a:off x="2197080" y="5373720"/>
              <a:ext cx="20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860360" y="5373720"/>
              <a:ext cx="1944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1640" y="53737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6360" y="6021360"/>
              <a:ext cx="2663640" cy="368280"/>
            </a:xfrm>
            <a:prstGeom prst="rect">
              <a:avLst/>
            </a:prstGeom>
            <a:solidFill>
              <a:srgbClr val="993300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Maiandra GD"/>
                </a:rPr>
                <a:t>LJUDSKA DOBRO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572000" y="2781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5280" y="836640"/>
            <a:ext cx="3657600" cy="3316320"/>
            <a:chOff x="395280" y="836640"/>
            <a:chExt cx="3657600" cy="3316320"/>
          </a:xfrm>
        </p:grpSpPr>
        <p:sp>
          <p:nvSpPr>
            <p:cNvPr id="62" name="_s1028"/>
            <p:cNvSpPr/>
            <p:nvPr/>
          </p:nvSpPr>
          <p:spPr>
            <a:xfrm>
              <a:off x="1195200" y="836640"/>
              <a:ext cx="2057400" cy="205704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28"/>
            <p:cNvSpPr/>
            <p:nvPr/>
          </p:nvSpPr>
          <p:spPr>
            <a:xfrm>
              <a:off x="395280" y="2095560"/>
              <a:ext cx="2057400" cy="2057400"/>
            </a:xfrm>
            <a:prstGeom prst="ellipse">
              <a:avLst/>
            </a:prstGeom>
            <a:solidFill>
              <a:srgbClr val="800080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28"/>
            <p:cNvSpPr/>
            <p:nvPr/>
          </p:nvSpPr>
          <p:spPr>
            <a:xfrm>
              <a:off x="1995480" y="2095560"/>
              <a:ext cx="2057400" cy="20574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eđunarodni kontek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N konferencija o okolišu i razvitk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Rio de Janeiro (199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N Milenijska deklaracij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ilenijski ciljevi, New Yor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200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vjetski sastanak na vrhu o održivom razvitk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Johannesburg, (200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editeranska strategija održivog razvo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Portorož (2005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U Ugovor iz Amsterda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1997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othenburška strategija održivog razvit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2001., revidirana 2006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trategija održivog razvitka R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ugoročno usmjeravanje prema održivom razvoju Republike Hrvat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stoji pronaći prikladna rješenja za sve tri sastavnice održivog razvo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ospodarski 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ocijalna ravnotež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koli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trategija održivog razvitka R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Opća načel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omicanje i zaštita temeljnih ljudskih pra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zaštita zdravlja ljud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olidarnost unutar i među generacijam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stvarenje otvorenog i demokratskog društv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ključivanje građan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ključivanje poslodavaca i socijalnih partne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ocijalna odgovornost poslodava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ntegracija gospodarskih, socijalnih i okolišnih sastavnica u izradi svih politik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66"/>
                </a:solidFill>
                <a:latin typeface="Verdana"/>
              </a:rPr>
              <a:t>obrazovanje za održivi razvoj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sklađenost politika svih razina uprave i lokalne samouprav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upotrebe najbolje moguće dostupne tehnologi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bnavljanje prirodnih resur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omicanje održive potrošnje i proizvodn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edostrožnost i prevencij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nečišćivač plaća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trategija održivog razvitka R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ljučni izaz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ticaj rasta broja stanovnika 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okoliš i prirodna do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usmjeravanje na održivu proizvodnju i potrošn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ostvarivanje socijalne i teritorijalne kohezije i    prav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stizanje energetske neovisnosti i rasta učinkovitosti korištenja energ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jačanje javnog zdravst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vezivanje Republike Hrvats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zaštita Jadranskog mora, priobalja i oto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trategija održivog razvitka R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svakom od 8 ključnih izazova potrebno je ostvariti sljedeće pretpostav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lnSpc>
                <a:spcPct val="14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vesti reforme i nastaviti izgrađivati učinkovitu držav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spcBef>
                <a:spcPts val="1199"/>
              </a:spcBef>
              <a:buClr>
                <a:srgbClr val="cc0066"/>
              </a:buClr>
              <a:buFont typeface="Arial"/>
              <a:buChar char="–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66"/>
                </a:solidFill>
                <a:latin typeface="Arial"/>
              </a:rPr>
              <a:t>podići obrazovnu razinu svih građana i graditi društvo temeljeno na znanju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upirati kulturu istraživanja i ulaganja u razvit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lagoditi se klimatskim promjena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trategija održivog razvitka R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vedba Strategi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važavanje koncepta održivog razvoja prilikom donošenja svih politi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tvaranje pozitivnog okruženja na svim razinama uprave i lokalne samouprave (informiranje javnosti, jačanje svijesti, podupiranje obrazovanja na svim razina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utem Akcijskih plano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7:45:23Z</dcterms:created>
  <dc:creator>zfakin</dc:creator>
  <dc:description/>
  <dc:language>en-US</dc:language>
  <cp:lastModifiedBy>Borinho</cp:lastModifiedBy>
  <dcterms:modified xsi:type="dcterms:W3CDTF">2009-02-26T22:12:16Z</dcterms:modified>
  <cp:revision>29</cp:revision>
  <dc:subject/>
  <dc:title>Ministarstvo zaštite okoliša, prostornog uređenja i graditeljstva</dc:title>
</cp:coreProperties>
</file>