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A99-803D-487D-B250-395A3E6C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FCB-9BCE-4725-A11D-0332A79A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2C8-8874-48EA-A8C0-82129CF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278-D15D-440C-8FEB-47CCE8A9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98CE-E554-4FFE-8718-C6B553A9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B3E4-9654-46F6-979E-B336B213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10B9-8C2A-4581-A49D-0B01753A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1B4-E4BB-4ED0-ADE8-F3664DB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E8AE-F084-4EC0-9DBB-92D8E0F2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5CB0-EE40-4057-B04D-E42D59B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2D45-FF86-42D3-B6BD-0CF98692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A3E-0C9D-440A-B984-C121D885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0F4E-9C33-4EB7-A2A2-3FAF9EB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4AB0-7D7C-4ECC-8921-EC86741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B05-A953-4B2C-A767-11C52B77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0C5A-FE90-4392-BCE2-600B88B7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5DF-BB1D-4DC5-90BE-38FC9496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0CFD-166A-441C-B364-600986B0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FF4C-03F3-4899-AAA0-1B536410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564FD-BCF3-4578-AD6B-CA9E74D3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DE8B-181D-4982-95A0-8DA09D5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EA525-E4C4-4486-B9A6-51BDBA22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760-80D6-4F08-BD8E-974D6AC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6B18-E6FA-45DD-AFB7-C4A4D874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1CD5-5326-413B-8863-0CCDEB1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E2FE-FDE6-4DB8-9618-5DADBC2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D389D-F6A5-4E55-92F9-D1212BF3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35E6-F560-4E5F-A6EF-B150016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293B-5DC6-40A9-BB41-B0A1D740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E9F23-1EB6-4B7C-A5D5-B3B18693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A3FD0-6AC2-4581-B91C-618A3B4A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72BC-10BD-4DAE-92D3-112E242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9E00-96D9-4262-848C-0D3539F3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F2F-5A15-4CA7-ADEE-275D8515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97BA-FD48-4AF5-A9C6-C4FE624B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DF555-C89F-40B8-8D22-E8B868B4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F57F7-969D-4076-ADA9-C79EBC7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A674-38BC-4361-86AA-B54EBA4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36D3C-E32C-428A-9D43-26AE2E9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3C5B-4BEE-4D58-89C3-902B5FFA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DB733-D65C-443C-8E41-6B5C0F6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5F5AF-3985-4FB9-A1AD-B7FF52EC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976C-5305-40DD-877D-2A6C58FA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E6FE-D06C-4453-809A-8C0B2D1F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E46E-1687-4E75-B88B-42C8608D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FA26C-4E13-4163-B846-C3C599C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A7400-558D-4600-B365-3E5AFA86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60D9-A604-4EBA-AF50-1DDF523A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4FC6-A3F6-439C-ACAD-220B532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BF567-2620-4AAD-9BA7-C048FEB9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FED8-2AC4-4C90-BF39-1F40D7D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3674D-B1BA-4DF1-BB48-B57E550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825C-F29E-411B-9694-83DB5D59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9516E-B719-42AE-B0A3-90E7776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059E9-404E-4B6C-A769-5FD4EDD0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93F-5F68-44D6-8142-FB7C3582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7C22-F35C-4B34-BA52-ED9951DD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90F1-CFBE-44EC-9F21-94506D9D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45947-B417-4FC9-9EBC-561DDA3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6990-81FE-4BC3-B28D-687E3C75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B986-607E-41A8-B35B-068EC59C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6B67-2DA6-4317-B767-0A10B3C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A052-2513-47DC-BE7D-3C8A800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148C-FDF3-4325-987B-03AC543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A96E-79EA-49C1-A3A4-A845A86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9579D-0815-41C3-BF5D-3F16BB7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E52-AF55-4C34-95CD-C1D4547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C156D-E132-4A5D-84D6-DD95E7AB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7E1B-29C8-4766-AAEE-35A08B4D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E57AB-D9F3-40A7-A519-CF7F154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1F1D1-73D3-4B8E-AD86-4A1F89CA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63784-6E4C-45C5-A594-A135A54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86DD-EE1B-4EFF-90B8-3D55ACA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DC26E-C273-451B-BD54-42584F4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1A77-B9C0-4D7D-9501-CBD9AAA1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CEA41-700B-4A4C-ABD9-A4D3A58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BC4B8-4D4D-4510-9B71-0BFC8DF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CEF-B6AC-4D32-B758-70966F0A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689A-EFDA-41F1-BFE4-B86AC79F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9321-C775-4EA8-B162-90C35FD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018C-937A-410A-9E67-B6AD77C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F2F6-DE1F-4FD4-9BA2-920684B1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0895-9EFA-4533-89D4-B1A9B0E4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417-57C1-4028-B7C7-ACEA455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ravokutni trokut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" name="Prostoručno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Prostoručno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Prostoručno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1" name="Prostoručno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" name="Ravni poveznik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7215-C27A-4B0C-ADA9-CD30C0DE6746}" type="slidenum">
              <a:rPr b="0" lang="hr-HR" sz="10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1" name="Š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Š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1899-C31E-45E4-A925-DA119F1D3C06}" type="slidenum">
              <a:rPr b="0" lang="hr-HR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7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10E0-A558-4808-9BBD-991F9C25295C}" type="slidenum">
              <a:rPr b="0" lang="hr-HR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2E76-2F89-47B2-8DF8-48DC9F5CE205}" type="slidenum">
              <a:rPr b="0" lang="hr-HR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03EE-C3B6-4CA3-9505-8C4D2295B46D}" type="slidenum">
              <a:rPr b="0" lang="hr-HR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CEC9-3C7C-4DCD-A9B3-3895C387CB51}" type="slidenum">
              <a:rPr b="0" lang="hr-HR" sz="10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rostoručno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ručno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Pravokutni trokut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Pravokutni trokut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Ravni poveznik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rostoručno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rostoručno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Pravokutni trokut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01" name="Pravokutni trokut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Ravni poveznik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4" name="Š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Š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Constantia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65EE-974A-43FE-8501-36DDBA8B07A7}" type="slidenum">
              <a:rPr b="0" lang="hr-HR" sz="10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Naslov 1" descr=""/>
          <p:cNvPicPr/>
          <p:nvPr/>
        </p:nvPicPr>
        <p:blipFill>
          <a:blip r:embed="rId1"/>
          <a:stretch/>
        </p:blipFill>
        <p:spPr>
          <a:xfrm>
            <a:off x="536400" y="1189080"/>
            <a:ext cx="8253720" cy="2865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14240" y="442872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4e5b6f"/>
                </a:solidFill>
                <a:latin typeface="Constantia"/>
              </a:rPr>
              <a:t>mr. sc. Diana Garašić, mr. sc. Žaklin Lukša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4e5b6f"/>
                </a:solidFill>
                <a:latin typeface="Comic Sans MS"/>
              </a:rPr>
              <a:t>Tijek rada II</a:t>
            </a:r>
            <a:br>
              <a:rPr sz="4100"/>
            </a:br>
            <a:r>
              <a:rPr b="1" lang="hr-HR" sz="2400" spc="-1" strike="noStrike">
                <a:solidFill>
                  <a:srgbClr val="4e5b6f"/>
                </a:solidFill>
                <a:latin typeface="Comic Sans MS"/>
              </a:rPr>
              <a:t>Upoznavanje s ostalim Kriterijima kvalitete za OOOR</a:t>
            </a:r>
            <a:endParaRPr b="1" lang="en-US" sz="24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Ekspertne grupe (slagalica) - radion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djela u 10 grupa – svaka prouči 1 od 10 kriterija (10’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nutar grupe </a:t>
            </a:r>
            <a:r>
              <a:rPr b="1" lang="hr-HR" sz="2400" spc="-1" strike="noStrike">
                <a:solidFill>
                  <a:srgbClr val="006600"/>
                </a:solidFill>
                <a:latin typeface="Comic Sans MS"/>
              </a:rPr>
              <a:t>usuglasi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hr-HR" sz="2400" spc="-1" strike="noStrike">
                <a:solidFill>
                  <a:srgbClr val="006600"/>
                </a:solidFill>
                <a:latin typeface="Comic Sans MS"/>
              </a:rPr>
              <a:t>svaki član zapisat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što je najvažnije za taj kriterij i kako ćete to prenijeti ostalim grupama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u </a:t>
            </a:r>
            <a:r>
              <a:rPr b="1" lang="hr-HR" sz="2400" spc="-1" strike="noStrike" u="sng">
                <a:solidFill>
                  <a:srgbClr val="006600"/>
                </a:solidFill>
                <a:uFillTx/>
                <a:latin typeface="Comic Sans MS"/>
              </a:rPr>
              <a:t>2 minute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.  (10’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pajanje po dvije grupe (ukupno 5 grupa): razmijeniti spoznaje o proučenim kriterijima. Svaki se član mora pripremiti za prezentiranje 2 kriterija kolegama u svojoj sljedećoj grupi (10’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e5b6f"/>
                </a:solidFill>
                <a:latin typeface="Comic Sans MS"/>
              </a:rPr>
              <a:t>Tijek rada III</a:t>
            </a:r>
            <a:br>
              <a:rPr sz="3700"/>
            </a:br>
            <a:r>
              <a:rPr b="1" lang="hr-HR" sz="3700" spc="-1" strike="noStrike">
                <a:solidFill>
                  <a:srgbClr val="4e5b6f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4e5b6f"/>
                </a:solidFill>
                <a:latin typeface="Comic Sans MS"/>
              </a:rPr>
              <a:t>Upoznavanje svih Kriterija i njihova primjena</a:t>
            </a:r>
            <a:endParaRPr b="1" lang="en-US" sz="24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Razmještanje u novih 5 grupa – svaka ima prezentatora za svaki od 10 kriterija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Kriteriji se redom prezentiraju – za svaki </a:t>
            </a:r>
            <a:r>
              <a:rPr b="1" lang="hr-HR" sz="2700" spc="-1" strike="noStrike" u="sng">
                <a:solidFill>
                  <a:srgbClr val="006600"/>
                </a:solidFill>
                <a:uFillTx/>
                <a:latin typeface="Comic Sans MS"/>
              </a:rPr>
              <a:t>maksimalno</a:t>
            </a:r>
            <a:r>
              <a:rPr b="0" lang="hr-HR" sz="2700" spc="-1" strike="noStrike" u="sng">
                <a:solidFill>
                  <a:srgbClr val="006600"/>
                </a:solidFill>
                <a:uFillTx/>
                <a:latin typeface="Comic Sans MS"/>
              </a:rPr>
              <a:t> po 2 minute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 (20’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ea157a"/>
                </a:solidFill>
                <a:latin typeface="Comic Sans MS"/>
              </a:rPr>
              <a:t>Povratak u matične grupe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:  Analizirati koji od kriterija su zadovoljeni u vašoj zamišljenoj školi, te koliko i na čemu bi još trebalo poraditi (10’)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Izvještavanje i rasprava (15’) – </a:t>
            </a:r>
            <a:r>
              <a:rPr b="0" lang="hr-HR" sz="2700" spc="-1" strike="noStrike">
                <a:solidFill>
                  <a:srgbClr val="006600"/>
                </a:solidFill>
                <a:latin typeface="Comic Sans MS"/>
              </a:rPr>
              <a:t>Mogu li ENSI kriteriji poslužiti kao dobar dodatni instrument u samovrednovanju škola?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e5b6f"/>
                </a:solidFill>
                <a:latin typeface="Arial"/>
              </a:rPr>
              <a:t>Didaktički model radionice - analiza</a:t>
            </a:r>
            <a:endParaRPr b="1" lang="en-US" sz="37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7fd13b"/>
                </a:solidFill>
                <a:latin typeface="Arial"/>
              </a:rPr>
              <a:t>I. etapa radionice: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6600"/>
                </a:solidFill>
                <a:latin typeface="Arial"/>
              </a:rPr>
              <a:t>Evokacija – prisjećanje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udionici na temelju predstavljenih tema i kompetencija za OOR identificiraju odgovarajuće aktivnosti svojih šk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7fd13b"/>
                </a:solidFill>
                <a:latin typeface="Arial"/>
              </a:rPr>
              <a:t>II. etapa: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6600"/>
                </a:solidFill>
                <a:latin typeface="Comic Sans MS"/>
              </a:rPr>
              <a:t>Razumijevanje značenj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čenje novih sadržaja putem mini izlaganja i radionice (ekspertne grup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7fd13b"/>
                </a:solidFill>
                <a:latin typeface="Arial"/>
              </a:rPr>
              <a:t>III. etapa: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700" spc="-1" strike="noStrike">
                <a:solidFill>
                  <a:srgbClr val="006600"/>
                </a:solidFill>
                <a:latin typeface="Arial"/>
              </a:rPr>
              <a:t>Refleksija – primjena</a:t>
            </a:r>
            <a:r>
              <a:rPr b="0" lang="hr-HR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stavljanje u odnos prema prethodnom znanju procjenom popisanih aktivnosti u OOR prema ENSI kriterijima kvalit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600" spc="-1" strike="noStrike">
                <a:solidFill>
                  <a:srgbClr val="000000"/>
                </a:solidFill>
                <a:latin typeface="Colonna MT"/>
              </a:rPr>
              <a:t>HVALA NA PAŽNJI!!!!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100" spc="-1" strike="noStrike">
              <a:solidFill>
                <a:srgbClr val="4e5b6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6600"/>
                </a:solidFill>
                <a:latin typeface="Comic Sans MS"/>
              </a:rPr>
              <a:t>Razmjena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 iskustava i </a:t>
            </a:r>
            <a:r>
              <a:rPr b="1" lang="hr-HR" sz="2700" spc="-1" strike="noStrike">
                <a:solidFill>
                  <a:srgbClr val="006600"/>
                </a:solidFill>
                <a:latin typeface="Comic Sans MS"/>
              </a:rPr>
              <a:t>dobre prakse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 koja već postoji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Upoznavanje s </a:t>
            </a:r>
            <a:r>
              <a:rPr b="1" lang="hr-HR" sz="2700" spc="-1" strike="noStrike">
                <a:solidFill>
                  <a:srgbClr val="006600"/>
                </a:solidFill>
                <a:latin typeface="Comic Sans MS"/>
              </a:rPr>
              <a:t>Kriterijima kvalitete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 (prema ENSI- </a:t>
            </a:r>
            <a:r>
              <a:rPr b="1" lang="hr-HR" sz="2800" spc="-1" strike="noStrike" u="sng">
                <a:solidFill>
                  <a:srgbClr val="006600"/>
                </a:solidFill>
                <a:uFillTx/>
                <a:latin typeface="Comic Sans MS"/>
              </a:rPr>
              <a:t>www.ensi.org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6600"/>
                </a:solidFill>
                <a:latin typeface="Comic Sans MS"/>
              </a:rPr>
              <a:t>Evaluacija 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hipotetske odgojno-obrazovne ustanove prema Kriterijima kvalitete za OOR škol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Izvještavanje grupa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7fd13b"/>
                </a:solidFill>
                <a:latin typeface="Comic Sans MS"/>
              </a:rPr>
              <a:t>Didaktički model: ERR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Naslov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28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4e5b6f"/>
                </a:solidFill>
                <a:latin typeface="Comic Sans MS"/>
              </a:rPr>
              <a:t>Tijek rada I</a:t>
            </a:r>
            <a:endParaRPr b="1" lang="en-US" sz="4100" spc="-1" strike="noStrike">
              <a:solidFill>
                <a:srgbClr val="4e5b6f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ema </a:t>
            </a:r>
            <a:r>
              <a:rPr b="1" i="1" lang="hr-HR" sz="2400" spc="-1" strike="noStrike">
                <a:solidFill>
                  <a:srgbClr val="006600"/>
                </a:solidFill>
                <a:latin typeface="Comic Sans MS"/>
              </a:rPr>
              <a:t>Temama i Kompetencijama za OO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pobrojit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Aktivnosti i pristupe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ojekte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predjeljenja i politike na snaz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školi (vrtiću, domu) u vezi s OOOR – popišite sve što je kod vas dobro i može se svrstati pod OO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Zamislite da ste u jednoj (istoj) ustanovi – nadjenite joj 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10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Na posteru predstavite svoju hipotetsku školu (ustanovu) i razgledajte ost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178560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fd13b"/>
                </a:solidFill>
                <a:latin typeface="Comic Sans MS"/>
              </a:rPr>
              <a:t>Mini izlagan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riteriji kvalite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  (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ENSI- </a:t>
            </a:r>
            <a:r>
              <a:rPr b="1" lang="hr-HR" sz="2800" spc="-1" strike="noStrike" u="sng">
                <a:solidFill>
                  <a:srgbClr val="006600"/>
                </a:solidFill>
                <a:uFillTx/>
                <a:latin typeface="Comic Sans MS"/>
              </a:rPr>
              <a:t>www.ensi.org</a:t>
            </a:r>
            <a:r>
              <a:rPr b="0" lang="hr-HR" sz="27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mogu se podijeliti u tri osnovna područja djelovanja škole i vezani su uz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kvalitetu poučavanja i procese učen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olitiku škole i organizaciju rad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odnose škole s vanjskim čimbenic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Naslov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8390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radnja s lokalnom zajedni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doživljava i uključuje lokalnu zajednicu kao resurs svrhovitog poučavanj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koristi zajednicu kao „arenu“ za stvarno djelovan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omogućuje da joj se lokalna zajednica obrati sa svojim izazovima (brigama) te postaje partner i „centar zajednice“u O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6" name="Naslov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15.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mrežavanje i partnerst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surađuje s ostalim školama kako bi razvijala, izmjenjivala i uspoređivala ideje i informacije važne za O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je dio lokalnih, nacionalnih i međunarodnih mreža relevantnih za OOR, u kojima se učenici potiču na preuzimanje inicijat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traži suradnju s institucijama aktivnim u razvoju obrazovanja u području OR-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Naslov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11.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Školsko ozračje – kriteriji kvalite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vatk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osjeća da može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idonijeti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novativnim idejama i prijedlozima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bez ustručavan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(straha). Omogućavanje i poticanje takvog osjećanja je posebno važna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loga vodstva škol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je kao arena gdje svi sudionici prakticiraju demokraciju 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sudjelovanj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te su, na različitim razinama, uključeni u procese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donošenja odluk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Cijela školska zajednic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, posebice roditelji, obaviještena je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o važnosti OO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za učeničko opće znanje te je uključena je u razvoj šk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Naslov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12.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pravljanje škol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Provodi se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edovita procjen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otreba škol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u smislu održivosti (OOR) i odgovarajuće uključenosti učenika, učitelja i osoblj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svake godine odlučuje koji su novi izazovi i koje aktivnosti treba poduzet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 svrhu stalnog poboljšanj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upravljanja škol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nastoji bit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pažljivog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upravljanja resursima,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 dokazi o ostvarenjima  prikazuju se unutar škole i prema v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………………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2" name="Naslov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67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1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cjene OOR inicijativa na razini ško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posvećuje odgovarajuće vrijeme zajedničkim razmatranjima 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istraživanju uočenih problema O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objašnjava i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razvija kriterije kvalitete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za OOR prema vlastitoj viziji te ih koristi za internu procjen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Škola koristi dobitke i dostignuća OOR, kao i uočene (nadiđene) prepreke na dobrobit cijele škole, uključujući i učitelje koji nisu sudjelovali u OOR inicijativam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</a:rPr>
              <a:t>zajednica koja uči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4" name="Naslov 2" descr=""/>
          <p:cNvPicPr/>
          <p:nvPr/>
        </p:nvPicPr>
        <p:blipFill>
          <a:blip r:embed="rId1"/>
          <a:stretch/>
        </p:blipFill>
        <p:spPr>
          <a:xfrm>
            <a:off x="324000" y="0"/>
            <a:ext cx="8467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6:07:23Z</dcterms:created>
  <dc:creator>zaklin</dc:creator>
  <dc:description/>
  <dc:language>en-US</dc:language>
  <cp:lastModifiedBy>dgarasic</cp:lastModifiedBy>
  <dcterms:modified xsi:type="dcterms:W3CDTF">2009-11-04T14:19:13Z</dcterms:modified>
  <cp:revision>19</cp:revision>
  <dc:subject/>
  <dc:title>KRITERIJI KVALITETE – INDIKATORI USPJEŠNOSTI U ODGOJU I OBRAZOVANJU ZA ODRŽIVI RAZVOJ (OOR) </dc:title>
</cp:coreProperties>
</file>