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540-5C48-4172-B5A6-FA527633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0FD-5875-495F-BEAC-ED79767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B7E-F320-44F3-8D8B-2B68CCEF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22F-2CCB-4D62-A0EC-42B7C0D6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B1B-C90B-4CB4-8A68-63B3E7C6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8FC-9F00-4568-97C5-CEEC7838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18B-8A60-4FF1-B0D1-A544A022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754-B39C-420B-A3B3-9FA81463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F29-4125-4D02-A821-CA8A1841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5CE-0202-4F1A-9233-EF178C01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F38-B94C-400E-86EC-069E494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1823-7EB1-4AC8-9A94-160433E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A305-3723-40F1-B7E8-EBDF4A92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mojportal.hr/var/mojportal/storage/images/moj_portal/naslovnica/svijet/60_godina_neuspjeha_u_borbi_za_ljudska_prava/329577-1-cro-HR/60_godina_neuspjeha_u_borbi_za_ljudska_prava_tabfull.jpg&amp;imgrefurl=http://www.mojportal.hr/naslovnica/svijet/60_godina_neuspjeha_u_borbi_za_ljudska_prava&amp;usg=__3ruq9fouMFxgly9A-iXn2gFRavk=&amp;h=313&amp;w=470&amp;sz=21&amp;hl=hr&amp;start=2&amp;tbnid=eRT2b5T99RDvlM:&amp;tbnh=86&amp;tbnw=129&amp;prev=/images%3Fq%3Dljudska%2Bprava%26gbv%3D2%26hl%3Dhr%26sa%3D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public.globalnet.hr/~gvlahovi/ekologija/ozonska-rupa-4.gif&amp;imgrefurl=http://public.globalnet.hr/~gvlahovi/ekologija/ekostrofa.htm&amp;usg=__eqPAjLLNWz995pQCwsRWfSRr2HM=&amp;h=260&amp;w=280&amp;sz=8&amp;hl=hr&amp;start=3&amp;tbnid=7cix6rH4E5P_SM:&amp;tbnh=106&amp;tbnw=114&amp;prev=/images%3Fq%3Dozonske%2Brupe%26gbv%3D2%26hl%3Dhr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hr/imgres?imgurl=http://www.ekologija.ba/userfiles/image/no_z_7.jpg&amp;imgrefurl=http://www.ekologija.ba/index.php%3Fw%3Dc%26id%3D78&amp;usg=__rGapklo06YXISMC_2n8Td1MVxfc=&amp;h=218&amp;w=246&amp;sz=18&amp;hl=hr&amp;start=9&amp;tbnid=_r35MZKVjK8YtM:&amp;tbnh=97&amp;tbnw=110&amp;prev=/images%3Fq%3Dozonske%2Brupe%26gbv%3D2%26hl%3Dhr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regionalexpress.hr/images/uploads/Prosvjed_protiv_Dr&#382;avne_mature,_u&#269;enici_pulskih_srednjih_&#353;kola_28._04._08_(18).jpg&amp;imgrefurl=http://regionalexpress.hr/site/more/protest-pulskih-srednjoshkolaca/&amp;usg=__AABKnY8Ib4iBUMFmDXO9NyX1WPY=&amp;h=427&amp;w=640&amp;sz=59&amp;hl=hr&amp;start=10&amp;tbnid=QrlDY0Y-iD7O2M:&amp;tbnh=91&amp;tbnw=137&amp;prev=/images%3Fq%3Dsrednjo%25C5%25A1kolci%26gbv%3D2%26hl%3Dhr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hr/imgres?imgurl=http://www.prospero.hr/WritePerm/UploadPhotos/teens_glave.jpg&amp;imgrefurl=http://www.prospero.hr/project/Pages.aspx%3Fgrupacija%3D6&amp;usg=__iDDmOlJw8mCNsxGQNEtyqxyildM=&amp;h=525&amp;w=350&amp;sz=23&amp;hl=hr&amp;start=4&amp;tbnid=MbStpJjnkhWX4M:&amp;tbnh=132&amp;tbnw=88&amp;prev=/images%3Fq%3Dsrednjo%25C5%25A1kolci%26gbv%3D2%26hl%3Dhr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duhovnaizgradnja.com/slike/Konfucije/konfucije2.gif&amp;imgrefurl=http://www.duhovnaizgradnja.com/stranice/tekstovi/poznate_licnosti_u_duhovnosti/Konfucije/Konfucije_osvrt_na_misao.htm&amp;usg=__ZxAdQzZrbFwekgtZAb8CrorZRPk=&amp;h=267&amp;w=192&amp;sz=27&amp;hl=hr&amp;start=6&amp;tbnid=5LsG2dziEgMtgM:&amp;tbnh=113&amp;tbnw=81&amp;prev=/images%3Fq%3Dkonfucije%26gbv%3D2%26hl%3Dhr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naslov.hr/img/novosti_ekologija.jpg&amp;imgrefurl=http://naslov.hr/novosti_svijet/Glavni.islamisticki.pokret.na.palestinskim.podrucjima/komentari/bfiaae&amp;usg=__NxmtmUrv3-dXfLzsmnWQj21KCEk=&amp;h=80&amp;w=100&amp;sz=6&amp;hl=hr&amp;start=18&amp;tbnid=YFUBY0-UHAkzqM:&amp;tbnh=66&amp;tbnw=82&amp;prev=/images%3Fq%3Dcilj%2Bodr%25C5%25BEivog%2Brazvitka%26gbv%3D2%26hl%3Dhr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hr/imgres?imgurl=http://www.scotland.gov.uk/Resource/Img/47121/0021330.jpg&amp;imgrefurl=http://ostriczelenalista.bloger.hr/default.aspx%3Ftag%3Dgospodarstvo&amp;usg=__3XQs_nHfS1gwX5CBH-cOlPZ93EE=&amp;h=248&amp;w=252&amp;sz=14&amp;hl=hr&amp;start=5&amp;tbnid=CrwDgH41x7WxvM:&amp;tbnh=109&amp;tbnw=111&amp;prev=/images%3Fq%3Dcilj%2Bodr%25C5%25BEivog%2Brazvitka%26gbv%3D2%26hl%3Dhr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hr/imgres?imgurl=http://www.ecologica.hr/media/1095/zgazeni-globus.jpg&amp;imgrefurl=http://www.ecologica.hr/odrzivi-razvitak/agenda-21/povelja-o-zemlji.aspx&amp;usg=__qnI4Q-qiIaFtLTGXZnaGJvC3EWw=&amp;h=326&amp;w=313&amp;sz=8&amp;hl=hr&amp;start=32&amp;tbnid=zLmuMiQfXFgbzM:&amp;tbnh=118&amp;tbnw=113&amp;prev=/images%3Fq%3Dcilj%2Bodr%25C5%25BEivog%2Brazvitka%26start%3D18%26gbv%3D2%26ndsp%3D18%26hl%3Dhr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www.javno.com/slike/slike_3/r1/g2008/m03/y166395196912079.jpg&amp;imgrefurl=http://www.javno.com/hr/profit/clanak.php%3Fid%3D132286&amp;usg=__Ydth3Pt_6L8ThYFi6VWz36rkSSk=&amp;h=300&amp;w=400&amp;sz=23&amp;hl=hr&amp;start=9&amp;tbnid=iJJUG56mm0bYaM:&amp;tbnh=93&amp;tbnw=124&amp;prev=/images%3Fq%3Dfinancijska%2Bkriza%26gbv%3D2%26hl%3Dhr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hr/imgres?imgurl=http://www.index.hr/images2/RomanAbramovicAFP32V.jpg&amp;imgrefurl=http://chelsea-blues.bloger.hr/default.aspx%3Fdate%3D1.12.2008&amp;usg=__uGCpfDy2JPjrIejh2UvSoAZ0bUg=&amp;h=534&amp;w=293&amp;sz=36&amp;hl=hr&amp;start=16&amp;tbnid=6lGqq6iplmZ_NM:&amp;tbnh=132&amp;tbnw=72&amp;prev=/images%3Fq%3Dfinancijska%2Bkriza%26gbv%3D2%26hl%3Dhr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hr/imgres?imgurl=http://www.javno.com/slike/slike_3/r1/g2008/m04/y168713921506575.jpg&amp;imgrefurl=http://www.javno.com/hr/profit/clanak.php%3Fid%3D139591&amp;usg=__OOpEIMHOP1-oD_WN1r5LjKTfGEY=&amp;h=300&amp;w=400&amp;sz=23&amp;hl=hr&amp;start=53&amp;tbnid=ioiNfk-fz2KGCM:&amp;tbnh=93&amp;tbnw=124&amp;prev=/images%3Fq%3Dfinancijska%2Bkriza%26start%3D36%26gbv%3D2%26ndsp%3D18%26hl%3Dhr%26sa%3DN" TargetMode="External"/><Relationship Id="rId6" Type="http://schemas.openxmlformats.org/officeDocument/2006/relationships/image" Target="../media/image12.jpeg"/><Relationship Id="rId7" Type="http://schemas.openxmlformats.org/officeDocument/2006/relationships/hyperlink" Target="http://images.google.hr/imgres?imgurl=http://www.ezadar.hr/repository/image_raw/16425/large/&amp;imgrefurl=http://www.ezadar.hr/clanak/mmf-hrvatskoj-prijeti-financijska-kriza&amp;usg=__2ZGxqCotIJ1cHoAmYxgKYOXJwzY=&amp;h=318&amp;w=378&amp;sz=26&amp;hl=hr&amp;start=1&amp;tbnid=F50Wj1OVyOCbZM:&amp;tbnh=103&amp;tbnw=122&amp;prev=/images%3Fq%3Dfinancijska%2Bkriza%26gbv%3D2%26hl%3Dhr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destinationgreen.com/newsletter/2007/DG0307/pics/Earthday.jpg&amp;imgrefurl=http://walpurga.bloger.hr/post/dan--planeta--zemlje-----22-travanj/780498.aspx&amp;usg=__xQPgv33KB9MP19eM4lDOvkjoyjA=&amp;h=798&amp;w=1200&amp;sz=614&amp;hl=hr&amp;start=14&amp;tbnid=qTxtH6MVzQOrNM:&amp;tbnh=100&amp;tbnw=150&amp;prev=/images%3Fq%3Dza%25C5%25A1tita%2Bokoli%25C5%25A1a%26gbv%3D2%26hl%3Dhr%26sa%3D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hr/imgres?imgurl=http://ekologija.hr/typo3temp/pics/8c3ca8fdfe.jpg&amp;imgrefurl=http://ekologija.hr/index.php%3Fid%3D167%26no_cache%3D1%26tx_ttnews%255Bcat%255D%3D20%26tx_ttnews%255Bpointer%255D%3D1%26cHash%3D019410c033&amp;usg=__daqzfM3LzpdHCvJohk5_QzHrWes=&amp;h=190&amp;w=171&amp;sz=6&amp;hl=hr&amp;start=18&amp;tbnid=jAajw5qQRr_y6M:&amp;tbnh=103&amp;tbnw=93&amp;prev=/images%3Fq%3Dodr%25C5%25BEivi%2Brazvitak%26gbv%3D2%26hl%3Dhr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images.google.hr/imgres?imgurl=http://www.mhl.hsls.hr/eu/images/ucenje01.jpg&amp;imgrefurl=http://www.mhl.hsls.hr/eu/ucenjef.html&amp;usg=__TVIM47TS9iEX4mU0zWMi-zk6I0o=&amp;h=263&amp;w=350&amp;sz=13&amp;hl=hr&amp;start=55&amp;tbnid=n7AqM28ohuhdQM:&amp;tbnh=90&amp;tbnw=120&amp;prev=/images%3Fq%3Dobrazovanje%2Bza%2Bodr%25C5%25BEivi%2Brazvoj%26start%3D54%26gbv%3D2%26ndsp%3D18%26hl%3Dhr%26sa%3DN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images.google.hr/imgres?imgurl=http://www.cev.be/data/Image/Manifesto%2520stone%2520wall%2520resized.jpg&amp;imgrefurl=http://www.cev.be/56-why_volunteering_matters!_148-BS.html&amp;usg=__H8xgtwXUJkOFRhlvhcyH66AVo88=&amp;h=365&amp;w=560&amp;sz=75&amp;hl=hr&amp;start=89&amp;tbnid=2gnvfwPnIjEVoM:&amp;tbnh=87&amp;tbnw=133&amp;prev=/images%3Fq%3Dobrazovanje%2Bza%2Bodr%25C5%25BEivi%2Brazvoj%26start%3D72%26gbv%3D2%26ndsp%3D18%26hl%3Dhr%26sa%3DN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images.google.hr/imgres?imgurl=http://www.rtvcazin.ba/ekokviz_03.jpg&amp;imgrefurl=http://www.rtvcazin.ba/arhiva_radiotv_cazin_106.html&amp;usg=__JGR7-B75y21QrDUIgz7WS1Npm8I=&amp;h=180&amp;w=240&amp;sz=18&amp;hl=hr&amp;start=83&amp;tbnid=MriZ4MQACI5m1M:&amp;tbnh=83&amp;tbnw=110&amp;prev=/images%3Fq%3Dobrazovanje%2Bza%2Bodr%25C5%25BEivi%2Brazvoj%26start%3D72%26gbv%3D2%26ndsp%3D18%26hl%3Dhr%26sa%3DN" TargetMode="External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o znamo o održivom razvoj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regionalexpress.hr/images/uploads/odrzivi-razvoj_ilustracija_2.jpg.gif"/>
          <p:cNvPicPr/>
          <p:nvPr/>
        </p:nvPicPr>
        <p:blipFill>
          <a:blip r:embed="rId1"/>
          <a:stretch/>
        </p:blipFill>
        <p:spPr>
          <a:xfrm>
            <a:off x="152280" y="0"/>
            <a:ext cx="3124440" cy="2155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Energija vjetra, vode i sunca neće nam pomoći ako ne smanjimo potrošnju"/>
          <p:cNvPicPr/>
          <p:nvPr/>
        </p:nvPicPr>
        <p:blipFill>
          <a:blip r:embed="rId2"/>
          <a:stretch/>
        </p:blipFill>
        <p:spPr>
          <a:xfrm>
            <a:off x="6172200" y="533520"/>
            <a:ext cx="1905120" cy="127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www.poslovni.hr/img/ArticleImages/34195.jpg"/>
          <p:cNvPicPr/>
          <p:nvPr/>
        </p:nvPicPr>
        <p:blipFill>
          <a:blip r:embed="rId3"/>
          <a:stretch/>
        </p:blipFill>
        <p:spPr>
          <a:xfrm>
            <a:off x="3657600" y="533520"/>
            <a:ext cx="1905120" cy="150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ttp://www.poslovni.hr/img/ArticleImages/34196.jpg"/>
          <p:cNvPicPr/>
          <p:nvPr/>
        </p:nvPicPr>
        <p:blipFill>
          <a:blip r:embed="rId4"/>
          <a:stretch/>
        </p:blipFill>
        <p:spPr>
          <a:xfrm>
            <a:off x="6629400" y="3809880"/>
            <a:ext cx="1905120" cy="24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http://www.skole.hr/upload/new/images/newsimg/1517/Image/STG13549.GIF"/>
          <p:cNvPicPr/>
          <p:nvPr/>
        </p:nvPicPr>
        <p:blipFill>
          <a:blip r:embed="rId5"/>
          <a:stretch/>
        </p:blipFill>
        <p:spPr>
          <a:xfrm>
            <a:off x="228600" y="4114800"/>
            <a:ext cx="309564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http://www.ekapija.com/dokumenti/zastita_okolisa_31.jpg"/>
          <p:cNvPicPr/>
          <p:nvPr/>
        </p:nvPicPr>
        <p:blipFill>
          <a:blip r:embed="rId6"/>
          <a:stretch/>
        </p:blipFill>
        <p:spPr>
          <a:xfrm>
            <a:off x="3809880" y="4572000"/>
            <a:ext cx="1905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Je li bolje imati veći ili manji ekološki otis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505320" cy="10666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 Veći - znači da smo veći ekolo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76560" y="2361960"/>
            <a:ext cx="3733560" cy="1523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Manji - znači da imamo manji utjecaj na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http://cms.skole.hr/upload/new/images/newsimg/531/Image/otisak_stopala2.jpg"/>
          <p:cNvPicPr/>
          <p:nvPr/>
        </p:nvPicPr>
        <p:blipFill>
          <a:blip r:embed="rId1"/>
          <a:stretch/>
        </p:blipFill>
        <p:spPr>
          <a:xfrm>
            <a:off x="457200" y="3505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cms.skole.hr/upload/new/images/newsimg/531/Image/otisak_stopala2.jpg"/>
          <p:cNvPicPr/>
          <p:nvPr/>
        </p:nvPicPr>
        <p:blipFill>
          <a:blip r:embed="rId2"/>
          <a:stretch/>
        </p:blipFill>
        <p:spPr>
          <a:xfrm>
            <a:off x="5867280" y="40384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judska prava nemaju nikakve veze s temom održivog razvoj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666520"/>
            <a:ext cx="266688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2666520"/>
            <a:ext cx="243864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://tbn2.google.com/images?q=tbn:eRT2b5T99RDvlM:http://www.mojportal.hr/var/mojportal/storage/images/moj_portal/naslovnica/svijet/60_godina_neuspjeha_u_borbi_za_ljudska_prava/329577-1-cro-HR/60_godina_neuspjeha_u_borbi_za_ljudska_prava_tab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403848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limatske se promjene pripisuju pojačavanju </a:t>
            </a:r>
            <a:r>
              <a:rPr b="0" i="1" lang="hr-HR" sz="4400" spc="-1" strike="noStrike">
                <a:solidFill>
                  <a:srgbClr val="000000"/>
                </a:solidFill>
                <a:latin typeface="Arial"/>
              </a:rPr>
              <a:t>efekta staklenik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zb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3124080" cy="1600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ovećanja emisija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81120" y="2590560"/>
            <a:ext cx="3048120" cy="160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zonskih ru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tbn1.google.com/images?q=tbn:7cix6rH4E5P_SM:http://public.globalnet.hr/~gvlahovi/ekologija/ozonska-rupa-4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343400"/>
            <a:ext cx="2362320" cy="2197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tbn1.google.com/images?q=tbn:_r35MZKVjK8YtM:http://www.ekologija.ba/userfiles/image/no_z_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343400"/>
            <a:ext cx="23623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brazovanje za održivi razvoj toliko je kompleksno da ga je primjereno provoditi tek sa srednjoškolc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514240"/>
            <a:ext cx="2666880" cy="12193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0" y="2514240"/>
            <a:ext cx="2743200" cy="1219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tbn3.google.com/images?q=tbn:QrlDY0Y-iD7O2M:http://regionalexpress.hr/images/uploads/Prosvjed_protiv_Dr%C5%BEavne_mature,_u%C4%8Denici_pulskih_srednjih_%C5%A1kola_28._04._08_(18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343400"/>
            <a:ext cx="1957320" cy="1300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http://tbn1.google.com/images?q=tbn:MbStpJjnkhWX4M:http://www.prospero.hr/WritePerm/UploadPhotos/teens_glav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886200"/>
            <a:ext cx="12574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"Budućnost je vrijeme kajanja za ono što danas nisi učinio, a što si mogao učiniti.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920" y="2742840"/>
            <a:ext cx="266688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v Tolst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2880" y="2742840"/>
            <a:ext cx="243864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nfu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tbn2.google.com/images?q=tbn:5LsG2dziEgMtgM:http://www.duhovnaizgradnja.com/slike/Konfucije/konfucije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736800"/>
            <a:ext cx="1752480" cy="244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bn3.google.com/images?q=tbn:vQwf54WZJ8gBuM:http://www.znanje.org/lektire/i22/08/02iv0818/tolstoj.jpg"/>
          <p:cNvPicPr/>
          <p:nvPr/>
        </p:nvPicPr>
        <p:blipFill>
          <a:blip r:embed="rId3"/>
          <a:stretch/>
        </p:blipFill>
        <p:spPr>
          <a:xfrm>
            <a:off x="1752480" y="3733920"/>
            <a:ext cx="19321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Jedan putnik u prosječnom putničkom avionu prouzroči tijekom svog jednosatnog leta emisiju štetnih plinova koja je jednaka godišnjoj emisiji štetnih plinova koju izazove jedan stanovnik Hrvatske, ako se u obzir uzmu sve njegove godišnje aktiv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3504960"/>
            <a:ext cx="266724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00240" y="3504960"/>
            <a:ext cx="2438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tbn2.google.com/images?q=tbn:GWq-hY5bGy8zmM:http://www.mojportal.hr/var/mojportal/storage/images/moj_portal/dalmacija/crna_kronika/svjetlecom_raketom_skoro_pogodio_avion/325372-1-cro-HR/svjetlecom_raketom_skoro_pogodio_avion_tabfull.jpg"/>
          <p:cNvPicPr/>
          <p:nvPr/>
        </p:nvPicPr>
        <p:blipFill>
          <a:blip r:embed="rId1"/>
          <a:stretch/>
        </p:blipFill>
        <p:spPr>
          <a:xfrm>
            <a:off x="2514600" y="4267080"/>
            <a:ext cx="35053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8120" y="3200040"/>
            <a:ext cx="350496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VAKE 23 GO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PCC (Intergovernmental Panel on Climate Change) u izvještaju iz 1999. godine navodi da je godišnji porast otpadnih plinova u atmosferi izazvan avionskim prometom porastao za 3%.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to bi značilo da bi se količina ovih otpadnih plinova udvostručila svake -------- god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http://regionalexpress.hr/images/uploads/odrzivi-razvoj_ilustracija_2.jpg.gif"/>
          <p:cNvPicPr/>
          <p:nvPr/>
        </p:nvPicPr>
        <p:blipFill>
          <a:blip r:embed="rId1"/>
          <a:stretch/>
        </p:blipFill>
        <p:spPr>
          <a:xfrm>
            <a:off x="2666880" y="3886200"/>
            <a:ext cx="4008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57240" y="3429000"/>
            <a:ext cx="114300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riteriji kvalitete mogu se podijeliti u tri osnovna područja djelovanja škole i vezani su uz: 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.kvalitetu poučavanja i procese učenj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.politiku škole i organizaciju rada</a:t>
            </a: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II.odnose škole s vanjskim čimbeni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liko ukupno ima kriterija kvalitete OOOR-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www.ekologija.ba/images/eko_02.jpg"/>
          <p:cNvPicPr/>
          <p:nvPr/>
        </p:nvPicPr>
        <p:blipFill>
          <a:blip r:embed="rId1"/>
          <a:stretch/>
        </p:blipFill>
        <p:spPr>
          <a:xfrm>
            <a:off x="1143000" y="3963960"/>
            <a:ext cx="1828800" cy="244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http://www.skole.hr/upload/new/images/newsimg/1517/Image/STG13549.GIF"/>
          <p:cNvPicPr/>
          <p:nvPr/>
        </p:nvPicPr>
        <p:blipFill>
          <a:blip r:embed="rId2"/>
          <a:stretch/>
        </p:blipFill>
        <p:spPr>
          <a:xfrm>
            <a:off x="4343400" y="4343400"/>
            <a:ext cx="38419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Cilj održivog razvitka 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3124440" cy="1371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1. postići što veći B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2880" y="2286000"/>
            <a:ext cx="3353040" cy="1371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2. razvitak društva uz očuvanje okoliš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bn1.google.com/images?q=tbn:YFUBY0-UHAkzqM:http://naslov.hr/img/novosti_ekologij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038480"/>
            <a:ext cx="1600200" cy="128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tbn3.google.com/images?q=tbn:CrwDgH41x7WxvM:http://www.scotland.gov.uk/Resource/Img/47121/00213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4037040"/>
            <a:ext cx="1524240" cy="149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tbn2.google.com/images?q=tbn:zLmuMiQfXFgbzM:http://www.ecologica.hr/media/1095/zgazeni-globu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4114800"/>
            <a:ext cx="266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vjetska financijska kriza pripada problematici održivog razvoj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971440"/>
            <a:ext cx="266724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6560" y="2971440"/>
            <a:ext cx="2438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://tbn0.google.com/images?q=tbn:iJJUG56mm0bYaM:http://www.javno.com/slike/slike_3/r1/g2008/m03/y16639519691207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733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tbn2.google.com/images?q=tbn:6lGqq6iplmZ_NM:http://www.index.hr/images2/RomanAbramovicAFP32V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2971800"/>
            <a:ext cx="1218960" cy="223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tbn1.google.com/images?q=tbn:ioiNfk-fz2KGCM:http://www.javno.com/slike/slike_3/r1/g2008/m04/y16871392150657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4572000"/>
            <a:ext cx="2197080" cy="164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ttp://tbn2.google.com/images?q=tbn:F50Wj1OVyOCbZM:http://www.ezadar.hr/repository/image_raw/16425/large/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0" y="4911840"/>
            <a:ext cx="2305080" cy="194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http://i191.photobucket.com/albums/z57/azshaman1/HorseyBernie20070808.gif"/>
          <p:cNvPicPr/>
          <p:nvPr/>
        </p:nvPicPr>
        <p:blipFill>
          <a:blip r:embed="rId9"/>
          <a:stretch/>
        </p:blipFill>
        <p:spPr>
          <a:xfrm>
            <a:off x="304920" y="3657600"/>
            <a:ext cx="32893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drživi razvoj je mondeni naziv za zaštitu okoliš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590560"/>
            <a:ext cx="266688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2438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http://tbn1.google.com/images?q=tbn:qTxtH6MVzQOrNM:http://destinationgreen.com/newsletter/2007/DG0307/pics/Earth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39084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400" spc="-1" strike="noStrike">
                <a:solidFill>
                  <a:srgbClr val="000000"/>
                </a:solidFill>
                <a:latin typeface="Arial"/>
              </a:rPr>
              <a:t>Što je nacionalna Strategija održivog razvit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3962520" cy="1981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1. krovni dokument s kojim drugi razvojni dokumenti moraju biti usklađ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657600" cy="19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2. dokument kojemu je isključivi cilj zaštita okoli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bn3.google.com/images?q=tbn:jAajw5qQRr_y6M:http://ekologija.hr/typo3temp/pics/8c3ca8fdf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191120"/>
            <a:ext cx="2133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Što je ekološki otis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3657600" cy="10666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Način računanja utjecaja na pla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2880" y="2361960"/>
            <a:ext cx="365760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 Otisak koji ostaje iza cipela ekolo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ms.skole.hr/upload/new/images/newsimg/531/Image/otisak_stopala2.jpg"/>
          <p:cNvPicPr/>
          <p:nvPr/>
        </p:nvPicPr>
        <p:blipFill>
          <a:blip r:embed="rId1"/>
          <a:stretch/>
        </p:blipFill>
        <p:spPr>
          <a:xfrm>
            <a:off x="2438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esetljeće obrazovanja za održivi 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2667240" cy="990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007. –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880" y="2209680"/>
            <a:ext cx="2743200" cy="990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005. – 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http://www.poslovni.hr/img/ArticleImages/34196.jpg"/>
          <p:cNvPicPr/>
          <p:nvPr/>
        </p:nvPicPr>
        <p:blipFill>
          <a:blip r:embed="rId1"/>
          <a:stretch/>
        </p:blipFill>
        <p:spPr>
          <a:xfrm>
            <a:off x="3276720" y="3505320"/>
            <a:ext cx="2286000" cy="299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tbn2.google.com/images?q=tbn:n7AqM28ohuhdQM:http://www.mhl.hsls.hr/eu/images/ucenje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9625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http://tbn3.google.com/images?q=tbn:2gnvfwPnIjEVoM:http://www.cev.be/data/Image/Manifesto%2520stone%2520wall%2520resized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505320"/>
            <a:ext cx="233028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tbn1.google.com/images?q=tbn:MriZ4MQACI5m1M:http://www.rtvcazin.ba/ekokviz_03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5181480"/>
            <a:ext cx="17539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250" autoRev="1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upovanjem proizvoda nastalih u bližoj okolini pridonosimo održivom razvoj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266724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3276360"/>
            <a:ext cx="2438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TO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http://www.poslovni.hr/img/ArticleImages/34195.jpg"/>
          <p:cNvPicPr/>
          <p:nvPr/>
        </p:nvPicPr>
        <p:blipFill>
          <a:blip r:embed="rId1"/>
          <a:stretch/>
        </p:blipFill>
        <p:spPr>
          <a:xfrm>
            <a:off x="2895480" y="4267080"/>
            <a:ext cx="2990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" autoRev="1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ja je međunarodna organizacija proglasila Desetljeće obrazovanja za održivi razvoj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2971440"/>
            <a:ext cx="2666880" cy="6858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00240" y="2971440"/>
            <a:ext cx="243828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http://www.poslovni.hr/img/ArticleImages/34196.jpg"/>
          <p:cNvPicPr/>
          <p:nvPr/>
        </p:nvPicPr>
        <p:blipFill>
          <a:blip r:embed="rId1"/>
          <a:stretch/>
        </p:blipFill>
        <p:spPr>
          <a:xfrm>
            <a:off x="3505320" y="4038480"/>
            <a:ext cx="1904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250" autoRev="1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8:38:50Z</dcterms:created>
  <dc:creator>dr Mladen Garasic</dc:creator>
  <dc:description/>
  <dc:language>en-US</dc:language>
  <cp:lastModifiedBy>dgarasic</cp:lastModifiedBy>
  <dcterms:modified xsi:type="dcterms:W3CDTF">2009-11-04T12:30:40Z</dcterms:modified>
  <cp:revision>22</cp:revision>
  <dc:subject/>
  <dc:title>Što znamo o održivom razvoju?</dc:title>
</cp:coreProperties>
</file>