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AED4-AA6E-4A4F-96A4-4C729BEE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2B-C828-42EA-88DE-64EB3870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BF7-94C7-4561-84E0-4C6497D1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91C-A319-46C6-8EDF-AE1B2A9D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D95-65A3-41A3-86FB-41808DB8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FD41-2528-4192-B429-317A2F1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0398-0E84-4FC1-9A2B-85CBE0EB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522B-EC32-4B5D-B126-A151A309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1177-C1FF-4025-A803-33AEF41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1B1-8E52-4E17-94A8-EBB07A3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F7D7-96D2-4438-AE7B-9BB963D9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EF5-665E-45CE-9E65-E069F340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6D3D-3FDB-4E4B-ADC9-C19680E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E568-C9A3-449C-85A6-C738BD6D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AC2C-429D-41D0-B274-8EB1EB60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1EBC-00A8-464B-821B-7A152A2A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2084-0048-4F23-90B6-0FE3EA10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301A-DBF6-4CF5-A9BE-327A1192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09C5-160A-4BE8-A324-47CD1BE0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4778-5A76-4F88-B47E-038D4B6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E624-FCA0-4A91-B752-7AD5BE9B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EB44C-4886-4863-ADE9-5DC126E0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5D7-E615-4CD5-8B8E-94A4B0F4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D31B-12F4-45E6-A8CE-37B4A039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3905-A9FB-4EAD-B541-3E307AB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6C39-3412-485C-9CD5-A233876C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93A2-8460-47C5-B4B7-68FA8124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D2433-D94F-4EA5-8C88-0257ADA2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8B8A-6C35-4135-BCEC-8966C51D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BE3EC-9E91-4917-8506-CB1D0B39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E0A40-CF67-48C7-A9E8-DFCE48D9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E5DC-C4D6-4EDD-A197-A5F0A5C7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18AA-BA21-4D92-A3A1-E9EAF48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C83-2E42-471A-A99D-7B6A011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F558C-EE8E-4405-8A43-47222FD7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14539-A030-4FE8-9914-C8B69A5A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944D0-C6A3-4C78-80BC-5A481B6A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ABA5-0175-4720-991C-CD70231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24C2-66B0-40CB-BCD7-863C474B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791C-9559-4CB8-BAAF-85C7893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C373-16BA-4FC4-85E6-A1E603E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4114-4BD9-4563-86B9-FABEABB8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AFCE4-B103-429F-BE9F-7E06D856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CD49-07AC-4A04-91AC-9A6F328A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858-C3D5-4897-9F87-977689BA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7A3C1-9E06-4ED3-BED4-5EA7D608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A080F-3962-4E9D-BBED-FF1412BF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3101-8B17-4C11-BAE1-73ED55E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2438E-4BF3-453D-A4AE-5C39EAA6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66C5-902D-45C1-9E86-E299E815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5B9C1-4874-4BFE-8C55-7BAC5B9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DB4B6-EE1A-4C0C-9E3B-C20D3BA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3628-9F11-4820-9815-8B9DEF8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AE7D-6B08-43D4-A96F-A48D5493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5C76-D174-4C29-B989-58E2C6CD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EA4-C7B4-4862-B10D-1DD99126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EC7A-6466-44C2-9429-355F3BF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FD6BF-5AD4-4782-A520-8512D7C3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C7317-1DD6-4A47-B419-CB36EE2A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60C3-9DE5-4D8A-991A-F039D26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44BA4-79BD-42ED-B685-8CD9557B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CA3A-A37F-443E-84D2-20080FB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6BA5B-4508-4232-BEA9-AE13ECEF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46F50-C776-4F9F-9D0A-96341E4E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043B1-9494-4D1F-93A9-14374B5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8803-8B2C-4EEA-96E5-02B33A79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07B-0F90-4ECD-AC18-B9CEF25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3E794-5438-4CB0-AAD4-BD063765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3BE1-C567-49F1-A818-57369904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F435-BC80-492E-BE37-9E593D39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DF375-966C-4591-A82F-A6A26A62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AAC8-36D0-4FC1-97D1-18F3FA9C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994F6-6956-4085-80BB-033ADC9B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F7487-57BF-466F-8E26-69EEAC8C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229D7-3BC1-4A31-896A-8DA64C9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BD3BE-2C35-4EF9-8F5E-CBC884EB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55DF7-4374-4D7F-89D8-A2E6B4C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0E9-EFA1-4284-B5C3-9189AD56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D8053-8576-46B3-9F01-55891759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AB37-2882-44B2-9085-FBD6C7CF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3572-D7B5-4CC6-815A-93C0D83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86F3-09AA-44C5-A907-A48DED94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F933B-34CE-4DF0-A975-9EC150D9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4CA2-B38B-4448-BB80-A8689F12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A91F-AF66-4939-B542-2B917767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7325E-496E-47AB-A94F-DF4B822E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79D92-5CB5-41DE-9DD0-4468D4A7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F5BB3-2BE1-48D5-BE42-97146024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D6F-0898-49E3-835B-54155FD5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DAB72-AA95-4DEC-AA88-E2EE7C25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8A81-36FB-4340-B39F-0B420CD0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F8F4F-F150-4B69-9898-433A557E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00FD-C291-4C46-BB49-6694CA2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01613-D0DB-4E2F-ACC2-35862116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067D4-23C9-4515-AC5E-C55427B3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96834-35AC-494C-B313-3C831EE7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CD1F-3D0B-43C7-9FA4-3AC0015CC0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D9F-4F40-4ADF-A42E-CC5DD21BE9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5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7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Š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0F04-871E-4DD5-AB91-16EC87B9844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4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06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013F-3609-41B8-83B3-E62B9613E80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47FB-F4EB-4663-91F2-B39EF1A6DD5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1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2" name="Pravokutni trokut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94" name="Ravni poveznik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D60-F303-41AB-9B5E-FA605C87BF7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426-79F5-41BA-B73B-1767A3CAD5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ručno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rostoručno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9" name="Pravokutni troku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0" name="Pravokutni trokut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382" name="Ravni poveznik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3" name="Š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Š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C51F-93FD-440B-AFDC-3E9CD084C6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drživi razvoj (OR)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ffff00"/>
                </a:solidFill>
                <a:latin typeface="Tahoma"/>
              </a:rPr>
              <a:t>razvoj društva i gospodarskog rasta koji neće ugroziti šanse budućih generacija za kvalitetan živ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život unutar </a:t>
            </a:r>
            <a:r>
              <a:rPr b="0" i="1" lang="hr-HR" sz="3200" spc="-1" strike="noStrike">
                <a:solidFill>
                  <a:srgbClr val="ffff00"/>
                </a:solidFill>
                <a:latin typeface="Tahoma"/>
              </a:rPr>
              <a:t>prihvatnog kapaciteta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 okoliš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dručja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lanet 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koli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eople –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rušt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ofit - 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gospodarst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003640" y="4149720"/>
            <a:ext cx="360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ahoma"/>
              </a:rPr>
              <a:t>ŠTO JE OBRAZOVANJE ZA ODRŽIVI RAZVOJ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4284720" y="1890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Mr. sc. Diana Garaš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99"/>
                </a:solidFill>
                <a:latin typeface="Arial"/>
              </a:rPr>
              <a:t>Gospodarsko i socijalno vijeće UN-a</a:t>
            </a:r>
            <a:endParaRPr b="0" lang="en-US" sz="3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nosi prijedlog opće Strategije odgoja i obrazovanja za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ti provedbu Desetljeća obrazovanja za održivi razvoj (DOOR) - anketa za državne instituci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dlaže zajedničke teme za OOR i ciljeve u obliku kompetencija koje se njime razvija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ompetencije su svrstane u 4 područja učeničkog razvo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posobljavanje za cjeloživotno uče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posobljavanje za primjenu znanja i aktivno djelova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posobljavanje za samo-ostvare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Osposobljavanje za život u zajedni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4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2195640" y="306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00"/>
                </a:solidFill>
                <a:latin typeface="Tahoma"/>
              </a:rPr>
              <a:t>Ključne teme O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179280" y="36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m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46836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t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234000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građanstvo, demokr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1042920" y="501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ljudska pr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4643280" y="50846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eliminacija siromašt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5867280" y="436572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raznolik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6948360" y="364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zaštita okoliš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4643280" y="1268280"/>
            <a:ext cx="50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upravljanje prirodnim resurs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7"/>
          <p:cNvSpPr/>
          <p:nvPr/>
        </p:nvSpPr>
        <p:spPr>
          <a:xfrm>
            <a:off x="5867280" y="2133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limatske promj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8"/>
          <p:cNvSpPr/>
          <p:nvPr/>
        </p:nvSpPr>
        <p:spPr>
          <a:xfrm>
            <a:off x="7308720" y="2924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zdravl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9"/>
          <p:cNvSpPr/>
          <p:nvPr/>
        </p:nvSpPr>
        <p:spPr>
          <a:xfrm>
            <a:off x="324000" y="2205000"/>
            <a:ext cx="345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društvena odgovor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20"/>
          <p:cNvSpPr/>
          <p:nvPr/>
        </p:nvSpPr>
        <p:spPr>
          <a:xfrm>
            <a:off x="179280" y="1268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obrasci proizvodnje i potroš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179280" y="29242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ekonom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2195640" y="549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razvoj ruralnih i gradskih područ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Line 24"/>
          <p:cNvSpPr/>
          <p:nvPr/>
        </p:nvSpPr>
        <p:spPr>
          <a:xfrm flipH="1">
            <a:off x="1332000" y="3716280"/>
            <a:ext cx="1079280" cy="576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Line 25"/>
          <p:cNvSpPr/>
          <p:nvPr/>
        </p:nvSpPr>
        <p:spPr>
          <a:xfrm flipH="1">
            <a:off x="2050920" y="3860640"/>
            <a:ext cx="865440" cy="936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26"/>
          <p:cNvSpPr/>
          <p:nvPr/>
        </p:nvSpPr>
        <p:spPr>
          <a:xfrm flipH="1">
            <a:off x="3635280" y="3716280"/>
            <a:ext cx="216000" cy="19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7"/>
          <p:cNvSpPr/>
          <p:nvPr/>
        </p:nvSpPr>
        <p:spPr>
          <a:xfrm>
            <a:off x="4643280" y="3716280"/>
            <a:ext cx="649440" cy="1368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28"/>
          <p:cNvSpPr/>
          <p:nvPr/>
        </p:nvSpPr>
        <p:spPr>
          <a:xfrm>
            <a:off x="5580000" y="3645000"/>
            <a:ext cx="792360" cy="79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29"/>
          <p:cNvSpPr/>
          <p:nvPr/>
        </p:nvSpPr>
        <p:spPr>
          <a:xfrm>
            <a:off x="6300720" y="3645000"/>
            <a:ext cx="64764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0"/>
          <p:cNvSpPr/>
          <p:nvPr/>
        </p:nvSpPr>
        <p:spPr>
          <a:xfrm flipV="1">
            <a:off x="6659640" y="3284280"/>
            <a:ext cx="576360" cy="73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31"/>
          <p:cNvSpPr/>
          <p:nvPr/>
        </p:nvSpPr>
        <p:spPr>
          <a:xfrm flipV="1">
            <a:off x="6227640" y="2636640"/>
            <a:ext cx="505080" cy="433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32"/>
          <p:cNvSpPr/>
          <p:nvPr/>
        </p:nvSpPr>
        <p:spPr>
          <a:xfrm flipV="1">
            <a:off x="5076720" y="1844640"/>
            <a:ext cx="432000" cy="12254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33"/>
          <p:cNvSpPr/>
          <p:nvPr/>
        </p:nvSpPr>
        <p:spPr>
          <a:xfrm flipV="1">
            <a:off x="4427640" y="1125360"/>
            <a:ext cx="73080" cy="19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34"/>
          <p:cNvSpPr/>
          <p:nvPr/>
        </p:nvSpPr>
        <p:spPr>
          <a:xfrm flipH="1" flipV="1">
            <a:off x="3635280" y="1773000"/>
            <a:ext cx="217440" cy="1368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35"/>
          <p:cNvSpPr/>
          <p:nvPr/>
        </p:nvSpPr>
        <p:spPr>
          <a:xfrm flipH="1" flipV="1">
            <a:off x="2771280" y="2637000"/>
            <a:ext cx="287640" cy="50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36"/>
          <p:cNvSpPr/>
          <p:nvPr/>
        </p:nvSpPr>
        <p:spPr>
          <a:xfrm flipH="1" flipV="1">
            <a:off x="1692360" y="3141360"/>
            <a:ext cx="503280" cy="1429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37"/>
          <p:cNvSpPr/>
          <p:nvPr/>
        </p:nvSpPr>
        <p:spPr>
          <a:xfrm flipH="1">
            <a:off x="826920" y="3500280"/>
            <a:ext cx="144144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4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4"/>
          <p:cNvSpPr/>
          <p:nvPr/>
        </p:nvSpPr>
        <p:spPr>
          <a:xfrm>
            <a:off x="2484360" y="2708280"/>
            <a:ext cx="42483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učiti učit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Rectangle 5"/>
          <p:cNvSpPr/>
          <p:nvPr/>
        </p:nvSpPr>
        <p:spPr>
          <a:xfrm rot="20706000">
            <a:off x="95760" y="2349000"/>
            <a:ext cx="51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analitička pitanja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ritičko mišlj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Rectangle 6"/>
          <p:cNvSpPr/>
          <p:nvPr/>
        </p:nvSpPr>
        <p:spPr>
          <a:xfrm rot="21306000">
            <a:off x="1439280" y="119664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ompleksnost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s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istemsko mišlje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4923000" y="220500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zapreke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rješavanje 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problem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8"/>
          <p:cNvSpPr/>
          <p:nvPr/>
        </p:nvSpPr>
        <p:spPr>
          <a:xfrm rot="20931000">
            <a:off x="1447560" y="508464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upravljanje promjenama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definiranje 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problem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9"/>
          <p:cNvSpPr/>
          <p:nvPr/>
        </p:nvSpPr>
        <p:spPr>
          <a:xfrm rot="20433000">
            <a:off x="2662200" y="3933720"/>
            <a:ext cx="66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reativno mišljenje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or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ij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ent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acija ka buduć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100080" y="37893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interdisciplinarnost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/holisti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čki prist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11"/>
          <p:cNvSpPr/>
          <p:nvPr/>
        </p:nvSpPr>
        <p:spPr>
          <a:xfrm flipH="1" flipV="1">
            <a:off x="2123640" y="2997000"/>
            <a:ext cx="129564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12"/>
          <p:cNvSpPr/>
          <p:nvPr/>
        </p:nvSpPr>
        <p:spPr>
          <a:xfrm flipH="1" flipV="1">
            <a:off x="3708000" y="2491920"/>
            <a:ext cx="35892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Line 13"/>
          <p:cNvSpPr/>
          <p:nvPr/>
        </p:nvSpPr>
        <p:spPr>
          <a:xfrm flipV="1">
            <a:off x="4786200" y="1628640"/>
            <a:ext cx="506520" cy="1152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Line 14"/>
          <p:cNvSpPr/>
          <p:nvPr/>
        </p:nvSpPr>
        <p:spPr>
          <a:xfrm flipV="1">
            <a:off x="6156360" y="2636640"/>
            <a:ext cx="43164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Line 15"/>
          <p:cNvSpPr/>
          <p:nvPr/>
        </p:nvSpPr>
        <p:spPr>
          <a:xfrm>
            <a:off x="5580000" y="3500280"/>
            <a:ext cx="50472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Line 16"/>
          <p:cNvSpPr/>
          <p:nvPr/>
        </p:nvSpPr>
        <p:spPr>
          <a:xfrm flipH="1">
            <a:off x="3347640" y="3500280"/>
            <a:ext cx="57636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Line 17"/>
          <p:cNvSpPr/>
          <p:nvPr/>
        </p:nvSpPr>
        <p:spPr>
          <a:xfrm>
            <a:off x="4788000" y="3500280"/>
            <a:ext cx="792000" cy="1513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4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4"/>
          <p:cNvSpPr/>
          <p:nvPr/>
        </p:nvSpPr>
        <p:spPr>
          <a:xfrm>
            <a:off x="2124000" y="2781360"/>
            <a:ext cx="45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učiti činit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Rectangle 5"/>
          <p:cNvSpPr/>
          <p:nvPr/>
        </p:nvSpPr>
        <p:spPr>
          <a:xfrm rot="20809200">
            <a:off x="924840" y="981000"/>
            <a:ext cx="39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primijeniti znanja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ontekstu životne situ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5266800" y="191628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odlučivati u situacija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neizvjes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4385160" y="43657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suočiti se s krizama i rizici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Rectangle 8"/>
          <p:cNvSpPr/>
          <p:nvPr/>
        </p:nvSpPr>
        <p:spPr>
          <a:xfrm rot="1056600">
            <a:off x="843840" y="428400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djelovati 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-odgovornošć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-opredjeljenjem/odlučnošć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-samopoštovanj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9"/>
          <p:cNvSpPr/>
          <p:nvPr/>
        </p:nvSpPr>
        <p:spPr>
          <a:xfrm flipH="1">
            <a:off x="2556000" y="3716280"/>
            <a:ext cx="57600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Line 10"/>
          <p:cNvSpPr/>
          <p:nvPr/>
        </p:nvSpPr>
        <p:spPr>
          <a:xfrm flipH="1" flipV="1">
            <a:off x="2771280" y="1988640"/>
            <a:ext cx="863640" cy="1008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Line 11"/>
          <p:cNvSpPr/>
          <p:nvPr/>
        </p:nvSpPr>
        <p:spPr>
          <a:xfrm flipV="1">
            <a:off x="4572000" y="2349000"/>
            <a:ext cx="720720" cy="5749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12"/>
          <p:cNvSpPr/>
          <p:nvPr/>
        </p:nvSpPr>
        <p:spPr>
          <a:xfrm>
            <a:off x="5003640" y="3716280"/>
            <a:ext cx="648000" cy="6494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4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987640" y="2924280"/>
            <a:ext cx="46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učiti biti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1203480" y="3789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samosvij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751680" y="2205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samoizražavan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i komunik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998600" y="1700280"/>
            <a:ext cx="2977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posobn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avladavanja st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3384360" y="4724280"/>
            <a:ext cx="37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sposobnost utvrđivanja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razjašnjavanja vredno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Line 9"/>
          <p:cNvSpPr/>
          <p:nvPr/>
        </p:nvSpPr>
        <p:spPr>
          <a:xfrm>
            <a:off x="5003640" y="3933720"/>
            <a:ext cx="0" cy="71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Line 10"/>
          <p:cNvSpPr/>
          <p:nvPr/>
        </p:nvSpPr>
        <p:spPr>
          <a:xfrm flipH="1">
            <a:off x="3347640" y="3860640"/>
            <a:ext cx="863640" cy="1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Line 11"/>
          <p:cNvSpPr/>
          <p:nvPr/>
        </p:nvSpPr>
        <p:spPr>
          <a:xfrm flipH="1" flipV="1">
            <a:off x="4066920" y="2708280"/>
            <a:ext cx="360360" cy="4334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Line 12"/>
          <p:cNvSpPr/>
          <p:nvPr/>
        </p:nvSpPr>
        <p:spPr>
          <a:xfrm flipV="1">
            <a:off x="5292720" y="2637000"/>
            <a:ext cx="503280" cy="50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bf4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53964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003300"/>
                </a:solidFill>
                <a:latin typeface="Arial"/>
              </a:rPr>
              <a:t>učiti živjeti i raditi zajedno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6"/>
          <p:cNvSpPr/>
          <p:nvPr/>
        </p:nvSpPr>
        <p:spPr>
          <a:xfrm rot="20905800">
            <a:off x="506520" y="148392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odgovorno djelovanje</a:t>
            </a: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Tahoma"/>
              </a:rPr>
              <a:t>(lo</a:t>
            </a: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kalno i global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209880" y="3933720"/>
            <a:ext cx="3644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identificiranje socijalni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partne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i njihovih intere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3104280" y="2421000"/>
            <a:ext cx="297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uradnja/timski r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9"/>
          <p:cNvSpPr/>
          <p:nvPr/>
        </p:nvSpPr>
        <p:spPr>
          <a:xfrm rot="889800">
            <a:off x="5938920" y="1483920"/>
            <a:ext cx="25923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sudjelovanje 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demokratsko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ahoma"/>
              </a:rPr>
              <a:t>odlučivan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10"/>
          <p:cNvSpPr/>
          <p:nvPr/>
        </p:nvSpPr>
        <p:spPr>
          <a:xfrm rot="21169200">
            <a:off x="1943280" y="544464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pregovaranje i postizanje sporazu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1"/>
          <p:cNvSpPr/>
          <p:nvPr/>
        </p:nvSpPr>
        <p:spPr>
          <a:xfrm rot="547800">
            <a:off x="4184640" y="43657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podjela zaduženja/odgovor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3909600" y="5493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Tahoma"/>
              </a:rPr>
              <a:t>uvažavanje drug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3"/>
          <p:cNvSpPr/>
          <p:nvPr/>
        </p:nvSpPr>
        <p:spPr>
          <a:xfrm flipH="1">
            <a:off x="3276360" y="3716280"/>
            <a:ext cx="647640" cy="2174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4"/>
          <p:cNvSpPr/>
          <p:nvPr/>
        </p:nvSpPr>
        <p:spPr>
          <a:xfrm flipH="1">
            <a:off x="3850920" y="3716280"/>
            <a:ext cx="576360" cy="1728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15"/>
          <p:cNvSpPr/>
          <p:nvPr/>
        </p:nvSpPr>
        <p:spPr>
          <a:xfrm>
            <a:off x="5796000" y="3716280"/>
            <a:ext cx="288720" cy="50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16"/>
          <p:cNvSpPr/>
          <p:nvPr/>
        </p:nvSpPr>
        <p:spPr>
          <a:xfrm flipV="1">
            <a:off x="6372360" y="2565360"/>
            <a:ext cx="360360" cy="432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17"/>
          <p:cNvSpPr/>
          <p:nvPr/>
        </p:nvSpPr>
        <p:spPr>
          <a:xfrm flipV="1">
            <a:off x="4572000" y="2781000"/>
            <a:ext cx="7128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Line 18"/>
          <p:cNvSpPr/>
          <p:nvPr/>
        </p:nvSpPr>
        <p:spPr>
          <a:xfrm flipV="1">
            <a:off x="5364000" y="1125000"/>
            <a:ext cx="71640" cy="180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Line 19"/>
          <p:cNvSpPr/>
          <p:nvPr/>
        </p:nvSpPr>
        <p:spPr>
          <a:xfrm flipH="1" flipV="1">
            <a:off x="2556000" y="2349360"/>
            <a:ext cx="503280" cy="7192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OR pretpostavlja promjene: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smjerenost na vrednote - odg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nterdisciplinarnost – integriranje sadrža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radnju, kvalitetnu komunikaciju, demokrat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nu samoprocjenu i unapređ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utonomiju škola – školski kurik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tvorenost ško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Kako OOR provodimo/ kako OOR unaprijediti?: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sklopu nastave – u razred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školi (izvan redovite nastave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upravljanju škol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kontaktima s dionicima izvan ško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 školskom sustav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kva je potpora potrebna od strane “prosvjetnih vlasti”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1:14:56Z</dcterms:created>
  <dc:creator>dgarasic</dc:creator>
  <dc:description/>
  <dc:language>en-US</dc:language>
  <cp:lastModifiedBy>dgarasic</cp:lastModifiedBy>
  <dcterms:modified xsi:type="dcterms:W3CDTF">2009-11-04T14:02:58Z</dcterms:modified>
  <cp:revision>19</cp:revision>
  <dc:subject/>
  <dc:title>Obrazovanje za održivi razvoj</dc:title>
</cp:coreProperties>
</file>