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3F60-65F2-440B-A5F5-5B01365D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7F06-D334-4DBE-957D-054D6685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FC3-683E-40BC-B4E0-AC49A1CE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DED-73A2-4D77-BC2E-CC851241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22AD-4C58-4C57-9E1B-438F500C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A22A-B397-4C81-9CD4-A309A859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4FB2-2213-48BB-86CD-14468927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60D5-D0B3-4254-AF61-7BEA91BD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4973-AE3C-4A53-90A2-A7861E8D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966A-9632-4516-A3B8-B244AEA4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9F75-C5AD-4A4E-97E8-502589B3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0120-8BA2-4251-8F60-8CA394C3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F09F-D089-4255-BB82-9353D11A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BBAD-190C-4452-AF8B-79D7B7A7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C11B-DE50-4D32-A294-607FB186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3F0F-B575-44C2-8C3D-EEC7478F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F474-DD1A-4CC4-B25C-D3EC4A02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3B0A2-0C99-4DB6-BBD1-EB6F0D4D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7E6E0-6609-4684-AC0A-18305F00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715CC-E36B-4FB4-9176-67C12BED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CFCED-5446-4742-A551-EC3C2C93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5DD53-1203-4A56-93D9-D1092269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83B-CA80-47FD-B1BC-898A3D44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73FCE-E505-4FAA-925B-17166C5E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63A5-11D8-4388-A3A3-F8D08FB7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FF597-6503-49F5-B654-7553F37C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EBA8-755D-4D03-A919-F87CDA4C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8C4B6-4EE4-4712-838B-313991CF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F2D48-6355-4C2F-9761-57E0D175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65DD6-C7DA-4480-A14C-1B939297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4E3E3-440C-4F33-BDA3-57D4B20A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2CB97-9C5C-46A7-B6DC-BD2C88BF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75712-9B6D-4553-98AA-0D99D075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CEDA-7FE2-46B6-8CD4-4C26C4DA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A8F1C-BE51-42B3-BC91-85E42D2B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FFEE3-9E52-45D2-8F7D-52F1E99F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1C5BA-D113-4EA2-B407-312F6C4C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6C6DB-649C-4EA7-98BE-EAA6E424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402BA-7778-4B8B-A751-69218EF8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F1E88-4814-47AB-85A5-52872773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11513-8D90-41AE-9197-955D1963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5D298-F16E-4377-A9E0-CFE16798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02A01-4847-4630-A015-02723090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44CE5-D06A-4A9B-A458-929EC484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344-B416-4CA5-8339-61DD8009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AECDF-1995-4C48-B017-03FE9C60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9F8FF-2B5B-4220-B1F1-06691EFD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034C1-6940-4659-B8DB-E74BF6BB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ED2E6-F3BA-4DF1-9FB7-5783F382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759C1-8DD6-43B4-B8D9-6E2A0E55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72021-0199-4952-8144-311AD589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B8B62-ACC1-4C48-99F7-93EC2441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39F6B-827F-406D-A540-3A902EF2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0B7EC-2851-42D9-992F-D81103FE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CC9CC-6C3A-4ED8-9F02-04227C25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632-D675-41CB-AE92-24671176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8D6BB-1C49-45DE-A02A-433E550E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15CA7-0DF3-49E6-BC31-234243E3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FA869-BA7E-4C20-B7FE-F0B57D3C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EA50D-2C2A-41D3-9814-98FE36D9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EE647-68C0-4A5F-AB5E-AE98DB96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D62AA-9C66-42C5-96BB-897B80D7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F4568-4A8B-41FD-92CC-24CABDCE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3259F-AA56-4E66-AAFC-8493CED2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71182-BD57-465E-ACCB-62B7BEEC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DACD2-3B75-4904-B4DA-2B92097B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064F-03AE-41B1-9E33-0C45D870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1287B-6A85-40E1-86F9-8D9B6FAB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FE405-9443-47C2-8C54-81861C51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AA14E-A88E-4EB8-BB11-5E970580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DEAE5-8B13-4872-9F34-B9729898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4A454-5553-4E44-8674-77F748A1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61A1C-E8ED-452A-98F0-FC504ED5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A367D-7689-44D7-947B-CACF44CD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36B87-3215-4EFB-8B74-A8B9BD07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7A717-CFB9-46E5-A162-7DD6CF67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7F12F-0E17-4F7D-A744-AD815673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CE4-3949-4F29-9F0E-E0BC2531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8495B-8350-49E6-A2B2-EAC7D050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9C9B2-DB4C-448E-A2BD-A7E42885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77420-857D-4A03-9411-436CFA54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61B82-69CA-4BAA-8293-153026F1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43E05-8D88-495F-8E7E-B934C0A4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2949-EE32-4CF6-B44E-8B3357B9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199A-6F6D-4BDB-AF2E-F64931BBFB2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1B9C-9396-4EAC-A2EA-C94169729FC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27D7-7FDB-4C82-AD8E-D9542073612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5F87-60DC-4EEB-985B-D173D08A197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3D45-AEF3-4FBD-9189-3E3031DAF85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11B8-386B-4DF9-8C19-5DDBB663890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8BB1-87CF-4A38-9E94-206969C93AA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840" y="121428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300" spc="-1" strike="noStrike">
                <a:solidFill>
                  <a:srgbClr val="572314"/>
                </a:solidFill>
                <a:latin typeface="Gill Sans MT"/>
              </a:rPr>
              <a:t>Vjeronauk u obitelji djece s teškoća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57200" y="328608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Doc.dr.sc.Snježana Sekušak-Galešev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Sveučilište u Zagreb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Edukacijsko rehabilitacijski fakulte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285560" y="7138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aj će razvoj kod djece s teškoćama teći sporije, ali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lijediti će razvojne faze djece bez teškoća, i sve dok se poštuje ritam svakog djeteta, ono će kroz savladavanje teškoća oblikovati svijest o sebi kao o autonomnoj osobi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 će napredovati u kognitivnom i socijalnom razvoju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kolina manje potiče razvoj djeteta što su oštećenja tež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d djeteta se traži manje, više ga se zaštićuje (prezaštićuje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 takvoj okolini se ne ohrabruju napori djeteta da razvije njemu primjerene, alternativne modele ponašanja, a kad ih dijete i razvije, može se desiti da nisu nagrađeni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Ako dijete kontinuirano nema mogućnosti da utječe na okolinu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da je mijenja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loženo je riziku da zbog okolinskih uvjeta ne napreduje u skladu sa potencijalnim sposobnosti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ako takve posljedice  vrijede i za djecu bez teškoća, kod djece sa teškoćama one su još ozbiljnije, jer su on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70c0"/>
                </a:solidFill>
                <a:latin typeface="Gill Sans MT"/>
              </a:rPr>
              <a:t>osjetljivija na  rizike nepovoljne okolin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645920" y="1428840"/>
            <a:ext cx="7497720" cy="58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egativni utjecaj okolin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čituje se i kroz stigmatizaciju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rutinske postupk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edrasud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 što su osobe s teškoćama vrlo osjetlj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428480" y="8568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akav odnos vrlo loše utječe na njihovo samopoštovanj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dovodi do razvoja bespomoćnosti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od drugih dolazi do negiranja bilo kakvog oštećenj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dolazi  do teškoća u interpersonalnim odnosima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razvija se  osjećaj nemogućnosti kontrole vlastite okoline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          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ća rodite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osigurati poticajnu okolinu ne samo unutar svoje obitelji nego i u socijalnom okruženju (susjedstvo, trgovina, odlazak u kino, kazalište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roditelji se moraju nositi sa vlastitim osjećajima (osjećaj manje vrijednosti, negiranje djetetove teškoće, ljutnja, 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prevelika očekivanja od okoline koja često zbog neznanja a naravno i predrasuda nepovoljno reagir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Right Arrow 3"/>
          <p:cNvSpPr/>
          <p:nvPr/>
        </p:nvSpPr>
        <p:spPr>
          <a:xfrm>
            <a:off x="1714680" y="6429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vjeroučitelj ima prilike takvim roditeljima i obiteljima biti podršk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roz pouku kako živjeti vjeru i kroz nju crpiti snagu za prihvaćanje samog sebe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uočavanje sa potrebama svog djeteta sa teškoćam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otrebama cijele svoje obitelj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roz suradnju sa roditeljima (zajedno sa svima koji u tom smislu djeluju) vjeroučitelji mogu doprinijeti ostvarivanju težnje da se dijete sa teškoćama (bez obzira na sve prepreke i ograničenja) osjeća neraskidivim dijelom svoje obitelj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8596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c000"/>
                </a:solidFill>
                <a:latin typeface="Arial Rounded MT Bold"/>
              </a:rPr>
              <a:t>Hvala na pozornosti!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jeronau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28480" y="2071440"/>
            <a:ext cx="749772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radosni susret u kojem učimo ljubiti jedni drug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 najbolji se način ostvaruje ako ga živimo u obitelj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Djeca s teškoća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često znanja koja stječu u školi teško generaliziraju na nove situaci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roditelji često ne znaju što se na nastavi rad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omunikacija i dogovor učitelja i roditelja put je  k stvarnom učenju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vjeroučitelj ima priliku poučiti roditelje kako u obitelji nastaviti sa temom koja se radila na nastavnom sat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me su često apstraktne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ljubav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praštanje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ovjerenje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dijeljenje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omaganje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jedništvo……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285560" y="500040"/>
            <a:ext cx="74977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k će lakše shvatiti apstraktne pojmove ako ih roditelji prorađuju kroz konkretne, prirodne, svakodnevne situacije (molitva prije spavanja, jela, odlazak u crkvu sa obitelji…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ve će to djetetu sa teškoćama olakšati vjeronaučno gradivo i neće mu stvarati zabunu (Zašto to što učimo u školi ne radimo kod kuće? Tko je u pravu? Vjeroučiteljica ili moji roditelji?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„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dsjetnik za roditelje“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Vjeroučitelj će pomoći roditelju ako nakon svakog nastavnog sata pripremi podsjetnik u kojem će navesti što se na satu radilo i na koji način se u obitelji, kroz uobičajeni dnevni ritam može pomoći djetetu da usvoji i živi nove spoznaj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jednačenost pristupa kod usvajanja vrijednosnog sustava važna je kod sve djece, no djeca s teškoćama su često zbog svojih teškoća ograničena u mogućnostima stjecanja novih iskustava, pa obitelj ima značajno veću ulogu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Razvoj svijesti o vlastitoj kompetentnosti ili inferiornosti ne proizlazi samo iz usporedbe sebe sa ostalom djecom i sa standardima koje postavljaju roditelji ili drugi odrasli, već i iz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ff0000"/>
                </a:solidFill>
                <a:latin typeface="Gill Sans MT"/>
              </a:rPr>
              <a:t>vlastitog iskustv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spjeha i neuspjeha u snalaženju u svijetu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ko se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434960" y="642600"/>
            <a:ext cx="749952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Ako dijete raste u okolini </a:t>
            </a:r>
            <a:r>
              <a:rPr b="0" lang="hr-HR" sz="3200" spc="-1" strike="noStrike">
                <a:solidFill>
                  <a:srgbClr val="0070c0"/>
                </a:solidFill>
                <a:latin typeface="Gill Sans MT"/>
              </a:rPr>
              <a:t>koja ga prihvać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, koja </a:t>
            </a:r>
            <a:r>
              <a:rPr b="0" lang="hr-HR" sz="3200" spc="-1" strike="noStrike">
                <a:solidFill>
                  <a:srgbClr val="00b050"/>
                </a:solidFill>
                <a:latin typeface="Gill Sans MT"/>
              </a:rPr>
              <a:t>najčešće ohrabruje njegovo ponašanje</a:t>
            </a:r>
            <a:r>
              <a:rPr b="0" lang="hr-HR" sz="3200" spc="-1" strike="noStrike">
                <a:solidFill>
                  <a:srgbClr val="0070c0"/>
                </a:solidFill>
                <a:latin typeface="Gill Sans MT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Gill Sans MT"/>
              </a:rPr>
              <a:t>koja ga ne sili da savlada zadatke za koje nije spremno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jegova svijest o vlastitoj kompetenciji neće se narušavati, već će se </a:t>
            </a:r>
            <a:r>
              <a:rPr b="0" lang="hr-HR" sz="3200" spc="-1" strike="noStrike">
                <a:solidFill>
                  <a:srgbClr val="0070c0"/>
                </a:solidFill>
                <a:latin typeface="Gill Sans MT"/>
              </a:rPr>
              <a:t>izgrađivati tijekom odrastan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8:00:10Z</dcterms:created>
  <dc:creator>Snježana</dc:creator>
  <dc:description/>
  <dc:language>en-US</dc:language>
  <cp:lastModifiedBy>gbarudzija</cp:lastModifiedBy>
  <dcterms:modified xsi:type="dcterms:W3CDTF">2010-10-25T06:27:15Z</dcterms:modified>
  <cp:revision>1</cp:revision>
  <dc:subject/>
  <dc:title>Vjeronauk u obitelji djece s teškoćama</dc:title>
</cp:coreProperties>
</file>