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9C4B-DCE4-4190-92FA-B636C4DE73B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A561-D1E4-4D33-9062-36D083863748}" type="slidenum">
              <a:rPr b="0" lang="hr-H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Tablica- socioekonom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LONGO-knj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23E-3979-41C7-AD8D-8EF3122D9AA6}" type="slidenum">
              <a:rPr b="0" lang="hr-H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.otac-smatra ponašanje normalnim-dijete ima srednje izražene sindrom autizma, nalazi slična ponašanja u svojoj obitelji (maj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.Majka u drugoj obitelji traži u suprugovoj obitelji uzrok (nasljeđe) UZETI NALA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3.Obično majka, često ostaje s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4.Nne žele se s drugima družiti (prijateljica sugerirala da dođe bez djeteta na rođend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5.Mlada majka djeteta s AD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F7F7-6FD8-47F0-83F9-DBDD0261683D}" type="slidenum">
              <a:rPr b="0" lang="hr-H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8. Rijetki dostižu tu fazu,predugo traje borba za uključivanje djeteta,odnosno borba s preprek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076-82F1-4F57-9030-AF9E4FAB2CFD}" type="slidenum">
              <a:rPr b="0" lang="hr-H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3.zakoni, realizirana podrš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4. Konvencija-UN-ove dekla&lt;&lt;&lt;&lt;&lt;&lt;&lt;racije, EU standar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770-732F-451C-A2CA-716F1B439072}" type="slidenum">
              <a:rPr b="0" lang="hr-H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Živi organizam u promjeni i dinamičkoj intrerakciji između elemenata i s okolin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Djelovanje na traženje resursa ,djelovanje ovdje i s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GENOGRAM,identifikacija problema: žrtveno janj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20 strana.Što je trulo u mojoj obitelj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DD8-5073-45FD-B29E-3F95FB60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215-750D-4A21-872D-26C843C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DC7-4FCE-41A8-8059-071D2D69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1FD-EB24-4A26-8CAE-3882D54C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71D4-B13D-4B7D-84CD-34FFE946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FA80-B9D3-45B6-82B8-2D162799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C78-F0BF-4926-8B91-F1F678B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EC5-8216-49B1-9B5F-88C7EB91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4450-61CA-4972-8240-1BCF275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2192-3795-4BBB-8E30-8BD1B7F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76A1-84E3-4C6C-906E-60AAB8E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9BA-4064-4FF5-8F2E-B247E76C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CE40-708A-40DB-B55E-2D7A037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4C1-1C94-4ABF-B705-B79718C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6CBF-D6FA-414A-8E98-4F7AE9ED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3A4F-0C09-4A64-9A1A-92B5BA0C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6AC8-4735-4634-A23D-3CF8A778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71F-C8C9-4522-8FD8-689EBE75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1A-C2E9-40B1-AB6E-8EA89F70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B7B-4B3B-4B48-8065-B76C9B9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2F3-619D-4A36-9283-5F49720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C15-A69E-493C-A1B8-3916710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88C-5CD1-4899-9311-3E84838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0AD-4C4B-4408-8DD6-F00082C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9c004e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56002b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220011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56002b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220011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FA8-3B89-427E-9945-250F02E88CF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9c004e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56002b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220011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56002b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220011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CE09-0C9D-4F17-8EE4-B64D970B2402}" type="slidenum">
              <a:rPr b="0" lang="hr-HR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609120"/>
            <a:ext cx="7702560" cy="584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cc00"/>
                </a:solidFill>
                <a:latin typeface="Times New Roman"/>
              </a:rPr>
              <a:t>Suradnja s roditeljima djece s teškoćama</a:t>
            </a:r>
            <a:br>
              <a:rPr sz="4800"/>
            </a:br>
            <a:r>
              <a:rPr b="1" lang="hr-HR" sz="4400" spc="-1" strike="noStrike">
                <a:solidFill>
                  <a:srgbClr val="ffcc00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1" lang="hr-HR" sz="4400" spc="-1" strike="noStrike">
                <a:solidFill>
                  <a:srgbClr val="ffcc00"/>
                </a:solidFill>
                <a:latin typeface="Times New Roman"/>
              </a:rPr>
              <a:t>                        </a:t>
            </a:r>
            <a:r>
              <a:rPr b="1" lang="hr-HR" sz="2800" spc="-1" strike="noStrike">
                <a:solidFill>
                  <a:srgbClr val="ffcc00"/>
                </a:solidFill>
                <a:latin typeface="Times New Roman"/>
              </a:rPr>
              <a:t>prof.dr.sc. Ljiljana Igrić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5516280"/>
            <a:ext cx="79185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e066"/>
                </a:solidFill>
                <a:latin typeface="Times New Roman"/>
              </a:rPr>
              <a:t>                             </a:t>
            </a:r>
            <a:r>
              <a:rPr b="1" lang="hr-HR" sz="2800" spc="-1" strike="noStrike">
                <a:solidFill>
                  <a:srgbClr val="ffe066"/>
                </a:solidFill>
                <a:latin typeface="Times New Roman"/>
              </a:rPr>
              <a:t>Katehetska škol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e066"/>
                </a:solidFill>
                <a:latin typeface="Times New Roman"/>
              </a:rPr>
              <a:t>                                 </a:t>
            </a:r>
            <a:r>
              <a:rPr b="1" lang="hr-HR" sz="2800" spc="-1" strike="noStrike">
                <a:solidFill>
                  <a:srgbClr val="ffe066"/>
                </a:solidFill>
                <a:latin typeface="Times New Roman"/>
              </a:rPr>
              <a:t>15.-16. 10.2010</a:t>
            </a:r>
            <a:r>
              <a:rPr b="1" lang="hr-HR" sz="28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c00"/>
                </a:solidFill>
                <a:latin typeface="Times New Roman"/>
              </a:rPr>
              <a:t>Teorija ciklusa u obiteljskom životu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1342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Turnbull i dr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.( 1984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Svaka obitelj prolazi kroz određene  faze ka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rođenje i rano djetinstvo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školski period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adolescencija 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odraslo dob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Faza tranzicije je prijelaz obitelji iz jedne u drugu fazu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Rođenje djeteta s p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Početek školovanja djeteta s posebnim potrebama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Svaki član doživljava iskustvo promjene u interakcijama</a:t>
            </a:r>
            <a:r>
              <a:rPr b="0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 (Carter &amp; McGoldrick,1989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7080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7989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Stručna podrška obitelji nije ništa manje važna od rada s djetetom, pri čemu je potrebno poznavati proces prilagodbe roditelj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sebno je važan učinak ranih intervencija kojima se roditelj osposobljava za ulogu roditelja djeteta s posebnim potrebama i upućuje u učinkovite postupke prema djetetu (Crnic, Friedrich i Greebberg,1983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 u="sng">
                <a:solidFill>
                  <a:srgbClr val="ffcc00"/>
                </a:solidFill>
                <a:uFillTx/>
                <a:latin typeface="Times New Roman"/>
              </a:rPr>
              <a:t>Očekivanja roditelja: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razumijevan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ihvać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hrabrenj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ad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dršk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a je sasluš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rasterećenje odgovor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1516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9185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”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tvoreni, iskreni i ljudski razgovor” za koji inače nemaju prilik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    “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sjećaj podrške, razumijevanja i saznanja da nisu sami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(izjave roditelja:Vikend edukacija Udruge IDE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00"/>
                </a:solidFill>
                <a:latin typeface="Times New Roman"/>
              </a:rPr>
              <a:t>Stavovi roditelj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3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Istraživanja o stavovima  roditelja prema djeci s posebnim potrebama ,njihovih determinanti i i mogućnosti transformacija, dobivaju pristupom invaliditetu   sa stanovišta ljudskih prava i socijalne pravde , novu dimenziju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Mnogi su radovi ukazali na nepovoljniji stav roditelja djece sniženih intelektualnih sposobnosti i teškoća učenja nego roditelja djece bez izraženih teškoća (Mavrin-Cavor,1985;Mercer,1986;Winzer,1990, Wagner Jakab i dr. 2005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U cilju razvoja efikasnih mjera djelovanja na promjenu društvene sredine, pa tako i  obiteljskog utjecaja ispitala se je  struktura stava roditelja djece s teškoćama u učenju kako bi se utvrdilo  u kojim se aspektima razlikuje od stava roditelja «tipične» dje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9185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imjenjena je adaptacija  Upitnika za roditelje (Kovačević,Teodorović,Levandovski, 1982.) na 80 roditelja djece s teškoćama u učenju i 228 roditelja djece vršnjaka, polaznika šestih razreda osnovne škole ( projekt «Interaktivni sustav obitelj-škola-vršnjaci»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Utvrđeno je da strukturu stava roditelja djece s teškoćama učenja karakterizira izražena emocionalna komponenta u svih 5 faktora stava te stav o presudnoj važnosti društvene podrške za uspjeh njihovog djeteta, što je potvrdila i diskriminativna analiza rezulta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Svjesnost roditelja o bitnoj ulozi podrške društvene sredine  dobro je polazište za ulogu roditelja,zastupnika prava svog djeteta , u procesu edukacijskog uključivanj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58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Osobitosti obitelji djece s posebnim potrebam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6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Times New Roman"/>
              </a:rPr>
              <a:t>Projekt: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raktivni sustav dijete-obitelj-ško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Uzorak:Obitelji učenika šestih razreda s T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i vršnjaci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Statistički značajne razlike u socio-ekonomskom statusu obitelji  i to u obrazovnom statusu i stambenim uvjetima, u korist obitelji tipičnih vršnjak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itelji djece s posebnim potrebama imaju eksternalni lokus kontrol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že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im j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mopoštovanje 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ća anksioznost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j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a percipiran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kompetentnost za roditeljsku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ulog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78800"/>
            <a:ext cx="791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čno je dobiveno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u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drugim istraživanjim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Veisson,2001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jke djece s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niženih intelektualnih sposobnosti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 imale niži rezultat na skali ekstrovezije i višu razinu neurotizma od opće populacij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Prem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hen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i sur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1992)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roditelji djece s TU i ADHD više su introvertirani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što autori povezuju s teškoćama u nošenju sa streso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Rezultati </a:t>
            </a:r>
            <a:r>
              <a:rPr b="0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naš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tudije bi mogli ukazivati da </a:t>
            </a:r>
            <a:r>
              <a:rPr b="0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se obitelji djece s pp , s obzirom na njihove osobitosti i razinu društvene podršk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bro nose sa stresom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c00"/>
                </a:solidFill>
                <a:latin typeface="Times New Roman"/>
              </a:rPr>
              <a:t>Rad s roditeljim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1.Grupni rad s roditelji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vi puta se u Hrvatskoj primijenio program Grupni rad s roditeljima, zasnovan na principima </a:t>
            </a:r>
            <a:r>
              <a:rPr b="0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Integrativne Gestalt terapije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1992. godine u okviru projekta </a:t>
            </a:r>
            <a:r>
              <a:rPr b="1" lang="hr-HR" sz="2400" spc="-1" strike="noStrike">
                <a:solidFill>
                  <a:srgbClr val="ffffcc"/>
                </a:solidFill>
                <a:latin typeface="Times New Roman"/>
              </a:rPr>
              <a:t>«Socijalizacija djece s mentalnom retardacijom»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( voditelj Lj. Igrić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Znanstvena evaluacija je pokazala nakon 10-o mjesečnog provođenja programa pozitivne promjene u odnosu roditelja prema djeci, te smanjenje nepoželjnih oblika ponašanja u djece sniženih kognitivnih sposobnosti  i njihovu veću spremnost za učenje (Bezuk, Galešev, Morović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ogram se je nastavio primjenjivati  s osnivanjem Udruge IDEM, te se kontinuirano provodi do dan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Osim što se radi s roditeljskim grupama u Zagrebu osnivale su se skupine u Osijeku, Glini-Petrinji-Topuskom, Sisku i Malom Lošinju.</a:t>
            </a:r>
            <a:r>
              <a:rPr b="0" i="1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43800" cy="60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Djeci s posebnim potrebama ,kao i ostaloj djeci obitelj predstavlja temelj njihovog cjelokupnog razvoja kako tjelesnog i  psihičkog, tako socijalnog i duhovnog razvoja. 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Međutim činjenica da dijete ima posebne potrebe dovodi sve članove obitelji u specifičan položaj.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 Roditeljska očekivanja o idealnom djetetu su narušena, vlastita neostvarena postignuća i želje  neće moći kompenzirati djetetovim postignućima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Pristup 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Integrativne Gestalt terapije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temelji se promjenama tjelesne, psihičke, socijalno-interakcijske i kognitivne strukture (Petzold, 1988.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U radu sa roditeljima polazi se od pretpostavke da će boljim -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poznavanjem sebe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-radom na vlastitom razvoju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-suočavanjem s vlastitim sposobnostima, stavovima, ograničenjima i interesima ,načinom komuniciranja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izmjenom mišljenja i iskustava s drugim roditeljima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boljim upoznavanjem vlastitog djeteta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 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boljim upoznavanjem svog odnosa s djetetom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uz poučavanje o učinkovitim pristupima djete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mijenjati se kvaliteta odnosa u obitelji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Promjenom ozračja u obitelji razvija se pozitivni odnos prema djetetu i stvaraju se uvjeti za zajedničko uspješno rješavanje problem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43520"/>
            <a:ext cx="791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137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Teme Grupnog rada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Dobre i loše strane djeteta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Osjećaji vezani uz pojedine članove obitelji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Mnemotehnika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Težnje roditelja u odnosu na dijet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Roditeljska percepcija teškoća u školi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Očekivanja od seb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Biti na strani djeteta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Komunikacija u obitelj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Roditelji se uključuju u grupu samioncijativno, a ostaju između 1 i 3 god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335520"/>
            <a:ext cx="7773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6756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Dio se roditelja nakon što je dosegao najvišu fazu prilagodbe uključuje u  </a:t>
            </a:r>
            <a:r>
              <a:rPr b="1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Grupu za samozastupanje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U ovom se obliku rada usmjerava aktivnost prema školi, stručnjacima i politici školstv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Uvježbavaju se vještine komunikacije, upoznaju prava djeteta i uči kako zastupati svoju djecu u odnosu na nastavnike i stručne suradnike škole, te u odnosu na regionalne i državne službe za prosvjetu. Roditeljima se daje moralna i stručna podrška u borbi za prava njihovog djeteta. Radi se na podizanju svjesnosti roditelja o kompetentnosti, jer ipak oni najbolje poznaju svoju djecu i njihove potreb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Osnovni oblik rada je razgovor i   predavanja roditelja ostalim roditeljima i stručnjacim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406440"/>
            <a:ext cx="784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84582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U procesu uključivanja djece s posebnim potrebama u redovni sustav odgoja i obrazovanja roditelji imaju </a:t>
            </a:r>
            <a:r>
              <a:rPr b="1" lang="hr-HR" sz="2800" spc="-1" strike="noStrike">
                <a:solidFill>
                  <a:srgbClr val="ffffcc"/>
                </a:solidFill>
                <a:latin typeface="Times New Roman"/>
              </a:rPr>
              <a:t>višestruku ulogu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surad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aktivnu ulogu u planiranju odgoja i obrazovan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nositelja odgovor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člana ti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donosiitelja odlu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samozastupn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u pomagača drugim obitelji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a roditelja pri prijelazu s jednog u drugi oblik školovan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a obavještenog i educiranog entite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- uloga promicatelja nezavisnosti članova obitelji ( Kochhar, West, 1996.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Na taj način jačamo </a:t>
            </a:r>
            <a:r>
              <a:rPr b="0" lang="hr-HR" sz="3200" spc="-1" strike="noStrike" u="sng">
                <a:solidFill>
                  <a:srgbClr val="ffffcc"/>
                </a:solidFill>
                <a:uFillTx/>
                <a:latin typeface="Times New Roman"/>
              </a:rPr>
              <a:t>unutarnje resurse roditelja za prilagodbu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i osposobljavamo ih za </a:t>
            </a:r>
            <a:r>
              <a:rPr b="0" lang="hr-HR" sz="3200" spc="-1" strike="noStrike" u="sng">
                <a:solidFill>
                  <a:srgbClr val="ffffcc"/>
                </a:solidFill>
                <a:uFillTx/>
                <a:latin typeface="Times New Roman"/>
              </a:rPr>
              <a:t>aktivnu ulogu u zastupanju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potrebe razvoja  službi podrške obitelji tj. vanjskih resursa što sve zajedno omogućuje zdravo funkcioniranje obitelji djece s posebnim potrebam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00"/>
                </a:solidFill>
                <a:latin typeface="Times New Roman"/>
              </a:rPr>
              <a:t>Pozitivni aspekti obitelji s p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1342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U završnoj fazi prilagodbe roditelja pojavljuje se njihova svjesnost o pozitivnim aspektima obitelji s djetetom s posebnim potrebam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Grupni intervju s 5 roditelja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(2 oca i 3 majke) uključenih više godina u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rupni rad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ERF-a i Udruge IDEM pokazao da su osvjestili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snag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obitel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osobni rast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i zrel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iskustvo sa posebnim problemi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razvoj velikog samopouzdan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“obitelj koja funkcionira na princip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jedan  za sve, svi za jednog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15280"/>
            <a:ext cx="791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79898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. Savjetovanje roditelj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Savjetovanjem se nastoji omogućiti roditelju promjena njegovih stavova i ponašanja, da bi mogao efikasnije rješavati  probleme(Spect,197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Savjetovanje je proces u kojem se  na osnovi intersubjektivnog odnosa ( KONTAKT-KORESPODENCIJA- GT) cjelovito radi na osposobljavanju osobe za samoorganiziranje pute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dubljeg uvida u emocionalno, kognitivno, tjelesno i socijalno područje (SVJESNOST-G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poticanja samoodgovornosti i odlučivanja( EGZISTENCIJALISTIČKI PRISTUP-G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-podrškom u konkretnoj primjeni novih načina doživljavanja ,razmišljanja i ponašanja u novim situacijama (KBTKOGNITIVNO-BIHEVIORALNI PRISTU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00"/>
                </a:solidFill>
                <a:latin typeface="Times New Roman"/>
              </a:rPr>
              <a:t>Odnos klijenta i savjetnik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ošt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skre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otvor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dosljeda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bezuvjetno poštovanje klijen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vodi računa o potrebama klijent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zna slušat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prati neverbalno izražavan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207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Budite osob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ostavljajte što manje pitan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Dogovorite 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Budite određeni i konkretn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Neka izjave budu kompletne i cjelov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Ostavite doj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okažite skromn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Govorite koliko je moguće samo o prisutni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Aktivirajte otp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Čuvajte vlastite gran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Raspravljajte uvijek samo o jednom problem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Aktivirajte klijentove potencij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užajte dobre savj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Izbjegavajte ogovaran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ocjenjujte(J. Juu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br>
              <a:rPr sz="1800"/>
            </a:b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88160" cy="501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Često su preopterećeni nastojanjem da zadovolje posebne potrebe djeteta.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ffcc00"/>
                </a:solidFill>
                <a:latin typeface="Times New Roman"/>
              </a:rPr>
              <a:t> Pri tome i ostala djeca preuzimaju u obitelji više odgovornosti kako u pogledu brige o sebi tako i obveza prema bratu ili sestri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76320" y="-360"/>
            <a:ext cx="7632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2052"/>
          <p:cNvSpPr/>
          <p:nvPr/>
        </p:nvSpPr>
        <p:spPr>
          <a:xfrm>
            <a:off x="533520" y="1371600"/>
            <a:ext cx="82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ffcc00"/>
                </a:solidFill>
                <a:latin typeface="Times New Roman"/>
              </a:rPr>
              <a:t>Proces prilagodbe roditelj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07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cc"/>
                </a:solidFill>
                <a:uFillTx/>
                <a:latin typeface="Times New Roman"/>
              </a:rPr>
              <a:t>Farber i Ryckman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1.Negiranje posebnih potreba , odbijanje dijagnoze i traženje   čudotvornog lijek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2.Traženje obrazloženja i uzroka oštećenja- poremećaj odnosa u obitel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3.Promjene uloga u obitelji ( jedan član obično preuzima nove obveze, braća i sestre dobivaju novu ulogu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4.Promjena odnosa prema okolini-ograničenje socijalnih kontakata( identifikacija s djetetom-stid, tajenje dijagnoze) ili povećanje društvene i profesionalne aktivnosti kao oblik bije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5. Realno suočavanje-traženje prikladnih oblika društvene podrške-školskih programa, rehabilitacij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18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2789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cc"/>
                </a:solidFill>
                <a:latin typeface="Times New Roman"/>
              </a:rPr>
              <a:t>Schuschardt:</a:t>
            </a:r>
            <a:r>
              <a:rPr b="0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br>
              <a:rPr sz="2400"/>
            </a:br>
            <a:r>
              <a:rPr b="0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cc"/>
                </a:solidFill>
                <a:latin typeface="Times New Roman"/>
              </a:rPr>
              <a:t>8 faza proce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1.Neizvjesn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2. Izvjesnost- znaju, ali se s time ne m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3.Agresivnost-Zašto baš ja? bijesni su na s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4.Pregovaranje-traženje lije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5.Depresija-povlačenje u se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6.Prihvaćanje-mire se sa situacijom i pokušavaju prilagoditi zahtjeve djetet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7.Aktivnost-usmjeravanje na zadovoljavanje potreba djeteta-najpovoljniji uvjet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8.Solidarnost- spremni su pomoći i dugima u sličnoj situaci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066"/>
                </a:solidFill>
                <a:latin typeface="Times New Roman"/>
              </a:rPr>
              <a:t>Socijalno</a:t>
            </a:r>
            <a:r>
              <a:rPr b="1" lang="hr-HR" sz="3600" spc="-1" strike="noStrike">
                <a:solidFill>
                  <a:srgbClr val="ffe066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e066"/>
                </a:solidFill>
                <a:latin typeface="Times New Roman"/>
              </a:rPr>
              <a:t> ekološke  teorij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1342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zvoj ličnosti ovisi o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međusobnom utjecaju djeteta i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koline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ronfenbrenner</a:t>
            </a:r>
            <a:r>
              <a:rPr b="1" lang="hr-HR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79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.)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1.Mikrosustav (obitelj,škola,vršnjaci...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2.Mezosustav ( odnosi među mikrosustavim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3.Egzosustav –socijalno okruženje ( lokalna ili državna vlast koja propisuje standarde u predškolskom odgoju, susjedstvo, prijatelji roditelja,mass mediji 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4.M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kro </a:t>
            </a: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sustav ( kultura sredine, tradicija) koji utječu na  vjerovanja i stavove te sustav vrijednosti  djet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cc"/>
                </a:solidFill>
                <a:latin typeface="Times New Roman"/>
              </a:rPr>
              <a:t>Prilagođavanje na posebne potrebe djeteta rezultat su djelovanja ovih faktora na svakog člana obitelji i na dije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84360" y="333036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15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15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Sistemske obiteljske teorij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promjene kod jednog člana obitelji utječu na ostele članove ,što se ponavlja tijekom vreme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traživanje utjecaja specifičnih osobina djeteta na članove obitelj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Teorije obiteljskog stre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6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lagodba obitelji na krizne događaje se objašnjava višestrukim faktorima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utarnj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strategije suočavanja 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njsk</a:t>
            </a:r>
            <a:r>
              <a:rPr b="0" lang="hr-H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mreža podršk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itelj je međusobno povezana zajednica  sa recipročnim odnosi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09480"/>
            <a:ext cx="7918560" cy="82800"/>
          </a:xfrm>
          <a:prstGeom prst="rect">
            <a:avLst/>
          </a:prstGeom>
          <a:noFill/>
          <a:ln w="0">
            <a:noFill/>
          </a:ln>
        </p:spPr>
        <p:txBody>
          <a:bodyPr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207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Roll-Peterso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2001)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BCX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l (Winton,1990)</a:t>
            </a: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 primjenjuje na obitelj djeteta s posebnim potreb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RIZA  ILI STRESOR ( A)</a:t>
            </a:r>
            <a:r>
              <a:rPr b="0" i="1" lang="hr-H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jagnoza posebnih potreba djeteta  u    interakciji je 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ESURSIMA OBITELJI ZA SUOČAVANJE S KRIZAMA(B)</a:t>
            </a:r>
            <a:r>
              <a:rPr b="0" i="1" lang="hr-H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odrška iz različitih izvora ili sposobnost suočavanja sa streso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hr-H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i B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tječu 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OBITELJSKU PERCEPCIJU DOGAĐAJA (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 3 faktora uvjetuju kako će se obitel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ILAGODITI NA STRESOR</a:t>
            </a:r>
            <a:r>
              <a:rPr b="0" i="1" lang="hr-H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(X)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7:10:04Z</dcterms:created>
  <dc:creator>Ljiljana Igrić</dc:creator>
  <dc:description/>
  <dc:language>en-US</dc:language>
  <cp:lastModifiedBy>gbarudzija</cp:lastModifiedBy>
  <dcterms:modified xsi:type="dcterms:W3CDTF">2010-10-25T06:26:50Z</dcterms:modified>
  <cp:revision>105</cp:revision>
  <dc:subject/>
  <dc:title>DRUŠTVENI KONTEKST, POSEBNE POTREBE/INVALIDITET/TEŠKOĆE U RAZVOJU I    EDUKACIJSKO UKLJUČIVANJE                                                                  </dc:title>
</cp:coreProperties>
</file>