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D7C5-E565-4384-9B4D-3B7AFC9D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DE35-5037-4EC4-A257-53F8B46B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A39D-0C33-4620-80FC-036157CF9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C72C-8B24-4E99-A7A2-FD092A5AD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42D6-BA2A-43C6-B9EE-C69DD54B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99D9-701A-48E9-8504-C2DF5E30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FD84-101D-4BA5-A425-E843E6A8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3592-4B8A-43B3-B6F8-3CF27A00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D8D9-D45A-4E63-89C2-6D8DBAC5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B894-CB00-4177-A9F4-9F292E57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D2DD-1928-48C9-AE74-A50FC7C1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AFDA-94E3-4873-B4BC-0ADE3E0D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25D1-A762-487F-9113-3EECB074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809B-51B8-47E2-BDFD-E2A33B70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7225-E949-4AC2-834F-0CBC77A8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A73C-319B-4F89-9035-08D881590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3FD0-A3A1-4C5F-9A47-0FDF23E1E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51DA-09E3-45FD-B8CE-141222E8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1F42-B84E-4B7B-9658-7AC68801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C37E-010B-4E60-965C-2BE0DDEC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DB64-0853-4290-9118-03A16668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C121-3A9A-445A-B0BA-B35AE3A7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FEAF-14C2-45E9-B2D5-21BD14A5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F4DC-7895-4AC0-A905-E55B4705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4E9A-D0BD-420C-8C92-5C74C6409DF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2320" y="6613200"/>
            <a:ext cx="4952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6 www.brainybetty.com;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62904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05E2-8BE2-42FA-9541-23F2F61916D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1720-69ED-44ED-AB31-106488958A3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2006 www.brainybetty.com;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1405-0F62-4E47-90CA-DF089B9AD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1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C977-8B34-4D39-8C3E-E626F7E880CA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2"/>
          <p:cNvSpPr/>
          <p:nvPr/>
        </p:nvSpPr>
        <p:spPr>
          <a:xfrm>
            <a:off x="2362320" y="6613560"/>
            <a:ext cx="4952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6 www.brainybetty.com;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2363-3C8B-4401-B9B4-AE1A99ED120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hr-HR" sz="4400" spc="-1" strike="noStrike">
                <a:solidFill>
                  <a:srgbClr val="000000"/>
                </a:solidFill>
                <a:latin typeface="Baskerville Old Face"/>
              </a:rPr>
              <a:t>Posebne teme” i mogućnosti suradnje s roditelj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55494e"/>
                </a:solidFill>
                <a:latin typeface="Baskerville Old Face"/>
              </a:rPr>
              <a:t>Staša Knežević, dipl.psiho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55494e"/>
                </a:solidFill>
                <a:latin typeface="Baskerville Old Face"/>
              </a:rPr>
              <a:t>DV Medvešč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1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9F09-B80C-4204-BF38-0AE8ABCDEE3B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2"/>
          <p:cNvSpPr/>
          <p:nvPr/>
        </p:nvSpPr>
        <p:spPr>
          <a:xfrm>
            <a:off x="2362320" y="6613560"/>
            <a:ext cx="4952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6 www.brainybetty.com;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051F-8E49-48AD-BD58-98F32A3A5E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Baskerville Old Face"/>
              </a:rPr>
              <a:t>Rad s djecom u riziku i njihovim obitelj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Neki od problema koji opterećuju obitelj ovisnika 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Česti sukobi i nasi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Financijski probl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Problemi identif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Socijalna izol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Kriv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Str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Opterećenost roditelja koji nije ovisn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45E1-5950-4BD9-81CD-0469196B0B6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2362320" y="6613560"/>
            <a:ext cx="4952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6 www.brainybetty.com;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5C75-5260-4DB9-9DE1-4AE8C8D13A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Baskerville Old Face"/>
              </a:rPr>
              <a:t>Rad s djecom u riziku i njihovim obitelji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Razgovor s roditeljima koji su pod utjecajem opojnih sredstava obično nema smisla jer je upitna njihova sposobnost doživljavanja i rezonir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Mogući su zastoji u suradnji zbog neispunjavanja dogovora i traženja različitih ustup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Stav ustanove mora biti jasan; dogovori se moraju poštovati i odgovornost roditelja za njihovu djecu nedjeljiva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1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9D86-BAA9-43EC-89D9-5FF6B251883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2"/>
          <p:cNvSpPr/>
          <p:nvPr/>
        </p:nvSpPr>
        <p:spPr>
          <a:xfrm>
            <a:off x="2362320" y="6613560"/>
            <a:ext cx="4952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6 www.brainybetty.com;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B944-EECE-4878-926D-803A457456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Rad s djecom i suradnja s rastavljenim i samohranim roditeljima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Na skali 43 potencijalno traumatskih događaja za pojedinca na prvom mjestu je smrt bračnog druga, a nakon toga je raz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Za djecu je razvod roditelja posebno stresan jer je van njihove kontrole, nepredvidivog je trajanja i ishoda, a često im nedostaju informacije i vještine za prevladavanje situacije.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1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2490-75A1-4369-82E4-6243893A5222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2"/>
          <p:cNvSpPr/>
          <p:nvPr/>
        </p:nvSpPr>
        <p:spPr>
          <a:xfrm>
            <a:off x="2362320" y="6613560"/>
            <a:ext cx="4952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6 www.brainybetty.com;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0B99-B79C-4E6E-98FF-2CFA5D3B33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Baskerville Old Face"/>
              </a:rPr>
              <a:t>Faze tugovanja (Bowlb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1. Šok i nevj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2. Čežnja i potraga za izgubljeni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3. Dezorganizacija, očaj i gubitak nade u povrat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4. Prihvaćanje rea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1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8194-C4D5-4046-A68F-E801C15E528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2"/>
          <p:cNvSpPr/>
          <p:nvPr/>
        </p:nvSpPr>
        <p:spPr>
          <a:xfrm>
            <a:off x="2362320" y="6613560"/>
            <a:ext cx="4952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6 www.brainybetty.com;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E760-57E8-4FD1-A7F8-957F08ECF1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Baskerville Old Face"/>
              </a:rPr>
              <a:t>Rad s djecom i suradnja s rastavljenim i samohranim roditelji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Neki od izazova samohranih roditel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samostalno donošenje odlu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financijski probl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povećavanje broja uloga i posl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ispunjavanje mjesta drugog rodite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socijalna izol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sniženo samopoštovanje  koje se s osobne prenosi i na roditeljsku ulo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1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8203-8150-4F15-995A-874853672DB5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oter Placeholder 2"/>
          <p:cNvSpPr/>
          <p:nvPr/>
        </p:nvSpPr>
        <p:spPr>
          <a:xfrm>
            <a:off x="2362320" y="6613560"/>
            <a:ext cx="4952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6 www.brainybetty.com;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CF67-9998-4228-839F-FAF1A8E186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Baskerville Old Face"/>
              </a:rPr>
              <a:t>Rad s djecom i suradnja s rastavljenim i samohranim roditelji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840" y="1599840"/>
            <a:ext cx="8543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Djeca i roditelji koji prolaze razvod ili gubitak bračnog druga često zbog neodgodivih obaveza ili potrebe da se ostane “dobro” ne dopuštaju sebi iskazivanje osjeć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Potiskivanje osjećaja dovodi do somatizacije, osobito kod dje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Teške emocije često su prisutne; tuga, ljutnja, strah, sram i kriv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Od velike važnosti je priznavanje svi osjećaja bez os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Date Placeholder 1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12EF-572B-48E0-81C4-599F7CE91F6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2"/>
          <p:cNvSpPr/>
          <p:nvPr/>
        </p:nvSpPr>
        <p:spPr>
          <a:xfrm>
            <a:off x="2362320" y="6613560"/>
            <a:ext cx="4952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6 www.brainybetty.com;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18B9-E677-4B67-8769-ED925F77EB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Baskerville Old Face"/>
              </a:rPr>
              <a:t>Rad s djecom i suradnja s rastavljenim i samohranim roditelji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Roditelji ponekad u djetetu pronalaze osobu kojoj će se povjeriti; djeca nisu dovoljno jaka da bi ponijela taj ter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Odraslima je potrebna pomoć u procesu prijelaza od osobnog ka roditeljskom partnerskom odnosu s bivšim bračnim drug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Stručnjaci i osobe od povjerenja trebaju izbjegavati učešće u roditeljskim odlukama koje se vežu uz ostajanje/izlazak iz bračne zajed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1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7CC1-BE8B-4AA1-A6F2-A9E321D70672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2"/>
          <p:cNvSpPr/>
          <p:nvPr/>
        </p:nvSpPr>
        <p:spPr>
          <a:xfrm>
            <a:off x="2362320" y="6613560"/>
            <a:ext cx="4952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6 www.brainybetty.com;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D208-AC2A-4963-A1A6-3B021D88E8F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Baskerville Old Face"/>
              </a:rPr>
              <a:t>Rad s djecom i suradnja s rastavljenim i samohranim roditelji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Djeci je nužno objasniti razvod ili smrt roditelja; ukoliko taj korak propustimo izuzeli smo ih iz obitelji i dopustili različite fantazije o uzroku gubit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Uloga institucije je vrlo važna u otkrivanju ev.problema i dječjih reakcija na gubit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U procesu razvoda vrlo je važno ne ulaziti u međusobne razmirice roditelja i pod svaku cijenu odbiti biranje strana; potrebno je zauzeti stranu obitelji a ne pojedin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Date Placeholder 1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1118-B5F2-464A-8516-57AF2B16F67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2"/>
          <p:cNvSpPr/>
          <p:nvPr/>
        </p:nvSpPr>
        <p:spPr>
          <a:xfrm>
            <a:off x="2362320" y="6613560"/>
            <a:ext cx="4952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6 www.brainybetty.com;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5E36-65FD-4C19-8BFE-4EB51DE4C92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Djeca iz zapuštenih i nasiljem označenih obitelji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599840"/>
            <a:ext cx="86868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Većina roditelja smatra da radi najbolje za svoju djecu i u to duboko vjeruje; sumnja u njihove roditeljske vještine često izaziva otpor i nap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Ukoliko roditelji odbijaju suradnju i ostaju opravdanje sumnje da se nasilje nastavlja imamo zakonsku obavezu zlostavljanje prijaviti CZ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1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01FE-BE4D-4B54-BD84-052CF6C111AB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oter Placeholder 2"/>
          <p:cNvSpPr/>
          <p:nvPr/>
        </p:nvSpPr>
        <p:spPr>
          <a:xfrm>
            <a:off x="2362320" y="6613560"/>
            <a:ext cx="4952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6 www.brainybetty.com;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BB85-C2D0-4DA7-885E-8A8E386231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Baskerville Old Face"/>
              </a:rPr>
              <a:t>Djeca iz zapuštenih i nasiljem označenih obitel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Vrste zlostavlj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Fizičko zlostavlj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Emocionalno zlostavlj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Seksualno zlostavlj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Zanemari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Date Placeholder 1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2B59-4C84-44A3-905C-D1A394D9BC0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2"/>
          <p:cNvSpPr/>
          <p:nvPr/>
        </p:nvSpPr>
        <p:spPr>
          <a:xfrm>
            <a:off x="2362320" y="6613560"/>
            <a:ext cx="4952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6 www.brainybetty.com;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CEBA-F24B-403F-9F1E-D713C7C1AF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Baskerville Old Face"/>
              </a:rPr>
              <a:t>Izazo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Rad s djecom u okruženju PTSP sindr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Rad s djecom u riziku i njihovim obitelj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Rad s djecom i suradnja s rastavljenim i samohranim roditelj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Djeca iz zapuštenih i nasiljem označenih obitel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ate Placeholder 1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6C04-1A2C-4556-BF42-56D981B9B12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ooter Placeholder 2"/>
          <p:cNvSpPr/>
          <p:nvPr/>
        </p:nvSpPr>
        <p:spPr>
          <a:xfrm>
            <a:off x="2362320" y="6613560"/>
            <a:ext cx="4952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6 www.brainybetty.com;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FAA8-60A6-4493-9895-9B73C0C151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Baskerville Old Face"/>
              </a:rPr>
              <a:t>Djeca iz zapuštenih i nasiljem označenih obitel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Nasilje nad djecom je često rezultat neznanja i nemoć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Većina roditelja ne želi svjesno zlostavljati svoje dijete, nanositi mu zlo i uskraćivati mu osnovne uvjete za živ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1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6100-9C09-4AAF-B4ED-AD39AD8DA24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ooter Placeholder 2"/>
          <p:cNvSpPr/>
          <p:nvPr/>
        </p:nvSpPr>
        <p:spPr>
          <a:xfrm>
            <a:off x="2362320" y="6613560"/>
            <a:ext cx="4952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6 www.brainybetty.com;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9146-3405-4B58-9B0F-6F3A0A6575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Baskerville Old Face"/>
              </a:rPr>
              <a:t>Djeca iz zapuštenih i nasiljem označenih obitel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Neke karakteristike roditelja zlostavlja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Nisko samopošto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Slaba samokontr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Problemi mentalnog zdrav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Socijalna izolira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Prevelika očekivanja od djet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Nepoznavanje dječjeg razvo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1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C330-5BDE-44D0-A229-87334F35F039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2"/>
          <p:cNvSpPr/>
          <p:nvPr/>
        </p:nvSpPr>
        <p:spPr>
          <a:xfrm>
            <a:off x="2362320" y="6613560"/>
            <a:ext cx="4952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6 www.brainybetty.com;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3C98-B224-4DF7-8418-69024C40A66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Baskerville Old Face"/>
              </a:rPr>
              <a:t>Djeca iz zapuštenih i nasiljem označenih obitel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U komunikaciji s roditeljima zapuštenih obitelji neobično je važno biti model ponašanja; ukazati svojim primjerom na pozitivne odgojne met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Važno je takvim roditeljima priznati teškoće na koje se u odgoju nailazi i kako postoje i drugi roditelji koji imaju problema s nekim ponašanjima djet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Date Placeholder 1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CFC0-4507-4EFC-B6E2-2C738974F976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ooter Placeholder 2"/>
          <p:cNvSpPr/>
          <p:nvPr/>
        </p:nvSpPr>
        <p:spPr>
          <a:xfrm>
            <a:off x="2362320" y="6613560"/>
            <a:ext cx="4952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6 www.brainybetty.com;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6052-2EA2-49ED-81F8-C0ECB525530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Baskerville Old Face"/>
              </a:rPr>
              <a:t>Djeca iz zapuštenih i nasiljem označenih obitel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Radionički tip edukacija najbolje odgovara većini roditelja kada je cilj usvajanje ciljne vještine; rješavanje konkretnih problema učinkovitije je od teorijskog pristupa i statističkih podat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1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3FAA-CF73-45AC-9D34-18901A0B6B6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2"/>
          <p:cNvSpPr/>
          <p:nvPr/>
        </p:nvSpPr>
        <p:spPr>
          <a:xfrm>
            <a:off x="2362320" y="6613560"/>
            <a:ext cx="4952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6 www.brainybetty.com;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1B08-E88B-4421-AB30-15103FC800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Baskerville Old Face"/>
              </a:rPr>
              <a:t>Djeca iz zapuštenih i nasiljem označenih obitel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Komponente edukacije rodite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Aktivno sluš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Dječji raz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Mogućnosti djet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Razvoj dječjeg samopošto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Tehnike i učinci pozitivnog potkrepljenja i pohv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Negativni učinci kažnja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Vještine nenasilnog rješavanja suko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6000" spc="-1" strike="noStrike">
                <a:solidFill>
                  <a:srgbClr val="000000"/>
                </a:solidFill>
                <a:latin typeface="Baskerville Old Face"/>
              </a:rPr>
              <a:t>Hvala na pažnji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Date Placeholder 3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2447-4A55-4833-93C6-9C11E75653E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362320" y="6613560"/>
            <a:ext cx="4952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6 www.brainybetty.com;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7B40-A9A1-48A1-A1E4-8BF03E28F1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1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EA9C-65D8-489A-9773-DE26BF2C9A6F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2"/>
          <p:cNvSpPr/>
          <p:nvPr/>
        </p:nvSpPr>
        <p:spPr>
          <a:xfrm>
            <a:off x="2362320" y="6613560"/>
            <a:ext cx="4952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6 www.brainybetty.com;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AA90-0E5A-4AF9-AC9A-3CB090EED5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Baskerville Old Face"/>
              </a:rPr>
              <a:t>Zajednička obiljež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Str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Nisko samopošto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Problemi u komunikaci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Socijalna izol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Nedostatak edu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Agres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Kriv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Emocionalni probl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1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4E27-4E4C-4C65-A228-ED87ABD9D4C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2"/>
          <p:cNvSpPr/>
          <p:nvPr/>
        </p:nvSpPr>
        <p:spPr>
          <a:xfrm>
            <a:off x="2362320" y="6613560"/>
            <a:ext cx="4952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6 www.brainybetty.com;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0E1E-A5E3-441B-80E7-8961BC5D36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Baskerville Old Face"/>
              </a:rPr>
              <a:t>Najvažniji kora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1. Prepozna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2. Razumije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3. Empat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4. Uspostavljanje povjere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5. Stručna pomo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1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8475-74EE-4134-BF57-A1B036CB695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2"/>
          <p:cNvSpPr/>
          <p:nvPr/>
        </p:nvSpPr>
        <p:spPr>
          <a:xfrm>
            <a:off x="2362320" y="6613560"/>
            <a:ext cx="4952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6 www.brainybetty.com;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AA92-CBF9-424A-86C3-143A41517E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Rad s djecom u okruženju PTSP sindroma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PTSP je psihijatrijski poremećaj i zahtijeva terap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Poremećaj karakteriziraju tri skupine poteškoć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Ponovno doživljavanje traumatskog događ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Izbjegavanje podražaja povezanih s događajem ili otupljivanje reaktiv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Simptomi pojačane pobuđenosti organiz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1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0A5F-AA21-4BBA-8A18-3E5776CA0B0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2"/>
          <p:cNvSpPr/>
          <p:nvPr/>
        </p:nvSpPr>
        <p:spPr>
          <a:xfrm>
            <a:off x="2362320" y="6613560"/>
            <a:ext cx="4952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6 www.brainybetty.com;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A84E-0D3F-4D9B-B113-B95AA4F649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Baskerville Old Face"/>
              </a:rPr>
              <a:t>Rad s djecom u okruženju PTSP sindro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Osobe oboljele od PTSP-a izgubile su osjećaj sigurnosti u svij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Oboljeli se udaljavaju od okoline zbog osjećaja nerazumijevanja i, vrlo često, osjećaja srama uzrokovanog proživljen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Bolesnicima često pomaže grupna terapija zbog mogućnosti ostvarivanja odnosa povjerenja i razumijevanja od osoba koje su doživjele iste tra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1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C59A-A659-40F1-B230-29F84E4F8C19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2"/>
          <p:cNvSpPr/>
          <p:nvPr/>
        </p:nvSpPr>
        <p:spPr>
          <a:xfrm>
            <a:off x="2362320" y="6613560"/>
            <a:ext cx="4952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6 www.brainybetty.com;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6743-504F-4862-8358-C8986F636F9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Baskerville Old Face"/>
              </a:rPr>
              <a:t>Rad s djecom u okruženju PTSP sindro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Djeca osoba oboljelih od PTSP-a i sama mogu patiti od simptoma usvojenih kroz proces sekundarne viktimiz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Uz PTSP često ide i uporaba opijata, česti sukobi, radna nesposob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1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FB35-3D57-4379-9649-9A1E6244D6E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2"/>
          <p:cNvSpPr/>
          <p:nvPr/>
        </p:nvSpPr>
        <p:spPr>
          <a:xfrm>
            <a:off x="2362320" y="6613560"/>
            <a:ext cx="4952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6 www.brainybetty.com;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7637-A413-4FAD-AB4B-161CE0D4AC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Baskerville Old Face"/>
              </a:rPr>
              <a:t>Rad s djecom u okruženju PTSP sindro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Emocije osoba oboljelih od PTSP-a su često otupljene; ponekad se zato može činiti da su nezainteresirani i da se do njih ne može doprij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Osoba kojoj se oboljeli obrati mora pokazati da je dovoljno snažna čuti sv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1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218B-8D38-4084-A9E0-455007E8436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2"/>
          <p:cNvSpPr/>
          <p:nvPr/>
        </p:nvSpPr>
        <p:spPr>
          <a:xfrm>
            <a:off x="2362320" y="6613560"/>
            <a:ext cx="4952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6 www.brainybetty.com;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ACBA-3B9E-454F-8D94-CD5EF958A0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Rad s djecom u riziku i njihovim obiteljima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Alkoholizam i narkomanija psihijatrijski su poremećaji i zahtijevaju terap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askerville Old Face"/>
              </a:rPr>
              <a:t>Ukoliko su djeca u obitelji ugrožena dužni smo sumnju prijaviti Centru za socijalnu sk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7T12:16:58Z</dcterms:created>
  <dc:creator>Staša</dc:creator>
  <dc:description/>
  <dc:language>en-US</dc:language>
  <cp:lastModifiedBy>Staša</cp:lastModifiedBy>
  <dcterms:modified xsi:type="dcterms:W3CDTF">2010-05-14T18:05:44Z</dcterms:modified>
  <cp:revision>11</cp:revision>
  <dc:subject/>
  <dc:title>FALL 2006 Abstracts</dc:title>
</cp:coreProperties>
</file>