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15.gif" ContentType="image/gif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990033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297A-DC19-4813-BEF6-E4FC5B7F1EE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liknite da biste dodali bilješ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36F-65F6-42CF-98C9-76E26C92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59B-AB19-426B-A545-F1788A45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B5C-9B25-4C2C-9B40-2F4D6D21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BE3-A360-4ACC-AAB8-FDB482B6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9A59-9894-49DA-953B-A3DE77DD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44A5-14AA-4EBA-AC1F-9E25334C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F990-8739-4C5B-A760-777FFBDF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6CF2-D087-4B18-AF8A-D6C01A2A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CD90-9286-4CCC-A8FB-026105DA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EEA1-859F-4452-8DFE-978BFEFD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4FA5-B064-4F4D-9056-12012C5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87A-AB05-4C41-97A7-6E670A13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5AB3-9CAF-4EDE-9DFD-6C3DB085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FE97-154A-43AC-A802-0E684AD8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820-5FFD-4855-AE67-7BAD21E4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67BF-8226-4333-AECC-20955BD3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3178-B20B-4D75-A515-03F9E085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D9AC-1BFE-43ED-BAC8-64A38FAB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7659-B74C-4F8B-9446-F9C0E7FD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0DBF-0E00-4200-B442-043FEF8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DF6C-E9FC-4B4F-9113-CD0CC250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6037-9477-4505-91E1-56BE6C63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3A7-3059-481B-96C7-2B6F88FB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013E-DB2C-4AA2-A4AC-6C284C04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08ED-BB9C-428E-9664-6175C711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6613-36A6-40FB-BC44-1E36ABF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A16A-09A7-473B-BC0D-7895621D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D40D-9003-437A-8987-396CC60B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7044-92EC-48C0-BFE5-5CBD9A8F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7DAA-7D23-4832-B9CB-07AA7951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BC18-9617-4FE2-919F-5A63B97D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A1AB-7255-4F93-ADED-387FC2B8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9B6E-4ADC-48B8-A4C0-35AA1822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357-07FD-4F33-89E7-D9A19174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524B-F510-45DF-BC83-14A65B3B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CA16-9E4C-449A-899A-8FB91421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BECA-FCA2-4726-A9B6-17BE3CF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CAFD-F43E-480A-A037-EBAAF19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B128-5563-4A84-8A37-3B8E4FA5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83E02-0F1C-499D-A6CD-F41CD1CC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3CBC-B061-430B-A98A-E8980282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9BEC-68E6-407B-9E2D-8469C020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A2D5-388F-43FC-B466-DBC63D67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0D5BE-8057-489F-800F-0780A190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4AE-C508-4DEF-924C-B2452DD6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8D212-7572-4B5B-86C2-70B5E815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2B20C-6ACE-4C61-970A-A526297D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0BD5-5DF9-4B7A-97D0-918830C9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275AB-A32A-402C-8B3D-94AA4B3F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FD74-A933-43C8-BBB8-2BE9FA07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56854-A8EE-4EC0-8F83-39B6DB1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40B77-78FA-4FDC-9C8E-6FB57BA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E0783-2F32-498B-9B5B-3099C5CF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8C832-FFF1-4152-930D-029868EE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EB8E4-322A-4C83-BAB1-E7055607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852-0191-4651-BC7C-FFB5428C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C39C6-ACC9-40AE-B6CB-65629703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689-5167-4322-9E30-131E44D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51D-5E2F-427B-B439-5165B262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6AD-7D3D-4B1A-A993-CDDC0E66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kutni troku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" name="Prostoručno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Prostoručno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Prostoručno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" name="Prostoručno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" name="Ravni poveznik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99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1768-0829-4AA6-90BD-5B47810BC7EB}" type="slidenum">
              <a:rPr b="0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ostoručno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ostoručno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2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" name="Š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EC95-A63D-44FE-A342-4A3A3A1CBFAB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ručno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rostoručno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1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14D6-5414-4479-9934-E284C51F6CD5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rostoručno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ručno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4305-77F7-4A05-ABD0-FFDD70DF72F8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E9D-6E03-4D28-AF28-6BD991495581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mailto:alma.rovis.brandic@gmail.com" TargetMode="External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733200" y="5373720"/>
            <a:ext cx="4839480" cy="368280"/>
          </a:xfrm>
          <a:prstGeom prst="rect">
            <a:avLst/>
          </a:prstGeom>
          <a:solidFill>
            <a:srgbClr val="f8f8f8"/>
          </a:solidFill>
          <a:ln w="5724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Lucida Sans Unicode"/>
              </a:rPr>
              <a:t>Alma Rovis Brandić</a:t>
            </a: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, dipl.socijalni pedag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240000" cy="2244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7360" y="1628640"/>
            <a:ext cx="7735320" cy="1373760"/>
          </a:xfrm>
          <a:prstGeom prst="rect">
            <a:avLst/>
          </a:prstGeom>
          <a:solidFill>
            <a:srgbClr val="009dd9"/>
          </a:solidFill>
          <a:ln w="5724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66"/>
                </a:solidFill>
                <a:latin typeface="Lucida Sans Unicode"/>
              </a:rPr>
              <a:t>KAKO (zašto?) RAZVIJATI PARTNERSKI OD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66"/>
                </a:solidFill>
                <a:latin typeface="Lucida Sans Unicode"/>
              </a:rPr>
              <a:t> </a:t>
            </a:r>
            <a:r>
              <a:rPr b="0" lang="hr-BA" sz="2800" spc="-1" strike="noStrike">
                <a:solidFill>
                  <a:srgbClr val="ffff66"/>
                </a:solidFill>
                <a:latin typeface="Lucida Sans Unicode"/>
              </a:rPr>
              <a:t>S RODITEL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446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Lucida Sans Unicode"/>
              </a:rPr>
              <a:t>Od roditelja</a:t>
            </a:r>
            <a:endParaRPr b="1" lang="en-US" sz="28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4038480" cy="3241800"/>
          </a:xfrm>
          <a:prstGeom prst="rect">
            <a:avLst/>
          </a:prstGeom>
          <a:noFill/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085d"/>
                </a:solidFill>
                <a:latin typeface="Lucida Sans Unicode"/>
              </a:rPr>
              <a:t>…</a:t>
            </a:r>
            <a:r>
              <a:rPr b="1" lang="en-US" sz="2000" spc="-1" strike="noStrike">
                <a:solidFill>
                  <a:srgbClr val="ce085d"/>
                </a:solidFill>
                <a:latin typeface="Lucida Sans Unicode"/>
              </a:rPr>
              <a:t>se očeku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 s djecom uče i rade domaće zadać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 sudjeluju na roditeljskim sastancim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 dolaze na informaci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 slijede naputke učitel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59280" y="3141720"/>
            <a:ext cx="38894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085d"/>
                </a:solidFill>
                <a:latin typeface="Lucida Sans Unicode"/>
              </a:rPr>
              <a:t>…</a:t>
            </a:r>
            <a:r>
              <a:rPr b="1" lang="en-US" sz="2000" spc="-1" strike="noStrike">
                <a:solidFill>
                  <a:srgbClr val="ce085d"/>
                </a:solidFill>
                <a:latin typeface="Lucida Sans Unicode"/>
              </a:rPr>
              <a:t>se ne očekuj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 budu pomagači u procesu učenja i poučavanja djec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 budu ravnopravni partne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 imaju utjecaja na važne školske odluk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19280" y="4005360"/>
            <a:ext cx="2050920" cy="2628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480680"/>
            <a:ext cx="4038480" cy="2739960"/>
          </a:xfrm>
          <a:prstGeom prst="rect">
            <a:avLst/>
          </a:prstGeom>
          <a:solidFill>
            <a:srgbClr val="eefafc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000" spc="-1" strike="noStrike">
                <a:solidFill>
                  <a:srgbClr val="000000"/>
                </a:solidFill>
                <a:latin typeface="Lucida Sans Unicode"/>
              </a:rPr>
              <a:t>Učitelj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bavi se 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 javnom djelatnošću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preduvjet za obavljanje  posla je  stručnos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očekuje se profesionalno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treba biti objektiva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480680"/>
            <a:ext cx="4038480" cy="2739960"/>
          </a:xfrm>
          <a:prstGeom prst="rect">
            <a:avLst/>
          </a:prstGeom>
          <a:solidFill>
            <a:srgbClr val="eefafc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000" spc="-1" strike="noStrike">
                <a:solidFill>
                  <a:srgbClr val="000000"/>
                </a:solidFill>
                <a:latin typeface="Lucida Sans Unicode"/>
              </a:rPr>
              <a:t>Roditelj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ne mora biti ni stručan ni profesionala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njegove reakcije smiju biti emocionalno obojen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smije biti pristran, subjektiva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"/>
          <p:cNvSpPr/>
          <p:nvPr/>
        </p:nvSpPr>
        <p:spPr>
          <a:xfrm>
            <a:off x="1904040" y="4797360"/>
            <a:ext cx="5682240" cy="1313640"/>
          </a:xfrm>
          <a:prstGeom prst="rect">
            <a:avLst/>
          </a:prstGeom>
          <a:solidFill>
            <a:srgbClr val="eefafc"/>
          </a:solidFill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Ravnopravn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Tko je pozvan i kompetentan sudjelovati 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odgoju i obrazovanju učen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Na kome je odgovornost za poticanje odno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zervirano mjesto teksta 2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21169200">
            <a:off x="-684360" y="0"/>
            <a:ext cx="11017440" cy="7159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Zašto partnerski odnos?</a:t>
            </a:r>
            <a:endParaRPr b="1" lang="en-US" sz="28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10920" y="3284640"/>
            <a:ext cx="5472360" cy="519120"/>
          </a:xfrm>
          <a:prstGeom prst="rect">
            <a:avLst/>
          </a:prstGeom>
          <a:solidFill>
            <a:srgbClr val="ffffdf"/>
          </a:solidFill>
          <a:ln w="5724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čenje je istraživanje svijeta oko seb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4580280"/>
            <a:ext cx="3529080" cy="398880"/>
          </a:xfrm>
          <a:prstGeom prst="rect">
            <a:avLst/>
          </a:prstGeom>
          <a:solidFill>
            <a:srgbClr val="ffffdf"/>
          </a:solidFill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Nužnost timskog r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2161080"/>
            <a:ext cx="2736720" cy="398880"/>
          </a:xfrm>
          <a:prstGeom prst="rect">
            <a:avLst/>
          </a:prstGeom>
          <a:solidFill>
            <a:srgbClr val="ffffdf"/>
          </a:solidFill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Zajednički cil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431640" y="1200240"/>
            <a:ext cx="8208360" cy="2846160"/>
            <a:chOff x="431640" y="1200240"/>
            <a:chExt cx="8208360" cy="2846160"/>
          </a:xfrm>
        </p:grpSpPr>
        <p:cxnSp>
          <p:nvCxnSpPr>
            <p:cNvPr id="277" name="_s417813"/>
            <p:cNvCxnSpPr>
              <a:stCxn id="278" idx="0"/>
              <a:endCxn id="279" idx="3"/>
            </p:cNvCxnSpPr>
            <p:nvPr/>
          </p:nvCxnSpPr>
          <p:spPr>
            <a:xfrm flipV="1" rot="16200000">
              <a:off x="7627320" y="2624040"/>
              <a:ext cx="229320" cy="104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280" name="_s417811"/>
            <p:cNvCxnSpPr>
              <a:stCxn id="281" idx="0"/>
              <a:endCxn id="282" idx="3"/>
            </p:cNvCxnSpPr>
            <p:nvPr/>
          </p:nvCxnSpPr>
          <p:spPr>
            <a:xfrm flipV="1" rot="16200000">
              <a:off x="4435560" y="1559880"/>
              <a:ext cx="229320" cy="223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283" name="_s417809"/>
            <p:cNvCxnSpPr>
              <a:stCxn id="284" idx="0"/>
              <a:endCxn id="282" idx="3"/>
            </p:cNvCxnSpPr>
            <p:nvPr/>
          </p:nvCxnSpPr>
          <p:spPr>
            <a:xfrm flipV="1" rot="16200000">
              <a:off x="3371400" y="2624040"/>
              <a:ext cx="229320" cy="104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285" name="_s417807"/>
            <p:cNvCxnSpPr>
              <a:stCxn id="286" idx="0"/>
              <a:endCxn id="282" idx="3"/>
            </p:cNvCxnSpPr>
            <p:nvPr/>
          </p:nvCxnSpPr>
          <p:spPr>
            <a:xfrm flipH="1" flipV="1" rot="5400000">
              <a:off x="2308320" y="1663920"/>
              <a:ext cx="229320" cy="202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287" name="_s417804"/>
            <p:cNvCxnSpPr>
              <a:stCxn id="279" idx="0"/>
              <a:endCxn id="288" idx="3"/>
            </p:cNvCxnSpPr>
            <p:nvPr/>
          </p:nvCxnSpPr>
          <p:spPr>
            <a:xfrm flipV="1" rot="16200000">
              <a:off x="6022080" y="143280"/>
              <a:ext cx="229320" cy="3255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289" name="_s417803"/>
            <p:cNvCxnSpPr>
              <a:stCxn id="282" idx="0"/>
              <a:endCxn id="288" idx="3"/>
            </p:cNvCxnSpPr>
            <p:nvPr/>
          </p:nvCxnSpPr>
          <p:spPr>
            <a:xfrm flipH="1" flipV="1" rot="5400000">
              <a:off x="3894480" y="1271160"/>
              <a:ext cx="229320" cy="100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sp>
          <p:nvSpPr>
            <p:cNvPr id="288" name="_s417799"/>
            <p:cNvSpPr/>
            <p:nvPr/>
          </p:nvSpPr>
          <p:spPr>
            <a:xfrm>
              <a:off x="3620880" y="1200240"/>
              <a:ext cx="18273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f6fc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BA" sz="2000" spc="-1" strike="noStrike">
                  <a:solidFill>
                    <a:srgbClr val="000000"/>
                  </a:solidFill>
                  <a:latin typeface="Lucida Sans Unicode"/>
                </a:rPr>
                <a:t>suradn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417800"/>
            <p:cNvSpPr/>
            <p:nvPr/>
          </p:nvSpPr>
          <p:spPr>
            <a:xfrm>
              <a:off x="2559600" y="1886040"/>
              <a:ext cx="1824840" cy="676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dd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BA" sz="1700" spc="-1" strike="noStrike">
                  <a:solidFill>
                    <a:srgbClr val="000000"/>
                  </a:solidFill>
                  <a:latin typeface="Lucida Sans Unicode"/>
                </a:rPr>
                <a:t>Neposred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BA" sz="1700" spc="-1" strike="noStrike">
                  <a:solidFill>
                    <a:srgbClr val="000000"/>
                  </a:solidFill>
                  <a:latin typeface="Lucida Sans Unicode"/>
                </a:rPr>
                <a:t>/osobna/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417801"/>
            <p:cNvSpPr/>
            <p:nvPr/>
          </p:nvSpPr>
          <p:spPr>
            <a:xfrm>
              <a:off x="6814800" y="1886040"/>
              <a:ext cx="1825200" cy="676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dd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BA" sz="1700" spc="-1" strike="noStrike">
                  <a:solidFill>
                    <a:srgbClr val="990033"/>
                  </a:solidFill>
                  <a:latin typeface="Lucida Sans Unicode"/>
                </a:rPr>
                <a:t>Posred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990033"/>
                  </a:solidFill>
                  <a:latin typeface="Arial"/>
                </a:rPr>
                <a:t>/alternativna/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17806"/>
            <p:cNvSpPr/>
            <p:nvPr/>
          </p:nvSpPr>
          <p:spPr>
            <a:xfrm>
              <a:off x="431640" y="2790720"/>
              <a:ext cx="1823400" cy="1255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2d7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000000"/>
                  </a:solidFill>
                  <a:latin typeface="Arial"/>
                </a:rPr>
                <a:t>individual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17808"/>
            <p:cNvSpPr/>
            <p:nvPr/>
          </p:nvSpPr>
          <p:spPr>
            <a:xfrm>
              <a:off x="2559600" y="2790720"/>
              <a:ext cx="1823040" cy="1255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2d7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000000"/>
                  </a:solidFill>
                  <a:latin typeface="Arial"/>
                </a:rPr>
                <a:t>grup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17810"/>
            <p:cNvSpPr/>
            <p:nvPr/>
          </p:nvSpPr>
          <p:spPr>
            <a:xfrm>
              <a:off x="4687200" y="2790720"/>
              <a:ext cx="1823040" cy="1255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2d7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000000"/>
                  </a:solidFill>
                  <a:latin typeface="Arial"/>
                </a:rPr>
                <a:t>roditeljsk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000000"/>
                  </a:solidFill>
                  <a:latin typeface="Arial"/>
                </a:rPr>
                <a:t>sastana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417812"/>
            <p:cNvSpPr/>
            <p:nvPr/>
          </p:nvSpPr>
          <p:spPr>
            <a:xfrm>
              <a:off x="6814800" y="2790720"/>
              <a:ext cx="1823040" cy="1255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2d7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990033"/>
                  </a:solidFill>
                  <a:latin typeface="Arial"/>
                </a:rPr>
                <a:t>telefon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990033"/>
                  </a:solidFill>
                  <a:latin typeface="Arial"/>
                </a:rPr>
                <a:t>informativka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990033"/>
                  </a:solidFill>
                  <a:latin typeface="Arial"/>
                </a:rPr>
                <a:t>mai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BA" sz="1700" spc="-1" strike="noStrike">
                  <a:solidFill>
                    <a:srgbClr val="990033"/>
                  </a:solidFill>
                  <a:latin typeface="Arial"/>
                </a:rPr>
                <a:t>..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Lucida Sans Unicode"/>
              </a:rPr>
              <a:t>Roditeljski sastanak</a:t>
            </a:r>
            <a:endParaRPr b="1" lang="en-US" sz="3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4038480" cy="2905200"/>
          </a:xfrm>
          <a:prstGeom prst="rect">
            <a:avLst/>
          </a:prstGeom>
          <a:solidFill>
            <a:srgbClr val="eaf9fc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Lucida Sans Unicode"/>
              </a:rPr>
              <a:t>Trajanje 45 – 60 minut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Lucida Sans Unicode"/>
              </a:rPr>
              <a:t>Jedna dominantna točka dnevnog reda (npr.edukacija roditelja)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Lucida Sans Unicode"/>
              </a:rPr>
              <a:t>Neka vas roditelj doživi kao predstavnika škole koju je odabrao za svoje dijet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2" name="Rezervirano mjesto teksta 29" descr=""/>
          <p:cNvPicPr/>
          <p:nvPr/>
        </p:nvPicPr>
        <p:blipFill>
          <a:blip r:embed="rId1"/>
          <a:stretch/>
        </p:blipFill>
        <p:spPr>
          <a:xfrm>
            <a:off x="4572000" y="213048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Lucida Sans Unicode"/>
              </a:rPr>
              <a:t>Skupni sastanci</a:t>
            </a:r>
            <a:endParaRPr b="1" lang="en-US" sz="3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2468160"/>
            <a:ext cx="4248000" cy="2760840"/>
          </a:xfrm>
          <a:prstGeom prst="rect">
            <a:avLst/>
          </a:prstGeom>
          <a:solidFill>
            <a:srgbClr val="eaf9fc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astanak sa skupinom roditelja okupljenih oko zajedničke tem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blem situaci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datna edukacija roditel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jekt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5" name="Rezervirano mjesto teksta 29" descr=""/>
          <p:cNvPicPr/>
          <p:nvPr/>
        </p:nvPicPr>
        <p:blipFill>
          <a:blip r:embed="rId1"/>
          <a:stretch/>
        </p:blipFill>
        <p:spPr>
          <a:xfrm rot="886200">
            <a:off x="4932000" y="1628640"/>
            <a:ext cx="34671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56275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Lucida Sans Unicode"/>
              </a:rPr>
              <a:t>Individualni razgovori</a:t>
            </a:r>
            <a:endParaRPr b="1" lang="en-US" sz="3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18920" y="1773360"/>
            <a:ext cx="5040360" cy="4248000"/>
          </a:xfrm>
          <a:prstGeom prst="rect">
            <a:avLst/>
          </a:prstGeom>
          <a:solidFill>
            <a:srgbClr val="eaf9fc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prilično su važni za dobar odnos među suradnicima /partneri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profesionalan odnos prema struci:  usmjerite se na uvjete za rad, tehnike učenja, aktivnost i usredotočenost na satu, radne navike, odnose prema drugima u obrazovnoj skupini i s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poštujte dogovoreno vrijeme informacij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732720" y="191628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300" spc="-1" strike="noStrike">
                <a:solidFill>
                  <a:srgbClr val="000000"/>
                </a:solidFill>
                <a:latin typeface="Arial"/>
              </a:rPr>
              <a:t>Komunikacijske strategij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300" spc="-1" strike="noStrike">
                <a:solidFill>
                  <a:srgbClr val="000000"/>
                </a:solidFill>
                <a:latin typeface="Arial"/>
              </a:rPr>
              <a:t>Mostovi suradnj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0" name="Rezervirano mjesto teksta 29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46087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zervirano mjesto teksta 29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038840" cy="30243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990033"/>
                </a:solidFill>
                <a:latin typeface="Lucida Sans Unicode"/>
              </a:rPr>
              <a:t>Uspješne komunikacijske strategije</a:t>
            </a:r>
            <a:br>
              <a:rPr sz="3200"/>
            </a:br>
            <a:endParaRPr b="1" lang="en-US" sz="32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186080" cy="3819600"/>
          </a:xfrm>
          <a:prstGeom prst="rect">
            <a:avLst/>
          </a:prstGeom>
          <a:solidFill>
            <a:srgbClr val="fdfdfd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Značenje komunikacije je odgovor koji u komunikaciji dobijam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Tko je odgovoran za  moju komunikacij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Potrebno je tražiti  povratnu informaciju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990033"/>
                </a:solidFill>
                <a:latin typeface="Lucida Sans Unicode"/>
              </a:rPr>
              <a:t>Pročitajte tekst</a:t>
            </a:r>
            <a:endParaRPr b="1" lang="en-US" sz="36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2521080"/>
          </a:xfrm>
          <a:prstGeom prst="rect">
            <a:avLst/>
          </a:prstGeom>
          <a:solidFill>
            <a:srgbClr val="eaeaea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000000"/>
                </a:solidFill>
                <a:latin typeface="Lucida Sans Unicode"/>
              </a:rPr>
              <a:t>Čuvši kucanje kućepazitelj je otvorio vrata. Provalnik se progurao unutra. Zatražio je novac. Sadržaj se prosuo. Provalnik je u panici pobjegao. Obaviještena je policij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990033"/>
                </a:solidFill>
                <a:latin typeface="Lucida Sans Unicode"/>
              </a:rPr>
              <a:t>Željeni ishodi</a:t>
            </a:r>
            <a:endParaRPr b="1" lang="en-US" sz="36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000" y="2331720"/>
            <a:ext cx="43923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Osvijestiti potrebu suradn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Načini suradn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Neke smjernice za izgradnju partnerskog odno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5" name="Rezervirano mjesto teksta 29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2232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202440" cy="1859040"/>
          </a:xfrm>
          <a:prstGeom prst="rect">
            <a:avLst/>
          </a:prstGeom>
          <a:solidFill>
            <a:srgbClr val="efffef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04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Odgovorite na pitanja sa: </a:t>
            </a:r>
            <a:br>
              <a:rPr sz="2000"/>
            </a:b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      T - točno  </a:t>
            </a:r>
            <a:br>
              <a:rPr sz="2000"/>
            </a:b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      N - netočno, </a:t>
            </a:r>
            <a:br>
              <a:rPr sz="2000"/>
            </a:b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      0 - nije dana informacija</a:t>
            </a:r>
            <a:endParaRPr b="1" lang="en-US" sz="20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2331720"/>
            <a:ext cx="8064360" cy="4049640"/>
          </a:xfrm>
          <a:prstGeom prst="rect">
            <a:avLst/>
          </a:prstGeom>
          <a:solidFill>
            <a:srgbClr val="efefef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Muškarac je pokucao na vr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koji je pokucao na vrata progurao se unutr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ućevlasnik je otvorio vr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koji je pokucao na vrata zahtijevao je nov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koji je istresao sadržaj kutije za novac je pobjega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utija za novac je sadržavala nov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ućepazitelj je otvorio kutiju za nov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Pljačkaš je bio muškar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ućepazitelj je obavijestio policiju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Policiji je telefoniran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koji se progurao u kuću nije tražio nov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00000" y="259920"/>
            <a:ext cx="7283520" cy="1731960"/>
          </a:xfrm>
          <a:prstGeom prst="rect">
            <a:avLst/>
          </a:prstGeom>
          <a:solidFill>
            <a:srgbClr val="dbf5f9"/>
          </a:solidFill>
          <a:ln w="57240">
            <a:solidFill>
              <a:srgbClr val="e2d7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uvši kucanje kućepazitelj je otvorio vrata. Provalnik se progurao unutra. Zatražio je novac. Sadržaj se prosuo. Provalnik je u panici pobjegao. Obaviještena je policij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332080"/>
            <a:ext cx="8064360" cy="4049640"/>
          </a:xfrm>
          <a:prstGeom prst="rect">
            <a:avLst/>
          </a:prstGeom>
          <a:solidFill>
            <a:srgbClr val="efefef"/>
          </a:solidFill>
          <a:ln w="5724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Muškarac je pokucao na v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koji je pokucao na vrata progurao se un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ućevlasnik je otvorio v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koji je pokucao na vrata zahtijevao je nov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koji je istresao sadržaj kutije za novac je pobje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utija za novac je sadržavala nov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ućepazitelj je otvorio kutiju za nov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Pljačkaš je bio muška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ućepazitelj je obavijestio polici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Policiji je telefonir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koji se progurao u kuću nije tražio nov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990033"/>
                </a:solidFill>
                <a:latin typeface="Lucida Sans Unicode"/>
              </a:rPr>
              <a:t>Osnove uspješnih strategija suradnje</a:t>
            </a:r>
            <a:endParaRPr b="1" lang="en-US" sz="32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Ljudi se međusobno razlikuju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Uspješna suradnja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hr-BA" sz="2000" spc="-1" strike="noStrike">
                <a:solidFill>
                  <a:srgbClr val="09467d"/>
                </a:solidFill>
                <a:latin typeface="Lucida Sans Unicode"/>
              </a:rPr>
              <a:t>građenje mosto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9467d"/>
                </a:solidFill>
                <a:latin typeface="Lucida Sans Unicode"/>
              </a:rPr>
              <a:t>        </a:t>
            </a:r>
            <a:r>
              <a:rPr b="0" lang="hr-BA" sz="2000" spc="-1" strike="noStrike">
                <a:solidFill>
                  <a:srgbClr val="09467d"/>
                </a:solidFill>
                <a:latin typeface="Lucida Sans Unicode"/>
              </a:rPr>
              <a:t>- premoštavanje razlik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* kako razumjeti drug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* kako postići da nas bolje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                razumij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2" name="Rezervirano mjesto teksta 29" descr=""/>
          <p:cNvPicPr/>
          <p:nvPr/>
        </p:nvPicPr>
        <p:blipFill>
          <a:blip r:embed="rId1"/>
          <a:stretch/>
        </p:blipFill>
        <p:spPr>
          <a:xfrm rot="20982000">
            <a:off x="5579640" y="1483920"/>
            <a:ext cx="3024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4432320" cy="4089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990033"/>
                </a:solidFill>
                <a:latin typeface="Lucida Sans Unicode"/>
              </a:rPr>
              <a:t>Okrivljavanje – traženje rješenja</a:t>
            </a:r>
            <a:endParaRPr b="1" lang="en-US" sz="32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3816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Definiranje proble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Analiza proble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Uzrok proble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Traženje krivca (odgovorno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7600" y="1700280"/>
            <a:ext cx="39560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Imati na umu sadašnje stan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Definirati željeni isho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Imati na umu resurs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990033"/>
                </a:solidFill>
                <a:latin typeface="Lucida Sans Unicode"/>
              </a:rPr>
              <a:t>Suradnja</a:t>
            </a:r>
            <a:r>
              <a:rPr b="0" lang="hr-BA" sz="3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43520" cy="3963960"/>
          </a:xfrm>
          <a:prstGeom prst="rect">
            <a:avLst/>
          </a:prstGeom>
          <a:solidFill>
            <a:srgbClr val="eaf9fc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Odnos međusobnog uvažavanja i slaganja - preduvjet  kvalitetne suradnje (s roditeljim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Sposobnost stvaranja dubokog osjećaja povezanosti i sličnosti s drugom osobom rezultira ‘win-win' ishodom za obje strane, kreira odnos povjerenja i poštovanj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9" name="Rezervirano mjesto teksta 29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4103640" cy="2879640"/>
          </a:xfrm>
          <a:prstGeom prst="rect">
            <a:avLst/>
          </a:prstGeom>
          <a:solidFill>
            <a:srgbClr val="eaf9fc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2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ako? Koraci prema cilj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Usklađivanje (svjesno i nesvjesno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Slijeđenje i vođen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1" name="Rezervirano mjesto teksta 29" descr=""/>
          <p:cNvPicPr/>
          <p:nvPr/>
        </p:nvPicPr>
        <p:blipFill>
          <a:blip r:embed="rId1"/>
          <a:stretch/>
        </p:blipFill>
        <p:spPr>
          <a:xfrm>
            <a:off x="5105520" y="2349360"/>
            <a:ext cx="40384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4000" y="1267920"/>
            <a:ext cx="3166920" cy="507960"/>
          </a:xfrm>
          <a:prstGeom prst="rect">
            <a:avLst/>
          </a:prstGeom>
          <a:solidFill>
            <a:srgbClr val="f3ffff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400" spc="-1" strike="noStrike">
                <a:solidFill>
                  <a:srgbClr val="333333"/>
                </a:solidFill>
                <a:latin typeface="Lucida Sans Unicode"/>
              </a:rPr>
              <a:t> </a:t>
            </a:r>
            <a:r>
              <a:rPr b="1" lang="hr-BA" sz="2400" spc="-1" strike="noStrike">
                <a:solidFill>
                  <a:srgbClr val="333333"/>
                </a:solidFill>
                <a:latin typeface="Lucida Sans Unicode"/>
              </a:rPr>
              <a:t>tzv. DA – NI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234936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f6fc6"/>
                </a:solidFill>
                <a:latin typeface="Lucida Sans Unicode"/>
              </a:rPr>
              <a:t>Znamo koliko je učiteljski poziv zahtjevan  i odgovoran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na studiju su nas pripremali za rad s dje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f111ec"/>
                </a:solidFill>
                <a:latin typeface="Lucida Sans Unicode"/>
              </a:rPr>
              <a:t>u čemu se sjajno snalazimo.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ff0066"/>
                </a:solidFill>
                <a:latin typeface="Lucida Sans Unicode"/>
              </a:rPr>
              <a:t>Svjesni smo značaja utjecaja  roditelja na djecu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9200"/>
                </a:solidFill>
                <a:latin typeface="Lucida Sans Unicode"/>
              </a:rPr>
              <a:t>I spremni smo na nove izazove rada s roditeljima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5560" y="4786200"/>
            <a:ext cx="6545160" cy="520560"/>
          </a:xfrm>
          <a:prstGeom prst="rect">
            <a:avLst/>
          </a:prstGeom>
          <a:solidFill>
            <a:srgbClr val="f3ffff"/>
          </a:solidFill>
          <a:ln w="5724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990033"/>
                </a:solidFill>
                <a:latin typeface="Lucida Sans Unicode"/>
              </a:rPr>
              <a:t>I</a:t>
            </a:r>
            <a:r>
              <a:rPr b="0" lang="hr-BA" sz="2800" spc="-1" strike="noStrike">
                <a:solidFill>
                  <a:srgbClr val="990033"/>
                </a:solidFill>
                <a:latin typeface="Lucida Sans Unicode"/>
              </a:rPr>
              <a:t> </a:t>
            </a:r>
            <a:r>
              <a:rPr b="0" i="1" lang="hr-BA" sz="2800" spc="-1" strike="noStrike">
                <a:solidFill>
                  <a:srgbClr val="990033"/>
                </a:solidFill>
                <a:latin typeface="Lucida Sans Unicode"/>
              </a:rPr>
              <a:t>umjesto </a:t>
            </a:r>
            <a:r>
              <a:rPr b="1" lang="hr-BA" sz="2800" spc="-1" strike="noStrike">
                <a:solidFill>
                  <a:srgbClr val="990033"/>
                </a:solidFill>
                <a:latin typeface="Lucida Sans Unicode"/>
              </a:rPr>
              <a:t>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990033"/>
                </a:solidFill>
                <a:latin typeface="Lucida Sans Unicode"/>
              </a:rPr>
              <a:t>Povratna informacija</a:t>
            </a:r>
            <a:endParaRPr b="1" lang="en-US" sz="32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527280"/>
          </a:xfrm>
          <a:prstGeom prst="rect">
            <a:avLst/>
          </a:prstGeom>
          <a:solidFill>
            <a:srgbClr val="fdfdfd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Povratna informacija je nužna za (osobni i profesionalni) rast i razvoj svakog pojedinca. Potiče motivaciju, ubrzava usvajanje novih znanja i vještina te osigurava brže postizanje (osobnih i profesionalnih) ciljev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Temelj uspješne komunikacije, ali i međuljudskih odno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oša povratna informacija  ima za posljedicu isticanje negativnosti i izostanak informacije kako bi nešto trebalo napraviti  (napad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4043160" cy="3819600"/>
          </a:xfrm>
          <a:prstGeom prst="rect">
            <a:avLst/>
          </a:prstGeom>
          <a:solidFill>
            <a:srgbClr val="eaf9fc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ovratna informacija će biti bolje primljena ako osoba misli da je koris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 Unicode"/>
              </a:rPr>
              <a:t>Zahtijevati od osobe da se promijen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Lucida Sans Unicode"/>
              </a:rPr>
              <a:t> otpor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 Unicode"/>
              </a:rPr>
              <a:t>Važno je ljudima davati povratnu informaciju i </a:t>
            </a:r>
            <a:r>
              <a:rPr b="0" lang="it-IT" sz="2000" spc="-1" strike="noStrike">
                <a:solidFill>
                  <a:srgbClr val="990033"/>
                </a:solidFill>
                <a:latin typeface="Lucida Sans Unicode"/>
              </a:rPr>
              <a:t>omogućiti im izbor hoće li ju prihvatiti ili neć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8" name="Rezervirano mjesto teksta 29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38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Lucida Sans Unicode"/>
              </a:rPr>
              <a:t>UTJECAJ JEZIKA</a:t>
            </a:r>
            <a:endParaRPr b="1" lang="en-US" sz="32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114800" cy="3316320"/>
          </a:xfrm>
          <a:prstGeom prst="rect">
            <a:avLst/>
          </a:prstGeom>
          <a:solidFill>
            <a:srgbClr val="eaf9fc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Upotreba jezika u davanju povratne informacije je izuzetno važna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33"/>
                </a:solidFill>
                <a:latin typeface="Lucida Sans Unicode"/>
              </a:rPr>
              <a:t>Naš um nije programiran razumijeti negacije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 pa se preporučuje koristiti afirmativni, pozitivan obliku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1" name="Rezervirano mjesto teksta 29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2958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2448000"/>
          </a:xfrm>
          <a:prstGeom prst="rect">
            <a:avLst/>
          </a:prstGeom>
          <a:solidFill>
            <a:srgbClr val="eefafc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Što obilježava roditelje dana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Navedite nekoliko karakteristika današnjih roditelja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/diskusija sa ‘susjedima’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7" name="Rezervirano mjesto teksta 29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394080" cy="4525920"/>
          </a:xfrm>
          <a:prstGeom prst="rect">
            <a:avLst/>
          </a:prstGeom>
          <a:ln w="9360">
            <a:solidFill>
              <a:srgbClr val="e2d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33"/>
                </a:solidFill>
                <a:latin typeface="Lucida Sans Unicode"/>
              </a:rPr>
              <a:t>Npr</a:t>
            </a:r>
            <a:r>
              <a:rPr b="0" lang="hr-HR" sz="4100" spc="-1" strike="noStrike">
                <a:solidFill>
                  <a:srgbClr val="990033"/>
                </a:solidFill>
                <a:latin typeface="Lucida Sans Unicode"/>
              </a:rPr>
              <a:t>:</a:t>
            </a:r>
            <a:endParaRPr b="1" lang="en-US" sz="41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7777080" cy="1871640"/>
          </a:xfrm>
          <a:prstGeom prst="rect">
            <a:avLst/>
          </a:prstGeom>
          <a:solidFill>
            <a:srgbClr val="efffef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Po povratku mogu reći da </a:t>
            </a:r>
            <a:r>
              <a:rPr b="0" lang="hr-BA" sz="2000" spc="-1" strike="noStrike">
                <a:solidFill>
                  <a:srgbClr val="1284ec"/>
                </a:solidFill>
                <a:latin typeface="Lucida Sans Unicode"/>
              </a:rPr>
              <a:t>nisu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bili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loši</a:t>
            </a: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.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Ovog puta </a:t>
            </a:r>
            <a:r>
              <a:rPr b="0" lang="hr-BA" sz="2000" spc="-1" strike="noStrike">
                <a:solidFill>
                  <a:srgbClr val="1284ec"/>
                </a:solidFill>
                <a:latin typeface="Lucida Sans Unicode"/>
              </a:rPr>
              <a:t>nije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bilo previše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nestašluka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i </a:t>
            </a:r>
            <a:r>
              <a:rPr b="0" lang="hr-BA" sz="2000" spc="-1" strike="noStrike">
                <a:solidFill>
                  <a:srgbClr val="1284ec"/>
                </a:solidFill>
                <a:latin typeface="Lucida Sans Unicode"/>
              </a:rPr>
              <a:t>nisam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se morala puno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ljutiti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na njih. Ipak, morate nastaviti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brinuti</a:t>
            </a:r>
            <a:r>
              <a:rPr b="1" lang="hr-BA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kako </a:t>
            </a:r>
            <a:r>
              <a:rPr b="0" lang="hr-BA" sz="2000" spc="-1" strike="noStrike">
                <a:solidFill>
                  <a:srgbClr val="1284ec"/>
                </a:solidFill>
                <a:latin typeface="Lucida Sans Unicode"/>
              </a:rPr>
              <a:t>ne bi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ponovo započeli s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gluparijama</a:t>
            </a: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.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Kad porastu mogli bi to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skupo platiti</a:t>
            </a: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!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Naravno, to je moguće jer to </a:t>
            </a:r>
            <a:r>
              <a:rPr b="0" lang="hr-BA" sz="2000" spc="-1" strike="noStrike">
                <a:solidFill>
                  <a:srgbClr val="1284ec"/>
                </a:solidFill>
                <a:latin typeface="Lucida Sans Unicode"/>
              </a:rPr>
              <a:t>nisu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ni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glupa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ni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zločesta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djeca, a vi </a:t>
            </a:r>
            <a:r>
              <a:rPr b="0" lang="hr-BA" sz="2000" spc="-1" strike="noStrike">
                <a:solidFill>
                  <a:srgbClr val="1284ec"/>
                </a:solidFill>
                <a:latin typeface="Lucida Sans Unicode"/>
              </a:rPr>
              <a:t>niste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nezainteresirani</a:t>
            </a: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roditelji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3645000"/>
            <a:ext cx="7777080" cy="1618560"/>
          </a:xfrm>
          <a:prstGeom prst="rect">
            <a:avLst/>
          </a:prstGeom>
          <a:solidFill>
            <a:srgbClr val="fdfdfd"/>
          </a:solidFill>
          <a:ln w="5724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Po povratku mogu reći da su bili znatno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bolji</a:t>
            </a:r>
            <a:r>
              <a:rPr b="1" lang="hr-BA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nego ranije. Bilo je više situacija za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pohvalu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, a to znači da i u ostalima mogu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napredovati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. Nastavite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pozitivno djelovati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na djecu jer su to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dobra </a:t>
            </a: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i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pametna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djeca, koja  se uz pomoć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zainteresiranih</a:t>
            </a:r>
            <a:r>
              <a:rPr b="1" lang="hr-BA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roditelja mogu razviti u </a:t>
            </a:r>
            <a:r>
              <a:rPr b="1" lang="hr-BA" sz="2000" spc="-1" strike="noStrike">
                <a:solidFill>
                  <a:srgbClr val="990033"/>
                </a:solidFill>
                <a:latin typeface="Lucida Sans Unicode"/>
              </a:rPr>
              <a:t>krasne ljude</a:t>
            </a:r>
            <a:r>
              <a:rPr b="0" lang="hr-BA" sz="2000" spc="-1" strike="noStrike">
                <a:solidFill>
                  <a:srgbClr val="990033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0033"/>
                </a:solidFill>
                <a:latin typeface="Lucida Sans Unicode"/>
              </a:rPr>
              <a:t>Picasso</a:t>
            </a:r>
            <a:br>
              <a:rPr sz="3600"/>
            </a:br>
            <a:endParaRPr b="1" lang="en-US" sz="36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537080" cy="5257800"/>
          </a:xfrm>
          <a:prstGeom prst="rect">
            <a:avLst/>
          </a:prstGeom>
          <a:solidFill>
            <a:srgbClr val="eaf9fc"/>
          </a:solidFill>
          <a:ln w="381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Netko je u razgovoru Picassu natuknuo kako on nije sposoban za stvaranje slika stvari onakvih kakve one jesu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objektivnih slika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Picasso je progun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đ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ao kako nema pojma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 š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to bi to trebalo zna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iti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Sugovornik je izvukao fotografiju svoje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 ž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ene iz nov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anika i rekao Picassu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Evo vidite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ovo je slika 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moje žene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kakva je ona stvarno</a:t>
            </a:r>
            <a:r>
              <a:rPr b="0" lang="hr-HR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 Unicode"/>
              </a:rPr>
              <a:t>Picasso je pogledao sliku i odgovorio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 Unicode"/>
              </a:rPr>
              <a:t>Vaša je žena stvarno mala, zar ne?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I ravna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7" name="Rezervirano mjesto teksta 29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zervirano mjesto teksta 29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952720" cy="1977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03640" y="620280"/>
            <a:ext cx="5113440" cy="561960"/>
          </a:xfrm>
          <a:prstGeom prst="rect">
            <a:avLst/>
          </a:prstGeom>
          <a:solidFill>
            <a:srgbClr val="0f6fc6"/>
          </a:solidFill>
          <a:ln w="57240">
            <a:solidFill>
              <a:srgbClr val="e2d7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e2d700"/>
                </a:solidFill>
                <a:uFillTx/>
                <a:latin typeface="Lucida Sans Unicode"/>
                <a:hlinkClick r:id="rId2"/>
              </a:rPr>
              <a:t>alma.rovis.brandic@gmail.com</a:t>
            </a:r>
            <a:r>
              <a:rPr b="1" lang="en-US" sz="2000" spc="-1" strike="noStrike">
                <a:solidFill>
                  <a:srgbClr val="990033"/>
                </a:solidFill>
                <a:latin typeface="Lucida Sans Unicode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7775640" cy="3384360"/>
          </a:xfrm>
          <a:prstGeom prst="rect">
            <a:avLst/>
          </a:prstGeom>
          <a:solidFill>
            <a:srgbClr val="fdfdfd"/>
          </a:solidFill>
          <a:ln w="5724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Lucida Sans Unicode"/>
              </a:rPr>
              <a:t>Korištena literatura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Biddulph, S. (2002), Tajna sretne djece. Mozaik knjiga: Zagreb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Sullo, R. (1995), Učite ih da budu sretni. Alineja: Zagreb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Eric Jensen: Supernastava, Educa, Zagreb 2001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Elvira Dobrić Fajl: NLP Business Practitioner, priručnik, Zagreb 2004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Ana Ivančan: Evaluacija: kako dati  i primiti kvalitetnu povratnu informaciju, radni materijali, Zgb, 2010. Good, P. ( 1993), Kako pomoći klincima da si sami pomognu. Alinea:Zagreb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Gookin, S. (1996), Roditeljstvo za neznalice. Znak: Zagreb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W. Glasser: Nastavnik u kvalitetnoj škol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M. Rečić: Suradnja s roditeljim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Longo, I. (2001), Roditeljstvo se može učiti. Alineja: Zagreb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1" name="Rezervirano mjesto teksta 29" descr=""/>
          <p:cNvPicPr/>
          <p:nvPr/>
        </p:nvPicPr>
        <p:blipFill>
          <a:blip r:embed="rId3"/>
          <a:stretch/>
        </p:blipFill>
        <p:spPr>
          <a:xfrm rot="20251200">
            <a:off x="7670520" y="848880"/>
            <a:ext cx="987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zervirano mjesto teksta 29" descr=""/>
          <p:cNvPicPr/>
          <p:nvPr/>
        </p:nvPicPr>
        <p:blipFill>
          <a:blip r:embed="rId1"/>
          <a:stretch/>
        </p:blipFill>
        <p:spPr>
          <a:xfrm>
            <a:off x="5364000" y="0"/>
            <a:ext cx="3462480" cy="2251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990033"/>
                </a:solidFill>
                <a:latin typeface="Lucida Sans Unicode"/>
              </a:rPr>
              <a:t>Priča o djedu i unuku</a:t>
            </a:r>
            <a:endParaRPr b="1" lang="en-US" sz="3600" spc="-1" strike="noStrike">
              <a:solidFill>
                <a:srgbClr val="990033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6732360" cy="4392720"/>
          </a:xfrm>
          <a:prstGeom prst="rect">
            <a:avLst/>
          </a:prstGeom>
          <a:solidFill>
            <a:srgbClr val="eefafc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Sjedio djed sa svojim unukom pokraj rijeke u blizini sel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Naišao je putnik. Obratio se djedu i upitao kakvi su ljudi u selu, jer je odlučio preseliti iz svog sel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Djed ga je upitao kakvi su ljudi u selu iz kojeg dolaz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je rekao: Ljudi u selu iz kojeg dolazim nisu dobri, neiskreni su, pokvareni, spremni napraviti zlo bližnjemu, raduju se tuđoj nesreć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Djed mu je rekao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‘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Mislim da ni ovo nije selo za tebe, i u ovom selu ljudi takvi’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762440" cy="5241960"/>
          </a:xfrm>
          <a:prstGeom prst="rect">
            <a:avLst/>
          </a:prstGeom>
          <a:solidFill>
            <a:srgbClr val="eefafc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Sutradan djed i unuk ponovo sjede pokraj rijeke. Ponovo nailazi jedan putnik. Obratio se djedu i upitao ga kakvi su ljudi u selu, jer je odlučio promijeniti sel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Djed ga je upitao kakvi su bili ljudi u selu iz kojeg dolaz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Čovjek je rekao: ‘Ljudi u selu iz kojeg dolazim su krasni, dobronamjerni, uvijek spremni pomoći, brinu jedni o drugima, raduju se tuđoj sreći.’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Mudrac mu je rekao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‘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Mislim da ćeš biti sretan u ovom  selu, i u ovom selu su ljudi takvi’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52" name="Rezervirano mjesto teksta 29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34084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solidFill>
            <a:srgbClr val="eefafc"/>
          </a:solidFill>
          <a:ln w="9360">
            <a:solidFill>
              <a:srgbClr val="e2d7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Kad je putnik otišao unuk upita djed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Djede, zašto si prvom putniku rekao o selu ružno, a ovom drugom lijepo. Nisi li govorio o istom sel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‘</a:t>
            </a:r>
            <a:r>
              <a:rPr b="0" lang="hr-BA" sz="2000" spc="-1" strike="noStrike">
                <a:solidFill>
                  <a:srgbClr val="000000"/>
                </a:solidFill>
                <a:latin typeface="Lucida Sans Unicode"/>
              </a:rPr>
              <a:t>Jesam! I oba puta sam govorio istinu. Ljudi su i dobri i loši. Svatko u ljudima prepoznaje  ono što i sam ima u sebi.’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54" name="Rezervirano mjesto teksta 29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83763"/>
                </a:solidFill>
                <a:latin typeface="Arial"/>
              </a:rPr>
              <a:t>Koje </a:t>
            </a:r>
            <a:r>
              <a:rPr b="1" lang="hr-HR" sz="2700" spc="-1" strike="noStrike">
                <a:solidFill>
                  <a:srgbClr val="0f6fc6"/>
                </a:solidFill>
                <a:latin typeface="Arial"/>
              </a:rPr>
              <a:t>osobine i ponašanja roditelja</a:t>
            </a:r>
            <a:r>
              <a:rPr b="0" lang="hr-HR" sz="2700" spc="-1" strike="noStrike">
                <a:solidFill>
                  <a:srgbClr val="083763"/>
                </a:solidFill>
                <a:latin typeface="Arial"/>
              </a:rPr>
              <a:t> držite nužnima kao preduvjet kvalitetne suradnj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83763"/>
                </a:solidFill>
                <a:latin typeface="Arial"/>
              </a:rPr>
              <a:t>učitelj-roditel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100" spc="-1" strike="noStrike">
                <a:solidFill>
                  <a:srgbClr val="083763"/>
                </a:solidFill>
                <a:latin typeface="Arial"/>
              </a:rPr>
              <a:t>/diskusija sa ‘susjedima’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41036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ivni primatelj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razovnih usluga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čijoj vrsti i kvalitet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dlučuje netko drug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579640" y="1916280"/>
            <a:ext cx="403884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ktivni sudionic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 kreiranju procesa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razovanj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"/>
          <p:cNvSpPr/>
          <p:nvPr/>
        </p:nvSpPr>
        <p:spPr>
          <a:xfrm>
            <a:off x="3851640" y="1844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400" spc="-1" strike="noStrike">
                <a:solidFill>
                  <a:srgbClr val="ce085d"/>
                </a:solidFill>
                <a:latin typeface="Arial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408040" cy="2092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443640" y="3573360"/>
            <a:ext cx="18972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692316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53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Lucida Sans Unicode"/>
              </a:rPr>
              <a:t>Naša praksa</a:t>
            </a:r>
            <a:r>
              <a:rPr b="0" lang="en-US" sz="2000" spc="-1" strike="noStrike">
                <a:solidFill>
                  <a:srgbClr val="009dd9"/>
                </a:solidFill>
                <a:latin typeface="Lucida Sans Unicode"/>
              </a:rPr>
              <a:t>:</a:t>
            </a:r>
            <a:r>
              <a:rPr b="0" lang="en-US" sz="2000" spc="-1" strike="noStrike">
                <a:solidFill>
                  <a:srgbClr val="0f6fc6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53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472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ginalno uključeni u proces školovanja svoje djece, bez stvarne mogućnosti utjecaja na njegov tije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47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472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malno sudjelovanje roditelja, bez stvarne mogućnosti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53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tjecaja na donošenje bitnih odluk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472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2" name="Rezervirano mjesto teksta 29" descr=""/>
          <p:cNvPicPr/>
          <p:nvPr/>
        </p:nvPicPr>
        <p:blipFill>
          <a:blip r:embed="rId1"/>
          <a:stretch/>
        </p:blipFill>
        <p:spPr>
          <a:xfrm>
            <a:off x="1042920" y="4869000"/>
            <a:ext cx="38163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9:08:37Z</dcterms:created>
  <dc:creator>Vesna</dc:creator>
  <dc:description/>
  <dc:language>en-US</dc:language>
  <cp:lastModifiedBy>gbarudzija</cp:lastModifiedBy>
  <dcterms:modified xsi:type="dcterms:W3CDTF">2010-05-17T06:34:05Z</dcterms:modified>
  <cp:revision>150</cp:revision>
  <dc:subject/>
  <dc:title>PREZENTACIJA 17</dc:title>
</cp:coreProperties>
</file>