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002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4880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360" y="3916800"/>
            <a:ext cx="74880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002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36540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1600" y="1773000"/>
            <a:ext cx="36540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360" y="3916800"/>
            <a:ext cx="36540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21600" y="3916800"/>
            <a:ext cx="36540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002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2410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6240" y="1773000"/>
            <a:ext cx="2410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48120" y="1773000"/>
            <a:ext cx="2410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360" y="3916800"/>
            <a:ext cx="2410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6240" y="3916800"/>
            <a:ext cx="2410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48120" y="3916800"/>
            <a:ext cx="2410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002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4360" y="1773000"/>
            <a:ext cx="74880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002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488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002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3654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21600" y="1773000"/>
            <a:ext cx="3654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002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00244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002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36540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21600" y="1773000"/>
            <a:ext cx="3654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4360" y="3916800"/>
            <a:ext cx="36540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002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360" y="1773000"/>
            <a:ext cx="74880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002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3654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21600" y="1773000"/>
            <a:ext cx="36540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21600" y="3916800"/>
            <a:ext cx="36540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002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36540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21600" y="1773000"/>
            <a:ext cx="36540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4360" y="3916800"/>
            <a:ext cx="74880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002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4880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4360" y="3916800"/>
            <a:ext cx="74880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002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36540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21600" y="1773000"/>
            <a:ext cx="36540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4360" y="3916800"/>
            <a:ext cx="36540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21600" y="3916800"/>
            <a:ext cx="36540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002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2410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16240" y="1773000"/>
            <a:ext cx="2410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48120" y="1773000"/>
            <a:ext cx="2410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4360" y="3916800"/>
            <a:ext cx="2410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16240" y="3916800"/>
            <a:ext cx="2410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48120" y="3916800"/>
            <a:ext cx="2410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002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488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002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3654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21600" y="1773000"/>
            <a:ext cx="3654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002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333000"/>
            <a:ext cx="800244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002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36540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21600" y="1773000"/>
            <a:ext cx="3654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360" y="3916800"/>
            <a:ext cx="36540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002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3654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21600" y="1773000"/>
            <a:ext cx="36540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21600" y="3916800"/>
            <a:ext cx="36540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002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36540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21600" y="1773000"/>
            <a:ext cx="36540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360" y="3916800"/>
            <a:ext cx="74880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002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773000"/>
            <a:ext cx="7488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c4cde2"/>
          </a:solidFill>
          <a:ln w="9360">
            <a:solidFill>
              <a:srgbClr val="6fa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Institut za jadranske kulture i melioraciju krša - Spl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84360" y="1125360"/>
            <a:ext cx="7991280" cy="71640"/>
          </a:xfrm>
          <a:prstGeom prst="rect">
            <a:avLst/>
          </a:prstGeom>
          <a:gradFill rotWithShape="0">
            <a:gsLst>
              <a:gs pos="0">
                <a:srgbClr val="c4cde2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4080" y="6165720"/>
            <a:ext cx="601560" cy="62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6526080"/>
            <a:ext cx="8280360" cy="71640"/>
          </a:xfrm>
          <a:prstGeom prst="rect">
            <a:avLst/>
          </a:prstGeom>
          <a:solidFill>
            <a:srgbClr val="c4cd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6200000">
            <a:off x="-2844360" y="3357720"/>
            <a:ext cx="6408720" cy="71280"/>
          </a:xfrm>
          <a:prstGeom prst="rect">
            <a:avLst/>
          </a:prstGeom>
          <a:solidFill>
            <a:srgbClr val="c4cd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867800" y="5184720"/>
            <a:ext cx="952200" cy="981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55640" y="6165720"/>
            <a:ext cx="80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Institut za jadranske kulture i melioraciju krša - Split, http://www.krs.hr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nn.hr/" TargetMode="External"/><Relationship Id="rId2" Type="http://schemas.openxmlformats.org/officeDocument/2006/relationships/hyperlink" Target="http://www.nn.hr/" TargetMode="External"/><Relationship Id="rId3" Type="http://schemas.openxmlformats.org/officeDocument/2006/relationships/hyperlink" Target="http://www.nn.hr/" TargetMode="Externa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6407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Bookman Old Style"/>
              </a:rPr>
              <a:t>Nutritivne i biološke vrijednosti djevičanskog maslinovog ulja</a:t>
            </a:r>
            <a:endParaRPr b="1" lang="en-US" sz="40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3280" y="3284280"/>
            <a:ext cx="6400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Monotype Corsiva"/>
              </a:rPr>
              <a:t>Mr.sc. Mirella Žanetić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2916360" y="501336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Šibenik, 16. travnja. 20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002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3300"/>
                </a:solidFill>
                <a:latin typeface="Verdana"/>
              </a:rPr>
              <a:t>Trigliceridi</a:t>
            </a:r>
            <a:endParaRPr b="1" lang="en-US" sz="36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488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Trigliceridi 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triacilgliceroli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) -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esteri masnih kiselina dugog lanca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s prete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ž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no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16 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18 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ugljikovih atoma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i trovalentnog alkohola glicerol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dominiranjem pojedinih masnih kiselina karakterizirana je odre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đ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ena prehrambena masno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ć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visno o tome da li se esterifikacija provodi na jednoj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dvije ili na sve tri OH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skupine molekule glicerola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nastaju mono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-, 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di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i triglicerid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u 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trigliceridima maslinovog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ulja najvi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š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e su zastupljene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oleinska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linolna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palmitinska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stearinska i palmitoleinska kiselina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stale masne kiseline su prisutne u vrlo malom iznosu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arahinska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behenska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lignocerinska i eikosenska kiselina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002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Verdana"/>
              </a:rPr>
              <a:t>Nezasićene masne kiseline</a:t>
            </a:r>
            <a:endParaRPr b="1" lang="en-US" sz="40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4880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zasićene masne kiseline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-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bitan čimbenik po kojem se maslinovo ulje razlikuje od ostalih masnoć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AU" sz="1800" spc="-1" strike="noStrike">
                <a:solidFill>
                  <a:srgbClr val="000000"/>
                </a:solidFill>
                <a:latin typeface="Verdana"/>
              </a:rPr>
              <a:t>Jednostruko nezasićene masne kiseline</a:t>
            </a:r>
            <a:r>
              <a:rPr b="0" lang="en-AU" sz="1800" spc="-1" strike="noStrike">
                <a:solidFill>
                  <a:srgbClr val="000000"/>
                </a:solidFill>
                <a:latin typeface="Verdana"/>
              </a:rPr>
              <a:t> imaju samo jed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nu </a:t>
            </a:r>
            <a:r>
              <a:rPr b="0" lang="en-AU" sz="1800" spc="-1" strike="noStrike">
                <a:solidFill>
                  <a:srgbClr val="000000"/>
                </a:solidFill>
                <a:latin typeface="Verdana"/>
              </a:rPr>
              <a:t>dvostruku vezu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-</a:t>
            </a:r>
            <a:r>
              <a:rPr b="0" lang="en-A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AU" sz="1800" spc="-1" strike="noStrike">
                <a:solidFill>
                  <a:srgbClr val="000000"/>
                </a:solidFill>
                <a:latin typeface="Verdana"/>
              </a:rPr>
              <a:t>oleinska kiselina </a:t>
            </a:r>
            <a:r>
              <a:rPr b="0" lang="en-AU" sz="1800" spc="-1" strike="noStrike">
                <a:solidFill>
                  <a:srgbClr val="000000"/>
                </a:solidFill>
                <a:latin typeface="Verdana"/>
              </a:rPr>
              <a:t>(18:1, n-9) koja je najzastupljenija u maslinovom ulju i čini 55 do 83% svih masnih kiselin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AU" sz="1800" spc="-1" strike="noStrike">
                <a:solidFill>
                  <a:srgbClr val="000000"/>
                </a:solidFill>
                <a:latin typeface="Verdana"/>
              </a:rPr>
              <a:t>udući da ima jednu dvostruku vezu, reaktivnija je od zasićenih masnih kiselina.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Gliceridi oleinske kiseline su pri sobnoj temperaturi u tekućem stanju. Ima visoku biološku i prehrambenu vrijednost i lako je probavljiv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Verdana"/>
              </a:rPr>
              <a:t>Višestruko nezasićene masne kiseline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– linolna (18:2, n-6) i linolenska kiselina (18:3, n-3) – esencijalne masne kiseli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04920" y="1523880"/>
            <a:ext cx="8458200" cy="49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almitinska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kiselina (16:0) .....................................7,5 – 20,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lmitoleinska kiselina (16:1, n-7).............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....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......... 0,3 – 3,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tearinska kiselina (18:0)...................................... 0,5 – 5,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Oleinska kiselina (18:1</a:t>
            </a:r>
            <a:r>
              <a:rPr b="0" lang="hr-HR" sz="1800" spc="-1" strike="noStrike">
                <a:solidFill>
                  <a:srgbClr val="ff0000"/>
                </a:solidFill>
                <a:latin typeface="Verdana"/>
              </a:rPr>
              <a:t>,</a:t>
            </a:r>
            <a:r>
              <a:rPr b="0" lang="hr-HR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 n-9).................................. 55,0 – 83,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Linolna kiselina (18:2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n-6)................................... 3,5 – 21,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α-linolenska kiselina (18:3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-3)............................. 0,0 – 1,5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revladava jednostruko nezasićena oleinska kiselin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(lako probavljivo)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kromni udjel imaju zasićene masne kiseline palmitinska i stearinska te višestruko nezasićene masne kiseline linolna i α-linolenska, koje kao esencijalne masne kiseline daju posebno biološko značenje maslinovom ulju.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380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SASTAV MASNIH KISELINA U MASLINOVOM UL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43000" y="2133720"/>
            <a:ext cx="7772400" cy="34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rirodno maslinovo ulje visoke kvalitete ima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umjerenu količinu zasićenih masnih kiselina (oko 16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izrazito visok udjel oleinske kiseline (70-80%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ptimalnu količinu višestruko nezasićenih esencijalnih masnih kiselina (8-10%)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o tome se maslinovo ulje bitno razlikuje i vrijednije je od drugih jestivih masti i ul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002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ASTAV MASNIH KISELINA U MASLINOVOM ULJU</a:t>
            </a:r>
            <a:endParaRPr b="1" lang="en-US" sz="2400" spc="-1" strike="noStrike">
              <a:solidFill>
                <a:srgbClr val="ff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184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3300"/>
                </a:solidFill>
                <a:latin typeface="Verdana"/>
              </a:rPr>
              <a:t>Sadržaj ukupnih lipida i masnih kiselina (zasićenih, jednostruko nezasićenih</a:t>
            </a:r>
            <a:br>
              <a:rPr sz="1800"/>
            </a:br>
            <a:r>
              <a:rPr b="1" lang="de-DE" sz="1800" spc="-1" strike="noStrike">
                <a:solidFill>
                  <a:srgbClr val="ff3300"/>
                </a:solidFill>
                <a:latin typeface="Verdana"/>
              </a:rPr>
              <a:t>                (oleinska kiselina), višestruko nezasićenih (linolna, α-linolenska)) u osnovnim </a:t>
            </a:r>
            <a:br>
              <a:rPr sz="1800"/>
            </a:br>
            <a:r>
              <a:rPr b="1" lang="de-DE" sz="1800" spc="-1" strike="noStrike">
                <a:solidFill>
                  <a:srgbClr val="ff3300"/>
                </a:solidFill>
                <a:latin typeface="Verdana"/>
              </a:rPr>
              <a:t>                mastima i uljima (g/100 g jestivog dijela) 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4360" y="1773000"/>
            <a:ext cx="7488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623960" y="1317600"/>
          <a:ext cx="5896080" cy="3719520"/>
        </p:xfrm>
        <a:graphic>
          <a:graphicData uri="http://schemas.openxmlformats.org/drawingml/2006/table">
            <a:tbl>
              <a:tblPr/>
              <a:tblGrid>
                <a:gridCol w="5896080"/>
              </a:tblGrid>
              <a:tr h="371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1854000" y="5082480"/>
            <a:ext cx="25704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62120" y="1905120"/>
          <a:ext cx="8130960" cy="4390920"/>
        </p:xfrm>
        <a:graphic>
          <a:graphicData uri="http://schemas.openxmlformats.org/drawingml/2006/table">
            <a:tbl>
              <a:tblPr/>
              <a:tblGrid>
                <a:gridCol w="2143080"/>
                <a:gridCol w="1106280"/>
                <a:gridCol w="1629000"/>
                <a:gridCol w="1623960"/>
                <a:gridCol w="1628640"/>
              </a:tblGrid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sne kiseline (g/100 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lja i ma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kupni lipid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Zasić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Jednostruko nezasić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išestruko nezasić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sl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vinjska m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,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7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,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rgar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1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slinovo u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,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lje kikiriki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6,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lje kukuruznih kl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7,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jino ul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9,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uncokretovo ul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8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Kokosovo ul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33520" y="3808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Verdana"/>
              </a:rPr>
              <a:t>PRIRODNI ANTIOKSIDANSI U MASLINOVOM UL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19810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7524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47920" y="1828800"/>
            <a:ext cx="723888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FENOL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I SPOJEVI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(50-500 mg/kg)- biofen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AU" sz="1800" spc="-1" strike="noStrike">
                <a:solidFill>
                  <a:srgbClr val="000000"/>
                </a:solidFill>
                <a:latin typeface="Verdana"/>
              </a:rPr>
              <a:t>važan utjecaj ovih spojeva na stabilnost maslinovog ulja te na njegova prehrambena i biološka svojstva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-  štite nezasićene masne kiseline od oksidacijskih promjena i tako, indirektno pospješuju fiziološku i biološku ulogu koju navedeni spojevi imaju u organizm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-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aju zaštitnu ulogu kod degenerativnih promjena različitog porijekla jer sprječavaju nastajanje slobodnih radikala (štite organizam od kardiovaskularnih bolesti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- p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većavaju održivost ulja jer sprječavaju oksidacijske procese u samom ulju.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002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002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3300"/>
                </a:solidFill>
                <a:latin typeface="Verdana"/>
              </a:rPr>
              <a:t>Oleuropein</a:t>
            </a:r>
            <a:endParaRPr b="1" lang="en-US" sz="4400" spc="-1" strike="noStrike">
              <a:solidFill>
                <a:srgbClr val="ff3300"/>
              </a:solidFill>
              <a:latin typeface="Verdan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71640" y="2060640"/>
          <a:ext cx="3459240" cy="28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060640"/>
                    <a:ext cx="345924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4859280" y="2133720"/>
            <a:ext cx="4033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aje gorčinu maslinovom ul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droksitirosol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dukt razgradnje oleuropeina, sprječava oksidaciju lipoproteina niske gustoće (LDL) koji su jedan od glavnih uzročnika ateroskleroz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066680" y="1413000"/>
            <a:ext cx="73152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TOKOFEROLI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50-330 mg/kg)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α – oblik (vitamin E),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β, γ i δ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obl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- sinergističko djelovanje s polifenolima </a:t>
            </a:r>
            <a:r>
              <a:rPr b="0" lang="en-AU" sz="1800" spc="-1" strike="noStrike">
                <a:solidFill>
                  <a:srgbClr val="000000"/>
                </a:solidFill>
                <a:latin typeface="Verdana"/>
              </a:rPr>
              <a:t>na stabilnost djevičanskog maslinovog ulja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Verdana"/>
              </a:rPr>
              <a:t>imaju prirodno antioksidacijsko djelov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AU" sz="1800" spc="-1" strike="noStrike">
                <a:solidFill>
                  <a:srgbClr val="000000"/>
                </a:solidFill>
                <a:latin typeface="Verdana"/>
              </a:rPr>
              <a:t>nhibiraju proces oksidacijskog kvarenja ulja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STEROLI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(min. 1000 mg/kg) – fitostero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-glavni predstavnik: β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-sitosterol min. 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AU" sz="1800" spc="-1" strike="noStrike">
                <a:solidFill>
                  <a:srgbClr val="000000"/>
                </a:solidFill>
                <a:latin typeface="Verdana"/>
              </a:rPr>
              <a:t>ima važnu biološku vrijednost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-</a:t>
            </a:r>
            <a:r>
              <a:rPr b="0" lang="en-A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smanjuje crijevnu adsorpciju viška kolester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Verdana"/>
              </a:rPr>
              <a:t>imaju ulogu prirodnih antioksidansa i inhibitora procesa kvarenja ulj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5335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Verdana"/>
              </a:rPr>
              <a:t>PRIRODNI ANTIOKSIDANSI U MASLINOVOM UL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00000" y="155736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4360" y="436572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362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Verdana"/>
              </a:rPr>
              <a:t>PRIRODNI ANTIOKSIDANSI U MASLINOVOM ULJU</a:t>
            </a:r>
            <a:br>
              <a:rPr sz="2400"/>
            </a:br>
            <a:endParaRPr b="1" lang="en-US" sz="24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488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KLOROFIL (pigmentni spoj) –daje ulju zelenu boju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ivozeleni klorofil </a:t>
            </a: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i žutozeleni klorofil </a:t>
            </a: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, te feofitin </a:t>
            </a: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i feofitin </a:t>
            </a: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koji su smeđe boje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lorofil se lako razgrađuje u feofit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vježe maslinovo ulje sadrži 0 do 10 mg/kg klorofila i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od 0,2 do 24 mg/kg feofitin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antioksidans (u mraku),  pri svjetlu   je   prooksida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002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Maslinovo ulje u povijesti</a:t>
            </a:r>
            <a:endParaRPr b="1" lang="en-US" sz="36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488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stari Rimljani klasificirali maslinovo ulje u pet kategorija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i="1" lang="hr-HR" sz="1800" spc="-1" strike="noStrike">
                <a:solidFill>
                  <a:srgbClr val="000000"/>
                </a:solidFill>
                <a:latin typeface="Verdana"/>
              </a:rPr>
              <a:t>oleum exalbis ulivis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‘ dobiveno mljevenjem zelenih maslina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i="1" lang="hr-HR" sz="1800" spc="-1" strike="noStrike">
                <a:solidFill>
                  <a:srgbClr val="000000"/>
                </a:solidFill>
                <a:latin typeface="Verdana"/>
              </a:rPr>
              <a:t>oleum viride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‘ koje se dobivalo od zrelijih maslina, ‘</a:t>
            </a:r>
            <a:r>
              <a:rPr b="0" i="1" lang="hr-HR" sz="1800" spc="-1" strike="noStrike">
                <a:solidFill>
                  <a:srgbClr val="000000"/>
                </a:solidFill>
                <a:latin typeface="Verdana"/>
              </a:rPr>
              <a:t>oleum maturum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‘ od potpuno zrelih plodova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‘</a:t>
            </a:r>
            <a:r>
              <a:rPr b="0" i="1" lang="hr-HR" sz="1800" spc="-1" strike="noStrike">
                <a:solidFill>
                  <a:srgbClr val="000000"/>
                </a:solidFill>
                <a:latin typeface="Verdana"/>
              </a:rPr>
              <a:t>oleum caducum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‘ koje se dobivalo od plodava koji sami padnu na zemlju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i="1" lang="hr-HR" sz="1800" spc="-1" strike="noStrike">
                <a:solidFill>
                  <a:srgbClr val="000000"/>
                </a:solidFill>
                <a:latin typeface="Verdana"/>
              </a:rPr>
              <a:t>oleum cibarium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‘ namijenjeno prehrani robov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U židovskoj kulturi maslina predstavlja simbol mira i sreć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osnovna prehrambena namirnica, maslinovo ulje se koristilo prilikom svetih obreda, kao gorivo za lampe, za masažu, a poznato je bilo i njegovo blagotvorno djelovanje na zdravlj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002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3300"/>
                </a:solidFill>
                <a:latin typeface="Verdana"/>
              </a:rPr>
              <a:t>Skvalen</a:t>
            </a:r>
            <a:endParaRPr b="1" lang="en-US" sz="44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488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Ugljikovodik, proizvod biosinteze kolesterola, stimulira acetil-koenzim A, koji upravlja esterifikacijom kolesterola i koji je u vezi s razinom trigliceri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Utječe na apsorpciju, sintezu, esterifikaciju i eliminaciju kolesterol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Ima antioksidacijsko djelovanje slično djelovanju trans retinol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sprječava štetno djelovanje slobodnih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radikala, antikancerogena svojstva, štiti od štetnog utjecaja Sunčevog zračenj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R.W. Owen et al., J.Food Toxicol., 200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U. Cornelli et al., Progress Nutr., 200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002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PIRAMIDA MEDITERANSKE PREHRANE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760400" y="1773360"/>
            <a:ext cx="53355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3300"/>
                </a:solidFill>
                <a:latin typeface="Verdana"/>
              </a:rPr>
              <a:t>POZITIVNA ULOGA MASLINOVOG ULJA NA ZDRAVLJE</a:t>
            </a:r>
            <a:endParaRPr b="1" lang="en-US" sz="24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1676520"/>
            <a:ext cx="7848360" cy="48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zitivan zaštitni učinak na usporavanje cerebralnog staren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štiti od KARDIOVASKULARNIH BOLESTI (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manjuje razinu triglicerida i količinu LDL kolesterola, dok povećava razinu tzv. 'dobrog' kolesterola HDL (engl. high density lipoprotein ili lipoproteini visoke gustoć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štitna uloga kod nastajanja pojedinih </a:t>
            </a:r>
            <a:r>
              <a:rPr b="0" i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umor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posebno tumora dojke, prostate, debelog crijeva i maternice -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ravnotežen sastav masnih kiselina (jednostruko i višestruko nezasićenih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zitivno djelovanje na</a:t>
            </a:r>
            <a:r>
              <a:rPr b="0" i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krvni tl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14400" y="1981080"/>
            <a:ext cx="70102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boljšava metaboličke funkcije u organizmu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voljno utječe na </a:t>
            </a:r>
            <a:r>
              <a:rPr b="0" i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bavu hran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boljšava probavljivost i apsorpciju hranjivih tvari, sprječava upale jednjaka i pojavu žgaravice, sprječava upale želučane sluznice te čira želuca i dvanaesnika, a ima i blagi laksativni učinak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ao sastavni dio m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diteransk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g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način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prehrane (tzv. mediteranska dijeta) sprječava pojav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jabet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jeluje zaštitno i tonificira epidermu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eporučuj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se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za prevenciju kožnih oštećenja i smanjenje znakova starenja kož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voljno djelovanje kod problema s </a:t>
            </a:r>
            <a:r>
              <a:rPr b="0" i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steoporozom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utječ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na ponovnu mineralizaciju kostiju i potiče apsorpciju kalcij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33336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3300"/>
                </a:solidFill>
                <a:latin typeface="Verdana"/>
              </a:rPr>
              <a:t>POZITIVNA ULOGA MASLINOVOG ULJA NA ZDRAVL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611280" y="620640"/>
            <a:ext cx="806436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33"/>
                </a:solidFill>
                <a:latin typeface="Times New Roman"/>
              </a:rPr>
              <a:t>ZAKONSKA REGULATI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vilnik o uljima od ploda i komine maslina – Narodne novine 16. siječnja 2009.  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www.nn.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kon o hrani, Narodne novine 117 (2003) 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nn.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vilnik o općem deklariranju ili označavanju hrane - Narodne novine 114 (2004) 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www.nn.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vilnik o navođenju hranjivih vrijednosti hrane – Narodne novine 153 (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62120" y="30492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Verdana"/>
              </a:rPr>
              <a:t>HVALA NA POZOR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3889440" cy="48243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940360" y="1700280"/>
            <a:ext cx="230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08720" y="2205000"/>
            <a:ext cx="36352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Narrow"/>
              </a:rPr>
              <a:t>Mr.sc. Mirella Žaneti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Narrow"/>
              </a:rPr>
              <a:t>Institut za jadranske kulture i melioraciju krš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Narrow"/>
              </a:rPr>
              <a:t>Put Duilova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Narrow"/>
              </a:rPr>
              <a:t>21000 Sp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Narrow"/>
              </a:rPr>
              <a:t>Tel. 021 434-444, 434-4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Narrow"/>
              </a:rPr>
              <a:t>E-mail: mirella@krs.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002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Uloga masti u prehrani</a:t>
            </a:r>
            <a:endParaRPr b="1" lang="en-US" sz="36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488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Masti ili lipidi - osnovna grupa spojeva koji su neophodni za život čovjeka (uz bjelančevine, ugljikohidrate, vitamine, mineralne soli i vodu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imaju pretežno energetsku funkciju u organizmu (daju dvostruko više energije od bjelančevina i ugljikohidrata), ali i druge važne funkcij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kao sastavni dio fosfolipida nalaze se u staničnim membranama svih tkiva, izgrađuju lipoproteine, služe kao prekursori pojedinih hormo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imaju važnu ulogu u metabolizmu liposolubilnih vitamina (A, D, E, K) i njihova prisutnost u prehrani čini probavljivijima pojedine namirni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usporavaju probavu i produžuju osjećaj sitos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pojedine višestruko nezasićene masne kiseline su neophodne za normalni rad ljudskog organizma koji ih sam nije u stanju sintetizirati već se unose isključivo uzimanjem putem ishrane (linolna i α-linolenska kiselina) esencijalne masne kiseline‘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dnevna potreba organizma za mastima je 50-60 g, što predstavlja 25-30% ukupnih energetskih potreb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362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Pravilnik o uljima od ploda i komine maslina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(NN 07/09, 16. siječnja 2009)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488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Kategorije maslinovih ulj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Djevičanska maslinova ulja</a:t>
            </a: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Ekstra djevičansko maslinovo ulj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Djevičansko maslinovo ulj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Maslinovo ulje lampan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2) Rafinirano maslinovo ulje </a:t>
            </a: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(rafinacijom djevičanskih maslinovih ulja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3) Maslinovo ulje</a:t>
            </a: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 - sastavljeno od rafiniranog ulja i djevičanskih maslinovih ulj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4) Sirovo ulje komine maslin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5) Rafinirano ulje komine maslin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6) Ulje komine maslin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002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Definicija</a:t>
            </a:r>
            <a:endParaRPr b="1" lang="en-US" sz="36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6407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1295280"/>
            <a:ext cx="7848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jevičansko maslinovo ulje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proizvod dobiven izravno iz ploda masline isključivo mehaničkim postupcima, koji sadrži najviše 2 grama slobodnih masnih kiselina izraženih kao oleinska kiselina na 100 grama proizvoda i koji udovoljava svim zahtjevima karakterističnim za ovu kategoriju propisanim Pravilnikom o uljima od ploda i komine maslina (NN 07/0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796000" y="3933720"/>
            <a:ext cx="280332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002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Verdana"/>
              </a:rPr>
              <a:t>Međunarodna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norm</a:t>
            </a:r>
            <a:r>
              <a:rPr b="0" lang="hr-HR" sz="2800" spc="-1" strike="noStrike">
                <a:solidFill>
                  <a:srgbClr val="ff0000"/>
                </a:solidFill>
                <a:latin typeface="Verdana"/>
              </a:rPr>
              <a:t>a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 ISO – 8088</a:t>
            </a:r>
            <a:r>
              <a:rPr b="0" lang="hr-HR" sz="2800" spc="-1" strike="noStrike">
                <a:solidFill>
                  <a:srgbClr val="ff0000"/>
                </a:solidFill>
                <a:latin typeface="Verdana"/>
              </a:rPr>
              <a:t>, 1994.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 </a:t>
            </a:r>
            <a:br>
              <a:rPr sz="2800"/>
            </a:b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488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JEVIČANSKO MASLINOVO ULJ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'‘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ulje dobiveno iz ploda stabla masline (Olea europea, sativa, Hoffm. i Link) samo mehaničkim ili drugim fizičkim putem, pod uvjetima, a posebno toplinskim uvjetima, koji neće dovesti do promjena u ulju i koje neće biti podvrgnuto nikakvom drugom tretmanu osim pranja, dekantiranja, centrifugiranja i filtriranja, a isključuje ulja dobivena otapalima ili reesterifikacijom ili miješanjem s uljima bilo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je druge vrste''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STABLO MASLINE = PRIRODNI BIOKEMIJSK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LABORATORIJ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09480" y="304920"/>
            <a:ext cx="7848720" cy="59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Djevičansko maslinovo ulje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(prema Pravilniku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- kemijski parametri kvalite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SMK (% kao oleinska)  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Verdana"/>
              </a:rPr>
              <a:t>&lt;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2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PB (mmol O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/kg) 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Verdana"/>
              </a:rPr>
              <a:t>&lt;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K 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Verdana"/>
              </a:rPr>
              <a:t>232  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&lt; 2,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K 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Verdana"/>
              </a:rPr>
              <a:t>270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Verdana"/>
              </a:rPr>
              <a:t>&lt;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0,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∆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K 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&lt;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0,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* Pravilnik o temeljnim zahtjevima za ulja od ploda i komine maslina, Narodne novine (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iječanj, 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95280" y="26028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33336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ČIMBENICI KVALITETE DJEVIČANSKOG  MASLINOVOG UL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" y="126828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32360" y="1268280"/>
            <a:ext cx="388764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panj zrelosti ploda (pravovremeni trenutak berb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otehničke mjere (gnojidba, rezidba, navodnjavanje, zašti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čin berbe (ručno, mehaničk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Čuvanje ploda od berbe do prerade (način čuvanj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 ploda do ulj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upak (način) pre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Čuvanje (skladištenje) ul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4535640" cy="326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90720" y="1752480"/>
            <a:ext cx="3733560" cy="45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OSAPUNJIVI 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98,5-99,5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trigliceri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masne kiselin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zasićene (laurinska, miristinska,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mitinska, stearinska, arahinska, behenska, lignocerins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zasićene (jednostruko nezasićen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a-</a:t>
            </a:r>
            <a:r>
              <a:rPr b="0" lang="hr-HR" sz="1800" spc="-1" strike="noStrike">
                <a:solidFill>
                  <a:srgbClr val="ff0000"/>
                </a:solidFill>
                <a:latin typeface="Verdana"/>
              </a:rPr>
              <a:t>oleinsk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višestruko nezasićene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hr-HR" sz="1800" spc="-1" strike="noStrike">
                <a:solidFill>
                  <a:srgbClr val="ff0000"/>
                </a:solidFill>
                <a:latin typeface="Verdana"/>
              </a:rPr>
              <a:t>linolna, linolenska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457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Verdana"/>
              </a:rPr>
              <a:t>KEMIJSKI SASTAV MASLINOVOG UL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1752480"/>
            <a:ext cx="3505320" cy="40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NEOSAPUNJIVI DI</a:t>
            </a:r>
            <a:r>
              <a:rPr b="1" lang="hr-HR" sz="1800" spc="-1" strike="noStrike" u="sng">
                <a:solidFill>
                  <a:srgbClr val="000000"/>
                </a:solidFill>
                <a:uFillTx/>
                <a:latin typeface="Verdana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(1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ugljikovod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tokoferol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ster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fenolni spojevi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(polifenol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AU" sz="1800" spc="-1" strike="noStrike">
                <a:solidFill>
                  <a:srgbClr val="000000"/>
                </a:solidFill>
                <a:latin typeface="Verdana"/>
              </a:rPr>
              <a:t>klorofil, fitol, karotenoi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Verdana"/>
              </a:rPr>
              <a:t>- alifatski i triterpenski    </a:t>
            </a:r>
            <a:r>
              <a:rPr b="0" lang="en-A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Verdana"/>
              </a:rPr>
              <a:t>      alkoholi (eritrodiol i uva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Verdana"/>
              </a:rPr>
              <a:t>- ostali s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poje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4T07:18:23Z</dcterms:created>
  <dc:creator>Marija Jug-Dujakovic</dc:creator>
  <dc:description/>
  <dc:language>en-US</dc:language>
  <cp:lastModifiedBy>Marina Luetić</cp:lastModifiedBy>
  <dcterms:modified xsi:type="dcterms:W3CDTF">2009-10-12T11:00:51Z</dcterms:modified>
  <cp:revision>23</cp:revision>
  <dc:subject/>
  <dc:title>Slide 1</dc:title>
</cp:coreProperties>
</file>