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F53-F66E-4C44-9BE7-7789A4BE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859-0899-4B70-A970-89E2DD90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A99-DF3A-40EB-9ADE-A3E0FE78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450-DF1E-41C7-9A72-5428446B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167-5E80-4464-96B3-3B8465D6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2A2-E11F-4C4D-ABA0-A705B302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D06-5936-4A3B-A75C-B0EA8A98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77C-6B87-4E63-899B-15575777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BB6-94FB-45B3-B02B-422D82CE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4D0-0E51-455A-B40F-46B0C3A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685-C114-4CC7-AC84-AC4075C3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80D-0E72-44D7-A0D0-CFBD78EC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FC97-9C21-4F09-B8AA-E84326C7E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Tko su oni?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 m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LOOMS TAXONOMIE UND LESESTRATEG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RŽAVNI STRUČNI SKUP ZA VODITELJE ŽSV-a NJEMAČKOGA JEZIKA OSNOVNIH I SREDNJIH ŠKOLA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7. i 8. siječnja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nja Stub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990800" y="625320"/>
            <a:ext cx="54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DEFINIR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OBRAZOVNIH CILJEVA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11280" y="1916280"/>
            <a:ext cx="835344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00"/>
                </a:solidFill>
                <a:latin typeface="Arial"/>
              </a:rPr>
              <a:t>Potrebno je ispitati </a:t>
            </a:r>
            <a:r>
              <a:rPr b="0" lang="hr-HR" sz="2800" spc="-1" strike="noStrike" u="sng">
                <a:solidFill>
                  <a:srgbClr val="006600"/>
                </a:solidFill>
                <a:uFillTx/>
                <a:latin typeface="Arial"/>
              </a:rPr>
              <a:t>sve</a:t>
            </a:r>
            <a:r>
              <a:rPr b="0" lang="hr-HR" sz="2800" spc="-1" strike="noStrike">
                <a:solidFill>
                  <a:srgbClr val="006600"/>
                </a:solidFill>
                <a:latin typeface="Arial"/>
              </a:rPr>
              <a:t> razine znanja i kognitivnih procesa </a:t>
            </a:r>
            <a:r>
              <a:rPr b="0" lang="hr-HR" sz="2800" spc="-1" strike="noStrike" u="sng">
                <a:solidFill>
                  <a:srgbClr val="006600"/>
                </a:solidFill>
                <a:uFillTx/>
                <a:latin typeface="Arial"/>
              </a:rPr>
              <a:t>koje se mogu ispit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Jemeršić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, NCV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95280" y="549360"/>
            <a:ext cx="8001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6 </a:t>
            </a:r>
            <a:r>
              <a:rPr b="1" lang="hr-HR" sz="4000" spc="-1" strike="noStrike">
                <a:solidFill>
                  <a:srgbClr val="000066"/>
                </a:solidFill>
                <a:latin typeface="Arial"/>
              </a:rPr>
              <a:t>stuba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Bloom</a:t>
            </a:r>
            <a:r>
              <a:rPr b="1" lang="hr-HR" sz="4000" spc="-1" strike="noStrike">
                <a:solidFill>
                  <a:srgbClr val="000066"/>
                </a:solidFill>
                <a:latin typeface="Arial"/>
              </a:rPr>
              <a:t>ove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r-HR" sz="4000" spc="-1" strike="noStrike">
                <a:solidFill>
                  <a:srgbClr val="000066"/>
                </a:solidFill>
                <a:latin typeface="Arial"/>
              </a:rPr>
              <a:t>taksonom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8098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886200" y="5257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razumije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09880" y="4572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primj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962520" y="38098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809880" y="31240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int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3581280" y="24382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procj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358920" y="4005360"/>
            <a:ext cx="8785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1"/>
          <p:cNvSpPr txBox="1"/>
          <p:nvPr/>
        </p:nvSpPr>
        <p:spPr>
          <a:xfrm rot="5400000">
            <a:off x="6958440" y="2267640"/>
            <a:ext cx="2808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viša</a:t>
            </a:r>
            <a:endParaRPr b="0" i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WordArt 12"/>
          <p:cNvSpPr txBox="1"/>
          <p:nvPr/>
        </p:nvSpPr>
        <p:spPr>
          <a:xfrm rot="5400000">
            <a:off x="7282440" y="5326920"/>
            <a:ext cx="2160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niža</a:t>
            </a:r>
            <a:endParaRPr b="0" i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395280" y="549360"/>
            <a:ext cx="8001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6 </a:t>
            </a:r>
            <a:r>
              <a:rPr b="1" lang="hr-HR" sz="4000" spc="-1" strike="noStrike">
                <a:solidFill>
                  <a:srgbClr val="000066"/>
                </a:solidFill>
                <a:latin typeface="Arial"/>
              </a:rPr>
              <a:t>stuba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Bloom</a:t>
            </a:r>
            <a:r>
              <a:rPr b="1" lang="hr-HR" sz="4000" spc="-1" strike="noStrike">
                <a:solidFill>
                  <a:srgbClr val="000066"/>
                </a:solidFill>
                <a:latin typeface="Arial"/>
              </a:rPr>
              <a:t>ove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r-HR" sz="4000" spc="-1" strike="noStrike">
                <a:solidFill>
                  <a:srgbClr val="000066"/>
                </a:solidFill>
                <a:latin typeface="Arial"/>
              </a:rPr>
              <a:t>taksonom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2916360" y="55897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pamć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3886200" y="5257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3809880" y="4572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azumije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3962520" y="38098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3809880" y="31240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3581280" y="24382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21"/>
          <p:cNvSpPr txBox="1"/>
          <p:nvPr/>
        </p:nvSpPr>
        <p:spPr>
          <a:xfrm rot="5400000">
            <a:off x="6958440" y="2267640"/>
            <a:ext cx="2808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viša</a:t>
            </a:r>
            <a:endParaRPr b="0" i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WordArt 22"/>
          <p:cNvSpPr txBox="1"/>
          <p:nvPr/>
        </p:nvSpPr>
        <p:spPr>
          <a:xfrm rot="5400000">
            <a:off x="7282440" y="5326920"/>
            <a:ext cx="2160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niža</a:t>
            </a:r>
            <a:endParaRPr b="0" i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3708360" y="191628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ocj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3485160" y="19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3877200" y="271476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int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4226040" y="330984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4645800" y="400536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imj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9" descr=""/>
          <p:cNvPicPr/>
          <p:nvPr/>
        </p:nvPicPr>
        <p:blipFill>
          <a:blip r:embed="rId9"/>
          <a:stretch/>
        </p:blipFill>
        <p:spPr>
          <a:xfrm>
            <a:off x="611280" y="476280"/>
            <a:ext cx="7478640" cy="5697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0" descr=""/>
          <p:cNvPicPr/>
          <p:nvPr/>
        </p:nvPicPr>
        <p:blipFill>
          <a:blip r:embed="rId10"/>
          <a:stretch/>
        </p:blipFill>
        <p:spPr>
          <a:xfrm>
            <a:off x="684360" y="476280"/>
            <a:ext cx="7478640" cy="569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Razine zahtjevnosti kognitivnih proce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9640" y="692280"/>
          <a:ext cx="7993080" cy="59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799308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476280"/>
          <a:ext cx="8153280" cy="6121080"/>
        </p:xfrm>
        <a:graphic>
          <a:graphicData uri="http://schemas.openxmlformats.org/drawingml/2006/table">
            <a:tbl>
              <a:tblPr/>
              <a:tblGrid>
                <a:gridCol w="4876560"/>
                <a:gridCol w="3276720"/>
              </a:tblGrid>
              <a:tr h="93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tegorij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razine kognitivne zahtjev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ini ponašanj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isho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Prisjećanje: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posobnost doziva prethodno naučenih informa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jer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nabrojiti 3 komponente ciljeva poučavanj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brojiti, definirati, prepoznati, imenovati, dosjetiti se.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Razumijevanje: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posobnost razumijevanje značenja naučenih informaci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jer: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vesti karakteristike robovlasničkih društava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irati, objasniti, predvidjeti, sumirati.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Primjena: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sobnost upotrebe naučenoga u konkretnoj situacij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jer: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računati vrijednost nepoznanice u jednadžbi.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nstrirati, riješiti, upotrijebiti, izračunati, zaključiti, primijeniti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1397160"/>
          <a:ext cx="8001000" cy="4889520"/>
        </p:xfrm>
        <a:graphic>
          <a:graphicData uri="http://schemas.openxmlformats.org/drawingml/2006/table">
            <a:tbl>
              <a:tblPr/>
              <a:tblGrid>
                <a:gridCol w="5029200"/>
                <a:gridCol w="2971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Analiza: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posobnost razlaganja materijala na sastavne komponente radi razumijevanja organizacijske struktu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jer: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sporediti društvene, političke i kulturne promjene u kapitalizmu.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likovati, kategorizirati, razdvojiti, skicirati, identificirati, usporediti.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Evaluacija: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sobnost kvantitativnog i kvalitativnog prosuđivanja stupnja u kojem materijal udovoljava kriteriji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jer: Prosuditi vrijednost prič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pitivanje, kritiziranje; uspoređivanje, zaključivanje, prosuđivanje.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Sinteza: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sobnost kombiniranja dijelova u novu cjelin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jer: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Napisati priču na zadanu tem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eirati, organizirati, sastaviti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6600"/>
                </a:solidFill>
                <a:latin typeface="Arial"/>
              </a:rPr>
              <a:t>A mi u Jezerčici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250920" y="3933720"/>
            <a:ext cx="87138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771640" y="414972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Učim zato da naučim zadano gradivo i odgovorim na pitan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987640" y="263700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u</a:t>
            </a:r>
            <a:r>
              <a:rPr b="1" lang="en-US" sz="3600" spc="-1" strike="noStrike" u="sng">
                <a:solidFill>
                  <a:srgbClr val="006600"/>
                </a:solidFill>
                <a:uFillTx/>
                <a:latin typeface="Times New Roman"/>
              </a:rPr>
              <a:t>čim zato da uočim princip i riješim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050920" cy="19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2120" y="1773360"/>
            <a:ext cx="8039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RADA NASTAVNIH PROGRAMA PREMA PRISTUPU TEMELJENOM NA ISHODIMA UČENJA(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BLOO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osposobljavanja sveučilišnih nastavnika</a:t>
            </a:r>
            <a:br>
              <a:rPr sz="2000"/>
            </a:b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edicinski fakultet Sveučilišta u Rijeci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f.dr.sc. Dragica Bobin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4320" y="60480"/>
            <a:ext cx="8745480" cy="6681600"/>
            <a:chOff x="184320" y="60480"/>
            <a:chExt cx="8745480" cy="6681600"/>
          </a:xfrm>
        </p:grpSpPr>
        <p:sp>
          <p:nvSpPr>
            <p:cNvPr id="110" name=""/>
            <p:cNvSpPr/>
            <p:nvPr/>
          </p:nvSpPr>
          <p:spPr>
            <a:xfrm>
              <a:off x="383040" y="1160640"/>
              <a:ext cx="7460280" cy="144360"/>
            </a:xfrm>
            <a:prstGeom prst="rect">
              <a:avLst/>
            </a:prstGeom>
            <a:gradFill rotWithShape="0">
              <a:gsLst>
                <a:gs pos="0">
                  <a:srgbClr val="4c4884"/>
                </a:gs>
                <a:gs pos="100000">
                  <a:srgbClr val="ebeb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4320" y="6599160"/>
              <a:ext cx="8745480" cy="14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c4884"/>
                </a:gs>
                <a:gs pos="100000">
                  <a:srgbClr val="ebeb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7729200" y="60480"/>
              <a:ext cx="1153440" cy="124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384120" y="176040"/>
            <a:ext cx="8745480" cy="6681600"/>
            <a:chOff x="384120" y="176040"/>
            <a:chExt cx="8745480" cy="6681600"/>
          </a:xfrm>
        </p:grpSpPr>
        <p:sp>
          <p:nvSpPr>
            <p:cNvPr id="114" name=""/>
            <p:cNvSpPr/>
            <p:nvPr/>
          </p:nvSpPr>
          <p:spPr>
            <a:xfrm>
              <a:off x="582840" y="1276200"/>
              <a:ext cx="7460280" cy="144360"/>
            </a:xfrm>
            <a:prstGeom prst="rect">
              <a:avLst/>
            </a:prstGeom>
            <a:gradFill rotWithShape="0">
              <a:gsLst>
                <a:gs pos="0">
                  <a:srgbClr val="4c4884"/>
                </a:gs>
                <a:gs pos="100000">
                  <a:srgbClr val="ebeb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4120" y="6714720"/>
              <a:ext cx="8745480" cy="14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c4884"/>
                </a:gs>
                <a:gs pos="100000">
                  <a:srgbClr val="ebeb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7929000" y="176040"/>
              <a:ext cx="1153440" cy="124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1830600" y="4795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2560" y="47628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kcijski plan za uvođenje ishoda u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eljno pitan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to studenti trebaju znati/moći i učiniti kada završe stud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je kompetencije treba posjedovati student nakon završetka studijskog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mislite, kakav bi trebao biti liječnik koji bi vas liječ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ZAKLJUČAK – viši kognitivni proce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Vertika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snovn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rednj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veučiliš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ijagnoza*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Europska i svjetska istraživanja pokazuju da u današnjim školama prevladava frontalna, predavačko-prikazivačka nastava, odnosno receptivno učen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75 % nastave je verbalno i usmjereno na prenošenje znanja, mehaničko bubanje, jednostranu intelektualno-kognitivnu usmjerenost bez mogućnosti aktivnog uključivanja učenik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to uvjetuje zapuštanje socijalno-odgojnih aspekata, jačanje autoritativnog položaja učitelja, nedostatno  razvijanje samopouzdanja učenika i neuvažavanje individualnosti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00"/>
                </a:solidFill>
                <a:latin typeface="Arial"/>
              </a:rPr>
              <a:t>* </a:t>
            </a:r>
            <a:r>
              <a:rPr b="0" lang="hr-HR" sz="1400" spc="-1" strike="noStrike">
                <a:solidFill>
                  <a:srgbClr val="006600"/>
                </a:solidFill>
                <a:latin typeface="Arial"/>
              </a:rPr>
              <a:t>Marunčić, AZOO, vjerona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147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zultati ankete koja je provedena uz nacionalne ispit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0647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Angažiranost učenika na nastav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00"/>
                </a:solidFill>
                <a:latin typeface="Arial"/>
              </a:rPr>
              <a:t>55,1 % izjavljuje da na satu matematike ne rješavaju samostalno zadatk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00"/>
                </a:solidFill>
                <a:latin typeface="Arial"/>
              </a:rPr>
              <a:t>74,7 % izjavljuje da na satu hrvatskog jezika ne rade samostal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Nikada ne rade u manjim grup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00"/>
                </a:solidFill>
                <a:latin typeface="Arial"/>
              </a:rPr>
              <a:t>95,8 % iz matematik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00"/>
                </a:solidFill>
                <a:latin typeface="Arial"/>
              </a:rPr>
              <a:t>91,2 % iz hrvatskog jez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0" lang="hr-HR" sz="1400" spc="-1" strike="noStrike">
                <a:solidFill>
                  <a:srgbClr val="006600"/>
                </a:solidFill>
                <a:latin typeface="Arial"/>
              </a:rPr>
              <a:t>Marunčić, AZOO, vjerona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8720" y="2003400"/>
            <a:ext cx="8136000" cy="30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333399"/>
                </a:solidFill>
                <a:latin typeface="Arial"/>
              </a:rPr>
              <a:t>homo zappiens (</a:t>
            </a:r>
            <a:r>
              <a:rPr b="0" i="1" lang="hr-HR" sz="2100" spc="-1" strike="noStrike">
                <a:solidFill>
                  <a:srgbClr val="990000"/>
                </a:solidFill>
                <a:latin typeface="Arial Black"/>
              </a:rPr>
              <a:t>z</a:t>
            </a:r>
            <a:r>
              <a:rPr b="0" i="1" lang="en-US" sz="2100" spc="-1" strike="noStrike">
                <a:solidFill>
                  <a:srgbClr val="990000"/>
                </a:solidFill>
                <a:latin typeface="Arial Black"/>
              </a:rPr>
              <a:t>apping </a:t>
            </a:r>
            <a:r>
              <a:rPr b="0" i="1" lang="hr-HR" sz="2100" spc="-1" strike="noStrike">
                <a:solidFill>
                  <a:srgbClr val="990000"/>
                </a:solidFill>
                <a:latin typeface="Arial Black"/>
              </a:rPr>
              <a:t>je vještina konstruiranja smislenog znanja iz diskontinuiranih audio-vizualnih i tekstualnih izvora informacija</a:t>
            </a:r>
            <a:r>
              <a:rPr b="0" lang="hr-HR" sz="2100" spc="-1" strike="noStrike">
                <a:solidFill>
                  <a:srgbClr val="990000"/>
                </a:solidFill>
                <a:latin typeface="Arial Black"/>
              </a:rPr>
              <a:t>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333399"/>
                </a:solidFill>
                <a:latin typeface="Arial"/>
              </a:rPr>
              <a:t>Kreativno rješava problem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333399"/>
                </a:solidFill>
                <a:latin typeface="Arial"/>
              </a:rPr>
              <a:t>Lako komunicir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333399"/>
                </a:solidFill>
                <a:latin typeface="Arial"/>
              </a:rPr>
              <a:t>Uči samousmjeren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6920" y="177840"/>
            <a:ext cx="688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260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 nasuprot tome 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00"/>
                </a:solidFill>
                <a:latin typeface="Arial"/>
              </a:rPr>
              <a:t>Matura*</a:t>
            </a:r>
            <a:r>
              <a:rPr b="1" lang="hr-HR" sz="3200" spc="-1" strike="noStrike">
                <a:solidFill>
                  <a:srgbClr val="0066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hr-HR" sz="3200" spc="-1" strike="noStrike">
                <a:solidFill>
                  <a:srgbClr val="006600"/>
                </a:solidFill>
                <a:latin typeface="Trebuchet MS"/>
              </a:rPr>
              <a:t>Očekivani ish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599"/>
              </a:spcBef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00"/>
                </a:solidFill>
                <a:latin typeface="Trebuchet MS"/>
              </a:rPr>
              <a:t>Reduciranje reproduktivnog pristupa znanju - od faktografije 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599"/>
              </a:spcBef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6600"/>
                </a:solidFill>
                <a:uFillTx/>
                <a:latin typeface="Trebuchet MS"/>
              </a:rPr>
              <a:t>rješavanju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599"/>
              </a:spcBef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6600"/>
                </a:solidFill>
                <a:uFillTx/>
                <a:latin typeface="Trebuchet MS"/>
              </a:rPr>
              <a:t>Viša razina znanja i kompetencija, bolje vještine samostalnog uč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599"/>
              </a:spcBef>
              <a:buClr>
                <a:srgbClr val="00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*Bezinović, I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2360" y="1359000"/>
            <a:ext cx="568152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00"/>
                </a:solidFill>
                <a:latin typeface="Trebuchet MS"/>
              </a:rPr>
              <a:t>Koji se onda mje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6600"/>
                </a:solidFill>
                <a:uFillTx/>
                <a:latin typeface="Trebuchet MS"/>
              </a:rPr>
              <a:t>   </a:t>
            </a:r>
            <a:r>
              <a:rPr b="0" lang="hr-HR" sz="3200" spc="-1" strike="noStrike" u="sng">
                <a:solidFill>
                  <a:srgbClr val="006600"/>
                </a:solidFill>
                <a:uFillTx/>
                <a:latin typeface="Trebuchet MS"/>
              </a:rPr>
              <a:t>viši kognitivni procesi, dublje razumijevanje, rješavanje problema, kritičko mišljenje</a:t>
            </a:r>
            <a:r>
              <a:rPr b="0" lang="hr-HR" sz="3200" spc="-1" strike="noStrike">
                <a:solidFill>
                  <a:srgbClr val="006600"/>
                </a:solidFill>
                <a:latin typeface="Trebuchet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*Bezinović, I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5700600" cy="1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591080" cy="4365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54900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00"/>
                </a:solidFill>
                <a:latin typeface="Trebuchet MS"/>
              </a:rPr>
              <a:t>Ispitni materijali provjeravaju vještine korištenja viših kognitivnih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8600" y="3246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74640" y="606276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Bezinović, I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OSNOVNI CILJEVI PROJEKTA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00"/>
                </a:solidFill>
                <a:latin typeface="Arial"/>
              </a:rPr>
              <a:t>Utvrditi koliko su učenici osposobljeni za samostalno </a:t>
            </a:r>
            <a:r>
              <a:rPr b="0" lang="hr-HR" sz="2800" spc="-1" strike="noStrike" u="sng">
                <a:solidFill>
                  <a:srgbClr val="006600"/>
                </a:solidFill>
                <a:uFillTx/>
                <a:latin typeface="Arial"/>
              </a:rPr>
              <a:t>rješavanje problema razmišljanjem i smislenim učenj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00"/>
                </a:solidFill>
                <a:latin typeface="Arial"/>
              </a:rPr>
              <a:t>Utvrditi razinu stečenih znanja, vještina i kompetencija učenika … 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00"/>
                </a:solidFill>
                <a:latin typeface="Arial"/>
              </a:rPr>
              <a:t>završetku četvrtoga raz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Jemeršić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, NCV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179280" y="333360"/>
            <a:ext cx="896472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00"/>
                </a:solidFill>
                <a:latin typeface="Arial"/>
              </a:rPr>
              <a:t>Opći ciljevi ispita u razrednoj nast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6600"/>
                </a:solidFill>
                <a:latin typeface="Arial"/>
              </a:rPr>
              <a:t>(Hrvatski jezik, Matematika, Priroda i društvo, strani jezik u redovnoj nasta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hr-HR" sz="2800" spc="-1" strike="noStrike">
                <a:solidFill>
                  <a:srgbClr val="006600"/>
                </a:solidFill>
                <a:latin typeface="Arial"/>
              </a:rPr>
              <a:t>osposobljenost  za komunikaciju na hrvatskom i prvom stranom jeziku koja se očituje u jezičnim djelatnostima slušanja, čitanja i pis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6600"/>
                </a:solidFill>
                <a:latin typeface="Arial"/>
              </a:rPr>
              <a:t>osposobljenost za </a:t>
            </a:r>
            <a:r>
              <a:rPr b="0" i="1" lang="hr-HR" sz="2800" spc="-1" strike="noStrike" u="sng">
                <a:solidFill>
                  <a:srgbClr val="006600"/>
                </a:solidFill>
                <a:uFillTx/>
                <a:latin typeface="Arial"/>
              </a:rPr>
              <a:t>kritičko mišljenje</a:t>
            </a:r>
            <a:r>
              <a:rPr b="0" i="1" lang="hr-HR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6600"/>
                </a:solidFill>
                <a:latin typeface="Arial"/>
              </a:rPr>
              <a:t>ovladanost osnovnom matematičkom i prirodoslovnom pismenošću, osposobljenost </a:t>
            </a:r>
            <a:r>
              <a:rPr b="0" i="1" lang="hr-HR" sz="2800" spc="-1" strike="noStrike" u="sng">
                <a:solidFill>
                  <a:srgbClr val="006600"/>
                </a:solidFill>
                <a:uFillTx/>
                <a:latin typeface="Arial"/>
              </a:rPr>
              <a:t>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 u="sng">
                <a:solidFill>
                  <a:srgbClr val="006600"/>
                </a:solidFill>
                <a:uFillTx/>
                <a:latin typeface="Arial"/>
              </a:rPr>
              <a:t>rješavanje problema</a:t>
            </a:r>
            <a:r>
              <a:rPr b="0" i="1" lang="hr-HR" sz="2800" spc="-1" strike="noStrike">
                <a:solidFill>
                  <a:srgbClr val="006600"/>
                </a:solidFill>
                <a:latin typeface="Arial"/>
              </a:rPr>
              <a:t> primjenom činjeničnoga, konceptualnoga i procesnog znanja stečenoga u svim nastavnim područj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Jemeršić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, NCV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5:11:11Z</dcterms:created>
  <dc:creator>Lenovo</dc:creator>
  <dc:description/>
  <dc:language>en-US</dc:language>
  <cp:lastModifiedBy>acrkvencic</cp:lastModifiedBy>
  <dcterms:modified xsi:type="dcterms:W3CDTF">2009-01-13T08:07:10Z</dcterms:modified>
  <cp:revision>21</cp:revision>
  <dc:subject/>
  <dc:title>Slide 1</dc:title>
</cp:coreProperties>
</file>