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4.jpeg" ContentType="image/jpeg"/>
  <Override PartName="/ppt/media/image22.wmf" ContentType="image/x-wmf"/>
  <Override PartName="/ppt/media/image20.jpeg" ContentType="image/jpeg"/>
  <Override PartName="/ppt/media/image21.jpeg" ContentType="image/jpeg"/>
  <Override PartName="/ppt/media/image27.jpeg" ContentType="image/jpeg"/>
  <Override PartName="/ppt/media/image6.jpeg" ContentType="image/jpeg"/>
  <Override PartName="/ppt/media/image33.jpeg" ContentType="image/jpeg"/>
  <Override PartName="/ppt/media/image11.jpeg" ContentType="image/jpeg"/>
  <Override PartName="/ppt/media/image29.jpeg" ContentType="image/jpeg"/>
  <Override PartName="/ppt/media/image8.jpeg" ContentType="image/jpeg"/>
  <Override PartName="/ppt/media/image10.jpeg" ContentType="image/jpeg"/>
  <Override PartName="/ppt/media/image13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9.png" ContentType="image/png"/>
  <Override PartName="/ppt/media/image34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3.png" ContentType="image/png"/>
  <Override PartName="/ppt/media/image17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14.jpeg" ContentType="image/jpeg"/>
  <Override PartName="/ppt/media/image15.jpeg" ContentType="image/jpeg"/>
  <Override PartName="/ppt/media/image5.wmf" ContentType="image/x-wmf"/>
  <Override PartName="/ppt/media/image16.jpeg" ContentType="image/jpeg"/>
  <Override PartName="/ppt/media/image18.jpeg" ContentType="image/jpeg"/>
  <Override PartName="/ppt/media/image19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5EA30-7970-4F72-A787-CE94DFD7D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6DF13-D3EF-40A0-A092-51AA64B12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67FDF-8C9B-4F2A-8B5C-D05713B68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0698A-201E-410D-8765-106A1211B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7AED3-BAA5-4997-82B1-435817637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025D0-9DC4-46CC-8CAE-D2E7C16B8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A9C05-1BB1-4D18-AFA8-13850A7DD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789B6-298D-4D7A-BE19-A41D5A4C8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14965-6DB0-428B-9DE3-4B7BBD1CA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C5205-3114-40B0-AB96-FDC4119E5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7D75E-7027-4F85-968A-29CA21631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9F4A7-52A0-491B-89E1-19296ABE1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A47DD-7110-4A3D-82C4-64E880B6CF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ourstolenfuture.org/NewScience/lowdose/nonmonotonic.htm#vomSaal" TargetMode="External"/><Relationship Id="rId2" Type="http://schemas.openxmlformats.org/officeDocument/2006/relationships/hyperlink" Target="http://www.ourstolenfuture.org/NewScience/lowdose/nonmonotonic.htm#vomSaal" TargetMode="External"/><Relationship Id="rId3" Type="http://schemas.openxmlformats.org/officeDocument/2006/relationships/hyperlink" Target="http://www.ourstolenfuture.org/NewScience/lowdose/nonmonotonic.htm#vomSaal" TargetMode="External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000000"/>
                </a:solidFill>
                <a:latin typeface="Arial"/>
              </a:rPr>
              <a:t>Bisfenol A</a:t>
            </a:r>
            <a:br>
              <a:rPr sz="4400"/>
            </a:br>
            <a:r>
              <a:rPr b="1" i="1" lang="hr-HR" sz="3200" spc="-1" strike="noStrike">
                <a:solidFill>
                  <a:srgbClr val="000000"/>
                </a:solidFill>
                <a:latin typeface="Arial"/>
              </a:rPr>
              <a:t>Od kolijevke do grob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header" descr=""/>
          <p:cNvPicPr/>
          <p:nvPr/>
        </p:nvPicPr>
        <p:blipFill>
          <a:blip r:embed="rId1"/>
          <a:srcRect l="0" t="0" r="43698" b="19266"/>
          <a:stretch/>
        </p:blipFill>
        <p:spPr>
          <a:xfrm>
            <a:off x="4859280" y="5950080"/>
            <a:ext cx="4089600" cy="709560"/>
          </a:xfrm>
          <a:prstGeom prst="rect">
            <a:avLst/>
          </a:prstGeom>
          <a:ln w="0">
            <a:noFill/>
          </a:ln>
        </p:spPr>
      </p:pic>
      <p:pic>
        <p:nvPicPr>
          <p:cNvPr id="43" name="agencija_hr" descr=""/>
          <p:cNvPicPr/>
          <p:nvPr/>
        </p:nvPicPr>
        <p:blipFill>
          <a:blip r:embed="rId2"/>
          <a:stretch/>
        </p:blipFill>
        <p:spPr>
          <a:xfrm>
            <a:off x="324000" y="5950080"/>
            <a:ext cx="1689120" cy="725400"/>
          </a:xfrm>
          <a:prstGeom prst="rect">
            <a:avLst/>
          </a:prstGeom>
          <a:ln w="12600">
            <a:solidFill>
              <a:srgbClr val="ff0000"/>
            </a:solidFill>
            <a:miter/>
          </a:ln>
        </p:spPr>
      </p:pic>
      <p:pic>
        <p:nvPicPr>
          <p:cNvPr id="44" name="hr)si-si" descr=""/>
          <p:cNvPicPr/>
          <p:nvPr/>
        </p:nvPicPr>
        <p:blipFill>
          <a:blip r:embed="rId3"/>
          <a:stretch/>
        </p:blipFill>
        <p:spPr>
          <a:xfrm>
            <a:off x="8415360" y="5934240"/>
            <a:ext cx="533520" cy="7254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139760" y="299700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4573080"/>
            <a:ext cx="73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ržavni stručni skup Zdravlje, prehrana i okoliš</a:t>
            </a:r>
            <a:r>
              <a:rPr b="0" i="1" lang="hr-H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za učitelje i nastavnike biologije i kemije osnovnih i srednjih škola svih županij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630160" y="2421000"/>
            <a:ext cx="392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Valerije Vrč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Farmaceutsko-biokemijski fakult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Sveučilište u Zagreb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2340000" y="5445000"/>
            <a:ext cx="2408040" cy="24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7920" y="189000"/>
            <a:ext cx="9172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vom Saal, FS, SM Belcher, LJ Guillette, R Hauser, JP Myers, GS Prins, WV Welshon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JJ Heindel </a:t>
            </a:r>
            <a:r>
              <a:rPr b="0" i="1" lang="hr-HR" sz="1800" spc="-1" strike="noStrike">
                <a:solidFill>
                  <a:srgbClr val="000000"/>
                </a:solidFill>
                <a:latin typeface="Arial"/>
              </a:rPr>
              <a:t>et al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0000"/>
                </a:solidFill>
                <a:latin typeface="Arial"/>
              </a:rPr>
              <a:t>Chapel Hill Bisphenol A Expert Panel Consensus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 Statement: Integration of mechanism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effects in animals and potential impact to human health at current exposure levels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1800" spc="-1" strike="noStrike">
                <a:solidFill>
                  <a:srgbClr val="000000"/>
                </a:solidFill>
                <a:latin typeface="Arial"/>
              </a:rPr>
              <a:t>Reproductive Toxicology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2007, </a:t>
            </a:r>
            <a:r>
              <a:rPr b="0" i="1" lang="hr-HR" sz="1800" spc="-1" strike="noStrike">
                <a:solidFill>
                  <a:srgbClr val="000000"/>
                </a:solidFill>
                <a:latin typeface="Arial"/>
              </a:rPr>
              <a:t>24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13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908000" y="1844640"/>
            <a:ext cx="54216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395280" y="836640"/>
            <a:ext cx="4038480" cy="23623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3207600" y="189000"/>
            <a:ext cx="216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Nova toksikologija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619280" y="1989000"/>
            <a:ext cx="792000" cy="503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044720" y="155736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LOE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971640" y="2492280"/>
            <a:ext cx="792000" cy="503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70160" y="2125800"/>
            <a:ext cx="95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NOE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637800" y="314172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do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814520" y="314172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do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158520" y="64911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do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41080" y="3357720"/>
            <a:ext cx="54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TD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55640" y="2565360"/>
            <a:ext cx="0" cy="792360"/>
          </a:xfrm>
          <a:prstGeom prst="line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4788000" y="836640"/>
            <a:ext cx="4038480" cy="23670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2124000" y="3429000"/>
            <a:ext cx="4924440" cy="302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250920" y="4292640"/>
            <a:ext cx="8642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m Saal, F, BG Timms, MM Montano, P Palanza, KA Thayer, SC Nagel, MD Dhar, VK Ganjam, S Parmigiani and WV Welshons.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997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Prostate enlargement in mice due to fetal exposure to low doses of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estradiol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 or diethylstilbestrol and opposite effects at high doses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roceedings of the National Academy of Sciences US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94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56-6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2050920" y="620640"/>
            <a:ext cx="4896000" cy="30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187280" y="189000"/>
            <a:ext cx="6626520" cy="25048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24000" y="3141720"/>
            <a:ext cx="4851360" cy="313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38680" y="6256440"/>
            <a:ext cx="568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Dnevna “konzumacija” BPA iznosi oko 100 mg dnev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954000" y="398520"/>
            <a:ext cx="7236000" cy="591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6165720"/>
            <a:ext cx="8964720" cy="49392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826920" y="333360"/>
            <a:ext cx="7315200" cy="575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096920" y="-11160"/>
            <a:ext cx="6950160" cy="68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57240"/>
            <a:ext cx="9144000" cy="674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1052640"/>
            <a:ext cx="9144000" cy="3385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Brzina migracije bisfenola A iz polikarbonatne plastik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raste s vremenom (starenjem bočica), a posebno se ubrzav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zagrijavanjem, stvaranjem sitnih ogrebotina (tijekom čišćenja), ili korištenjem takvih plastičnih posuda za zagrijavanje u mikrovalnoj pećnici. Znanstvena istraživanja jasno ukazuju da polikarbonatna plastika nije inertan materijal, niti je prikladna ambalaža za čuvanje hrane ili pić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rcRect l="0" t="60700" r="45280" b="0"/>
          <a:stretch/>
        </p:blipFill>
        <p:spPr>
          <a:xfrm>
            <a:off x="0" y="4653000"/>
            <a:ext cx="5003640" cy="22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762120" y="6480"/>
            <a:ext cx="7619760" cy="684504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486400" y="5029200"/>
            <a:ext cx="335268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00200" y="5334120"/>
            <a:ext cx="266688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1600200" y="6476760"/>
            <a:ext cx="6705720" cy="7596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179280" y="620640"/>
            <a:ext cx="1755720" cy="153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1908000" y="1989000"/>
          <a:ext cx="4608720" cy="134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8000" y="1989000"/>
                    <a:ext cx="4608720" cy="13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468360" y="33336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000000"/>
                </a:solidFill>
                <a:latin typeface="Arial"/>
              </a:rPr>
              <a:t>Bisfenol A</a:t>
            </a:r>
            <a:br>
              <a:rPr sz="4400"/>
            </a:br>
            <a:r>
              <a:rPr b="1" i="1" lang="hr-HR" sz="3200" spc="-1" strike="noStrike">
                <a:solidFill>
                  <a:srgbClr val="000000"/>
                </a:solidFill>
                <a:latin typeface="Arial"/>
              </a:rPr>
              <a:t>Od kolijevke do grob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61360" y="3789360"/>
            <a:ext cx="822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1891. Kemijska sinteza </a:t>
            </a:r>
            <a:r>
              <a:rPr b="0" lang="hr-HR" sz="1800" spc="-1" strike="noStrike">
                <a:solidFill>
                  <a:srgbClr val="ff0000"/>
                </a:solidFill>
                <a:latin typeface="Arial"/>
              </a:rPr>
              <a:t>BPA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 u laboratorij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1953. Započinje industrijska proizvodnja </a:t>
            </a:r>
            <a:r>
              <a:rPr b="0" lang="hr-HR" sz="1800" spc="-1" strike="noStrike">
                <a:solidFill>
                  <a:srgbClr val="ff0000"/>
                </a:solidFill>
                <a:latin typeface="Arial"/>
              </a:rPr>
              <a:t>BPA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 – priprava polikarbonatne plasti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2007. 3 milijuna tona </a:t>
            </a:r>
            <a:r>
              <a:rPr b="0" lang="hr-HR" sz="1800" spc="-1" strike="noStrike">
                <a:solidFill>
                  <a:srgbClr val="ff0000"/>
                </a:solidFill>
                <a:latin typeface="Arial"/>
              </a:rPr>
              <a:t>BPA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 godišn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2015. 7 milijuna tona </a:t>
            </a:r>
            <a:r>
              <a:rPr b="0" lang="hr-HR" sz="1800" spc="-1" strike="noStrike">
                <a:solidFill>
                  <a:srgbClr val="ff0000"/>
                </a:solidFill>
                <a:latin typeface="Arial"/>
              </a:rPr>
              <a:t>BPA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 godišnje (</a:t>
            </a:r>
            <a:r>
              <a:rPr b="0" i="1" lang="hr-HR" sz="1800" spc="-1" strike="noStrike">
                <a:solidFill>
                  <a:srgbClr val="000000"/>
                </a:solidFill>
                <a:latin typeface="Arial"/>
              </a:rPr>
              <a:t>China Chemical Industry News 2005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2360" y="5229360"/>
            <a:ext cx="531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0000"/>
                </a:solidFill>
                <a:latin typeface="Arial"/>
              </a:rPr>
              <a:t>B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jeftin, koristan, tvrd, otporan, proziran, toksičan 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685800" y="-11160"/>
            <a:ext cx="7772400" cy="68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4478400"/>
            <a:ext cx="9144000" cy="1465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Od ukupno 115 znanstvenih radova u njih 94 dokazani su štetni učinc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bisfenola A i to u koncentracijama koje su niže od službeno "preporučene"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dnevne doze za ljude (50 mikrograma na kilogram tjelesne težine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Preostale znanstvene radove, u kojima nisu uočena štetna djelovanj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bisfenola A, uglavnom je financijski podupirala industrija plastike.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388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643280" y="1600200"/>
            <a:ext cx="4043520" cy="406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800" spc="-1" strike="noStrike">
                <a:solidFill>
                  <a:srgbClr val="000000"/>
                </a:solidFill>
                <a:latin typeface="Arial"/>
              </a:rPr>
              <a:t>Mehanizmi kojima se koristi industrija kako bi otežala ili potpuno spriječila proces pretvaranja znanstvenih rezultata u regulacije ili zakone kojima se štiti ljudsko zdravlje i okoli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468360" y="549360"/>
            <a:ext cx="352728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5148360" y="4610160"/>
            <a:ext cx="3713040" cy="224784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221440" y="6021360"/>
            <a:ext cx="3671640" cy="792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467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584360" y="0"/>
            <a:ext cx="5973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Slom polikarbonatnog carstv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0000"/>
                </a:solidFill>
                <a:latin typeface="Arial"/>
              </a:rPr>
              <a:t>2006. godine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u Kaliforniji prvi pokušaj sudske zabrane uporabe bisfenola A za proizvodnju dječjih bočic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0000"/>
                </a:solidFill>
                <a:latin typeface="Arial"/>
              </a:rPr>
              <a:t>Krajem 2008. godine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Kanada postaje prva zemlja u kojoj se zabranjuju dječji proizvodi od polikarbonatne plastik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0000"/>
                </a:solidFill>
                <a:latin typeface="Arial"/>
              </a:rPr>
              <a:t>2009. godine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uvedene su zabrane u saveznoj državi New York, a zabrane bisfenola A razmatraju se i u saveznim državama Washington, Minnesota i Connecticu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Veliki trgovački lanci, npr. Wal-Mart i Toys R Us, povukli su sve artikle od polikarbonatne plastike sa svojih pol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0000"/>
                </a:solidFill>
                <a:latin typeface="Arial"/>
              </a:rPr>
              <a:t>Veljača 2009. godine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šest velikih kompanija (Playtex, Gerber, Evenflo, Avent, Dr. Brown i Disney) najavile da odustaju od proizvodnje polikarbonatnih posuda za piće i jel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0000"/>
                </a:solidFill>
                <a:latin typeface="Arial"/>
              </a:rPr>
              <a:t>Ožujak 2009. godine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Kemijska kompanija Sunoco prekida prodaju bisfenola A namijenjenog proizvodnji polikarbonatnih posud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831320" y="5950080"/>
            <a:ext cx="4507200" cy="398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Od nafte do polikarbonatne plastik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5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82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rcRect l="0" t="0" r="69271" b="18990"/>
          <a:stretch/>
        </p:blipFill>
        <p:spPr>
          <a:xfrm>
            <a:off x="3708360" y="2276640"/>
            <a:ext cx="2390760" cy="21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95280" y="115920"/>
            <a:ext cx="8229600" cy="53172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2050920" y="620640"/>
            <a:ext cx="4969080" cy="597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Endokrini disrup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Locirano preko 200 disruptora (</a:t>
            </a:r>
            <a:r>
              <a:rPr b="0" i="1" lang="hr-HR" sz="2400" spc="-1" strike="noStrike">
                <a:solidFill>
                  <a:srgbClr val="000000"/>
                </a:solidFill>
                <a:latin typeface="Arial"/>
              </a:rPr>
              <a:t>Environment Directorate – General of the EC 2008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Hormonski ka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Poremećaji metabolizma, imuniteta, rasta i razvoja tijekom djetinjstva, ponašanja, nervnog i kardiovaskularnog sustava, rak dojke i prostate, poremećaji rada štitnjač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"/>
          <p:cNvGraphicFramePr/>
          <p:nvPr/>
        </p:nvGraphicFramePr>
        <p:xfrm>
          <a:off x="609480" y="1752480"/>
          <a:ext cx="8229600" cy="466236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PA causes changes in rat ventral prostate cells that appear similar to events that make nascent prostate tumors in humans more potent: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amos, JG, J Varayoud, C Sonnenschein, AM Soto, M Muñoz de Toro and EH Luque.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Prenatal Exposure to Low Doses of Bisphenol A Alters the Periductal Stroma and Glandular Cell Function in the Rat Ventral Prostate.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iology of Reproduction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65: 1271–1277.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PA induces changes in mouse mammary tissue that resemble early stages mouse and human of breast cancer: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rkey, CM, EH Luque, M Muñoz de Toro, C Sonnenschein and AM Soto.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In Utero Exposure to Bisphenol A Alters the Development and Tissue Organization of the Mouse Mammary Gland.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iology of Reproduction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65: 1215–1223.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PA at extremely low levels creates superfemale snails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ehlmann, J, U Schulte-Oehlmann, M Tillmann and B Markert.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0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Effects of endocrine disruptors on Prosobranch snails (Mollusca: Gastropoda) in the laboratory. Part I: Bisphenol A and Octylphenol as xenoestrogens.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cotoxicolog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9:383-397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684360" y="333360"/>
            <a:ext cx="7851600" cy="126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0" y="5392800"/>
            <a:ext cx="9144000" cy="1465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Kod miševa, koji žive u kavezima izrađenima od polikarbonatne plastike, dolazi do učestalih poremećaja diobe spolnih stanica što dovodi do teških oštećenja ploda i spontanih pobačaja. Takve poremećaje uzrokuje endokrini disruptor bisfenol A koji se nalazi u polikarbonatnoj plastici i lako se "izvlači" iz te plastike običnim pranjem vodo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468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5943600"/>
            <a:ext cx="9144000" cy="9158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Arial"/>
              </a:rPr>
              <a:t>Timms, BG, KL Howdeshell, L Barton, S Bradley, CA Richter and FS vom Saa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Arial"/>
              </a:rPr>
              <a:t>Estrogenic chemicals in plastic and oral contraceptives disrupt development of the fetal mouse prostate and urethra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1200" spc="-1" strike="noStrike">
                <a:solidFill>
                  <a:srgbClr val="000000"/>
                </a:solidFill>
                <a:latin typeface="Arial"/>
              </a:rPr>
              <a:t>Proceedings of the National Academy of Sciences </a:t>
            </a:r>
            <a:r>
              <a:rPr b="1" lang="hr-HR" sz="1200" spc="-1" strike="noStrike">
                <a:solidFill>
                  <a:srgbClr val="000000"/>
                </a:solidFill>
                <a:latin typeface="Arial"/>
              </a:rPr>
              <a:t>2005;</a:t>
            </a:r>
            <a:r>
              <a:rPr b="0" i="1" lang="hr-HR" sz="1200" spc="-1" strike="noStrike">
                <a:solidFill>
                  <a:srgbClr val="000000"/>
                </a:solidFill>
                <a:latin typeface="Arial"/>
              </a:rPr>
              <a:t>http://www.pnas.org/cgi/content/abstract/0502544102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867280" y="0"/>
            <a:ext cx="3276720" cy="4961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BPA štetno djeluje na fetalni razvoj prostate i mokraćovoda. Mikroskopske promjene često su neuočljive pri rođenju, ali dovode do kasnijih problema s funkcijom prostate – povećanje prostate i razvoj tumora. U eksperimentima su primijenjene dnevne doze od samo 10 mikrograma po kilogramu tjelesne težine, dakle pet puta manje od one doze koja je službeno proglašena „sigurnom“. Roger Kirby, urolog u londonskoj bolnici "Saint George" smatra da studija objašnjava sve učestaliju pojavu raka prostate: “Posebno zabrinjava povećana učestalost pojave raka prostate kod mladih ljudi. Očigledno postoji neki faktor iz okoliša."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867280" cy="43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4T08:35:16Z</dcterms:created>
  <dc:creator>Administrator</dc:creator>
  <dc:description/>
  <dc:language>en-US</dc:language>
  <cp:lastModifiedBy>Marina Luetić</cp:lastModifiedBy>
  <dcterms:modified xsi:type="dcterms:W3CDTF">2009-10-12T08:38:30Z</dcterms:modified>
  <cp:revision>35</cp:revision>
  <dc:subject/>
  <dc:title>Bisfenol A  Od kolijevke do groba</dc:title>
</cp:coreProperties>
</file>