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3A88-C6B5-48C5-AF19-71E17496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B253-3ACF-44A0-B0B8-B9BDEE2E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504-789A-4C82-B257-AB157B41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5FCD-D41A-4121-BFB7-608F30C7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6D8C-8169-46AF-A7C1-893FD37C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1748-E82B-426C-A094-4374CEF3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2278-D8F5-49D2-B9D4-8F868CA8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2D13-C78D-45E6-B123-949765CB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D871-B41F-4C07-B55A-36DA9322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9760-80A3-4AE7-9028-89B8E482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E253-262E-4F94-90B8-9A5E4F6C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7B5-2721-4FE3-AEBD-AA150867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51D8-60D1-454E-8EAB-430573C0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D6D3-7DC2-4BE8-BCF1-1EC0A6B6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46A2-1413-4C90-A55B-8A4FF4E9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3DDE-10F0-48E0-9262-DD83C818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15FA-61F0-4585-9FD3-1C707ED4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8EDB-3074-44CF-B483-8304F4B4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A27B-EF5F-4E42-9B41-665A98F9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872-BEC6-40CD-991E-1A90AAAC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849-D7A1-49E3-82AC-F4B67080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89F2-D20A-428C-94C1-B228422D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CD61-8115-4740-8C96-FC306322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43A0-9A56-42A6-818B-18E613EB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540C-E2AF-41BC-AA7E-4249E1FAF04E}" type="slidenum">
              <a:rPr b="0" lang="hr-HR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F9AE-8FC0-419C-B135-7504EF1EA1AB}" type="slidenum">
              <a:rPr b="0" lang="hr-HR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324000" y="1365120"/>
            <a:ext cx="862488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3" descr="imagesCAGNFF39.jpg"/>
          <p:cNvPicPr/>
          <p:nvPr/>
        </p:nvPicPr>
        <p:blipFill>
          <a:blip r:embed="rId2"/>
          <a:stretch/>
        </p:blipFill>
        <p:spPr>
          <a:xfrm>
            <a:off x="3286080" y="3857760"/>
            <a:ext cx="2443320" cy="1628640"/>
          </a:xfrm>
          <a:prstGeom prst="rect">
            <a:avLst/>
          </a:prstGeom>
          <a:ln w="0">
            <a:noFill/>
          </a:ln>
        </p:spPr>
      </p:pic>
      <p:sp>
        <p:nvSpPr>
          <p:cNvPr id="85" name="Date Placeholder 4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2EAC-1E25-42EF-BFF7-1C5C9249289D}" type="datetime">
              <a:rPr b="0" lang="sr-Latn-CS" sz="1200" spc="-1" strike="noStrike">
                <a:solidFill>
                  <a:srgbClr val="bcbcbc"/>
                </a:solidFill>
                <a:latin typeface="Book Antiqu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8" name="Content Placeholder 3" descr="imagesCA433PTE.jpg"/>
          <p:cNvPicPr/>
          <p:nvPr/>
        </p:nvPicPr>
        <p:blipFill>
          <a:blip r:embed="rId2"/>
          <a:stretch/>
        </p:blipFill>
        <p:spPr>
          <a:xfrm>
            <a:off x="2643120" y="1428840"/>
            <a:ext cx="42148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1"/>
          <a:stretch/>
        </p:blipFill>
        <p:spPr>
          <a:xfrm>
            <a:off x="285840" y="195120"/>
            <a:ext cx="8645400" cy="1262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95959"/>
                </a:solidFill>
                <a:latin typeface="Book Antiqua"/>
              </a:rPr>
              <a:t>Hvala na pažnji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Želim vam ugodne ljetne praznike i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uspješno položen stručni ispit !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3" descr="imagesCA7FRXC3.jpg"/>
          <p:cNvPicPr/>
          <p:nvPr/>
        </p:nvPicPr>
        <p:blipFill>
          <a:blip r:embed="rId2"/>
          <a:stretch/>
        </p:blipFill>
        <p:spPr>
          <a:xfrm>
            <a:off x="4429080" y="4643280"/>
            <a:ext cx="31431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682560" y="1566720"/>
            <a:ext cx="8107560" cy="1646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04040"/>
                </a:solidFill>
                <a:latin typeface="Lucida Sans"/>
              </a:rPr>
              <a:t>Teme i pitanja općeg dijela programa za usmeni dio stručnog ispita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Zakon o radu : članak 25  - 29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Zakon o predškolskom odgoju i naobrazbi : članak 28 i 5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Pravilnik o načinu i uvjetima polaganja stručnog ispita odgojitelja i stručnih suradnika u dječjem vrtiću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Kolektivni ugovor za zaposlenike u predškolskim ustanovama Grada Zagreba : članak 11- 1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Pravilnik o radu: članak 18 - 19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-182520"/>
            <a:ext cx="8242560" cy="2011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ffff"/>
                </a:solidFill>
                <a:latin typeface="Book Antiqua"/>
              </a:rPr>
              <a:t>Biranje zastupnika za Sabor RH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ffff"/>
                </a:solidFill>
                <a:latin typeface="Book Antiqua"/>
              </a:rPr>
              <a:t>Predsjednik RH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ffff"/>
                </a:solidFill>
                <a:latin typeface="Book Antiqua"/>
              </a:rPr>
              <a:t>Vlada RH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ffff"/>
                </a:solidFill>
                <a:latin typeface="Book Antiqua"/>
              </a:rPr>
              <a:t>Nadležnost Sabora RH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ffff"/>
                </a:solidFill>
                <a:latin typeface="Book Antiqua"/>
              </a:rPr>
              <a:t>Ustavni zakon o ljudskim pravima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ffff"/>
                </a:solidFill>
                <a:latin typeface="Book Antiqua"/>
              </a:rPr>
              <a:t>Tijela lokalne uprave i samouprave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ffff"/>
                </a:solidFill>
                <a:latin typeface="Book Antiqua"/>
              </a:rPr>
              <a:t>Županijski ured i njegova funkcija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Kako  je organiziran odgojno-obrazovni sustav u RH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Godišnji plan i program rada dječjeg vrtića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Obvezatna pedagoška dokumentacija u dječjem vrtiću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Opći akti u dječjem vrtiću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Kadrovska struktura u dječjem vrtiću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Upravljačka tijela u dječjem vrtiću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Pedagoški standard u predškolskom odgoju i obrazovanju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Ciljevi i zadaće programskog usmjerenja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Planiranje i programiranje odgojno-obrazovnog rada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Struktura rada odgojitelja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Pravilnik o stručnim ispitima 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Propisana pedagoška dokumentacija koju vodi odgojitelj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Odgojiteljsko vijeće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Napredovanje odgojitelja i stručnih suradnika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Koja bi se poboljšanja po Vašem mišljenju mogla unijeti u zakonska i podzakonska rješenja u djelatnosti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4" descr="images.jpg"/>
          <p:cNvPicPr/>
          <p:nvPr/>
        </p:nvPicPr>
        <p:blipFill>
          <a:blip r:embed="rId2"/>
          <a:stretch/>
        </p:blipFill>
        <p:spPr>
          <a:xfrm>
            <a:off x="5429160" y="2071800"/>
            <a:ext cx="33577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Zakoni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Podzakonski akti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Kolektivni ugov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Opći akti ustano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33ea9"/>
                </a:solidFill>
                <a:latin typeface="Book Antiqua"/>
              </a:rPr>
              <a:t>Ustav R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Book Antiqua"/>
              </a:rPr>
              <a:t>Programsko usmjerenje odgoja i obrazovanja predškolske djece – Glasnik Ministarstva prosvjete i kulture  1991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Picture 3" descr="pravda5.jpg"/>
          <p:cNvPicPr/>
          <p:nvPr/>
        </p:nvPicPr>
        <p:blipFill>
          <a:blip r:embed="rId2"/>
          <a:stretch/>
        </p:blipFill>
        <p:spPr>
          <a:xfrm>
            <a:off x="5643720" y="1214280"/>
            <a:ext cx="25509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353880" y="268200"/>
            <a:ext cx="852192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Zakon o predškolskom odgoju i naobrazbi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Zakon o ustanovam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Zakon o rad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Zakon o zaštiti na rad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Zakon o zaštiti od požar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Zakon o stručno pedagoškom nadzor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Zakon o prosvjetnoj inspekciji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Zakon o javnoj nabavi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Zakon o ravnopravnosti spolov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Obiteljski zak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Zakon o pravima hrvatskih branitelja iz domovinskog rata i članova njihovih obitelji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3" descr="imagesCA6WEG5C.jpg"/>
          <p:cNvPicPr/>
          <p:nvPr/>
        </p:nvPicPr>
        <p:blipFill>
          <a:blip r:embed="rId2"/>
          <a:stretch/>
        </p:blipFill>
        <p:spPr>
          <a:xfrm>
            <a:off x="5857920" y="2071800"/>
            <a:ext cx="19288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0000"/>
                </a:solidFill>
                <a:latin typeface="Book Antiqua"/>
              </a:rPr>
              <a:t>Državni pedagoški standard predškolskog odgoja i naobrazbe, N.N. 63/2008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Pravilnik o vrsti stručne spreme stručnih djelatnika te vrsti i stupnju stručne spreme ostalih djelatnika u dječjem vrtiću, N.N. 133/97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Pravilnik o načinu i uvjetima polaganja stručnog ispita odgojitelja i stručnih suradnika u dječjem vrtiću, N.N. 133/97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Pravilnik o obrascima i sadržaju pedagoške dokumentacije i evidencije o djeci u dječjem vrtiću, N.N. 83/01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Statut dječjeg vrtić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Pravilnik o unutarnjem ustrojstvu i načinu rada dječjeg vrtić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Pravilnik o radu dječjeg vrtić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Kolektivni ugovor za zaposlene u predškolskim ustanovama Grada Zagreb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Pravilnik o upisu djece i ostvarivanju prava i obveza korisnika uslug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Pravilnik o zaštiti od požar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Pravilnik o zaštiti na radu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Poslovnik o radu Upravnog vijeć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Poslovnik o radu Odgojiteljskog vijeć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298440" y="103320"/>
            <a:ext cx="8778960" cy="1439640"/>
          </a:xfrm>
          <a:prstGeom prst="rect">
            <a:avLst/>
          </a:prstGeom>
          <a:ln w="0">
            <a:noFill/>
          </a:ln>
        </p:spPr>
      </p:pic>
      <p:pic>
        <p:nvPicPr>
          <p:cNvPr id="105" name="Content Placeholder 4" descr="tema-promet-kolaps.jpg"/>
          <p:cNvPicPr/>
          <p:nvPr/>
        </p:nvPicPr>
        <p:blipFill>
          <a:blip r:embed="rId2"/>
          <a:stretch/>
        </p:blipFill>
        <p:spPr>
          <a:xfrm>
            <a:off x="457200" y="2428920"/>
            <a:ext cx="4038480" cy="3143160"/>
          </a:xfrm>
          <a:prstGeom prst="rect">
            <a:avLst/>
          </a:prstGeom>
          <a:ln w="0">
            <a:noFill/>
          </a:ln>
        </p:spPr>
      </p:pic>
      <p:pic>
        <p:nvPicPr>
          <p:cNvPr id="106" name="Content Placeholder 5" descr="tramvaj_nesreca1-270209-VedranDjulic-Cropix540.jpg"/>
          <p:cNvPicPr/>
          <p:nvPr/>
        </p:nvPicPr>
        <p:blipFill>
          <a:blip r:embed="rId3"/>
          <a:stretch/>
        </p:blipFill>
        <p:spPr>
          <a:xfrm>
            <a:off x="4786200" y="2500200"/>
            <a:ext cx="33577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1:51:55Z</dcterms:created>
  <dc:creator>Korisnik</dc:creator>
  <dc:description/>
  <dc:language>en-US</dc:language>
  <cp:lastModifiedBy>Korisnik</cp:lastModifiedBy>
  <dcterms:modified xsi:type="dcterms:W3CDTF">2010-06-09T06:35:28Z</dcterms:modified>
  <cp:revision>24</cp:revision>
  <dc:subject/>
  <dc:title>Slide 1</dc:title>
</cp:coreProperties>
</file>