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kovacevic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11-17T12:39:56.062000000" idx="1">
    <p:pos x="10" y="10"/>
    <p:text>dva poticaja za ovu prezentaciju: 
tema o nadzorima i uvidima 
odbijanje nekih učitelja/mentora da budu mentori pripravnicima
dodatno: 
razmišljanje o većoj refleksivnosti u učiteljskoj praksi
potreba praćenja nastave sustručnjaka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2BD-018E-479B-88C5-4036F9B2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B2D-C21B-40AA-BAB3-48B2DF6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65A-40B7-4882-B1D6-F194E826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399-BDC4-4EC9-9D06-A377D156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A6C2-8EA6-4FD2-8F21-37D723BA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46BA-DDAF-4E38-9911-E2FA1790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1AD7-4AB4-4A73-9263-3E3D2CB1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EB88-FD5A-4227-AAED-635892B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3ED4-E0C4-4F0F-9275-0659CA0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7FDF-BA4B-4A19-839B-DF172CF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9985-9630-4A7C-89F8-6E416C8B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B0B-5362-4DAE-825D-F22CA5DD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51E0-BA66-45E8-87B4-EAEE827C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F1B2-FA48-4D28-BF8F-470DF54C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44BC-6CBE-45D0-ADA0-F3D93B7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6CD9-2B90-4BDE-9146-23C7BD23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7910-A315-4827-8412-69DD0E6A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DA0-3D39-486E-862B-3B536055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969-18D5-4764-8F88-A95C3F6C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464-E1DA-44B5-945A-9B9241FD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6D5-57CF-4770-91E3-AF6878F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E86-D33E-47C4-8975-2F8C2BC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D8F-11D7-4EC1-90A2-837A0B7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019-E46D-4F33-99BA-8AB313A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011F-30DB-4D03-A8B3-01011A04A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21000"/>
            <a:ext cx="28958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Dubravka Kovačević, m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Viša savjetnica u Agenciji za odgoj i obrazov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6FC-358D-44D3-A0B1-4CF696598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4941720"/>
            <a:ext cx="28958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Dubravka Kovačević, mag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viša savjetnica za engleski jezik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Agencija za odgoj i obrazovanj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 pristupa stručnom usavršavanju i profesionalnom razvo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ema: Donaldu Freema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stup alternati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predlaže niz alternativa onome što je vid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 pra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 smije favorizirati jednu od alternativa ili zvučati podcjenjivač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želi potaknuti učitelja na kritičko razmišljanje i nove aktivnost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 bi trebalo ulaziti u raspravu o učinkovitosti bilo koje od ponuđenih strategi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stup alternati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eba uspostaviti dijalog koji nije prijete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/ stručni suradnik pripravnik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 promatrač su ravnopravni i nema odnosa mo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ne stra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2642760"/>
            <a:ext cx="8001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/ stručni suradnik pripravnik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čekuje koment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že biti zatečen nizom alternati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taje razočaran i zbunj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-813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280" y="1714320"/>
            <a:ext cx="80010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 ovom stanju frustracije leži sjeme kritičkog promišljanja, samovrednovanja i dugoročnog profesionalnog razvo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st od direktivnog pristupa (stručno usavršavanje) prema otvorenim pitanjima (profesionalni razvoj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asprava se usmjerava na </a:t>
            </a: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zašto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, a ne na </a:t>
            </a: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kak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važnost reflektiranja i razumijevanja koji vodi razvo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Nedirektivan prist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arl Rogers: </a:t>
            </a:r>
            <a:r>
              <a:rPr b="0" lang="hr-HR" sz="3000" spc="-1" strike="noStrike">
                <a:solidFill>
                  <a:srgbClr val="cc0000"/>
                </a:solidFill>
                <a:latin typeface="Verdana"/>
              </a:rPr>
              <a:t>rast i učenje su proces otkrivanje reda, logike i istine u vlastitim iskustv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ilj promatrača j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ostvariti s pripravnicima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što je moguće bolji odnos podrš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ilj nije prosuđivati ili vrednovati, već razumjeti i pojasni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ri fa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va faz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atrač ostaje unutar svijeta učitelja parafrazirajući ili koristeći nedirektivne odgovore da bi razumio što mu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pravnik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govo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a faz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aza refleks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atrač povezuje svoje razumijevanje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pravnikovih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komentara s onim što je vidio u razredu, navodeći primjere za ono što je učitelj reka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 ističe odstupanja ili kontradikcije koje je primje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ća fa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matrač nudi komentare i prijedloge temeljene na vlastitom iskustv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i pripravniku do znanja kad govori iz svoje perspek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i učitelju do znanja da ne daje recept ili savjet, samo pogled iz druge perspek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e se osvrnuti na nedosljednosti između onoga što je pripravnik rekao i onoga što je radio u razr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žn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pravnik uvijek ima izbor prihvaćanja ili odbacivanja onoga što promatrač ka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omatraču može teško pasti što njegovi savjeti nisu prihvaće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loge potpuno obrnute od onih u savjetodavnom pristup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ogers:”</a:t>
            </a:r>
            <a:r>
              <a:rPr b="0" lang="hr-HR" sz="2600" spc="-1" strike="noStrike">
                <a:solidFill>
                  <a:srgbClr val="cc0000"/>
                </a:solidFill>
                <a:latin typeface="Verdana"/>
              </a:rPr>
              <a:t>Niti jedan pristup koji se oslanja na znanje, usavršavanje ili prihvaćanje nečega što se poučava nije ni od kakve koristi u osobnoj promjeni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as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prisvoji proces premještajući ga u svoj “svijet” (Ja mislim…, Evo prošli tjedan sam...) govori o svom iskust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iplina savjetovanj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ubokim ulaženjem u tuđu perspektivu možemo doživjeti osobne promj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00100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Kak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učno-pedagoški uvid u odgojno-obrazovni rad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ko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provode savjetnici, mentori pripravnicima i sustručnjaci mogu biti temelj za stručno usavršavanje i profesionalni razvo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6019560"/>
            <a:ext cx="8001000" cy="1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gracija pristupa: hijerarhija potreb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jerarhija koja odgovara različitim potrebama učitelja na njihovom putu od usavršavanja do razvo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dgajatelj/ stručni suradnik pripravnik: “Što ja radim?”, a kasnije “Kako djelujem u praksi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risti se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savjetodavni pri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stup alternativnih strategij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tanje “Kako radim?” podrazumijeva alternativne odgovor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 i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stup alternativa praćenju izvođenja odgojno-obrazovnog ra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je izvor alternativnih perspekti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traživanje alternativa dovodi do formiranja vlastitih kriterija i cilje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Nedirektivni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prist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ašto radim baš tako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tanj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zašt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je osobno i na njega ne postoji univerzalan odgov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je podrška u razvoju (kritički prijatelj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žnost vlastitog iskustva u određivanju vlastitih cilje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420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žno je odabrati pravi pristup ovisno o potrebama odgajatelja/ stručnih suradnika u različitim fazama njihovog profesionalnog razvoj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537336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zlika između stručnog usavršavanja i profesionalnog razvo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čno usavršavanje se bavi razvijanjem posebnih vještin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ojno-obrazovnog djelo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ionalni razvoj je usredotočen na pojedino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a/ stručnog suradnik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roces refleksije, propitivanja i promjen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va različi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vaćanja ulo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čitelja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učavanj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čno usavršavanje pretpostavlja da je poučavanj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djelovanje u praks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konačna vještina kojom se može ovlad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ionalni razvoj pretpostavlja da je poučavanje kontinuirani proces rasta i promjena - tu se radi o proširivanju vještina i razumijevanja, a učitelj je odgovoran za pro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zlike u opseg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čno usavršavanje odgovara na trenutačne potrebe (kako pomoć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u/ stručnom suradnik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 malo iskustv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ionalni razvoj bavi se širim,  dugoročnim pitanjima (kako potaknu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dgajatelja/ stručnog suradnik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a rast, istraživanje novih ideja i strategij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 pristu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tručno-pedagoškom uvidu u nastav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2428560"/>
            <a:ext cx="80010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avjetodavni pri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istup altern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direktivan pri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vjetodavni pristu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atrač odlazi na nastavni sat i nakon toga razgovara s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ajateljem/ stručnim suradnikom pripravnik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mentir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aksu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, dobra obilježja i nedostatke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ojno-obraovnog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rad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ajatelja/ stručnog suradnika pripravn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že predložiti promjene i poboljš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vjetodavni prist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treba postojanja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standard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 vrednovanje u skladu s nj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vjetodavno praćenje u odnosu  mo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rednovanje izvedbe ne mora biti destruktiv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uža objema stranama sigurnost u smislu jasnijih očekivanj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ne strane savjetodavnog pristu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ko promatrač nema dovoljno iskust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zličito shvaćanje standarda vredno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ko se promatrač usredotoči samo na negativne strane izved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 pra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31:32Z</dcterms:created>
  <dc:creator>dkovacevic</dc:creator>
  <dc:description/>
  <dc:language>en-US</dc:language>
  <cp:lastModifiedBy>asilic</cp:lastModifiedBy>
  <dcterms:modified xsi:type="dcterms:W3CDTF">2010-10-04T07:54:59Z</dcterms:modified>
  <cp:revision>17</cp:revision>
  <dc:subject/>
  <dc:title>Praćenje izvođenja nastave:</dc:title>
</cp:coreProperties>
</file>