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kovacevic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9-11-17T12:39:56.062000000" idx="1">
    <p:pos x="10" y="10"/>
    <p:text>dva poticaja za ovu prezentaciju: 
tema o nadzorima i uvidima 
odbijanje nekih učitelja/mentora da budu mentori pripravnicima
dodatno: 
razmišljanje o većoj refleksivnosti u učiteljskoj praksi
potreba praćenja nastave sustručnjaka 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681-6452-45B7-A659-FA5B8E59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856-D14F-4A94-812C-86BC1351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0D1-2661-485D-A647-6954CEB1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267-EE26-4ED3-9693-41814B36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E874-E055-4C34-963B-CF74BAFA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2EFE-9298-4B74-913D-4D5786B4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5F35-C00F-418E-B713-ABE8FAD7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1090-E685-462F-895C-B37631A3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638E-2BA7-48C9-832E-C8B64C80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57A7-5338-45B0-B0CE-6FB84914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55EC-B907-4481-AF57-7AA0EC67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E68-392D-4C5F-967A-B42BB039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4690-21C7-4585-8CB3-347BD7C8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BCC9-70D8-4361-A1F8-88027958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3707-2685-41E6-8522-7FE656F9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CDF1-7A09-4AEB-B2F2-5BE9891C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B4D4-BD9F-4216-B835-8FAD8FD5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ABD-00DB-45BF-9B3C-D0C08687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6B9-7884-43C7-9582-6FC7DC18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CD8-C380-42F7-A039-ED48EB5C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0F8-0CDA-4517-ABDF-6307286B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98E-9EDE-41AA-A163-CBCDABF4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5456-8608-4104-9E0C-182D4EDC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E17-1FCF-462D-8B08-9045BF84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88DD-6CF3-42F2-8857-C53601B70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21000"/>
            <a:ext cx="289584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Dubravka Kovačević, m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Times New Roman"/>
              </a:rPr>
              <a:t>Viša savjetnica u Agenciji za odgoj i obrazovan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1E8D-34A1-41A0-AC73-9FB494427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124080" y="4941720"/>
            <a:ext cx="2895840" cy="17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Verdana"/>
              </a:rPr>
              <a:t>Dubravka Kovačević, mag.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Verdana"/>
              </a:rPr>
              <a:t>viša savjetnica za engleski jezik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000000"/>
                </a:solidFill>
                <a:latin typeface="Verdana"/>
              </a:rPr>
              <a:t>Agencija za odgoj i obrazovanj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i pristupa stručnom usavršavanju i profesionalnom razvoj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Prema: Donaldu Freeman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stup alternativ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matrač predlaže niz alternativa onome što je vidi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 praks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 smije favorizirati jednu od alternativa ili zvučati podcjenjivačk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želi potaknuti učitelja na kritičko razmišljanje i nove aktivnost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 bi trebalo ulaziti u raspravu o učinkovitosti bilo koje od ponuđenih strategi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stup alternativ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eba uspostaviti dijalog koji nije prijeteć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gajatelj/ stručni suradnik pripravnik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 promatrač su ravnopravni i nema odnosa moć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gativne stra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2642760"/>
            <a:ext cx="80010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gajatelj/ stručni suradnik pripravnik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čekuje koment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že biti zatečen nizom alternativ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staje razočaran i zbunj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-813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66280" y="1714320"/>
            <a:ext cx="80010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 ovom stanju frustracije leži sjeme kritičkog promišljanja, samovrednovanja i dugoročnog profesionalnog razvo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st od direktivnog pristupa (stručno usavršavanje) prema otvorenim pitanjima (profesionalni razvoj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rasprava se usmjerava na </a:t>
            </a:r>
            <a:r>
              <a:rPr b="0" i="1" lang="hr-HR" sz="3000" spc="-1" strike="noStrike">
                <a:solidFill>
                  <a:srgbClr val="000000"/>
                </a:solidFill>
                <a:latin typeface="Verdana"/>
              </a:rPr>
              <a:t>zašto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, a ne na </a:t>
            </a:r>
            <a:r>
              <a:rPr b="0" i="1" lang="hr-HR" sz="3000" spc="-1" strike="noStrike">
                <a:solidFill>
                  <a:srgbClr val="000000"/>
                </a:solidFill>
                <a:latin typeface="Verdana"/>
              </a:rPr>
              <a:t>kak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važnost reflektiranja i razumijevanja koji vodi razvoj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Nedirektivan pristu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Carl Rogers: </a:t>
            </a:r>
            <a:r>
              <a:rPr b="0" lang="hr-HR" sz="3000" spc="-1" strike="noStrike">
                <a:solidFill>
                  <a:srgbClr val="cc0000"/>
                </a:solidFill>
                <a:latin typeface="Verdana"/>
              </a:rPr>
              <a:t>rast i učenje su proces otkrivanje reda, logike i istine u vlastitim iskustvi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cilj promatrača j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ostvariti s pripravnicima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što je moguće bolji odnos podrš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cilj nije prosuđivati ili vrednovati, već razumjeti i pojasni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tri faz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va faz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omatrač ostaje unutar svijeta učitelja parafrazirajući ili koristeći nedirektivne odgovore da bi razumio što mu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ipravnik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govor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ruga faz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faza refleksi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omatrač povezuje svoje razumijevanje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ipravnikovih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komentara s onim što je vidio u razredu, navodeći primjere za ono što je učitelj reka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e ističe odstupanja ili kontradikcije koje je primjet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ća faz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matrač nudi komentare i prijedloge temeljene na vlastitom iskustv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i pripravniku do znanja kad govori iz svoje perspek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i učitelju do znanja da ne daje recept ili savjet, samo pogled iz druge perspek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že se osvrnuti na nedosljednosti između onoga što je pripravnik rekao i onoga što je radio u razred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žn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ipravnik uvijek ima izbor prihvaćanja ili odbacivanja onoga što promatrač kaž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omatraču može teško pasti što njegovi savjeti nisu prihvaće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uloge potpuno obrnute od onih u savjetodavnom pristup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Rogers:”</a:t>
            </a:r>
            <a:r>
              <a:rPr b="0" lang="hr-HR" sz="2600" spc="-1" strike="noStrike">
                <a:solidFill>
                  <a:srgbClr val="cc0000"/>
                </a:solidFill>
                <a:latin typeface="Verdana"/>
              </a:rPr>
              <a:t>Niti jedan pristup koji se oslanja na znanje, usavršavanje ili prihvaćanje nečega što se poučava nije ni od kakve koristi u osobnoj promjeni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.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asnost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matrač prisvoji proces premještajući ga u svoj “svijet” (Ja mislim…, Evo prošli tjedan sam...) govori o svom iskustv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ciplina savjetovanj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ubokim ulaženjem u tuđu perspektivu možemo doživjeti osobne promj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001000" cy="403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Kako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ručno-pedagoški uvid u odgojno-obrazovni rad</a:t>
            </a: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 koj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 provode savjetnici, mentori pripravnicima i sustručnjaci mogu biti temelj za stručno usavršavanje i profesionalni razvo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6019560"/>
            <a:ext cx="8001000" cy="1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gracija pristupa: hijerarhija potreb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jerarhija koja odgovara različitim potrebama učitelja na njihovom putu od usavršavanja do razvo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dgajatelj/ stručni suradnik pripravnik: “Što ja radim?”, a kasnije “Kako djelujem u praksi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risti se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savjetodavni pris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stup alternativnih strategij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itanje “Kako radim?” podrazumijeva alternativne odgovor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 i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ristup alternativa praćenju izvođenja odgojno-obrazovnog ra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matrač je izvor alternativnih perspektiv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straživanje alternativa dovodi do formiranja vlastitih kriterija i ciljev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0000"/>
                </a:solidFill>
                <a:latin typeface="Verdana"/>
              </a:rPr>
              <a:t>Nedirektivni</a:t>
            </a: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cc0000"/>
                </a:solidFill>
                <a:latin typeface="Verdana"/>
              </a:rPr>
              <a:t>pristu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ašto radim baš tako?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itanje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zašto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je osobno i na njega ne postoji univerzalan odgov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matrač je podrška u razvoju (kritički prijatelj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žnost vlastitog iskustva u određivanju vlastitih cilje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420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ažno je odabrati pravi pristup ovisno o potrebama odgajatelja/ stručnih suradnika u različitim fazama njihovog profesionalnog razvoj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5373360"/>
            <a:ext cx="80010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zlika između stručnog usavršavanja i profesionalnog razvoj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učno usavršavanje se bavi razvijanjem posebnih vještin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gojno-obrazovnog djelovan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ionalni razvoj je usredotočen na pojedino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gajatelja/ stručnog suradnik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proces refleksije, propitivanja i promjen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va različit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vaćanja ulo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učitelja 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a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učavanj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učno usavršavanje pretpostavlja da je poučavanj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/ djelovanje u praks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konačna vještina kojom se može ovlada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ionalni razvoj pretpostavlja da je poučavanje kontinuirani proces rasta i promjena - tu se radi o proširivanju vještina i razumijevanja, a učitelj je odgovoran za pro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zlike u opseg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ručno usavršavanje odgovara na trenutačne potrebe (kako pomoći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gajatelju/ stručnom suradniku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 malo iskustva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ionalni razvoj bavi se širim,  dugoročnim pitanjima (kako potaknut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dgajatelja/ stručnog suradnik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na rast, istraživanje novih ideja i strategij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 pristup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stručno-pedagoškom uvidu u nastavu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2428560"/>
            <a:ext cx="80010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avjetodavni pris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istup altern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edirektivan pris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vjetodavni pristu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omatrač odlazi na nastavni sat i nakon toga razgovara s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dgajateljem/ stručnim suradnikom pripravnik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komentira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aksu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, dobra obilježja i nedostatke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dgojno-obraovnog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rada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dgajatelja/ stručnog suradnika pripravni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ože predložiti promjene i poboljšan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vjetodavni pristu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treba postojanja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standard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 vrednovanje u skladu s nji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vjetodavno praćenje u odnosu  moć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rednovanje izvedbe ne mora biti destruktiv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uža objema stranama sigurnost u smislu jasnijih očekivanj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gativne strane savjetodavnog pristup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ko promatrač nema dovoljno iskust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zličito shvaćanje standarda vrednovan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ko se promatrač usredotoči samo na negativne strane izvedb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u praks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9:31:32Z</dcterms:created>
  <dc:creator>dkovacevic</dc:creator>
  <dc:description/>
  <dc:language>en-US</dc:language>
  <cp:lastModifiedBy>asilic</cp:lastModifiedBy>
  <dcterms:modified xsi:type="dcterms:W3CDTF">2010-10-04T07:54:59Z</dcterms:modified>
  <cp:revision>17</cp:revision>
  <dc:subject/>
  <dc:title>Praćenje izvođenja nastave:</dc:title>
</cp:coreProperties>
</file>