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445-DB85-4549-B5B2-7E427D51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BB3-22C9-492B-8834-6053CCE4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F11-1D76-4428-99F9-F0F3AB3A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505-EE1F-49DE-87DD-DC5264F2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F7D8-6B39-4461-A5D8-05249E4D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352D-5219-44A5-BA14-4798733C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41EF-090E-4962-A694-A67BEF97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E119-50E8-4FD1-A1CF-E1FEBBDA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8E2C-EBA7-4887-8218-D2D3B39C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C9E3-6D51-44BF-9377-6F657A67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F5C6-66AA-4BE7-A4E2-A8F5BE24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3F8-030D-4652-A867-2AC4B77B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6E21-5BEF-40A3-97C9-E5CFAD9E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5C65-A6CA-43CE-8898-DA082F83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9B26-3AFA-4311-8E99-B9F67A5B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269D5-0D76-4313-A701-7ADE00C07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5223-7558-49D3-89E8-7F92AEA0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F40-B4E4-4C22-A9A8-80038B66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EF6-D73D-486F-831C-827E0B53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994-7F4A-4193-8BCB-16BE9526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DFC6-A284-4D1F-A8FA-C8960371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1E6-502F-4741-873B-9DAB1D91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C96-29E4-49CE-B04C-CCBF84CA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807E-AAD0-4CDE-8208-5BE197B8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92EA-CA06-4160-85E5-599C35D1D854}" type="slidenum">
              <a:rPr b="0" lang="hr-H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CA7-6303-4A62-A42F-9674BB19573E}" type="slidenum">
              <a:rPr b="0" lang="hr-HR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324000" y="1365120"/>
            <a:ext cx="86248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3" descr="imagesCAGNFF39.jpg"/>
          <p:cNvPicPr/>
          <p:nvPr/>
        </p:nvPicPr>
        <p:blipFill>
          <a:blip r:embed="rId2"/>
          <a:stretch/>
        </p:blipFill>
        <p:spPr>
          <a:xfrm>
            <a:off x="3286080" y="3857760"/>
            <a:ext cx="2443320" cy="1628640"/>
          </a:xfrm>
          <a:prstGeom prst="rect">
            <a:avLst/>
          </a:prstGeom>
          <a:ln w="0">
            <a:noFill/>
          </a:ln>
        </p:spPr>
      </p:pic>
      <p:sp>
        <p:nvSpPr>
          <p:cNvPr id="85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9B58-6C57-4838-A5E5-A83273613A76}" type="datetime">
              <a:rPr b="0" lang="sr-Latn-CS" sz="1200" spc="-1" strike="noStrike">
                <a:solidFill>
                  <a:srgbClr val="bcbcbc"/>
                </a:solidFill>
                <a:latin typeface="Book Antiqua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3" descr="imagesCA433PTE.jpg"/>
          <p:cNvPicPr/>
          <p:nvPr/>
        </p:nvPicPr>
        <p:blipFill>
          <a:blip r:embed="rId2"/>
          <a:stretch/>
        </p:blipFill>
        <p:spPr>
          <a:xfrm>
            <a:off x="2643120" y="1428840"/>
            <a:ext cx="42148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285840" y="195120"/>
            <a:ext cx="8645400" cy="1262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95959"/>
                </a:solidFill>
                <a:latin typeface="Book Antiqua"/>
              </a:rPr>
              <a:t>Hvala na pažnji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Želim vam ugodne ljetne praznike i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uspješno položen stručni ispit 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3" descr="imagesCA7FRXC3.jpg"/>
          <p:cNvPicPr/>
          <p:nvPr/>
        </p:nvPicPr>
        <p:blipFill>
          <a:blip r:embed="rId2"/>
          <a:stretch/>
        </p:blipFill>
        <p:spPr>
          <a:xfrm>
            <a:off x="4429080" y="4643280"/>
            <a:ext cx="31431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682560" y="1566720"/>
            <a:ext cx="8107560" cy="16462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04040"/>
                </a:solidFill>
                <a:latin typeface="Lucida Sans"/>
              </a:rPr>
              <a:t>Teme i pitanja općeg dijela programa za usmeni dio stručnog ispita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Zakon o radu : članak 25  - 2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Zakon o predškolskom odgoju i naobrazbi : članak 28 i 5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avilnik o načinu i uvjetima polaganja stručnog ispita odgojitelja i stručnih suradnika u dječjem vrtiću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Kolektivni ugovor za zaposlenike u predškolskim ustanovama Grada Zagreba : članak 11- 1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ravilnik o radu: članak 18 - 19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2011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Biranje zastupnika za Sabor RH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Predsjednik RH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Vlada RH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Nadležnost Sabora RH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Ustavni zakon o ljudskim pravim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Tijela lokalne uprave i samouprave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ffffff"/>
                </a:solidFill>
                <a:latin typeface="Book Antiqua"/>
              </a:rPr>
              <a:t>Županijski ured i njegova funkcij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Kako  je organiziran odgojno-obrazovni sustav u RH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Godišnji plan i program rada dječjeg vrtić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Obvezatna pedagoška dokumentacija u dječjem vrtiću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Opći akti u dječjem vrtiću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Kadrovska struktura u dječjem vrtiću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Upravljačka tijela u dječjem vrtiću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Pedagoški standard u predškolskom odgoju i obrazovanju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Ciljevi i zadaće programskog usmjerenj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Planiranje i programiranje odgojno-obrazovnog rad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Struktura rada odgojitelj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Pravilnik o stručnim ispitima 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Propisana pedagoška dokumentacija koju vodi odgojitelj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Odgojiteljsko vijeće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Napredovanje odgojitelja i stručnih suradnika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300" spc="-1" strike="noStrike">
                <a:solidFill>
                  <a:srgbClr val="404040"/>
                </a:solidFill>
                <a:latin typeface="Book Antiqua"/>
              </a:rPr>
              <a:t>Koja bi se poboljšanja po Vašem mišljenju mogla unijeti u zakonska i podzakonska rješenja u djelatnosti</a:t>
            </a: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32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4" descr="images.jpg"/>
          <p:cNvPicPr/>
          <p:nvPr/>
        </p:nvPicPr>
        <p:blipFill>
          <a:blip r:embed="rId2"/>
          <a:stretch/>
        </p:blipFill>
        <p:spPr>
          <a:xfrm>
            <a:off x="5429160" y="207180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Zakoni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Podzakonski akt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Kolektivni ugov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Book Antiqua"/>
              </a:rPr>
              <a:t>Opći akti ustano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33ea9"/>
                </a:solidFill>
                <a:latin typeface="Book Antiqua"/>
              </a:rPr>
              <a:t>Ustav R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04040"/>
                </a:solidFill>
                <a:latin typeface="Book Antiqua"/>
              </a:rPr>
              <a:t>Programsko usmjerenje odgoja i obrazovanja predškolske djece – Glasnik Ministarstva prosvjete i kulture  1991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3" descr="pravda5.jpg"/>
          <p:cNvPicPr/>
          <p:nvPr/>
        </p:nvPicPr>
        <p:blipFill>
          <a:blip r:embed="rId2"/>
          <a:stretch/>
        </p:blipFill>
        <p:spPr>
          <a:xfrm>
            <a:off x="5643720" y="1214280"/>
            <a:ext cx="2550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353880" y="268200"/>
            <a:ext cx="852192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predškolskom odgoju i naobrazbi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ustanovam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rad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zaštiti na rad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zaštiti od požar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stručno pedagoškom nadzoru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prosvjetnoj inspekcij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javnoj nabav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ravnopravnosti spolov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Obiteljski zak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Zakon o pravima hrvatskih branitelja iz domovinskog rata i članova njihovih obitelji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3" descr="imagesCA6WEG5C.jpg"/>
          <p:cNvPicPr/>
          <p:nvPr/>
        </p:nvPicPr>
        <p:blipFill>
          <a:blip r:embed="rId2"/>
          <a:stretch/>
        </p:blipFill>
        <p:spPr>
          <a:xfrm>
            <a:off x="5857920" y="2071800"/>
            <a:ext cx="19288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0000"/>
                </a:solidFill>
                <a:latin typeface="Book Antiqua"/>
              </a:rPr>
              <a:t>Državni pedagoški standard predškolskog odgoja i naobrazbe, N.N. 63/2008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vrsti stručne spreme stručnih djelatnika te vrsti i stupnju stručne spreme ostalih djelatnika u dječjem vrtiću, N.N. 133/97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načinu i uvjetima polaganja stručnog ispita odgojitelja i stručnih suradnika u dječjem vrtiću, N.N. 133/97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obrascima i sadržaju pedagoške dokumentacije i evidencije o djeci u dječjem vrtiću, N.N. 83/01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Statut dječjeg vrtić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unutarnjem ustrojstvu i načinu rada dječjeg vrtić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radu dječjeg vrtić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Kolektivni ugovor za zaposlene u predškolskim ustanovama Grada Zagreb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upisu djece i ostvarivanju prava i obveza korisnika uslug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zaštiti od požar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ravilnik o zaštiti na radu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oslovnik o radu Upravnog vijeć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Book Antiqua"/>
              </a:rPr>
              <a:t>Poslovnik o radu Odgojiteljskog vijeća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298440" y="103320"/>
            <a:ext cx="8778960" cy="143964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4" descr="tema-promet-kolaps.jpg"/>
          <p:cNvPicPr/>
          <p:nvPr/>
        </p:nvPicPr>
        <p:blipFill>
          <a:blip r:embed="rId2"/>
          <a:stretch/>
        </p:blipFill>
        <p:spPr>
          <a:xfrm>
            <a:off x="457200" y="2428920"/>
            <a:ext cx="4038480" cy="314316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5" descr="tramvaj_nesreca1-270209-VedranDjulic-Cropix540.jpg"/>
          <p:cNvPicPr/>
          <p:nvPr/>
        </p:nvPicPr>
        <p:blipFill>
          <a:blip r:embed="rId3"/>
          <a:stretch/>
        </p:blipFill>
        <p:spPr>
          <a:xfrm>
            <a:off x="4786200" y="2500200"/>
            <a:ext cx="33577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1:51:55Z</dcterms:created>
  <dc:creator>Korisnik</dc:creator>
  <dc:description/>
  <dc:language>en-US</dc:language>
  <cp:lastModifiedBy>Korisnik</cp:lastModifiedBy>
  <dcterms:modified xsi:type="dcterms:W3CDTF">2010-06-09T06:35:28Z</dcterms:modified>
  <cp:revision>24</cp:revision>
  <dc:subject/>
  <dc:title>Slide 1</dc:title>
</cp:coreProperties>
</file>