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B268-192B-419A-914E-B6119BEFF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2A6E-5F7C-4B24-9CB4-1AADB6D65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136F-46F3-4A6E-AA54-65EC19BC1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0AD2-DA58-4780-9C87-FF4A6A6A0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19D69-F92D-483D-98D7-CC58FA96E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8180D-9F38-42B5-842F-FCC8290DA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AFF66-AA42-460F-9D0A-127D62C48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69645-22FE-4CFF-BEC6-F7388DB43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06539-5B29-4A02-AEE5-0E42FEA60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9A564-C31B-4D13-AA00-F10C8E2B9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E2D31-D1E9-4771-B9EB-EBBDADAB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1279-6C58-4DC2-B2F1-290F48DE8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11B36-0A35-464F-B556-D181D0A6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566D5-0231-48EE-9E11-74DA46C3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492A7-78B2-4627-A30D-0674556E0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49FB6-3C27-49F8-99C6-E139275FB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9655E-0CBD-451A-B3D7-8BE07FE3F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F0AD-5C01-4FF8-B48B-AF61FE832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261D-4FA1-4D8F-8A69-2F8ECBAE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FF90-69E0-4E0A-A561-F3350217A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5F77-74E5-4C18-99E2-A7CCC1682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1E78-302F-46FF-976F-7214F1DB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79BB-3D4A-4D13-9360-90AF8C70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8373-FB5D-4F37-AE8D-AC0530BC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EA788-1000-4013-A77A-B9DE340C750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DBB36-D15A-48A5-A693-2BA65D955D4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560" y="1196640"/>
            <a:ext cx="87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5400" spc="-1" strike="noStrike">
                <a:solidFill>
                  <a:srgbClr val="ffffff"/>
                </a:solidFill>
                <a:latin typeface="Arial"/>
              </a:rPr>
              <a:t>Priprava za nastavni sa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987640" y="6237000"/>
            <a:ext cx="3240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Opatija, 28. ožujka 2008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68360" y="5157720"/>
            <a:ext cx="68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2089080" cy="819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ff"/>
                </a:solidFill>
                <a:latin typeface="Arial"/>
              </a:rPr>
              <a:t>Potrebno je istaknuti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Arial"/>
              </a:rPr>
              <a:t>OBRAZOVNI ISHO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(npr. Razlikovati specifičnosti građe glazbenih vrsta i oblika pojedinih stilskih razdoblj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Arial"/>
              </a:rPr>
              <a:t>OČEKIVANA POSTIGNUĆA UČENIKA 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(što preciznij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Prepoznati – ŠTO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Usporediti – ŠTO I S ČIM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Razlikovati – ŠTO I OD ČEG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Povezati – ŠTO I S ČIM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Protumačiti stečeno znanje vlastitim riječim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Arial"/>
              </a:rPr>
              <a:t>ARTIKULACIJA SAT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U svakoj etapi obrazovnog procesa istaknuti pitanja i zadatke (formulirati ih što jasnije i preciznije) i na koji se glazbeni primjer odno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Zadatke poredati od lakših ka težim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Zapisati zadatke a ne samo improvizirati na sat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Točno odmjeriti broj i težinu zadatka za svako pojedino slušanje i uskladiti ih s oblikom rad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Broj slušanja odrediti s obzirom na duljinu glazbenog primje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68360" y="90756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Pripremiti zadatke za provjeru razine usvojenosti znanja u završnom dijelu sata (istaknuti što je nužno, važno ili vrijedno znati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Predvidjeti različite oblike rada na satu: suradnja u paru, unutar grupe, pojedinačno, frontaln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Poželjno je izbjegavati samo jedan oblik rad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ffffff"/>
                </a:solidFill>
                <a:latin typeface="Arial"/>
              </a:rPr>
              <a:t>HVAL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08:52:18Z</dcterms:created>
  <dc:creator>NEC Computers International</dc:creator>
  <dc:description/>
  <dc:language>en-US</dc:language>
  <cp:lastModifiedBy>ALMA</cp:lastModifiedBy>
  <dcterms:modified xsi:type="dcterms:W3CDTF">2008-03-28T11:36:22Z</dcterms:modified>
  <cp:revision>31</cp:revision>
  <dc:subject/>
  <dc:title>Razine znanja glazbene umjetnosti na Državnoj maturi  - Što je nužno, važno i vrijedno znati u nastavi glazbene umjetnosti?</dc:title>
</cp:coreProperties>
</file>