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2D82-4F57-494E-94F1-8D2613F8F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898F-4824-4895-BF25-19A1835A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0771-B1F3-4E2F-AD62-C6028ACC1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866D-02B6-48BF-9581-55345A8A9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E2AB-FD34-4153-A87C-272F3330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2DB3-FD89-4A45-87BF-600A1135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614D-AC64-44D5-A6DA-C060B3AA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B930-85E8-4019-835B-850AE0BD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5847-E71B-4A09-B457-2E8B3724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AA15-AFCF-41FE-9F1F-7F069163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4679-45FD-4BA0-838C-EBD28263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A90C-4D92-44CA-8138-AA573AC5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40FD-EEA1-45A6-9EF5-93988D62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82F7-DFBB-41F2-AA06-853600EE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206C-A740-45C4-9E7C-B31C5D7D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8341-BFB1-431A-8DCD-6375D41C4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3B0C-C959-44D5-B19E-136BCE0C0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0D44-AF97-416B-A0E2-9002FAF2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FE5A-8EB4-4878-973A-2649F4EB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AA67-1503-43FA-A0B8-5DF0482D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CA48-A778-4F1A-A5B4-F6CF8AAF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77E3-4810-4885-B724-D4AB8A76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F45E-B8E0-4148-8C3D-F760531C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14F2-3C59-4DAB-9B28-DC45E6A3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1E47-E886-419B-91C9-25C103C62F8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A36C-E7FF-4272-B60C-45B12BA1740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almazu@yahoo.com" TargetMode="External"/><Relationship Id="rId2" Type="http://schemas.openxmlformats.org/officeDocument/2006/relationships/hyperlink" Target="mailto:vesna.krgovic@email.t-com.hr" TargetMode="External"/><Relationship Id="rId3" Type="http://schemas.openxmlformats.org/officeDocument/2006/relationships/hyperlink" Target="mailto:vesna.krgovic@email.t-com.hr" TargetMode="External"/><Relationship Id="rId4" Type="http://schemas.openxmlformats.org/officeDocument/2006/relationships/hyperlink" Target="mailto:vesna.krgovic@email.t-com.hr" TargetMode="External"/><Relationship Id="rId5" Type="http://schemas.openxmlformats.org/officeDocument/2006/relationships/hyperlink" Target="mailto:vesna.krgovic@email.t-com.hr" TargetMode="External"/><Relationship Id="rId6" Type="http://schemas.openxmlformats.org/officeDocument/2006/relationships/hyperlink" Target="mailto:vesna.krgovic@email.t-com.hr" TargetMode="External"/><Relationship Id="rId7" Type="http://schemas.openxmlformats.org/officeDocument/2006/relationships/hyperlink" Target="mailto:vesna.krgovic@email.t-com.hr" TargetMode="External"/><Relationship Id="rId8" Type="http://schemas.openxmlformats.org/officeDocument/2006/relationships/hyperlink" Target="mailto:vesna.krgovic@email.t-com.hr" TargetMode="External"/><Relationship Id="rId9" Type="http://schemas.openxmlformats.org/officeDocument/2006/relationships/hyperlink" Target="mailto:marina.novak@muza.hr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III. Radionica 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(Početnici) -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ješavanje testa,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mjedbe na tes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mjedbe po pitanjima – 1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Zbor Hrvatica je </a:t>
            </a:r>
            <a:r>
              <a:rPr b="1" lang="hr-HR" sz="1800" spc="-1" strike="noStrike" u="sng">
                <a:solidFill>
                  <a:srgbClr val="ffffff"/>
                </a:solidFill>
                <a:uFillTx/>
                <a:latin typeface="Arial"/>
              </a:rPr>
              <a:t>glazbeni broj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 iz opere (Moćna gomilica </a:t>
            </a:r>
            <a:r>
              <a:rPr b="1" lang="hr-HR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tvrdnja koja upućuje stajalište da je basso continuo stalna akordička pratnja orgulja, klavičembala…. Zapravo ne stoji –ta pratnja je najmanje akrodička (prema autoritetima J.S.Bach, M.Praetorius) (Špic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možda prelagano (Moćna gomilica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13. 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portato i staccato – učenici će biti u dilemi s obzirom na glazbeni primjer jer staccato u ovoj izvedbi nije preoštar – ovisi o intrepretaciji – slušača (Dražinić), tema se donosi i portato i legato! Možda se pitanje odnosi na prvo izvođenje teme? 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(Moćna gomilica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14.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nespretno , nejasno, zbunjujuće, može se različito interpretirati i više odgovora može biti i točno i netočno ovisno o tome kako se shvati pitanje (Dražinić, Stojanović), što se mijenja u </a:t>
            </a:r>
            <a:r>
              <a:rPr b="1" lang="hr-HR" sz="1800" spc="-1" strike="noStrike" u="sng">
                <a:solidFill>
                  <a:srgbClr val="ffffff"/>
                </a:solidFill>
                <a:uFillTx/>
                <a:latin typeface="Arial"/>
              </a:rPr>
              <a:t>kasnijem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 nastupu teme? (Moćna gomilica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19 .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pitanje je ujedno odgovor na 18 pitanje (Stojanović, Moćna gomilica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mjedbe po pitanjima – 2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21.  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smatram preteškim jer mislim da učenici ne vladaju tim vokabularom, a pogotovo će im biti teško ponuditi točan odgovor ako slušaju cijeli stavak (Mladić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27. 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pojam ritmičke raznolikosti se može slobodno shvatiti pa odgovori mogu biti  različiti  a točni –nema egzaktnog odgovora – ovisi o interpretaciji pojma (i 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osjećaju) učenika (Dražinić), odgovori nisu jasno formulirani (Stojanović) , što je 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ritmička raznolikost? Možda je to pitanje za usporedbu npr. Palestrine i Dvoraka ili 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Haydna) (Moćna gomilica 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29.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( Dražinić, Paulinić-Šarić, (Moćna gomilica) i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30 .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moguća su dva točna odgovora a  traži se jedan (Dražinić, Mladić, Stojanović, 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Slaby, Špicer, Moćna gomilic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pćenito   -   Procjen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Pitanja su jasno formulirana (Anto L., Mladić, Slaby) i upute pristupniku su dobre (Slaby), osim u 30 .pitanju gdje je učenik mogao ponuditi više točnih odgovora (Mladić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Pitanja iz teorija su  primjerene težine i jasno su sročena (Mladić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Mislim da je ovakav način ispitivanja objektivan i uvjerljiv (Anto L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Glazbeni primjeri su pažljivo odabrani, učenici će ih poslušati čak tri puta što je dobro (Špic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Teorijska pitanja su jasna i jezgrovita (Špic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Pitanja obuhvaćaju niz informacija i provjeravaju bitna znanja poznavanja glazbene umjetnosti (Špic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pćenito   -   Primjedb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Uz  ove primjere pitanja – pisati (Rješavati) nakon 2. slušanja jer kod provjere nemaju pravo ispravljati eventualni krivi odgovor (Jakli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Ne bih preporučila termine koji se uče u glazbenoj školi (npr. Tonika, subdominanta, ljestvice, modulacije, akordne građe itd…..) ( Jakli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Opća primjedba:  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3 pitanja – opera( 2,4,5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2 pitanja – instrumenti (3, 8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2/4pitanja – sastavi (7, 10 / 6,9 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1 pitanje – glazbene sastavnice (1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2 pitanja – glazbene vrste (2,9) (Moćna gomilica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pćenito   -  Prijedlozi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Pitanja iz analize glazbenih primjera – trebalo bi pri drugom slušanju omogućiti rješavanje pojedinih zadataka tijekom samog slušanja (Moćna gomilica, i ost. 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Trebalo bi odrediti koliko se traži točnih odgovora (broj) (Stojanović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Treba upoznati učenike da DOBRO PROČITAJU zadatak i tek onda idu na rješavanje (Slab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Držim ipak da bi učeniku trebalo dati priliku da na usmenom ispitu govori što je u eventualnoj brzopletosti ili zbunjenosti pogriješio (Anto L.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pćenito   -  Prijedlozi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Smatram da je ideja radionice jako dobra jer je uz pripremu za Nacionalne ispite ovo jako dobra pomoć nastavniku u nastavi. Predlažem da se na nivou Državne mature izrade zadaci takvog tipa koje bi nastavnici mogli koristiti u svojim provjerama. (Jakli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Predlažem da se izradi univerzalni plan i program za glazbenu umjetnost koji će biti dostupan svakom nastavniku, jer će mladi nastavnici dobiti kvalitetne smjernice, a nastavnici s iskustvom mogu upotpuniti svoj plan i program ( Jakli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Pohvaljujem stručnost voditeljica! (Jakli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itanja 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 li dozvoljeno da se učenik predomisli za pojedini odgovor te kasnije zaokruži ispravan , a prekriži krivi odgovor? (Mladić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Zahvaljujemo!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Vaš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Alma Zubović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almazu@yahoo.com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Vesna Krgović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vesna.</a:t>
            </a:r>
            <a:r>
              <a:rPr b="0" lang="hr-HR" sz="2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krgovic</a:t>
            </a:r>
            <a:r>
              <a:rPr b="0" lang="hr-HR" sz="28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@</a:t>
            </a:r>
            <a:r>
              <a:rPr b="0" lang="hr-HR" sz="28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email</a:t>
            </a:r>
            <a:r>
              <a:rPr b="0" lang="hr-HR" sz="28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.t-</a:t>
            </a:r>
            <a:r>
              <a:rPr b="0" lang="hr-HR" sz="2800" spc="-1" strike="noStrike" u="sng">
                <a:solidFill>
                  <a:srgbClr val="003366"/>
                </a:solidFill>
                <a:uFillTx/>
                <a:latin typeface="Arial"/>
                <a:hlinkClick r:id="rId7"/>
              </a:rPr>
              <a:t>com</a:t>
            </a:r>
            <a:r>
              <a:rPr b="0" lang="hr-HR" sz="2800" spc="-1" strike="noStrike" u="sng">
                <a:solidFill>
                  <a:srgbClr val="003366"/>
                </a:solidFill>
                <a:uFillTx/>
                <a:latin typeface="Arial"/>
                <a:hlinkClick r:id="rId8"/>
              </a:rPr>
              <a:t>.h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Marina Novak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800" spc="-1" strike="noStrike" u="sng">
                <a:solidFill>
                  <a:srgbClr val="003366"/>
                </a:solidFill>
                <a:uFillTx/>
                <a:latin typeface="Arial"/>
                <a:hlinkClick r:id="rId9"/>
              </a:rPr>
              <a:t>marina.novak@muza.h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12:17:30Z</dcterms:created>
  <dc:creator>Marina Novak</dc:creator>
  <dc:description/>
  <dc:language>en-US</dc:language>
  <cp:lastModifiedBy>Marina Novak</cp:lastModifiedBy>
  <dcterms:modified xsi:type="dcterms:W3CDTF">2008-03-28T12:35:01Z</dcterms:modified>
  <cp:revision>3</cp:revision>
  <dc:subject/>
  <dc:title>III. Radionica  (Početnici) -</dc:title>
</cp:coreProperties>
</file>