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963-00BE-4FB1-9B4D-89A8764B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7B6-A685-429B-8D3E-00554281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260-6487-40C2-9FEB-562CFE6D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07C-5688-4DD8-B5B5-64BD0ABA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2A3-ACD1-47D2-8008-980246D1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2030-86BA-48B5-93F7-9799D5FC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B9C-16DE-4117-A5B1-5FE9F0AE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8DB-E195-47F2-A687-E0DB74F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7E66-5321-44AE-BD6A-D909FC4D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1A5C-02EA-4E53-8D29-9B814558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7B64-383B-4A54-8CA8-D81D696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801-7E7D-4C1F-BC9A-4B142606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9DAC-7E8C-42DA-B7C0-90D3DD5C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CB66-AF06-41B9-B247-ACA729A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0151-68AD-4257-B3D5-9F2232C6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AD75-A07C-470B-9896-69050D96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D0EC-7889-428B-8A34-21DF30F7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EF2-3F88-4690-834C-2B4118FC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F4A-07BE-4B0E-AD3B-78DF9E98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62B-742F-4664-9D44-EF83BB5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483-6F9B-4067-BB16-FCBE460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724-9B89-40F8-9F89-DB5D40BF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A90-A9B9-44D1-A9A7-8C3D04B8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695-B8EF-44A8-A5E5-E2052076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0B1-7A7A-4A83-A5DC-84E84B698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1F28-ACE7-48A1-9035-02B8D62B4A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Planiranje i kreiranje nastave glazbene umjetnosti sukladno očekivanim razinama znanja i </a:t>
            </a:r>
            <a:br>
              <a:rPr sz="4000"/>
            </a:b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obrazovnim ishodima</a:t>
            </a: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87640" y="6237000"/>
            <a:ext cx="324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patija, 27. ožujka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5157720"/>
            <a:ext cx="68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89080" cy="81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Glazbeni primje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528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.Vivaldi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Četiri godišnja dob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, koncerti za violinu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i orke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. S. Bach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Preludij i fuga u c-molu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("Dobro ugođeni glasovir", I. sv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. F. Händel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Mesij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, Allelu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W. A. Mozart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40. simfonija u g-molu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, KV 5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W. A. Mozart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Čarobna fr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. Haydn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Koncert za trubu i orkestar u Es-du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Glazbeni primje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4920" y="1599840"/>
            <a:ext cx="8497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. van Beethoven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5. simfonija u c-mo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. Smetana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Vlt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F. Schubert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Vilinski kra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. Schumann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Sanjarenj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z ciklusa "Dječji prizori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. Verdi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Nabu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. I. Čajkovski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Koncert za glasovir i orkestar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u b-mo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Glazbeni primje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. Stravinski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Petruš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. Š. Slavenski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Voda zvi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. Prokofjev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Klasična simfonija u D-duru,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op.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. Orff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Carmina bur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. Stockhausen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Kontakti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za elektroničke zvukove,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  glasovir i udaralj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Venov dij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43120" y="3065400"/>
            <a:ext cx="5989680" cy="1513080"/>
            <a:chOff x="1743120" y="3065400"/>
            <a:chExt cx="5989680" cy="1513080"/>
          </a:xfrm>
        </p:grpSpPr>
        <p:sp>
          <p:nvSpPr>
            <p:cNvPr id="193" name="_s56329"/>
            <p:cNvSpPr/>
            <p:nvPr/>
          </p:nvSpPr>
          <p:spPr>
            <a:xfrm>
              <a:off x="4557600" y="3065400"/>
              <a:ext cx="1513080" cy="1513080"/>
            </a:xfrm>
            <a:prstGeom prst="ellipse">
              <a:avLst/>
            </a:prstGeom>
            <a:solidFill>
              <a:srgbClr val="86d1ec">
                <a:alpha val="50000"/>
              </a:srgbClr>
            </a:solidFill>
            <a:ln w="4680">
              <a:solidFill>
                <a:srgbClr val="86d1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56330"/>
            <p:cNvSpPr/>
            <p:nvPr/>
          </p:nvSpPr>
          <p:spPr>
            <a:xfrm>
              <a:off x="6219720" y="3632040"/>
              <a:ext cx="1513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Arial"/>
                </a:rPr>
                <a:t>Ulog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Arial"/>
                </a:rPr>
                <a:t>učenik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56331"/>
            <p:cNvSpPr/>
            <p:nvPr/>
          </p:nvSpPr>
          <p:spPr>
            <a:xfrm>
              <a:off x="3406680" y="3065400"/>
              <a:ext cx="1513080" cy="1513080"/>
            </a:xfrm>
            <a:prstGeom prst="ellipse">
              <a:avLst/>
            </a:prstGeom>
            <a:solidFill>
              <a:srgbClr val="45c984">
                <a:alpha val="50000"/>
              </a:srgbClr>
            </a:solidFill>
            <a:ln w="468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56332"/>
            <p:cNvSpPr/>
            <p:nvPr/>
          </p:nvSpPr>
          <p:spPr>
            <a:xfrm>
              <a:off x="1743120" y="3632040"/>
              <a:ext cx="1512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Arial"/>
                </a:rPr>
                <a:t>Ulog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Arial"/>
                </a:rPr>
                <a:t>nastavnik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Kreiranje s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ako kreirati nastavni sat s obzirom na novu ulogu učenika i nastavnika?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o bi trebala sadržavati priprava za nastavni sat u kojem će učenik aktivno sudjelovati i samostalno otkrivati novo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Kreiranje sata - Uv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453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UČE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isjeća se svega što z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eispituje vlastito zn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azmišlja o te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udjeluje u razmjeni ide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blikuje vlastito mišlje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zražava svoje znanje aktivnim mišlje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316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NASTAV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stavlja pitanja i zadat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zorno sluša ideje učen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smjerava učen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maže učenicima rekonstruirati prethodno znanje (temelj za nova znanj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ovori što m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Kreiranje sata – Obrada t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UČE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amostalno odražava aktivnost, zanim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DOBAR ČITA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novno čita ono što nije razum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DOBAR SLUŠA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stavlja pit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apisuje nerazumljive poj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SMISLENO POVEZUJE NOVO S POZNAT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35600" y="1267920"/>
            <a:ext cx="4316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NASTAV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sigurava dovoljno pitanja i zadataka za učen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uža podršku pokušajima učen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a prate svoje razumije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Kreiranje sata – Završni d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UČE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udjeluje u razmjeni ide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Vlastitim riječima izražava nove postavke i informac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ktivno preoblikuje svoje sheme i uklapa nove poj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STVARNO USVAJA NOVO ZN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35600" y="1267920"/>
            <a:ext cx="4316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NASTAV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mogućuje živahnu razmjenu ideja između učen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RTNER UČENIC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Kreiranje s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Što </a:t>
            </a:r>
            <a:r>
              <a:rPr b="1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ne bi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trebala sadržavati priprava za nastavni s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iprava za nastavni sat ne bi trebala sadržavati gradivo koje će nastavnik tumači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3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Priprava za nastavni s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155700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Što </a:t>
            </a:r>
            <a:r>
              <a:rPr b="1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bi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trebala sadržavati priprava za nastavni s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jasno istaknut obrazovni is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očekivana postignuća učen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vješto sastavljena pitanja i zadatke koji će učeniku omogućiti da primjenom postojećeg znanja samostalno otkriva no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Opći ciljevi predm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vijanje glazbenog senzibiliteta kroz slušanje i razumijevanje glazbenih djela svjetske i nacionalne glazbene baš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vijanje interesa za sve vrste glazbene umjetnosti (klasičnu, narodnu i popularnu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vijanje sposobnosti kritičkog slušanja glaz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Zadat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zrada priprave nastavnog sata prema zadanom glazbenom primjer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. Haydn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94. simfonija u G-duru,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I. stav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. Dvořák: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9. simfonija u e-molu,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. stav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Priprava za nastavni s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155700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Jasno istaknut obrazovni is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Očekivana postignuća učen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Vješto sastavljena pitanja i zadatke koji će učeniku omogućiti da aktivno sudjeluje u radu i primjenom postojećeg znanja samostalno otkriva no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Zaključ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koliko je učenik aktivan sudionik u obrazovnom procesu, puno mu je jasniji obrazovni is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čenik samostalno otkriva i definira obrazovni ishod, a nastavnik mu u tome samo pomaže pomno isplaniranim aktivnostima koje osiguravaju učenikovu aktivnu uključenost u obrazovni pro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d učenika se očekuje da uz primjenu postojećeg znanja otkriva no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Zaključ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Učenik – aktivan sudio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Nastavnik – medij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ffff"/>
                </a:solidFill>
                <a:latin typeface="Arial"/>
              </a:rPr>
              <a:t>HVA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Opći ciljevi predm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likovanje zvuka što većeg broja povijesnih, narodnih i umjetničkih glazba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poznavanje estetske i etičke vrijednosti umjetničkih glazbenih djela svjetske i nacionalne glazbene baš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spoređivanje vrijednih umjetničkih postignuća hrvatskih skladatelja u sklopu europskih glazbenih kreta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Opći ciljevi predm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bogaćivanje glazbene terminolog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likovanje značajki glazbenih djela ovisno o stilskom razdoblj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vijanje interesa za aktivno bavljenje glazb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Opći ciljevi predm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vijanje interesa za praćenje glazbenih događaja u svojoj sredi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vijanje interesa za samostalno stjecanje novih spoznaja, znanja i vještina o glazbenoj umjetn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vijanje umijeća korištenja suvremenih tehnoloških naprava za stjecanje novih znanja i spozn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Obrazovni isho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413000"/>
          <a:ext cx="8785440" cy="5241960"/>
        </p:xfrm>
        <a:graphic>
          <a:graphicData uri="http://schemas.openxmlformats.org/drawingml/2006/table">
            <a:tbl>
              <a:tblPr/>
              <a:tblGrid>
                <a:gridCol w="515880"/>
                <a:gridCol w="8269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šno prepoznati, opisati i razlikovati šum i ton te sastavnice ton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šno prepoznati, imenovati, opisati i razlikovati sastavnice glazbenog djela: izvođači glazbenog djela, izvođački sastavi, tempo, metar, ritam, dinamika, melodija, harmonija, glazbeni oblik i glazbeni slo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šno prepoznati, imenovati, opisati i razlikovati načine izvođenja glazbenog dje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onološki odrediti trajanje stilskih razdoblja sa pripadajućim predstavnicima i razlikovati glazbene stilske značajk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likovati specifičnosti građe glazbenih vrsta i oblika pojedinih stilskih razdobl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likovati tehnike skladanja svakog pojedinog stilskog razdobl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kazati u kratkim crtama povijesni razvoj programne glazbe i usporediti s apsolutnom glazb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Obrazovni isho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1557360"/>
          <a:ext cx="8785440" cy="4895640"/>
        </p:xfrm>
        <a:graphic>
          <a:graphicData uri="http://schemas.openxmlformats.org/drawingml/2006/table">
            <a:tbl>
              <a:tblPr/>
              <a:tblGrid>
                <a:gridCol w="576360"/>
                <a:gridCol w="82090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likovati multimedijalne glazbene vrste i protumačiti strukturu i specifičnosti promj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šno prepoznati, razlikovati i imenovati načine uglazbljivanja tek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isati razvoj tonske građe od srednjeg vijeka do 20. stoljeć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porediti slobodni atonalitet, dodekafoniju, serijalnu tehniku skladanja i aleator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znati i razlikovati načine bilježenja glaz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vezati razvoj tehnologije i glazbe u 20. stoljeć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isati razvoj hrvatske glazbe od srednjeg vijeka do 21. stoljeća i usporediti s glazbenim dostignućima u svije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Razine znan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1557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1557360"/>
          <a:ext cx="8280360" cy="3647880"/>
        </p:xfrm>
        <a:graphic>
          <a:graphicData uri="http://schemas.openxmlformats.org/drawingml/2006/table">
            <a:tbl>
              <a:tblPr/>
              <a:tblGrid>
                <a:gridCol w="2550960"/>
                <a:gridCol w="2943360"/>
                <a:gridCol w="2786040"/>
              </a:tblGrid>
              <a:tr h="57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U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ZNA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ZNA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RIJEDNO ZNA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560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dr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ji koji predstavljaju temeljni cilj pou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vanja glazbene umjetnosti, ono što ostaje nakon što se zaborave brojni detal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a razumijevanje glazbene umjetnosti važna znanja (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jenice, pojmovi i n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) i vještine (procesi, strategije i metod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dr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ji v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i za temeljne ideje, koji olakšavaju razumijevanje ili olakšavaju povezivanje s drugim idejama ili disciplin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Glazbeni primje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Pater n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. d' Arras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To bje u svibnj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. G. da Venosa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Moro la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. di Lasso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Super flumina Babylo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. P. da Palestrina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Missa papae Marce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8:52:18Z</dcterms:created>
  <dc:creator>NEC Computers International</dc:creator>
  <dc:description/>
  <dc:language>en-US</dc:language>
  <cp:lastModifiedBy>ALMA</cp:lastModifiedBy>
  <dcterms:modified xsi:type="dcterms:W3CDTF">2008-03-26T23:55:03Z</dcterms:modified>
  <cp:revision>29</cp:revision>
  <dc:subject/>
  <dc:title>Razine znanja glazbene umjetnosti na Državnoj maturi  - Što je nužno, važno i vrijedno znati u nastavi glazbene umjetnosti?</dc:title>
</cp:coreProperties>
</file>