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E2A3-7B9C-4957-B32D-8C297E479847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A6F6-3CB4-4DEF-B69C-5A2506677F5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B336-1F02-4B3F-B3C8-7C19A8332A3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0062-561F-40C9-B99B-0DDB798FA55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233E-9093-41D8-BC22-AF96D406E1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upisuje se u rubriku bilježaka u imenik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zapažanja koja pomažu učitelju za donošenje zaključene ocj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učeniku, roditeljima, razredniku poticanje i ispravke u radu te razumijevanje zaključne ocj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datum, sadržaj, opas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Prijedlog pedagoških mjera za poboljšanje suradnje i uspje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tijekom cijele god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CEB8-CEAF-4633-95B3-6477AFF3EE6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E6FE-AE0D-4F17-B80D-B9264C1031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bilježe se ocjene od 1 do 5 u rešetk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bez +, -, 0,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javno, nakon provjeravan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48C1-BCB2-41FF-988A-5321654C1E5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0CB4-9D66-48CF-BED2-73BB938024E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030A-F24C-4D45-88E4-5EF108C5E7E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0321-911B-4304-BCCC-6D9ABEB897C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E508-4651-45C9-A442-A2F0F3CCE62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FA4D-33A9-49A4-8958-D1C45F36492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5C60-12E4-414E-87BA-62DE328AF0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1BF1-D575-436E-BE0C-1C9A8716719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E66E-E02A-4982-A261-854DC9A9647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FC60-67A0-44A9-B5FB-38A2FD9E53E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03EA-7C71-42E8-A2AF-ADD9AA6D127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11A6-6A0E-4E0E-99F0-F06E976E8F9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2C1E-8F56-49A5-8506-40072BBFAFF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B85A-5090-47ED-9A4E-A71DEB9509C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F3E0-6E97-48AC-AE86-ECC302C1CCC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CDA0-A05E-4BF7-BB3C-84979C5699F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B371-DCDA-48D3-B556-52230849B9F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A0A6-A1F1-45A7-A918-1D8C83765E5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A2A0-EA1F-460F-AB98-5248B4024BC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F742-395A-408B-A3E7-C754C300CC8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zaključno ocjenjivanje treba biti odraz cjelokupnih odgojno – obrazovnih postignuća tijekom šk. god.i utemeljeno na brojčanim ocjenama upisanim u imenik i bilješkama o praćenju učeni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Zaključna ocjena iz pojedinog predmeta ne mora proizlaziti iz aritmetičke sredine upisanih ocjena u polugodištu; zaključuje se i objavljuje na posljednjem nastavnom sa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156F-C82E-42D8-83B5-DE3743B4EF4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E870-1128-4D7F-A816-06D9537287E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DAF4-2A30-48F5-B9CE-4ECAE688E0F9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D7DA-E5FA-432B-B895-2364DF7047C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B776-EC9A-463E-99BA-E64831406B2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5D0D-FC80-4D44-B378-522562AEFB2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9AC6-2D3F-47A0-8631-0AE86271E65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49A9-0B22-4A01-BA2F-65CD7006FD7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B5E2-834C-448E-8216-5B2FBC30F6D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497F-87F7-4B81-BFF9-B96D058AFFA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4E62-88E2-4076-8781-E77D724ECB5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7D3A-F812-4DF9-8D84-E97D945EB0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4D5B-D3D6-4D35-857C-33077E3A8EA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41BC-A226-44CA-A77E-5A6C9D29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D7C5-9FF2-4CE5-84B7-7F989D4D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2693-A50E-42CE-A3F9-60D9DA2A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DFCC-56F5-47A5-866B-389E2119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EC9F-668B-4C80-BD97-87D6C338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1A3B-E0B9-49B9-B03D-8042B87F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C78F-585C-47BB-9E76-7CAE47C2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AB1B-CB6A-4DF6-AD5F-43949ABD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94B7-D30B-48FE-B429-D6E54823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80C5-3F23-42F8-942F-E71266BE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2D05-CC2E-433B-8C67-A1489139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ACD4-DA61-453C-B586-6762B0C4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30F3-A156-437D-9577-2EF68FA1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B14F-749E-480A-982A-812F45D6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ECE2-BB12-4C13-B3E7-0064B8FC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2A77-EEC2-42FD-90E2-613AAE6A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0D97-D2B3-4E10-9FF9-D391B185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7B6E6-1826-4005-8A0B-336BFC3E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D9659-C801-4AF8-A866-ADC781FB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AD6F0-E5EE-4B42-B8E0-D8D12F0A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C3A59-7DBC-4FFF-9B8D-556C008C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8560E-B799-47D8-B456-FD08BF02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6F7F-15B8-4805-83E7-DEFD73BD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ED9FC-3742-4BB5-BE4B-83FCA7FF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E51FD-C9CA-4990-80AD-EEECCEA0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D12E4-CB62-42ED-8720-97162B08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71C8F-8E1B-42CF-AE52-7000E161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4799B-67E4-4CBA-BB56-022E368E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0DA38-2FB9-4C0A-88C4-D1A65FCD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9F5A2-8A07-4C35-AA82-417B651F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74A6D-8718-4D5B-BEE4-F525709F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E4F2D-7E38-4681-B31B-0A06FDD1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7F156-9E96-4343-86CA-91728D21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8B55-782E-4BF3-BC73-5C0FE974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971E7-76B7-48F4-A341-11830FB7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91F9D-9EF8-43AD-8F83-9D12ACBC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01453-C2F8-4537-A26D-97447CE2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3E231-AF7B-4447-9E9D-14102F40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D3582-4223-4A55-9857-9EE47276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97381-76EA-4E93-9B04-D792AD54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0D247-2A49-411B-A0BB-C17B9A81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FD845-726C-4788-8055-7B9F3035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23571-0D8D-4F56-8058-25320F10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F5342-BE76-4AAA-84FE-F1FBC732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C0F2-9ED2-415F-8338-B26F56D3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995CF-DFED-4BD5-8664-0A06CA75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5E337-3A99-4456-8C06-7209C527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F549B-8EAD-4A82-BC60-341A1E48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82ECE-E70A-4930-B9CF-0865083D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509DB-7054-4C6E-95DA-B51E5BAA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8C852-2BAB-45E0-8F1D-78C56A5E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68897-4B10-42A9-903B-8E50C976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634A6-D2E7-48B0-A482-81D995EA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B99D6-F13F-4FD9-B910-953C42A6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9951A-D0C2-4912-A0EF-7B19B742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D942-842C-47DA-ACFA-8E936225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8FBDA-1370-4405-AFE8-3FFC0A45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D8D6E-7DEE-4954-98F6-3D88D46D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9E7D7-46FD-4937-8E41-5C3F5E66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5C99B-886C-4917-97D5-D2551B60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C6B2D-A818-4D2E-975C-1ABC3843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5D196-88F5-4B8E-85CC-CE48D4B4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8A80D-E194-4A4C-877D-F672016F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C60F2-1FF7-46FF-9A29-DA836533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8FDC5-DC78-45F0-ADC9-F1F42022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A524A-07F6-49E7-921C-A46F5AAA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F02-D77A-49A0-A06B-4BA70BC5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25E79-E978-4C0F-8E5B-DC21B70F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24609-9F3F-4058-B574-82692D9C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30710-C60D-4AFC-A6C7-90FD9911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EA744-1FC6-4163-8973-C11277EE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C6BF0-7C95-4E47-BD97-112ADBD9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A0615-256E-4443-BCDF-BDE863CD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C21DF-B92D-4D7E-8D59-A6934C38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F3BCD-9BCE-4E28-9D4C-999EFB6D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CCDCB-E0B0-4855-B69D-9D4DF892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B984E-3DD0-4C1B-95EB-605045E4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02A0-334F-4080-835B-D796ED61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3326E-3F96-44F0-AFE1-D08FC49C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31083-6E4B-4117-97C5-2DF5F9FB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C31E1-47B6-481E-8E27-7FF124F7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36E89-730F-4E23-AC7C-C1A42EE2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E71F0-E486-4A77-ACC6-27279F36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1D4C0-D873-424C-BB26-1939BA0C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BD52C-65D1-4138-89DF-447CC0B6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8E525-7781-4E37-A8D5-9B11042E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50F7F-9300-47BE-A6F0-6E3D71EF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D8AEB-D5D3-4496-B824-51A026E0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CE1F-5DD8-4358-AB26-A6BB4E9F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DB5F5-D3FB-49A1-9DCF-116A1A85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8E0BB-22E9-451B-9971-602CC33C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28170-11E1-427E-A79A-0F7E81CE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64CCD-04E1-4D07-B9E4-14A803C4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7BAF2-073D-4DC6-834A-596866E9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19CE2-3727-4B13-91CF-1F3CD532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520F2-4402-465B-B253-45F3C23F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C6D3-9E4A-452E-95F9-9CD7073A5631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6" descr="AGENCIJA - Pozadina (b)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95959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595959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95959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1C0D-6060-408C-A35C-8B2877717D57}" type="slidenum">
              <a:rPr b="0" lang="hr-HR" sz="1200" spc="-1" strike="noStrike">
                <a:solidFill>
                  <a:srgbClr val="59595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6" descr="AGENCIJA - Pozadina (b)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95959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595959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95959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06B4-9AF0-4C5A-BAEF-9C95C7D28D01}" type="slidenum">
              <a:rPr b="0" lang="hr-HR" sz="1200" spc="-1" strike="noStrike">
                <a:solidFill>
                  <a:srgbClr val="59595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6" descr="AGENCIJA - Pozadina (a)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EEBA-0CAA-4A09-93EB-84213931EB8F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71800" y="6565680"/>
            <a:ext cx="21337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3D08-3FAB-41D1-A2A2-0F7A8F3BAE1C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Slika 6" descr="AGENCIJA - Pozadina (a)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9840-763D-4EB8-B20A-E4C41236D35C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Slika 6" descr="AGENCIJA - Pozadina (a)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0BF3-8F02-4E32-83B2-4FD47397A1EC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ADA3-A07E-4DC7-AE97-523E0074684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4240" y="164304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Školsko ocjenjivanje znanja”</a:t>
            </a:r>
            <a:br>
              <a:rPr sz="3600"/>
            </a:b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međužupanijski stručni skup</a:t>
            </a:r>
            <a:br>
              <a:rPr sz="3600"/>
            </a:br>
            <a:br>
              <a:rPr sz="3600"/>
            </a:b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Našice, srpanj i kolovoz 201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714240" y="5428800"/>
            <a:ext cx="442944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alibri"/>
              </a:rPr>
              <a:t>Ninočka Truck-Biljan, prof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alibri"/>
              </a:rPr>
              <a:t>viša savjet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00080" y="49968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Osnovni termini i pojmov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00040" y="2000160"/>
            <a:ext cx="8229600" cy="41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Vrjednov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Praće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Ocjenjiv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4" descr="PE01457_"/>
          <p:cNvPicPr/>
          <p:nvPr/>
        </p:nvPicPr>
        <p:blipFill>
          <a:blip r:embed="rId1"/>
          <a:stretch/>
        </p:blipFill>
        <p:spPr>
          <a:xfrm>
            <a:off x="6572160" y="1500120"/>
            <a:ext cx="1235160" cy="13543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BD04900_"/>
          <p:cNvPicPr/>
          <p:nvPr/>
        </p:nvPicPr>
        <p:blipFill>
          <a:blip r:embed="rId2"/>
          <a:stretch/>
        </p:blipFill>
        <p:spPr>
          <a:xfrm>
            <a:off x="6858000" y="4929120"/>
            <a:ext cx="1104840" cy="12859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J0076136"/>
          <p:cNvPicPr/>
          <p:nvPr/>
        </p:nvPicPr>
        <p:blipFill>
          <a:blip r:embed="rId3"/>
          <a:stretch/>
        </p:blipFill>
        <p:spPr>
          <a:xfrm>
            <a:off x="6786720" y="3214800"/>
            <a:ext cx="1152360" cy="1027080"/>
          </a:xfrm>
          <a:prstGeom prst="rect">
            <a:avLst/>
          </a:prstGeom>
          <a:ln w="0">
            <a:noFill/>
          </a:ln>
        </p:spPr>
      </p:pic>
      <p:cxnSp>
        <p:nvCxnSpPr>
          <p:cNvPr id="364" name="Curved Connector 7"/>
          <p:cNvCxnSpPr/>
          <p:nvPr/>
        </p:nvCxnSpPr>
        <p:spPr>
          <a:xfrm>
            <a:off x="3357720" y="2357280"/>
            <a:ext cx="3358080" cy="3215520"/>
          </a:xfrm>
          <a:prstGeom prst="curvedConnector5">
            <a:avLst>
              <a:gd name="adj1" fmla="val 49994"/>
              <a:gd name="adj2" fmla="val 49994"/>
              <a:gd name="adj3" fmla="val 4999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5" name="Curved Connector 14"/>
          <p:cNvCxnSpPr/>
          <p:nvPr/>
        </p:nvCxnSpPr>
        <p:spPr>
          <a:xfrm flipV="1">
            <a:off x="2785680" y="2071800"/>
            <a:ext cx="3715560" cy="2071800"/>
          </a:xfrm>
          <a:prstGeom prst="curvedConnector5">
            <a:avLst>
              <a:gd name="adj1" fmla="val 58003"/>
              <a:gd name="adj2" fmla="val 50000"/>
              <a:gd name="adj3" fmla="val 58003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6" name="Curved Connector 22"/>
          <p:cNvCxnSpPr/>
          <p:nvPr/>
        </p:nvCxnSpPr>
        <p:spPr>
          <a:xfrm flipV="1">
            <a:off x="3214440" y="3857760"/>
            <a:ext cx="3429720" cy="2071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hr-HR" sz="3200" spc="-1" strike="noStrike">
                <a:solidFill>
                  <a:srgbClr val="c00000"/>
                </a:solidFill>
                <a:latin typeface="Arial"/>
                <a:ea typeface="Arial"/>
              </a:rPr>
              <a:t>VRJEDNOVANJE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AĆE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OVJERAVANJE IL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OCJENJIV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OCJENJIV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22000" y="6091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  <a:ea typeface="Arial"/>
              </a:rPr>
              <a:t>PRAĆE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285840" y="1714320"/>
            <a:ext cx="85723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avilnik o praćenju i ocjenjivanju... (NN, br.92/9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Članak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aćenjem učenika podrazumijeva se sustavno bilježenje zapažanja o razvoju njegova interesa, motivacije i sposobnosti, njegovih postignuća u usvajanju odgojno-obrazovnih sadržaja nastavnog predmeta, njegov odnos prema radu i postavljenim zadacima  te odgojnim vrijednostima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6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714240" y="2205000"/>
            <a:ext cx="797256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ljučni dio vrednovanja odgovara na pitanje </a:t>
            </a:r>
            <a:r>
              <a:rPr b="1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što ocjenjujem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određujući time vrstu i količinu sadržaj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(najčešće je to instrumentarij kojim se zadovoljavaju ciljevi nastave, odnosno sve ono što smo željeli postići s učenicim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500200" y="499680"/>
            <a:ext cx="60724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PROVJERAVANJE ILI PROCJENJIVANJ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OCJENJIV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“…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je postupak vrednovanja svih važnih činjenica o učenikovim postignućima tijekom praćenja, provjeravanja i ispitivanja, a izražava se ocjenom u skladu sa zakonom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Predmetna i metodička slože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Jezik je i cilj i sredstvo i način provj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Nastavnik: mjerilac i mjerni instr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Nelogičnost: nastavnik koji je subjektivni mjerni instrument mora dati ocjenu koja treba biti objektiv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Ipak treba znati da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...svaki nastavnik stvara svoj sustav i vlastita mjerila koja ovise i o uvjetima u kojima se održava nastava i o samim učenicima – stoga je vrijednost ocjena relativna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(prema Petrović, 198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85920" y="49968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Kakva je vrijednost ocjena i što zapravo mj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Istraživanja jasno pokazuju da </a:t>
            </a: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ocjene koje učenici dobivaju na ispitima </a:t>
            </a: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nisu ni objektivne, ni pouzdane ni valjane </a:t>
            </a: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i da je za učenika često «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ažnije tko ga ispituje, nego koliko  je njegovo poznavanje predmet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» </a:t>
            </a:r>
            <a:br>
              <a:rPr sz="2800"/>
            </a:b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(Z. Bujas, 1943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Zašto je to i danas tak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200" spc="-1" strike="noStrike"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Dva su temeljna uzrok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nanje nije direktno dostupno mjerenju, nego o njemu posredno zaključujemo preko odgovora učen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astavnik se pojavljuje u ulozi i instrumenta i mjerio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57280" y="71388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Uzroci slabe metrijske vrijednosti ocj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Čimbenici koji ovise 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čeni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astavni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C)  tehnici ispiti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Cilj i zadaće skup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2920" y="1499760"/>
            <a:ext cx="8555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Cilj: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svijestiti važnost pravilnoga praćenja i ocjenji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Zadać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svijestiti važnost objektivnih i subjektivnih čimben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staknuti važnost elemenata i vještina koje se ocjenjuju u element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teći uvid u pravilno ocjenjivanje vještine gov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teći uvid u spoznaje iz ovoga podru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poznati se s odabranom literaturom iz podru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_s49165"/>
          <p:cNvSpPr/>
          <p:nvPr/>
        </p:nvSpPr>
        <p:spPr>
          <a:xfrm flipH="1">
            <a:off x="1908000" y="3860640"/>
            <a:ext cx="172728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_s49164"/>
          <p:cNvSpPr/>
          <p:nvPr/>
        </p:nvSpPr>
        <p:spPr>
          <a:xfrm>
            <a:off x="324000" y="4508640"/>
            <a:ext cx="2209680" cy="1873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Tehnike ispitivanj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i ocjenji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_s49163"/>
          <p:cNvSpPr/>
          <p:nvPr/>
        </p:nvSpPr>
        <p:spPr>
          <a:xfrm>
            <a:off x="5435640" y="3789360"/>
            <a:ext cx="158436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_s49162"/>
          <p:cNvSpPr/>
          <p:nvPr/>
        </p:nvSpPr>
        <p:spPr>
          <a:xfrm>
            <a:off x="6372360" y="4508640"/>
            <a:ext cx="2209680" cy="1873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Učeničke osob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i snalažen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u ispitnoj situaci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_s49161"/>
          <p:cNvSpPr/>
          <p:nvPr/>
        </p:nvSpPr>
        <p:spPr>
          <a:xfrm flipV="1">
            <a:off x="4535640" y="1298160"/>
            <a:ext cx="0" cy="170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_s49160"/>
          <p:cNvSpPr/>
          <p:nvPr/>
        </p:nvSpPr>
        <p:spPr>
          <a:xfrm>
            <a:off x="3419640" y="0"/>
            <a:ext cx="2160360" cy="1844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Nastavni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kao mjern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instru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_s49159"/>
          <p:cNvSpPr/>
          <p:nvPr/>
        </p:nvSpPr>
        <p:spPr>
          <a:xfrm>
            <a:off x="3132000" y="2421000"/>
            <a:ext cx="3024360" cy="2736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60033"/>
                </a:solidFill>
                <a:latin typeface="Comic Sans MS"/>
              </a:rPr>
              <a:t>UZROCI SLA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60033"/>
                </a:solidFill>
                <a:latin typeface="Comic Sans MS"/>
              </a:rPr>
              <a:t>METRIJSK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60033"/>
                </a:solidFill>
                <a:latin typeface="Comic Sans MS"/>
              </a:rPr>
              <a:t>VRIJED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60033"/>
                </a:solidFill>
                <a:latin typeface="Comic Sans MS"/>
              </a:rPr>
              <a:t>OCJE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9"/>
          <p:cNvSpPr/>
          <p:nvPr/>
        </p:nvSpPr>
        <p:spPr>
          <a:xfrm>
            <a:off x="655308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10" descr="7"/>
          <p:cNvPicPr/>
          <p:nvPr/>
        </p:nvPicPr>
        <p:blipFill>
          <a:blip r:embed="rId1"/>
          <a:stretch/>
        </p:blipFill>
        <p:spPr>
          <a:xfrm>
            <a:off x="5219640" y="836640"/>
            <a:ext cx="1468440" cy="1295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1" descr="5-2"/>
          <p:cNvPicPr/>
          <p:nvPr/>
        </p:nvPicPr>
        <p:blipFill>
          <a:blip r:embed="rId2"/>
          <a:stretch/>
        </p:blipFill>
        <p:spPr>
          <a:xfrm>
            <a:off x="4643280" y="5300640"/>
            <a:ext cx="1938600" cy="11746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2" descr="43"/>
          <p:cNvPicPr/>
          <p:nvPr/>
        </p:nvPicPr>
        <p:blipFill>
          <a:blip r:embed="rId3"/>
          <a:stretch/>
        </p:blipFill>
        <p:spPr>
          <a:xfrm>
            <a:off x="324000" y="3429000"/>
            <a:ext cx="1511280" cy="148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A) Čimbenici koji ovise o učenik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nedovoljna jasnoća i neodređenost odgov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erbalne sposobnosti i moguć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mogućnosti opažanja i uporabe opaženih podata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čuvstvena otpor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Arial"/>
                <a:ea typeface="Arial"/>
              </a:rPr>
              <a:t>prilagođenos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školi i školskome susta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8592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B) Čimbenici koji ovise o nastavn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(subjektivni  - smanjuju metrijsku vrijednost ocjena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sobna jednadž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Halo efe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logička pogrješ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grješka sred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grješka diferencijac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grješka kontra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ndencija prilagođavanja mjerila kvaliteti skup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8592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C) Čimbenici koji ovise o tehnici ocjenji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i usmenome ispitivanju – potpitanja, pomoć, neverbalne reakcije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i pisanome ispitivanju – redoslijed pregledavanja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Kako unaprijediti ocjenjivanj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285840" y="1285560"/>
            <a:ext cx="85723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ažno je biti svjestan mogućega djelovanja navedenih čimbe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ažno je osvijestiti osjećaje i stavove prema svakom pojedinom učeni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Redovito pratiti napred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Ispitivati češće i to različitim metod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tvoriti ozračje usmjerenosti na postizanje uspje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Objektivizacija procj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(na primjeru procjene govora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...postavljanje mjerila ključno je za procjenjivanje jer bez mjerila ili standarda izvedbe, zadatci za izvedbu ostaju jednostavno zbirka aktivnosti koje smo poučavali.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Footer Placeholder 3"/>
          <p:cNvSpPr/>
          <p:nvPr/>
        </p:nvSpPr>
        <p:spPr>
          <a:xfrm>
            <a:off x="3124080" y="6356520"/>
            <a:ext cx="5376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(prema: Herman, Aschbacher, Winters, 199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Objektivizacija procj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ažn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Osigurati vrijeme za povratnu informaciju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Razviti rubrike za ocjenjiv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Učenici trebaju znati svrhu i očekivanu izvedbu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Footer Placeholder 3"/>
          <p:cNvSpPr/>
          <p:nvPr/>
        </p:nvSpPr>
        <p:spPr>
          <a:xfrm>
            <a:off x="3124080" y="6356520"/>
            <a:ext cx="5376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(prema: Herman, Aschbacher, Winters, 199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Mjerila treb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57140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Utemeljiti na ciljevima razrednih aktivnosti 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ij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postupka ocjenjiv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Operacionalizirati na stvarnoj izvedb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ostaviti razine izvedbe izradbom rubrika, skale ili check-liste tako d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3.1. načinite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3.2. provjerite oslikavaju li ciljev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3.3. tražite savj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3.4. provjerite (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spekte usmenoga izriča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3.5. razrađujete dok se ne složite s učenic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U okviru aktiva škole ili ŽSV-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Treba što preciznije definirati ono što se ocjenjuje i mjerila ocjenjiv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orisno je unaprijed planirati načine provjere znanja i pitanja koja će se postaviti uz konkretno gradivo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&gt;&gt;&gt; i sve je to dobro raditi sa sustručnjacima jer se povećava valjanost i objektivnost procjen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14240" y="1642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Elementi i mjerila za provjeravanje usmenoga izričaja? - radion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Ninočka Truck-Biljan, prof.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viša savjet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Plan stručnoga skup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vodn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otivac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Radionic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– 3 paralelno (ponavljaju se tri puta svak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ratko predava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(prezentaci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ajednička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iskusija: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oditelji panel-diskusije su voditelji radionica – zaključak seminara, odgovori na pitanja, podjela potvr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57280" y="49968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Kako izraditi analitičke ili holističke rubrike za usmeni izričaj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odaberite zada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svrstajte u tipove zadatka (opisivanje, prepričavanje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odredite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št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provjeravate (podvješti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izradite rubr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razmislite o razin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usporedite ponovo sa zadatk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dogovorite se (s učenicima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Podvještine (aspekti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oblik (dijalog, opis, prepričavanje...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sadržaj (vokabular, jezične funkcije, činjenice...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konteks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slušanje (dio dobroga govornika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fluentnost (izgovor, rečenična intonacija...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gramatička kompetencija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neverbalna komunikacija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200" spc="-1" strike="noStrike"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AŽNO JE DA UČENIK DOBIJE ZASLUŽENU OCJE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CILJ </a:t>
            </a:r>
            <a:r>
              <a:rPr b="1" lang="hr-HR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NIJE USPOREĐIVATI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 OTKRITI ŠTO</a:t>
            </a:r>
            <a:r>
              <a:rPr b="1" lang="hr-HR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ČENIK</a:t>
            </a:r>
            <a:r>
              <a:rPr b="1" lang="hr-HR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 NE MOŽE I NE ZNA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 VEĆ UTVRDITI ŠTO ZNA I ŠTO GA MOŽE POTAKNUTI NA BOLJI R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ČITELJI / NASTAVNICI I UČENICI SU SURADNIC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Picture 6" descr="bd04972_"/>
          <p:cNvPicPr/>
          <p:nvPr/>
        </p:nvPicPr>
        <p:blipFill>
          <a:blip r:embed="rId1"/>
          <a:stretch/>
        </p:blipFill>
        <p:spPr>
          <a:xfrm>
            <a:off x="7072200" y="5429160"/>
            <a:ext cx="1727280" cy="12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14240" y="1642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Jesmo li ostvarili zadać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Ninočka Truck-Biljan, prof.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viša savjet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Ciljev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Značajke mjernih instrumena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Elementi ocjenjivanja (radionic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Mjerila i razine za provjeru usmenoga izričaja (radionic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ažnost praćenja uče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SmartArt Placeholder 4" descr="j0195784"/>
          <p:cNvPicPr/>
          <p:nvPr/>
        </p:nvPicPr>
        <p:blipFill>
          <a:blip r:embed="rId1"/>
          <a:stretch/>
        </p:blipFill>
        <p:spPr>
          <a:xfrm>
            <a:off x="2928960" y="2357280"/>
            <a:ext cx="2857320" cy="27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200" spc="-1" strike="noStrike"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42560" y="150012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Bognar, L., Matijević,M. (2002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idaktika.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agreb: Školska knjig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ryden, G.; Vos, J. (2001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Revolucija u učenj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Zagreb: Educ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Furlan, I. (1970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poznavanje ispitivanje i ocjenjivanje učenika.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agreb: PK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Grgin, T. (1986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Školska dokimologi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Zagreb: Školska knjig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Grgin, T. (2001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Školsko ocjenjivanje znan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Jastrebarsko: Naklada Sla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Jensen E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uper- nastava: Nastavne strategije za kvalitetnu školu i uspješn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čenje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Zagreb: Edu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200" spc="-1" strike="noStrike"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42560" y="1428840"/>
            <a:ext cx="87152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alinić, Z. (2003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cjenjivanje u školi.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agreb: Školske nov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lippert, H. (2001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ako uspješno učiti u tim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Zagreb: Educ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yriacou, C. (2001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meljna nastavna umjeća.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agreb: Edu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atijević, M. (2004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cjenjivanje u osnovnoj škol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Zagreb: Tipex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eyer, H. (2002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idaktika razredne kvak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Zagreb: Educ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užić, V. (1979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etodologija pedagoških istraživanja.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arajevo: Svjetlos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imac, E. predavanja i radionice o ocjenjivanju znanja u ško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200" spc="-1" strike="noStrike"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4292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išt, M. (2008)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jektivni i objektivni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b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ic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 vrednovanju post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gnuća učenik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gencija za odgoj i obrazovanje.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(radionic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´Malley, M. &amp; Valdez Pierce, L. (1996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uthentic Assessment for English Language Learners – Practical Approaches for Teachers.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Longm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erišić, M. (1988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Evaluacija učeničkih postignuć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Sarajevo: Svjetlos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etrović, E.</a:t>
            </a:r>
            <a:r>
              <a:rPr b="0" lang="hr-HR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(1988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orija nastave stranih jezik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ngrac, S. (1980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spitivanje i ocjenjivanje u obrazovanj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Zagreb: Školske novi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200" spc="-1" strike="noStrike"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Robinson, A. (1980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inciples and Practices of Teaching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Lond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izek Vidović V.,Vlahović Štetić V., Rijavec M., Miljković D. (2003.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sihologija obrazovanja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Zagreb:IEP-VER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rgoč, H. (ur.) (2002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aćenje i ocjenjivanje školskog uspjeh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Zagreb: HPKZ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rcelj, S. (1996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ontinuitet u vrednovanju učenikova uspjeh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Rijeka: Pedagoški fakultet u Rije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EROJ – Zajednički europski referentni okvir za jezi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14240" y="1642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Objektivni i subjektivni čimbenici u školskome ocjenjivanju znanja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Ninočka Truck-Biljan, prof.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viša savjet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000160" y="357120"/>
            <a:ext cx="71438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Didaktička dokimologija - z</a:t>
            </a: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nanost o školskome ocjenjivanj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vrha školskoga ocjenjiv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Osnovni termini i pojmovi: praćenje, vrjednovanje, ocjenjivanje i ispitiv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edmetna i metodološka složenost procesa evalua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200" spc="-1" strike="noStrike"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ubjektivni pristupi evaluaciji u nastavi i učenju i teškoće što proizlaze iz nji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Objektivizacija evaluacijskih procesa u nastavi i učenju (skale procjene, skale sudova...) – kako unaprijediti ocjenjivanje u škol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00080" y="571320"/>
            <a:ext cx="785808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Svrha školskoga ocjenjivanj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13840" y="1571400"/>
            <a:ext cx="86439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sigurati povratne informacije o napredovanj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sigurati pedagoške povratne informa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tivirati učenik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sigurati evidenciju napretka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služiti kao izraz sadašnjih postignuća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pro)ocijeniti učeničku spremnost za buduće uče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prema: Kyriacou, J., 199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cc0000"/>
                </a:solidFill>
                <a:latin typeface="Arial"/>
                <a:ea typeface="Arial"/>
              </a:rPr>
              <a:t>Kome je ocjenjivanje značaj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Učeniku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 kvaliteti znanja radi motiviranja na kvalitetniji ra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Nastavniku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 kvaliteti znanja učenika da bi prilagodio sadržaj, metode i tempo poučavanj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Roditeljim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a bi znali što djeca znaju ili ne znaju i da bi potaknuli na razvijanje radnih navik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200" spc="-1" strike="noStrike"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tručnoj službi škol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 tome kakva je kvaliteta rada u školi da bi se unaprijedio odgojno-obrazovni pro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osvjetnim vlastim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oliko su nastavni programi i metode poučavanja primjereni spoznajnim mogućnostima djece, da bi se nastavni planovi i programi mogli modificirati, da bi se nastavnicima mogle dati preporuke o primjerenijem pristupu poučavan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07:01:30Z</dcterms:created>
  <dc:creator>Viktorija</dc:creator>
  <dc:description/>
  <dc:language>en-US</dc:language>
  <cp:lastModifiedBy>ntbiljan</cp:lastModifiedBy>
  <dcterms:modified xsi:type="dcterms:W3CDTF">2010-09-07T07:42:06Z</dcterms:modified>
  <cp:revision>91</cp:revision>
  <dc:subject/>
  <dc:title>PowerPoint Presentation</dc:title>
</cp:coreProperties>
</file>