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FA7E-798F-4617-B78B-B2D565924D1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taša Vul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školska godina 2008./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88600" y="50036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rada stručnih vijeć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5A9-F1DD-4816-9019-C79652D7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23C-62EB-46B6-BCA4-070A4910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2E5-BCA4-48ED-8F8B-08A1EFFC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CAC-88CA-45C8-8B54-EFAD0EDB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4965-FA9A-4A60-9F9D-36325F70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B0E2-061D-436F-B47B-3C01C411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A668-B7A0-4AA1-81F2-31E62DB4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BF2B-E0C6-47D5-9469-7EC4953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A814-8AA4-476D-8EDE-6CFEE97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D93E-697D-4CBF-80E3-5EA6C61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5BA2-294C-41DA-97BA-3142178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82F-C691-4DEE-8A83-3BD8F24A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64EC-C55D-4127-8A4F-2043692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1A60-7543-4FA7-8E5C-4A5E9176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31E-43CC-487A-9D72-CD0DA34E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B855-E60D-4553-8DBF-275619B4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D7DD-C01B-4913-9A63-ED62597E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578-FB32-4915-92AC-27B9380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121-98C7-4368-A706-3BA110C1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CFE-2210-44BB-80F2-3084E13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FFE-9608-4847-A7DD-17447CC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CE1-BCB1-481F-8C5F-6F53029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40D-A049-433B-AF84-4A8A4EB8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8A8-BB32-4D73-9337-227B2D0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58EE-D117-4C4F-81BD-CFCF1004F4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AA05-84A5-440B-BAE6-798031EB7B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Nataša Vulić</a:t>
            </a:r>
            <a:br>
              <a:rPr sz="1800"/>
            </a:b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natasa.vulic@azoo.hr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792000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ciologija između nastave i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ržavne matu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Zagreb, 26. kolovoza 2010.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imjer pitanja iz sociologije - zadaci višestrukog izbor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74872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ji sociolog tvrdi da sociologija treba proučavati društvene činjenice, odnosno načine djel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ako se naziva proces smanjivanja utjecaja crkve na državu    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13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ologija - zadaci višestrukih kombinacij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ja od navedenih nisu svojstva zajednice prema Ferdinandu Toennies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ologija- zadaci povezivanja i sređivanj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Sociolozima iz različitih razdoblja pridružite obilježja njihova učenj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Gidens, Merton, Mead, We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 teorija strukturacij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 racionalizacije,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 sociologija kao socijalna fizika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 interakcija se odvija pomoću simbola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 društvene činjenice su iznad pojedi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ologija - zadaci dopunjavanja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rema Maxsu Weberu razlike između društvenih skupina u društvenoj časti ili ugledu iskazuju se pomoću životnog stila, a taj čimbenik naziva se</a:t>
            </a:r>
            <a:r>
              <a:rPr b="0" lang="hr-H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___________situacija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ologija - zadaci kratkih odgovo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ji je sociolog uveo u sociološku teoriju pojam “anomij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________________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348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ologija- zadaci produženih odgovo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vedi dva odnosa između većine i nacionalne manjine, izaberi jedan odnos i objasni ga jednom rečeni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…………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Primjeri pitanja za ANALIZ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ji su uzroci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je su značajk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je su izjave činjenice a koje mišljenj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asnite nenaglašenu pretpostavku koja podržava ovaj argu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Primjeri pitanja za RAZUMIJEVAN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zrekom …. želi se reć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b)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bjasni što je kulturni relativizam (na pr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naliziraj društvene posljedice razvitka sociolog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Primjeri pitanja za PRIMJEN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361960"/>
            <a:ext cx="784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nstatacija da religija utječe na društvene procese je točna/netoč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e sve pretpostavke možete napraviti o uzroku ove poja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a prethodna znanja ćete iskoristiti u ovom slučaju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im činjenicama biste pokušali provjeriti koja je od navedenih pretpostavki točn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Vještine u zadatk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2133720"/>
          <a:ext cx="7772400" cy="3884400"/>
        </p:xfrm>
        <a:graphic>
          <a:graphicData uri="http://schemas.openxmlformats.org/drawingml/2006/table">
            <a:tbl>
              <a:tblPr/>
              <a:tblGrid>
                <a:gridCol w="2878200"/>
                <a:gridCol w="2303280"/>
                <a:gridCol w="25909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/n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ment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dlaganje ide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redotočenost na zadata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umijevanje uput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ganiziranje informaci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kvir prezentaci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iranje nasta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đenje i motiviranje učenika za ocjenjivanje i uspje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postignuć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761760"/>
            <a:ext cx="86756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                                        </a:t>
            </a: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Evaluacija postignuća</a:t>
            </a:r>
            <a:r>
              <a:rPr b="1" lang="hr-HR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5280" y="1698480"/>
          <a:ext cx="8748720" cy="4838760"/>
        </p:xfrm>
        <a:graphic>
          <a:graphicData uri="http://schemas.openxmlformats.org/drawingml/2006/table">
            <a:tbl>
              <a:tblPr/>
              <a:tblGrid>
                <a:gridCol w="2411280"/>
                <a:gridCol w="1044720"/>
                <a:gridCol w="1158840"/>
                <a:gridCol w="1171440"/>
                <a:gridCol w="1101960"/>
                <a:gridCol w="1860480"/>
              </a:tblGrid>
              <a:tr h="96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lementi ocjenjivanj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X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XII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aključna ocje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d 50 - 10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znanje, razumijevanje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jena, analiza, sinteza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cija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ej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0 bodo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kturirana p.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5 × 2)   (3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ejska p.(4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interpretacijske, istraživačke i komunikacijske vještin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  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 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 bodo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minar    (1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adaća      (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upni rad (3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motivacija i odgovornost za osobna i grupna postignuća /rad s drugima /sposobnost organiziranja i vođenja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z ×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z ×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1(0,5 ×4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z ×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1(0,5 ×4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z ×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 0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 bodov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lasci    (2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ktivnost (3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adaće    (5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990360"/>
            <a:ext cx="73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Skal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71640" y="2349360"/>
          <a:ext cx="7200720" cy="4114800"/>
        </p:xfrm>
        <a:graphic>
          <a:graphicData uri="http://schemas.openxmlformats.org/drawingml/2006/table">
            <a:tbl>
              <a:tblPr/>
              <a:tblGrid>
                <a:gridCol w="3525840"/>
                <a:gridCol w="367488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 25 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dovoljan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26% do 30 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volja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31% do 4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b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41% do 4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lo dob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46% do 50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liča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69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Samoevaluacij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3640" y="2781000"/>
            <a:ext cx="8196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mparacija rezultata na ispitima znanja u nastavi i objavljenih rezultata “državne mature” (podaci  NCVV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jera ispravnosti planiranja nastave i izvan nastavnih aktivnosti u svrhu pripremanja učenika za Državnu matu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96360" y="979920"/>
            <a:ext cx="8675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vjera u planiranju i korekcija u nastavi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iza uspješnosti na kraju I. tri mjese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poredba s očekivanim rezulta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jena potrebe korekcije u aktivnostima za ostvarenje zadanog cil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jena potrebe korekcije cilje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cija proce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učen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nastavn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neovisnog opažač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aniranje nastav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vezuju se ciljevi obrazovanja s pretpostavljenim i unaprijed utvrđenim ishodima obrazo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764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shodišta pla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stavni cilje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razovni isho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i pouča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gled proce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693200" cy="3808440"/>
        </p:xfrm>
        <a:graphic>
          <a:graphicData uri="http://schemas.openxmlformats.org/drawingml/2006/table">
            <a:tbl>
              <a:tblPr/>
              <a:tblGrid>
                <a:gridCol w="2345040"/>
                <a:gridCol w="2784240"/>
                <a:gridCol w="25639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iljev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hod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hnike procjenjivanj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tičke vješt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likovati/ izdvojiti/ ilustrirati/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 pismenog tipa (točno -netočno, sparivanje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ještine primjene usvojenih principa na nove situacij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ijeniti/ ilustrirati/ poveza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ej, malo istraživanje, prezentaci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ještine rješavanje problem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imijeniti/ilustrirati/ otkr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a istraživanja, analiz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Unaprijediti govorne vješt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kazati/ prepričati/ rasprav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tka izlaganja, raspra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28800"/>
          <a:ext cx="8218440" cy="4626000"/>
        </p:xfrm>
        <a:graphic>
          <a:graphicData uri="http://schemas.openxmlformats.org/drawingml/2006/table">
            <a:tbl>
              <a:tblPr/>
              <a:tblGrid>
                <a:gridCol w="4156200"/>
                <a:gridCol w="40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ziv nastavne cjel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rema izvedbenom planu i programu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lj za nastavnu  cjelinu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brazovni ishodi/ zadaće za učenike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0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I. Nastavna cjelina  - </a:t>
                      </a:r>
                      <a:r>
                        <a:rPr b="1" lang="hr-HR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ea typeface="Times New Roman"/>
                        </a:rPr>
                        <a:t>Sociologija: Znanstveni pogled na društv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Čime se bavi sociologija i kakav je njezin odnos prema drugim društvenim znanosti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ati predmet sociologije i objasniti odnos prema drugim znanostim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rasprava, navesti primjer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ebnost sociološke perspektiv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zirati posebnost sociološke perspektive i navesti sociološka pit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zadaća-test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Kako se naša osobna iskustva i problemi isprepliću sa strukturalnim značajkama društva i povijesnim trenutkom u kojem živimo?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oznati i tumačiti odnose u društvu na pojedinačnoj i kolektivnoj razin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rasprava navesti primjere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Koliko smo kao pojedinci uvjetovani društvom, a u kolikoj mjeri možemo mijenjati društvo?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likovati namjeravane i nenamjeravane posljedice djelo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opisati u eseju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773360"/>
          <a:ext cx="8229600" cy="4400280"/>
        </p:xfrm>
        <a:graphic>
          <a:graphicData uri="http://schemas.openxmlformats.org/drawingml/2006/table">
            <a:tbl>
              <a:tblPr/>
              <a:tblGrid>
                <a:gridCol w="4167000"/>
                <a:gridCol w="4062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ziv nastavne cjel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rema izvedbenom planu i programu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lj za nastavnu  cjelinu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brazovni ishodi/ zadaće za učenike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Nastavna cjelina  - </a:t>
                      </a:r>
                      <a:r>
                        <a:rPr b="1" lang="hr-HR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Kako istraživati društvene pojav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e su pretpostavke znanstvenog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vesti pretpostavke znanstvenog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test, zadaća, rasprav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likuje li se sociološko od drugih znanstvenih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asniti razliku između sociološkog i drugih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 / zadaća 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i su modeli sociološkog istraživanja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ati i objasniti osnovne pojmove i modele sociološkog istraživanja</a:t>
                      </a:r>
                      <a:r>
                        <a:rPr b="0" lang="hr-HR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Zadaća, opisati primjerim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e su metode i tehnike socioloških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ati i protumačiti najznačajnije sociološke metod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rasprava, primjeri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499000"/>
        </p:xfrm>
        <a:graphic>
          <a:graphicData uri="http://schemas.openxmlformats.org/drawingml/2006/table">
            <a:tbl>
              <a:tblPr/>
              <a:tblGrid>
                <a:gridCol w="4176720"/>
                <a:gridCol w="47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ziv nastavne cjel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rema izvedbenom planu i programu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lj za nastavnu  cjelinu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brazovni ishodi/ zadaće za učenike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Nastavna cjelina - Kultu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ako u sociologiji definiramo pojam kul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finirati sociološki pojam kul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 / zadaća/ rasprav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e su značajke prirode, a koje kul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asniti i pokazati primjerom razliku kulture i prirod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test, zadać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Koje su poveznice kulture i društv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asniti poveznice kulture i društv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zadać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stavnice kulture i njihove značajk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ati i obrazložiti sastavnice kul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esej, rasprav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i su pojmovi što opisuju jedinstvo i mnogostrukost kul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finirati pojmove jedinstva i mnogostrukosti kult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test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nosi kulture i društvenih promje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zirati odnose kulture i društvenih promje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rasprava,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e su značajke kulturne raznolikosti u R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328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emeljn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etpostavke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dobrog vrednovanj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2636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cjenjivanje mora biti sastavni dio obrazovnog proce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 biti valjano (vrednovati očekivana postignuć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 biti potpuno (jesu li učenici sva očekivana postignuć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 biti objektiv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nvulic</cp:lastModifiedBy>
  <dcterms:modified xsi:type="dcterms:W3CDTF">2010-09-07T08:09:11Z</dcterms:modified>
  <cp:revision>29</cp:revision>
  <dc:subject/>
  <dc:title>Slide 1</dc:title>
</cp:coreProperties>
</file>