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6BD-DE01-4BA0-99A4-B4C77561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C3E-B9F9-484F-8990-882AE3C2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A4F-ED90-4B40-9A5C-A37EE2F3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F86-20A3-4785-9797-0C4BF590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093-77B6-46B3-8500-E8375724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C95-9B93-40A6-9AF8-BC836320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954-8725-4463-B548-280B3362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530-2F5B-4C89-AC28-C1B86811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9E8-22AE-4D94-A432-D38DCCE3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AF2-18C9-4657-9BAD-1DEF6D0B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EEA-FEA8-4CA3-B457-6A357D62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881-C184-4FF2-92FB-A9061A2A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6FD3-1EF4-4F72-9908-891734C244F0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988400" cy="518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KATALOG ZA DRŽAVNU MATURU  IZ SOCIOLO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O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Zadatci otvorenog tip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unjavanje - 1 b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tki odgovori - 1b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šireni odgovori – 3 b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RJEDNOVANJE PRVE ISPITNE CJ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šestruki izbor: 14 zadataka = 14 bod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šestruke kombinacije: 10 zadataka = 20 bod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zivanje i sređivanje: 5 zadataka = 20 bod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RJEDNOVANJE DRUGE ISPITNE CJ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atci dopune: 5 zadataka = 5 bod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atci kratkih odgovora: 4 zadatka = 4 b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atci proširenih odgovora: 3 zadatka = 9 bod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UP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a ispitna cjelina: 54 boda (75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a ispitna cjelina: 18 bodova (2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upno: 72 b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METNA PODRUČ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Kultura i društ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ocijalizacija, socijalna interakcija, socijalna kontrola i devijant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ocijalna stratifikacija i pokretljivost, obitelj i obrazova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Političke i ekonomske institucije, populacija, urbanizacija i ekologi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Religija i ideologi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6040" y="1608840"/>
            <a:ext cx="74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ociolog. kao znanst. pogled na društv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DATCI I BOD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ispitno podr.:   6 zadataka = 9 bodova  (17%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. ispitno podr.:   8  zadataka  =15 bodova (28%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3. ispitno podr.:   3  zadatka  =  7  bodova (13%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4. ispitno podr.:   4  zadatka  = 10 bodova  (19%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5. ispitno podr.:   6 zadataka  =  8 bodova (14%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6. ispitno podr.:   2 zadatka   = 5  bodova (9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D. I BODOVI-PROBNA 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ispitno područje:   8 zadataka = 12 bodova  (22%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spitno područje:   10  zadataka  =20 bodova (37%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spitno područje:   5 zadatka  =  9 bodova (17%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spitno područje:   6 zadataka  = 13 bodova  (24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9 0.011 0.08659 0.028 0.11323 C 0.028 0.11456 0.055 0.15053 0.055 0.1492 C 0.07 0.16918 0.079 0.19715 0.079 0.22646 C 0.079 0.28507 0.044 0.33169 0 0.33302 C -0.044 0.33169 -0.079 0.28507 -0.079 0.22646 C -0.079 0.19715 -0.07 0.16918 -0.055 0.1492 C -0.055 0.15053 -0.028 0.11456 -0.028 0.11323 C -0.011 0.08659 -0.001 0.04529 0 0 Z">
                                      <p:cBhvr>
                                        <p:cTn id="6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9 0.011 0.08659 0.028 0.11323 C 0.028 0.11456 0.055 0.15053 0.055 0.1492 C 0.07 0.16918 0.079 0.19715 0.079 0.22646 C 0.079 0.28507 0.044 0.33169 0 0.33302 C -0.044 0.33169 -0.079 0.28507 -0.079 0.22646 C -0.079 0.19715 -0.07 0.16918 -0.055 0.1492 C -0.055 0.15053 -0.028 0.11456 -0.028 0.11323 C -0.011 0.08659 -0.001 0.04529 0 0 Z">
                                      <p:cBhvr>
                                        <p:cTn id="7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9 0.011 0.08659 0.028 0.11323 C 0.028 0.11456 0.055 0.15053 0.055 0.1492 C 0.07 0.16918 0.079 0.19715 0.079 0.22646 C 0.079 0.28507 0.044 0.33169 0 0.33302 C -0.044 0.33169 -0.079 0.28507 -0.079 0.22646 C -0.079 0.19715 -0.07 0.16918 -0.055 0.1492 C -0.055 0.15053 -0.028 0.11456 -0.028 0.11323 C -0.011 0.08659 -0.001 0.04529 0 0 Z">
                                      <p:cBhvr>
                                        <p:cTn id="7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9 0.011 0.08659 0.028 0.11323 C 0.028 0.11456 0.055 0.15053 0.055 0.1492 C 0.07 0.16918 0.079 0.19715 0.079 0.22646 C 0.079 0.28507 0.044 0.33169 0 0.33302 C -0.044 0.33169 -0.079 0.28507 -0.079 0.22646 C -0.079 0.19715 -0.07 0.16918 -0.055 0.1492 C -0.055 0.15053 -0.028 0.11456 -0.028 0.11323 C -0.011 0.08659 -0.001 0.04529 0 0 Z">
                                      <p:cBhvr>
                                        <p:cTn id="75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E CJ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ZNAVANJE TERMINOLOGIJE I SOCIOLOŠKIH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 pitanja: 54 b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ZA TEK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pitanja:18 bod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RAZOVNI ISHO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vije vrs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brazovnih ishoda: za prvu ispitnu cjelinu (terminologija i teorije) 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 drugu (analiza tekst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STE ZADAT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va ispitna cje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drži zatvoreni tip zadata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šestruki izbor (14 zadata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šestruke kombinacije (10 zadata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zivanje i sređivanje (5 zadata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STE ZADAT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uga ispit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jelina sadrži otvoreni tip zadata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punjavanja (5 zadata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tkih odgovora (4 zadat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širenih odgovora (3 zadat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O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Zadatci zatvorenog tip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šestruki izbor - 1 b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šestruke kombinacije - 2 b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zivanje i sređivanje- 4 b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1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4" dur="1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2" dur="1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0" dur="1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1" dur="1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2:42:07Z</dcterms:created>
  <dc:creator>xx</dc:creator>
  <dc:description/>
  <dc:language>en-US</dc:language>
  <cp:lastModifiedBy>ivan vulic</cp:lastModifiedBy>
  <dcterms:modified xsi:type="dcterms:W3CDTF">2010-08-23T14:05:07Z</dcterms:modified>
  <cp:revision>15</cp:revision>
  <dc:subject/>
  <dc:title>ISPITNI KATALOG ZA DRŽAVNU MATURU  IZ SOCIOLOGIJE</dc:title>
</cp:coreProperties>
</file>