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A26F-AEA0-4835-9A26-9637A8F216A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0B8E-61D8-4532-974F-55AFD30B02F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draviti ih, zahvaliti se na pozivu za sudjelovanjem na stručnom skupu, na prilici da s njima podijelim neka svoja razmišljanja o temi koja nam je od zajedničkog inter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atko predstavljanje; diplomirao, magistrirao i doktorirao na Fakultetu političkih znanosti; Metodika političkog obrazovanja /didaktičko-metodički aspekt/ Politička socijalizacija i političko obrazovanje /teorijski okvir o važnosti političkog obrazovanja/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itnik u naslovu moga izlaganja? – upitnik zato što nemam namjeru docirati Vam o tome što je kvalitetno političko obrazovanje, jer na to pitanje nije tako lako odgovoriti, a osim toga sam siguran da o nekim elementima važnim za kvalitetu nastave vi znate puno više od mene, već mi je namjera da Vam ponudim jedan okvir za razmišljanje o činiteljima koji utječu na kvalitetu političkog obrazovanja, pri čemu nam taj okvir možda može poslužiti kao temelj za raspravu koja će uslijediti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3D68-0E75-428B-8B64-3449CD24BCE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99AC-BC01-4037-9E51-99DD86046A1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795B-41D7-4DAE-8A22-046F982B53A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2C40-466D-46F9-9F04-CCFF8F91829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9A2C-4B54-4AAF-AE4D-E64B84E2533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7A95-F2FB-4B24-A6B0-885F94B979D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0EC7-7CA1-40D2-8E85-A0A8C02F1AD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4B89-F89B-4D03-8A96-F235CE1450B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1D4E-C4E1-4985-9A21-BD1C86B13D1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1450-2EB2-49B1-96AB-C155648645A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856F-95E0-451A-90A2-15492B2D9C1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630E-8603-4E51-AD0B-B95EFA7CA0E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7F73-7079-4F1C-8F2B-B8E2F550098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- od 14 pitanja, prosječan broj točnih odgovora je 9 – da li je to loše ili dobr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portski klubovi - 54 posto 2) udruge mladih 3) udruge za promicanje kulture 4) dobrotvorne /humanitarne/ organizacije 5) dobrovoljna vatrogasna druš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923D-06B8-4C44-8D62-AEF74D9AFF0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8D80-7721-44E7-91C3-85B607CEBA7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CBA9-08EE-4F24-AF0F-1F138F18E3C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FD2A-ADB5-4058-B8A1-0E45C2627E2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- simboli (slike) koje govore o demokraciji; 1) Dahrendorf; 6 dana, 6 mjeseci, 66 godina (kao podvrsta, je simbol, slika o 3 sata) 2) pad Berlinskog zida, mora pasti zid u našim glavama 3) hardware,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68C9-4941-418A-BC8A-191CBD215D9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24DC-277D-43FD-9DAB-F2DAF57F5FF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ĐUSOBNI ODNOS POJEDINIH ČINITELJ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9007-0AE4-4049-B83D-90DFCC453B6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tako i Dryzek u svojoj knjizi Democracy in Capitalist Times govori o tri elementa, tri dimenzije, u kojima se demokracija može usavršiti (to jest može se produbiti); a) opseg b) sfera (područje) c) autentičnost (autentičnost glasovanja, političkoga djelovanja i izražavanja vlastitoga mišljenja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a temelju svoga državljanstva mi stječemo određena politička prava – dakle mi određena politička prava stječemo svojim rođenjem – ne postoji test političkoga znanja kojega trebamo zadovoljiti kako bi imali pravo politički participira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714-C272-4363-AC96-B77932A1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827-6036-4FD8-AB16-29E2D5B0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38B-1C5A-4345-BA28-BB67DD52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554-CC7D-4282-A06A-DCEFC60D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ABC7-C6BA-4A3F-82AB-F7ADA8AB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A4B8-7715-4013-B404-D685CF17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D018-7830-4FDD-89E9-6484F2C3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9596-1AAA-457B-84A7-1667D268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056A-0A37-4616-B41F-71E98DB7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4C6A-BC5C-4C27-BA82-2E1E910B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E5E5-F971-4A1B-A0D6-E5DB30A4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397-C744-43CE-AEC0-D0E67DAD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6714-DA1C-4ABC-9140-21D35694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001A-4AF8-44E5-939D-3BD60E08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FA7C-F486-4E23-A394-7D69879C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1104-7A3B-4847-8729-E4A37929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594A-BDBC-4A63-B322-3017A840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F706-E5AD-4A3B-9D16-786EEA2A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702-D8C6-48DF-B7DA-E3626300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860-9768-43E9-AF32-57EE2473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AB4-17E2-4BEA-886D-13DD5F43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93D0-6D61-4B77-B175-CB462975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86F-D9F8-4502-97E3-1DD14FA8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054-91A1-4610-9450-2096D1C7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415C-AFA5-4551-9B89-89FA904ABCEE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705A-AB1D-46E4-9199-54C89D855C5B}" type="slidenum"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3068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Kvalitetno političko obrazovanje?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692280"/>
            <a:ext cx="6719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to Šala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kultet političkih znanosti, Zagr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4869000"/>
            <a:ext cx="830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greb, 27. kolovoz 201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OLITIČKO OBRAZOVANJ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itičko obrazovanje je segment obrazovanja koji mladima treba omogućiti stjecanje znanja, sposobnosti i stavova koji su potrebni za sudjelovanje u političkom proces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3068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27640" y="3141720"/>
            <a:ext cx="228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3280" y="364500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55280" y="3716280"/>
            <a:ext cx="1523880" cy="1447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403280" y="3213000"/>
            <a:ext cx="5181840" cy="1828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8690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št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84360" y="48690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adržaj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63640" y="5157720"/>
            <a:ext cx="7621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229360"/>
            <a:ext cx="7621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92720" y="48690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ipovi političkoga obrazovan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258560" y="3068640"/>
            <a:ext cx="3817800" cy="1873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60930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kak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5280" y="6381720"/>
            <a:ext cx="76176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6093000"/>
            <a:ext cx="22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način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11640" y="6381720"/>
            <a:ext cx="7621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6021360"/>
            <a:ext cx="39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eli političkoga obrazovan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MODELI POLITIČKOGA OBRAZOVANJ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5638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) zaseban predme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7800" y="228600"/>
            <a:ext cx="3733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školsko političko obrazovanj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4495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integrirano društveno obrazovanj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3276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obrazovno nače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‘skriveni’ kurikul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6248520"/>
            <a:ext cx="2210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‘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VIC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5105520"/>
            <a:ext cx="4191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‘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TUDIE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38098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KURIKULARNI PRIS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533520"/>
            <a:ext cx="76176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286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kak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2286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način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76212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ADRŽAJI (dimenzije) POLITIČKOGA OBRAZOVAN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N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VOV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OSOBNOST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) PARTICIPACIJS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) INTELEKTUAL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ZNANJ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Znanje o temeljnim političkim pojmovima  i konceptima (politika, demokracija, političke stranke, izbori, ljudska prava,  it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oznavanje ustavno-političkog ustrojstva zajednice u kojoj živimo (lokalna, regionalna, nacionalna, globalna razin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Znanje o osnovnim procesima funkcioniranja političkih sust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INTELEKTUALNE SPOSOB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pisivan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bjašnjavanj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Vrednovan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4495680"/>
            <a:ext cx="563904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24200" y="4900680"/>
            <a:ext cx="66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ITIČKO RAZMIŠLJAN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PARTICIPACIJSKE SPOSOBNOST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OSOBNOSTI KOJE OMOGUĆAVAJU UTJECAJ NA DONOŠENJE POLITIČKIH ODLU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3160" y="3123720"/>
            <a:ext cx="79246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omunikacijske sposob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osobnosti suradnje s drugim građanima kako bi se ostvarili zajednički cilje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osobnosti djelovanja u grupi i njezinog održav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Zagovaranje – pregovaranje - dogovaran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2895480"/>
            <a:ext cx="662940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STAVOV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VIJEST O VAŽNOSTI POLITIK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RIVRŽENOST DEMOKRATSKIM NAČEL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PREMNOST NA POLITIČKU PARTICIPACI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ALANSIRANJE OPĆEG DOBRA I VLASTITIH INTE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OLERANC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SPEKT ZA DRUGE GRAĐ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ATRIOTIZ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ADRŽAJI POLITIČKOGA OBRAZOVANJ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486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NAN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VOV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OSOBNOST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) PARTICIPACIJS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) INTELEKTUAL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2743200"/>
            <a:ext cx="3733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međusobni odn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jedinjene Američke Držav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Times New Roman"/>
              </a:rPr>
              <a:t>Joel Westheimer/Joseph Kah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1295280"/>
            <a:ext cx="7315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glavna tipa političkoga obrazovanj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05740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moralno (karakterno) obrazo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274320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politička particip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35053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kritički orijentirani građ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5410080"/>
            <a:ext cx="3733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TIČKO OBRAZO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54864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541008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ALNO OBRAZO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743200" y="5181480"/>
            <a:ext cx="2971800" cy="14479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5181480"/>
            <a:ext cx="2590920" cy="1524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15000" y="2666880"/>
            <a:ext cx="0" cy="2362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FORMA PROGRAMA POLITIČKOGA OBRAZOVANJ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4724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vnoteža znanja, sposobnosti i stavov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5486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‘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ERVICE LEARNING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iskustveno, akcijsko učen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ni trendovi u političkoj kultu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25909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litička apatija i alijenacij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Civic Education Stu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5238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EA, 1999., 90000 učenika (14 i 18 godina), 28 drž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Uvjeti koji omogućavaju stabilno i učinkovito funkcioniranje demokracije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33523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STITU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3352680"/>
            <a:ext cx="4343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OEKONOMSKI ČIMBEN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4800600"/>
            <a:ext cx="426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OKULTURNI ČIMBEN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828800" y="1599840"/>
            <a:ext cx="2209680" cy="1600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267080" y="1752120"/>
            <a:ext cx="0" cy="297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4648320" y="1599840"/>
            <a:ext cx="1676160" cy="1523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71640" y="5877000"/>
            <a:ext cx="3429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6165720"/>
            <a:ext cx="3429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‘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SERVICE LEARNING’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vezivanje poučavanja koje se odvija u razredu s neposrednim djelovanjem učenika u zajedni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0"/>
            <a:ext cx="5105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asičnim programima političkoga obrazovanja nedostaje praktična dimenz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5720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uge, institucije, organizacij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514600" y="3505320"/>
            <a:ext cx="2286000" cy="11430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2209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1) razre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N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990720"/>
            <a:ext cx="2514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2) zajed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533520"/>
            <a:ext cx="2514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3) raz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2514600"/>
            <a:ext cx="350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IPATIVNE SPOSOB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19051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EKTUALNE SPOSOB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90920" y="4114800"/>
            <a:ext cx="350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VO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447560" y="990720"/>
            <a:ext cx="228600" cy="8380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29200" y="1447920"/>
            <a:ext cx="0" cy="10666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67480" y="1066680"/>
            <a:ext cx="304920" cy="83844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76520" y="990720"/>
            <a:ext cx="2666880" cy="312408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343040" y="1523880"/>
            <a:ext cx="304920" cy="25909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343040" y="1066680"/>
            <a:ext cx="2971800" cy="30481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‘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SERVICE LEARNING’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295280"/>
            <a:ext cx="327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obvezatnost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971800"/>
            <a:ext cx="4267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isiljavanje učenika na participaciju u suprotnosti je sa samom idejom dobrovoljnog djelova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438280" y="1828800"/>
            <a:ext cx="1981440" cy="533520"/>
          </a:xfrm>
          <a:prstGeom prst="line">
            <a:avLst/>
          </a:prstGeom>
          <a:ln cap="sq"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95680" y="1828800"/>
            <a:ext cx="1828800" cy="609480"/>
          </a:xfrm>
          <a:prstGeom prst="line">
            <a:avLst/>
          </a:prstGeom>
          <a:ln cap="sq"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3505320"/>
            <a:ext cx="4267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čitav obrazovni sustav temelji se na legitimnoj prisili; političko obrazovanje previše je važno da bi bilo prepušteno fakultativnim aktivnost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334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</a:t>
            </a:r>
            <a:r>
              <a:rPr b="1" i="1" lang="hr-H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‘service learning’</a:t>
            </a:r>
            <a:r>
              <a:rPr b="1" lang="hr-H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u europskom kontekstu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52280" y="1268280"/>
            <a:ext cx="8991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KULTET POLITIČKIH ZNANOSTI I G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520" y="2286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olitička kultura mladih u Hrvatskoj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2349360"/>
            <a:ext cx="5932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ravanj i svibanj 2010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3284640"/>
            <a:ext cx="705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završni, 3. i 4. razredi srednjih škola; slučajni reprezentativni uzor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4653000"/>
            <a:ext cx="705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1079 učenika, 43 razredna odjelje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1640" y="5589720"/>
            <a:ext cx="705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znanja i stav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Kako se zove sadašnji Predsjednik Republike Hrvatske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olitički </a:t>
            </a:r>
            <a:r>
              <a:rPr b="1" lang="hr-HR" sz="3600" spc="-1" strike="noStrike">
                <a:solidFill>
                  <a:srgbClr val="ffcc66"/>
                </a:solidFill>
                <a:latin typeface="Arial"/>
              </a:rPr>
              <a:t>je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sustav u Republici Hrvatskoj?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9280" y="907920"/>
          <a:ext cx="8964720" cy="595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89647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Koje godine su održani prvi slobodni, višestranački izbori u Republici Hrvatskoj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79280" y="1700280"/>
          <a:ext cx="896472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00280"/>
                    <a:ext cx="896472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Koja stranka ili stranke čine trenutno vladajuću većinu u Hrvatskom saboru?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79280" y="1197000"/>
          <a:ext cx="896472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896472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Kada su održani posljednji parlamentarni izbori u Hrvatskoj?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50920" y="1341360"/>
          <a:ext cx="8713800" cy="55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71380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Koja od sljedećih organizacija ne pripada sferi civilnog društva?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1268280"/>
          <a:ext cx="914400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SOCIOKULTURNI ČIMBENIC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vovi, vrijednosti, mišljenja i uvjerenja pripadnika određene političke zajedn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514600"/>
            <a:ext cx="8001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žave se razlikuju koliko se razlikuju i ljudi koji žive u njima, jer nisu države načinjene od drveta i kamena, već od ljudi i njihovih karaktera.”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la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648320"/>
            <a:ext cx="3962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J.J. ROUSS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33412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A. DE TOCQUEVI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601992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. WE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Europska unija trenutno ima 12 država članica</a:t>
            </a:r>
            <a:r>
              <a:rPr b="1" lang="hr-HR" sz="3600" spc="-1" strike="noStrike">
                <a:solidFill>
                  <a:srgbClr val="ffcc66"/>
                </a:solidFill>
                <a:latin typeface="Arial"/>
              </a:rPr>
              <a:t>.”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Norveška nije članica Europske unije.”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Koliko vas zanima na koji se način upravlja vašim gradom/općinom/državom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0" y="1700280"/>
          <a:ext cx="914400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bični građani između dv</a:t>
            </a:r>
            <a:r>
              <a:rPr b="1" lang="hr-HR" sz="3600" spc="-1" strike="noStrike">
                <a:solidFill>
                  <a:srgbClr val="ffcc66"/>
                </a:solidFill>
                <a:latin typeface="Arial"/>
              </a:rPr>
              <a:t>aju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 izbora ne mogu nikako utjecati na stanje u državi</a:t>
            </a:r>
            <a:r>
              <a:rPr b="1" lang="hr-HR" sz="36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Svatko od nas se treba zauzeti za rješavanje problema s kojima se susreće u svojoj sredini, a ne čekati da to riješi netko drugi</a:t>
            </a:r>
            <a:r>
              <a:rPr b="1" lang="hr-HR" sz="3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1628640"/>
          <a:ext cx="9144000" cy="52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cc66"/>
                </a:solidFill>
                <a:latin typeface="Arial"/>
              </a:rPr>
              <a:t>Udruge građana su važne za razvoj demokracije i rješavanje niza problema.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Jeste li vi osobno član neke udruge građana</a:t>
            </a:r>
            <a:r>
              <a:rPr b="1" lang="hr-HR" sz="36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79280" y="1413000"/>
          <a:ext cx="878544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U političke stranke se većinom učlanjuju ljudi koji žele stvoriti veze radi pronalaska dobrog posla</a:t>
            </a:r>
            <a:r>
              <a:rPr b="1" lang="hr-HR" sz="3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0" y="1628640"/>
          <a:ext cx="9144000" cy="52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Jeste li član neke političke stranke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79280" y="1557360"/>
          <a:ext cx="8964720" cy="530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57360"/>
                    <a:ext cx="896472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Ulazak Hrvatske u Europsku uniju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0" y="692280"/>
          <a:ext cx="9144000" cy="61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2280"/>
                    <a:ext cx="914400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579132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POLITIČKA KULTU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3045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vovi, vrijednosti, mišljenja i uvjerenja pripadnika određene političke zajedn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0" y="177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Gabriel Almond/ Sydney Verba, </a:t>
            </a:r>
            <a:r>
              <a:rPr b="1" i="1" lang="hr-HR" sz="3200" spc="-1" strike="noStrike">
                <a:solidFill>
                  <a:srgbClr val="ffffff"/>
                </a:solidFill>
                <a:latin typeface="Times New Roman"/>
              </a:rPr>
              <a:t>The Civic Culture/ Civilna kultura/ 196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191120"/>
            <a:ext cx="8028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parativno istraživanje političkih kultura Sjedinjenih Američkih Država, Velike Britanije, Njemačke, Italije i Meksik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048120"/>
            <a:ext cx="388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zam, fašizam, komuniz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6576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276720"/>
            <a:ext cx="2952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krac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ffcc66"/>
                </a:solidFill>
                <a:latin typeface="Arial"/>
              </a:rPr>
              <a:t>bsalaj@fpzg.hr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8000" y="228600"/>
            <a:ext cx="88567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žavnici koji pokušavaju stvoriti političku demokraciju vrlo često se usredotočuju na stvaranja formalnog skupa institucija vlasti i na pisanje ustava. No razvoj stabilne i djelotvorne demokratske vlasti ne ovisi o ustroju vlasti i politike; on ovisi o orijentaciji ljudi prema političkom procesu – o političkoj kulturi. Ako politička kultura ne može podržati demokratski sistem, mršave su šanse za uspjeh tog sustava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3213000"/>
            <a:ext cx="26640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276360" y="3213000"/>
            <a:ext cx="143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229360"/>
            <a:ext cx="7272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mokracija ne može funkcionirati bez demokrata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6237360"/>
            <a:ext cx="1441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76720" y="5734080"/>
            <a:ext cx="358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mokracija se može poučiti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339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državanj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transformiranj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reiranj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litičke kulture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2952720" y="31399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8091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ČINITEL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05120" y="1981080"/>
            <a:ext cx="1218960" cy="19051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905120" y="1981080"/>
            <a:ext cx="3809880" cy="19051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905120" y="2514600"/>
            <a:ext cx="1371600" cy="137160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828800"/>
            <a:ext cx="2667240" cy="1905120"/>
          </a:xfrm>
          <a:prstGeom prst="line">
            <a:avLst/>
          </a:prstGeom>
          <a:ln w="316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248160" y="1905120"/>
            <a:ext cx="152280" cy="1752480"/>
          </a:xfrm>
          <a:prstGeom prst="line">
            <a:avLst/>
          </a:prstGeom>
          <a:ln w="3168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35726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kontinuit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428640" y="2438280"/>
            <a:ext cx="228600" cy="243864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49521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diskontinuit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6277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OLITIČKA RE-SOCIJALIZ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2860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POLITIČKA SOCIJALIZAC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56379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OLITIČK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-SOCIJALIZ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88000" y="5084640"/>
            <a:ext cx="64764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19640" y="43646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komuniz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4941720"/>
            <a:ext cx="27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92720" y="50853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mokr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819160" y="914040"/>
            <a:ext cx="1904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ITEL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4120" y="76176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UPE VRŠNJA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228600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ZO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38098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OVNI MEDI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54864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G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10552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TIČKI SUST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5791320"/>
            <a:ext cx="243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LOVNI SUST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828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ZNIMNI DOGAĐA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5053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VILNO DRUŠT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ČINITELJI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POLITIČKE SOCIJALIZ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299664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litičko “ja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819520" y="4114800"/>
            <a:ext cx="1295280" cy="9144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648320" y="4267080"/>
            <a:ext cx="0" cy="1524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257800" y="4190760"/>
            <a:ext cx="1295280" cy="1447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5943240" y="3809520"/>
            <a:ext cx="76212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362320" y="3809880"/>
            <a:ext cx="990360" cy="152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2590920"/>
            <a:ext cx="83808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1600200"/>
            <a:ext cx="228600" cy="1523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952880" y="1828800"/>
            <a:ext cx="533520" cy="1371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019920" y="2895480"/>
            <a:ext cx="76176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819160" y="1752480"/>
            <a:ext cx="5257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819520" y="68544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685800"/>
            <a:ext cx="5181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685800"/>
            <a:ext cx="0" cy="990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2819520"/>
            <a:ext cx="32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40384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OBRAZOVANJ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48160" y="1142640"/>
            <a:ext cx="2895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389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TIČKA KUL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160020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251460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) OBRAZOVNO POSTIGNUĆ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657600"/>
            <a:ext cx="403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) OBRAZOVNI SADRŽA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4800600"/>
            <a:ext cx="4952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3) PEDAGOŠKI ST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571500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4) ORGANIZACIJA I UPRAVLJ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19051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ŠKO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HANIZMI OBRAZOVNOGA UTJECA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4581360"/>
            <a:ext cx="3457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716360" y="3573360"/>
            <a:ext cx="0" cy="1008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258920" y="3573360"/>
            <a:ext cx="3457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3573360"/>
            <a:ext cx="0" cy="1008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4076640"/>
            <a:ext cx="9349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3573360"/>
            <a:ext cx="36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čko obrazo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3760" y="10666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EMOKRACIJ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LADAVINA NARO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1219320"/>
            <a:ext cx="144756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1447920"/>
            <a:ext cx="14479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514240" y="1905120"/>
            <a:ext cx="685800" cy="9144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289548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tko je </a:t>
            </a:r>
            <a:r>
              <a:rPr b="1" i="1" lang="hr-H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s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9528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kakav je </a:t>
            </a:r>
            <a:r>
              <a:rPr b="1" i="1" lang="hr-H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s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5053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ŠIRENJE PRAVA GLA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409720" y="1905120"/>
            <a:ext cx="1600200" cy="2819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57150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itanje kompetencij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JA POLITIČKOGA OBRAZOVA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0:01:48Z</dcterms:created>
  <dc:creator>bsalaj</dc:creator>
  <dc:description/>
  <dc:language>en-US</dc:language>
  <cp:lastModifiedBy>Guest</cp:lastModifiedBy>
  <dcterms:modified xsi:type="dcterms:W3CDTF">2010-08-27T13:05:12Z</dcterms:modified>
  <cp:revision>145</cp:revision>
  <dc:subject/>
  <dc:title>Slide 1</dc:title>
</cp:coreProperties>
</file>