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0E9-647F-440F-9C22-16D343C1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3FD-F9D7-442E-B62F-0BED6D1B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5B4-14A4-4399-B706-B5DF1A6A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45E-86E0-4FF9-8E3E-895A103C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96C-C609-4AF2-98DE-F5B1E41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059-359D-456C-BDC2-8585C21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010-AE8C-4812-B897-6F58190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11F-94DA-43F8-95D6-8785517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02C-D94F-41B0-A0A0-9734F8B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EC4-307A-4694-95B9-3762BFED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F8F-A558-496C-82EA-BB5C77A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346-4CDC-4A69-9940-CADC5BD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8EED-1C61-443F-B010-6E22F89F649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79059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VAJANJE (STRANOG) JEZIKA KOD PREDŠKOLSKE DJECE</a:t>
            </a: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ETODE PROCJENE EFEKATA UČENJA STRANOG JEZIKA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78120" y="5760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Joško Sin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0CB-84AE-4AC1-A389-8C97AACFB4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premda mlađa djeca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uspijevaju razdvajati riječ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u fluentnom govoru,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ne znač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da ona razumiju i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znače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tih rije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od 15. do 24. mjeseca život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, sposobnosti razlikovanja pojedinih riječi unutar konteksta fluentnog govora, znatno napredu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u dobi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15. - 24. mjeseca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osežu razin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odraslih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ljudi za prepoznavanje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poznatih riječi u fluentnom gov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2. Segmentiranje riječi iz fluentnog gov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28E-B0AC-4579-9593-E8E62059433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ako 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djeca identificiraju </a:t>
            </a:r>
            <a:r>
              <a:rPr b="1" i="1" lang="hr-HR" sz="3200" spc="-1" strike="noStrike">
                <a:solidFill>
                  <a:srgbClr val="000000"/>
                </a:solidFill>
                <a:latin typeface="Garamond"/>
              </a:rPr>
              <a:t>sastavne dijelove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 unutar gramatičke organizacije jezika ? 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To je teško objašnj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3. Identifikacija ispravne gramatičke struk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3E7-B99B-49C9-AE9A-354A6EB6213D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Identifikacija </a:t>
            </a:r>
            <a:r>
              <a:rPr b="1" i="1" lang="hr-HR" sz="3200" spc="-1" strike="noStrike">
                <a:solidFill>
                  <a:srgbClr val="000000"/>
                </a:solidFill>
                <a:latin typeface="Garamond"/>
              </a:rPr>
              <a:t>sastavnih dijelova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 mora zadovoljavati više uvjeta, na koje su djeca </a:t>
            </a: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osjetljiva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62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govor mora sadržavati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adekvatan znak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koji bi upućivao na sastavne dijelove gramatičke strukture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62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slušatelj mora biti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sposoban detektirat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takve znak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62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slušatelj mora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koristiti te znakov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kod procesiranja ulaznih jezičnih inform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3. Identifikacija ispravne gramatičke struk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90F-66E8-4421-BF3C-AB69B38DF05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Zaključak o usvajanju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71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Rezultati istraživanja: djeca posjeduj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veliki kapacitet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UČENJA JEZIK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na “statistički nač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Ovo je područje još uvijek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nedovoljno istraženo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, npr. pi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Kako djeca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ntegriraju sve informacij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potrebne za učenje jezik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Kako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odabiru pravil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koja su 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određenoj situacij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primjenljiv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Koji s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znakov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bolji indikatori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granica među riječim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9A8-A862-4D49-9DD0-10D53EF9A31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71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Vos, J. (1998) –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Mogu li se predškolska djeca učiti drugi jezik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Te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Učenje jezika je prirodan proces kad su djeca mala (2000 riječi oko 4-e godine, 70 različitih zvukova beba do 6 m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redškolska dob je vitalna d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rve 3 godine su temelji razmišljanja, jezika, vizija, stavova i sposobnost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50-80 % mudrosti se stvara u ranom djetinjstvu – moždane vij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C95-47F9-40CD-803D-D9DABDC2D32F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604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Vos, J. (1998) – </a:t>
            </a: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Mogu li se predškolska djeca učiti drugi jezik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Faze razvoja moz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1. mjesec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reakcije na okolinu – 3 bilijuna sinaptičkih veza u sek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1-6 mjesec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dijete proizvodi zvukove svih jezika svijeta, oponaša uzore iz okoline; odbacuje sposobnost pričanja jezika koje ne č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Do 8. mjesec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1000 trilijuna veza, čiji broj opada ako dijete nije izloženo stimulaciji kroz sva osjet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Do 10. godin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pola veza je mrtvo u prosječnog djeteta; 500 trilijuna veza ostaje kroz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Iznad 12. godin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mozak “super-spužva”; završena unutarnja arhitektura mozga (prije te godine, svakako učiti jez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EBB-2BEE-4663-B3A3-480DA3422504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604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Vos, J. (1998) – </a:t>
            </a: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Mogu li se predškolska djeca učiti drugi jezik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Mladi doseljenici su modeli –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 Švedskoj, 3-godišnja djeca odlično govore po tri je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Istraživanja mozga potvrđuju razvojne faze učenja jezik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– prosječno dijete 100 bilijuna stanica mozga, s po 20 000 veza (a njihovo održavanje ovisi o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stimulativnom okruženju – senzornoj stimulaciji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) – </a:t>
            </a: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npr. štakor u kavezu s igr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Kako učiti 2. ili 3. jezik kod male djece ?</a:t>
            </a: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Slušanje, imitacija, gledanje, izvođenje. Računanje, igre, pjesme, r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Posebno je važna zabavnost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– emocionalni (reptilski) mozak ili “little brain” – kad se on uključi, učenje je lakš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0DD-E8D2-4126-A6E6-02B7B9BD902E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604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Vos, J. (1998) – </a:t>
            </a: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Mogu li se predškolska djeca učiti drugi jezik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Gardnerove multiple inteligen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Lingvist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Logičko-matemat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Glazb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Vizualno-prosto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Vizualna (imaginacija, vizualno pamće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Kinestetič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Socija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Introspekti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rirodna (učenje istražujući priro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68E-567F-44DE-BB44-3CC9BC0BB313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6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Primjena Gardnerove multiple inteligencije u učenju stranih jez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čine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ojačavanje slikama i zvuk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mora biti zaba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u opuštenom ali izazovnom st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glazbom i ritm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pokretom (tijelo i duh istovreme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razgovo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refleksijom (prvo upijaju jezik a onda ga počnu govoriti kasn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ovezati brojke i riječi u ig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dodi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kušanjem (ta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Učenje mirisa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Korištenje cijelog svijeta kao učio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8C1-EDE9-4F8D-86DF-D0A61D395B5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71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Rezultati istraživanja (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Perani &amp; al., 1998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) – 1. dio: postoje razlike u aktivaciji mozga za materinji i strani jezik (za bilingvalnu djecu tal. – eng. – grupa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Materinji (talijanski) jezik više aktivira temporalni dio mozga i temproparietalni korteks nego drugi jezik (engleski) – kad se drugi jezik </a:t>
            </a:r>
            <a:r>
              <a:rPr b="0" i="1" lang="hr-HR" sz="2800" spc="-1" strike="noStrike">
                <a:solidFill>
                  <a:srgbClr val="000000"/>
                </a:solidFill>
                <a:latin typeface="Garamond"/>
              </a:rPr>
              <a:t>učio kasnije, i s manjom razinom zna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2. dio: španjolski i katalonski bilingvisti (prije 4 godine: </a:t>
            </a:r>
            <a:r>
              <a:rPr b="0" i="1" lang="hr-HR" sz="2800" spc="-1" strike="noStrike">
                <a:solidFill>
                  <a:srgbClr val="000000"/>
                </a:solidFill>
                <a:latin typeface="Garamond"/>
              </a:rPr>
              <a:t>rano učenje, visoka razina zna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) – usporedba s grupom 1: dostignuta razina znanja je bitnija od dobi kad se jezik u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3FA-D850-45FA-A491-798D704B8C4D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Kako djeca usvajaju jezik ?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6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ječje izvanredne sposobnosti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kriminacije govornih zvukova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emelj su za učenje materinjeg jez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očetne sposobnost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kriminacije govornih zvukova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javljaju ko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ve dje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bez obzira na to koji je njihov materinji j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B4F-F089-4A9A-BF83-1E3860E1F0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052640"/>
            <a:ext cx="871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Kontekst i ishodi – strani jezici u predškolskoj dob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projekt Socrates programa – EU) – ele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Istraživanje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– kontekst, rezultati učenja, direktne opservacije situacija u razredu/gru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Uključivanje roditel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– važni kod uvođenja u učenje stranih jezika, atmosfera podrške izvan razreda (van vrtić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Kontinuitet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– održati kontinuitet učenja od predškolskog kroz škol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337-E6E2-4F7E-ADEB-AAE8F8AD21FD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Usvajanje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Kontekst i ishodi – strani jezici u predškolskoj dobi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(projekt Socrates programa – EU) – elem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Vrijeme –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vrijeme učenja treba povećati, kad god je to moguće; bolje svakodnevne kraće lekcije nego dvije duže tijekom tjedna; važna i kvaliteta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Trening odgojitel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– znanje stranog jezika, znati analizirati i tumačiti jezik, znanje principa učenaj stranog jezika, pedagoške sposobnosti za strane je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Mogućnosti za sve učenike/dje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Pogodna metodologija za sve dobne gru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Jezična raznolik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Koordinacija istraživanja (pokrivanje svih bitnih aspek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Potencijalne opasnosti – raspoloživi resursi, plan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0EF-C80A-451D-A730-7BF8B76C36B1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66"/>
                </a:solidFill>
                <a:latin typeface="Garamond"/>
              </a:rPr>
              <a:t>Motivacija za strani jez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Brumen, M. (2010) –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 Percepcija motivacije za učenje stranog jezika kod predškolaca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(Sloven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Network Innovative Project –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intrinzično motivirana djeca: zadovoljni postignućima, traže aktivnosti, stječu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Pritom važna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atmosfera podrške, klima učenja, ugodnost i sigurnost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(kad toga nema djeca nerado uč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A48-772A-42E9-8595-CDCB86A73DA6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Garamond"/>
              </a:rPr>
              <a:t>Metode procjene efekata učenja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ako se učenje novog stranog jezika u predškolskoj dobi reflektira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Cjelokupni psihofizički razvoj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motoriku, spoznajni i socio-emocionalni razvoj, komunikacij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azvoj govora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isključivo govornog aspekta razvoja, npr. rječnik, izgov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Direktne spoznaje iz područja konkretnog stranog jezika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rječnik, gramatika i s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541-957C-4E68-9BB4-9DF945D6C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Garamond"/>
              </a:rPr>
              <a:t>Metode procjene efekata učenja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ako se učenje novog stranog jezika u predškolskoj dobi reflektira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Odabir aktivnosti koje se s djecom provode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sadrž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Uvjete potrebne za provođenje tih aktivnosti s djecom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materijalne i organizacijs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udjelovanje djece u odabranim i provedenim aktivnostima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trajanje aktivnosti, sudjelovanje pojedine djece, razina aktiviteta djeteta u akt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94D-296F-427B-8782-3170E3FA59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Garamond"/>
              </a:rPr>
              <a:t>Metode procjene efekata učenja stranog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Od kog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se mogu prikupiti podaci, dati procjene, prikupiti opserv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odgoj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direktno od dj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stručnih sur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vanjskih stručnj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DD5-D2E6-4B25-8C91-E9D381D4BD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nstrumentarij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13000"/>
          <a:ext cx="8229600" cy="3990960"/>
        </p:xfrm>
        <a:graphic>
          <a:graphicData uri="http://schemas.openxmlformats.org/drawingml/2006/table">
            <a:tbl>
              <a:tblPr/>
              <a:tblGrid>
                <a:gridCol w="573120"/>
                <a:gridCol w="2235240"/>
                <a:gridCol w="2447640"/>
                <a:gridCol w="2973600"/>
              </a:tblGrid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IŠTENI  INSTRU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V R H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ODITELJ, ULO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ENIK DJ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 o stručnoj spremi rodite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agog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sumacija podat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jitelj -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ikupljanje podataka od rodite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CIJALNI INTERV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ni podaci  o djeci (potencijalne, prolazne i trajne posebne potrebe, navike djeteta, stil odgoja, prethodna prilagodba,  itd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holog, pedagog, zdr. voditelj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prikupljanje  i sumacija podat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ITNIK ZA ODGOJIT. I DJECU – POLAZNIKE  PROGRAMA (STR. JEZI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o ponašanju djeteta u odgojnoj gru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jitelj–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punjavanje upit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agog, psiholog, zdr. voditelj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priprema i upute za primjenu upitnika, kategorije za procjenu, sumacija podat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DC2-14F2-4340-AF88-9CD1143851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nstrumentarij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197000"/>
          <a:ext cx="8229600" cy="4208400"/>
        </p:xfrm>
        <a:graphic>
          <a:graphicData uri="http://schemas.openxmlformats.org/drawingml/2006/table">
            <a:tbl>
              <a:tblPr/>
              <a:tblGrid>
                <a:gridCol w="573120"/>
                <a:gridCol w="2593800"/>
                <a:gridCol w="2376720"/>
                <a:gridCol w="2685960"/>
              </a:tblGrid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IŠTENI  INSTRU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V R H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ODITELJ, ULO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KETNI UPITNIK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ITE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 o općem stavu roditelja prema Vrtiću; kako roditelj vidi realizaciju programa, u odnosu na očekivanja za dij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holog, pedagog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osmišljavanje upitnika, priprema upitnika, upute odgajateljima; PE – distribucija upitnika; PS, PE – upute roditeljima za ispunjavanje; sum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HOLOGIJSKI TESTOVI – Grafički test perceptivne organizacije, Test Crtež kuće, Googenough test, LB-R, Ravennove progresivne matrice u bo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o intelektualnim i vizuomotornim osobinama dj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holog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primjena testova i sumacija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 SOCIOMETRIJSK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 o sociometrijskom statusu pojedine djece, socio-emocionalni odnosima djece u gru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 – provođenje sociometrijskog  postupka, sumacija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- motiviranje pojed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ece na suradnju sa psiholog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700-F9F8-4190-B6E5-0A9F13C91B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nstrumentarij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484280"/>
          <a:ext cx="8229600" cy="3589200"/>
        </p:xfrm>
        <a:graphic>
          <a:graphicData uri="http://schemas.openxmlformats.org/drawingml/2006/table">
            <a:tbl>
              <a:tblPr/>
              <a:tblGrid>
                <a:gridCol w="573120"/>
                <a:gridCol w="2667240"/>
                <a:gridCol w="2232000"/>
                <a:gridCol w="27572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IŠTENI  INSTRU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V R H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ODITELJ, ULO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KETNI UPITNIK ZA DJE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o stavov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eteta prema vrtić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ajatelju, učen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ijanskog i engleskog jez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agog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azgovor s djecom  (odgovori na pitanja iz ankete), pomoć OD u razgovoru s pojedinom djecom (anke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, PE – osmišljavanje upit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  “PRSTIĆA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a slike o sebi kod djece - polaznika programa na stranom jezi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, PS – primjena met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djecom, sumacija rezult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GOVOR (cilja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o govornom statusu dj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oped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provodite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F94-34BA-4066-8CB5-F0FE736D00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nstrumentarij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341360"/>
          <a:ext cx="8229600" cy="4613400"/>
        </p:xfrm>
        <a:graphic>
          <a:graphicData uri="http://schemas.openxmlformats.org/drawingml/2006/table">
            <a:tbl>
              <a:tblPr/>
              <a:tblGrid>
                <a:gridCol w="573120"/>
                <a:gridCol w="2667240"/>
                <a:gridCol w="2447640"/>
                <a:gridCol w="254160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IŠTENI  INSTRU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V R H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ODITELJ, ULO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ITNIK ZA OPĆ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U ZNANJA TALIJANSKOG I ENGLESKOG  JEZ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vrđivanje nivoa znanja stranog jezika u pojedinim aspekt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, PS - priprema upitnika, sumacija  rezultata, upute za ispunjavanje; OD – ispunjavanje upitnika;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VANJE ORIJENTACIJSKOG PL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o područjima psihofiz. razvo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a “napredovanja” djece u psihofiz, karakteristikama s kvalitativnim zapažanjima: realizirane aktivnosti,  postignuća u odgojno- obrazovnom radu,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, PE - upute odgojiteljima sastavljanje obrasca, suradnja pri planiran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jno-obrazovnog 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– provoditelj planiranja i vrednovanja, neposredni realiz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KOL ZA PRAĆENJE PROCESA REALIZACIJE PROGRAMA NA STRANOM JEZI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o aktivnostima s djecom o programu materijalni uvjeti, realizacija aktivnosti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jedicama na djecu, ponašanje dj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, PS – provoditelji snimanja, sumacija 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8BA-AD35-4A36-91BB-0E82742FD6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T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  <a:ea typeface="Times New Roman"/>
              </a:rPr>
              <a:t>emelj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n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  <a:ea typeface="Times New Roman"/>
              </a:rPr>
              <a:t>e razlike 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među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Garamond"/>
                <a:ea typeface="Times New Roman"/>
              </a:rPr>
              <a:t>teorija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ma usvajanja jezika</a:t>
            </a:r>
            <a:r>
              <a:rPr b="0" lang="en-US" sz="4400" spc="-1" strike="noStrike">
                <a:solidFill>
                  <a:srgbClr val="333399"/>
                </a:solidFill>
                <a:latin typeface="Garamond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1. pristup: u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č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nje igra glavnu ulogu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mladi ljudi imaju sn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i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osebujan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ustav u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č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pa na taj način uče i jezične zakonit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2. pristup: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uč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nje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 je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manje bitno (urođenost)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ikaz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učenja kao glavnog čimbenika neusklađen j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 ključnim op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ž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jima koja su se bavila jezikom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z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č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i sustavi svijet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su vrlo slič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jezi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č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e univerzalnosti predodre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đ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u djetetovoj sklonosti ili darovitosti jeziku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Chom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C53-F1E7-4DAA-843D-777E54AA8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Neka zapažanja - opservacije stručnjaka iz dječjeg vrt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važna uloga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“centara aktivnosti”: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raznolika mogućnost potic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komunikacijskih vještina djece (razgovori na temu, dijalozi, kreativni poticaji za razvoj mašte i s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velik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udio u nabavi materijalnih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sredstava (roditelji, dječji vrti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uređenje prostor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otvara posve nove razvojne moguć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razlog odabira DV-a u koji će djeca biti upisana, roditelji vide upravo u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postojanju programa ranog učenja talijanskog je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najveći razlog zadovoljstva djeteta dječjim vrtićem u odgojnoj grupi ranog učenja talijanskog jezika bio je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odgojitelj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(u oko 75% slučaje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Zamjerke: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brojnost djece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u odgojnoj skupini, veća mogućnost ustroja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sportskih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49A-6FEE-48F1-A9FE-E037583BF0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ako roditelji vide provedbu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2803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Roditelji - većinom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potpunosti zadovoljn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vim program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Gotovo svi smatraju da program dosta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pridonosi razvoju njihovog djetet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ponajviše u području boljeg uklapanja u skupinu djece (socijalizacija) te najčešće - stjecanje veće slobode govornog izraž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Za poboljšanje programa, sugeriraju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manjenje broja djec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u odgojnim skupinama (dio roditelja smatrao da to nije potreb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Garamond"/>
              </a:rPr>
              <a:t>Zaključ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oditelji pozitivno vrednuju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program učenja stranog jez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djeca stječu vrlo dobro znanje stranog jezik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kojim onda komuniciraju i kod ku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B20-7536-4F56-BDC4-9EEC3E6AFB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Što djeca misle o stranom je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naučeno u vrtiću djeca vole pokazivati i izvan njeg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u razgovoru s roditeljima ili drugim talijanskim govornicima te s odgojiteljima u vrtić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oznavanje talijanskog jezika djeca najčešće pokazuju kroz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azličite pjesmice ili recitacij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koje i inače najradije u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razlog učenja talijanskog jezika: “da znam strani jezik” (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važnost stranog jezik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– vjerojatno na inicijativu roditel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Nakon vrtića -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želja za nastavkom učen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talijanskog jez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okazuju želju da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druge ljude uključ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u učenje talijanskog jez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Djeca postaju nešto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lobodnija u komuniciranju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na stranom jeziku, kad uče jezik više god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24B-5C05-488D-9297-46FA03448F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7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Usporedbom postignutih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efekata i polazišt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koncipiranja programa (od početka realizacije do danas) može se utvrditi da polazišta programa u velikoj mjer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ezultiraju željenim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efektim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djeca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tječu temeljne spoznaj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 talijanskom jeziku, učeći kroz igr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osljedica toga je 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zadovoljstvo roditel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Garamond"/>
              </a:rPr>
              <a:t>Podjednaki podac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 tome dobiveni su iz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vih izvor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djece, roditelja, odgojitelja i ostalih stručnj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Postojanje programa ranog učen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talijanskog jezika čest je razlog zbog kojeg se djeca 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upisuju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u DV Maksim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F97-E837-40B8-BF92-A705764D0C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MIKRORAZVOJNA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Metodološki pristup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u kojem se sudionici opetovano u kratkim vremenskim intervalima izlažu situaciji učenja kako bi se istraživali procesi promjena znanja, vještina i razumijevanja (Granott i Parziale, 200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Pitanja u mikrorazvojnim istraživanjima -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kvalitativne i kvantitativne promjen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predmeta istraživanja (učenja jezik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kako ljudi uč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razvijaju vještine, rješavaju probleme, nalaze strategij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kako se odvija učenj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koji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mehanizmi i uvjet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dovode do pro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8B7-052B-4EBC-8A41-FDDCF3CB63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MIKRORAZVOJNA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Analizira s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izvor (koja iskustva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stopa (iznenadna ili postupna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put (poredak pristupa u učenju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širina (generalizaci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varijablilitet (različiti ljudi) pro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073-E4D2-4FD1-9E9D-2BBD1B8524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MIKRORAZVOJNA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Metode analize podataka – kompleksne, tri pristup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Normativno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rijentiran pristup (grupni prosjeci) – gr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Idiografsk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rijentiran pristup (razlike unutar sudionika) – pojedi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Višerazinsko kombiniranje promjen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– modeliranje individualnog rasta (pojedinac i grupa zajed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Grafičke metode, kvalitativna analiza podataka (vinjete), analiza varijance s ponovljenim mjerenjima, analiza neizrazitih skupova, povijest događaja,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modelir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344-94C4-4E29-B3E7-A93DCC6D68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Mogućnosti istraživanja ranog učenja talijanskog jezika kod djece jaslične do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metodološk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fleksibilno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osmišl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ombinira prednost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kvalitativnih i kvantitativnih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prist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Ciljevi: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1. Utvrdit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efekte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oje rano učenje talijanskog jezika može postići kod djece jaslične do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2. Postići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uvid u jedinstvenost dječjih doživlja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pojedinih odgojno-obrazovnih situa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djetetovo poticajno okruž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ultura dječjeg vrti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rad odgojite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87A-29F2-458F-B1E8-EE81756420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vantitativni aspekt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procjenjivati temeljne pokazatelje onog što se u praksi naziva «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uspješno realizirana aktivnost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ovođenje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u vezu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konkretnih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ponašanja odgojitel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(npr. aktivnost /pasivn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varijacija u organizaciji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materijalnog aspekt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poticajnog okru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reakcija te doživljaja djece (npr. sudjelovanje u aktivnosti, trajanje sudjelovanja u akt., razina aktivit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4D7-25A8-4732-A0BE-830462CD94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vantitativni aspekt istraživanja - pri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OSNOVNA PROCJENA UKLJUČENOSTI U AKTIVNOST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– podsjet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Ova procjena obavlja se 2 x tjedno, </a:t>
            </a:r>
            <a:r>
              <a:rPr b="1" i="1" lang="hr-HR" sz="1600" spc="-1" strike="noStrike">
                <a:solidFill>
                  <a:srgbClr val="000000"/>
                </a:solidFill>
                <a:latin typeface="Garamond"/>
              </a:rPr>
              <a:t>nakon svih provedenih aktivnosti u definiranom razdoblju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(npr. 9-10,30 h), tj. od  _____do_____ sati, i provodi je </a:t>
            </a:r>
            <a:r>
              <a:rPr b="1" i="1" lang="hr-HR" sz="1600" spc="-1" strike="noStrike">
                <a:solidFill>
                  <a:srgbClr val="000000"/>
                </a:solidFill>
                <a:latin typeface="Garamond"/>
              </a:rPr>
              <a:t>odgajatelj iz odgojne grupe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IME I PREZIME DJETETA – nave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NAZIV AKTIVNOSTI: - napisati naziv aktivnosti (skraćeno, npr. bajka Trnoružic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UKLJU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EN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- Procjenjivač znakom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označava da li je dijete «fizički» sudjelovalo u aktivnosti, npr. sjedalo na mjestu gdje su djeca slušala prič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Garamond"/>
              </a:rPr>
              <a:t>Npr. uz NAZIV AKTIVNOSTI – Centar predčitačkih vještina u rubrici UKLJUČEN za dijete I.J. se upiše X ukoliko je dijete sudjelovalo u akti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AZINA AKTIVNOSTI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(Leuvenova skala aktivnosti) - Procjenjivač unosi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intenzitet uključenosti djeteta u aktivnost,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tj. koliko je dijete «fizički» sudjelovalo u aktivnosti, npr. sjedalo na mjestu gdje su djeca slušala prič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Unosi se </a:t>
            </a:r>
            <a:r>
              <a:rPr b="1" i="1" lang="hr-HR" sz="1600" spc="-1" strike="noStrike">
                <a:solidFill>
                  <a:srgbClr val="000000"/>
                </a:solidFill>
                <a:latin typeface="Garamond"/>
              </a:rPr>
              <a:t>procjena razine aktivnosti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djeteta u konkretnom centru ig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1= ne uključuje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2=povremeno se uključu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3=aktivnost bez intenzit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4=aktivnost s intenzivnim trenu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5=kontinuirana intenzivna akti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5BA-E31A-4573-92BB-997DD1F426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362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050"/>
                </a:solidFill>
                <a:latin typeface="Garamond"/>
              </a:rPr>
              <a:t>Kako je jezično znanje steč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Garamond"/>
              </a:rPr>
              <a:t>kako dijete usvaja gramati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argument "siromaštvo podražaja“ - dijete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posjeduj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značajno gramatičko znanje (urođe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050"/>
                </a:solidFill>
                <a:latin typeface="Garamond"/>
              </a:rPr>
              <a:t>Koji su načini izdvajanja gramatičkih strukt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ograničava se i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uloga iskustv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u usvajanju jezika (učen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98D-354B-4CEC-B379-5218B7041830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vantitativni aspekt istraživanja - prim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Npr. uz NAZIV AKTIVNOSTI – Centar predčitačkih vještina u rubrici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AZINA AKTIVNOST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za dijete I.J. se upiše 2 ukoliko je dijete sudjelovalo u aktivnosti povrem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G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ELJ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vesti koliko se odgajatelj ang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rao u vezi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pojedinog djetet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z obzira radi li se o dj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etovu pozitivnom isticanju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koje je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o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ervenciju odg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elj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pr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. 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ametna primjedb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”),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i pak negativnom isticanju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(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metanje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” –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ervencija zbog djetetov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mirivanj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Garamond"/>
              </a:rPr>
              <a:t>Procjene intervencije odgojitelja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aramond"/>
              </a:rPr>
              <a:t>0=nije bilo potr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aramond"/>
              </a:rPr>
              <a:t>1=samo jednom ili dva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aramond"/>
              </a:rPr>
              <a:t>2=dosta č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Npr. uz NAZIV AKTIVNOSTI – Centar predčitačkih vještina u rubrici </a:t>
            </a:r>
            <a:r>
              <a:rPr b="0" i="1" lang="pl-PL" sz="2000" spc="-1" strike="noStrike">
                <a:solidFill>
                  <a:srgbClr val="000000"/>
                </a:solidFill>
                <a:latin typeface="Garamond"/>
              </a:rPr>
              <a:t>ODGAJATELJ</a:t>
            </a:r>
            <a:r>
              <a:rPr b="0" lang="pl-P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Garamond"/>
              </a:rPr>
              <a:t>za dijete I.J. se upiše 2 ukoliko je odgojitelj dosta često trebao intervenirati u vezi djeteta I.J.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A6B-8D9A-4C02-87DB-4CFF0B89B0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Kvalitativni aspekt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rastumačit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dobivene rezultate (proces uč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obiti uvid 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nove element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odgojno-obrazovnih situacija koje u startu nismo mogli predvidj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ati uvid u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jedinstvene dječje doživljaj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Sve su to ujedno i smjernice za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buduća istraživa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938-541C-47C2-9283-B6F8304066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Dj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DOB: relativno različita dob djece (čak i  jaslična do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SPOL: imati podatke o dj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UZORAK: prigod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EKSPERIMENT: u prirodnim uvje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E70-BECA-4FA4-8A6C-2B34138FFB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Što se može pratiti ?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(varij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A. Kvantitativni kriteriji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uspješnosti aktivnosti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broj djece koja sudjeluju u određenoj vrsti aktivnos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trajanje sudjelovanja pojedinog djeteta u aktivnos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F3B-F96D-43BE-964D-9AA1CDB551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Što se može pratiti ?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(varij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B. Kvantitativni aspekti uloge odgojitel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roj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verbalnih uput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pojedinoj djec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roj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neverbalnih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načina usmjeravanja djeteta na aktivnost (demonstracija, nuđenje igračke, itd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roj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posredovanja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u razrješenju konflikt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roj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intervenci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s ciljem kanaliziranja nepoželjnog ponašanja djetet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roj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nepoželjnih ponaša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djeteta na koje odgojitelj nije reagira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E46-261E-467F-B532-50A41428ED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C. Kvantitativni aspekti </a:t>
            </a: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poticajnog okruženja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broj i vrsta centara aktivnos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broj i vrsta igračaka i didaktičkih sredstava u centrima aktiv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D. Kvantitativne procjene </a:t>
            </a:r>
            <a:r>
              <a:rPr b="1" lang="hr-HR" sz="3200" spc="-1" strike="noStrike">
                <a:solidFill>
                  <a:srgbClr val="000000"/>
                </a:solidFill>
                <a:latin typeface="Garamond"/>
              </a:rPr>
              <a:t>uključenosti djeteta u aktivnost</a:t>
            </a: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 na osnovi Leuvenove skale uključenosti (razina aktivnosti djeteta u aktivnost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Što se može pratiti ? </a:t>
            </a:r>
            <a:r>
              <a:rPr b="0" lang="hr-HR" sz="4000" spc="-1" strike="noStrike">
                <a:solidFill>
                  <a:srgbClr val="000000"/>
                </a:solidFill>
                <a:latin typeface="Garamond"/>
              </a:rPr>
              <a:t>(varij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000-8B51-4BFC-A045-E72E2E0134D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aramond"/>
              </a:rPr>
              <a:t>Čestina proc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azine procjenjivan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Na razini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duljeg vremenskog razdoblj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dani, tjedan, mjesec i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Na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razini dan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sati, min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N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2-3 puta tjedno, u isto / različito vrijeme 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Trajanje razdoblja praćenja: 15 / 30 /45 minu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E15-A109-425E-9F39-AB7E60BCFFD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aramond"/>
              </a:rPr>
              <a:t>Tko procjenju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39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Razine procjenjivanj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Odgojite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Stručni suradn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Roditel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je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rugi nezavisni procjenjiv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Kombin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99E-CB3F-4FA0-83EE-02F5D26581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analiza snimaka praktičn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refleksija rada odgojitelja te kvalitete poticajnog okruženja dje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bilješke o reakcijama i ponašanjima djece, dokumentacija o njihovom stvaralaštvu, it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Kvalitativn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E3-8C98-4124-885B-B0E0A1B4A1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523520"/>
            <a:ext cx="885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rugi strani jezik treba učiti: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što ranije – to bo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Pritom treba voditi računa o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stimulativnom i bogatom jezičnom okruženju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, uz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primjerenu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metodiku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Metode procjene efekata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mogu biti složenije ili jednostavnije, kvalitativne ili kvantitativne – ali moraju postojati, da bi se proces učenja mogao pospješ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Zaključ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56A-3503-44A1-8EF3-CB7C7BAB44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Konekcionistički pri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često se upotrebljava u kognitivnim i neurološkim znanostima =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konekcionističke mrež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objašnjavaju fenomene ponašanja u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terminima čvorova (“vijuge”)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, čiji se broj postupno poveć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mreže "uče" na temelju izlaganja uzorcim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: postupne promjene u vezama između jedinica koje čine obrazac aktivacij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Tako dolazi i do većeg </a:t>
            </a:r>
            <a:r>
              <a:rPr b="1" i="1" lang="hr-HR" sz="2400" spc="-1" strike="noStrike">
                <a:solidFill>
                  <a:srgbClr val="000000"/>
                </a:solidFill>
                <a:latin typeface="Garamond"/>
              </a:rPr>
              <a:t>razumijevanja i produkcije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53B-8716-48A5-A4EB-D9A462568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HVALA NA PAŽN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420-F76F-483D-BBE8-C67144F116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mogućnost dobivanja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strukturalne pravilnosti iz relativno nejasnih ulazn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kada mreža pronađe rješenja za zadatke koje "uči" izvoditi, stvaraju se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eprezentacije jezik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i drugih feno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= alternativno objašnjenje za </a:t>
            </a:r>
            <a:r>
              <a:rPr b="1" lang="hr-HR" sz="2400" spc="-1" strike="noStrike">
                <a:solidFill>
                  <a:srgbClr val="cc3300"/>
                </a:solidFill>
                <a:latin typeface="Garamond"/>
              </a:rPr>
              <a:t>genera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mreža je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izvježban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kroz izlaganje velikom broju uz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jedinice unutar mreže mogu kodirati veliki broj </a:t>
            </a: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probabilističkih ograničenja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posebne “gramatičke situacij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656-32D2-4379-809C-67AD6114AA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Obrasci prema kojima djeca usvajaju jezik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Učenje</a:t>
            </a:r>
            <a:r>
              <a:rPr b="1" lang="hr-HR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ritmičkih svojstava</a:t>
            </a:r>
            <a:r>
              <a:rPr b="1" lang="hr-HR" sz="28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Segmentiranje riječi</a:t>
            </a:r>
            <a:r>
              <a:rPr b="1" lang="hr-HR" sz="2800" spc="-1" strike="noStrike">
                <a:solidFill>
                  <a:srgbClr val="cc0099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iz fluentnog 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Identifikacija ispravnih</a:t>
            </a:r>
            <a:r>
              <a:rPr b="1" lang="hr-HR" sz="28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gramatičkih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2EA-4265-4A57-9450-E97FD2EDFC1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1.Učenje ritmičkih svojstava je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Tri su </a:t>
            </a:r>
            <a:r>
              <a:rPr b="1" i="1" lang="hr-HR" sz="2800" spc="-1" strike="noStrike">
                <a:solidFill>
                  <a:srgbClr val="000000"/>
                </a:solidFill>
                <a:latin typeface="Garamond"/>
              </a:rPr>
              <a:t>općenite ritmičke klasifikacije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je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jezici naglašenih slogova 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(Engleski; Njemač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ritmični jezici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Francuski, Španjols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aramond"/>
              </a:rPr>
              <a:t>jezici kratkih slogova</a:t>
            </a: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(Japans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Istraživanje (Nazzi i sur., 1998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aramond"/>
              </a:rPr>
              <a:t>djeca do 5. mjeseca života</a:t>
            </a:r>
            <a:r>
              <a:rPr b="1" lang="hr-HR" sz="26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Garamond"/>
              </a:rPr>
              <a:t>razlikuju jezike koji pripadaju </a:t>
            </a:r>
            <a:r>
              <a:rPr b="1" lang="hr-HR" sz="2600" spc="-1" strike="noStrike">
                <a:solidFill>
                  <a:srgbClr val="000000"/>
                </a:solidFill>
                <a:latin typeface="Garamond"/>
              </a:rPr>
              <a:t>različitoj</a:t>
            </a:r>
            <a:r>
              <a:rPr b="0" lang="hr-HR" sz="2600" spc="-1" strike="noStrike">
                <a:solidFill>
                  <a:srgbClr val="000000"/>
                </a:solidFill>
                <a:latin typeface="Garamond"/>
              </a:rPr>
              <a:t> ritmičkoj kategoriji (npr. Engleski i Japanski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aramond"/>
              </a:rPr>
              <a:t>ali</a:t>
            </a:r>
            <a:r>
              <a:rPr b="1" lang="hr-HR" sz="26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Garamond"/>
              </a:rPr>
              <a:t>ne razlikuju</a:t>
            </a:r>
            <a:r>
              <a:rPr b="1" lang="hr-HR" sz="26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Garamond"/>
              </a:rPr>
              <a:t>jezike koji pripadaju</a:t>
            </a:r>
            <a:r>
              <a:rPr b="1" lang="hr-HR" sz="2600" spc="-1" strike="noStrike">
                <a:solidFill>
                  <a:srgbClr val="000000"/>
                </a:solidFill>
                <a:latin typeface="Garamond"/>
              </a:rPr>
              <a:t> istoj </a:t>
            </a:r>
            <a:r>
              <a:rPr b="0" lang="hr-HR" sz="2600" spc="-1" strike="noStrike">
                <a:solidFill>
                  <a:srgbClr val="000000"/>
                </a:solidFill>
                <a:latin typeface="Garamond"/>
              </a:rPr>
              <a:t>ritmičkoj kategoriji (Engleski i Nizozemsk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BC2-EF7C-4958-ABC1-604C2C95EEB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Istraživanje Jusczyka i Aslina (1995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djeca približno počinju razlikovati riječi unutar fluentnog govora s </a:t>
            </a: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oko 7,5 mjeseci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aramond"/>
              </a:rPr>
              <a:t>Učenje je bitno</a:t>
            </a:r>
            <a:r>
              <a:rPr b="0" lang="hr-HR" sz="2800" spc="-1" strike="noStrike">
                <a:solidFill>
                  <a:srgbClr val="000000"/>
                </a:solidFill>
                <a:latin typeface="Garamond"/>
              </a:rPr>
              <a:t> za pravilno segmentir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Garamond"/>
              </a:rPr>
              <a:t>2. Segmentiranje riječi iz fluentnog gov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F5F-FB3A-44B1-9BE8-BFFA05AB578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22:50:47Z</dcterms:created>
  <dc:creator>Versa</dc:creator>
  <dc:description/>
  <dc:language>en-US</dc:language>
  <cp:lastModifiedBy>josko</cp:lastModifiedBy>
  <dcterms:modified xsi:type="dcterms:W3CDTF">2010-10-19T10:23:38Z</dcterms:modified>
  <cp:revision>67</cp:revision>
  <dc:subject/>
  <dc:title>USVAJANJE  JEZIKA (nasljeđe ili okolina?)</dc:title>
</cp:coreProperties>
</file>