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644-F033-45B6-A543-DE0987C9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45C-74E0-4DE5-B178-677B10FD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5E6-53AF-47A7-AD64-5C177369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947-F516-44A0-B013-4D222876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2A48-1D80-400A-A32D-B4B42AB9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0FC5-3419-42D7-AA46-0B2067A0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7E82-BE04-4BFB-9257-BAFB5510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832A-3C64-486E-B1E5-7B26C976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77AB-4C7D-4F4C-9916-94542F62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71E8-55AA-4A92-A35E-0B38176B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893A-28CF-4A4B-AECB-1717DE8C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B2D-B2C8-4325-B1A0-63738B32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D36A-7F3F-499C-902E-6C342C4A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10C9-30E3-4D6A-8C0E-D66B066A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D2F8-8B09-4103-A706-315E9ADF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C3B7-319A-46E1-8902-2DFEDBEE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901A-8896-4FE4-8DC9-4453C2D4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00F-07D6-4638-902D-4A8E80A9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8F0-2D71-41DE-B164-EC44C094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A58-0FF3-410B-B56D-5A9F678C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723-601D-4B58-97D4-68C5AF10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0CB-239D-4E01-BB4A-D28EB760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AE1-3E7A-43BF-8C8C-532CB30C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EA3-54F0-4A46-BD6F-4041701E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5DCD-6B81-4D58-A153-110B089211E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AEC8-4E62-4DAA-8F5C-D220EEFD7C4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47280" y="836640"/>
            <a:ext cx="72392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cc00"/>
                </a:solidFill>
                <a:latin typeface="Comic Sans MS"/>
              </a:rPr>
              <a:t>KRETANJE I UČENJE</a:t>
            </a:r>
            <a:endParaRPr b="0" lang="en-US" sz="4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omic Sans MS"/>
              </a:rPr>
              <a:t>Dječji vrtić “Gajni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omic Sans MS"/>
              </a:rPr>
              <a:t>Prosinac,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00"/>
                </a:solidFill>
                <a:latin typeface="Comic Sans MS"/>
              </a:rPr>
              <a:t>VID – VIZUALNI SUSTAV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Svjetlo stimulira receptore oka te oni u mozak šalju informacije o vizualnom svije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Na ovaj sustav utječ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okulomotorika;  mišići oka koji nam omogućuju da pogledom pratimo objekt koji se kreć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Vizuomotorička koordinacija;da spretno izvodimo zadatke poput hvatanja lopte, pis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Vizualna percepcija; interpretacija vidnih informacija iz naše oko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SLUH - AUDITIVN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Zvučni valovi podražuju receptore u unutarnjem uhu,koji informacije šalju  u mozak na interpretaci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Omogućuje nam da čujemo, diskriminiramo i lociramo zvuk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To je važno za učenje jezika i komunikaci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Djeca s oštećenjem sluha ili s teškoćama auditivne obrade mogu kasniti u razvoju govora i jezičnih vješ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00"/>
                </a:solidFill>
                <a:latin typeface="Comic Sans MS"/>
              </a:rPr>
              <a:t>SLUH –AUDITIVN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Kod djeteta s problemima auditivne obrade struktura slušnog sustava je uredna, ali dijete ima problema u razlikovanju zvukova, zapamćivanju onoga što je čulo, te u organizaciji auditivnog un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Auditivna preosjetljivost; teško filtrira zvukove iz pozadine – djeluje kao da ima probleme s pažnj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Preosjetljivost na glasne zvukove; pokrivaju uš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Umiruju - spori , ritmički zvuko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Stimuliraju – glasni zvuko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OLFAKTORN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Kemijski receptori smješteni su u strukturama nosa i omogućuju nam da mirišemo i doživljavamo različite mi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Miris učvršćuje pamćenje i pohranjivanje informacija u dugoročnu memori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Može biti vrlo snažan doživljaj , kako ugodan tako i neugo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Može biti štetan i ometati hranjenje i napredovanje djet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Slatki mirisi umiruju: cimet, vanil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Mirisi citrusa ili peperminta djeluju stimulirajuć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00"/>
                </a:solidFill>
                <a:latin typeface="Comic Sans MS"/>
              </a:rPr>
              <a:t>GUSTATIVNI SUSTAV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Kemijski receptori na jeziku, omogućuju razlikovanje okusa; slatko, slano, kiselo,gork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Teksture; meko, tvrdo, hrapavo, ljeplj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Puhanje ili sisanje – unos koji može djelovati vrlo organizirajuće na ž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Bebe: nauče da im sisanje stvara ugodu tako dođu do h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Smiruje: topla, slatka hrana, hrana koju treba dugo žvak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Stimulira: kiselo,slana, hrskava, hla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OKRUŽENJ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osigurati bogato  okruženje koje pruža puno prilike za poticanje svih osjeti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Osjeti su “hrana za mozak”,poput hrane koja jača naše tij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Prilike za kretanje i fizička aktivnost uvjetuju da se mozak razvije i raste i tako stvara kapacitete za cjeloživotno uče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Priroda je stvorila mozak na način da se on sam razvija kroz normalne fizičke aktivnosti ali u interakciji tijela, osjetila i okruže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OKRUŽENJ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Istraživanja: (eksperimenti sa štakorima, vestibularne stimulacije male djece i prematurusa, depresija i proprioceptivna i vestib. stimula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ZAKLJUČA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hr-BA" sz="2800" spc="-1" strike="noStrike">
                <a:solidFill>
                  <a:srgbClr val="ffffff"/>
                </a:solidFill>
                <a:latin typeface="Comic Sans MS"/>
              </a:rPr>
              <a:t>Mišljenje i učenje ne događaju se samo u glavi. Naprotiv, tijelo igra integralnu ulogu u svim intelektualnim procesima, od najranijih trenutaka u maternici pa sve do starosti”. </a:t>
            </a: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hr-BA" sz="2800" spc="-1" strike="noStrike">
                <a:solidFill>
                  <a:srgbClr val="ffffff"/>
                </a:solidFill>
                <a:latin typeface="Comic Sans MS"/>
              </a:rPr>
              <a:t>C. Hannaford,200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ffffff"/>
                </a:solidFill>
                <a:latin typeface="Comic Sans MS"/>
              </a:rPr>
              <a:t>Pokret je prisutan od samog početka života svakog pojedin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ffffff"/>
                </a:solidFill>
                <a:latin typeface="Comic Sans MS"/>
              </a:rPr>
              <a:t>Započinje laganim ljuljanjem embrija kao reakcija na otpor intrauterinog okruž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ffffff"/>
                </a:solidFill>
                <a:latin typeface="Comic Sans MS"/>
              </a:rPr>
              <a:t>Ti rani </a:t>
            </a:r>
            <a:r>
              <a:rPr b="1" lang="hr-BA" sz="2800" spc="-1" strike="noStrike">
                <a:solidFill>
                  <a:srgbClr val="ffffff"/>
                </a:solidFill>
                <a:latin typeface="Comic Sans MS"/>
              </a:rPr>
              <a:t>pokreti</a:t>
            </a:r>
            <a:r>
              <a:rPr b="0" lang="hr-BA" sz="2800" spc="-1" strike="noStrike">
                <a:solidFill>
                  <a:srgbClr val="ffffff"/>
                </a:solidFill>
                <a:latin typeface="Comic Sans MS"/>
              </a:rPr>
              <a:t> prvi su oblici vanjske ekspresije čovjekova iskustva sa svijetom i postaju prvi djetetov jez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Comic Sans MS"/>
              </a:rPr>
              <a:t>KRETANJE I UČENJ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216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KRETANJE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 UČENJ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ffffff"/>
                </a:solidFill>
                <a:latin typeface="Comic Sans MS"/>
              </a:rPr>
              <a:t>Pomažu modelirati mozak i služe kao instrument u formiranju bezbroj veza unutar živčanog sustava u razvoju embrija, fetusa i djeteta u razvoj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ffffff"/>
                </a:solidFill>
                <a:latin typeface="Comic Sans MS"/>
              </a:rPr>
              <a:t>Pri rođenju veze s višim centrima u mozgu su slab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ffffff"/>
                </a:solidFill>
                <a:latin typeface="Comic Sans MS"/>
              </a:rPr>
              <a:t>One izgledaju poput početne skice ili nac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KRETANJE I UČENJ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ffffff"/>
                </a:solidFill>
                <a:latin typeface="Comic Sans MS"/>
              </a:rPr>
              <a:t>Genetski nacrt ili priroda daje okvirni plan, dok prilike iz okoline pružaju mogućnost da se razvije struk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ffffff"/>
                </a:solidFill>
                <a:latin typeface="Comic Sans MS"/>
              </a:rPr>
              <a:t>Učenje je u svom najširem smislu proces u kojem se ta struktura razv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Djeca uče “čineći”, kroz dodir i pokret, a u interakciji tijela, osjetila i obogaćenog okruže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Dijete upoznaje svijet, prima senzorne informacije, pu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pet poznatih osjetila (vid,sluh, dodir,miris,okus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ali i preko  temeljnih  osjetila : vestibularni, proprioceptivni, taktil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192240"/>
            <a:ext cx="457200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VESTIBULARNI SUSTA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Sastavljen je od struktura smještenih u unutarnjem uhu koje detektiraju pokret i promjene položaja gl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Osjetljiv je na gravitaciju i pok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Utječe na tonus mišića , ravnotežu i držanje tij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Daje upute cijelom živčanom sustavu da efikasnije funkcioni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85800" y="311400"/>
            <a:ext cx="7772400" cy="17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r-HR" sz="2800" spc="-1" strike="noStrike">
                <a:solidFill>
                  <a:srgbClr val="ffcc00"/>
                </a:solidFill>
                <a:latin typeface="Comic Sans MS"/>
              </a:rPr>
              <a:t>TEMELJNA (BLIŽA) OSJETILA</a:t>
            </a:r>
            <a:br>
              <a:rPr sz="40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Stimulacija: vrtnja, ljuljanje, penjanje, rolanje,skakanje, vožnja biciklom, pli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Linearni pokreti djeluju umirujuće, a kružni stimulirajuć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Loša obrada : gravitacijska nesigurnost (strah od visine),žudnja za vrtnjom, izbjegavanje sprava, teškoće  mirnog sjede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PROPRIOCEPTIVNI SUSTAV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Receptori:tetivama, zglobovima i mišići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reagiraju na kontrakcije, istezanje i kompresiju u našem tije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informacije mozgu  o pokretima i položaju tijela u prosto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Integracija osjeta - važna za motoričku kontrolu tijela, percepciju tijela i motoričko plan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Stimulacija:”težak rad”: guranje, povlačenje, istezanje, nošenje teških predm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OSJETILO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DODIRA –TAKTILNI SUSTAV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Receptori se nalaze posvuda po koži i sluznic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Informira nas gdje smo dodirnuti i kakvog je to  oblika i teks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Diskriminativni  i zaštitni aspek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omic Sans MS"/>
              </a:rPr>
              <a:t>Važan: privrženost, hranjenje, taktilna ugo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0:29:19Z</dcterms:created>
  <dc:creator>Korisnik</dc:creator>
  <dc:description/>
  <dc:language>en-US</dc:language>
  <cp:lastModifiedBy>Zglavnik</cp:lastModifiedBy>
  <dcterms:modified xsi:type="dcterms:W3CDTF">2010-11-01T09:15:18Z</dcterms:modified>
  <cp:revision>33</cp:revision>
  <dc:subject/>
  <dc:title>KRETANJE I UČENJE</dc:title>
</cp:coreProperties>
</file>