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0032A3-8D40-470F-97F8-46BA256DB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- prisjetiti se važnosti ishoda učenja kod pripremanja nast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- primjeri iz informatike - Informacijska tehnologija  kao nastavna cjelina u predmetu Tehnička k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966-A921-4C8F-8D4D-435FDD1F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AF6-5FC6-4B63-904A-977F91B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388-57AF-4D06-BBB7-88346A56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234-63AB-4D7C-B4E1-538721F1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A48C-7F74-4306-A744-BBE0F515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020D-A97E-4A01-A3D5-48632399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78DE-6631-44E5-884C-61A7D00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B41-1A2B-4327-ADBF-8B0707A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832B-E09E-4572-976E-F6EDC14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C71-3FA3-402B-8CBC-506B9826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C96-F51A-4587-AFA3-2B60A51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A74-6F87-41A1-B3BA-F625706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A8D-3B7C-4A82-AED7-2973841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01C6-D777-4CBC-AE61-F421337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458E-7578-4D2E-9806-13D8DA8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598-C74C-4FBA-B0C0-42B9B41A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20D5-15AD-4E16-BC09-A8F0003E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3FA-002C-461E-93D2-19DAE08B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E04-A73A-4A55-8C74-7139FC8B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BB0-182C-4CD8-995D-B24C58E7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CDE-0C9A-4D78-955F-4E5980B4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B8E-5CFB-42B7-934A-035E02D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1B0-9D2A-44C0-8CF7-1885EE2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4AB-3496-4CE2-9254-18D4C32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6408720"/>
            <a:ext cx="788508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08720"/>
            <a:ext cx="46836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380000" y="6408360"/>
            <a:ext cx="176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55640" y="6406920"/>
            <a:ext cx="43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5280" y="6093000"/>
            <a:ext cx="936720" cy="9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360" y="6381720"/>
            <a:ext cx="358560" cy="358920"/>
          </a:xfrm>
          <a:prstGeom prst="ellipse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1413000"/>
            <a:ext cx="8893080" cy="144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95280" y="1557360"/>
            <a:ext cx="8748720" cy="71280"/>
          </a:xfrm>
          <a:prstGeom prst="rect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597960" y="6393960"/>
            <a:ext cx="5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2FD-C9C5-4F1E-9B91-CE8FC1CD4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08720"/>
            <a:ext cx="46836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6408720"/>
            <a:ext cx="788508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285920" y="6408360"/>
            <a:ext cx="249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24360" y="6381360"/>
            <a:ext cx="439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093000"/>
            <a:ext cx="936720" cy="9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596000" y="6408360"/>
            <a:ext cx="143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9152-758A-4900-BCE5-697510AE0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1150920"/>
            <a:ext cx="4643280" cy="19044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381720"/>
            <a:ext cx="358560" cy="358920"/>
          </a:xfrm>
          <a:prstGeom prst="ellipse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889440" cy="1085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82072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Osvrt radionicu: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„Definiranje ishoda učenja teme </a:t>
            </a:r>
            <a:r>
              <a:rPr b="0" i="1" lang="hr-HR" sz="4000" spc="-1" strike="noStrike">
                <a:solidFill>
                  <a:srgbClr val="000000"/>
                </a:solidFill>
                <a:latin typeface="Arial"/>
              </a:rPr>
              <a:t>Osnovno oblikovanje tekst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5640" y="5157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tina Holenko Dlab, pr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jel za informatiku Sveučilišta u Rij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: Ishodi učenja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ANALIZA, SINTEZA i EVALUA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ovati oblikovani od neoblikovanog tek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poznati koja su oblikovanja primijenjena u zadanom tek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likovati neoblikovani tekst prema zadanom predloš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binirati alate za oblikovanje teksta pri isticanju dijelova tek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porediti različita oblikovanja zadanog tek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117-6D2F-41CA-A995-EC54227990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 za kraj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praksi treba uvaž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konteks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nastavnici rade u različitom kontekstu i u različitim uvje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učeni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učenici većim ili manjim dijelom slušaju informatiku kao izborni predmet i dolaze s različitim predznanj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E5E-958C-4278-93AE-42CD271B47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06828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vala na suradnj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E6B-15EB-48EF-94E0-8CAB3ECEDB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ilj radio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niti znanja stečena na predavanju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0099ff"/>
                </a:solidFill>
                <a:latin typeface="Arial"/>
              </a:rPr>
              <a:t>“Važnost formuliranja ishoda učenja na primjeru tema iz informatike u nastavi tehničke kulture”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primjeru konkretne t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datak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i opći cilj (svrhu) i ishode učenja za temu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snovno oblikovanje tek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2F1-CF97-440B-9640-E3E22BF491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vrt i dojm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namično i zanimlj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duktiv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utar grupica različiti pristupi formuliranju ciljeva (preciz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aznicima jednostavnije prvo definirati ishode, a tada ih sumirati i definirati svrhu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 li tema bila dobar izb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C11-BA9B-4529-A001-7020056EFF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nkretno definirana svrha (iz perspektive nastavnik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sni, konkretni i mjerljivi ishodi učenja (iz perspektive učenik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303-A213-43A8-947E-24DF2F30E1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: Svrha s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oznati učenike kako pravilno koristiti alate alatne trake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blikov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i oblikovanju teksta u programu MS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kazati na moguću primjenu alata alatne trake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blikov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i oblikovanju tek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posobiti učenike da neoblikovani tekst samostalno urede korištenjem alata s alatne trake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blikov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9E9-4B4B-48BF-A825-6E85FC6B30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: Svrha sata   (v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oznati učenike kako pravilno koristiti alate 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za podebljavanje, podcrtavanje, promjenu boje i veličine slova te poravnanje odloma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i oblikovanju teksta u programu MS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azati na moguću primjenu alata 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za podebljavanje, podcrtavanje, promjenu boje i veličine slova te poravnanje odloma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i oblikovanju tek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posobiti učenike da neoblikovani tekst samostalno urede korištenjem alata 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za podebljavanje, podcrtavanje, promjenu boje i veličine slova te poravnanje odloma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9AE-9D0F-4784-85FF-FD1CE87D7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: Ishodi učenj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ZN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brojati barem tri alata koje koristimo pri oblikovanju tek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poznati alate (dugmad) s alatne trake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blikovanj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navesti njihov naz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2BF-D2F2-4C12-BE17-123C1975F8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: Ishodi učenj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RAZUMIJEV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jasniti funkciju pojedinih alata za oblikovanje tek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vesti barem jedan primjer korištenja pojedinih alata s alatne trake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blikova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E32-23A6-4A01-8FC3-A426445AA8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: Ishodi učenja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PRIMJ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niti alate alatne trake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blikova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ma uputama iz zada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monstrirati primjenu alata ostalim učeni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CFB-D162-45E8-AE28-4E802B7D48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36:48Z</dcterms:created>
  <dc:creator>igor</dc:creator>
  <dc:description/>
  <dc:language>en-US</dc:language>
  <cp:lastModifiedBy>Martina</cp:lastModifiedBy>
  <dcterms:modified xsi:type="dcterms:W3CDTF">2010-04-09T06:26:14Z</dcterms:modified>
  <cp:revision>194</cp:revision>
  <dc:subject/>
  <dc:title>Moja prva SOI prezentacija</dc:title>
</cp:coreProperties>
</file>