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399-A035-4E49-B70B-B90F5A52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D2D-28BD-4152-9EC6-DEFF912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21B-B26D-4C73-B0D2-D759B52B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30C-1A6A-4486-8864-E45682B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F410-03B2-41BA-8D1D-B85E5AA0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A64-05C7-4C2C-907E-2672EF6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5C1-BC42-43A3-BB9E-0BAD4DF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2D7-3D79-4A20-A118-0F19F441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FA8-F7B1-4DDC-84A6-7203F89F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1FA3-A6C4-43C8-9210-7E561269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2E5-2459-4BFE-AE74-9866F1E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CEF-3546-4F2D-9215-6C74015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9BD-7D5E-43A6-B010-946CBF1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DE2B-9EC4-4827-91B2-C7ECA7A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BB2-7F6E-4196-B859-8571786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CCF-1FAC-4340-9F86-4D9BE70B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4093-4D88-4CB2-9C1B-E4F70CC7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D453-A260-4505-BBE6-F9F3F707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DFD4-7E04-4320-85D6-072F7DD3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AECB-F550-48D7-87A2-1E1751D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81DE-C26C-4295-9FE5-01E3B94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3EBE-A529-4DE0-8932-31F1AD32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BAB-C6E3-41E2-A61B-FB80CD15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0A16-A97F-42F5-AB5F-85C055C5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D34C-36DE-4DB0-BCDE-470B27A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7B99-3AA6-438E-ACC7-DB464C8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9C79-CD42-4D46-BD0D-0DD2E884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286D-D04B-49C0-B21A-2A349F3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C264-AE9A-4FFF-8855-D4442D7C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EA06-8908-4D09-93DF-C69974EE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5CE-2FF4-466C-9E4B-918AF62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B35-899F-42F0-AF1A-CD8B503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DCB-F167-4E97-A876-30CA600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704-8F56-4A45-B876-004F344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3CC-59D6-4BD9-8B9E-53B9AEF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FC7-1679-4C2C-A21D-92DCE74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6A6-88F5-4974-BBD7-2447BFBE17C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DCC7-A042-4383-A370-28A8F2BBAF5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843-B553-4184-A9C3-F3990E11F0A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95280" y="3068640"/>
            <a:ext cx="6769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ŽIVOTNO OKRUŽJE ČOVJE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 ZADAĆA TEH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5. raz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. Ivano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ilj (svrha) tem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oznati učenike s pojmom toplinske energij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stama goriva i uvjetima izgaranja zbo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oznavanja različitih vrsta goriva te zašt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 poža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brazovn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ir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jam toplinske energije gor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pozn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 imenovati vrste gor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es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ri uvjeta izgaranja gor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zvrst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riva po agregatnom stan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asn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plinsku vrijednost gor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lasificir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riva po toplinskoj vrije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kcional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pozn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zličite vrste gor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zračun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plinsku vrijed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zves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tupak gašenja požara uklanjanjem jednog od elemenata potrebnog za gore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 u="sng">
                <a:solidFill>
                  <a:srgbClr val="000000"/>
                </a:solidFill>
                <a:uFillTx/>
                <a:latin typeface="Arial"/>
              </a:rPr>
              <a:t>Odgoj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Razvijat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pozitivan odnos prema energ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Razvijat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svijest o opasnostima goriva koja nas okružu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oticat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ekološku osviješćenost i odgovornost prema priro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IČKO OBLIKOVAN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700280"/>
          <a:ext cx="8229600" cy="4664160"/>
        </p:xfrm>
        <a:graphic>
          <a:graphicData uri="http://schemas.openxmlformats.org/drawingml/2006/table">
            <a:tbl>
              <a:tblPr/>
              <a:tblGrid>
                <a:gridCol w="2076480"/>
                <a:gridCol w="61531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ČKO OBLIK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d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iskus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rimjeri iz svakodnevnog živ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edišnj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meno izlaganje novog gradiva i definiranje pojm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azgov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monstracija poku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ispitivanje uvjeta gor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ni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ješavanje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taka iz radne biljež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vrš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 provedenog ispitivanja i ocjenji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đenje zaključ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ebna nastavna sredstva i pomag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čunalo i projek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rema za vježb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ute za izvođenje vjež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m na temu zaštite od poža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valuaci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ednovati učenike s obzirom na njihovu aktivnost i zalaganje na sa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ednovati realizaciju vježbe i pristup izvođenju vjež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6300720" y="3340080"/>
            <a:ext cx="246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IZVODNJA I SVOJSTVA MET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7. raz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. Stup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ilj (svrha) tem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jecanje znanja o načinima proizvod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ličitih vrsta metala i upoznavanje s njihov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ojstv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brazovn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ir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jam metala i leg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es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meljna svojstva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is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roces proizvodnje željeza u visokim peć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zlikov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vojstva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broj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snovna svojstva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ilj (svrha) tem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oznati učenike s prirodnim i društvenim okružjem čovjeka i primarnom zadaćom tehnike u svrhu poticanja i razvoja svijesti o potrebi, važnosti i svrhovitosti tehnike u suvremenom načinu življenja.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74872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kcional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sposob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čenike kako bi uspješno izveli vježbu ispitivanja mehaničkih svojstava metala, te izrade grafikona rezultata mjer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n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kov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atima za provjeru mehaničkih svojstava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oč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zlike u svojstvima pojedinih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pozn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zličite vrste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is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jedina svojstva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dgoj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aknu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vijest o očuvanju okoliš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aknu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omuniciranje u grupi i surađi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zvij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vijest o reciklaži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aknu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h na korištenje mjera zaštita na r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zvij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kološki način razmišljanja i osvijestiti ih o pravilnom odlaganju otp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IČKO OBLIKOVANJE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844640"/>
          <a:ext cx="8229600" cy="4032360"/>
        </p:xfrm>
        <a:graphic>
          <a:graphicData uri="http://schemas.openxmlformats.org/drawingml/2006/table">
            <a:tbl>
              <a:tblPr/>
              <a:tblGrid>
                <a:gridCol w="2076480"/>
                <a:gridCol w="61531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ČKO OBLIK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d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usmeno izlaga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zgov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edišnj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gov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demonstracij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pitivanja svojstva met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grupni rad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spitivanje svojstva met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vrš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individualni 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rovjera rezultata vjež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ebna nastavna sredstva i pomag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zorci met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rtača ig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očka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čeki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kr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mbinirana kliješ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ida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valuaci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ednovanje učenika na osnovu izvršenih laboratorijskih ispitivanja (vježbi) i zalaganja tijekom izvođ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graditi najuspješnije učen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6300720" y="3340080"/>
            <a:ext cx="246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ENERATOR IZMJENIČNE STRUJE I ELEKTROMO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8. raz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. Malini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ilj (svrha) tem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poznati učenike s načinom rada generato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mjenične struje i elektromotora zbo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gućnosti prepoznavanja i korištenja t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vorevina u svakodnevnom životu (prek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zličitih električnih uređaja u učenikov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kružju)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Obrazov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efinira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pojam generator izmjenične struje i elektromo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broji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osnovne dijelove generatora izmjenične struje i elektromot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bjasni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način rada generatora izmjenične struje i elektromot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ves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osnovne značajke pojedinih vrsta elektromot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ves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razliku između generatora izmjenične struje i elektromot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broja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područja primjene generatora izmjenične struje i elektromotor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 u="sng">
                <a:solidFill>
                  <a:srgbClr val="000000"/>
                </a:solidFill>
                <a:uFillTx/>
                <a:latin typeface="Arial"/>
              </a:rPr>
              <a:t>Funkcional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repozna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dijelove generatora izmjenične struje i elektromo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astavi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model elektromotora od dijelova iz konstruktorske kut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zvrši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priključivanje modela na izvor napona i provjeriti funkcionalnos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st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 u="sng">
                <a:solidFill>
                  <a:srgbClr val="000000"/>
                </a:solidFill>
                <a:uFillTx/>
                <a:latin typeface="Arial"/>
              </a:rPr>
              <a:t>Odgoj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azvija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od učenika potrebu za štednjom energije iz ekonomskih i ekoloških razlo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avilno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rganizira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adno mj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vjeri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učenike u svrhovitost generatora izmjenične struje i elektromoto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brazov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broj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životna okružja čovje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asn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kaz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logu čovjeka u životnom okruž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ir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jam tehnička tvorev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isa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ačin održavanja tehničke tvorev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asni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logu čovjeka u tehničkom okružju te njegov utjecaj na promjene u okol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IČKO OBLIKOVAN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68360" y="1700280"/>
          <a:ext cx="8229600" cy="4411440"/>
        </p:xfrm>
        <a:graphic>
          <a:graphicData uri="http://schemas.openxmlformats.org/drawingml/2006/table">
            <a:tbl>
              <a:tblPr/>
              <a:tblGrid>
                <a:gridCol w="2076480"/>
                <a:gridCol w="61531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ČKO OBLIK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d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zgovor o novoj t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edišnj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meno izlaganje novog gradiva uz razgov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demonstracij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čina rad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tora izmjenične stru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školskom mode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stalan praktični rad uče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da modela elektromoto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kusija i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ja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čeničkih radova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vrš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elementima individu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meno izlaganj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zacija sadržaja i zaključivanje 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ebna nastavna sredstva i pomag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čunalo i projek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Alat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baterija sa opružnom spojnicom i vodič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Konstruktorska kutij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model elektromot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valuaci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Uradak modela </a:t>
            </a: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ocjeniti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 prema sljedećim elementi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ispravnost modela elektromoto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- urednost radnog mjes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6372360" y="3340080"/>
            <a:ext cx="246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Hvala na pažnji 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49780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 u="sng">
                <a:solidFill>
                  <a:srgbClr val="000000"/>
                </a:solidFill>
                <a:uFillTx/>
                <a:latin typeface="Arial"/>
              </a:rPr>
              <a:t>Funkcional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epoznat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različite elemente životnog okruž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Ǿ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HODI UČEN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dgojn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zvijati pozitivan odn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ema elementima životnog okruž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razvijati svijest i potreb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za odgovorno očuvanje prir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IČKO OBLIKOVAN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1700280"/>
          <a:ext cx="8675640" cy="4981680"/>
        </p:xfrm>
        <a:graphic>
          <a:graphicData uri="http://schemas.openxmlformats.org/drawingml/2006/table">
            <a:tbl>
              <a:tblPr/>
              <a:tblGrid>
                <a:gridCol w="2189160"/>
                <a:gridCol w="648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ČKO OBLIK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d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azgovor o novoj t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edišnj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meno izlaganje novog grad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emonstracija primjera održavanja tehničke tvore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ešavanje zada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ostaln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zentacij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eničkih rješ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usija i procjena izlaganja i rješenj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jedine gru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vršni 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frontalni oblik 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tizacija sadržaja i zaključivanje 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rovjeravanje i ocjenjivanje postignuća učenika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ebna nastavna sredstva i pomag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owerPoint prezenta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Elektroničko računalo i LCD projek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Grafoskop i prozir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Radni listi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valuacij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ednovati učenike s obzirom na njihovu aktivnost i zalaganje na sat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j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hv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6300720" y="3340080"/>
            <a:ext cx="2468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OPLINSKA ENERGIJA GOR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6. raz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. Pero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36:46Z</dcterms:created>
  <dc:creator>Mirna</dc:creator>
  <dc:description/>
  <dc:language>en-US</dc:language>
  <cp:lastModifiedBy>MARE</cp:lastModifiedBy>
  <dcterms:modified xsi:type="dcterms:W3CDTF">2010-04-09T06:05:07Z</dcterms:modified>
  <cp:revision>13</cp:revision>
  <dc:subject/>
  <dc:title> </dc:title>
</cp:coreProperties>
</file>