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2FC-CFB0-460A-97AA-2AF82C78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C20-B86D-44D4-9193-2267496E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B62-DF2E-4300-BBB8-A2D61AC6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F68-B17D-4683-A804-62A03A80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6DDA-67B3-4F6B-B15A-A8E6A6C7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C2DA-7FBF-4628-B141-5E656FFE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5A3C-F8F2-4D38-95D0-31C76FE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DBFB-C43B-4FD3-9953-F29194F2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0ED3-CC81-497A-A176-0528993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2258-2392-40DC-8923-C4646AE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F708-7D17-4075-A36C-37BA39A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897-0515-4E50-B2B6-CC8AE0B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D5EC-65B4-4BEE-8BC4-48361F4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FD03-AEBF-444C-8803-A32765AF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71A5-D58D-4E88-AF22-07604839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21F7-DA49-4B3C-910D-8BE73257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A322-D11E-4FC4-AE87-366E8B7E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95D-79EC-41CA-8A60-490A7F59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028-B9EF-4365-8253-B0603B8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062-4544-4CE5-A0A2-35F2A09B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3CC-BC95-4621-935E-E49805F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889-9A2E-406F-9AC3-5704FA5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4EF-50BE-4420-9B9E-DD8D3BAB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F30-B772-4C52-A488-97E4098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7E4-6475-4314-ADF2-A0A4F47BB2FE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0D62-988D-4EF2-8DB9-397F1078E19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Tahoma"/>
              </a:rPr>
              <a:t>Vrednovanje učeničkih postignuća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71720" y="371484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RADIONICA: Sastavljanje i vrednovanje ispita zn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kstniOkvir 5"/>
          <p:cNvSpPr/>
          <p:nvPr/>
        </p:nvSpPr>
        <p:spPr>
          <a:xfrm>
            <a:off x="5577840" y="5143680"/>
            <a:ext cx="3183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Nives Jozić, prof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Viša savjetnica za matematik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Agencija za odgoj i obrazovan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Zadaci za radionicu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533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astaviti ispit znanja za cjelinu: </a:t>
            </a:r>
            <a:r>
              <a:rPr b="1" lang="hr-HR" sz="2800" spc="-1" strike="noStrike">
                <a:solidFill>
                  <a:srgbClr val="00004d"/>
                </a:solidFill>
                <a:latin typeface="Tahoma"/>
              </a:rPr>
              <a:t>Linea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4d"/>
                </a:solidFill>
                <a:latin typeface="Tahoma"/>
              </a:rPr>
              <a:t>funkcija i njen graf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– za 7. razred (OŠ) i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red (SŠ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efinirati obrazovna postignuć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abrati zadatke različite vr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rediti koje razine znanja pojedini zadatak mj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rediti kriterij bodovanja po zadacima i skalu ocjenjiva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zervirano mjesto broja slajda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BFD-D2B7-4387-AAFD-B4E9C76F98F3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zervirano mjesto podnožja 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Rezultati rada…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zervirano mjesto broja slajda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D0A0-CE35-4D94-99CD-B535945CA9A1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zervirano mjesto podnožja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Rasprava…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liko vremena trebate da bi riješili sastavljeni ispit i može li prosječan učenik riješiti u predviđenom vremenu sve zadatk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ko učenik riješi zadatke koje smatrate da ih svi trebaju riješiti, daju li oni dovoljan broj bodova za prolaznu ocjen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jeri li taj ispit znanja ona učenička postignuća koja bi trebala biti ishod te nastavne cjeli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zervirano mjesto broja slajda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4474-F7BB-4449-B5BD-DFBDD6C918CB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zervirano mjesto podnožja 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0" descr="J0321179"/>
          <p:cNvPicPr/>
          <p:nvPr/>
        </p:nvPicPr>
        <p:blipFill>
          <a:blip r:embed="rId1"/>
          <a:stretch/>
        </p:blipFill>
        <p:spPr>
          <a:xfrm>
            <a:off x="2286000" y="-285840"/>
            <a:ext cx="5065560" cy="7101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2"/>
          <p:cNvSpPr/>
          <p:nvPr/>
        </p:nvSpPr>
        <p:spPr>
          <a:xfrm>
            <a:off x="4284720" y="4221000"/>
            <a:ext cx="86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52720" y="331560"/>
            <a:ext cx="64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708360" y="1413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211640" y="1341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067280" y="2349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292720" y="2205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427640" y="4653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9"/>
          <p:cNvSpPr/>
          <p:nvPr/>
        </p:nvSpPr>
        <p:spPr>
          <a:xfrm rot="3441600">
            <a:off x="3855960" y="-16668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292720" y="393372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5435640" y="2421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572000" y="162864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4645080" y="1125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4356000" y="1125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4356000" y="314172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4643280" y="1916280"/>
            <a:ext cx="64800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4572000" y="3789360"/>
            <a:ext cx="86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3995640" y="2068560"/>
            <a:ext cx="792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5003640" y="3284640"/>
            <a:ext cx="648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4211640" y="3789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932360" y="414972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4284720" y="7002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4859280" y="126828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5003640" y="2421000"/>
            <a:ext cx="648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4211640" y="4508640"/>
            <a:ext cx="64764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4140360" y="270828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3924360" y="1125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4356000" y="170028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4788000" y="4653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5003640" y="3716280"/>
            <a:ext cx="648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5219640" y="170028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3851280" y="62064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4788000" y="1989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3851280" y="162864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5076720" y="4950000"/>
            <a:ext cx="64764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5364000" y="3357720"/>
            <a:ext cx="64800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4643280" y="2924280"/>
            <a:ext cx="648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4716360" y="1413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284720" y="2637000"/>
            <a:ext cx="64764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5003640" y="836640"/>
            <a:ext cx="648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4427640" y="4005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66"/>
                </a:solidFill>
                <a:latin typeface="Tahom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4643280" y="2276640"/>
            <a:ext cx="86544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930920" y="476280"/>
            <a:ext cx="86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5291280" y="3068640"/>
            <a:ext cx="86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4356000" y="357336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3851280" y="76500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af631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4788000" y="515772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5"/>
          <p:cNvSpPr/>
          <p:nvPr/>
        </p:nvSpPr>
        <p:spPr>
          <a:xfrm>
            <a:off x="4427640" y="502128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56"/>
          <p:cNvSpPr/>
          <p:nvPr/>
        </p:nvSpPr>
        <p:spPr>
          <a:xfrm>
            <a:off x="5148360" y="4365720"/>
            <a:ext cx="64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cc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kstniOkvir 53"/>
          <p:cNvSpPr/>
          <p:nvPr/>
        </p:nvSpPr>
        <p:spPr>
          <a:xfrm>
            <a:off x="214200" y="1000080"/>
            <a:ext cx="3286080" cy="545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Poučavanje i vrednovanje provodite tako da vaši učenici budu uspješni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zervirano mjesto broja slajda 5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B0C1-2911-4427-9C0A-A03D49D204FD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zervirano mjesto podnožja 56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Tahoma"/>
              </a:rPr>
              <a:t>1. Metrijske karakteristike pisanih ispita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124000" y="1989000"/>
            <a:ext cx="1656000" cy="165600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TJECAJ 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ASTAV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1763640" y="3789360"/>
            <a:ext cx="1657440" cy="158436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UT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Č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2916360" y="5084640"/>
            <a:ext cx="1657080" cy="158436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AKTIČ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4788000" y="5157720"/>
            <a:ext cx="1657080" cy="158436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RANSP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T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5940360" y="3716280"/>
            <a:ext cx="1657440" cy="158436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JETLJIV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5578560" y="2060640"/>
            <a:ext cx="1657440" cy="158436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UZDA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3851280" y="1555920"/>
            <a:ext cx="1657440" cy="1585800"/>
          </a:xfrm>
          <a:prstGeom prst="ellipse">
            <a:avLst/>
          </a:prstGeom>
          <a:solidFill>
            <a:srgbClr val="d6da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VALJA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3706920" y="3284640"/>
            <a:ext cx="1944720" cy="1871640"/>
          </a:xfrm>
          <a:prstGeom prst="ellipse">
            <a:avLst/>
          </a:prstGeom>
          <a:solidFill>
            <a:srgbClr val="e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BJEKTIV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zervirano mjesto broja slajda 1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E07-FB75-4709-9A9D-90F901B88492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zervirano mjesto podnožja 13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spit treba provjeravati postavljena obrazovna dostignuća (isho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Sadržaj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ispita treba biti ono što se poučaval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rste zadataka trebaju biti poznati učenicima (ono što se na satu vježbal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kolnosti testiranja (prvi ili zadnji sat, prepisivanje …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7380360" y="44280"/>
            <a:ext cx="1727280" cy="1729080"/>
          </a:xfrm>
          <a:prstGeom prst="ellipse">
            <a:avLst/>
          </a:prstGeom>
          <a:solidFill>
            <a:srgbClr val="d6da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VALJA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71640" y="62064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spit je valjan ako mjeri ono za što je namijenj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E1F-201F-4013-B556-BD30C5F5A563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33164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spit treba biti pregledan i čitljiv, sadržajno točan i rješiv u predviđenom vreme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41802"/>
                </a:solidFill>
                <a:latin typeface="Tahoma"/>
              </a:rPr>
              <a:t>Kriterij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vrednovanja i ocjenjivanja trebaju biti dosljedni (isti za različite razrede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41802"/>
                </a:solidFill>
                <a:latin typeface="Tahoma"/>
              </a:rPr>
              <a:t>Uvjet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u kojima se piše trebaju biti primjereni (osvjetljenje, tišina …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čenici trebaju biti </a:t>
            </a:r>
            <a:r>
              <a:rPr b="0" lang="hr-HR" sz="2800" spc="-1" strike="noStrike">
                <a:solidFill>
                  <a:srgbClr val="e41802"/>
                </a:solidFill>
                <a:latin typeface="Tahoma"/>
              </a:rPr>
              <a:t>spremn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za ispit (emocionalno – bez straha, fizički – odmorni, …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7308720" y="0"/>
            <a:ext cx="1800360" cy="1700280"/>
          </a:xfrm>
          <a:prstGeom prst="ellipse">
            <a:avLst/>
          </a:prstGeom>
          <a:solidFill>
            <a:srgbClr val="d6da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OUZDA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971640" y="47628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Verdana"/>
              </a:rPr>
              <a:t>Ispit je pouzdan (dosljedan) ako se uzastopnim mjerenjem dobiju slični rezulta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EB4-4DEA-4924-A60D-1DF6C4EC2190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jetljivost ispita postiže se zadavanjem većeg </a:t>
            </a: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broja zadatak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i različite </a:t>
            </a: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težin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olazi do izražaja u raspršenosti rezult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jetljivost je manja kad se umjesto 1-5 koristi 10-20 bodova po zadatk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7486560" y="0"/>
            <a:ext cx="1657440" cy="1584360"/>
          </a:xfrm>
          <a:prstGeom prst="ellipse">
            <a:avLst/>
          </a:prstGeom>
          <a:solidFill>
            <a:srgbClr val="d6da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JETLJIV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971640" y="47628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spit je osjetljiv ako se mogu mjeriti male razlike u razini znanja među učenic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C4E1-2395-4AEF-BC7D-C8EFB82C4B5D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ka se ne smije ispitivati na prepad (najaviti isp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k treba </a:t>
            </a: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unaprijed znati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što će biti u ispitu, oblik zadataka, kriteriji bodovanja i ocjenjiva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k na vrijeme treba imati analizu svoga r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7378560" y="44280"/>
            <a:ext cx="1657440" cy="1657440"/>
          </a:xfrm>
          <a:prstGeom prst="ellipse">
            <a:avLst/>
          </a:prstGeom>
          <a:solidFill>
            <a:srgbClr val="d6da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TRANSP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T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900000" y="54936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spit je transparentan ako učenik unaprijed zna sve uvjete testir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05B-B8C2-4211-A70D-D05EF8A42D66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spit se treba izraditi, provesti i ocijeniti unutar predviđenog vrem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 ispit trebaju biti </a:t>
            </a:r>
            <a:r>
              <a:rPr b="0" lang="hr-HR" sz="2800" spc="-1" strike="noStrike">
                <a:solidFill>
                  <a:srgbClr val="e41802"/>
                </a:solidFill>
                <a:latin typeface="Tahoma"/>
              </a:rPr>
              <a:t>dostupni svi potrebni resurs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(izvor podataka, papir, kopirni uređaj, mjesto za čuvanje…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čenici brzo trebaju dobiti povratnu informaciju rezultata i njihovo značenj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spit je praktičan (i ekonomičan) ako se može opet upotrijebi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7451640" y="115920"/>
            <a:ext cx="1657440" cy="1584360"/>
          </a:xfrm>
          <a:prstGeom prst="ellipse">
            <a:avLst/>
          </a:prstGeom>
          <a:solidFill>
            <a:srgbClr val="d6da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AKTIČ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971640" y="33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spit je praktičan ako se sve radnje vezane za njega mogu kvalitetno odraditi u određenom vreme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5A7D-279F-4043-ADEB-F7FB37F49ED4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Nastavni proces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264312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4d"/>
                </a:solidFill>
                <a:latin typeface="Tahoma"/>
              </a:rPr>
              <a:t>1. CILJ poučavanja?  - Obrazovna postignuća učenika </a:t>
            </a:r>
            <a:r>
              <a:rPr b="0" lang="hr-HR" sz="20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trebaju biti jasno definirana (nacionalni –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NOK srpanj 2010.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, predmetni i školski kurikulu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857160" y="3786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4d"/>
                </a:solidFill>
                <a:latin typeface="Tahoma"/>
              </a:rPr>
              <a:t>2. KAKO poučavamo?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Načini, stilovi i sam proces poučavanja trebaju biti u cilju postizanja postavljenih obrazovnih postignuć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814320" y="4786200"/>
            <a:ext cx="797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4d"/>
                </a:solidFill>
                <a:latin typeface="Tahoma"/>
              </a:rPr>
              <a:t>3. KOLIKO znaju? - Vrednovanje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proces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praćenja, provjeravanja i ocjenjivanja razine obrazovnih postignuća učenika (znanje, vještine i navike). Vrednovanjem se dobiva povratna informacija i o primjerenosti nastavnih metoda i stilova poučavanja u svrhu postizanja obrazovnih postignuć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zervirano mjesto broja slajda 1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89C9-B614-4A7F-A904-43395C249540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zervirano mjesto podnožja 16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ravokutnik 7"/>
          <p:cNvSpPr/>
          <p:nvPr/>
        </p:nvSpPr>
        <p:spPr>
          <a:xfrm>
            <a:off x="928800" y="19288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 nastavnom procesu trebamo dobro znati odgovoriti na sljedeća pitanj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0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k treba znati </a:t>
            </a: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zašto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određene sadržaje uči i gdje ih može primijeniti – veća motivaci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adržaj pitanja treba smjestiti u </a:t>
            </a: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realnu (životnu) situaciju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– kad god je moguć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7486560" y="0"/>
            <a:ext cx="1657440" cy="1584360"/>
          </a:xfrm>
          <a:prstGeom prst="ellipse">
            <a:avLst/>
          </a:prstGeom>
          <a:solidFill>
            <a:srgbClr val="d6da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UT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ČN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116000" y="62064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spit je autentičan ako su sadržaji smješteni u realnu situaci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4288-B0E3-4DCA-99F4-DCAFDE4D4718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 rot="16200000">
            <a:off x="6087960" y="3568320"/>
            <a:ext cx="51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Verdana"/>
              </a:rPr>
              <a:t>U praksi nije u potpunosti ispunj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0200" y="333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spit ima utjecaja na nastavu ako se rezultati ispita odraze na daljnje učenje i poučavanje.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41802"/>
                </a:solidFill>
                <a:latin typeface="Tahoma"/>
              </a:rPr>
              <a:t>Analiza ispit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(kvantitativna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valitativna) treba dati povratn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 kojoj mjeri su učenici uspješno riješili test (mjeri karakteristike testa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Što učenici znaju, a što ne zna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ji sadržaji su bolje savladani, a koji lošij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7488360" y="0"/>
            <a:ext cx="1655640" cy="1655640"/>
          </a:xfrm>
          <a:prstGeom prst="ellipse">
            <a:avLst/>
          </a:prstGeom>
          <a:solidFill>
            <a:srgbClr val="d6da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TJECAJ 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ASTAV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zervirano mjesto broja slajda 7"/>
          <p:cNvSpPr/>
          <p:nvPr/>
        </p:nvSpPr>
        <p:spPr>
          <a:xfrm>
            <a:off x="6572160" y="6215040"/>
            <a:ext cx="160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88B-21F0-4CB5-8A6D-DB907D974530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kstniOkvir 9"/>
          <p:cNvSpPr/>
          <p:nvPr/>
        </p:nvSpPr>
        <p:spPr>
          <a:xfrm>
            <a:off x="6572160" y="6357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ovrat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0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SASTAVI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- Zadaci trebaju biti jasni, nedvosmisleni, gramatički i pravopisno ispravni, međusobno neovis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ODABRA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- Zadaci trebaju biti primjerene težine (ne oni koje svi mogu riješiti ili nitk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POSLOŽI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- Zadaci trebaju biti složeni od jednostavnijih prema složenij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IZRADI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- Zadaci trebaju biti pregledno i sadržajno točno napisani uz dovoljno mjesta za rješavanj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VREDNOVA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– Definirati kriterij bodovanja i ocjenjivanja te potrebno vrijeme za rješav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Odabir zadatak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5" name="Rezervirano mjesto broja slajd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136E-AC1D-4DD6-9127-62D668245150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zervirano mjesto podnožja 6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kstniOkvir 7"/>
          <p:cNvSpPr/>
          <p:nvPr/>
        </p:nvSpPr>
        <p:spPr>
          <a:xfrm>
            <a:off x="6786720" y="6488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ovrata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Tahoma"/>
              </a:rPr>
              <a:t>Vrste zadataka u nastavi matematike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9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Zadaci sređivanja, određivanja i izračunavanja … (ustaljeno)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Rješavanje problema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daci tipa esej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seminarski i maturalni radov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e41802"/>
                </a:solidFill>
                <a:latin typeface="Tahoma"/>
              </a:rPr>
              <a:t>Zadaci objektivnog tipa</a:t>
            </a: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točan odgovor je jednoznačno određen i mogu se objektivno vrednovati)</a:t>
            </a:r>
            <a:r>
              <a:rPr b="0" lang="hr-HR" sz="23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hr-HR" sz="2300" spc="-1" strike="noStrike">
                <a:solidFill>
                  <a:srgbClr val="e41802"/>
                </a:solidFill>
                <a:latin typeface="Tahoma"/>
              </a:rPr>
              <a:t>nisu zastupljeni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714840" y="4622760"/>
            <a:ext cx="41432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višestruki izb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povezivanj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alternativni t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dopunjavanj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dosjećanje, kratki odgovo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zervirano mjesto broja slajda 10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AB8-3806-4787-A301-F4F7F47A5A9A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zervirano mjesto podnožja 1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Zadaci višestrukog izbor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446120" y="5772240"/>
            <a:ext cx="66978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stupljeni na Nacionalnim ispiti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 Državnoj matur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57200" y="35719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Pred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 Potpuno objektiv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lako se vrednu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83160" y="3556080"/>
            <a:ext cx="3346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Nedosta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 nije ih lako sastav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 zauzimaju dosta mj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1"/>
          <a:srcRect l="0" t="5034" r="0" b="0"/>
          <a:stretch/>
        </p:blipFill>
        <p:spPr>
          <a:xfrm>
            <a:off x="2928960" y="1857240"/>
            <a:ext cx="1266840" cy="12574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7"/>
          <p:cNvSpPr/>
          <p:nvPr/>
        </p:nvSpPr>
        <p:spPr>
          <a:xfrm>
            <a:off x="1285920" y="1862280"/>
            <a:ext cx="20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Odredi vrijednost duljine </a:t>
            </a:r>
            <a:r>
              <a:rPr b="1" lang="hr-H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x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sa slik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0" y="1860840"/>
            <a:ext cx="43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Odgov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A. 2     B. -2     C. 8     D. 2 i -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2116080" y="2066760"/>
            <a:ext cx="6956280" cy="3647880"/>
            <a:chOff x="2116080" y="2066760"/>
            <a:chExt cx="6956280" cy="3647880"/>
          </a:xfrm>
        </p:grpSpPr>
        <p:pic>
          <p:nvPicPr>
            <p:cNvPr id="311" name="Picture 4" descr=""/>
            <p:cNvPicPr/>
            <p:nvPr/>
          </p:nvPicPr>
          <p:blipFill>
            <a:blip r:embed="rId2"/>
            <a:stretch/>
          </p:blipFill>
          <p:spPr>
            <a:xfrm>
              <a:off x="2116080" y="2079360"/>
              <a:ext cx="514512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7" descr=""/>
            <p:cNvPicPr/>
            <p:nvPr/>
          </p:nvPicPr>
          <p:blipFill>
            <a:blip r:embed="rId3"/>
            <a:stretch/>
          </p:blipFill>
          <p:spPr>
            <a:xfrm>
              <a:off x="7261200" y="2066760"/>
              <a:ext cx="1811160" cy="36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Rezervirano mjesto broja slajda 1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1DC6-E8FF-4D14-84A8-FE155687AA41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zervirano mjesto podnožja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Neka pravila (višestruki izbor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Samo jedan od ponuđenih odgovora točan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Mijenjati položaj točnog odgovora tako da se točan odgovor ne nalazi uvijek na istom mjestu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Pogrešni odgovori moraju imati smisla za one učenike koji nisu dovoljno savladali gradivo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ahoma"/>
              </a:rPr>
              <a:t>U sastavljanju pogrešnih odgovora koristiti tipične učeničke pogreške (umjereno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zervirano mjesto broja slajd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C80B-A987-4A50-A4DC-B4ABF452B368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zervirano mjesto podnožja 6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Zadaci povezivanj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1116000" y="1883160"/>
            <a:ext cx="7777080" cy="1618560"/>
            <a:chOff x="1116000" y="1883160"/>
            <a:chExt cx="7777080" cy="1618560"/>
          </a:xfrm>
        </p:grpSpPr>
        <p:sp>
          <p:nvSpPr>
            <p:cNvPr id="321" name="Rectangle 4"/>
            <p:cNvSpPr/>
            <p:nvPr/>
          </p:nvSpPr>
          <p:spPr>
            <a:xfrm>
              <a:off x="1116000" y="1883160"/>
              <a:ext cx="7777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 Unicode MS"/>
                  <a:ea typeface="Times New Roman"/>
                </a:rPr>
                <a:t>Uz svaku jednadžbu pravca s desne strane napiši slovo koje odgovara funkciji s lijeve strane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 Unicode MS"/>
                </a:rPr>
                <a:t>a) Konstantna funkcij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 Unicode MS"/>
                </a:rPr>
                <a:t>b) Padajuća funkcij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 Unicode MS"/>
                </a:rPr>
                <a:t>c) Rastuća funkcij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2" name="Group 5"/>
            <p:cNvGrpSpPr/>
            <p:nvPr/>
          </p:nvGrpSpPr>
          <p:grpSpPr>
            <a:xfrm>
              <a:off x="6012000" y="2413800"/>
              <a:ext cx="2143080" cy="904680"/>
              <a:chOff x="6012000" y="2413800"/>
              <a:chExt cx="2143080" cy="904680"/>
            </a:xfrm>
          </p:grpSpPr>
          <p:grpSp>
            <p:nvGrpSpPr>
              <p:cNvPr id="323" name="Group 6"/>
              <p:cNvGrpSpPr/>
              <p:nvPr/>
            </p:nvGrpSpPr>
            <p:grpSpPr>
              <a:xfrm>
                <a:off x="6877080" y="2413800"/>
                <a:ext cx="1278000" cy="904680"/>
                <a:chOff x="6877080" y="2413800"/>
                <a:chExt cx="1278000" cy="904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24" name="Object 7"/>
                    <p:cNvSpPr txBox="1"/>
                    <p:nvPr/>
                  </p:nvSpPr>
                  <p:spPr>
                    <a:xfrm>
                      <a:off x="6896160" y="3052080"/>
                      <a:ext cx="1131840" cy="266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25" name="Object 8"/>
                    <p:cNvSpPr txBox="1"/>
                    <p:nvPr/>
                  </p:nvSpPr>
                  <p:spPr>
                    <a:xfrm>
                      <a:off x="6948360" y="2413800"/>
                      <a:ext cx="1206720" cy="282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26" name="Object 9"/>
                    <p:cNvSpPr txBox="1"/>
                    <p:nvPr/>
                  </p:nvSpPr>
                  <p:spPr>
                    <a:xfrm>
                      <a:off x="6877080" y="2769840"/>
                      <a:ext cx="934920" cy="279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27" name="Line 10"/>
              <p:cNvSpPr/>
              <p:nvPr/>
            </p:nvSpPr>
            <p:spPr>
              <a:xfrm>
                <a:off x="6013440" y="2634120"/>
                <a:ext cx="863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Line 11"/>
              <p:cNvSpPr/>
              <p:nvPr/>
            </p:nvSpPr>
            <p:spPr>
              <a:xfrm>
                <a:off x="6013440" y="2939040"/>
                <a:ext cx="863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Line 12"/>
              <p:cNvSpPr/>
              <p:nvPr/>
            </p:nvSpPr>
            <p:spPr>
              <a:xfrm>
                <a:off x="6012000" y="3244320"/>
                <a:ext cx="863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30" name="Text Box 13"/>
          <p:cNvSpPr/>
          <p:nvPr/>
        </p:nvSpPr>
        <p:spPr>
          <a:xfrm>
            <a:off x="1403280" y="3716280"/>
            <a:ext cx="2668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Pred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kladni za provjeravanje činjeničnog znanja i uzročno-posljedičnih ve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356000" y="3789360"/>
            <a:ext cx="3502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Nedosta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potpuni odgovori otežavaju vrednov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uzimaju dosta mj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zervirano mjesto broja slajda 1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35E-394C-40DD-B83E-834E6B756753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zervirano mjesto podnožja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Alternativni zadaci – Da/Ne pitalic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30200" y="3776760"/>
            <a:ext cx="324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Pred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Lako se vrednu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kladni za provjeru razumijevanja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856040" y="3706920"/>
            <a:ext cx="378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Nedosta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je ih lako kvalitetno sastav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elika vjerojatnost pogađanja -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19"/>
          <p:cNvGrpSpPr/>
          <p:nvPr/>
        </p:nvGrpSpPr>
        <p:grpSpPr>
          <a:xfrm>
            <a:off x="1042920" y="2062800"/>
            <a:ext cx="6050160" cy="947160"/>
            <a:chOff x="1042920" y="2062800"/>
            <a:chExt cx="6050160" cy="947160"/>
          </a:xfrm>
        </p:grpSpPr>
        <p:sp>
          <p:nvSpPr>
            <p:cNvPr id="338" name="Rectangle 7"/>
            <p:cNvSpPr/>
            <p:nvPr/>
          </p:nvSpPr>
          <p:spPr>
            <a:xfrm>
              <a:off x="1042920" y="2062800"/>
              <a:ext cx="468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99"/>
                  </a:solidFill>
                  <a:latin typeface="Tahoma"/>
                  <a:ea typeface="Times New Roman"/>
                </a:rPr>
                <a:t>Za svaki realan broj </a:t>
              </a:r>
              <a:r>
                <a:rPr b="1" lang="hr-HR" sz="2800" spc="-1" strike="noStrike">
                  <a:solidFill>
                    <a:srgbClr val="000099"/>
                  </a:solidFill>
                  <a:latin typeface="Tahoma"/>
                  <a:ea typeface="Times New Roman"/>
                </a:rPr>
                <a:t>x</a:t>
              </a:r>
              <a:r>
                <a:rPr b="0" lang="hr-HR" sz="2800" spc="-1" strike="noStrike">
                  <a:solidFill>
                    <a:srgbClr val="000099"/>
                  </a:solidFill>
                  <a:latin typeface="Tahoma"/>
                  <a:ea typeface="Times New Roman"/>
                </a:rPr>
                <a:t> vrijedi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339" name="Object 6"/>
            <p:cNvGraphicFramePr/>
            <p:nvPr/>
          </p:nvGraphicFramePr>
          <p:xfrm>
            <a:off x="5651640" y="2144880"/>
            <a:ext cx="1441440" cy="69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51640" y="2144880"/>
                      <a:ext cx="144144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1" name="Text Box 20"/>
          <p:cNvSpPr/>
          <p:nvPr/>
        </p:nvSpPr>
        <p:spPr>
          <a:xfrm>
            <a:off x="7345440" y="22622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DA  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zervirano mjesto broja slajda 10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0B88-08F4-4A59-BA05-9E11C98607F7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zervirano mjesto podnožja 1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Zadaci dopunjavanj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187280" y="3716280"/>
            <a:ext cx="302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Pred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Lako se sastavlja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ma pogađanja odgovora (ili zna ili ne zn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072040" y="3714840"/>
            <a:ext cx="3571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41802"/>
                </a:solidFill>
                <a:latin typeface="Tahoma"/>
              </a:rPr>
              <a:t>Nedosta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ekad je vrednovanje otež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vjeravaju samo činjenična zn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Group 5"/>
          <p:cNvGrpSpPr/>
          <p:nvPr/>
        </p:nvGrpSpPr>
        <p:grpSpPr>
          <a:xfrm>
            <a:off x="1116000" y="1917720"/>
            <a:ext cx="7777080" cy="1008720"/>
            <a:chOff x="1116000" y="1917720"/>
            <a:chExt cx="7777080" cy="1008720"/>
          </a:xfrm>
        </p:grpSpPr>
        <p:sp>
          <p:nvSpPr>
            <p:cNvPr id="348" name="Text Box 6"/>
            <p:cNvSpPr/>
            <p:nvPr/>
          </p:nvSpPr>
          <p:spPr>
            <a:xfrm>
              <a:off x="1116000" y="1917720"/>
              <a:ext cx="777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99"/>
                  </a:solidFill>
                  <a:latin typeface="Arial Unicode MS"/>
                </a:rPr>
                <a:t>Dopuni rečenicu: Funkcija definirana pravilom                             zove se ____________ funkcija, a brojevi </a:t>
              </a:r>
              <a:r>
                <a:rPr b="0" i="1" lang="hr-HR" sz="2000" spc="-1" strike="noStrike">
                  <a:solidFill>
                    <a:srgbClr val="000099"/>
                  </a:solidFill>
                  <a:latin typeface="Arial Unicode MS"/>
                </a:rPr>
                <a:t>a</a:t>
              </a:r>
              <a:r>
                <a:rPr b="0" lang="hr-HR" sz="2000" spc="-1" strike="noStrike">
                  <a:solidFill>
                    <a:srgbClr val="000099"/>
                  </a:solidFill>
                  <a:latin typeface="Arial Unicode MS"/>
                </a:rPr>
                <a:t> i </a:t>
              </a:r>
              <a:r>
                <a:rPr b="0" i="1" lang="hr-HR" sz="2000" spc="-1" strike="noStrike">
                  <a:solidFill>
                    <a:srgbClr val="000099"/>
                  </a:solidFill>
                  <a:latin typeface="Arial Unicode MS"/>
                </a:rPr>
                <a:t>b</a:t>
              </a:r>
              <a:r>
                <a:rPr b="0" lang="hr-HR" sz="2000" spc="-1" strike="noStrike">
                  <a:solidFill>
                    <a:srgbClr val="000099"/>
                  </a:solidFill>
                  <a:latin typeface="Arial Unicode MS"/>
                </a:rPr>
                <a:t> su ________________ funkcije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349" name="Object 7"/>
            <p:cNvGraphicFramePr/>
            <p:nvPr/>
          </p:nvGraphicFramePr>
          <p:xfrm>
            <a:off x="6394320" y="1990800"/>
            <a:ext cx="2138400" cy="34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0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94320" y="1990800"/>
                      <a:ext cx="213840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Rezervirano mjesto broja slajda 1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756-E668-4337-9CF7-DAFD767BE5E3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zervirano mjesto podnožja 16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688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Tahoma"/>
              </a:rPr>
              <a:t>Zadaci dosjećanja </a:t>
            </a:r>
            <a:br>
              <a:rPr sz="4000"/>
            </a:br>
            <a:r>
              <a:rPr b="1" lang="hr-HR" sz="4000" spc="-1" strike="noStrike">
                <a:solidFill>
                  <a:srgbClr val="000099"/>
                </a:solidFill>
                <a:latin typeface="Tahoma"/>
              </a:rPr>
              <a:t>/ kratkih odgovora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28800" y="1994040"/>
            <a:ext cx="32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 Unicode MS"/>
              </a:rPr>
              <a:t>Napiši formulu za izračunavanje površine romba.     _________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000080" y="3940200"/>
            <a:ext cx="335772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41802"/>
                </a:solidFill>
                <a:latin typeface="Tahoma"/>
              </a:rPr>
              <a:t>Prednost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ikladni za provjeravanje ne samo činjeničnog znanja već i razumijevanja pojmova te pri interpretaciji grafičkih prikaz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0" y="4071960"/>
            <a:ext cx="4214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41802"/>
                </a:solidFill>
                <a:latin typeface="Tahoma"/>
              </a:rPr>
              <a:t>Nedostac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isu uvijek prikladni za vrednovanje (polovični odgovori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ije ih lako osmisliti za provjeru više razine znanj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7" name="Group 7"/>
          <p:cNvGrpSpPr/>
          <p:nvPr/>
        </p:nvGrpSpPr>
        <p:grpSpPr>
          <a:xfrm>
            <a:off x="142560" y="2071800"/>
            <a:ext cx="606240" cy="637920"/>
            <a:chOff x="142560" y="2071800"/>
            <a:chExt cx="606240" cy="637920"/>
          </a:xfrm>
        </p:grpSpPr>
        <p:grpSp>
          <p:nvGrpSpPr>
            <p:cNvPr id="358" name="Group 8"/>
            <p:cNvGrpSpPr/>
            <p:nvPr/>
          </p:nvGrpSpPr>
          <p:grpSpPr>
            <a:xfrm>
              <a:off x="142560" y="2071800"/>
              <a:ext cx="572040" cy="349920"/>
              <a:chOff x="142560" y="2071800"/>
              <a:chExt cx="572040" cy="349920"/>
            </a:xfrm>
          </p:grpSpPr>
          <p:sp>
            <p:nvSpPr>
              <p:cNvPr id="359" name="AutoShape 9"/>
              <p:cNvSpPr/>
              <p:nvPr/>
            </p:nvSpPr>
            <p:spPr>
              <a:xfrm flipH="1">
                <a:off x="142200" y="2071800"/>
                <a:ext cx="572040" cy="342360"/>
              </a:xfrm>
              <a:prstGeom prst="parallelogram">
                <a:avLst>
                  <a:gd name="adj" fmla="val 417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572040" y="207936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1" name="Text Box 11"/>
            <p:cNvSpPr/>
            <p:nvPr/>
          </p:nvSpPr>
          <p:spPr>
            <a:xfrm>
              <a:off x="303120" y="2366640"/>
              <a:ext cx="388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Text Box 12"/>
            <p:cNvSpPr/>
            <p:nvPr/>
          </p:nvSpPr>
          <p:spPr>
            <a:xfrm>
              <a:off x="360000" y="2081160"/>
              <a:ext cx="388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3" name="Text Box 3"/>
          <p:cNvSpPr/>
          <p:nvPr/>
        </p:nvSpPr>
        <p:spPr>
          <a:xfrm>
            <a:off x="4429080" y="1857240"/>
            <a:ext cx="3959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 Unicode MS"/>
              </a:rPr>
              <a:t>Za funkciju prikazanu na slici napišit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 Unicode MS"/>
              </a:rPr>
              <a:t>intervale rasta __________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 Unicode MS"/>
              </a:rPr>
              <a:t>Intervale pada 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 Unicode MS"/>
              </a:rPr>
              <a:t>Nultočke 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1"/>
          <a:stretch/>
        </p:blipFill>
        <p:spPr>
          <a:xfrm>
            <a:off x="5996160" y="142920"/>
            <a:ext cx="3147840" cy="1639800"/>
          </a:xfrm>
          <a:prstGeom prst="rect">
            <a:avLst/>
          </a:prstGeom>
          <a:ln w="0">
            <a:noFill/>
          </a:ln>
        </p:spPr>
      </p:pic>
      <p:sp>
        <p:nvSpPr>
          <p:cNvPr id="365" name="Rezervirano mjesto broja slajda 1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5A5D-E9DD-41FE-BFF0-159DF40FF1A7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zervirano mjesto podnožja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kstniOkvir 16"/>
          <p:cNvSpPr/>
          <p:nvPr/>
        </p:nvSpPr>
        <p:spPr>
          <a:xfrm>
            <a:off x="7072200" y="65008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ovrat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Vrednovanj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umativno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nacionalni ispiti, državna matura, PISA, TIMSS …) – vanjsko vrednov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ativno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školsko) – kontinuirano praćenje razvoja i napretka učenika u procesu učenja te oblikovanje metoda i oblika poučavanja u skladu s rezultatima vrednovan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zervirano mjesto broja slajda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8955-5213-4C03-B266-77A06B0D31BA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zervirano mjesto podnožja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115560"/>
            <a:ext cx="7313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BLOOMOVA taksonomij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24000" y="1033560"/>
          <a:ext cx="8820000" cy="5710320"/>
        </p:xfrm>
        <a:graphic>
          <a:graphicData uri="http://schemas.openxmlformats.org/drawingml/2006/table">
            <a:tbl>
              <a:tblPr/>
              <a:tblGrid>
                <a:gridCol w="2176200"/>
                <a:gridCol w="3652920"/>
                <a:gridCol w="2990880"/>
              </a:tblGrid>
              <a:tr h="444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ognitivni procesi učen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Z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JEVI UČEN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ČEKIVANI ISHOD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Učenik će moći…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 u="sng">
                          <a:solidFill>
                            <a:srgbClr val="e41802"/>
                          </a:solidFill>
                          <a:uFillTx/>
                          <a:latin typeface="Tahoma"/>
                        </a:rPr>
                        <a:t>ZNANJ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JETITI 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ktografska raz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oznati i reproducirati naučeno u izvornom obliku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amćenje formul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oznati, označiti, imenovati, nabrojiti, definirati, opisati, ponoviti, poredati, izračun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1" lang="hr-HR" sz="17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1" lang="hr-HR" sz="1700" spc="-1" strike="noStrike" u="sng">
                          <a:solidFill>
                            <a:srgbClr val="e41802"/>
                          </a:solidFill>
                          <a:uFillTx/>
                          <a:latin typeface="Tahoma"/>
                        </a:rPr>
                        <a:t>RAZUMIJEVANJ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VATI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olativna razin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vatiti značenje i povezati s ranije naučenim sadržajim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očiti i povezati glavne idej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isati tijek proces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ažimanje pročitanog, objašnjavanje vlastitim riječima.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asificirati, izdvojiti, sažeti, preoblikovati, izraziti, objasniti, usporediti, preves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 u="sng">
                          <a:solidFill>
                            <a:srgbClr val="e41802"/>
                          </a:solidFill>
                          <a:uFillTx/>
                          <a:latin typeface="Tahoma"/>
                        </a:rPr>
                        <a:t>PRIMJ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JENI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ješavati probleme u novoj situaciji primjenom stečenog znanja i pravil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upotreba apstraktnog u konkretnim slučajevim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jeniti, izabrati, pokazati, upotrijebiti, izvesti, riješiti, isplanirati, prikazati, izračunati, ilustri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zervirano mjesto broja slajda 30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467-CD2E-4C59-8972-18665D0D611D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zervirano mjesto podnožja 3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79280" y="549360"/>
          <a:ext cx="8820360" cy="6221160"/>
        </p:xfrm>
        <a:graphic>
          <a:graphicData uri="http://schemas.openxmlformats.org/drawingml/2006/table">
            <a:tbl>
              <a:tblPr/>
              <a:tblGrid>
                <a:gridCol w="2367000"/>
                <a:gridCol w="2949480"/>
                <a:gridCol w="350388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Z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JEVI UČEN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ČEKIVANI ISHOD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učenik će moć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e41802"/>
                          </a:solidFill>
                          <a:latin typeface="Tahoma"/>
                        </a:rPr>
                        <a:t>ANALIZ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IZI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ščlaniti informaciju (cjelinu) radi utvrđivanja uzroka i posljedica, izvođenja dokaza i zaključak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ščlaniti, procijeniti, usporediti, razlikovati, komentirati, zaključiti, proračunati, provjeriti, preispit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e41802"/>
                          </a:solidFill>
                          <a:latin typeface="Tahoma"/>
                        </a:rPr>
                        <a:t>SINTEZ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USUSTAVLJIVANJ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VA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varati nove ideje, rješenja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stavljivati bitno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očavati nove obrasc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eralizirat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urediti, sintetizirati, stvoriti, predložiti, planirati, organizirati, razviti, formulirati, kritizirati, stupnjevati, protumači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hr-HR" sz="1700" spc="-1" strike="noStrike">
                          <a:solidFill>
                            <a:srgbClr val="e41802"/>
                          </a:solidFill>
                          <a:latin typeface="Tahoma"/>
                        </a:rPr>
                        <a:t>(PR)OCJENA</a:t>
                      </a:r>
                      <a:r>
                        <a:rPr b="0" lang="hr-HR" sz="1700" spc="-1" strike="noStrike">
                          <a:solidFill>
                            <a:srgbClr val="e41802"/>
                          </a:solidFill>
                          <a:latin typeface="Tahom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I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jena vrijednos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jala, ideja ili spozna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rednovati i kritički tumačiti činjenic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ijeniti valjanost ideja i dobivenih rezult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ijeniti, zastupati mišljenje, izabrati opciju, poduprijeti, vrednovati, obraniti stav, uopćiti, dizajnirati, grupirati, zbroji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Rezervirano mjesto broja slajda 2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3701-09A7-49C4-ABE1-530AECFBA364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zervirano mjesto podnožja 30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Razine znanja za </a:t>
            </a: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formule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 – primjer 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8360" y="907920"/>
          <a:ext cx="8496360" cy="5691240"/>
        </p:xfrm>
        <a:graphic>
          <a:graphicData uri="http://schemas.openxmlformats.org/drawingml/2006/table">
            <a:tbl>
              <a:tblPr/>
              <a:tblGrid>
                <a:gridCol w="2084400"/>
                <a:gridCol w="2936880"/>
                <a:gridCol w="347508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Činjenično znanj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nati osnovne formul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azumijevanj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ulu iskazati svojim riječim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Primje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zračunati mjeru nečega po formul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Anali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matički problem dan riječima razumjeti, postaviti plan rješavanja i riješiti g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Sint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diniti znanja iz različitih područja pri rješavanju (praktičnog) problema. Generalizacij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Procje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naći više načina rješavanja istog problema te odrediti najefikasniji. Rasprav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7" name="Picture 34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1285920" cy="381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5" descr=""/>
          <p:cNvPicPr/>
          <p:nvPr/>
        </p:nvPicPr>
        <p:blipFill>
          <a:blip r:embed="rId2"/>
          <a:stretch/>
        </p:blipFill>
        <p:spPr>
          <a:xfrm>
            <a:off x="5745240" y="1557360"/>
            <a:ext cx="2930400" cy="1081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6" descr=""/>
          <p:cNvPicPr/>
          <p:nvPr/>
        </p:nvPicPr>
        <p:blipFill>
          <a:blip r:embed="rId3"/>
          <a:stretch/>
        </p:blipFill>
        <p:spPr>
          <a:xfrm>
            <a:off x="5753160" y="2736720"/>
            <a:ext cx="3097080" cy="587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7" descr=""/>
          <p:cNvPicPr/>
          <p:nvPr/>
        </p:nvPicPr>
        <p:blipFill>
          <a:blip r:embed="rId4"/>
          <a:stretch/>
        </p:blipFill>
        <p:spPr>
          <a:xfrm>
            <a:off x="5765760" y="3429000"/>
            <a:ext cx="2881440" cy="9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8" descr=""/>
          <p:cNvPicPr/>
          <p:nvPr/>
        </p:nvPicPr>
        <p:blipFill>
          <a:blip r:embed="rId5"/>
          <a:stretch/>
        </p:blipFill>
        <p:spPr>
          <a:xfrm>
            <a:off x="5753160" y="4869000"/>
            <a:ext cx="3024000" cy="28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9" descr=""/>
          <p:cNvPicPr/>
          <p:nvPr/>
        </p:nvPicPr>
        <p:blipFill>
          <a:blip r:embed="rId6"/>
          <a:stretch/>
        </p:blipFill>
        <p:spPr>
          <a:xfrm>
            <a:off x="5796000" y="5880240"/>
            <a:ext cx="1800360" cy="357120"/>
          </a:xfrm>
          <a:prstGeom prst="rect">
            <a:avLst/>
          </a:prstGeom>
          <a:ln w="0">
            <a:noFill/>
          </a:ln>
        </p:spPr>
      </p:pic>
      <p:sp>
        <p:nvSpPr>
          <p:cNvPr id="383" name="Rezervirano mjesto broja slajda 4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41AE-93FD-437B-B057-F7D5F9C709BF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zervirano mjesto podnožja 4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Razine znanja za </a:t>
            </a:r>
            <a:r>
              <a:rPr b="1" lang="hr-HR" sz="3200" spc="-1" strike="noStrike">
                <a:solidFill>
                  <a:srgbClr val="ff0000"/>
                </a:solidFill>
                <a:latin typeface="Tahoma"/>
              </a:rPr>
              <a:t>funkcij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95280" y="620640"/>
          <a:ext cx="8569440" cy="6291360"/>
        </p:xfrm>
        <a:graphic>
          <a:graphicData uri="http://schemas.openxmlformats.org/drawingml/2006/table">
            <a:tbl>
              <a:tblPr/>
              <a:tblGrid>
                <a:gridCol w="1530360"/>
                <a:gridCol w="3533760"/>
                <a:gridCol w="3505320"/>
              </a:tblGrid>
              <a:tr h="9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Činjenično znanj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nati što je funkcija, domena, kodomena, pravilo, svojstva funkcij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azumijevanj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retacija grafova funkcija, klasifikacij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Primje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ređivanje parametara i crtanje grafova funkcij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Anali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izirati kako parametri (vodeći koeficijent, rješenja kvadratne jednadžbe …) utječu na graf funkcij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Sint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diniti znanja iz različitih područja pri rješavanju (praktičnog) problema. Generalizacij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Procje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naći više načina rješavanja istog problema te odrediti najefikasniji. Rasprav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7" name="Picture 34" descr=""/>
          <p:cNvPicPr/>
          <p:nvPr/>
        </p:nvPicPr>
        <p:blipFill>
          <a:blip r:embed="rId1"/>
          <a:stretch/>
        </p:blipFill>
        <p:spPr>
          <a:xfrm>
            <a:off x="5796000" y="784080"/>
            <a:ext cx="2808360" cy="516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" descr=""/>
          <p:cNvPicPr/>
          <p:nvPr/>
        </p:nvPicPr>
        <p:blipFill>
          <a:blip r:embed="rId2"/>
          <a:stretch/>
        </p:blipFill>
        <p:spPr>
          <a:xfrm>
            <a:off x="5753160" y="1617840"/>
            <a:ext cx="2808360" cy="1454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6" descr=""/>
          <p:cNvPicPr/>
          <p:nvPr/>
        </p:nvPicPr>
        <p:blipFill>
          <a:blip r:embed="rId3"/>
          <a:stretch/>
        </p:blipFill>
        <p:spPr>
          <a:xfrm>
            <a:off x="5724360" y="3143160"/>
            <a:ext cx="3240360" cy="558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7" descr=""/>
          <p:cNvPicPr/>
          <p:nvPr/>
        </p:nvPicPr>
        <p:blipFill>
          <a:blip r:embed="rId4"/>
          <a:stretch/>
        </p:blipFill>
        <p:spPr>
          <a:xfrm>
            <a:off x="5724360" y="3989520"/>
            <a:ext cx="2808360" cy="796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8" descr=""/>
          <p:cNvPicPr/>
          <p:nvPr/>
        </p:nvPicPr>
        <p:blipFill>
          <a:blip r:embed="rId5"/>
          <a:stretch/>
        </p:blipFill>
        <p:spPr>
          <a:xfrm>
            <a:off x="5724360" y="5137200"/>
            <a:ext cx="2951280" cy="720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9" descr=""/>
          <p:cNvPicPr/>
          <p:nvPr/>
        </p:nvPicPr>
        <p:blipFill>
          <a:blip r:embed="rId6"/>
          <a:stretch/>
        </p:blipFill>
        <p:spPr>
          <a:xfrm>
            <a:off x="5715000" y="6159600"/>
            <a:ext cx="3168720" cy="627120"/>
          </a:xfrm>
          <a:prstGeom prst="rect">
            <a:avLst/>
          </a:prstGeom>
          <a:ln w="0">
            <a:noFill/>
          </a:ln>
        </p:spPr>
      </p:pic>
      <p:sp>
        <p:nvSpPr>
          <p:cNvPr id="393" name="Rezervirano mjesto broja slajda 4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589C-58A3-4EBC-A572-02145AB5E0EC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zervirano mjesto podnožja 4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kstniOkvir 11"/>
          <p:cNvSpPr/>
          <p:nvPr/>
        </p:nvSpPr>
        <p:spPr>
          <a:xfrm>
            <a:off x="7000920" y="214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ovrata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Ispitni postupci </a:t>
            </a:r>
            <a:r>
              <a:rPr b="1" lang="hr-HR" sz="2000" spc="-1" strike="noStrike">
                <a:solidFill>
                  <a:srgbClr val="000099"/>
                </a:solidFill>
                <a:latin typeface="Tahoma"/>
              </a:rPr>
              <a:t>u nastavi matematike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smeno provjeravanj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isano provjeravanj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vjeravanje izrade domaćih zadać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aćenje rada na s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71680" y="4714920"/>
            <a:ext cx="230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mbiniranje što više načina i metoda ispiti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3059280" y="5375160"/>
            <a:ext cx="358560" cy="358920"/>
            <a:chOff x="3059280" y="5375160"/>
            <a:chExt cx="358560" cy="358920"/>
          </a:xfrm>
        </p:grpSpPr>
        <p:sp>
          <p:nvSpPr>
            <p:cNvPr id="127" name="Line 5"/>
            <p:cNvSpPr/>
            <p:nvPr/>
          </p:nvSpPr>
          <p:spPr>
            <a:xfrm>
              <a:off x="3238560" y="5375160"/>
              <a:ext cx="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3059280" y="5565600"/>
              <a:ext cx="358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3564000" y="5338800"/>
            <a:ext cx="2160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ntinuira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732720" y="5275440"/>
            <a:ext cx="216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Tahoma"/>
              </a:rPr>
              <a:t>Objektiv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428840" y="2657520"/>
            <a:ext cx="4032000" cy="48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Group 19"/>
          <p:cNvGrpSpPr/>
          <p:nvPr/>
        </p:nvGrpSpPr>
        <p:grpSpPr>
          <a:xfrm>
            <a:off x="5940360" y="5249880"/>
            <a:ext cx="719280" cy="576000"/>
            <a:chOff x="5940360" y="5249880"/>
            <a:chExt cx="719280" cy="576000"/>
          </a:xfrm>
        </p:grpSpPr>
        <p:grpSp>
          <p:nvGrpSpPr>
            <p:cNvPr id="133" name="Group 12"/>
            <p:cNvGrpSpPr/>
            <p:nvPr/>
          </p:nvGrpSpPr>
          <p:grpSpPr>
            <a:xfrm>
              <a:off x="5940360" y="5445000"/>
              <a:ext cx="503280" cy="216000"/>
              <a:chOff x="5940360" y="5445000"/>
              <a:chExt cx="503280" cy="216000"/>
            </a:xfrm>
          </p:grpSpPr>
          <p:sp>
            <p:nvSpPr>
              <p:cNvPr id="134" name="Line 10"/>
              <p:cNvSpPr/>
              <p:nvPr/>
            </p:nvSpPr>
            <p:spPr>
              <a:xfrm>
                <a:off x="5940360" y="5445000"/>
                <a:ext cx="503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Line 11"/>
              <p:cNvSpPr/>
              <p:nvPr/>
            </p:nvSpPr>
            <p:spPr>
              <a:xfrm>
                <a:off x="5940360" y="5661000"/>
                <a:ext cx="503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6" name="Group 18"/>
            <p:cNvGrpSpPr/>
            <p:nvPr/>
          </p:nvGrpSpPr>
          <p:grpSpPr>
            <a:xfrm>
              <a:off x="6372360" y="5249880"/>
              <a:ext cx="287280" cy="576000"/>
              <a:chOff x="6372360" y="5249880"/>
              <a:chExt cx="287280" cy="576000"/>
            </a:xfrm>
          </p:grpSpPr>
          <p:sp>
            <p:nvSpPr>
              <p:cNvPr id="137" name="Line 16"/>
              <p:cNvSpPr/>
              <p:nvPr/>
            </p:nvSpPr>
            <p:spPr>
              <a:xfrm>
                <a:off x="6372360" y="5249880"/>
                <a:ext cx="2872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Line 17"/>
              <p:cNvSpPr/>
              <p:nvPr/>
            </p:nvSpPr>
            <p:spPr>
              <a:xfrm flipH="1">
                <a:off x="6372360" y="5537160"/>
                <a:ext cx="28728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9" name="Rezervirano mjesto broja slajda 1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6EA-FFE6-41FD-8A96-55F5E14A2BA7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zervirano mjesto podnožja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Vrste pisanih provjer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ijagnostički ispit (mjeri predznan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(Polu)godišnji isp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spit znanja (nakon nastavne cjel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išeminutne provjere (obuhvaćaju jednu ili više tem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vizovi znanja (matematičke križaljke, igre asocijacije, bingo …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357200" y="3071880"/>
            <a:ext cx="2303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zervirano mjesto broja slajda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015-3060-408D-A04C-B289AF196BA8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zervirano mjesto podnožja 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Ispit znanja u TRI FAZ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116000" y="1928880"/>
            <a:ext cx="2017800" cy="1860480"/>
          </a:xfrm>
          <a:prstGeom prst="ellipse">
            <a:avLst/>
          </a:prstGeom>
          <a:solidFill>
            <a:srgbClr val="d6da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Usustavljivan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adrža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3276720" y="1928880"/>
            <a:ext cx="2017440" cy="1931760"/>
          </a:xfrm>
          <a:prstGeom prst="ellipse">
            <a:avLst/>
          </a:prstGeom>
          <a:solidFill>
            <a:srgbClr val="e4180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spit znan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5651640" y="1928880"/>
            <a:ext cx="2017440" cy="1860480"/>
          </a:xfrm>
          <a:prstGeom prst="ellipse">
            <a:avLst/>
          </a:prstGeom>
          <a:solidFill>
            <a:srgbClr val="d6da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Analiz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spita znan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211640" y="36450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5003640" y="4149720"/>
            <a:ext cx="2017800" cy="1081080"/>
          </a:xfrm>
          <a:prstGeom prst="ellipse">
            <a:avLst/>
          </a:prstGeom>
          <a:solidFill>
            <a:srgbClr val="f3f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131228"/>
                </a:solidFill>
                <a:latin typeface="Verdana"/>
              </a:rPr>
              <a:t>Ocjenjiva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1835280" y="4149720"/>
            <a:ext cx="1871640" cy="1224000"/>
          </a:xfrm>
          <a:prstGeom prst="ellipse">
            <a:avLst/>
          </a:prstGeom>
          <a:solidFill>
            <a:srgbClr val="e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astavlja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3419640" y="4869000"/>
            <a:ext cx="2017440" cy="1197000"/>
          </a:xfrm>
          <a:prstGeom prst="ellipse">
            <a:avLst/>
          </a:prstGeom>
          <a:solidFill>
            <a:srgbClr val="07c1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Vrednovan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3492000" y="3573360"/>
            <a:ext cx="360360" cy="72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4643280" y="3573360"/>
            <a:ext cx="358920" cy="792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zervirano mjesto broja slajda 1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D580-9C31-4CEA-99F5-892B843AEE68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zervirano mjesto podnožja 1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Prednosti pisanih ispit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11104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većava se objektivnost ispitivanj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vi učenici pišu iste zadatke (tip i sadržaj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vi rade u istim uvjetima i uz jednake u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ezultati postaju usporedivi (isti kriterij vrednovanj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isana dokumentacija omogućuje provje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 se vršiti statistička obrada =&gt; ispitivanje postaje mjer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remenski ekonomič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zervirano mjesto broja slajda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182-4EA3-4117-A257-A60AA5D0D056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zervirano mjesto podnožja 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Nedostaci pisanih ispit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0080" y="1928880"/>
            <a:ext cx="7786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24880" indent="-524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je moguće zadovoljiti sve metrijske karakteristike u jednom ispitu – umanjuje se objektivn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4880" indent="-524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je jednostavno odabrati broj i vrstu zadatka kojima ćemo mjeriti obrazovna postignuća učen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4880" indent="-524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je jednostavno u jednom ispitu znanja mjeriti više (sve) razina zn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4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Rectangle 5"/>
          <p:cNvGrpSpPr/>
          <p:nvPr/>
        </p:nvGrpSpPr>
        <p:grpSpPr>
          <a:xfrm>
            <a:off x="1481040" y="4627440"/>
            <a:ext cx="6888240" cy="1303560"/>
            <a:chOff x="1481040" y="4627440"/>
            <a:chExt cx="6888240" cy="1303560"/>
          </a:xfrm>
        </p:grpSpPr>
        <p:pic>
          <p:nvPicPr>
            <p:cNvPr id="165" name="Rectangle 5" descr=""/>
            <p:cNvPicPr/>
            <p:nvPr/>
          </p:nvPicPr>
          <p:blipFill>
            <a:blip r:embed="rId1"/>
            <a:stretch/>
          </p:blipFill>
          <p:spPr>
            <a:xfrm>
              <a:off x="1481040" y="4627440"/>
              <a:ext cx="688824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500120" y="4643280"/>
              <a:ext cx="6858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4d"/>
                  </a:solidFill>
                  <a:latin typeface="Tahoma"/>
                </a:rPr>
                <a:t>Načinom na koji nastavnik sastavlja ispit znanja pokazuje se koliko mu je stalo do učenika, koliko je stručan u tome i koji mu je cilj takve provjere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Rezervirano mjesto broja slajda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BBF1-A4E8-4E75-AE03-EE654844C711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zervirano mjesto podnožja 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99"/>
                </a:solidFill>
                <a:latin typeface="Tahoma"/>
              </a:rPr>
              <a:t>Sastavljanje ispita znanj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0" name="Picture 7" descr="Knjiga i motika"/>
          <p:cNvPicPr/>
          <p:nvPr/>
        </p:nvPicPr>
        <p:blipFill>
          <a:blip r:embed="rId1"/>
          <a:stretch/>
        </p:blipFill>
        <p:spPr>
          <a:xfrm>
            <a:off x="5429160" y="4213080"/>
            <a:ext cx="3714840" cy="2644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9924200">
            <a:off x="2897640" y="4571640"/>
            <a:ext cx="35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Tahoma"/>
              </a:rPr>
              <a:t>Kompleksan posao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kstniOkvir 6"/>
          <p:cNvSpPr/>
          <p:nvPr/>
        </p:nvSpPr>
        <p:spPr>
          <a:xfrm>
            <a:off x="1071720" y="192888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 sastavljanju bi treba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vojiti dovoljno vremena za oblikovanje i definiranje kriterija vredno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ažavati metodologiju izrade testova koliko je moguć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oditi računa o broju i vrsti zadatak, razinama znanja koje njima mjer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zervirano mjesto broja slajda 7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610-9C57-4736-BA1F-45B87FA41B3D}" type="slidenum">
              <a:rPr b="0" lang="hr-H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zervirano mjesto podnožja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26:34Z</dcterms:created>
  <dc:creator>njozic</dc:creator>
  <dc:description/>
  <dc:language>en-US</dc:language>
  <cp:lastModifiedBy>nn</cp:lastModifiedBy>
  <dcterms:modified xsi:type="dcterms:W3CDTF">2010-09-07T12:42:57Z</dcterms:modified>
  <cp:revision>58</cp:revision>
  <dc:subject/>
  <dc:title>Pisane provjere znanja i teorija kaosa</dc:title>
</cp:coreProperties>
</file>