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9.jpeg" ContentType="image/jpeg"/>
  <Override PartName="/ppt/media/image11.gif" ContentType="image/gif"/>
  <Override PartName="/ppt/media/image10.jpeg" ContentType="image/jpeg"/>
  <Override PartName="/ppt/media/image2.gif" ContentType="image/gif"/>
  <Override PartName="/ppt/media/image5.png" ContentType="image/png"/>
  <Override PartName="/ppt/media/image25.gif" ContentType="image/gif"/>
  <Override PartName="/ppt/media/image6.gif" ContentType="image/gif"/>
  <Override PartName="/ppt/media/image8.gif" ContentType="image/gif"/>
  <Override PartName="/ppt/media/image18.jpeg" ContentType="image/jpeg"/>
  <Override PartName="/ppt/media/image4.jpeg" ContentType="image/jpeg"/>
  <Override PartName="/ppt/media/image22.gif" ContentType="image/gif"/>
  <Override PartName="/ppt/media/image23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.jpeg" ContentType="image/jpeg"/>
  <Override PartName="/ppt/media/image17.jpeg" ContentType="image/jpeg"/>
  <Override PartName="/ppt/media/image14.jpeg" ContentType="image/jpeg"/>
  <Override PartName="/ppt/media/image24.jpeg" ContentType="image/jpeg"/>
  <Override PartName="/ppt/media/image3.jpeg" ContentType="image/jpeg"/>
  <Override PartName="/ppt/media/image20.png" ContentType="image/png"/>
  <Override PartName="/ppt/media/image15.gif" ContentType="image/gif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977AFE-A90F-4403-B80C-971FF61A0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2325E9-9003-480E-9B61-ED9B49278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6D6F91-DDCB-4B3A-8B31-141B836A8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4C1D47-38AF-4587-9D8C-8CDC92912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2315E-DAD1-4AD4-89CC-FDE7EA7D7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8D365-1EDC-4BFD-A5ED-3FEA1D727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DF741-51EC-48AA-8B91-64DB9FF0C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3D6F6-5C1B-4ED8-8E84-D76755BE4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3294D-29E6-4C53-B244-D6371F63D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AFD33-53E4-4958-B775-8F21A3741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C7FFF-D0F0-4699-9C12-E0AC8C386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E2E7C4-5A77-4093-B436-5093A86CB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0D4DE-355F-4D1E-BE0E-65361044D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F53D1-68D1-4B02-AA4C-3D31246C1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45CA3-389D-486D-8C0F-6EC8DA3CE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69F57-C0DF-4B9D-A349-936524477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91736-2E5D-4806-96B9-C88D08493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AD275F-7DE3-40EE-BAD7-91461CC27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8EEB0D-3F95-4A4A-B1C0-6B9C9D186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4B6D3D-F4FB-42C0-91CF-695F27AA8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7C5141-10BA-429B-972D-42705C4AC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5E732C-AFC7-4DD7-8969-F61ABC9E9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849723-D43B-4091-9311-C16117D52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E30E9E-5BCB-443D-9C4F-C3A21A784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559CB-6D68-4763-B15D-FB78F3ECEBE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8A422-AEB8-4E22-A613-7A98B3632E0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file:///EVIDENCIJA.doc" TargetMode="External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nn.hr/" TargetMode="External"/><Relationship Id="rId2" Type="http://schemas.openxmlformats.org/officeDocument/2006/relationships/hyperlink" Target="http://www.azoo.hr/" TargetMode="External"/><Relationship Id="rId3" Type="http://schemas.openxmlformats.org/officeDocument/2006/relationships/hyperlink" Target="http://www.azoo.hr/" TargetMode="External"/><Relationship Id="rId4" Type="http://schemas.openxmlformats.org/officeDocument/2006/relationships/hyperlink" Target="http://www.azoo.hr/" TargetMode="External"/><Relationship Id="rId5" Type="http://schemas.openxmlformats.org/officeDocument/2006/relationships/hyperlink" Target="http://www.mzos.hr/" TargetMode="External"/><Relationship Id="rId6" Type="http://schemas.openxmlformats.org/officeDocument/2006/relationships/hyperlink" Target="http://www.mzos.hr/" TargetMode="External"/><Relationship Id="rId7" Type="http://schemas.openxmlformats.org/officeDocument/2006/relationships/hyperlink" Target="http://www.mzos.hr/" TargetMode="External"/><Relationship Id="rId8" Type="http://schemas.openxmlformats.org/officeDocument/2006/relationships/hyperlink" Target="file:///Literatura.doc" TargetMode="External"/><Relationship Id="rId9" Type="http://schemas.openxmlformats.org/officeDocument/2006/relationships/image" Target="../media/image1.jpeg"/><Relationship Id="rId10" Type="http://schemas.openxmlformats.org/officeDocument/2006/relationships/image" Target="../media/image2.gif"/><Relationship Id="rId1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hyperlink" Target="http://www.google.hr/imgres?imgurl=http://www.ver.hr/casopisi/2007_01/nastavak/pahuljica.jpg&amp;imgrefurl=http://www.ver.hr/01_2007_oazaduha.htm&amp;usg=__XdOxsUCtkFcsZ91jp0GIpGQFwLU=&amp;h=261&amp;w=305&amp;sz=60&amp;hl=hr&amp;start=3&amp;itbs=1&amp;tbnid=39MFA4racg0jBM:&amp;tbnh=99&amp;tbnw=116&amp;prev=/images%3Fq%3Dpahuljice%26hl%3Dhr%26gbv%3D2%26tbs%3Disch:1" TargetMode="External"/><Relationship Id="rId3" Type="http://schemas.openxmlformats.org/officeDocument/2006/relationships/image" Target="../media/image14.jpeg"/><Relationship Id="rId4" Type="http://schemas.openxmlformats.org/officeDocument/2006/relationships/image" Target="../media/image14.jpeg"/><Relationship Id="rId5" Type="http://schemas.openxmlformats.org/officeDocument/2006/relationships/image" Target="../media/image15.gif"/><Relationship Id="rId6" Type="http://schemas.openxmlformats.org/officeDocument/2006/relationships/image" Target="../media/image15.gif"/><Relationship Id="rId7" Type="http://schemas.openxmlformats.org/officeDocument/2006/relationships/image" Target="../media/image15.gif"/><Relationship Id="rId8" Type="http://schemas.openxmlformats.org/officeDocument/2006/relationships/image" Target="../media/image15.gif"/><Relationship Id="rId9" Type="http://schemas.openxmlformats.org/officeDocument/2006/relationships/image" Target="../media/image15.gif"/><Relationship Id="rId10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47280" y="188640"/>
            <a:ext cx="7372440" cy="31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7d"/>
                </a:solidFill>
                <a:latin typeface="Arial"/>
              </a:rPr>
              <a:t>OD DIPLOME DO PRVE LICENCIJE</a:t>
            </a:r>
            <a:br>
              <a:rPr sz="4600"/>
            </a:br>
            <a:r>
              <a:rPr b="0" lang="en-US" sz="4600" spc="-1" strike="noStrike">
                <a:solidFill>
                  <a:srgbClr val="00007d"/>
                </a:solidFill>
                <a:latin typeface="Arial"/>
              </a:rPr>
              <a:t>-vodi</a:t>
            </a: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č kroz pripravnički staž i polaganje stručnog ispita-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539640" y="4221000"/>
            <a:ext cx="83534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7d"/>
                </a:solidFill>
                <a:latin typeface="Arial"/>
              </a:rPr>
              <a:t>Svjetlana Komić, profesor men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00007d"/>
                </a:solidFill>
                <a:latin typeface="Arial"/>
              </a:rPr>
              <a:t>Osnovna škola Split 3, Spl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7d"/>
                </a:solidFill>
                <a:latin typeface="Arial"/>
              </a:rPr>
              <a:t>Stručni skup za pripravnike i njihove ment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7d"/>
                </a:solidFill>
                <a:latin typeface="Arial"/>
              </a:rPr>
              <a:t>Split, rujan 201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68360" y="54936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ERATIVNI PROGRAM STAŽIRAN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95280" y="227628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ovjerenstv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za stažiranje izrađuje </a:t>
            </a:r>
            <a:r>
              <a:rPr b="1" lang="en-US" sz="2800" spc="-1" strike="noStrike">
                <a:solidFill>
                  <a:srgbClr val="00007d"/>
                </a:solidFill>
                <a:latin typeface="Arial"/>
              </a:rPr>
              <a:t>operativni program stažiranja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a svakog pojedinog pripravnika i odgovorno je za njegovo provođenje i eventualne prilagodbe tijekom cijele godine stažiran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 stažiranja se sastoji od </a:t>
            </a:r>
            <a:r>
              <a:rPr b="1" lang="en-US" sz="2800" spc="-1" strike="noStrike">
                <a:solidFill>
                  <a:srgbClr val="00007d"/>
                </a:solidFill>
                <a:latin typeface="Arial"/>
              </a:rPr>
              <a:t>općeg</a:t>
            </a: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1" lang="en-US" sz="2800" spc="-1" strike="noStrike">
                <a:solidFill>
                  <a:srgbClr val="00007d"/>
                </a:solidFill>
                <a:latin typeface="Arial"/>
              </a:rPr>
              <a:t>metodičko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jel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8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ĆI D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7928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tav Republike Hrvatske, zakoni, pravilnici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dležne instituci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jelatnost i ustroj odgojno-obrazovne ustan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ća deklaracija o ljudskim prav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onvencija o pravima djete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lovi razrednika i suradnja s roditelj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omunikacija s učenicima i ostalim sudionicima odgojno-obrazovnog proce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dagoška dokumentaci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Školske obveze i prava učitel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187280" y="620640"/>
            <a:ext cx="1047960" cy="79056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7812000" y="907920"/>
            <a:ext cx="1131840" cy="15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TODIČKI D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95280" y="1557360"/>
            <a:ext cx="82296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iranje i programiranje odgojno-obrazovnih sadržaja nastave matemati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ziranje, pripremanje i izvođenje nasta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aćenje, vrednovanje i ocjenjivanje postignuća učenika u nastavi matemati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kcionalno upotrebljavanje suvremenih nastavnih sredstava i pomagala, udžbeničke i stručne literature te drugih izvora znan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čno usavršavan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tematička natjecan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8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VEZE ŠK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95280" y="1773000"/>
            <a:ext cx="8229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enuje povjerenstvo za stažiran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javljuje stažiranje u roku od 30 dana od početka rada pripravnika (tiskanica SI-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igurava izradu plana i programa stažiranja i dostavlja ga AZOO-u, uz prijav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igurava pružanje stalne stručno-pedagoške i metodičke pomoći pripravnik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igurava praćenje i vrednovanje pripravnika u  ostvarivanju programa stažiran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javljuje pripravnika za polaganje stručnog ispita (tiskanica SI-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VEZE POVJERENSTV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8229600" cy="45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Izrađuje operativni program stažiran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Rade u punom sastav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Pružaju stalnu stručno-pedagošku i metodičku pomo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Obvezno nazočiti najmanje </a:t>
            </a:r>
            <a:r>
              <a:rPr b="0" lang="hr-HR" sz="2800" spc="-1" strike="noStrike" u="sng">
                <a:solidFill>
                  <a:srgbClr val="000000"/>
                </a:solidFill>
                <a:uFillTx/>
                <a:latin typeface="Arial"/>
              </a:rPr>
              <a:t>dva puta po dva sata 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na redovnoj nastavi ili ostalim oblicima odgojno-obrazovnog rada pripravni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Prilaže </a:t>
            </a:r>
            <a:r>
              <a:rPr b="0" lang="hr-HR" sz="2800" spc="-1" strike="noStrike" u="sng">
                <a:solidFill>
                  <a:srgbClr val="000000"/>
                </a:solidFill>
                <a:uFillTx/>
                <a:latin typeface="Arial"/>
              </a:rPr>
              <a:t>izvješće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(SI-2) o ostvarivanju Programa (evidenciju o ostvarivanju programa vodi svaki član povjerenstv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VEZE MENTO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Stalna suradnja s pripravnik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 u="sng">
                <a:solidFill>
                  <a:srgbClr val="000000"/>
                </a:solidFill>
                <a:uFillTx/>
                <a:latin typeface="Arial"/>
              </a:rPr>
              <a:t>Obvezan nazočiti na nastavnim satima pripravnika 10 sat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Vodi evidenciju o praćenj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Prilaže </a:t>
            </a:r>
            <a:r>
              <a:rPr b="0" lang="hr-HR" sz="32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EVIDENCIJU 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o ostvarivanju metodičkog dijela Progra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VEZE PRIPRAVNIK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68360" y="2923920"/>
            <a:ext cx="822960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Vodi dnevnik stažiran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 u="sng">
                <a:solidFill>
                  <a:srgbClr val="000000"/>
                </a:solidFill>
                <a:uFillTx/>
                <a:latin typeface="Arial"/>
              </a:rPr>
              <a:t>Obvezan nazočiti na 30 nastavnih sati mento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U suradnji s mentorom ovladava umijećem poučavan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Priprema se za polaganje stručnog ispi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Book-09-june.gif (13537 bytes)"/>
          <p:cNvPicPr/>
          <p:nvPr/>
        </p:nvPicPr>
        <p:blipFill>
          <a:blip r:embed="rId1"/>
          <a:stretch/>
        </p:blipFill>
        <p:spPr>
          <a:xfrm>
            <a:off x="6300720" y="1660680"/>
            <a:ext cx="2087640" cy="15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ČIMBENICI USPJEŠNOG STAŽIRANJ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Osobine pripravnika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iranost za svoj pozi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esionalna znatiželja i spremnost za učen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jesnost i odgovornost u rad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odonosna suradnja i povjerenje u mento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vorena komunikaci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voren i prijemčiv za nove načine učenja i isprobavanje novih idej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na prihvatiti povratne informacije i usvojiti i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želi naučeno primijeniti na posl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ČIMBENICI USPJEŠNOG STAŽIRANJ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94920" y="1844280"/>
            <a:ext cx="84358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Osobine mentora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remnost i sposobnost da podijeli svoja znanja i iskustva s pripravnik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jalne i komunikacijske vješt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valitetno i stručno snalaženje mentora u ulozi instruktora, savjetnika, promatrača, ocjenjivača</a:t>
            </a: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zumijevanje i uvažavan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uštenost i otvore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nošenje  svojih uspješnih, ali isto tako i svojih neuspješnih iskusta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tavljanje jasno definiranih ciljeva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ČIMBENICI USPJEŠNOG STAŽIRANJ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bra međusobna suradnja pripravnika i mentora,konzultativno-savjetodavni rad stručnih suradnika i ravnatelja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2411280" y="3629160"/>
            <a:ext cx="3673440" cy="246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ZVORI INFORMIRAN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Narodne novine: </a:t>
            </a:r>
            <a:r>
              <a:rPr b="0" lang="hr-HR" sz="28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www.nn.hr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Agencija za odgoj i obrazovanje: </a:t>
            </a:r>
            <a:r>
              <a:rPr b="0" lang="hr-HR" sz="28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www.</a:t>
            </a:r>
            <a:r>
              <a:rPr b="0" lang="hr-HR" sz="28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azoo</a:t>
            </a:r>
            <a:r>
              <a:rPr b="0" lang="hr-HR" sz="28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.hr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Ministarstvo znanosti, obrazovanja i športa: </a:t>
            </a:r>
            <a:r>
              <a:rPr b="0" lang="hr-HR" sz="28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www.</a:t>
            </a:r>
            <a:r>
              <a:rPr b="0" lang="hr-HR" sz="2800" spc="-1" strike="noStrike" u="sng">
                <a:solidFill>
                  <a:srgbClr val="666699"/>
                </a:solidFill>
                <a:uFillTx/>
                <a:latin typeface="Arial"/>
                <a:hlinkClick r:id="rId6"/>
              </a:rPr>
              <a:t>mzos</a:t>
            </a:r>
            <a:r>
              <a:rPr b="0" lang="hr-HR" sz="2800" spc="-1" strike="noStrike" u="sng">
                <a:solidFill>
                  <a:srgbClr val="666699"/>
                </a:solidFill>
                <a:uFillTx/>
                <a:latin typeface="Arial"/>
                <a:hlinkClick r:id="rId7"/>
              </a:rPr>
              <a:t>.h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 u="sng">
                <a:solidFill>
                  <a:srgbClr val="666699"/>
                </a:solidFill>
                <a:uFillTx/>
                <a:latin typeface="Arial"/>
                <a:hlinkClick r:id="rId8"/>
              </a:rPr>
              <a:t>Literatu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9"/>
          <a:stretch/>
        </p:blipFill>
        <p:spPr>
          <a:xfrm>
            <a:off x="6156360" y="3573360"/>
            <a:ext cx="2062080" cy="306864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10"/>
          <a:stretch/>
        </p:blipFill>
        <p:spPr>
          <a:xfrm>
            <a:off x="3132000" y="4292640"/>
            <a:ext cx="2162160" cy="19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763640" y="1989000"/>
            <a:ext cx="5473800" cy="46134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 rot="3765000">
            <a:off x="394560" y="2060640"/>
            <a:ext cx="1104840" cy="94284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4"/>
          <a:stretch/>
        </p:blipFill>
        <p:spPr>
          <a:xfrm rot="7040400">
            <a:off x="7585920" y="5022720"/>
            <a:ext cx="1105200" cy="94284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 txBox="1"/>
          <p:nvPr/>
        </p:nvSpPr>
        <p:spPr>
          <a:xfrm>
            <a:off x="1835280" y="620640"/>
            <a:ext cx="5329080" cy="115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9999"/>
                    </a:gs>
                    <a:gs pos="100000">
                      <a:srgbClr val="000080"/>
                    </a:gs>
                  </a:gsLst>
                  <a:lin ang="135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Pahuljice su nježne i krhke, 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9999"/>
                  </a:gs>
                  <a:gs pos="100000">
                    <a:srgbClr val="000080"/>
                  </a:gs>
                </a:gsLst>
                <a:lin ang="135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9999"/>
                    </a:gs>
                    <a:gs pos="100000">
                      <a:srgbClr val="000080"/>
                    </a:gs>
                  </a:gsLst>
                  <a:lin ang="135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ali pogledajte što postižu ako su povezane... 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9999"/>
                  </a:gs>
                  <a:gs pos="100000">
                    <a:srgbClr val="000080"/>
                  </a:gs>
                </a:gsLst>
                <a:lin ang="135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5"/>
          <a:stretch/>
        </p:blipFill>
        <p:spPr>
          <a:xfrm>
            <a:off x="7524720" y="2276640"/>
            <a:ext cx="571680" cy="57132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6"/>
          <a:stretch/>
        </p:blipFill>
        <p:spPr>
          <a:xfrm>
            <a:off x="8028000" y="981000"/>
            <a:ext cx="571320" cy="57168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7"/>
          <a:stretch/>
        </p:blipFill>
        <p:spPr>
          <a:xfrm>
            <a:off x="179280" y="3716280"/>
            <a:ext cx="571680" cy="57168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8"/>
          <a:stretch/>
        </p:blipFill>
        <p:spPr>
          <a:xfrm>
            <a:off x="900000" y="5084640"/>
            <a:ext cx="571680" cy="57168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9"/>
          <a:stretch/>
        </p:blipFill>
        <p:spPr>
          <a:xfrm>
            <a:off x="8244000" y="3284640"/>
            <a:ext cx="571320" cy="57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STRUČNI ISPI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204640"/>
            <a:ext cx="8229600" cy="36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ILJ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tvrđivanje profesionalne, poglavito metodičko-didaktičke i pedagoško-psihološke osposobljenosti pripravnika za samostalan odgojno-obrazovni r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JEDIŠ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Za one koji polažu stručni ispit u osnovnoj škol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7d"/>
                </a:solidFill>
                <a:latin typeface="Arial"/>
              </a:rPr>
              <a:t>OŠ “Split 3”, Brune Bušića 6, Spl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Za one koji polažu stručni ispit u srednjoj škol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r-HR" sz="2800" spc="-1" strike="noStrike">
                <a:solidFill>
                  <a:srgbClr val="00007d"/>
                </a:solidFill>
                <a:latin typeface="Arial"/>
              </a:rPr>
              <a:t>III. Gimnazija, Matice hrvatske 11, Spl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PITNI ROKOV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39640" y="2133360"/>
            <a:ext cx="7888320" cy="183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7d"/>
                </a:solidFill>
                <a:latin typeface="Arial"/>
              </a:rPr>
              <a:t>OSNOVNA ŠKOLA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spcBef>
                <a:spcPts val="6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. listopada – 15. studeno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spcBef>
                <a:spcPts val="6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5. siječnja – 1. ožujk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spcBef>
                <a:spcPts val="6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5. travnja – 1. lipnj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5280" y="4221000"/>
            <a:ext cx="5327640" cy="19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7d"/>
                </a:solidFill>
                <a:latin typeface="Arial"/>
              </a:rPr>
              <a:t>SREDNJA ŠKOLA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0. listopada – 10. prosinc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0. veljače – 10. travnj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435640" y="1844640"/>
            <a:ext cx="2952720" cy="43970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PRIJA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30 dana prije početka ispitnog ro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ADRE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Agencija za odgoj i obrazovan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Donje Svetice 38, Zagre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2000"/>
                            </p:stCondLst>
                            <p:childTnLst>
                              <p:par>
                                <p:cTn id="89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91" dur="10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3000"/>
                            </p:stCondLst>
                            <p:childTnLst>
                              <p:par>
                                <p:cTn id="93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95" dur="10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4000"/>
                            </p:stCondLst>
                            <p:childTnLst>
                              <p:par>
                                <p:cTn id="97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99" dur="10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PITNO POVJERENSTV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755640" y="2133720"/>
            <a:ext cx="728352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Viši savjetnik Agencije za odgoj i obrazovanje – predsjedni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Ispitivač metodike iz redova sveučilišnih profesora metodi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Učitelj sustručnjak pripravnika, kao mentor na ispi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Učitelj/nastavnik hrvatskog jezi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Ravnatelj ško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UČNI ISPIT OBUHVAĆA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isani r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zvođenje nastavnog sata i napisanu pripremu za nastavni s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meni isp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872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76500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Prije polaganja ispita (10-tak dana prije) viši savjetnik šalje službenu obavijest na škol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Uspjeh na svakom dijelu je “položio” ili “nije položio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Ukoliko je iz prvog ili drugog dijela ispita ocjena “nije položio”, kandidat ne može polagati usmeni dio ispita, a pri ponovnom polaganju polaže se dio ispita koji nije polož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Pripravnik je dužan položiti stručni ispit u roku od godine dana od isteka pripravničkog staža, u protivnom radni odnos prestaje istekom posljednjeg dana roka za polaganje stručnog ispita (čl. 108. Zakona o odgoju i obrazovanju u osnovnoj i srednjoj školi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SANI R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čne teme iz nastavnog programa; metodičke teme (obraditi temeljito i iscrpno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iše se 3 sunčana sat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obliku eseja: uvod, razrada i zaključak (jasne i logičke rečenic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tkrijepljeno primjerima, teoremima i dokazim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oristi se Pravopis hrvatskoga jezi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mjeri tem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Iracionalni brojev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Funkcije u geometrij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Trape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6877080" y="476280"/>
            <a:ext cx="1655640" cy="130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68360" y="549360"/>
            <a:ext cx="8229600" cy="9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STAVNI SAT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68000" y="1628640"/>
            <a:ext cx="843588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Racionalna organizacija s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Kvalitetna pisana priprema za sat 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(4 primjerka)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r-HR" sz="2800" spc="-1" strike="noStrike">
                <a:solidFill>
                  <a:srgbClr val="000066"/>
                </a:solidFill>
                <a:latin typeface="Arial"/>
              </a:rPr>
              <a:t>www.math.hr/nastava/mnm2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(dodatni materijali - obrazac za pripremu za nastavni sa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Izvođenje s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Ocjena uspješnosti održanog sata (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samovrednovanje, povratna informacija od kolega, mentora, stručnih suradnika, učenika, vanjsko vrednovanj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971640" y="5950080"/>
          <a:ext cx="6985080" cy="610920"/>
        </p:xfrm>
        <a:graphic>
          <a:graphicData uri="http://schemas.openxmlformats.org/drawingml/2006/table">
            <a:tbl>
              <a:tblPr/>
              <a:tblGrid>
                <a:gridCol w="6985080"/>
              </a:tblGrid>
              <a:tr h="61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Izvodi se neovisno o uspjehu pisanog rad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STAVNI SAT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78920" y="1341000"/>
            <a:ext cx="799308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ripremajući se za nastavni sat treba brinuti o sljedećim komponentama koje se ujedno vrednuju i na stručnom ispitu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TVARENOST CILJEVA I ZADAĆA S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3203640" y="4076640"/>
            <a:ext cx="2879640" cy="24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ZAKONSKI OKVIRI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Zakon o odgoju i obrazovanju u osnovnoj i srednjoj školi – čl.117. </a:t>
            </a:r>
            <a:r>
              <a:rPr b="0" lang="hr-HR" sz="2400" spc="-1" strike="noStrike" u="sng">
                <a:solidFill>
                  <a:srgbClr val="666699"/>
                </a:solidFill>
                <a:uFillTx/>
                <a:latin typeface="Arial"/>
              </a:rPr>
              <a:t>(</a:t>
            </a:r>
            <a:r>
              <a:rPr b="0" i="1" lang="hr-HR" sz="2400" spc="-1" strike="noStrike" u="sng">
                <a:solidFill>
                  <a:srgbClr val="666699"/>
                </a:solidFill>
                <a:uFillTx/>
                <a:latin typeface="Arial"/>
              </a:rPr>
              <a:t>Narodne novine, broj 87/08</a:t>
            </a:r>
            <a:r>
              <a:rPr b="0" lang="hr-HR" sz="2400" spc="-1" strike="noStrike" u="sng">
                <a:solidFill>
                  <a:srgbClr val="666699"/>
                </a:solidFill>
                <a:uFillTx/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 u="sng">
                <a:solidFill>
                  <a:srgbClr val="666699"/>
                </a:solidFill>
                <a:uFillTx/>
                <a:latin typeface="Arial"/>
              </a:rPr>
              <a:t>dopu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Pravilnik o polaganju stručnog ispita učitelja i stručnih suradnika u osnovnom školstvu i nastavnika u srednjem školstvu </a:t>
            </a:r>
            <a:r>
              <a:rPr b="0" i="1" lang="hr-HR" sz="2400" spc="-1" strike="noStrike">
                <a:solidFill>
                  <a:srgbClr val="666699"/>
                </a:solidFill>
                <a:latin typeface="Arial"/>
              </a:rPr>
              <a:t>(Narodne novine, broj 88/0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Priručnik za stažiran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Ustav Republike Hrvatske </a:t>
            </a:r>
            <a:r>
              <a:rPr b="0" lang="hr-HR" sz="2400" spc="-1" strike="noStrike">
                <a:solidFill>
                  <a:srgbClr val="666699"/>
                </a:solidFill>
                <a:latin typeface="Arial"/>
              </a:rPr>
              <a:t>(kratki pregled -</a:t>
            </a:r>
            <a:r>
              <a:rPr b="0" i="1" lang="hr-HR" sz="2400" spc="-1" strike="noStrike">
                <a:solidFill>
                  <a:srgbClr val="666699"/>
                </a:solidFill>
                <a:latin typeface="Arial"/>
              </a:rPr>
              <a:t>Narodne novine, broj 44/01</a:t>
            </a:r>
            <a:r>
              <a:rPr b="0" lang="hr-HR" sz="2400" spc="-1" strike="noStrike">
                <a:solidFill>
                  <a:srgbClr val="666699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Poslovnik o radu komisije za stažiranje </a:t>
            </a:r>
            <a:r>
              <a:rPr b="0" lang="hr-HR" sz="2400" spc="-1" strike="noStrike">
                <a:solidFill>
                  <a:srgbClr val="666699"/>
                </a:solidFill>
                <a:latin typeface="Arial"/>
              </a:rPr>
              <a:t>(</a:t>
            </a:r>
            <a:r>
              <a:rPr b="0" i="1" lang="hr-HR" sz="2400" spc="-1" strike="noStrike">
                <a:solidFill>
                  <a:srgbClr val="666699"/>
                </a:solidFill>
                <a:latin typeface="Arial"/>
              </a:rPr>
              <a:t>Glasnik, 5/96</a:t>
            </a:r>
            <a:r>
              <a:rPr b="0" lang="hr-HR" sz="2400" spc="-1" strike="noStrike">
                <a:solidFill>
                  <a:srgbClr val="666699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516720" y="549360"/>
            <a:ext cx="2087640" cy="103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STAVNI SAT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P SA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Arial"/>
              </a:rPr>
              <a:t>	</a:t>
            </a:r>
            <a:r>
              <a:rPr b="1" i="1" lang="en-US" sz="2000" spc="-1" strike="noStrike" u="sng">
                <a:solidFill>
                  <a:srgbClr val="0000cc"/>
                </a:solidFill>
                <a:uFillTx/>
                <a:latin typeface="Arial"/>
              </a:rPr>
              <a:t>SAT OBRADE I USVAJANJA NOVOG GRADI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Tradicionalna struktur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1)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Ponavljanje i uvod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 (domaća zadaća, predznanje, povezivanje starog i novog gradiva, motivacij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2)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Obrada novog gradiva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 (izvođenje – postupno, sistematično; težište; zapis na ploči i u bilježnici; primjeri;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voditi učenike kroz primjere do postavljanja definicije i poučka – od konkretnog prema apstraktnom – induktivni pristup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3)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Utvrđivanje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 (novi pojmovi i formule, pitanja, zadaci, vježb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4)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Domaća zadaća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 (izbor zadataka, primjerenost, razumijevanje;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zadati i dati upute prije zvona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STAVNI SAT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1385640"/>
            <a:ext cx="6049800" cy="52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ZBOR NAČINA OBRADE (osuvremenjivanje; kreativnost nastavnika; zornost; primjeri iz života; heuristička i problemska nastava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ZBOR I PRIMJENA OBLIKA RADA = način organiziranja nastavnog proces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ZBOR I PRIMJENA METODA RADA = način prenošenja znanj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IMJENA NASTAVNIH SREDSTAVA I POMAGAL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6516720" y="1557360"/>
            <a:ext cx="2627280" cy="261000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6516720" y="4354560"/>
            <a:ext cx="2448000" cy="20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STAVNI SAT 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628640"/>
            <a:ext cx="814716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UPORABA UDŽBENIKA (izbor primjera i zadataka; </a:t>
            </a:r>
            <a:r>
              <a:rPr b="1" i="1" lang="hr-HR" sz="2800" spc="-1" strike="noStrike">
                <a:solidFill>
                  <a:srgbClr val="000066"/>
                </a:solidFill>
                <a:latin typeface="Arial"/>
              </a:rPr>
              <a:t>neki se kandidati “slijepo” drže udžbenika, pa i u slučaju propusta i pogrešaka, a neki ga potpuno zanemaruju; udžbenik između ostalog treba koristiti za “iščitavanje” slika, grafikona,…; definicije i zaključke ne treba diktirati već ih učenici trebaju učiti iz udžbenika – ušteda vremena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UPUTE UČENICIMA ZA RAD (tekst, objašnjenje, razumijevanje, prozivanje, poticati samostalni rad učenika; </a:t>
            </a:r>
            <a:r>
              <a:rPr b="1" i="1" lang="hr-HR" sz="2800" spc="-1" strike="noStrike">
                <a:solidFill>
                  <a:srgbClr val="000066"/>
                </a:solidFill>
                <a:latin typeface="Arial"/>
              </a:rPr>
              <a:t>čitanje i razumijevanje teksta ne uzimati zdravo za gotovo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24000" y="620640"/>
            <a:ext cx="83628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STAVNI SAT 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50560" y="1483920"/>
            <a:ext cx="64818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ČA (</a:t>
            </a: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plan ploče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rednost, preglednost, suhoća, brisanje, stalni dio zapis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EMATIČKI JEZIK (točnost, preciznost, jasnoća, jednostavnost; </a:t>
            </a: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ukoliko se nešto pogrešno izreče ili napiše (učenik ili nastavnik), pogrešku treba priznati i ispravit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RMINOLOGIJA I SIMBOLIKA (standard, usklađivanje,preciznost; </a:t>
            </a: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dogodi se da kandidat za isti pojam, na istom satu, koristi različite oznake što učenike zbunjuj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1" descr=""/>
          <p:cNvPicPr/>
          <p:nvPr/>
        </p:nvPicPr>
        <p:blipFill>
          <a:blip r:embed="rId1"/>
          <a:stretch/>
        </p:blipFill>
        <p:spPr>
          <a:xfrm>
            <a:off x="7068960" y="2276640"/>
            <a:ext cx="1751040" cy="266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8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STAVNI SAT (7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78487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OMUNIKACIJA I TEMPO (kontrola razredne situacije, diferenciranost, pitanja, analiza rada, pomaganje, ubrzavanje; </a:t>
            </a: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poticati učenike da sami izvode zaključke i za to im osigurati dovoljno vremena, prokomentirati i njihova “kriva” rješenja, a ne ih strogo odbaciti; uključiti učenike u raspravu i tako suzbiti tremu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ORABA PRIPREME (</a:t>
            </a: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ni premalo, ni previše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metodički je oblikovati s jasno postavljenim ciljevima i jasnom strukturom sata; pisati na računal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ORABA GEOMETRIJSKOG PRIBORA, KALKULATORA, RAČUNALA (</a:t>
            </a: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Kada? Što? Kako?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STAVNI SAT (8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5770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SOBNOST NASTAVNIKA I PSIHOLOGIJA SATA (nastup,karakter,disciplin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dstupanje od zamišljenog, prozivanje učenik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6156360" y="2781360"/>
            <a:ext cx="2592360" cy="22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MENI DIO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Osvrt na pisani ra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Ocjena pismenosti – prof. hrvatskog jezi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Stručno-metodička obrada teme – metodičar s fakulte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Osvrt na nastavni sat – metodičar, savjetnik, men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Ispit iz metodike – metodičar, savjetni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Ispit iz općeg dijela Programa - ravnatel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MENI DIO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82296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Primjeri “problematičnih” pitanj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hr-HR" sz="2800" spc="-1" strike="noStrike">
                <a:solidFill>
                  <a:srgbClr val="000000"/>
                </a:solidFill>
                <a:latin typeface="Arial"/>
              </a:rPr>
              <a:t>- Zašto djelitelj mora biti različit od nu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hr-HR" sz="2800" spc="-1" strike="noStrike">
                <a:solidFill>
                  <a:srgbClr val="000000"/>
                </a:solidFill>
                <a:latin typeface="Arial"/>
              </a:rPr>
              <a:t>- Dijeljenje “bez ostatka”; “nema ostatka” ili   “ostatak je nula”?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hr-HR" sz="2800" spc="-1" strike="noStrike">
                <a:solidFill>
                  <a:srgbClr val="000000"/>
                </a:solidFill>
                <a:latin typeface="Arial"/>
              </a:rPr>
              <a:t>- Oznake za skupove brojeva?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hr-HR" sz="2800" spc="-1" strike="noStrike">
                <a:solidFill>
                  <a:srgbClr val="000000"/>
                </a:solidFill>
                <a:latin typeface="Arial"/>
              </a:rPr>
              <a:t>- Razlika između tvrdnje i definicije?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hr-HR" sz="2800" spc="-1" strike="noStrike">
                <a:solidFill>
                  <a:srgbClr val="000000"/>
                </a:solidFill>
                <a:latin typeface="Arial"/>
              </a:rPr>
              <a:t>- Razlika između primjera i zadataka?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hr-HR" sz="2800" spc="-1" strike="noStrike">
                <a:solidFill>
                  <a:srgbClr val="000000"/>
                </a:solidFill>
                <a:latin typeface="Arial"/>
              </a:rPr>
              <a:t>- Primjeri iracionalnih brojeva?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hr-HR" sz="2800" spc="-1" strike="noStrike">
                <a:solidFill>
                  <a:srgbClr val="000000"/>
                </a:solidFill>
                <a:latin typeface="Arial"/>
              </a:rPr>
              <a:t>- Transcedentni i algebarski brojevi?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7520040" y="836640"/>
            <a:ext cx="101268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KANDIDATI KOJI SU POLOŽILI STRUČNI ISPIT DOBIVAJU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50920" y="2060280"/>
            <a:ext cx="720072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Potvrdu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 položenom stručnom ispitu – neposredno nakon ispi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Uvjerenje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 položenom stručnom ispitu – unutar 6 mjeseci od dana polaganja, SI-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7236000" y="1566720"/>
            <a:ext cx="1584000" cy="1933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0" name=""/>
          <p:cNvGraphicFramePr/>
          <p:nvPr/>
        </p:nvGraphicFramePr>
        <p:xfrm>
          <a:off x="611280" y="4797360"/>
          <a:ext cx="8208720" cy="1728720"/>
        </p:xfrm>
        <a:graphic>
          <a:graphicData uri="http://schemas.openxmlformats.org/drawingml/2006/table">
            <a:tbl>
              <a:tblPr/>
              <a:tblGrid>
                <a:gridCol w="8208720"/>
              </a:tblGrid>
              <a:tr h="172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Prvom licencijom za rad učitelja, nastavnika i stručnih suradnika smatra se isprava o položenom stručnom ispitu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VIM KANDIDATIMA ŽELI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ODONOSNO JEDNOGODIŠNJE PUTOVANJE U ULOZI PRIPRAVNIKA UZ ISKUSNE VODIČE I SUPUTNIKE – MENTORE I STRUČNE SURADNIKE, TE USPJEŠNO POLAGANJE STRUČNOG ISPI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3419640" y="4653000"/>
            <a:ext cx="1655640" cy="1944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613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ZAKONSKI OKVIRI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3200" spc="-1" strike="noStrike">
                <a:solidFill>
                  <a:srgbClr val="ff0000"/>
                </a:solidFill>
                <a:latin typeface="Arial"/>
              </a:rPr>
              <a:t>NAJNOVIJI DOKUMENTI (srpanj 2010.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NOK – Nacionalni okvirni kurikul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Pravilnik o normi rada nastavnika u srednjoškolskoj ustano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Zakon o izmjenama i dopunama zakona o odgoju i obrazovanju u osnovnoj i srednjoj škol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516720" y="549360"/>
            <a:ext cx="2087640" cy="103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87280" y="746136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79280" y="7174080"/>
            <a:ext cx="8229600" cy="92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1908000" y="1557360"/>
            <a:ext cx="5816880" cy="20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cc"/>
                    </a:gs>
                    <a:gs pos="50000">
                      <a:srgbClr val="00005e"/>
                    </a:gs>
                    <a:gs pos="100000">
                      <a:srgbClr val="0000cc"/>
                    </a:gs>
                  </a:gsLst>
                  <a:lin ang="13500000"/>
                </a:gradFill>
                <a:latin typeface="Arial Black"/>
              </a:rPr>
              <a:t>Hvala na pozornosti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cc"/>
                  </a:gs>
                  <a:gs pos="50000">
                    <a:srgbClr val="00005e"/>
                  </a:gs>
                  <a:gs pos="100000">
                    <a:srgbClr val="0000cc"/>
                  </a:gs>
                </a:gsLst>
                <a:lin ang="13500000"/>
              </a:gradFill>
              <a:latin typeface="Arial Black"/>
              <a:ea typeface="Arial Black"/>
            </a:endParaRPr>
          </a:p>
        </p:txBody>
      </p:sp>
      <p:pic>
        <p:nvPicPr>
          <p:cNvPr id="227" name="" descr="animated roses"/>
          <p:cNvPicPr/>
          <p:nvPr/>
        </p:nvPicPr>
        <p:blipFill>
          <a:blip r:embed="rId1"/>
          <a:stretch/>
        </p:blipFill>
        <p:spPr>
          <a:xfrm>
            <a:off x="3502080" y="3860640"/>
            <a:ext cx="194616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7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95280" y="76464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TVARIVANJE PRIPRAVNIČKOG STAŽ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2635200" y="2852640"/>
            <a:ext cx="338292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54936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IPRAVNIK U ODGOJU I OBRAZOVANJ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95280" y="3860280"/>
            <a:ext cx="822960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čitelj bez položenog stručnog ispita, u radnom odnosu na neodređeno ili određeno vrije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soba koja volontira na poslovima učitel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4" descr=""/>
          <p:cNvPicPr/>
          <p:nvPr/>
        </p:nvPicPr>
        <p:blipFill>
          <a:blip r:embed="rId1"/>
          <a:stretch/>
        </p:blipFill>
        <p:spPr>
          <a:xfrm>
            <a:off x="3203640" y="2205000"/>
            <a:ext cx="4032360" cy="14986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684360" y="1989000"/>
            <a:ext cx="110484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872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95280" y="1125360"/>
            <a:ext cx="82296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pravnički staž započinje danom zasnivanja radnog odnosa (bez obzira na vrstu), odnosno danom sklapanja ugovora o volontiranj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je najmanje godinu da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dstavlja prvu i vrlo značajnu dionicu permanentnog stručnog usavršavanja učitel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4643280" y="2781360"/>
            <a:ext cx="3168720" cy="154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VRHA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23640" y="1700280"/>
            <a:ext cx="7561080" cy="47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sposobiti učitelje, stručne suradnike i nastavnike bez radnog iskustva za uspješno, stručno i samostalno obavljanje poslova u osnovnoj odnosno srednjoj škol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jecanje profesionalnih kompetencija za rad s djecom i njihovim roditelji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većanje samopouzdanja u ra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7020000" y="2708280"/>
            <a:ext cx="1944720" cy="17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24000" y="58690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468360" y="836640"/>
            <a:ext cx="8228880" cy="4678560"/>
            <a:chOff x="468360" y="836640"/>
            <a:chExt cx="8228880" cy="4678560"/>
          </a:xfrm>
        </p:grpSpPr>
        <p:cxnSp>
          <p:nvCxnSpPr>
            <p:cNvPr id="132" name="_s25612"/>
            <p:cNvCxnSpPr>
              <a:stCxn id="133" idx="0"/>
              <a:endCxn id="134" idx="2"/>
            </p:cNvCxnSpPr>
            <p:nvPr/>
          </p:nvCxnSpPr>
          <p:spPr>
            <a:xfrm flipV="1" rot="16200000">
              <a:off x="5554440" y="1734840"/>
              <a:ext cx="936360" cy="2880720"/>
            </a:xfrm>
            <a:prstGeom prst="bentConnector3">
              <a:avLst>
                <a:gd name="adj1" fmla="val 2092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5" name="_s25611"/>
            <p:cNvCxnSpPr>
              <a:stCxn id="136" idx="0"/>
              <a:endCxn id="134" idx="2"/>
            </p:cNvCxnSpPr>
            <p:nvPr/>
          </p:nvCxnSpPr>
          <p:spPr>
            <a:xfrm flipV="1">
              <a:off x="4582440" y="2707200"/>
              <a:ext cx="3240" cy="936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7" name="_s25610"/>
            <p:cNvCxnSpPr>
              <a:stCxn id="138" idx="0"/>
              <a:endCxn id="134" idx="2"/>
            </p:cNvCxnSpPr>
            <p:nvPr/>
          </p:nvCxnSpPr>
          <p:spPr>
            <a:xfrm flipH="1" flipV="1" rot="5400000">
              <a:off x="2674440" y="1735200"/>
              <a:ext cx="936360" cy="2880720"/>
            </a:xfrm>
            <a:prstGeom prst="bentConnector3">
              <a:avLst>
                <a:gd name="adj1" fmla="val 20923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34" name="_s25606"/>
            <p:cNvSpPr/>
            <p:nvPr/>
          </p:nvSpPr>
          <p:spPr>
            <a:xfrm>
              <a:off x="3348360" y="836640"/>
              <a:ext cx="2468520" cy="187128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POVJERENSTVO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ZA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TAŽIRANJE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_s25607"/>
            <p:cNvSpPr/>
            <p:nvPr/>
          </p:nvSpPr>
          <p:spPr>
            <a:xfrm>
              <a:off x="468360" y="3643920"/>
              <a:ext cx="2468520" cy="187128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Ravnatelj škole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(predsjednik)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_s25608"/>
            <p:cNvSpPr/>
            <p:nvPr/>
          </p:nvSpPr>
          <p:spPr>
            <a:xfrm>
              <a:off x="3348360" y="3643920"/>
              <a:ext cx="2468520" cy="187128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Mentor pripravnika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_s25609"/>
            <p:cNvSpPr/>
            <p:nvPr/>
          </p:nvSpPr>
          <p:spPr>
            <a:xfrm>
              <a:off x="6228720" y="3643920"/>
              <a:ext cx="2468520" cy="187128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Stručni suradnik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6T17:22:47Z</dcterms:created>
  <dc:creator>MAT</dc:creator>
  <dc:description/>
  <dc:language>en-US</dc:language>
  <cp:lastModifiedBy>MAT</cp:lastModifiedBy>
  <dcterms:modified xsi:type="dcterms:W3CDTF">2010-09-01T18:00:58Z</dcterms:modified>
  <cp:revision>32</cp:revision>
  <dc:subject/>
  <dc:title>OD DIPLOME DO PRVE LICENCIJE -vodič kroz pripravnički staž i polaganje stručnog ispita-</dc:title>
</cp:coreProperties>
</file>