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7AA-1507-4E7D-95B9-24227F5E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E59-4B46-47BB-AA79-CC57AB6E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7E2-C79D-4CA5-8A31-55806C9D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3F1-2569-45C4-B9CD-7EB18429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C65B4-DE91-4AA7-B80E-F489EC3E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56B3D-9C2C-4985-8D43-4B066143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4DBAF-86B8-40D7-BAE9-F8C9EEA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905CA-E0CB-430B-9563-80EF2882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677E1-340E-4629-BA41-1A9B264F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1E35-06D4-473D-92F8-3B673E3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0DC29-B832-4FD4-BC6A-04769DC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34B-E8A3-4424-B767-550776BB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B68C5-E6F8-4974-B1A6-AD6C26A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309E9-8F7B-4DF6-BD65-F299A45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3E9C4-84BA-4DE6-839C-2487552A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A02C-592B-4E93-8F29-38718FB2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A7788-488E-4B12-9891-6C815217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A578-098C-4DA4-8949-3C87E901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2D80-A7E8-4E92-AF35-007161EB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26E7-5B0A-4AD7-885C-45F2589D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6367-6B53-4837-804E-A9500AFD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7EE8-0BCE-4EBC-81EB-8B7EDFE5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136-35C2-4451-9B9E-07BC4FB2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21F04-DCC4-46E6-AC14-83649892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A720-BF0C-4271-87A8-572B5AD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6698-A4BB-4E29-8C26-25A0713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7C10-29C2-4B30-9328-54EF391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7806-7340-49FD-B7C3-FE8EE092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427E-CDF1-4323-AB6B-2C79D2D9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3729-8726-41FC-BE92-12A2ACD5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91E14-12DA-4D79-BF6D-AFB3E1DC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2E212-51E5-4813-B9DF-D433141B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AB7D5-142B-487D-957A-A488E128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E64-568E-44D8-8DC1-1F0A9A98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60E85-A57D-44B2-AF2B-5BE09784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B2B73-B445-4E9F-960A-0074AFD1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31A56-ADFF-4091-BA3C-DABF8C3D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BA22D7-BF9A-4855-A5A7-818FC885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9620A-6BEA-4D31-A911-F9068316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B1181-8B26-48F7-9510-F706BD1F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AAD1F8-C766-42CB-99F2-39E8975E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40089-9FBC-4218-960C-25047DA9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3991F-A2EF-48F0-AD73-9BF74FF7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817-230D-41F5-808E-9606B657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EE4-F81C-40F0-B1C4-76FF1280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802-6C8E-4B96-8D67-658C5A0C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F23-B637-4261-B552-7AD66AD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76B-0829-43EF-874A-28BE6392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2d2d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2d2d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d2d2d2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50B-2810-474A-821C-313F718BBF6D}" type="slidenum">
              <a:rPr b="0" lang="hr-HR" sz="1600" spc="-1" strike="noStrike">
                <a:solidFill>
                  <a:srgbClr val="d2d2d2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e40059"/>
          </a:solidFill>
          <a:ln w="38160">
            <a:solidFill>
              <a:srgbClr val="e4005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2d2d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2d2d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d2d2d2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2461-6020-4415-B2A3-066D2C478A58}" type="slidenum">
              <a:rPr b="0" lang="hr-HR" sz="1600" spc="-1" strike="noStrike">
                <a:solidFill>
                  <a:srgbClr val="d2d2d2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2d2d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2d2d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d2d2d2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0BD1-E6E0-47D2-BD4F-EAAB8DBB43F8}" type="slidenum">
              <a:rPr b="0" lang="hr-HR" sz="1600" spc="-1" strike="noStrike">
                <a:solidFill>
                  <a:srgbClr val="d2d2d2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d2d2d2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21C3-5CCE-4FF1-AB5D-BB837AE09DAD}" type="slidenum">
              <a:rPr b="0" lang="hr-HR" sz="1600" spc="-1" strike="noStrike">
                <a:solidFill>
                  <a:srgbClr val="d2d2d2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2d2d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2d2d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2d2d2"/>
                </a:solidFill>
                <a:latin typeface="Footlight MT Light"/>
              </a:rPr>
              <a:t>Ekipa: Valentina (mentorica), Diana, Iva, Maša i Tihan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987480"/>
            <a:ext cx="83217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3" descr="bobqp3.jpg"/>
          <p:cNvPicPr/>
          <p:nvPr/>
        </p:nvPicPr>
        <p:blipFill>
          <a:blip r:embed="rId1"/>
          <a:stretch/>
        </p:blipFill>
        <p:spPr>
          <a:xfrm>
            <a:off x="2752560" y="2033640"/>
            <a:ext cx="3638880" cy="3552840"/>
          </a:xfrm>
          <a:prstGeom prst="rect">
            <a:avLst/>
          </a:prstGeom>
          <a:ln w="0">
            <a:noFill/>
          </a:ln>
        </p:spPr>
      </p:pic>
      <p:pic>
        <p:nvPicPr>
          <p:cNvPr id="191" name="Title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Kakve su šale djeci smiješne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Kakav je odnos između pasivnog smisla za humor i procjene duhovitosti kolega iz razred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Razlikuju li se ispitanici u smislu za humor obzirom na spol,  dob i intelektualne sposobnosti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Duhovitost se razlikuje po dobi, spolu i intelektualnoj darovitosti ispitanik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684360" y="1484280"/>
          <a:ext cx="6376680" cy="1606680"/>
        </p:xfrm>
        <a:graphic>
          <a:graphicData uri="http://schemas.openxmlformats.org/drawingml/2006/table">
            <a:tbl>
              <a:tblPr/>
              <a:tblGrid>
                <a:gridCol w="1274760"/>
                <a:gridCol w="1276200"/>
                <a:gridCol w="1274760"/>
                <a:gridCol w="1276200"/>
                <a:gridCol w="1274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o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p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cjen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stali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zultati testiran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c000"/>
                          </a:solidFill>
                          <a:latin typeface="Constantia"/>
                        </a:rPr>
                        <a:t>darovi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c000"/>
                          </a:solidFill>
                          <a:latin typeface="Constantia"/>
                        </a:rPr>
                        <a:t>osta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00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rten88l.jpg"/>
          <p:cNvPicPr/>
          <p:nvPr/>
        </p:nvPicPr>
        <p:blipFill>
          <a:blip r:embed="rId2"/>
          <a:stretch/>
        </p:blipFill>
        <p:spPr>
          <a:xfrm>
            <a:off x="4572000" y="3429000"/>
            <a:ext cx="2879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uzorak: cca 350 učenik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     </a:t>
            </a: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- 5., 6., 7., 8. razred OŠ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     </a:t>
            </a: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- 1. razred SŠ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     </a:t>
            </a: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- Rijeka, Karlovac, Zagre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     </a:t>
            </a: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- razredi u kojima su identificirani daroviti uč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 u="sng">
                <a:solidFill>
                  <a:srgbClr val="ffffff"/>
                </a:solidFill>
                <a:uFillTx/>
                <a:latin typeface="Footlight MT Light"/>
              </a:rPr>
              <a:t>cilj: identificirati pasivni smisao za hum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pismen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2 dijela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1. dio: - verbalni i slikovni oblici humor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            </a:t>
            </a: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- različite vrste humor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            </a:t>
            </a: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- skala 1-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2. dio : procjena duhovitosti ostalih učenika u razredu na skali 1-7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izraditi test od prikupljenog materijal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pripremiti i provesti ispitivanj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naučiti statistiku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obraditi podat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izvesti zaključ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Footlight MT Light"/>
              </a:rPr>
              <a:t>sve dobro unovčit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team_work_cartoon.jpg"/>
          <p:cNvPicPr/>
          <p:nvPr/>
        </p:nvPicPr>
        <p:blipFill>
          <a:blip r:embed="rId2"/>
          <a:stretch/>
        </p:blipFill>
        <p:spPr>
          <a:xfrm>
            <a:off x="4716360" y="3213000"/>
            <a:ext cx="42004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3" descr="PROLJECE.JPG"/>
          <p:cNvPicPr/>
          <p:nvPr/>
        </p:nvPicPr>
        <p:blipFill>
          <a:blip r:embed="rId1"/>
          <a:stretch/>
        </p:blipFill>
        <p:spPr>
          <a:xfrm>
            <a:off x="2843280" y="1773360"/>
            <a:ext cx="3384360" cy="4248000"/>
          </a:xfrm>
          <a:prstGeom prst="rect">
            <a:avLst/>
          </a:prstGeom>
          <a:ln w="0">
            <a:noFill/>
          </a:ln>
        </p:spPr>
      </p:pic>
      <p:pic>
        <p:nvPicPr>
          <p:cNvPr id="187" name="Title 1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2425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Content Placeholder 3" descr="humor-pictures.jpg"/>
          <p:cNvPicPr/>
          <p:nvPr/>
        </p:nvPicPr>
        <p:blipFill>
          <a:blip r:embed="rId1"/>
          <a:stretch/>
        </p:blipFill>
        <p:spPr>
          <a:xfrm>
            <a:off x="1979640" y="1268280"/>
            <a:ext cx="5040360" cy="5256360"/>
          </a:xfrm>
          <a:prstGeom prst="rect">
            <a:avLst/>
          </a:prstGeom>
          <a:ln w="0">
            <a:noFill/>
          </a:ln>
        </p:spPr>
      </p:pic>
      <p:pic>
        <p:nvPicPr>
          <p:cNvPr id="189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57:40Z</dcterms:created>
  <dc:creator>gost</dc:creator>
  <dc:description/>
  <dc:language>en-US</dc:language>
  <cp:lastModifiedBy>gost</cp:lastModifiedBy>
  <dcterms:modified xsi:type="dcterms:W3CDTF">2010-09-03T07:57:07Z</dcterms:modified>
  <cp:revision>11</cp:revision>
  <dc:subject/>
  <dc:title>ŠTO DJECA PROCJENJUJU SMIJEŠNIM?</dc:title>
</cp:coreProperties>
</file>