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6820-C589-4505-8CD3-647198AB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FC80-6D2E-4A72-8F32-41762CB1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0143-463C-4531-9098-9D0D1530B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DDB1-9470-4A80-B5DF-CDDED800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1C3D-94D9-463A-8318-2E570346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A398-FBFB-48BE-92CD-A1ABE364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F045-9955-4AA0-8537-F7DABD34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C8E7-30D1-4EB2-8C8D-91E401D8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28D4-549D-4D23-A9D7-B1036E1A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E16D-3424-4508-85BD-9B16084C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B7DF-E529-4614-B3CF-AF226097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9594-7D67-45D3-BD27-3BAB9DB6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1A7D-45A6-4C0C-8B96-3B7115D3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DE7A-7646-48EB-8A08-A7CE78C2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4A61-0C4D-4E81-929C-96F4DA80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417C-86E3-40DA-8DFB-0236BE96F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1BB1-DD3B-43E1-921E-D3E89740C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10E6-DE25-4D7E-A26E-4F9BDA06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14BE-FC77-4CFA-BE2D-73B291BA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6107-E8D6-4CFA-85EC-5725EF66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EA6C-73E2-4649-8D6B-403EE75F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0482-D797-40A8-990B-A694051E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FB54-B2CF-4413-89CB-A27A330D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9C55-79BD-4720-B9C8-21B9357F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C318-C3B8-434B-A243-E6D13197F0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46B4-9A0C-4A8A-8ABD-5EAB306073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urbanwildlands.org/Resources/LongcoreRich2004.pdf" TargetMode="External"/><Relationship Id="rId2" Type="http://schemas.openxmlformats.org/officeDocument/2006/relationships/hyperlink" Target="http://www.urbanwildlands.org/Resources/LongcoreRich2004.pdf" TargetMode="External"/><Relationship Id="rId3" Type="http://schemas.openxmlformats.org/officeDocument/2006/relationships/hyperlink" Target="http://www.urbanwildlands.org/Resources/LongcoreRich2004.pdf" TargetMode="External"/><Relationship Id="rId4" Type="http://schemas.openxmlformats.org/officeDocument/2006/relationships/hyperlink" Target="http://www.urbanwildlands.org/Resources/LongcoreRich2004.pdf" TargetMode="External"/><Relationship Id="rId5" Type="http://schemas.openxmlformats.org/officeDocument/2006/relationships/hyperlink" Target="http://www.urbanwildlands.org/Resources/LongcoreRich2004.pdf" TargetMode="External"/><Relationship Id="rId6" Type="http://schemas.openxmlformats.org/officeDocument/2006/relationships/hyperlink" Target="http://www.urbanwildlands.org/Resources/LongcoreRich2004.pdf" TargetMode="External"/><Relationship Id="rId7" Type="http://schemas.openxmlformats.org/officeDocument/2006/relationships/hyperlink" Target="http://www.urbanwildlands.org/Resources/LongcoreRich2004.pdf" TargetMode="External"/><Relationship Id="rId8" Type="http://schemas.openxmlformats.org/officeDocument/2006/relationships/hyperlink" Target="http://www.urbanwildlands.org/Resources/LongcoreRich2004.pdf" TargetMode="External"/><Relationship Id="rId9" Type="http://schemas.openxmlformats.org/officeDocument/2006/relationships/hyperlink" Target="http://www.urbanwildlands.org/Resources/LongcoreRich2004.pdf" TargetMode="External"/><Relationship Id="rId10" Type="http://schemas.openxmlformats.org/officeDocument/2006/relationships/hyperlink" Target="http://www.urbanwildlands.org/Resources/LongcoreRich2004.pdf" TargetMode="External"/><Relationship Id="rId11" Type="http://schemas.openxmlformats.org/officeDocument/2006/relationships/hyperlink" Target="http://www.urbanwildlands.org/Resources/LongcoreRich2004.pdf" TargetMode="External"/><Relationship Id="rId12" Type="http://schemas.openxmlformats.org/officeDocument/2006/relationships/hyperlink" Target="http://www.urbanwildlands.org/Resources/LongcoreRich2004.pdf" TargetMode="External"/><Relationship Id="rId13" Type="http://schemas.openxmlformats.org/officeDocument/2006/relationships/hyperlink" Target="http://www.urbanwildlands.org/Resources/LongcoreRich2004.pdf" TargetMode="External"/><Relationship Id="rId14" Type="http://schemas.openxmlformats.org/officeDocument/2006/relationships/hyperlink" Target="http://www.urbanwildlands.org/Resources/LongcoreRich2004.pdf" TargetMode="External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813780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UTJECAJ SVJETLOSTI ULIČNE RASVJETE NA STRES KOD BILJAK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148000" y="5300640"/>
            <a:ext cx="381636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rešimir Trojk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55640" y="3500280"/>
            <a:ext cx="424800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potez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intenzivna svjetlost ulične rasvjete uzrokuje povećanje antioksidacijskih enzima i apscizinske kiseline, indikatora stresa, u biljaka (</a:t>
            </a:r>
            <a:r>
              <a:rPr b="0" i="1" lang="hr-HR" sz="3200" spc="-1" strike="noStrike">
                <a:solidFill>
                  <a:srgbClr val="000000"/>
                </a:solidFill>
                <a:latin typeface="Tahoma"/>
              </a:rPr>
              <a:t>Platanus × hispanica Münchh.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stres u biljaka negativno utječe na primarnu organsku proizvodnju biljaka (</a:t>
            </a:r>
            <a:r>
              <a:rPr b="0" i="1" lang="hr-HR" sz="3200" spc="-1" strike="noStrike">
                <a:solidFill>
                  <a:srgbClr val="000000"/>
                </a:solidFill>
                <a:latin typeface="Tahoma"/>
              </a:rPr>
              <a:t>Platanus × hispanica Münchh.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terijal i metod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2205000"/>
            <a:ext cx="66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različiti tipovi žarulja za uličnu rasvje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spektrometar (vrsta žarulj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fotometar (jačina svjetl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uređaj za elekrtroforezu (analiza protein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spektrofotometar (klorofi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olarimetar (škro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300720" y="1916280"/>
            <a:ext cx="2664000" cy="1800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300720" y="404640"/>
            <a:ext cx="2158920" cy="1438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186680" y="3933720"/>
            <a:ext cx="167940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terijal i met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1988640"/>
            <a:ext cx="61930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načiniti svjetlosni profil prostora perivoja Zrinskih u Čakovcu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intetzitet svjet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vrsta svjet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fenološki promatrati ponašanje intenzivno osvjetljenih i neosvjetljenih djelova jedne platane u perivoj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796000" y="1989000"/>
            <a:ext cx="31701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terijal i met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ovesti laboratorijski eksperiment ovisnosti količine indikatora stresa i primarne organske proizvodnje u odnosu na vrstu ulične rasvj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onoviti eksperiment na promatranoj platani; osvjetljeni i neosvjetljeni d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teratu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T. Longcore and C. Rich (2004). </a:t>
            </a:r>
            <a:r>
              <a:rPr b="0" lang="hr-HR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"</a:t>
            </a:r>
            <a:r>
              <a:rPr b="0" lang="hr-HR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Ecological</a:t>
            </a:r>
            <a:r>
              <a:rPr b="0" lang="hr-HR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 </a:t>
            </a:r>
            <a:r>
              <a:rPr b="0" lang="hr-HR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light</a:t>
            </a:r>
            <a:r>
              <a:rPr b="0" lang="hr-HR" sz="2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 </a:t>
            </a:r>
            <a:r>
              <a:rPr b="0" lang="hr-HR" sz="24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pollution</a:t>
            </a:r>
            <a:r>
              <a:rPr b="0" lang="hr-HR" sz="24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"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i="1" lang="hr-HR" sz="2400" spc="-1" strike="noStrike">
                <a:solidFill>
                  <a:srgbClr val="000000"/>
                </a:solidFill>
                <a:latin typeface="Tahoma"/>
              </a:rPr>
              <a:t>Frontiers in Ecology and the Environment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2(4)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: 191–198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http://www.</a:t>
            </a:r>
            <a:r>
              <a:rPr b="0" lang="hr-HR" sz="24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urbanwildlands</a:t>
            </a:r>
            <a:r>
              <a:rPr b="0" lang="hr-HR" sz="24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.</a:t>
            </a:r>
            <a:r>
              <a:rPr b="0" lang="hr-HR" sz="24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org</a:t>
            </a:r>
            <a:r>
              <a:rPr b="0" lang="hr-HR" sz="24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/</a:t>
            </a:r>
            <a:r>
              <a:rPr b="0" lang="hr-HR" sz="24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Resources</a:t>
            </a:r>
            <a:r>
              <a:rPr b="0" lang="hr-HR" sz="24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/LongcoreRich2004.pd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55:35Z</dcterms:created>
  <dc:creator>Ucenik</dc:creator>
  <dc:description/>
  <dc:language>en-US</dc:language>
  <cp:lastModifiedBy>Korisnik</cp:lastModifiedBy>
  <dcterms:modified xsi:type="dcterms:W3CDTF">2010-09-02T16:57:36Z</dcterms:modified>
  <cp:revision>5</cp:revision>
  <dc:subject/>
  <dc:title>Utjecaj svjetlosti ulične rasvjete na stres kod biljaka </dc:title>
</cp:coreProperties>
</file>