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29B99-5792-4F70-A06D-0E2032CD2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7A734-7196-4F8E-9C3D-EAFF7B550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7C575-2688-49E1-A210-9CF7903A1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259BC-DA7E-4089-80E1-D8C405252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1470F-18A1-4810-B0B3-40D6C890B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07CFE-2BCC-4C63-B5A8-337D3852B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FF77E-0856-4253-BC16-DC7CBEA72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B99D6-74C6-4772-92EF-1A9589623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25491-641E-47B6-A19D-B09190FD7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FB1C0-02F7-4AAC-98E4-45AB7DC24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B7BF4-7D75-4D3C-A70E-F7B150E43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9CCDE-8634-42B7-B130-E422ED0A0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CF513-428E-46D0-8B86-A58B4C523FA0}" type="slidenum">
              <a:rPr b="0" lang="hr-H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tfos.hr/" TargetMode="External"/><Relationship Id="rId2" Type="http://schemas.openxmlformats.org/officeDocument/2006/relationships/hyperlink" Target="http://www.os-vijenac-os.skole.hr/" TargetMode="External"/><Relationship Id="rId3" Type="http://schemas.openxmlformats.org/officeDocument/2006/relationships/hyperlink" Target="http://www.os-vijenac-os.skole.hr/" TargetMode="External"/><Relationship Id="rId4" Type="http://schemas.openxmlformats.org/officeDocument/2006/relationships/hyperlink" Target="http://www.os-vijenac-os.skole.hr/" TargetMode="External"/><Relationship Id="rId5" Type="http://schemas.openxmlformats.org/officeDocument/2006/relationships/hyperlink" Target="http://www.mojaenergija.hr/" TargetMode="External"/><Relationship Id="rId6" Type="http://schemas.openxmlformats.org/officeDocument/2006/relationships/hyperlink" Target="http://www.mojaenergija.hr/" TargetMode="External"/><Relationship Id="rId7" Type="http://schemas.openxmlformats.org/officeDocument/2006/relationships/hyperlink" Target="http://www.mojaenergija.hr/" TargetMode="External"/><Relationship Id="rId8" Type="http://schemas.openxmlformats.org/officeDocument/2006/relationships/hyperlink" Target="http://www.hrd-cie.hr/" TargetMode="External"/><Relationship Id="rId9" Type="http://schemas.openxmlformats.org/officeDocument/2006/relationships/hyperlink" Target="http://www.osijek.hr/" TargetMode="External"/><Relationship Id="rId10" Type="http://schemas.openxmlformats.org/officeDocument/2006/relationships/hyperlink" Target="http://www.parangal.hr/" TargetMode="External"/><Relationship Id="rId1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mailto:tanjaparis@net.hr" TargetMode="External"/><Relationship Id="rId2" Type="http://schemas.openxmlformats.org/officeDocument/2006/relationships/hyperlink" Target="mailto:tanjaparis@net.hr" TargetMode="External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733560" y="2130120"/>
            <a:ext cx="47242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OPTIMIZACIJA ULIČNE RASVJETE ŠKOLSKOG DVORIŠTA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OŠ VIJENAC, OSIJE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286000" y="571464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Tanja Par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914400" y="838080"/>
            <a:ext cx="29178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000" spc="-1" strike="noStrike">
                <a:solidFill>
                  <a:srgbClr val="000000"/>
                </a:solidFill>
                <a:latin typeface="Arial"/>
              </a:rPr>
              <a:t>LENI </a:t>
            </a:r>
            <a:r>
              <a:rPr b="0" lang="hr-HR" sz="4000" spc="-1" strike="noStrike">
                <a:solidFill>
                  <a:srgbClr val="000000"/>
                </a:solidFill>
                <a:latin typeface="Arial"/>
              </a:rPr>
              <a:t>- Numerčki Indikator Energije Rasvje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94920" y="1676160"/>
            <a:ext cx="716292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ednostavne i poboljšane smjernice za vrijednosti radnih sati rasvjete pod punim opterećenj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685800" y="3733920"/>
          <a:ext cx="8001000" cy="2914560"/>
        </p:xfrm>
        <a:graphic>
          <a:graphicData uri="http://schemas.openxmlformats.org/drawingml/2006/table">
            <a:tbl>
              <a:tblPr/>
              <a:tblGrid>
                <a:gridCol w="2000160"/>
                <a:gridCol w="2000520"/>
                <a:gridCol w="2000160"/>
                <a:gridCol w="2000160"/>
              </a:tblGrid>
              <a:tr h="1889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jek trajanja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( h/a 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rmalna vrijednost osvjetljenj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 lx 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nična vrijedno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 kWh/m2a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iljana vrijednost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 kWh/m2a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7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3" name=""/>
          <p:cNvSpPr/>
          <p:nvPr/>
        </p:nvSpPr>
        <p:spPr>
          <a:xfrm>
            <a:off x="764280" y="3124080"/>
            <a:ext cx="176724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lična rasvje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219320" y="1050840"/>
            <a:ext cx="6446880" cy="38656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600200" y="304920"/>
            <a:ext cx="505620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hipotez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4952880"/>
            <a:ext cx="7772400" cy="278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Uz minimalna ulaganja moguće je postići uštedu el. energije javne rasvjete u školskom dvorištu OŠ Vijenac, Osije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724280" y="1371600"/>
            <a:ext cx="3025800" cy="21193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00200" y="304920"/>
            <a:ext cx="505620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materijal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438280"/>
            <a:ext cx="76201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Book Antiqua"/>
              </a:rPr>
              <a:t>svjetlomj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Book Antiqua"/>
              </a:rPr>
              <a:t>spektrosk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Book Antiqua"/>
              </a:rPr>
              <a:t>računa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Book Antiqua"/>
              </a:rPr>
              <a:t>karta MO Vijenac I. Meštrović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Book Antiqua"/>
              </a:rPr>
              <a:t>sofware za design vanjske rasvje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1185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renski r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d na računal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62120" y="380880"/>
            <a:ext cx="505620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met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724280" y="2286000"/>
            <a:ext cx="252108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518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jerenje početnoga stan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ulacija na računal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ktivnosti u sanaciji stan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5791320" y="2895480"/>
            <a:ext cx="2265120" cy="32004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1066680" y="533520"/>
            <a:ext cx="50562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opis met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518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etfos.h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os-vijenac-os.</a:t>
            </a:r>
            <a:r>
              <a:rPr b="0" lang="hr-HR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skole</a:t>
            </a:r>
            <a:r>
              <a:rPr b="0" lang="hr-HR" sz="3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.h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www.</a:t>
            </a:r>
            <a:r>
              <a:rPr b="0" lang="hr-HR" sz="3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mojaenergija</a:t>
            </a:r>
            <a:r>
              <a:rPr b="0" lang="hr-HR" sz="3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.h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www.hrd-cie.h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www.osijek.h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www.parangal.h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9480" y="685800"/>
            <a:ext cx="376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literatura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4791240" y="692280"/>
            <a:ext cx="3676320" cy="53290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708120" y="620640"/>
            <a:ext cx="3725640" cy="540072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108000" y="6165720"/>
            <a:ext cx="903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Hvala na pažnji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hr-HR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tanjaparis</a:t>
            </a:r>
            <a:r>
              <a:rPr b="0" lang="hr-HR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@net.h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200400" y="533160"/>
            <a:ext cx="59436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304560" y="4419360"/>
            <a:ext cx="46479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648320" y="3505320"/>
            <a:ext cx="3809880" cy="28573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IMG_1067_resize.jpg osijek05 image by theBeli"/>
          <p:cNvPicPr/>
          <p:nvPr/>
        </p:nvPicPr>
        <p:blipFill>
          <a:blip r:embed="rId2"/>
          <a:stretch/>
        </p:blipFill>
        <p:spPr>
          <a:xfrm>
            <a:off x="457200" y="380880"/>
            <a:ext cx="32767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IKA</cp:lastModifiedBy>
  <dcterms:modified xsi:type="dcterms:W3CDTF">2010-09-03T07:42:13Z</dcterms:modified>
  <cp:revision>1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