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9EB-CC41-4E8B-97C3-2A2C4E41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0EF-049E-4F0B-8C0F-957A46C8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E73-6FD5-4C1E-8770-C251EDFF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3F5-3E37-4C02-943F-1D093B5F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D41-C366-46DB-BAFE-AEAA1BC6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060-E262-46C4-98A9-4B487B48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F90-6061-47D1-AC97-891E688C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2C4-6E77-40E4-9B17-3D7989E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BEB-47C4-4006-ADC2-77EE618C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F89-F682-4A66-83A8-388CC532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5AF-8235-437E-AF6C-AAF7182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ECC-28A9-4386-A2C5-8F666CB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0BD-5A7C-4A1C-AFA1-835E4A92A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r.wikipedia.org/wiki/Europa" TargetMode="External"/><Relationship Id="rId2" Type="http://schemas.openxmlformats.org/officeDocument/2006/relationships/hyperlink" Target="http://hr.wikipedia.org/wiki/Afrika" TargetMode="External"/><Relationship Id="rId3" Type="http://schemas.openxmlformats.org/officeDocument/2006/relationships/hyperlink" Target="http://hr.wikipedia.org/wiki/Azija" TargetMode="External"/><Relationship Id="rId4" Type="http://schemas.openxmlformats.org/officeDocument/2006/relationships/hyperlink" Target="http://hr.wikipedia.org/wiki/Madagaskar" TargetMode="External"/><Relationship Id="rId5" Type="http://schemas.openxmlformats.org/officeDocument/2006/relationships/hyperlink" Target="http://hr.wikipedia.org/wiki/1963." TargetMode="External"/><Relationship Id="rId6" Type="http://schemas.openxmlformats.org/officeDocument/2006/relationships/hyperlink" Target="http://hr.wikipedia.org/wiki/&#381;ivotinje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RELACIJA INTENZITETA ULIČNE RASVJETE I PONAŠANJE LEGLA SIVE ČAP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404640"/>
            <a:ext cx="6059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ORELACIJA INTENZITETA ULIČNE RASVJETE I DINAMIKE U  LEGLU SIVE ČAP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784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ladunče čaplje"/>
          <p:cNvPicPr/>
          <p:nvPr/>
        </p:nvPicPr>
        <p:blipFill>
          <a:blip r:embed="rId1"/>
          <a:stretch/>
        </p:blipFill>
        <p:spPr>
          <a:xfrm>
            <a:off x="3635280" y="357192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800" y="5969160"/>
            <a:ext cx="23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lađana Cvitiča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of. biologije i kem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Š Grab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POTEZ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zitet svjetlosti utječ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micanja razdoblja par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kluse budnost-spavanje u odraslih jedinki i pti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sa ptića pada proporcionalno izloženosti svjetl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08360" y="4345920"/>
            <a:ext cx="4878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Postoje četiri podvrste sive čapl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rdea cinerea cinerea Linnaeus, 1758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uropa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frika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, zapadna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zija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Ardea cinerea jouyi Clark, 1907. istočna Azi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Ardea cinerea firasa Hartert, 1917.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dagaskar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Ardea cinerea monicae Jouanin &amp; Roux,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963.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076720" y="404640"/>
          <a:ext cx="2718000" cy="3189240"/>
        </p:xfrm>
        <a:graphic>
          <a:graphicData uri="http://schemas.openxmlformats.org/drawingml/2006/table">
            <a:tbl>
              <a:tblPr/>
              <a:tblGrid>
                <a:gridCol w="1149480"/>
                <a:gridCol w="15685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stv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Animali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ljen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rdat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r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oniiform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odic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deidae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de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st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cinere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-.-Krunoslav Rac-.-Siva čaplja"/>
          <p:cNvPicPr/>
          <p:nvPr/>
        </p:nvPicPr>
        <p:blipFill>
          <a:blip r:embed="rId7"/>
          <a:stretch/>
        </p:blipFill>
        <p:spPr>
          <a:xfrm>
            <a:off x="900000" y="260280"/>
            <a:ext cx="2729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00" y="333000"/>
            <a:ext cx="40388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arenje:  veljača-travan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niježdenje: 1-6 j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nkubacija: 30 d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RIJEME ISTRAŽIV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travanj-srpan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5796000" cy="4365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797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ručje istraži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Duga Resa - CroMaps"/>
          <p:cNvPicPr/>
          <p:nvPr/>
        </p:nvPicPr>
        <p:blipFill>
          <a:blip r:embed="rId1"/>
          <a:stretch/>
        </p:blipFill>
        <p:spPr>
          <a:xfrm>
            <a:off x="250920" y="189000"/>
            <a:ext cx="7850160" cy="2732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40360" y="3244680"/>
            <a:ext cx="4817880" cy="361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812000" y="1413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63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3357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63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805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jesto istraži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IJAL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ele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ikro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undbl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pekt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vjetlo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kcelerometar u gnijezdu za mjerenje vibr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rduino plat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ačun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ikro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undbl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atrogasna diza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vije grupe jedinki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.grupa: stanište izloženo uličnoj rasvjeti (gradski park dr.F. Tuđm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. grupa: prirodno stanište (uz Mrežni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vaka gru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pektroskopom se određuje vrsta svjetilj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akcelerometar u gnijezdu sa računal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agom ispod gnijezda se mjeri prirast mase pti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 blizini gnijezda pričvršćen mikrofon sa soundblasterom (mjerenje glasanja jedin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hvaljujem na pažnji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Mladunče čaplje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457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28320" y="609300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cviticanin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8:26:38Z</dcterms:created>
  <dc:creator>Ucenik</dc:creator>
  <dc:description/>
  <dc:language>en-US</dc:language>
  <cp:lastModifiedBy>Ucenik</cp:lastModifiedBy>
  <dcterms:modified xsi:type="dcterms:W3CDTF">2010-09-02T18:52:56Z</dcterms:modified>
  <cp:revision>7</cp:revision>
  <dc:subject/>
  <dc:title>Slajd 1</dc:title>
</cp:coreProperties>
</file>