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E10F-3735-481D-B50A-5D5250BF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2C17-F7D7-4D94-A3F8-583EEB20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726C-51B5-4A7F-8322-84649D9A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DAA4-FF40-41BC-882A-4EB92E20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A574-F700-4724-918E-DBE611E3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FA6C-1DF5-4140-83BB-02F2A456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EC30-557A-419B-9EA5-4E30617B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1D19-A397-4C18-A376-7CECF9A2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0BD-E4CD-4091-A24F-84EC2BAD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54B6-BECF-4BC9-B1F0-4A054822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16DF-372D-48EF-980E-4F6C9C02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3B5C-9BF4-4C74-A0B1-41F75C70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9F2F-CD0B-4777-BC50-C632E9C8A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Korelacija intenziteta javne rasvjete i pojavnost reda </a:t>
            </a:r>
            <a:r>
              <a:rPr b="0" i="1" lang="hr-HR" sz="4000" spc="-1" strike="noStrike">
                <a:solidFill>
                  <a:srgbClr val="ffffff"/>
                </a:solidFill>
                <a:latin typeface="Arial"/>
              </a:rPr>
              <a:t>Aranea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onika Podvezanec, prof. biologije i kemij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Š Gornji Mihaljev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POTE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eći intenzitet svjetla javne rasvjete potiče pojavu reda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Aranea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na teritoriju ulice Tomaša Goričanca na jugu Čakov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1280" y="573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58920" y="4292640"/>
            <a:ext cx="2376360" cy="2212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932360" y="1700280"/>
            <a:ext cx="40291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369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9280" y="3186000"/>
            <a:ext cx="4897440" cy="3672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093080" y="3860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lica Tomaša Goričanca dan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24922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lica Tomaša Goričanca noć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JALI I MET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pektroskop (tip lam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otome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lekoz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ljučevi za determina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e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932360" y="4076640"/>
            <a:ext cx="3672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ongcore T and Rich C. 2004. Ecological light pollution. 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Front Ecol Environ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2(4): 191–19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kamura T and Yamashita S. 1997. Phototactic behavior of nocturnal and diurnal spiders: negative and positive phototaxes.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Zool Sci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: 199–2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Arial"/>
              </a:rPr>
              <a:t>Zahvaljujem na pažnji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onica.chem@yahoo.co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5:31:17Z</dcterms:created>
  <dc:creator>Ucenik</dc:creator>
  <dc:description/>
  <dc:language>en-US</dc:language>
  <cp:lastModifiedBy>MONIKA</cp:lastModifiedBy>
  <dcterms:modified xsi:type="dcterms:W3CDTF">2010-09-03T07:37:39Z</dcterms:modified>
  <cp:revision>3</cp:revision>
  <dc:subject/>
  <dc:title>Korelacija intenziteta javne rasvjete i pojavnost paučina</dc:title>
</cp:coreProperties>
</file>