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28B-294A-47D8-B775-7CD4A3D1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EC8-B52F-426C-A970-D5D2ECEA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FD3A-E820-4FC8-ABD5-1E86D65D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E89-3F93-4010-BBBE-11956DA3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E88F-FF2D-494C-BECA-217138CA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8332-6041-4457-BB61-F8019447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D1FF-4B82-4D18-91C2-F950732D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70A1-66C1-4BB3-A50A-CBE59327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41C6-C79F-41C4-8D74-67B028AD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E8CC-630F-4C4E-BF82-C3F57868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A39C-17C1-43FC-B0E9-7286A41E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7E0-92E1-4227-A45B-71D7257F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E535-1912-4414-8AF5-FD9E324F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0EDC-39B5-4F16-945A-0EBA4CDE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2E41-BB05-409D-AC94-72031576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7E3E-777F-4F45-A95F-50C86423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1CC8-B5A9-4823-9796-A7267D39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BFC-47C1-4322-ADC9-DF56FC45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79B-0502-41BF-8ECE-AA0CA3D4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EFA-1CB8-4199-B6C2-99B9D7D5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A53-A0A1-426E-A7D4-D64C26DF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0C6-7BD0-46D2-AD12-EE4216C1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B02-F811-4A31-BACB-6AA9DEE3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7A1-4543-4FF5-BDB7-1439F6B1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1181-1EB6-4013-8ED9-69DBCE132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D91A-915D-4794-887E-549B90B6A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Židovi u hrvatskom srednjovjekovlj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00"/>
                </a:solidFill>
                <a:latin typeface="Arial"/>
              </a:rPr>
              <a:t>Dr. sc. Ljiljana Dobrovša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00"/>
                </a:solidFill>
                <a:latin typeface="Arial"/>
              </a:rPr>
              <a:t>Institut “IvoPilar”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dnos Crkve prema Židovi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cjelokupni život Židova u srednjem vijeku najviše su utjecale odluke crkvenih autoriteta, a neke su se osobito odnosile na Židove. Sinode u Elviri (306.), Antiohiji (241), Laodiceji (350) te crkveni koncili u Nikeji (325 i 787) zabranili su kršćanima svaki doticaj sa Židovima. Sinode u Metzu (888) i Narbonni (1050) te III. </a:t>
            </a:r>
            <a:r>
              <a:rPr b="0" lang="hr-HR" sz="2400" spc="-1" strike="noStrike" u="sng">
                <a:solidFill>
                  <a:srgbClr val="333300"/>
                </a:solidFill>
                <a:uFillTx/>
                <a:latin typeface="Arial"/>
              </a:rPr>
              <a:t>Lateranski koncil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1179. počinje nametati Židovima općecrkvene restrikcije. </a:t>
            </a:r>
            <a:r>
              <a:rPr b="0" lang="hr-HR" sz="2400" spc="-1" strike="noStrike" u="sng">
                <a:solidFill>
                  <a:srgbClr val="333300"/>
                </a:solidFill>
                <a:uFillTx/>
                <a:latin typeface="Arial"/>
              </a:rPr>
              <a:t>Četvrti lateranski koncil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pod Inocentom III. (1215) odredio je Židovima obavezno nošenje žutog znaka i posebnu odjeću- moraju odvojeno živjeti od kršćana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pinske b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00"/>
                </a:solidFill>
                <a:latin typeface="Arial"/>
              </a:rPr>
              <a:t>papinske bule imale su odlučan utjecaj na Židove. Kao na primjer bula </a:t>
            </a:r>
            <a:r>
              <a:rPr b="1" i="1" lang="hr-HR" sz="1800" spc="-1" strike="noStrike">
                <a:solidFill>
                  <a:srgbClr val="333300"/>
                </a:solidFill>
                <a:latin typeface="Arial"/>
              </a:rPr>
              <a:t>Turbato corde</a:t>
            </a:r>
            <a:r>
              <a:rPr b="1" lang="hr-HR" sz="1800" spc="-1" strike="noStrike">
                <a:solidFill>
                  <a:srgbClr val="333300"/>
                </a:solidFill>
                <a:latin typeface="Arial"/>
              </a:rPr>
              <a:t> (1267) Klementa IV koja ovlašćuje inkviziciju u Španjolskoj da progoni Židove, bula </a:t>
            </a:r>
            <a:r>
              <a:rPr b="1" i="1" lang="hr-HR" sz="1800" spc="-1" strike="noStrike">
                <a:solidFill>
                  <a:srgbClr val="333300"/>
                </a:solidFill>
                <a:latin typeface="Arial"/>
              </a:rPr>
              <a:t>Summi dei nostri prvidentiam</a:t>
            </a:r>
            <a:r>
              <a:rPr b="1" lang="hr-HR" sz="1800" spc="-1" strike="noStrike">
                <a:solidFill>
                  <a:srgbClr val="333300"/>
                </a:solidFill>
                <a:latin typeface="Arial"/>
              </a:rPr>
              <a:t> (1553) Julija III o spaljivanju Talmuda i oduzimanju židovskih knjiga. Bula </a:t>
            </a:r>
            <a:r>
              <a:rPr b="1" i="1" lang="hr-HR" sz="1800" spc="-1" strike="noStrike">
                <a:solidFill>
                  <a:srgbClr val="333300"/>
                </a:solidFill>
                <a:latin typeface="Arial"/>
              </a:rPr>
              <a:t>Cum nimis absurdum</a:t>
            </a:r>
            <a:r>
              <a:rPr b="1" lang="hr-HR" sz="1800" spc="-1" strike="noStrike">
                <a:solidFill>
                  <a:srgbClr val="333300"/>
                </a:solidFill>
                <a:latin typeface="Arial"/>
              </a:rPr>
              <a:t> (1555) Pavla IV propisuje Židovima da stanuju u getu 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333300"/>
                </a:solidFill>
                <a:latin typeface="Arial"/>
              </a:rPr>
              <a:t>Bilo je papa koji su štitili Židove (kao što su Grgur Veliki u 6. st.; Aleksandar II u 10. st., Klement V, Klement VI dao im je utočište u Avignonu, Honorie III. i Urban V. branili su ih od nasilnog pokrštavanja, Siksto V. podario im povlastice, Grgur IX ih je branio od krvavog protjerivanja križara, a neke pape su ih štitile od seljaka i optužbi da truju izvore i zdence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333300"/>
                </a:solidFill>
                <a:latin typeface="Arial"/>
              </a:rPr>
              <a:t>Aleksandar VI (1492.-1503.) primao je protjerane Židove iz Španjolske u svoju državu. Lav X (1513.-21) ediktom je oštro osudio one koji govore protiv Židova. Pavao III (1534.-1549.) brani Židove od portugalskog kralja i u svojoj državi im je dao da slobodno borave i trguju i da ne trebaju nositi posebne znakove i odjeću te da ne trebaju plaćati veće poreze od kršćana.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73850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00120" y="189000"/>
            <a:ext cx="7491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Židovi u Hrvatskoj 1102.-1526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Gradec-Zagreb-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1355. prvi spomen Židova “Eliama”. Spominju se još 1357., 1382., 1387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1444. i 1459. na Gradecu se spominju kuće- </a:t>
            </a:r>
            <a:r>
              <a:rPr b="0" i="1" lang="hr-HR" sz="2400" spc="-1" strike="noStrike">
                <a:solidFill>
                  <a:srgbClr val="333300"/>
                </a:solidFill>
                <a:latin typeface="Arial"/>
              </a:rPr>
              <a:t>domus Judaeorum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te u 15. st. sporovi sa Ilijom Židovom sinom Šimonovi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oko 1450. dolazi do protjerivanja Židova iz Zagreba no okolnosti nisu poznat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Od 1465. do 1483. još nekoliko puta spominjanje Židov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Židovi protjerani iz Hrvatske 1526. i vraćaju se u 18. st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Židovi u Hrvatskoj 1102.-1526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00"/>
                </a:solidFill>
                <a:latin typeface="Arial"/>
              </a:rPr>
              <a:t>Istra</a:t>
            </a:r>
            <a:r>
              <a:rPr b="0" lang="hr-HR" sz="2200" spc="-1" strike="noStrike">
                <a:solidFill>
                  <a:srgbClr val="333300"/>
                </a:solidFill>
                <a:latin typeface="Arial"/>
              </a:rPr>
              <a:t>- naseljavanje 14./15.st. i sve do 17.st. -Izola, Piran, Cres (1577.), Kopar (1386.),  Poreč (1450.), Milje, Rovinj, Pula (15.st.)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00"/>
                </a:solidFill>
                <a:latin typeface="Arial"/>
              </a:rPr>
              <a:t>Rijeka</a:t>
            </a:r>
            <a:r>
              <a:rPr b="0" lang="hr-HR" sz="2200" spc="-1" strike="noStrike">
                <a:solidFill>
                  <a:srgbClr val="333300"/>
                </a:solidFill>
                <a:latin typeface="Arial"/>
              </a:rPr>
              <a:t>- 15.st. –prema nekima doselili se 1441., krajem 15.st. imaju dućane i bave se sitnom trgovinom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00"/>
                </a:solidFill>
                <a:latin typeface="Arial"/>
              </a:rPr>
              <a:t>Zadar-</a:t>
            </a:r>
            <a:r>
              <a:rPr b="0" lang="hr-HR" sz="2200" spc="-1" strike="noStrike">
                <a:solidFill>
                  <a:srgbClr val="333300"/>
                </a:solidFill>
                <a:latin typeface="Arial"/>
              </a:rPr>
              <a:t> 1398. Mozes iz Francuske želi otvoriti svoju poslovnicu, prisutni sve do 1423. kada je potvrđeno da su vlasnici zemljišta a i kasnije sve do iza 1491.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00"/>
                </a:solidFill>
                <a:latin typeface="Arial"/>
              </a:rPr>
              <a:t>Šibenik</a:t>
            </a:r>
            <a:r>
              <a:rPr b="0" lang="hr-HR" sz="2200" spc="-1" strike="noStrike">
                <a:solidFill>
                  <a:srgbClr val="333300"/>
                </a:solidFill>
                <a:latin typeface="Arial"/>
              </a:rPr>
              <a:t>-1423. pozivaju se Židovi u grad kako bi započeli s bankarskom djelatnošću. Prva banka je otvorena tek 1586. godine, a druga 1622.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Židovi u Dubrovnik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Dubrovnik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- 1326. Prvi Židov u Dubrovniku- liječnik Johaness iz Akvileje. 1354.-1357.- “magister Benedikt”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Od 1367. do 1368. dolaze žid. trgovci u Gra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1421. Prvi Židov stanovnik Dubrovnika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Krajem 15. i poč.16.st. češće se spominju Židovi-izbjeglice. (1502. optužba za obredno ubojstvo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1515. tjeraju ih iz grada i ponovno pozivaju 1532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1538. osnovana je općina, bratovština </a:t>
            </a:r>
            <a:r>
              <a:rPr b="0" i="1" lang="hr-HR" sz="2400" spc="-1" strike="noStrike">
                <a:solidFill>
                  <a:srgbClr val="333300"/>
                </a:solidFill>
                <a:latin typeface="Arial"/>
              </a:rPr>
              <a:t>Universitas Scuola degli Ebrei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Geto se osniva u Žudioskoj ulici 1546. (1589. širi, kao i 1755.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nagoga u Dubrovnik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237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Židovi u Split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Split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- naseljavanje prema nekima već u VII. st. s ostalim stanovnicima Salone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Prvi pouzdani izvori potječu tek iz 14. st. kada se spominje velika sinagoga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Doseljavanje Židova tek krajem 15. i poč.16.st.- dvije grupacije Židova u Splitu PONENTINI i LEVANTINI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Za Židove u Splitu važili su zakoni koji su se donosili u Veneciji sve do 1808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U 16. st. najznačajnija osoba je židovski poduzetnik Daniel Rodriges- osnivač splitske luke (skele). Prihvaćeno tek 1577. , a otvoreno 1592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Krajem 16. st. osnovana vjerojatno općina </a:t>
            </a:r>
            <a:r>
              <a:rPr b="0" i="1" lang="hr-HR" sz="2400" spc="-1" strike="noStrike">
                <a:solidFill>
                  <a:srgbClr val="333300"/>
                </a:solidFill>
                <a:latin typeface="Arial"/>
              </a:rPr>
              <a:t>Scuola degli Ebrei, 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1592. bank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Geto je osnovan 1778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Times New Roman"/>
              </a:rPr>
              <a:t>Tradicionalni antisemitizam ili antijudaiz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300"/>
                </a:solidFill>
                <a:latin typeface="Arial"/>
              </a:rPr>
              <a:t>Pojavu i jezgru  kršćanskog antijudaizam oslikavaju tri predrasude: vjerovanje da Židovi ne razumiju i neprihvaćanju kršćanstvo, optužba da su «bogoubojice» i pretpostavka da Bog kažnjava Židove zbog bogoubojstva Isusa Krista. 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300"/>
                </a:solidFill>
                <a:latin typeface="Arial"/>
              </a:rPr>
              <a:t>U 13. stoljeću razvija se i poseban odnos prema Talmudu, te je naređeno da se svi primjerci Talmuda i njegovi komentari zapale. 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300"/>
                </a:solidFill>
                <a:latin typeface="Arial"/>
              </a:rPr>
              <a:t>Optužba za obredno ubojstvo 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300"/>
                </a:solidFill>
                <a:latin typeface="Arial"/>
              </a:rPr>
              <a:t>Optužba da truju bunare i šire “crnu smrt-kugu”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hr-HR" sz="4400" spc="-1" strike="noStrike">
                <a:solidFill>
                  <a:srgbClr val="000000"/>
                </a:solidFill>
                <a:latin typeface="Times New Roman"/>
              </a:rPr>
              <a:t>Marginalci”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00"/>
                </a:solidFill>
                <a:latin typeface="Arial"/>
              </a:rPr>
              <a:t>Židovi su u srednjem vijeku marginalna skupina - zbog pripadnosti manjinskoj vjerskoj grupaciji i zbog toga nisu uživali puna građanska prava (nisu pripadnici kršćanske zajednic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00"/>
                </a:solidFill>
                <a:latin typeface="Arial"/>
              </a:rPr>
              <a:t>Židovske zajednice su u mnogome bile marginalizirane u životu gradova, a njihovi pripadnici su se svakodnevno susretali s nerazumijevanjem, predrasudama i progonom</a:t>
            </a: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00"/>
                </a:solidFill>
                <a:latin typeface="Arial"/>
              </a:rPr>
              <a:t>1. </a:t>
            </a: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Grga Novak, </a:t>
            </a:r>
            <a:r>
              <a:rPr b="0" i="1" lang="hr-HR" sz="2000" spc="-1" strike="noStrike">
                <a:solidFill>
                  <a:srgbClr val="333300"/>
                </a:solidFill>
                <a:latin typeface="Arial"/>
              </a:rPr>
              <a:t>Židovi u povijesti Splita</a:t>
            </a: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, Split, 1920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2. Duško Kečkemet, </a:t>
            </a:r>
            <a:r>
              <a:rPr b="0" i="1" lang="hr-HR" sz="2000" spc="-1" strike="noStrike">
                <a:solidFill>
                  <a:srgbClr val="333300"/>
                </a:solidFill>
                <a:latin typeface="Arial"/>
              </a:rPr>
              <a:t>Židovi u povijesti Splita</a:t>
            </a: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, Split, 1971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3. Jorjo Tadić, </a:t>
            </a:r>
            <a:r>
              <a:rPr b="0" i="1" lang="hr-HR" sz="2000" spc="-1" strike="noStrike">
                <a:solidFill>
                  <a:srgbClr val="333300"/>
                </a:solidFill>
                <a:latin typeface="Arial"/>
              </a:rPr>
              <a:t>Jevreji u Dubrovniku do polovice XVII.st</a:t>
            </a: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. Sarajevo, 1937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4. Bernard Stulli, </a:t>
            </a:r>
            <a:r>
              <a:rPr b="0" i="1" lang="hr-HR" sz="2000" spc="-1" strike="noStrike">
                <a:solidFill>
                  <a:srgbClr val="333300"/>
                </a:solidFill>
                <a:latin typeface="Arial"/>
              </a:rPr>
              <a:t>Židovi u Dubrovniku</a:t>
            </a: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, Zagreb, 1989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5. Ivo Goldstein, Zagrebačka židovska općina od osnutka do 1941., </a:t>
            </a:r>
            <a:r>
              <a:rPr b="0" i="1" lang="hr-HR" sz="2000" spc="-1" strike="noStrike">
                <a:solidFill>
                  <a:srgbClr val="333300"/>
                </a:solidFill>
                <a:latin typeface="Arial"/>
              </a:rPr>
              <a:t>Dva stoljeća povijesti i kulture Židova u Zagrebu i Hrvatskoj</a:t>
            </a: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, Zagreb, 1998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6. Katalog izložbe, </a:t>
            </a:r>
            <a:r>
              <a:rPr b="0" i="1" lang="hr-HR" sz="2000" spc="-1" strike="noStrike">
                <a:solidFill>
                  <a:srgbClr val="333300"/>
                </a:solidFill>
                <a:latin typeface="Arial"/>
              </a:rPr>
              <a:t>Židovi na tlu Hrvatske</a:t>
            </a: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, Zagreb, 1998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7. Melita Švob, </a:t>
            </a:r>
            <a:r>
              <a:rPr b="0" i="1" lang="hr-HR" sz="2000" spc="-1" strike="noStrike">
                <a:solidFill>
                  <a:srgbClr val="333300"/>
                </a:solidFill>
                <a:latin typeface="Arial"/>
              </a:rPr>
              <a:t>Židovi u Hrvatskoj, I.i II.,</a:t>
            </a: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 Zagreb, 2004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8. Maren Frejdenberg, </a:t>
            </a:r>
            <a:r>
              <a:rPr b="0" i="1" lang="hr-HR" sz="2000" spc="-1" strike="noStrike">
                <a:solidFill>
                  <a:srgbClr val="333300"/>
                </a:solidFill>
                <a:latin typeface="Arial"/>
              </a:rPr>
              <a:t>Židovi na Balkanu na isteku srednjeg vijeka</a:t>
            </a: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, Zagreb, 2000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9. Ivo Goldstein, Židovi na Gradecu od 14.st. do 1848., </a:t>
            </a:r>
            <a:r>
              <a:rPr b="0" i="1" lang="hr-HR" sz="2000" spc="-1" strike="noStrike">
                <a:solidFill>
                  <a:srgbClr val="333300"/>
                </a:solidFill>
                <a:latin typeface="Arial"/>
              </a:rPr>
              <a:t>Zagrebački Gradec 1242.-1850</a:t>
            </a:r>
            <a:r>
              <a:rPr b="0" lang="hr-HR" sz="2000" spc="-1" strike="noStrike">
                <a:solidFill>
                  <a:srgbClr val="333300"/>
                </a:solidFill>
                <a:latin typeface="Arial"/>
              </a:rPr>
              <a:t>., Zagreb, 1994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Židovi u Antici na hrvatskom prostor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Ne zna se kada su Židovi došli na prostore južnoslavenskih krajev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Neki smatraju da su Židovi na ovim prostorima već od vremena Aleksandra Makedonskog-4. st. pr.n.e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Dolazili su s rimskim postrojbama i bavili se raznim zanatima i obrtima ili bili rimski robovi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Antička </a:t>
            </a:r>
            <a:r>
              <a:rPr b="0" i="1" lang="hr-HR" sz="2400" spc="-1" strike="noStrike">
                <a:solidFill>
                  <a:srgbClr val="333300"/>
                </a:solidFill>
                <a:latin typeface="Arial"/>
              </a:rPr>
              <a:t>Mursa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(današnji Osijek)- 2./3. st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Senj – 3. st. nadgrobni spomenik Aureliusa Dionisiusa iz Tiberijas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Salona- 2./3. st. židovsko groblje izvan zidina grada i brojni židovski predmeti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Muć i Benkovac- pronađene uljanice 2./3 st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Židovi u ranom srednjem vijeku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ba hrvatskih narodnih vladara (925.-1102.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Tomislav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– oštre mjere protiv trgovaca robljem Arapa-Saracena i Židov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Kralj Krešimir u svojoj službi imao dvojicu Židova- posrednici s ostalim svijeto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Cca 915.-cca. 970.- delegacija hrvatskog kralja Krešimira II. 953. u Cordobi među njima dvojica Židova Mar Shaul i Mar Yosef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Križarski ratovi (1906., 1146. i 1189.-1193.) doveli do pogroma i pljačkanj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Nakon pogroma u Porajnju Židovi se sele u Austriju i Ugarsk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Židovi od 1102.-1526.u Ugarsko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Sv. Stjepan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(994.-1038.)- njegovom odlukom zabranjeno je Židovima biti svjedocima u parnicama između kršćana i Židov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Ladislav 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(1077.-1095.)- sinoda u Szabolcu 1092. dekretom zabranjuje Židovima imati žene kršćanke te robove kršćan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Arpadovići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– 1101. </a:t>
            </a: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Koloman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dekret proširuje i u “Židovskim zakonima” zabranjuje Židovima da imaju vlastito zemljište, unajmljeno smiju obrađivati samo svojim rukama. Mogli su kupiti nekretnine, ali samo unutar biskupskih središta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Od Kolomana do Andrije II. (1102.- 1205.) nema zakona protiv Židova – Židovi su kraljevi komornici u kovaonicama novaca, solarskim i poreznim uredi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Židovi od 1102.-1526.u Ugarsko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Andrija II.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(1205.-1235.) neke privilegije (da mogu postati kraljevi komornici)  Židovi su 1222. </a:t>
            </a:r>
            <a:r>
              <a:rPr b="0" i="1" lang="hr-HR" sz="2400" spc="-1" strike="noStrike">
                <a:solidFill>
                  <a:srgbClr val="333300"/>
                </a:solidFill>
                <a:latin typeface="Arial"/>
              </a:rPr>
              <a:t>Zlatnom bulom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čl.24. izgubili da bi ih uslijed gospodarskog propadanja povratili 1226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Bela IV.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(1235.-1270.) ponovno je imenovao Židova kr. komornikom i povjerio Židovima kovanje novaca. Godine </a:t>
            </a: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1251.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Bela je donio privilegije Židovima koje su garantirale neka prava koja su ostala na snazi do 1526. godine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Stjepan V.(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1270.-1272.) i </a:t>
            </a: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Ladislav IV. Kumanac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(1272.-1290.)-Židovi imaju povoljan položaj u Ugarskoj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Židovi od 1102.-1526.u Ugarsko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Andrija III. Mlečanin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(1291.-1301.) proglasio privilegije za židovsku zajednicu u Požun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U 14. st. brojni problemi za Židove u Ugarskoj, osobito za </a:t>
            </a: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Ludovika I. Velikog Anžuvinca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(1342.-1382.) optužbe za pojavu kuge, 1360. Ludovik tjera Židove iz Mađarskog kraljevstva jer se ne žele pokrstiti, ali se oni brzo vraćaju natrag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U 14. st. povremene zajednice u Ugarskoj- najznačajnija u Budimu i Požun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Žigmund Luksemburški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(1385.-1437.)- istovremeno dok im je pokušao natovariti što više nameta, omogućio im je neke privilegije-nakon smrti sve odluke su opozvan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Židovi od 1102.-1526.u Ugarsko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Albert Habsburški (1437.-1439.)- 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bolji tretman prema Židovima u Mađarskom kraljevstvu nego li prema Židovima u Austriji i Njemačkoj. Potvrdio je privilegije Bele IV. i Žigmunda Luksemburškog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Elizabeta Anžuvinska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(1439.-1440.) i </a:t>
            </a: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Vladislav I. Jagelović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(1440.-1444.) – prema Židovima se odnosili kao i prethodnici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Ladislav V. Posmrtni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(1444.-1457.)- uz njega </a:t>
            </a:r>
            <a:r>
              <a:rPr b="1" lang="hr-HR" sz="2400" spc="-1" strike="noStrike">
                <a:solidFill>
                  <a:srgbClr val="333300"/>
                </a:solidFill>
                <a:latin typeface="Arial"/>
              </a:rPr>
              <a:t>Janos Hunjadi-</a:t>
            </a:r>
            <a:r>
              <a:rPr b="0" lang="hr-HR" sz="2400" spc="-1" strike="noStrike">
                <a:solidFill>
                  <a:srgbClr val="333300"/>
                </a:solidFill>
                <a:latin typeface="Arial"/>
              </a:rPr>
              <a:t> pružena zaštita određenim žid. zajednicama, odnosno Ž. su uživali zaštitu i mir onoliko dugo koliko su služili interesima kralja, odnosno namjesnika Hunjadi-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Židovi od 1102.-1526.u Ugarsko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00"/>
                </a:solidFill>
                <a:latin typeface="Arial"/>
              </a:rPr>
              <a:t>Matijaš Korvin</a:t>
            </a:r>
            <a:r>
              <a:rPr b="0" lang="hr-HR" sz="2800" spc="-1" strike="noStrike">
                <a:solidFill>
                  <a:srgbClr val="333300"/>
                </a:solidFill>
                <a:latin typeface="Arial"/>
              </a:rPr>
              <a:t> (1458.-1490.)- podvojen stav prema Židovima. Osnovao im je židovsku instituciju na čelu s žid. starješinom, pozivao ih u službu na dvor, a s druge strane povećavao im poreze, i podržavao one židovske obitelji koje su konvertiral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00"/>
                </a:solidFill>
                <a:latin typeface="Arial"/>
              </a:rPr>
              <a:t>U Podravini najuglednija pokrštena židov. Obitelj Ernuszt-a (Ernušta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00"/>
                </a:solidFill>
                <a:latin typeface="Arial"/>
              </a:rPr>
              <a:t>Od Habsburgovaca (od 1526.) restriktivniji zakon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09:56:42Z</dcterms:created>
  <dc:creator>Ljiljana Dobrovšak</dc:creator>
  <dc:description/>
  <dc:language>en-US</dc:language>
  <cp:lastModifiedBy>Miroslav Micanovic</cp:lastModifiedBy>
  <dcterms:modified xsi:type="dcterms:W3CDTF">2008-02-01T08:19:04Z</dcterms:modified>
  <cp:revision>9</cp:revision>
  <dc:subject/>
  <dc:title>Slide 1</dc:title>
</cp:coreProperties>
</file>