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29C-6815-4514-86F6-62EE13A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310-2964-4A2D-8D67-91FFA732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481-65CF-4537-9F83-C5685D4E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267-01B4-4142-9CD1-0D037DF5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53FE-36C6-454A-8791-CD093ED2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0AC-855D-43D7-B969-8F598285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CFF-810E-42A6-BE92-6B8A5B5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ECB2-DD62-4E58-8CB2-03A58FA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795-4586-4C03-A45F-8411E61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FDC-0772-443F-9A19-CDC9BA63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C315-5EF9-44C1-A138-614B891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E03-0672-4FD8-A7A9-EB6ABFEA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B0BF-FB13-4FD2-923B-BD50A86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BEF8-586F-4819-82CF-56C548A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EAFB-360C-4CE4-83CD-DA71B32F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DA68-63A3-488C-A463-08F24768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12B-6AC0-4423-88B4-82D8A01A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ED5-25D4-4976-9128-7631DD2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58A-83E8-414B-8ECB-C2FB319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156-7A12-4A22-8F4D-312FE304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BF9-8395-4CEE-892E-225330A2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40E-0297-4D53-8EC6-CD17BC8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61B-114C-483B-B0E1-E2F2276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43D-4DCF-4C1B-824B-DBBF08F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0A5A-AD9E-4FB2-9359-FEB26CDBC95A}" type="slidenum">
              <a:rPr b="0" lang="hr-H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418E-B066-4AB2-A011-58F0049AB374}" type="slidenum">
              <a:rPr b="0" lang="hr-H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Zadarska blažena dj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3823920"/>
            <a:ext cx="7854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Zadar, Hotel Funimation, 10.-11. siječnja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66"/>
                </a:solidFill>
                <a:latin typeface="Verdana"/>
              </a:rPr>
              <a:t>Andreja Krnić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66"/>
                </a:solidFill>
                <a:latin typeface="Verdana"/>
              </a:rPr>
              <a:t>OŠ “Petar Zoranić”, 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Zadarsko nahodište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valjak (</a:t>
            </a:r>
            <a:r>
              <a:rPr b="0" i="1" lang="en-US" sz="3000" spc="-1" strike="noStrike">
                <a:solidFill>
                  <a:srgbClr val="336666"/>
                </a:solidFill>
                <a:latin typeface="Verdana"/>
              </a:rPr>
              <a:t>busola, kolo, obrtaljka</a:t>
            </a: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krštenje nahoda – ime i prez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označavanje nahoda slovom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davanje nahoda na brigu vanjskim hranitelj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velik mortalitet nahoda, i do 9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BERTOŠA, Mislava (2005)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Djeca iz obrtaljke: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nametnuto ime i izgubljeni identiteti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Zagreb:Profil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JELIĆ, Roman (1963), Zadarsko nahodište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Radovi Instituta JAZU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u Zadru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213-2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ŠKARICA, Miloš (1961), Nahodišta i nahodi u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Dalmaciji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Radovi Instituta JAZU u Zadru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231-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PEROVIĆ,  Slavko (2005), Roman Jelić i nahodišta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Medica Jadertin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17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jedlo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6666"/>
                </a:solidFill>
                <a:latin typeface="Verdana"/>
              </a:rPr>
              <a:t>6. razred OŠ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Tema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 Hrvatska u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doba Arpadovića i Anžuvinac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"…opisati razvoj srednjovjekovnog Dubrovnika te prilike u srednjovjekovnoj Dalmaciji i Istri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6666"/>
                </a:solidFill>
                <a:latin typeface="Verdana"/>
              </a:rPr>
              <a:t>7. razred OŠ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Tema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 Hrvatska u sklopu Habsburške Monarhije (Austro-Ugarska) u drugoj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polovici 19. i na početku 20.st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"…opisati politički, gospodarski i kulturni razvoj Dalmacije, Istre i Vojne Krajine na prijelazu iz 19. u 20. st. (detaljnije na razini zavičajn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povijesti)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Zadarska blažena dje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 aktivnost za sudion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99488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cilj: prijedlozi aktivnosti učenika pri obradi teme povijesti, razvoja i uvjeta rada zadarskog nahod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materijal: prilagođeni tekstovi o zadarskom nahodištu, članci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Konvencije o pravima dj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pregledajte materijal, individualno promislite, prodiskutirajte u grupama i zapišite prijedloge te ih predstav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predviđeno vrijeme: 20 - 25 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Zadarska blažena dj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Verdana"/>
              </a:rPr>
              <a:t>Prijedlog pripreme nastavne jedinice za obradu u 6.r. O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23640" y="2276280"/>
            <a:ext cx="619308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Verdana"/>
              </a:rPr>
              <a:t>HVALA NA PAŽNJI I SUDJELOVANJ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336666"/>
                </a:solidFill>
                <a:latin typeface="Verdana"/>
              </a:rPr>
              <a:t>.ali nismo gotov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81010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Zadarsko nahodište- uvodne napome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Radionica- aktivnosti za sudionik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336666"/>
                </a:solidFill>
                <a:latin typeface="Verdana"/>
              </a:rPr>
              <a:t>Zadarsko nahodište-</a:t>
            </a: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 prezentacija prijedloga nastavne jedinice (za O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Pitanja i diskusija, evalu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adržaj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aritativne ustano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domovi za strance (ksenodohij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bolnice (nozokomij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sirotišta  (orfanotrofij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ubožnice (ptohotrofij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domovi za stare (gerontokomij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nahodišta (brefotrofij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640" y="190080"/>
            <a:ext cx="69868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finicij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9948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336666"/>
                </a:solidFill>
                <a:latin typeface="Verdana"/>
              </a:rPr>
              <a:t>Nahodišta</a:t>
            </a: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 – ustanove za zbrinjavanje ostavljene (izložene) novorođenčadi; vremenom su se u njima zbrinjavala i nezakonita dje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336666"/>
                </a:solidFill>
                <a:latin typeface="Verdana"/>
              </a:rPr>
              <a:t>Nahod, nahoče</a:t>
            </a: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 – ostavljeno, izloženo novorođenče čije se porijeklo nije istraživa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Prva nahodišta u</a:t>
            </a:r>
            <a:r>
              <a:rPr b="0" lang="hr-HR" sz="4200" spc="-1" strike="noStrike">
                <a:solidFill>
                  <a:srgbClr val="000000"/>
                </a:solidFill>
                <a:latin typeface="Arial"/>
              </a:rPr>
              <a:t> Europ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1905120"/>
          <a:ext cx="7778880" cy="4114800"/>
        </p:xfrm>
        <a:graphic>
          <a:graphicData uri="http://schemas.openxmlformats.org/drawingml/2006/table">
            <a:tbl>
              <a:tblPr/>
              <a:tblGrid>
                <a:gridCol w="3672000"/>
                <a:gridCol w="41068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GRAD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GODINA/STOLJEĆE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Milano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785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Montpellier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062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Paris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070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Rim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3. st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Venecija/Napulj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4. st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Nahodišta u Dalmaci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05120"/>
          <a:ext cx="7923240" cy="4114800"/>
        </p:xfrm>
        <a:graphic>
          <a:graphicData uri="http://schemas.openxmlformats.org/drawingml/2006/table">
            <a:tbl>
              <a:tblPr/>
              <a:tblGrid>
                <a:gridCol w="3600360"/>
                <a:gridCol w="43228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GRAD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GODINA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Zadar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409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Dubrovnik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432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Hvar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579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Kotor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610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Split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704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Šibenik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66"/>
                          </a:solidFill>
                          <a:latin typeface="Verdana"/>
                        </a:rPr>
                        <a:t>1808.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azivl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Nahodiš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Hospital milosrđa ili Milosrdna kuć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kuća milinja, brefanotrofij, domus expositor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Naho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kraljevo dite, blaženo dite, siroče, izloženik, dite milinja, esposito, dite majke nemuž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Zadarsko nahodišt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C.F. Bianchi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Zara cristian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Zara, 18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Sabalich G.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Guida archeologica di Zar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Zara, 18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Benvenuti de A.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Storia di Zara dal 1409 al 1797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Milano, 19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Brunelli Vit.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La Domenic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 No.34, Zara, 18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Anonim, 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Notizie istoriche dell</a:t>
            </a:r>
            <a:r>
              <a:rPr b="0" i="1" lang="en-US" sz="2400" spc="-1" strike="noStrike">
                <a:solidFill>
                  <a:srgbClr val="336666"/>
                </a:solidFill>
                <a:latin typeface="Verdana"/>
              </a:rPr>
              <a:t>á</a:t>
            </a:r>
            <a:r>
              <a:rPr b="0" i="1" lang="hr-HR" sz="2400" spc="-1" strike="noStrike">
                <a:solidFill>
                  <a:srgbClr val="336666"/>
                </a:solidFill>
                <a:latin typeface="Verdana"/>
              </a:rPr>
              <a:t> di Zara</a:t>
            </a: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, 18.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66"/>
                </a:solidFill>
                <a:latin typeface="Verdana"/>
              </a:rPr>
              <a:t>Miloš Škarica, Slavko Perović, Roman Je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Zadarsko nahodišt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1409. – 194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lokacija se mijenj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financirano na teret gradske riz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skrbnike je imenovao gradski knez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	</a:t>
            </a: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plemić i građanin – na 1 godi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	</a:t>
            </a:r>
            <a:r>
              <a:rPr b="0" lang="hr-HR" sz="3000" spc="-1" strike="noStrike">
                <a:solidFill>
                  <a:srgbClr val="336666"/>
                </a:solidFill>
                <a:latin typeface="Verdana"/>
              </a:rPr>
              <a:t>upraviteljica (priorica) nahodiš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2:02:38Z</dcterms:created>
  <dc:creator>Andreja</dc:creator>
  <dc:description/>
  <dc:language>en-US</dc:language>
  <cp:lastModifiedBy>Andreja</cp:lastModifiedBy>
  <dcterms:modified xsi:type="dcterms:W3CDTF">2008-01-09T23:07:56Z</dcterms:modified>
  <cp:revision>39</cp:revision>
  <dc:subject/>
  <dc:title>Zadarska blažena djeca</dc:title>
</cp:coreProperties>
</file>