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366-0FE4-4CAC-94FD-6AB7081F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5B8-2447-4D7E-92E3-DC97BEF4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803-3E44-4761-A621-EC4CF352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FBA-EE6C-4AE4-B8CD-268EFF77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A10-28AA-45CB-B2A4-80742D4C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AB6-6083-408E-8ECC-707EC704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65E-0A02-4FA4-A4BC-646B97E7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B2A-00CB-4095-8F9A-A6BDC463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9EC-2580-4434-88B9-79F53835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9BC-B933-477F-9D7A-C5596BF5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1BE-17E7-4EEB-8F6E-6E55CE25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4C6-C40E-413F-8A68-27BF36A6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8FDC-4F84-4C24-92BA-CA6C46D88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ga.gov/cgi-bin/pimage?414+0+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dley.ox.ac.uk/dept/scwmss/wmss/medieval/jpegs/lat/liturg/g/500/00500873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čni skup za voditelje županijskih stručnih vijeća, mentore i savjetnik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arginalne skupine u hrvatskom srednjovjekovl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r. sc. Zoran Ladić, Odsjek za povijesne znanosti HAZ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ogalj i gubavac izliječeni na grobu sv. Nikole, Gentile de Fabriano, 142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image of The Crippled and Sick Cured at the Tomb of Saint Nichol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916280"/>
            <a:ext cx="4159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ikaz sluge na radu u gospodarevoj kuhinji, 14. 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2320920"/>
            <a:ext cx="547236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7280" y="612720"/>
          <a:ext cx="6913800" cy="57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612720"/>
                    <a:ext cx="69138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stamba siromašnih u kasnosrednjovjekovnoj Engle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1685880"/>
            <a:ext cx="662472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. Martin i prosjak: Engleski brevijar iz 14. 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1566720"/>
            <a:ext cx="7345440" cy="5092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6125760"/>
            <a:ext cx="133200" cy="1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v. Franjo prima stigmate: Nizozemska, časoslov, 15. 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manuscript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27240" y="1484280"/>
            <a:ext cx="3490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kaz sedam djela milosrđa, freska, Engleska 14. st.; Nahrani gladnog, napoji žednog, primi stran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Moulton St. Mary, 7 Works of Mercy [171KB]"/>
          <p:cNvPicPr/>
          <p:nvPr/>
        </p:nvPicPr>
        <p:blipFill>
          <a:blip r:embed="rId1"/>
          <a:stretch/>
        </p:blipFill>
        <p:spPr>
          <a:xfrm>
            <a:off x="1050840" y="1600200"/>
            <a:ext cx="7042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eska, prikaz sedam djela milosrđa15. st.; Nahrani gladnog, napoji žednog, primi stran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Pickering, 7 Works of Mercy, detail (97KB)"/>
          <p:cNvPicPr/>
          <p:nvPr/>
        </p:nvPicPr>
        <p:blipFill>
          <a:blip r:embed="rId1"/>
          <a:stretch/>
        </p:blipFill>
        <p:spPr>
          <a:xfrm>
            <a:off x="250920" y="2054160"/>
            <a:ext cx="81374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ikaz osobe oboljele od lepre, Italija 14. 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Drawing of leper with bell in the margins of a text of a fourteenth century manuscript."/>
          <p:cNvPicPr/>
          <p:nvPr/>
        </p:nvPicPr>
        <p:blipFill>
          <a:blip r:embed="rId1"/>
          <a:stretch/>
        </p:blipFill>
        <p:spPr>
          <a:xfrm>
            <a:off x="2411280" y="1709640"/>
            <a:ext cx="424836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soba oboljela od lepre i bogalj, Italija 15. 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3040" y="1989000"/>
            <a:ext cx="33814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7:56:27Z</dcterms:created>
  <dc:creator>Zoran Ladic</dc:creator>
  <dc:description/>
  <dc:language>en-US</dc:language>
  <cp:lastModifiedBy>Loranda Miletić</cp:lastModifiedBy>
  <dcterms:modified xsi:type="dcterms:W3CDTF">2008-01-31T10:03:43Z</dcterms:modified>
  <cp:revision>11</cp:revision>
  <dc:subject/>
  <dc:title>Primatelji pobožnih legata u Zadru</dc:title>
</cp:coreProperties>
</file>