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5E7-8765-44F1-9C38-3C86FF29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27E-4B72-46E7-A898-784BA19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B1A-486C-4013-8FE8-B1D77751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73D-377F-4CDA-8230-4A5788DE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F72-BA1B-40BF-86E8-7B1AD249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04C-9DB0-4B79-8804-462B365E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D31-7067-4F28-9238-FFC8CF41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F1F-A950-4EA6-B0CC-8CAF8E3E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64D-2EC8-4112-B028-E83F0DF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AC2-31F1-4CD8-BCED-134356A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E70-1FB2-46AB-81AB-46E0B83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682-0620-4FCF-83B8-F38024C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0041-0A47-4B4D-96D0-B9C95374BC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ffff"/>
                </a:solidFill>
                <a:latin typeface="Arial"/>
              </a:rPr>
              <a:t>Neprihvatljivo seksualno ponašanje </a:t>
            </a:r>
            <a:br>
              <a:rPr sz="2600"/>
            </a:br>
            <a:r>
              <a:rPr b="0" lang="hr-HR" sz="2600" spc="-1" strike="noStrike">
                <a:solidFill>
                  <a:srgbClr val="ccffff"/>
                </a:solidFill>
                <a:latin typeface="Arial"/>
              </a:rPr>
              <a:t>i marginalizacija pojedinca </a:t>
            </a:r>
            <a:br>
              <a:rPr sz="2600"/>
            </a:br>
            <a:r>
              <a:rPr b="0" lang="hr-HR" sz="2600" spc="-1" strike="noStrike">
                <a:solidFill>
                  <a:srgbClr val="ccffff"/>
                </a:solidFill>
                <a:latin typeface="Arial"/>
              </a:rPr>
              <a:t>u gradskim naseljima srednjovjekovne Slavonije</a:t>
            </a:r>
            <a:br>
              <a:rPr sz="2600"/>
            </a:br>
            <a:endParaRPr b="0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3429000"/>
            <a:ext cx="4027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dar, 11. siječnja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6560" y="3573000"/>
            <a:ext cx="4537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r. sc. Marija Karbi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azna za bavljenje prostitucijom – protjeri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česta pomilo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ostitut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često pripadnice najnižih slojeva društ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ključene i u druge kriminalne aktiv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Bavljenje prostitucija u gradskim naseljima srednjovjekovne Slavonije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čelno bi trebalo dovesti do isključivanja iz gradskog društva, ali često nije ta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Nezakonita dje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lazimo ih u svim srednjovjekovnim društv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sljedica nedozvoljenih seksualnih v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21280" y="1484280"/>
            <a:ext cx="2990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zakonita djeca nisu kriva za djela svojih roditelja, ali su ograničena u    svojim   pravima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 mogu primiti sveti 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 mogu biti članom ce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graničeno im je nasljedno pra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riga za nezakonitu djecu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oditel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radska zajed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kažnjavanje čedomorstva i pobač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Nezakonita djeca u gradskim naseljima srednjovjekovne Slavonije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isu isključena iz društva, ali su ograničena u pra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Vrela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) pravne odred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ločki stat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) dokumenti nastali u prak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sudski spi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posjedovni spi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Gradec, Varažd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88000" y="907920"/>
            <a:ext cx="32400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3718080"/>
            <a:ext cx="2170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Konkubinat (priležništvo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trajna nezakonita veza muškarca i ž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   obično isključuje seksualne veze s drugim osoba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6360" y="19112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onkubine uglavnom potječu iz nižih društvenih sloj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luški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502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Konkubinat u gradskim naseljima srednjovjekovne Slavonij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ruštveno nepoželj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l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 podliježe sudskom prog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 dovodi do marginaliz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Preljub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litia max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eljubnici =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male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azne za prelju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m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otjeri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4658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ažnjavaju 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ljub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jihovi pomoć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 praksi nije dozvoljeno uzimanje pravde u svoje ru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jednako se kažnjavaju i muškarci i ž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česta pomilovanja (potpuni oprost ili smanjenje kaz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Preljub u gradskim naseljima srednjovjekovne Slavonije: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vodio do potpunog isključenja pojedinca iz druš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sim u slučaju kada je došlo do pomirenja supružnika i/ili pomilov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ffff"/>
                </a:solidFill>
                <a:latin typeface="Arial"/>
              </a:rPr>
              <a:t>Prostitucij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lo, iako ne toliko kao prelj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elika uvreda je nekome reći da je “prostitutk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jere usmjerene na sprečavanje prostitu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ažnjavanje svodnika – Iločki statut i prak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graničavanje slobode kretanj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1:04:21Z</dcterms:created>
  <dc:creator>maja</dc:creator>
  <dc:description/>
  <dc:language>en-US</dc:language>
  <cp:lastModifiedBy>maja</cp:lastModifiedBy>
  <dcterms:modified xsi:type="dcterms:W3CDTF">2008-02-10T11:31:30Z</dcterms:modified>
  <cp:revision>11</cp:revision>
  <dc:subject/>
  <dc:title>Neprihvatljivo seksualno ponašanje i marginalizacija pojedinca u gradskim naseljima srednjovjekovne Slavonije </dc:title>
</cp:coreProperties>
</file>