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21E-0D56-4B57-8B31-52710466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495-8ACB-42E9-A651-F22DD05F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6EC-3980-49AC-B803-CFC1609B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CAA-EE8E-4F58-A128-13563486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77D4-CB2F-4DE0-86E1-A5707A26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B1BD-B0E7-4ACB-93E5-D54EFAF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20EC-BEF8-40CC-BC89-9E3106DE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CDFF-EF49-4B43-83EC-F9EC5CF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588-34F4-4228-96E8-5226EC9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5D9-6D8D-4063-9D05-32D9CC7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0712-C154-433F-86CB-5CACC6F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B30-028E-49CE-B4E2-0FA6DE0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0CD1-0DEB-4543-8288-AE00C1F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4DA8-778F-4E54-A0C4-CC7E283B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3FEC-3349-47A4-911A-2D1EE62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0F76-80D1-486F-AB63-B8B1D740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626F-5246-46A6-AAE4-53E518FC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98A-B2FB-455A-B102-21EC8496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07F-0B3C-43C3-91AA-AF2088C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EA8-3780-4DDC-9B10-11385DEB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7FC-8E3C-4805-B835-A2FA7744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3F7-D414-4395-837A-024152A3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81C-6BE2-41E5-862D-CA74731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C06-E4D5-454E-ADF1-23A090EE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C71-26E2-491E-84CD-07C018D03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7F4C-11E6-4206-B29A-70B12B066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9898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ručni skup za voditelje županijskih stručnih vijeća, mentore i savjetnik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0099ff"/>
                </a:solidFill>
                <a:latin typeface="Monotype Corsiva"/>
              </a:rPr>
              <a:t>Marginalne skupine u hrvatskom srednjovjekovlju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5373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Zadar, 10.–11. siječnja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oranda Miletić, viša savjet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agencija_hr" descr=""/>
          <p:cNvPicPr/>
          <p:nvPr/>
        </p:nvPicPr>
        <p:blipFill>
          <a:blip r:embed="rId1"/>
          <a:stretch/>
        </p:blipFill>
        <p:spPr>
          <a:xfrm>
            <a:off x="6227640" y="5445000"/>
            <a:ext cx="1668600" cy="827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Četvrtak, 10. siječnja 2008.</a:t>
            </a:r>
            <a:br>
              <a:rPr sz="2000"/>
            </a:br>
            <a:br>
              <a:rPr sz="2000"/>
            </a:b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RAD U PLENUMU ( Konferencijska dvorana Adriana – hotel Adriana)</a:t>
            </a: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09:00 – 09:30 Otvaranje skupa i uvod u te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oranda Miletić, viša savjetnica za povijest u Agenciji za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dgoj i obrazo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09:30 – 13:00  PLENARNA PRIOPĆENJA ( I. dio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09:30 – 10:30  dr. sc. Damir Karbi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Marginalni i isključeni u srednjem  vijeku – definicija i klasifik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0:30 – 11:30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r.sc. Zoran Ladi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O brizi za društveno marginalizirane pojedince i grupe u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 dalmatinskim komunama u kasnom srednjem vije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11:30 – 12:00 Stan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79056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2:00 – 13:00  dr.sc. Ljiljana Dobrovš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Židovi u hrvatskom srednjovjekovl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3:00 – 16:00  Stanka za ručak i od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16:00 – 18:30 PLENARNA PRIOPĆENJA ( II. dio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6:00 – 17:00  dr. sc. Gordan Ravanč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Prostitucija u kasnosrednjovjekovnom i renesansnom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 Dubrov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7:00 – 18:00  dr. sc. Mladen Anč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Većina i marginalci u srednjovjekovnom svije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18:00 - 18:30 Raspra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18:30 – 20:30 Več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6156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Petak, 11. siječnja 2008.</a:t>
            </a:r>
            <a:br>
              <a:rPr sz="1800"/>
            </a:br>
            <a:br>
              <a:rPr sz="1800"/>
            </a:b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09:00 – 10:00  PLENARNA PRIOPĆENJA ( III. dio )</a:t>
            </a:r>
            <a:br>
              <a:rPr sz="1800"/>
            </a:br>
            <a:br>
              <a:rPr sz="1800"/>
            </a:b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 ( Konferencijska dvorana Adriana – hotel Adriana)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:00 – 10:00  dr.sc. Marija Karb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Neprihvatljivo seksualno ponašanje i marginalizacija pojedinca u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       gradskim naseljima srednjovjekovne Slavo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0:00 – 10:30 Stan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10:30 – 12:30 RAD U RADIONIC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0:30 – 11:30  Kiti Jurica Korda,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Dubrovnik – grad po mjeri Čovje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ADIONICA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Dvorana Bura – hotel Funim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dreja Krnić,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Zadarska blažena dje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ADIONIC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 Dvorana Novi park – hotel Funim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7834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1:30 – 12:30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Ivana Žegarac,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Splitski lazare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ADIONIC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Dvorana Bura – hotel Funimation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iranda Marinović,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Hospiciji i lazareti u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srednjovjekovnom Šibe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ADIONIC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 Dvorana Novi park – hotel Funim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2:00 – 13:00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zvješća iz radionica, evaluacija i zatvaranje semin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 Konferencijska dvorana Adriana – hotel Adriana)</a:t>
            </a:r>
            <a:r>
              <a:rPr b="0" lang="hr-HR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3:00 – 14:00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učak i odlazak sudio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1:10:27Z</dcterms:created>
  <dc:creator>Loranda Miletić</dc:creator>
  <dc:description/>
  <dc:language>en-US</dc:language>
  <cp:lastModifiedBy>Miroslav Micanovic</cp:lastModifiedBy>
  <dcterms:modified xsi:type="dcterms:W3CDTF">2008-02-01T08:26:54Z</dcterms:modified>
  <cp:revision>5</cp:revision>
  <dc:subject/>
  <dc:title>Seminar za voditelje županijskih stručnih vijeća, mentore i savjetnike     Marginalne skupine u hrvatskom srednjovjekovlju</dc:title>
</cp:coreProperties>
</file>