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300-829B-45C3-95ED-0639A1CC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88680"/>
            <a:ext cx="883944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EA5-755A-41C2-AE9F-F82B248F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8868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6200" y="428868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F80-6961-458E-AB08-0408D820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5400" y="160020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4480" y="160020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8868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5400" y="428868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4480" y="428868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131-CCD1-494E-8F39-E593A5F1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8DD3-731A-468C-A941-1EAF9EA3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8757-47EA-414A-A1AA-BF2C3537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6266-6105-42B5-8D93-9A14BC5D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35EE-7702-4EF7-8E30-13A5570B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7B20-CAB3-45AB-825B-A7D9E1AD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-360"/>
            <a:ext cx="78487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58F2-FE6C-4E33-81DB-23B8F9DB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28868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C936-8F93-4BCE-B6E3-225F0FBF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84B-4ACE-4DC1-9BE6-A8567F5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96200" y="428868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44E6-420C-417C-ADE1-5DCDD47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88680"/>
            <a:ext cx="883944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741D-946C-4EFF-A008-F96D247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288680"/>
            <a:ext cx="883944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C1BE-2B4D-4632-BA87-E71A7F48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28868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96200" y="428868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2542-D5C2-49EF-BFE5-9EF585FD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5400" y="160020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4480" y="160020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28868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5400" y="428868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4480" y="4288680"/>
            <a:ext cx="284616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EC09-9961-4DDC-8A6A-06DA6DD8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322-7003-4563-B3D6-F1BA76A5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D8F-FC6F-4A26-93DA-EB577DA5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B34-DDCB-4D34-AC02-5AEE362F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-360"/>
            <a:ext cx="78487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3BC-C679-42F8-B5B0-5276C8EB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8868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BBD-68F9-4B78-BF2B-5CDCE088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6200" y="428868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56F-7647-4287-9AD4-A9ACA9B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6200" y="1600200"/>
            <a:ext cx="431352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88680"/>
            <a:ext cx="8839440" cy="2454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999-61D1-4432-96EF-36380F2C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15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915240"/>
            <a:ext cx="321336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39783B49-A2F2-433D-8B3C-B1AD4987DC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626320" cy="1263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68600" y="6915240"/>
            <a:ext cx="321336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619760" y="6915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68E6DA9D-7898-4CB3-97CD-1826ED222D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0008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4940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836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626320" cy="1263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400" spc="-1" strike="noStrike">
                <a:solidFill>
                  <a:srgbClr val="ff9900"/>
                </a:solidFill>
                <a:latin typeface="Arial"/>
              </a:rPr>
              <a:t>Priprema i prijelaz djece iz dječjeg vrtića u osnovnu škol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403280"/>
            <a:ext cx="7107120" cy="62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ffff00"/>
                </a:solidFill>
                <a:latin typeface="Arial"/>
              </a:rPr>
              <a:t>Zadar, 20. listopada 2008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ffff00"/>
                </a:solidFill>
                <a:latin typeface="Arial"/>
              </a:rPr>
              <a:t>Split, 21. listopada 2008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5960" y="0"/>
            <a:ext cx="7850160" cy="985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Najčešći razlozi odluke o odgodi upisa u osnovnu škol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8200" y="2281320"/>
            <a:ext cx="8675640" cy="50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teškoće u psihofizičkom razvoj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nedovoljna socio-emocionalna zrelost djete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nedovoljna samostalnost djete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PROGRAM PREDŠKOLE KAO SPECIJALIZIRANI PRO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878120"/>
            <a:ext cx="8839440" cy="4868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900" spc="-1" strike="noStrike">
                <a:solidFill>
                  <a:srgbClr val="000000"/>
                </a:solidFill>
                <a:latin typeface="Arial"/>
              </a:rPr>
              <a:t>Namijenjen djeci u godini pred polazak u osnovnu školu koja </a:t>
            </a:r>
            <a:r>
              <a:rPr b="1" lang="hr-HR" sz="3900" spc="-1" strike="noStrike">
                <a:solidFill>
                  <a:srgbClr val="008000"/>
                </a:solidFill>
                <a:latin typeface="Arial"/>
              </a:rPr>
              <a:t>nisu nikada bila obuhvaćena sustavnim oblikom predškolskog odgoja i naobrazbe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Zakonske odredn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4500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2" marL="1266840" indent="-252360"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hr-HR" sz="3300" spc="-1" strike="noStrike">
                <a:solidFill>
                  <a:srgbClr val="000000"/>
                </a:solidFill>
                <a:latin typeface="Arial"/>
              </a:rPr>
              <a:t>Zakon o predškolskom odgoju i naobrazbi</a:t>
            </a:r>
            <a:r>
              <a:rPr b="0" lang="hr-HR" sz="3300" spc="-1" strike="noStrike">
                <a:solidFill>
                  <a:srgbClr val="000000"/>
                </a:solidFill>
                <a:latin typeface="Arial"/>
              </a:rPr>
              <a:t>, čl. 15, Narodne novine 10/97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hr-HR" sz="3300" spc="-1" strike="noStrike">
                <a:solidFill>
                  <a:srgbClr val="000000"/>
                </a:solidFill>
                <a:latin typeface="Arial"/>
              </a:rPr>
              <a:t>Državni pedagoški standard predškolskog odgoja i naobrazbe, čl. 1. i 2., točka 5. (Narodne novine 63/08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575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hr-HR" sz="3300" spc="-1" strike="noStrike">
                <a:solidFill>
                  <a:srgbClr val="000000"/>
                </a:solidFill>
                <a:latin typeface="Arial"/>
              </a:rPr>
              <a:t>Programsko usmjerenje odgoja i obrazovanja predškolske djece</a:t>
            </a:r>
            <a:r>
              <a:rPr b="0" lang="hr-HR" sz="3300" spc="-1" strike="noStrike">
                <a:solidFill>
                  <a:srgbClr val="000000"/>
                </a:solidFill>
                <a:latin typeface="Arial"/>
              </a:rPr>
              <a:t> (Glasnik Ministarstva prosvjete i kulture RH, 7/8 od 18. lipnja 1991.).</a:t>
            </a: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Uvjeti za provođenje programa predško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78120"/>
            <a:ext cx="8839440" cy="4868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odobren program rada (Ministarstvo znanosti, obrazovanja i športa RH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stručna osposobljenost voditelja program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materijalno-organizacijski uvjeti rada koji su usklađeni s potrebama djece predškolske dob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Rezultati testiranja djece na upisu u 1. razred osnovne ško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Razdoblje u kojemu su praćeni rezultati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pedagoška godina 2002/03., 2003/04., 2004/05., 2005/06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Uzorak: 290 djec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Mjesto: Osnovna škola “Spinut”, Spl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Primijenjeni testov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verbalni niz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niz brojev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šaka-brid-dl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rit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prostorna orijentaci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vizuomotori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glasovna analiz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glasovna sintez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pričanje priče po nizu slika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Rezultati testiranj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66680" y="1600200"/>
          <a:ext cx="8839440" cy="4216320"/>
        </p:xfrm>
        <a:graphic>
          <a:graphicData uri="http://schemas.openxmlformats.org/drawingml/2006/table">
            <a:tbl>
              <a:tblPr/>
              <a:tblGrid>
                <a:gridCol w="892440"/>
                <a:gridCol w="723600"/>
                <a:gridCol w="725760"/>
                <a:gridCol w="846000"/>
                <a:gridCol w="725400"/>
                <a:gridCol w="922320"/>
                <a:gridCol w="1117800"/>
                <a:gridCol w="1042920"/>
                <a:gridCol w="828720"/>
                <a:gridCol w="1014480"/>
              </a:tblGrid>
              <a:tr h="56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IJENJENI TEST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dag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š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b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z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je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d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lan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t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storna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jentac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zuomotor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asovna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iz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asov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t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zik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amost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ri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čenicu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/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/0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/0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/0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79440" indent="-379440" algn="ctr"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Distribucija rezultata testiranje po godinama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2560" y="1346040"/>
          <a:ext cx="9288360" cy="597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1346040"/>
                    <a:ext cx="928836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Verbalni niz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1346040"/>
          <a:ext cx="8850240" cy="583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346040"/>
                    <a:ext cx="885024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Niz brojev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1800" y="1279440"/>
          <a:ext cx="9026280" cy="5276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1800" y="1279440"/>
                    <a:ext cx="902628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Prijelaz djeteta iz vrtića u škol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900" spc="-1" strike="noStrike">
                <a:solidFill>
                  <a:srgbClr val="000000"/>
                </a:solidFill>
                <a:latin typeface="Arial"/>
              </a:rPr>
              <a:t>Rasrižje triju institucija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4100" spc="-1" strike="noStrike">
                <a:solidFill>
                  <a:srgbClr val="000000"/>
                </a:solidFill>
                <a:latin typeface="Arial"/>
              </a:rPr>
              <a:t>obitelj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4100" spc="-1" strike="noStrike">
                <a:solidFill>
                  <a:srgbClr val="000000"/>
                </a:solidFill>
                <a:latin typeface="Arial"/>
              </a:rPr>
              <a:t>dječji vrtić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41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1026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Šaka-brid-dl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9560" y="1346040"/>
          <a:ext cx="8869320" cy="511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9560" y="1346040"/>
                    <a:ext cx="886932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Rit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49480" y="1419120"/>
          <a:ext cx="8672400" cy="56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9480" y="1419120"/>
                    <a:ext cx="86724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Prostorna orijentacij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66960" y="1424160"/>
          <a:ext cx="8961120" cy="527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424160"/>
                    <a:ext cx="896112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Vizuomotorik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71640" y="1274760"/>
          <a:ext cx="8850240" cy="5832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274760"/>
                    <a:ext cx="885024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Verbalni niz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71640" y="1130400"/>
          <a:ext cx="8690040" cy="597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30400"/>
                    <a:ext cx="869004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Glasovna sintez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71640" y="1346040"/>
          <a:ext cx="8850240" cy="576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346040"/>
                    <a:ext cx="88502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Jezik (samostalno koristi rečenicu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42920" y="1346040"/>
          <a:ext cx="8778960" cy="5689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346040"/>
                    <a:ext cx="877896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Komentar rezultata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86000" y="188748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Mogući razlozi rastu uspješnosti djece na većini testo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Razmjena informacija među roditeljima koja rezultira pripremanjem djec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2800" spc="-1" strike="noStrike">
                <a:solidFill>
                  <a:srgbClr val="ff9900"/>
                </a:solidFill>
                <a:latin typeface="Arial"/>
              </a:rPr>
              <a:t>Mogući razlozi padu uspješnosti djece na testu jezične sprem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274400"/>
            <a:ext cx="8839440" cy="6119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Prezaposlenost roditelja koji imaju sve manje vremena za razgovor s dje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Sve veće osamljivanje djece i bavljenje računalnim igricam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Pogrešno shvaćanje “usmjerenosti na dijete i na zadovoljavanje njegovih potreba” koja u nekim sredinama rezultira potpunim izbjegavanjem sadržaja koji imaju direktan utjecaj na razvoj jezičnih sposobnosti u dječjem vrtić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hr-HR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Veliki korak na putu k zrelos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Stres za obitelj koji se prenosi na dijete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omjene obiteljskog života (dnevni, tjedni, godišnji ritam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trah od neuspjeh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Važan trenutak za uspjeh budućeg školovanj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Prilagodba djece na škol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2200" y="1771560"/>
            <a:ext cx="9288360" cy="5370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20-30% djece prvog razreda pokazuje teškoće prilagodb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(Achenbach&amp;Edelbrock, 1981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i razlo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organizaciji života dječjeg vrtića i osnovne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dovoljna informiranost i nerealna očekivanja roditelja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zaštićenost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560" y="302760"/>
            <a:ext cx="7085160" cy="75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Značajke “djece 21. stoljeća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4200" y="1724040"/>
            <a:ext cx="9037440" cy="533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Žive u vrijeme tehničke i tehnološke revolucije (pozitivan utjecaj na spoznajni  razvoj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Često su prepušteni sami sebi (negativan utjecaj medija i računala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Roditelji često zanemaruju važnost osamostaljivanja u fizičkom i emocionalnom smislu (negativan utjecaj na ovladavanje radnim navikama, na pojam odgovornost i na socio-emocionalnu stabilnost djeteta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575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575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575"/>
              </a:spcBef>
              <a:buNone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Dječji vrtić - osnovna škol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066400"/>
            <a:ext cx="4368960" cy="4969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Usmjerenost na dije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Slobodan izbor sadrža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Zadovoljavanje potreba djete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67400" y="2138040"/>
            <a:ext cx="4338720" cy="4608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Usmjerenost na program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Nužan izbo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sadrža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Zadovoljavanje potreba  zakonodavca i dje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Važne komponente pripreme djeteta za školu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Poticanje razvoja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cijalne kompetencije (obitelj, vrti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stalnosti i odgovo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zitivne slike o sebi (samopouzdanje, raz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ijevanje sebe, drugih i drukčiji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8000"/>
                </a:solidFill>
                <a:latin typeface="Arial"/>
              </a:rPr>
              <a:t>PRIPREMA ZA ŠKOLU NIKAKO NE ZNAČI “NAUČITI DJECU ČITATI I PISATI U DJEČJEM VRTIĆU” JER ĆE TO RADITI U ŠKOLI SA ZA TO OSPOSOBLJENIM STRUČNJAKOM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5960" y="-360"/>
            <a:ext cx="7850160" cy="106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Zrelost za škol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839440" cy="514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0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Obuhvaća sva područja djetetova razvoja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ocio-emocional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poznaj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Tjelesno i psihomoto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Jezič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4:53:20Z</dcterms:created>
  <dc:creator>tkalilic</dc:creator>
  <dc:description/>
  <dc:language>en-US</dc:language>
  <cp:lastModifiedBy>tkalilic</cp:lastModifiedBy>
  <dcterms:modified xsi:type="dcterms:W3CDTF">2008-10-22T08:37:05Z</dcterms:modified>
  <cp:revision>10</cp:revision>
  <dc:subject/>
  <dc:title>Slajd 1</dc:title>
</cp:coreProperties>
</file>