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765B-0C1D-4FEB-86AA-99F0E8506CD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D945-1827-418B-AF64-11CE324C13B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5B18-78E0-4973-ABD0-8CFD18C18AB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2B3B-7C8D-411A-B546-AD200CA011C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BEAB-2E1F-4050-9D62-6EE2321E270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AC3F-4E7D-4F96-A441-ACB05DF091E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EC20-81AB-4413-BA91-B229B30ECF6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09F2-5D73-4242-8018-A88FCC0BB1B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6787-0195-420B-A7CB-13117D1BC8C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AB58-0BE5-4FF2-AEA9-352EE4797AE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4FFB-FF40-4076-8FCF-AE7B4D94579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F1FC-A48C-4B79-BB5C-4FB7EFFBF9A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928E-78A9-408B-B6FB-400E2544FDB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0E17-5BD6-402D-BF85-4F52E949E78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1E0C-8F1D-4770-8616-3A0C0B51B61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C676-D54A-4116-A16A-7C8ED06D030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1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27EB-2C03-4ACE-A94A-CFD9D84A338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8DF0-880D-4D61-B617-6BF18EB91BB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39E5-86E4-4064-8702-18374B8527D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20B6-39BF-4E12-8A92-1A561D7DF4B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61BD-800A-4BE2-A75D-54D1424EE50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52F5-8342-4C22-9171-7E3B8F3954B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1018-F9E6-48BE-807A-42CF1A81ADB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C60-314E-4CA7-AB23-1B648C7A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ACB-425D-4C20-8A16-382B0BC1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9AC-46B3-4A70-9FEC-83F1509E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5FB-2756-49CF-B488-584B08B2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6FD7-E7A5-4923-B8D1-4AF9A0AB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FB4E-BB9E-4AC6-9127-24F24D54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2A8E-641E-4226-9967-5268F517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A177-A774-4987-AF80-67BE9793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1B32-9A91-43CD-B996-EC871084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8DF3-6D50-4A3A-A030-37216D61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CF70-4F51-4AF2-9953-2A5BC211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744-9101-4674-A295-0E37BE6B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C794-7761-461D-884D-8870EFA6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565E-F206-4901-A857-1157EB75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9AA3-8953-4174-8C2D-41197050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D657-98FD-4C10-BCE6-2695BC03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3942-0F4A-4294-9666-57664691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70CBE-2A4B-48A1-A1FB-02B6BEAD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43F95-3248-425F-B1CE-9779434E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FC721-F8A4-499C-B432-455836BA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F7F8A-39BF-454D-8722-5D689221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1AFCE-613D-4BAC-8B2A-72032F78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5AB-0058-4C66-9711-0B4AAB19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B8BE3-B227-4881-A666-E1167095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E2AEA-513F-4CDE-8326-D1E39128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12F86-CCC1-4E4C-843B-3F2BB6E2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B31CF-2027-4AF8-AC35-7A433429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0D406-467B-47A3-932D-7EF6344F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8C19B-AC12-4C87-9745-A01CE1C4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7E543-6368-4857-8777-E3AAA281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B7938-59AC-4CF1-AFC0-8C1CCB07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AA30-6AA6-4484-9690-04F382F9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AA43D-7991-4E91-BFE2-E602F8D0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860-40B9-41D0-86E2-C88666FA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53EC0-805B-4EDE-9539-22E07237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7FA5D-D2D4-4B2A-99E7-E40014C9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712D6-39F7-48F0-8694-EFCB4924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C997-B41B-4921-B9A9-1F74FD1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ACC6A-8F8B-4F5A-A759-E1197B45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64F07-7B43-4645-BDF3-2CE8C749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4CB81-8356-42CB-AC42-B03DE78C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AB77D-C2F6-4BB1-970F-8326E875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D42B2-D9FC-4E85-A6ED-FF7C0F74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4572E-9E99-454A-B7F7-431C3781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16D-2B44-4BC6-88C0-0409C220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3CAE0-CE10-423E-ADAD-684C8876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A9988-213C-499B-80CC-46F41AAB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AC37E8-3CA4-4644-A868-8C124E3E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94A63-9A3C-4D94-ABA7-A2D083EB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BF918-7DE8-4871-A864-6E22F7E6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5B788-C65A-4C18-8A72-3101AC4C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52009-26C2-4426-B662-FFB23428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FA9D9-5A25-4517-B8AB-C27AF281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A8763-2AE5-4321-8399-BD5E4E06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A5EF1-44BB-4E30-8946-2129EB47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3C3-A556-472C-B0A7-87428FFC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F880A-8568-4E76-868C-36201A79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A579B-E212-41DB-808C-AC616B6E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14B958-D519-42FD-8DFE-C4A71828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37421A-2D6A-4ED4-8CF7-03CC537B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CEDC1-695F-4AC1-8810-69AA4132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DA8C24-2454-4B54-9AF4-20E2BD17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7C806-9D9F-4675-BE86-56C26CD8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A009D-ACF0-4836-B916-7B4269CC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1BB5F5-E03C-4E4E-AE11-27612945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C16E75-C978-453F-A395-F9070D80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6FC-D6A0-4EC5-B7DA-D1F87F8F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6DF6A9-2FEC-432B-BCBB-8F318B10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D052B-CD21-4D42-AA77-36839531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34E49-140E-45C6-B8AB-34C87DE5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4B629-C521-4ADF-B3D6-419E3579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00B33-0FAB-4611-8EF4-B62FB64B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382E2E-EE69-4297-9406-A855E07B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7495F-DC8A-4DD4-907C-D9136375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10569E-2D5C-4C72-BF95-CFE759A0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537000-EB63-44A6-B028-6A7885FF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FA5A0-5C76-46BA-B79C-313964EB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7A0-CBE4-4F7A-A888-CB737E66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D6CE2-40B5-48D9-82FC-B795A2DB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4C64C-CCEB-4B59-AB15-36ECA539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67ED8D-33EE-4B3D-B6A2-EE46049F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51CCE-1FBB-48E9-820A-7085ECAD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324553-DC9A-40C8-8B4A-14E393EE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CDF-ED43-4509-ACC8-070C1605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avni poveznik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avni poveznik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avni poveznik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avokut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avni poveznik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2879-0A6E-4416-A635-A608DE1E674D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kutni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ravokutni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ravokutni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ravokutni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avni poveznik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avni poveznik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avni poveznik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avni poveznik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avni poveznik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avni poveznik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avokutni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B480-61C5-43F3-90B2-77C5D70AE33C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avni poveznik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avni poveznik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avni poveznik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avokut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avni poveznik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F07F-7536-48AB-9CD8-56C0C16CE8F4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avokutni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avokutni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avokutni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ravokutni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avni poveznik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avni poveznik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avni poveznik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avni poveznik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avni poveznik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ravokutni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avni poveznik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E03A-DB21-4D6C-9A1B-CE02C1BB80EE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avni poveznik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avni poveznik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avni poveznik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ravokut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avni poveznik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AAF0-4CA0-43C9-BB92-5F190D6C152C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avni poveznik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avni poveznik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avni poveznik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avni poveznik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ravokutni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avni poveznik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BADE-07C0-46A4-9DD7-6EE334324865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avni poveznik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avni poveznik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ravokutni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avni poveznik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avni poveznik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avni poveznik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0EDB-665F-4867-B628-E239ACD0ED3B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575f6d"/>
                </a:solidFill>
                <a:latin typeface="Century Schoolbook"/>
              </a:rPr>
              <a:t>EMOCIONALNA I SOCIJALNA ZRELOST DJETETA ZA POLAZAK U OSNOVNU ŠKOLU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575f6d"/>
                </a:solidFill>
                <a:latin typeface="Century Schoolbook"/>
              </a:rPr>
              <a:t>Dalma Luketin, psiholog mentor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575f6d"/>
                </a:solidFill>
                <a:latin typeface="Century Schoolbook"/>
              </a:rPr>
              <a:t>DV “Kaštela”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INTELEKTUALNA RAZVIJENOS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Gov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pažan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Mišljen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amćen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ažn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EMOCIONALNO-SOCIJALNA ZRELOS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sjećaj sigurnosti i samopouzdan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posobnost surađivanja s drugi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mocionalna kontro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EMOCIONALNA ZRELOS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repoznavanje i razumijevanje emoci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mocionalna kontro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mocionalna stabil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Tolerancija na frustracij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spjeh i neuspje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Motivaci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SOCIJALNA ZRELOST: PRILAGOĐAVANJE NA DRUŠTVENE OBAVEZ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9680" y="16430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ma svoj krug prijatel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svojio je norme ponašan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amostalno zadovoljava svoje osnovne potreb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urađuje s djecom i odrasli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dređuje svoje želje pravima i ciljevima skup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či se imitacijom i identifikacijom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SAMOSTALNOS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dijevan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buvan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Vezivanje cipe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Vršenje nužde, korištenje WC papi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amoposluživanje kod je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Treba znati: ime, prezime, adresu, služiti se telefonom, pristojno se ponašati u trgovini, obratiti se za pomoć odraslom kada je potreb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KAD JE DIJETE POTPUNO SPREMNO ZA ŠKOLU AKO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75c01"/>
                </a:solidFill>
                <a:latin typeface="Century Schoolbook"/>
              </a:rPr>
              <a:t>ima pozitivnu sliku o seb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75c01"/>
                </a:solidFill>
                <a:latin typeface="Century Schoolbook"/>
              </a:rPr>
              <a:t>se zna zauzeti za seb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75c01"/>
                </a:solidFill>
                <a:latin typeface="Century Schoolbook"/>
              </a:rPr>
              <a:t>zna rješavati probleme i sukob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75c01"/>
                </a:solidFill>
                <a:latin typeface="Century Schoolbook"/>
              </a:rPr>
              <a:t>ponosi se uspjehom, a podnosi neuspje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75c01"/>
                </a:solidFill>
                <a:latin typeface="Century Schoolbook"/>
              </a:rPr>
              <a:t>pomaže i dijeli s prijatelji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75c01"/>
                </a:solidFill>
                <a:latin typeface="Century Schoolbook"/>
              </a:rPr>
              <a:t>zna se dogovarati i pridržavati pravi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75c01"/>
                </a:solidFill>
                <a:latin typeface="Century Schoolbook"/>
              </a:rPr>
              <a:t>upornošću završava što je počel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PROCJENA EMOCIONALNIH I SOCIJALNIH VJEŠTIN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romatrati dijete cjelovit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Što sve z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Što mož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Što hoć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Što žel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Što mu čini napo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Koje su navike narazvije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U čemu se snalazi najbol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lang="hr-HR" sz="2700" spc="-1" strike="noStrike">
                <a:solidFill>
                  <a:srgbClr val="575f6d"/>
                </a:solidFill>
                <a:latin typeface="Century Schoolbook"/>
              </a:rPr>
              <a:t>PROCJENA EMOCIONALNE I SOCIJALNE SPREMNOSTI DJETETA ZA ŠKOLU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1.Zna reći svoje ime, prezime, dob,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2. Samostalno je u brizi za seb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3. Poštuje pravila ponašanja u grupi (čeka red i sl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4. Surađuje sa drugom djecom (dijeli, igra se, dogova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5. Kontrolira emocije, izražava ljutnju na prihvatljiv način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6. Zna rješavati probleme i sukob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7. Zna se zauzeti za sebe (izražava želje, pita za pomoć)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8. Veseli se uspjehu, podnosi neuspjeh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hr-HR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hr-HR" sz="2700" spc="-1" strike="noStrike">
                <a:solidFill>
                  <a:srgbClr val="575f6d"/>
                </a:solidFill>
                <a:latin typeface="Century Schoolbook"/>
              </a:rPr>
              <a:t>PROCJENA EMOCIONALNE I SOCIJALNE SPREMNOSTI DJETETA ZA ŠKOLU</a:t>
            </a:r>
            <a:br>
              <a:rPr sz="2700"/>
            </a:br>
            <a:r>
              <a:rPr b="1" lang="hr-HR" sz="2700" spc="-1" strike="noStrike">
                <a:solidFill>
                  <a:srgbClr val="575f6d"/>
                </a:solidFill>
                <a:latin typeface="Century Schoolbook"/>
              </a:rPr>
              <a:t>(NASTAVAK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9. Razumijevanje uput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)Razumije upute koje su upućene svi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b)Treba dodatne i/ili individualizirane upu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)Ima poteškoća u razumijevanju i nakon dodatnih upu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10.Interes i motivaci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)Zadaci školskog tipa pobuđuju interes i unutarnju motivacij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b)Motivacija opada s porastom složenosti zadata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)Slabiji interes i nespremnost da se ulože napor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575f6d"/>
                </a:solidFill>
                <a:latin typeface="Century Schoolbook"/>
              </a:rPr>
              <a:t>PROCJENA EMOCIONALNE I SOCIJALNE SPREMNOSTI DJETETA ZA ŠKOLU</a:t>
            </a:r>
            <a:br>
              <a:rPr sz="2700"/>
            </a:br>
            <a:r>
              <a:rPr b="0" lang="hr-HR" sz="2700" spc="-1" strike="noStrike">
                <a:solidFill>
                  <a:srgbClr val="575f6d"/>
                </a:solidFill>
                <a:latin typeface="Century Schoolbook"/>
              </a:rPr>
              <a:t>(NASTAVAK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11. Samostal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) Samostalno u rješavanju zadata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b) Povremeno traži dodatne poticaje i potvrde da radi dobr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) Stalno traži dodatne poticaje i ohrabren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12. Način rada i kvaliteta aktiv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) Usklađuje način rada i brzinu težini zadata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b)Impulzivno i površno u složenijim zadaci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)Općenito impulzivno i brzople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) Sporo zbog grafomotoričkih poteškoć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) Sporo zbog naginjanja perfekcionizm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Picture 2" descr="C:\Documents and Settings\Dalma\Local Settings\Temporary Internet Files\Content.IE5\OMCENXWS\MPj04227930000[1].jpg"/>
          <p:cNvPicPr/>
          <p:nvPr/>
        </p:nvPicPr>
        <p:blipFill>
          <a:blip r:embed="rId1"/>
          <a:stretch/>
        </p:blipFill>
        <p:spPr>
          <a:xfrm>
            <a:off x="1754280" y="1600200"/>
            <a:ext cx="4873680" cy="4873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Documents and Settings\Dalma\Local Settings\Temporary Internet Files\Content.IE5\OMCENXWS\MPj04227930000[1].jpg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575f6d"/>
                </a:solidFill>
                <a:latin typeface="Century Schoolbook"/>
              </a:rPr>
              <a:t>PROCJENA EMOCIONALNE I SOCIJALNE SPREMNOSTI DJETETA ZA ŠKOLU</a:t>
            </a:r>
            <a:br>
              <a:rPr sz="2700"/>
            </a:br>
            <a:r>
              <a:rPr b="0" lang="hr-HR" sz="2700" spc="-1" strike="noStrike">
                <a:solidFill>
                  <a:srgbClr val="575f6d"/>
                </a:solidFill>
                <a:latin typeface="Century Schoolbook"/>
              </a:rPr>
              <a:t>(NASTAVAK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13. 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Suočavanje s neuspjehom i pogreška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)Kontrolira emoci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b)Osjetljivo na neuspjehe i pogreške, pokazuje potrebu za ohrabrenjem i podršk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)Uznemireno je i burno reagira na pogreške, prekida r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14. Umor i spremnost na napo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)Brzo se umori i odusta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b)Upornošću završava što je započel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)Neke druge osobine koje ovdje nisu naveden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ŠTO OSIGURATI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28400" y="16430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rihvatiti dij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zitivno ozračje, poticajna sred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hrabrivati a ne plašiti škol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zitivna potpora emocionalnim nastojanjima: ohrabrenje, manje pohv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timulirati djetetova osjeti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nuditi izazove koji nisu ni prelagani ni pretešk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mogućiti stjecanje socijalnih vješt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ružiti priliku za samostal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ati da bira mnoge svoje aktiv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ati pravo da pogriješ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KAKO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mogućiti aktivnosti u kojima će biti uspješ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mogućiti da vidi da je uspješno (pohval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moći djetetu da uz uvažavanje svojih želja uvidi i želje i potrebe drugih (objasni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zbjegavati osjećaj manje vrijednosti natjecanjem i usporedba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mogućiti djetetu da izražava i prepoznaje svoje emocije, da riječima izrazi što osjeća, omogućavati da nađe alternativna rješenja za izražavanje svojih emoci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siguravanje uzora za igru i ponašan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PRIČA NA KRAJU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5" name="Picture 2" descr="C:\Documents and Settings\Dalma\Local Settings\Temporary Internet Files\Content.IE5\TL3FRJF7\MPj04278100000[1].jpg"/>
          <p:cNvPicPr/>
          <p:nvPr/>
        </p:nvPicPr>
        <p:blipFill>
          <a:blip r:embed="rId1"/>
          <a:stretch/>
        </p:blipFill>
        <p:spPr>
          <a:xfrm>
            <a:off x="914400" y="1600200"/>
            <a:ext cx="6553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ŠTO ŽELIMO ZA DIJE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obar učeni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naša pristoj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dgovor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štuje učiteljic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Zadrži i stekne prijatel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sjeća se ugod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ZAŠTO JE POLAZAK U ŠKOLU TAKO ZNAČAJA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rvi ozbiljniji susret sa život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trogo formulirani zahtjev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tječe na sliku o seb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tičemo školska postignuć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Kritično vrijeme za učen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6" descr="C:\Documents and Settings\Dalma\Local Settings\Temporary Internet Files\Content.IE5\GF1QWIGG\MCj03357320000[1].wmf"/>
          <p:cNvPicPr/>
          <p:nvPr/>
        </p:nvPicPr>
        <p:blipFill>
          <a:blip r:embed="rId1"/>
          <a:stretch/>
        </p:blipFill>
        <p:spPr>
          <a:xfrm>
            <a:off x="5643720" y="1785960"/>
            <a:ext cx="24588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575f6d"/>
                </a:solidFill>
                <a:latin typeface="Century Schoolbook"/>
              </a:rPr>
              <a:t>ŠTO USTVARI ZNAČI « ZRELOST ILI SPREMNOST « DJETETA  ZA POLAZAK U ŠKOLU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određeni stupanj spoznajnog, čuvstvenog i socijalnog razvoj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određene kulturne, higijenske i radne navike da bi moglo izvršiti zadatke koje mu škola postavlja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.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KRITERIJ KRONOLOŠKE DOB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ovoljno pouzda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različite brzine u fizičkom i psihičkom razvoj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ndividualne razlik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Uvažavanje psihofizičke zrelosti za polazak u školu je jedan od najznačajnijih načina da zaštitimo svoje dijete i sebe od iskustva školskog neuspjeh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ŠTO SVE PODRAZUMIJEVA SPREMNOST ZA ŠKOL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1. tjelesna razvije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2. intelektualna razvije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3. emocionalna i socijalna razvije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TJELESNA RAZVIJENOS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Visina i tež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Mišićna snag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sjetila vida, sluh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Bez poteškoća u stajanju, kretanju i sjedenj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Navike hranjen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Kontrola organa za izlučivan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tupanj okoštavan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java stalnih zub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6:51:02Z</dcterms:created>
  <dc:creator>Dalma Luketin</dc:creator>
  <dc:description/>
  <dc:language>en-US</dc:language>
  <cp:lastModifiedBy>tkalilic</cp:lastModifiedBy>
  <dcterms:modified xsi:type="dcterms:W3CDTF">2008-10-15T10:54:09Z</dcterms:modified>
  <cp:revision>73</cp:revision>
  <dc:subject/>
  <dc:title>EMOCIONALNA I SOCIJALNA ZRELOST DJETETA ZA POLAZAK U OSNOVNU ŠKOLU</dc:title>
</cp:coreProperties>
</file>