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BA1-9CEA-481D-9D59-40E360DF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453-9E30-40BE-88CE-2373002C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12B-0650-4DB1-A932-C6B3ED2D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5B2-5643-4E43-B38E-CC8445D9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D1DD-590A-4707-B4D2-2BA42B81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8F88-E1AD-4F6C-8E16-68785032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DD0B-CA43-458F-BE9B-90AA0D4E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E600-2007-409B-AF18-72DD585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4F0-B78A-4F94-A6DA-5315C11E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2697-50AB-4873-AC90-A028B916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2E0F-8C9B-4F29-B8DB-5C4D26B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65D-F597-4203-A3D1-CFA44680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543A-C820-49B5-8A06-4C8E12E0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4E71-70D4-46D3-ADD2-0A3EB180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6EBB-1064-4718-9223-957424B0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2DFC-6F06-4665-8180-75432511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214E-9810-4560-B605-B2721754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5F0-AB69-4217-8A0E-F6AF7A67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FE9-55C7-4B57-936C-C659226B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A6C-5DBE-43A5-BD63-2AFCC544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7F2-4AD7-42DB-BE53-9492C077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398-6438-4C06-AD39-C9D59AC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2B5-E700-456C-BC62-38C8C31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4DE-0601-408F-B8B2-02151937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B5B0-2F02-4B3E-A482-C4D00B453D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2BFA-61DF-4267-A8B2-E36D9FE939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PRIPREMA DJETETA ZA ŠKOLU-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temeljna pitanja i dil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ana Nenadić-Bi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eučilište u Zad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TEORIJSKI POGLEDI NA SPREMNOST DJETET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tivist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mpir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cijalno-konstruktivist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terakcionist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NATIVISTIČKI POGL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remnost je fenomen unutar djeteta te nema veze s okolin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 djeca prolaze iste fa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iče se važnost naslijeđa,a vanjski se utjecaji zanemaru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e se isključivo check list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MPIRIJSKI POGL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finiran je sklop vještina koje dijete treba usvojiti prije polaska u škol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glasak je na vanjskim znakovima učenja ( poznavanje boja, oblika, slova, brojk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remnost je nešto   što dijete treba   nauč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SOC.-KONSTRUKTIVISTIČKI POGL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remnost nije niti unutarnji ni vanjski k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na procjena dj.spremnosti moguća je promatranjem zajednice u kojoj dijete ž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remnost je skup ideja i značenja koja je stvorena u određenom soc.okruženju, pa se razlikuje od zajednice do zajed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NTERAKCIONISTIČKI POGL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remnost je dvosmjeran kon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iče se doprinos i djeteta i škole u razumijevanju spremnosti za škol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jetetova znanja, vještine i sposobnosti promatraju se u konkretnim uvjetima i u interakciji s drugim čimbenic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SPREMNOST ZA ŠKOL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onološka d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upanj ili razina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klop vještina  ili kompet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bir od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 različite implikacije za uloge roditelja, odgojitelja, učitelja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DEFINICIJA SPREMNOST ZA ŠKOL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eukupnost odnosa u kojima su dijete,obitelj, dječji vrtić, osnovna škola i uža lokalna zajednica u takvoj interakciji da podržavaju djetetov tjelesni, socio-emocionalni i kognitivni razv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PRIPREMA DJETETA ZA ŠKOL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iguravanje razvojnih pri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KOMPONENTE SPREMNOST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Tjelesni razvoj ( zdravstveni status, tjelesne sposobnosti i vještine u području fine i krupne motori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Socio-emocionalni razvoj ( sposobnost interakcije s drugima, samoregulacija,percepcija drugih, razumijevanje osjećaja drugih, interpretacija i izražavanje vlastitih osjeća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govorni razvoj ( komunikacijska umijeća – slušanje, govorenje, rječnik, predčitačke vješt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. Spoznajni razvoj ( razvoj mišljenja i rješavanja problema, opća znanja, predmatematičke vještine, apstraktni pojmovi, maš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52600" y="1771560"/>
            <a:ext cx="443880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5. Pristupi učenju ( djetetova inklinacija prema uporabi vještina i znanja, entuzijazam, znatiželja, upornos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ČIMBENICI PRIPREME ZA ŠKOL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enetski čimbenici i zdravlje dje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rakteristike obitelji ( obrazovni status majke, cjelovitost obitelji, mentalno zdravlje majke, obiteljsko ozračje, socio-ekonomski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oditeljstvo ( njega i odgoj djece,roditeljska umijeća,roditeljska uključenost,komunikacija, uspostava discipline i pravila,zlostavljanje i zapuštanje djece, bolesti ovis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ključenost djece u predškol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radnja dječjeg vrtića s osnovnom ško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načajke uže lokalne zajed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 složena interakcija mnogih čimben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JEDNADŽBA ZA SPREMNO DIJE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REMNA OBITEL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REMNA ZAJED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REMNO DIJ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c0039"/>
                </a:solidFill>
                <a:latin typeface="Arial"/>
              </a:rPr>
              <a:t>PRIPREMA ZA ŠKOLU</a:t>
            </a:r>
            <a:br>
              <a:rPr sz="3200"/>
            </a:br>
            <a:r>
              <a:rPr b="0" lang="hr-HR" sz="3200" spc="-1" strike="noStrike">
                <a:solidFill>
                  <a:srgbClr val="8c0039"/>
                </a:solidFill>
                <a:latin typeface="Arial"/>
              </a:rPr>
              <a:t> ( međusobno povezani aspekti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prema djeteta za ško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prema obitelji za ško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prema škole za prihvat djeteta u prvi raz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prema dječjeg vrtića za prijelaz djeteta u osnovnu ško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prema ostalih čimbenika uže lokalne zajed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KOCKE ZA GRAĐENJE SPREMNOSTI ZA ŠKOL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J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ITEL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JED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DIJETE – zdravstveni aspek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na i redovita prenatalna sk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etna prehrana majke za vrijeme trudno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dovita rana njega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no prepoznavanje poteškoća i njihovo liječ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etna prehrana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ita od opasnosti i ozlj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OBITELJ – odnosi između roditelja i djetet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sponsivno roditelj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zitivni odgojni s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vojno primjereni materijali i iskustva u obiteljskom d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kustva za razvoj govora i rane pism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rečena  roditeljska očekivanja u svezi djetetovih postignu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Roditelji i zajednic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meljna ekonomska i materijalna pomo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cijalna pot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diteljski pristup službama u lokalnoj zajed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ZAJEDNICA – programi i služb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pora obiteljima i programi edukacije rod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tegracija lokalnih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nosti učenja u lokalnoj zajed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Zašto govoriti o pripremi za školu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ignuća u školi započinju prije nego što dijete dođe u prvi raz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dukacijski jaz između djece postoji već u predškolskim godin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prema za školu je u korelaciji s kasnijim postignućima i razvoj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Predškolski odgoj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soka kvaliteta predškolskih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stupnost predškolskih usta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vojno primjereni predškolski progr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artnerstvo roditelja i odgoj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Osnovna škol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zitivna tranzicija u osnovnu ško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artnerstvo između obitelji i osnovnih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SPREMNE OBITELJ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talnoj interakciji s djetetom ( vrijeme zajed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iču izražavanje djetetovih misli, potreba, želj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kazivanje nježnosti, prihvaćanja i ljub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dovite aktivnosti pričanja i čit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hrabrivanje djetetovog istraživanja svij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icanje socijalnih od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riga o zdravlju dje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SPREMNE PREDŠ.USTANOVE I ŠKO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artnerstvo s roditel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artnerstvo s odgojiteljima/učitel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djelovanje u aktivnostima lokalne zajednice ( športske, edukacijske, umjetničke, zdravstvene,socijalne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štivanje različitih i individualnih potreba  djece i obitel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ntinuitet između predškolskih i školskih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SPREMNE LOKALNE ZAJEDN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i postotak uključenosti djece u predškolske usta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čiti programi edukacije rod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ebna skrb za najosjetljiviju populaciju djece s obzirom na obiteljski i zdravstveni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ačanje službi u funkciji pomoći obite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olja kvaliteta života ( parkovi, rekreacijske aktivnosti, knjižnice, prometnice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PROCJENA SPREMNOSTI ZA ŠKOL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cjena vještina i sposobnosti u razvojnim područj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cjena zn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OPASNOSTI PROCJEN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tiketiranje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rešna klas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nogi kriteriji počivaju na neprimjerenim očekivanjima od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priznavanje normalnih varijacija u individualnom tijeku razvoja i učenja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000000"/>
                </a:solidFill>
                <a:latin typeface="Arial"/>
              </a:rPr>
              <a:t>JE LI ŠKOLA SPREMNA ZA DIJE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vala na pozornos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PRIPREMA I KASNIJA POSTIGNUĆA  (2007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blemi sa socijalnim vješti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škoće u individualnom i grupnom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hvaćanje i poštivanje prav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moregul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ornost u zadatc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blemi u zadržavanju pozor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PITANJ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ko osigurat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vima jednake šans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za dobar start( bez obzira na nejednakost životnih iskustav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ko prepoznati 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dupirati individualne razlik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među djec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ko odredit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azumna i primjerena očekivan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 svezi djetetovih sposobnosti glede polaska u škol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 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RAZLIKOVANJE POJMO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PREMA ZA ŠKO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LAZ IZ D.V. U O.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PRIJELAZ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tivnosti s ciljem postizanj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ntinuiteta iskustav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jeteta u njegovim različitim životnim razdoblj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NTINUIT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ISKONTINUIT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DISKONTINUITE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življaj krupnih promjena u očekivanjima i ukupnom ozrač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še zahtjeva formalne na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vrsto strukturirani sadrž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loženije socijalno okruž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nje potpore i partnerstva s obitel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nje individualnog prist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4:02:52Z</dcterms:created>
  <dc:creator> </dc:creator>
  <dc:description/>
  <dc:language>en-US</dc:language>
  <cp:lastModifiedBy> </cp:lastModifiedBy>
  <dcterms:modified xsi:type="dcterms:W3CDTF">2008-10-20T07:00:20Z</dcterms:modified>
  <cp:revision>3</cp:revision>
  <dc:subject/>
  <dc:title>PRIPREMA DJETETA ZA ŠKOLU- temeljna pitanja i dileme</dc:title>
</cp:coreProperties>
</file>