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E3A-BD3C-4C83-A869-6D79DD2C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5C4-35E5-40CB-B7BE-820AD215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3CD-CFA6-41C5-AA20-5263E974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87B-B191-4365-9189-6A99240C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A062-F734-45E1-A99F-A3DD995A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4661-8FA1-4EE6-A85A-F03AC631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165F-8465-4E70-98B1-C234AF90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0EC8-33F4-4FF4-AF88-AA247C0D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00A2-AC04-4285-90D6-9742F567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1D2A-A47E-4193-9199-A4635286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D72B-28C4-41EB-870A-10755E5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C62-FB3B-4708-B01B-36DF9B2D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56C7-6763-4AC4-A42C-C3A96F04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957C-5ED4-46E0-B6A6-995C3516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49BA-509A-46A6-B51A-6521F2BF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3766-EC54-4A89-89B3-6AD79FC2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2D81-A874-4603-A1CF-7F7BE0FB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622-CE29-438F-8704-8D4BF603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520-D0B5-47FF-88E3-D85F7129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56E-61A4-4D9C-B5AA-E640A23A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135-B893-49D3-BDF8-4B2203C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163-E5B5-45C1-99ED-41914B0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DE4-804E-412B-B001-D588DCA9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B7D-E345-4E79-AE9C-1F13617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CDC1-AAB0-41E4-A313-57B82A83A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269-3D7D-444E-B52A-F4E7AF266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tručno usavršavanje učitelja tehničke kultur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28428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rimošten, 7. ožujka 20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Š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čni sadrža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ički sadrža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dagoško-psihološki sadrža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vala na pozornosti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AŠ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ON O ODGOJU I OBRAZOVANJU U OSNOVNOJ I SREDNJOJ ŠKO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I. STRUČNO OSPOSOBLJAVANJE, USAVRŠAVANJE, NAPREDOVANJE I IZDAVANJE LICENCIJA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Članak 115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 Učitelji, nastavnici, stručni suradnici i ravnatelji školske ustanove imaju pravo i obvezu trajno se stručno osposobljavati i usavršavati kroz programe koje je odobrilo Ministarstvo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 Pod stalnim stručnim osposobljavanjem i usavršavanjem iz stavka 1. ovog članka podrazumijeva se pojedinačno i organizirano usavršavanje u matičnoj znanosti u području pedagogije, didaktike, obrazovne psihologije, metodike, informacijsko-komunikacijskih tehnologija, savjetodavnog rada, upravljanja, obrazovnih politika i drugih područja relevantnih za učinkovito i visokokvalitetno obavljanje odgojno-obrazovne djelatnosti u školskim ustanovam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 Programe stručnog osposobljavanja i usavršavanja iz stavka 1. ovog članka organiziraju i provode ustanove nadležne za stručno usavršavanje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Članak 115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) Uz ustanove iz stavka 3. ovog članka programe iz stavka 1. ovog članka mogu provoditi i visoka učilišta te subjekti iz civilnog sektor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5) Ustanove iz stavka 3. i 4. ovog članka programe stručnog osposobljavanja i usavršavanja mogu izvoditi i u školskim ustanovam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6) Program stručnog osposobljavanja i usavršavanja treba sadržavati temu, namjenu, ciljeve programa iskazane kompetencijama, metode poučavanja, organizaciju, način vrednovanja i oblik certificiranja, broj polaznika, vrijeme trajanja programa i troškovnik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7) Način i postupak stručnog osposobljavanja i usavršavanja učitelja, nastavnika, stručnih suradnika i ravnatelja propisuje minis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Članak 116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Učitelji, nastavnici, stručni suradnici i ravnatelji mogu napredovati u struci, odnosno zanimanju u najmanje tri razine i stjecati odgovarajuća zvanja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Učitelji, nastavnici, stručni suradnici i ravnatelji mogu biti nagrađeni za izvanredna postignuća u odgojno-obrazovnoj djelatnosti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) Razine, odgovarajuća zvanja, uvjete i način napredovanja i nagrađivanja, propisuje minist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Članak 117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 Licencija za rad u školskoj ustanovi je javna isprava kojom se dokazuju potrebne razine općih i stručnih kompetencija učitelja, nastavnika, stručnih suradnika i ravnatelj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 Prvom licencijom za rad učitelja, nastavnika i stručnih suradnika smatra se isprava o položenom stručnom ispitu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 Učitelji, nastavnici i stručni suradnici imaju pravo i dužnost licenciju obnavljati svakih pet godin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) Postupak licenciranja provodi Nacionalni centar za vanjsko vrednovanje obrazovanja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5) Program, postupak i način stjecanja, izdavanja i obnavljanja licencije za rad učitelja, nastavnika, stručnih suradnika i ravnatelja te prava i dužnosti koje proizlaze iz stavka 1. ovog članka, propisuje minist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KO?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tavnici/profes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čitelji mentori i učitelji savjetn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ditelji županijskih stručnih vijeć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jetnici AZ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jski suradni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LIK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ecesija?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jeloživotno uče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amoobrazovanj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Županijska stručna vijeće (4 godišnj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tručni skupovi za voditelje ŽSV-a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ržavni stručni s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tavnim radnim dan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otom, nedjeljom, državnim prazni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nastavni radni dan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imski praz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ljetni praz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jetni praz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1:28:13Z</dcterms:created>
  <dc:creator>RH - TDU</dc:creator>
  <dc:description/>
  <dc:language>en-US</dc:language>
  <cp:lastModifiedBy>Eugen</cp:lastModifiedBy>
  <dcterms:modified xsi:type="dcterms:W3CDTF">2010-04-07T13:41:10Z</dcterms:modified>
  <cp:revision>5</cp:revision>
  <dc:subject/>
  <dc:title>Slide 1</dc:title>
</cp:coreProperties>
</file>