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62DA8D-5722-4D2F-9773-CF0B93708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Što će naši učenici učiti?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lagoli koji odražavaju očekivanja nastavn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A14-F8A1-4F89-9650-1713FEEE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714-A9CB-410D-BAED-A3788EE3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5F9-A046-4237-85FC-8C3D9961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C7D-BD93-4F59-BD3E-7DD0D7AD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63BF-6A4F-4561-B2AF-F1642CFC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4ED8-5AE9-4F8E-8EA9-FB45A6A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A4E1-0A58-467E-97B1-CEF19F9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C426-AB2D-4C45-B1A0-8513539D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0EAA-7FC5-4931-945B-487F5D5A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2E9-32E0-41D3-961C-0C8BA11A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5DB2-5462-48B4-A1FA-F523F3C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BE6-9080-48F8-899D-BC1F1190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E640-3AC4-4871-BC9D-3E06768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EE56-9101-4497-9F80-8ACB6A4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065A-2F42-4285-B338-ECCF0D1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1DF3-882A-40B0-9BB2-250E391E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EAF1-BC34-4F96-928A-44A614B2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D46-3C19-470E-A8C3-1F75625E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453-E805-4085-9B06-30BC5C3A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0F2-05B8-4811-9F77-F1FBB7D3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799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5C7-E83B-4E42-AED0-760E7C42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F48-8415-40B1-8A08-178C339A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810-7F4C-476E-A473-3FD7EF2E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4CEB-DC0D-4253-B7C9-9354F9BC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58920" y="6408720"/>
            <a:ext cx="788508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08720"/>
            <a:ext cx="46836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380000" y="6408360"/>
            <a:ext cx="176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55640" y="6406920"/>
            <a:ext cx="43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5280" y="6093000"/>
            <a:ext cx="936720" cy="9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4360" y="6381720"/>
            <a:ext cx="358560" cy="358920"/>
          </a:xfrm>
          <a:prstGeom prst="ellipse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0920" y="1413000"/>
            <a:ext cx="8893080" cy="144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95280" y="1557360"/>
            <a:ext cx="8748720" cy="71280"/>
          </a:xfrm>
          <a:prstGeom prst="rect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597960" y="6393960"/>
            <a:ext cx="50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CD25-4304-48A4-A6E4-9CB1E516A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08720"/>
            <a:ext cx="46836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6408720"/>
            <a:ext cx="7885080" cy="33336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285920" y="6408360"/>
            <a:ext cx="2494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24360" y="6381360"/>
            <a:ext cx="439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093000"/>
            <a:ext cx="936720" cy="936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7596000" y="6408360"/>
            <a:ext cx="1439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4A45-832E-49AB-A9C7-164EC2D2E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1150920"/>
            <a:ext cx="4643280" cy="190440"/>
          </a:xfrm>
          <a:prstGeom prst="rect">
            <a:avLst/>
          </a:prstGeom>
          <a:solidFill>
            <a:srgbClr val="4343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381720"/>
            <a:ext cx="358560" cy="358920"/>
          </a:xfrm>
          <a:prstGeom prst="ellipse">
            <a:avLst/>
          </a:prstGeom>
          <a:solidFill>
            <a:srgbClr val="099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889440" cy="1085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820728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Uvod u radionicu: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„Definiranje ishoda učenja teme </a:t>
            </a:r>
            <a:r>
              <a:rPr b="0" i="1" lang="hr-HR" sz="4000" spc="-1" strike="noStrike">
                <a:solidFill>
                  <a:srgbClr val="000000"/>
                </a:solidFill>
                <a:latin typeface="Arial"/>
              </a:rPr>
              <a:t>Osnovno oblikovanje tekst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55640" y="5157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rtina Holenko Dlab, pr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jel za informatiku Sveučilišta u Rije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lan rada (grupe - 4 čla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prema za rad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đivanje svrhe sat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rmuliranje ishoda učenja     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zentiranje grupnog uratka ostalim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99ff"/>
                </a:solidFill>
                <a:latin typeface="Arial"/>
              </a:rPr>
              <a:t>1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010-E3B2-4ED7-AB76-51A62EA71B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266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it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06840" y="2739960"/>
            <a:ext cx="327024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F89-5599-4C36-AE83-36E132E8372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ilj radio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ijeniti znanja stečena na predavanju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0099ff"/>
                </a:solidFill>
                <a:latin typeface="Arial"/>
              </a:rPr>
              <a:t>“Važnost formuliranja ishoda učenja na primjeru tema iz informatike u nastavi tehničke kulture”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primjeru konkretne t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33B-C34E-4DB0-B5F4-D3EEAD0ABB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dabrana nastavna 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stavni predmet: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ehnička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zred: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6. raz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stavna cjelina: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5. Informacijska tehnolo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stavne tem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ff"/>
                </a:solidFill>
                <a:latin typeface="Arial"/>
              </a:rPr>
              <a:t>5.1. Osnovno oblikovanje tek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5.2. Brisanje, kopiranje i zamjena dijelova tek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5.3. Mape i datote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5.4. Elektronička po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CF9-C8B2-49DE-BD4D-92C5CCE9EF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novno oblikovanje tekst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ste pogleda na dok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gled slova (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deblja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nakoše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odcrta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3200" spc="-1" strike="noStrike">
                <a:solidFill>
                  <a:srgbClr val="000099"/>
                </a:solidFill>
                <a:latin typeface="Arial"/>
              </a:rPr>
              <a:t>obojen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avnanje tek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834E-0DDC-4E03-92A2-F166702B57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dat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i opći cilj (svrhu) i ishode učenja za temu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snovno oblikovanje tekst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va faza planiranja nastavnoga 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melj za odabir sadržaja, nastavnih metoda i postupaka, aktivnosti za učenike i nastav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D5C-55A1-4FB2-9439-C71F079EF0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vrha i obrazovni isho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dređivanje svrh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općeg cilja iz perspektive nastavnika) – navesti što kao nastavnici želimo postići sat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efiniranje obrazovnih ishod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ciljeva iz perspektive učenika) – navesti će učenici moći napraviti nakon nastavnoga s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594-8ADF-449F-B2DE-7A059BCB55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emeljna pravila za formuliranje  ishoda učenj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glasak na ono što će učenik moći/biti sposobni naprav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 na ono što će nastavnik činiti tijekom izvođenja sata, niti na sadržaje s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i konkretne i precizne (mjerljive) ishode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že se provjeriti u kojoj mjeri je postignuto ostvarenje cil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A40-60EA-48A7-93A6-79EA0FBCE0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avilni i neprecizni glago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zbjegava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neprecizne glagole poput 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znati, razumjeti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hr-HR" sz="3200" spc="-1" strike="noStrike">
                <a:solidFill>
                  <a:srgbClr val="ff0000"/>
                </a:solidFill>
                <a:latin typeface="Arial"/>
              </a:rPr>
              <a:t> nauči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ristiti preporučene glagole poput </a:t>
            </a:r>
            <a:r>
              <a:rPr b="0" i="1" lang="it-IT" sz="3200" spc="-1" strike="noStrike">
                <a:solidFill>
                  <a:srgbClr val="0099ff"/>
                </a:solidFill>
                <a:latin typeface="Arial"/>
              </a:rPr>
              <a:t>nabrojiti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3200" spc="-1" strike="noStrike">
                <a:solidFill>
                  <a:srgbClr val="0099ff"/>
                </a:solidFill>
                <a:latin typeface="Arial"/>
              </a:rPr>
              <a:t>definirati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3200" spc="-1" strike="noStrike">
                <a:solidFill>
                  <a:srgbClr val="0099ff"/>
                </a:solidFill>
                <a:latin typeface="Arial"/>
              </a:rPr>
              <a:t>prepoznati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r-HR" sz="3200" spc="-1" strike="noStrike">
                <a:solidFill>
                  <a:srgbClr val="0099ff"/>
                </a:solidFill>
                <a:latin typeface="Arial"/>
              </a:rPr>
              <a:t>primijeniti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r-HR" sz="3200" spc="-1" strike="noStrike">
                <a:solidFill>
                  <a:srgbClr val="0099ff"/>
                </a:solidFill>
                <a:latin typeface="Arial"/>
                <a:ea typeface="Times New Roman"/>
              </a:rPr>
              <a:t>razlikovati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3200" spc="-1" strike="noStrike">
                <a:solidFill>
                  <a:srgbClr val="0099ff"/>
                </a:solidFill>
                <a:latin typeface="Arial"/>
                <a:ea typeface="Times New Roman"/>
              </a:rPr>
              <a:t>objasni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čite kategorije postignuća učenika  (znanje, razumijevanje i primjena znanja, rješavanje proble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835-FE15-4188-AF65-8BC41659C3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mponente pri formuliranju ish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i glavne komponente isho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ff"/>
                </a:solidFill>
                <a:latin typeface="Arial"/>
              </a:rPr>
              <a:t>ponaš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može promatrati i izmjeri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ff"/>
                </a:solidFill>
                <a:latin typeface="Arial"/>
              </a:rPr>
              <a:t>kriterij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razina izvođenja) i </a:t>
            </a:r>
            <a:r>
              <a:rPr b="0" lang="hr-HR" sz="2800" spc="-1" strike="noStrike">
                <a:solidFill>
                  <a:srgbClr val="0099ff"/>
                </a:solidFill>
                <a:latin typeface="Arial"/>
              </a:rPr>
              <a:t>sadržaj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ff"/>
                </a:solidFill>
                <a:latin typeface="Arial"/>
              </a:rPr>
              <a:t>situaci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hr-HR" sz="2800" spc="-1" strike="noStrike">
                <a:solidFill>
                  <a:srgbClr val="0099ff"/>
                </a:solidFill>
                <a:latin typeface="Arial"/>
              </a:rPr>
              <a:t>uvjet izvođen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4292640"/>
          <a:ext cx="8388360" cy="1727280"/>
        </p:xfrm>
        <a:graphic>
          <a:graphicData uri="http://schemas.openxmlformats.org/drawingml/2006/table">
            <a:tbl>
              <a:tblPr/>
              <a:tblGrid>
                <a:gridCol w="1440000"/>
                <a:gridCol w="2232000"/>
                <a:gridCol w="2376360"/>
                <a:gridCol w="234000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i ponašanja - glag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eriji (razina izvođenja) i sadrža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ja ili ostali uvjeti izvođe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čenik će moć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rojati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 formata za datoteke s bitmapama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a se koriste na web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žavni stručni skup za učitelje tehničke kultu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76A-FCB2-4A8D-80EE-B43BCF0A71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imošten, 201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36:48Z</dcterms:created>
  <dc:creator>igor</dc:creator>
  <dc:description/>
  <dc:language>en-US</dc:language>
  <cp:lastModifiedBy>Martina</cp:lastModifiedBy>
  <dcterms:modified xsi:type="dcterms:W3CDTF">2010-04-07T05:19:53Z</dcterms:modified>
  <cp:revision>174</cp:revision>
  <dc:subject/>
  <dc:title>Moja prva SOI prezentacija</dc:title>
</cp:coreProperties>
</file>