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355A8C-8223-4A36-861A-BC6E9B781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AD3BDA-033A-417D-A417-0F9EC02E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B85AA-444B-4407-9FB6-4DACBAD63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5A6E3B-F40D-4DF1-B892-711F1AE7C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6FC863-567D-44C6-BE59-1E910B02F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625B75-B02A-404D-B657-718B7C304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50FFAB-9AA8-495D-86E4-C511B375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B41BA5-C443-4835-BE04-AC4DEADE1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4293BE-6333-4ABB-BCF8-7AB1D84F4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68C056-5614-4867-B07F-87A8ABBD3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E8A7F1-4ED4-43D1-8236-5CF4729E2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C256AC-BA92-44DB-B820-AA19E1F5F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350923-B319-4B80-935D-4CB36DC89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6A1B4B-FCF6-4836-B9E5-541D91489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110DCD-6C4B-44FB-994E-49B6E1F2C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291F88-17C8-4240-A1E8-9A91989A3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8FD97A-C619-4C7D-BB73-BB3A373E5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2F474B-AAC4-4CB6-B9DD-5A5290D62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02BDB4-A8AB-46A5-B473-895B01C1E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6B9226-6C5F-4049-A5A6-D81905915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1099BC-2535-4DF1-88FE-E651FAF17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A82B20-8E18-4FCF-A8E5-93E597978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71C64D-5ADE-46EA-8995-17890CEE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E803AE-BC68-4311-BE7D-496B42001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CEDC55-792E-47F6-B847-98F7F45E0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F06EA2-4311-435D-A8FB-02C7FDF69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C4E731-4324-4594-962A-0D3425FB9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37FA48-7856-43C3-A5B5-B604D754A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CDE7EB-807A-44C7-8B6B-61BD29FD3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EAF406-A935-4EBB-8B45-5A8D3C1BA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D492F6-7191-417B-89B6-18587473C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1766B5-974E-4A01-B5C5-1AC7B17A6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B31-9184-402A-9C4F-2EDCBFCD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96A-1FC1-4CF0-8AB6-777FAC7C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829-BBCE-45C8-90E9-825A6C14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7D4-EECF-44A8-946E-89524912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56D-4E68-4177-A7BF-5EA6EC02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AD0A-AB9C-49D6-A952-BBEB9744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A04D-4C07-4114-B68F-32065C2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F430-CFD1-4BF5-83DA-8D196FA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994A-104F-4BE5-AF72-E084E19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E0DC-C503-48E3-BB70-6A13B03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5DBC-6385-47CD-ABA9-97874292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C45-F6E5-407F-A6CF-59F89DBC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394F-8A1C-473C-B461-BB5ED44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0B3E-331F-448D-82E2-28E7D3CB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535-1B5F-4E8F-BD8F-6827C50C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D00-71A2-4531-A690-24439711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CDB9-9776-4C5B-B0EE-D51A1E0D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9B0-F5EB-4BD2-99CE-F99F33C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5CE-4006-4C8D-884F-4E0B666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B71-0DFD-44E9-99E4-BB7032C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A23-49C0-4FAE-B36B-C8C41FA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1EC-D83A-4CDC-AF38-01CAA88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DA3-C3C4-436D-BA28-07BFF4F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299-1BBE-4859-A568-EAD7671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8556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Primošten, 7- 9.4.20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35280" y="6381360"/>
            <a:ext cx="439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žavni stručni skup za učitelje tehničke k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96000" y="6408360"/>
            <a:ext cx="143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B29-B76D-4D4A-8D62-7D590B212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Oval 10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250920" y="1413000"/>
            <a:ext cx="8893080" cy="144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95280" y="1557360"/>
            <a:ext cx="8748720" cy="71280"/>
          </a:xfrm>
          <a:prstGeom prst="rect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500720" y="1150920"/>
            <a:ext cx="4643280" cy="19044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" name="Picture 12" descr="SOI"/>
          <p:cNvPicPr/>
          <p:nvPr/>
        </p:nvPicPr>
        <p:blipFill>
          <a:blip r:embed="rId2"/>
          <a:stretch/>
        </p:blipFill>
        <p:spPr>
          <a:xfrm>
            <a:off x="611280" y="260280"/>
            <a:ext cx="3889440" cy="1085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285920" y="6408360"/>
            <a:ext cx="249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Primošten, 7- 9.4.20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924360" y="6381360"/>
            <a:ext cx="439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žavni stručni skup za učitelje tehničke k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00" y="6408360"/>
            <a:ext cx="143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891-14E1-44B1-B73F-E834B89F6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1285920" y="6408720"/>
            <a:ext cx="249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2436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A93-5102-4C64-B6D2-32B7AA22C9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Važnost formuliranja ishoda učenja na primjeru tema iz informatike u nastavi Tehničke k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. dr. sc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ša Hoić–Bož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tasah@inf.uniri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eučilište u Rij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jel za informa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9F50-806B-4313-9D13-135E23F454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iljevi (ishodi)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i učenja su iskazi kojima se izražava što učenik treba znati, razumjeti i/ili biti u stanju pokazati nakon što završi određeni proces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 se definirati na razi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grama - nakon završetka obraz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meta (u cjelini i po razred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e cjeline i nastavne teme predm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og sata pred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laniranje nastavne pripr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B79-D4AA-4B4D-A5C2-BBFFA6569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imjer: nastavna jedinica-tema </a:t>
            </a:r>
            <a:r>
              <a:rPr b="0" i="1" lang="hr-HR" sz="4000" spc="-1" strike="noStrike">
                <a:solidFill>
                  <a:srgbClr val="000000"/>
                </a:solidFill>
                <a:latin typeface="Arial"/>
              </a:rPr>
              <a:t>Elektronička poš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vr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Osposobiti učenike za razmjenu elektroničke pošte i usvajanje osnovnih pravila prilikom razmjene elektroničke poš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Ishodi učenja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Učenici će moć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finirati što je elektronička pošta i nabrojati njezine prednosti u odnosu na običnu poš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finirati pojam računalnih virusa, opisati njihovo štetno djelovanje i širenje elektroničkom poš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jasniti od čega se sastoji e-mail ad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isati elemente sučelja Outlook Express programa i razlikovati namjenu m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staviti i poslati poruku elektroničkom poš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uzeti i pročitati te obrisati primljenu poru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6A33-522C-4F3B-93EA-191376B806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aznolikost naziva (termi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 (kao opći cilj) i zadaće - za cijel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razovna postignuća za pojedine nastavne 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ličiti metodički priručn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lj sata + obrazovne, funkcionalne i odgojne zadaće za učeni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amo obrazovna postignuć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amo zadaće 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tavni planovi SS (MZOŠ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lj i zadaci nastave (iz perspektive nastavnika) + očekivani rezul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iručnik o ishodima učenja (UNI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razovni ish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1285920" y="6408720"/>
            <a:ext cx="249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92436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C2B-DC20-48C5-8ECC-59216B2AD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loomova taksonomija ishoda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7D55-4A43-49BE-AC09-752E9E596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aksonomije ishoda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sonomije – pomoć kod formuliranja ishoda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asificiraju ishode učenja te olakšavaju izradu provjera i zadataka u skladu s postavljenim ishod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raširenija primjena Bloomove taksonomije obrazovnih postignuća (kasnije i revidir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enjamin Bloom je s timom stručnjaka koji se bave edukacijskom psihologijom tijekom 50-ih godina 20. st. proučavao razne oblike nastavnoga procesa i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FCF-A7EB-4ACE-80AF-1F343317D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loomova taksonomija ishoda uče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e učenja raspoređeni su u 3 povezana područja (domen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gnitivno ili spoznajno (znanj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sihomotorno (vješt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fektivno (stavo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područje dijeli se na kategorije i podkatego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dje ćemo navesti taksonomiju ishoda učenja u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poznajnoj domeni (području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koja se najčešće kori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BA60-506B-4352-AB68-AB49AD980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aksonomija u spoznajnoj d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est temeljnih razina ili kategorija postignuća uč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eću se od najnižih (za učenike najmanje zahtjevnih) prema višima (zahtjevnijima za učen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ignuća više razine pretpostavljaju da su ostvareni ishodi nižih raz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tavnik samostalno odlučuje do koje razine želi ili može dovesti uče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ima u obzir prirodu nastavne teme i njegov položaj u cjelini i predme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1F5-AAF5-4109-A7BB-597587F7B0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tegorije u spoznajnoj dome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413000"/>
          <a:ext cx="9144000" cy="5516280"/>
        </p:xfrm>
        <a:graphic>
          <a:graphicData uri="http://schemas.openxmlformats.org/drawingml/2006/table">
            <a:tbl>
              <a:tblPr/>
              <a:tblGrid>
                <a:gridCol w="4879800"/>
                <a:gridCol w="426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TEGORIJE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INI PONAŠANJ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pl-PL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nanje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prisjećanja prethodno naučenih informacij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iti, definirati, prepoznati, imenovati, dosjetiti se..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zumijevanje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razumijevanja značenja naučenih informacij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irati, objasniti, predvidjeti, sumirati,…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imjen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upotrebe naučenog u konkretnoj situaciji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irati, riješiti, upotrijebiti, izračunati, zaključiti, primijeniti..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aliz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razlaganja sadržaja na sastavne komponente radi razumijevanja organizacijske strukture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likovati, kategorizirati, razdvojiti, skicirati, identificirati, usporediti..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inteza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kombiniranja dijelova u novu cjelinu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irati, organizirati, napisati, formulirati, sastaviti..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1" lang="hr-HR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rednovanje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posobnost kvantitativnog i kvalitativnog prosuđivanja o nekom sadržaju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ivati, kritizirati, usporediti, zaključiti, prosuditi..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1285920" y="6408720"/>
            <a:ext cx="249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92436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21B5-71DC-414D-A364-89648940E9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avilno formuliranje ishoda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0AC-6FA5-496B-9A88-603DE2CB21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Formuliranje ishoda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i moraju biti formulirani konkretno i jednoznačno u obliku kategorija ponašanja što ih se može opažati, procjenjivati ili mjer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ikom formuliranja ishoda učenja važno je precizno izraziti željenu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aktivnost uče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om će demonstrirati stečeno/usvojeno znanje ili vješti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di se upravo o onim aktivnostima koje će se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mjerit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nosno pratiti i na temelju koje će nastavnik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cijeni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1D3A-ED59-4088-A9C2-5927F820EA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es planiranja odgojno-obrazovnog procesa i ishodi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rminologije i objašnj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i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oomova taksonomija ishoda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hodi učenja u kognitivnoj dom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muliranje ishoda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1A2-486D-4B66-8082-8D8A6813CE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Dva temeljna pravila za formuliranje ishoda učenj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kusirati se na ono što će 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učeni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moći/biti u stanju napraviti nakon određenoga razdoblja uče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na ono što će nastavnik činiti tijekom izvođenja određenoga predmeta ili na sadržaje o kojima će biti rije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i jasne, konkretne i precizne (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mjerljiv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ishode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743-1FF9-4183-A066-8BF8A67EA5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imj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ćeni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će biti sposoban da s razumijevanjem izvršiti radne postupke koji se odnose na datoteke i map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će znati koristiti elektroničku pošt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nkret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će biti sposoban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bjasniti, usporediti i izve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ostupke kreiranja, brisanja, kopiranja, premještanja i preimenovanja datoteka i mapa Windows XP operacijskog sustav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ik će moći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staviti i posla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oruku elektroničke pošte koja kao privitak sadrži slik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961-BF52-4BAC-92EE-9F169FD6C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Formulacija ishoda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bro je ako formulacija ishoda učenja započinje slično naveden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oloženog ispita iz ovoga kolegija student će biti sposoban učiniti sljedeće: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vjere znanja iz nastavne cjeline učenik će moći: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čekuje se da će učenik moći: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čenik će moći/biti sposoban: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60C-2A30-43A6-A16E-D4B47CA64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dređivanje i pisanje ciljeva učenja – 3 glavne kompon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naš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može promatrati i izmjeri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isi ponašanja koje će učenik moći izvesti nakon poučavanja (npr. napisati, definirati, riješiti,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kriteri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razina izvođenja) i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adrža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rediti minimalnu prihvatljivu razinu izvođenja (npr. učenik mora navesti 3 komponente cilja učen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itua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uvjet izvođe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vjet pod kojim bi ponašanje treba biti izvedeno (npr. bez upotrebe kalkulat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eću komponentu nije potrebno uvijek navo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7E14-875E-41AA-B9BA-4F01341348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imj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50920" y="1773360"/>
          <a:ext cx="8229600" cy="3674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ini ponašanja - glagoli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iteriji (razina izvođenja) i sadržaj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ja ili ostali uvjeti izvođenj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k će moći…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ati…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 formata za datoteke s bitmapama…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a se koriste na webu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k će biti sposoban…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staviti i poslati… 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uku elektroničke pošte …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a kao privitak sadrži sliku.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FA17-85B8-4739-8547-59333C0E83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precizni” glag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 izbjegavati nejasne pojmove, primje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umjeti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uči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pamti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ozna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759-174A-4287-BC8A-618D54A084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991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imjeri preporučenih glag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7000" y="1922400"/>
            <a:ext cx="7315200" cy="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04760" y="1204920"/>
          <a:ext cx="9039240" cy="5654520"/>
        </p:xfrm>
        <a:graphic>
          <a:graphicData uri="http://schemas.openxmlformats.org/drawingml/2006/table">
            <a:tbl>
              <a:tblPr/>
              <a:tblGrid>
                <a:gridCol w="1951200"/>
                <a:gridCol w="7088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ATEGORIJE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60780"/>
                      </a:solidFill>
                    </a:lnL>
                    <a:lnR w="5760">
                      <a:solidFill>
                        <a:srgbClr val="060780"/>
                      </a:solidFill>
                    </a:lnR>
                    <a:lnT w="5760">
                      <a:solidFill>
                        <a:srgbClr val="0607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AVILNI“ GLAGOLI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60780"/>
                      </a:solidFill>
                    </a:lnL>
                    <a:lnR w="5760">
                      <a:solidFill>
                        <a:srgbClr val="060780"/>
                      </a:solidFill>
                    </a:lnR>
                    <a:lnT w="5760">
                      <a:solidFill>
                        <a:srgbClr val="0607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anje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ati, opisati, identificirati, označiti, nabrojati, povezati, interpretirati, ponoviti, odabrati, naves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umijevanje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tvoriti, obraniti, izdvojiti, procijeniti, objasniti, proširiti, generalizirati, dati primjer, zaključiti, parafrazirati, predvidjeti, prepri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i, sumira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jen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mijeniti, izračunati, demonstrirati, otkriti, rukovati, modificirati, u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č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, predvidjeti, pripremiti, proizvesti, povezati, pokazati, riješiti, koristi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dijeliti, razlikovati, izdvojiti, identificirati, rastaviti, ilustrirati, zaključiti, prikazati, ukazati na, staviti u odnos sa, izdvojiti, klasificira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tez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tegorizirati, kombinirati, sastaviti, skladati, stvoriti, odlučiti, dizajnirati, objasniti, proizvesti, modificirati, organizirati, planirati, revidirati, kategorizirati kombinirati, sastaviti, objasniti, sumirati, re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ć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napisa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j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ijeniti, usporediti, zaključiti, razlikovati, kritizirati, diskriminirati, objasniti, prosuditi, opravdati, interpretirati, podr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i..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EDC-C680-4B99-AABB-F6EB923B29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ažeta” verzija Blo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praksi je teško razlučiti i primijeniti svih 6 Bloomovih spoznajnih raz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jednostavljena i sažeta taksonomija s 3 poopćene spoznajne raz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nanje (pamćenje i prisjećan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umijevanje i primjena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ješavanj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B3BC-9DFF-41A6-BA7D-B06DB1D0B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pći cilj (svrha) sata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poznati učenike s pojmom grafikona te načinom kreiranja i umetanja  jednostavnih grafikona u Excelov dok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Ishodi učenja: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Učenici će moći: … )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finirati pojam grafi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brojati vrste grafikona u Exc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vesti kada primjenjujemo tortne, a kada stupčaste grafik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metnuti grafikon u Excelov dokument (kao objekt na radnom lis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kazati sve ili samo dio podataka iz tablice tortnim ili stupčastim grafiko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826920" y="3141720"/>
            <a:ext cx="475308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826920" y="3860640"/>
            <a:ext cx="568980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826920" y="4581360"/>
            <a:ext cx="5905800" cy="57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755640" y="5229360"/>
            <a:ext cx="597708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166880" y="3284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ZNANJ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879960" y="39099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RAZUMIJEVANJ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095240" y="4653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PRIMJEN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7096320" y="530064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RJEŠAVANJ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PROBLEM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6F0-67CD-4A16-95A5-20F51B5E6C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eporu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stignuća dosljedno pisati iz perspektive učenika uz korštenje preporučenih glag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bjegavati pojmove kao znati, razumjeti, naučiti... koji odražavaju  očekivanja nastavn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tavnik mora konkretno navesti svoja očekivanja o tome što će učenici morati načiniti kako bi potvrdili da su nešto naučili, razumjeli, usvojili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učenja nastavnik će moći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izmjeriti i ocijeni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o što će mu učenik moći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kaz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4DCF-FBBB-4E70-934A-9CCC96D064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novno pitan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Što će naši učenici znati ili će biti u stanju učiniti nakon završetka određenog perioda učenj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A65-9FDB-44F6-8259-79B079C552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za nastavnike i za učenike iznimno važno preciziranje ishoda učenja pri planiranju ostvarivanja odgojno-obrazovnog 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Nastavni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točno znaju do čega trebaju dovesti svoje učenike te tako usmjeravaju njihovo 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Učenic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točno znaju što se od njih očekuje i potiču se na ulaganje napora za postizanje formuliranih ish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kše vrednovanje i ocjenjiva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ređivanjem ishoda učenja ujedno se određuje što će se ocjenj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ci za ispitivanje znanja sastavljaju se na temelju ishod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52D2-62DF-4E69-9EE3-D5F6B720CB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va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Kontak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tasah@inf.uniri.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0764-3369-4795-9A56-E658FD3481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ces planiranja odgojno- obrazovnog proce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obrazovnom procesu fokus treba biti na ishodima učenja, a ne na sadržajima koji se trebaju obra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početku se određuju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vrha i cilj (ishodi uče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a se točno odredi što učenici moraju naučiti, lakše se donose odluke o tome što poučavati (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drža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  temelju ciljeva i sadržaja odabrati će se i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način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učavanja i uče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abiru se strategije, metode i postupci koji će se primjenjiv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tivnosti sudionika (učenika i nastavnika) kroz koje se ostvaruju postavljeni cilj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Vrednovanjem (ocjenjivanjem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vjeravamo u kojoj mjeri su postignuti ish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BDA0-E10B-4488-89EE-0633B29A8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rac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vrhom i ciljev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određuju namjere u obrazovno-odgojnom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adržaj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konkretiziraju ciljevi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Nastavnim metodama i postupc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a najučinkovitiji način nastoji se omogućiti ostvarenje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Vrednovanjem i ocjenjivanje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e provjerava u kojoj mjeri je postignuto ostvarenje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1285920" y="6408720"/>
            <a:ext cx="249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92436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1F34-9D40-4FFE-B4BA-CADE1B5B16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rminologija i objašnj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FA19-0EFF-47ED-A99D-2A83D4B443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ilj i zadac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 i zadaci odgoja i obrazovanja iskazuju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namjer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dgojno-obrazovnog procesa, njegovo su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lazište i ishodiš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jno-obrazovni proces počinje određenom namjerom, a završava provjerom koliko je ta namjera ostv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Cil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 uopćenija i sažetija formulacija namj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Zadac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 konkretizacija ci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BB7-3A08-4428-BDB0-8C02042B5D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vrha i ciljevi uč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vrh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opća, apstrak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i cil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 programa/predmeta/nastavne cjeline (t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 iz perspektive nastav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Ciljevi učen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konkretne prilike, namjere i postu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čekivani ishodi uče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aci nast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iljevi iz perspektive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128592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imošten, 7- 9.4.2010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635280" y="6381720"/>
            <a:ext cx="439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žavni stručni skup za učitelje tehničke kult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596360" y="6408720"/>
            <a:ext cx="143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C9E-F223-491E-869D-88E0D677B0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vrha poučav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iže se sumativnim djelovanjem ostvarenosti više različitih ciljev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mi kao nastavnici želimo postići procesom poučavanja (cilj iz perspektive nastav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a na pitanje „Što će naši učenici učiti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Primje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rha nastave informatike je da se učenici osposobe za korištenje računala i da nauče koristiti algoritamski način razmišljanja u rješavanju svakodnevnih probl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enici trebaju razviti elementarno umijeće pisanja pomoću računala, slanja poruka i traženja obavijesti na Intern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36:48Z</dcterms:created>
  <dc:creator>igor</dc:creator>
  <dc:description/>
  <dc:language>en-US</dc:language>
  <cp:lastModifiedBy>HP</cp:lastModifiedBy>
  <dcterms:modified xsi:type="dcterms:W3CDTF">2010-04-07T08:51:18Z</dcterms:modified>
  <cp:revision>139</cp:revision>
  <dc:subject/>
  <dc:title>Moja prva SOI prezentacija</dc:title>
</cp:coreProperties>
</file>