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76226-F5CE-4FBD-8564-9BF2E0D21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060D0-B7C7-4D94-BF01-E66873642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AEED1-B395-40B1-B797-E36CD1FA4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FEB32-5327-42A6-BC74-0437756D1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716DC-0E82-491B-BE69-DFBC74E64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ECAA4-6257-4FD3-91CB-0608B0AE4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B1858-0B32-4838-96AC-0E851F815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C24C4-5C1E-4CA6-8A5C-6A7C806BE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CCDA6-A168-405E-94BC-5CAEBD5CE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0DF95-7280-43D0-A24D-17B500C1E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91394-AAF3-4032-843E-E36DB6CF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926F0-9C23-4BE6-908A-44D42C0DE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46C71-7369-4DE9-A9EC-3D76517C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7CDF6-4960-4D3E-BA77-F726FE80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B082D-A74D-45D3-84E2-FB2CA67F0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15EE1-3FF0-4DE6-919D-2AADEEFEA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E82F7-21A9-43C7-992D-82E4EF8B6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35B6A-F85C-462E-B5B1-3A04A561B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623B8-902A-41E3-860F-E6FF57F41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6ED15-2A74-4BD1-80E8-A84F2256F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AE676-88F2-436F-BACA-FD3278E8A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EE7B1-9699-4979-9D1B-58926929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EC9DC-6ABD-49FA-99B1-119CF83F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E314B-A166-4790-9096-50A78461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3909E-8CF8-4C4E-97B3-9358311701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C6050-24FC-4F8A-80D2-716ABBB2F3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amir@ffri.hr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mailto:damir@ffri.hr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600" spc="-1" strike="noStrike">
                <a:solidFill>
                  <a:srgbClr val="ffffff"/>
                </a:solidFill>
                <a:latin typeface="Arial"/>
              </a:rPr>
              <a:t>Osnovne odrednice </a:t>
            </a:r>
            <a:r>
              <a:rPr b="0" i="1" lang="hr-HR" sz="4600" spc="-1" strike="noStrike">
                <a:solidFill>
                  <a:srgbClr val="ffffff"/>
                </a:solidFill>
                <a:latin typeface="Arial"/>
              </a:rPr>
              <a:t>dobre</a:t>
            </a:r>
            <a:r>
              <a:rPr b="0" lang="hr-HR" sz="4600" spc="-1" strike="noStrike">
                <a:solidFill>
                  <a:srgbClr val="ffffff"/>
                </a:solidFill>
                <a:latin typeface="Arial"/>
              </a:rPr>
              <a:t> nastave Tehničke kulture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438280" y="4266720"/>
            <a:ext cx="65534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Arial"/>
              </a:rPr>
              <a:t>... Ili kako najmanje pogriješiti u nastavi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Arial"/>
              </a:rPr>
              <a:t>Damir Purković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000000"/>
                </a:solidFill>
                <a:latin typeface="Arial"/>
              </a:rPr>
              <a:t>Filozofski fakultet u Rijec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damir@ffri.h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Arial"/>
              </a:rPr>
              <a:t>Postignuća, kompetencije i ... ostal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7924680" cy="4724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762120" y="4267080"/>
            <a:ext cx="3200400" cy="1295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505320" y="4876920"/>
            <a:ext cx="100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realn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19320" y="3581280"/>
            <a:ext cx="4647960" cy="2133720"/>
          </a:xfrm>
          <a:prstGeom prst="ellipse">
            <a:avLst/>
          </a:pr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867280" y="3352680"/>
            <a:ext cx="2286000" cy="1676520"/>
          </a:xfrm>
          <a:prstGeom prst="ellipse">
            <a:avLst/>
          </a:prstGeom>
          <a:noFill/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2590920" y="2133360"/>
            <a:ext cx="0" cy="1523880"/>
          </a:xfrm>
          <a:prstGeom prst="line">
            <a:avLst/>
          </a:prstGeom>
          <a:ln w="255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7086240" y="2133720"/>
            <a:ext cx="228600" cy="1218960"/>
          </a:xfrm>
          <a:prstGeom prst="line">
            <a:avLst/>
          </a:prstGeom>
          <a:ln w="255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28800" y="1828800"/>
            <a:ext cx="1219320" cy="2764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990000"/>
                </a:solidFill>
                <a:latin typeface="Arial"/>
              </a:rPr>
              <a:t>Ishodi učen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48120" y="1981080"/>
            <a:ext cx="761760" cy="0"/>
          </a:xfrm>
          <a:prstGeom prst="line">
            <a:avLst/>
          </a:prstGeom>
          <a:ln w="255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09880" y="1828800"/>
            <a:ext cx="1219320" cy="2764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990000"/>
                </a:solidFill>
                <a:latin typeface="Arial"/>
              </a:rPr>
              <a:t>kompetenci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35268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78200" y="1328760"/>
            <a:ext cx="86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evaluaci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77120" y="1523880"/>
            <a:ext cx="1295280" cy="641520"/>
          </a:xfrm>
          <a:prstGeom prst="rect">
            <a:avLst/>
          </a:prstGeom>
          <a:noFill/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7d"/>
                </a:solidFill>
                <a:latin typeface="Arial"/>
              </a:rPr>
              <a:t>samo vanjska manifestacija - ponašan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5714640" y="1981080"/>
            <a:ext cx="762120" cy="0"/>
          </a:xfrm>
          <a:prstGeom prst="line">
            <a:avLst/>
          </a:prstGeom>
          <a:ln w="25560">
            <a:solidFill>
              <a:srgbClr val="00007d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68160" y="1712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Arial"/>
              </a:rPr>
              <a:t>Postignuća, kompetencije i ... ostal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71040" y="224640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6600"/>
                </a:solidFill>
                <a:latin typeface="Arial"/>
              </a:rPr>
              <a:t>ZN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00200" y="2438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75800" y="2246400"/>
            <a:ext cx="15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cc3300"/>
                </a:solidFill>
                <a:latin typeface="Arial"/>
              </a:rPr>
              <a:t>ZNATI KA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2438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5560" y="2209680"/>
            <a:ext cx="26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NEMA KOMPETEN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00400" y="2590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92360" y="320040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99"/>
                </a:solidFill>
                <a:latin typeface="Arial"/>
              </a:rPr>
              <a:t>NAPRAVI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62520" y="3352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471280" y="3160800"/>
            <a:ext cx="20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9900"/>
                </a:solidFill>
                <a:latin typeface="Arial"/>
              </a:rPr>
              <a:t>MOĆI NAPRAVI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3505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470920" y="4227480"/>
            <a:ext cx="24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cc3300"/>
                </a:solidFill>
                <a:latin typeface="Arial"/>
              </a:rPr>
              <a:t>BITI KOMPETEN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666880" y="3886200"/>
            <a:ext cx="3810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666880" y="3886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43000" y="4419720"/>
            <a:ext cx="329256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ff"/>
                </a:solidFill>
                <a:latin typeface="Arial"/>
              </a:rPr>
              <a:t>USVOJITI VRIJEDNOSTI, BITI SVJESTAN POSLJEDICA, BAVITI SE TIME, PRENOSITI VRIJEDNOSTI NA DRUGE, RAZVIJATI SUSTAV VRIJEDNOSTI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666880" y="5257800"/>
            <a:ext cx="10670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33720" y="5791320"/>
            <a:ext cx="3124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cc0000"/>
                </a:solidFill>
                <a:latin typeface="Arial"/>
              </a:rPr>
              <a:t>Može biti samo posljedica svih koraka u stjecanju kompetencija i dokaza kompetentnosti kroz r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77120" y="4495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59240" y="4800600"/>
            <a:ext cx="31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996633"/>
                </a:solidFill>
                <a:latin typeface="Arial"/>
              </a:rPr>
              <a:t>POTVRĐIVANJE KROZ R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4419720" y="4952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142640" y="3352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143000" y="2590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22240" y="1484280"/>
            <a:ext cx="748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ouzdano znamo da se </a:t>
            </a:r>
            <a:r>
              <a:rPr b="0" lang="hr-HR" sz="1800" spc="-1" strike="noStrike">
                <a:solidFill>
                  <a:srgbClr val="cc3300"/>
                </a:solidFill>
                <a:latin typeface="Arial"/>
              </a:rPr>
              <a:t>na temelju pukog usvajanja činjenic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i misanih aktivnosti </a:t>
            </a:r>
            <a:r>
              <a:rPr b="0" lang="hr-HR" sz="1800" spc="-1" strike="noStrike">
                <a:solidFill>
                  <a:srgbClr val="cc3300"/>
                </a:solidFill>
                <a:latin typeface="Arial"/>
              </a:rPr>
              <a:t>ne može razviti prihvatljivo mišljenje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, stavovi i interesi u TK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143000" y="3505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438280" y="2438280"/>
            <a:ext cx="6400800" cy="3962520"/>
          </a:xfrm>
          <a:prstGeom prst="ellipse">
            <a:avLst/>
          </a:prstGeom>
          <a:solidFill>
            <a:srgbClr val="c0c0c0">
              <a:alpha val="16000"/>
            </a:srgbClr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Specifičnosti Tehničke k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ilj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zgraditi djelatni,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uzetn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varal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 tehn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-tehnolo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 n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jenja te osposobiti u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ike za prepoznavanje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jenu tehn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h tvorevina u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otnom okru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2120" y="2438280"/>
            <a:ext cx="28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9900"/>
                </a:solidFill>
                <a:latin typeface="Arial"/>
              </a:rPr>
              <a:t>ZNANJA 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88000" y="2514600"/>
            <a:ext cx="13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9900"/>
                </a:solidFill>
                <a:latin typeface="Arial"/>
              </a:rPr>
              <a:t>PRIMJ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59080" y="251460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9900"/>
                </a:solidFill>
                <a:latin typeface="Arial"/>
              </a:rPr>
              <a:t>SVIJ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3505320"/>
            <a:ext cx="2301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epoznavanje tvorevina i sust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ukovanje i primjena tehničkih tvorev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477120" y="3505320"/>
            <a:ext cx="228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Tehničko mišlje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otreba za tehnikom i proizvodnj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nteres za područ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62120" y="2921040"/>
            <a:ext cx="2454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Meterijalima i proizvodn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Tehničkim tvorevin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nergiji i ekologi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ocio-proizvodnim odnos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" y="2362320"/>
            <a:ext cx="5029200" cy="4495680"/>
          </a:xfrm>
          <a:prstGeom prst="ellipse">
            <a:avLst/>
          </a:prstGeom>
          <a:solidFill>
            <a:srgbClr val="ffff00">
              <a:alpha val="17000"/>
            </a:srgbClr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130840" y="6172200"/>
            <a:ext cx="1547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990000"/>
                </a:solidFill>
                <a:latin typeface="Arial"/>
              </a:rPr>
              <a:t>    </a:t>
            </a:r>
            <a:r>
              <a:rPr b="0" lang="hr-HR" sz="1800" spc="-1" strike="noStrike">
                <a:solidFill>
                  <a:srgbClr val="990000"/>
                </a:solidFill>
                <a:latin typeface="Arial"/>
              </a:rPr>
              <a:t>nast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990000"/>
                </a:solidFill>
                <a:latin typeface="Arial"/>
              </a:rPr>
              <a:t>-moguća evaluacija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407920" y="5410080"/>
            <a:ext cx="1709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7d"/>
                </a:solidFill>
                <a:latin typeface="Arial"/>
              </a:rPr>
              <a:t>        </a:t>
            </a:r>
            <a:r>
              <a:rPr b="0" lang="hr-HR" sz="1800" spc="-1" strike="noStrike">
                <a:solidFill>
                  <a:srgbClr val="00007d"/>
                </a:solidFill>
                <a:latin typeface="Arial"/>
              </a:rPr>
              <a:t>r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7d"/>
                </a:solidFill>
                <a:latin typeface="Arial"/>
              </a:rPr>
              <a:t>-samostalna aktivnost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2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2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Osnovne odrednice </a:t>
            </a:r>
            <a:r>
              <a:rPr b="0" i="1" lang="hr-HR" sz="4000" spc="-1" strike="noStrike">
                <a:solidFill>
                  <a:srgbClr val="008000"/>
                </a:solidFill>
                <a:latin typeface="Arial"/>
              </a:rPr>
              <a:t>dobre</a:t>
            </a: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 nasta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Temeljem prethodnih spoznaja dolazimo do zaključka da </a:t>
            </a:r>
            <a:r>
              <a:rPr b="0" i="1" lang="hr-HR" sz="1600" spc="-1" strike="noStrike">
                <a:solidFill>
                  <a:srgbClr val="008000"/>
                </a:solidFill>
                <a:latin typeface="Arial"/>
              </a:rPr>
              <a:t>dobru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nastavu TK određuj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121200" y="2438280"/>
            <a:ext cx="25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7d"/>
                </a:solidFill>
                <a:latin typeface="Arial"/>
              </a:rPr>
              <a:t>Dostupnost sadrža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970720" y="3352680"/>
            <a:ext cx="289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99"/>
                </a:solidFill>
                <a:latin typeface="Arial"/>
              </a:rPr>
              <a:t>Manipulaciju sadržaj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970000" y="4267080"/>
            <a:ext cx="282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8000"/>
                </a:solidFill>
                <a:latin typeface="Arial"/>
              </a:rPr>
              <a:t>Samostalni rad uče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09920" y="5181480"/>
            <a:ext cx="383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cc3300"/>
                </a:solidFill>
                <a:latin typeface="Arial"/>
              </a:rPr>
              <a:t>Dobru pripremljenost nastav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275280" y="297180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mogućnosti 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63600" y="3886200"/>
            <a:ext cx="4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kro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115880" y="480060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u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19720" y="3733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419720" y="4572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18840" y="5867280"/>
            <a:ext cx="83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996633"/>
                </a:solidFill>
                <a:latin typeface="Arial"/>
              </a:rPr>
              <a:t>Manjkavost bilo koje odrednice čini nastavu lošom, neuspješnom i nekvalitetn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5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95" dur="2000" fill="hold"/>
                                        <p:tgtEl>
                                          <p:spTgt spid="2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Osnovne odrednice </a:t>
            </a:r>
            <a:r>
              <a:rPr b="0" i="1" lang="hr-HR" sz="4000" spc="-1" strike="noStrike">
                <a:solidFill>
                  <a:srgbClr val="008000"/>
                </a:solidFill>
                <a:latin typeface="Arial"/>
              </a:rPr>
              <a:t>dobre</a:t>
            </a: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 nasta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99"/>
                </a:solidFill>
                <a:latin typeface="Arial"/>
              </a:rPr>
              <a:t>Dostupnost sadržaja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(prema važnos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cc3300"/>
                </a:solidFill>
                <a:latin typeface="Arial"/>
              </a:rPr>
              <a:t>Izvorna stvarnost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– materijali, tvorevine, alati, strojevi, instrumenti, pribor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cc3300"/>
                </a:solidFill>
                <a:latin typeface="Arial"/>
              </a:rPr>
              <a:t>Didaktički prerađena izvorna stvarnost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– modeli, simulatori, makete, interakt. sadrž.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cc3300"/>
                </a:solidFill>
                <a:latin typeface="Arial"/>
              </a:rPr>
              <a:t>Ostali sadržaji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– slike, filmovi, sheme, crteži, grafikoni, posteri, plakati, tekstovi, listići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2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0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8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Osnovne odrednice </a:t>
            </a:r>
            <a:r>
              <a:rPr b="0" i="1" lang="hr-HR" sz="4000" spc="-1" strike="noStrike">
                <a:solidFill>
                  <a:srgbClr val="008000"/>
                </a:solidFill>
                <a:latin typeface="Arial"/>
              </a:rPr>
              <a:t>dobre</a:t>
            </a: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 nasta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ff"/>
                </a:solidFill>
                <a:latin typeface="Arial"/>
              </a:rPr>
              <a:t>Manipulacija sadržajima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– omogućiti učeniku manipulaciju ponuđenim sadržajima kroz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Oblikovanje i preradu sadržaj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Manipulaciju tehničkim tvorevinama i tehnologijo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Istraživanje i ispitivanje tehničkih sadržaj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Grafičko oblikovanje i manipulaciju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Interakciju s multimedijalnim tehničkim sadržajim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3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Osnovne odrednice </a:t>
            </a:r>
            <a:r>
              <a:rPr b="0" i="1" lang="hr-HR" sz="4000" spc="-1" strike="noStrike">
                <a:solidFill>
                  <a:srgbClr val="008000"/>
                </a:solidFill>
                <a:latin typeface="Arial"/>
              </a:rPr>
              <a:t>dobre</a:t>
            </a: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 nasta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8000"/>
                </a:solidFill>
                <a:latin typeface="Arial"/>
              </a:rPr>
              <a:t>Samostalni rad učen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cc3300"/>
                </a:solidFill>
                <a:latin typeface="Arial"/>
              </a:rPr>
              <a:t>Grupni, tandemski i individualni rad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Kroz različite vođene </a:t>
            </a:r>
            <a:r>
              <a:rPr b="0" lang="hr-HR" sz="2800" spc="-1" strike="noStrike">
                <a:solidFill>
                  <a:srgbClr val="0000ff"/>
                </a:solidFill>
                <a:latin typeface="Arial"/>
              </a:rPr>
              <a:t>aktivnosti učenik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3300"/>
                </a:solidFill>
                <a:latin typeface="Arial"/>
              </a:rPr>
              <a:t>Specifične vježb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(laboratorijske, radioničke, manipulativne, elektromontažne, uč.eksperimenti, vježbe iz teh.crt., računalom podržane vježbe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3300"/>
                </a:solidFill>
                <a:latin typeface="Arial"/>
              </a:rPr>
              <a:t>Opće vježbe 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(diskusije, debate, uč.prezentacije, referati, izlaganja, rad na dokumentaciji, kviz ..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Osnovne odrednice </a:t>
            </a:r>
            <a:r>
              <a:rPr b="0" i="1" lang="hr-HR" sz="4000" spc="-1" strike="noStrike">
                <a:solidFill>
                  <a:srgbClr val="008000"/>
                </a:solidFill>
                <a:latin typeface="Arial"/>
              </a:rPr>
              <a:t>dobre</a:t>
            </a: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 nasta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cc3300"/>
                </a:solidFill>
                <a:latin typeface="Arial"/>
              </a:rPr>
              <a:t>Dobra pripremljenost nastavn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Materijalna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(priprema nastavnih sredstava, pomagala, alata, pribora, dokumentacije..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sihološka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(upoznavanje osobina i mogućnosti svakog pojedinog učenika... </a:t>
            </a:r>
            <a:r>
              <a:rPr b="0" i="1" lang="hr-HR" sz="2400" spc="-1" strike="noStrike">
                <a:solidFill>
                  <a:srgbClr val="cc00ff"/>
                </a:solidFill>
                <a:latin typeface="Arial"/>
              </a:rPr>
              <a:t>i sebe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Organizacijska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(planiranje radnih mjesta, distribucija poslova i zadataka za učenike..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Metodička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(izrada </a:t>
            </a:r>
            <a:r>
              <a:rPr b="0" i="1" lang="hr-HR" sz="2400" spc="-1" strike="noStrike">
                <a:solidFill>
                  <a:srgbClr val="cc00ff"/>
                </a:solidFill>
                <a:latin typeface="Arial"/>
              </a:rPr>
              <a:t>pripreme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 za nastav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1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6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1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6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1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Umjesto zaključ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Jedino </a:t>
            </a:r>
            <a:r>
              <a:rPr b="0" i="1" lang="hr-HR" sz="2800" spc="-1" strike="noStrike">
                <a:solidFill>
                  <a:srgbClr val="008000"/>
                </a:solidFill>
                <a:latin typeface="Arial"/>
              </a:rPr>
              <a:t>jamstvo dobre nastave – dobar nastav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Jedino </a:t>
            </a:r>
            <a:r>
              <a:rPr b="0" i="1" lang="hr-HR" sz="2800" spc="-1" strike="noStrike">
                <a:solidFill>
                  <a:srgbClr val="cc3300"/>
                </a:solidFill>
                <a:latin typeface="Arial"/>
              </a:rPr>
              <a:t>pripremljen nastavnik – dobar nastav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aš (Vaš)</a:t>
            </a:r>
            <a:r>
              <a:rPr b="0" i="1" lang="hr-HR" sz="2800" spc="-1" strike="noStrike">
                <a:solidFill>
                  <a:srgbClr val="0000ff"/>
                </a:solidFill>
                <a:latin typeface="Arial"/>
              </a:rPr>
              <a:t> primarni cilj – odgojno usmjeriti učenika ka tehničkom stvaralačkom okruž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Kroz </a:t>
            </a:r>
            <a:r>
              <a:rPr b="0" i="1" lang="hr-HR" sz="2800" spc="-1" strike="noStrike">
                <a:solidFill>
                  <a:srgbClr val="996633"/>
                </a:solidFill>
                <a:latin typeface="Arial"/>
              </a:rPr>
              <a:t>rad (aktivnost) se postižu najbolji rezultati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(kratkoročno i dugoročn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7d"/>
                </a:solidFill>
                <a:latin typeface="Arial"/>
              </a:rPr>
              <a:t>Vi ste generatori dobre nastave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– niti jedna reforma školstva nije bila uspješ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8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9" dur="8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8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8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8" dur="8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9" dur="8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8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8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8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9" dur="8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8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8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8" dur="8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9" dur="8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8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8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8" dur="8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9" dur="8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8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8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Za kraj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cc3300"/>
                </a:solidFill>
                <a:latin typeface="Arial"/>
              </a:rPr>
              <a:t>Pitanja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632280" y="5562720"/>
            <a:ext cx="17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amir Purkovi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damir@ffri.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Nastavna zbilj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EMA ZADOVOLJAVAJUĆIH ISHOD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E POSTOJI JEDINSTVENA KLAS. METOD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E POSTOJE NAJBOLJE METOD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EMA ČAROBNOG ŠTAPIĆ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EMA JEDINSTVENOG ZNANSTVENOG PRISTUP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EMA UNIVERZALNOG OBRAZOVNOG SUSTAV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VIŠE OD </a:t>
            </a:r>
            <a:r>
              <a:rPr b="0" lang="hr-HR" sz="2800" spc="-1" strike="noStrike">
                <a:solidFill>
                  <a:srgbClr val="ff0000"/>
                </a:solidFill>
                <a:latin typeface="Arial"/>
              </a:rPr>
              <a:t>75% FRONTALNE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NASTAV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Što postoj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Arial"/>
              </a:rPr>
              <a:t>POSTOJE RAZLIČITE TEORIJE 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POSTOJE RAZLIČITE METOD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OSTOJE DOBAR ILI LOŠ IZBOR  METOD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7d"/>
                </a:solidFill>
                <a:latin typeface="Arial"/>
              </a:rPr>
              <a:t>POSTOJE DOSEZI ISPOD KOJIH SE NE SMIJE 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500" spc="-1" strike="noStrike">
                <a:solidFill>
                  <a:srgbClr val="003300"/>
                </a:solidFill>
                <a:latin typeface="Arial"/>
              </a:rPr>
              <a:t>POSTOJI DOBRA PRAKSA I ZNANSTVENI DOSEZI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c0000"/>
                </a:solidFill>
                <a:latin typeface="Arial"/>
              </a:rPr>
              <a:t>POSTOJI NASTAVNIK “KOJI ČUJE I UČI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c3300"/>
                </a:solidFill>
                <a:latin typeface="Arial"/>
              </a:rPr>
              <a:t>POSTOJI ŽIVOTNO OKRUŽJE I OČEKIVANJ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0000"/>
                </a:solidFill>
                <a:latin typeface="Arial"/>
              </a:rPr>
              <a:t>POSTOJE DJECA – LJUDI (UČENICI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Naša mis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4960" y="27795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Životno tehničko okruž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90920" y="2209680"/>
            <a:ext cx="152388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242480" y="57150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Učenik pr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1143000" cy="11142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238880" y="4267080"/>
            <a:ext cx="1092240" cy="13716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6934320" y="1295280"/>
            <a:ext cx="1442880" cy="14479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086600" y="28195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adrža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4267080" y="1600200"/>
            <a:ext cx="1285920" cy="11905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562720" y="1676520"/>
            <a:ext cx="121896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5638320" y="2286000"/>
            <a:ext cx="114300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41360" y="274320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Nastavn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00600" y="3124080"/>
            <a:ext cx="2514600" cy="1295640"/>
          </a:xfrm>
          <a:prstGeom prst="line">
            <a:avLst/>
          </a:prstGeom>
          <a:ln w="63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20120" y="3276720"/>
            <a:ext cx="0" cy="914400"/>
          </a:xfrm>
          <a:prstGeom prst="line">
            <a:avLst/>
          </a:prstGeom>
          <a:ln w="63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742840" y="4952880"/>
            <a:ext cx="426708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8080" y="4191120"/>
            <a:ext cx="1676520" cy="15476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031360" y="449568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aktiv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3200400"/>
            <a:ext cx="0" cy="7621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50240" y="5751360"/>
            <a:ext cx="15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Učenik posl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9286400">
            <a:off x="4731840" y="4041360"/>
            <a:ext cx="3441960" cy="62856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11160" y="33894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ff"/>
                </a:solidFill>
                <a:latin typeface="Arial"/>
              </a:rPr>
              <a:t>nast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1" dur="2000" fill="hold"/>
                                        <p:tgtEl>
                                          <p:spTgt spid="1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3" dur="2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Što trebamo znat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i djecu ne učimo! </a:t>
            </a:r>
            <a:r>
              <a:rPr b="0" lang="hr-HR" sz="3200" spc="-1" strike="noStrike">
                <a:solidFill>
                  <a:srgbClr val="ff0000"/>
                </a:solidFill>
                <a:latin typeface="Arial"/>
              </a:rPr>
              <a:t>... djeca uče sama, a mi im osiguravamo primjerene uvjete i poučavamo ih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i djecu ne odgajamo!</a:t>
            </a:r>
            <a:r>
              <a:rPr b="0" lang="hr-HR" sz="3200" spc="-1" strike="noStrike">
                <a:solidFill>
                  <a:srgbClr val="ff0000"/>
                </a:solidFill>
                <a:latin typeface="Arial"/>
              </a:rPr>
              <a:t> ... odgoj je ustvari samoodgoj, a produkt je životnog okružja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hr-HR" sz="2000" spc="-1" strike="noStrike">
                <a:solidFill>
                  <a:srgbClr val="00007d"/>
                </a:solidFill>
                <a:latin typeface="Arial"/>
              </a:rPr>
              <a:t>(ako je ono pozitivno, poticajno,moralno i humano onda postoji velika vjerojatnost da će, u odgojnom smislu, iznjedriti takvu osobu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Neke stvari koje znamo ... </a:t>
            </a:r>
            <a:r>
              <a:rPr b="0" i="1" lang="hr-HR" sz="4400" spc="-1" strike="noStrike">
                <a:solidFill>
                  <a:srgbClr val="cc0000"/>
                </a:solidFill>
                <a:latin typeface="Arial"/>
              </a:rPr>
              <a:t>ali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aš cilj je primarno odgoj i kultura učenik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e očekujmo od djece da znaju ono što mi ne znam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no čemu djecu poučavamo nije najvažnija stvar na svijetu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ije sramota ne znati, sramota je ne pitati i ne nauči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no što poučavamo moramo dobro poznavati ili naučiti, a ono što ne naučimo nemojmo niti predavati..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astava mora biti korisna, produktivna i napredna, u osnovi ne smije biti štetn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džbenik nije katekizam, ne držimo ga se kao “pijan plota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Vaše </a:t>
            </a:r>
            <a:r>
              <a:rPr b="0" lang="hr-HR" sz="2400" spc="-1" strike="noStrike">
                <a:solidFill>
                  <a:srgbClr val="ff0000"/>
                </a:solidFill>
                <a:latin typeface="Arial"/>
              </a:rPr>
              <a:t>kompetencije i profesionalnost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su Vaš “zaštitni znak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Kakva nastav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valitetna nastava – </a:t>
            </a:r>
            <a:r>
              <a:rPr b="0" i="1" lang="hr-HR" sz="3200" spc="-1" strike="noStrike">
                <a:solidFill>
                  <a:srgbClr val="cc00ff"/>
                </a:solidFill>
                <a:latin typeface="Arial"/>
              </a:rPr>
              <a:t>svakako, ali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ije pojam kojeg se može jednoznačno definirati već sustav– više </a:t>
            </a:r>
            <a:r>
              <a:rPr b="0" lang="hr-HR" sz="2800" spc="-1" strike="noStrike">
                <a:solidFill>
                  <a:srgbClr val="ff0000"/>
                </a:solidFill>
                <a:latin typeface="Arial"/>
              </a:rPr>
              <a:t>produkt specifičnog okružja za nastavu i učenje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nego aktivnosti nastavnik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za kvalitetnu nastavu potrebni su: </a:t>
            </a:r>
            <a:r>
              <a:rPr b="0" lang="hr-HR" sz="2800" spc="-1" strike="noStrike">
                <a:solidFill>
                  <a:srgbClr val="009900"/>
                </a:solidFill>
                <a:latin typeface="Arial"/>
              </a:rPr>
              <a:t>volja i trud učenik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r-HR" sz="2800" spc="-1" strike="noStrike">
                <a:solidFill>
                  <a:srgbClr val="009900"/>
                </a:solidFill>
                <a:latin typeface="Arial"/>
              </a:rPr>
              <a:t>poticajno socijalno okružje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r-HR" sz="2800" spc="-1" strike="noStrike">
                <a:solidFill>
                  <a:srgbClr val="009900"/>
                </a:solidFill>
                <a:latin typeface="Arial"/>
              </a:rPr>
              <a:t>mogućnosti za učiti i naučiti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, dobro izvedena nastava - </a:t>
            </a:r>
            <a:r>
              <a:rPr b="0" lang="hr-HR" sz="2800" spc="-1" strike="noStrike">
                <a:solidFill>
                  <a:srgbClr val="008000"/>
                </a:solidFill>
                <a:latin typeface="Arial"/>
              </a:rPr>
              <a:t>dobra nastava</a:t>
            </a:r>
            <a:r>
              <a:rPr b="0" lang="hr-HR" sz="2800" spc="-1" strike="noStrike">
                <a:solidFill>
                  <a:srgbClr val="ff0000"/>
                </a:solidFill>
                <a:latin typeface="Arial"/>
              </a:rPr>
              <a:t> (dobra praksa)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0" dur="2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Kakva nastav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spješna nastava – </a:t>
            </a:r>
            <a:r>
              <a:rPr b="0" i="1" lang="hr-HR" sz="3200" spc="-1" strike="noStrike">
                <a:solidFill>
                  <a:srgbClr val="cc00ff"/>
                </a:solidFill>
                <a:latin typeface="Arial"/>
              </a:rPr>
              <a:t>naravno, ali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astava usmjerena na rezultat učenja – </a:t>
            </a:r>
            <a:r>
              <a:rPr b="0" i="1" lang="hr-HR" sz="2400" spc="-1" strike="noStrike">
                <a:solidFill>
                  <a:srgbClr val="cc3300"/>
                </a:solidFill>
                <a:latin typeface="Arial"/>
              </a:rPr>
              <a:t>learning-dependent pedagogy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- (najčešće samo na kognitivnu sferu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bitna je učinkovitost (</a:t>
            </a:r>
            <a:r>
              <a:rPr b="0" i="1" lang="hr-HR" sz="2400" spc="-1" strike="noStrike">
                <a:solidFill>
                  <a:srgbClr val="cc3300"/>
                </a:solidFill>
                <a:latin typeface="Arial"/>
              </a:rPr>
              <a:t>efikasna nastav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 – što prije u što kraćem vremenu i uz što manje resursa postići rezultat (ostvariti zadatke – ishode učenj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99"/>
                </a:solidFill>
                <a:latin typeface="Arial"/>
              </a:rPr>
              <a:t>Zamke: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metode su često neprihvatljive, ishodi “krhki”, a krajnji rezultat </a:t>
            </a:r>
            <a:r>
              <a:rPr b="0" lang="hr-HR" sz="2400" spc="-1" strike="noStrike">
                <a:solidFill>
                  <a:srgbClr val="ff0000"/>
                </a:solidFill>
                <a:latin typeface="Arial"/>
              </a:rPr>
              <a:t>(učenik) devijantan “produkt”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ije svako dobro poučavanje uspješno niti je svaka uspješna nastava dobr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Kakva nastav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009900"/>
                </a:solidFill>
                <a:latin typeface="Arial"/>
              </a:rPr>
              <a:t>Dobra</a:t>
            </a:r>
            <a:r>
              <a:rPr b="1" lang="hr-HR" sz="2800" spc="-1" strike="noStrike">
                <a:solidFill>
                  <a:srgbClr val="009900"/>
                </a:solidFill>
                <a:latin typeface="Arial"/>
              </a:rPr>
              <a:t> nastava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 (dobra praksa) – </a:t>
            </a:r>
            <a:r>
              <a:rPr b="1" i="1" lang="hr-HR" sz="2800" spc="-1" strike="noStrike">
                <a:solidFill>
                  <a:srgbClr val="cc00ff"/>
                </a:solidFill>
                <a:latin typeface="Arial"/>
              </a:rPr>
              <a:t>poželjno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jer je nastava usmjerena na učenika – </a:t>
            </a:r>
            <a:r>
              <a:rPr b="0" i="1" lang="hr-HR" sz="2400" spc="-1" strike="noStrike">
                <a:solidFill>
                  <a:srgbClr val="cc3300"/>
                </a:solidFill>
                <a:latin typeface="Arial"/>
              </a:rPr>
              <a:t>learner-sensitive pedagogy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– učenik se promatra kao cjelovita osoba (škola za život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zadovoljavajuća mješavina unutarnjih (</a:t>
            </a:r>
            <a:r>
              <a:rPr b="0" i="1" lang="hr-HR" sz="2400" spc="-1" strike="noStrike">
                <a:solidFill>
                  <a:srgbClr val="cc3300"/>
                </a:solidFill>
                <a:latin typeface="Arial"/>
              </a:rPr>
              <a:t>kako je učenik doživio nastavu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 i vanjskih (</a:t>
            </a:r>
            <a:r>
              <a:rPr b="0" i="1" lang="hr-HR" sz="2400" spc="-1" strike="noStrike">
                <a:solidFill>
                  <a:srgbClr val="cc3300"/>
                </a:solidFill>
                <a:latin typeface="Arial"/>
              </a:rPr>
              <a:t>kako je manifestirao postignuć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 kriterija za </a:t>
            </a:r>
            <a:r>
              <a:rPr b="0" lang="hr-HR" sz="2400" spc="-1" strike="noStrike">
                <a:solidFill>
                  <a:srgbClr val="00007d"/>
                </a:solidFill>
                <a:latin typeface="Arial"/>
              </a:rPr>
              <a:t>logičke, psihološke i moralne aktivnosti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učen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jer istraživanja pokazuju: </a:t>
            </a:r>
            <a:r>
              <a:rPr b="0" lang="hr-HR" sz="2400" spc="-1" strike="noStrike">
                <a:solidFill>
                  <a:srgbClr val="cc0000"/>
                </a:solidFill>
                <a:latin typeface="Arial"/>
              </a:rPr>
              <a:t>dobro pripremljen nastavnik = </a:t>
            </a:r>
            <a:r>
              <a:rPr b="0" lang="hr-HR" sz="2400" spc="-1" strike="noStrike">
                <a:solidFill>
                  <a:srgbClr val="ff6600"/>
                </a:solidFill>
                <a:latin typeface="Arial"/>
              </a:rPr>
              <a:t>dobar nastavnik</a:t>
            </a:r>
            <a:r>
              <a:rPr b="0" lang="hr-HR" sz="2400" spc="-1" strike="noStrike">
                <a:solidFill>
                  <a:srgbClr val="cc0000"/>
                </a:solidFill>
                <a:latin typeface="Arial"/>
              </a:rPr>
              <a:t> = </a:t>
            </a:r>
            <a:r>
              <a:rPr b="0" lang="hr-HR" sz="2400" spc="-1" strike="noStrike">
                <a:solidFill>
                  <a:srgbClr val="009900"/>
                </a:solidFill>
                <a:latin typeface="Arial"/>
              </a:rPr>
              <a:t>dobra nast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48320" y="5105520"/>
            <a:ext cx="3962160" cy="609480"/>
          </a:xfrm>
          <a:prstGeom prst="ellipse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3" dur="2000" fill="hold"/>
                                        <p:tgtEl>
                                          <p:spTgt spid="1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.P.</cp:lastModifiedBy>
  <dcterms:modified xsi:type="dcterms:W3CDTF">2010-04-06T08:54:27Z</dcterms:modified>
  <cp:revision>16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