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878-F4DB-424C-83A8-1DF8E0AC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0E5-5F0F-4385-BD89-2D9702C1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D21-5F2F-4C93-92E1-C6ADB9EF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02B-3998-459F-B6EC-FC959EFB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EDA-119C-48CF-A03E-567C6A8B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E1E9-6FC5-42AD-AAF6-74DC70A6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5117-1CA6-46C0-BF18-C033F71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3C07-EEB8-4DCC-8D45-500FFF9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D2CB-2A6E-4F2A-8CD0-59610F5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E22-8479-42B0-974D-473CF3D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CEDA-8EBD-4084-873D-7C43916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609-B2F5-42F4-A19B-1AF32E59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4B67-EF09-470C-823F-2893E3F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D037-41CE-40DC-B1C4-9A924F2F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BE42-4CEC-49C8-B6BE-D82DF86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041-4A05-4E82-8269-B8B3CB9F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1D11-4CF3-4729-AEF5-DC364346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ABC-1EEC-45D4-8716-C32516E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D68-F9C2-488F-B98E-6C4D8E6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EA2-A9AE-49EF-A6EB-EFF61660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CB5-46FF-42E6-AE7A-65E2313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7A-A94C-4A4B-9AF7-F9DC082A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C1C-2FA5-4D8B-B8F9-1335E9D3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F4-EC37-47DC-AFED-CE51F93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E8CB-FB71-427F-A72A-F6C9A3C5F1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FF22-3E6B-472C-9957-64AFA2B925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ZNANSTVENA KONSTITUCIJA SADRŽAJA</a:t>
            </a:r>
            <a:br>
              <a:rPr sz="3600"/>
            </a:b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NASTAVNOG PREDMETA  TEHNIČKA KULTUR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Mr.sc. Luka Majeti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imošten, 7. travnja 201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P  -  tehnološki proces (licenca ili vlastita tehnologija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P  -  radni pro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ehnološki proces (TP) čine tehnički materijalni elementi (jer i pisana pravila rada PR su materijalni elementi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Radni proces (PR) nastaje uključivanjem čovjeka u izvođenje (TP) radi čega se pojavljuju dodatni elementi tehnologije (Si,  So  i  Ek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sim tehnološkog (TP) i radnog (RP) procesa u praksi se osmišljava i provodi tehnologija poduzetničkog procesa (PP), ali nije uključena u konstituciju sadržaja nastave T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4  Razine izučavanja tehnik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Sadržaji, zadaće, organizacija i evaluacija nastave TK moraju biti primjereni uzrastu učenik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To se ostvaruje poznavanjem mogućih razina izučavanja tehnik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azine izučavanja tehnike jesu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ultura i odgoj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brazovanje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sposobljavanje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varanje tehnologije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rganizacija i vođenje poduzetništva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traživanje i stvaralaštv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-  U nastavi TK usmjereni smo samo na razinu "kulture i odgoja". To podrazumijeva dovođenje učenika u susret s tehničkim znanjima i razvojem vještina praktičnog rada, dakle radnog odgoja i samostalnosti, bez stroge obveze da time kvalitetno vladaj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jelokupni školski sustav uglavnom ostvaruje razinu obrazovanja, dakle samo stjecanje znanja. Preostale razine su zanemarene, uključujući i razinu "kulture i odgoja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tvaranje tehnologija i poduzetništva svedena su na dva uspješna slučaja: "Vegeta" i "Sumamed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straživanje i stvaralaštvo spada u stohastičke događaje rijetkih pojedinaca na fakultetim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Najveći je nedostatak ne ostvarivanje razine  OSPOSOBLJAVANJA  za provođenje već poznatih i licenciranih tehnologija.  To rade sirovinama siromašne, ali zato produkcijom bogate države kao što su Italija i Japan i koje su, zbog toga, članice skupine razvijenih (G 7) držav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3.5  Kriteriji ocjene valjanosti tehničkih tvorevina i proce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riteriji ocjene valjanosti tehničkih tvorevina pokazuju da su tehnička i tehnološka znanost sinteza svekolikih čovjekovih znanja i vješt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Zato nastavni sadržaj TK treba biti kvalitetna sinteza većeg broja znanstvenih područja i njima pripadnih nastavnih predme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riteriji ocjene jes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ehnički;  da tvorevina funkcioni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konomski;  da je gradnja tvorevine ekonomski opravdan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kološki;  da tvorevina ne onečišćava okoli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stetski;  da dizajn tvorevine izaziva emocionalni doživljaj lijepo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umanistički;  da mogućnost uporabe tvorevine bude dobrotvorna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 ne rušilačk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Kriteriji pokazuju da bi bilo pogrešno smatrati da sadržaji nastave TK mogu biti samo praktikum ili nastavak sadržaja nekog već postojećeg prirodoslovnog nastavnog predme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3.6  Tehničko mišljenje i stvaralaštv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Definicija:  Mišljenje je akt poimanja značenja riječi, simbola 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predme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ema vrstama objekata operiranja u procesu mišljenja razlikuju se četiri temeljne vrste mišljenj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umanističko, koje za objekt razmatranja ima čovje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tematičko, koje operira simboli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irodoslovno, operira neorganskim i organskim objektima oko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ehničko mišljenje, operira ukupnim brojem objekata mišljenja u cilju konkretne primjene stečenih znanj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ajjednostavnije je humanističko, najapstraktnije matematičko, najegzaktnije prirodoslovno, a najsloženije je tehničko mišljenj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Specifičnosti tehničkoga mišljenja jes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kompleksan pristup i distribuirana pozornost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sposobnost kombiniranja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pronalaženje funkcionalne sinteze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utvrđivanje optimuma procesa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vizualno simbolično izražavanje specifičnim - tehničkim crtežo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pr., optimum se definira kao najmanje loše rješenj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-  Tehničko je mišljenje interaktivno teorijsko - praktično sa zadaćom stvaranja konkretne funkcionalno završne tvorev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Tehnički misliti znači rješavati konkretnu tehničku zadaću. Mišljenje koje ne rješava konkretnu zadaću je prazno, jalovo mudrijašenj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U nastavi Tehničke kulture tehničko mišljenje se razvija u radnim vježbama nastavnih tema: tehnički pokus, izrada tvorevine i projektni konstrukcijski zadac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3.7  Doprinosi nastave TK općem obrazovanju učenik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U preambuli služeno usvojenog nastavnog programa HNOS-a nastave TK, navedeni su ovi doprinos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govor i komuniciranje,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značenje održivog razvoj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razvoj odnosa pojedinca i                 održanje neovisnosti države 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skupine,                                               društv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odnos prirode i tehnike,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povezanost rada, reda i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razvoj stvaralaštva i                          rezultata djelovanja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istraživanja,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rad je lijek i terapi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postignuća u zdravlju i                     psihofizičkih bolesti.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kretanju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Npr., zašto je rad lijek i terapija psihofizičkih bolest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Zato jer rad čini zapreku uzimanja otrovnih opijata. To potvrđuju organizirane radne zadruge za narko - ovisnike i osobe oboljele od PRS-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To se jedino preventivno, efikasno ostvaruje na primjerenom uzrastu u nastavi TK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4.  STRUKTURA  NASTAVNOG  PROGRA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Četiri nastavne cjeline programa i formalno pokrivaju shemu elemenata tehnologije radnog procesa proizvodnih i uslužnih djelatnost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Nastavne cjeline jes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( I ) - Tehničko crtanje - je neposredna informacija u tehničko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tehnološkom djelovanj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( M ) - Materijali  -  kao tvari za izradu proizvoda i u sklopu tog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pravila rada (PR) prerade gradivni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materija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( E ) -  Energetika - proizvodnja i korištenje prikladnih oblik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energije za izvođenje rad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( TT ) -  Tehničke tvorevine - kao tehnička sredstva tehnologije 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i dijelovi drugih tehničkih susta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sim četiri uže tehničke cjeline, uvedena je cjelina specifične tehnologije, a to j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Informacijska tehnologija - kao specifična suvremena tehnologija z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eradu, pohranjivanje i korištenj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formaci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azlog uvođenja ove nastavne cjeline je procjena da svi učenici neće odabrati Informatiku kao izborni predmet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Kad Informatika postane obvezni nastavni predmet, tada će se eventualno obrađivati samo računalni hardver u nastavi TK u sklopu nastavne cjeline (TT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 sklopu svake nastavne cjeline izvode se VJEŽBE primjene znanja u koje su uključeni (PR) i preostali elementi (Si, So i Ek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 svim razredima, počevši od 5. do 8., postavljene su istoimene nastavne cjeline čiji se sadržaji razvijaju koncentrično: od jednostavnih do složenih u skladu s uzrastom učenika i potrebama radnih vježbi nastavnih tema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Primje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- Obrada sadržaja tehničkog crtanja započinje u 5. razredu izučavanjem osnova nužnih i dovoljnih za radne vježbe izrade predmeta od kartona i drva, a završava u 8. razredu sa sadržajem izrade crteža elektrotehničkih i elektroničkih sklopova i crtanja pomoću računa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ličan razvoj sadržaja ostvaren je i u ostalim nastavnim cjelinama. Na primjer, izučavanje tehničkih tvorevina započinje u 5. razredu sa upoznavanjem ručnih alata, a završava u 8. razredu sa izgradnjom robot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isanim rješenjem izbjegnuta je mozaičnost programa, da ne bude ZBROJ pragmatičnih, ali nepovezanih tehničkih cjelin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-  Najveći je nedostatak sadašnjeg programa HNOS-a TK, od jednog sata nastave tjedno, minimalno uvođenje sadržaja još jedne specifične tehnologije, a to je: Tehnologija cestovnog prometa koju čine sredstva (+) pravila odvijanja procesa prometa. To bi trebala biti dodatna nastavna cjelin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 UVO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Što je metodika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Metodičke zadaće utemeljene na HKO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-  Zadaća je nastavnika izvesti dubinski studij nastavnog predmeta 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   </a:t>
            </a: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jednoj od 8 razina kvalifikacij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-  U dubinskom studiju nastavnog predmeta TK valja obraditi ove teme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a - Znanstvena konstitucija sadržaja nastavnog predmet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b - Tehničko mišljenj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c - Cilj, doprinosi, zadaće, teme i upute za organizaciju izvođenj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nastave, posebno radnih vježb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d - Metodička načela teoretske nastav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e - Metodika radnih vježbi oslonjena na Bloomovu taksonomij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ciljeva nastav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f - Znanstveni status metodika, nastavni kurikulum i ishod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kompetencija nastavnog proces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600" spc="-1" strike="noStrike">
                <a:solidFill>
                  <a:srgbClr val="ff3300"/>
                </a:solidFill>
                <a:latin typeface="Garamond"/>
              </a:rPr>
              <a:t>Za današnje izlaganje odabrali smo prvu temu navedenog naslova. Podlogu za ovo izlaganje čini članak koji je u skraćenom sadržaju objavljen u ŠN 10. studenoga 2009. godine pod naslovom</a:t>
            </a:r>
            <a:r>
              <a:rPr b="1" lang="hr-HR" sz="1600" spc="-1" strike="noStrike">
                <a:solidFill>
                  <a:srgbClr val="ffffff"/>
                </a:solidFill>
                <a:latin typeface="Garamond"/>
              </a:rPr>
              <a:t>: Što je učinjeno i zašto neće uspjeti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5.  IZVOD  NASTAVNIH  TEMA  PROGRAMA  NASTAV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Nastavne teme, u svakoj nastavnoj cjelini, moraju uključivati tehničke sadržaje koji se nalaze u  OPĆOJ  UPORABI  svih stanovnika neovisno o njihovim budućim zanimanjima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znači da se nastavne teme mogu korigirati i mijenjati ovisno o rezultatima provedenih iskustvenih istraživanja i analizi. Na primjer, u sadašnjem HNOS-u nije dovoljno uključena već spomenuta tehnologija cestovnog prometa premda je ona u općoj uporab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 drugo, u radnim vježbama nastavnih tema nužno je postići  NAVIKU  učenika u izvođenju algoritma tehnologije rada jer to odražava opću potreb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Sadržaji izbornih tema mogu se uzeti iz specifičnih grana tehnike, a sve u svrhu profesionalne orijentacije učenika za izbor budućih tehničkih zanimanj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6.  ZAŠTO  HNOS  NASTAVE  TK  NEĆE  USPJETI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- Razlozi zašto HNOS nastave TK neće uspjeti jes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ije uvedena satnica od minimalno (2) sata nastave tjedno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razredno odjeljenje nije podijeljeno na dvije radne skupine po 16 učenika, kao što je u projektu dogovoreno, za rad sa satnicom od (2) sata nastave za nastavnike, a (1) sat nastave za učenike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ije osigurana materijalna osnova prostora i alata za provođenje radnih vježbi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radna Vježbenica je imenovana "radnom bilježnicom" čime se praktični rad u oblikovanju materijala pretvara u "bilježnicu" vježbanja zapamćivanja teorijskog sadržaja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 kao posljednje, izostavlja se obveza osiguravanja tzv. kutije potrošnog materijala za izvođenje radnih vježb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aključak: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HNOS nastave TK neće uspjeti jer nisu osigurani vremenski, prostorni i materijalni uvjeti za njegovo provođenje.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mjesto osiguranja navedenih uvjeta, vjerojatno će se ponovno pristupiti nekoj re-formi (formalnoj promjeni postojećeg programa nastave) s jedinom svrhom zamaranja nastavnika TK i kritičara stanja nastave T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Zbog stanja navedenog u ovom naslovu i njegovom utjecaju na veličinu vanjskog duga RH i nezaposlenosti, osobno u glavi osjećam plamen, u želucu mučninu, a u srcu nemir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Hvala na pozornosti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9efee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ŠTO JE UČINJENO U 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HNOS - u  T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Učinjen je otklon u odnosu na sve prethodne nastavne programe koji su bili sljedeć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ručni rad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izučavanje sadržaja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SVIH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značajnijih područja tehnike u teoretskoj i praktičnoj nastavi (B. Malinar)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izučavanje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POVIJESTI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razvoja tehničkih tvorevina značajnijih područja u teoretskoj nastavi (B. Boranić)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eksperimentalno izučavanje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OSNOVA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izvedbe tehničkih tvorevina značajnijih tehničkih područja u teoretskoj i praktičnoj nastavi (J. Milat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Navedenim programima bilo je zajedničko da su činili  ZBROJ  pragmatičnih parcijalnih područja tehnike. Sadržaji nisu bili sustavno zasnovani kao jedinstvena, specifična  OPĆEOBRAZOVNA  nastavna cjelin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1" lang="hr-HR" sz="2000" spc="-1" strike="noStrike">
                <a:solidFill>
                  <a:srgbClr val="ff3300"/>
                </a:solidFill>
                <a:latin typeface="Garamond"/>
              </a:rPr>
              <a:t>Formalno, HNOS nastave TK najprije je izrađen za satnicu od (2) sata nastave tjedn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3.  ZNANSTVENE  PODLOGE KONSTITUIRANJA  SADRŽAJA  TK  U  HNOS - u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Polazne znanstvene podloge bile su sljedeć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razvoj znanstvene spoznaje i tehnike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znanstvena sustavizacija tehničkih tvorevin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sustav elemenata tehnologije radnog proces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razine izučavanja tehnike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kriteriji ocjene valjanosti tehničkih tvorevina i proces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tehničko mišljenje i stvaralaštv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doprinosi nastave TK općem obrazovanju učenik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3.1  Razvoj znanstvene spoznaje i tehnik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Razvoj znanstvene spoznaje i tehnike izvodi se ovim redom čovjekove aktivnost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Otkrića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= istraživanje nove spoznaj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Istraživanje i stvaralaštv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Izumi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= stvaranje nove tehničke tvorev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Znanje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= učenje sadržaja otkrića 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zuma i stvaranje tehnologi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Antropotehnike i tehnologij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Vještine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= razvoj moći izvođen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različitih procesa tehnologi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2492280"/>
            <a:ext cx="71640" cy="647640"/>
          </a:xfrm>
          <a:custGeom>
            <a:avLst/>
            <a:gdLst>
              <a:gd name="textAreaLeft" fmla="*/ 0 w 71640"/>
              <a:gd name="textAreaRight" fmla="*/ 25920 w 71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4581360"/>
            <a:ext cx="71280" cy="1079640"/>
          </a:xfrm>
          <a:custGeom>
            <a:avLst/>
            <a:gdLst>
              <a:gd name="textAreaLeft" fmla="*/ 0 w 71280"/>
              <a:gd name="textAreaRight" fmla="*/ 2556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Grč. antropos = čovjek. Dakle, antropotehnike i tehnologije jesu čovjekove tvorevi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Tehnika (tvorevine)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su sve materijalne tvorevine, i u užem značenju, čine je temeljne tehničke tvorevine, a to su: alati i pribor, mehanizmi, aparati, strojevi i agregati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Osmišljavanje različitih tehničkih tvorevina, koje se nazivaju izumi, čini tehničku znanost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Tehnologija (proces)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 je intelektualna tvorevina normiranja sredstava i pravila izvođenja procesa gradnje različitih tehničkih tvorevina i obavljanja uslug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Osmišljavanje procesa gradnje tvorevina i obavljanja usluga čini tehnologijsku znanos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-  Otkriće je ništa ako iza toga ne slijedi izum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-  Izum je ništa ako iza toga ne slijedi stvaranje tehnologij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-  Tehnologija je ništa ako iza toga ne slijedi </a:t>
            </a:r>
            <a:r>
              <a:rPr b="1" lang="hr-HR" sz="1800" spc="-1" strike="noStrike">
                <a:solidFill>
                  <a:srgbClr val="ff3300"/>
                </a:solidFill>
                <a:latin typeface="Garamond"/>
              </a:rPr>
              <a:t>razvoj vještina izvođenja proces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Antropotehnikama se bavi tehničko-tehnologijska znanost: znanje (+) vještine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amo prenošenjem znanja bave se netehničke znanosti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Garamond"/>
              </a:rPr>
              <a:t>Tehnička kultura je jedini nastavni predmet na razini osnovne škole gdje se učenici provode kroz navedeni niz aktivnosti: od otkrića do proizvodnje nečega, što će zadovoljiti neku materijalnu čovjekovu potrebu.</a:t>
            </a:r>
            <a:r>
              <a:rPr b="0" lang="hr-HR" sz="24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b9efee"/>
                </a:solidFill>
                <a:latin typeface="Garamond"/>
              </a:rPr>
              <a:t>3.2  Znanstvena sustavizacija tehničkih tvorevin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 Razvoj tehničkih tvorevina započinje poznavanjem geometrijskih likova i tijela: pravac, kružnica, trokut .......... štap, valjak, kugla  ......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ustav tehničkih tvorevina čine ove tvorevin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ormirani elementi, (28) vrs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enormirani dijelovi, (5) vrs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emeljne tehničke tvorevine, (5) vrs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ehnički sustavi, (n) vrs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 Zbog nedovoljne satnice, u nastavni program HNOS-a nastave TK uvedena je samo skupina temeljnih tehničkih tvorevin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   Skupinu temeljnih tehničkih tvorevina čine: alati i pribor, mehanizmi, aparati, strojevi i agrega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kupina temeljnih tehničkih tvorevina određuje i definiciju tehnike u užem značenju jer ove tvorevine čine tehnička SREDSTVA svake tehnologije: proizvodnih i uslužnih djelatno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3.3  Sustav elemenata tehnologije radnog proce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Znanstvenu jezgru sadržaja tehnike i tehnologije čine elementi naznačeni na shemi radnog procesa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47516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I     - informacija o radnoj zadać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M   - materijal obra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E    - energija potrebna za obavljanje ra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TT - temeljne tehničke tvorevine kao sredstva potrebna za izvođenje ra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PR - pravila izvođenja rada, npr. ključna točka rad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Si   - sigurnost, odnosno sredstva zaštite i higijena na ra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So  - socijalno-ekonomski odnosi organizacije rada: odgovornosti, podjele posla, nagrade i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Eko - zahtjev za zbrinjavanje otpadaka iz radnog procesa i održivosti života i rada na istom lokalite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05:06:48Z</dcterms:created>
  <dc:creator>Eugen</dc:creator>
  <dc:description/>
  <dc:language>en-US</dc:language>
  <cp:lastModifiedBy>Korisnik</cp:lastModifiedBy>
  <dcterms:modified xsi:type="dcterms:W3CDTF">2010-03-26T07:19:29Z</dcterms:modified>
  <cp:revision>3</cp:revision>
  <dc:subject/>
  <dc:title>ZNANSTVENA KONSTITUCIJA SADRŽAJA  NASTAVNOG PREDMETA  TEHNIČKA KULTURA</dc:title>
</cp:coreProperties>
</file>