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1F8-E478-437F-8193-79F20DD8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93A-3EF0-4134-A822-233AC0F0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640F-F2B8-429C-8914-9CB6F5ED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779-388E-4192-A21C-D7B1D91B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A3D6-D86B-4D5C-8B1F-0D33E8DC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3E93-7F8C-4B82-992C-86CE7DEC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9E4F-46E2-4446-9263-A55BAFE8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348D-2A0E-459A-9835-DD2F1010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19A4-934B-42B0-AD68-AE7D9AD6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51E1-5A08-4CE2-8F57-D7CC459D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B121-9645-4EC0-903A-909A77AF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899-8242-45F6-B81D-309D6146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1D52-20A0-4352-8C3D-37B8BECE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E448-0172-49A8-AEDB-4C8D72AF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CDE0-857A-446B-9807-B295E090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3752-F8C8-4E76-87F6-A7C8CCC6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4837-99BC-4DC2-A067-BE3B7B7C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439-0BA4-4F81-8069-56795B44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10E-02A2-4C0F-B5F7-CCA7036C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4D3-2140-42F3-9883-C49297CB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24EB-73C8-43E5-9CD6-70FE1C8A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7DD5-A9F9-4384-BC92-2DEE78C6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F3F-8662-4079-A321-5613442E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4231-3E24-4CA3-8300-B67B150E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3301-97E6-4025-90AF-795A7D22A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3520" y="60955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8B10-2E6F-4FFA-84CB-AE73EDFD6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c1c1c"/>
                </a:solidFill>
                <a:latin typeface="Arial"/>
              </a:rPr>
              <a:t>Praktičan rad u nastavi tehničke kulture 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12408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odel kućnog sustava za opskrbu energijom iz alternativnih izv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617220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ffffff"/>
                </a:solidFill>
                <a:latin typeface="Arial"/>
              </a:rPr>
              <a:t>Pripremio: Ivan Jukić, pro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71600" y="914400"/>
            <a:ext cx="7478640" cy="5697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0988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pamć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5257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razumije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5720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primj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38098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anal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31240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int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243828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procj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4365720"/>
            <a:ext cx="8964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4419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ADAT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1125360"/>
            <a:ext cx="347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JEK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143000"/>
            <a:ext cx="0" cy="5472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6360" y="3789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Times New Roman"/>
              </a:rPr>
              <a:t>problemsko mišlj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3068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Times New Roman"/>
              </a:rPr>
              <a:t>kreativno mišlj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2276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Times New Roman"/>
              </a:rPr>
              <a:t>kritičko mišlj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91440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ugo se pamti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692280"/>
            <a:ext cx="80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jekt u tehničkoj kultu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1557360"/>
            <a:ext cx="71294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lj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voriti nova rješenja, rješenja kakvih nikada nije bi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5638680"/>
            <a:ext cx="7561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dgoj za inovacije i poduzetništv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5760" y="1600200"/>
            <a:ext cx="2592360" cy="1919160"/>
          </a:xfrm>
          <a:prstGeom prst="wedgeRectCallout">
            <a:avLst>
              <a:gd name="adj1" fmla="val -32976"/>
              <a:gd name="adj2" fmla="val 2356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828800"/>
            <a:ext cx="24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efiniran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re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a koju se traži rješ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1600200"/>
            <a:ext cx="2592360" cy="1905120"/>
          </a:xfrm>
          <a:prstGeom prst="wedgeRectCallout">
            <a:avLst>
              <a:gd name="adj1" fmla="val -50611"/>
              <a:gd name="adj2" fmla="val 23083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1773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azumijevan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htje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ojima rješenje mora udovolj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1600200"/>
            <a:ext cx="2592360" cy="1871640"/>
          </a:xfrm>
          <a:prstGeom prst="wedgeRectCallout">
            <a:avLst>
              <a:gd name="adj1" fmla="val -49569"/>
              <a:gd name="adj2" fmla="val 2328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175248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avljen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a rješen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izrad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tip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4038480"/>
            <a:ext cx="2592360" cy="1919520"/>
          </a:xfrm>
          <a:prstGeom prst="wedgeRectCallout">
            <a:avLst>
              <a:gd name="adj1" fmla="val -22810"/>
              <a:gd name="adj2" fmla="val -4718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4960" y="426708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ranje protot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8160" y="4038480"/>
            <a:ext cx="2592360" cy="1947960"/>
          </a:xfrm>
          <a:prstGeom prst="wedgeRectCallout">
            <a:avLst>
              <a:gd name="adj1" fmla="val -19504"/>
              <a:gd name="adj2" fmla="val -4959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429264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na i protot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7680" y="4038480"/>
            <a:ext cx="2592360" cy="1871640"/>
          </a:xfrm>
          <a:prstGeom prst="wedgeRectCallout">
            <a:avLst>
              <a:gd name="adj1" fmla="val -18953"/>
              <a:gd name="adj2" fmla="val -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4267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380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odologija izrade tehničkog projek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Što je naš konkretni zadatak?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osnovi pripremljene dokumentacije izraditi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ipreme za izvođenje nastavnog s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ji u sebi sadrži praktičnu vjež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rada mak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rada plastičnih m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rada 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rada elektroničkog skl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glasak: zadane teme su u funkciji projek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05440" y="0"/>
            <a:ext cx="50385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43434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Elementi modela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114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ta kuć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ta zimskog v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vjetroelekt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lop za akumuliranje energije i upravlj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57800" y="380880"/>
            <a:ext cx="3276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Maketa kuć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0" y="990720"/>
            <a:ext cx="4114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aterija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esonit, iv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rv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iropor, papir, bo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mjere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5.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rvo, vrste drva i alati za obr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rad mod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6.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rada uporabnog predmet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aterijali u graditeljst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21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278240" y="0"/>
            <a:ext cx="48657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74680"/>
            <a:ext cx="44197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Maketa zimskog vrta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114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aterija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krilno staklo ili pleksig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lipropilenska fol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mjere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6.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ehnička svojstva gume i plas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rad uporabnog predm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8.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rste i svojstva polimernih materij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avijanje, lijepljenje i zavarivanje plas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66720" y="380880"/>
            <a:ext cx="44197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Model vjetroelektran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00600" y="1066320"/>
            <a:ext cx="4114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aterij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cinčani l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krilno stak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račni elektromo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odič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mjer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7.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jerenje, ocrtavanje i rezanje l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pajanje l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lektrične instalacije u kuć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8.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zrada spojeva električnih vodi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eneratori izmjenične struje i elektromo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6477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klop za akumuliranje energije i upravljanj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343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j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skana ploč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ktronički ele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dič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jere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zrada sheme jednostavnog elektroničkog skl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ivni i aktivni elektronički ele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ravljač izmjenične str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zrada jednostavnog elektroničkog skl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ori izmjenične struje i elektromo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zrada, pokretanje i upravljanje robo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18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86040" y="380880"/>
            <a:ext cx="3352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?????????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1640" y="1295280"/>
            <a:ext cx="4419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ježbe koje nam isporučuju izdavači nisu ideal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bog količine raspoloživog vremena moraju biti jednostav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rlo često su u fazi poluproiz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rlo teško je takvim načinom rada postići više razine po Bloom-u (analiza, sinteza, procje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Moguće rješenje !??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jekt u nastavi tehničke k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ma cilj i rezultira proizvodom (produkt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drazumijeva složeniji zadatak (koji se razlaže na jednostavnije, rutins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ma određeno trajanje, tj. rok za završet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pravilu uključuje rad više ljudi (ili timo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drazumijeva suradnju i koordinaciju svih sudio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Može li se projekt realizirati u nastavi tehničke kulture?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9246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suvremenom obrazovnom sustavu projektna nastava postaje jedan od važnih oblika učenja i pouča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razvijenim obrazovnim sustavima realizacija učeničkih projekata zauzima 30% godišnjeg fonda nastavnih s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van Jukić</cp:lastModifiedBy>
  <dcterms:modified xsi:type="dcterms:W3CDTF">2010-04-02T20:47:4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