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FA3-D41C-487E-81B2-739416CF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BC8-2A7C-4A96-B53A-71417E1E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B5E-5B65-4CEE-B1D2-D1F52E79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63C-520A-4107-966D-F0F0B0C9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692-DE61-43D0-A353-732BA7D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E7E-4D33-4384-BB20-41BE0D98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E7A-FBD4-467F-8635-9373C358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738-1399-44FC-97D6-2DAFCF62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E12-54EB-4833-A3C9-B8F17C68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F26-0AC6-4CF1-92CB-1680974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24D-2A0A-4D3F-AA0C-EAA1B20F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7CB-4E34-4FA1-9D7F-C319CD0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7565-FB17-4C24-A9BA-075BE667EA8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B563-DFA4-4467-8EA1-7AFC00FB30F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The « Day of remembrance of the Holocaust</a:t>
            </a:r>
            <a:br>
              <a:rPr sz="4000"/>
            </a:b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and for Prevention of Crimes against Humanity »</a:t>
            </a:r>
            <a:br>
              <a:rPr sz="4000"/>
            </a:b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of the Council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ogoCoe2003_Ht30"/>
          <p:cNvPicPr/>
          <p:nvPr/>
        </p:nvPicPr>
        <p:blipFill>
          <a:blip r:embed="rId1"/>
          <a:stretch/>
        </p:blipFill>
        <p:spPr>
          <a:xfrm>
            <a:off x="176040" y="46080"/>
            <a:ext cx="9828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F050-2CB2-461D-BCEB-3FA3F4929A2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 4" descr=""/>
          <p:cNvPicPr/>
          <p:nvPr/>
        </p:nvPicPr>
        <p:blipFill>
          <a:blip r:embed="rId2"/>
          <a:stretch/>
        </p:blipFill>
        <p:spPr>
          <a:xfrm>
            <a:off x="787320" y="-1917720"/>
            <a:ext cx="756936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1667-FEC9-4094-B59A-A1321DEFD6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787320" y="-1917720"/>
            <a:ext cx="756936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Pub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une 2008 : « Factsheets about Roma History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The Roms on the Screen », by Dominique Chancel will be soon published in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B5E2-A4FE-400F-9AEE-3D63C5A1042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4" descr=""/>
          <p:cNvPicPr/>
          <p:nvPr/>
        </p:nvPicPr>
        <p:blipFill>
          <a:blip r:embed="rId2"/>
          <a:stretch/>
        </p:blipFill>
        <p:spPr>
          <a:xfrm>
            <a:off x="787320" y="-1917720"/>
            <a:ext cx="756936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1637-B405-47FE-9B4B-BD17C7D236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rojects for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o improve the visibility and the knowledge of the « Day of remembrance 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1. To publish an updated leaflet on the « Day of remembrance of the Holocaust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2. To update th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LogoCoe2003_Ht30"/>
          <p:cNvPicPr/>
          <p:nvPr/>
        </p:nvPicPr>
        <p:blipFill>
          <a:blip r:embed="rId1"/>
          <a:stretch/>
        </p:blipFill>
        <p:spPr>
          <a:xfrm>
            <a:off x="0" y="0"/>
            <a:ext cx="15159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528E-8991-4297-9963-662AA50FE7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rojects for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3. European Workshops of teach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pril 2009: Var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pril 2009: Zagr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June and November 2009: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ugust 2009: Bud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eptember 2009 : Auschwit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nd othe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LogoCoe2003_Ht30"/>
          <p:cNvPicPr/>
          <p:nvPr/>
        </p:nvPicPr>
        <p:blipFill>
          <a:blip r:embed="rId1"/>
          <a:stretch/>
        </p:blipFill>
        <p:spPr>
          <a:xfrm>
            <a:off x="0" y="0"/>
            <a:ext cx="15159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4699-276A-464A-81D2-180F70A65D1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rojects in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4.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uropean Pack on visiting Auschwitz with Students (2009) (in cooperation with Auschwitz Museum and ministry of Educ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he Testimony of a Survivor in the Classroo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esistances in Europe from 1914 to 1991 » (20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LogoCoe2003_Ht30"/>
          <p:cNvPicPr/>
          <p:nvPr/>
        </p:nvPicPr>
        <p:blipFill>
          <a:blip r:embed="rId1"/>
          <a:stretch/>
        </p:blipFill>
        <p:spPr>
          <a:xfrm>
            <a:off x="0" y="0"/>
            <a:ext cx="1442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jects for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 A Website on Roma Genocide (Samudaripen/Porraimos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cooperation with OSCE/ ODH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ttp://www.opusidea.eu/trr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me | News | Virtual library | Pedagogical material | Interactive map | useful links | Contact   (Edi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(A work in Progress, not yet available on the We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F97-259C-4297-B7D1-6692E61EFBD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4" descr=""/>
          <p:cNvPicPr/>
          <p:nvPr/>
        </p:nvPicPr>
        <p:blipFill>
          <a:blip r:embed="rId2"/>
          <a:stretch/>
        </p:blipFill>
        <p:spPr>
          <a:xfrm>
            <a:off x="787320" y="50760"/>
            <a:ext cx="756936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2BDF-38AF-4909-AB82-9EF4F79C6AF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 4" descr=""/>
          <p:cNvPicPr/>
          <p:nvPr/>
        </p:nvPicPr>
        <p:blipFill>
          <a:blip r:embed="rId2"/>
          <a:stretch/>
        </p:blipFill>
        <p:spPr>
          <a:xfrm>
            <a:off x="914400" y="0"/>
            <a:ext cx="756936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15C-FD46-4AA4-ADC5-F9D602D2C8C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 few words on th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Council of Europe seeks to developp  throughout Europe common and democratic principles based on the European Convention of Human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7 member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observers countries: Israël, USA, Canada, Japan and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LogoCoe2003_Ht30"/>
          <p:cNvPicPr/>
          <p:nvPr/>
        </p:nvPicPr>
        <p:blipFill>
          <a:blip r:embed="rId1"/>
          <a:stretch/>
        </p:blipFill>
        <p:spPr>
          <a:xfrm>
            <a:off x="0" y="0"/>
            <a:ext cx="16192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4DFB-FD34-4C9C-907F-F27FEDAD577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 4" descr=""/>
          <p:cNvPicPr/>
          <p:nvPr/>
        </p:nvPicPr>
        <p:blipFill>
          <a:blip r:embed="rId2"/>
          <a:stretch/>
        </p:blipFill>
        <p:spPr>
          <a:xfrm>
            <a:off x="762120" y="-990720"/>
            <a:ext cx="756900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B30-DD17-4A8B-9582-0E2576A2201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4" descr=""/>
          <p:cNvPicPr/>
          <p:nvPr/>
        </p:nvPicPr>
        <p:blipFill>
          <a:blip r:embed="rId2"/>
          <a:stretch/>
        </p:blipFill>
        <p:spPr>
          <a:xfrm>
            <a:off x="1066680" y="0"/>
            <a:ext cx="756936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C7D-05B5-4A16-B3CB-2C184BC7300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rojects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6.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o develop the networking and contacts with and within the participants to the different training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o developp the cooperation with the international organizations in the field of transmission of memory. (specially in 2009 with the International Task For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LogoCoe2003_Ht30"/>
          <p:cNvPicPr/>
          <p:nvPr/>
        </p:nvPicPr>
        <p:blipFill>
          <a:blip r:embed="rId1"/>
          <a:stretch/>
        </p:blipFill>
        <p:spPr>
          <a:xfrm>
            <a:off x="0" y="0"/>
            <a:ext cx="147636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5F74-0BBC-498E-BBC0-2A5DDCA3E0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Histor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1949 : creation of the Council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1954 : signature of the European Cultur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000000"/>
                </a:solidFill>
                <a:latin typeface="Arial"/>
              </a:rPr>
              <a:t>2000 : Stockholm international forum on the Holoc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0: Standing conference of European Ministers of Education in Krak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1: Recommendation (2001)15 of the Committee of Ministers on « teaching history of Europe in the 21st Century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LogoCoe2003_Ht30"/>
          <p:cNvPicPr/>
          <p:nvPr/>
        </p:nvPicPr>
        <p:blipFill>
          <a:blip r:embed="rId1"/>
          <a:stretch/>
        </p:blipFill>
        <p:spPr>
          <a:xfrm>
            <a:off x="0" y="0"/>
            <a:ext cx="147636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E9EE-F933-4A05-B8E6-2A8E01F6194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Histor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2: Ministerial seminar in Strasbo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5: The Steering Committee for Education of the Council of Europe decides that the « Day of Remembrance » becomes a permanen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November 2005: The UN decides to commemorate yearly the victims of the Sho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2008: New Campaign against all kind of Discrimination in relationship with Media (all kind of Racism, Antisemitism, islamophobia,Anti Gypsi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ogoCoe2003_Ht30"/>
          <p:cNvPicPr/>
          <p:nvPr/>
        </p:nvPicPr>
        <p:blipFill>
          <a:blip r:embed="rId1"/>
          <a:stretch/>
        </p:blipFill>
        <p:spPr>
          <a:xfrm>
            <a:off x="0" y="0"/>
            <a:ext cx="1442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4A14-46E8-4B38-9EA8-D1197198F86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 The Day of remembrance of the Holocaust and of prevention of crimes against humanity» of the C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2924280"/>
            <a:ext cx="771516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our specificit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 geographical framework : the 49 signatory states to the European Cultural Convention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 free choice of the date by each country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 institutional framework : that of schools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he interdisciplinarity of the pedagogic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ogoCoe2003_Ht30"/>
          <p:cNvPicPr/>
          <p:nvPr/>
        </p:nvPicPr>
        <p:blipFill>
          <a:blip r:embed="rId1"/>
          <a:stretch/>
        </p:blipFill>
        <p:spPr>
          <a:xfrm>
            <a:off x="176040" y="46080"/>
            <a:ext cx="9828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65E5-666C-468E-8CA6-9059460F8A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The Council of Europe ‘s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mplementation and monitoring of the « Day 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laboration of pedagogical tools for the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rganization of training sessions in the framework of the « Pestalozzi » programme of training for education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LogoCoe2003_Ht30"/>
          <p:cNvPicPr/>
          <p:nvPr/>
        </p:nvPicPr>
        <p:blipFill>
          <a:blip r:embed="rId1"/>
          <a:stretch/>
        </p:blipFill>
        <p:spPr>
          <a:xfrm>
            <a:off x="176040" y="46080"/>
            <a:ext cx="9828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EC2C-094C-4C49-8F80-1CB8FDED65A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Our dail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1. To make the « Day of Remembrance of the Holocaust »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2. Take part in the reflexion on the pedagogy of the Shoah: Transmission without traumatizing the children, make a link with the presen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3. Make of the « Day » a tool to build a European pluricultur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LogoCoe2003_Ht30"/>
          <p:cNvPicPr/>
          <p:nvPr/>
        </p:nvPicPr>
        <p:blipFill>
          <a:blip r:embed="rId1"/>
          <a:stretch/>
        </p:blipFill>
        <p:spPr>
          <a:xfrm>
            <a:off x="176040" y="46080"/>
            <a:ext cx="9828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01C-0D92-458B-857C-28C16D6260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nd als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4. Organize training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eminars of European Minister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uropean Workshops for teachers in the framework of the Pestalozzi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raining sessions on teaching remembrance on authentic Places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Monitoring of pedagogica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LogoCoe2003_Ht30"/>
          <p:cNvPicPr/>
          <p:nvPr/>
        </p:nvPicPr>
        <p:blipFill>
          <a:blip r:embed="rId1"/>
          <a:stretch/>
        </p:blipFill>
        <p:spPr>
          <a:xfrm>
            <a:off x="176040" y="46080"/>
            <a:ext cx="9828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ED8-E19C-40FC-A4DC-F66050BBB52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xamples of pedagogical produ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« Teaching about Holocaust in the 21st Century » by Jean Michel Leco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« Shoah on screen » by Anne-Marie B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Reports and proceedings of European workshops and other meetings on. The last one is « Teaching Remembrance: cultural heritage.Yesterday, today and Tomorrow » October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goCoe2003_Ht30"/>
          <p:cNvPicPr/>
          <p:nvPr/>
        </p:nvPicPr>
        <p:blipFill>
          <a:blip r:embed="rId1"/>
          <a:stretch/>
        </p:blipFill>
        <p:spPr>
          <a:xfrm>
            <a:off x="176040" y="46080"/>
            <a:ext cx="9828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11:28Z</dcterms:created>
  <dc:creator>Fabienne Regard</dc:creator>
  <dc:description/>
  <cp:keywords/>
  <dc:language>en-US</dc:language>
  <cp:lastModifiedBy>AZOO</cp:lastModifiedBy>
  <dcterms:modified xsi:type="dcterms:W3CDTF">2009-04-28T11:54:28Z</dcterms:modified>
  <cp:revision>43</cp:revision>
  <dc:subject/>
  <dc:title>La journée de la Mémoire et le Conseil de l’Europe</dc:title>
</cp:coreProperties>
</file>