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701D-CA7E-4996-A774-3BF19FDF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FB1-F78F-441A-B474-763C70E9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EC1-2188-4722-8451-03E18C9A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0EF-327D-489E-A35D-F1DB87A7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603D-C63C-42C3-8D2D-92627847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AA4-EA6A-495B-824F-6D64004D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F2D1-1E10-458D-8FE1-79278A76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514-8D4F-43A6-B309-7D6EB968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7BB-EC45-4ABC-A9A3-DAA73709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E17A-D44D-4324-A9E2-115CA9D7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4D2-31D1-43E8-97BC-D19DA3BC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B4A4-DE19-4399-A94D-6EEB6C4B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2566-FC7A-408C-98EC-0A547370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4E9-1433-45B0-95AB-3145A55B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1065-FA05-4020-9E39-904D3BB1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D2C3-9D4E-4900-BD1D-0F6B2D51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655-B3F8-45AD-A232-FEB90DEB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0A9E-3F7E-4027-8BB4-391EB3D0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375B-EAE5-4FDC-B088-656D5391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72C-E080-4499-BCB4-9562BF0B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A72-A1E3-4FD6-950D-29BFFF0D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04CD-A60D-426B-9788-3DB02CBF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012-6D60-4590-810C-35B8E4BA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ACD-55B6-457C-B80C-482B3C7F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76E-E140-45F2-AF9D-057E4E97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6995-FBFA-422F-AFD9-6629A2A4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9E3-70B5-403F-ABBC-63CE56FD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52C-35E3-4396-B887-B81925189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363-E833-4969-9ABE-451BB19B9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037-472C-428C-AA18-54BA3BA1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E652-A0A9-4C05-86CD-5E7625A3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00C-1DFD-4F0C-A8D3-3BBFD7C5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9A6-E561-4467-986F-FFAA232B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A8D8-A16C-493E-94AD-93BCB904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1DCE-9F3A-4D14-BF6B-177EED28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0C59-E7A9-45C3-B98D-9481440A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622-D12A-4F44-AE82-A4259FBC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F34-6A5E-40DE-9ED4-B9956A98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CEB-EC34-4BDC-87D5-472A0142D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01C-4084-416C-9E7D-637308FB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9DF7-C311-4EEC-9FD5-FCF63CB90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19E8-A8E5-4E7C-B09E-3AE7BCDA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B1B-52A5-4BDD-84D3-79F2D405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95E6-A836-4D9B-B9F4-5DF64A7F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1282-481A-43B0-9743-FC969814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413-81FB-4E2B-9A9E-ABD5EC1E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89B-C0C4-44D0-9A60-439184FB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733-02B6-4BA8-838F-1DB653C5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9AF5-D8A3-44B2-8573-862F75B7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3E9A-93DF-4471-9C45-AF8CF149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B7EB-9171-4A9F-A6D9-88019C93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A4C8-EF05-426B-8985-4F7D1A85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008-132E-47FA-87C9-D0E5E1EF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A35-B914-474A-82D5-BD91CEB3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3DE-B24C-4128-B1EE-6709AEB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A71-4A3F-4C9A-ADA3-DDA2728C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968-C28E-4A8B-8E0C-C69EA81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2BA-6177-4EB9-8808-5F23E19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518-B39F-4E5D-A2C2-5BBD3A48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C00-8ECB-4634-BE16-0792105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E67-0F1B-4C6D-8156-C01BCBA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E42-2DD6-4607-843C-0768648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681-C962-49EB-BF8E-4C0B9ED7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4A1-0F87-4B9E-BE78-C17ABCB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2B2-9B01-42AF-943B-F04B6D1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627-4AD8-4572-8958-7598440B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193840" y="1216080"/>
            <a:ext cx="45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ologija i kemija k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07120" y="2470320"/>
            <a:ext cx="37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Poeth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440" y="3209760"/>
            <a:ext cx="564516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267080" y="54100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552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71492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3080" y="203040"/>
            <a:ext cx="89978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20720" y="2973240"/>
            <a:ext cx="2551320" cy="358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20920" y="334800"/>
            <a:ext cx="2898720" cy="252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41960" y="336600"/>
            <a:ext cx="32274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475360" y="2728800"/>
            <a:ext cx="41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odrijetlo k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67200" y="76500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ffea ara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92600" y="612720"/>
            <a:ext cx="47005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120" y="984240"/>
            <a:ext cx="5862600" cy="5307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361960" y="12708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drijetl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ffea arab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505200" y="6515280"/>
            <a:ext cx="254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urin et al., Ann. Bot.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3497400" y="2787480"/>
            <a:ext cx="5452560" cy="1878120"/>
            <a:chOff x="3497400" y="2787480"/>
            <a:chExt cx="5452560" cy="1878120"/>
          </a:xfrm>
        </p:grpSpPr>
        <p:sp>
          <p:nvSpPr>
            <p:cNvPr id="93" name="Freeform 7"/>
            <p:cNvSpPr/>
            <p:nvPr/>
          </p:nvSpPr>
          <p:spPr>
            <a:xfrm>
              <a:off x="3497400" y="3573360"/>
              <a:ext cx="576000" cy="1092240"/>
            </a:xfrm>
            <a:prstGeom prst="pie">
              <a:avLst/>
            </a:prstGeom>
            <a:solidFill>
              <a:srgbClr val="333399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6213600" y="2787480"/>
              <a:ext cx="27363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Arial"/>
                </a:rPr>
                <a:t>Coffea eugeni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Diploid (2N =2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1"/>
          <p:cNvGrpSpPr/>
          <p:nvPr/>
        </p:nvGrpSpPr>
        <p:grpSpPr>
          <a:xfrm>
            <a:off x="927000" y="873000"/>
            <a:ext cx="7956000" cy="3622680"/>
            <a:chOff x="927000" y="873000"/>
            <a:chExt cx="7956000" cy="3622680"/>
          </a:xfrm>
        </p:grpSpPr>
        <p:grpSp>
          <p:nvGrpSpPr>
            <p:cNvPr id="96" name="Group 19"/>
            <p:cNvGrpSpPr/>
            <p:nvPr/>
          </p:nvGrpSpPr>
          <p:grpSpPr>
            <a:xfrm>
              <a:off x="927000" y="1278000"/>
              <a:ext cx="7956000" cy="3217680"/>
              <a:chOff x="927000" y="1278000"/>
              <a:chExt cx="7956000" cy="3217680"/>
            </a:xfrm>
          </p:grpSpPr>
          <p:sp>
            <p:nvSpPr>
              <p:cNvPr id="97" name="Freeform 6"/>
              <p:cNvSpPr/>
              <p:nvPr/>
            </p:nvSpPr>
            <p:spPr>
              <a:xfrm>
                <a:off x="927000" y="3213000"/>
                <a:ext cx="2940120" cy="1282680"/>
              </a:xfrm>
              <a:prstGeom prst="pie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9"/>
              <p:cNvSpPr/>
              <p:nvPr/>
            </p:nvSpPr>
            <p:spPr>
              <a:xfrm>
                <a:off x="6280560" y="1278000"/>
                <a:ext cx="260244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Arial"/>
                  </a:rPr>
                  <a:t>Coffea canepho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Diploid (2N =21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 Box 20"/>
            <p:cNvSpPr/>
            <p:nvPr/>
          </p:nvSpPr>
          <p:spPr>
            <a:xfrm>
              <a:off x="6832080" y="8730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Robu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3924360" y="2170080"/>
            <a:ext cx="5024520" cy="3386160"/>
            <a:chOff x="3924360" y="2170080"/>
            <a:chExt cx="5024520" cy="3386160"/>
          </a:xfrm>
        </p:grpSpPr>
        <p:grpSp>
          <p:nvGrpSpPr>
            <p:cNvPr id="101" name="Group 22"/>
            <p:cNvGrpSpPr/>
            <p:nvPr/>
          </p:nvGrpSpPr>
          <p:grpSpPr>
            <a:xfrm>
              <a:off x="3924360" y="2170080"/>
              <a:ext cx="5024520" cy="3386160"/>
              <a:chOff x="3924360" y="2170080"/>
              <a:chExt cx="5024520" cy="3386160"/>
            </a:xfrm>
          </p:grpSpPr>
          <p:sp>
            <p:nvSpPr>
              <p:cNvPr id="102" name="Freeform 8"/>
              <p:cNvSpPr/>
              <p:nvPr/>
            </p:nvSpPr>
            <p:spPr>
              <a:xfrm>
                <a:off x="3924360" y="3313080"/>
                <a:ext cx="463320" cy="333360"/>
              </a:xfrm>
              <a:prstGeom prst="pie">
                <a:avLst/>
              </a:prstGeom>
              <a:solidFill>
                <a:srgbClr val="008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2"/>
              <p:cNvSpPr/>
              <p:nvPr/>
            </p:nvSpPr>
            <p:spPr>
              <a:xfrm>
                <a:off x="6495840" y="4425840"/>
                <a:ext cx="2453040" cy="11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08000"/>
                    </a:solidFill>
                    <a:latin typeface="Arial"/>
                  </a:rPr>
                  <a:t>     </a:t>
                </a:r>
                <a:r>
                  <a:rPr b="1" lang="en-US" sz="2400" spc="-1" strike="noStrike">
                    <a:solidFill>
                      <a:srgbClr val="408000"/>
                    </a:solidFill>
                    <a:latin typeface="Arial"/>
                  </a:rPr>
                  <a:t>Arabic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8000"/>
                    </a:solidFill>
                    <a:latin typeface="Arial"/>
                  </a:rPr>
                  <a:t>Coffea arabic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8000"/>
                    </a:solidFill>
                    <a:latin typeface="Arial"/>
                  </a:rPr>
                  <a:t>Tetraploid (4N = 42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3"/>
              <p:cNvSpPr/>
              <p:nvPr/>
            </p:nvSpPr>
            <p:spPr>
              <a:xfrm>
                <a:off x="7374240" y="21700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"/>
              <p:cNvSpPr/>
              <p:nvPr/>
            </p:nvSpPr>
            <p:spPr>
              <a:xfrm>
                <a:off x="7581960" y="3784680"/>
                <a:ext cx="0" cy="55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23"/>
            <p:cNvSpPr/>
            <p:nvPr/>
          </p:nvSpPr>
          <p:spPr>
            <a:xfrm flipH="1" flipV="1">
              <a:off x="4406760" y="3606480"/>
              <a:ext cx="212112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130800" y="263520"/>
            <a:ext cx="2822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ffee originated  in the mountains of Ethi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8520" y="231840"/>
            <a:ext cx="834552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7080" y="501480"/>
            <a:ext cx="888984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068480" y="160200"/>
            <a:ext cx="70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ffee requires a moist, tropical clim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3080" y="2259000"/>
            <a:ext cx="8686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2"/>
          <p:cNvSpPr/>
          <p:nvPr/>
        </p:nvSpPr>
        <p:spPr>
          <a:xfrm>
            <a:off x="2795400" y="1601640"/>
            <a:ext cx="428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eć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007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to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111,6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936,2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300,4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149,4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tema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725,8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dur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312,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259,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12,3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879,4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693,18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604,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Ùte d'Ivoi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82,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63,8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aragu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59,3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alv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10,35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1,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3"/>
          <p:cNvSpPr/>
          <p:nvPr/>
        </p:nvSpPr>
        <p:spPr>
          <a:xfrm>
            <a:off x="2629080" y="1905120"/>
            <a:ext cx="46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4"/>
          <p:cNvSpPr/>
          <p:nvPr/>
        </p:nvSpPr>
        <p:spPr>
          <a:xfrm>
            <a:off x="2565360" y="6324480"/>
            <a:ext cx="46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5"/>
          <p:cNvSpPr/>
          <p:nvPr/>
        </p:nvSpPr>
        <p:spPr>
          <a:xfrm>
            <a:off x="2408400" y="23184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vjetska proizvodnja k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6"/>
          <p:cNvSpPr/>
          <p:nvPr/>
        </p:nvSpPr>
        <p:spPr>
          <a:xfrm>
            <a:off x="2540160" y="2197080"/>
            <a:ext cx="4267080" cy="26676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ourses"/>
          <p:cNvPicPr/>
          <p:nvPr/>
        </p:nvPicPr>
        <p:blipFill>
          <a:blip r:embed="rId1"/>
          <a:srcRect l="0" t="748" r="0" b="1174"/>
          <a:stretch/>
        </p:blipFill>
        <p:spPr>
          <a:xfrm>
            <a:off x="380880" y="1332000"/>
            <a:ext cx="8610840" cy="4763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46960" y="29052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veučiliš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nsylvania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diplomski studij (predme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995480" y="3038400"/>
            <a:ext cx="67356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90440" y="101520"/>
            <a:ext cx="87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Cijena kave je u 100-godišnjem padu zbog prevelike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 rot="16200000">
            <a:off x="-14040" y="3664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eće k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97880" y="274176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Ekologija k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147320" y="16344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va se uzgaja u mnogim agroekosusta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44480" y="720720"/>
            <a:ext cx="5931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3"/>
          <p:cNvSpPr/>
          <p:nvPr/>
        </p:nvSpPr>
        <p:spPr>
          <a:xfrm>
            <a:off x="657360" y="4359240"/>
            <a:ext cx="325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va uzgajana na sun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uno aditiva (gnojiva, pestici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la raznolikost vr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oki pri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65535" b="0"/>
          <a:stretch/>
        </p:blipFill>
        <p:spPr>
          <a:xfrm>
            <a:off x="466560" y="0"/>
            <a:ext cx="285624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00680" y="3446640"/>
            <a:ext cx="46465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81040" y="289080"/>
            <a:ext cx="78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va uzgajana u sjeni je ekološki važ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88840" y="2800440"/>
            <a:ext cx="752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l Salvador je izgubio 90% svoje originalne š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lantaže kave čine 80% preostale šumovite zeml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na šumovite (srednje razine) Centralne Amerike je pod nasadima k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4880" y="1916280"/>
            <a:ext cx="77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  mil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hektarau Sjeverno Latinskoj Amer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16120" y="3081240"/>
            <a:ext cx="229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373840" y="265284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Botanika k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39760" y="285840"/>
            <a:ext cx="68626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17840" y="1177920"/>
            <a:ext cx="5343480" cy="5092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57200" y="149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rna kave nalaze se u plod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409680" y="1889280"/>
            <a:ext cx="2374920" cy="314136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2209680" y="3949560"/>
            <a:ext cx="195588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98600" y="1744560"/>
            <a:ext cx="5295960" cy="3792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542160" y="23976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va su zrna kave u svakom pl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43200" y="573876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p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 flipV="1">
            <a:off x="3263760" y="4584240"/>
            <a:ext cx="432000" cy="115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3695760" y="4635360"/>
            <a:ext cx="444600" cy="110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53080" y="3224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išć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1663560" y="34923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092240" y="2451240"/>
            <a:ext cx="7429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ole dobro jes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ole kuha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ole uzgajati hran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 zabrinuti za svoju težin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 zabrinuti za svoje zdravl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 zabrinuti za okoli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h zanima ljudska kultu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h zanima ekonomij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h zanima politik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480" y="304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judi su jako zainteresirani za hran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726000" y="10065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š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4800" y="2298600"/>
            <a:ext cx="8512200" cy="2563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93120" y="5330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399400" y="53308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jem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158000" y="1536840"/>
            <a:ext cx="31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nutrašnja stijen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951160" y="5369040"/>
            <a:ext cx="27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krov sje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anjska stijen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624080" y="18637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r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914400" y="41652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65360" y="3733920"/>
            <a:ext cx="4190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2971440" y="3848040"/>
            <a:ext cx="76212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5245200" y="2349360"/>
            <a:ext cx="49536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5740560" y="2336760"/>
            <a:ext cx="558720" cy="13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5753160" y="2324160"/>
            <a:ext cx="1485720" cy="11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7378560" y="3962520"/>
            <a:ext cx="0" cy="135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H="1" flipV="1">
            <a:off x="8191440" y="2336400"/>
            <a:ext cx="216000" cy="125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217960" y="7632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tomija plodova k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2794" t="0" r="0" b="2307"/>
          <a:stretch/>
        </p:blipFill>
        <p:spPr>
          <a:xfrm>
            <a:off x="5646600" y="1085760"/>
            <a:ext cx="3318120" cy="5639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01960" y="1252440"/>
            <a:ext cx="1444680" cy="1951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34960" y="60199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4 mon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359080" y="2427120"/>
            <a:ext cx="4217760" cy="12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086280" y="2120760"/>
            <a:ext cx="4613040" cy="134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866520" y="889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rno kave je uglavnom sup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rcRect l="2121" t="0" r="0" b="3707"/>
          <a:stretch/>
        </p:blipFill>
        <p:spPr>
          <a:xfrm>
            <a:off x="712800" y="3349800"/>
            <a:ext cx="44038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29600" y="2855880"/>
            <a:ext cx="34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emija k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2500920" y="27936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što pijemo kav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20960" y="173664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670040" y="3938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f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56280" y="6199200"/>
            <a:ext cx="63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vezani alkalo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n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n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n, mor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67480" y="1741320"/>
            <a:ext cx="2971800" cy="3965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87320" y="1890720"/>
            <a:ext cx="4559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127080" y="127080"/>
            <a:ext cx="89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fein blokira aktivnost neuromodulatora, adenoz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937160" y="5178600"/>
            <a:ext cx="570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imulira 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iže krvni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većava brzinu metabol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zrokuje diure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izvodnja mokrać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61960" y="1819440"/>
            <a:ext cx="62200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terpenes in coffee"/>
          <p:cNvPicPr/>
          <p:nvPr/>
        </p:nvPicPr>
        <p:blipFill>
          <a:blip r:embed="rId1"/>
          <a:stretch/>
        </p:blipFill>
        <p:spPr>
          <a:xfrm>
            <a:off x="360360" y="1631880"/>
            <a:ext cx="8472600" cy="2737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657600" y="147600"/>
            <a:ext cx="30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terpen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216520" y="5281560"/>
            <a:ext cx="64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vaju razinu LDL (loši koleste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ih u filter-k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508040" y="2124000"/>
            <a:ext cx="619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Druge važne kemikalije u ka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3731040" y="10152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en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143160" y="5929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jeluje kao antioksid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296400" y="47307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ff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969160" y="4940280"/>
            <a:ext cx="279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25760" y="1441440"/>
            <a:ext cx="5892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roasting-allin1"/>
          <p:cNvPicPr/>
          <p:nvPr/>
        </p:nvPicPr>
        <p:blipFill>
          <a:blip r:embed="rId1"/>
          <a:stretch/>
        </p:blipFill>
        <p:spPr>
          <a:xfrm>
            <a:off x="1219320" y="1204920"/>
            <a:ext cx="6933960" cy="5348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28600" y="44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ženje uzrokuje kemijske promjene koje kavi daju karakterističan 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905120" y="763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ologija je proučavanje h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9545" t="13105" r="30228" b="5732"/>
          <a:stretch/>
        </p:blipFill>
        <p:spPr>
          <a:xfrm>
            <a:off x="2857680" y="1282680"/>
            <a:ext cx="33717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217440" y="154080"/>
            <a:ext cx="862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ekundarni produkt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lkaloid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erpen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oli)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riste se kao insektic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20600" y="1712880"/>
            <a:ext cx="7102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936720" y="1266840"/>
            <a:ext cx="735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%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noga što osjećamo kao okus dolazi od našeg osjetila miri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800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lapljivih kemikalija pridonose mirisu i okusu k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1308" t="0" r="1308" b="0"/>
          <a:stretch/>
        </p:blipFill>
        <p:spPr>
          <a:xfrm>
            <a:off x="1187280" y="2878200"/>
            <a:ext cx="7072560" cy="3044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170720" y="2498760"/>
            <a:ext cx="20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201920" y="2498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475320" y="24861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3454560" y="271764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486400" y="269244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270080" y="165240"/>
            <a:ext cx="74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ris i okus dolaze od ti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941640" y="6508800"/>
            <a:ext cx="58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. Agric. Food Chem. 40:655, 1992;  FSTR 12:71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082960" y="5837400"/>
            <a:ext cx="2724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že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2959200" y="6006960"/>
            <a:ext cx="1396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194440" y="5811840"/>
            <a:ext cx="2724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že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6070680" y="5981760"/>
            <a:ext cx="1396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395680" y="3819600"/>
            <a:ext cx="892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2233440" y="37558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87280" y="1095480"/>
            <a:ext cx="68072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332360" y="255096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Biotehnologija k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998720" y="13968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osinteza kafe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65560" y="64533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Mol. Biol. 54:93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8160" y="1341360"/>
            <a:ext cx="78076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7360" y="1397160"/>
            <a:ext cx="8445600" cy="45208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4862520" y="30988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47760" y="139680"/>
            <a:ext cx="84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entičko inženjerstvo dekofeinizirane k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1285560" y="227160"/>
            <a:ext cx="76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ffe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ože biti regenerirana iz stanica liš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041520" y="64911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Mol. Biol. 54:93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920" y="882720"/>
            <a:ext cx="60321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1740600" y="17604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ffe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ože biti genetički modifici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041520" y="64911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Mol. Biol. 54:93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89000" y="766800"/>
            <a:ext cx="51642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087640" y="1103400"/>
            <a:ext cx="4968720" cy="4649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2425680" y="2641680"/>
            <a:ext cx="4381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460600" y="3975120"/>
            <a:ext cx="4359240" cy="241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60160" y="6667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rištenje RNKi za smanjenje razine kafe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041520" y="64911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Mol. Biol. 54:93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4640" y="3251160"/>
            <a:ext cx="6612120" cy="35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43080" y="159552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429:826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3200400" y="4699080"/>
            <a:ext cx="343080" cy="31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19480" y="2486160"/>
            <a:ext cx="27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= AC1 mu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=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0440" y="217440"/>
            <a:ext cx="4165560" cy="1297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91120" y="222120"/>
            <a:ext cx="35701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"/>
          <p:cNvPicPr/>
          <p:nvPr/>
        </p:nvPicPr>
        <p:blipFill>
          <a:blip r:embed="rId1"/>
          <a:srcRect l="34849" t="27837" r="57688" b="33408"/>
          <a:stretch/>
        </p:blipFill>
        <p:spPr>
          <a:xfrm>
            <a:off x="6008760" y="0"/>
            <a:ext cx="552240" cy="1327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428760" y="200160"/>
            <a:ext cx="381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judi su svejedi, nama je sve hra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4419720" y="711360"/>
            <a:ext cx="118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7699" t="0" r="4723" b="6991"/>
          <a:stretch/>
        </p:blipFill>
        <p:spPr>
          <a:xfrm>
            <a:off x="2987640" y="1450800"/>
            <a:ext cx="33577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348920" y="2932200"/>
            <a:ext cx="617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ava i ljudsko zdrav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2970000" y="21420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va i zdrav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041480" y="2730600"/>
            <a:ext cx="7016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uje rizik dijabetesa (tip I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uje rizik za Parkinsonovu bo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uje rizik ciroze je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većava krvni tl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uje vjerojatnost trudnoć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089720" y="1609560"/>
            <a:ext cx="76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alice kave dnevno—nema dugoročnih učin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148760" y="212724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alica kave dnev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767120" y="636264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Rev. Food Sci. Nut. 46:10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195200" y="1967040"/>
            <a:ext cx="6675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Dakl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uživajte u pauzi za kav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359800" y="358920"/>
            <a:ext cx="35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 mi smo hra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517200" y="1459080"/>
            <a:ext cx="215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akter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ljiv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irus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2804040" y="3622680"/>
            <a:ext cx="2483640" cy="2085480"/>
            <a:chOff x="2804040" y="3622680"/>
            <a:chExt cx="2483640" cy="2085480"/>
          </a:xfrm>
        </p:grpSpPr>
        <p:sp>
          <p:nvSpPr>
            <p:cNvPr id="66" name="Text Box 4"/>
            <p:cNvSpPr/>
            <p:nvPr/>
          </p:nvSpPr>
          <p:spPr>
            <a:xfrm>
              <a:off x="2804040" y="3622680"/>
              <a:ext cx="248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00"/>
                  </a:solidFill>
                  <a:latin typeface="Arial"/>
                </a:rPr>
                <a:t>i na kraju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3745080" y="4761000"/>
              <a:ext cx="1328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800" spc="-1" strike="noStrike">
                  <a:solidFill>
                    <a:srgbClr val="000000"/>
                  </a:solidFill>
                  <a:latin typeface="Arial"/>
                </a:rPr>
                <a:t>crvi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3816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to, da biste učinili biologiju zanimljivom, poučavajte o hra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31640" y="5935680"/>
            <a:ext cx="795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olog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groekosiste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rživa poljoprivr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31640" y="1209600"/>
            <a:ext cx="807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iokemija i fiziolog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emijski sastav h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gljikohidrati, proteini, lipidi, sekundarni produk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otosinteza = proizvodnja h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sanje = korištenje h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1640" y="2314440"/>
            <a:ext cx="821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nična i razvojna biolog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stav, proizvodnjaa i funkcijajaja, mlijeka i mišić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jna i animalna fiziolog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ktura sjeme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ktura kokošje no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31640" y="3546360"/>
            <a:ext cx="807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enetika i molekularna biolog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olucija kultiviranih bilj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jni i životinjski uzg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ibridne žita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toda genetičkog inženjerst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enetički određeni poremećaji uzrokovani hranom, alerg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31640" y="4956120"/>
            <a:ext cx="815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ikrobiolog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jni i životinjski patog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kroorganizmi koji uzrokuju kvarenje h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ksacija duš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583080" y="169704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Ka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211400" y="1916280"/>
            <a:ext cx="69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Kava je najrašireniji napitak u svijetu i važan dio ljudske kultu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1:29:22Z</dcterms:created>
  <dc:creator>Scott Poethig</dc:creator>
  <dc:description/>
  <dc:language>en-US</dc:language>
  <cp:lastModifiedBy>Marina Luetić</cp:lastModifiedBy>
  <dcterms:modified xsi:type="dcterms:W3CDTF">2009-10-07T12:30:12Z</dcterms:modified>
  <cp:revision>34</cp:revision>
  <dc:subject/>
  <dc:title>PowerPoint Presentation</dc:title>
</cp:coreProperties>
</file>