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BAC8-BC21-4495-9013-D6CB5940B38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0A81-FABA-4DF6-8895-B0BC9B59386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C57-F9F5-4A20-A528-611E2DEC90B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5A4-19FF-4EED-9D3B-B3E3D9917B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E2F-0FCD-4FA1-98CB-A624FEDA34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upisuje se u rubriku bilježaka u imeni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pažanja koja pomažu učitelju za donošenje zaključene oc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učeniku, roditeljima, razredniku poticanje i ispravke u radu te razumijevanje zaključne oc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datum, sadržaj, opas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Prijedlog pedagoških mjera za poboljšanje suradnje i uspje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tijekom cijele g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C811-FFF6-442E-ADD4-08C3EDE83E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7D3-711C-4239-96FE-48E1A6E27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bilježe se ocjene od 1 do 5 u rešet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bez +, -, 0,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javno, nakon provjerav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BACD-4D2F-4557-AB3F-CA70150B574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6399-87A5-4BB9-9C98-CAA4A474A02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3146-1C91-49DE-B256-0C436C5172E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021B-4DC2-4A41-8CDC-597B9D2FA90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19B-9321-457C-8126-B1661DCE14C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F5C-49E6-45DF-AD17-F51EF68E424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3D5-35B7-49A2-83A1-7720098EF9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4C8-0AF3-455B-AC24-73386E7F2A4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FD5-D8C2-460E-B171-ECE0F58D794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F2AA-D5BA-43DF-A764-5A273AF4ABD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C4AF-0286-4F89-B2F1-CFFF13F4116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570-4B1D-4B33-8D0F-0A7660AC740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B074-F3D6-4BD4-8C81-FBE0E039FDD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9C0A-39D8-4C93-B419-FFBC6A00C58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2CDF-F290-4E95-87B5-3D2E12F07E4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4B12-E838-4FD2-A3BE-82DB213F7B7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830-13EC-487B-A3E6-F454553A23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D33C-0AD5-4E14-A014-F8227E8DD82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D2AD-5D54-401A-955E-5072AE5739D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497B-D9DE-4C17-BACB-274A9C1F34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ključno ocjenjivanje treba biti odraz cjelokupnih odgojno – obrazovnih postignuća tijekom šk. god.i utemeljeno na brojčanim ocjenama upisanim u imenik i bilješkama o praćenju uče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ključna ocjena iz pojedinog predmeta ne mora proizlaziti iz aritmetičke sredine upisanih ocjena u polugodištu; zaključuje se i objavljuje na posljednjem nastavnom sa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82F4-5002-48DC-8055-07925A53A82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AAA3-B3B5-462F-B357-F82AD977306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8A8-3B38-448D-A3A6-8DE159B5C27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D925-52FB-4CEB-98EF-01E6A93A343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D08B-B03C-43F8-8850-D4FF6B5DFF0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DB4-058E-41C1-B7F8-A201C565C3A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984-FA1D-465F-8DDA-1B12F28D8E5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927-07CD-4B36-BD47-E2A861BC18C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EAD9-4DB9-4046-B60B-0769ADA1ECE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0582-46D2-48C8-9F0C-BAE9EE1F30C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2256-7B2E-4E11-B5D5-EE33E116C17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D911-1191-4270-8BB4-33AA2A1816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751B-EE78-4C2A-B462-297CC8E8776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355-3950-4885-A1CE-AD5274A9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208-EF74-4678-B1EE-3ACE74F2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604-16D7-4739-87DD-8432B016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FCE-0057-4F96-89EA-D6B8755D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1031-9B75-40D8-8EAD-1010F13E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94C6-7D1E-4B35-AA83-A6BF28E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B2A-4FAF-4EFD-8E59-3852C703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1E2-1BAB-4552-8DD0-02F88F5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83A-BE98-4A6F-8A31-33A5BDFC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DEA8-EF41-413E-8B49-6E1A86F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FD28-A493-4A70-955A-054CF03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EF6-389A-4A91-A198-C34ADC07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33C2-2482-4254-9703-1FEDF65B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B56-2AAF-4F3B-9017-89D7FF4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B2DA-2992-45FC-BDFA-B10E038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825B-C005-4C28-B074-8E442F0C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F62F-EFA2-4E0A-914F-68F61A44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B5D3-3C27-45CA-8C50-73E82EA2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6179-D221-4AF5-B38B-2F86AC77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CCFD-D67F-4960-850B-A1AD8E50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F4A2-1780-483A-8CAE-A500F793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8C47-88F7-4946-AD98-E1AF84AE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EE5-9F7A-41DC-AB92-9EEE7ED3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E5CD-1008-47C2-B0E3-BA98620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734D-B9CC-44AA-93B0-B569062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4D7C-7A5A-4F68-929C-B04BE33B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8047-091B-4C05-A03A-32EFB96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791D-20C0-422F-A24C-1F90FBD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98AC-DFCB-42F1-8691-35A2375E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7FD6-1139-441C-B51B-89D2105C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705A-5D88-460D-9F08-F0AB5B53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135A-4AB8-44DC-98CE-424715E5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D137-606B-4F0B-BF41-0F2E5B9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E12-FEF2-4016-9E65-03F76603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F045-1F62-4FD5-B647-CCA32860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A3ED-4CCE-4B17-99E0-B2BCA152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45A2-DF25-489D-A682-239BB58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6382-4F7A-4852-945F-DFCB8FC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F42C-68C1-4823-A244-6C4D40A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C2B6-6126-4099-B3DD-2E02DA2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B4A5-263B-4313-B405-14F3ABE8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6022-B0ED-4D86-839E-40DF7F85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C7D6-8521-4658-BBBD-E838FC85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AB1FE-17F4-4555-A9BB-06FC0B84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0AF-1071-4779-B140-21C41D49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26D6-D2C1-4514-96FC-AF9D7B8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0E9A-9AC1-42D9-9C5A-89EC3910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FAE6-54FA-448D-A6A8-351A827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135C-D452-4BB5-8F3C-4DEA3AEC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3E519-8484-4926-980E-92B2F4A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0CBD-AD6C-4739-B243-161F2AF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4E97-1B17-4635-B352-4B598A0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49D2-ECA7-42D7-9D9A-0F10DDE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177B-7258-4247-9B6C-448929E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088E-EF89-438F-B3AA-27AE2C5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00E-E2F9-4F7E-BD74-6994C7D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3FB5-A007-4380-9BDF-A5DFF0FC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A4983-BDC3-455C-8122-296D194D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2252-15A6-40E9-8376-4D894CF5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EB34-4644-4238-9566-AB8559F3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051E-9EFD-4900-8799-F726774D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2B55-CCCD-4736-BC04-41073051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0AF02-1958-40B1-A71E-330F5FA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25B9-A456-4F1F-B65C-D144BF4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DB6F1-CB3E-4AE9-B68B-295E73A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BBCF-940C-484A-BAE0-0181F39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128-CB60-4409-A987-3B7568D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EEDE-603C-4C12-B929-BADB737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2BDB-D3C1-4017-BC6D-E29C638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B8CC-427B-461C-88FC-6505E4A0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9F308-1960-4382-907A-1E7C1239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025F-1D4D-43B3-882D-5AAD3290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B845-B875-464F-97C1-0D3104DD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70C9B-8A28-4C7F-84A5-0CA7DD85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51800-ABDA-49B5-BBE3-6911C0E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8A6C-C73C-45E0-85DA-EB2403DF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EDF28-C69E-417B-A2D9-9AF24CE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50B-D0C4-48B0-B7F0-6B97992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9D55E-12DF-4E74-9592-42158B5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10A8-2401-417F-9555-3E61165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0CDA-4C8A-4342-9BA5-CA626C56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BA234-8FC8-4F13-A5CA-3DEF69A3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B406-95AD-4C39-9669-E3F805F2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9BAF-1747-4FD4-ACE2-B443F538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2D48B-F26C-4FF3-80FA-5B12768E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B0B1C-7BC1-4C1B-9AC4-0905B07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86964-5868-40BD-8F73-A9D0608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9D76-2CEA-4E29-8D19-4C49D4E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F5A-594E-4A30-B101-A1BC66C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379A-D180-4DF0-8441-CE03624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FF93C-94A9-42C7-A10C-574F335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382E7-2BD4-4AA9-BA7A-3E14A23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440B8-61B8-4520-8764-C95E0E8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A898-4B0C-4C7A-8AD8-8ED826DC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1C93-493F-42EC-932F-D34F6294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0F3C-A784-4FB3-9063-0CEA0F95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3433-C709-4758-A432-FAEC1CFAC3E1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AGENCIJA - Pozadina (b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DAD-E547-4940-9A2A-690D8783F4DA}" type="slidenum"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AGENCIJA - Pozadina (b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202-4FEC-4ADA-8D21-C9AB9BF3A2C1}" type="slidenum"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628-A828-4CB6-BC09-080C9676E65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71800" y="656568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F0D1-5048-438C-B42E-4DF903F8035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167-D685-490C-B528-F901DB2C227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9F3-3698-4B97-9E8F-86AB4CF3A5E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5778-763C-4722-8458-590E5359E96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Školsko ocjenjivanje znanja”</a:t>
            </a:r>
            <a:br>
              <a:rPr sz="3600"/>
            </a:b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međužupanijski stručni skup</a:t>
            </a:r>
            <a:br>
              <a:rPr sz="3600"/>
            </a:br>
            <a:br>
              <a:rPr sz="3600"/>
            </a:b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ašice, srpanj i kolovoz 20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14240" y="5428800"/>
            <a:ext cx="4429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Ninočka Truck-Biljan, prof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viša savj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snovni termini i pojmo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Vrjedn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ać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cjenj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4" descr="PE01457_"/>
          <p:cNvPicPr/>
          <p:nvPr/>
        </p:nvPicPr>
        <p:blipFill>
          <a:blip r:embed="rId1"/>
          <a:stretch/>
        </p:blipFill>
        <p:spPr>
          <a:xfrm>
            <a:off x="6572160" y="1500120"/>
            <a:ext cx="1235160" cy="1354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BD04900_"/>
          <p:cNvPicPr/>
          <p:nvPr/>
        </p:nvPicPr>
        <p:blipFill>
          <a:blip r:embed="rId2"/>
          <a:stretch/>
        </p:blipFill>
        <p:spPr>
          <a:xfrm>
            <a:off x="6858000" y="4929120"/>
            <a:ext cx="1104840" cy="1285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J0076136"/>
          <p:cNvPicPr/>
          <p:nvPr/>
        </p:nvPicPr>
        <p:blipFill>
          <a:blip r:embed="rId3"/>
          <a:stretch/>
        </p:blipFill>
        <p:spPr>
          <a:xfrm>
            <a:off x="6786720" y="3214800"/>
            <a:ext cx="1152360" cy="1027080"/>
          </a:xfrm>
          <a:prstGeom prst="rect">
            <a:avLst/>
          </a:prstGeom>
          <a:ln w="0">
            <a:noFill/>
          </a:ln>
        </p:spPr>
      </p:pic>
      <p:cxnSp>
        <p:nvCxnSpPr>
          <p:cNvPr id="364" name="Curved Connector 7"/>
          <p:cNvCxnSpPr/>
          <p:nvPr/>
        </p:nvCxnSpPr>
        <p:spPr>
          <a:xfrm>
            <a:off x="3357720" y="2357280"/>
            <a:ext cx="3358080" cy="3215520"/>
          </a:xfrm>
          <a:prstGeom prst="curvedConnector5">
            <a:avLst>
              <a:gd name="adj1" fmla="val 49994"/>
              <a:gd name="adj2" fmla="val 49994"/>
              <a:gd name="adj3" fmla="val 4999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5" name="Curved Connector 14"/>
          <p:cNvCxnSpPr/>
          <p:nvPr/>
        </p:nvCxnSpPr>
        <p:spPr>
          <a:xfrm flipV="1">
            <a:off x="2785680" y="2071800"/>
            <a:ext cx="3715560" cy="2071800"/>
          </a:xfrm>
          <a:prstGeom prst="curvedConnector5">
            <a:avLst>
              <a:gd name="adj1" fmla="val 58003"/>
              <a:gd name="adj2" fmla="val 50000"/>
              <a:gd name="adj3" fmla="val 5800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6" name="Curved Connector 22"/>
          <p:cNvCxnSpPr/>
          <p:nvPr/>
        </p:nvCxnSpPr>
        <p:spPr>
          <a:xfrm flipV="1">
            <a:off x="3214440" y="3857760"/>
            <a:ext cx="3429720" cy="207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VRJEDNOVANJ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AĆ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VJERAVANJE I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CJENJIV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PRAĆ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vilnik o praćenju i ocjenjivanju... (NN, br.92/9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lanak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em učenika podrazumijeva se sustavno bilježenje zapažanja o razvoju njegova interesa, motivacije i sposobnosti, njegovih postignuća u usvajanju odgojno-obrazovnih sadržaja nastavnog predmeta, njegov odnos prema radu i postavljenim zadacima  te odgojnim vrijednostim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14240" y="2205000"/>
            <a:ext cx="79725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ljučni dio vrednovanja odgovara na pitanj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to ocjenjujem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dređujući time vrstu i količinu sadrža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najčešće je to instrumentarij kojim se zadovoljavaju ciljevi nastave, odnosno sve ono što smo željeli postići s učenici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0200" y="499680"/>
            <a:ext cx="60724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ROVJERAVANJE ILI PROCJENJIVAN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CJENJ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 postupak vrednovanja svih važnih činjenica o učenikovim postignućima tijekom praćenja, provjeravanja i ispitivanja, a izražava se ocjenom u skladu sa zakonom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redmetna i metodička slož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zik je i cilj i sredstvo i način provj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stavnik: mjerilac i mjerni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logičnost: nastavnik koji je subjektivni mjerni instrument mora dati ocjenu koja treba biti objektiv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Ipak treba znati da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..svaki nastavnik stvara svoj sustav i vlastita mjerila koja ovise i o uvjetima u kojima se održava nastava i o samim učenicima – stoga je vrijednost ocjena relativn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prema Petrović, 198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8592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va je vrijednost ocjena i što zapravo mj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straživanja jasno pokazuju d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cjene koje učenici dobivaju na ispitim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isu ni objektivne, ni pouzdane ni valjane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 da je za učenika često «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ije tko ga ispituje, nego koliko  je njegovo poznavanje predmet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Z. Bujas, 1943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što je to i danas tak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va su temeljna uzro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nanje nije direktno dostupno mjerenju, nego o njemu posredno zaključujemo preko odgovora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 se pojavljuje u ulozi i instrumenta i mjeri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7280" y="7138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Uzroci slabe metrijske vrijednosti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Čimbenici koji ovise 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)  tehnici ispit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ilj i zadaće skup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920" y="1499760"/>
            <a:ext cx="8555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ilj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vijestiti važnost pravilnoga praćenja i ocjenj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dać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vijestiti važnost objektivnih i subjektivnih čimb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taknuti važnost elemenata i vještina koje se ocjenjuju u elemen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eći uvid u pravilno ocjenjivanje vještine gov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eći uvid u spoznaje iz ovoga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oznati se s odabranom literaturom iz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_s49165"/>
          <p:cNvSpPr/>
          <p:nvPr/>
        </p:nvSpPr>
        <p:spPr>
          <a:xfrm flipH="1">
            <a:off x="1908000" y="3860640"/>
            <a:ext cx="1727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_s49164"/>
          <p:cNvSpPr/>
          <p:nvPr/>
        </p:nvSpPr>
        <p:spPr>
          <a:xfrm>
            <a:off x="324000" y="4508640"/>
            <a:ext cx="22096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Tehnike ispitivan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ocjenji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_s49163"/>
          <p:cNvSpPr/>
          <p:nvPr/>
        </p:nvSpPr>
        <p:spPr>
          <a:xfrm>
            <a:off x="5435640" y="378936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_s49162"/>
          <p:cNvSpPr/>
          <p:nvPr/>
        </p:nvSpPr>
        <p:spPr>
          <a:xfrm>
            <a:off x="6372360" y="4508640"/>
            <a:ext cx="22096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čeničke osob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snalaže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 ispitnoj situac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_s49161"/>
          <p:cNvSpPr/>
          <p:nvPr/>
        </p:nvSpPr>
        <p:spPr>
          <a:xfrm flipV="1">
            <a:off x="4535640" y="1298160"/>
            <a:ext cx="0" cy="17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_s49160"/>
          <p:cNvSpPr/>
          <p:nvPr/>
        </p:nvSpPr>
        <p:spPr>
          <a:xfrm>
            <a:off x="3419640" y="0"/>
            <a:ext cx="216036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kao mjer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_s49159"/>
          <p:cNvSpPr/>
          <p:nvPr/>
        </p:nvSpPr>
        <p:spPr>
          <a:xfrm>
            <a:off x="3132000" y="2421000"/>
            <a:ext cx="3024360" cy="27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UZROCI SLA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METRIJS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VRIJED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OCJ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65530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10" descr="7"/>
          <p:cNvPicPr/>
          <p:nvPr/>
        </p:nvPicPr>
        <p:blipFill>
          <a:blip r:embed="rId1"/>
          <a:stretch/>
        </p:blipFill>
        <p:spPr>
          <a:xfrm>
            <a:off x="5219640" y="836640"/>
            <a:ext cx="1468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5-2"/>
          <p:cNvPicPr/>
          <p:nvPr/>
        </p:nvPicPr>
        <p:blipFill>
          <a:blip r:embed="rId2"/>
          <a:stretch/>
        </p:blipFill>
        <p:spPr>
          <a:xfrm>
            <a:off x="4643280" y="5300640"/>
            <a:ext cx="1938600" cy="1174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43"/>
          <p:cNvPicPr/>
          <p:nvPr/>
        </p:nvPicPr>
        <p:blipFill>
          <a:blip r:embed="rId3"/>
          <a:stretch/>
        </p:blipFill>
        <p:spPr>
          <a:xfrm>
            <a:off x="324000" y="342900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A) Čimbenici koji ovise o učenik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dovoljna jasnoća i neodređenost od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erbalne sposobnosti i moguć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ogućnosti opažanja i uporabe opaženih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čuvstvena otpor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Arial"/>
              </a:rPr>
              <a:t>prilagođe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školi i školskome sust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B) Čimbenici koji ovise o nastav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subjektivni  - smanjuju metrijsku vrijednost ocjena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obna jednadž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alo ef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gička pogrje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sre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diferencij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kontr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dencija prilagođavanja mjerila kvaliteti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) Čimbenici koji ovise o tehnic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 usmenome ispitivanju – potpitanja, pomoć, neverbalne reakcije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 pisanome ispitivanju – redoslijed pregledavanj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o unaprijediti ocjenjiva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5840" y="1285560"/>
            <a:ext cx="85723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 je biti svjestan mogućega djelovanja navedenih čimb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 je osvijestiti osjećaje i stavove prema svakom pojedinom učen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edovito pratiti napred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spitivati češće i to različitim metod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voriti ozračje usmjerenosti na postizanje uspje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bjektivizacija pr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na primjeru procjene govora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postavljanje mjerila ključno je za procjenjivanje jer bez mjerila ili standarda izvedbe, zadatci za izvedbu ostaju jednostavno zbirka aktivnosti koje smo poučavali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5652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(prema: Herman, Aschbacher, Winters,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bjektivizacija pr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igurati vrijeme za povratnu informacij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iti rubrike za o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ci trebaju znati svrhu i očekivanu izvedb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3124080" y="635652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(prema: Herman, Aschbacher, Winters,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Mjerila treb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temeljiti na ciljevima razrednih aktivnosti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postupk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peracionalizirati na stvarnoj izved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aviti razine izvedbe izradbom rubrika, skale ili check-liste tako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1. načinit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2. provjerite oslikavaju li cilje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3. tražite sav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4. provjerite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kte usmenoga izriča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5. razrađujete dok se ne složite s učeni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U okviru aktiva škole ili ŽSV-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reba što preciznije definirati ono što se ocjenjuje i mjeril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risno je unaprijed planirati načine provjere znanja i pitanja koja će se postaviti uz konkretno gradivo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&gt;&gt;&gt; i sve je to dobro raditi sa sustručnjacima jer se povećava valjanost i objektivnost procjen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Elementi i mjerila za provjeravanje usmenoga izričaja? - radion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lan stručnoga skup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vod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otiv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dionic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– 3 paralelno (ponavljaju se tri puta sva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atko preda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prezentaci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jedničk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skusija: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ditelji panel-diskusije su voditelji radionica – zaključak seminara, odgovori na pitanja, podjela potvr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728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o izraditi analitičke ili holističke rubrike za usmeni izriča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aberite zada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vrstajte u tipove zadatka (opisivanje, prepričavanje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redit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š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provjeravate (podvješt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zradite rub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mislite o razin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sporedite ponovo sa zadat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ogovorite se (s učenicima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odvještine (aspekti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blik (dijalog, opis, prepričavanje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adržaj (vokabular, jezične funkcije, činjenice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ontek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lušanje (dio dobroga govornik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fluentnost (izgovor, rečenična intonacija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gramatička kompetenci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everbalna komunikacija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ŽNO JE DA UČENIK DOBIJE ZASLUŽENU OCJ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ILJ 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NIJE USPOREĐIVA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OTKRITI ŠTO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 NE MOŽE I NE Z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VEĆ UTVRDITI ŠTO ZNA I ŠTO GA MOŽE POTAKNUTI NA BOLJ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I / NASTAVNICI I UČENICI SU SURADNIC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6" descr="bd04972_"/>
          <p:cNvPicPr/>
          <p:nvPr/>
        </p:nvPicPr>
        <p:blipFill>
          <a:blip r:embed="rId1"/>
          <a:stretch/>
        </p:blipFill>
        <p:spPr>
          <a:xfrm>
            <a:off x="7072200" y="5429160"/>
            <a:ext cx="172728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Jesmo li ostvarili zadać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ilje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načajke mjernih instrumena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lementi ocjenjivanja (radi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ila i razine za provjeru usmenoga izričaja (radi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st praćenja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SmartArt Placeholder 4" descr="j0195784"/>
          <p:cNvPicPr/>
          <p:nvPr/>
        </p:nvPicPr>
        <p:blipFill>
          <a:blip r:embed="rId1"/>
          <a:stretch/>
        </p:blipFill>
        <p:spPr>
          <a:xfrm>
            <a:off x="2928960" y="2357280"/>
            <a:ext cx="2857320" cy="27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2560" y="150012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ognar, L., Matijević,M.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daktik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Školska knji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ryden, G.; Vos, J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volucija u uče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urlan, I. (197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oznavanje ispitivanje i ocjenjivanje učenik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PK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gin, T. (198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a dokimolog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Školska knjig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gin, T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o ocjenjivanje zn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Jastrebarsko: Naklada Sla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nsen E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uper- nastava: Nastavne strategije za kvalitetnu školu i uspješ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je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agreb: Edu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2560" y="1428840"/>
            <a:ext cx="87152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linić, Z. (2003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cjenjivanje u školi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Školske nov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lippert, H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uspješno učiti u tim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yriacou, C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na nastavna umjeć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Edu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atijević, M. (2004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cjenjivanje u osnovnoj ško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Tipe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yer, H.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daktika razredne kvak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užić, V. (1979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odologija pedagoških istraživanj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arajevo: Svjetlo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mac, E. predavanja i radionice o ocjenjivanju znanja u šk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št, M. (2008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ktivni i objektivn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 vrednovanju p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nuća učenik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gencija za odgoj i obrazovanje.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radion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´Malley, M. &amp; Valdez Pierce, L. (199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 Assessment for English Language Learners – Practical Approaches for Teachers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ng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rišić, M. (1988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valuacija učeničkih postignuć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Sarajevo: Svjetlo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trović, E.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1988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orija nastave stranih jezi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ngrac, S. (198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pitivanje i ocjenjivanje u obrazova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Školske nov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obinson, A. (198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s and Practices of Teachin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Lond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zek Vidović V.,Vlahović Štetić V., Rijavec M., Miljković D. (2003.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sihologija obrazovanja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agreb:IEP-VE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goč, H. (ur.)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e i ocjenjivanje školskog uspje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HPKZ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celj, S. (199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ntinuitet u vrednovanju učenikova uspje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Rijeka: Pedagoški fakultet u Rije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EROJ – Zajednički europski referentni okvir za jez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bjektivni i subjektivni čimbenici u školskome ocjenjivanju znanja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00160" y="357120"/>
            <a:ext cx="7143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daktička dokimologija - z</a:t>
            </a: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nanost o školskome ocjenjivanj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vrha školskog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novni termini i pojmovi: praćenje, vrjednovanje, ocjenjivanje i ispit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edmetna i metodološka složenost procesa evalu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bjektivni pristupi evaluaciji u nastavi i učenju i teškoće što proizlaze iz nj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bjektivizacija evaluacijskih procesa u nastavi i učenju (skale procjene, skale sudova...) – kako unaprijediti ocjenjivanje u ško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5808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Svrha školskoga ocjenjivan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840" y="157140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povratne informacije o napredovanj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pedagoške povrat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irati učeni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evidenciju napretka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lužiti kao izraz sadašnjih postignuća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o)ocijeniti učeničku spremnost za buduće uč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rema: Kyriacou, J., 199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0000"/>
                </a:solidFill>
                <a:latin typeface="Arial"/>
                <a:ea typeface="Arial"/>
              </a:rPr>
              <a:t>Kome je ocjenjivanje značaj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kvaliteti znanja radi motiviranja na kvalitetniji ra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stavni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kvaliteti znanja učenika da bi prilagodio sadržaj, metode i tempo poučavan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oditelj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a bi znali što djeca znaju ili ne znaju i da bi potaknuli na razvijanje radnih nav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učnoj službi škol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tome kakva je kvaliteta rada u školi da bi se unaprijedio odgojno-obrazovni pro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svjetnim vlast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liko su nastavni programi i metode poučavanja primjereni spoznajnim mogućnostima djece, da bi se nastavni planovi i programi mogli modificirati, da bi se nastavnicima mogle dati preporuke o primjerenijem pristupu pouča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01:30Z</dcterms:created>
  <dc:creator>Viktorija</dc:creator>
  <dc:description/>
  <dc:language>en-US</dc:language>
  <cp:lastModifiedBy>ntbiljan</cp:lastModifiedBy>
  <dcterms:modified xsi:type="dcterms:W3CDTF">2010-09-07T07:42:06Z</dcterms:modified>
  <cp:revision>91</cp:revision>
  <dc:subject/>
  <dc:title>PowerPoint Presentation</dc:title>
</cp:coreProperties>
</file>