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E09F-782F-4BA5-9276-D419F38EBA3F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6F37-3C89-4314-9837-9D81DFE4FC5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5AD0-DAEB-4030-BC79-62B1DF2EB5F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C085-D73D-4EDC-86CC-3D5B855D69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7BDD-4D32-460D-A9C7-8D26D79958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upisuje se u rubriku bilježaka u imenik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zapažanja koja pomažu učitelju za donošenje zaključene ocj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učeniku, roditeljima, razredniku poticanje i ispravke u radu te razumijevanje zaključne ocj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datum, sadržaj, opas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Prijedlog pedagoških mjera za poboljšanje suradnje i uspje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tijekom cijele god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7696-FA0B-4CD7-B4D1-A25A564663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CC55-612F-4305-B4AB-C4CE3B02CE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bilježe se ocjene od 1 do 5 u rešetk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bez +, -, 0,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javno, nakon provjeravan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B2B0-B0E6-4F80-AD5F-B7BF4D1D61E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84BE-DEA5-4C4C-8F78-BCC0492250C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F49E-2C43-4662-A728-8267315235F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2207-742C-4CF3-97CE-B69CFCBCDA1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B7AD-56F1-47C6-AD32-C0FCE35A9AF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15A7-0729-4CAB-8F3A-829A90E0E51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1824-5467-4E31-802C-1186CF8C3E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D2FF-AC6F-4B4C-9713-091374A8B18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C1F4-5412-4D04-94B0-78F2AA537E1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7AC5-A32D-4DD9-82DD-2C76275B670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E506-DC45-432F-91BE-2D2B705B8B6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029D-72E6-433D-915B-694A7E17E5F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6FA6-5A21-4CC9-9E02-01232318F37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8C99-1125-4715-9818-26A7F5ED6C5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F31A-B7FE-4BED-A9F9-F7557BCCEA8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0B5E-E65B-46B8-B91B-517FD490F3F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DC61-8978-42C3-A851-7407C7864D6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A96D-106B-48A6-B81A-DB6ECA22BD9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BA3C-E70C-4C3D-A1A6-981D674D9C2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BB12-3FB2-4127-B7ED-8442199A14C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zaključno ocjenjivanje treba biti odraz cjelokupnih odgojno – obrazovnih postignuća tijekom šk. god.i utemeljeno na brojčanim ocjenama upisanim u imenik i bilješkama o praćenju učeni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Calibri"/>
              </a:rPr>
              <a:t>Zaključna ocjena iz pojedinog predmeta ne mora proizlaziti iz aritmetičke sredine upisanih ocjena u polugodištu; zaključuje se i objavljuje na posljednjem nastavnom sa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ED86-6048-4192-A503-95D7298B11A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4A99-062F-438F-91F5-F81591A32A9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6095-CAEC-4CB6-8A26-37D9C31D03F4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519B-0636-4ED4-A036-E93E573D3BA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42FB-0409-4860-84C9-47D972B54A6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ED86-5CB4-4772-98F3-7D7B85786DC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DC43-73EA-46C0-BAB3-74D4EB13DBA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AD86-8CCE-4E89-AB35-91C645A5F96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1D4B-9105-4644-8B49-1B967DCBD6E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C530-228B-4581-AD57-C655CF6408F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0709-1995-4186-BEF6-84922E74374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E3F9-A0E8-4D48-A26D-597ED6FC161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F399-23DC-4B6D-B381-D03D0EEFCB4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098-CBE7-48AA-85B4-E7E55F1F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BED-90A6-4B0D-BB42-D26B2442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560-A50D-4718-99A9-BEFBAAFA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2EF9-EB26-4802-A2C0-70553C0B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5C8E-F131-4FA6-8784-3D06BF71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E0A9-A2BE-4CDB-8E2C-3871E09C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6D71-577F-41FF-A0F9-44180337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141D-D346-484D-9EA3-937A6EC8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8B35-CEAB-4CB2-95D3-29DCABAC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0EFE-ABE7-43BE-9B54-4076E35E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A83B-C1B8-46B3-BD6A-FDAFC3BC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BEC0-AFDD-48BB-ADEC-36F128F0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CAB0-15E9-4D40-9D9D-FF63BD3E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1222-2A6A-47CB-85C6-4AC19B9F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062A-5001-44E0-9E8C-61DC1388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6B41-3074-4D00-A6B1-DD0AB0E6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69D7-EA4A-46B6-AB71-74368146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62415-653D-47C1-9705-BD3EF254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469F6-AB3F-4738-AC36-ABB659E9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94334-246C-4627-A7C7-61C6F659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EB7DE-F278-45C6-8377-CF4CB521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B8B9E-202C-4630-8771-E4BA95EA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6AD4-56BE-47D7-B043-53D9DB19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A1014-B233-4FB5-8B0E-FC66EB43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F3AEF-ACE5-454C-B77C-64B140E4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18198-45C5-4980-BA0D-90A01172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F09DE-5145-45DC-B19E-40AB9F8D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1E5B1-8D2B-4DF8-870E-AA980BAB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B3E7E-2548-4232-82E3-A8383F9C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0333F-1180-4984-8B7B-04880B30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8074E-508D-4E3C-9B2B-1B8AFAB3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CCE98-2FE4-4D13-A6AE-7D0B1C74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57739-B6C2-4314-A21C-0B946272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544-E00F-4158-A333-F4AC8E2D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A56BF-4869-410D-A794-E1830736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B24B9-80C9-4AF2-85DB-5DDC16A5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E5B0A-1411-4CFA-9A32-B61DC004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66796-BA4F-4EF7-8ECE-36B301DA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2818F-65DB-440E-B0B7-CA3ED13A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AA57B-6366-4052-973A-062578D6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1CE64-BF67-44F0-AAEB-6AB486C8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CAD3E-EE49-4EF2-9102-A4F6CD14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F878B-2FF8-4CCA-9C3F-262D1935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B32BB-98AB-4B37-B0FE-F17AD616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DF00-922D-4048-9FC4-5626E31F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669E8-91D5-46B9-A4E5-32EB1FEB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D902F-6584-4881-AC4F-83C591DB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C99D8-C4B4-471C-8853-AA416874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E74D0-A0D0-431A-A5BD-42716486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49530-7848-46CC-9523-94DB88E6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DBACA-951D-4263-907F-9FDF696E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3CC5F-F321-438D-8008-4C79F5DE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8624A-5051-4E24-8735-236E4F8C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E78A0-9374-427F-87C7-A6F0C18A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69805-1285-47C6-9269-C257450C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453-58C3-4412-8C9B-048A0685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2A133-1487-4DC2-BE95-842BB7E1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BEFC5-A2C4-41C5-962A-04F50A7F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C50F3-9E73-4698-B3A5-B4AD67F3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4E9F2-E5FE-40AD-BFBC-1976B32B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B3405-3660-42FB-8AA4-F62CF2EA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5EF56-1BFC-4AC5-8D20-4E552BCE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0DE03-FB85-4DCD-A45A-2CA37C82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B6A8A-8138-4F6F-AAF8-27A72DE5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B9FAC-C9B4-4864-99B2-2CAFCE4F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20E64-2741-4402-91F2-4AD6287E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A2B4-C610-415D-BA62-17413445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98987-4A1B-4D68-8CD3-C469767B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9AEFA-E835-4E1E-B200-02A8D73A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8B784-38B4-415C-BE4A-8F57FEF0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BD7B3-7388-4C63-BCAC-2A0AF1A4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A37B0-F8DC-4388-BF42-A9657D35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8347F-611F-425B-AD11-F421E33E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1AE2F-3600-428A-92D6-BFE70FEA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30EA6-1735-439A-B6B1-4B61C149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A759C-549D-40EA-9784-BDE087A3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27DB9-2353-478C-B26E-D215FD69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8D2A-9636-46E1-82D7-9E853E32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74A24-ED1A-4B0B-B0E3-4A90E6F5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20359-C982-4A20-81CF-795F7E0B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00C26-6AA8-4D2A-827E-EF31C7FD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F3644-A695-436C-A49D-59C95EF9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EFC44-2BC3-433D-ABF7-0AF2FEA8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85AFD-5228-4016-84E8-AEFE78D5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8B99B-B123-4D70-92B8-15221ACC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B2D7E-AADC-40B6-8A77-99B00724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DA102-5DFD-432C-B746-4C23255B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ED076-64AE-4AB3-99B1-C44E0257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A2ED-79F4-4594-B9D6-54C794C6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9248E-1E03-4C73-9818-1562E75A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1D22E-BE15-4E76-8E68-916B909D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9AD60-CC97-4A34-9BF0-F88F5DCF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C84D3-CA2E-4FA9-ADA6-C8637C58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F0645-67F5-42BB-9CF7-4A18FB84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EBE63-94BC-407C-BE80-D2E939EC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EE6D2-40EC-4BA7-81D6-B2E638BE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64D8-A640-4088-918D-18924F9BC67C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6" descr="AGENCIJA - Pozadina (b)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9595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595959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95959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A350-2284-43FA-9322-65B9067E98EC}" type="slidenum">
              <a:rPr b="0" lang="hr-HR" sz="1200" spc="-1" strike="noStrike">
                <a:solidFill>
                  <a:srgbClr val="59595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6" descr="AGENCIJA - Pozadina (b)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9595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595959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595959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F6B1-A475-41E7-97E3-D1CF0A00297C}" type="slidenum">
              <a:rPr b="0" lang="hr-HR" sz="1200" spc="-1" strike="noStrike">
                <a:solidFill>
                  <a:srgbClr val="59595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6" descr="AGENCIJA - Pozadina (a)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7975-205B-4DCF-84B6-82E8229FF672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71800" y="6565680"/>
            <a:ext cx="2133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C0A2-B067-4B42-AB79-FD6BC5522578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Slika 6" descr="AGENCIJA - Pozadina (a)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0189-90A7-4232-90E4-C86DBE1FD8DB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Slika 6" descr="AGENCIJA - Pozadina (a)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0170-4376-4D3B-9F3A-43C726F21B6B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12A0-EBA7-4EA5-A87A-BA57D560147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4240" y="164304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Školsko ocjenjivanje znanja”</a:t>
            </a:r>
            <a:br>
              <a:rPr sz="3600"/>
            </a:b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međužupanijski stručni skup</a:t>
            </a:r>
            <a:br>
              <a:rPr sz="3600"/>
            </a:br>
            <a:br>
              <a:rPr sz="3600"/>
            </a:b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Našice, srpanj i kolovoz 201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714240" y="5428800"/>
            <a:ext cx="44294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Ninočka Truck-Biljan, prof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alibri"/>
              </a:rPr>
              <a:t>viša savjet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00080" y="49968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Osnovni termini i pojmov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00040" y="2000160"/>
            <a:ext cx="822960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Vrjedno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Praće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Ocjenji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4" descr="PE01457_"/>
          <p:cNvPicPr/>
          <p:nvPr/>
        </p:nvPicPr>
        <p:blipFill>
          <a:blip r:embed="rId1"/>
          <a:stretch/>
        </p:blipFill>
        <p:spPr>
          <a:xfrm>
            <a:off x="6572160" y="1500120"/>
            <a:ext cx="1235160" cy="1354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BD04900_"/>
          <p:cNvPicPr/>
          <p:nvPr/>
        </p:nvPicPr>
        <p:blipFill>
          <a:blip r:embed="rId2"/>
          <a:stretch/>
        </p:blipFill>
        <p:spPr>
          <a:xfrm>
            <a:off x="6858000" y="4929120"/>
            <a:ext cx="1104840" cy="12859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J0076136"/>
          <p:cNvPicPr/>
          <p:nvPr/>
        </p:nvPicPr>
        <p:blipFill>
          <a:blip r:embed="rId3"/>
          <a:stretch/>
        </p:blipFill>
        <p:spPr>
          <a:xfrm>
            <a:off x="6786720" y="3214800"/>
            <a:ext cx="1152360" cy="1027080"/>
          </a:xfrm>
          <a:prstGeom prst="rect">
            <a:avLst/>
          </a:prstGeom>
          <a:ln w="0">
            <a:noFill/>
          </a:ln>
        </p:spPr>
      </p:pic>
      <p:cxnSp>
        <p:nvCxnSpPr>
          <p:cNvPr id="364" name="Curved Connector 7"/>
          <p:cNvCxnSpPr/>
          <p:nvPr/>
        </p:nvCxnSpPr>
        <p:spPr>
          <a:xfrm>
            <a:off x="3357720" y="2357280"/>
            <a:ext cx="3358080" cy="3215520"/>
          </a:xfrm>
          <a:prstGeom prst="curvedConnector5">
            <a:avLst>
              <a:gd name="adj1" fmla="val 49994"/>
              <a:gd name="adj2" fmla="val 49994"/>
              <a:gd name="adj3" fmla="val 4999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5" name="Curved Connector 14"/>
          <p:cNvCxnSpPr/>
          <p:nvPr/>
        </p:nvCxnSpPr>
        <p:spPr>
          <a:xfrm flipV="1">
            <a:off x="2785680" y="2071800"/>
            <a:ext cx="3715560" cy="2071800"/>
          </a:xfrm>
          <a:prstGeom prst="curvedConnector5">
            <a:avLst>
              <a:gd name="adj1" fmla="val 58003"/>
              <a:gd name="adj2" fmla="val 50000"/>
              <a:gd name="adj3" fmla="val 58003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6" name="Curved Connector 22"/>
          <p:cNvCxnSpPr/>
          <p:nvPr/>
        </p:nvCxnSpPr>
        <p:spPr>
          <a:xfrm flipV="1">
            <a:off x="3214440" y="3857760"/>
            <a:ext cx="3429720" cy="2071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hr-HR" sz="3200" spc="-1" strike="noStrike">
                <a:solidFill>
                  <a:srgbClr val="c00000"/>
                </a:solidFill>
                <a:latin typeface="Arial"/>
                <a:ea typeface="Arial"/>
              </a:rPr>
              <a:t>VRJEDNOVANJE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AĆE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OVJERAVANJE IL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OCJENJIV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CJENJIV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22000" y="6091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  <a:ea typeface="Arial"/>
              </a:rPr>
              <a:t>PRAĆE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285840" y="1714320"/>
            <a:ext cx="85723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avilnik o praćenju i ocjenjivanju... (NN, br.92/9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Članak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aćenjem učenika podrazumijeva se sustavno bilježenje zapažanja o razvoju njegova interesa, motivacije i sposobnosti, njegovih postignuća u usvajanju odgojno-obrazovnih sadržaja nastavnog predmeta, njegov odnos prema radu i postavljenim zadacima  te odgojnim vrijednostima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6"/>
          <p:cNvSpPr/>
          <p:nvPr/>
        </p:nvSpPr>
        <p:spPr>
          <a:xfrm>
            <a:off x="106668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714240" y="2205000"/>
            <a:ext cx="797256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ljučni dio vrednovanja odgovara na pitanje </a:t>
            </a:r>
            <a:r>
              <a:rPr b="1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što ocjenjujem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određujući time vrstu i količinu sadržaj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(najčešće je to instrumentarij kojim se zadovoljavaju ciljevi nastave, odnosno sve ono što smo željeli postići s učenicim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00200" y="499680"/>
            <a:ext cx="60724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PROVJERAVANJE ILI PROCJENJIVANJ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OCJENJI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“…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je postupak vrednovanja svih važnih činjenica o učenikovim postignućima tijekom praćenja, provjeravanja i ispitivanja, a izražava se ocjenom u skladu sa zakonom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Predmetna i metodička slože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Jezik je i cilj i sredstvo i način provj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astavnik: mjerilac i mjerni instr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elogičnost: nastavnik koji je subjektivni mjerni instrument mora dati ocjenu koja treba biti objektiv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Ipak treba znati da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...svaki nastavnik stvara svoj sustav i vlastita mjerila koja ovise i o uvjetima u kojima se održava nastava i o samim učenicima – stoga je vrijednost ocjena relativna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(prema Petrović, 198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85920" y="49968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Kakva je vrijednost ocjena i što zapravo mj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straživanja jasno pokazuju da 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cjene koje učenici dobivaju na ispitima 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isu ni objektivne, ni pouzdane ni valjane 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 da je za učenika često «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ažnije tko ga ispituje, nego koliko  je njegovo poznavanje predmet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» </a:t>
            </a:r>
            <a:br>
              <a:rPr sz="2800"/>
            </a:b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(Z. Bujas, 1943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Zašto je to i danas tak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Dva su temeljna uzrok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nanje nije direktno dostupno mjerenju, nego o njemu posredno zaključujemo preko odgovora uče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stavnik se pojavljuje u ulozi i instrumenta i mjerio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57280" y="71388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Uzroci slabe metrijske vrijednosti ocj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Čimbenici koji ovise 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če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stav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C)  tehnici ispiti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Cilj i zadaće skup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2920" y="1499760"/>
            <a:ext cx="8555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Cilj: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svijestiti važnost pravilnoga praćenja i ocjenji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Zadać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svijestiti važnost objektivnih i subjektivnih čimbe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staknuti važnost elemenata i vještina koje se ocjenjuju u element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teći uvid u pravilno ocjenjivanje vještine gov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teći uvid u spoznaje iz ovoga podru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poznati se s odabranom literaturom iz podru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_s49165"/>
          <p:cNvSpPr/>
          <p:nvPr/>
        </p:nvSpPr>
        <p:spPr>
          <a:xfrm flipH="1">
            <a:off x="1908000" y="3860640"/>
            <a:ext cx="172728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_s49164"/>
          <p:cNvSpPr/>
          <p:nvPr/>
        </p:nvSpPr>
        <p:spPr>
          <a:xfrm>
            <a:off x="324000" y="4508640"/>
            <a:ext cx="2209680" cy="1873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Tehnike ispitivanj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i ocjenji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_s49163"/>
          <p:cNvSpPr/>
          <p:nvPr/>
        </p:nvSpPr>
        <p:spPr>
          <a:xfrm>
            <a:off x="5435640" y="3789360"/>
            <a:ext cx="158436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_s49162"/>
          <p:cNvSpPr/>
          <p:nvPr/>
        </p:nvSpPr>
        <p:spPr>
          <a:xfrm>
            <a:off x="6372360" y="4508640"/>
            <a:ext cx="2209680" cy="1873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Učeničke osob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i snalažen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u ispitnoj situaci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_s49161"/>
          <p:cNvSpPr/>
          <p:nvPr/>
        </p:nvSpPr>
        <p:spPr>
          <a:xfrm flipV="1">
            <a:off x="4535640" y="1298160"/>
            <a:ext cx="0" cy="17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_s49160"/>
          <p:cNvSpPr/>
          <p:nvPr/>
        </p:nvSpPr>
        <p:spPr>
          <a:xfrm>
            <a:off x="3419640" y="0"/>
            <a:ext cx="2160360" cy="1844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Nastavni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kao mjern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mic Sans MS"/>
              </a:rPr>
              <a:t>instr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_s49159"/>
          <p:cNvSpPr/>
          <p:nvPr/>
        </p:nvSpPr>
        <p:spPr>
          <a:xfrm>
            <a:off x="3132000" y="2421000"/>
            <a:ext cx="3024360" cy="273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60033"/>
                </a:solidFill>
                <a:latin typeface="Comic Sans MS"/>
              </a:rPr>
              <a:t>UZROCI SLA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60033"/>
                </a:solidFill>
                <a:latin typeface="Comic Sans MS"/>
              </a:rPr>
              <a:t>METRIJSK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60033"/>
                </a:solidFill>
                <a:latin typeface="Comic Sans MS"/>
              </a:rPr>
              <a:t>VRIJED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660033"/>
                </a:solidFill>
                <a:latin typeface="Comic Sans MS"/>
              </a:rPr>
              <a:t>OCJE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655308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10" descr="7"/>
          <p:cNvPicPr/>
          <p:nvPr/>
        </p:nvPicPr>
        <p:blipFill>
          <a:blip r:embed="rId1"/>
          <a:stretch/>
        </p:blipFill>
        <p:spPr>
          <a:xfrm>
            <a:off x="5219640" y="836640"/>
            <a:ext cx="1468440" cy="1295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1" descr="5-2"/>
          <p:cNvPicPr/>
          <p:nvPr/>
        </p:nvPicPr>
        <p:blipFill>
          <a:blip r:embed="rId2"/>
          <a:stretch/>
        </p:blipFill>
        <p:spPr>
          <a:xfrm>
            <a:off x="4643280" y="5300640"/>
            <a:ext cx="1938600" cy="11746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2" descr="43"/>
          <p:cNvPicPr/>
          <p:nvPr/>
        </p:nvPicPr>
        <p:blipFill>
          <a:blip r:embed="rId3"/>
          <a:stretch/>
        </p:blipFill>
        <p:spPr>
          <a:xfrm>
            <a:off x="324000" y="3429000"/>
            <a:ext cx="1511280" cy="148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A) Čimbenici koji ovise o učenik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edovoljna jasnoća i neodređenost odgov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erbalne sposobnosti i moguć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ogućnosti opažanja i uporabe opaženih podata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čuvstvena otpor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  <a:ea typeface="Arial"/>
              </a:rPr>
              <a:t>prilagođenos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školi i školskome susta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8592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B) Čimbenici koji ovise o nastav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(subjektivni  - smanjuju metrijsku vrijednost ocjena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sobna jednadž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Halo efe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ogička pogrješ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grješka sred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grješka diferencija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grješka kontra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ndencija prilagođavanja mjerila kvaliteti skup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8592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C) Čimbenici koji ovise o tehnici ocjenji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i usmenome ispitivanju – potpitanja, pomoć, neverbalne reakcije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i pisanome ispitivanju – redoslijed pregledavanja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Kako unaprijediti ocjenjivan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85840" y="1285560"/>
            <a:ext cx="85723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ažno je biti svjestan mogućega djelovanja navedenih čimbe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ažno je osvijestiti osjećaje i stavove prema svakom pojedinom učeni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edovito pratiti napred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spitivati češće i to različitim metod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tvoriti ozračje usmjerenosti na postizanje uspje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Objektivizacija procj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(na primjeru procjene govora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...postavljanje mjerila ključno je za procjenjivanje jer bez mjerila ili standarda izvedbe, zadatci za izvedbu ostaju jednostavno zbirka aktivnosti koje smo poučavali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Footer Placeholder 3"/>
          <p:cNvSpPr/>
          <p:nvPr/>
        </p:nvSpPr>
        <p:spPr>
          <a:xfrm>
            <a:off x="3124080" y="6356520"/>
            <a:ext cx="5376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(prema: Herman, Aschbacher, Winters, 199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Objektivizacija procj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ažn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sigurati vrijeme za povratnu informaciju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azviti rubrike za ocjenjiv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Učenici trebaju znati svrhu i očekivanu izvedbu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ooter Placeholder 3"/>
          <p:cNvSpPr/>
          <p:nvPr/>
        </p:nvSpPr>
        <p:spPr>
          <a:xfrm>
            <a:off x="3124080" y="6356520"/>
            <a:ext cx="5376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(prema: Herman, Aschbacher, Winters, 199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Mjerila treb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57140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Utemeljiti na ciljevima razrednih aktivnosti 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j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postupka ocjenji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peracionalizirati na stvarnoj izvedb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ostaviti razine izvedbe izradbom rubrika, skale ili check-liste tako d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.1. načinite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.2. provjerite oslikavaju li cilje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.3. tražite savj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.4. provjerite (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spekte usmenoga izriča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.5. razrađujete dok se ne složite s učenic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U okviru aktiva škole ili ŽSV-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Treba što preciznije definirati ono što se ocjenjuje i mjerila ocjenji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orisno je unaprijed planirati načine provjere znanja i pitanja koja će se postaviti uz konkretno gradivo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&gt;&gt;&gt; i sve je to dobro raditi sa sustručnjacima jer se povećava valjanost i objektivnost procjen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Elementi i mjerila za provjeravanje usmenoga izričaja? - radion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Ninočka Truck-Biljan, prof.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viša savjet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Plan stručnoga skup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vodn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otiva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adionic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– 3 paralelno (ponavljaju se tri puta sva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ratko predavan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(prezentaci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jednička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iskusija: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oditelji panel-diskusije su voditelji radionica – zaključak seminara, odgovori na pitanja, podjela potvr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57280" y="49968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Kako izraditi analitičke ili holističke rubrike za usmeni izričaj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odaberite zada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svrstajte u tipove zadatka (opisivanje, prepričavanje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odredite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št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provjeravate (podvješti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izradite rubr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razmislite o razin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usporedite ponovo sa zadatk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dogovorite se (s učenicima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Podvještine (aspekti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oblik (dijalog, opis, prepričavanje...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sadržaj (vokabular, jezične funkcije, činjenice...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konteks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slušanje (dio dobroga govornika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fluentnost (izgovor, rečenična intonacija...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gramatička kompetencija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neverbalna komunikacija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AŽNO JE DA UČENIK DOBIJE ZASLUŽENU OCJE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CILJ </a:t>
            </a:r>
            <a:r>
              <a:rPr b="1" lang="hr-HR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NIJE USPOREĐIVATI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 OTKRITI ŠTO</a:t>
            </a:r>
            <a:r>
              <a:rPr b="1" lang="hr-HR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ČENIK</a:t>
            </a:r>
            <a:r>
              <a:rPr b="1" lang="hr-HR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 NE MOŽE I NE ZNA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 VEĆ UTVRDITI ŠTO ZNA I ŠTO GA MOŽE POTAKNUTI NA BOLJI R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ČITELJI / NASTAVNICI I UČENICI SU SURADNIC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Picture 6" descr="bd04972_"/>
          <p:cNvPicPr/>
          <p:nvPr/>
        </p:nvPicPr>
        <p:blipFill>
          <a:blip r:embed="rId1"/>
          <a:stretch/>
        </p:blipFill>
        <p:spPr>
          <a:xfrm>
            <a:off x="7072200" y="5429160"/>
            <a:ext cx="1727280" cy="12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Jesmo li ostvarili zadać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Ninočka Truck-Biljan, prof.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viša savjet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Ciljev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Značajke mjernih instrumena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Elementi ocjenjivanja (radionic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jerila i razine za provjeru usmenoga izričaja (radionic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ažnost praćenja uče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SmartArt Placeholder 4" descr="j0195784"/>
          <p:cNvPicPr/>
          <p:nvPr/>
        </p:nvPicPr>
        <p:blipFill>
          <a:blip r:embed="rId1"/>
          <a:stretch/>
        </p:blipFill>
        <p:spPr>
          <a:xfrm>
            <a:off x="2928960" y="2357280"/>
            <a:ext cx="2857320" cy="27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42560" y="150012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Bognar, L., Matijević,M. (2002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idaktika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greb: Školska knjig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ryden, G.; Vos, J. (2001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evolucija u učen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Zagreb: Educ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Furlan, I. (1970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poznavanje ispitivanje i ocjenjivanje učenika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greb: PK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Grgin, T. (1986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Školska dokimologi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Zagreb: Školska knjig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Grgin, T. (2001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Školsko ocjenjivanje znan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Jastrebarsko: Naklada Sla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ensen E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uper- nastava: Nastavne strategije za kvalitetnu školu i uspješn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čenje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Zagreb: Edu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42560" y="1428840"/>
            <a:ext cx="87152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alinić, Z. (2003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cjenjivanje u školi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greb: Školske nov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lippert, H. (2001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ako uspješno učiti u tim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Zagreb: Educ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yriacou, C. (2001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meljna nastavna umjeća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greb: Edu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atijević, M. (2004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cjenjivanje u osnovnoj škol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Zagreb: Tipe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eyer, H. (2002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idaktika razredne kvak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Zagreb: Educ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užić, V. (1979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etodologija pedagoških istraživanja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arajevo: Svjetlos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imac, E. predavanja i radionice o ocjenjivanju znanja u šk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išt, M. (2008)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jektivni i objektivni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b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ic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 vrednovanju pos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gnuća učenik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gencija za odgoj i obrazovanje.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(radioni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´Malley, M. &amp; Valdez Pierce, L. (1996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uthentic Assessment for English Language Learners – Practical Approaches for Teachers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ongm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erišić, M. (1988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valuacija učeničkih postignuć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Sarajevo: Svjetlos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etrović, E.</a:t>
            </a:r>
            <a:r>
              <a:rPr b="0" lang="hr-HR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(1988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orija nastave stranih jezik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ngrac, S. (1980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spitivanje i ocjenjivanje u obrazovan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Zagreb: Školske novin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obinson, A. (1980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inciples and Practices of Teaching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Lond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izek Vidović V.,Vlahović Štetić V., Rijavec M., Miljković D. (2003.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sihologija obrazovanja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Zagreb:IEP-VER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rgoč, H. (ur.) (2002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aćenje i ocjenjivanje školskog uspjeh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Zagreb: HPKZ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rcelj, S. (1996)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ontinuitet u vrednovanju učenikova uspjeh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 Rijeka: Pedagoški fakultet u Rije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EROJ – Zajednički europski referentni okvir za jezi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Objektivni i subjektivni čimbenici u školskome ocjenjivanju znanja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Ninočka Truck-Biljan, prof.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viša savjet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000160" y="357120"/>
            <a:ext cx="71438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Didaktička dokimologija - z</a:t>
            </a: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nanost o školskome ocjenjivanj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vrha školskoga ocjenji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snovni termini i pojmovi: praćenje, vrjednovanje, ocjenjivanje i ispitiv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edmetna i metodološka složenost procesa evalu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ubjektivni pristupi evaluaciji u nastavi i učenju i teškoće što proizlaze iz nji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bjektivizacija evaluacijskih procesa u nastavi i učenju (skale procjene, skale sudova...) – kako unaprijediti ocjenjivanje u škol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00080" y="571320"/>
            <a:ext cx="785808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0000"/>
                </a:solidFill>
                <a:latin typeface="Arial"/>
                <a:ea typeface="Arial"/>
              </a:rPr>
              <a:t>Svrha školskoga ocjenjivanj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13840" y="1571400"/>
            <a:ext cx="86439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sigurati povratne informacije o napredovanj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sigurati pedagoške povratne inform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tivirati učenik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sigurati evidenciju napretka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služiti kao izraz sadašnjih postignuća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pro)ocijeniti učeničku spremnost za buduće uče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prema: Kyriacou, J., 199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c0000"/>
                </a:solidFill>
                <a:latin typeface="Arial"/>
                <a:ea typeface="Arial"/>
              </a:rPr>
              <a:t>Kome je ocjenjivanje značaj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Učeniku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 kvaliteti znanja radi motiviranja na kvalitetniji ra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astavniku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 kvaliteti znanja učenika da bi prilagodio sadržaj, metode i tempo poučavanj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oditeljim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a bi znali što djeca znaju ili ne znaju i da bi potaknuli na razvijanje radnih navik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tručnoj službi škol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 tome kakva je kvaliteta rada u školi da bi se unaprijedio odgojno-obrazovni pro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osvjetnim vlastim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oliko su nastavni programi i metode poučavanja primjereni spoznajnim mogućnostima djece, da bi se nastavni planovi i programi mogli modificirati, da bi se nastavnicima mogle dati preporuke o primjerenijem pristupu poučavan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07:01:30Z</dcterms:created>
  <dc:creator>Viktorija</dc:creator>
  <dc:description/>
  <dc:language>en-US</dc:language>
  <cp:lastModifiedBy>ntbiljan</cp:lastModifiedBy>
  <dcterms:modified xsi:type="dcterms:W3CDTF">2010-09-07T07:42:06Z</dcterms:modified>
  <cp:revision>91</cp:revision>
  <dc:subject/>
  <dc:title>PowerPoint Presentation</dc:title>
</cp:coreProperties>
</file>