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C8E7-4670-4F4C-A113-1A973D82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ED0A-17E5-4D41-AA13-9AA1F983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416B-327F-457A-9D87-78284CF3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97A1-C16E-4FD4-ABA8-5667DC08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CAD-1C72-4085-9B37-55F7849C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48AC-655F-43C8-81E5-58EB0ED1E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41E-FCA5-4E54-B444-9AACABB2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D62F-F6AF-46FB-926C-C6CF58E6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D9E-309E-41C6-9D09-ED889F50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666-1AFD-45BF-9A98-7971104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053A-8CB5-4727-BF69-F34F6265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3200-EAAD-4E1D-BE74-DF9E2E8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4BB6-E7D5-45B5-9DF6-AD5E157C466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tres i načini suočavanja sa stre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tručno usavršavanje za učitelje matematike, kolovoz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ijana Kovač, psihologi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novni oblici suočavanja sa stres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 obzirom na prirodu samog stresora  i osobine ličnosti pojedinca razlikujemo tri osnovna oblika suočavanja sa stres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PRIHVAĆANJE SITUACIJE KAKVA J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KONTROLIRANJE IZVORA STRESA TJ. DJELOVANJE NA IZVOR ST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 u="sng">
                <a:solidFill>
                  <a:srgbClr val="000000"/>
                </a:solidFill>
                <a:uFillTx/>
                <a:latin typeface="Arial"/>
              </a:rPr>
              <a:t>IZBJEGAVANJE STRESNIH SITU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ihvaćanje situacije kakva j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d stresora na koje nemamo utjeca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rudimo se sagledati ga na u boljem svjetlu nego na početku, tražimo makar nešto dobro u stresnoj situacij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jelovanje na izvor st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tojimo nešto promijeniti u odnosu na stresor ili stresnu situa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očavanje (djelovanje) može biti usmjereno na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PROBLEM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kad pojedinac nastoji naći neko rješenje stresne situa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EMOCIJE – ČUVSTVA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– djelovanje pojedinca u nastojanju da smanji intenzitet svojih neugodnih i negativnih čuvstava (razgovor s prijateljima, bavljenje nekom zanimljivim aktivnostima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zbjegavanje stresnih situa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bjegavanje osoba s kojima smo u suko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bjegavanje korištenja medija, ako nas uznemirava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342864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bor strategije ovisi o vrsti stresnog događ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li i osobinama ličnosti osobe pod stresom, iskustvu, znanju i s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itanja za učitel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a sada ponovo upisujete fakultet, biste li odabrali isto zanimanje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abrojite sve što Vas “drži” na poslu, odnosno sve Vaše glavne izvore zadovoljstva u radu ( 3 minu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cijenite na skali od 1 – 10 Vaše zadovoljstvo poslom koji radite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Osobine ličnosti i načini suočavanj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straživanja upućuju kako negativne posljedice stresa mogu biti ublažene djelovanj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OSJEĆAJA SAMOEFIKAS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ZADOVOLJSTVA POS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Samoefikasnost – osobno vjerovanje koliko ćemo uspješno izvesti neki posao/zadat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 u="sng">
                <a:solidFill>
                  <a:srgbClr val="000000"/>
                </a:solidFill>
                <a:uFillTx/>
                <a:latin typeface="Arial"/>
              </a:rPr>
              <a:t>VISOKA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tavljaju si ciljeve i planiraju,entuzijastični s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bleme” doživljavaju kao izaz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mišljaju pozitivne ishode svojih a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olje kontroliraju “ometajuće mis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916280"/>
            <a:ext cx="40384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 u="sng">
                <a:solidFill>
                  <a:srgbClr val="000000"/>
                </a:solidFill>
                <a:uFillTx/>
                <a:latin typeface="Arial"/>
              </a:rPr>
              <a:t>NI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bjegavaju “teške” zadat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lažu malo na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ko odusta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vrijeme rada fokusirani su na osobne nedos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eško doživljavaju neuspjeh – osjećaju se bespomoć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ADOVOLJSTVO POSL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zitivno emocionalno stanje nastalo kao rezultat procjene osobina i zahtjeva posla neke  os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straživanja pokazuju da su samoefikasnost pojedinca i njegovo zadovoljstvo poslom zaštitni faktor za “izgaranje na posl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TRAUMATSKI DOGAĐAJ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gađaji koji tako jako “izbacuju” osobu iz ravnoteže da ju je izuzetno teško povrati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kad se uspije povratiti uravnoteženost nakon traumatkog događaja, nova je ravnoteža uvijek drukčija – ima novo znač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ično su iznenadni, neočekivani i u ljudima izazivaju intenzivan strah, osjećaj bespomoćnosti i užas (neposredno doživljeni, viđeni ili proživjele bliske osob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eventivne strategi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napređivanje” samoefikasnosti učitel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Eduk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nalize izvora ne/zadovoljstva posl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jam “stres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olazi iz inženjerske tehnologije, gdje stres označava vanjsku silu koja izaziva napetost materijala i strukturalne promj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 znanost o čovjeku “uvodi” ga fiziolog Hans Selye -  tjelesne reakcije organiz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Suvremene definicije st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1992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chard S. Lazarus, 1966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es je rezultat svjesne procjene pojedinca da je njegov odnos s okolinom poremeće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RESOR          PROCJENA           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tvaran               Tumačenje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unutar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ogađaj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ogađa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        st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Stanje koje nastaje kada su ljudi suočeni s događajem koji dožive /procjene prijetećim za sebe, bliske osobe, imovinu, položaj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92200" y="3521160"/>
            <a:ext cx="21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7"/>
          <p:cNvSpPr/>
          <p:nvPr/>
        </p:nvSpPr>
        <p:spPr>
          <a:xfrm>
            <a:off x="2771640" y="3933720"/>
            <a:ext cx="216000" cy="432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5292720" y="3933720"/>
            <a:ext cx="216000" cy="35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odje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Mali svakidašnji – nedostatak vremena, prometne gužve, svađ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eliki životni – gubitak posla, rastava braka, gubici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Znakovi st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ČUVSTVENI (emocionalni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jutnja, bijes, strah, bezvoljnost, osjećaj kriv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anika, promjene raspoloženja, nemo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MISAONI (KOGNITIVN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astresenost – slaba koncentracija, zamišljenos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boravljivost, “opsjednutost” istim misl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PONAŠAJNI (bihevioraln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upkanje prstima po stolu, nogama po podu, agresivnost, uništavanje stvari, povlačenje u sebe, zlouporabe alkohola, cigareta, dro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 u="sng">
                <a:solidFill>
                  <a:srgbClr val="000000"/>
                </a:solidFill>
                <a:uFillTx/>
                <a:latin typeface="Arial"/>
              </a:rPr>
              <a:t>TJELESNI (fiziološk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nojenje ruku, dlanova, lupanje srca,crvenilo lica, drhtanje,bolovi u želucu, nesa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Kronični 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- javlja se kad znakovi stresa traju dulje vrij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Vrlo je iscrpljujući i dovodi do različitih bolesti (srčane tegobe, poremećaj u radu štitnjače,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manjuje učinkovitost imunološkog sust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OFESIONALNI 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astaje kao posljedica izloženosti različitim stresorima na p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ugotrajna izloženost stresorima i prisustvo simptoma stresa dovodi do problema “izgaranja na poslu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zvori stresa u učiteljskom pozi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yriacou (200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motiviranost dje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Teškoće u održavanju 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remenski pritisak i zatrpanost administrativnim posl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zloženost procjeni od strane drugih oso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eadekvatne odnose s koleg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očavanje s promjen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labi radni uvje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Načini suočavanja sa stre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uočavanje sa stresom je prirodna potreba čovjeka da smanji njegov intenzitet, ako  ga već ne može sasvim ukinu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bismo to postigli služimo se različitim strategijama ili načinima suočavanja sa stre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4T14:37:39Z</dcterms:created>
  <dc:creator>PC</dc:creator>
  <dc:description/>
  <dc:language>en-US</dc:language>
  <cp:lastModifiedBy>Mirjana Mustra</cp:lastModifiedBy>
  <dcterms:modified xsi:type="dcterms:W3CDTF">2010-08-02T12:22:03Z</dcterms:modified>
  <cp:revision>2</cp:revision>
  <dc:subject/>
  <dc:title>Stres i načini suočavanja sa stresom</dc:title>
</cp:coreProperties>
</file>