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11.jpeg" ContentType="image/jpeg"/>
  <Override PartName="/ppt/media/image36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0.jpeg" ContentType="image/jpeg"/>
  <Override PartName="/ppt/media/image2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6F24E-48B6-4BE2-96BE-88255CBA5A69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513F-D92B-4097-B5E4-F589F5147F3D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31CC-8F61-41B3-97C3-742C39856CA8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4091-4935-4A4B-AAE1-9D5892B5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6F5B-56F9-4960-86E1-4CB16569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97D6-DAB4-440E-B610-43F3834A7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2D05-820A-4D8D-A744-DB4D0BAFC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2493-3C9B-4ED9-83EF-5F83FEBDA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06B6-1566-408F-B0FD-B17A8446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4447-A20E-425D-989B-F66586F5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0464-4B37-4A56-AE14-F320190C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CD12-A80F-4675-A250-183F8C1C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ABF5-E801-401A-BD0C-4822A02F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D4BF-F0CC-4752-9F22-06B6A274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01E1-554E-431B-ABF2-C6EE6DCC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0A37-62D4-491B-A055-46B6585B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1FBA2-583C-4339-84AD-E8593FC0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14B8-DAB9-4D55-B00E-C813EFC4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A880-7C07-47D3-B201-31A184B0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D321-D626-42F6-8C74-EDAB76E96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CADA4-DE49-46C9-BCA7-C37428FA1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C7FF7-B9CA-49A4-A6D2-309CF709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BF3A0-0636-43AB-81FE-7FC2CC89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1BCC2-57AF-4A5D-AA3A-3C29DF30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81174-DCDC-4866-97DB-5ADF9CF5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ED6C-2A3A-44F5-97EC-89AF05B9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1E76A-523A-450C-87C1-AC989FE1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BC0A4-C548-497F-98D2-20D6C923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A4A76-7C92-492D-86C3-CFA07F68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BFF0F-15A3-40CB-99C4-02D7D6E3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686AF-C045-4F36-A691-AE51AC82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46E22-2D24-4314-BE19-8B8D86834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77456-AA8A-4681-A8C3-71511B3D5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3F277-351B-41BB-AAA1-989369108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86089-3362-4C8B-9ADC-835BDA8F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7FB30-8707-41A7-9A07-01CB61A0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1275-A8FC-4866-88B8-88C73F2C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738F6-A744-4602-B16C-DF552B0D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E608E-6398-4272-A879-FB3BAEAB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80F7D-DFC9-4A03-A5EB-44314DE1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52599-1062-467B-8FC1-46D69FF4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4078A-9596-474B-97B0-B7037EC2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DAA66-F8D0-472B-B552-FA747395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A2BD0-FAF6-4920-AEA9-943C58D5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31370-3035-43EA-B43B-536101BC0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651E3-261F-4FDA-A4CE-695403D7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6B218-858B-4FD8-A8A3-B1B1DBBCF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1779-5AD6-4535-ACF7-5495473F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E7586-1F2B-45A1-ADA9-CDD48FFF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44FA0-1CDE-458F-B455-1B3A65DA6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10CE7-3FC4-4EBC-BCBE-D0D8106C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403DA-9D45-4862-967B-D8D8A434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EB593-17FB-4B09-9D06-E1943BAC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54858-1B72-4326-AC25-9ED91FB9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5BFD0-9726-444D-B7C8-E5629216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A91F3-BAEB-41AE-9B65-BCA4DC34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70DA6-EECC-4C82-92DE-2721E270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1BB11-612F-487B-85A8-A700BC410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CE09-D680-4380-88DC-A332C858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045FD-99C3-4F77-9CE3-FD53AEFCA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1063-2332-486B-BDA9-09D7AE9F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9EDD-0D43-49CE-AB3C-E6CFF4EB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42C8-8AC7-40B4-AB70-C7A17516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avokutnik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Zaobljeni pravokutnik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7D28-D4AF-4338-83E0-F4B9F8E71842}" type="datetime">
              <a:rPr b="0" lang="sr-Latn-CS" sz="1400" spc="-1" strike="noStrike">
                <a:solidFill>
                  <a:srgbClr val="666666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B24D-5DEA-4874-8D5A-54D1D5296886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ravokutnik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aobljeni pravokutnik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ravokutnik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ravokutnik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ravokutnik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46E0-66ED-409D-BD0B-F1F37D563DA6}" type="datetime">
              <a:rPr b="0" lang="sr-Latn-CS" sz="1400" spc="-1" strike="noStrike">
                <a:solidFill>
                  <a:srgbClr val="666666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EFF1-0141-4273-8E5F-B5B4D665DBAC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ravokutnik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Zaobljeni pravokutnik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Zaobljeni pravokutnik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Pravokutnik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ravokutnik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ravokutnik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19FA-100C-47E6-AC47-60B8D7C56AB6}" type="datetime">
              <a:rPr b="0" lang="sr-Latn-CS" sz="1400" spc="-1" strike="noStrike">
                <a:solidFill>
                  <a:srgbClr val="666666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BA83-70D8-4557-8AB8-2BF1B4883455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ravokutnik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aobljeni pravokutnik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ravokutnik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aobljeni pravokutnik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CA52-258B-444E-A23E-7BEADF59D7DF}" type="datetime">
              <a:rPr b="0" lang="sr-Latn-CS" sz="1400" spc="-1" strike="noStrike">
                <a:solidFill>
                  <a:srgbClr val="666666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A3D8-EAF4-48CC-A2D6-F22973693839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ravokutnik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Zaobljeni pravokutnik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ravokutnik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ravokutnik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ravokutnik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005b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e4005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b2c1d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9bbb5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9bbb59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C86A6-DE71-47E8-822F-D4FBFFC75BBC}" type="datetime">
              <a:rPr b="0" lang="sr-Latn-CS" sz="1400" spc="-1" strike="noStrike">
                <a:solidFill>
                  <a:srgbClr val="666666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0CDA-9E2B-4A16-9A11-1A8BB38C5C63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zervirano mjesto broja slajda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51A8-2881-4622-8D0A-4F802282B751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38160">
            <a:solidFill>
              <a:srgbClr val="9c007f"/>
            </a:solidFill>
            <a:miter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hr-HR" sz="6000" spc="-1" strike="noStrike">
                <a:solidFill>
                  <a:srgbClr val="ffffff"/>
                </a:solidFill>
                <a:latin typeface="Monotype Corsiva"/>
              </a:rPr>
              <a:t>  </a:t>
            </a:r>
            <a:r>
              <a:rPr b="0" lang="hr-HR" sz="7200" spc="-1" strike="noStrike">
                <a:solidFill>
                  <a:srgbClr val="ffffff"/>
                </a:solidFill>
                <a:latin typeface="Freestyle Script"/>
              </a:rPr>
              <a:t>Uvodni sat matematike                     </a:t>
            </a:r>
            <a:br>
              <a:rPr sz="6000"/>
            </a:br>
            <a:endParaRPr b="0" lang="en-US" sz="7200" spc="-1" strike="noStrike">
              <a:solidFill>
                <a:srgbClr val="666666"/>
              </a:solidFill>
              <a:latin typeface="Franklin Gothic Book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0112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e70797"/>
                </a:solidFill>
                <a:latin typeface="Franklin Gothic Book"/>
              </a:rPr>
              <a:t>Karta Europe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pic>
        <p:nvPicPr>
          <p:cNvPr id="266" name="Rezervirano mjesto sadržaja 3" descr="karta europe 2.jpg"/>
          <p:cNvPicPr/>
          <p:nvPr/>
        </p:nvPicPr>
        <p:blipFill>
          <a:blip r:embed="rId1"/>
          <a:stretch/>
        </p:blipFill>
        <p:spPr>
          <a:xfrm>
            <a:off x="2857680" y="1500120"/>
            <a:ext cx="3929040" cy="2786040"/>
          </a:xfrm>
          <a:prstGeom prst="rect">
            <a:avLst/>
          </a:prstGeom>
          <a:ln w="0">
            <a:noFill/>
          </a:ln>
        </p:spPr>
      </p:pic>
      <p:sp>
        <p:nvSpPr>
          <p:cNvPr id="267" name="TekstniOkvir 3"/>
          <p:cNvSpPr/>
          <p:nvPr/>
        </p:nvSpPr>
        <p:spPr>
          <a:xfrm>
            <a:off x="571680" y="4500720"/>
            <a:ext cx="8286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udaljenost od mjesta stanovanja, udaljenost od granice RH, vrijeme potrebno za put, mjerilo na karti,cijena autoputa, ograničenja brzine na cestama, valuta dotične zemlje i odnos prema kuni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zervirano mjesto broja slajda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2C20-1CB6-49C9-AA7D-668B7B78CC12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Slika 1" descr="AVION.jpg"/>
          <p:cNvPicPr/>
          <p:nvPr/>
        </p:nvPicPr>
        <p:blipFill>
          <a:blip r:embed="rId1"/>
          <a:stretch/>
        </p:blipFill>
        <p:spPr>
          <a:xfrm>
            <a:off x="1357200" y="428760"/>
            <a:ext cx="2214720" cy="1714320"/>
          </a:xfrm>
          <a:prstGeom prst="rect">
            <a:avLst/>
          </a:prstGeom>
          <a:ln w="0">
            <a:noFill/>
          </a:ln>
        </p:spPr>
      </p:pic>
      <p:pic>
        <p:nvPicPr>
          <p:cNvPr id="270" name="Slika 2" descr="BROD.jpg"/>
          <p:cNvPicPr/>
          <p:nvPr/>
        </p:nvPicPr>
        <p:blipFill>
          <a:blip r:embed="rId2"/>
          <a:stretch/>
        </p:blipFill>
        <p:spPr>
          <a:xfrm>
            <a:off x="5072040" y="357120"/>
            <a:ext cx="2786040" cy="1785960"/>
          </a:xfrm>
          <a:prstGeom prst="rect">
            <a:avLst/>
          </a:prstGeom>
          <a:ln w="0">
            <a:noFill/>
          </a:ln>
        </p:spPr>
      </p:pic>
      <p:pic>
        <p:nvPicPr>
          <p:cNvPr id="271" name="Slika 3" descr="VLAK.jpg"/>
          <p:cNvPicPr/>
          <p:nvPr/>
        </p:nvPicPr>
        <p:blipFill>
          <a:blip r:embed="rId3"/>
          <a:stretch/>
        </p:blipFill>
        <p:spPr>
          <a:xfrm>
            <a:off x="1071720" y="2428920"/>
            <a:ext cx="2786040" cy="1928880"/>
          </a:xfrm>
          <a:prstGeom prst="rect">
            <a:avLst/>
          </a:prstGeom>
          <a:ln w="0">
            <a:noFill/>
          </a:ln>
        </p:spPr>
      </p:pic>
      <p:pic>
        <p:nvPicPr>
          <p:cNvPr id="272" name="Slika 4" descr="AUTOMOBIL.jpg"/>
          <p:cNvPicPr/>
          <p:nvPr/>
        </p:nvPicPr>
        <p:blipFill>
          <a:blip r:embed="rId4"/>
          <a:stretch/>
        </p:blipFill>
        <p:spPr>
          <a:xfrm>
            <a:off x="5357880" y="2571840"/>
            <a:ext cx="2286000" cy="1714320"/>
          </a:xfrm>
          <a:prstGeom prst="rect">
            <a:avLst/>
          </a:prstGeom>
          <a:ln w="0">
            <a:noFill/>
          </a:ln>
        </p:spPr>
      </p:pic>
      <p:sp>
        <p:nvSpPr>
          <p:cNvPr id="273" name="TekstniOkvir 5"/>
          <p:cNvSpPr/>
          <p:nvPr/>
        </p:nvSpPr>
        <p:spPr>
          <a:xfrm>
            <a:off x="357120" y="4429080"/>
            <a:ext cx="8572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prijeđena kilometraža i potrebno vrijeme za put, brzina , potrošnja goriva, usporedba vremena za različita prijevozna sredstva, proporcionalnost i obrnuta proporcionalnost, broj putnika, cijena prijevoza, popusti   u sezoni i obiteljski popust, vozni red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zervirano mjesto broja slajda 6"/>
          <p:cNvSpPr/>
          <p:nvPr/>
        </p:nvSpPr>
        <p:spPr>
          <a:xfrm>
            <a:off x="146160" y="6210360"/>
            <a:ext cx="282600" cy="29052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855D-AFB7-450A-931A-409D21B81E85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Slika 1" descr="AUTOBUS.jpg"/>
          <p:cNvPicPr/>
          <p:nvPr/>
        </p:nvPicPr>
        <p:blipFill>
          <a:blip r:embed="rId1"/>
          <a:stretch/>
        </p:blipFill>
        <p:spPr>
          <a:xfrm>
            <a:off x="500040" y="285840"/>
            <a:ext cx="3571920" cy="2786040"/>
          </a:xfrm>
          <a:prstGeom prst="rect">
            <a:avLst/>
          </a:prstGeom>
          <a:ln w="0">
            <a:noFill/>
          </a:ln>
        </p:spPr>
      </p:pic>
      <p:pic>
        <p:nvPicPr>
          <p:cNvPr id="276" name="Slika 2" descr="AVION 2.jpg"/>
          <p:cNvPicPr/>
          <p:nvPr/>
        </p:nvPicPr>
        <p:blipFill>
          <a:blip r:embed="rId2"/>
          <a:stretch/>
        </p:blipFill>
        <p:spPr>
          <a:xfrm>
            <a:off x="4714920" y="428760"/>
            <a:ext cx="3643200" cy="2357280"/>
          </a:xfrm>
          <a:prstGeom prst="rect">
            <a:avLst/>
          </a:prstGeom>
          <a:ln w="0">
            <a:noFill/>
          </a:ln>
        </p:spPr>
      </p:pic>
      <p:pic>
        <p:nvPicPr>
          <p:cNvPr id="277" name="Slika 3" descr="VLAK 2.jpg"/>
          <p:cNvPicPr/>
          <p:nvPr/>
        </p:nvPicPr>
        <p:blipFill>
          <a:blip r:embed="rId3"/>
          <a:stretch/>
        </p:blipFill>
        <p:spPr>
          <a:xfrm>
            <a:off x="571680" y="3571920"/>
            <a:ext cx="3357360" cy="2000160"/>
          </a:xfrm>
          <a:prstGeom prst="rect">
            <a:avLst/>
          </a:prstGeom>
          <a:ln w="0">
            <a:noFill/>
          </a:ln>
        </p:spPr>
      </p:pic>
      <p:pic>
        <p:nvPicPr>
          <p:cNvPr id="278" name="Slika 4" descr="AUTO 3.jpg"/>
          <p:cNvPicPr/>
          <p:nvPr/>
        </p:nvPicPr>
        <p:blipFill>
          <a:blip r:embed="rId4"/>
          <a:stretch/>
        </p:blipFill>
        <p:spPr>
          <a:xfrm>
            <a:off x="5072040" y="3357720"/>
            <a:ext cx="3000240" cy="2654280"/>
          </a:xfrm>
          <a:prstGeom prst="rect">
            <a:avLst/>
          </a:prstGeom>
          <a:ln w="0">
            <a:noFill/>
          </a:ln>
        </p:spPr>
      </p:pic>
      <p:sp>
        <p:nvSpPr>
          <p:cNvPr id="279" name="Rezervirano mjesto broja slajda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D495-52C6-405F-8D18-F413D767B632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Slika 1" descr="UKMCA3D8MVNCAUHFXUPCAAYSH1NCAWNMT0NCACOBENZINSKA POSTAJA.jpg"/>
          <p:cNvPicPr/>
          <p:nvPr/>
        </p:nvPicPr>
        <p:blipFill>
          <a:blip r:embed="rId1"/>
          <a:stretch/>
        </p:blipFill>
        <p:spPr>
          <a:xfrm>
            <a:off x="2714760" y="714240"/>
            <a:ext cx="3357360" cy="2928960"/>
          </a:xfrm>
          <a:prstGeom prst="rect">
            <a:avLst/>
          </a:prstGeom>
          <a:ln w="0">
            <a:noFill/>
          </a:ln>
        </p:spPr>
      </p:pic>
      <p:sp>
        <p:nvSpPr>
          <p:cNvPr id="281" name="TekstniOkvir 2"/>
          <p:cNvSpPr/>
          <p:nvPr/>
        </p:nvSpPr>
        <p:spPr>
          <a:xfrm>
            <a:off x="571680" y="3857760"/>
            <a:ext cx="8001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cijena benzina, usporedba na različitim benzinskim postajama, razlika u cijeni pri dnevnim sniženjima ili poskupljenjima-postotci, količina i potrošnja za pojedine automobile-usporedba, procjena o potrebnim količinama za određenu kilometražu, razlika između gradske vožnje i autoput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zervirano mjesto broja slajda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C631-D5C8-421C-BBD5-429AF9F01DB2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Slika 1" descr="BAZEN.jpg"/>
          <p:cNvPicPr/>
          <p:nvPr/>
        </p:nvPicPr>
        <p:blipFill>
          <a:blip r:embed="rId1"/>
          <a:stretch/>
        </p:blipFill>
        <p:spPr>
          <a:xfrm>
            <a:off x="2286000" y="1000080"/>
            <a:ext cx="4181400" cy="2786040"/>
          </a:xfrm>
          <a:prstGeom prst="rect">
            <a:avLst/>
          </a:prstGeom>
          <a:ln w="0">
            <a:noFill/>
          </a:ln>
        </p:spPr>
      </p:pic>
      <p:sp>
        <p:nvSpPr>
          <p:cNvPr id="284" name="TekstniOkvir 2"/>
          <p:cNvSpPr/>
          <p:nvPr/>
        </p:nvSpPr>
        <p:spPr>
          <a:xfrm>
            <a:off x="428760" y="4286160"/>
            <a:ext cx="8215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cijena ulaznice, popusti, raspolaganje džeparcem i planiranje potrošnje, radno vrijeme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zervirano mjesto broja slajda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A80E-FEC7-487F-8E57-99DC6B2D0644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Slika 2" descr="KINO.jpg"/>
          <p:cNvPicPr/>
          <p:nvPr/>
        </p:nvPicPr>
        <p:blipFill>
          <a:blip r:embed="rId1"/>
          <a:stretch/>
        </p:blipFill>
        <p:spPr>
          <a:xfrm>
            <a:off x="1500120" y="1785960"/>
            <a:ext cx="5429160" cy="2928960"/>
          </a:xfrm>
          <a:prstGeom prst="rect">
            <a:avLst/>
          </a:prstGeom>
          <a:ln w="0">
            <a:noFill/>
          </a:ln>
        </p:spPr>
      </p:pic>
      <p:pic>
        <p:nvPicPr>
          <p:cNvPr id="287" name="Slika 2" descr="kino 1.jpg"/>
          <p:cNvPicPr/>
          <p:nvPr/>
        </p:nvPicPr>
        <p:blipFill>
          <a:blip r:embed="rId2"/>
          <a:stretch/>
        </p:blipFill>
        <p:spPr>
          <a:xfrm>
            <a:off x="2643120" y="285840"/>
            <a:ext cx="2571840" cy="1071360"/>
          </a:xfrm>
          <a:prstGeom prst="rect">
            <a:avLst/>
          </a:prstGeom>
          <a:ln w="0">
            <a:noFill/>
          </a:ln>
        </p:spPr>
      </p:pic>
      <p:sp>
        <p:nvSpPr>
          <p:cNvPr id="288" name="TekstniOkvir 4"/>
          <p:cNvSpPr/>
          <p:nvPr/>
        </p:nvSpPr>
        <p:spPr>
          <a:xfrm>
            <a:off x="571680" y="5072040"/>
            <a:ext cx="7643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cijena ulaznice,kokica, soka, popust za obitelj i u određeno doba, broj reda i sjedala- uređen par, trajanje filma – u minutam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zervirano mjesto broja slajda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5DBA-7ECA-4C2E-816F-5EEC939DCEF5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Slika 1" descr="POŠTA.jpg"/>
          <p:cNvPicPr/>
          <p:nvPr/>
        </p:nvPicPr>
        <p:blipFill>
          <a:blip r:embed="rId1"/>
          <a:stretch/>
        </p:blipFill>
        <p:spPr>
          <a:xfrm>
            <a:off x="2428920" y="1143000"/>
            <a:ext cx="3429000" cy="2857680"/>
          </a:xfrm>
          <a:prstGeom prst="rect">
            <a:avLst/>
          </a:prstGeom>
          <a:ln w="0">
            <a:noFill/>
          </a:ln>
        </p:spPr>
      </p:pic>
      <p:sp>
        <p:nvSpPr>
          <p:cNvPr id="291" name="TekstniOkvir 2"/>
          <p:cNvSpPr/>
          <p:nvPr/>
        </p:nvSpPr>
        <p:spPr>
          <a:xfrm>
            <a:off x="285840" y="4500720"/>
            <a:ext cx="8858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brojevi poštanskih mjesta kod pisanja razglednica, cijena poštanskih marki za tuzemstvo i inozemstvo, slanje i primanje paketa- masa i cijena usluge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zervirano mjesto broja slajda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5297-2B19-4CFD-B9E6-3CC0DBA5F8DF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Slika 1" descr="MOBITEL.jpg"/>
          <p:cNvPicPr/>
          <p:nvPr/>
        </p:nvPicPr>
        <p:blipFill>
          <a:blip r:embed="rId1"/>
          <a:stretch/>
        </p:blipFill>
        <p:spPr>
          <a:xfrm>
            <a:off x="2214720" y="1143000"/>
            <a:ext cx="4429080" cy="3429000"/>
          </a:xfrm>
          <a:prstGeom prst="rect">
            <a:avLst/>
          </a:prstGeom>
          <a:ln w="0">
            <a:noFill/>
          </a:ln>
        </p:spPr>
      </p:pic>
      <p:sp>
        <p:nvSpPr>
          <p:cNvPr id="294" name="TekstniOkvir 2"/>
          <p:cNvSpPr/>
          <p:nvPr/>
        </p:nvSpPr>
        <p:spPr>
          <a:xfrm>
            <a:off x="642960" y="4929120"/>
            <a:ext cx="7643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nove ljetne tarife, promjena operatera, količina besplatnih impulsa i SMS poruka, sniženja cijena mobilnih aparata, godišnja pretplata i mjesečni anuiteti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zervirano mjesto broja slajda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5A16-B117-410D-A37B-45520F0F1B92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Slika 3" descr="BANKA.jpg"/>
          <p:cNvPicPr/>
          <p:nvPr/>
        </p:nvPicPr>
        <p:blipFill>
          <a:blip r:embed="rId1"/>
          <a:stretch/>
        </p:blipFill>
        <p:spPr>
          <a:xfrm>
            <a:off x="1714680" y="581040"/>
            <a:ext cx="5643360" cy="4062240"/>
          </a:xfrm>
          <a:prstGeom prst="rect">
            <a:avLst/>
          </a:prstGeom>
          <a:ln w="0">
            <a:noFill/>
          </a:ln>
        </p:spPr>
      </p:pic>
      <p:sp>
        <p:nvSpPr>
          <p:cNvPr id="297" name="TekstniOkvir 2"/>
          <p:cNvSpPr/>
          <p:nvPr/>
        </p:nvSpPr>
        <p:spPr>
          <a:xfrm>
            <a:off x="428760" y="5429160"/>
            <a:ext cx="814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krediti, kamate, glavnica, kamatna stopa, zatezne kamate, rate, postotci,veliki brojevi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zervirano mjesto broja slajda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08CE6-EC46-4337-9D63-2D7B380C0CAF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Slika 1" descr="kompjuter.jpg"/>
          <p:cNvPicPr/>
          <p:nvPr/>
        </p:nvPicPr>
        <p:blipFill>
          <a:blip r:embed="rId1"/>
          <a:stretch/>
        </p:blipFill>
        <p:spPr>
          <a:xfrm>
            <a:off x="2286000" y="571680"/>
            <a:ext cx="4143240" cy="3643200"/>
          </a:xfrm>
          <a:prstGeom prst="rect">
            <a:avLst/>
          </a:prstGeom>
          <a:ln w="0">
            <a:noFill/>
          </a:ln>
        </p:spPr>
      </p:pic>
      <p:sp>
        <p:nvSpPr>
          <p:cNvPr id="300" name="TekstniOkvir 2"/>
          <p:cNvSpPr/>
          <p:nvPr/>
        </p:nvSpPr>
        <p:spPr>
          <a:xfrm>
            <a:off x="857160" y="4500720"/>
            <a:ext cx="7572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kompjuterske igrice, internetski sadržaji, cijena korištenja interneta i potrošnja, internetski promet i usporedba sa prometom u  nastavnim danima, promjena operatera i usporedba cij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zervirano mjesto broja slajda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1ACF-F5C1-41B7-B81F-12340A7660C9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043840" cy="8571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e70797"/>
                </a:solidFill>
                <a:latin typeface="Franklin Gothic Book"/>
              </a:rPr>
              <a:t>Je li vam poznato?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38" name="Rezervirano mjesto broja slajda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0890-4282-487A-B36A-266EA18AF050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13840" y="856800"/>
            <a:ext cx="85726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Nisam znao da i to treba naučiti!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Kada smo se to dogovorili? Ja nisam čuo!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Gdje to ima? U udžbeniku?!! Kojem??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Mislila sam da nećete upisati ocjenu!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Pa niste rekli da ćete me danas pitati!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Popravak? Mogu li još malo odgovarati?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Danas pišemo??!!!Nisam znala!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To ćete upisati u imenik?Nije fer!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Zar ćete i tu ocjenu ubrajati u prosjek?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Ne znam kad je dopunska pa zato ne dolazim!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Četiri??! Ali, imala sam peticu na polugodištu!!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Ma napisao sam zadaću ali mi je ostala kod kuće!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Moja  sestra mi je rekla da se to računa drugačije</a:t>
            </a:r>
            <a:r>
              <a:rPr b="1" lang="hr-HR" sz="2800" spc="-1" strike="noStrike">
                <a:solidFill>
                  <a:srgbClr val="002776"/>
                </a:solidFill>
                <a:latin typeface="Franklin Gothic Book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0" name="Slika 7" descr="učenici 2.jpg"/>
          <p:cNvPicPr/>
          <p:nvPr/>
        </p:nvPicPr>
        <p:blipFill>
          <a:blip r:embed="rId1"/>
          <a:stretch/>
        </p:blipFill>
        <p:spPr>
          <a:xfrm>
            <a:off x="6858000" y="500040"/>
            <a:ext cx="2071800" cy="22860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Slika 1" descr="TRGOVINA.jpg"/>
          <p:cNvPicPr/>
          <p:nvPr/>
        </p:nvPicPr>
        <p:blipFill>
          <a:blip r:embed="rId1"/>
          <a:stretch/>
        </p:blipFill>
        <p:spPr>
          <a:xfrm>
            <a:off x="2550960" y="857160"/>
            <a:ext cx="3929040" cy="2643120"/>
          </a:xfrm>
          <a:prstGeom prst="rect">
            <a:avLst/>
          </a:prstGeom>
          <a:ln w="0">
            <a:noFill/>
          </a:ln>
        </p:spPr>
      </p:pic>
      <p:sp>
        <p:nvSpPr>
          <p:cNvPr id="303" name="TekstniOkvir 2"/>
          <p:cNvSpPr/>
          <p:nvPr/>
        </p:nvSpPr>
        <p:spPr>
          <a:xfrm>
            <a:off x="857160" y="4214880"/>
            <a:ext cx="7715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cijene,akcijska prodaja, usporedbe cijena u različitim trgovačkim centrima, kupovina na kredit, prosječna mjesečna potrošnja, potrebna količina namirnica po članu obitelji, količine- u gramima, kilogramima litrama, decilitrima, vaga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zervirano mjesto broja slajda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2FB2-CA64-4E60-BC2F-BCBDA9D4E3CD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4960" y="142920"/>
            <a:ext cx="7966080" cy="1571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e90062"/>
                </a:solidFill>
                <a:latin typeface="Franklin Gothic Book"/>
              </a:rPr>
              <a:t> </a:t>
            </a:r>
            <a:r>
              <a:rPr b="1" lang="hr-HR" sz="3800" spc="-1" strike="noStrike">
                <a:solidFill>
                  <a:srgbClr val="e70797"/>
                </a:solidFill>
                <a:latin typeface="Franklin Gothic Book"/>
              </a:rPr>
              <a:t>ŠTO SMO DO SADA NAUČILI IZ MATEMATIKE I GDJE TO KORISTIMO?</a:t>
            </a:r>
            <a:endParaRPr b="0" lang="en-US" sz="38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06" name="Rezervirano mjesto broja slajda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AE97-6B0A-4848-A449-B5EFDD69E087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13840" y="1643040"/>
            <a:ext cx="8929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potaknuti učenike da osvijeste važnost i primjenjivost matematike u svakodnevnom životu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navodimo učenike na izricanje primjera (osim već navedenih) u kojima im osobno (ili npr. njihovim roditeljima) svakodnevno koristi poznavanje do sada usvojenih matematičkih sadržaj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pomoći učenicima pronaći općenite primjere primjene matematike (razna zanimanja, medicina, poljoprivreda,industrija, gospodarstvo, državni proračun,meteorologija, astronomija,znanstvena istraživanja…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e70797"/>
                </a:solidFill>
                <a:latin typeface="Franklin Gothic Book"/>
              </a:rPr>
              <a:t>MOTIVACIJA ZA DALJNJE UČENJE-ŽELIMO LI SAZNATI?</a:t>
            </a:r>
            <a:endParaRPr b="0" lang="en-US" sz="38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prilagoditi uzrastu učenika tj. razrednom odjelu, a time i nastavnom planu i programu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odabrati zanimljive i poticajne primjere bliske učenicima i njihovim interesim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pripremiti primjerene problemske zadatke kojima potičemo želju za pronalaženjem rješenja i spremnost na kontinuirano učenj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ne pretjerati u zahtjevnosti zadatka da ne izazovemo suprotnu reakciju- povlačenje zbog zahtjevnosti, nesigurnosti i straha od neuspjeh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10" name="Rezervirano mjesto broja slajda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8FEB-2577-4D21-A7DB-7D969F3AB1C0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939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e70797"/>
                </a:solidFill>
                <a:latin typeface="Franklin Gothic Book"/>
              </a:rPr>
              <a:t>5. razred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pic>
        <p:nvPicPr>
          <p:cNvPr id="312" name="Rezervirano mjesto sadržaja 6" descr="torta.jpg"/>
          <p:cNvPicPr/>
          <p:nvPr/>
        </p:nvPicPr>
        <p:blipFill>
          <a:blip r:embed="rId1"/>
          <a:stretch/>
        </p:blipFill>
        <p:spPr>
          <a:xfrm>
            <a:off x="5643720" y="4214880"/>
            <a:ext cx="1857240" cy="1500120"/>
          </a:xfrm>
          <a:prstGeom prst="rect">
            <a:avLst/>
          </a:prstGeom>
          <a:ln w="0">
            <a:noFill/>
          </a:ln>
        </p:spPr>
      </p:pic>
      <p:sp>
        <p:nvSpPr>
          <p:cNvPr id="313" name="TekstniOkvir 3"/>
          <p:cNvSpPr/>
          <p:nvPr/>
        </p:nvSpPr>
        <p:spPr>
          <a:xfrm>
            <a:off x="357120" y="1428840"/>
            <a:ext cx="8429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Baka peče tortu za svoje unuke i želi da svako od njih dobije jednak dio torte. Ali, zaboravila je koliko će unuka doći: 4ili 6. Na koliko jednakih dijelova mora razrezati tortu kako bi svaki unuk koji dođe dobio isti dio kao i ostal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Slika 4" descr="baka.jpg"/>
          <p:cNvPicPr/>
          <p:nvPr/>
        </p:nvPicPr>
        <p:blipFill>
          <a:blip r:embed="rId2"/>
          <a:stretch/>
        </p:blipFill>
        <p:spPr>
          <a:xfrm>
            <a:off x="1071720" y="3786120"/>
            <a:ext cx="3071520" cy="2428920"/>
          </a:xfrm>
          <a:prstGeom prst="rect">
            <a:avLst/>
          </a:prstGeom>
          <a:ln w="0">
            <a:noFill/>
          </a:ln>
        </p:spPr>
      </p:pic>
      <p:sp>
        <p:nvSpPr>
          <p:cNvPr id="315" name="Rezervirano mjesto broja slajda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5FDA-C190-487D-869D-C2B856A9E589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e70797"/>
                </a:solidFill>
                <a:latin typeface="Franklin Gothic Book"/>
              </a:rPr>
              <a:t>6. razred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13840" y="2500200"/>
            <a:ext cx="857268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Zečić iz šume promatra grupu zečića na livadi i poviče: "Koliko vas je! Sigurno vas ima 100!?" </a:t>
            </a:r>
            <a:br>
              <a:rPr sz="2800"/>
            </a:b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Zec iz grupe odgovara:"Nema nas 100. Da nas je još ovoliko koliko nas ima, i od toga dijela polovina, </a:t>
            </a:r>
            <a:br>
              <a:rPr sz="2800"/>
            </a:b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i od te polovine polovina, i ti s nama, onda bi nas bilo 100"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   </a:t>
            </a: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Koliko je zečića na livadi?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18" name="Slika 3" descr="zec1.jpg"/>
          <p:cNvPicPr/>
          <p:nvPr/>
        </p:nvPicPr>
        <p:blipFill>
          <a:blip r:embed="rId1"/>
          <a:stretch/>
        </p:blipFill>
        <p:spPr>
          <a:xfrm>
            <a:off x="6143760" y="5000760"/>
            <a:ext cx="1928520" cy="1285920"/>
          </a:xfrm>
          <a:prstGeom prst="rect">
            <a:avLst/>
          </a:prstGeom>
          <a:ln w="0">
            <a:noFill/>
          </a:ln>
        </p:spPr>
      </p:pic>
      <p:pic>
        <p:nvPicPr>
          <p:cNvPr id="319" name="Slika 4" descr="zec u šumi.jpg"/>
          <p:cNvPicPr/>
          <p:nvPr/>
        </p:nvPicPr>
        <p:blipFill>
          <a:blip r:embed="rId2"/>
          <a:stretch/>
        </p:blipFill>
        <p:spPr>
          <a:xfrm>
            <a:off x="5786280" y="142920"/>
            <a:ext cx="2786400" cy="2143080"/>
          </a:xfrm>
          <a:prstGeom prst="rect">
            <a:avLst/>
          </a:prstGeom>
          <a:ln w="0">
            <a:noFill/>
          </a:ln>
        </p:spPr>
      </p:pic>
      <p:sp>
        <p:nvSpPr>
          <p:cNvPr id="320" name="Rezervirano mjesto broja slajda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EDE6-CFAB-402E-90E7-E28A93BA718B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e70797"/>
                </a:solidFill>
                <a:latin typeface="Franklin Gothic Book"/>
              </a:rPr>
              <a:t>7. razred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599840"/>
            <a:ext cx="8329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2e8a"/>
                </a:solidFill>
                <a:latin typeface="Perpetua"/>
              </a:rPr>
              <a:t>    </a:t>
            </a: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U nekoj pizzeriji se prodaju dvije vrste pizza. Obje su debljine 1 cm. Jedna je promjera 30 cm i košta 30 kn, a druga je promjera 40 cm i košta 40 kn. Koja je isplativija?        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2776"/>
                </a:solidFill>
                <a:latin typeface="Perpetua"/>
              </a:rPr>
              <a:t>                    </a:t>
            </a:r>
            <a:r>
              <a:rPr b="1" lang="hr-HR" sz="2800" spc="-1" strike="noStrike">
                <a:solidFill>
                  <a:srgbClr val="002776"/>
                </a:solidFill>
                <a:latin typeface="Perpetua"/>
              </a:rPr>
              <a:t>30 kn                                               40 k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Perpetua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23" name="Slika 4" descr="pizza.jpg"/>
          <p:cNvPicPr/>
          <p:nvPr/>
        </p:nvPicPr>
        <p:blipFill>
          <a:blip r:embed="rId1"/>
          <a:stretch/>
        </p:blipFill>
        <p:spPr>
          <a:xfrm>
            <a:off x="785880" y="3571920"/>
            <a:ext cx="2571840" cy="2071800"/>
          </a:xfrm>
          <a:prstGeom prst="rect">
            <a:avLst/>
          </a:prstGeom>
          <a:ln w="0">
            <a:noFill/>
          </a:ln>
        </p:spPr>
      </p:pic>
      <p:pic>
        <p:nvPicPr>
          <p:cNvPr id="324" name="Slika 5" descr="pizza2.jpg"/>
          <p:cNvPicPr/>
          <p:nvPr/>
        </p:nvPicPr>
        <p:blipFill>
          <a:blip r:embed="rId2"/>
          <a:stretch/>
        </p:blipFill>
        <p:spPr>
          <a:xfrm>
            <a:off x="5072040" y="3571920"/>
            <a:ext cx="2857680" cy="2428920"/>
          </a:xfrm>
          <a:prstGeom prst="rect">
            <a:avLst/>
          </a:prstGeom>
          <a:ln w="0">
            <a:noFill/>
          </a:ln>
        </p:spPr>
      </p:pic>
      <p:sp>
        <p:nvSpPr>
          <p:cNvPr id="325" name="Rezervirano mjesto broja slajda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1918-3654-49B9-A591-16A4E9E88E25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Slika 1" descr="pizza 4.jpg"/>
          <p:cNvPicPr/>
          <p:nvPr/>
        </p:nvPicPr>
        <p:blipFill>
          <a:blip r:embed="rId1"/>
          <a:stretch/>
        </p:blipFill>
        <p:spPr>
          <a:xfrm>
            <a:off x="1714680" y="785880"/>
            <a:ext cx="5214600" cy="4500360"/>
          </a:xfrm>
          <a:prstGeom prst="rect">
            <a:avLst/>
          </a:prstGeom>
          <a:ln w="0">
            <a:noFill/>
          </a:ln>
        </p:spPr>
      </p:pic>
      <p:sp>
        <p:nvSpPr>
          <p:cNvPr id="327" name="Rezervirano mjesto broja slajda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D6F3-EA6B-447B-AA8E-53CD7369D85E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e70797"/>
                </a:solidFill>
                <a:latin typeface="Franklin Gothic Book"/>
              </a:rPr>
              <a:t>8. razred</a:t>
            </a:r>
            <a:endParaRPr b="0" lang="en-US" sz="36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28400" y="1285560"/>
            <a:ext cx="80722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2e8a"/>
                </a:solidFill>
                <a:latin typeface="Perpetua"/>
                <a:ea typeface="Arial"/>
              </a:rPr>
              <a:t>a</a:t>
            </a:r>
            <a:r>
              <a:rPr b="0" lang="hr-HR" sz="3200" spc="-1" strike="noStrike">
                <a:solidFill>
                  <a:srgbClr val="002e8a"/>
                </a:solidFill>
                <a:latin typeface="Franklin Gothic Book"/>
                <a:ea typeface="Arial"/>
              </a:rPr>
              <a:t>) </a:t>
            </a: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U slijedećem matematičkom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 </a:t>
            </a: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izrazu pronađi grešku: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2e8a"/>
                </a:solidFill>
                <a:latin typeface="Franklin Gothic Book"/>
                <a:ea typeface="Arial"/>
              </a:rPr>
              <a:t>    </a:t>
            </a:r>
            <a:r>
              <a:rPr b="1" i="1" lang="hr-HR" sz="2800" spc="-1" strike="noStrike">
                <a:solidFill>
                  <a:srgbClr val="002e8a"/>
                </a:solidFill>
                <a:latin typeface="Franklin Gothic Book"/>
                <a:ea typeface="Arial"/>
              </a:rPr>
              <a:t>a</a:t>
            </a:r>
            <a:r>
              <a:rPr b="1" lang="hr-HR" sz="2800" spc="-1" strike="noStrike" baseline="30000">
                <a:solidFill>
                  <a:srgbClr val="002e8a"/>
                </a:solidFill>
                <a:latin typeface="Franklin Gothic Book"/>
                <a:ea typeface="Arial"/>
              </a:rPr>
              <a:t>2</a:t>
            </a:r>
            <a:r>
              <a:rPr b="1" lang="hr-HR" sz="2800" spc="-1" strike="noStrike">
                <a:solidFill>
                  <a:srgbClr val="002e8a"/>
                </a:solidFill>
                <a:latin typeface="Franklin Gothic Book"/>
                <a:ea typeface="Arial"/>
              </a:rPr>
              <a:t> – </a:t>
            </a:r>
            <a:r>
              <a:rPr b="1" i="1" lang="hr-HR" sz="2800" spc="-1" strike="noStrike">
                <a:solidFill>
                  <a:srgbClr val="002e8a"/>
                </a:solidFill>
                <a:latin typeface="Franklin Gothic Book"/>
                <a:ea typeface="Arial"/>
              </a:rPr>
              <a:t>a</a:t>
            </a:r>
            <a:r>
              <a:rPr b="1" i="1" lang="hr-HR" sz="2800" spc="-1" strike="noStrike" baseline="30000">
                <a:solidFill>
                  <a:srgbClr val="002e8a"/>
                </a:solidFill>
                <a:latin typeface="Franklin Gothic Book"/>
                <a:ea typeface="Arial"/>
              </a:rPr>
              <a:t>2</a:t>
            </a:r>
            <a:r>
              <a:rPr b="1" lang="hr-HR" sz="2800" spc="-1" strike="noStrike">
                <a:solidFill>
                  <a:srgbClr val="002e8a"/>
                </a:solidFill>
                <a:latin typeface="Franklin Gothic Book"/>
                <a:ea typeface="Arial"/>
              </a:rPr>
              <a:t> = </a:t>
            </a:r>
            <a:r>
              <a:rPr b="1" i="1" lang="hr-HR" sz="2800" spc="-1" strike="noStrike">
                <a:solidFill>
                  <a:srgbClr val="002e8a"/>
                </a:solidFill>
                <a:latin typeface="Franklin Gothic Book"/>
                <a:ea typeface="Arial"/>
              </a:rPr>
              <a:t>a</a:t>
            </a:r>
            <a:r>
              <a:rPr b="1" lang="hr-HR" sz="2800" spc="-1" strike="noStrike" baseline="30000">
                <a:solidFill>
                  <a:srgbClr val="002e8a"/>
                </a:solidFill>
                <a:latin typeface="Franklin Gothic Book"/>
                <a:ea typeface="Arial"/>
              </a:rPr>
              <a:t>2</a:t>
            </a:r>
            <a:r>
              <a:rPr b="1" lang="hr-HR" sz="2800" spc="-1" strike="noStrike">
                <a:solidFill>
                  <a:srgbClr val="002e8a"/>
                </a:solidFill>
                <a:latin typeface="Franklin Gothic Book"/>
                <a:ea typeface="Arial"/>
              </a:rPr>
              <a:t> – </a:t>
            </a:r>
            <a:r>
              <a:rPr b="1" i="1" lang="hr-HR" sz="2800" spc="-1" strike="noStrike">
                <a:solidFill>
                  <a:srgbClr val="002e8a"/>
                </a:solidFill>
                <a:latin typeface="Franklin Gothic Book"/>
                <a:ea typeface="Arial"/>
              </a:rPr>
              <a:t>a</a:t>
            </a:r>
            <a:r>
              <a:rPr b="1" i="1" lang="hr-HR" sz="2800" spc="-1" strike="noStrike" baseline="30000">
                <a:solidFill>
                  <a:srgbClr val="002e8a"/>
                </a:solidFill>
                <a:latin typeface="Franklin Gothic Book"/>
                <a:ea typeface="Arial"/>
              </a:rPr>
              <a:t>2 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2e8a"/>
                </a:solidFill>
                <a:latin typeface="Franklin Gothic Book"/>
                <a:ea typeface="Arial"/>
              </a:rPr>
              <a:t>    </a:t>
            </a:r>
            <a:r>
              <a:rPr b="1" i="1" lang="hr-HR" sz="2800" spc="-1" strike="noStrike">
                <a:solidFill>
                  <a:srgbClr val="002e8a"/>
                </a:solidFill>
                <a:latin typeface="Franklin Gothic Book"/>
                <a:ea typeface="Arial"/>
              </a:rPr>
              <a:t>a</a:t>
            </a:r>
            <a:r>
              <a:rPr b="1" lang="hr-HR" sz="2800" spc="-1" strike="noStrike">
                <a:solidFill>
                  <a:srgbClr val="002e8a"/>
                </a:solidFill>
                <a:latin typeface="Franklin Gothic Book"/>
                <a:ea typeface="Arial"/>
              </a:rPr>
              <a:t>(</a:t>
            </a:r>
            <a:r>
              <a:rPr b="1" i="1" lang="hr-HR" sz="2800" spc="-1" strike="noStrike">
                <a:solidFill>
                  <a:srgbClr val="002e8a"/>
                </a:solidFill>
                <a:latin typeface="Franklin Gothic Book"/>
                <a:ea typeface="Arial"/>
              </a:rPr>
              <a:t>a – a</a:t>
            </a:r>
            <a:r>
              <a:rPr b="1" lang="hr-HR" sz="2800" spc="-1" strike="noStrike">
                <a:solidFill>
                  <a:srgbClr val="002e8a"/>
                </a:solidFill>
                <a:latin typeface="Franklin Gothic Book"/>
                <a:ea typeface="Arial"/>
              </a:rPr>
              <a:t>) =(</a:t>
            </a:r>
            <a:r>
              <a:rPr b="1" i="1" lang="hr-HR" sz="2800" spc="-1" strike="noStrike">
                <a:solidFill>
                  <a:srgbClr val="002e8a"/>
                </a:solidFill>
                <a:latin typeface="Franklin Gothic Book"/>
                <a:ea typeface="Arial"/>
              </a:rPr>
              <a:t>a – a</a:t>
            </a:r>
            <a:r>
              <a:rPr b="1" lang="hr-HR" sz="2800" spc="-1" strike="noStrike">
                <a:solidFill>
                  <a:srgbClr val="002e8a"/>
                </a:solidFill>
                <a:latin typeface="Franklin Gothic Book"/>
                <a:ea typeface="Arial"/>
              </a:rPr>
              <a:t>)(</a:t>
            </a:r>
            <a:r>
              <a:rPr b="1" i="1" lang="hr-HR" sz="2800" spc="-1" strike="noStrike">
                <a:solidFill>
                  <a:srgbClr val="002e8a"/>
                </a:solidFill>
                <a:latin typeface="Franklin Gothic Book"/>
                <a:ea typeface="Arial"/>
              </a:rPr>
              <a:t>a+a</a:t>
            </a:r>
            <a:r>
              <a:rPr b="1" lang="hr-HR" sz="2800" spc="-1" strike="noStrike">
                <a:solidFill>
                  <a:srgbClr val="002e8a"/>
                </a:solidFill>
                <a:latin typeface="Franklin Gothic Book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2e8a"/>
                </a:solidFill>
                <a:latin typeface="Franklin Gothic Book"/>
                <a:ea typeface="Arial"/>
              </a:rPr>
              <a:t>    </a:t>
            </a:r>
            <a:r>
              <a:rPr b="1" i="1" lang="hr-HR" sz="2800" spc="-1" strike="noStrike">
                <a:solidFill>
                  <a:srgbClr val="002e8a"/>
                </a:solidFill>
                <a:latin typeface="Franklin Gothic Book"/>
                <a:ea typeface="Arial"/>
              </a:rPr>
              <a:t>a </a:t>
            </a:r>
            <a:r>
              <a:rPr b="1" lang="hr-HR" sz="2800" spc="-1" strike="noStrike">
                <a:solidFill>
                  <a:srgbClr val="002e8a"/>
                </a:solidFill>
                <a:latin typeface="Franklin Gothic Book"/>
                <a:ea typeface="Arial"/>
              </a:rPr>
              <a:t>= (</a:t>
            </a:r>
            <a:r>
              <a:rPr b="1" i="1" lang="hr-HR" sz="2800" spc="-1" strike="noStrike">
                <a:solidFill>
                  <a:srgbClr val="002e8a"/>
                </a:solidFill>
                <a:latin typeface="Franklin Gothic Book"/>
                <a:ea typeface="Arial"/>
              </a:rPr>
              <a:t>a+a</a:t>
            </a:r>
            <a:r>
              <a:rPr b="1" lang="hr-HR" sz="2800" spc="-1" strike="noStrike">
                <a:solidFill>
                  <a:srgbClr val="002e8a"/>
                </a:solidFill>
                <a:latin typeface="Franklin Gothic Book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2e8a"/>
                </a:solidFill>
                <a:latin typeface="Franklin Gothic Book"/>
                <a:ea typeface="Arial"/>
              </a:rPr>
              <a:t>    </a:t>
            </a:r>
            <a:r>
              <a:rPr b="1" i="1" lang="hr-HR" sz="2800" spc="-1" strike="noStrike">
                <a:solidFill>
                  <a:srgbClr val="002e8a"/>
                </a:solidFill>
                <a:latin typeface="Franklin Gothic Book"/>
                <a:ea typeface="Arial"/>
              </a:rPr>
              <a:t>a</a:t>
            </a:r>
            <a:r>
              <a:rPr b="1" lang="hr-HR" sz="2800" spc="-1" strike="noStrike">
                <a:solidFill>
                  <a:srgbClr val="002e8a"/>
                </a:solidFill>
                <a:latin typeface="Franklin Gothic Book"/>
                <a:ea typeface="Arial"/>
              </a:rPr>
              <a:t>  =  2 </a:t>
            </a:r>
            <a:r>
              <a:rPr b="1" i="1" lang="hr-HR" sz="2800" spc="-1" strike="noStrike">
                <a:solidFill>
                  <a:srgbClr val="002e8a"/>
                </a:solidFill>
                <a:latin typeface="Franklin Gothic Book"/>
                <a:ea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  <a:ea typeface="Arial"/>
              </a:rPr>
              <a:t>    </a:t>
            </a:r>
            <a:r>
              <a:rPr b="1" lang="hr-HR" sz="2800" spc="-1" strike="noStrike">
                <a:solidFill>
                  <a:srgbClr val="002e8a"/>
                </a:solidFill>
                <a:latin typeface="Franklin Gothic Book"/>
                <a:ea typeface="Arial"/>
              </a:rPr>
              <a:t>1 = 2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Object 9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2" name="TekstniOkvir 10"/>
          <p:cNvSpPr/>
          <p:nvPr/>
        </p:nvSpPr>
        <p:spPr>
          <a:xfrm>
            <a:off x="5143680" y="1285920"/>
            <a:ext cx="378612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b) 8 malih kockica smještene su u jednu veću kocku ( bez praznina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Ako je obujam velike kocke   1dm</a:t>
            </a:r>
            <a:r>
              <a:rPr b="1" lang="hr-HR" sz="2800" spc="-1" strike="noStrike" baseline="30000">
                <a:solidFill>
                  <a:srgbClr val="002e8a"/>
                </a:solidFill>
                <a:latin typeface="Franklin Gothic Book"/>
              </a:rPr>
              <a:t>3  </a:t>
            </a: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kolika je duljina brida manje koc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Slika 7" descr="sarena-kocka.jpg"/>
          <p:cNvPicPr/>
          <p:nvPr/>
        </p:nvPicPr>
        <p:blipFill>
          <a:blip r:embed="rId1"/>
          <a:stretch/>
        </p:blipFill>
        <p:spPr>
          <a:xfrm>
            <a:off x="6572160" y="4714920"/>
            <a:ext cx="1857600" cy="1643040"/>
          </a:xfrm>
          <a:prstGeom prst="rect">
            <a:avLst/>
          </a:prstGeom>
          <a:ln w="0">
            <a:noFill/>
          </a:ln>
        </p:spPr>
      </p:pic>
      <p:pic>
        <p:nvPicPr>
          <p:cNvPr id="334" name="Slika 9" descr="učenik 4.jpg"/>
          <p:cNvPicPr/>
          <p:nvPr/>
        </p:nvPicPr>
        <p:blipFill>
          <a:blip r:embed="rId2"/>
          <a:stretch/>
        </p:blipFill>
        <p:spPr>
          <a:xfrm>
            <a:off x="1785960" y="4929120"/>
            <a:ext cx="2000160" cy="1428840"/>
          </a:xfrm>
          <a:prstGeom prst="rect">
            <a:avLst/>
          </a:prstGeom>
          <a:ln w="0">
            <a:noFill/>
          </a:ln>
        </p:spPr>
      </p:pic>
      <p:sp>
        <p:nvSpPr>
          <p:cNvPr id="335" name="Rezervirano mjesto broja slajda 8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C9B3-01B1-452B-BE89-B1334E8F10F8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14240" y="274680"/>
            <a:ext cx="7972560" cy="868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e70797"/>
                </a:solidFill>
                <a:latin typeface="Franklin Gothic Book"/>
              </a:rPr>
              <a:t>UPOZNAVANJE NASTAVNIH SADRŽAJA</a:t>
            </a:r>
            <a:endParaRPr b="0" lang="en-US" sz="38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1142640"/>
            <a:ext cx="82868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čuvati se suhoparnog i zamornog nabrajanj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    </a:t>
            </a: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- ove godine ćemo učiti…..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za svaku cjelinu (ili temu) pronaći zanimljive i poticajne primjere iz života bliske učenicima ili zanimljive slike, anegdote iz svijeta  matematike, zagonetke …(a potom nenametljivo slijedi i sam naziv teme ili cjeline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istaknuti neke ključne pojmove (odabrati one koje će pobuditi interes učenika)- prosti brojevi, negativni brojevi, vjerojatnost, stupčasti i kružni dijagram, piramide, kamate na dječju štednju, puž-spirala</a:t>
            </a:r>
            <a:r>
              <a:rPr b="1" lang="hr-HR" sz="2800" spc="-1" strike="noStrike">
                <a:solidFill>
                  <a:srgbClr val="002e8a"/>
                </a:solidFill>
                <a:latin typeface="Perpetua"/>
              </a:rPr>
              <a:t>        </a:t>
            </a:r>
            <a:r>
              <a:rPr b="1" lang="hr-HR" sz="2800" spc="-1" strike="noStrike">
                <a:solidFill>
                  <a:srgbClr val="002e8a"/>
                </a:solidFill>
                <a:latin typeface="Perpetua"/>
              </a:rPr>
              <a:t>	</a:t>
            </a: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drugog korijena…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38" name="Slika 3" descr="ZAČUĐENI UČENICI motivirani.jpg"/>
          <p:cNvPicPr/>
          <p:nvPr/>
        </p:nvPicPr>
        <p:blipFill>
          <a:blip r:embed="rId1"/>
          <a:stretch/>
        </p:blipFill>
        <p:spPr>
          <a:xfrm>
            <a:off x="7286760" y="1143000"/>
            <a:ext cx="1643040" cy="1785960"/>
          </a:xfrm>
          <a:prstGeom prst="rect">
            <a:avLst/>
          </a:prstGeom>
          <a:ln w="0">
            <a:noFill/>
          </a:ln>
        </p:spPr>
      </p:pic>
      <p:sp>
        <p:nvSpPr>
          <p:cNvPr id="339" name="Rezervirano mjesto broja slajda 4"/>
          <p:cNvSpPr/>
          <p:nvPr/>
        </p:nvSpPr>
        <p:spPr>
          <a:xfrm>
            <a:off x="285840" y="6143760"/>
            <a:ext cx="50004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256E-B7D6-449C-9F04-8A1CA1B43A8E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467480" cy="12859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7030a0"/>
                </a:solidFill>
                <a:latin typeface="Franklin Gothic Book"/>
              </a:rPr>
              <a:t> </a:t>
            </a:r>
            <a:r>
              <a:rPr b="1" lang="hr-HR" sz="3800" spc="-1" strike="noStrike">
                <a:solidFill>
                  <a:srgbClr val="e70797"/>
                </a:solidFill>
                <a:latin typeface="Franklin Gothic Book"/>
              </a:rPr>
              <a:t>UPOZNAVANJE UDŽBENIČKE LITERATURE</a:t>
            </a:r>
            <a:endParaRPr b="0" lang="en-US" sz="38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6840" y="1428480"/>
            <a:ext cx="8258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ponoviti koje ćemo udžbenike (i zbirke zadataka) koristiti u redovnoj nastavi-pokazati ih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provjeriti jesu li svi učenici nabavili te udžbenik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prolistati udžbenike ( zbirke, vježbenice…) te uputiti učenike u korištenje (sadržaj, poglavlja, teme, zadaci za ponavljanje, slike, izdvojeni sadržaji…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izdvojiti zanimljive slike, grafikone, pitalice, križaljke, primjere, zadatke (motivacija učenika) - kombinirati sa prethodno navedenim upoznavanjem sadržaj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2" name="Rezervirano mjesto broja slajda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98E1-74BA-4768-9DA7-6ABAB55229FB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142560"/>
            <a:ext cx="7772400" cy="12747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e70797"/>
                </a:solidFill>
                <a:latin typeface="Franklin Gothic Book"/>
              </a:rPr>
              <a:t>Koji su razlozi ovakvim izjavama i pitanjima?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99680" y="1285560"/>
            <a:ext cx="82580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Učenici pokušavaju opravdati svoj nerad?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Ne slušaju upute na satu?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Lukavo dobivaju  na vremenu?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Apeliraju na našu savjest?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Skreću pozornost  sa stvarnog problema?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Zaigrani su i ne shvaćaju pojam odgovornosti?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Nisu svjesni posljedica nepridržavanja dogovora i pravila?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002e8a"/>
                </a:solidFill>
                <a:uFillTx/>
                <a:latin typeface="Franklin Gothic Book"/>
              </a:rPr>
              <a:t>Doista nisu znali ili čuli…???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002e8a"/>
                </a:solidFill>
                <a:uFillTx/>
                <a:latin typeface="Franklin Gothic Book"/>
              </a:rPr>
              <a:t>Mi nismo bili dovoljno jasni?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ff388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ff388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ff388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7120" indent="-267120">
              <a:spcBef>
                <a:spcPts val="575"/>
              </a:spcBef>
              <a:buClr>
                <a:srgbClr val="ff388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3" name="Slika 6" descr="Učenici.jpg"/>
          <p:cNvPicPr/>
          <p:nvPr/>
        </p:nvPicPr>
        <p:blipFill>
          <a:blip r:embed="rId1"/>
          <a:stretch/>
        </p:blipFill>
        <p:spPr>
          <a:xfrm>
            <a:off x="6143760" y="4786200"/>
            <a:ext cx="2071440" cy="1785960"/>
          </a:xfrm>
          <a:prstGeom prst="rect">
            <a:avLst/>
          </a:prstGeom>
          <a:ln w="0">
            <a:noFill/>
          </a:ln>
        </p:spPr>
      </p:pic>
      <p:sp>
        <p:nvSpPr>
          <p:cNvPr id="244" name="Rezervirano mjesto broja slajda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8697-857F-4515-B904-DA8EE3915B2F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541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f50fb3"/>
                </a:solidFill>
                <a:latin typeface="Franklin Gothic Book"/>
              </a:rPr>
              <a:t>POTREBAN PRIBOR ZA RAD</a:t>
            </a:r>
            <a:endParaRPr b="0" lang="en-US" sz="38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57120" y="999720"/>
            <a:ext cx="842976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Dogovoriti što je sve potrebno ili će biti potrebno nabaviti od pribora za rad - bilježnice, geometrijski pribor, olovke, bojice, kalkulatori, modeli geometrijskih tijela…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Dogovoriti (u suradnji s razrednikom, ravnateljem, roditeljima…) </a:t>
            </a:r>
            <a:r>
              <a:rPr b="1" lang="hr-HR" sz="2800" spc="-1" strike="noStrike" u="sng">
                <a:solidFill>
                  <a:srgbClr val="002e8a"/>
                </a:solidFill>
                <a:uFillTx/>
                <a:latin typeface="Franklin Gothic Book"/>
              </a:rPr>
              <a:t>eventualnu</a:t>
            </a: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 nabavu nastavnih listića, ispita znanja, pisanih provjera…i o tome obavijestiti učenik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345" name="Slika 4" descr="bilježnice.jpg"/>
          <p:cNvPicPr/>
          <p:nvPr/>
        </p:nvPicPr>
        <p:blipFill>
          <a:blip r:embed="rId1"/>
          <a:stretch/>
        </p:blipFill>
        <p:spPr>
          <a:xfrm>
            <a:off x="714240" y="4643280"/>
            <a:ext cx="1928880" cy="1643400"/>
          </a:xfrm>
          <a:prstGeom prst="rect">
            <a:avLst/>
          </a:prstGeom>
          <a:ln w="0">
            <a:noFill/>
          </a:ln>
        </p:spPr>
      </p:pic>
      <p:pic>
        <p:nvPicPr>
          <p:cNvPr id="346" name="Slika 5" descr="geom tijela.jpg"/>
          <p:cNvPicPr/>
          <p:nvPr/>
        </p:nvPicPr>
        <p:blipFill>
          <a:blip r:embed="rId2"/>
          <a:stretch/>
        </p:blipFill>
        <p:spPr>
          <a:xfrm>
            <a:off x="3571920" y="4214880"/>
            <a:ext cx="1643040" cy="1071360"/>
          </a:xfrm>
          <a:prstGeom prst="rect">
            <a:avLst/>
          </a:prstGeom>
          <a:ln w="0">
            <a:noFill/>
          </a:ln>
        </p:spPr>
      </p:pic>
      <p:pic>
        <p:nvPicPr>
          <p:cNvPr id="347" name="Slika 7" descr="mat tijela.jpg"/>
          <p:cNvPicPr/>
          <p:nvPr/>
        </p:nvPicPr>
        <p:blipFill>
          <a:blip r:embed="rId3"/>
          <a:stretch/>
        </p:blipFill>
        <p:spPr>
          <a:xfrm>
            <a:off x="3643200" y="5429160"/>
            <a:ext cx="1643040" cy="1214640"/>
          </a:xfrm>
          <a:prstGeom prst="rect">
            <a:avLst/>
          </a:prstGeom>
          <a:ln w="0">
            <a:noFill/>
          </a:ln>
        </p:spPr>
      </p:pic>
      <p:pic>
        <p:nvPicPr>
          <p:cNvPr id="348" name="Slika 8" descr="pribor.jpg"/>
          <p:cNvPicPr/>
          <p:nvPr/>
        </p:nvPicPr>
        <p:blipFill>
          <a:blip r:embed="rId4"/>
          <a:stretch/>
        </p:blipFill>
        <p:spPr>
          <a:xfrm>
            <a:off x="6357960" y="4500720"/>
            <a:ext cx="1857240" cy="1928520"/>
          </a:xfrm>
          <a:prstGeom prst="rect">
            <a:avLst/>
          </a:prstGeom>
          <a:ln w="0">
            <a:noFill/>
          </a:ln>
        </p:spPr>
      </p:pic>
      <p:sp>
        <p:nvSpPr>
          <p:cNvPr id="349" name="Rezervirano mjesto broja slajda 7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A008-E62D-4F46-B0CA-68340132E115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50fb3"/>
                </a:solidFill>
                <a:latin typeface="Franklin Gothic Book"/>
              </a:rPr>
              <a:t> </a:t>
            </a:r>
            <a:r>
              <a:rPr b="1" lang="hr-HR" sz="3800" spc="-1" strike="noStrike">
                <a:solidFill>
                  <a:srgbClr val="f50fb3"/>
                </a:solidFill>
                <a:latin typeface="Franklin Gothic Book"/>
              </a:rPr>
              <a:t>DOGOVOR O RADU I PRAVILIMA PONAŠANJA</a:t>
            </a:r>
            <a:endParaRPr b="0" lang="en-US" sz="38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28400" y="1285920"/>
            <a:ext cx="871524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Objasniti učenicima što ćemo i kako raditi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-140 sati( sati usvajanja novog gradiva, ponavljanja i utvrđivanja, sistematizacije, pisanih provjera, analiza pisanih provjera,integrirane i terenske nastave…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-razni oblici rada i metode rada (očekujemo njihovu aktivnost i suradnju )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-dogovoriti s učenicima(i istaknuti na vidno mjesto u učionici) pravila ponašanja i rada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-poslušati što učenici očekuju od nastave matematike i kako bi voljeli učiti matematiku - dogovorno uvažiti realne i prihvatljive idej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2" name="Rezervirano mjesto broja slajda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D6A6-DD9B-4467-A9FD-0EF766805585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e70797"/>
                </a:solidFill>
                <a:latin typeface="Franklin Gothic Book"/>
              </a:rPr>
              <a:t>KAKO ĆEMO PRATITI,PROVJERAVATI I OCJENJIVATI RAD UČENIKA?</a:t>
            </a:r>
            <a:endParaRPr b="0" lang="en-US" sz="38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600200"/>
            <a:ext cx="79725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 u="sng">
                <a:solidFill>
                  <a:srgbClr val="002e8a"/>
                </a:solidFill>
                <a:uFillTx/>
                <a:latin typeface="Perpetua"/>
              </a:rPr>
              <a:t>POŠTOVATI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2e8a"/>
                </a:solidFill>
                <a:latin typeface="Franklin Gothic Book"/>
              </a:rPr>
              <a:t>PRAVILNIK O NAČINU PRAĆENJA I OCJENJIVANJA UČENIKA U OŠ I SŠ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2e8a"/>
                </a:solidFill>
                <a:latin typeface="Franklin Gothic Book"/>
              </a:rPr>
              <a:t>…</a:t>
            </a:r>
            <a:r>
              <a:rPr b="1" lang="hr-HR" sz="2200" spc="-1" strike="noStrike">
                <a:solidFill>
                  <a:srgbClr val="002e8a"/>
                </a:solidFill>
                <a:latin typeface="Franklin Gothic Book"/>
              </a:rPr>
              <a:t>propisuje način praćenja redovnog učenika osnovne i srednje škole, provjeravanje, ispitivanje i ocjenjivanje njegova znanja, vještina, sposobnosti i primjene stečenih znanja</a:t>
            </a:r>
            <a:r>
              <a:rPr b="0" lang="hr-HR" sz="2200" spc="-1" strike="noStrike">
                <a:solidFill>
                  <a:srgbClr val="002e8a"/>
                </a:solidFill>
                <a:latin typeface="Franklin Gothic Book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e8a"/>
                </a:solidFill>
                <a:latin typeface="Franklin Gothic Book"/>
              </a:rPr>
              <a:t>Što sve i kako pratimo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e8a"/>
                </a:solidFill>
                <a:latin typeface="Franklin Gothic Book"/>
              </a:rPr>
              <a:t>Kako i kada provjeravamo i ispitujemo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e8a"/>
                </a:solidFill>
                <a:latin typeface="Franklin Gothic Book"/>
              </a:rPr>
              <a:t>Kako vrednujemo i ocjenjujemo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e8a"/>
                </a:solidFill>
                <a:latin typeface="Franklin Gothic Book"/>
              </a:rPr>
              <a:t>Na koji način donosimo odluku o zaključnoj ocjeni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5" name="Rezervirano mjesto broja slajda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C545-DE79-44E4-AAF7-124CC86AAB33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e70797"/>
                </a:solidFill>
                <a:latin typeface="Franklin Gothic Book"/>
              </a:rPr>
              <a:t>Praćenje učenika</a:t>
            </a:r>
            <a:endParaRPr b="0" lang="en-US" sz="36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1213920"/>
            <a:ext cx="782964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upoznati učenike sa planom sustavnog bilježenja zapažanja o razvoju njihovih interesa, motivacije i sposobnosti, postignuća u usvajanju odgojno-obrazovnih sadržaja, odnosa prema radu i postavljenim zadacima te odgojnim vrijednostima (odnos na satu,aktivan interes za predmet, marljivost u radu,suradnja s drugim učenicima, redovitost u pisanju domaćih zadaća, angažman pri izradi plakata…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 </a:t>
            </a: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zabilješke u rubriku praćenja u Imeniku- bitne za donošenje konačne odluke o zaključnoj ocjeni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8" name="Rezervirano mjesto broja slajda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F18B-BF35-464E-BA31-FFC811AE35A5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28400" y="285840"/>
            <a:ext cx="7467480" cy="582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e70797"/>
                </a:solidFill>
                <a:latin typeface="Franklin Gothic Book"/>
              </a:rPr>
              <a:t>Provjeravanje</a:t>
            </a:r>
            <a:endParaRPr b="0" lang="en-US" sz="36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928440"/>
            <a:ext cx="74674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sustavno praćenje, ispitivanje i vrednovanje učenikovih  postignuća i uspjeha u ostvarivanju zadaća nastavnog predmeta tijekom školske godin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 </a:t>
            </a: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individualni i skupni oblici provjeravanja: razgovorima i ispitivanjem, izradom pisanih zadaća..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2640" indent="-24264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usmeno i pismeno provjeravanje- dogovor o vremenu i broju pisanih radova (razlikovati ispite znanja i kratke pisane provjere) </a:t>
            </a:r>
            <a:br>
              <a:rPr sz="2800"/>
            </a:b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 </a:t>
            </a:r>
            <a:br>
              <a:rPr sz="2600"/>
            </a:b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br>
              <a:rPr sz="2600"/>
            </a:br>
            <a:br>
              <a:rPr sz="2600"/>
            </a:br>
            <a:r>
              <a:rPr b="0" lang="hr-HR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1" name="Rezervirano mjesto broja slajda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6B2F-23D0-4B5D-B256-51AF60A8ECF2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e70797"/>
                </a:solidFill>
                <a:latin typeface="Franklin Gothic Book"/>
              </a:rPr>
              <a:t>Ocjenjivanje</a:t>
            </a:r>
            <a:endParaRPr b="0" lang="en-US" sz="36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143000"/>
            <a:ext cx="74674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objasniti učenicima  elemente vrednovanja i ocjenjivanja- što sve ocjenjujemo?(znanje, vještine, sposobnosti, primjena stečenih znanja….)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jasno naglasiti koje ocjene se upisuju u rubriku  (i u koju), a koja se zapažanja o uspješnosti bilježe u rubriku praćenja i kako ona utječu na konačnu ocjenu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istaknuti što utječe na formiranje zaključne ocjene na polugodištu i kraju školske godin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31840" indent="-23184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4" name="Rezervirano mjesto broja slajda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24C3-A595-4724-B02F-0CFC031A0975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zervirano mjesto broja slajda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7954-3AF1-411D-A657-B14D6FB87A0C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Slika 2" descr="ocjene.jpg"/>
          <p:cNvPicPr/>
          <p:nvPr/>
        </p:nvPicPr>
        <p:blipFill>
          <a:blip r:embed="rId1"/>
          <a:stretch/>
        </p:blipFill>
        <p:spPr>
          <a:xfrm>
            <a:off x="2857680" y="1928880"/>
            <a:ext cx="3714480" cy="27860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582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e70797"/>
                </a:solidFill>
                <a:latin typeface="Franklin Gothic Book"/>
              </a:rPr>
              <a:t>RAZNO-PITANJA UČENIKA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57120" y="714240"/>
            <a:ext cx="8786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pojasniti učenicima eventualne nejasnoć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poslušati njihove dodatne ideje i prijedlog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dogovoriti da se pitanja vezana uz rad, obveze, provjeravanje znanja i sposobnosti, ocjenjivanje i sl. postavljaju odmah jasno, bez straha, na svakom nastavnom satu kako bi se sve na vrijeme razjasnilo te izbjegli neželjeni problemi i nesuglasic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naglasiti ozbiljnost i važnost poštivanja postavljenih pravila i postignutih dogovora i istaknuti potrebu razvijanja svijesti o neminovnim posljedicama neozbiljnog pristupa radu, nepoštivanju postavljenih pravila i nemarnosti u izvršavanju obvez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zaželjeti učenicima zadovoljstvo i uspjeh u radu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45520" indent="-24552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69" name="Rezervirano mjesto broja slajda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7105-0AA2-4140-A6D9-9EAA340BA514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10"/>
          <p:cNvSpPr/>
          <p:nvPr/>
        </p:nvSpPr>
        <p:spPr>
          <a:xfrm>
            <a:off x="214200" y="-316800"/>
            <a:ext cx="8572680" cy="79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e70797"/>
                </a:solidFill>
                <a:latin typeface="Franklin Gothic Book"/>
                <a:ea typeface="Times New Roman"/>
              </a:rPr>
              <a:t>''Nitko na svijetu nije jači od čovjeka koji zna.'' (</a:t>
            </a:r>
            <a:r>
              <a:rPr b="1" i="1" lang="hr-HR" sz="2200" spc="-1" strike="noStrike">
                <a:solidFill>
                  <a:srgbClr val="e70797"/>
                </a:solidFill>
                <a:latin typeface="Franklin Gothic Book"/>
                <a:ea typeface="Times New Roman"/>
              </a:rPr>
              <a:t>japanska</a:t>
            </a:r>
            <a:r>
              <a:rPr b="1" lang="hr-HR" sz="2200" spc="-1" strike="noStrike">
                <a:solidFill>
                  <a:srgbClr val="e70797"/>
                </a:solidFill>
                <a:latin typeface="Franklin Gothic Book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80"/>
                </a:solidFill>
                <a:latin typeface="Franklin Gothic Book"/>
                <a:ea typeface="Times New Roman"/>
              </a:rPr>
              <a:t>''Ono što čovjek nauči,voda ne može odnijeti niti vatra spaliti. '' (</a:t>
            </a:r>
            <a:r>
              <a:rPr b="1" i="1" lang="hr-HR" sz="2000" spc="-1" strike="noStrike">
                <a:solidFill>
                  <a:srgbClr val="000080"/>
                </a:solidFill>
                <a:latin typeface="Franklin Gothic Book"/>
                <a:ea typeface="Times New Roman"/>
              </a:rPr>
              <a:t>čečenska</a:t>
            </a:r>
            <a:r>
              <a:rPr b="1" lang="hr-HR" sz="2000" spc="-1" strike="noStrike">
                <a:solidFill>
                  <a:srgbClr val="000080"/>
                </a:solidFill>
                <a:latin typeface="Franklin Gothic Book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e70797"/>
                </a:solidFill>
                <a:latin typeface="Franklin Gothic Book"/>
                <a:ea typeface="Times New Roman"/>
              </a:rPr>
              <a:t>''Znanje je blago koje svog vlasnika svugdje prati.'' (</a:t>
            </a:r>
            <a:r>
              <a:rPr b="1" i="1" lang="hr-HR" sz="2200" spc="-1" strike="noStrike">
                <a:solidFill>
                  <a:srgbClr val="e70797"/>
                </a:solidFill>
                <a:latin typeface="Franklin Gothic Book"/>
                <a:ea typeface="Times New Roman"/>
              </a:rPr>
              <a:t>kineska</a:t>
            </a:r>
            <a:r>
              <a:rPr b="1" lang="hr-HR" sz="2200" spc="-1" strike="noStrike">
                <a:solidFill>
                  <a:srgbClr val="e70797"/>
                </a:solidFill>
                <a:latin typeface="Franklin Gothic Book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80"/>
                </a:solidFill>
                <a:latin typeface="Franklin Gothic Book"/>
                <a:ea typeface="Times New Roman"/>
              </a:rPr>
              <a:t>''Tko je završio učenje, završio je i rasti.'' (</a:t>
            </a:r>
            <a:r>
              <a:rPr b="1" i="1" lang="hr-HR" sz="2200" spc="-1" strike="noStrike">
                <a:solidFill>
                  <a:srgbClr val="000080"/>
                </a:solidFill>
                <a:latin typeface="Franklin Gothic Book"/>
                <a:ea typeface="Times New Roman"/>
              </a:rPr>
              <a:t>ruska</a:t>
            </a:r>
            <a:r>
              <a:rPr b="1" lang="hr-HR" sz="2200" spc="-1" strike="noStrike">
                <a:solidFill>
                  <a:srgbClr val="000080"/>
                </a:solidFill>
                <a:latin typeface="Franklin Gothic Book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e90062"/>
                </a:solidFill>
                <a:latin typeface="Franklin Gothic Book"/>
                <a:ea typeface="Times New Roman"/>
              </a:rPr>
              <a:t>'</a:t>
            </a:r>
            <a:r>
              <a:rPr b="1" lang="hr-HR" sz="2200" spc="-1" strike="noStrike">
                <a:solidFill>
                  <a:srgbClr val="e70797"/>
                </a:solidFill>
                <a:latin typeface="Franklin Gothic Book"/>
                <a:ea typeface="Times New Roman"/>
              </a:rPr>
              <a:t>'Raditi, a ne misliti, isto je što i pucati, a ne nišaniti.''(hrvatsk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80"/>
                </a:solidFill>
                <a:latin typeface="Franklin Gothic Book"/>
                <a:ea typeface="Times New Roman"/>
              </a:rPr>
              <a:t>''Što mudrija glava, to lakše leđima.'' (</a:t>
            </a:r>
            <a:r>
              <a:rPr b="1" i="1" lang="hr-HR" sz="2200" spc="-1" strike="noStrike">
                <a:solidFill>
                  <a:srgbClr val="000080"/>
                </a:solidFill>
                <a:latin typeface="Franklin Gothic Book"/>
                <a:ea typeface="Times New Roman"/>
              </a:rPr>
              <a:t>ruska</a:t>
            </a:r>
            <a:r>
              <a:rPr b="1" lang="hr-HR" sz="2200" spc="-1" strike="noStrike">
                <a:solidFill>
                  <a:srgbClr val="000080"/>
                </a:solidFill>
                <a:latin typeface="Franklin Gothic Book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e70797"/>
                </a:solidFill>
                <a:latin typeface="Franklin Gothic Book"/>
                <a:ea typeface="Times New Roman"/>
              </a:rPr>
              <a:t>''Korijeni učenja su gorki, ali plodovi su slatki.'' (Aristotel 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e70797"/>
                </a:solidFill>
                <a:latin typeface="Franklin Gothic Book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8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zervirano mjesto broja slajda 2"/>
          <p:cNvSpPr/>
          <p:nvPr/>
        </p:nvSpPr>
        <p:spPr>
          <a:xfrm>
            <a:off x="214200" y="6357960"/>
            <a:ext cx="285840" cy="3096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747F-35FF-44EA-9050-F4E78097E763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Okomiti svitak 1"/>
          <p:cNvSpPr/>
          <p:nvPr/>
        </p:nvSpPr>
        <p:spPr>
          <a:xfrm>
            <a:off x="1500120" y="571680"/>
            <a:ext cx="6500880" cy="5786280"/>
          </a:xfrm>
          <a:prstGeom prst="verticalScroll">
            <a:avLst>
              <a:gd name="adj" fmla="val 12500"/>
            </a:avLst>
          </a:prstGeom>
          <a:solidFill>
            <a:srgbClr val="ff388c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1a4f"/>
                </a:solidFill>
                <a:latin typeface="Script MT Bold"/>
                <a:ea typeface="Times New Roman"/>
              </a:rPr>
              <a:t>'' </a:t>
            </a:r>
            <a:r>
              <a:rPr b="1" i="1" lang="hr-HR" sz="2800" spc="-1" strike="noStrike">
                <a:solidFill>
                  <a:srgbClr val="002776"/>
                </a:solidFill>
                <a:latin typeface="Script MT Bold"/>
                <a:ea typeface="Times New Roman"/>
              </a:rPr>
              <a:t>Razlika  između  uspješni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2776"/>
                </a:solidFill>
                <a:latin typeface="Script MT Bold"/>
                <a:ea typeface="Times New Roman"/>
              </a:rPr>
              <a:t> </a:t>
            </a:r>
            <a:r>
              <a:rPr b="1" i="1" lang="hr-HR" sz="2800" spc="-1" strike="noStrike">
                <a:solidFill>
                  <a:srgbClr val="002776"/>
                </a:solidFill>
                <a:latin typeface="Script MT Bold"/>
                <a:ea typeface="Times New Roman"/>
              </a:rPr>
              <a:t>i  neuspješnih  ljudi  je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2776"/>
                </a:solidFill>
                <a:latin typeface="Script MT Bold"/>
                <a:ea typeface="Times New Roman"/>
              </a:rPr>
              <a:t>u  jednoj  rečenici: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002776"/>
                </a:solidFill>
                <a:latin typeface="Script MT Bold"/>
                <a:ea typeface="Times New Roman"/>
              </a:rPr>
              <a:t>«Nisam  imao  vremena.» '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zervirano mjesto broja slajda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0147-44FE-4904-814B-AE02662B70C5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344080" cy="13575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e70797"/>
                </a:solidFill>
                <a:latin typeface="Franklin Gothic Book"/>
              </a:rPr>
              <a:t>Što učiniti?</a:t>
            </a:r>
            <a:br>
              <a:rPr sz="4000"/>
            </a:b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56760" y="1213920"/>
            <a:ext cx="85726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Jasno i na vrijeme definirati pravila rada, ponašanja i komunikacij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Upoznati učenike s njihovim zadaćama  tijekom nastavnog procesa te načinima njihovog izvršavanj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Upoznati učenike s elementima praćenja, provjeravanja i ocjenjivanja te precizno dogovoriti pravila tog praćenja, vrednovanja i ocjenjivanja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Dogovoreno kontinuirano isticati i ponavljati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7" name="Rezervirano mjesto broja slajda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F747-6BC7-4D31-9AF8-F23C59208AEA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Elipsa 1"/>
          <p:cNvSpPr/>
          <p:nvPr/>
        </p:nvSpPr>
        <p:spPr>
          <a:xfrm>
            <a:off x="1143000" y="857160"/>
            <a:ext cx="6929280" cy="4929120"/>
          </a:xfrm>
          <a:prstGeom prst="ellipse">
            <a:avLst/>
          </a:prstGeom>
          <a:solidFill>
            <a:srgbClr val="ff388c"/>
          </a:solidFill>
          <a:ln w="1260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Franklin Gothic Book"/>
              </a:rPr>
              <a:t>Zahvaljujem Vam</a:t>
            </a:r>
            <a:r>
              <a:rPr b="1" lang="hr-HR" sz="2800" spc="-1" strike="noStrike">
                <a:solidFill>
                  <a:srgbClr val="ffffff"/>
                </a:solidFill>
                <a:latin typeface="Perpetua"/>
              </a:rPr>
              <a:t> </a:t>
            </a:r>
            <a:r>
              <a:rPr b="1" lang="hr-HR" sz="2800" spc="-1" strike="noStrike">
                <a:solidFill>
                  <a:srgbClr val="ffffff"/>
                </a:solidFill>
                <a:latin typeface="Franklin Gothic Book"/>
              </a:rPr>
              <a:t>na pažnji i želim Vam puno uspjeha i zadovoljstva u daljnjem radu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Slika 2" descr="cvijeće.jpg"/>
          <p:cNvPicPr/>
          <p:nvPr/>
        </p:nvPicPr>
        <p:blipFill>
          <a:blip r:embed="rId1"/>
          <a:stretch/>
        </p:blipFill>
        <p:spPr>
          <a:xfrm>
            <a:off x="3857760" y="4286160"/>
            <a:ext cx="1571400" cy="1285920"/>
          </a:xfrm>
          <a:prstGeom prst="rect">
            <a:avLst/>
          </a:prstGeom>
          <a:ln w="0">
            <a:noFill/>
          </a:ln>
        </p:spPr>
      </p:pic>
      <p:sp>
        <p:nvSpPr>
          <p:cNvPr id="376" name="Rezervirano mjesto broja slajda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A34D-6DFC-45D2-80CD-B1B8EC3485AE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zervirano mjesto broja slajda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F6CC-953C-41E9-8B05-202DBE636ABD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14200" y="356760"/>
            <a:ext cx="87156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e8a"/>
                </a:solidFill>
                <a:latin typeface="Franklin Gothic Book"/>
              </a:rPr>
              <a:t>1. Upoznajmo 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e8a"/>
                </a:solidFill>
                <a:latin typeface="Franklin Gothic Book"/>
              </a:rPr>
              <a:t>2. Kako smo se proveli na ljetnom odmoru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e8a"/>
                </a:solidFill>
                <a:latin typeface="Franklin Gothic Book"/>
              </a:rPr>
              <a:t>3. Što smo do sada naučili iz matematike i gdje to koristimo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e8a"/>
                </a:solidFill>
                <a:latin typeface="Franklin Gothic Book"/>
              </a:rPr>
              <a:t>4. Motivacija za daljnje učenje-želimo li saznati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e8a"/>
                </a:solidFill>
                <a:latin typeface="Franklin Gothic Book"/>
              </a:rPr>
              <a:t>5. Što ćemo još naučiti?-Upoznavanje nastavnih sadržaj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e8a"/>
                </a:solidFill>
                <a:latin typeface="Franklin Gothic Book"/>
              </a:rPr>
              <a:t>6. Upoznavanje udžbeničke literatu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e8a"/>
                </a:solidFill>
                <a:latin typeface="Franklin Gothic Book"/>
              </a:rPr>
              <a:t>7. Potreban pribor za ra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e8a"/>
                </a:solidFill>
                <a:latin typeface="Franklin Gothic Book"/>
              </a:rPr>
              <a:t>8. Dogovor o radu i pravilima ponašanj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e8a"/>
                </a:solidFill>
                <a:latin typeface="Franklin Gothic Book"/>
              </a:rPr>
              <a:t>9. Kako ćemo pratiti, provjeravati i ocjenjivati rad učenika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600" spc="-1" strike="noStrike">
                <a:solidFill>
                  <a:srgbClr val="002e8a"/>
                </a:solidFill>
                <a:latin typeface="Franklin Gothic Book"/>
              </a:rPr>
              <a:t>10. Razno-pitanja učenik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6320" indent="-25632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28800" y="2854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e70797"/>
                </a:solidFill>
                <a:latin typeface="Franklin Gothic Book"/>
              </a:rPr>
              <a:t>UPOZNAJMO</a:t>
            </a:r>
            <a:r>
              <a:rPr b="0" lang="hr-HR" sz="3800" spc="-1" strike="noStrike">
                <a:solidFill>
                  <a:srgbClr val="e70797"/>
                </a:solidFill>
                <a:latin typeface="Franklin Gothic Book"/>
              </a:rPr>
              <a:t> </a:t>
            </a:r>
            <a:r>
              <a:rPr b="1" lang="hr-HR" sz="3800" spc="-1" strike="noStrike">
                <a:solidFill>
                  <a:srgbClr val="e70797"/>
                </a:solidFill>
                <a:latin typeface="Franklin Gothic Book"/>
              </a:rPr>
              <a:t>SE</a:t>
            </a:r>
            <a:endParaRPr b="0" lang="en-US" sz="38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51" name="Rezervirano mjesto broja slajda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D8F2-919B-4B84-88C3-D23092750138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857160" y="1285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e8a"/>
                </a:solidFill>
                <a:latin typeface="Arial"/>
                <a:ea typeface="Arial"/>
              </a:rPr>
              <a:t>ukoliko još nismo predavali u danom razrednom odjelu ili ima novih učenika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e8a"/>
                </a:solidFill>
                <a:latin typeface="Arial"/>
                <a:ea typeface="Arial"/>
              </a:rPr>
              <a:t>  </a:t>
            </a:r>
            <a:r>
              <a:rPr b="1" lang="hr-HR" sz="2400" spc="-1" strike="noStrike">
                <a:solidFill>
                  <a:srgbClr val="002e8a"/>
                </a:solidFill>
                <a:latin typeface="Franklin Gothic Book"/>
              </a:rPr>
              <a:t>osobno predstavljanje učitelja i učenika u što opuštenijoj atmosferi, uputiti učenicima par optimističnih riječi -  osjećam da ste vi svi jako vrijedni i da ćemo se odlično slagati…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3" name="Slika 5" descr="dobrodošlica.jpg"/>
          <p:cNvPicPr/>
          <p:nvPr/>
        </p:nvPicPr>
        <p:blipFill>
          <a:blip r:embed="rId1"/>
          <a:stretch/>
        </p:blipFill>
        <p:spPr>
          <a:xfrm>
            <a:off x="3143160" y="4000680"/>
            <a:ext cx="2786040" cy="16430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ravokutnik 1"/>
          <p:cNvSpPr/>
          <p:nvPr/>
        </p:nvSpPr>
        <p:spPr>
          <a:xfrm>
            <a:off x="214200" y="285840"/>
            <a:ext cx="87156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buClr>
                <a:srgbClr val="ff388c"/>
              </a:buClr>
              <a:buSzPct val="1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2e8a"/>
                </a:solidFill>
                <a:latin typeface="Arial"/>
              </a:rPr>
              <a:t>ukoliko nastavljamo raditi u poznatom okruženj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e8a"/>
                </a:solidFill>
                <a:latin typeface="Franklin Gothic Book"/>
              </a:rPr>
              <a:t>    </a:t>
            </a:r>
            <a:r>
              <a:rPr b="1" lang="hr-HR" sz="2400" spc="-1" strike="noStrike">
                <a:solidFill>
                  <a:srgbClr val="002e8a"/>
                </a:solidFill>
                <a:latin typeface="Franklin Gothic Book"/>
              </a:rPr>
              <a:t>posvetiti par minuta učenicima, obratiti im se prozivajući ih imenima, primjetiti kako su narasli, odrasli, našaliti se kako su zasigurno puno učili matematiku tijekom ljeta  i s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Slika 2" descr="POVRATAK U ŠKOLU.jpg"/>
          <p:cNvPicPr/>
          <p:nvPr/>
        </p:nvPicPr>
        <p:blipFill>
          <a:blip r:embed="rId1"/>
          <a:stretch/>
        </p:blipFill>
        <p:spPr>
          <a:xfrm>
            <a:off x="2000160" y="3143160"/>
            <a:ext cx="4572000" cy="3000600"/>
          </a:xfrm>
          <a:prstGeom prst="rect">
            <a:avLst/>
          </a:prstGeom>
          <a:ln w="0">
            <a:noFill/>
          </a:ln>
        </p:spPr>
      </p:pic>
      <p:sp>
        <p:nvSpPr>
          <p:cNvPr id="256" name="Rezervirano mjesto broja slajda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75F9-B1FA-4943-A8FF-B724AC0DDCC4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12254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e70797"/>
                </a:solidFill>
                <a:latin typeface="Franklin Gothic Book"/>
              </a:rPr>
              <a:t>KAKO SMO SE PROVELI NA LJETNOM ODMORU?</a:t>
            </a:r>
            <a:endParaRPr b="0" lang="en-US" sz="3800" spc="-1" strike="noStrike">
              <a:solidFill>
                <a:srgbClr val="666666"/>
              </a:solidFill>
              <a:latin typeface="Franklin Gothic Book"/>
            </a:endParaRPr>
          </a:p>
        </p:txBody>
      </p:sp>
      <p:sp>
        <p:nvSpPr>
          <p:cNvPr id="258" name="Rezervirano mjesto broja slajda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C2FF-42F7-4761-A66D-058F21B1AD23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Dozvoliti učenicima da ukratko kažu par riječi o svom ljetnom odmoru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2e8a"/>
                </a:solidFill>
                <a:latin typeface="Franklin Gothic Book"/>
              </a:rPr>
              <a:t>Napraviti blagi prijelaz pitanjem-u čemu vam je znanje matematike koristilo tijekom ljetnog odmora?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0" name="Slika 4" descr="more.jpg"/>
          <p:cNvPicPr/>
          <p:nvPr/>
        </p:nvPicPr>
        <p:blipFill>
          <a:blip r:embed="rId1"/>
          <a:stretch/>
        </p:blipFill>
        <p:spPr>
          <a:xfrm>
            <a:off x="2357280" y="3857760"/>
            <a:ext cx="4214880" cy="25002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7972560" cy="10000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e70797"/>
                </a:solidFill>
                <a:latin typeface="Franklin Gothic Book"/>
              </a:rPr>
              <a:t>Karta Hrvatske</a:t>
            </a:r>
            <a:endParaRPr b="0" lang="en-US" sz="4000" spc="-1" strike="noStrike">
              <a:solidFill>
                <a:srgbClr val="666666"/>
              </a:solidFill>
              <a:latin typeface="Franklin Gothic Book"/>
            </a:endParaRPr>
          </a:p>
        </p:txBody>
      </p:sp>
      <p:pic>
        <p:nvPicPr>
          <p:cNvPr id="262" name="Rezervirano mjesto sadržaja 3" descr="kh.jpg"/>
          <p:cNvPicPr/>
          <p:nvPr/>
        </p:nvPicPr>
        <p:blipFill>
          <a:blip r:embed="rId1"/>
          <a:stretch/>
        </p:blipFill>
        <p:spPr>
          <a:xfrm>
            <a:off x="2214720" y="1357200"/>
            <a:ext cx="4572000" cy="3214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263" name="TekstniOkvir 4"/>
          <p:cNvSpPr/>
          <p:nvPr/>
        </p:nvSpPr>
        <p:spPr>
          <a:xfrm>
            <a:off x="571680" y="4786200"/>
            <a:ext cx="835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2e8a"/>
                </a:solidFill>
                <a:latin typeface="Arial"/>
              </a:rPr>
              <a:t>udaljenost  od mjesta stanovanja,vrijeme potrebno za put, nadmorska visina, mjerilo na karti, broj stanovnika u mjestu ljetnog  odmora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zervirano mjesto broja slajda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9F99F-3712-4807-8208-94739F5E41EF}" type="slidenum">
              <a:rPr b="0" lang="hr-H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2T22:29:43Z</dcterms:created>
  <dc:creator>Profesorica</dc:creator>
  <dc:description/>
  <dc:language>en-US</dc:language>
  <cp:lastModifiedBy>Profesorica</cp:lastModifiedBy>
  <dcterms:modified xsi:type="dcterms:W3CDTF">2010-09-02T11:26:49Z</dcterms:modified>
  <cp:revision>360</cp:revision>
  <dc:subject/>
  <dc:title>UVODNI SAT MATEMATIKE</dc:title>
</cp:coreProperties>
</file>