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C9C-D5C6-4DD7-B48B-26DF62C3E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38C2-954E-4D34-B3E5-F4D87405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C970-4F52-495D-83EC-283E66FDD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D282-DE01-47B0-8CC8-819495CD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B3BE-8712-49A6-ABB1-12B38D11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C3A2-E7FF-48A3-A49C-B5A17F43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4CACE-50F3-42CE-BFBB-862D1286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63727-BFD2-4A0A-858D-F10CB3FB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6093-6372-4E4C-A30C-11B6A78E4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4983-B817-46AE-B10D-B793874D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9A534-9140-457E-8CA1-3FE50C61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779-E71E-4056-BF25-9347A12B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AA61-412C-4C6F-9CCE-37C4B09D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0330-DF2B-4417-9C59-422C9822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72AA-1727-45BA-B1FE-84256442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E16F-4D7E-4CB9-93BF-AC6FCE6A1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3280-BD59-4117-B6BA-EFA39C127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8E8-5294-40FD-8803-84D38828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65C9-B410-4A22-8717-99A05A6F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2E1-2EA7-4F43-A8DE-87392256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9E7B-B23C-4ACD-B946-4D7B3DBA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F68C-639E-49ED-9024-F10854C5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7B40-A205-4323-A606-8C66E742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829-D2AE-491A-8741-1546A8FD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F269-65A6-4FA4-8503-45D1B103FACF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27D4-15D3-4AD2-B2EE-D956ECAB5E8C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357360" y="1863360"/>
            <a:ext cx="495756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66"/>
                </a:solidFill>
                <a:latin typeface="Arial"/>
              </a:rPr>
              <a:t>Inicijalni ispiti znanja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rlovac, 25. kolovoz 2010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irjana Muštra, prof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Š Vrbani, Zagr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1144440"/>
            <a:ext cx="81630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3366"/>
                </a:solidFill>
                <a:latin typeface="Arial"/>
              </a:rPr>
              <a:t>Nove mogućnosti (e-learning)</a:t>
            </a: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icijalne ispite provesti u obliku upitnika koji bi mogli biti objavljeni na internetskim stranicama škola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Zainteresirani učenici imali bi mogućnost riješiti predloženi inicijalni ispit i sami procijeniti razinu svoga znanja te broj osvojenih bodova anonimno iskazati u anke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nicijalni ispit znanja obvezno provesti u petom i prvom razredu srednje škole, ali i uvijek u slučaju kad učitelj ili nastavnik dobiva razredno odjeljenje u kojem nije poučavao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400" y="2827440"/>
            <a:ext cx="7678800" cy="338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3366"/>
                </a:solidFill>
                <a:latin typeface="Arial"/>
                <a:ea typeface="Arial"/>
              </a:rPr>
              <a:t>Inicijalni ispit je informacija iz prve ruke, a informiran učitelj je bolje pripremljen na različita iznenađenja s kakvima se iz dana u dan možemo susresti u učionici.</a:t>
            </a:r>
            <a:br>
              <a:rPr sz="3600"/>
            </a:br>
            <a:endParaRPr b="0" lang="en-US" sz="36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964960" y="1766520"/>
            <a:ext cx="61786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3366"/>
                </a:solidFill>
                <a:latin typeface="Verdana"/>
              </a:rPr>
              <a:t>Hvala na pozornosti!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0713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3366"/>
                </a:solidFill>
                <a:latin typeface="Arial"/>
              </a:rPr>
              <a:t>Inicijalni (uvodni) ispiti znanja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nicijalni ili uvodni ispiti znanja predstavljaju niz zadataka objektivnog tipa koje ob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 sastavlja sam 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elj ili nastavnik i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vod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a p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tku nove školske godi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icijalni 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pit znanja je dijagnost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og tipa, a krajnji cilj mu je kriterijska interpretacija rezultata ispitivanja koji ispituju zat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o stanj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767880"/>
            <a:ext cx="8163000" cy="9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ravilnik o n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inu pr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ć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enja i ocjenjivanj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u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č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enika u osnovnoj i srednjoj školi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Članak 19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a početku nastavne godine pisanom provjerom </a:t>
            </a:r>
            <a:r>
              <a:rPr b="0" i="1" lang="hr-HR" sz="2000" spc="-1" strike="noStrike">
                <a:solidFill>
                  <a:srgbClr val="c00000"/>
                </a:solidFill>
                <a:latin typeface="Arial"/>
                <a:ea typeface="Arial"/>
              </a:rPr>
              <a:t>mogu se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tvrđivati prethodno stečena znanja (tzv. uvodni ili inicijalni test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akon pismene provjere, učitelj odnosno nastavnik obvezan je učenicima obrazložiti ustanovljeni stupanj usvojenosti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rethodnoga gradiva i, prema potrebi, usmjeriti ih da ponove određene sadržaj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ko rezultati pismene provjere poka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 da ve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a u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ika nema potrebno znanje za svladavanje novih nastavnih sadr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ja, </a:t>
            </a:r>
            <a:r>
              <a:rPr b="0" i="1" lang="hr-HR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nastavnik </a:t>
            </a:r>
            <a:r>
              <a:rPr b="0" i="1" lang="hr-HR" sz="2000" spc="-1" strike="noStrike">
                <a:solidFill>
                  <a:srgbClr val="c00000"/>
                </a:solidFill>
                <a:latin typeface="Arial"/>
              </a:rPr>
              <a:t>ć</a:t>
            </a:r>
            <a:r>
              <a:rPr b="0" i="1" lang="hr-HR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e o tome izvijestiti ravnatelja i stru</a:t>
            </a:r>
            <a:r>
              <a:rPr b="0" i="1" lang="hr-HR" sz="2000" spc="-1" strike="noStrike">
                <a:solidFill>
                  <a:srgbClr val="c00000"/>
                </a:solidFill>
                <a:latin typeface="Arial"/>
              </a:rPr>
              <a:t>č</a:t>
            </a:r>
            <a:r>
              <a:rPr b="0" i="1" lang="hr-HR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no - pedagošku slu</a:t>
            </a:r>
            <a:r>
              <a:rPr b="0" i="1" lang="hr-HR" sz="2000" spc="-1" strike="noStrike">
                <a:solidFill>
                  <a:srgbClr val="c00000"/>
                </a:solidFill>
                <a:latin typeface="Arial"/>
              </a:rPr>
              <a:t>ž</a:t>
            </a:r>
            <a:r>
              <a:rPr b="0" i="1" lang="hr-HR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bu 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adi dogovora o na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u ponavljanja gradiva koje prethodno nije usvojeno ili je zaboravljeno</a:t>
            </a:r>
            <a:r>
              <a:rPr b="0" i="1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9680" y="83988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Razlo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zi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 slabe riješenosti inicijalnih ispita znanja iz matematike 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202392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nicijalni ispiti znanja sadrže zadatke iz više područja matematike, obimniji su po gradivu koje je njime obuhvaćeno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Učenici su navikli pisati ispite tek nakon obrađene i sistematizirane cjeline, obično se prilikom sistematizacije sugeriraju zadaci koji bi se mogli naći u ispitu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Ne pripremaju se posebno za ispit, a zaborav igra ključnu ulogu. Zaboravili su i formule koje su im potrebne prilikom rješavanja zadataka iz ispita znanj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Opustili su se tijekom praznika i potrebno im je neko vrijeme (oko dva tjedna) za ponovno uhodavanje ( da «uhvate ritam»)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  <a:ea typeface="Arial"/>
              </a:rPr>
              <a:t>Prisutan je strah i neizvjesnost od nove sredine i novih okolnosti (naročito u petom razredu i prvom srednje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912600" y="21333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Učitelj, učenik, ali i roditelj dobiva uvid u razinu usvojenosti dosadašnjeg gradiva matematik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Učitelj nakon ispita dijagnosticira koje dijelove gradiva treba ponoviti i utvrditi («popuniti rupe»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Učitelj može dobiti predodžbe o znanju, ali i karakteristikama gotovo svakog učenika ( što ovisi o detaljnosti analize rezultata) i odmah na početku nastavne godine razviti taktiku postupanja u pojedinom razrednom odjeljenju. To vrijedi naročito ukoliko učitelj ne poznaje razredno odjeljenj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  <a:ea typeface="Arial"/>
              </a:rPr>
              <a:t>Učitelj može uočiti propuste u dosadašnjem poučavanju i pokušati odmah na početku ispraviti ono što smatra da nije dobro odrađen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642600" y="708120"/>
            <a:ext cx="8163000" cy="107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3366"/>
                </a:solidFill>
                <a:latin typeface="Arial"/>
              </a:rPr>
              <a:t>Argumenti učitelja </a:t>
            </a:r>
            <a:r>
              <a:rPr b="0" lang="hr-HR" sz="3200" spc="-1" strike="noStrike">
                <a:solidFill>
                  <a:srgbClr val="c00000"/>
                </a:solidFill>
                <a:latin typeface="Arial"/>
              </a:rPr>
              <a:t>za</a:t>
            </a:r>
            <a:r>
              <a:rPr b="0" lang="hr-HR" sz="3200" spc="-1" strike="noStrike">
                <a:solidFill>
                  <a:srgbClr val="003366"/>
                </a:solidFill>
                <a:latin typeface="Arial"/>
              </a:rPr>
              <a:t> pisanje inicijalnih ispita znanja</a:t>
            </a:r>
            <a:r>
              <a:rPr b="0" lang="hr-HR" sz="3200" spc="-1" strike="noStrike">
                <a:solidFill>
                  <a:srgbClr val="003366"/>
                </a:solidFill>
                <a:latin typeface="Verdana"/>
              </a:rPr>
              <a:t> (I.)</a:t>
            </a:r>
            <a:endParaRPr b="0" lang="en-US" sz="32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čenik može dobiti dodatnu motivaciju, ukoliko je dobro riješio ispit znanj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Ako nije polučio uspjeh u skladu sa svojim očekivanjima, može poduzeti dodatne napore da svlada gradivo za koje se pokaže da nije dobro usvojen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Ukoliko roditelji nisu zadovoljni rezultatima koje je njihovo dijete pokazalo na inicijalnom ispitu, mogu poduzeti određene mjere na vrijeme.</a:t>
            </a:r>
            <a:r>
              <a:rPr b="0" lang="hr-H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623520" y="831960"/>
            <a:ext cx="816300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rgumenti učitelja </a:t>
            </a:r>
            <a:r>
              <a:rPr b="0" lang="hr-HR" sz="2800" spc="-1" strike="noStrike">
                <a:solidFill>
                  <a:srgbClr val="c00000"/>
                </a:solidFill>
                <a:latin typeface="Arial"/>
              </a:rPr>
              <a:t>za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pisanje inicijalnih ispita znanja</a:t>
            </a:r>
            <a:r>
              <a:rPr b="0" lang="hr-HR" sz="2800" spc="-1" strike="noStrike">
                <a:solidFill>
                  <a:srgbClr val="003366"/>
                </a:solidFill>
                <a:latin typeface="Verdana"/>
              </a:rPr>
              <a:t> (II.)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55240"/>
            <a:ext cx="8001000" cy="18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br>
              <a:rPr sz="2800"/>
            </a:b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Provesti ispit odmah nakon uvodnog sata ili tek nakon nekoliko sati ponavljanja?</a:t>
            </a:r>
            <a:br>
              <a:rPr sz="2800"/>
            </a:b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eki učitelji smatraju da se prava razina znanja pokazuje bez ikakve pripreme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o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čitelj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ipak ponavlja gradivo (obično četiri do šest nastavnih sati) i nakon toga provodi inicijalni ispit znanj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Poneki učitelji smatraju da, ako se ispit piše nakon ponavljanja, mogu upisati ocjene u ocjensku križaljk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Mogućnost je i da učenicima koji su zadovoljni ocjenom (a takvih je jako malo, obično samo odlični) upišemo ocjenu u ocjensku križaljk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11888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Argumenti </a:t>
            </a:r>
            <a:r>
              <a:rPr b="0" lang="hr-HR" sz="2800" spc="-1" strike="noStrike">
                <a:solidFill>
                  <a:srgbClr val="c00000"/>
                </a:solidFill>
                <a:latin typeface="Arial"/>
              </a:rPr>
              <a:t>protiv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pisanja inicijalnih ispita znanja 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Važnije je odmah krpati «rupe u znanju», jer se ionako zna da postoje, a iskusni učitelji već znaju što treba ponovi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epotrebno se gubi barem dva sata nasta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Ocjena se ionako ne može upisa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Ispiti ne donose pravu sliku o razini znanja učenik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Arial"/>
              </a:rPr>
              <a:t>Nakon dobivanja rezultata koji su ispod očekivanih ili ispod dosadašnje razine, učenicima pada samopouzdanje i motivacija za daljnji ra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1520" y="759960"/>
            <a:ext cx="8610840" cy="95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3366"/>
                </a:solidFill>
                <a:latin typeface="Arial"/>
                <a:ea typeface="Arial"/>
              </a:rPr>
              <a:t>I kod učitelja koji ne smatraju nužnim pisanje inicijalnih ispita postoje razlike u stavovima.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284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Jedni smatraju da treba ponavljati gradivo nekoliko sati na početku nastavne godine bez posebne dijagnostike, prema svom nahođenju i dosadašnjem iskustvu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rugi dio smatra da treba odmah prijeći na novo gradivo i u okviru pojedinih cjelina ponavljati on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j dio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gradiv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za kojim se pokaže potreba.</a:t>
            </a:r>
            <a:r>
              <a:rPr b="0" lang="hr-H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13:15:28Z</dcterms:created>
  <dc:creator>Mirjana</dc:creator>
  <dc:description/>
  <dc:language>en-US</dc:language>
  <cp:lastModifiedBy>Mirjana Mustra</cp:lastModifiedBy>
  <dcterms:modified xsi:type="dcterms:W3CDTF">2010-08-23T10:46:38Z</dcterms:modified>
  <cp:revision>25</cp:revision>
  <dc:subject/>
  <dc:title>Prilog raspravi o inicijalnim ispitima znanja</dc:title>
</cp:coreProperties>
</file>