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12524-95BC-4E21-871B-973535631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CF07A-CB8E-4DDB-A3C3-101632A34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D5EA2-5A00-4DF8-B1AA-FD43E0063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205F8-7509-4105-89F8-88CA92EF1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48060-723D-4B71-AA68-FEABE8DA7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5B187-620B-48E7-B902-BE1D0C4B4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950C4-A36C-4675-A0EB-B40B37CC6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C806A-54F3-44C3-B867-1A0BDF595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E12BE-BF7E-4A6F-9EEA-0C90DC84E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999FF-E34B-416D-8CF0-7B3F264A9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5DC2F-CAE4-4A7E-9847-A97F22FC8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78178-123A-49E2-ACB3-FE6368F88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Picture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63CEC-5621-4EB0-8C50-9AFF7BC5CA77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"/>
          <p:cNvSpPr/>
          <p:nvPr/>
        </p:nvSpPr>
        <p:spPr>
          <a:xfrm>
            <a:off x="0" y="6336000"/>
            <a:ext cx="9144000" cy="5202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7f7f7f"/>
                </a:solidFill>
                <a:latin typeface="Arial Narrow"/>
                <a:ea typeface="Times New Roman"/>
              </a:rPr>
              <a:t>ŽSV odgoj  za ljudska prava i demokratsko građanstvo ( 3-11-09): </a:t>
            </a:r>
            <a:r>
              <a:rPr b="0" lang="hr-HR" sz="1400" spc="-1" strike="noStrike">
                <a:solidFill>
                  <a:srgbClr val="bfbfbf"/>
                </a:solidFill>
                <a:latin typeface="Arial Narrow"/>
                <a:ea typeface="Times New Roman"/>
              </a:rPr>
              <a:t>Razvijanje temeljnih kompetencija i uvođenje sustava upravljanja kvalitetom u odgojno – obrazovni rad učeničkih domov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europass.cedefop.europa.eu/europass/home/hornav/Introduction.csp?loc=en_GB" TargetMode="External"/><Relationship Id="rId2" Type="http://schemas.openxmlformats.org/officeDocument/2006/relationships/hyperlink" Target="http://europass.cedefop.europa.eu/europass/home/hornav/Introduction.csp?loc=en_GB" TargetMode="External"/><Relationship Id="rId3" Type="http://schemas.openxmlformats.org/officeDocument/2006/relationships/hyperlink" Target="http://europass.cedefop.europa.eu/europass/home/hornav/Introduction.csp?loc=es_ES" TargetMode="External"/><Relationship Id="rId4" Type="http://schemas.openxmlformats.org/officeDocument/2006/relationships/hyperlink" Target="http://europass.cedefop.europa.eu/europass/home/hornav/Introduction.csp?loc=es_ES" TargetMode="External"/><Relationship Id="rId5" Type="http://schemas.openxmlformats.org/officeDocument/2006/relationships/hyperlink" Target="http://europass.cedefop.europa.eu/europass/home/hornav/Introduction.csp?loc=fr_FR" TargetMode="External"/><Relationship Id="rId6" Type="http://schemas.openxmlformats.org/officeDocument/2006/relationships/hyperlink" Target="http://europass.cedefop.europa.eu/europass/home/hornav/Introduction.csp?loc=fr_FR" TargetMode="External"/><Relationship Id="rId7" Type="http://schemas.openxmlformats.org/officeDocument/2006/relationships/hyperlink" Target="http://europass.cedefop.europa.eu/europass/home/hornav/Introduction.csp?loc=hr_HR" TargetMode="External"/><Relationship Id="rId8" Type="http://schemas.openxmlformats.org/officeDocument/2006/relationships/hyperlink" Target="http://europass.cedefop.europa.eu/europass/home/hornav/Introduction.csp?loc=hr_HR" TargetMode="External"/><Relationship Id="rId9" Type="http://schemas.openxmlformats.org/officeDocument/2006/relationships/hyperlink" Target="http://europass.cedefop.europa.eu/europass/home/hornav/Introduction.csp?loc=is_IS" TargetMode="External"/><Relationship Id="rId10" Type="http://schemas.openxmlformats.org/officeDocument/2006/relationships/hyperlink" Target="http://europass.cedefop.europa.eu/europass/home/hornav/Introduction.csp?loc=it_IT" TargetMode="External"/><Relationship Id="rId11" Type="http://schemas.openxmlformats.org/officeDocument/2006/relationships/hyperlink" Target="http://europass.cedefop.europa.eu/europass/home/hornav/Introduction.csp?loc=it_IT" TargetMode="External"/><Relationship Id="rId1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Times New Roman"/>
              </a:rPr>
              <a:t>Hrvatski kvalifikacijski okvir, Nacionalni okvirni kurikulum i Program Europske komisije</a:t>
            </a:r>
            <a:r>
              <a:rPr b="1" lang="hr-HR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hr-HR" sz="2400" spc="-1" strike="noStrike">
                <a:solidFill>
                  <a:srgbClr val="000000"/>
                </a:solidFill>
                <a:latin typeface="Times New Roman"/>
              </a:rPr>
              <a:t>Odgoj i obrazovanje 2010”,  2020.</a:t>
            </a:r>
            <a:r>
              <a:rPr b="1" lang="hr-H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Nevenka Lončarić Jelačić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viša savjetnica za nacionalne program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Times New Roman"/>
              </a:rPr>
              <a:t>Agencija za odgoj i obrazovanj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Times New Roman"/>
              </a:rPr>
              <a:t>U izvješću Europskog vijeća i Komisije o napretku u provođenju Programa odgoja i obrazovanja 2010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hr-HR" sz="2400" spc="-1" strike="noStrike">
                <a:solidFill>
                  <a:srgbClr val="000000"/>
                </a:solidFill>
                <a:latin typeface="Times New Roman"/>
              </a:rPr>
              <a:t>pozornost se usmjerava na to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Times New Roman"/>
              </a:rPr>
              <a:t>jesu li zemlje članice donijele nacionalnu strategiju za cjeloživotno učenje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Times New Roman"/>
              </a:rPr>
              <a:t>Jesu li provedene reforme koje strukovno obrazovanje čine privlačnijim i bolje prilagođenim potrebama tržišta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Times New Roman"/>
              </a:rPr>
              <a:t>Je li je osuvremenjeno visoko obrazovanje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Times New Roman"/>
              </a:rPr>
              <a:t>Je li ekonomska kriza služi da bi se ubrzale reforme koje pružaju odgovor na osnovne gospodarske i društvene promjene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Times New Roman"/>
              </a:rPr>
              <a:t>Je li se pruža dovoljna potpora učiteljima u razvoju njihovih kompetencija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Times New Roman"/>
              </a:rPr>
              <a:t>Je li se uvode novi oblici organiziranog učenja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Times New Roman"/>
              </a:rPr>
              <a:t>Je li je izvršena takva promjena u obrazovanju koja omogućava da svi učenici imaju koristi od inovativnih obrazovnih pristupa uključujući učenike s teškoćama, učenike u strukovnom obrazovanju i učenike u obrazovanju odraslih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Times New Roman"/>
              </a:rPr>
              <a:t>Jesu li kroskurikularne ključne kompetencije postale više značajne i vidljive u kurikulumu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Times New Roman"/>
              </a:rPr>
              <a:t>Je li se ključne kompetencije vezane za tradicionalne predmete (</a:t>
            </a:r>
            <a:r>
              <a:rPr b="0" lang="hr-HR" sz="2000" spc="-1" strike="noStrike">
                <a:solidFill>
                  <a:srgbClr val="000000"/>
                </a:solidFill>
                <a:latin typeface="Times New Roman"/>
              </a:rPr>
              <a:t>hrvatski jezik, strani jezik, matematika i prirodoslovlje</a:t>
            </a:r>
            <a:r>
              <a:rPr b="1" lang="hr-HR" sz="2000" spc="-1" strike="noStrike">
                <a:solidFill>
                  <a:srgbClr val="000000"/>
                </a:solidFill>
                <a:latin typeface="Times New Roman"/>
              </a:rPr>
              <a:t>) više tretiraju na kroskurikularan način s više naglaska na razvoj životnih vještina i pozitivnih vrijednosti zajedno sa znanjem te većom primjenom u stvarnom životu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Times New Roman"/>
              </a:rPr>
              <a:t>Pristup usmjeren na razvoj kompetencija uključuje vještine i stavove potrebne za pravilnu upotrebu znanja, razvoj pozitivnih vrijednosti prema daljnjem učenju, razvoj kritičkog mišljenja i kreativnost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Times New Roman"/>
              </a:rPr>
              <a:t>To zahtjeva stvarnu promjenu načina kako je organizirano učenje i snažno ovisi o osposobljenosti učitelja i ravnatelja škol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Times New Roman"/>
              </a:rPr>
              <a:t>Samo u nekim zemljama učitelji se u dodiplomskom obrazovanju osposobljavaju za primjenu ključnih kompetencija  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Iz dokumenta COM(2009)640 final, str. 2 - 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5" descr="europass_hp2b"/>
          <p:cNvPicPr/>
          <p:nvPr/>
        </p:nvPicPr>
        <p:blipFill>
          <a:blip r:embed="rId1"/>
          <a:stretch/>
        </p:blipFill>
        <p:spPr>
          <a:xfrm>
            <a:off x="2771640" y="1989000"/>
            <a:ext cx="2127240" cy="36007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7" descr="europass_hp1b"/>
          <p:cNvPicPr/>
          <p:nvPr/>
        </p:nvPicPr>
        <p:blipFill>
          <a:blip r:embed="rId2"/>
          <a:stretch/>
        </p:blipFill>
        <p:spPr>
          <a:xfrm>
            <a:off x="684360" y="1125360"/>
            <a:ext cx="2104920" cy="50403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1" descr="europass_hp3b"/>
          <p:cNvPicPr/>
          <p:nvPr/>
        </p:nvPicPr>
        <p:blipFill>
          <a:blip r:embed="rId3"/>
          <a:stretch/>
        </p:blipFill>
        <p:spPr>
          <a:xfrm>
            <a:off x="4859280" y="1413000"/>
            <a:ext cx="1238400" cy="45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En</a:t>
            </a:r>
            <a:r>
              <a:rPr b="1" lang="hr-HR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2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elcome</a:t>
            </a:r>
            <a:r>
              <a:rPr b="1" lang="hr-HR" sz="2800" spc="-1" strike="noStrike">
                <a:solidFill>
                  <a:srgbClr val="000000"/>
                </a:solidFill>
                <a:latin typeface="Calibri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Es</a:t>
            </a:r>
            <a:r>
              <a:rPr b="1" lang="hr-HR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28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Bienvenido!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Fr</a:t>
            </a:r>
            <a:r>
              <a:rPr b="1" lang="hr-HR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28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Bienvenue</a:t>
            </a:r>
            <a:r>
              <a:rPr b="1" lang="hr-HR" sz="2800" spc="-1" strike="noStrike">
                <a:solidFill>
                  <a:srgbClr val="000000"/>
                </a:solidFill>
                <a:latin typeface="Calibri"/>
              </a:rPr>
              <a:t>!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Hr</a:t>
            </a:r>
            <a:r>
              <a:rPr b="1" lang="hr-HR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28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Dobrodošli!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Is</a:t>
            </a:r>
            <a:r>
              <a:rPr b="1" lang="hr-HR" sz="2800" spc="-1" strike="noStrike">
                <a:solidFill>
                  <a:srgbClr val="0000ff"/>
                </a:solidFill>
                <a:latin typeface="Calibri"/>
              </a:rPr>
              <a:t> Velkomin</a:t>
            </a:r>
            <a:r>
              <a:rPr b="1" lang="hr-HR" sz="2800" spc="-1" strike="noStrike">
                <a:solidFill>
                  <a:srgbClr val="000000"/>
                </a:solidFill>
                <a:latin typeface="Calibri"/>
              </a:rPr>
              <a:t> 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It</a:t>
            </a:r>
            <a:r>
              <a:rPr b="1" lang="hr-HR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28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Benvenuti </a:t>
            </a:r>
            <a:r>
              <a:rPr b="1" lang="hr-HR" sz="2800" spc="-1" strike="noStrike">
                <a:solidFill>
                  <a:srgbClr val="000000"/>
                </a:solidFill>
                <a:latin typeface="Calibri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Calibri"/>
              </a:rPr>
              <a:t>Lv Laipni lūdzam !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Calibri"/>
              </a:rPr>
              <a:t>Lt Sveiki atvykę 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Calibri"/>
              </a:rPr>
              <a:t>Hu Üdvözöljük !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800" spc="-1" strike="noStrike">
                <a:solidFill>
                  <a:srgbClr val="000000"/>
                </a:solidFill>
                <a:latin typeface="Calibri"/>
              </a:rPr>
              <a:t>Kako se svijet rada promijenio</a:t>
            </a:r>
            <a:br>
              <a:rPr sz="2800"/>
            </a:br>
            <a:r>
              <a:rPr b="0" i="1" lang="hr-HR" sz="2800" spc="-1" strike="noStrike">
                <a:solidFill>
                  <a:srgbClr val="000000"/>
                </a:solidFill>
                <a:latin typeface="Calibri"/>
              </a:rPr>
              <a:t>Izvor</a:t>
            </a:r>
            <a:r>
              <a:rPr b="0" i="1" lang="en-GB" sz="20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i="1" lang="fr-BE" sz="2000" spc="-1" strike="noStrike">
                <a:solidFill>
                  <a:srgbClr val="000000"/>
                </a:solidFill>
                <a:latin typeface="Calibri"/>
              </a:rPr>
              <a:t>John A. Byrne; </a:t>
            </a:r>
            <a:r>
              <a:rPr b="0" i="1" lang="en-GB" sz="2000" spc="-1" strike="noStrike">
                <a:solidFill>
                  <a:srgbClr val="000000"/>
                </a:solidFill>
                <a:latin typeface="Calibri"/>
              </a:rPr>
              <a:t>Business Week 28 August 200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468360" y="1557360"/>
          <a:ext cx="8229600" cy="461160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arakteristik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. stoljeć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. stoljeć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rganizacij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iramid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eb umrežavanj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sredotočeno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nutarnj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njsk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i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rukturir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leksibil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zvor sna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bilno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mje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ruktur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modostatno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đuovisno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izvod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sovna proizvodnj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sovna prilagodba potrošači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611280" y="1700280"/>
          <a:ext cx="8075520" cy="4703760"/>
        </p:xfrm>
        <a:graphic>
          <a:graphicData uri="http://schemas.openxmlformats.org/drawingml/2006/table">
            <a:tbl>
              <a:tblPr/>
              <a:tblGrid>
                <a:gridCol w="2692440"/>
                <a:gridCol w="2690640"/>
                <a:gridCol w="26924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arakteristik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. stoljeć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. stoljeć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se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cionaln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lobaln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ventu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jesec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t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rategij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dozg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dozd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ođenj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gmatič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ticaj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adnic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aposlenic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biniraju vlastitu karijer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fesionalna očekivanj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gurno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sobni razvoj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tivacij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tjecateljs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azvojna /to bil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boljšanj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stup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volucionar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valite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volj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eskompromis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Inovativnost i kreativnost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 – </a:t>
            </a:r>
            <a:r>
              <a:rPr b="1" lang="hr-HR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zašto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Times New Roman"/>
              </a:rPr>
              <a:t>Gospodarske promjene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Times New Roman"/>
              </a:rPr>
              <a:t>Inovativnost je ključ za dogoročni rast gospodarstava utemeljenih na znanju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Times New Roman"/>
              </a:rPr>
              <a:t>Globalne promjene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Times New Roman"/>
              </a:rPr>
              <a:t>Klimatske promjene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hr-HR" sz="2000" spc="-1" strike="noStrike">
                <a:solidFill>
                  <a:srgbClr val="000000"/>
                </a:solidFill>
                <a:latin typeface="Times New Roman"/>
              </a:rPr>
              <a:t>pitanje nestašice energije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hr-HR" sz="2000" spc="-1" strike="noStrike">
                <a:solidFill>
                  <a:srgbClr val="000000"/>
                </a:solidFill>
                <a:latin typeface="Times New Roman"/>
              </a:rPr>
              <a:t>zagađenje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hr-HR" sz="2000" spc="-1" strike="noStrike">
                <a:solidFill>
                  <a:srgbClr val="000000"/>
                </a:solidFill>
                <a:latin typeface="Times New Roman"/>
              </a:rPr>
              <a:t>voda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hr-HR" sz="2000" spc="-1" strike="noStrike">
                <a:solidFill>
                  <a:srgbClr val="000000"/>
                </a:solidFill>
                <a:latin typeface="Times New Roman"/>
              </a:rPr>
              <a:t>zdravlje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hr-HR" sz="2000" spc="-1" strike="noStrike">
                <a:solidFill>
                  <a:srgbClr val="000000"/>
                </a:solidFill>
                <a:latin typeface="Times New Roman"/>
              </a:rPr>
              <a:t>sigurnost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Times New Roman"/>
              </a:rPr>
              <a:t>Potreba za novim održivim odgovorima – i to brzo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Demogra</a:t>
            </a:r>
            <a:r>
              <a:rPr b="1" lang="hr-HR" sz="2400" spc="-1" strike="noStrike">
                <a:solidFill>
                  <a:srgbClr val="000000"/>
                </a:solidFill>
                <a:latin typeface="Times New Roman"/>
              </a:rPr>
              <a:t>fske i društvene promjene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Times New Roman"/>
              </a:rPr>
              <a:t>Starenje populacije i porast imigracije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Times New Roman"/>
              </a:rPr>
              <a:t>Potreba inovativnog razvoja javnih služb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Times New Roman"/>
              </a:rPr>
              <a:t>Tehnološke promjene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Times New Roman"/>
              </a:rPr>
              <a:t>Kumulativni rast znanja i informacija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Times New Roman"/>
              </a:rPr>
              <a:t>Informacijske i komunikacijske tehnologij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Times New Roman"/>
              </a:rPr>
              <a:t>Kreativne industrije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hr-HR" sz="2800" spc="-1" strike="noStrike">
                <a:solidFill>
                  <a:srgbClr val="000000"/>
                </a:solidFill>
                <a:latin typeface="Times New Roman"/>
              </a:rPr>
              <a:t>Obrazovne reforme u zemljama EU koje podupiru ugrađivanje ključnih kompetencij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Izvor: Cross-country Analysis 2009, str. 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395280" y="2133720"/>
          <a:ext cx="8229600" cy="3535200"/>
        </p:xfrm>
        <a:graphic>
          <a:graphicData uri="http://schemas.openxmlformats.org/drawingml/2006/table">
            <a:tbl>
              <a:tblPr/>
              <a:tblGrid>
                <a:gridCol w="2057400"/>
                <a:gridCol w="1903320"/>
                <a:gridCol w="1944720"/>
                <a:gridCol w="2324160"/>
              </a:tblGrid>
              <a:tr h="192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riste EU okvir ključnih kompetencija da reformiraju načine odgoja i obrazovanj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riste ga kao referencu za  fino podešavanje reforme obraz. sustav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vode reforme koje su usklađene s određenim aspektima EU okvira K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veli su reforme i mjere usklađene s Okvirom ključnih kompetencija prije njegova donošenj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T BG CY CZ EE ES FR </a:t>
                      </a:r>
                      <a:r>
                        <a:rPr b="1" lang="hr-HR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HR </a:t>
                      </a:r>
                      <a:r>
                        <a:rPr b="1" lang="hr-HR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S LT  LV RO SK SI</a:t>
                      </a:r>
                      <a:r>
                        <a:rPr b="0" lang="hr-HR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hr-H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G FR NL EL HU LU NO P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L UK IE MT D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K FI 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hr-HR" sz="3200" spc="-1" strike="noStrike">
                <a:solidFill>
                  <a:srgbClr val="000000"/>
                </a:solidFill>
                <a:latin typeface="Times New Roman"/>
              </a:rPr>
              <a:t>Usmjerenost na ishode i kompetencij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Konceptu usmjerenosti na ishode učenja i poučavanja  i na ugrađivanje ključnih kompetencija posvećuju veliku pozornost sve europske zemlj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To za obrazovne sustave znači promjenu u cjelokupnom odgojno-obrazovnom procesu: umjesto stavljanja težišta na obrazovne sadržaje predmeta stavlja se težište na učenika i što on treba znati i moći učiniti s tim znanjem na kraju odgojno-obrazovnog procesa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Times New Roman"/>
              </a:rPr>
              <a:t>Usvajanje Lisabonske strategije 2000. godine dalo je poticaj razvoju EU politike odgoja i obrazovanj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Times New Roman"/>
              </a:rPr>
              <a:t>Političari na europskoj razini prepoznali su da su odgoj i obrazovanje ključni za razvoj suvremenog društva i gospodarstva znanj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Times New Roman"/>
              </a:rPr>
              <a:t>Naglasak je europske strategije na to da zemlje surađuju i uče jedna od druge (metode okupljanja u interesne klastere, učenje razmjenom iskustava - </a:t>
            </a:r>
            <a:r>
              <a:rPr b="1" i="1" lang="hr-HR" sz="2400" spc="-1" strike="noStrike">
                <a:solidFill>
                  <a:srgbClr val="000000"/>
                </a:solidFill>
                <a:latin typeface="Times New Roman"/>
              </a:rPr>
              <a:t>Pear Learning Activities</a:t>
            </a:r>
            <a:r>
              <a:rPr b="1" lang="hr-HR" sz="2400" spc="-1" strike="noStrike">
                <a:solidFill>
                  <a:srgbClr val="000000"/>
                </a:solidFill>
                <a:latin typeface="Times New Roman"/>
              </a:rPr>
              <a:t>, otvorena metoda koordinacije - </a:t>
            </a:r>
            <a:r>
              <a:rPr b="1" i="1" lang="hr-HR" sz="2400" spc="-1" strike="noStrike">
                <a:solidFill>
                  <a:srgbClr val="000000"/>
                </a:solidFill>
                <a:latin typeface="Times New Roman"/>
              </a:rPr>
              <a:t>Open Method of Coordin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hr-HR" sz="3200" spc="-1" strike="noStrike">
                <a:solidFill>
                  <a:srgbClr val="000000"/>
                </a:solidFill>
                <a:latin typeface="Times New Roman"/>
              </a:rPr>
              <a:t>Koncept ishoda povezuje Nacionalni okvirni kurikulum i Hrvatski kvalifikacijski okvi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Times New Roman"/>
              </a:rPr>
              <a:t>Europski kvalifikacijski okvir (EQF) i Europski kreditni sistem za strukovno obrazovanje (ECVET) temelje se na ishodim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Times New Roman"/>
              </a:rPr>
              <a:t>Europske zemlje razvijaju nacionalne kvalifikacijske okvire utemeljene na ishodim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Times New Roman"/>
              </a:rPr>
              <a:t>Hrvatski kvalifikacijski okvir temelji se na ishodim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Times New Roman"/>
              </a:rPr>
              <a:t>Nacionalni okvirni kurikulum koristi koncept odgoja i obrazovanja koji opisuje precizno i jasno ishode koji se trebaju ostvariti kod učenik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Times New Roman"/>
              </a:rPr>
              <a:t>Ishodi, odnosno kompetencije su najdublji zajednički nazivnik svih europskih okvirnih dokumenata i nacionalnih pristupa i rješenja koja su različita s obzirom na stupanj razvijenosti, kulturološke različitosti, stupanj organiziranosti i sl.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Times New Roman"/>
              </a:rPr>
              <a:t>Konceptom ishoda u toj se različitosti osigurava prohodnost, suradnja, razumijevanje i zajedništvo – unutar zemlje i u E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Times New Roman"/>
              </a:rPr>
              <a:t>Nacionalni okvirni kurikulum (NOK) i ključne kompetencij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Times New Roman"/>
              </a:rPr>
              <a:t>U NOK se ugrađuje svih 8 preporučenih ključnih kompetencija iz EU kompetencijskog okvira. To su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Times New Roman"/>
              </a:rPr>
              <a:t>komuniciranje  na materinjem jeziku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Times New Roman"/>
              </a:rPr>
              <a:t>komuniciranje na stranom jeziku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Times New Roman"/>
              </a:rPr>
              <a:t>matematička i prirodoslovna</a:t>
            </a:r>
            <a:r>
              <a:rPr b="1" lang="hr-H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hr-HR" sz="2400" spc="-1" strike="noStrike">
                <a:solidFill>
                  <a:srgbClr val="000000"/>
                </a:solidFill>
                <a:latin typeface="Times New Roman"/>
              </a:rPr>
              <a:t>pismenost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Times New Roman"/>
              </a:rPr>
              <a:t>digitalna kompetencija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(ove su kompetencije vezane za već postojeće predmete i kod njih nema problema s uvođenjem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Times New Roman"/>
              </a:rPr>
              <a:t>umijeće organiziranja i uređivanja vlastitog učenja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Times New Roman"/>
              </a:rPr>
              <a:t>socijalne vještine i građanska kompetencija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Times New Roman"/>
              </a:rPr>
              <a:t>poduzetnost/poduzetništvo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Times New Roman"/>
              </a:rPr>
              <a:t>kulturološka osviještenost i izražavanje (glazba, mediji, tjelesna kultura i očuvanje zdravlja, književnost, umjetnosti) - 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ove se kompetencije zovu međupredmetne i traže nova organizacijska rješenja u kurikulumu da bi se mogle uvest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Times New Roman"/>
              </a:rPr>
              <a:t>Zaključci EU Klastera za ključne kompetencije i reformu kurikulum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Iako na europskoj razini postoji velika koncentracija znanja ugrađenog u preporuke i okvirne dokumente, nacionalne reforme trebaju biti utemeljene na utvrđenim činjenicama (rezultati operativnih istraživanja) teorijski dobro utemeljene i provedive, pragmatične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radi se o poboljšanju učenja svakog učenika (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t is about improving learning of every child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Potreban je sistematski pristup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kurikulum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dodiplomsko i poslijediplomsko obrazovanje učitelja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upravljanje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ocjenjivanje, nastavni materijali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….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sve u skladu s novom paradigmo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Ugrađivanje ključnih kompetencija za cjeloživotno učenje u NOK i u odgojno-obrazovni proces traži kreativna i inovativna rješenj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Potiče se korištenje odgojno-obrazovnih metoda koje uključuju učenike u proces aktivnog, iskustvenog, suradničkog, projektnog učenja i povezivanja sa stvarnim životom u društvenoj sredini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Uvođenje novih oblika organiziranog učenja - metode koje vode iskustvenom učenj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000" spc="-1" strike="noStrike">
                <a:solidFill>
                  <a:srgbClr val="000000"/>
                </a:solidFill>
                <a:latin typeface="Times New Roman"/>
              </a:rPr>
              <a:t>Metode raznih oblika grupnog rad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000" spc="-1" strike="noStrike">
                <a:solidFill>
                  <a:srgbClr val="000000"/>
                </a:solidFill>
                <a:latin typeface="Times New Roman"/>
              </a:rPr>
              <a:t>metoda suradničkog učen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000" spc="-1" strike="noStrike">
                <a:solidFill>
                  <a:srgbClr val="000000"/>
                </a:solidFill>
                <a:latin typeface="Times New Roman"/>
              </a:rPr>
              <a:t>metoda radioničkog učen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000" spc="-1" strike="noStrike">
                <a:solidFill>
                  <a:srgbClr val="000000"/>
                </a:solidFill>
                <a:latin typeface="Times New Roman"/>
              </a:rPr>
              <a:t>metoda socijalnih projekata</a:t>
            </a:r>
            <a:r>
              <a:rPr b="0" lang="hr-HR" sz="2000" spc="-1" strike="noStrike">
                <a:solidFill>
                  <a:srgbClr val="000000"/>
                </a:solidFill>
                <a:latin typeface="Times New Roman"/>
              </a:rPr>
              <a:t> u suradnji s roditeljima, građanima, stručnjacima i predstavnicima lokalnih vlasti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000" spc="-1" strike="noStrike">
                <a:solidFill>
                  <a:srgbClr val="000000"/>
                </a:solidFill>
                <a:latin typeface="Times New Roman"/>
              </a:rPr>
              <a:t>Metoda projektnog rješavanja problema i inovativnosti u prirodoslovnom i tehničkom području</a:t>
            </a:r>
            <a:r>
              <a:rPr b="0" lang="hr-HR" sz="2000" spc="-1" strike="noStrike">
                <a:solidFill>
                  <a:srgbClr val="000000"/>
                </a:solidFill>
                <a:latin typeface="Times New Roman"/>
              </a:rPr>
              <a:t> u suradnji s razvojnim centrima gospodarskih tvrtki i znanstvenim istraživačkim centrim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000" spc="-1" strike="noStrike">
                <a:solidFill>
                  <a:srgbClr val="000000"/>
                </a:solidFill>
                <a:latin typeface="Times New Roman"/>
              </a:rPr>
              <a:t>metoda simuliranih suđenja</a:t>
            </a:r>
            <a:r>
              <a:rPr b="0" lang="hr-HR" sz="2000" spc="-1" strike="noStrike">
                <a:solidFill>
                  <a:srgbClr val="000000"/>
                </a:solidFill>
                <a:latin typeface="Times New Roman"/>
              </a:rPr>
              <a:t> u suradnji s pravosudnim sustavom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000" spc="-1" strike="noStrike">
                <a:solidFill>
                  <a:srgbClr val="000000"/>
                </a:solidFill>
                <a:latin typeface="Times New Roman"/>
              </a:rPr>
              <a:t>metoda volonterskog rada, </a:t>
            </a:r>
            <a:r>
              <a:rPr b="0" lang="hr-HR" sz="2000" spc="-1" strike="noStrike">
                <a:solidFill>
                  <a:srgbClr val="000000"/>
                </a:solidFill>
                <a:latin typeface="Times New Roman"/>
              </a:rPr>
              <a:t>u suradnji</a:t>
            </a:r>
            <a:r>
              <a:rPr b="1" i="1" lang="hr-H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r-HR" sz="2000" spc="-1" strike="noStrike">
                <a:solidFill>
                  <a:srgbClr val="000000"/>
                </a:solidFill>
                <a:latin typeface="Times New Roman"/>
              </a:rPr>
              <a:t>s predstavnicima civilnog sektora (učilišta volonter, Crveni križ, CARITA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000" spc="-1" strike="noStrike">
                <a:solidFill>
                  <a:srgbClr val="000000"/>
                </a:solidFill>
                <a:latin typeface="Times New Roman"/>
              </a:rPr>
              <a:t>metoda mirotvornog rada, </a:t>
            </a:r>
            <a:r>
              <a:rPr b="0" lang="hr-HR" sz="2000" spc="-1" strike="noStrike">
                <a:solidFill>
                  <a:srgbClr val="000000"/>
                </a:solidFill>
                <a:latin typeface="Times New Roman"/>
              </a:rPr>
              <a:t>osposobljavanje učitelja miritelja i učenika miritelja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000" spc="-1" strike="noStrike">
                <a:solidFill>
                  <a:srgbClr val="000000"/>
                </a:solidFill>
                <a:latin typeface="Times New Roman"/>
              </a:rPr>
              <a:t>metoda radionice budućnosti – </a:t>
            </a:r>
            <a:r>
              <a:rPr b="0" lang="hr-HR" sz="2000" spc="-1" strike="noStrike">
                <a:solidFill>
                  <a:srgbClr val="000000"/>
                </a:solidFill>
                <a:latin typeface="Times New Roman"/>
              </a:rPr>
              <a:t>učenici stječu iskustvo aktivnog i kreativnog učenja, stječu iskustvo osobnog otkrivanja budućnost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Times New Roman"/>
              </a:rPr>
              <a:t>Očekivani učinak razvoja ključnih kompetencij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Povećavaju horizontalnu povezanost kurikuluma, zahtijevaju koordinaciju i suradnju na svim razinama  u školi, zahtijevaju  i predstavljaju drugačije oblike organizacije kurikulum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Kroz integrirajuće teme ključnih kompetencija dolazi do snažnijeg i sadržajnije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povezivanja škole, obitelji i društva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Učenici nisu u ulozi pasivnih slušatelja, suočeni s određenim „nastavnim materijalom“, koji je pripremio učitelj, već su pozvani na aktivno sudjelovanje i su-oblikovanje, </a:t>
            </a:r>
            <a:r>
              <a:rPr b="1" lang="hr-HR" sz="2800" spc="-1" strike="noStrike">
                <a:solidFill>
                  <a:srgbClr val="000000"/>
                </a:solidFill>
                <a:latin typeface="Times New Roman"/>
              </a:rPr>
              <a:t>isto kao i učitelji koji su pozvani kreirati i osmišljavati nova rješenja za nastavne procese usmjerene prema učeniku i individualiziranim oblicima učenja - daroviti, djeca s teškoćama, različite sposobnosti, pronalaženje u čemu učenik može biti uspješan, pružanje mogućnosti za stjecanje samopouzdanja i uspješnog učenja i s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 u="sng">
                <a:solidFill>
                  <a:srgbClr val="000000"/>
                </a:solidFill>
                <a:uFillTx/>
                <a:latin typeface="Times New Roman"/>
              </a:rPr>
              <a:t>Primjer učenika iz Irske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Izjava o konceptu projektnog učenja – “dok smo prepisivali s ploče </a:t>
            </a:r>
            <a:r>
              <a:rPr b="1" lang="hr-HR" sz="3200" spc="-1" strike="noStrike">
                <a:solidFill>
                  <a:srgbClr val="000000"/>
                </a:solidFill>
                <a:latin typeface="Times New Roman"/>
              </a:rPr>
              <a:t>mislili smo da učimo</a:t>
            </a: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, sada kad zajednički radimo na projektu, rješavamo probleme, razgovaramo, obrazlažemo, uočavamo, povezujemo, zaključujemo - </a:t>
            </a:r>
            <a:r>
              <a:rPr b="1" lang="hr-HR" sz="3200" spc="-1" strike="noStrike">
                <a:solidFill>
                  <a:srgbClr val="000000"/>
                </a:solidFill>
                <a:latin typeface="Times New Roman"/>
              </a:rPr>
              <a:t>doista učimo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Times New Roman"/>
              </a:rPr>
              <a:t>Učinak na razvoj osobnost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Times New Roman"/>
              </a:rPr>
              <a:t>Mišljenje, rješavanje problema i odlučivanje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 -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traganje za smislom, produbljivanje 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razumijevanja, svladavanje izazov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Times New Roman"/>
              </a:rPr>
              <a:t>Kreativnost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 - zamišljanje, zaključivanje, inventivnost, preuzimanje rizika za učenj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Times New Roman"/>
              </a:rPr>
              <a:t>Suradnja s drugima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 - suradništvo, osjetljivost za osjećaje drugih, pravednost i odgovorno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Times New Roman"/>
              </a:rPr>
              <a:t>Upravljanje sobom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 - samovrednovanje prednosti i nedostataka, postavljanje ciljeva, upravljanje sobo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Times New Roman"/>
              </a:rPr>
              <a:t>Identitet - </a:t>
            </a: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samopouzdanj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Times New Roman"/>
              </a:rPr>
              <a:t>Europska komisija i zemlje članice Europske Unije ojačale su svoju političku suradnju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Times New Roman"/>
              </a:rPr>
              <a:t>To je učinjeno putem </a:t>
            </a:r>
            <a:r>
              <a:rPr b="1" i="1" lang="hr-HR" sz="2400" spc="-1" strike="noStrike">
                <a:solidFill>
                  <a:srgbClr val="0000ff"/>
                </a:solidFill>
                <a:latin typeface="Times New Roman"/>
              </a:rPr>
              <a:t>Radnog programa odgoj i obrazovanje 2010.- Education and Training 2010 work programme</a:t>
            </a:r>
            <a:r>
              <a:rPr b="1" i="1" lang="hr-H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hr-HR" sz="2400" spc="-1" strike="noStrike">
                <a:solidFill>
                  <a:srgbClr val="000000"/>
                </a:solidFill>
                <a:latin typeface="Times New Roman"/>
              </a:rPr>
              <a:t>donesenog 2001. i njegovim slijednikom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400" spc="-1" strike="noStrike">
                <a:solidFill>
                  <a:srgbClr val="0000ff"/>
                </a:solidFill>
                <a:latin typeface="Times New Roman"/>
              </a:rPr>
              <a:t>Strateški okvir za europsku suradnju u odgoju i obrazovanju 2020</a:t>
            </a:r>
            <a:r>
              <a:rPr b="1" lang="hr-HR" sz="24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i="1" lang="hr-HR" sz="2400" spc="-1" strike="noStrike">
                <a:solidFill>
                  <a:srgbClr val="0000ff"/>
                </a:solidFill>
                <a:latin typeface="Times New Roman"/>
              </a:rPr>
              <a:t>Strategic framework for European cooperation in education and training</a:t>
            </a:r>
            <a:r>
              <a:rPr b="1" lang="hr-HR" sz="2400" spc="-1" strike="noStrike">
                <a:solidFill>
                  <a:srgbClr val="0000ff"/>
                </a:solidFill>
                <a:latin typeface="Times New Roman"/>
              </a:rPr>
              <a:t> (“ET 2020”)</a:t>
            </a:r>
            <a:r>
              <a:rPr b="1" lang="hr-HR" sz="2400" spc="-1" strike="noStrike">
                <a:solidFill>
                  <a:srgbClr val="000000"/>
                </a:solidFill>
                <a:latin typeface="Times New Roman"/>
              </a:rPr>
              <a:t> usvojenu od Europskog vijeća u svibnju 2009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Times New Roman"/>
              </a:rPr>
              <a:t>Na koji na</a:t>
            </a: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1" lang="hr-HR" sz="3200" spc="-1" strike="noStrike">
                <a:solidFill>
                  <a:srgbClr val="000000"/>
                </a:solidFill>
                <a:latin typeface="Times New Roman"/>
              </a:rPr>
              <a:t>in možemo u nastavi razvijati  kompetencij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Da bismo razvili ključne kompetencije u nastavi, potrebno j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Times New Roman"/>
              </a:rPr>
              <a:t>prenijeti 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ZNANJE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Times New Roman"/>
              </a:rPr>
              <a:t>uvježbati 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DJELOVANJE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Times New Roman"/>
              </a:rPr>
              <a:t>razviti 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VRIJEDNOSTI i STAVOVE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Ova su tri elementa kompetencije povezana na način da se manifestiraju u konkretnom PONAŠANJ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Times New Roman"/>
              </a:rPr>
              <a:t>Stoga, u konkretno ponašanje ulazi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Times New Roman"/>
              </a:rPr>
              <a:t>postojeće znanje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Times New Roman"/>
              </a:rPr>
              <a:t>usvojen repertoar djelovanja te nadasv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Times New Roman"/>
              </a:rPr>
              <a:t>vrijednosti kao instrument upravljanja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Times New Roman"/>
              </a:rPr>
              <a:t>Dok se znanje i vještine za djelovanje mogu prilično lako razviti, pitanje RAZVOJA VRIJEDNOSTI čini se prilično zahtjevni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Times New Roman"/>
              </a:rPr>
              <a:t>Što zahtijevaju nastavni procesi koji imaju za cilj stjecanje kompetencija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Jasnu analizu potreba učenik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Utvrđivanje njihova predznanj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Odabir nastavnih sadržaja koji imaju veze s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svakodnevnim životom učenik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Ponudu tema i aktivnosti (znanja, informacija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kako bi se steklo znanje ali i razvile vještine i kako bi 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se potom provjerili, stekli i promijenili stavov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Odabir motivirajućih tehnika rada - igranje uloga, grupni oblici rada, radionički oblici rada, projekti  (metoda „Projekt građanin“), terenske studije, kazalište, radionica budućnosti i dru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ZAHVALJUJEM NA POZORNOSTI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Dodatne informacije, materijali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www.azoo.hr/projekti/nacionalni program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Opširnije na webu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http://ec.europa.eu/education/index_en.ht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http://www.coe.int/T/E/Cultural_Co-operation/educ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Dugoročni ciljevi EU obrazovne politik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U novom strateškom okviru identificirana su četiri dugoročna cilja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hr-HR" sz="2400" spc="-1" strike="noStrike">
                <a:solidFill>
                  <a:srgbClr val="000000"/>
                </a:solidFill>
                <a:latin typeface="Times New Roman"/>
              </a:rPr>
              <a:t>1. Ostvariti mobilnost i cjeloživotno učenj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hr-HR" sz="2400" spc="-1" strike="noStrike">
                <a:solidFill>
                  <a:srgbClr val="000000"/>
                </a:solidFill>
                <a:latin typeface="Times New Roman"/>
              </a:rPr>
              <a:t>2. Poboljšati kvalitetu i učinkovitost odgoja i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hr-HR" sz="2400" spc="-1" strike="noStrike">
                <a:solidFill>
                  <a:srgbClr val="000000"/>
                </a:solidFill>
                <a:latin typeface="Times New Roman"/>
              </a:rPr>
              <a:t>obrazovanj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hr-HR" sz="2400" spc="-1" strike="noStrike">
                <a:solidFill>
                  <a:srgbClr val="000000"/>
                </a:solidFill>
                <a:latin typeface="Times New Roman"/>
              </a:rPr>
              <a:t>3. Promovirati ravnopravnost, društvenu koheziju 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hr-HR" sz="2400" spc="-1" strike="noStrike">
                <a:solidFill>
                  <a:srgbClr val="000000"/>
                </a:solidFill>
                <a:latin typeface="Times New Roman"/>
              </a:rPr>
              <a:t>aktivno građanstv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hr-HR" sz="2400" spc="-1" strike="noStrike">
                <a:solidFill>
                  <a:srgbClr val="000000"/>
                </a:solidFill>
                <a:latin typeface="Times New Roman"/>
              </a:rPr>
              <a:t>4. Povećanje kreativnosti, inovativnosti i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hr-HR" sz="2400" spc="-1" strike="noStrike">
                <a:solidFill>
                  <a:srgbClr val="000000"/>
                </a:solidFill>
                <a:latin typeface="Times New Roman"/>
              </a:rPr>
              <a:t>poduzetnosti, na svim razinama odgoja i obrazovanja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Times New Roman"/>
              </a:rPr>
              <a:t>Utvrđena su europska mjerila uspješnosti u ostvarivanju ciljeva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Times New Roman"/>
              </a:rPr>
              <a:t>Najmanje 95% djece između 4 godine do početka osnovne škole bit će uključeno u predškolski odgoj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Times New Roman"/>
              </a:rPr>
              <a:t>Udio 15- godišnjaka s nedostatnom osposobljenošću za čitanje, računanje, prirodoslovlje, bit će manji od 15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Times New Roman"/>
              </a:rPr>
              <a:t>Udio onih koji rano ispadaju iz obrazovnog sustava bit će manji od 10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Times New Roman"/>
              </a:rPr>
              <a:t>Udio onih između 30 – 34 godine starosti koji će biti uključeni u tercijarno obrazovanje bit će najmanje 40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Times New Roman"/>
              </a:rPr>
              <a:t>Najmanje 15% odraslih u dobi između 25 – 64 godine starosti sudjelovat će u cjeloživotnom učenj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Times New Roman"/>
              </a:rPr>
              <a:t>Na temelju navedena 4 strateška cilja utvrđena su konkretna područja aktivnosti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Times New Roman"/>
              </a:rPr>
              <a:t>Na primjer, povećanje mogućnosti za mobilnost u učenju (EU passport, EQF)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Times New Roman"/>
              </a:rPr>
              <a:t>Uspostavljanje i intenziviranje partnerstva između obrazovnih ustanova i šireg druš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Times New Roman"/>
              </a:rPr>
              <a:t>Promoviranje kreativnog, inovativnog i poduzetnog načina razmišljanja među učenicima, studentima, učiteljima i istraživačima što će pridonijeti progresivnom razvoju  poduzetničke kulture kroz odgoj i obrazovanje zajedno s dinamičnijim europskim tržištem rada i visoko kvalificiranom radnom snagom 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(2009/C 302/03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175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Times New Roman"/>
              </a:rPr>
              <a:t>Razvoj veće usklađenosti obrazovnih politika radi tjesnijeg povezivanja triju komponenti </a:t>
            </a:r>
            <a:r>
              <a:rPr b="1" lang="hr-HR" sz="2400" spc="-1" strike="noStrike">
                <a:solidFill>
                  <a:srgbClr val="0000ff"/>
                </a:solidFill>
                <a:latin typeface="Times New Roman"/>
              </a:rPr>
              <a:t>trokuta znanja</a:t>
            </a:r>
            <a:r>
              <a:rPr b="1" lang="hr-HR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ff"/>
                </a:solidFill>
                <a:latin typeface="Times New Roman"/>
              </a:rPr>
              <a:t>obrazovanja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ff"/>
                </a:solidFill>
                <a:latin typeface="Times New Roman"/>
              </a:rPr>
              <a:t>istraživanja i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ff"/>
                </a:solidFill>
                <a:latin typeface="Times New Roman"/>
              </a:rPr>
              <a:t>inovacija</a:t>
            </a:r>
            <a:r>
              <a:rPr b="1" lang="hr-H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hr-HR" sz="2400" spc="-1" strike="noStrike">
                <a:solidFill>
                  <a:srgbClr val="000000"/>
                </a:solidFill>
                <a:latin typeface="Times New Roman"/>
              </a:rPr>
              <a:t>radi osiguranja razvoja potpuno funkcionalnog trokuta znanja i radi ubrzavanja tranzicije prema gospodarstvu uistinu utemeljenom na znanju 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(2009/C 302/03), (EDUC SOC 659 15465/09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000000"/>
                </a:solidFill>
                <a:latin typeface="Times New Roman"/>
              </a:rPr>
              <a:t>Europske smjernic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Times New Roman"/>
              </a:rPr>
              <a:t>Utvrđene su brojne smjernice koje pomažu u ostvarivanju postavljenih ciljeva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Times New Roman"/>
              </a:rPr>
              <a:t>Europski okvir ključnih kompetencija za cjeloživotno učenj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Times New Roman"/>
              </a:rPr>
              <a:t>Europski kvalifikacijski okvir za cjeloživotno učenj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Times New Roman"/>
              </a:rPr>
              <a:t>Europska profesionalna putovnica koja se sastoji od pet dijelova (Europutovnica životopisa, Europutovnica stranih jezika , Europutovnica dodatka svjedodžbi, Europutovnica dodatka diplomi, Europutovnica mobilnosti)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Times New Roman"/>
              </a:rPr>
              <a:t>Preporuka za poboljšanje kvalitete obrazovanja učitelja i d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Times New Roman"/>
              </a:rPr>
              <a:t>Razvijen je sustav izvješćivanja i nadgledanja (monitoring) napretka zemalja prema postavljenim mjerilim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Times New Roman"/>
              </a:rPr>
              <a:t>O tome govore izlazni dokument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Times New Roman"/>
              </a:rPr>
              <a:t>Svodno izvješće 2010. o napretku u primjeni Programa odgoj i obrazovanje 2010 (</a:t>
            </a:r>
            <a:r>
              <a:rPr b="1" i="1" lang="hr-HR" sz="2400" spc="-1" strike="noStrike">
                <a:solidFill>
                  <a:srgbClr val="000000"/>
                </a:solidFill>
                <a:latin typeface="Times New Roman"/>
              </a:rPr>
              <a:t>The 2010 Joint Report on progress under the Education and Training 2010 work programme</a:t>
            </a:r>
            <a:r>
              <a:rPr b="1" lang="hr-HR" sz="2400" spc="-1" strike="noStrike">
                <a:solidFill>
                  <a:srgbClr val="000000"/>
                </a:solidFill>
                <a:latin typeface="Times New Roman"/>
              </a:rPr>
              <a:t>) s aneksima 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Times New Roman"/>
              </a:rPr>
              <a:t>Međudržavna analiza 2009. (</a:t>
            </a:r>
            <a:r>
              <a:rPr b="1" i="1" lang="hr-HR" sz="2000" spc="-1" strike="noStrike">
                <a:solidFill>
                  <a:srgbClr val="000000"/>
                </a:solidFill>
                <a:latin typeface="Times New Roman"/>
              </a:rPr>
              <a:t>Cross-country analisys 2009</a:t>
            </a:r>
            <a:r>
              <a:rPr b="1" lang="hr-HR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Times New Roman"/>
              </a:rPr>
              <a:t>Izvješće o napretku prema indikatorima i mjerilima 2009. (</a:t>
            </a:r>
            <a:r>
              <a:rPr b="1" i="1" lang="hr-HR" sz="2000" spc="-1" strike="noStrike">
                <a:solidFill>
                  <a:srgbClr val="000000"/>
                </a:solidFill>
                <a:latin typeface="Times New Roman"/>
              </a:rPr>
              <a:t>The 2009 Progress Report on Indicators and Benchmarks</a:t>
            </a:r>
            <a:r>
              <a:rPr b="1" lang="hr-HR" sz="2000" spc="-1" strike="noStrike">
                <a:solidFill>
                  <a:srgbClr val="000000"/>
                </a:solidFill>
                <a:latin typeface="Calibri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2T10:24:59Z</dcterms:created>
  <dc:creator>Sinisa</dc:creator>
  <dc:description/>
  <dc:language>en-US</dc:language>
  <cp:lastModifiedBy>Andreja Marcetić</cp:lastModifiedBy>
  <dcterms:modified xsi:type="dcterms:W3CDTF">2010-06-14T15:34:20Z</dcterms:modified>
  <cp:revision>91</cp:revision>
  <dc:subject/>
  <dc:title>Slide 1</dc:title>
</cp:coreProperties>
</file>