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0881-4A70-4F5F-A973-2DDC83F05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E0AE-3676-4DD9-A5F5-302CFF02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0F0D-D035-4D84-933B-97620D4F8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CB98-DDCF-4B6C-9BE2-9AAEDE80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B45-0835-4A60-8CA8-485546EAD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5446-1869-45CF-B4AB-078EBD283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AC26-4CB0-4DD2-A829-E3B10C9B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FE84-D06F-4B4E-8AB1-20D58619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16E4-3E7D-435D-ABD1-BC74BA31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EEB-6577-4E51-87C5-3ED474CC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BD4C-A95B-4A41-A6DD-63DBB107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70c0"/>
              </a:solidFill>
              <a:latin typeface="Arial Narrow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16E-B00B-4EB3-B8AC-0CF2F51F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C1F6-1583-4EF9-9118-126C7B2F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12B-D96F-4E62-8528-ED0638D4A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C382-6188-4708-871E-4FD27034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BFF-46F9-4B86-A0E9-88F39FA6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E244-F36E-4A0D-8B2D-2F96139B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95D4-F578-4E99-B845-66401847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4C11-399A-425C-8949-858471BD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BC1-B445-4401-B36A-6FE63B30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77D5-27FB-41DE-AEB3-E6D79024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D52-854B-490A-B011-A43ACF9D5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74D1-59E3-48F5-9BD6-0AF9CA4C9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6776-05E7-4C25-8862-C0E997B0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79CA-CF7F-44D6-A43B-BCD7FF42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54E0-8F47-483E-906F-A9263F25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A241-0783-4FC0-88BF-30E6C225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A6A5-8456-4193-A15E-3BF5AEB6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DE15-0635-4397-AA29-AB6BBAE4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6D55-FF70-4DEF-AEB7-AF0DCB692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D8D3-8505-47E9-A53B-4A461645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594E-C24A-45BD-BB7E-D9BC6A07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1A4-4A64-4C61-B2C1-81FDCD64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560D-6721-45B7-AE99-709B67262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A19-65F0-442A-83CE-8C2EA2989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4F84-9675-4668-833B-DFD2C77A3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AA5-75B9-4CEC-A830-D2200697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1A7-9EF6-41AC-BF11-2A950EB8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B2F-A0E5-4D16-A11F-7D74C698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051-3A1A-4C6D-802F-377EF2A0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DBC9-D81A-459C-8C3E-7CA77363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793C-39F2-486F-84BD-98A51844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4D59-F454-4BF4-B328-229EC97F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E30A-2FC6-4F7F-940B-E8C1754D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0C93-90E8-4651-9539-7C010C8E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D748-6868-48B1-B18D-446203B4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2A3A-D8D9-4BF3-A9E5-F3026261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264-23B6-4B4C-AA45-6374E660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B261-894D-4818-A755-381F726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BC43-C292-4EC7-884D-4BD4FA0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578-9624-4EA1-933C-50E40B4F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31F5-D1F8-446B-8897-9D46DAF3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11E6-FB4F-47E7-9286-49583E71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43D4-08DE-456E-8E32-2B65B75A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A9FF-8BC3-4CD8-A09C-F6060C54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22CE-3A3F-4016-88B4-7B429AEF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AE3D-4CC2-4F3E-B3AD-AEA6E57D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C132-1C37-4F34-AF8C-30E322BA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D40-CA04-4083-8E7C-9B6AD50B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DEBF-B60E-4B54-89A3-E8E7CBA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1ECB-F7A9-4623-BF0C-8E5648F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86C9-9594-4197-8F7F-932D73E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AEE9-1D13-4209-BF09-5645D9F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9327-4D9A-4F29-B3E8-EA1D5F04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C032-2E57-4E4C-B6D1-E5BA1EA2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A7BB-4B34-4AE8-981D-AF1A9256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4575-CDB1-4E41-B864-3E0DDDFD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CA15-A9FB-4744-9A10-7B1D04F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AEA1-B4D4-4149-A60C-D40F080A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81A-2B6B-45DD-A760-F6B2A55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6497-8BE8-4772-9593-D1E98AC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BD19-AC01-4AAF-8AF8-CC837F16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ED968-04D3-4ABE-A6BA-3CFBB0AB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D847-7895-4581-8D18-919A7310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7A62-8372-41C4-89D2-21A1A184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6FCE-988B-4B4F-9FFF-5F4A5D9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B8B0-3DD1-49FE-8669-7E45DFE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7DAA-FC02-446E-BC6A-46A7096E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2FA4-7AF0-42C4-87D5-45A96805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DA79-61A9-44A9-B364-F9EF65CD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991-BE67-4F79-85CB-C8ED910A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51EF-D46C-4631-8C83-58CA1641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475DF-A168-4346-B2E2-7524D168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CB5A-B85C-4AC6-B10A-E4C0D110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5631C-3D84-4A0D-B2CA-461366C9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600A-9E22-4965-918A-9CA9F55E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14D7-45E0-4967-AC05-48F1E9D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AE117-4376-499A-82C5-1B89DA0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0E74F-F7E8-4A25-9B6C-3FA9D93D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E1B0F-EA55-497D-878D-6BDA630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160C-5935-4BBA-972F-117498E4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191-8FDC-45A4-8E7F-0E6A59B6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0C206-3FA7-4D0A-B1B1-8F4860FD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279C-9C07-453B-BA1D-E37AB707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B2B23-FB4B-432E-8D21-5A06C89C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75EAE-5773-4A54-9775-E767665E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8C89-AB29-4F5D-BFB0-7F04D6C4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A5C5-C4DF-497C-AE39-16579A1D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52B1-1E23-4447-B02F-AB11859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626C-FE00-47D1-B304-618665E2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7D454-E499-4E23-8253-ED9CA948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8E45-05D9-48ED-9292-D1267D69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B62-922C-4138-887A-369F67B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A67B7-6916-48DC-B0E2-A6AF2B1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35D79-E275-4CC6-8558-9A635C1E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8020-1CCE-4BB0-B394-7878769F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80A48-3951-4DBE-A1B4-DFA4A4FB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18157-D636-4210-B145-6F02D863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D99AA-F8A6-4409-B6BA-55ED27D4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68B7A-4724-4C68-ABEE-A9C83EE1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537E-B289-4F92-87D9-08AC4D0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F30EF-1767-4B2E-8A4E-B7455390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418A1-E11B-41A4-B9C3-CB779115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8CF-7018-42F1-9DAA-4824C5E8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09B28-B05C-4BFA-AA60-D8D764E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69FFE-4750-423F-8129-1D6285C4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8A01-B705-42BD-B4FA-E710086D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B5F4F-5B79-4824-90C2-CA1E9F89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F3CE-8354-4945-8156-25252772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044-8634-4D33-8814-E6AA120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72360" y="6492960"/>
            <a:ext cx="2288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916360" y="649296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1092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4996-9A2D-4E73-92CE-44B2690A067B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56A3-ABF7-45F4-B684-A4DADE1EFA4C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4C32-9CBB-42FB-B620-B05A3C1EE823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EBA9-7FE9-423A-8DC4-FED5E7EA085E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6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0410-A3C1-4F03-8E3A-AEA4518AE011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F2B5-60BC-416D-B715-8241E8611D71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E5E2-F3B5-498B-9BED-CD3106370DB4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ncvvo.hr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2999880"/>
            <a:ext cx="78930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2060"/>
                </a:solidFill>
                <a:latin typeface="Arial"/>
              </a:rPr>
              <a:t>Radne skupine: osnivanje, edukacija i uloga u provedbi HKO-a</a:t>
            </a:r>
            <a:br>
              <a:rPr sz="2900"/>
            </a:br>
            <a:br>
              <a:rPr sz="700"/>
            </a:br>
            <a:br>
              <a:rPr sz="7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</a:rPr>
              <a:t>mr. sc. Alenka Buntić Rogić, Nacionalni centar za vanjsko vrednovanje obrazovanja 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</a:rPr>
              <a:t>član</a:t>
            </a: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Operativnog tima za potporu Povjerenstvu za izradu HKO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0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1285920" y="4287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87280" y="5084640"/>
            <a:ext cx="77774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2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928800" y="3000240"/>
            <a:ext cx="8059680" cy="19288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914400" y="5048280"/>
            <a:ext cx="805032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928800" y="3143160"/>
            <a:ext cx="228600" cy="17859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6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Strojarstvo, brodogradnja i metalur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6" descr="brodogradiliste.jpg"/>
          <p:cNvPicPr/>
          <p:nvPr/>
        </p:nvPicPr>
        <p:blipFill>
          <a:blip r:embed="rId2"/>
          <a:stretch/>
        </p:blipFill>
        <p:spPr>
          <a:xfrm>
            <a:off x="1357200" y="1857240"/>
            <a:ext cx="685800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7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Elektrotehnika i računarstvo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j0408869.jpg"/>
          <p:cNvPicPr/>
          <p:nvPr/>
        </p:nvPicPr>
        <p:blipFill>
          <a:blip r:embed="rId2"/>
          <a:stretch/>
        </p:blipFill>
        <p:spPr>
          <a:xfrm>
            <a:off x="1928880" y="2286000"/>
            <a:ext cx="485784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8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Graditeljstvo i geodezija (arhitektura, urbanizam; geodezija; građevinarstv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5" descr="j0433420.jpg"/>
          <p:cNvPicPr/>
          <p:nvPr/>
        </p:nvPicPr>
        <p:blipFill>
          <a:blip r:embed="rId2"/>
          <a:stretch/>
        </p:blipFill>
        <p:spPr>
          <a:xfrm>
            <a:off x="1292400" y="2428920"/>
            <a:ext cx="6065640" cy="35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9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Ekonomija, trgovina i poslovna administracija (ekonom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6" descr="novac_020.jpg"/>
          <p:cNvPicPr/>
          <p:nvPr/>
        </p:nvPicPr>
        <p:blipFill>
          <a:blip r:embed="rId2"/>
          <a:stretch/>
        </p:blipFill>
        <p:spPr>
          <a:xfrm>
            <a:off x="1566720" y="2238480"/>
            <a:ext cx="6005520" cy="36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0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Turizam i ugostiteljstv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6" descr="novac_020.jpg"/>
          <p:cNvPicPr/>
          <p:nvPr/>
        </p:nvPicPr>
        <p:blipFill>
          <a:blip r:embed="rId2"/>
          <a:stretch/>
        </p:blipFill>
        <p:spPr>
          <a:xfrm>
            <a:off x="1566720" y="2238480"/>
            <a:ext cx="6005520" cy="36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1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romet i logistika (tehnologija prometa i transpor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5" descr="transport i logistika.jpg"/>
          <p:cNvPicPr/>
          <p:nvPr/>
        </p:nvPicPr>
        <p:blipFill>
          <a:blip r:embed="rId2"/>
          <a:stretch/>
        </p:blipFill>
        <p:spPr>
          <a:xfrm>
            <a:off x="3429000" y="2814480"/>
            <a:ext cx="2857680" cy="26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2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Zdravstvo i socijalna skrb (temeljne medicinske znanosti; kliničke medicinske znanosti; javno zdravstvo i zdravstvena zaštita; stomatologija; farmacija; socijalne djelatnost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5" descr="j0400941.jpg"/>
          <p:cNvPicPr/>
          <p:nvPr/>
        </p:nvPicPr>
        <p:blipFill>
          <a:blip r:embed="rId2"/>
          <a:stretch/>
        </p:blipFill>
        <p:spPr>
          <a:xfrm>
            <a:off x="2620800" y="3086280"/>
            <a:ext cx="378000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3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Osobne i druge uslu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4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Umjetnost (kazališna umjetnost; filmska umjetnost; glazbena umjetnost; likovna umjetnost; primijenjena umjetnost; plesna umjetn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6" descr="j0434881.png"/>
          <p:cNvPicPr/>
          <p:nvPr/>
        </p:nvPicPr>
        <p:blipFill>
          <a:blip r:embed="rId2"/>
          <a:stretch/>
        </p:blipFill>
        <p:spPr>
          <a:xfrm>
            <a:off x="3214800" y="2857680"/>
            <a:ext cx="271440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5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Matematika, fizika, geoznanosti, kemija, bi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5" descr="fizika.jpg"/>
          <p:cNvPicPr/>
          <p:nvPr/>
        </p:nvPicPr>
        <p:blipFill>
          <a:blip r:embed="rId2"/>
          <a:stretch/>
        </p:blipFill>
        <p:spPr>
          <a:xfrm>
            <a:off x="2643120" y="2571840"/>
            <a:ext cx="3286080" cy="26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</a:rPr>
              <a:t>Sadržaj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cilj osnivanj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popis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izbor članov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potrebni uvjeti za rad radnih skupin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zadaće radnih skupin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zadaće trener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kompetencije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struktur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6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Temeljne tehničke znanosti (automatika; energetika; materijali; mehanika fluida; organizacija rada i proizvodnja; tehnička mehanika; termodinamika; inženjerstvo okoliš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7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Zrakoplovstvo, raketna i svemirska tehni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6" descr="avion_riche_1.jpg"/>
          <p:cNvPicPr/>
          <p:nvPr/>
        </p:nvPicPr>
        <p:blipFill>
          <a:blip r:embed="rId2"/>
          <a:stretch/>
        </p:blipFill>
        <p:spPr>
          <a:xfrm>
            <a:off x="1571760" y="2071800"/>
            <a:ext cx="5929200" cy="41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8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Informacije i komunikacije </a:t>
            </a:r>
            <a:r>
              <a:rPr b="0" lang="hr-HR" sz="2200" spc="-1" strike="noStrike">
                <a:solidFill>
                  <a:srgbClr val="002060"/>
                </a:solidFill>
                <a:latin typeface="Arial Narrow"/>
              </a:rPr>
              <a:t>(arhivistika i dokumentalistika; informacijski sustavi i informatologija; knjižničarstvo; komunikologija; odnosi s javnošću; leksikografija i enciklopedistika; muzeologija; masovni mediji; novinarstvo; organizacija i informatika; informacijsko i programsko inženjerstv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Picture 6" descr="comunication.jpg"/>
          <p:cNvPicPr/>
          <p:nvPr/>
        </p:nvPicPr>
        <p:blipFill>
          <a:blip r:embed="rId2"/>
          <a:stretch/>
        </p:blipFill>
        <p:spPr>
          <a:xfrm>
            <a:off x="1928880" y="3214800"/>
            <a:ext cx="5143320" cy="304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9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ravo, politologija, državna uprava i javni poslovi (pravo; politolog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6" descr="study_pravo.jpg"/>
          <p:cNvPicPr/>
          <p:nvPr/>
        </p:nvPicPr>
        <p:blipFill>
          <a:blip r:embed="rId2"/>
          <a:stretch/>
        </p:blipFill>
        <p:spPr>
          <a:xfrm>
            <a:off x="1428840" y="2214720"/>
            <a:ext cx="6197400" cy="35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0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Sociologija, psihologija, edukacijsko-rehabilitacijska, logopedija (sociologija; psihologija; edukacijsko-rehabilitacijske znanosti; logopedija; demograf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1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Odgoj, obrazovanje i šport (pedagogija; kineziolog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6" descr="ucionica.jpg"/>
          <p:cNvPicPr/>
          <p:nvPr/>
        </p:nvPicPr>
        <p:blipFill>
          <a:blip r:embed="rId2"/>
          <a:stretch/>
        </p:blipFill>
        <p:spPr>
          <a:xfrm>
            <a:off x="1000080" y="2143080"/>
            <a:ext cx="695340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2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Filozofija, teologija, religijske znanosti, antrop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3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ovijest, znanost o umjetnosti, arheologija, etn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Sibenik_katedrala.jpg"/>
          <p:cNvPicPr/>
          <p:nvPr/>
        </p:nvPicPr>
        <p:blipFill>
          <a:blip r:embed="rId2"/>
          <a:stretch/>
        </p:blipFill>
        <p:spPr>
          <a:xfrm>
            <a:off x="1428840" y="2143080"/>
            <a:ext cx="6072120" cy="41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4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4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Sigurnost, obrana i zaštita (sigurnosne i obrambene znanost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5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Fil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6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Interdisciplinarna (brine o horizontalnoj uređenosti interdisciplinarnih kvalifikacija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Javni poziv za izbor članova radnih skupina na web stanicama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b292ca"/>
                </a:solidFill>
                <a:uFillTx/>
                <a:latin typeface="Arial Narrow"/>
                <a:hlinkClick r:id="rId1"/>
              </a:rPr>
              <a:t>www.ncvvo.hr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www.hko.vlada.hr   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dopisima prema određenim institucijama (Sveučilišta, Agencije, Sindikati, poduzeća ….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6" name="Picture 2" descr="HKO_logo"/>
          <p:cNvPicPr/>
          <p:nvPr/>
        </p:nvPicPr>
        <p:blipFill>
          <a:blip r:embed="rId2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</a:rPr>
              <a:t>Cilj osnivanja radnih skup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  <a:ea typeface="Verdana"/>
              </a:rPr>
              <a:t>Formiranje tijela koja će kompetentno izraditi standarde kvalifikacija potrebne hrvatskom društvu, u skladu s programom rada Povjerenstva za izradu Hrvatskog kvalifikacijskog okvi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8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9" name="Content Placeholder 4" descr=""/>
          <p:cNvPicPr/>
          <p:nvPr/>
        </p:nvPicPr>
        <p:blipFill>
          <a:blip r:embed="rId1"/>
          <a:stretch/>
        </p:blipFill>
        <p:spPr>
          <a:xfrm>
            <a:off x="450720" y="853920"/>
            <a:ext cx="8242560" cy="53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Right Arrow 5" descr=""/>
          <p:cNvPicPr/>
          <p:nvPr/>
        </p:nvPicPr>
        <p:blipFill>
          <a:blip r:embed="rId2"/>
          <a:stretch/>
        </p:blipFill>
        <p:spPr>
          <a:xfrm>
            <a:off x="731880" y="1457280"/>
            <a:ext cx="3968640" cy="987480"/>
          </a:xfrm>
          <a:prstGeom prst="rect">
            <a:avLst/>
          </a:prstGeom>
          <a:ln w="0">
            <a:noFill/>
          </a:ln>
        </p:spPr>
      </p:pic>
      <p:pic>
        <p:nvPicPr>
          <p:cNvPr id="484" name="Right Arrow 7" descr=""/>
          <p:cNvPicPr/>
          <p:nvPr/>
        </p:nvPicPr>
        <p:blipFill>
          <a:blip r:embed="rId3"/>
          <a:stretch/>
        </p:blipFill>
        <p:spPr>
          <a:xfrm>
            <a:off x="731880" y="2243160"/>
            <a:ext cx="3968640" cy="987480"/>
          </a:xfrm>
          <a:prstGeom prst="rect">
            <a:avLst/>
          </a:prstGeom>
          <a:ln w="0">
            <a:noFill/>
          </a:ln>
        </p:spPr>
      </p:pic>
      <p:pic>
        <p:nvPicPr>
          <p:cNvPr id="485" name="Right Arrow 8" descr=""/>
          <p:cNvPicPr/>
          <p:nvPr/>
        </p:nvPicPr>
        <p:blipFill>
          <a:blip r:embed="rId4"/>
          <a:stretch/>
        </p:blipFill>
        <p:spPr>
          <a:xfrm>
            <a:off x="731880" y="3170160"/>
            <a:ext cx="3968640" cy="914400"/>
          </a:xfrm>
          <a:prstGeom prst="rect">
            <a:avLst/>
          </a:prstGeom>
          <a:ln w="0">
            <a:noFill/>
          </a:ln>
        </p:spPr>
      </p:pic>
      <p:pic>
        <p:nvPicPr>
          <p:cNvPr id="486" name="Right Arrow 9" descr=""/>
          <p:cNvPicPr/>
          <p:nvPr/>
        </p:nvPicPr>
        <p:blipFill>
          <a:blip r:embed="rId5"/>
          <a:stretch/>
        </p:blipFill>
        <p:spPr>
          <a:xfrm>
            <a:off x="804960" y="3956040"/>
            <a:ext cx="3962160" cy="987480"/>
          </a:xfrm>
          <a:prstGeom prst="rect">
            <a:avLst/>
          </a:prstGeom>
          <a:ln w="0">
            <a:noFill/>
          </a:ln>
        </p:spPr>
      </p:pic>
      <p:pic>
        <p:nvPicPr>
          <p:cNvPr id="487" name="Right Arrow 10" descr=""/>
          <p:cNvPicPr/>
          <p:nvPr/>
        </p:nvPicPr>
        <p:blipFill>
          <a:blip r:embed="rId6"/>
          <a:stretch/>
        </p:blipFill>
        <p:spPr>
          <a:xfrm>
            <a:off x="804960" y="4816440"/>
            <a:ext cx="3962160" cy="9874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13"/>
          <p:cNvSpPr/>
          <p:nvPr/>
        </p:nvSpPr>
        <p:spPr>
          <a:xfrm>
            <a:off x="785880" y="1143000"/>
            <a:ext cx="40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hr-HR" sz="2200" spc="-1" strike="noStrike">
                <a:solidFill>
                  <a:srgbClr val="002060"/>
                </a:solidFill>
                <a:latin typeface="Arial Narrow"/>
              </a:rPr>
              <a:t>Uvjeti za rad radnih skupina</a:t>
            </a:r>
            <a:r>
              <a:rPr b="1" lang="hr-HR" sz="1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Right Arrow 14" descr=""/>
          <p:cNvPicPr/>
          <p:nvPr/>
        </p:nvPicPr>
        <p:blipFill>
          <a:blip r:embed="rId7"/>
          <a:stretch/>
        </p:blipFill>
        <p:spPr>
          <a:xfrm>
            <a:off x="804960" y="5529240"/>
            <a:ext cx="3962160" cy="9874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17" descr="j0431734.jpg"/>
          <p:cNvPicPr/>
          <p:nvPr/>
        </p:nvPicPr>
        <p:blipFill>
          <a:blip r:embed="rId8"/>
          <a:stretch/>
        </p:blipFill>
        <p:spPr>
          <a:xfrm>
            <a:off x="4929120" y="1857240"/>
            <a:ext cx="385776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Zadaće radnih skupina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analiza strukture i sastava radnih skupin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upoznavanje s Hrvatskim kvalifikacijskim okvirom, ulogom i odgovornošću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analiza raspoloživih podataka o kvalifikacij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izrada prijedloga standarda kvalifikacija za postojeće kvalifikacije po skupin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vrednovanje rad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davanje prijedloga na javnu rasprav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konačni prijedlog standarda kvalifika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izrada prijedloga daljnjega praćenja postojećih kvalifikacija i stvaranja novi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2060"/>
                </a:solidFill>
                <a:latin typeface="Arial Narrow"/>
              </a:rPr>
              <a:t>Zadaće trenera radnih skupin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pridonijeti razumijevanju osnova HKO-a članovima radnih skupin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pomagati i pratiti postupak izrade standarda kvalifikacija, uključujući postupak izrade standarda zanimanja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pomagati i pratiti radne skupine do izrade standarda kvalifikacije, uključujući izradu </a:t>
            </a: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standarda zanimanja, kad je to potreb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Aktivnosti i rezultati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izbor kvalifikacija za koje se izrađuju standardi </a:t>
            </a:r>
            <a:r>
              <a:rPr b="0" lang="hr-HR" sz="2400" spc="-1" strike="noStrike">
                <a:solidFill>
                  <a:srgbClr val="002060"/>
                </a:solidFill>
                <a:latin typeface="Gill Sans MT"/>
              </a:rPr>
              <a:t>kvalifika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izrada prijedloga standarda kvalifikacija za izabrane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revizija i usvajanje standarda kvalifika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Potrebne kompetencije radnih skupin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visoka razina motiviranos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prihvaćanje i razumijevanje interesa drugih partne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visoka razina tolerancije i komunika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spremnost usvajanja novih zn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teorijsko znanje o sektor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praktična iskustva u sektor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pripadajuća razina odgovornost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Struktura radnih skupina</a:t>
            </a:r>
            <a:r>
              <a:rPr b="0" lang="hr-HR" sz="2600" spc="-1" strike="noStrike">
                <a:solidFill>
                  <a:srgbClr val="0070c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Ministarstv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Obrazovne institucij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2060"/>
                </a:solidFill>
                <a:latin typeface="Arial Narrow"/>
              </a:rPr>
              <a:t>Agencije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Predstavnici gospodarstv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2060"/>
                </a:solidFill>
                <a:latin typeface="Arial Narrow"/>
              </a:rPr>
              <a:t>Hrvatski zavod za zapošljavanj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2060"/>
                </a:solidFill>
                <a:latin typeface="Arial Narrow"/>
              </a:rPr>
              <a:t>Državni zavod za statistik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Sindikati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Strukovne udrug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i ostali zainteresirani (studenti, učenici, roditelji i drugi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Arial Narrow"/>
              </a:rPr>
              <a:t>HVALA NA POZORNOST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  <a:ea typeface="Arial"/>
              </a:rPr>
              <a:t>Vladino Povjerenstvo za izradu Hrvatskog kvalifikacijskog okvira na sjednici Povjerenstva 03. prosinca 2008. donosi Odluku o osnivanju radnih skupina za izradu kvalifikac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33"/>
          <p:cNvSpPr/>
          <p:nvPr/>
        </p:nvSpPr>
        <p:spPr>
          <a:xfrm>
            <a:off x="250920" y="2781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293"/>
          <p:cNvSpPr/>
          <p:nvPr/>
        </p:nvSpPr>
        <p:spPr>
          <a:xfrm rot="5400000">
            <a:off x="4513680" y="2048400"/>
            <a:ext cx="691920" cy="8209080"/>
          </a:xfrm>
          <a:prstGeom prst="upArrow">
            <a:avLst>
              <a:gd name="adj1" fmla="val 61009"/>
              <a:gd name="adj2" fmla="val -140441"/>
            </a:avLst>
          </a:prstGeom>
          <a:solidFill>
            <a:srgbClr val="c0c0c0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232"/>
          <p:cNvSpPr/>
          <p:nvPr/>
        </p:nvSpPr>
        <p:spPr>
          <a:xfrm rot="5400000">
            <a:off x="4369680" y="2191320"/>
            <a:ext cx="691920" cy="8208720"/>
          </a:xfrm>
          <a:prstGeom prst="upArrow">
            <a:avLst>
              <a:gd name="adj1" fmla="val 70648"/>
              <a:gd name="adj2" fmla="val -13942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233"/>
          <p:cNvSpPr/>
          <p:nvPr/>
        </p:nvSpPr>
        <p:spPr>
          <a:xfrm>
            <a:off x="71280" y="404640"/>
            <a:ext cx="755640" cy="5616720"/>
          </a:xfrm>
          <a:prstGeom prst="upArrow">
            <a:avLst>
              <a:gd name="adj1" fmla="val 69750"/>
              <a:gd name="adj2" fmla="val 125433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37"/>
          <p:cNvSpPr/>
          <p:nvPr/>
        </p:nvSpPr>
        <p:spPr>
          <a:xfrm>
            <a:off x="7236720" y="609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38"/>
          <p:cNvSpPr/>
          <p:nvPr/>
        </p:nvSpPr>
        <p:spPr>
          <a:xfrm>
            <a:off x="108000" y="115920"/>
            <a:ext cx="115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94"/>
          <p:cNvSpPr/>
          <p:nvPr/>
        </p:nvSpPr>
        <p:spPr>
          <a:xfrm>
            <a:off x="250920" y="5446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95"/>
          <p:cNvSpPr/>
          <p:nvPr/>
        </p:nvSpPr>
        <p:spPr>
          <a:xfrm>
            <a:off x="250920" y="50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96"/>
          <p:cNvSpPr/>
          <p:nvPr/>
        </p:nvSpPr>
        <p:spPr>
          <a:xfrm>
            <a:off x="250920" y="4510080"/>
            <a:ext cx="7777080" cy="49032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97"/>
          <p:cNvSpPr/>
          <p:nvPr/>
        </p:nvSpPr>
        <p:spPr>
          <a:xfrm>
            <a:off x="250920" y="4078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99"/>
          <p:cNvSpPr/>
          <p:nvPr/>
        </p:nvSpPr>
        <p:spPr>
          <a:xfrm>
            <a:off x="250920" y="3646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00"/>
          <p:cNvSpPr/>
          <p:nvPr/>
        </p:nvSpPr>
        <p:spPr>
          <a:xfrm>
            <a:off x="250920" y="32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01"/>
          <p:cNvSpPr/>
          <p:nvPr/>
        </p:nvSpPr>
        <p:spPr>
          <a:xfrm>
            <a:off x="250920" y="2349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2"/>
          <p:cNvSpPr/>
          <p:nvPr/>
        </p:nvSpPr>
        <p:spPr>
          <a:xfrm>
            <a:off x="250920" y="1916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03"/>
          <p:cNvSpPr/>
          <p:nvPr/>
        </p:nvSpPr>
        <p:spPr>
          <a:xfrm>
            <a:off x="250920" y="1484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04"/>
          <p:cNvSpPr/>
          <p:nvPr/>
        </p:nvSpPr>
        <p:spPr>
          <a:xfrm>
            <a:off x="250920" y="1197000"/>
            <a:ext cx="7777080" cy="27216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05"/>
          <p:cNvSpPr/>
          <p:nvPr/>
        </p:nvSpPr>
        <p:spPr>
          <a:xfrm>
            <a:off x="250920" y="7650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10"/>
          <p:cNvSpPr/>
          <p:nvPr/>
        </p:nvSpPr>
        <p:spPr>
          <a:xfrm rot="16200000">
            <a:off x="226224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Matematika, fizika, geoznanosti, kemija, bi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11"/>
          <p:cNvSpPr/>
          <p:nvPr/>
        </p:nvSpPr>
        <p:spPr>
          <a:xfrm rot="16200000">
            <a:off x="-169884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Poljoprivreda, prehrana i vete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12"/>
          <p:cNvSpPr/>
          <p:nvPr/>
        </p:nvSpPr>
        <p:spPr>
          <a:xfrm rot="16200000">
            <a:off x="-133848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Šumarstvo i drv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13"/>
          <p:cNvSpPr/>
          <p:nvPr/>
        </p:nvSpPr>
        <p:spPr>
          <a:xfrm rot="16200000">
            <a:off x="-97812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eologija, rudarstvo, nafta i kemijsk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14"/>
          <p:cNvSpPr/>
          <p:nvPr/>
        </p:nvSpPr>
        <p:spPr>
          <a:xfrm rot="16200000">
            <a:off x="190188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Umjet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15"/>
          <p:cNvSpPr/>
          <p:nvPr/>
        </p:nvSpPr>
        <p:spPr>
          <a:xfrm rot="16200000">
            <a:off x="154152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Osobne i druge usl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16"/>
          <p:cNvSpPr/>
          <p:nvPr/>
        </p:nvSpPr>
        <p:spPr>
          <a:xfrm rot="16200000">
            <a:off x="262260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meljne tehničke zna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18"/>
          <p:cNvSpPr/>
          <p:nvPr/>
        </p:nvSpPr>
        <p:spPr>
          <a:xfrm rot="16200000">
            <a:off x="406260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igurnost, obrana i zašt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9"/>
          <p:cNvSpPr/>
          <p:nvPr/>
        </p:nvSpPr>
        <p:spPr>
          <a:xfrm rot="16200000">
            <a:off x="442296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Fil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0"/>
          <p:cNvSpPr/>
          <p:nvPr/>
        </p:nvSpPr>
        <p:spPr>
          <a:xfrm rot="16200000">
            <a:off x="4964400" y="2963880"/>
            <a:ext cx="5184720" cy="641520"/>
          </a:xfrm>
          <a:prstGeom prst="rect">
            <a:avLst/>
          </a:prstGeom>
          <a:solidFill>
            <a:srgbClr val="ccecff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Interdisciplina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22"/>
          <p:cNvSpPr/>
          <p:nvPr/>
        </p:nvSpPr>
        <p:spPr>
          <a:xfrm rot="16200000">
            <a:off x="-61920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kstil i kož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23"/>
          <p:cNvSpPr/>
          <p:nvPr/>
        </p:nvSpPr>
        <p:spPr>
          <a:xfrm rot="16200000">
            <a:off x="-25884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rafička tehnologija i audio-vizual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24"/>
          <p:cNvSpPr/>
          <p:nvPr/>
        </p:nvSpPr>
        <p:spPr>
          <a:xfrm rot="16200000">
            <a:off x="10116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trojarstvo, brodogradnja i metalur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5"/>
          <p:cNvSpPr/>
          <p:nvPr/>
        </p:nvSpPr>
        <p:spPr>
          <a:xfrm rot="16200000">
            <a:off x="46152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Elektrotehnika i računarstv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27"/>
          <p:cNvSpPr/>
          <p:nvPr/>
        </p:nvSpPr>
        <p:spPr>
          <a:xfrm rot="16200000">
            <a:off x="1004400" y="2964600"/>
            <a:ext cx="518616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28"/>
          <p:cNvSpPr/>
          <p:nvPr/>
        </p:nvSpPr>
        <p:spPr>
          <a:xfrm rot="16200000">
            <a:off x="3523680" y="2964600"/>
            <a:ext cx="518616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29"/>
          <p:cNvSpPr/>
          <p:nvPr/>
        </p:nvSpPr>
        <p:spPr>
          <a:xfrm rot="16200000">
            <a:off x="298152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Zrakoplovstvo, raketna i svemirska tehn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30"/>
          <p:cNvSpPr/>
          <p:nvPr/>
        </p:nvSpPr>
        <p:spPr>
          <a:xfrm>
            <a:off x="755640" y="3643200"/>
            <a:ext cx="3530520" cy="1801800"/>
          </a:xfrm>
          <a:prstGeom prst="roundRect">
            <a:avLst>
              <a:gd name="adj" fmla="val 8819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34"/>
          <p:cNvSpPr/>
          <p:nvPr/>
        </p:nvSpPr>
        <p:spPr>
          <a:xfrm>
            <a:off x="1357200" y="4143240"/>
            <a:ext cx="237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d4d4d"/>
                </a:solidFill>
                <a:latin typeface="Arial"/>
              </a:rPr>
              <a:t>SEKTORSKA VIJ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335"/>
          <p:cNvSpPr/>
          <p:nvPr/>
        </p:nvSpPr>
        <p:spPr>
          <a:xfrm>
            <a:off x="755640" y="765000"/>
            <a:ext cx="7201080" cy="287820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336"/>
          <p:cNvSpPr/>
          <p:nvPr/>
        </p:nvSpPr>
        <p:spPr>
          <a:xfrm>
            <a:off x="4286160" y="3643200"/>
            <a:ext cx="3670560" cy="223524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337"/>
          <p:cNvSpPr/>
          <p:nvPr/>
        </p:nvSpPr>
        <p:spPr>
          <a:xfrm>
            <a:off x="755640" y="5445000"/>
            <a:ext cx="3530520" cy="43200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38"/>
          <p:cNvSpPr/>
          <p:nvPr/>
        </p:nvSpPr>
        <p:spPr>
          <a:xfrm rot="19648200">
            <a:off x="1859040" y="2112840"/>
            <a:ext cx="499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0" spc="-1" strike="noStrike">
                <a:solidFill>
                  <a:srgbClr val="4d4d4d"/>
                </a:solidFill>
                <a:latin typeface="Arial"/>
              </a:rPr>
              <a:t>RADNE SKUP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07172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oljoprivreda, prehrana i veterina (poljoprivreda/agronomija; biotehnologija; prehrambena tehnologija; veterinarska medicina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5" descr="j0427755.jpg"/>
          <p:cNvPicPr/>
          <p:nvPr/>
        </p:nvPicPr>
        <p:blipFill>
          <a:blip r:embed="rId2"/>
          <a:stretch/>
        </p:blipFill>
        <p:spPr>
          <a:xfrm>
            <a:off x="2500200" y="2786040"/>
            <a:ext cx="3143520" cy="2071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lavonija.jpg"/>
          <p:cNvPicPr/>
          <p:nvPr/>
        </p:nvPicPr>
        <p:blipFill>
          <a:blip r:embed="rId3"/>
          <a:stretch/>
        </p:blipFill>
        <p:spPr>
          <a:xfrm>
            <a:off x="1357200" y="2357280"/>
            <a:ext cx="6215040" cy="38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Šumarstvo i drvna tehn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6" descr="gorski kotar.jpg"/>
          <p:cNvPicPr/>
          <p:nvPr/>
        </p:nvPicPr>
        <p:blipFill>
          <a:blip r:embed="rId2"/>
          <a:stretch/>
        </p:blipFill>
        <p:spPr>
          <a:xfrm>
            <a:off x="1428840" y="2000160"/>
            <a:ext cx="62863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3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Geologija, rudarstvo, nafta i kemijska tehnologija (rudarstvo, nafta, geološko inženjerstvo; kemijsko inženjerstv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6" descr="busotina1.jpg"/>
          <p:cNvPicPr/>
          <p:nvPr/>
        </p:nvPicPr>
        <p:blipFill>
          <a:blip r:embed="rId2"/>
          <a:stretch/>
        </p:blipFill>
        <p:spPr>
          <a:xfrm>
            <a:off x="1714680" y="2500200"/>
            <a:ext cx="605124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4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Tekstil i koža (tekstilna tehnolog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5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Grafička tehnologija i audio-vizualna tehn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abuntic</dc:creator>
  <dc:description/>
  <dc:language>en-US</dc:language>
  <cp:lastModifiedBy>Andreja Marcetić</cp:lastModifiedBy>
  <dcterms:modified xsi:type="dcterms:W3CDTF">2010-06-14T15:20:46Z</dcterms:modified>
  <cp:revision>499</cp:revision>
  <dc:subject/>
  <dc:title>Slide 1</dc:title>
</cp:coreProperties>
</file>