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BD6-56AC-42AD-A783-ACD66D82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A57-426D-42E1-BE67-2E13AAC6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60BC-AB97-4D46-A744-AD6AA947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316-FB7B-440A-B10B-E84EAF93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D648-6E26-47A2-80DE-433F9EF2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A6A-5BD0-4E3A-99AF-41486CB7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630-344E-4A7C-A9B3-68A31995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E6E-52D4-4F41-B120-2F688687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2069-6DCF-4FCF-9475-F3CA83DE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6DB-603A-451F-92F4-946081EB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E3F-2FB8-489B-B7D1-E4D1E2CB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DB8-F4ED-473A-B465-7B6B9307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6C09-973B-47B5-A8CF-65485060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A934-46AC-4A20-8940-4157FEF0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0B07-CBFB-475F-B48A-D532AB59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2823-85F5-478E-9BD9-337C67D1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EDC6-1C84-4ECB-BBDD-57F09478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1325-37F2-4082-83A8-9AEA42A5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6D05-0D25-44FC-812C-3D1972E2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EA9D-D8B0-428E-9260-0EFC6A00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66C2-88F4-456E-AAAB-AE83DB3E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7E30-8CE1-4959-9B57-DE5856C1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16C5-3D17-4A7E-824D-E038620B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0847-55A6-4954-BA8F-785D9426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BF9D0-A7E1-4FBE-83FB-BF3803AA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B249F-C205-4A5A-B62B-B15FDEFB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08E13-164C-460F-B5FB-43039227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88921-F21B-4DBA-876E-80611F51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B30B-180C-4435-83E3-81AD3AA7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F973-460C-47CD-9B15-B21580A4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4780-945E-4818-B051-D11F9DA4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15354-89AB-46C1-A898-ED4DB680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B1C5A-CDEA-42CB-8DAA-F1DA03F0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145D5-5656-4EB9-B2CA-ED959B4A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8DC7F-D983-4DAF-9341-96D17239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56DE7-8E46-4060-AE03-F27DEC9F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3F1E6-4AE0-44F1-BE9C-4DB13397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994A1-6E7D-4801-90A9-75C65C22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CF069-C419-4532-B639-2C2439AC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01FC7-CCAF-40FC-BBBB-053919BC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61587-F092-4895-AF17-15D55E34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3557D-2F77-4A82-9D02-9BE9EA11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58BDB-ECFA-4CF5-A55E-A8EF1F18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858E1-BBBA-4346-8B24-C713FB24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1F3C7-DAC8-4216-982C-EBFE4809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26813-D023-442B-A614-55470E25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8C39E-8BD5-4AED-8BBC-8347096F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CB8F4-BA9C-4666-9E1C-8C712403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11EC7-038D-466C-9948-2CE9D38D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A889D-2D14-4A41-A359-40BD7017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BF6E5-6FF7-458C-942F-1742AFB5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E315-53AF-4C3E-B286-D3758F5D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3D916-0CF0-4148-8AAC-1F42DD79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E5023-C339-4976-A0C4-732700EA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77519-8689-4893-AA6F-79694D7D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76F46-B724-42D0-863B-59C78F39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B5CE2-CD5F-4EF7-8694-0B013A7A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84D1D-6B6F-4BE8-BE6B-F2983C58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BB0C7-E073-4EE7-8ABA-373765C3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B6200-5FB2-42A5-A573-CD5289C5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E0CBA-9111-4C57-B742-DC38E4E2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94385-C754-4675-8879-324124D5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D4F91-DFBA-4380-847B-BD858734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FDE6A-1194-4239-AAC4-BEFB6747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690C0-77BF-4F73-9641-978D1815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AEED9-3C74-41BA-BAF4-9DCE4F2C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38F87-9ACE-41DF-BA57-2D6A1898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B4B3B-1BE7-435A-9255-92C22982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E5ED3-A31F-477C-A926-40BD26BE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1CDB8-2C7A-4091-A532-0D138733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C54E5-39BE-4E4D-85D2-8521C264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D2BFB-E236-4378-9D74-673627A5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2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1A4C-C9F4-41CC-B25E-33D6830F3F6A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aight Connector 2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Isosceles Triangle 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E473-3266-4218-938E-FD753BD80456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50AD-F042-48A7-A328-914BD16DB3E7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2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A8BA-A3CE-4796-9EB2-1B2FC2F80E4B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09C7-D88E-4DEA-BC1C-C79D0A477AA2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3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CD4E-5D71-451C-AF81-967872495554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zos.hr/" TargetMode="External"/><Relationship Id="rId2" Type="http://schemas.openxmlformats.org/officeDocument/2006/relationships/hyperlink" Target="mailto:infoipa@mzos.hr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71280" y="3429000"/>
            <a:ext cx="799308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PROJEKTNE MOGUĆNOSTI</a:t>
            </a:r>
            <a:br>
              <a:rPr sz="1800"/>
            </a:br>
            <a:r>
              <a:rPr b="0" lang="hr-HR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Mirna Štajduhar, prof. </a:t>
            </a:r>
            <a:br>
              <a:rPr sz="2000"/>
            </a:br>
            <a:r>
              <a:rPr b="0" lang="hr-HR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Marinela Krešo, prof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.</a:t>
            </a:r>
            <a:r>
              <a:rPr b="1" lang="hr-HR" sz="18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971280" y="5013000"/>
            <a:ext cx="7993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"/>
                <a:ea typeface="Times New Roman"/>
              </a:rPr>
              <a:t>Ministarstvo znanosti, obrazovanja i špor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934920" y="3500280"/>
            <a:ext cx="8209080" cy="128268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755640" y="5013360"/>
            <a:ext cx="820908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755640" y="3429000"/>
            <a:ext cx="216000" cy="149868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755640" y="501336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142884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99"/>
                </a:solidFill>
                <a:latin typeface="Arial"/>
              </a:rPr>
              <a:t>Komponenta 1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99"/>
                </a:solidFill>
                <a:latin typeface="Arial"/>
              </a:rPr>
              <a:t>Analiza postojećeg zakonodavnog okvira kako bi se izradile preporuke za poboljšanje relevantnog zakonodavstva, a u skladu s načelima HKO-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99"/>
                </a:solidFill>
                <a:latin typeface="Arial"/>
              </a:rPr>
              <a:t>Komponenta 2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99"/>
                </a:solidFill>
                <a:latin typeface="Arial"/>
              </a:rPr>
              <a:t>Analiza i redefiniranje programa osposobljavanja i usavršavanja, dvogodišnjih programa srednjoškolskog obrazovanja te izrada standarda kvalifikaci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99"/>
                </a:solidFill>
                <a:latin typeface="Arial"/>
              </a:rPr>
              <a:t>Komponenta 3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99"/>
                </a:solidFill>
                <a:latin typeface="Arial"/>
              </a:rPr>
              <a:t>Razvoj standarda kvalifikacija vezano uz određene razine i sektore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99"/>
                </a:solidFill>
                <a:latin typeface="Arial"/>
              </a:rPr>
              <a:t>Trening vezani uz razvoj i implementaciju kurikuluma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99"/>
                </a:solidFill>
                <a:latin typeface="Arial"/>
              </a:rPr>
              <a:t>Analiza potreba i treninzi za članove operativnog tima, radnih skupina kao i trenera.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1187280" y="4762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21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Primjer ugovora o bespovratnim sredstvima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Implementacija novih kurikulu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3399"/>
                </a:solidFill>
                <a:latin typeface="Arial"/>
              </a:rPr>
              <a:t>Budžet (€): 4,300,000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3399"/>
                </a:solidFill>
                <a:latin typeface="Arial"/>
              </a:rPr>
              <a:t>Objava natječaja: kolovoz 2009. godine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003399"/>
                </a:solidFill>
                <a:uFillTx/>
                <a:latin typeface="Arial"/>
              </a:rPr>
              <a:t>Ciljevi: </a:t>
            </a:r>
            <a:r>
              <a:rPr b="0" lang="hr-HR" sz="2200" spc="-1" strike="noStrike">
                <a:solidFill>
                  <a:srgbClr val="003399"/>
                </a:solidFill>
                <a:latin typeface="Arial"/>
              </a:rPr>
              <a:t>Pomoći pri donošenju novih modularnih kurikuluma, baziranih na ishodima učenja, posebno u vidu uvođenja sustavnog pristupa odgovarajućim strukovnim inovacijama sukladno promjenama na lokalnom i/ili nacionalnom tržištu rada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003399"/>
                </a:solidFill>
                <a:uFillTx/>
                <a:latin typeface="Arial"/>
              </a:rPr>
              <a:t>Očekivani rezultati:</a:t>
            </a:r>
            <a:r>
              <a:rPr b="0" lang="hr-HR" sz="2200" spc="-1" strike="noStrike">
                <a:solidFill>
                  <a:srgbClr val="003399"/>
                </a:solidFill>
                <a:latin typeface="Arial"/>
              </a:rPr>
              <a:t> Efikasno planiranje i provođenje inovacija strukovnih škola prvenstveno povezanih s uvođenjem novih strukovnih kurikuluma; kapaciteti strukovnih škola poboljšan modernom pomoći i/ili opremom i/ili pomagalima u nastavi koja su potrebna za implementaciju novih kurikuluma; ojačano partnerstvo između strukovnih škola i dionika tržišta rada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3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5"/>
          <p:cNvSpPr/>
          <p:nvPr/>
        </p:nvSpPr>
        <p:spPr>
          <a:xfrm>
            <a:off x="1187280" y="4762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003399"/>
                </a:solidFill>
                <a:uFillTx/>
                <a:latin typeface="Arial"/>
              </a:rPr>
              <a:t>Ciljne skupine:</a:t>
            </a:r>
            <a:r>
              <a:rPr b="0" lang="hr-HR" sz="2200" spc="-1" strike="noStrike">
                <a:solidFill>
                  <a:srgbClr val="003399"/>
                </a:solidFill>
                <a:latin typeface="Arial"/>
              </a:rPr>
              <a:t> Mladi i odrasli polaznici strukovnih škola, učitelji i ostalo osoblje  u ustanovama za strukovno obrazovanje, predavači uključeni u stručno osposobljavanje (uključujući naukovanje) u poduzećima, predstavnici poslodavaca i sindikat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003399"/>
                </a:solidFill>
                <a:uFillTx/>
                <a:latin typeface="Arial"/>
              </a:rPr>
              <a:t>Prihvatljivi prijavitelji</a:t>
            </a:r>
            <a:r>
              <a:rPr b="0" lang="hr-HR" sz="2200" spc="-1" strike="noStrike">
                <a:solidFill>
                  <a:srgbClr val="003399"/>
                </a:solidFill>
                <a:latin typeface="Arial"/>
              </a:rPr>
              <a:t>: Srednje strukovne ško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003399"/>
                </a:solidFill>
                <a:uFillTx/>
                <a:latin typeface="Arial"/>
              </a:rPr>
              <a:t>Prihvatljivi partneri:</a:t>
            </a:r>
            <a:r>
              <a:rPr b="0" lang="hr-HR" sz="2200" spc="-1" strike="noStrike">
                <a:solidFill>
                  <a:srgbClr val="003399"/>
                </a:solidFill>
                <a:latin typeface="Arial"/>
              </a:rPr>
              <a:t> Poduzeća/mala i srednja poduzeća koja djeluju na lokalnoj/regionalnoj razini; srednje strukovne škole; socijalni partneri na lokalnoj/regionalnoj razini, općine/gradovi/županije kao partneri u razvoju novih pristupa kurikulumu (partnerstvo i koordinacija za svaki ugovor o bespovratnim sredstvima će se definirati naknadno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5"/>
          <p:cNvSpPr/>
          <p:nvPr/>
        </p:nvSpPr>
        <p:spPr>
          <a:xfrm>
            <a:off x="1187280" y="4762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184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Proces izrade projektne dokumentacije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99"/>
                </a:solidFill>
                <a:latin typeface="Arial"/>
              </a:rPr>
              <a:t>Upute za prijavitelje (Guidelines for Applicants)</a:t>
            </a: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 – dokument na temelju kojeg se prijavljuje projek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Logička matrica i budžet projekta – Logframe &amp; budg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Obrazac za prijavitelje – Application for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000" y="1027800"/>
            <a:ext cx="82184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561960" y="907920"/>
            <a:ext cx="8020080" cy="53546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6"/>
          <p:cNvSpPr/>
          <p:nvPr/>
        </p:nvSpPr>
        <p:spPr>
          <a:xfrm>
            <a:off x="1116000" y="47628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20080" cy="5523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HKO_logo"/>
          <p:cNvPicPr/>
          <p:nvPr/>
        </p:nvPicPr>
        <p:blipFill>
          <a:blip r:embed="rId2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7"/>
          <p:cNvSpPr/>
          <p:nvPr/>
        </p:nvSpPr>
        <p:spPr>
          <a:xfrm>
            <a:off x="1116000" y="47628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HKO-  poveznica s međunarodnim aktivnostima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51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5"/>
          <p:cNvSpPr/>
          <p:nvPr/>
        </p:nvSpPr>
        <p:spPr>
          <a:xfrm>
            <a:off x="1338480" y="49860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2072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16856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145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KO_logo"/>
          <p:cNvPicPr/>
          <p:nvPr/>
        </p:nvPicPr>
        <p:blipFill>
          <a:blip r:embed="rId2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5"/>
          <p:cNvSpPr/>
          <p:nvPr/>
        </p:nvSpPr>
        <p:spPr>
          <a:xfrm>
            <a:off x="1116000" y="47628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280" y="1125360"/>
            <a:ext cx="8147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ZADATAK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Izraditi logičku matricu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5"/>
          <p:cNvSpPr/>
          <p:nvPr/>
        </p:nvSpPr>
        <p:spPr>
          <a:xfrm>
            <a:off x="1116000" y="47628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HVALA NA PAŽNJ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b292ca"/>
                </a:solidFill>
                <a:uFillTx/>
                <a:latin typeface="Arial"/>
                <a:hlinkClick r:id="rId1"/>
              </a:rPr>
              <a:t>www.mzos.h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b292ca"/>
                </a:solidFill>
                <a:uFillTx/>
                <a:latin typeface="Arial"/>
                <a:hlinkClick r:id="rId2"/>
              </a:rPr>
              <a:t>infoipa@mzos.hr</a:t>
            </a: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2" descr="HKO_logo"/>
          <p:cNvPicPr/>
          <p:nvPr/>
        </p:nvPicPr>
        <p:blipFill>
          <a:blip r:embed="rId3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5"/>
          <p:cNvSpPr/>
          <p:nvPr/>
        </p:nvSpPr>
        <p:spPr>
          <a:xfrm>
            <a:off x="1116000" y="47628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99"/>
                </a:solidFill>
                <a:latin typeface="Arial"/>
              </a:rPr>
              <a:t>Sadržaj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EU fondovi kao mogućnost financir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Načini financiranja projekata na primjerima IPA progra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Proces izrade projektne dokumentac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434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EU fondovi kao mogućnost financiranja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99"/>
                </a:solidFill>
                <a:latin typeface="Arial"/>
              </a:rPr>
              <a:t>IPA program - </a:t>
            </a: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novi pretpristupni program - zamjenjuje CARDS, Pha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I. komponenta - </a:t>
            </a:r>
            <a:r>
              <a:rPr b="0" i="1" lang="hr-HR" sz="2600" spc="-1" strike="noStrike">
                <a:solidFill>
                  <a:srgbClr val="003399"/>
                </a:solidFill>
                <a:latin typeface="Arial"/>
              </a:rPr>
              <a:t>Pomoć u tranziciji i jačanju institucija</a:t>
            </a: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II. komponenta - </a:t>
            </a:r>
            <a:r>
              <a:rPr b="0" i="1" lang="hr-HR" sz="2600" spc="-1" strike="noStrike">
                <a:solidFill>
                  <a:srgbClr val="003399"/>
                </a:solidFill>
                <a:latin typeface="Arial"/>
              </a:rPr>
              <a:t>Prekogranična surad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III. komponenta - </a:t>
            </a:r>
            <a:r>
              <a:rPr b="0" i="1" lang="hr-HR" sz="2600" spc="-1" strike="noStrike">
                <a:solidFill>
                  <a:srgbClr val="003399"/>
                </a:solidFill>
                <a:latin typeface="Arial"/>
              </a:rPr>
              <a:t>Regionalni razvoj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99"/>
                </a:solidFill>
                <a:latin typeface="Arial"/>
              </a:rPr>
              <a:t>IV. komponenta - </a:t>
            </a:r>
            <a:r>
              <a:rPr b="1" i="1" lang="hr-HR" sz="2600" spc="-1" strike="noStrike">
                <a:solidFill>
                  <a:srgbClr val="003399"/>
                </a:solidFill>
                <a:latin typeface="Arial"/>
              </a:rPr>
              <a:t>Razvoj ljudskih potencijal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V. komponenta - </a:t>
            </a:r>
            <a:r>
              <a:rPr b="0" i="1" lang="hr-HR" sz="2600" spc="-1" strike="noStrike">
                <a:solidFill>
                  <a:srgbClr val="003399"/>
                </a:solidFill>
                <a:latin typeface="Arial"/>
              </a:rPr>
              <a:t>Ruralni razvoj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1338480" y="49860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99"/>
                </a:solidFill>
                <a:latin typeface="Arial"/>
              </a:rPr>
              <a:t>Operativni program Razvoj ljudskih potencijal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3399"/>
                </a:solidFill>
                <a:latin typeface="Arial"/>
              </a:rPr>
              <a:t>Preteča Europskog socijalnog fonda financira projekte na području socijalne kohezije u svrhu ostvarivanja ciljeva Europske strategije za zapošljava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4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1116000" y="498600"/>
            <a:ext cx="31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Poboljšanje pristupa zapošljavanju i održivog uključivanja u tržište rada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6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Jačanje socijalnog uključivanja i integracije osoba kojima je otežan pristup tržištu ra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6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99"/>
                </a:solidFill>
                <a:latin typeface="Arial"/>
              </a:rPr>
              <a:t>Unaprjeđivanje ljudskog kapitala i zapošljivosti</a:t>
            </a: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Jačanje kapaciteta za upravljanje operativnim programo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8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1332000" y="47628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39640" y="1125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Prioriteti IV. komponente - HRD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364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Korištenje nakon ulaska RH u E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3 fonda na raspolaganju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Europski fond za regionalni razvoj (EFR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Europski socijalni fond (ESF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Kohezijski fond (KF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Kroz EFRR i KF financiraju se veliki infrastrukturni projek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Zato višegodišnje planiranje kroz strateške dokument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Nacionalni strateški referentni okvir (NSRO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Operativni programi (sektorski OP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3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5"/>
          <p:cNvSpPr/>
          <p:nvPr/>
        </p:nvSpPr>
        <p:spPr>
          <a:xfrm>
            <a:off x="1116000" y="47628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95280" y="836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Strukturni fond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62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000"/>
            </a:br>
            <a:r>
              <a:rPr b="1" lang="hr-H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Primjeri mogućih ulaganja kroz strukturne fondove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Proizvodna ulaganja (mala i srednja poduzeća) - nova i/ili zadržana radna mjes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Istraživanje i razvoj - dodana vrijednost proizvodnj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Informacijsko društvo - kvaliteta života, poslovna klima, administrativna učinkovito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Ljudski kapital - zaposlenost i produktivnost 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Socijalna uključenost - jednakost šans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Osnovna infrastruktura - povećanje životnog standarda, okolišna održivost, trans-europska energetska, telekomunikacijska i transportna mrež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8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5"/>
          <p:cNvSpPr/>
          <p:nvPr/>
        </p:nvSpPr>
        <p:spPr>
          <a:xfrm>
            <a:off x="1193760" y="49860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62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Projektne mogućnosti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Ugovor o uslugama (service contract)-</a:t>
            </a: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 stručna pomoć u izradi studija,strateških dokumenata, baza podataka,kroz radionice, seminare, publikacije, razmjenu iskustava, konferen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Ugovor o bespovratnim sredstvima (grant contrac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Na zadanu temu iz natječaja potencijalni prijavitelji (škole, učeničke domove, NVO-e, poslodavce itd.) razvijaju projektni prijedlog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Priprema za korištenje budućih strukturnih fondova (kad postanemo EU članica) – još veća financijska sredstv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5"/>
          <p:cNvSpPr/>
          <p:nvPr/>
        </p:nvSpPr>
        <p:spPr>
          <a:xfrm>
            <a:off x="1187280" y="4762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02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Primjer ugovora o pružanju usluga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3399"/>
                </a:solidFill>
                <a:latin typeface="Arial"/>
              </a:rPr>
              <a:t>Daljnji razvoj Hrvatskog kvalifikacijskog okvi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Početak projekta -  18. siječnja 2010. god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Trajanje projekta: 18 mjesec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Završetak projekta – lipanj 2011. god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Ugovorena vrijednost projekta</a:t>
            </a:r>
            <a:r>
              <a:rPr b="1" lang="hr-HR" sz="20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1,468,000€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Ugovor će provoditi konzultanti konzorcija</a:t>
            </a:r>
            <a:r>
              <a:rPr b="1" lang="hr-HR" sz="2000" spc="-1" strike="noStrike">
                <a:solidFill>
                  <a:srgbClr val="003399"/>
                </a:solidFill>
                <a:latin typeface="Arial"/>
              </a:rPr>
              <a:t>: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WYG Interantional i Tribal Hel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1116000" y="47628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18:42Z</dcterms:created>
  <dc:creator>Mile Dzelalija</dc:creator>
  <dc:description/>
  <dc:language>en-US</dc:language>
  <cp:lastModifiedBy>Andreja Marcetić</cp:lastModifiedBy>
  <dcterms:modified xsi:type="dcterms:W3CDTF">2010-06-14T15:39:15Z</dcterms:modified>
  <cp:revision>451</cp:revision>
  <dc:subject/>
  <dc:title>Slide 1</dc:title>
</cp:coreProperties>
</file>