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6912-171F-4379-9EFF-EFE077C8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8255-C7AE-43B7-9DE6-05A492AD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A4BB-21C9-47DD-94BF-360340D8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1E0-CB35-44CE-9965-FA2E3ADDE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0F87-B54B-4648-8474-8A947BF2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F0F4-91E0-4C2E-8759-F87A9F06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9A3-1416-411A-8529-EB7C8AD3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8A5-E088-48CF-BEE2-76687E44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896-515D-4DCF-B404-464375C1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628C-08A5-4EA9-8445-ADA85D92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CE0A-4209-4730-9B12-5C9EDCBF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39F-514C-446D-B2ED-747BF293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8ADB-C48D-4FCE-8543-EF877202E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275C-342B-4F57-B3EC-B3771CE0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C61D-C2E1-4DF3-8E5A-D0CAEC79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482F-FACC-49D9-AB59-DE06CCDB4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E07-5A88-466C-BA0B-3A80F627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4107-55F1-4D1D-8A4B-B8F1C7EE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056A-0385-4432-8FA3-C72BAE32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9CE4-62BA-4933-BB19-E0ED6091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A87-438A-402E-8493-2A482727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58D3-A5CC-4AC7-AA26-73EB9F93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3FBA-D663-48CE-AEF1-C246E799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A16-CCF9-4307-8998-479F1957F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4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4C9-A9AB-408E-B49D-E53699EF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BC84-5C32-42BE-AD5D-E29333C7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2E18-765F-4E68-B02A-8C3F5666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066-EC81-4B91-97E6-C4ACC4EC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4D60-682F-474A-8F4B-CDD213F5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2C2-EE08-4B1B-A5CD-00D07298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320D-B051-45DE-BA27-723479E1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70D8-E623-405C-86A3-69972F87A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2EB-8C03-41FD-9773-BDA8EE3D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FA0-BF0A-499D-8E4F-3F1F03A9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ABBD-F917-4B92-8524-ECEBA9D2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E4F-AFC1-46D6-ABE9-83C2110E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D70-6585-47F8-ADB5-DE8966AD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64D1-50AB-4880-BE03-684DB5C6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A83-2DF2-4B18-BEDE-E3CF9800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998-2026-46F9-ABD5-87EC2694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E20-5967-471E-A327-BD391F83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F33-080E-4E77-A6FC-B849393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85F-9A36-4982-A965-7174ABF3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192-769F-44B3-BDFC-3E1CD592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2FF-89A9-4D45-A981-1F010978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C7A8-5D25-4B80-A66A-C592D2E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3888-D847-477C-BBDE-4FEE10D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2230-4F33-4F44-884F-A5CBEB1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BEB1-EEC8-4D03-87B1-B919070C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366-E2EF-4CF9-9F2D-015609EB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A0E-70AE-4198-963F-18ACDAD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868-2FAA-4856-B92A-C09292F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D21A-4602-4A6C-82D0-408117D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56B4-E410-4FAC-B476-94235731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C51-F850-4733-8954-99F71D9C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17E-EAE5-4ACA-802A-B104F31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428-B333-4ABB-98B6-1409EC77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DAC0-6DDE-473B-A80E-8F078E44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8E1D-2B03-44A4-BDC7-5FDB6DF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A709-AADF-4DA2-B812-5516036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11BD-2C99-4784-9564-B1E00B4A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F427-7871-4CF5-A1FA-40B513C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39C-FDC2-4BE3-AEDA-C2624264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9848-C6F9-459E-AD4F-B84F4730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7B58-4E90-4B8C-A857-0A36381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CCFA-93B8-40CA-9D41-519ADAB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EC19-8DD3-47AC-813C-B9DECB6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707F-5458-4877-AFE9-94B253B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1A97-8942-442A-965A-DC166469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0091-E629-4791-A052-94C3FDD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A22AD-76BE-4E45-92C6-AD3BFBF9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DF62-26E2-46BD-B28F-B9355F1A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AFF6-D798-4E2D-935A-CD3728C0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DD9-E4FD-40D3-BC5F-B4B3E044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B915-A2AF-4A8A-A159-C6BAA1B2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6366-E623-4C1C-BBD8-2BC46250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E414-CF19-4A05-BF94-5F552C8D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1AC8-8D77-455A-BB89-7D6BCD8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F3758-495B-4F6C-B7B9-7A7B0D2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9DB68-FF4E-43AE-B102-32FB8616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4B58-2781-4679-8F51-5505B7A4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4D29-A202-43D6-B9F7-78AB4B1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8720-4DC7-4CC2-82E8-AC8402A0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8D35-5E27-49EC-A15C-C5A01A09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D4D-5C44-4408-ABF6-9153DBFB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6832-5471-4BB1-9B5F-3645350A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956D-9AD6-4B87-9342-4FA3078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ACF0-6991-41CF-9DE9-014AC91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490D-B09B-497A-989D-4FD43E60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9768C-40F6-4B78-AB7A-6ACA38ED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AD51-1C58-4E93-B409-170C3D8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F12A-A752-411F-AA76-C22F8AD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ED280-BEF0-4754-AE00-F3DD9E4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F7860-42CA-49BA-85D8-74AEA2E2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C4BE3-2E65-4471-8018-5F433ED2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3B3-E6E9-4DCE-A3F1-17C10615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E002C-E0E9-4FB7-A237-0B17767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B33D9-CAE5-4FD8-AC36-833C661C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954B2-CE94-4C79-B00E-9DAF3A8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435A-AB87-482B-BA0B-331BF5C7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3BE7-A7A6-4F89-9856-1AD423A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8326-6714-45F7-86C9-EAB4D93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CBDD-9A08-45E1-995A-17F53215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ED637-6116-44CC-A6B5-D88D3C7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C2BA-1F07-4FE0-BD2D-676F4C2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BCEC-5003-4527-ACD1-F92C264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E79-CDE8-4369-A4C6-7253E89A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725A-0299-42CF-9065-BCB2D20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080B-AEB2-4B80-B8B9-61C2CFA5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C1F3-42B9-48C9-87F0-70B1B44F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47F0-D413-4EDB-88CB-AE286E05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B385C-52C7-4919-9675-F77F321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8B087-28AE-41EF-BB0D-A84233D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4E02F-2D71-4541-9F88-811B554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259E-7552-48F4-84CF-D5CE8AC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E7AA-C284-49EF-92BD-76957F1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1F14B-0160-4A31-9DD1-E50591C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E10-2063-4A4C-86BF-EC3477B7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2027-B905-4A96-B4B2-E24C949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1975E-35DC-457A-B94D-C834656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4DF88-7116-4A92-8173-6F43EC3E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B09D-9FB2-4125-9DE5-98E498D1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D9DE-5F62-4CBE-878E-16A83AB6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94F-0C62-44C2-9CB3-9C61CEA0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72360" y="6492960"/>
            <a:ext cx="2288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916360" y="649296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10920" y="649296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C98C-99B2-414D-BE99-7E7E9E135B56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757-0AEC-42F5-AFDE-137267860113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B9B-FB7E-4338-B1D8-07963B86CD7E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E400-6D23-4A51-B827-7D1094F938C5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traight Connector 6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C6D5-CAE4-4B83-BCDF-7A424CB29E03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B9EB-9B7B-42CF-84EA-B954BBB129A8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traight Connector 5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471-CA25-4D4C-AA15-1CB9CCBE6A83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2999880"/>
            <a:ext cx="78930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2060"/>
                </a:solidFill>
                <a:latin typeface="Arial"/>
              </a:rPr>
              <a:t>Radne skupine: osnivanje, edukacija i uloga u provedbi HKO-a</a:t>
            </a:r>
            <a:br>
              <a:rPr sz="2900"/>
            </a:br>
            <a:br>
              <a:rPr sz="700"/>
            </a:br>
            <a:br>
              <a:rPr sz="7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mr. sc. Alenka Buntić Rogić, Nacionalni centar za vanjsko vrednovanje obrazovanja 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član</a:t>
            </a: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Operativnog tima za potporu Povjerenstvu za izradu HKO</a:t>
            </a: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0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1285920" y="4287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187280" y="5084640"/>
            <a:ext cx="77774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2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928800" y="3000240"/>
            <a:ext cx="8059680" cy="19288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914400" y="5048280"/>
            <a:ext cx="805032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928800" y="3143160"/>
            <a:ext cx="228600" cy="17859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rafička tehnologija i audio-vizualna teh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trojarstvo, brodogradnja i metalur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6" descr="brodogradiliste.jpg"/>
          <p:cNvPicPr/>
          <p:nvPr/>
        </p:nvPicPr>
        <p:blipFill>
          <a:blip r:embed="rId2"/>
          <a:stretch/>
        </p:blipFill>
        <p:spPr>
          <a:xfrm>
            <a:off x="1357200" y="1857240"/>
            <a:ext cx="685800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7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Elektrotehnika i računarstvo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11" descr="j0408869.jpg"/>
          <p:cNvPicPr/>
          <p:nvPr/>
        </p:nvPicPr>
        <p:blipFill>
          <a:blip r:embed="rId2"/>
          <a:stretch/>
        </p:blipFill>
        <p:spPr>
          <a:xfrm>
            <a:off x="1928880" y="2286000"/>
            <a:ext cx="485784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8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raditeljstvo i geodezija (arhitektura, urbanizam; geodezija; građevinarstv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5" descr="j0433420.jpg"/>
          <p:cNvPicPr/>
          <p:nvPr/>
        </p:nvPicPr>
        <p:blipFill>
          <a:blip r:embed="rId2"/>
          <a:stretch/>
        </p:blipFill>
        <p:spPr>
          <a:xfrm>
            <a:off x="1292400" y="2428920"/>
            <a:ext cx="6065640" cy="35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9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Ekonomija, trgovina i poslovna administracija (ekonom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6" descr="novac_020.jpg"/>
          <p:cNvPicPr/>
          <p:nvPr/>
        </p:nvPicPr>
        <p:blipFill>
          <a:blip r:embed="rId2"/>
          <a:stretch/>
        </p:blipFill>
        <p:spPr>
          <a:xfrm>
            <a:off x="1566720" y="2238480"/>
            <a:ext cx="600552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0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urizam i ugostiteljstv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6" descr="dubrovnik.jpg"/>
          <p:cNvPicPr/>
          <p:nvPr/>
        </p:nvPicPr>
        <p:blipFill>
          <a:blip r:embed="rId2"/>
          <a:stretch/>
        </p:blipFill>
        <p:spPr>
          <a:xfrm>
            <a:off x="1214280" y="1785960"/>
            <a:ext cx="635796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romet i logistika (tehnologija prometa i transpor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5" descr="transport i logistika.jpg"/>
          <p:cNvPicPr/>
          <p:nvPr/>
        </p:nvPicPr>
        <p:blipFill>
          <a:blip r:embed="rId2"/>
          <a:stretch/>
        </p:blipFill>
        <p:spPr>
          <a:xfrm>
            <a:off x="3429000" y="2814480"/>
            <a:ext cx="2857680" cy="26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Zdravstvo i socijalna skrb (temeljne medicinske znanosti; kliničke medicinske znanosti; javno zdravstvo i zdravstvena zaštita; stomatologija; farmacija; socijalne djelatnost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5" descr="j0400941.jpg"/>
          <p:cNvPicPr/>
          <p:nvPr/>
        </p:nvPicPr>
        <p:blipFill>
          <a:blip r:embed="rId2"/>
          <a:stretch/>
        </p:blipFill>
        <p:spPr>
          <a:xfrm>
            <a:off x="2620800" y="3086280"/>
            <a:ext cx="378000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Osobne i druge uslug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7" descr="osobne usluge.jpg"/>
          <p:cNvPicPr/>
          <p:nvPr/>
        </p:nvPicPr>
        <p:blipFill>
          <a:blip r:embed="rId2"/>
          <a:stretch/>
        </p:blipFill>
        <p:spPr>
          <a:xfrm>
            <a:off x="1071720" y="2000160"/>
            <a:ext cx="3214440" cy="3857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osobne usluge 1.jpg"/>
          <p:cNvPicPr/>
          <p:nvPr/>
        </p:nvPicPr>
        <p:blipFill>
          <a:blip r:embed="rId3"/>
          <a:stretch/>
        </p:blipFill>
        <p:spPr>
          <a:xfrm>
            <a:off x="4429080" y="2000160"/>
            <a:ext cx="3618000" cy="38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Umjetnost (kazališna umjetnost; filmska umjetnost; glazbena umjetnost; likovna umjetnost; primijenjena umjetnost; plesna umjetnos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6" descr="j0434881.png"/>
          <p:cNvPicPr/>
          <p:nvPr/>
        </p:nvPicPr>
        <p:blipFill>
          <a:blip r:embed="rId2"/>
          <a:stretch/>
        </p:blipFill>
        <p:spPr>
          <a:xfrm>
            <a:off x="3214800" y="2857680"/>
            <a:ext cx="2714400" cy="25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cilj osnivanj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pis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zadaće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standard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potrebni uvjeti za rad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kompetencije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struktur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Matematika, fizika, geoznanosti, kemija, bi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5" descr="fizika.jpg"/>
          <p:cNvPicPr/>
          <p:nvPr/>
        </p:nvPicPr>
        <p:blipFill>
          <a:blip r:embed="rId2"/>
          <a:stretch/>
        </p:blipFill>
        <p:spPr>
          <a:xfrm>
            <a:off x="2643120" y="2571840"/>
            <a:ext cx="3286080" cy="26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emeljne tehničke znanosti (automatika; energetika; materijali; mehanika fluida; organizacija rada i proizvodnja; tehnička mehanika; termodinamika; inženjerstvo okoliš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7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Zrakoplovstvo, raketna i svemirska tehni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6" descr="avion_riche_1.jpg"/>
          <p:cNvPicPr/>
          <p:nvPr/>
        </p:nvPicPr>
        <p:blipFill>
          <a:blip r:embed="rId2"/>
          <a:stretch/>
        </p:blipFill>
        <p:spPr>
          <a:xfrm>
            <a:off x="1571760" y="2071800"/>
            <a:ext cx="5929200" cy="41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8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Informacije i komunikacije </a:t>
            </a:r>
            <a:r>
              <a:rPr b="0" lang="hr-HR" sz="2200" spc="-1" strike="noStrike">
                <a:solidFill>
                  <a:srgbClr val="002060"/>
                </a:solidFill>
                <a:latin typeface="Arial Narrow"/>
              </a:rPr>
              <a:t>(arhivistika i dokumentalistika; informacijski sustavi i informatologija; knjižničarstvo; komunikologija; odnosi s javnošću; leksikografija i enciklopedistika; muzeologija; masovni mediji; novinarstvo; organizacija i informatika; informacijsko i programsko inženjerstvo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6" descr="comunication.jpg"/>
          <p:cNvPicPr/>
          <p:nvPr/>
        </p:nvPicPr>
        <p:blipFill>
          <a:blip r:embed="rId2"/>
          <a:stretch/>
        </p:blipFill>
        <p:spPr>
          <a:xfrm>
            <a:off x="1928880" y="3214800"/>
            <a:ext cx="5143320" cy="304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9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ravo, politologija, državna uprava i javni poslovi (pravo; polit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6" descr="study_pravo.jpg"/>
          <p:cNvPicPr/>
          <p:nvPr/>
        </p:nvPicPr>
        <p:blipFill>
          <a:blip r:embed="rId2"/>
          <a:stretch/>
        </p:blipFill>
        <p:spPr>
          <a:xfrm>
            <a:off x="1428840" y="2214720"/>
            <a:ext cx="619740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0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ociologija, psihologija, edukacijsko-rehabilitacijska, logopedija (sociologija; psihologija; edukacijsko-rehabilitacijske znanosti; logopedija; demograf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1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Odgoj, obrazovanje i šport (pedagogija; kinezi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6" descr="ucionica.jpg"/>
          <p:cNvPicPr/>
          <p:nvPr/>
        </p:nvPicPr>
        <p:blipFill>
          <a:blip r:embed="rId2"/>
          <a:stretch/>
        </p:blipFill>
        <p:spPr>
          <a:xfrm>
            <a:off x="1000080" y="2143080"/>
            <a:ext cx="695340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Filozofija, teologija, religijske znanosti, antrop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ovijest, znanost o umjetnosti, arheologija, et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75480" indent="-212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r>
              <a:rPr b="0" lang="hr-HR" sz="1600" spc="-1" strike="noStrike">
                <a:solidFill>
                  <a:srgbClr val="0070c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5" descr="Sibenik_katedrala.jpg"/>
          <p:cNvPicPr/>
          <p:nvPr/>
        </p:nvPicPr>
        <p:blipFill>
          <a:blip r:embed="rId2"/>
          <a:stretch/>
        </p:blipFill>
        <p:spPr>
          <a:xfrm>
            <a:off x="1428840" y="2143080"/>
            <a:ext cx="6072120" cy="41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Sigurnost, obrana i zaštita (sigurnosne i obrambene znanosti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5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Fil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6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Interdisciplinarna (brine o horizontalnoj uređenosti interdisciplinarnih kvalifikacija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Cilj osnivanja radnih skupi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  <a:ea typeface="Verdana"/>
              </a:rPr>
              <a:t>Formiranje tijela koja će kompetentno izraditi standarde kvalifikacija potrebne hrvatskom društvu, u skladu s programom rada Povjerenstva za izradu Hrvatskog kvalifikacijskog okvi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8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Javni poziv za izbor članova radnih skupina na web stanicam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www.ncvvo.hr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www.hko.vlada.hr   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dopisima prema određenim institucijama (Sveučilišta, Agencije, Sindikati, poduzeća ….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Content Placeholder 5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9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Zadaće radnih skupina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analiza strukture i sastava radnih skupin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upoznavanje s Hrvatskim kvalifikacijskim okvirom, ulogom i odgovornošću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analiza raspoloživih podataka o kvalifikacij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izrada prijedloga standarda kvalifikacija za postojeće kvalifikacije po skupin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vrednovanje rada radnih skup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davanje prijedloga na javnu rasprav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konačni prijedlog standarda 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izrada prijedloga daljnjega praćenja postojećih kvalifikacija i stvaranja novi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8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2060"/>
                </a:solidFill>
                <a:latin typeface="Arial Narrow"/>
              </a:rPr>
              <a:t>Zadaće trenera radnih skupina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pridonijeti razumijevanju osnova HKO-a članovima radnih skupin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pomagati i pratiti postupak izrade standarda kvalifikacija;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 Narrow"/>
              </a:rPr>
              <a:t>pomagati i pratiti radne skupine do izrade standarda kvalifikacije</a:t>
            </a: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Times New Roman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42884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 Narrow"/>
              </a:rPr>
              <a:t>Standard kvalifika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Arial Narrow"/>
              </a:rPr>
              <a:t>Standard kvalifikacija (</a:t>
            </a:r>
            <a:r>
              <a:rPr b="0" i="1" lang="hr-HR" sz="2800" spc="-1" strike="noStrike">
                <a:solidFill>
                  <a:srgbClr val="000066"/>
                </a:solidFill>
                <a:latin typeface="Arial Narrow"/>
              </a:rPr>
              <a:t>engl. Qualification Standard</a:t>
            </a:r>
            <a:r>
              <a:rPr b="0" lang="hr-HR" sz="2800" spc="-1" strike="noStrike">
                <a:solidFill>
                  <a:srgbClr val="000066"/>
                </a:solidFill>
                <a:latin typeface="Arial Narrow"/>
              </a:rPr>
              <a:t>) označava sadržaj i strukturu određene kvalifikacije, a uključuje sve podatke koji su potrebni za određivanje razine, obujma i profila kvalifikacije, kao i podatke koji su potrebni za osiguravanje kvalitete standarda kvalifikacija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285840" y="1152720"/>
            <a:ext cx="8562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 Narrow"/>
              </a:rPr>
              <a:t>Standard kvalifikacija mora sadržav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0.   </a:t>
            </a: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Kôd standarda kvalifikacija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(treba uvesti značenje i postupak dodjeljivanja kôda, a trebao bi  imati ugrađenu informaciju o razini, profilu i klasi/obujmu kvalifikacij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66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Osnovna svojstva kvalifik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1.1.  Naziv kvalifikac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1.2.  Razina kvalifikac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1.3.  Minimalni obujam kvalifikacija, ECTS / ECVET / (</a:t>
            </a:r>
            <a:r>
              <a:rPr b="0" i="1" lang="hr-HR" sz="2400" spc="-1" strike="noStrike">
                <a:solidFill>
                  <a:srgbClr val="000066"/>
                </a:solidFill>
                <a:latin typeface="Arial Narrow"/>
              </a:rPr>
              <a:t>O 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/ </a:t>
            </a:r>
            <a:r>
              <a:rPr b="0" i="1" lang="hr-HR" sz="2400" spc="-1" strike="noStrike">
                <a:solidFill>
                  <a:srgbClr val="000066"/>
                </a:solidFill>
                <a:latin typeface="Arial Narrow"/>
              </a:rPr>
              <a:t>G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1.4.  Klasa kvalifikac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Times New Roman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"/>
          <p:cNvSpPr/>
          <p:nvPr/>
        </p:nvSpPr>
        <p:spPr>
          <a:xfrm>
            <a:off x="295200" y="1209240"/>
            <a:ext cx="856296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 Narrow"/>
              </a:rPr>
              <a:t>Standard kvalifikacija mora sadržav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2.   </a:t>
            </a: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Elementi kvalifik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2.1. Kompetencije i ishodi učenja (kratki popis ili opis kvalifikacija i ishoda učenj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2.2. Jedinični skupovi ishoda učenja (naziv; kod; razina; obujam; kompetencije i ishodi učenja; uvjeti u kojima se stječu kompetencije; provjera i vrednovanje; primjer  provjere vrednovan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66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Elementi za osiguravanje kvalitete kvalifikacija</a:t>
            </a: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1.  Uvjeti za pristupanje stjecanju kvalifikacije (ulazni uvjeti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2.  Opravdanost uvođenja kvalifikacija (prikaz potreba i potražnje tržišta rada, pojedinca i društva za kvalifikacijom, uključujući nastavak obrazovanj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3.  Uloga kvalifikacije ( u odnosu na nastavak obrazovanja, tržište rada i drugo);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Times New Roman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6"/>
          <p:cNvSpPr/>
          <p:nvPr/>
        </p:nvSpPr>
        <p:spPr>
          <a:xfrm>
            <a:off x="1428840" y="28584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Times New Roman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2" descr="HKO_logo"/>
          <p:cNvPicPr/>
          <p:nvPr/>
        </p:nvPicPr>
        <p:blipFill>
          <a:blip r:embed="rId1"/>
          <a:stretch/>
        </p:blipFill>
        <p:spPr>
          <a:xfrm>
            <a:off x="214200" y="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4"/>
          <p:cNvSpPr/>
          <p:nvPr/>
        </p:nvSpPr>
        <p:spPr>
          <a:xfrm>
            <a:off x="428760" y="928800"/>
            <a:ext cx="8286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 Narrow"/>
              </a:rPr>
              <a:t>Standard kvalifikacija mora sadržav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4.  Nadležne ustanove koje izdaju  ispravu o stečenoj kvalifikaciji (npr., gimnazije, sveučilišta, veleučilišta i drug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5.  Rok za stjecanje kvalifikacije, tj. do kada se mogu stjecati kvalifikaci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3.6.  Potrebni resursi (procjena svih potrebnih resursa za stjecanje kvalifikacija; podaci o resursima koje ulaže svaki pojedinac za stjecanje dotične kvalifikacije, tj. svoje vrijeme, prostor i novac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4. </a:t>
            </a: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	</a:t>
            </a:r>
            <a:r>
              <a:rPr b="0" lang="hr-HR" sz="2400" spc="-1" strike="noStrike" u="sng">
                <a:solidFill>
                  <a:srgbClr val="000066"/>
                </a:solidFill>
                <a:uFillTx/>
                <a:latin typeface="Arial Narrow"/>
              </a:rPr>
              <a:t>Elementi za osiguravanje kvalitete standarda kvalifik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4.1.  Predlagatelji i nadnevak izrade prijedloga standarda kvalifikacij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0" lang="hr-HR" sz="2200" spc="-1" strike="noStrike">
                <a:solidFill>
                  <a:srgbClr val="000066"/>
                </a:solidFill>
                <a:latin typeface="Arial Narrow"/>
              </a:rPr>
              <a:t>4.2.  Nadležna institucija za odobravanje standarda kvalifikacija i nadnevak prihvaćanja   prijedlog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Right Arrow 5" descr=""/>
          <p:cNvPicPr/>
          <p:nvPr/>
        </p:nvPicPr>
        <p:blipFill>
          <a:blip r:embed="rId2"/>
          <a:stretch/>
        </p:blipFill>
        <p:spPr>
          <a:xfrm>
            <a:off x="731880" y="1457280"/>
            <a:ext cx="3968640" cy="987480"/>
          </a:xfrm>
          <a:prstGeom prst="rect">
            <a:avLst/>
          </a:prstGeom>
          <a:ln w="0">
            <a:noFill/>
          </a:ln>
        </p:spPr>
      </p:pic>
      <p:pic>
        <p:nvPicPr>
          <p:cNvPr id="512" name="Right Arrow 7" descr=""/>
          <p:cNvPicPr/>
          <p:nvPr/>
        </p:nvPicPr>
        <p:blipFill>
          <a:blip r:embed="rId3"/>
          <a:stretch/>
        </p:blipFill>
        <p:spPr>
          <a:xfrm>
            <a:off x="731880" y="2243160"/>
            <a:ext cx="3968640" cy="987480"/>
          </a:xfrm>
          <a:prstGeom prst="rect">
            <a:avLst/>
          </a:prstGeom>
          <a:ln w="0">
            <a:noFill/>
          </a:ln>
        </p:spPr>
      </p:pic>
      <p:pic>
        <p:nvPicPr>
          <p:cNvPr id="513" name="Right Arrow 8" descr=""/>
          <p:cNvPicPr/>
          <p:nvPr/>
        </p:nvPicPr>
        <p:blipFill>
          <a:blip r:embed="rId4"/>
          <a:stretch/>
        </p:blipFill>
        <p:spPr>
          <a:xfrm>
            <a:off x="731880" y="3170160"/>
            <a:ext cx="3968640" cy="914400"/>
          </a:xfrm>
          <a:prstGeom prst="rect">
            <a:avLst/>
          </a:prstGeom>
          <a:ln w="0">
            <a:noFill/>
          </a:ln>
        </p:spPr>
      </p:pic>
      <p:pic>
        <p:nvPicPr>
          <p:cNvPr id="514" name="Right Arrow 9" descr=""/>
          <p:cNvPicPr/>
          <p:nvPr/>
        </p:nvPicPr>
        <p:blipFill>
          <a:blip r:embed="rId5"/>
          <a:stretch/>
        </p:blipFill>
        <p:spPr>
          <a:xfrm>
            <a:off x="804960" y="3956040"/>
            <a:ext cx="3962160" cy="987480"/>
          </a:xfrm>
          <a:prstGeom prst="rect">
            <a:avLst/>
          </a:prstGeom>
          <a:ln w="0">
            <a:noFill/>
          </a:ln>
        </p:spPr>
      </p:pic>
      <p:pic>
        <p:nvPicPr>
          <p:cNvPr id="515" name="Right Arrow 10" descr=""/>
          <p:cNvPicPr/>
          <p:nvPr/>
        </p:nvPicPr>
        <p:blipFill>
          <a:blip r:embed="rId6"/>
          <a:stretch/>
        </p:blipFill>
        <p:spPr>
          <a:xfrm>
            <a:off x="804960" y="4816440"/>
            <a:ext cx="3962160" cy="987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3"/>
          <p:cNvSpPr/>
          <p:nvPr/>
        </p:nvSpPr>
        <p:spPr>
          <a:xfrm>
            <a:off x="785880" y="1143000"/>
            <a:ext cx="40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hr-HR" sz="2200" spc="-1" strike="noStrike">
                <a:solidFill>
                  <a:srgbClr val="002060"/>
                </a:solidFill>
                <a:latin typeface="Arial Narrow"/>
              </a:rPr>
              <a:t>Uvjeti za rad radnih skupina</a:t>
            </a:r>
            <a:r>
              <a:rPr b="1" lang="hr-HR" sz="1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Right Arrow 14" descr=""/>
          <p:cNvPicPr/>
          <p:nvPr/>
        </p:nvPicPr>
        <p:blipFill>
          <a:blip r:embed="rId7"/>
          <a:stretch/>
        </p:blipFill>
        <p:spPr>
          <a:xfrm>
            <a:off x="804960" y="5529240"/>
            <a:ext cx="3962160" cy="987480"/>
          </a:xfrm>
          <a:prstGeom prst="rect">
            <a:avLst/>
          </a:prstGeom>
          <a:ln w="0">
            <a:noFill/>
          </a:ln>
        </p:spPr>
      </p:pic>
      <p:pic>
        <p:nvPicPr>
          <p:cNvPr id="518" name="Content Placeholder 17" descr="j0431734.jpg"/>
          <p:cNvPicPr/>
          <p:nvPr/>
        </p:nvPicPr>
        <p:blipFill>
          <a:blip r:embed="rId8"/>
          <a:stretch/>
        </p:blipFill>
        <p:spPr>
          <a:xfrm>
            <a:off x="4929120" y="1857240"/>
            <a:ext cx="385776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214200" y="2071800"/>
          <a:ext cx="8643960" cy="178596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17859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Nacionalna klasifikacija zanim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4-Point Star 5"/>
          <p:cNvSpPr/>
          <p:nvPr/>
        </p:nvSpPr>
        <p:spPr>
          <a:xfrm>
            <a:off x="4714920" y="278604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4-Point Star 5"/>
          <p:cNvSpPr/>
          <p:nvPr/>
        </p:nvSpPr>
        <p:spPr>
          <a:xfrm>
            <a:off x="5000760" y="278604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4-Point Star 5"/>
          <p:cNvSpPr/>
          <p:nvPr/>
        </p:nvSpPr>
        <p:spPr>
          <a:xfrm>
            <a:off x="5286240" y="278604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Zaobljeni pravokutnik 14"/>
          <p:cNvGrpSpPr/>
          <p:nvPr/>
        </p:nvGrpSpPr>
        <p:grpSpPr>
          <a:xfrm>
            <a:off x="1152360" y="3382920"/>
            <a:ext cx="1614600" cy="403200"/>
            <a:chOff x="1152360" y="3382920"/>
            <a:chExt cx="1614600" cy="403200"/>
          </a:xfrm>
        </p:grpSpPr>
        <p:pic>
          <p:nvPicPr>
            <p:cNvPr id="524" name="Zaobljeni pravokutnik 14" descr=""/>
            <p:cNvPicPr/>
            <p:nvPr/>
          </p:nvPicPr>
          <p:blipFill>
            <a:blip r:embed="rId1"/>
            <a:stretch/>
          </p:blipFill>
          <p:spPr>
            <a:xfrm>
              <a:off x="1152360" y="3382920"/>
              <a:ext cx="16146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1228680" y="3443400"/>
              <a:ext cx="1471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Gill Sans MT"/>
                </a:rPr>
                <a:t>www.nn.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Tablica 20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Right Arrow 2"/>
          <p:cNvSpPr/>
          <p:nvPr/>
        </p:nvSpPr>
        <p:spPr>
          <a:xfrm>
            <a:off x="214200" y="2357280"/>
            <a:ext cx="4357800" cy="11430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5d4e1"/>
          </a:solidFill>
          <a:ln w="9360">
            <a:solidFill>
              <a:srgbClr val="aab0c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Državni zavod za statistiku određ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Izmjene i dopune Nacionalne klasifikacije zanimanja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NN 124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4-Point Star 5"/>
          <p:cNvSpPr/>
          <p:nvPr/>
        </p:nvSpPr>
        <p:spPr>
          <a:xfrm>
            <a:off x="8143920" y="278604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14200" y="3929040"/>
          <a:ext cx="8643960" cy="178596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17859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Nacionalna klasifikacija djelatnos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Right Arrow 2"/>
          <p:cNvSpPr/>
          <p:nvPr/>
        </p:nvSpPr>
        <p:spPr>
          <a:xfrm>
            <a:off x="214200" y="4143240"/>
            <a:ext cx="4357800" cy="12859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Pravilnik o razvrstavanju poslovnih subjekata prema Nacionalnoj klasifikaciji djelatnosti – NN 52/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Zaobljeni pravokutnik 22"/>
          <p:cNvGrpSpPr/>
          <p:nvPr/>
        </p:nvGrpSpPr>
        <p:grpSpPr>
          <a:xfrm>
            <a:off x="1152360" y="5237280"/>
            <a:ext cx="1687680" cy="407880"/>
            <a:chOff x="1152360" y="5237280"/>
            <a:chExt cx="1687680" cy="407880"/>
          </a:xfrm>
        </p:grpSpPr>
        <p:pic>
          <p:nvPicPr>
            <p:cNvPr id="532" name="Zaobljeni pravokutnik 22" descr=""/>
            <p:cNvPicPr/>
            <p:nvPr/>
          </p:nvPicPr>
          <p:blipFill>
            <a:blip r:embed="rId3"/>
            <a:stretch/>
          </p:blipFill>
          <p:spPr>
            <a:xfrm>
              <a:off x="1152360" y="5237280"/>
              <a:ext cx="16876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228680" y="5300640"/>
              <a:ext cx="1542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Gill Sans MT"/>
                </a:rPr>
                <a:t>www.nn.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4-Point Star 5"/>
          <p:cNvSpPr/>
          <p:nvPr/>
        </p:nvSpPr>
        <p:spPr>
          <a:xfrm>
            <a:off x="4714920" y="4643280"/>
            <a:ext cx="142920" cy="21456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4-Point Star 5"/>
          <p:cNvSpPr/>
          <p:nvPr/>
        </p:nvSpPr>
        <p:spPr>
          <a:xfrm>
            <a:off x="5000760" y="4643280"/>
            <a:ext cx="142920" cy="21456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560"/>
              <a:gd name="textAreaBottom" fmla="*/ 126360 h 21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4-Point Star 5"/>
          <p:cNvSpPr/>
          <p:nvPr/>
        </p:nvSpPr>
        <p:spPr>
          <a:xfrm>
            <a:off x="8143920" y="471492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  <a:ea typeface="Arial"/>
              </a:rPr>
              <a:t>Vladino Povjerenstvo za izradu Hrvatskog kvalifikacijskog okvira na sjednici Povjerenstva 03. prosinca 2008. donosi Odluku o osnivanju radnih skupina za izradu kvalifika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214200" y="2071800"/>
          <a:ext cx="8643960" cy="150012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15001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Popis akademskih naziva i akademskih stupnjeva 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4-Point Star 5"/>
          <p:cNvSpPr/>
          <p:nvPr/>
        </p:nvSpPr>
        <p:spPr>
          <a:xfrm>
            <a:off x="5000760" y="271476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4-Point Star 5"/>
          <p:cNvSpPr/>
          <p:nvPr/>
        </p:nvSpPr>
        <p:spPr>
          <a:xfrm>
            <a:off x="7286760" y="271476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Zaobljeni pravokutnik 14"/>
          <p:cNvGrpSpPr/>
          <p:nvPr/>
        </p:nvGrpSpPr>
        <p:grpSpPr>
          <a:xfrm>
            <a:off x="1152360" y="3164040"/>
            <a:ext cx="1614600" cy="407880"/>
            <a:chOff x="1152360" y="3164040"/>
            <a:chExt cx="1614600" cy="407880"/>
          </a:xfrm>
        </p:grpSpPr>
        <p:pic>
          <p:nvPicPr>
            <p:cNvPr id="541" name="Zaobljeni pravokutnik 14" descr=""/>
            <p:cNvPicPr/>
            <p:nvPr/>
          </p:nvPicPr>
          <p:blipFill>
            <a:blip r:embed="rId1"/>
            <a:stretch/>
          </p:blipFill>
          <p:spPr>
            <a:xfrm>
              <a:off x="1152360" y="3164040"/>
              <a:ext cx="16146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1228680" y="3228840"/>
              <a:ext cx="1471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Gill Sans MT"/>
                </a:rPr>
                <a:t>www.nn.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3" name="Tablica 20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1590480"/>
          </a:xfrm>
          <a:prstGeom prst="rect">
            <a:avLst/>
          </a:prstGeom>
          <a:ln w="0">
            <a:noFill/>
          </a:ln>
        </p:spPr>
      </p:pic>
      <p:sp>
        <p:nvSpPr>
          <p:cNvPr id="544" name="Right Arrow 2"/>
          <p:cNvSpPr/>
          <p:nvPr/>
        </p:nvSpPr>
        <p:spPr>
          <a:xfrm>
            <a:off x="285840" y="2214720"/>
            <a:ext cx="4357440" cy="11430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Bookman Old Style"/>
              </a:rPr>
              <a:t>Rektorski zbor donosi Popis akademskih naziva i akademskih stupnjeva te njihovih kratica – NN 45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214200" y="3714840"/>
          <a:ext cx="8643960" cy="200016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20001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Popis stručnih naz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Right Arrow 2"/>
          <p:cNvSpPr/>
          <p:nvPr/>
        </p:nvSpPr>
        <p:spPr>
          <a:xfrm>
            <a:off x="214200" y="4143240"/>
            <a:ext cx="4357800" cy="12859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Bookman Old Style"/>
              </a:rPr>
              <a:t>Vijeće veleučilišta i visokih škola i Rektorski zbor don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Bookman Old Style"/>
              </a:rPr>
              <a:t>Popis stručnih naziva i njihovih kratica – NN 45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Zaobljeni pravokutnik 22"/>
          <p:cNvGrpSpPr/>
          <p:nvPr/>
        </p:nvGrpSpPr>
        <p:grpSpPr>
          <a:xfrm>
            <a:off x="1152360" y="5237280"/>
            <a:ext cx="1614600" cy="407880"/>
            <a:chOff x="1152360" y="5237280"/>
            <a:chExt cx="1614600" cy="407880"/>
          </a:xfrm>
        </p:grpSpPr>
        <p:pic>
          <p:nvPicPr>
            <p:cNvPr id="548" name="Zaobljeni pravokutnik 22" descr=""/>
            <p:cNvPicPr/>
            <p:nvPr/>
          </p:nvPicPr>
          <p:blipFill>
            <a:blip r:embed="rId3"/>
            <a:stretch/>
          </p:blipFill>
          <p:spPr>
            <a:xfrm>
              <a:off x="1152360" y="5237280"/>
              <a:ext cx="161460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228680" y="5300640"/>
              <a:ext cx="1471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Gill Sans MT"/>
                </a:rPr>
                <a:t>www.nn.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4-Point Star 5"/>
          <p:cNvSpPr/>
          <p:nvPr/>
        </p:nvSpPr>
        <p:spPr>
          <a:xfrm>
            <a:off x="5000760" y="45720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4-Point Star 5"/>
          <p:cNvSpPr/>
          <p:nvPr/>
        </p:nvSpPr>
        <p:spPr>
          <a:xfrm>
            <a:off x="7286760" y="45720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14200" y="2071800"/>
          <a:ext cx="8643960" cy="300024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300024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Izjednačavanje stručnih naziva nakon stručnih stud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4-Point Star 5"/>
          <p:cNvSpPr/>
          <p:nvPr/>
        </p:nvSpPr>
        <p:spPr>
          <a:xfrm>
            <a:off x="5000760" y="3214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4-Point Star 5"/>
          <p:cNvSpPr/>
          <p:nvPr/>
        </p:nvSpPr>
        <p:spPr>
          <a:xfrm>
            <a:off x="7215120" y="3214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Zaobljeni pravokutnik 14"/>
          <p:cNvGrpSpPr/>
          <p:nvPr/>
        </p:nvGrpSpPr>
        <p:grpSpPr>
          <a:xfrm>
            <a:off x="1152360" y="4535640"/>
            <a:ext cx="1614600" cy="469800"/>
            <a:chOff x="1152360" y="4535640"/>
            <a:chExt cx="1614600" cy="469800"/>
          </a:xfrm>
        </p:grpSpPr>
        <p:pic>
          <p:nvPicPr>
            <p:cNvPr id="556" name="Zaobljeni pravokutnik 14" descr=""/>
            <p:cNvPicPr/>
            <p:nvPr/>
          </p:nvPicPr>
          <p:blipFill>
            <a:blip r:embed="rId1"/>
            <a:stretch/>
          </p:blipFill>
          <p:spPr>
            <a:xfrm>
              <a:off x="1152360" y="4535640"/>
              <a:ext cx="16146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231920" y="4589640"/>
              <a:ext cx="1465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Gill Sans MT"/>
                </a:rPr>
                <a:t>www.nn.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8" name="Tablica 20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1590480"/>
          </a:xfrm>
          <a:prstGeom prst="rect">
            <a:avLst/>
          </a:prstGeom>
          <a:ln w="0">
            <a:noFill/>
          </a:ln>
        </p:spPr>
      </p:pic>
      <p:sp>
        <p:nvSpPr>
          <p:cNvPr id="559" name="Right Arrow 2"/>
          <p:cNvSpPr/>
          <p:nvPr/>
        </p:nvSpPr>
        <p:spPr>
          <a:xfrm>
            <a:off x="214200" y="2500200"/>
            <a:ext cx="4357800" cy="2071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Bookman Old Style"/>
              </a:rPr>
              <a:t>Vijeće veleučilišta i visokih škola i Rektorski zbor donose: Popis odgovarajućih stručnih naziva i njihovih kratica s kojima se izjednačava stručni naziv stečen završetkom stručnoga dodiplomskog studija u trajanju kraćem od tri godine – NN 45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214200" y="2071800"/>
          <a:ext cx="8643960" cy="464328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46432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Popis zakona i podzakonskih ak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4-Point Star 5"/>
          <p:cNvSpPr/>
          <p:nvPr/>
        </p:nvSpPr>
        <p:spPr>
          <a:xfrm>
            <a:off x="500076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4-Point Star 5"/>
          <p:cNvSpPr/>
          <p:nvPr/>
        </p:nvSpPr>
        <p:spPr>
          <a:xfrm>
            <a:off x="671508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Tablica 20" descr=""/>
          <p:cNvPicPr/>
          <p:nvPr/>
        </p:nvPicPr>
        <p:blipFill>
          <a:blip r:embed="rId1"/>
          <a:stretch/>
        </p:blipFill>
        <p:spPr>
          <a:xfrm>
            <a:off x="122400" y="549360"/>
            <a:ext cx="8826480" cy="1590480"/>
          </a:xfrm>
          <a:prstGeom prst="rect">
            <a:avLst/>
          </a:prstGeom>
          <a:ln w="0">
            <a:noFill/>
          </a:ln>
        </p:spPr>
      </p:pic>
      <p:sp>
        <p:nvSpPr>
          <p:cNvPr id="564" name="Right Arrow 2"/>
          <p:cNvSpPr/>
          <p:nvPr/>
        </p:nvSpPr>
        <p:spPr>
          <a:xfrm>
            <a:off x="214200" y="2428920"/>
            <a:ext cx="4357800" cy="785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0d6dc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Državni pedagoški standard osnovnoškolskog sustava odgoja i obrazovanja – NN 6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4-Point Star 5"/>
          <p:cNvSpPr/>
          <p:nvPr/>
        </p:nvSpPr>
        <p:spPr>
          <a:xfrm>
            <a:off x="728676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ight Arrow 2"/>
          <p:cNvSpPr/>
          <p:nvPr/>
        </p:nvSpPr>
        <p:spPr>
          <a:xfrm>
            <a:off x="214200" y="3286080"/>
            <a:ext cx="4357800" cy="7858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Državni pedagoški standard predškolskog odgoja i naobrazbe – NN 63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ight Arrow 2"/>
          <p:cNvSpPr/>
          <p:nvPr/>
        </p:nvSpPr>
        <p:spPr>
          <a:xfrm>
            <a:off x="214200" y="3786120"/>
            <a:ext cx="4357800" cy="15717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Pravilnik o načinu ostvarivanja programa naukovanja i stručnog osposobljavanja za vezane obrte te o pravima, obvezama, praćenju, vrednovanju i ocjenjivanju naučnika – NN 69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ight Arrow 2"/>
          <p:cNvSpPr/>
          <p:nvPr/>
        </p:nvSpPr>
        <p:spPr>
          <a:xfrm>
            <a:off x="285840" y="5143680"/>
            <a:ext cx="4357440" cy="5713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Pravilnik o polaganju državne mature – NN 97/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ight Arrow 2"/>
          <p:cNvSpPr/>
          <p:nvPr/>
        </p:nvSpPr>
        <p:spPr>
          <a:xfrm>
            <a:off x="285840" y="5715000"/>
            <a:ext cx="4357440" cy="1000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Pravilnik o postupku i načinu polaganja majstorskog ispita te ispita o stručnoj osposobljenosti – NN 88/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2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"/>
          <p:cNvGraphicFramePr/>
          <p:nvPr/>
        </p:nvGraphicFramePr>
        <p:xfrm>
          <a:off x="214200" y="2071800"/>
          <a:ext cx="8643960" cy="4643280"/>
        </p:xfrm>
        <a:graphic>
          <a:graphicData uri="http://schemas.openxmlformats.org/drawingml/2006/table">
            <a:tbl>
              <a:tblPr/>
              <a:tblGrid>
                <a:gridCol w="4429080"/>
                <a:gridCol w="285840"/>
                <a:gridCol w="285840"/>
                <a:gridCol w="285840"/>
                <a:gridCol w="285480"/>
                <a:gridCol w="285840"/>
                <a:gridCol w="285840"/>
                <a:gridCol w="285840"/>
                <a:gridCol w="285480"/>
                <a:gridCol w="255600"/>
                <a:gridCol w="316080"/>
                <a:gridCol w="285840"/>
                <a:gridCol w="285480"/>
                <a:gridCol w="285840"/>
                <a:gridCol w="281160"/>
                <a:gridCol w="218880"/>
              </a:tblGrid>
              <a:tr h="46432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473a35"/>
                          </a:solidFill>
                          <a:latin typeface="Gill Sans MT"/>
                        </a:rPr>
                        <a:t>Popis zakona i podzakonskih ak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4-Point Star 5"/>
          <p:cNvSpPr/>
          <p:nvPr/>
        </p:nvSpPr>
        <p:spPr>
          <a:xfrm>
            <a:off x="500076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4-Point Star 5"/>
          <p:cNvSpPr/>
          <p:nvPr/>
        </p:nvSpPr>
        <p:spPr>
          <a:xfrm>
            <a:off x="671508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Tablica 20" descr=""/>
          <p:cNvPicPr/>
          <p:nvPr/>
        </p:nvPicPr>
        <p:blipFill>
          <a:blip r:embed="rId1"/>
          <a:stretch/>
        </p:blipFill>
        <p:spPr>
          <a:xfrm>
            <a:off x="122400" y="549360"/>
            <a:ext cx="8826480" cy="1590480"/>
          </a:xfrm>
          <a:prstGeom prst="rect">
            <a:avLst/>
          </a:prstGeom>
          <a:ln w="0">
            <a:noFill/>
          </a:ln>
        </p:spPr>
      </p:pic>
      <p:sp>
        <p:nvSpPr>
          <p:cNvPr id="574" name="Right Arrow 2"/>
          <p:cNvSpPr/>
          <p:nvPr/>
        </p:nvSpPr>
        <p:spPr>
          <a:xfrm>
            <a:off x="285840" y="2428920"/>
            <a:ext cx="4357440" cy="714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232d47"/>
                </a:solidFill>
                <a:latin typeface="Arial"/>
                <a:ea typeface="Times New Roman"/>
              </a:rPr>
              <a:t>Pravilnik o znanstvenim i umjetničkim područjima, poljima i granama – NN 78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-Point Star 5"/>
          <p:cNvSpPr/>
          <p:nvPr/>
        </p:nvSpPr>
        <p:spPr>
          <a:xfrm>
            <a:off x="7286760" y="4357800"/>
            <a:ext cx="142920" cy="214200"/>
          </a:xfrm>
          <a:custGeom>
            <a:avLst/>
            <a:gdLst>
              <a:gd name="textAreaLeft" fmla="*/ 58680 w 142920"/>
              <a:gd name="textAreaRight" fmla="*/ 84240 w 142920"/>
              <a:gd name="textAreaTop" fmla="*/ 88200 h 214200"/>
              <a:gd name="textAreaBottom" fmla="*/ 126000 h 21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7ca3"/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ight Arrow 2"/>
          <p:cNvSpPr/>
          <p:nvPr/>
        </p:nvSpPr>
        <p:spPr>
          <a:xfrm>
            <a:off x="285840" y="3071880"/>
            <a:ext cx="4357440" cy="785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a o akademskim i stručnim nazivima i akademskom stupnju – NN 107/20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ight Arrow 2"/>
          <p:cNvSpPr/>
          <p:nvPr/>
        </p:nvSpPr>
        <p:spPr>
          <a:xfrm>
            <a:off x="285840" y="3786120"/>
            <a:ext cx="4357440" cy="8571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 o izmjenama i dopunama zakona o priznavanju inozemnih obrazovnih kvalifikacija – NN 138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ight Arrow 2"/>
          <p:cNvSpPr/>
          <p:nvPr/>
        </p:nvSpPr>
        <p:spPr>
          <a:xfrm>
            <a:off x="285840" y="4572000"/>
            <a:ext cx="4357440" cy="785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 o izmjenama i dopunama zakona o znanstvenoj djelatnosti i visokom obrazovanju – NN 46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ight Arrow 2"/>
          <p:cNvSpPr/>
          <p:nvPr/>
        </p:nvSpPr>
        <p:spPr>
          <a:xfrm>
            <a:off x="285840" y="5214960"/>
            <a:ext cx="4357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 o obrazovanju odraslih – NN 17/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ight Arrow 2"/>
          <p:cNvSpPr/>
          <p:nvPr/>
        </p:nvSpPr>
        <p:spPr>
          <a:xfrm>
            <a:off x="285840" y="5572080"/>
            <a:ext cx="4357440" cy="785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 o odgoju i obrazovanju u osnovnoj i srednjoj školi – NN 87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ight Arrow 2"/>
          <p:cNvSpPr/>
          <p:nvPr/>
        </p:nvSpPr>
        <p:spPr>
          <a:xfrm>
            <a:off x="285840" y="6215040"/>
            <a:ext cx="4357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c5d4e1"/>
          </a:solidFill>
          <a:ln w="9360">
            <a:solidFill>
              <a:srgbClr val="cfd77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473a35"/>
                </a:solidFill>
                <a:latin typeface="Arial"/>
                <a:ea typeface="Times New Roman"/>
              </a:rPr>
              <a:t>Zakon o strukovnom obrazovanju – NN 30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Potrebne kompetencije radnih skupin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visoka razina motivira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prihvaćanje i razumijevanje interesa drugih partne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visoka razina tolerancije i komunika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spremnost usvajanja novih zn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teorijsko znanje o sektor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Arial Narrow"/>
              </a:rPr>
              <a:t>praktična iskustva u sektor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pripadajuća razina odgovornost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Struktura radnih skupina</a:t>
            </a:r>
            <a:r>
              <a:rPr b="0" lang="hr-HR" sz="2600" spc="-1" strike="noStrike">
                <a:solidFill>
                  <a:srgbClr val="0070c0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Ministarstv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Obrazovne institucij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Agencije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Predstavnici gospodarstva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Hrvatski zavod za zapošljavanj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2060"/>
                </a:solidFill>
                <a:latin typeface="Arial Narrow"/>
              </a:rPr>
              <a:t>Državni zavod za statistik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Sindikati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Strukovne udrug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 Narrow"/>
              </a:rPr>
              <a:t>i ostali zainteresirani (studenti, učenici, roditelji i drugi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8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3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8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3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3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3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8" dur="500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3" dur="5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Aktivnosti i rezultati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izbor kvalifikacija za koje se izrađuju standardi </a:t>
            </a:r>
            <a:r>
              <a:rPr b="0" lang="hr-HR" sz="2400" spc="-1" strike="noStrike">
                <a:solidFill>
                  <a:srgbClr val="002060"/>
                </a:solidFill>
                <a:latin typeface="Gill Sans MT"/>
              </a:rPr>
              <a:t>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Arial Narrow"/>
              </a:rPr>
              <a:t>izrada prijedloga standarda kvalifikacija za izabrane kvalifika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 Narrow"/>
              </a:rPr>
              <a:t>revizija i usvajanje standarda kvalifika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2060"/>
                </a:solidFill>
                <a:latin typeface="Arial Narrow"/>
              </a:rPr>
              <a:t>HVALA NA POZORNOST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33"/>
          <p:cNvSpPr/>
          <p:nvPr/>
        </p:nvSpPr>
        <p:spPr>
          <a:xfrm>
            <a:off x="250920" y="2781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293"/>
          <p:cNvSpPr/>
          <p:nvPr/>
        </p:nvSpPr>
        <p:spPr>
          <a:xfrm rot="5400000">
            <a:off x="4513680" y="2048400"/>
            <a:ext cx="691920" cy="8209080"/>
          </a:xfrm>
          <a:prstGeom prst="upArrow">
            <a:avLst>
              <a:gd name="adj1" fmla="val 61009"/>
              <a:gd name="adj2" fmla="val -140441"/>
            </a:avLst>
          </a:prstGeom>
          <a:solidFill>
            <a:srgbClr val="c0c0c0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232"/>
          <p:cNvSpPr/>
          <p:nvPr/>
        </p:nvSpPr>
        <p:spPr>
          <a:xfrm rot="5400000">
            <a:off x="4369680" y="2191320"/>
            <a:ext cx="691920" cy="8208720"/>
          </a:xfrm>
          <a:prstGeom prst="upArrow">
            <a:avLst>
              <a:gd name="adj1" fmla="val 70648"/>
              <a:gd name="adj2" fmla="val -139429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233"/>
          <p:cNvSpPr/>
          <p:nvPr/>
        </p:nvSpPr>
        <p:spPr>
          <a:xfrm>
            <a:off x="71280" y="404640"/>
            <a:ext cx="755640" cy="5616720"/>
          </a:xfrm>
          <a:prstGeom prst="upArrow">
            <a:avLst>
              <a:gd name="adj1" fmla="val 69750"/>
              <a:gd name="adj2" fmla="val 125433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7"/>
          <p:cNvSpPr/>
          <p:nvPr/>
        </p:nvSpPr>
        <p:spPr>
          <a:xfrm>
            <a:off x="7236720" y="6093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8000"/>
                </a:solidFill>
                <a:latin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38"/>
          <p:cNvSpPr/>
          <p:nvPr/>
        </p:nvSpPr>
        <p:spPr>
          <a:xfrm>
            <a:off x="108000" y="115920"/>
            <a:ext cx="115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RAZ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94"/>
          <p:cNvSpPr/>
          <p:nvPr/>
        </p:nvSpPr>
        <p:spPr>
          <a:xfrm>
            <a:off x="250920" y="5446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95"/>
          <p:cNvSpPr/>
          <p:nvPr/>
        </p:nvSpPr>
        <p:spPr>
          <a:xfrm>
            <a:off x="250920" y="50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96"/>
          <p:cNvSpPr/>
          <p:nvPr/>
        </p:nvSpPr>
        <p:spPr>
          <a:xfrm>
            <a:off x="250920" y="4510080"/>
            <a:ext cx="7777080" cy="49032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a50021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97"/>
          <p:cNvSpPr/>
          <p:nvPr/>
        </p:nvSpPr>
        <p:spPr>
          <a:xfrm>
            <a:off x="250920" y="4078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99"/>
          <p:cNvSpPr/>
          <p:nvPr/>
        </p:nvSpPr>
        <p:spPr>
          <a:xfrm>
            <a:off x="250920" y="364644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00"/>
          <p:cNvSpPr/>
          <p:nvPr/>
        </p:nvSpPr>
        <p:spPr>
          <a:xfrm>
            <a:off x="250920" y="32148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01"/>
          <p:cNvSpPr/>
          <p:nvPr/>
        </p:nvSpPr>
        <p:spPr>
          <a:xfrm>
            <a:off x="250920" y="234936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2"/>
          <p:cNvSpPr/>
          <p:nvPr/>
        </p:nvSpPr>
        <p:spPr>
          <a:xfrm>
            <a:off x="250920" y="1916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03"/>
          <p:cNvSpPr/>
          <p:nvPr/>
        </p:nvSpPr>
        <p:spPr>
          <a:xfrm>
            <a:off x="250920" y="148428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7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04"/>
          <p:cNvSpPr/>
          <p:nvPr/>
        </p:nvSpPr>
        <p:spPr>
          <a:xfrm>
            <a:off x="250920" y="1197000"/>
            <a:ext cx="7777080" cy="27216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a50021"/>
                </a:solidFill>
                <a:latin typeface="Arial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05"/>
          <p:cNvSpPr/>
          <p:nvPr/>
        </p:nvSpPr>
        <p:spPr>
          <a:xfrm>
            <a:off x="250920" y="765000"/>
            <a:ext cx="7777080" cy="42300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a50021"/>
                </a:solidFill>
                <a:latin typeface="Arial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10"/>
          <p:cNvSpPr/>
          <p:nvPr/>
        </p:nvSpPr>
        <p:spPr>
          <a:xfrm rot="16200000">
            <a:off x="226224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Matematika, fizika, geoznanosti, kemija, bi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11"/>
          <p:cNvSpPr/>
          <p:nvPr/>
        </p:nvSpPr>
        <p:spPr>
          <a:xfrm rot="16200000">
            <a:off x="-169884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Poljoprivreda, prehrana i ve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12"/>
          <p:cNvSpPr/>
          <p:nvPr/>
        </p:nvSpPr>
        <p:spPr>
          <a:xfrm rot="16200000">
            <a:off x="-133848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Šumarstvo i drv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13"/>
          <p:cNvSpPr/>
          <p:nvPr/>
        </p:nvSpPr>
        <p:spPr>
          <a:xfrm rot="16200000">
            <a:off x="-97812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eologija, rudarstvo, nafta i kemijsk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14"/>
          <p:cNvSpPr/>
          <p:nvPr/>
        </p:nvSpPr>
        <p:spPr>
          <a:xfrm rot="16200000">
            <a:off x="190188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Umjet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15"/>
          <p:cNvSpPr/>
          <p:nvPr/>
        </p:nvSpPr>
        <p:spPr>
          <a:xfrm rot="16200000">
            <a:off x="154152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Osobne i druge usl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16"/>
          <p:cNvSpPr/>
          <p:nvPr/>
        </p:nvSpPr>
        <p:spPr>
          <a:xfrm rot="16200000">
            <a:off x="262260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meljne tehničke zna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18"/>
          <p:cNvSpPr/>
          <p:nvPr/>
        </p:nvSpPr>
        <p:spPr>
          <a:xfrm rot="16200000">
            <a:off x="406260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igurnost, obrana i zašt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9"/>
          <p:cNvSpPr/>
          <p:nvPr/>
        </p:nvSpPr>
        <p:spPr>
          <a:xfrm rot="16200000">
            <a:off x="442296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Filolog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0"/>
          <p:cNvSpPr/>
          <p:nvPr/>
        </p:nvSpPr>
        <p:spPr>
          <a:xfrm rot="16200000">
            <a:off x="4964400" y="2963880"/>
            <a:ext cx="5184720" cy="641520"/>
          </a:xfrm>
          <a:prstGeom prst="rect">
            <a:avLst/>
          </a:prstGeom>
          <a:solidFill>
            <a:srgbClr val="ccecff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Interdisciplina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22"/>
          <p:cNvSpPr/>
          <p:nvPr/>
        </p:nvSpPr>
        <p:spPr>
          <a:xfrm rot="16200000">
            <a:off x="-61920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Tekstil i kož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23"/>
          <p:cNvSpPr/>
          <p:nvPr/>
        </p:nvSpPr>
        <p:spPr>
          <a:xfrm rot="16200000">
            <a:off x="-25884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Grafička tehnologija i audio-vizualna tehnolo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24"/>
          <p:cNvSpPr/>
          <p:nvPr/>
        </p:nvSpPr>
        <p:spPr>
          <a:xfrm rot="16200000">
            <a:off x="10116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Strojarstvo, brodogradnja i metalurgij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25"/>
          <p:cNvSpPr/>
          <p:nvPr/>
        </p:nvSpPr>
        <p:spPr>
          <a:xfrm rot="16200000">
            <a:off x="461520" y="3147120"/>
            <a:ext cx="518616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Elektrotehnika i računarstv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27"/>
          <p:cNvSpPr/>
          <p:nvPr/>
        </p:nvSpPr>
        <p:spPr>
          <a:xfrm rot="16200000">
            <a:off x="1004400" y="2964600"/>
            <a:ext cx="518616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28"/>
          <p:cNvSpPr/>
          <p:nvPr/>
        </p:nvSpPr>
        <p:spPr>
          <a:xfrm rot="16200000">
            <a:off x="3523680" y="2964600"/>
            <a:ext cx="5186160" cy="64152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29"/>
          <p:cNvSpPr/>
          <p:nvPr/>
        </p:nvSpPr>
        <p:spPr>
          <a:xfrm rot="16200000">
            <a:off x="2981520" y="3146400"/>
            <a:ext cx="5184720" cy="276480"/>
          </a:xfrm>
          <a:prstGeom prst="rect">
            <a:avLst/>
          </a:prstGeom>
          <a:solidFill>
            <a:srgbClr val="ffff99">
              <a:alpha val="7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00"/>
                </a:solidFill>
                <a:latin typeface="Arial"/>
              </a:rPr>
              <a:t>Zrakoplovstvo, raketna i svemirska tehn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30"/>
          <p:cNvSpPr/>
          <p:nvPr/>
        </p:nvSpPr>
        <p:spPr>
          <a:xfrm>
            <a:off x="755640" y="3643200"/>
            <a:ext cx="3530520" cy="928800"/>
          </a:xfrm>
          <a:prstGeom prst="roundRect">
            <a:avLst>
              <a:gd name="adj" fmla="val 8819"/>
            </a:avLst>
          </a:prstGeom>
          <a:solidFill>
            <a:srgbClr val="ffff00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34"/>
          <p:cNvSpPr/>
          <p:nvPr/>
        </p:nvSpPr>
        <p:spPr>
          <a:xfrm>
            <a:off x="1285920" y="3786120"/>
            <a:ext cx="237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d4d4d"/>
                </a:solidFill>
                <a:latin typeface="Arial"/>
              </a:rPr>
              <a:t>SEKTORSKA VIJEĆ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335"/>
          <p:cNvSpPr/>
          <p:nvPr/>
        </p:nvSpPr>
        <p:spPr>
          <a:xfrm>
            <a:off x="755640" y="765000"/>
            <a:ext cx="7201080" cy="287820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336"/>
          <p:cNvSpPr/>
          <p:nvPr/>
        </p:nvSpPr>
        <p:spPr>
          <a:xfrm>
            <a:off x="4286160" y="3643200"/>
            <a:ext cx="3670560" cy="223524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337"/>
          <p:cNvSpPr/>
          <p:nvPr/>
        </p:nvSpPr>
        <p:spPr>
          <a:xfrm>
            <a:off x="755640" y="4572000"/>
            <a:ext cx="3530520" cy="1305000"/>
          </a:xfrm>
          <a:prstGeom prst="roundRect">
            <a:avLst>
              <a:gd name="adj" fmla="val 8819"/>
            </a:avLst>
          </a:prstGeom>
          <a:solidFill>
            <a:srgbClr val="ffff99">
              <a:alpha val="5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38"/>
          <p:cNvSpPr/>
          <p:nvPr/>
        </p:nvSpPr>
        <p:spPr>
          <a:xfrm rot="19648200">
            <a:off x="1859040" y="2112840"/>
            <a:ext cx="499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0" spc="-1" strike="noStrike">
                <a:solidFill>
                  <a:srgbClr val="4d4d4d"/>
                </a:solidFill>
                <a:latin typeface="Arial"/>
              </a:rPr>
              <a:t>RADNE SKUP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0717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1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Poljoprivreda, prehrana i veterina (poljoprivreda/agronomija; biotehnologija; prehrambena tehnologija; veterinarska medicina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5" descr="j0427755.jpg"/>
          <p:cNvPicPr/>
          <p:nvPr/>
        </p:nvPicPr>
        <p:blipFill>
          <a:blip r:embed="rId2"/>
          <a:stretch/>
        </p:blipFill>
        <p:spPr>
          <a:xfrm>
            <a:off x="2500200" y="2786040"/>
            <a:ext cx="3143520" cy="2071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lavonija.jpg"/>
          <p:cNvPicPr/>
          <p:nvPr/>
        </p:nvPicPr>
        <p:blipFill>
          <a:blip r:embed="rId3"/>
          <a:stretch/>
        </p:blipFill>
        <p:spPr>
          <a:xfrm>
            <a:off x="1357200" y="2357280"/>
            <a:ext cx="6215040" cy="38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2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Šumarstvo i drvna tehnolo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6" descr="gorski kotar.jpg"/>
          <p:cNvPicPr/>
          <p:nvPr/>
        </p:nvPicPr>
        <p:blipFill>
          <a:blip r:embed="rId2"/>
          <a:stretch/>
        </p:blipFill>
        <p:spPr>
          <a:xfrm>
            <a:off x="1428840" y="2000160"/>
            <a:ext cx="62863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3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Geologija, rudarstvo, nafta i kemijska tehnologija (rudarstvo, nafta, geološko inženjerstvo; kemijsko inženjerstv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6" descr="busotina1.jpg"/>
          <p:cNvPicPr/>
          <p:nvPr/>
        </p:nvPicPr>
        <p:blipFill>
          <a:blip r:embed="rId2"/>
          <a:stretch/>
        </p:blipFill>
        <p:spPr>
          <a:xfrm>
            <a:off x="1714680" y="2500200"/>
            <a:ext cx="605124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060"/>
                </a:solidFill>
                <a:latin typeface="Arial Narrow"/>
              </a:rPr>
              <a:t>Radna skupina 4</a:t>
            </a:r>
            <a:r>
              <a:rPr b="0" lang="hr-HR" sz="2600" spc="-1" strike="noStrike">
                <a:solidFill>
                  <a:srgbClr val="002060"/>
                </a:solidFill>
                <a:latin typeface="Arial Narrow"/>
              </a:rPr>
              <a:t>: Tekstil i koža (tekstilna tehnologij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5" descr="tekstil i koža.jpg"/>
          <p:cNvPicPr/>
          <p:nvPr/>
        </p:nvPicPr>
        <p:blipFill>
          <a:blip r:embed="rId2"/>
          <a:stretch/>
        </p:blipFill>
        <p:spPr>
          <a:xfrm>
            <a:off x="1571760" y="1857240"/>
            <a:ext cx="5572080" cy="44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abuntic</dc:creator>
  <dc:description/>
  <dc:language>en-US</dc:language>
  <cp:lastModifiedBy>Andreja Marcetić</cp:lastModifiedBy>
  <dcterms:modified xsi:type="dcterms:W3CDTF">2010-06-14T15:38:13Z</dcterms:modified>
  <cp:revision>519</cp:revision>
  <dc:subject/>
  <dc:title>Slide 1</dc:title>
</cp:coreProperties>
</file>