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FE42-8717-4310-9E8C-43090787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DFD7-55DF-4704-A6D6-5D87EE1B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88DD-8AFC-459C-A360-0BDAB743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DF4C-6654-4466-BA62-DE4195F5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7AB4-D149-4F79-9846-8163C446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5926-744E-45E6-B6A5-D9BCE092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88FA-6A61-416E-ACDE-E6990810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FD8-A366-4A2A-B364-69D4A5E9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3AA5-F2AA-4EE5-A0C3-C2F49D07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E9F1-314F-44BE-9B61-B64118C9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D8A8-95F9-400C-B342-5C6A0866F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7272-0DAB-46EA-87F5-B10C5280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8707-98DF-4DCD-8B72-A21D2C95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FC28-2C1B-484A-9607-59E45A90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22DF-1E38-4966-8519-3B7E4648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669B-56FF-48E2-96B9-89BA5525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CE7A-EB43-4326-B8A4-6931D42A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D066-ECDC-433B-BADB-7502D4C8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A546-830C-41EF-95B7-A08EF955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ED70-FB66-43D7-9FCA-B0BF2833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B4EA-CAE0-440F-89F0-B84FCC27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5495-5860-4751-9CB4-0C0C6148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90FC-7571-46D1-A188-2F5C935B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F5CB-FD77-4A95-B9DB-1A8A1765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E909B-53B4-43F0-B1D3-4FFF4AF7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DCD77-46E6-44B1-904F-B7292A1A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31280-190B-4574-8400-9238A1D9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013B3-6878-436D-9DFA-7502232F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69BAF-F454-43E7-AF4D-CEB56C16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38CB0-1B29-4434-84AD-1FBF17FB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8A00D-9D50-4847-BDC4-80BC58C6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89916-6617-4B24-89DA-74DF3454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9C2BE-D3C8-471E-B39D-A426DEB0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ABA45-0352-49FD-9463-9FB244D3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3BFB4-B20A-449B-82B0-7FF723F9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6C593-9A40-4E14-BBF4-D5B0983A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2C727-A3D8-4B9C-A317-8CE8F152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90546-10C9-4801-8FF0-EAF6ACC9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BD871-BCF6-47CE-A466-01CB5395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23FD8-A12B-4A23-A51C-976D3EB4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1BC32-36FD-4614-B38E-467CBB70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7F00B-1895-4759-A3A0-B71D70F2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0560B-4887-4ACF-BD79-995378D7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11FD5-E762-45B8-AFCA-76496F39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DDC38-CB01-4400-B8E3-54E7DC03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1D459-E210-47DD-9B58-B34BFAC3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48969-5921-4B63-A903-EF96AE76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5D8C1-956E-474A-AC66-2401F9B7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491D2-95D6-4A1C-9E7B-EC58CDF1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0325E-C7EE-4225-BE41-397BD7D2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8BC8D-3B93-4D76-B6D0-3C0ABC1C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1E089-53B4-4327-955E-11DB96E7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56E3A-C75E-4E03-988F-A09AD3E5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7E8E4-8A9B-4E8E-B5EA-A2101E18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0AC89-2BC4-4BC4-A950-77C3E5E5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DE279-392B-458A-99D3-D65A43E8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C6FBB-38B4-4599-BB27-2F29488D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CA868-4E11-4441-81CA-B3A006C3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95CE0-B9BE-46BE-9C6C-E7F3FD0A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17BB0-BFDF-4655-9871-8754C1FF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3C8A7-1E41-4ACE-BEEE-2A82FD95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211B9-F7E7-4AD0-A317-34A657FC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7AD28-C030-479E-9ABF-E918BB91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0C335-A300-446E-B0A2-78A63ABD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4D6A6-C1F9-4327-8EBF-ECE1E713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4A634-A8A2-4C4B-92A7-69838E34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B6198-957C-49BE-8467-4E7EBE6B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F7938-DD5F-4E43-8F1A-0909EAF6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3C1EC-BBB2-4B8E-ABD9-43F72F8C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7E711-F418-439E-B5D1-5E90908F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8FBCF-D265-48CF-BAC4-3B01FFA3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44269-C10F-44FB-8CCE-A8DD8BB3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1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Rectangle 2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2E92-1924-47E9-82D8-8DB6885B443D}" type="slidenum">
              <a:rPr b="0" lang="hr-HR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2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sosceles Triangle 3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Isosceles Triangle 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5DB4-0D95-41F7-A8C3-2FF43D391989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sosceles Triangle 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003E-B716-46E5-B325-6B851520E2AB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2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Isosceles Triangle 3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5EBB-FC54-43F3-A336-D6A125F2172D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Isosceles Triangle 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ACB9-2A46-4577-9CB3-3C3E9FE7A2DF}" type="slidenum">
              <a:rPr b="0" lang="hr-HR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Isosceles Triangle 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3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52A7-85D0-4974-A1CE-E1CF2D9873DF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mzos.hr/" TargetMode="External"/><Relationship Id="rId2" Type="http://schemas.openxmlformats.org/officeDocument/2006/relationships/hyperlink" Target="mailto:infoipa@mzos.hr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71280" y="3429000"/>
            <a:ext cx="799308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MEĐUNARODNA SURADNJA</a:t>
            </a:r>
            <a:br>
              <a:rPr sz="2400"/>
            </a:br>
            <a:r>
              <a:rPr b="0" lang="hr-HR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Mirna Štajduhar, prof. </a:t>
            </a:r>
            <a:br>
              <a:rPr sz="2000"/>
            </a:br>
            <a:r>
              <a:rPr b="0" lang="hr-HR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Marinela Krešo, prof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.</a:t>
            </a:r>
            <a:r>
              <a:rPr b="1" lang="hr-HR" sz="18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971280" y="5013000"/>
            <a:ext cx="79930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2060"/>
                </a:solidFill>
                <a:latin typeface="Arial"/>
                <a:ea typeface="Times New Roman"/>
              </a:rPr>
              <a:t>Ministarstvo znanosti, obrazovanja i šport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934920" y="3500280"/>
            <a:ext cx="8209080" cy="128268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755640" y="5013360"/>
            <a:ext cx="820908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"/>
          <p:cNvSpPr/>
          <p:nvPr/>
        </p:nvSpPr>
        <p:spPr>
          <a:xfrm>
            <a:off x="755640" y="3429000"/>
            <a:ext cx="216000" cy="149868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755640" y="501336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142884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HKO_logo"/>
          <p:cNvPicPr/>
          <p:nvPr/>
        </p:nvPicPr>
        <p:blipFill>
          <a:blip r:embed="rId1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21844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99"/>
                </a:solidFill>
                <a:latin typeface="Arial"/>
              </a:rPr>
              <a:t>Strukturni fondovi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6" name="Picture 2" descr="HKO_logo"/>
          <p:cNvPicPr/>
          <p:nvPr/>
        </p:nvPicPr>
        <p:blipFill>
          <a:blip r:embed="rId1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5"/>
          <p:cNvSpPr/>
          <p:nvPr/>
        </p:nvSpPr>
        <p:spPr>
          <a:xfrm>
            <a:off x="1187280" y="47628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539640" y="1700280"/>
            <a:ext cx="770436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727ca3"/>
              </a:buClr>
              <a:buSzPct val="7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3399"/>
                </a:solidFill>
                <a:latin typeface="Arial"/>
              </a:rPr>
              <a:t>Korištenje nakon ulaska RH u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727ca3"/>
              </a:buClr>
              <a:buSzPct val="7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3 fonda na raspolaganj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727ca3"/>
              </a:buClr>
              <a:buSzPct val="7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Europski fond za regionalni razvoj (EFR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727ca3"/>
              </a:buClr>
              <a:buSzPct val="7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3399"/>
                </a:solidFill>
                <a:latin typeface="Arial"/>
              </a:rPr>
              <a:t>Europski socijalni fond (ES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727ca3"/>
              </a:buClr>
              <a:buSzPct val="7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Kohezijski fond (K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727ca3"/>
              </a:buClr>
              <a:buSzPct val="7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Kroz EFRR i KF financiraju se veliki infrastrukturni projek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727ca3"/>
              </a:buClr>
              <a:buSzPct val="7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Zato višegodišnje planiranje kroz strateške dokum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  <a:ea typeface="Arial"/>
              </a:rPr>
              <a:t>Nacionalni strateški referentni okvir (NS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  <a:ea typeface="Arial"/>
              </a:rPr>
              <a:t>Operativni programi (sektorski 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3399"/>
                </a:solidFill>
                <a:latin typeface="Arial"/>
              </a:rPr>
              <a:t>Europski socijalni fond (ESF) </a:t>
            </a: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predstavlja glavni financijski instrument Europske unije za ostvarivanje strateških ciljeva politike zapošljavanja. Fond osigurava podršku europskim regijama koje su pogođene visokom stopom nezaposlenost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0" name="Picture 2" descr="HKO_logo"/>
          <p:cNvPicPr/>
          <p:nvPr/>
        </p:nvPicPr>
        <p:blipFill>
          <a:blip r:embed="rId1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5"/>
          <p:cNvSpPr/>
          <p:nvPr/>
        </p:nvSpPr>
        <p:spPr>
          <a:xfrm>
            <a:off x="1187280" y="47628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21844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99"/>
                </a:solidFill>
                <a:latin typeface="Arial"/>
              </a:rPr>
              <a:t>HKO i NKO drugih zemalja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izrade Nacionalnih kvalifikacijskih okvira zemlje EU smatraju strateškim projektom, izuzetno važnim za razvoj gospodarstva i društva u cjelini, mobilnost građana i studenata te poticanje cjeloživotnog učenja kao imperativa napretka i razvoja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Međunarodna, svjetska konferencija održana u Bruxellesu u siječnju 2009. godine, pokazala je veliku zainteresiranost širokog kruga zemalja izvan EU za Europski kvalifikacijski okvir i njegovu provedbu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napominjemo da su u postupku stvaranja i novi kvalifikacijski okvira kao meta okviri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EU strategija 2020 - istaknuta važnost provedbe europskog te izrade i provedbe nacionalnih kvalifikacijskih okvira, priznavanja neformalnog i informalnog učenja, razvoj ishoda učenja, ključnih kompetencija, partnerstva u obrazovanju i s tržištem rada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2" descr="HKO_logo"/>
          <p:cNvPicPr/>
          <p:nvPr/>
        </p:nvPicPr>
        <p:blipFill>
          <a:blip r:embed="rId1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5"/>
          <p:cNvSpPr/>
          <p:nvPr/>
        </p:nvSpPr>
        <p:spPr>
          <a:xfrm>
            <a:off x="1258920" y="47628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21844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99"/>
                </a:solidFill>
                <a:latin typeface="Arial"/>
              </a:rPr>
              <a:t>HKO i NKO drugih zemalja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99"/>
                </a:solidFill>
                <a:latin typeface="Arial"/>
              </a:rPr>
              <a:t>IRSKI KVALIFIKACIJSKI OKVI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333399"/>
                </a:solidFill>
                <a:latin typeface="Arial Unicode MS"/>
              </a:rPr>
              <a:t>Irski kvalifikacijski okvir uvodi </a:t>
            </a:r>
            <a:r>
              <a:rPr b="1" lang="hr-HR" sz="2200" spc="-1" strike="noStrike">
                <a:solidFill>
                  <a:srgbClr val="333399"/>
                </a:solidFill>
                <a:latin typeface="Arial Unicode MS"/>
              </a:rPr>
              <a:t>10 razina</a:t>
            </a:r>
            <a:r>
              <a:rPr b="0" lang="hr-HR" sz="2200" spc="-1" strike="noStrike">
                <a:solidFill>
                  <a:srgbClr val="333399"/>
                </a:solidFill>
                <a:latin typeface="Arial Unicode MS"/>
              </a:rPr>
              <a:t> gdje se sve temelje na uvedenim standardima znanja, vje</a:t>
            </a:r>
            <a:r>
              <a:rPr b="0" lang="hr-HR" sz="2200" spc="-1" strike="noStrike">
                <a:solidFill>
                  <a:srgbClr val="333399"/>
                </a:solidFill>
                <a:latin typeface="Gill Sans MT"/>
              </a:rPr>
              <a:t>š</a:t>
            </a:r>
            <a:r>
              <a:rPr b="0" lang="hr-HR" sz="2200" spc="-1" strike="noStrike">
                <a:solidFill>
                  <a:srgbClr val="333399"/>
                </a:solidFill>
                <a:latin typeface="Arial Unicode MS"/>
              </a:rPr>
              <a:t>tina i kompetencija u užem smislu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333399"/>
                </a:solidFill>
                <a:latin typeface="Arial Unicode MS"/>
              </a:rPr>
              <a:t>Ovih 10 razina obuhvaća sve kvalifikacije koje se stječu u akreditiranim </a:t>
            </a:r>
            <a:r>
              <a:rPr b="0" lang="hr-HR" sz="2200" spc="-1" strike="noStrike">
                <a:solidFill>
                  <a:srgbClr val="333399"/>
                </a:solidFill>
                <a:latin typeface="Gill Sans MT"/>
              </a:rPr>
              <a:t>š</a:t>
            </a:r>
            <a:r>
              <a:rPr b="0" lang="hr-HR" sz="2200" spc="-1" strike="noStrike">
                <a:solidFill>
                  <a:srgbClr val="333399"/>
                </a:solidFill>
                <a:latin typeface="Arial Unicode MS"/>
              </a:rPr>
              <a:t>kolama, centrima različitih oblika obrazovanja, sveučili</a:t>
            </a:r>
            <a:r>
              <a:rPr b="0" lang="hr-HR" sz="2200" spc="-1" strike="noStrike">
                <a:solidFill>
                  <a:srgbClr val="333399"/>
                </a:solidFill>
                <a:latin typeface="Gill Sans MT"/>
              </a:rPr>
              <a:t>š</a:t>
            </a:r>
            <a:r>
              <a:rPr b="0" lang="hr-HR" sz="2200" spc="-1" strike="noStrike">
                <a:solidFill>
                  <a:srgbClr val="333399"/>
                </a:solidFill>
                <a:latin typeface="Arial Unicode MS"/>
              </a:rPr>
              <a:t>tima te radnim mjestima i dru</a:t>
            </a:r>
            <a:r>
              <a:rPr b="0" lang="hr-HR" sz="2200" spc="-1" strike="noStrike">
                <a:solidFill>
                  <a:srgbClr val="333399"/>
                </a:solidFill>
                <a:latin typeface="Gill Sans MT"/>
              </a:rPr>
              <a:t>š</a:t>
            </a:r>
            <a:r>
              <a:rPr b="0" lang="hr-HR" sz="2200" spc="-1" strike="noStrike">
                <a:solidFill>
                  <a:srgbClr val="333399"/>
                </a:solidFill>
                <a:latin typeface="Arial Unicode MS"/>
              </a:rPr>
              <a:t>tvu općenito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333399"/>
                </a:solidFill>
                <a:latin typeface="Arial Unicode MS"/>
              </a:rPr>
              <a:t>Kompetencije koje se stječu iskustvom </a:t>
            </a:r>
            <a:r>
              <a:rPr b="1" lang="hr-HR" sz="2200" spc="-1" strike="noStrike">
                <a:solidFill>
                  <a:srgbClr val="333399"/>
                </a:solidFill>
                <a:latin typeface="Arial Unicode MS"/>
              </a:rPr>
              <a:t>na radnom mjestu</a:t>
            </a:r>
            <a:r>
              <a:rPr b="0" lang="hr-HR" sz="2200" spc="-1" strike="noStrike">
                <a:solidFill>
                  <a:srgbClr val="333399"/>
                </a:solidFill>
                <a:latin typeface="Arial Unicode MS"/>
              </a:rPr>
              <a:t> ili drugim neformalnim načinima učenja su također </a:t>
            </a:r>
            <a:r>
              <a:rPr b="1" lang="hr-HR" sz="2200" spc="-1" strike="noStrike">
                <a:solidFill>
                  <a:srgbClr val="333399"/>
                </a:solidFill>
                <a:latin typeface="Arial Unicode MS"/>
              </a:rPr>
              <a:t>priznata</a:t>
            </a:r>
            <a:r>
              <a:rPr b="0" lang="hr-HR" sz="2200" spc="-1" strike="noStrike">
                <a:solidFill>
                  <a:srgbClr val="333399"/>
                </a:solidFill>
                <a:latin typeface="Arial Unicode MS"/>
              </a:rPr>
              <a:t> Irskim kvalifikacijskim okvirom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333399"/>
                </a:solidFill>
                <a:latin typeface="Arial Unicode MS"/>
              </a:rPr>
              <a:t>Istaknuli su i posebnu brigu za </a:t>
            </a:r>
            <a:r>
              <a:rPr b="1" lang="hr-HR" sz="2200" spc="-1" strike="noStrike">
                <a:solidFill>
                  <a:srgbClr val="333399"/>
                </a:solidFill>
                <a:latin typeface="Arial Unicode MS"/>
              </a:rPr>
              <a:t>sustav osiguranja i upravljanja kvalitetom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8" name="Picture 2" descr="HKO_logo"/>
          <p:cNvPicPr/>
          <p:nvPr/>
        </p:nvPicPr>
        <p:blipFill>
          <a:blip r:embed="rId1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1187280" y="476280"/>
            <a:ext cx="37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21844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99"/>
                </a:solidFill>
                <a:latin typeface="Arial"/>
              </a:rPr>
              <a:t>Međunarodna suradnja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Međunarodna konferencija o kvalifikacijskom okviru (Hrv. Aus. Polj.), rujan 2009, Zagreb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Međunarodna konferencija (Hrv., Aus., Polj.), studeni 2009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Sastanak predstavnika zemalja Europe za kvalifikacijski okvir u visokom obrazovanju, studeni 2009, Strasbour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Sastanak eksperata za povezivanje NKO-a prema EKO (Referencing report), prosinac, Beč, Austri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2" name="Picture 2" descr="HKO_logo"/>
          <p:cNvPicPr/>
          <p:nvPr/>
        </p:nvPicPr>
        <p:blipFill>
          <a:blip r:embed="rId1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5"/>
          <p:cNvSpPr/>
          <p:nvPr/>
        </p:nvSpPr>
        <p:spPr>
          <a:xfrm>
            <a:off x="1187280" y="476280"/>
            <a:ext cx="37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280" y="1125360"/>
            <a:ext cx="8147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99"/>
                </a:solidFill>
                <a:latin typeface="Arial"/>
              </a:rPr>
              <a:t>Program za cjeloživotno učenja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99"/>
                </a:solidFill>
                <a:latin typeface="Arial"/>
              </a:rPr>
              <a:t>Program za cjeloživotno učenje uspostavljen je odlukom Europskog parlamenta i Vijeća EU (br.1720/2006/EC) 2006. godine, a nastavlja se na prijašnju generaciju obrazovnih programa Socrates i Leonardo da Vinci (1985. - 2006.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3399"/>
                </a:solidFill>
                <a:latin typeface="Arial"/>
              </a:rPr>
              <a:t>Program Europske komisije usmjeren na sve stupnjeve obrazovanja i stručnog usavršavanj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3399"/>
                </a:solidFill>
                <a:latin typeface="Arial"/>
              </a:rPr>
              <a:t>Pokriva vremensko razdoblje od 2007. do 2013. godin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3399"/>
                </a:solidFill>
                <a:latin typeface="Arial"/>
              </a:rPr>
              <a:t>Provedba 7 milijardi eura na europskoj razini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3399"/>
                </a:solidFill>
                <a:latin typeface="Arial"/>
              </a:rPr>
              <a:t>Ciljevi: napredno društvo znanja; održiv ekonomski razvoj, bolji poslovi, više  poslova, društvena kohezij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6" name="Picture 2" descr="HKO_logo"/>
          <p:cNvPicPr/>
          <p:nvPr/>
        </p:nvPicPr>
        <p:blipFill>
          <a:blip r:embed="rId1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5"/>
          <p:cNvSpPr/>
          <p:nvPr/>
        </p:nvSpPr>
        <p:spPr>
          <a:xfrm>
            <a:off x="1187280" y="47628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14716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99"/>
                </a:solidFill>
                <a:latin typeface="Arial"/>
              </a:rPr>
              <a:t>Program za cjeloživotno učenje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Program za cjeloživotno učenje sastoji se od četiri sektorska potprograma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99"/>
                </a:solidFill>
                <a:latin typeface="Arial"/>
              </a:rPr>
              <a:t>Comenius</a:t>
            </a: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 - predškolski odgoj i školsko obrazovanj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99"/>
                </a:solidFill>
                <a:latin typeface="Arial"/>
              </a:rPr>
              <a:t>Erasmus</a:t>
            </a: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 - visokoškolsko obrazovanj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99"/>
                </a:solidFill>
                <a:latin typeface="Arial"/>
              </a:rPr>
              <a:t>Leonardo da Vinci</a:t>
            </a: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 - strukovno obrazovanje i osposobljavan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99"/>
                </a:solidFill>
                <a:latin typeface="Arial"/>
              </a:rPr>
              <a:t>Grundtvig</a:t>
            </a: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 - obrazovanje odrasli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te dva komplementarna programa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99"/>
                </a:solidFill>
                <a:latin typeface="Arial"/>
              </a:rPr>
              <a:t>Transverzalni program</a:t>
            </a: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 - suradnja i inovacije u području cjeloživotnog učenja unutar Europske unije, učenje stranih jezika, razvoj inovativnih informatičkih i komunikacijskih tehnologija, širenje i korištenje rezultata programa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99"/>
                </a:solidFill>
                <a:latin typeface="Arial"/>
              </a:rPr>
              <a:t>Jean Monnet</a:t>
            </a: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  - podupire institucije koje se bave europskim integracijam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0" name="Picture 2" descr="HKO_logo"/>
          <p:cNvPicPr/>
          <p:nvPr/>
        </p:nvPicPr>
        <p:blipFill>
          <a:blip r:embed="rId1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1116000" y="47628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99"/>
                </a:solidFill>
                <a:latin typeface="Arial"/>
              </a:rPr>
              <a:t>HVALA NA PAŽNJ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b292ca"/>
                </a:solidFill>
                <a:uFillTx/>
                <a:latin typeface="Arial"/>
                <a:hlinkClick r:id="rId1"/>
              </a:rPr>
              <a:t>www.mzos.hr</a:t>
            </a:r>
            <a:r>
              <a:rPr b="1" lang="hr-HR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b292ca"/>
                </a:solidFill>
                <a:uFillTx/>
                <a:latin typeface="Arial"/>
                <a:hlinkClick r:id="rId2"/>
              </a:rPr>
              <a:t>infoipa@mzos.hr</a:t>
            </a:r>
            <a:r>
              <a:rPr b="1" lang="hr-HR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3" name="Picture 2" descr="HKO_logo"/>
          <p:cNvPicPr/>
          <p:nvPr/>
        </p:nvPicPr>
        <p:blipFill>
          <a:blip r:embed="rId3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5"/>
          <p:cNvSpPr/>
          <p:nvPr/>
        </p:nvSpPr>
        <p:spPr>
          <a:xfrm>
            <a:off x="1116000" y="47628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3399"/>
                </a:solidFill>
                <a:latin typeface="Arial"/>
              </a:rPr>
              <a:t>Sadržaj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HKO – poveznica s međunarodnim  aktivnostim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EU fondov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NKO drugih zemal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Međunarodna suradnja sa zemljama članicama – Austrija, Poljska, Velika Britani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Program za cjeloživotno učen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3588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hr-HR" sz="2400" spc="-1" strike="noStrike">
                <a:solidFill>
                  <a:srgbClr val="003399"/>
                </a:solidFill>
                <a:latin typeface="Arial"/>
              </a:rPr>
              <a:t>HKO – poveznica sa međunarodnim aktivnostima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3399"/>
                </a:solidFill>
                <a:latin typeface="Arial"/>
              </a:rPr>
              <a:t>Lisabonska strategi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Akcijski i razvojni plan Europske unij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Promiče rast i zapošljavan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Glavni je naglasak na </a:t>
            </a:r>
            <a:r>
              <a:rPr b="1" lang="hr-HR" sz="2600" spc="-1" strike="noStrike">
                <a:solidFill>
                  <a:srgbClr val="003399"/>
                </a:solidFill>
                <a:latin typeface="Arial"/>
              </a:rPr>
              <a:t>znanju, inovacijama i optimizaciji ljudskog potencijal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Uz vlade trebaju biti uključene i sve druge strane: parlamenti, regionalna i lokalna tijela, socijalni partneri i civilno društv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1" name="Picture 2" descr="HKO_logo"/>
          <p:cNvPicPr/>
          <p:nvPr/>
        </p:nvPicPr>
        <p:blipFill>
          <a:blip r:embed="rId1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5"/>
          <p:cNvSpPr/>
          <p:nvPr/>
        </p:nvSpPr>
        <p:spPr>
          <a:xfrm>
            <a:off x="1332000" y="47628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362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r-HR" sz="24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2400"/>
            </a:br>
            <a:r>
              <a:rPr b="1" lang="hr-HR" sz="2400" spc="-1" strike="noStrike">
                <a:solidFill>
                  <a:srgbClr val="003399"/>
                </a:solidFill>
                <a:latin typeface="Arial"/>
              </a:rPr>
              <a:t>HKO – poveznica sa međunarodnim aktivnostima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3399"/>
                </a:solidFill>
                <a:latin typeface="Arial"/>
              </a:rPr>
              <a:t>Kopenhaška deklaraci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Sastavni dio LS koja označava jačanje suradnje u strukovnom obrazovanj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Specifični ciljevi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Veća suradnja europskih zemalja i poticanje mobilnost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Poticanje jasnoće, protoka informacija i uput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Priznavanje kompetencija i kvalifikaci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Osiguranje kvalite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5" name="Picture 2" descr="HKO_logo"/>
          <p:cNvPicPr/>
          <p:nvPr/>
        </p:nvPicPr>
        <p:blipFill>
          <a:blip r:embed="rId1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5"/>
          <p:cNvSpPr/>
          <p:nvPr/>
        </p:nvSpPr>
        <p:spPr>
          <a:xfrm>
            <a:off x="1193760" y="498600"/>
            <a:ext cx="28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hr-HR" sz="2400" spc="-1" strike="noStrike">
                <a:solidFill>
                  <a:srgbClr val="003399"/>
                </a:solidFill>
                <a:latin typeface="Arial"/>
              </a:rPr>
              <a:t>HKO-  poveznica s međunarodnim aktivnostima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3399"/>
                </a:solidFill>
                <a:latin typeface="Gill Sans MT"/>
              </a:rPr>
              <a:t>Europski kvalifikacijski okvir (EKO)</a:t>
            </a: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3399"/>
                </a:solidFill>
                <a:latin typeface="Gill Sans MT"/>
              </a:rPr>
              <a:t> </a:t>
            </a:r>
            <a:r>
              <a:rPr b="0" lang="hr-HR" sz="2400" spc="-1" strike="noStrike">
                <a:solidFill>
                  <a:srgbClr val="003399"/>
                </a:solidFill>
                <a:latin typeface="Arial"/>
              </a:rPr>
              <a:t>Daje smjernice za razvoj različitih kvalifikacijskih    sustava i okvira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3399"/>
                </a:solidFill>
                <a:latin typeface="Arial"/>
              </a:rPr>
              <a:t>Olakšava profesionalnu mobilnost i cjeloživotno učenj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3399"/>
                </a:solidFill>
                <a:latin typeface="Arial"/>
              </a:rPr>
              <a:t>Omogućava međusobno razumijevanje i usporedbu  svih razina NKS ili NKO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309" name="Picture 2" descr="HKO_logo"/>
          <p:cNvPicPr/>
          <p:nvPr/>
        </p:nvPicPr>
        <p:blipFill>
          <a:blip r:embed="rId1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5"/>
          <p:cNvSpPr/>
          <p:nvPr/>
        </p:nvSpPr>
        <p:spPr>
          <a:xfrm>
            <a:off x="1338480" y="498600"/>
            <a:ext cx="28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434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hr-HR" sz="2400" spc="-1" strike="noStrike">
                <a:solidFill>
                  <a:srgbClr val="003399"/>
                </a:solidFill>
                <a:latin typeface="Arial"/>
              </a:rPr>
              <a:t>HKO – poveznica sa međunarodnim aktivnostima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3399"/>
                </a:solidFill>
                <a:latin typeface="Arial"/>
              </a:rPr>
              <a:t>Bolonjski proc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Harmonizacija kvalifikacija u sustavu visokog obrazov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Transparentnost, osiguranje kvalitete, jasnoća, poticanje zapošljav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Formalno obrazovan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99"/>
                </a:solidFill>
                <a:latin typeface="Arial"/>
              </a:rPr>
              <a:t>Tri razine obrazovanja: preddiplomska, diplomska, poslijediplomsk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1338480" y="498600"/>
            <a:ext cx="28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HKO_logo"/>
          <p:cNvPicPr/>
          <p:nvPr/>
        </p:nvPicPr>
        <p:blipFill>
          <a:blip r:embed="rId1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364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hr-HR" sz="2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hr-HR" sz="2800" spc="-1" strike="noStrike">
                <a:solidFill>
                  <a:srgbClr val="003399"/>
                </a:solidFill>
                <a:latin typeface="Arial"/>
              </a:rPr>
              <a:t>HKO u kontekstu EU fondova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99"/>
                </a:solidFill>
                <a:latin typeface="Arial"/>
              </a:rPr>
              <a:t>CARDS, Phar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99"/>
                </a:solidFill>
                <a:latin typeface="Arial"/>
              </a:rPr>
              <a:t>IPA – </a:t>
            </a:r>
            <a:r>
              <a:rPr b="0" lang="hr-HR" sz="2200" spc="-1" strike="noStrike">
                <a:solidFill>
                  <a:srgbClr val="003399"/>
                </a:solidFill>
                <a:latin typeface="Arial"/>
              </a:rPr>
              <a:t>pomoć državama kandidatkinjama i potencijalnim kandidatkinjama u procesu usklađivanja nacionalnog zakonodavstva i provedbi pravne stečevine EU; priprema za korištenje strukturnih i kohezijskih fondov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99"/>
                </a:solidFill>
                <a:latin typeface="Arial"/>
              </a:rPr>
              <a:t>Strukturni fondovi i Kohezijski fond</a:t>
            </a:r>
            <a:r>
              <a:rPr b="0" lang="hr-HR" sz="2200" spc="-1" strike="noStrike">
                <a:solidFill>
                  <a:srgbClr val="003399"/>
                </a:solidFill>
                <a:latin typeface="Arial"/>
              </a:rPr>
              <a:t> instrumenti su regionalne politike EU kojoj je cilj smanjiti razlike u razvoju regija i zemalja članica. Ovi fondovi sudjeluju u ostvarivanju ekonomske, socijalne i teritorijalne kohezije. Oni čine oko trećinu ukupnih rashoda proračuna EU, odnosno veličinom su druga rashodovna stavka proračuna EU. </a:t>
            </a: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7" name="Picture 2" descr="HKO_logo"/>
          <p:cNvPicPr/>
          <p:nvPr/>
        </p:nvPicPr>
        <p:blipFill>
          <a:blip r:embed="rId1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5"/>
          <p:cNvSpPr/>
          <p:nvPr/>
        </p:nvSpPr>
        <p:spPr>
          <a:xfrm>
            <a:off x="1116000" y="47628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362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99"/>
                </a:solidFill>
                <a:latin typeface="Arial"/>
              </a:rPr>
              <a:t>Strateški dokumenti IPA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3399"/>
                </a:solidFill>
                <a:latin typeface="Arial"/>
              </a:rPr>
              <a:t>Strateški okvir za razvoj 2006.-2013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15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opisuje kako Hrvatskoj osigurati prosperitet u konkurentnom tržišnom gospodarstvu u okvirima socijalne države prilagođene uvjetima 21. stoljeć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3399"/>
                </a:solidFill>
                <a:latin typeface="Arial"/>
              </a:rPr>
              <a:t>Okvir za usklađenost strategija 2007.-2013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15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Krovni strateški dokument kojim se uređuju prioriteti u sklopu komponenti III i IV programa IP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15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99"/>
                </a:solidFill>
                <a:latin typeface="Arial"/>
              </a:rPr>
              <a:t>osiguravanje da mjerodavne institucije RH ostvare spremnost za članstvo u EU i razviju institucionalnu sposobnost i praktično iskustvo u upravljanju intervencijama sličnim onima iz Strukturnih instrumenata E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1" name="Picture 2" descr="HKO_logo"/>
          <p:cNvPicPr/>
          <p:nvPr/>
        </p:nvPicPr>
        <p:blipFill>
          <a:blip r:embed="rId1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5"/>
          <p:cNvSpPr/>
          <p:nvPr/>
        </p:nvSpPr>
        <p:spPr>
          <a:xfrm>
            <a:off x="1187280" y="47628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24" name="Picture 2" descr="HKO_logo"/>
          <p:cNvPicPr/>
          <p:nvPr/>
        </p:nvPicPr>
        <p:blipFill>
          <a:blip r:embed="rId1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5"/>
          <p:cNvSpPr/>
          <p:nvPr/>
        </p:nvSpPr>
        <p:spPr>
          <a:xfrm>
            <a:off x="1116000" y="47628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Organization Chart 6"/>
          <p:cNvGrpSpPr/>
          <p:nvPr/>
        </p:nvGrpSpPr>
        <p:grpSpPr>
          <a:xfrm>
            <a:off x="457200" y="1600200"/>
            <a:ext cx="8229240" cy="4636080"/>
            <a:chOff x="457200" y="1600200"/>
            <a:chExt cx="8229240" cy="4636080"/>
          </a:xfrm>
        </p:grpSpPr>
        <p:cxnSp>
          <p:nvCxnSpPr>
            <p:cNvPr id="327" name="_s1028"/>
            <p:cNvCxnSpPr>
              <a:stCxn id="328" idx="0"/>
              <a:endCxn id="329" idx="2"/>
            </p:cNvCxnSpPr>
            <p:nvPr/>
          </p:nvCxnSpPr>
          <p:spPr>
            <a:xfrm flipV="1" rot="16200000">
              <a:off x="5128560" y="3939480"/>
              <a:ext cx="579960" cy="1694880"/>
            </a:xfrm>
            <a:prstGeom prst="bentConnector3">
              <a:avLst>
                <a:gd name="adj1" fmla="val 195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0" name="_s1029"/>
            <p:cNvCxnSpPr>
              <a:stCxn id="331" idx="0"/>
              <a:endCxn id="329" idx="2"/>
            </p:cNvCxnSpPr>
            <p:nvPr/>
          </p:nvCxnSpPr>
          <p:spPr>
            <a:xfrm flipV="1">
              <a:off x="4571280" y="4497120"/>
              <a:ext cx="2520" cy="57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2" name="_s1030"/>
            <p:cNvCxnSpPr>
              <a:stCxn id="333" idx="0"/>
              <a:endCxn id="329" idx="2"/>
            </p:cNvCxnSpPr>
            <p:nvPr/>
          </p:nvCxnSpPr>
          <p:spPr>
            <a:xfrm flipH="1" flipV="1" rot="5400000">
              <a:off x="3436560" y="3941640"/>
              <a:ext cx="579960" cy="1691280"/>
            </a:xfrm>
            <a:prstGeom prst="bentConnector3">
              <a:avLst>
                <a:gd name="adj1" fmla="val 195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4" name="_s1031"/>
            <p:cNvCxnSpPr>
              <a:stCxn id="335" idx="0"/>
              <a:endCxn id="336" idx="2"/>
            </p:cNvCxnSpPr>
            <p:nvPr/>
          </p:nvCxnSpPr>
          <p:spPr>
            <a:xfrm flipV="1" rot="16200000">
              <a:off x="5975640" y="1353600"/>
              <a:ext cx="579960" cy="3389040"/>
            </a:xfrm>
            <a:prstGeom prst="bentConnector3">
              <a:avLst>
                <a:gd name="adj1" fmla="val 195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7" name="_s1032"/>
            <p:cNvCxnSpPr>
              <a:stCxn id="338" idx="0"/>
              <a:endCxn id="336" idx="2"/>
            </p:cNvCxnSpPr>
            <p:nvPr/>
          </p:nvCxnSpPr>
          <p:spPr>
            <a:xfrm flipV="1" rot="16200000">
              <a:off x="5128560" y="2200680"/>
              <a:ext cx="579960" cy="1694880"/>
            </a:xfrm>
            <a:prstGeom prst="bentConnector3">
              <a:avLst>
                <a:gd name="adj1" fmla="val 195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9" name="_s1033"/>
            <p:cNvCxnSpPr>
              <a:stCxn id="329" idx="0"/>
              <a:endCxn id="336" idx="2"/>
            </p:cNvCxnSpPr>
            <p:nvPr/>
          </p:nvCxnSpPr>
          <p:spPr>
            <a:xfrm flipV="1">
              <a:off x="4571280" y="2758320"/>
              <a:ext cx="2520" cy="57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0" name="_s1034"/>
            <p:cNvCxnSpPr>
              <a:stCxn id="341" idx="0"/>
              <a:endCxn id="336" idx="2"/>
            </p:cNvCxnSpPr>
            <p:nvPr/>
          </p:nvCxnSpPr>
          <p:spPr>
            <a:xfrm flipH="1" flipV="1" rot="5400000">
              <a:off x="3434760" y="2201040"/>
              <a:ext cx="579960" cy="1694880"/>
            </a:xfrm>
            <a:prstGeom prst="bentConnector3">
              <a:avLst>
                <a:gd name="adj1" fmla="val 195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2" name="_s1035"/>
            <p:cNvCxnSpPr>
              <a:stCxn id="343" idx="0"/>
              <a:endCxn id="336" idx="2"/>
            </p:cNvCxnSpPr>
            <p:nvPr/>
          </p:nvCxnSpPr>
          <p:spPr>
            <a:xfrm flipH="1" flipV="1" rot="5400000">
              <a:off x="2588400" y="1354680"/>
              <a:ext cx="579960" cy="3387240"/>
            </a:xfrm>
            <a:prstGeom prst="bentConnector3">
              <a:avLst>
                <a:gd name="adj1" fmla="val 195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6" name="_s1036"/>
            <p:cNvSpPr/>
            <p:nvPr/>
          </p:nvSpPr>
          <p:spPr>
            <a:xfrm>
              <a:off x="3845520" y="1600200"/>
              <a:ext cx="1452240" cy="1158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Arial"/>
                </a:rPr>
                <a:t>IP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037"/>
            <p:cNvSpPr/>
            <p:nvPr/>
          </p:nvSpPr>
          <p:spPr>
            <a:xfrm>
              <a:off x="457200" y="3338640"/>
              <a:ext cx="1452240" cy="1158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Arial"/>
                </a:rPr>
                <a:t>I. Komponen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Arial"/>
                </a:rPr>
                <a:t>POMOĆ 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Arial"/>
                </a:rPr>
                <a:t>TRANZICIJI 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Arial"/>
                </a:rPr>
                <a:t>JAČANJ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Arial"/>
                </a:rPr>
                <a:t>INSTITUCIJ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038"/>
            <p:cNvSpPr/>
            <p:nvPr/>
          </p:nvSpPr>
          <p:spPr>
            <a:xfrm>
              <a:off x="2151360" y="3338640"/>
              <a:ext cx="1452240" cy="11588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Arial"/>
                </a:rPr>
                <a:t>II. Komponen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Arial"/>
                </a:rPr>
                <a:t>PREKOGRANIČ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Arial"/>
                </a:rPr>
                <a:t>SURADNJ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_s1039"/>
            <p:cNvSpPr/>
            <p:nvPr/>
          </p:nvSpPr>
          <p:spPr>
            <a:xfrm>
              <a:off x="3845520" y="3338640"/>
              <a:ext cx="1452240" cy="11588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Arial"/>
                </a:rPr>
                <a:t>III. komponen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Arial"/>
                </a:rPr>
                <a:t>REGIONAL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Arial"/>
                </a:rPr>
                <a:t>RAZVO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040"/>
            <p:cNvSpPr/>
            <p:nvPr/>
          </p:nvSpPr>
          <p:spPr>
            <a:xfrm>
              <a:off x="5540040" y="3338640"/>
              <a:ext cx="1452240" cy="11588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Arial"/>
                </a:rPr>
                <a:t>IV. Komponen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Arial"/>
                </a:rPr>
                <a:t>RAZVOJ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Arial"/>
                </a:rPr>
                <a:t>LJUDSKI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Arial"/>
                </a:rPr>
                <a:t>RESUR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041"/>
            <p:cNvSpPr/>
            <p:nvPr/>
          </p:nvSpPr>
          <p:spPr>
            <a:xfrm>
              <a:off x="7234200" y="3338640"/>
              <a:ext cx="1452240" cy="1158840"/>
            </a:xfrm>
            <a:prstGeom prst="roundRect">
              <a:avLst>
                <a:gd name="adj" fmla="val 16667"/>
              </a:avLst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Arial"/>
                </a:rPr>
                <a:t>V. komponen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Arial"/>
                </a:rPr>
                <a:t>RURALNI RAZVO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042"/>
            <p:cNvSpPr/>
            <p:nvPr/>
          </p:nvSpPr>
          <p:spPr>
            <a:xfrm>
              <a:off x="2154600" y="5077440"/>
              <a:ext cx="1450440" cy="11588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Arial"/>
                </a:rPr>
                <a:t>II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Arial"/>
                </a:rPr>
                <a:t>PROM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043"/>
            <p:cNvSpPr/>
            <p:nvPr/>
          </p:nvSpPr>
          <p:spPr>
            <a:xfrm>
              <a:off x="3847680" y="5077440"/>
              <a:ext cx="1450080" cy="11588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Arial"/>
                </a:rPr>
                <a:t>III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Arial"/>
                </a:rPr>
                <a:t>ZAŠTITA OKOLIŠ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_s1044"/>
            <p:cNvSpPr/>
            <p:nvPr/>
          </p:nvSpPr>
          <p:spPr>
            <a:xfrm>
              <a:off x="5540040" y="5077440"/>
              <a:ext cx="1450440" cy="11588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Arial"/>
                </a:rPr>
                <a:t>II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Arial"/>
                </a:rPr>
                <a:t>REGIONALN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Arial"/>
                </a:rPr>
                <a:t>KONKURENTNO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6:18:42Z</dcterms:created>
  <dc:creator>Mile Dzelalija</dc:creator>
  <dc:description/>
  <dc:language>en-US</dc:language>
  <cp:lastModifiedBy>Andreja Marcetić</cp:lastModifiedBy>
  <dcterms:modified xsi:type="dcterms:W3CDTF">2010-06-14T15:36:07Z</dcterms:modified>
  <cp:revision>452</cp:revision>
  <dc:subject/>
  <dc:title>Slide 1</dc:title>
</cp:coreProperties>
</file>