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2B8-7AA0-46F2-BC63-3706F115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6F2-0A3C-40EF-B15F-2CAE4B4E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820-DD11-4220-92D3-593ED85C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399-8F05-4CC7-B587-CAA073E1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A9F-D74A-41C3-B0DB-1F87EA7F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2E3-FD08-428D-9A32-300EBDA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4FC-4689-4BB3-B44C-5C6A0902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CEF-4EB6-4E9F-89DE-6CDCEC41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652-9E2E-43B4-AF73-A28B8E0A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FEA-EA0B-429F-A580-DA730DC2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1FB-CA36-4A88-9220-3F8ADFC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380-5116-4B64-A5B7-30ABC3F0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81F-1335-4121-A3F7-F805DB4DFA5E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o.vlada.hr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rina.tatalovic@vlada.h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413000"/>
            <a:ext cx="806292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Institucionalni i pravni okvir u razvoju HKO-a</a:t>
            </a: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Marina Tatalović</a:t>
            </a:r>
            <a:br>
              <a:rPr sz="1200"/>
            </a:b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savjetnica potpredsjednika Vlade RH </a:t>
            </a:r>
            <a:br>
              <a:rPr sz="2400"/>
            </a:b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ULOGA HRVATSKOGA KVALIFIKACIJSKOG OKVIRA (HKO) U PRIHVAĆANJU ODGOVORNOSTI U RADU STRUČNIH DJELATNIKA ODGOJNO–OBRAZOVNIH  USTANOVA TE NUŽNOST CJELOŽIVOTNOG UČENJA</a:t>
            </a:r>
            <a:br>
              <a:rPr sz="1200"/>
            </a:b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- stručni skup za nastavnike, Agencija za odgoj i obrazovanje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706200" y="5445000"/>
            <a:ext cx="19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333399"/>
                </a:solidFill>
                <a:latin typeface="Arial"/>
              </a:rPr>
              <a:t>Zagreb, 11. ožujka 2009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566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91200" y="1652760"/>
            <a:ext cx="80064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</a:rPr>
              <a:t>Europski kvalifikacijski okvir (EKO)</a:t>
            </a: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    – </a:t>
            </a: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alat za povezivanje i međusobno razumijevanje N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- mobilnost i cjeloživotno uč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EKO – put 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- Lisabon, 2000. god. Europsko vijeće – transparentnost kvalifikacija</a:t>
            </a:r>
            <a:br>
              <a:rPr sz="1800"/>
            </a:b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- Barcelona,  2002. god. – poziv obrazovnim institucijama za surad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Kopenhagen, 2002. god – suradnja u strukovnom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2004. god. – početak intenzivnog rada na razvoju HK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Arial"/>
              </a:rPr>
              <a:t>Dublinski deskriptori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– ishodi uč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2005. god. – radni dokument EK </a:t>
            </a:r>
            <a:r>
              <a:rPr b="0" i="1" lang="hr-HR" sz="1800" spc="-1" strike="noStrike">
                <a:solidFill>
                  <a:srgbClr val="333399"/>
                </a:solidFill>
                <a:latin typeface="Arial"/>
              </a:rPr>
              <a:t>“Prema Europskom kvalifikacijskom okvir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2008. god. – </a:t>
            </a:r>
            <a:r>
              <a:rPr b="0" i="1" lang="hr-HR" sz="1800" spc="-1" strike="noStrike">
                <a:solidFill>
                  <a:srgbClr val="333399"/>
                </a:solidFill>
                <a:latin typeface="Arial"/>
              </a:rPr>
              <a:t>“Europski kvalifikacijski okvir za cjeloživotno učenj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preporuka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 Europskog parlamenta i Vijeć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</a:rPr>
              <a:t>Razvoj Hrvatskoga kvalifikacijskog okvira (H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2005. godina – obrazovne institucije + međunarodne organiz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2006. godina - radna grupa u MZOŠ-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2007. god. 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“Polazne osnove hrvatskoga kvalifikacijskog okvira”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usvojila Vlada Republike Hrvatske Zaključk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- Odluka Vlade RH o osniva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Povjerenstva za izradu Hrvatskoga kvalifikacijskog okv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2008. god. MZOŠ – 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Operativni tim za potporu Povjerenstvu za 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izradu HKO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</a:rPr>
              <a:t>Pretpostavke za razvoj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Određivanje zadaća HKO-a – cjeloživotno učenje i mobil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- olakšavanje zapošljivosti i socijalne poveza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- povezivanje tržišta rada 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- pouzdanost i odgovor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- Ostvarenje ciljeva i zadaća iz Polaznih os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Uloga EKO-a – u povezivanju NKO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Obveze zemalj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obveza povezivanja nacionalnih kvalifikacijskih okvira s Europskim kvalifikacijskim okvirom do 2010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obveza usvajanja mjera do 2012. godine koje će jamčiti da sve stečene kvalifikacije izdane od mjerodavnih nacionalnih tijela 'imaju jasnu poveznicu' u odnosu na E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usvajanjem načela 'ishoda učenja' pri opisivanju i određivanju kvalifikacija promicati priznavanje i vrjednovanje neformalnog i informalnog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promicati i primjenjivati načela osiguranja kvalitete u obrazovanj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Arial"/>
              </a:rPr>
              <a:t>imenovati nacionalne koordinacijske točke zadužene za provedbu zadaća vezanih za E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</a:rPr>
              <a:t>Pretpostavke za razvoj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ova EK - „Europe 2020 A strategy for smart, sustainable and inclusive growth“, 2010.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uradnja s međunarodnim institucijama i organizacijama (EK – Uprava za obrazovanje i kulturu, Odjel za visoko obrazovanje  Vijeća Europe, ETF 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Sudjelovanje na međunarodnim događanjima (</a:t>
            </a: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ko.vlada.hr</a:t>
            </a: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Npr: Svjetska konferencija o implementaciji EKO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Npr: Mediteranski forum o strukovnom obrazov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99"/>
                </a:solidFill>
                <a:latin typeface="Arial"/>
              </a:rPr>
              <a:t>Nacionalna struktura za razvoj HKO-a kroz rad Vladinog tij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Rad na izradi HKO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Plan aktivnosti na izradi HKO-a za razdoblje 2008. –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Pojmovnik Hrvatskoga kvalifikacijskog okv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Radne skupine za izradu standarda kvalif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333399"/>
                </a:solidFill>
                <a:latin typeface="Arial"/>
              </a:rPr>
              <a:t>Izvješće o radu Povjerenstva za izradu Hrvatskoga kvalifikacijskog okvira za 2008. i 2009. (Zaključak Vlade R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Daljnje a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86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snivanje Povjerenstva za provedbu HKO-a – na prijedlog MZOŠ-a osniva Vlada 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snivanje OT za potporu Povjerenstvu - MZO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stvarivanje prihvaćenog plana za 2010.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Početak rada radnih skupina za izradu standarda kvalifik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Izrada izvješća za povezivanje s EKO-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snivanje (ili određivanje) NCP-a kao instit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Arial"/>
              </a:rPr>
              <a:t>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94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Institu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Pojedinci – odgovornost nastav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OČEKUJEMO VAŠ DOPRIN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ina.tatalovic@vlada.hr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HVALA za suradnj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5:02:40Z</dcterms:created>
  <dc:creator>Marina Tatalović</dc:creator>
  <dc:description/>
  <dc:language>en-US</dc:language>
  <cp:lastModifiedBy>Andreja Marcetić</cp:lastModifiedBy>
  <dcterms:modified xsi:type="dcterms:W3CDTF">2010-06-14T15:34:58Z</dcterms:modified>
  <cp:revision>30</cp:revision>
  <dc:subject/>
  <dc:title>Croatian Qualification Framework  (CROQF; HKO) ~ current results ~ Marina Tatalović Croatian Government </dc:title>
</cp:coreProperties>
</file>