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1885-C9F0-4D18-ACE5-D8D37BE28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Definicije i objašnjen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7A88-4544-4891-80C3-1AB99056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434C-FE20-4F12-A85B-4332DC39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E0FF-28A4-4A43-A7CF-FFF017B8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0AB1-928B-4D49-890C-79017EE6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D1A4-BDC9-4F8F-9BD5-A5F3789C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DCFE-EAAB-4FA9-962F-2B698516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05DB-660D-4C04-9421-5E3C9C28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42C-F737-4AC1-AEA3-57463712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9C01-47A2-4057-982F-ED228FC9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E3AC-6470-4ED2-8004-051CD1A1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3927-BC4B-45FC-8C05-524B070F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DF02-5940-443A-9CEB-80991C00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D423-3603-4095-9B54-3CFE9FDD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3B22-1D66-4341-B222-7835DD55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3594-C564-4E1D-8622-3E140C14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E62C-3CBA-44D2-A4D1-86727B2F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0E12-D794-48AF-8281-DE66D983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99C7-C692-4728-B505-F1267108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3E39-68B5-4D59-8DCA-AD15B159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0E5F-49E9-4804-9CDC-1A4288AB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0168-D0F2-4CAD-9325-F9A549DE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AEB6-2C10-42AF-A7A1-0F634CAE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DC6F-6DED-4D0D-9ACA-F8946FEA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C5C2-EB2C-4F82-B939-2930697E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120CA-60A7-442C-AF2C-87615787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D771B-6016-4554-913D-CBC13B8B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AB28A-7389-468B-AB1B-EB33C895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11B7E-4967-40AD-859A-96339666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CD0BF-94AC-445E-9FC1-082FCD10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68E57-7253-463C-8DD9-5584D41B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4687E-C798-40C7-B9B4-294E29EF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4A2B9-A3EE-4D1D-90CF-CDEA3354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AE17A-94EF-4518-84ED-B8DDC940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783D1-AE1C-4B1C-B06E-1FC294F7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066C7-9B36-4089-82B8-3DD237E0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4DC2D-98F7-4990-9FD5-1F60A0F7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F1338-F143-4A01-A010-257E8DC5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3060B-387E-4B14-BAFD-999DF095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3D753-43B7-42EA-9516-EB4E6244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4EE82-721B-4FDA-A9A5-3558FCC1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CC616-D7CB-462C-9C84-60227679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3D55B-C37E-4DCF-B906-4F600469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81C2A-4642-477C-8363-CA16255B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9D662-767C-444E-A9A6-5988DC11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1EA47-9CC6-44F7-951C-9D073969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FEDE2-50A8-486B-9FBA-894B9445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0ACC6-A209-476F-9B9C-D4AA5A43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7F665-2117-416F-B83E-FCCDCA61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18F56-F0D5-43CC-AE42-2E68B8A7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D06DA-5800-42B8-AD4D-A7265CA0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77758-1E08-4C34-926F-A460F2F8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D228D-A6AB-4A0B-90C1-89201868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80F25-A6D4-4815-8248-368D0F77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0DDC3-7FC8-4D6D-82B6-00EE74E6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45763-9170-4EFE-A502-A87BC072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DE21D-4508-4A33-9F51-C75A15FC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1D456-0C5E-4CFF-8D1D-A8DC4901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70481-2A94-49BC-951C-36C91979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00216-FE75-4D20-A8A2-68C89790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3F5F8-EC52-49DA-A718-1EFD7DC5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A3E18-EECC-4765-9300-34D71FE7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113CF-F5E2-4641-A965-6863F711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71D8A-0626-4E92-9796-07650792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0CE22-AAAA-4058-B3CD-12BA1EA7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3C4A2-9A66-4906-860D-C86B507B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4A42D-5700-43E6-B8E7-72676016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34A60-1427-4E2F-A7C6-D489DBEB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84B68-3152-4FC5-93FB-863790C6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4FEA9-C6E7-4A66-871B-D38A296C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6CAA9-7934-465B-A0E0-6CEBCC61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9FD90-9A59-47DA-838A-B031B660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76FC2-6D51-4C56-9E9B-E9D234C1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Rectangle 2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0B94-1B2F-4F82-8038-B35EF60BBC4A}" type="slidenum"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traight Connector 2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Isosceles Triangle 3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Isosceles Triangle 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C9A0-AD8F-4266-993D-28E4B8D77345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Isosceles Triangle 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E3B3-8D53-42EE-91C6-721127559843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traight Connector 2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Isosceles Triangle 3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8AD8-A3AB-4243-A2C3-92FD596F81A5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Isosceles Triangle 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D0C3-C2C7-4475-9F2A-5EA7A1DD572C}" type="slidenum">
              <a:rPr b="0" lang="hr-HR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traight Connector 1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Isosceles Triangle 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3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8150-211A-47FD-87B6-471EACDCD9FB}" type="slidenum">
              <a:rPr b="0" lang="hr-HR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obrazovanje@hok.hr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71280" y="3429000"/>
            <a:ext cx="799308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060"/>
                </a:solidFill>
                <a:latin typeface="Arial"/>
              </a:rPr>
              <a:t>ISHODI UČENJA – </a:t>
            </a:r>
            <a:br>
              <a:rPr sz="2800"/>
            </a:br>
            <a:r>
              <a:rPr b="1" lang="hr-HR" sz="2800" spc="-1" strike="noStrike">
                <a:solidFill>
                  <a:srgbClr val="002060"/>
                </a:solidFill>
                <a:latin typeface="Arial"/>
              </a:rPr>
              <a:t>osnovna svojstva i način zapisivanja</a:t>
            </a:r>
            <a:br>
              <a:rPr sz="2800"/>
            </a:br>
            <a:r>
              <a:rPr b="0" lang="hr-HR" sz="1800" spc="-1" strike="noStrike">
                <a:solidFill>
                  <a:srgbClr val="002060"/>
                </a:solidFill>
                <a:latin typeface="Arial"/>
              </a:rPr>
              <a:t>Mirela Lekić, dipl. pedagog </a:t>
            </a:r>
            <a:br>
              <a:rPr sz="1800"/>
            </a:br>
            <a:r>
              <a:rPr b="0" lang="hr-HR" sz="1800" spc="-1" strike="noStrike">
                <a:solidFill>
                  <a:srgbClr val="002060"/>
                </a:solidFill>
                <a:latin typeface="Arial"/>
              </a:rPr>
              <a:t>Hrvatska obrtnička komora</a:t>
            </a:r>
            <a:endParaRPr b="0" lang="en-US" sz="1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971280" y="5013000"/>
            <a:ext cx="79930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Agencija za odgoj i obrazovanj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Zagreb, 12. ožujka 2010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755640" y="3429000"/>
            <a:ext cx="8209080" cy="149868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755640" y="5013360"/>
            <a:ext cx="820908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755640" y="3429000"/>
            <a:ext cx="216000" cy="149868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755640" y="501336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2" descr="HKO_logo"/>
          <p:cNvPicPr/>
          <p:nvPr/>
        </p:nvPicPr>
        <p:blipFill>
          <a:blip r:embed="rId1"/>
          <a:stretch/>
        </p:blipFill>
        <p:spPr>
          <a:xfrm>
            <a:off x="285840" y="263520"/>
            <a:ext cx="100008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kstniOkvir 3"/>
          <p:cNvSpPr/>
          <p:nvPr/>
        </p:nvSpPr>
        <p:spPr>
          <a:xfrm>
            <a:off x="285840" y="1285920"/>
            <a:ext cx="8501040" cy="53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amostalno provesti i analizirati različite didaktičko metodičke odluke u praktičnim situacijama niza odgojno – obrazovnih proces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0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zraditi i analizirati nastavni plan i program matematike za 1. razred o.š. koristeći okvirni plan i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smisliti i izvesti nastavni sat likovnog odgoja u trećem razredu o.š. primjenom adekvatne met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samostalno izraditi materijal za samostalno učenje uče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oristiti i obrazložiti izbor nastavne tehnolog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kstniOkvir 3"/>
          <p:cNvSpPr/>
          <p:nvPr/>
        </p:nvSpPr>
        <p:spPr>
          <a:xfrm>
            <a:off x="285840" y="1071720"/>
            <a:ext cx="8501040" cy="70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Magistar pedagogije – </a:t>
            </a:r>
            <a:r>
              <a:rPr b="0" lang="hr-HR" sz="2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nastavnički smj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(360 EC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7.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pća didaktika      (5 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kon učenja student ć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avilno interpretirati temeljne pojmove didaktike uz povremeno korištenje udžbe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pisati i interpretirati različite didaktičke teorije, škole, pravce i mod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blačić s crtom 2 6"/>
          <p:cNvSpPr/>
          <p:nvPr/>
        </p:nvSpPr>
        <p:spPr>
          <a:xfrm>
            <a:off x="5572080" y="357120"/>
            <a:ext cx="3000600" cy="64296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40754"/>
              <a:gd name="adj6" fmla="val -40175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kstniOkvir 7"/>
          <p:cNvSpPr/>
          <p:nvPr/>
        </p:nvSpPr>
        <p:spPr>
          <a:xfrm>
            <a:off x="5857920" y="5000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rofil /naz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Ravni poveznik sa strelicom 10"/>
          <p:cNvCxnSpPr/>
          <p:nvPr/>
        </p:nvCxnSpPr>
        <p:spPr>
          <a:xfrm>
            <a:off x="2428920" y="1999800"/>
            <a:ext cx="2358000" cy="14364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sp>
        <p:nvSpPr>
          <p:cNvPr id="349" name="Dijagram toka: Memorija s izravnim pristupom 12"/>
          <p:cNvSpPr/>
          <p:nvPr/>
        </p:nvSpPr>
        <p:spPr>
          <a:xfrm>
            <a:off x="4786200" y="1928880"/>
            <a:ext cx="2286000" cy="714240"/>
          </a:xfrm>
          <a:prstGeom prst="flowChartMagneticDrum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kstniOkvir 13"/>
          <p:cNvSpPr/>
          <p:nvPr/>
        </p:nvSpPr>
        <p:spPr>
          <a:xfrm>
            <a:off x="4929120" y="200016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8f8f8"/>
                </a:solidFill>
                <a:latin typeface="Arial"/>
              </a:rPr>
              <a:t>obujam / </a:t>
            </a:r>
            <a:r>
              <a:rPr b="0" lang="hr-HR" sz="2000" spc="-1" strike="noStrike">
                <a:solidFill>
                  <a:srgbClr val="f8f8f8"/>
                </a:solidFill>
                <a:latin typeface="Arial"/>
              </a:rPr>
              <a:t>bodo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Kutni poveznik 16"/>
          <p:cNvCxnSpPr/>
          <p:nvPr/>
        </p:nvCxnSpPr>
        <p:spPr>
          <a:xfrm>
            <a:off x="1357200" y="2356920"/>
            <a:ext cx="858240" cy="358200"/>
          </a:xfrm>
          <a:prstGeom prst="bentConnector3">
            <a:avLst>
              <a:gd name="adj1" fmla="val 49979"/>
            </a:avLst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sp>
        <p:nvSpPr>
          <p:cNvPr id="352" name="Zaobljeni pravokutnik 19"/>
          <p:cNvSpPr/>
          <p:nvPr/>
        </p:nvSpPr>
        <p:spPr>
          <a:xfrm>
            <a:off x="2286000" y="2571840"/>
            <a:ext cx="2428920" cy="714240"/>
          </a:xfrm>
          <a:prstGeom prst="roundRect">
            <a:avLst>
              <a:gd name="adj" fmla="val 16667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kstniOkvir 20"/>
          <p:cNvSpPr/>
          <p:nvPr/>
        </p:nvSpPr>
        <p:spPr>
          <a:xfrm>
            <a:off x="2357280" y="2571840"/>
            <a:ext cx="235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8f8f8"/>
                </a:solidFill>
                <a:latin typeface="Arial"/>
              </a:rPr>
              <a:t>razina/ mjerljivi pokazatelj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Okomiti svitak 21"/>
          <p:cNvSpPr/>
          <p:nvPr/>
        </p:nvSpPr>
        <p:spPr>
          <a:xfrm>
            <a:off x="6357960" y="2857680"/>
            <a:ext cx="2500200" cy="1500120"/>
          </a:xfrm>
          <a:prstGeom prst="verticalScroll">
            <a:avLst>
              <a:gd name="adj" fmla="val 12500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kstniOkvir 22"/>
          <p:cNvSpPr/>
          <p:nvPr/>
        </p:nvSpPr>
        <p:spPr>
          <a:xfrm>
            <a:off x="6715080" y="3286080"/>
            <a:ext cx="18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Kvalite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ravokutnik 15"/>
          <p:cNvSpPr/>
          <p:nvPr/>
        </p:nvSpPr>
        <p:spPr>
          <a:xfrm>
            <a:off x="571680" y="3357720"/>
            <a:ext cx="2286000" cy="571320"/>
          </a:xfrm>
          <a:prstGeom prst="rect">
            <a:avLst/>
          </a:prstGeom>
          <a:noFill/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Dijagram toka: Memorija s izravnim pristupom 18"/>
          <p:cNvSpPr/>
          <p:nvPr/>
        </p:nvSpPr>
        <p:spPr>
          <a:xfrm>
            <a:off x="3143160" y="3500280"/>
            <a:ext cx="1500120" cy="571680"/>
          </a:xfrm>
          <a:prstGeom prst="flowChartMagneticDrum">
            <a:avLst/>
          </a:prstGeom>
          <a:noFill/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Zaobljeni pravokutnik 24"/>
          <p:cNvSpPr/>
          <p:nvPr/>
        </p:nvSpPr>
        <p:spPr>
          <a:xfrm>
            <a:off x="500040" y="3929040"/>
            <a:ext cx="500040" cy="4287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kstniOkvir 3"/>
          <p:cNvSpPr/>
          <p:nvPr/>
        </p:nvSpPr>
        <p:spPr>
          <a:xfrm>
            <a:off x="571680" y="171468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Svojstva ishoda učenj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kstniOkvir 5"/>
          <p:cNvSpPr/>
          <p:nvPr/>
        </p:nvSpPr>
        <p:spPr>
          <a:xfrm>
            <a:off x="1214280" y="2786040"/>
            <a:ext cx="70009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osnovna ili potpuna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Arial"/>
              </a:rPr>
              <a:t>prof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Arial"/>
              </a:rPr>
              <a:t>raz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Arial"/>
              </a:rPr>
              <a:t>obuj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Arial"/>
              </a:rPr>
              <a:t>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ostala svojs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kstniOkvir 3"/>
          <p:cNvSpPr/>
          <p:nvPr/>
        </p:nvSpPr>
        <p:spPr>
          <a:xfrm>
            <a:off x="642960" y="121428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Pravila jasnog načina zapisivanja ishoda uče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Vodoravni svitak 6"/>
          <p:cNvSpPr/>
          <p:nvPr/>
        </p:nvSpPr>
        <p:spPr>
          <a:xfrm>
            <a:off x="428760" y="1571760"/>
            <a:ext cx="8072280" cy="5572080"/>
          </a:xfrm>
          <a:prstGeom prst="horizontalScroll">
            <a:avLst>
              <a:gd name="adj" fmla="val 12500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kstniOkvir 7"/>
          <p:cNvSpPr/>
          <p:nvPr/>
        </p:nvSpPr>
        <p:spPr>
          <a:xfrm>
            <a:off x="1071720" y="2428920"/>
            <a:ext cx="78580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zapis: “Nakon učenja učenik/student će….” – ne ponavlj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aktivni i precizni glagoli uz sadrža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uvjeti u kojima se ostvaruje aktiv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jedan glagol za jedan ishod uč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iskazi koji uključuju glagole iz više razine složenosti podrazumijevaju ishode odgovarajućih glagola niže raz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iskaz jasan široj jav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izbjegavati duge i složene iskaze kao i komparaci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jedinični skup – pet do deset iska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kcijski gumb: Naprijed ili dalje 8">
            <a:hlinkClick r:id="rId2" action="ppaction://hlinksldjump"/>
          </p:cNvPr>
          <p:cNvSpPr/>
          <p:nvPr/>
        </p:nvSpPr>
        <p:spPr>
          <a:xfrm>
            <a:off x="5786280" y="2928960"/>
            <a:ext cx="857520" cy="285840"/>
          </a:xfrm>
          <a:custGeom>
            <a:avLst/>
            <a:gdLst>
              <a:gd name="textAreaLeft" fmla="*/ 18360 w 857520"/>
              <a:gd name="textAreaRight" fmla="*/ 839160 w 8575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64746" h="21600">
                <a:moveTo>
                  <a:pt x="0" y="0"/>
                </a:moveTo>
                <a:lnTo>
                  <a:pt x="64746" y="0"/>
                </a:lnTo>
                <a:lnTo>
                  <a:pt x="64746" y="21600"/>
                </a:lnTo>
                <a:lnTo>
                  <a:pt x="0" y="21600"/>
                </a:lnTo>
                <a:close/>
              </a:path>
              <a:path fill="lightenLess" w="64746" h="21600">
                <a:moveTo>
                  <a:pt x="0" y="0"/>
                </a:moveTo>
                <a:lnTo>
                  <a:pt x="64746" y="0"/>
                </a:lnTo>
                <a:lnTo>
                  <a:pt x="63346" y="1400"/>
                </a:lnTo>
                <a:lnTo>
                  <a:pt x="1400" y="1400"/>
                </a:lnTo>
                <a:close/>
              </a:path>
              <a:path fill="darken" w="64746" h="21600">
                <a:moveTo>
                  <a:pt x="64746" y="0"/>
                </a:moveTo>
                <a:lnTo>
                  <a:pt x="64746" y="21600"/>
                </a:lnTo>
                <a:lnTo>
                  <a:pt x="63346" y="20200"/>
                </a:lnTo>
                <a:lnTo>
                  <a:pt x="63346" y="1400"/>
                </a:lnTo>
                <a:close/>
              </a:path>
              <a:path fill="darkenLess" w="64746" h="21600">
                <a:moveTo>
                  <a:pt x="64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6" y="20200"/>
                </a:lnTo>
                <a:close/>
              </a:path>
              <a:path fill="lighten" w="64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46" h="21600">
                <a:moveTo>
                  <a:pt x="25366" y="3794"/>
                </a:moveTo>
                <a:lnTo>
                  <a:pt x="39379" y="10800"/>
                </a:lnTo>
                <a:lnTo>
                  <a:pt x="25366" y="17806"/>
                </a:lnTo>
                <a:close/>
              </a:path>
            </a:pathLst>
          </a:cu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kcijski gumb: Naprijed ili dalje 9">
            <a:hlinkClick r:id="rId3" action="ppaction://hlinksldjump"/>
          </p:cNvPr>
          <p:cNvSpPr/>
          <p:nvPr/>
        </p:nvSpPr>
        <p:spPr>
          <a:xfrm>
            <a:off x="6072120" y="3429000"/>
            <a:ext cx="642960" cy="285840"/>
          </a:xfrm>
          <a:custGeom>
            <a:avLst/>
            <a:gdLst>
              <a:gd name="textAreaLeft" fmla="*/ 18360 w 642960"/>
              <a:gd name="textAreaRight" fmla="*/ 624600 w 6429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48552" h="21600">
                <a:moveTo>
                  <a:pt x="0" y="0"/>
                </a:moveTo>
                <a:lnTo>
                  <a:pt x="48552" y="0"/>
                </a:lnTo>
                <a:lnTo>
                  <a:pt x="48552" y="21600"/>
                </a:lnTo>
                <a:lnTo>
                  <a:pt x="0" y="21600"/>
                </a:lnTo>
                <a:close/>
              </a:path>
              <a:path fill="lightenLess" w="48552" h="21600">
                <a:moveTo>
                  <a:pt x="0" y="0"/>
                </a:moveTo>
                <a:lnTo>
                  <a:pt x="48552" y="0"/>
                </a:lnTo>
                <a:lnTo>
                  <a:pt x="47152" y="1400"/>
                </a:lnTo>
                <a:lnTo>
                  <a:pt x="1400" y="1400"/>
                </a:lnTo>
                <a:close/>
              </a:path>
              <a:path fill="darken" w="48552" h="21600">
                <a:moveTo>
                  <a:pt x="48552" y="0"/>
                </a:moveTo>
                <a:lnTo>
                  <a:pt x="48552" y="21600"/>
                </a:lnTo>
                <a:lnTo>
                  <a:pt x="47152" y="20200"/>
                </a:lnTo>
                <a:lnTo>
                  <a:pt x="47152" y="1400"/>
                </a:lnTo>
                <a:close/>
              </a:path>
              <a:path fill="darkenLess" w="48552" h="21600">
                <a:moveTo>
                  <a:pt x="48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52" y="20200"/>
                </a:lnTo>
                <a:close/>
              </a:path>
              <a:path fill="lighten" w="48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52" h="21600">
                <a:moveTo>
                  <a:pt x="17270" y="3794"/>
                </a:moveTo>
                <a:lnTo>
                  <a:pt x="31283" y="10800"/>
                </a:lnTo>
                <a:lnTo>
                  <a:pt x="17270" y="17806"/>
                </a:lnTo>
                <a:close/>
              </a:path>
            </a:pathLst>
          </a:cu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kstniOkvir 3"/>
          <p:cNvSpPr/>
          <p:nvPr/>
        </p:nvSpPr>
        <p:spPr>
          <a:xfrm>
            <a:off x="571680" y="1714680"/>
            <a:ext cx="792936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Ovakav način zapisivanja pokazat ć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što i kako će demonstrirati stečene kompeten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u kojim uvjetima (na provjeri i ocjenjivanj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ubuduće izvršavati na radnom mjestu, nastavku obrazovanja i s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Kakvi su zadaci za provjer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Dijagram 6" descr=""/>
          <p:cNvPicPr/>
          <p:nvPr/>
        </p:nvPicPr>
        <p:blipFill>
          <a:blip r:embed="rId2"/>
          <a:stretch/>
        </p:blipFill>
        <p:spPr>
          <a:xfrm>
            <a:off x="219240" y="1298520"/>
            <a:ext cx="8839080" cy="4267080"/>
          </a:xfrm>
          <a:prstGeom prst="rect">
            <a:avLst/>
          </a:prstGeom>
          <a:ln w="0">
            <a:noFill/>
          </a:ln>
        </p:spPr>
      </p:pic>
      <p:sp>
        <p:nvSpPr>
          <p:cNvPr id="376" name="TekstniOkvir 7"/>
          <p:cNvSpPr/>
          <p:nvPr/>
        </p:nvSpPr>
        <p:spPr>
          <a:xfrm>
            <a:off x="571680" y="4857840"/>
            <a:ext cx="10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pec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kstniOkvir 8"/>
          <p:cNvSpPr/>
          <p:nvPr/>
        </p:nvSpPr>
        <p:spPr>
          <a:xfrm>
            <a:off x="2071800" y="492912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measeur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kstniOkvir 9"/>
          <p:cNvSpPr/>
          <p:nvPr/>
        </p:nvSpPr>
        <p:spPr>
          <a:xfrm>
            <a:off x="4000680" y="48578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agr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kstniOkvir 11"/>
          <p:cNvSpPr/>
          <p:nvPr/>
        </p:nvSpPr>
        <p:spPr>
          <a:xfrm>
            <a:off x="5643720" y="485784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rele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kstniOkvir 13"/>
          <p:cNvSpPr/>
          <p:nvPr/>
        </p:nvSpPr>
        <p:spPr>
          <a:xfrm>
            <a:off x="7429680" y="485784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tim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ravokutnik 15" descr=""/>
          <p:cNvPicPr/>
          <p:nvPr/>
        </p:nvPicPr>
        <p:blipFill>
          <a:blip r:embed="rId3"/>
          <a:stretch/>
        </p:blipFill>
        <p:spPr>
          <a:xfrm>
            <a:off x="2298600" y="2505240"/>
            <a:ext cx="44006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Dijagram 7" descr=""/>
          <p:cNvPicPr/>
          <p:nvPr/>
        </p:nvPicPr>
        <p:blipFill>
          <a:blip r:embed="rId2"/>
          <a:stretch/>
        </p:blipFill>
        <p:spPr>
          <a:xfrm>
            <a:off x="-6480" y="1047600"/>
            <a:ext cx="9156960" cy="5627880"/>
          </a:xfrm>
          <a:prstGeom prst="rect">
            <a:avLst/>
          </a:prstGeom>
          <a:ln w="0">
            <a:noFill/>
          </a:ln>
        </p:spPr>
      </p:pic>
      <p:pic>
        <p:nvPicPr>
          <p:cNvPr id="385" name="Pravokutnik 9" descr=""/>
          <p:cNvPicPr/>
          <p:nvPr/>
        </p:nvPicPr>
        <p:blipFill>
          <a:blip r:embed="rId3"/>
          <a:stretch/>
        </p:blipFill>
        <p:spPr>
          <a:xfrm>
            <a:off x="49320" y="554040"/>
            <a:ext cx="35780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kstniOkvir 3"/>
          <p:cNvSpPr/>
          <p:nvPr/>
        </p:nvSpPr>
        <p:spPr>
          <a:xfrm>
            <a:off x="642960" y="121428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NE SMIJEMO UPOTREBLJAVATI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kstniOkvir 5"/>
          <p:cNvSpPr/>
          <p:nvPr/>
        </p:nvSpPr>
        <p:spPr>
          <a:xfrm>
            <a:off x="214200" y="2286000"/>
            <a:ext cx="83584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hr-HR" sz="2800" spc="-1" strike="noStrike" u="sng">
                <a:solidFill>
                  <a:srgbClr val="000099"/>
                </a:solidFill>
                <a:uFillTx/>
                <a:latin typeface="Arial"/>
              </a:rPr>
              <a:t>nemjerljiv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</a:rPr>
              <a:t>biti osposobljen; biti sposoban; imati znanje; imati osnovna znanja;imati snažan smisao za; naučiti; ovladati; osposobljavati se za; osvijestiti; postići; poznavati; primjenjivati znanje; rabiti činjenično znanje; razumjeti; razviti potrebe;upoznati; usvojiti; shvatiti da se isti događaj i pojave mogu različito tumačiti; spoznati osnovna načela; steći znanja / sposobnost / stav; zapamtiti; znati, te slične nemjerljive glag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kstniOkvir 3"/>
          <p:cNvSpPr/>
          <p:nvPr/>
        </p:nvSpPr>
        <p:spPr>
          <a:xfrm>
            <a:off x="642960" y="121428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PRIMJER: “Nakon učenja student će…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428760" y="2286000"/>
          <a:ext cx="7929360" cy="3830760"/>
        </p:xfrm>
        <a:graphic>
          <a:graphicData uri="http://schemas.openxmlformats.org/drawingml/2006/table">
            <a:tbl>
              <a:tblPr/>
              <a:tblGrid>
                <a:gridCol w="3965400"/>
                <a:gridCol w="3963960"/>
              </a:tblGrid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ovladati temeljnim pojmovima didaktike, razumjeti, usvojiti temeljne poj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628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pretirati (objasniti, klasificirati, komentirati ili sl.) temeljne pojmove didakt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6281"/>
                    </a:solidFill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znati nastavni plan i program, osposobiti se za nastavni plan i 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zraditi  nastavni plan i 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osposobljavati se, imati snažan smisao za različite didaktičko – metodičke odlu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628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amostalno provesti različite didaktičko – metodičke odlu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6281"/>
                    </a:solidFill>
                  </a:tcPr>
                </a:tc>
              </a:tr>
            </a:tbl>
          </a:graphicData>
        </a:graphic>
      </p:graphicFrame>
      <p:sp>
        <p:nvSpPr>
          <p:cNvPr id="394" name="TekstniOkvir 5"/>
          <p:cNvSpPr/>
          <p:nvPr/>
        </p:nvSpPr>
        <p:spPr>
          <a:xfrm>
            <a:off x="1071720" y="171468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LOŠE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kstniOkvir 7"/>
          <p:cNvSpPr/>
          <p:nvPr/>
        </p:nvSpPr>
        <p:spPr>
          <a:xfrm>
            <a:off x="4714920" y="178596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0000"/>
                </a:solidFill>
                <a:latin typeface="Arial"/>
              </a:rPr>
              <a:t>DOB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kstniOkvir 3"/>
          <p:cNvSpPr/>
          <p:nvPr/>
        </p:nvSpPr>
        <p:spPr>
          <a:xfrm>
            <a:off x="214200" y="1214280"/>
            <a:ext cx="89298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OPĆE I SPECIFIČNE KOMPETENCI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Times New Roman"/>
              </a:rPr>
              <a:t>1. studenti će se upoznati s predmetom Opće didaktike i praktičnim pitanjima pripreme, realizacije i (samo)evaluacije nastave koje tematizira didaktik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Times New Roman"/>
              </a:rPr>
              <a:t>2. steći elementarna umijeća u ophođenju s didaktičkim teorijama i/ili modelima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Times New Roman"/>
              </a:rPr>
              <a:t>3. razviti umijeća glede (reflektiranog) planiranja, izvođenja i evaluacije nast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kstniOkvir 3"/>
          <p:cNvSpPr/>
          <p:nvPr/>
        </p:nvSpPr>
        <p:spPr>
          <a:xfrm>
            <a:off x="714240" y="1785960"/>
            <a:ext cx="7286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kstniOkvir 4"/>
          <p:cNvSpPr/>
          <p:nvPr/>
        </p:nvSpPr>
        <p:spPr>
          <a:xfrm>
            <a:off x="642960" y="171468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Sadrža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pojam i značaj ishoda učen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način zapisivanja ishoda u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kstniOkvir 3"/>
          <p:cNvSpPr/>
          <p:nvPr/>
        </p:nvSpPr>
        <p:spPr>
          <a:xfrm>
            <a:off x="642960" y="2500200"/>
            <a:ext cx="79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kstniOkvir 5"/>
          <p:cNvSpPr/>
          <p:nvPr/>
        </p:nvSpPr>
        <p:spPr>
          <a:xfrm>
            <a:off x="214200" y="1571760"/>
            <a:ext cx="835848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Izdvojite ispravan zapis učen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206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Pojedinac će biti osposobljen za prikupljanje podat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206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Pojedinac će množiti i zbrajati do 1000, korištenjem pomoćnih ta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206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Pojedinac će shvatiti silu težu i njeno djelovanje na sva tijela u blizini površine Zeml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206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Pojedinac će imati vrijednosti koje su važne za rad u grup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206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Pojedinac će primjenjivati znanje o toplinskim strojev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ravokutnik 6"/>
          <p:cNvSpPr/>
          <p:nvPr/>
        </p:nvSpPr>
        <p:spPr>
          <a:xfrm>
            <a:off x="642960" y="2857680"/>
            <a:ext cx="6858000" cy="571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2000" fill="hold"/>
                                        <p:tgtEl>
                                          <p:spTgt spid="4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kstniOkvir 3"/>
          <p:cNvSpPr/>
          <p:nvPr/>
        </p:nvSpPr>
        <p:spPr>
          <a:xfrm>
            <a:off x="642960" y="2500200"/>
            <a:ext cx="79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kstniOkvir 5"/>
          <p:cNvSpPr/>
          <p:nvPr/>
        </p:nvSpPr>
        <p:spPr>
          <a:xfrm>
            <a:off x="214200" y="2286000"/>
            <a:ext cx="8358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ravokutnik 6"/>
          <p:cNvSpPr/>
          <p:nvPr/>
        </p:nvSpPr>
        <p:spPr>
          <a:xfrm>
            <a:off x="214200" y="1643040"/>
            <a:ext cx="8643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Zadatak za vjež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Times New Roman"/>
              </a:rPr>
              <a:t>Kvalifikacija: Odgajatelj u učeničkom domu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Times New Roman"/>
              </a:rPr>
              <a:t>Razina: 7.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Times New Roman"/>
              </a:rPr>
              <a:t>Jedinični skup ishoda učenja: Pedagogija adolescen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Times New Roman"/>
              </a:rPr>
              <a:t>6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Times New Roman"/>
              </a:rPr>
              <a:t>5 E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kstniOkvir 3"/>
          <p:cNvSpPr/>
          <p:nvPr/>
        </p:nvSpPr>
        <p:spPr>
          <a:xfrm>
            <a:off x="1214280" y="257184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Zahvaljujem na pozornosti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kstniOkvir 5"/>
          <p:cNvSpPr/>
          <p:nvPr/>
        </p:nvSpPr>
        <p:spPr>
          <a:xfrm>
            <a:off x="214200" y="2286000"/>
            <a:ext cx="8358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kstniOkvir 6"/>
          <p:cNvSpPr/>
          <p:nvPr/>
        </p:nvSpPr>
        <p:spPr>
          <a:xfrm>
            <a:off x="2143080" y="4714920"/>
            <a:ext cx="600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Mirela Lekić, dipl. pedag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e- mail: </a:t>
            </a:r>
            <a:r>
              <a:rPr b="0" lang="hr-HR" sz="2400" spc="-1" strike="noStrike" u="sng">
                <a:solidFill>
                  <a:srgbClr val="b292ca"/>
                </a:solidFill>
                <a:uFillTx/>
                <a:latin typeface="Arial"/>
                <a:hlinkClick r:id="rId2"/>
              </a:rPr>
              <a:t>obrazovanje@hok.hr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</a:rPr>
              <a:t>tel: 01/4806 6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kstniOkvir 5"/>
          <p:cNvSpPr/>
          <p:nvPr/>
        </p:nvSpPr>
        <p:spPr>
          <a:xfrm>
            <a:off x="214200" y="2286000"/>
            <a:ext cx="8358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kstniOkvir 7"/>
          <p:cNvSpPr/>
          <p:nvPr/>
        </p:nvSpPr>
        <p:spPr>
          <a:xfrm>
            <a:off x="785880" y="185724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Student će koristiti i obrazložiti izbor nastavne tehnologije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kcijski gumb: Povratak 8">
            <a:hlinkClick r:id="rId2" action="ppaction://hlinksldjump"/>
          </p:cNvPr>
          <p:cNvSpPr/>
          <p:nvPr/>
        </p:nvSpPr>
        <p:spPr>
          <a:xfrm>
            <a:off x="5429160" y="2643120"/>
            <a:ext cx="1071720" cy="428760"/>
          </a:xfrm>
          <a:custGeom>
            <a:avLst/>
            <a:gdLst>
              <a:gd name="textAreaLeft" fmla="*/ 27720 w 1071720"/>
              <a:gd name="textAreaRight" fmla="*/ 1044000 w 10717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64" h="21600">
                <a:moveTo>
                  <a:pt x="0" y="0"/>
                </a:moveTo>
                <a:lnTo>
                  <a:pt x="53964" y="0"/>
                </a:lnTo>
                <a:lnTo>
                  <a:pt x="53964" y="21600"/>
                </a:lnTo>
                <a:lnTo>
                  <a:pt x="0" y="21600"/>
                </a:lnTo>
                <a:close/>
              </a:path>
              <a:path fill="lightenLess" w="53964" h="21600">
                <a:moveTo>
                  <a:pt x="0" y="0"/>
                </a:moveTo>
                <a:lnTo>
                  <a:pt x="53964" y="0"/>
                </a:lnTo>
                <a:lnTo>
                  <a:pt x="52564" y="1400"/>
                </a:lnTo>
                <a:lnTo>
                  <a:pt x="1400" y="1400"/>
                </a:lnTo>
                <a:close/>
              </a:path>
              <a:path fill="darken" w="53964" h="21600">
                <a:moveTo>
                  <a:pt x="53964" y="0"/>
                </a:moveTo>
                <a:lnTo>
                  <a:pt x="53964" y="21600"/>
                </a:lnTo>
                <a:lnTo>
                  <a:pt x="52564" y="20200"/>
                </a:lnTo>
                <a:lnTo>
                  <a:pt x="52564" y="1400"/>
                </a:lnTo>
                <a:close/>
              </a:path>
              <a:path fill="darkenLess" w="53964" h="21600">
                <a:moveTo>
                  <a:pt x="53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64" y="20200"/>
                </a:lnTo>
                <a:close/>
              </a:path>
              <a:path fill="lighten" w="53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64" h="21600">
                <a:moveTo>
                  <a:pt x="19975" y="7493"/>
                </a:moveTo>
                <a:lnTo>
                  <a:pt x="23483" y="7493"/>
                </a:lnTo>
                <a:lnTo>
                  <a:pt x="23483" y="12828"/>
                </a:lnTo>
                <a:cubicBezTo>
                  <a:pt x="23483" y="13751"/>
                  <a:pt x="24284" y="14482"/>
                  <a:pt x="25319" y="14482"/>
                </a:cubicBezTo>
                <a:lnTo>
                  <a:pt x="26982" y="14482"/>
                </a:lnTo>
                <a:cubicBezTo>
                  <a:pt x="28018" y="14482"/>
                  <a:pt x="28818" y="13751"/>
                  <a:pt x="28818" y="12828"/>
                </a:cubicBezTo>
                <a:lnTo>
                  <a:pt x="28818" y="7493"/>
                </a:lnTo>
                <a:lnTo>
                  <a:pt x="26982" y="7493"/>
                </a:lnTo>
                <a:lnTo>
                  <a:pt x="30489" y="3985"/>
                </a:lnTo>
                <a:lnTo>
                  <a:pt x="34162" y="7493"/>
                </a:lnTo>
                <a:lnTo>
                  <a:pt x="32326" y="7493"/>
                </a:lnTo>
                <a:lnTo>
                  <a:pt x="32326" y="12828"/>
                </a:lnTo>
                <a:cubicBezTo>
                  <a:pt x="32326" y="15596"/>
                  <a:pt x="29750" y="18155"/>
                  <a:pt x="26982" y="18155"/>
                </a:cubicBezTo>
                <a:lnTo>
                  <a:pt x="25319" y="18155"/>
                </a:lnTo>
                <a:cubicBezTo>
                  <a:pt x="22552" y="18155"/>
                  <a:pt x="19975" y="15596"/>
                  <a:pt x="19975" y="12828"/>
                </a:cubicBezTo>
                <a:close/>
              </a:path>
            </a:pathLst>
          </a:cu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kstniOkvir 5"/>
          <p:cNvSpPr/>
          <p:nvPr/>
        </p:nvSpPr>
        <p:spPr>
          <a:xfrm>
            <a:off x="214200" y="2286000"/>
            <a:ext cx="8358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kstniOkvir 7"/>
          <p:cNvSpPr/>
          <p:nvPr/>
        </p:nvSpPr>
        <p:spPr>
          <a:xfrm>
            <a:off x="785880" y="1857240"/>
            <a:ext cx="7358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Student će samostalno koristiti i obrazložiti izbor nastavne tehnologije za planirani sat matematike u prvom razredu o.š. , preuzimajući odgovornost za izvršenje izvedbenim planom planiranih zadać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kcijski gumb: Povratak 6">
            <a:hlinkClick r:id="rId2" action="ppaction://hlinksldjump"/>
          </p:cNvPr>
          <p:cNvSpPr/>
          <p:nvPr/>
        </p:nvSpPr>
        <p:spPr>
          <a:xfrm>
            <a:off x="7286760" y="428616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5139" y="7493"/>
                </a:moveTo>
                <a:lnTo>
                  <a:pt x="8647" y="7493"/>
                </a:lnTo>
                <a:lnTo>
                  <a:pt x="8647" y="12828"/>
                </a:lnTo>
                <a:cubicBezTo>
                  <a:pt x="8647" y="13751"/>
                  <a:pt x="9448" y="14482"/>
                  <a:pt x="10483" y="14482"/>
                </a:cubicBezTo>
                <a:lnTo>
                  <a:pt x="12146" y="14482"/>
                </a:lnTo>
                <a:cubicBezTo>
                  <a:pt x="13181" y="14482"/>
                  <a:pt x="13982" y="13751"/>
                  <a:pt x="13982" y="12828"/>
                </a:cubicBezTo>
                <a:lnTo>
                  <a:pt x="13982" y="7493"/>
                </a:lnTo>
                <a:lnTo>
                  <a:pt x="12146" y="7493"/>
                </a:lnTo>
                <a:lnTo>
                  <a:pt x="15653" y="3985"/>
                </a:lnTo>
                <a:lnTo>
                  <a:pt x="19326" y="7493"/>
                </a:lnTo>
                <a:lnTo>
                  <a:pt x="17490" y="7493"/>
                </a:lnTo>
                <a:lnTo>
                  <a:pt x="17490" y="12828"/>
                </a:lnTo>
                <a:cubicBezTo>
                  <a:pt x="17490" y="15596"/>
                  <a:pt x="14914" y="18155"/>
                  <a:pt x="12146" y="18155"/>
                </a:cubicBezTo>
                <a:lnTo>
                  <a:pt x="10483" y="18155"/>
                </a:lnTo>
                <a:cubicBezTo>
                  <a:pt x="7716" y="18155"/>
                  <a:pt x="5139" y="15596"/>
                  <a:pt x="5139" y="12828"/>
                </a:cubicBezTo>
                <a:close/>
              </a:path>
            </a:pathLst>
          </a:cu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kstniOkvir 1"/>
          <p:cNvSpPr/>
          <p:nvPr/>
        </p:nvSpPr>
        <p:spPr>
          <a:xfrm>
            <a:off x="1000080" y="1000080"/>
            <a:ext cx="7429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Pojam i razvojne karakteristike. Genetski i vanjski činitelji razvoja u djetinjstvu i mladenaštvu. Razvojne osobine i funkcije: tjelesne, kognitivne, emocionalne i socijalne. Tipologija i diferencijacija u formiranju identiteta: zrenje, razvoj, socijalizacija, odgoj. Odgojno-obrazovno značenje, mogućnosti i načini pedagoške intervencije. Dijete i djetinjstvo; mladi i mladenaštvo: okolinski i životni svijet. Socijalnoekološki činitelji i odgojni utjecaji u kasnom djetinjstvu i mladenaštvu: obitelj, škola, crkva, slobod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vrijeme, mediji, vršnjačke skupine. Kultura, supkultura, kontrakultura, alternativna kultura i životni stilovi mladih kao polje pedagoškog djelovanja. Razvojne-pedagoške teškoće, smetnje i intervenci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Pedagoška povijest djetinjstva i mladenaštva. Pedagogija djetinjstva i mladenaštva: predmet, sadržaj, istraživanje i polje praktičnog djelovan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kstniOkvir 3"/>
          <p:cNvSpPr/>
          <p:nvPr/>
        </p:nvSpPr>
        <p:spPr>
          <a:xfrm>
            <a:off x="214200" y="1285920"/>
            <a:ext cx="86439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shodi učenja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kon prezentacije svi će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vesti i prepoznati osnovna svojstva ishoda učenja na primjer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bjasniti način zapisivanja ishoda uč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vesti pravila ispravnog zapisivanja ishoda uč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epoznati primjer dobrog i lošeg načina zapisivanja ishoda uč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zapisati ishode učenja zadanog jediničnog skup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kstniOkvir 3"/>
          <p:cNvSpPr/>
          <p:nvPr/>
        </p:nvSpPr>
        <p:spPr>
          <a:xfrm>
            <a:off x="642960" y="121428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Zašto baš naglasak na ishodima učenj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kvir 4"/>
          <p:cNvSpPr/>
          <p:nvPr/>
        </p:nvSpPr>
        <p:spPr>
          <a:xfrm>
            <a:off x="357120" y="2143080"/>
            <a:ext cx="8358120" cy="4143600"/>
          </a:xfrm>
          <a:prstGeom prst="pi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kstniOkvir 5"/>
          <p:cNvSpPr/>
          <p:nvPr/>
        </p:nvSpPr>
        <p:spPr>
          <a:xfrm>
            <a:off x="1000080" y="2786040"/>
            <a:ext cx="700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kompetencijski pris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novi pristup obrazovn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programir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bolje razumijevanje kompetencija ko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će se razviti nakon u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kstniOkvir 3"/>
          <p:cNvSpPr/>
          <p:nvPr/>
        </p:nvSpPr>
        <p:spPr>
          <a:xfrm>
            <a:off x="642960" y="121428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Jasno opisani ishodi u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kvir 4"/>
          <p:cNvSpPr/>
          <p:nvPr/>
        </p:nvSpPr>
        <p:spPr>
          <a:xfrm>
            <a:off x="357120" y="2143080"/>
            <a:ext cx="8358120" cy="4143600"/>
          </a:xfrm>
          <a:prstGeom prst="pi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kstniOkvir 5"/>
          <p:cNvSpPr/>
          <p:nvPr/>
        </p:nvSpPr>
        <p:spPr>
          <a:xfrm>
            <a:off x="1000080" y="2786040"/>
            <a:ext cx="700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jasno i određeno koje kompetencije m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imati osob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aktivnosti – kojima će ih razv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vrijeme potrebno za stjec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način vrednovanja (metode postignuć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kstniOkvir 3"/>
          <p:cNvSpPr/>
          <p:nvPr/>
        </p:nvSpPr>
        <p:spPr>
          <a:xfrm>
            <a:off x="642960" y="121428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Pristup temeljen na ishod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Okvir 4"/>
          <p:cNvSpPr/>
          <p:nvPr/>
        </p:nvSpPr>
        <p:spPr>
          <a:xfrm>
            <a:off x="357120" y="2143080"/>
            <a:ext cx="8358120" cy="4143600"/>
          </a:xfrm>
          <a:prstGeom prst="pi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kstniOkvir 5"/>
          <p:cNvSpPr/>
          <p:nvPr/>
        </p:nvSpPr>
        <p:spPr>
          <a:xfrm>
            <a:off x="1000080" y="2786040"/>
            <a:ext cx="700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tradicionalan način – temeljen na sadržaju, usmjeren na nastavnika i sadrž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ishodi – orijentiran na ciljeve (mjerljivi rezultati učenj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učenik/student – integralni dio obrazovnog procesa  (sudion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kstniOkvir 3"/>
          <p:cNvSpPr/>
          <p:nvPr/>
        </p:nvSpPr>
        <p:spPr>
          <a:xfrm>
            <a:off x="642960" y="121428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</a:rPr>
              <a:t>Kome sve pomažu ishodi učenj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kvir 4"/>
          <p:cNvSpPr/>
          <p:nvPr/>
        </p:nvSpPr>
        <p:spPr>
          <a:xfrm>
            <a:off x="357120" y="2143080"/>
            <a:ext cx="8358120" cy="4143600"/>
          </a:xfrm>
          <a:prstGeom prst="pi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kstniOkvir 5"/>
          <p:cNvSpPr/>
          <p:nvPr/>
        </p:nvSpPr>
        <p:spPr>
          <a:xfrm>
            <a:off x="1000080" y="2786040"/>
            <a:ext cx="7000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pojedin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nastavn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ustanovama koje će provjeravati kvalit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i koje će vrednovati ishode u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poslodavcima (tržištu ra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roditelj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bični oblačić 6"/>
          <p:cNvSpPr/>
          <p:nvPr/>
        </p:nvSpPr>
        <p:spPr>
          <a:xfrm>
            <a:off x="1214280" y="1143000"/>
            <a:ext cx="5286600" cy="2571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kstniOkvir 8"/>
          <p:cNvSpPr/>
          <p:nvPr/>
        </p:nvSpPr>
        <p:spPr>
          <a:xfrm>
            <a:off x="2071800" y="1785960"/>
            <a:ext cx="4000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shodi učenja – osnovni element svake kvalif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bični oblačić 9"/>
          <p:cNvSpPr/>
          <p:nvPr/>
        </p:nvSpPr>
        <p:spPr>
          <a:xfrm>
            <a:off x="5214960" y="3429000"/>
            <a:ext cx="3643200" cy="2571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3df125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kstniOkvir 10"/>
          <p:cNvSpPr/>
          <p:nvPr/>
        </p:nvSpPr>
        <p:spPr>
          <a:xfrm>
            <a:off x="5786280" y="4143240"/>
            <a:ext cx="264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Jedinični skup ishoda u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bični oblačić 11"/>
          <p:cNvSpPr/>
          <p:nvPr/>
        </p:nvSpPr>
        <p:spPr>
          <a:xfrm>
            <a:off x="785880" y="4572000"/>
            <a:ext cx="3429000" cy="1928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c0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kstniOkvir 12"/>
          <p:cNvSpPr/>
          <p:nvPr/>
        </p:nvSpPr>
        <p:spPr>
          <a:xfrm>
            <a:off x="1643040" y="5072040"/>
            <a:ext cx="235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Modul ishoda u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HKO_logo"/>
          <p:cNvPicPr/>
          <p:nvPr/>
        </p:nvPicPr>
        <p:blipFill>
          <a:blip r:embed="rId1"/>
          <a:stretch/>
        </p:blipFill>
        <p:spPr>
          <a:xfrm>
            <a:off x="179280" y="189000"/>
            <a:ext cx="1214640" cy="85716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1285920" y="42876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bcaba5"/>
                </a:solidFill>
                <a:latin typeface="Arial"/>
                <a:ea typeface="Times New Roman"/>
              </a:rPr>
              <a:t>Hrvatski kvalifikacijski okv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kstniOkvir 3"/>
          <p:cNvSpPr/>
          <p:nvPr/>
        </p:nvSpPr>
        <p:spPr>
          <a:xfrm>
            <a:off x="285840" y="1285920"/>
            <a:ext cx="8501040" cy="65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Magistar pedagogije – 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nastavnički smjer (360 EC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   </a:t>
            </a:r>
            <a:r>
              <a:rPr b="1" lang="hr-H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7.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pća didaktika (5 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  </a:t>
            </a:r>
            <a:r>
              <a:rPr b="1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Nakon učenja student ć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avilno interpretirati temeljne pojmove didaktike uz povremeno korištenje udžbe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opisati i interpretirati različite didaktičke teorije, škole, pravce i mod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6:18:42Z</dcterms:created>
  <dc:creator>Mile Dzelalija</dc:creator>
  <dc:description/>
  <dc:language>en-US</dc:language>
  <cp:lastModifiedBy>Andreja Marcetić</cp:lastModifiedBy>
  <dcterms:modified xsi:type="dcterms:W3CDTF">2010-06-14T15:35:35Z</dcterms:modified>
  <cp:revision>516</cp:revision>
  <dc:subject/>
  <dc:title>Slide 1</dc:title>
</cp:coreProperties>
</file>