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9651-E062-430B-BFCD-18DD35FA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oju riječ biste u nastavku upotrijebili? Znati, moći, umjeti, biti sposobni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93A-1F6F-4B78-A6D1-E5D0B99D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78F-E5AC-40E8-A5BF-E20F3289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901-C69C-4693-B6C7-EDB30B3A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AB8-A6C3-44DB-8163-09C146D1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935-0A40-466F-878D-48E5798F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E99-0CE4-4FFB-97E9-272D5842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36E-563A-4198-83CE-4B23452C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2F1-F010-4D7B-94DC-3E14736D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C29-CAC3-4E2D-92B1-BA788046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F58-411C-4EE2-939D-E7809263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0DD-3407-42D4-B07A-CD66D68E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A3D-EBD7-4835-B1A9-2DB76D3D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238E-FA50-40AB-AC4D-02A0280A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80A3-C114-475A-BE78-E027863D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CEC-560B-4D92-AE95-8BA33B55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3B75-BAD1-4DF7-AB02-EF9A6C8F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1E5C-F8B9-433E-BBCE-42192F3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79F-F55B-44B9-BB34-85E3D3A8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2EB4-823A-4E7A-B9ED-A55880AB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4658-0580-4BAA-BE36-4496AD9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495C-B009-439D-9450-8126771B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B059-D956-4815-9508-EB79D147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570-FADA-499E-9176-2E16EBEE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5579-3ECF-4B5D-8025-9B8B4219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C47F-E958-43AF-833A-71AFE425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9E2B-80AD-4A9F-A751-CB84D3D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B446-5F51-4849-95DC-647EA38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A603-DD32-4524-A0E3-D7DDF815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0E75-660D-4671-A282-63761C97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1942-F074-4C62-A0F9-137BD21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6DE8-6AE7-4531-A166-4BAE20F8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AFB2-ABEB-4B79-82AA-CD64F247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F6CF-8148-43BA-897D-56987461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4F30-F3CE-4313-A941-27E13CB4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B4672-EFFA-40CA-A291-D160E0C9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D1D0-A3EC-4848-A037-636267BA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1FF97-4CC7-4A76-8E6C-973D23DC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F8FC-9659-4A29-B0A6-FB486BBC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F71D-30E4-4143-A631-C8BEFA55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39FA-9AA8-45E7-8E22-4C7C19A9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D5BE-3806-48DC-BD35-8D23B4BA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6059-73F9-4EEC-A169-9495DAA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F191-FC54-4E91-B661-6AED6301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8CF5-D74F-4110-9B36-7F980E76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2D44-AC91-4CA0-8829-5B5FD39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4358A-F96E-4359-ACF0-BDFCA0C9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12CF-0213-44BC-846B-54C32853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F087-FFCD-412F-85ED-8247419D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757E-982B-4FEB-A335-CC071751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D4A3-181E-4CB4-9519-ADC37385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4F85-1170-4E43-AFA0-B12ECD8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7A13D-A66A-4A26-9A9F-5F10E47A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F5135-4BDB-4612-A946-BAC6E23F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1DAD-AA0A-4B60-9977-9682CE87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83004-C8CD-45CB-9D10-C2B38D20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5F29-69BA-4644-9BF0-7FF2F620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84DE6-C12D-458D-B048-63BF7413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A604-C0F8-49DD-92CA-BC1560C1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08AC2-0F8C-4D38-81D6-2FB669B9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5B174-7557-40E7-9A14-91ACBA44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7DD5-71F3-462A-BF4C-3EA54DFE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823DA-59C0-4128-940D-4AC801E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C2C70-6121-4950-8A94-B4CF223B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FF66-5C44-4202-95A3-76D78237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47DF-08DE-4EB4-B0CD-B9DC893F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6AE57-0443-4577-8D49-2C846D0D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4574-D010-41F3-9D8E-FC757FD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01AA-C3EC-4934-AF52-8899463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0F125-E4B9-408F-93FE-E8D80DD0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F6CE5-EB04-4ADA-99F3-92055B1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06FC-A620-48F2-9627-4F0C55F0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36F3-EF95-40DC-8B1D-FC201F11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A760-DCA7-4BC1-9D84-FF85170C9F8F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612B-5C0D-4DE0-89CC-29BB18EF2F3D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4FA1-A700-4475-970C-AD61E5E35BFF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687-6395-49F0-AEDE-CB6156ED5BC0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1BE1-AC66-411F-B991-73F84CE5E3B5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A35-B0CE-403B-A893-9B7003F61092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Menad&#382;er" TargetMode="External"/><Relationship Id="rId2" Type="http://schemas.openxmlformats.org/officeDocument/2006/relationships/hyperlink" Target="http://hr.wikipedia.org/wiki/Strategija_u_ekonomiji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3428640"/>
            <a:ext cx="79930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Odgovornost – stanje i perspektiva provedbom HKO-a</a:t>
            </a:r>
            <a:br>
              <a:rPr sz="2800"/>
            </a:b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Mihaela Dubravac Šigir, prof. </a:t>
            </a:r>
            <a:br>
              <a:rPr sz="1800"/>
            </a:br>
            <a:r>
              <a:rPr b="0" lang="hr-HR" sz="1800" spc="-1" strike="noStrike">
                <a:solidFill>
                  <a:srgbClr val="000099"/>
                </a:solidFill>
                <a:latin typeface="Arial"/>
              </a:rPr>
              <a:t>Ministarstvo znanosti, obrazovanja i športa</a:t>
            </a:r>
            <a:r>
              <a:rPr b="0" lang="hr-HR" sz="28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79930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Zagreb, 11. ožujka 20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755640" y="3500280"/>
            <a:ext cx="8209080" cy="14986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755640" y="5157720"/>
            <a:ext cx="82090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755640" y="3429000"/>
            <a:ext cx="216000" cy="14986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55640" y="501336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42884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HKO_logo"/>
          <p:cNvPicPr/>
          <p:nvPr/>
        </p:nvPicPr>
        <p:blipFill>
          <a:blip r:embed="rId1"/>
          <a:stretch/>
        </p:blipFill>
        <p:spPr>
          <a:xfrm>
            <a:off x="250920" y="260280"/>
            <a:ext cx="10000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Organiziranje i funkcioniranje sustava – kakvo može biti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Optimalno ili …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podrazumijeva postavljene ciljeve i ishod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njihovo ostvarivanje pomoću provedbe aktivnosti i zadać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kompetentnih osob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000099"/>
                </a:solidFill>
                <a:latin typeface="Arial"/>
              </a:rPr>
              <a:t>Za uspješno ostvarenje – potrebno i osiguravanje </a:t>
            </a:r>
            <a:r>
              <a:rPr b="1" lang="hr-HR" sz="2600" spc="-1" strike="noStrike">
                <a:solidFill>
                  <a:srgbClr val="000099"/>
                </a:solidFill>
                <a:latin typeface="Arial"/>
              </a:rPr>
              <a:t>pouzdanosti, a za pouzdanost rezultata sustava potrebna je i…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2" descr="HKO_logo"/>
          <p:cNvPicPr/>
          <p:nvPr/>
        </p:nvPicPr>
        <p:blipFill>
          <a:blip r:embed="rId1"/>
          <a:stretch/>
        </p:blipFill>
        <p:spPr>
          <a:xfrm>
            <a:off x="8172360" y="616572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Vrednovanje kvalifikacijskog sustava</a:t>
            </a: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- temeljem analiza </a:t>
            </a:r>
            <a:br>
              <a:rPr sz="2800"/>
            </a:br>
            <a:r>
              <a:rPr b="0" lang="hr-HR" sz="28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99"/>
                </a:solidFill>
                <a:latin typeface="Gill Sans MT"/>
              </a:rPr>
              <a:t>SWOT analiza –</a:t>
            </a: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  u nizu instrumenata koje npr.</a:t>
            </a:r>
            <a:r>
              <a:rPr b="0" lang="hr-HR" sz="22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manager</a:t>
            </a: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 može koristiti u kreiranju </a:t>
            </a:r>
            <a:r>
              <a:rPr b="0" lang="hr-HR" sz="22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strategije</a:t>
            </a: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, kvalitativna analitička metoda kroz </a:t>
            </a:r>
            <a:r>
              <a:rPr b="1" lang="hr-HR" sz="2200" spc="-1" strike="noStrike">
                <a:solidFill>
                  <a:srgbClr val="000099"/>
                </a:solidFill>
                <a:latin typeface="Gill Sans MT"/>
              </a:rPr>
              <a:t>4</a:t>
            </a: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 čimbenika prikazuje </a:t>
            </a:r>
            <a:r>
              <a:rPr b="1" lang="hr-HR" sz="2200" spc="-1" strike="noStrike">
                <a:solidFill>
                  <a:srgbClr val="000099"/>
                </a:solidFill>
                <a:latin typeface="Gill Sans MT"/>
              </a:rPr>
              <a:t>snage, slabosti, prilike i prijetnje</a:t>
            </a: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Ujedno je i subjektivna metoda, jednostavna, brza, primjenjiva u različitim uvjeti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Moguća primjena i na današnji rad – koja svrha? što je dobit?kome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Gill Sans MT"/>
              </a:rPr>
              <a:t>Uspješnija provedba HKO-a, pokazatelj kvalitete, jačanje odgovornosti, pouzdanosti i suradnje, nositeljima projekta, korisnicima projekta….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8" name="Picture 2" descr="HKO_logo"/>
          <p:cNvPicPr/>
          <p:nvPr/>
        </p:nvPicPr>
        <p:blipFill>
          <a:blip r:embed="rId3"/>
          <a:stretch/>
        </p:blipFill>
        <p:spPr>
          <a:xfrm>
            <a:off x="7093080" y="5300640"/>
            <a:ext cx="6840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Primjena na Kvalifikacijskom sustavu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S – STRENGHTS</a:t>
            </a: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i="1" lang="hr-HR" sz="2400" spc="-1" strike="noStrike">
                <a:solidFill>
                  <a:srgbClr val="0099ff"/>
                </a:solidFill>
                <a:latin typeface="Arial"/>
              </a:rPr>
              <a:t>SNAGA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vedba reformskih procesa s misij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novosnovana, stručna tijela i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nstitucije podrške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strateški dokumenti,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ovećano ciljano ulaganje….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entuzijazam i predanost ljudi projektu HKO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buhvatna uključenosti dionik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rovedba zadaća u rokovim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Podrška Vla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Primjena na Kvalifikacijskom sustavu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W- WEAKNESSES/</a:t>
            </a:r>
            <a:r>
              <a:rPr b="1" i="1" lang="hr-HR" sz="2400" spc="-1" strike="noStrike">
                <a:solidFill>
                  <a:srgbClr val="0099ff"/>
                </a:solidFill>
                <a:latin typeface="Arial"/>
              </a:rPr>
              <a:t>SLAB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dostatne baze podatak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utvrđeni nacionalni indikatori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dovoljno razvijen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adzor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iska stopa završavanja visokog obrazovanj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dovoljni kapaciteti za provedbu strategij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razvijene metode i instrumenti za provedbu strategija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ustav osiguranja kvalitete nije jedinstven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Veliki obujam posla za raspoložive kapacitete na HKO-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HKO_logo"/>
          <p:cNvPicPr/>
          <p:nvPr/>
        </p:nvPicPr>
        <p:blipFill>
          <a:blip r:embed="rId1"/>
          <a:stretch/>
        </p:blipFill>
        <p:spPr>
          <a:xfrm>
            <a:off x="7596360" y="5877000"/>
            <a:ext cx="68400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Bookman Old Style"/>
              </a:rPr>
              <a:t>I…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O- OPPORTUNITIES/</a:t>
            </a:r>
            <a:r>
              <a:rPr b="1" i="1" lang="hr-HR" sz="2000" spc="-1" strike="noStrike">
                <a:solidFill>
                  <a:srgbClr val="0099ff"/>
                </a:solidFill>
                <a:latin typeface="Arial"/>
              </a:rPr>
              <a:t>PRILIK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započet proces izrade HKO-a,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ovoustanovljena partnerstv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osiguravanje preduvjeta za povezivanje obrazovanja s tržištem rad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jačanje svijesti o značaju obrazovanosti stanovništva…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Iskazani interes javnosti za HK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Regionalno pozicioniranje i prepoznatost HKO projek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eđunarodna podrška i surad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repoznat značaj HKO-a i ulog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oticanje mobilnost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6" name="Picture 2" descr="HKO_logo"/>
          <p:cNvPicPr/>
          <p:nvPr/>
        </p:nvPicPr>
        <p:blipFill>
          <a:blip r:embed="rId1"/>
          <a:stretch/>
        </p:blipFill>
        <p:spPr>
          <a:xfrm>
            <a:off x="7667640" y="566100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Bookman Old Style"/>
              </a:rPr>
              <a:t>I…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T- THREATS/</a:t>
            </a:r>
            <a:r>
              <a:rPr b="1" i="1" lang="hr-HR" sz="2000" spc="-1" strike="noStrike">
                <a:solidFill>
                  <a:srgbClr val="0099ff"/>
                </a:solidFill>
                <a:latin typeface="Arial"/>
              </a:rPr>
              <a:t>PRIJET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dovoljna strateška, zakonodavna, financijska usklađenost i suradnja na nacionalnoj razini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dovoljna uključenost lokalne razine vlasti u planiranje i provedbu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ukupni socio- ekonomski kontekst…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jednak udio interesa i potpore dionika na provedbi HK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ogući sukob interesa koji može usporiti pro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riza društva i zamor od reform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epriznavanje/neporepoznavanje prvostupnika na tržištu rada…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Gdje se sve krije pouzdanost i odgovornost, na što sve utječe, kakav je predznak, 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PRONAĐITE?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Franklin Gothic Medium"/>
              </a:rPr>
              <a:t>SNAGE -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Franklin Gothic Medium"/>
              </a:rPr>
              <a:t>SLABOSTI -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Franklin Gothic Medium"/>
              </a:rPr>
              <a:t>PRILIKE -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Franklin Gothic Medium"/>
              </a:rPr>
              <a:t>PRIJETNJE - 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Temeljni problemi s ranijih predstavljanja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Razumijevanje odgovornosti i samostalnost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Prosudba područja djelovanja vanjskih ocjenjivača kvalite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Prosudba metodologije (predodžba) r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Značaj uloge vanjskih ocjenjivač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Kompetencije vanjskih ocjenjivač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Značaj kurikuluma u sustavu osiguranja kvalite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ogući utjecaji provedbe Hrvatskoga kvalifikacijskog okvira na NKS, društvo, pojedinca 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Bitan uvjet za uređenje sustava cjeloživotnoga učenja koje čini okosnicu društva znanja i socijalne uključivosti – 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veznica s EKO – 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Mobilnost građana, radne snage i korisnika sustava – 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vezivanje obrazovanja i tržišta rada – 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većana razina socijalne sigurnosti osoba i društva –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dizanje kvalitete zapošljavanja –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dizanje razine obrazovanja –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Humanizacija i ekonomičnost obrazovanja –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većana pouzdanost u NKS –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99"/>
                </a:solidFill>
                <a:latin typeface="Franklin Gothic Demi"/>
              </a:rPr>
              <a:t>Povećana razina odgovornosti pojedinaca i društva - kak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Franklin Gothic Demi"/>
              </a:rPr>
              <a:t>Odgovore potražite u Priručniku i Polaznim osnovama…ili pokušaj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258920" y="1628640"/>
            <a:ext cx="59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Gill Sans MT"/>
              </a:rPr>
              <a:t>http://www.</a:t>
            </a:r>
            <a:r>
              <a:rPr b="1" lang="hr-HR" sz="2600" spc="-1" strike="noStrike">
                <a:solidFill>
                  <a:srgbClr val="000099"/>
                </a:solidFill>
                <a:latin typeface="Gill Sans MT"/>
              </a:rPr>
              <a:t>mzos</a:t>
            </a:r>
            <a:r>
              <a:rPr b="1" lang="en-US" sz="2600" spc="-1" strike="noStrike">
                <a:solidFill>
                  <a:srgbClr val="000099"/>
                </a:solidFill>
                <a:latin typeface="Gill Sans MT"/>
              </a:rPr>
              <a:t>.h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11280" y="3068640"/>
            <a:ext cx="7943760" cy="24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telefon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+385 (1) </a:t>
            </a: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4569 000; 4594 444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fa</a:t>
            </a: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ks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: 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+385 (1) </a:t>
            </a: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4594 30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e-</a:t>
            </a: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pošta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1" lang="hr-HR" sz="2000" spc="-1" strike="noStrike" u="sng">
                <a:solidFill>
                  <a:srgbClr val="000099"/>
                </a:solidFill>
                <a:uFillTx/>
                <a:latin typeface="Gill Sans MT"/>
              </a:rPr>
              <a:t>ured@mzos.h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Gill Sans MT"/>
              </a:rPr>
              <a:t>Donje Svetice 38</a:t>
            </a:r>
            <a:r>
              <a:rPr b="1" lang="en-US" sz="2000" spc="-1" strike="noStrike">
                <a:solidFill>
                  <a:srgbClr val="000099"/>
                </a:solidFill>
                <a:latin typeface="Gill Sans MT"/>
              </a:rPr>
              <a:t>, 10000 Zagre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2" descr="HKO_logo"/>
          <p:cNvPicPr/>
          <p:nvPr/>
        </p:nvPicPr>
        <p:blipFill>
          <a:blip r:embed="rId1"/>
          <a:stretch/>
        </p:blipFill>
        <p:spPr>
          <a:xfrm>
            <a:off x="611280" y="476280"/>
            <a:ext cx="1371600" cy="7999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2050920" y="620640"/>
            <a:ext cx="11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bcaba5"/>
                </a:solidFill>
                <a:latin typeface="Arial"/>
              </a:rPr>
              <a:t>Hrvatski </a:t>
            </a:r>
            <a:br>
              <a:rPr sz="1000"/>
            </a:br>
            <a:r>
              <a:rPr b="1" lang="hr-HR" sz="1000" spc="-1" strike="noStrike">
                <a:solidFill>
                  <a:srgbClr val="bcaba5"/>
                </a:solidFill>
                <a:latin typeface="Arial"/>
              </a:rPr>
              <a:t>kvalifikacijski okv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1347480"/>
            <a:ext cx="828036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shodi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(ili što ćete nakon ovoga rada …..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Objasniti odgovornost u kontekstu provedbe HKO-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Objasniti i koristiti sastavnice SWOT analize na hrvatskom odgojno-obrazovnom susta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repoznati i navesti mogućnosti utjecaja provedbe HKO-a 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pojedinca i društ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Okvirni sadrž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SWOT analiza sustava odgoja i obrazo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Kompetencija odgovor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Mogući utjecaji provedbe HKO-a na pojedinca i društ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25560" y="764640"/>
            <a:ext cx="6742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cc"/>
                </a:solidFill>
                <a:latin typeface="Bookman Old Style"/>
              </a:rPr>
              <a:t>Nacionalni KVALIFIKACIJSKI SUSTAVI, uključujući i hrvatski, obuhvaćaju:</a:t>
            </a: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596960" y="2596320"/>
            <a:ext cx="6167520" cy="213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7000"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00cc"/>
                </a:solidFill>
                <a:latin typeface="Gill Sans MT"/>
              </a:rPr>
              <a:t>Briga o</a:t>
            </a:r>
            <a:r>
              <a:rPr b="0" lang="hr-HR" sz="1200" spc="-1" strike="noStrike">
                <a:solidFill>
                  <a:srgbClr val="cc00cc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cc00cc"/>
                </a:solidFill>
                <a:latin typeface="Gill Sans MT"/>
              </a:rPr>
              <a:t>PRISTUPANJU obrazovanju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00cc"/>
                </a:solidFill>
                <a:latin typeface="Gill Sans MT"/>
              </a:rPr>
              <a:t>	</a:t>
            </a:r>
            <a:r>
              <a:rPr b="1" lang="hr-HR" sz="1200" spc="-1" strike="noStrike">
                <a:solidFill>
                  <a:srgbClr val="cc00cc"/>
                </a:solidFill>
                <a:latin typeface="Gill Sans MT"/>
              </a:rPr>
              <a:t>- dostupnost svima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99"/>
                </a:solidFill>
                <a:latin typeface="Gill Sans MT"/>
              </a:rPr>
              <a:t>Briga o</a:t>
            </a:r>
            <a:r>
              <a:rPr b="0" lang="hr-HR" sz="1200" spc="-1" strike="noStrike">
                <a:solidFill>
                  <a:srgbClr val="009999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009999"/>
                </a:solidFill>
                <a:latin typeface="Gill Sans MT"/>
              </a:rPr>
              <a:t>PROHODNOSTI kvalifikacijskog sustav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9999"/>
                </a:solidFill>
                <a:latin typeface="Gill Sans MT"/>
              </a:rPr>
              <a:t>optimalno korištenje resurs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0000"/>
                </a:solidFill>
                <a:latin typeface="Gill Sans MT"/>
              </a:rPr>
              <a:t>Briga o</a:t>
            </a:r>
            <a:r>
              <a:rPr b="0" lang="hr-HR" sz="12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cc0000"/>
                </a:solidFill>
                <a:latin typeface="Gill Sans MT"/>
              </a:rPr>
              <a:t>STJECANJu kvalifikacija            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0000"/>
                </a:solidFill>
                <a:latin typeface="Gill Sans MT"/>
              </a:rPr>
              <a:t>priznavanje drugih oblika učenj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99cc00"/>
                </a:solidFill>
                <a:latin typeface="Gill Sans MT"/>
              </a:rPr>
              <a:t>Briga o JASNOĆI kvalifikacijskog sustava –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99cc00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99cc00"/>
                </a:solidFill>
                <a:latin typeface="Gill Sans MT"/>
              </a:rPr>
              <a:t>razumljivo svima --polazište odgovornosti</a:t>
            </a:r>
            <a:r>
              <a:rPr b="1" lang="hr-HR" sz="1100" spc="-1" strike="noStrike">
                <a:solidFill>
                  <a:srgbClr val="99cc00"/>
                </a:solidFill>
                <a:latin typeface="Gill Sans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000099"/>
                </a:solidFill>
                <a:latin typeface="Gill Sans MT"/>
              </a:rPr>
              <a:t>Briga o</a:t>
            </a: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000099"/>
                </a:solidFill>
                <a:latin typeface="Gill Sans MT"/>
              </a:rPr>
              <a:t>KVALITETI kvalifikacija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99"/>
                </a:solidFill>
                <a:latin typeface="Gill Sans MT"/>
              </a:rPr>
              <a:t> – </a:t>
            </a:r>
            <a:r>
              <a:rPr b="1" lang="hr-HR" sz="1200" spc="-1" strike="noStrike">
                <a:solidFill>
                  <a:srgbClr val="000099"/>
                </a:solidFill>
                <a:latin typeface="Gill Sans MT"/>
              </a:rPr>
              <a:t>Održiva zapošljivos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1" lang="hr-HR" sz="1200" spc="-1" strike="noStrike">
                <a:solidFill>
                  <a:srgbClr val="000099"/>
                </a:solidFill>
                <a:latin typeface="Gill Sans MT"/>
              </a:rPr>
              <a:t>- Mobilnost građana - Socijalna uključenos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1773360"/>
            <a:ext cx="86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ovjeren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2" descr="HKO_logo"/>
          <p:cNvPicPr/>
          <p:nvPr/>
        </p:nvPicPr>
        <p:blipFill>
          <a:blip r:embed="rId1"/>
          <a:stretch/>
        </p:blipFill>
        <p:spPr>
          <a:xfrm>
            <a:off x="0" y="189000"/>
            <a:ext cx="684360" cy="5760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/>
          <p:cNvSpPr/>
          <p:nvPr/>
        </p:nvSpPr>
        <p:spPr>
          <a:xfrm>
            <a:off x="324000" y="1628640"/>
            <a:ext cx="863280" cy="3384720"/>
          </a:xfrm>
          <a:custGeom>
            <a:avLst/>
            <a:gdLst>
              <a:gd name="textAreaLeft" fmla="*/ 115560 w 863280"/>
              <a:gd name="textAreaRight" fmla="*/ 747720 w 863280"/>
              <a:gd name="textAreaTop" fmla="*/ 592200 h 3384720"/>
              <a:gd name="textAreaBottom" fmla="*/ 24541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7"/>
          <p:cNvSpPr/>
          <p:nvPr/>
        </p:nvSpPr>
        <p:spPr>
          <a:xfrm rot="14068800">
            <a:off x="5095800" y="2617200"/>
            <a:ext cx="4248000" cy="1838520"/>
          </a:xfrm>
          <a:custGeom>
            <a:avLst/>
            <a:gdLst>
              <a:gd name="textAreaLeft" fmla="*/ 743400 w 4248000"/>
              <a:gd name="textAreaRight" fmla="*/ 3079800 w 4248000"/>
              <a:gd name="textAreaTop" fmla="*/ 246240 h 1838520"/>
              <a:gd name="textAreaBottom" fmla="*/ 1592280 h 183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 rot="20176800">
            <a:off x="5438160" y="53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Arial"/>
              </a:rPr>
              <a:t>Ministar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9"/>
          <p:cNvSpPr/>
          <p:nvPr/>
        </p:nvSpPr>
        <p:spPr>
          <a:xfrm rot="20085000">
            <a:off x="5751720" y="2736360"/>
            <a:ext cx="1390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Posloda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5"/>
          <p:cNvSpPr/>
          <p:nvPr/>
        </p:nvSpPr>
        <p:spPr>
          <a:xfrm rot="20108400">
            <a:off x="7012080" y="1917720"/>
            <a:ext cx="172872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rednje šk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5"/>
          <p:cNvSpPr/>
          <p:nvPr/>
        </p:nvSpPr>
        <p:spPr>
          <a:xfrm>
            <a:off x="6588000" y="3500280"/>
            <a:ext cx="1513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Rod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"/>
          <p:cNvSpPr/>
          <p:nvPr/>
        </p:nvSpPr>
        <p:spPr>
          <a:xfrm rot="20335200">
            <a:off x="7670160" y="5589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Ko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6877080" y="48690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Visoka učiliš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85"/>
          <p:cNvSpPr/>
          <p:nvPr/>
        </p:nvSpPr>
        <p:spPr>
          <a:xfrm rot="20874000">
            <a:off x="7160400" y="1052640"/>
            <a:ext cx="1608120" cy="6426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Studenti, uč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85"/>
          <p:cNvSpPr/>
          <p:nvPr/>
        </p:nvSpPr>
        <p:spPr>
          <a:xfrm rot="1608600">
            <a:off x="4867200" y="2062440"/>
            <a:ext cx="108108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Udr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5"/>
          <p:cNvSpPr/>
          <p:nvPr/>
        </p:nvSpPr>
        <p:spPr>
          <a:xfrm>
            <a:off x="3851280" y="5805360"/>
            <a:ext cx="1441440" cy="36828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... i drugi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99"/>
                </a:solidFill>
                <a:latin typeface="Arial"/>
              </a:rPr>
              <a:t>Nacionalni kvalifikacijski sustav</a:t>
            </a:r>
            <a:r>
              <a:rPr b="1" lang="hr-HR" sz="2000" spc="-1" strike="noStrike">
                <a:solidFill>
                  <a:srgbClr val="000099"/>
                </a:solidFill>
                <a:latin typeface="Bookman Old Style"/>
              </a:rPr>
              <a:t> – NKS (</a:t>
            </a:r>
            <a:r>
              <a:rPr b="0" i="1" lang="hr-HR" sz="2000" spc="-1" strike="noStrike">
                <a:solidFill>
                  <a:srgbClr val="000099"/>
                </a:solidFill>
                <a:latin typeface="Bookman Old Style"/>
              </a:rPr>
              <a:t>NQS</a:t>
            </a:r>
            <a:r>
              <a:rPr b="0" lang="hr-HR" sz="2000" spc="-1" strike="noStrike">
                <a:solidFill>
                  <a:srgbClr val="000099"/>
                </a:solidFill>
                <a:latin typeface="Bookman Old Style"/>
              </a:rPr>
              <a:t>) </a:t>
            </a: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označava sve postupke i instrumente koji vode do priznavanja ishoda učenja u određenoj zemlji</a:t>
            </a:r>
            <a:r>
              <a:rPr b="1" lang="hr-HR" sz="1800" spc="-1" strike="noStrike">
                <a:solidFill>
                  <a:srgbClr val="46465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Rectangle 4"/>
          <p:cNvSpPr/>
          <p:nvPr/>
        </p:nvSpPr>
        <p:spPr>
          <a:xfrm flipV="1">
            <a:off x="755640" y="261720"/>
            <a:ext cx="73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611280" y="1341360"/>
            <a:ext cx="7777080" cy="4464000"/>
          </a:xfrm>
          <a:prstGeom prst="verticalScroll">
            <a:avLst>
              <a:gd name="adj" fmla="val 25000"/>
            </a:avLst>
          </a:prstGeom>
          <a:solidFill>
            <a:srgbClr val="ffff00">
              <a:alpha val="1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050920" y="1484280"/>
            <a:ext cx="583416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99"/>
                </a:solidFill>
                <a:latin typeface="Arial Rounded MT Bold"/>
              </a:rPr>
              <a:t>Kvalifikacija </a:t>
            </a: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je formalni naziv za skup kompetencija određeni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razina, obujma, profila i kvalitete, koja se dokazuje </a:t>
            </a: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svjedodžbom ili diplomom odnosno drugom javnom ispravom </a:t>
            </a: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hr-HR" sz="1200" spc="-1" strike="noStrike">
                <a:solidFill>
                  <a:srgbClr val="cc0000"/>
                </a:solidFill>
                <a:latin typeface="Arial"/>
              </a:rPr>
              <a:t>koju izdaje nadležna ustano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57200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 Rounded MT Bold"/>
              </a:rPr>
              <a:t>Ishodi u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ntent Placeholder 2"/>
          <p:cNvSpPr/>
          <p:nvPr/>
        </p:nvSpPr>
        <p:spPr>
          <a:xfrm>
            <a:off x="2268360" y="2708280"/>
            <a:ext cx="3276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 Rounded MT Bold"/>
                <a:ea typeface="Times New Roman"/>
              </a:rPr>
              <a:t>Kompet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908000" y="357336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</a:rPr>
              <a:t>njihova svojstv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RAZ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OBUJ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99"/>
                </a:solidFill>
                <a:latin typeface="Arial"/>
                <a:ea typeface="Arial"/>
              </a:rPr>
              <a:t>KVALITETA (2 dimenzij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1692360" y="5589720"/>
            <a:ext cx="541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Content Placeholder 2"/>
          <p:cNvSpPr/>
          <p:nvPr/>
        </p:nvSpPr>
        <p:spPr>
          <a:xfrm>
            <a:off x="468360" y="620640"/>
            <a:ext cx="8136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stavljena pitanja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amo li unutar Kvalifikacijskog susta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ihvatljivu povezanost između partner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drživu zapošljivo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timalno korištenje svih resursa u obrazovanj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ruštvenu uključivo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kretljivost i cjeloživotno učenje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Odgovorno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Pouzdano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 dru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2" descr="HKO_logo"/>
          <p:cNvPicPr/>
          <p:nvPr/>
        </p:nvPicPr>
        <p:blipFill>
          <a:blip r:embed="rId1"/>
          <a:stretch/>
        </p:blipFill>
        <p:spPr>
          <a:xfrm>
            <a:off x="7956720" y="6021360"/>
            <a:ext cx="68400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vojstvo kvalitete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(kompetencija/ishoda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Pored razine, obujma i profila, KVALITETA je osnovno svojstvo kompetencija / ishoda učenja / kvalifika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Kvalitetom se iskazuje </a:t>
            </a:r>
            <a:r>
              <a:rPr b="1" lang="hr-HR" sz="2600" spc="-1" strike="noStrike">
                <a:solidFill>
                  <a:srgbClr val="333399"/>
                </a:solidFill>
                <a:latin typeface="Arial"/>
              </a:rPr>
              <a:t>POUZDANOST</a:t>
            </a:r>
            <a:r>
              <a:rPr b="0" lang="hr-HR" sz="2600" spc="-1" strike="noStrike">
                <a:solidFill>
                  <a:srgbClr val="333399"/>
                </a:solidFill>
                <a:latin typeface="Arial"/>
              </a:rPr>
              <a:t> (razine, obujma i profila) kompetencija / ishoda učenja  /  kvalifikaci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333399"/>
                </a:solidFill>
                <a:latin typeface="Arial"/>
              </a:rPr>
              <a:t>Dvoznačnost  kvalitete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sobn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rjednovanje stečenih kompetenc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nstitucijska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vrjednovanje pouzdanosti postupka vrjednov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2" descr="HKO_logo"/>
          <p:cNvPicPr/>
          <p:nvPr/>
        </p:nvPicPr>
        <p:blipFill>
          <a:blip r:embed="rId1"/>
          <a:stretch/>
        </p:blipFill>
        <p:spPr>
          <a:xfrm>
            <a:off x="5724360" y="4005360"/>
            <a:ext cx="68436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Značaj svojstva kvalitete kompetencija/ishoda učenja=kvalifikacije</a:t>
            </a:r>
            <a:r>
              <a:rPr b="0" lang="hr-HR" sz="28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Gill Sans MT"/>
              </a:rPr>
              <a:t>Na osobnoj razini</a:t>
            </a:r>
            <a:r>
              <a:rPr b="0" lang="hr-HR" sz="2800" spc="-1" strike="noStrike">
                <a:solidFill>
                  <a:srgbClr val="000099"/>
                </a:solidFill>
                <a:latin typeface="Gill Sans MT"/>
              </a:rPr>
              <a:t> – koja su područja utjecaja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Gill Sans MT"/>
              </a:rPr>
              <a:t>Na institucijskoj razini</a:t>
            </a:r>
            <a:r>
              <a:rPr b="0" lang="hr-HR" sz="2800" spc="-1" strike="noStrike">
                <a:solidFill>
                  <a:srgbClr val="000099"/>
                </a:solidFill>
                <a:latin typeface="Gill Sans MT"/>
              </a:rPr>
              <a:t> – koja su područja utjecaj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ff0000"/>
                </a:solidFill>
                <a:latin typeface="Gill Sans MT"/>
              </a:rPr>
              <a:t>Za vježb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KO_logo"/>
          <p:cNvPicPr/>
          <p:nvPr/>
        </p:nvPicPr>
        <p:blipFill>
          <a:blip r:embed="rId1"/>
          <a:stretch/>
        </p:blipFill>
        <p:spPr>
          <a:xfrm>
            <a:off x="7524720" y="5661000"/>
            <a:ext cx="68436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Arial"/>
              </a:rPr>
              <a:t>Prisjetimo se…koristim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99"/>
                </a:solidFill>
                <a:latin typeface="Arial"/>
              </a:rPr>
              <a:t>Kompetencije </a:t>
            </a:r>
            <a:r>
              <a:rPr b="0" lang="hr-HR" sz="2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i="1" lang="hr-HR" sz="2600" spc="-1" strike="noStrike">
                <a:solidFill>
                  <a:srgbClr val="000099"/>
                </a:solidFill>
                <a:latin typeface="Arial"/>
              </a:rPr>
              <a:t>engl. Competences</a:t>
            </a:r>
            <a:r>
              <a:rPr b="0" lang="hr-HR" sz="2600" spc="-1" strike="noStrike">
                <a:solidFill>
                  <a:srgbClr val="000099"/>
                </a:solidFill>
                <a:latin typeface="Arial"/>
              </a:rPr>
              <a:t>) označavaju skup znanja i vještina, te </a:t>
            </a:r>
            <a:r>
              <a:rPr b="1" lang="hr-HR" sz="2600" spc="-1" strike="noStrike">
                <a:solidFill>
                  <a:srgbClr val="000099"/>
                </a:solidFill>
                <a:latin typeface="Arial"/>
              </a:rPr>
              <a:t>pripadajuću samostalnost i odgovornost.</a:t>
            </a:r>
            <a:r>
              <a:rPr b="0" lang="hr-HR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99"/>
                </a:solidFill>
                <a:latin typeface="Arial"/>
              </a:rPr>
              <a:t>Samostalnost, a osobito odgovornost, nije lako vrjednovati pa time ni ocjenjivat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99"/>
                </a:solidFill>
                <a:latin typeface="Arial"/>
              </a:rPr>
              <a:t>Stoga se samostalnost i odgovornost uvode tako da označavaju postignutu primjenu nekih konkretnih znanja i vještin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2" descr="HKO_logo"/>
          <p:cNvPicPr/>
          <p:nvPr/>
        </p:nvPicPr>
        <p:blipFill>
          <a:blip r:embed="rId1"/>
          <a:stretch/>
        </p:blipFill>
        <p:spPr>
          <a:xfrm>
            <a:off x="6012000" y="549360"/>
            <a:ext cx="68400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Bookman Old Style"/>
              </a:rPr>
              <a:t>Primj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Gill Sans MT"/>
              </a:rPr>
              <a:t>Ako neka osoba ima određeni skup činjeničnih i teorijskih znanja (odgovarajućega profila, razine i obujma), te spoznajne, psihomotoričke i socijalne vještine (opet u nekoj određenoj strukturi, složenosti i količini), na toj osnovi </a:t>
            </a:r>
            <a:r>
              <a:rPr b="1" i="1" lang="hr-HR" sz="2800" spc="-1" strike="noStrike">
                <a:solidFill>
                  <a:srgbClr val="000099"/>
                </a:solidFill>
                <a:latin typeface="Gill Sans MT"/>
              </a:rPr>
              <a:t>ima pravo na pripadajuću samostalnost</a:t>
            </a:r>
            <a:r>
              <a:rPr b="0" lang="hr-HR" sz="2600" spc="-1" strike="noStrike">
                <a:solidFill>
                  <a:srgbClr val="000099"/>
                </a:solidFill>
                <a:latin typeface="Gill Sans MT"/>
              </a:rPr>
              <a:t>, koja dalje uvodi </a:t>
            </a:r>
            <a:r>
              <a:rPr b="1" i="1" lang="hr-HR" sz="2800" spc="-1" strike="noStrike">
                <a:solidFill>
                  <a:srgbClr val="000099"/>
                </a:solidFill>
                <a:latin typeface="Gill Sans MT"/>
              </a:rPr>
              <a:t>odgovarajuću pripadnost razini za odgovornost,</a:t>
            </a:r>
            <a:r>
              <a:rPr b="0" lang="hr-HR" sz="2600" spc="-1" strike="noStrike">
                <a:solidFill>
                  <a:srgbClr val="000099"/>
                </a:solidFill>
                <a:latin typeface="Gill Sans MT"/>
              </a:rPr>
              <a:t> i obrnut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Gill Sans MT"/>
              </a:rPr>
              <a:t>Il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99"/>
                </a:solidFill>
                <a:latin typeface="Gill Sans MT"/>
              </a:rPr>
              <a:t>Na kojoj je razini samostalnost i odgovornost osobe koja ima kvalifikaciju razine 7 prema HKO-u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Gill Sans MT"/>
              </a:rPr>
              <a:t>Potražimo u opisnicama!Pročitajmo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Gill Sans MT"/>
              </a:rPr>
              <a:t>Procijenimo sebe i svoje radno okruženje!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2" descr="HKO_logo"/>
          <p:cNvPicPr/>
          <p:nvPr/>
        </p:nvPicPr>
        <p:blipFill>
          <a:blip r:embed="rId1"/>
          <a:stretch/>
        </p:blipFill>
        <p:spPr>
          <a:xfrm>
            <a:off x="8317080" y="5877000"/>
            <a:ext cx="68400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14T15:36:31Z</dcterms:modified>
  <cp:revision>454</cp:revision>
  <dc:subject/>
  <dc:title>Slide 1</dc:title>
</cp:coreProperties>
</file>