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686B-DF37-4302-946A-AD59D117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556C-C315-4FF3-BF1F-58DBAB8A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3436-5CB3-460A-A157-852DB244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F105-9A17-4198-9838-FDD39634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AEB5-5DE0-48BE-9438-9CB29D38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D0E8-64F1-4C8E-9759-4747E578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5BF4-A89E-4A3E-B15A-AA4171B5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BEFA-B6A3-43CD-9C49-7ECE8B22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DF61-875C-4D64-B58C-4FD615B6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2043-22C3-42E8-8378-7901CACC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FE52-F71B-4ACD-BD42-60C7ADA9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17A8-49F5-41AB-87FF-48412063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FD35-0C03-41B8-9E2C-EBBA28A7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B5FA-9383-462F-AADF-12B41C1E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6F1C-D924-442D-ADDE-8890BEBD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3CAC-58E8-4DB6-A4D6-9A11816F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2DA1-0662-48AE-A351-450AE45C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C9DBB-8C96-454C-A449-204753A1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921AB-E021-4756-BE17-FE178A9E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15ACE-115D-4F36-89CA-0715D778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06521-C552-4F7F-8DB2-E5B99771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91BAC-2A86-4491-8B86-B4026488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CE5C-FBE1-47B4-AF57-F77C223E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68B33-35AF-4CCD-AB68-8285A7E5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85AE4-3DCD-4E02-B1F7-9E7403D7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9D8F2-DA9B-41F2-8B17-5D7B828F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6A581-61C2-4F4F-805F-AC4B76E0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E5825-89A5-49B5-93B3-72329888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45D80-6E1D-44F5-9252-41811FD8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5E468-99B5-4559-B9E5-8D97812C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7039-7980-4691-9E5A-C13AFF70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5752-AFA6-4E91-8DB1-513659AE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D224-F354-4FF9-92FA-6CEA4426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D229-F1B0-41FC-9BE3-15FE5CA9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08B8-CDCD-4FBE-A102-4711E801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4F4F-61CF-4DEE-85DE-049E7E7A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B1ED-B6B8-4128-8D20-91CF9FEF3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3B25-15AE-4E70-BF4E-5E3FDB88F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4B2C-0FB2-4AF2-B7B0-FA00682DC3B0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99"/>
                </a:solidFill>
                <a:latin typeface="Tahoma"/>
              </a:rPr>
              <a:t>Developing speaking ski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does working with the following descriptors enable you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ing with the following descriptors enables you to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asure the progress you mak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allows you to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nd your own level of skil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vel of skill shortly to be reached.</a:t>
            </a: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lso a basis for recognition of language qualific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’s check what you can do with the languages you know or the languages that you are learn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A2 descrip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1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Slika 8" descr="31.3.jpg"/>
          <p:cNvPicPr/>
          <p:nvPr/>
        </p:nvPicPr>
        <p:blipFill>
          <a:blip r:embed="rId1"/>
          <a:stretch/>
        </p:blipFill>
        <p:spPr>
          <a:xfrm>
            <a:off x="1928880" y="2071800"/>
            <a:ext cx="461016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What does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 enable you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enables you to e.g. speak about subjects related to your field of interest; describe yourself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ive shor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as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scrip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events; describe your interests in a simple way;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scrib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sonal experienc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Tahoma"/>
              </a:rPr>
              <a:t>Computer visualisation of the campus in Split,</a:t>
            </a:r>
            <a:r>
              <a:rPr b="1" lang="hr-HR" sz="3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400" spc="-1" strike="noStrike">
                <a:solidFill>
                  <a:srgbClr val="333399"/>
                </a:solidFill>
                <a:latin typeface="Tahoma"/>
              </a:rPr>
              <a:t>Croatia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4" descr="C5"/>
          <p:cNvPicPr/>
          <p:nvPr/>
        </p:nvPicPr>
        <p:blipFill>
          <a:blip r:embed="rId1"/>
          <a:stretch/>
        </p:blipFill>
        <p:spPr>
          <a:xfrm>
            <a:off x="1042920" y="1916280"/>
            <a:ext cx="691380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are asked to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epare a short, </a:t>
            </a: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two minute talk (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asic description of the campus in Split</a:t>
            </a: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follows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poken interaction between the performers and the audience.</a:t>
            </a: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e.g.turntaking ,</a:t>
            </a: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urngiving and  summarising the poin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B2 descrip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Slika 5" descr="31.3b.jpg"/>
          <p:cNvPicPr/>
          <p:nvPr/>
        </p:nvPicPr>
        <p:blipFill>
          <a:blip r:embed="rId1"/>
          <a:stretch/>
        </p:blipFill>
        <p:spPr>
          <a:xfrm>
            <a:off x="1928880" y="1928880"/>
            <a:ext cx="461016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What does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 enable you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enables you to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 a report, a presentation or a description insisting on the important and significant points and back up what you say with relevant examp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lso enables you to give a detailed account of experiences and observ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99"/>
                </a:solidFill>
                <a:latin typeface="Tahoma"/>
              </a:rPr>
              <a:t>Warming-up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Tahoma"/>
              </a:rPr>
              <a:t>Computer visualisation of the campus in Split,</a:t>
            </a:r>
            <a:r>
              <a:rPr b="1" lang="hr-HR" sz="3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400" spc="-1" strike="noStrike">
                <a:solidFill>
                  <a:srgbClr val="333399"/>
                </a:solidFill>
                <a:latin typeface="Tahoma"/>
              </a:rPr>
              <a:t>Croatia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4" descr="C5"/>
          <p:cNvPicPr/>
          <p:nvPr/>
        </p:nvPicPr>
        <p:blipFill>
          <a:blip r:embed="rId1"/>
          <a:stretch/>
        </p:blipFill>
        <p:spPr>
          <a:xfrm>
            <a:off x="1042920" y="2013120"/>
            <a:ext cx="691380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are asked to visualize the campus and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epare a three minute talk on i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it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most important links with the outside world 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 e.g.getting education,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rovement of one’s future and making frien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follows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poken interaction between the performers and the audie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e.g.turntaking ,turngiving and  summarising the poin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oken interaction activities a language us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es an oral text which is received by an audience of one or more listen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nteractive activities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user acts alternately as a speak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eption and production strategies are employed constantly during intera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also classes of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gnitive and collaborative strateg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also call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course strategies and co-operation strateg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uch a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urntaking ,turngiving and  summarising the poi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ank yo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s is the 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gda MAVE</a:t>
            </a: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ivil engineering school,</a:t>
            </a: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lit,</a:t>
            </a: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roati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acher advis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nior county teac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Klapa Sveti Juraj HRM - Ruza crvena.mp3" descr=""/>
          <p:cNvPicPr/>
          <p:nvPr/>
        </p:nvPicPr>
        <p:blipFill>
          <a:blip r:embed="rId1"/>
          <a:stretch/>
        </p:blipFill>
        <p:spPr>
          <a:xfrm>
            <a:off x="370836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215197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1"/>
          <p:cNvPicPr/>
          <p:nvPr/>
        </p:nvPicPr>
        <p:blipFill>
          <a:blip r:embed="rId1"/>
          <a:stretch/>
        </p:blipFill>
        <p:spPr>
          <a:xfrm>
            <a:off x="2340000" y="189000"/>
            <a:ext cx="4881600" cy="6507000"/>
          </a:xfrm>
          <a:prstGeom prst="rect">
            <a:avLst/>
          </a:prstGeom>
          <a:ln w="0">
            <a:noFill/>
          </a:ln>
        </p:spPr>
      </p:pic>
      <p:pic>
        <p:nvPicPr>
          <p:cNvPr id="145" name="Sicas li se Splita grada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272360" y="2565360"/>
            <a:ext cx="176364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it in oppos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ea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2565360"/>
            <a:ext cx="176364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it in oppos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ea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7564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heck what you can do with the languages you know or the languages that you are learning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a skill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bility to do something w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language skil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Language sk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Understanding (Listening,Reading) Speaking (Spoken interaction, Spoken production)               Wri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are receptive skil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ptive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willing to listen or to accept new ideas or suggestion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CEPTIVE SKILLS      Listening•Read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are interactive skil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teractive-involves people working together and having an influence on each oth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ERACTIVE SKILLS</a:t>
            </a: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poken Interac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ritten Interac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are productive skil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e-doing or achieving a lo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DUCTIVE SKIL</a:t>
            </a: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LS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poken Production</a:t>
            </a: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Written P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The levels of skills set out by the Council of Europe’s Common European Framework of Reference for language learning are six in number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: introduction and discovery level: Breakthrough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hr-HR" sz="21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survival: Waystag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: in</a:t>
            </a: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dependent user: Threshol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Tahoma"/>
              </a:rPr>
              <a:t>B2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: in</a:t>
            </a: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dependent user: Vantag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proficient user: Effective Operational Proficienc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Tahoma"/>
              </a:rPr>
              <a:t>C2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hr-HR" sz="2100" spc="-1" strike="noStrike">
                <a:solidFill>
                  <a:srgbClr val="000000"/>
                </a:solidFill>
                <a:latin typeface="Tahoma"/>
              </a:rPr>
              <a:t>proficient user: Master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0:46:03Z</dcterms:created>
  <dc:creator>Vista</dc:creator>
  <dc:description/>
  <dc:language>en-US</dc:language>
  <cp:lastModifiedBy>Vista</cp:lastModifiedBy>
  <dcterms:modified xsi:type="dcterms:W3CDTF">2009-04-13T15:40:07Z</dcterms:modified>
  <cp:revision>21</cp:revision>
  <dc:subject/>
  <dc:title>Developing speaking skills</dc:title>
</cp:coreProperties>
</file>