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72FC8-75A2-4207-AFFD-BDCDEF99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26F31-BEA0-4916-9890-62EBA125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6492-9EF6-4BA7-85B1-A83053A0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1E21-2597-4FE6-A178-8C48B1F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D8A6-32E5-4ED1-B80C-C93F961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5814-0B37-4A18-A358-F227EEC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4245-3F49-4E41-A038-CE9904F1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08CA8-D13E-4255-983A-70DE03CC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F2FA-67A4-4078-A3B5-1C46690C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0CC3A-CC78-479C-9405-2177389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20180-3837-4FF7-9983-817929A0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209A-DEA3-408E-B2B0-8CCDC660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9ECC-86A7-47D0-B830-3F5866C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36016-E663-473D-A10A-FBAB6FF1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459AF-1054-4691-BEC1-8552767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BF4B8-EB23-4A51-9AE5-52BDC658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0213-3566-409D-BE1A-421AC6E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502DE-BE8C-441C-A4EF-267E0F1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586FF-A0ED-4065-A255-5B9FCAB6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33DC-30EB-4F9C-ADF2-166AD1E6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7770-65BB-4277-80F1-2B4B5091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68699-6664-4088-B9EC-4678C414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865E8-5C2C-476B-8C65-E2ABC96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535E-80E7-4E9A-8360-CB0A7FA7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766EB-F096-4D2E-BF69-3D51E8D6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253FC-5473-4BE4-B212-F37A4B3F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9E970-C81B-483E-85B8-F044CD85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34BC0-B292-4EBA-B6AA-42E3989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27847-543B-4FEA-BB89-32517C69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0223-115F-476D-820E-E2F2A43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0F73B-0A56-49D8-94A2-86D052DB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198C-584E-47F4-A391-9DB5B0CB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2473-37BE-4C23-923E-FCEECCEF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16E4A-E24C-4BF2-A859-96768D36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D451F-99E9-445A-AE14-DD9B3804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B424C-95B6-46D5-B87A-14F2E1E0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470C2-78D9-4803-AC5F-B233674C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8D862-7BB4-49FE-A316-BC28B727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E9FA3-88ED-44E3-8A55-04E0615E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C3DD4-A64B-4F55-8C07-CE5B4EDE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8801-EC56-4C12-AE93-B5056574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038A2-6C35-4DF7-A118-A5F2D92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9F19C-5D0F-432D-AC85-F9DE080D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573C5-291A-4B8B-A14E-E4C5F9E4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4CA63-93BE-42F1-AA58-38D73F28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7CC01-1F47-4687-A671-9A0B64B7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87D16-1E1E-406B-A4CB-C58BFAF8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ABDE2-82C0-445D-8E61-4D972980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A8014-7B01-4F03-82D9-25AF0691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FC013-2BC3-47E2-B3D8-F2C96096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18E81-5A5D-4009-90D9-64074847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AE5C3-0092-4762-9BE7-7AD7071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DB193-2E4C-4898-B43F-02177B3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509C7-B535-4389-B3CC-F0E906E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95F86-BC13-4990-AC52-C6AC959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64CF-BAEB-437B-ACC5-95385DED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E18CB-96BC-41B6-8B48-18D30AD2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A5B7-2011-402A-9D93-F3060AC1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B9B98-4A92-4BC0-B5C7-1775E058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49377-887C-491A-A3AE-D27B435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86115-A7B3-4C05-8100-EF93063C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60108-EA36-4331-93AC-A933FAB5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98BDB-6CAA-49FB-B9FF-AFA045F2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1AA82-C88D-4DDC-9BAE-9F84D09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EFE4F-4153-442D-906E-3A32E7D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A2C3D-27C3-40F0-A5E5-A98ECD8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F9CC4-CBA5-41BA-B9A1-B95A3875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8E4AC-457E-4FD3-93AF-DE883CF3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E3466-A5C4-4EF2-9CC9-3383BA57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10720-3073-4107-9F54-9849EFD8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C18A6-9430-47AA-9950-D7D39C7D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8B481-9932-4FF2-AA31-1A9474F9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1CCBF-0E9F-4873-88F1-B338C3ED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9CF5A-B233-435B-8DEC-3DFA8346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E6C12-C961-4A52-A218-5D7F432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C9D16-E8C3-447B-9EC3-98EEF46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62DC7-F979-42E1-A0B5-581A5A0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F9B81-3AA3-45C8-8DBA-AF9775B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25630-2E00-4DA2-93C8-B37C2F5C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66E2A-F195-4837-AD9E-883FFB37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94D20-ADAC-4D43-AF94-D1DA5F16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AA9CE-0193-4FA6-963E-7B97127B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59760-0DA8-4139-A953-7D44392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60994-F796-42E2-B5AD-BB19C4C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FB551-2BE5-4368-B58D-76508D2C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85D96-8D58-478A-9D30-51D1E2AF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7A1E4-7F1A-42D8-A562-875FD6C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D25E1-CDE3-41C5-8760-8BB03A5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F7251-B1B9-4472-A5C1-BB10A57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B044F-77A5-4340-A5CD-9C61455D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2C54B-B023-49D4-8C48-6E51DD91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0BE7D-0ACC-4916-A481-12214E04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CE19F-352D-4E34-8EED-529C85B6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A1706-1196-4AE2-86F2-D8C081E5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13D93-DDB7-4E0A-B126-AD20AA8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40D9F-D361-4F6C-8C60-C161A8E0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BF45D-2A63-4191-BAFD-F20A76B7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0CDF2-377F-451E-8694-38A04FBA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E7631-F9CC-498A-B04A-BD535664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28A0A-8DED-4F41-8FDB-F563554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FF630-A368-43A9-A1E8-1D31E84E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9AA6B-B348-488D-8B73-E664DCF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A50F8-83CF-4160-B259-C0D8A3BF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00FD3-43F1-4CAC-8895-F363D1DD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9A443-B02E-4893-BB57-8CFADB56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8184F-EEA0-4D17-93DF-B7A6BAE3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1F8B2-6BDD-4EDA-8400-7A45ADE4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2D19AA-2335-43F4-A4D7-445968B2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E153F-9716-4486-8C32-6EB60494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6AA79-7A3A-4F98-AC1A-C44436E3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0DF86-B295-49F9-A6D5-EA07356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BA250-F0E0-4441-838E-CDACF1D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071BF-90A9-43F8-AF82-A367201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A04D5-C5BA-454B-88B2-48A28D3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AF36F-E53F-4A4E-B108-0C492919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0E30B-449B-4B29-A73F-784554C6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C9A02-10A6-4700-9FB0-9C4C25DF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26E72-20EE-4A94-9E34-AA249674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28399-B365-4773-89C1-B149DC3B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2196F-FF64-43FB-A14D-105119CF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389E5-8B84-48A2-BEC9-B213E476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DF1A9-BBDB-4471-8A8B-710EFD3F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5469B-1F80-4489-B02C-C95CA520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9AA88-1737-491B-BDF3-9AD371F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A1D23-8B01-4427-A0CA-0D5E181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BDFE3-67A2-4A96-B2FB-3003D2B5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38E1C-E96A-4E16-9B6D-65D0F265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0E71F-5DA0-4424-B174-0E90514D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C0803-DF57-45F4-A9F1-3FC46F25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0D3CE-3198-4A94-901F-72F7675B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DCD97-83A3-4ECA-ADE0-F5614300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011F4-E574-4C7B-8C58-A688EB0F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E60CB-3A05-4E52-B20F-08D087A9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DBA77-CAF1-4458-B8F6-5314088E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84301-0B25-4912-86E8-607F87A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7A1A1-D76A-4498-B3C3-F674B83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8F931-AB39-4688-8F38-330905A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66C53-70B6-4A3C-9F65-E6DBC35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A3F15C-FB79-460A-A716-495F180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4F87A-6EA7-458F-88A4-3FA78546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6B9B5-A3FE-43F2-8C56-E85B8B8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406C4-6947-4BA0-8579-54767DDE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57F01-47E5-4838-A2C5-A2416733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0C279-25E8-4460-9FB2-7688FC38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FE97A-6FAB-4ACA-8581-BA62328A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43824-0107-4604-BBF6-36035A6C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A5BD4-F11C-4426-A7FA-E3E9F804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D8E7F-7FAE-423D-A043-FDF063B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49E11-8EBD-49DF-9C97-0833909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F501B-69B8-46B6-ADD6-CEE252B8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153B8-B429-49CB-A770-0477A512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74189-A5DA-4B96-850C-05C088A0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2D277-D3F9-4F8F-9391-EE27FEDF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B4100-0E4C-45FB-A880-F1A31F86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13645-D24A-4FA8-B56F-9448A024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26421-5039-479B-B6B0-84363F95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580DB-BA43-40B3-83C5-90867D0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0EBCF-49FA-491B-B4B4-FBA1310B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2A548-49A7-4E40-A23D-9972D33B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F61A1-912B-49D7-8143-9C15E898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970E8-2C50-4903-83AB-B2DE29D7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65402-3947-4B5A-BB8F-F739979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AC4F9-97F9-4D46-B84F-E99F2A9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0FED2-0A23-4F5E-A438-3A0595E0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8F27B-D109-4709-A5CF-E71AEAC8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58D6A-AF6E-4EB0-8FF3-89225BDC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366C4-5566-4989-9B4D-47FE724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D3FDB-82AE-485E-BEC2-3811ABFE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6028F-DAD2-46CC-A520-6D9F8687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FDFAD-9934-4221-BF1E-18F5117D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4655B-F26E-4538-A7F8-218C962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C1C48-FD10-43DA-89DB-18C459BC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A5F0B-A7C0-4691-BF3F-858E8DA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100BC-A1F2-45F2-B9E1-2B5738D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2FFC7-6BCB-41EB-A423-218785AD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D3328-F26E-479D-8B45-283E6757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59B6E-867E-465E-927D-EC4195A1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95F-15F2-4AEC-AE2E-C0CE3C3F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B0A-DC31-4A0C-B3E0-169E6D44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870-E964-424E-B0EE-C1394EA9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D4F-A9D0-4212-8C9A-73D20F3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3FD-217C-4896-9A07-8855ACFF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696-3A32-4A52-9611-4766091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534-772F-42E1-B36F-59BB79CF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BDB-93EC-4D5B-A901-39F92D76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72C-0176-420F-AE37-1F63FEA5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6AE-160E-4AA2-BBC6-579FBC9D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070-C714-47B8-BB5E-02FBD286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42A-39B7-46F1-843E-8BA4BBB7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D11-B977-40BA-8F84-3CA374AE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A088-CBBF-4FD4-99BE-07886C08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B5AC-0C0F-4F0F-984F-8FBCA600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85B-0D7D-499B-8368-02BB226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F82B-7A1C-4906-BD69-31E86B6F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FE36-A23F-4813-B7A9-6D61E71B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4E24-1861-48AF-A2B7-A2392A6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5E45-BCAB-49EC-951C-002317D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C020-294F-4DA1-A5B1-CE85A62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9156-928F-4859-BCFF-E48901D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F8EB-D749-4425-B11F-C281F4DB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ED40-DFA1-4FAD-B573-B6356972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252A-4E05-49DC-AA91-4673516D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0778-0149-418B-8D0D-C254B434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361A-F8F6-47DD-8EE0-CF0C1B8F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F740-C1AA-4595-AA4F-D74A08F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B950-4FC8-46AC-9392-4AD81D23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6407-B147-4C1A-B42A-805CE191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3E24-061A-4B4F-93ED-96FE83F5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E4F0-3FCE-4907-A3B8-6377C3CA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77D5-B868-45FC-8FCE-6E2B1B3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81DF-D70B-4AFA-97AF-CF2F35EC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AE37-EC83-4080-8C32-EA677E95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A66E-A77C-45B1-85D6-3DA01ED1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C91B4-F408-4D7F-A58E-74B38B27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FACEE-1817-4AEC-BECC-9402D136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7EC0A-7173-4556-83D6-2DC13CE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EA32-2005-49BA-BCD5-1355D02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8147-C2C6-419E-A8F8-E92F4B8F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1847-D114-41CC-A478-399A07C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F841-1017-4226-B44D-59EE02CA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400F-CA57-4F73-A888-EC0803A3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E52F9-37F0-4458-A3A3-5E14E75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5DE6-9F1A-4E1E-9BAB-969BBF0A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EA34-49F8-464D-987D-FC6A455C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D270-E33B-427A-B751-3549467C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72E5F-191A-4878-A2CE-16A5E66E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E8A1-4ACD-4525-BE21-C52B4F4B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A4D2-B02B-418B-B5AD-DDB3CD41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4A5A-37B9-486B-A4C5-EF3BDEBD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7635-996E-4A4A-A89B-A51F9CA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02853-51FF-4FC3-862E-3AFA0876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5A65-82D0-4F38-B50A-FC0B6C11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D953-E99E-4FD6-8002-8771412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3E5C-288E-4598-BB0A-456CB99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A79A5-39E1-4E96-8B0E-ED457A4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ACAD-D658-4484-AD91-E85DED05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ABC2-32AC-48AF-AAB5-A47FF3A8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BD2B6-20C8-4DF7-AF5B-DF444D02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4356F-8A9B-4E7E-A57D-07EC5D6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0D7B-4784-4999-BC01-FC9CAE32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7C5-77E5-48A9-B0B6-B29001535B8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7B5-D43B-45A0-A426-8879C400620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DB8-C913-48DD-BFF4-56028E8A2BF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6783-F640-4113-9451-A91D85A0C62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0C62-7809-4122-AA33-3523A69889B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F7E7-A365-47FD-B2E0-815D87F6FCC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0ADA-791E-40D7-A6F7-2A0C4780726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B54-E4A4-4B26-9AEF-14A0470249C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54B-05B9-4229-A630-0795D9F30C0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1699-542B-4B2E-B107-BA6B8E11039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4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73F9-218A-4E5D-8059-7C277BBE14A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7930-D17C-4718-9C65-A1785E6AEBE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3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F646-8247-4F24-90BA-60EE60C4A07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B074-D6E8-43D6-A9B0-CF7E84F59BD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9EDB-D410-4C96-8F43-EDF287E5297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92D6-3CDB-485C-AE36-E49A6C3BF5B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AB4-6EA0-4D74-B2FD-A7AAFF12430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56C-D1DD-47B1-BD3F-91B549B2731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AFA7-B66E-4330-B678-EBAF18EF9E6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128-C96F-4D37-8976-80AD9369E59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iprema učenika strukovnih škola za polaganje ispita državne matur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Arial"/>
              </a:rPr>
              <a:t>Provedba dodatne nast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Cilj (svrha) dodatne nastav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mogućiti učenicima četverogodišnjih strukovnih odjela da uspješno polož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ržavnu maturu 2010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od jednakim uvjetima kao i učenici gimnaz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ržati učenike i poticati ih u stjecanju novih znanja i razvoju njihovih sposobnosti te napredovanju u obrazov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ijati sve četiri vještine (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lušanje, čitanje, govorenje i pis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), podignuti razinu usvajanja i izričaja (recepcije i produkcije) n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em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EROJ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u kako bi učenici mogli pristupit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išoj razi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spita na državnoj mat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Raspored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datna nastava će se održavati jednom tjedno po 2 školska sata subotom u 08.00 za učenike III.a, III.d i III.e razrednih odjela (veterinarski tehničari, agroturistički tehničari i nutricioni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Literatur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jekom rada koristit će se razni izvori znanja, najnovija izdanja rječnika i jezičnih priručnika, gimnazijski udžbenici, te nastavna sredstva i pomagala ( CD player, DVD, video, Internet ... 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imnazijski udžbenici: serij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Headway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OUP)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og on @ In Fra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Školska knjiga)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portunities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Longm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xford Exam Excellenc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Preparation for secondary school exams) – 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lita Jurković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udy writing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Šk. knjiga, Zagre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. Horvat, I. Špiranec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evelop your listening and read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Šk. knjiga, Zg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. Božanić, S. Vrhovec Vučemilović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Words in Contex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Šk. knjiga, Zg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latka Ivić, Aleksandra Pavličević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ructures in Contex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Šk. knjiga, Zg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ony D. Triggs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First Certificate Testbuilde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Macmillan Heinemann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xford Advanced Learners Dictionary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OUP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adržaj rada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datna nastava radit će s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vosmjern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dopuniti ono gradivo koje učenici nisu učili po programu tjedne satnice od 2 sata, tj. razlikovne sadržaje prema Ispitnom katalogu (npr.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emphatic pronouns, comparison of adverbs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 veznici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subordinating: expressing cause, effect, concession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relative clauses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modal verbs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causative hav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 interpunkci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td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žbavati tipove zadataka koji će učenici morati rješavati na ispitu više razine - Ispitni katalog za državnu matu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lan </a:t>
            </a:r>
            <a:r>
              <a:rPr b="1" lang="hr-HR" sz="3200" spc="-1" strike="noStrike">
                <a:solidFill>
                  <a:srgbClr val="b94441"/>
                </a:solidFill>
                <a:latin typeface="Arial"/>
              </a:rPr>
              <a:t>rada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 za II. polugodište šk. god. 2008. / 2009. (40 sati)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. Reading (čitanje) – 10 s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B2 razini ZEROJ-a učenik mož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bližno samostalno čitati razne tekstne vr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naći informacije, ideje i mišljenja iz stručnih izvora unutar vlastitog područja inter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umjeti članke i izvješća koji se bave aktualnim problemima i u kojima autor teksta izražava svoje stavove i glediš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umjeti stručne članke i izvan područja vlastitog inter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1. Gap filling (missing phrases)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2. Multiple-choice questions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3. Matching True / False statements to paragraphs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4. True / False statements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5. Missing sentences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6. Matching headings to paragraphs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7. Multiple-choice statements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I. Listening (slušanje) – 10 s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temelj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zin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ERO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a ispituje se vještina slušanja, tj. učenik se mora osposobiti da može razumjeti opće poruke, glavne misli i specifične informacije na ovim vrstama tekstov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govori i raspr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avanja, izlaganja i izvješta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avijesti i poruke konkretnoga ili apstraktnoga sadrža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.1. Identifying statements made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.2. Factual error correction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.3. Filling in a form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.4. Matching information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.5. Completing notes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.6. Matching statements to speakers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.7. True / False statements – 1 sat razgovori i raspr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II.  Use of English – 10 s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grammar and vocabula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temelju deskriptora z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zin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ERO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a učenik prilično dobro vlada gramatikom; ne pravi nesustavne pogreške koje mogu dovesti do nesporazuma; mogu se pojaviti povremeni previdi te manje netočnosti u strukturi rečenice, ali to se rijetko događa. Što se tiče vokabulara, učenik raspolaže dovoljno velikim vokabularom da se može izraziti o temama iz područja vlastitog interesa i o većini općih te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I.1. Word formation gap fill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I.2. Open cloze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I.3. Multiple-choice gap fill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I.4. Jumbled sentences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I.5. Transformations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II.6. Editing ( word search )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V. Writing (pisanje) – 10 s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ici se moraju pripremiti za pisanu produkciju. Prema nastavnome planu i programu za gimnazije, te pre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zin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ERO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a, učenici se moraju osposobiti da mogu napisati sastavak (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00-25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iječi) u kojem sustavno razvijaju temu, navodeći razloge za i protiv nekog stajališta ili objašnjavajući prednosti i nedostatke različitih rješenja, uz uporabu relativno širokog raspona vokabulara te manje, nesustavne gramatičke pogrješk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.1. Writing process (stages): brainstorming, planning, drafting, final version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.2. Paragraphing (essay structure)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.3. Linking words/phrases /devices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.4. Writing an email /an informal letter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.5. Writing a formal letter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.6. Writing a book review – 1 s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.7. Writing an argumentative essay – 2 s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EDBENI NASTAVNI PLAN I PROGR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potrebe skupa na raspolaganje je stavi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ela Tranfić, prof., profesor savjet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Hvala!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428400" y="157140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LJ: pružiti učenicima kvalitetnu pripremu za stjecanje znanja za zahtjevnije sadržaje ispita državne m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Ivana Lekić, pro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Viša savjetnica za engleski i njemački jez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AZOO, Podružnica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Tolstojeva 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021 340 97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ivana.lekic@azoo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a za izradbu izvedbenih programa za dodatnu nastavu engleskoga jezika su razlikovni programi koje je izradilo Povjerenstvo za izradu Razlikovnih  programskih sadržaja nastavnih planova i programa predmeta strukovnih škola (SRS za engleski jezi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428400" y="157140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edbene nastavne planove i programe izrađuju nastavnici koji će izvoditi dodatnu na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datne poslove treba uvrstiti u Rješenje o zaduženju nastavnika u okviru neposrednoga odgojno-obrazovnoga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avilnik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 normi rada nastavnika u srednjoškolskoj ustanovi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čl. 3.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jedna norma neposrednog odgojno-obrazovnog rad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nika stranog jezik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no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sa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; (čl. 5.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jedna norma neposrednog odgojno-obrazovnog rada može se uvećati iznad norme utvrđene u članku 3. ovog pravilnika za 3 sata tjedno, a uz pristanak nastavnika najviše 6 sati tjedno, najdulje za jedno polugodiš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rganizacija dodatne nastav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pitnik o broju učenika na dodatnoj nast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troj odgojno-obrazovnih skupina (minimum 10 učenika, čl. 5. Državnog pedagoškog standarda srednjoškolskog sustava odgoja i obrazovan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ijeme realizacije: od siječnja 2009. do državne mature 2010. za predmete iz obveznog dijela državne m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rmini izvođenja nastave ovise o prostorno-organizacijskim uvjetima u š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tavna sredstva i pomagala: odobreni udžbenici, nosači zvuka, računalo s priključkom na Internet, različiti izvori znanja vezani uz strane jezike, lektirna djela (razina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upper intermedia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teratura: Ispitni katalog za državnu maturu, ZEROJ, časopisi…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imjer dobre praks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rednja škola braće Radić u Kaštel Štafilić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c00000"/>
                </a:solidFill>
                <a:latin typeface="Arial"/>
              </a:rPr>
              <a:t>IZVEDBENI NASTAVNI PLAN I PROGRAM</a:t>
            </a:r>
            <a:br>
              <a:rPr sz="2400"/>
            </a:br>
            <a:r>
              <a:rPr b="1" lang="hr-HR" sz="2400" spc="-1" strike="noStrike">
                <a:solidFill>
                  <a:srgbClr val="c00000"/>
                </a:solidFill>
                <a:latin typeface="Arial"/>
              </a:rPr>
              <a:t>(dodatna nastava iz engleskog jezika za učenike </a:t>
            </a:r>
            <a:br>
              <a:rPr sz="2400"/>
            </a:br>
            <a:r>
              <a:rPr b="1" lang="hr-HR" sz="2400" spc="-1" strike="noStrike">
                <a:solidFill>
                  <a:srgbClr val="c00000"/>
                </a:solidFill>
                <a:latin typeface="Arial"/>
              </a:rPr>
              <a:t>3. razreda strukovnih odjela)</a:t>
            </a:r>
            <a:br>
              <a:rPr sz="2400"/>
            </a:b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kol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Srednja škola braće Radić – Kaštel Štafil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kolska godi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2008./2009. (II. polugodiš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stavni predm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engleski jez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roj sa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2 sata tjedno (40 sati u II. polugodiš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smjerenje / zanim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veterinarski tehničar, agroturistički tehničar, nutricion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oditelj nastave: Anela Tranfić, prof., profesor savjetn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41:54Z</dcterms:created>
  <dc:creator>Željka</dc:creator>
  <dc:description/>
  <dc:language>en-US</dc:language>
  <cp:lastModifiedBy>Ivana</cp:lastModifiedBy>
  <dcterms:modified xsi:type="dcterms:W3CDTF">2009-04-15T18:42:34Z</dcterms:modified>
  <cp:revision>15</cp:revision>
  <dc:subject/>
  <dc:title>Slide 1</dc:title>
</cp:coreProperties>
</file>