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91C-11B8-4951-8496-8F07A703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B11-158B-4F53-A0A0-581EC2FD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C67-E37C-44BF-9632-7FF03D60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CE2-B01A-493B-A6BD-F13DFE19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75C4-DD09-4E16-A379-2E102EB6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0C9F-3657-487D-90B9-715C76ED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CD34-5966-45FC-B113-52EC4A8B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B8C8-B208-4712-A628-36C61D62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5B7B-76ED-4B05-ADE3-61076126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CD9C-5E38-4627-9FBE-3B40F07B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D879-5178-4CD3-9430-9E82BA4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C22-3612-43F9-A3E1-5186E31A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0FBC-A756-4DAA-A226-6ADA5155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1F0C-7B02-44CB-B169-1299B829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0F35-C974-4D81-8E10-980DF52D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FA35-0F80-4579-8FF4-10A27DB6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C151-0E45-4157-8F0B-CF180B98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6171-26C5-49A8-8C46-7E907B2E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BC09-C9E6-48DD-A4F0-96C0379A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9D40-9C1D-48FD-992E-3BBAA1E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4018-095E-468B-BCB8-59B3C094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EC8E4-5D88-44E2-9BE3-23916D3C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ABB-4B5F-4A40-AEF2-739B17B0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4C90-7302-41A9-AEE6-074925F5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E93E-CC20-482F-AC34-843AF78C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FD26-0ECD-4763-A820-1BF0EED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7C35-46A6-43F4-9808-D2142A82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6C09-9937-475D-8441-00DCFCAD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8868-81D3-40A4-B529-8B8AD375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6085-4E63-4A1A-9465-4ECE29DD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6DB-1E09-4AE5-9338-2C779FA8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B41-043B-4B20-9551-2A1F668F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9AF-129B-4CD6-9249-30B4E7C7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6B5-3888-4027-A146-B6EC4C2A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076-C2E8-4315-9C59-A4BB20A6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187-68DE-47EA-AA03-4DEA01AF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90AE-DF69-4C8E-AEF6-61B0A337F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832B-01B3-4E19-8BBF-65FF65D6CC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C664-CA2D-4577-896B-F1CF7EEDD5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WRITING SKILLS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843280" y="2133720"/>
            <a:ext cx="331308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Common types of essay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72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n opinion 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 definiton 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 descriptive 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 compare and contrast 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 critical 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1640" y="2133360"/>
            <a:ext cx="3809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n essay suggesting solutions to a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 narrative 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 process 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n argumentative  (‘for and against’) 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628280"/>
            <a:ext cx="6870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cc0066"/>
                </a:solidFill>
                <a:latin typeface="Comic Sans MS"/>
              </a:rPr>
              <a:t>Guide to writing a basic essa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019" t="10019" r="83042" b="3781"/>
          <a:stretch/>
        </p:blipFill>
        <p:spPr>
          <a:xfrm>
            <a:off x="3419640" y="4076640"/>
            <a:ext cx="1584000" cy="15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9192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406260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oal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hr-HR" sz="32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cla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rity achieved b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organisation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cohe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27640" y="2133720"/>
            <a:ext cx="4031640" cy="2734200"/>
            <a:chOff x="4427640" y="2133720"/>
            <a:chExt cx="4031640" cy="2734200"/>
          </a:xfrm>
        </p:grpSpPr>
        <p:cxnSp>
          <p:nvCxnSpPr>
            <p:cNvPr id="218" name="_s46097"/>
            <p:cNvCxnSpPr>
              <a:stCxn id="219" idx="0"/>
              <a:endCxn id="220" idx="2"/>
            </p:cNvCxnSpPr>
            <p:nvPr/>
          </p:nvCxnSpPr>
          <p:spPr>
            <a:xfrm flipV="1" rot="16200000">
              <a:off x="6711840" y="2957400"/>
              <a:ext cx="547560" cy="1086120"/>
            </a:xfrm>
            <a:prstGeom prst="bentConnector3">
              <a:avLst>
                <a:gd name="adj1" fmla="val 155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46096"/>
            <p:cNvCxnSpPr>
              <a:stCxn id="222" idx="0"/>
              <a:endCxn id="220" idx="2"/>
            </p:cNvCxnSpPr>
            <p:nvPr/>
          </p:nvCxnSpPr>
          <p:spPr>
            <a:xfrm flipH="1" flipV="1" rot="5400000">
              <a:off x="5627520" y="2958480"/>
              <a:ext cx="547560" cy="1083960"/>
            </a:xfrm>
            <a:prstGeom prst="bentConnector3">
              <a:avLst>
                <a:gd name="adj1" fmla="val 155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_s46092"/>
            <p:cNvSpPr/>
            <p:nvPr/>
          </p:nvSpPr>
          <p:spPr>
            <a:xfrm>
              <a:off x="5512680" y="2133720"/>
              <a:ext cx="1860840" cy="1093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00"/>
                  </a:solidFill>
                  <a:latin typeface="Comic Sans MS"/>
                </a:rPr>
                <a:t>Clar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46093"/>
            <p:cNvSpPr/>
            <p:nvPr/>
          </p:nvSpPr>
          <p:spPr>
            <a:xfrm>
              <a:off x="4427640" y="3774240"/>
              <a:ext cx="1860840" cy="1093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omic Sans MS"/>
                </a:rPr>
                <a:t>Organi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46094"/>
            <p:cNvSpPr/>
            <p:nvPr/>
          </p:nvSpPr>
          <p:spPr>
            <a:xfrm>
              <a:off x="6598440" y="3774240"/>
              <a:ext cx="1860840" cy="1093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omic Sans MS"/>
                </a:rPr>
                <a:t>Cohe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Planning a composition </a:t>
            </a:r>
            <a:r>
              <a:rPr b="0" lang="hr-HR" sz="3200" spc="-1" strike="noStrike">
                <a:solidFill>
                  <a:srgbClr val="6600ff"/>
                </a:solidFill>
                <a:latin typeface="Comic Sans MS"/>
              </a:rPr>
              <a:t>Steps to better writing</a:t>
            </a: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55640" y="1988640"/>
            <a:ext cx="3671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Brainstorming ide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Note-t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ummari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Note-m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aragrap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560" y="151920"/>
            <a:ext cx="6513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Essay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42920" y="1484280"/>
          <a:ext cx="3197160" cy="720720"/>
        </p:xfrm>
        <a:graphic>
          <a:graphicData uri="http://schemas.openxmlformats.org/drawingml/2006/table">
            <a:tbl>
              <a:tblPr/>
              <a:tblGrid>
                <a:gridCol w="319716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042920" y="2421000"/>
          <a:ext cx="3168720" cy="201600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201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 bod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 flipH="1" flipV="1">
            <a:off x="755640" y="49395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84360" y="4791960"/>
            <a:ext cx="40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42920" y="4724280"/>
          <a:ext cx="3168720" cy="72072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clu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4427640" y="321300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64000" y="2276640"/>
          <a:ext cx="2592720" cy="647640"/>
        </p:xfrm>
        <a:graphic>
          <a:graphicData uri="http://schemas.openxmlformats.org/drawingml/2006/table">
            <a:tbl>
              <a:tblPr/>
              <a:tblGrid>
                <a:gridCol w="259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graph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364000" y="3068640"/>
          <a:ext cx="2592720" cy="647640"/>
        </p:xfrm>
        <a:graphic>
          <a:graphicData uri="http://schemas.openxmlformats.org/drawingml/2006/table">
            <a:tbl>
              <a:tblPr/>
              <a:tblGrid>
                <a:gridCol w="259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graph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364000" y="3860640"/>
          <a:ext cx="2592720" cy="648000"/>
        </p:xfrm>
        <a:graphic>
          <a:graphicData uri="http://schemas.openxmlformats.org/drawingml/2006/table">
            <a:tbl>
              <a:tblPr/>
              <a:tblGrid>
                <a:gridCol w="25927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graph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 flipV="1">
            <a:off x="4356000" y="2565360"/>
            <a:ext cx="86364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427640" y="2637000"/>
            <a:ext cx="79200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27640" y="2565360"/>
            <a:ext cx="720720" cy="142920"/>
          </a:xfrm>
          <a:prstGeom prst="rightArrow">
            <a:avLst>
              <a:gd name="adj1" fmla="val 50000"/>
              <a:gd name="adj2" fmla="val 126071"/>
            </a:avLst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27640" y="3284640"/>
            <a:ext cx="720720" cy="144360"/>
          </a:xfrm>
          <a:prstGeom prst="rightArrow">
            <a:avLst>
              <a:gd name="adj1" fmla="val 50000"/>
              <a:gd name="adj2" fmla="val 124813"/>
            </a:avLst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4005360"/>
            <a:ext cx="720720" cy="144360"/>
          </a:xfrm>
          <a:prstGeom prst="rightArrow">
            <a:avLst>
              <a:gd name="adj1" fmla="val 50000"/>
              <a:gd name="adj2" fmla="val 124813"/>
            </a:avLst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Structural components 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of an ess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omic Sans MS"/>
              </a:rPr>
              <a:t>Introduction – </a:t>
            </a:r>
            <a:r>
              <a:rPr b="0" lang="hr-HR" sz="3200" spc="-1" strike="noStrike" u="sng">
                <a:solidFill>
                  <a:srgbClr val="6600ff"/>
                </a:solidFill>
                <a:uFillTx/>
                <a:latin typeface="Comic Sans MS"/>
              </a:rPr>
              <a:t>Paragraph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 good int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grabs the reader’s attention (e.g. startling information, anecdote, dialogue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troduces the general top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ontains a </a:t>
            </a:r>
            <a:r>
              <a:rPr b="1" lang="hr-HR" sz="2800" spc="-1" strike="noStrike">
                <a:solidFill>
                  <a:srgbClr val="6600ff"/>
                </a:solidFill>
                <a:latin typeface="Comic Sans MS"/>
              </a:rPr>
              <a:t>thesis statement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(i.e. tells the reader specifically what the essay will be abou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gives an idea of your overall pl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omic Sans MS"/>
              </a:rPr>
              <a:t>Main bo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6920" y="907920"/>
            <a:ext cx="7123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ff"/>
                </a:solidFill>
                <a:latin typeface="Comic Sans MS"/>
              </a:rPr>
              <a:t>Paragraph 2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omic Sans MS"/>
              </a:rPr>
              <a:t>first viewpoint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acts, reasons, examples, deta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ff"/>
                </a:solidFill>
                <a:latin typeface="Comic Sans MS"/>
              </a:rPr>
              <a:t>Paragraph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omic Sans MS"/>
              </a:rPr>
              <a:t>second viewpoint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acts, reasons, examples, deta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ff"/>
                </a:solidFill>
                <a:latin typeface="Comic Sans MS"/>
              </a:rPr>
              <a:t>Paragraph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omic Sans MS"/>
              </a:rPr>
              <a:t>third viewpoint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acts, reasons, examples, deta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Paragraph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Topic sentence with a controlling id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ff"/>
                </a:solidFill>
                <a:latin typeface="Comic Sans MS"/>
              </a:rPr>
              <a:t>Support sentence 1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facts, reasons, examples, de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ff"/>
                </a:solidFill>
                <a:latin typeface="Comic Sans MS"/>
              </a:rPr>
              <a:t>Support sentence 2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facts, reasons, examples, de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ff"/>
                </a:solidFill>
                <a:latin typeface="Comic Sans MS"/>
              </a:rPr>
              <a:t>Support sentence 3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facts, reasons, examples, de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ossibly a concluding senten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(optional) – summary, restatement, conclu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6600ff"/>
                </a:solidFill>
                <a:latin typeface="Comic Sans MS"/>
              </a:rPr>
              <a:t>Final paragra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 good conclu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estates the thesis stat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estates the main point in each of the body paragrap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tates an opinion, preference, recommendation, prediction or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nds with a statement that sums up the 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86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Comic Sans MS"/>
              </a:rPr>
              <a:t>Tips for successful wri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696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First decide on your </a:t>
            </a:r>
            <a:r>
              <a:rPr b="0" lang="hr-HR" sz="2200" spc="-1" strike="noStrike">
                <a:solidFill>
                  <a:srgbClr val="703dff"/>
                </a:solidFill>
                <a:latin typeface="Comic Sans MS"/>
              </a:rPr>
              <a:t>topic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Make a list of </a:t>
            </a:r>
            <a:r>
              <a:rPr b="0" lang="hr-HR" sz="2200" spc="-1" strike="noStrike">
                <a:solidFill>
                  <a:srgbClr val="703dff"/>
                </a:solidFill>
                <a:latin typeface="Comic Sans MS"/>
              </a:rPr>
              <a:t>your points (ideas)</a:t>
            </a: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 with subpoints (facts, reasons, examples and detail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Use the </a:t>
            </a:r>
            <a:r>
              <a:rPr b="0" lang="hr-HR" sz="2200" spc="-1" strike="noStrike">
                <a:solidFill>
                  <a:srgbClr val="703dff"/>
                </a:solidFill>
                <a:latin typeface="Comic Sans MS"/>
              </a:rPr>
              <a:t>formal style</a:t>
            </a: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 and PRESENT TEN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Use the appropriate </a:t>
            </a:r>
            <a:r>
              <a:rPr b="0" lang="hr-HR" sz="2200" spc="-1" strike="noStrike">
                <a:solidFill>
                  <a:srgbClr val="703dff"/>
                </a:solidFill>
                <a:latin typeface="Comic Sans MS"/>
              </a:rPr>
              <a:t>linking words /phrases</a:t>
            </a: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 (to list points, to add more points, to introduce opposing viewpoints (in an argumentative essay), to introduce reasons and examples, to conclud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0" lang="hr-HR" sz="2200" spc="-1" strike="noStrike">
                <a:solidFill>
                  <a:srgbClr val="703dff"/>
                </a:solidFill>
                <a:latin typeface="Comic Sans MS"/>
              </a:rPr>
              <a:t>opinion words</a:t>
            </a: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hr-HR" sz="2200" spc="-1" strike="noStrike">
                <a:solidFill>
                  <a:srgbClr val="000000"/>
                </a:solidFill>
                <a:latin typeface="Comic Sans MS"/>
              </a:rPr>
              <a:t>I believe / think, In my opinion, It seems to me, In my view....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Use techniques for </a:t>
            </a:r>
            <a:r>
              <a:rPr b="0" lang="hr-HR" sz="2200" spc="-1" strike="noStrike">
                <a:solidFill>
                  <a:srgbClr val="703dff"/>
                </a:solidFill>
                <a:latin typeface="Comic Sans MS"/>
              </a:rPr>
              <a:t>effective beginnings and ends</a:t>
            </a: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 for essay writ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Bear in mind the </a:t>
            </a:r>
            <a:r>
              <a:rPr b="0" lang="hr-HR" sz="2200" spc="-1" strike="noStrike">
                <a:solidFill>
                  <a:srgbClr val="703dff"/>
                </a:solidFill>
                <a:latin typeface="Comic Sans MS"/>
              </a:rPr>
              <a:t>rules for writing</a:t>
            </a: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 well-develop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paragraph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Teaching writ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irst steps in teac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imple pieces of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Next steps: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e complex and extensive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should be tau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al format of each pi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ules that should be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885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ff"/>
                </a:solidFill>
                <a:latin typeface="Comic Sans MS"/>
              </a:rPr>
              <a:t>Examples of transition words that can help students link their paragraphs together:</a:t>
            </a: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3640" y="1773360"/>
            <a:ext cx="4392360" cy="1968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For listing different poin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First, First of 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econd, Second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Thi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Fin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1828800"/>
            <a:ext cx="3960720" cy="2031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For counter 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Howe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Even thoug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n the other h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everthel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3733920"/>
            <a:ext cx="4176720" cy="228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For additional ide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Another (disadvantage 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n addition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Moreo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Furtherm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00720" y="3860640"/>
            <a:ext cx="4248000" cy="2376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To show cause and effec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Theref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Th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As a result o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Consequ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Paragraph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Topic sentence with a controlling id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Comic Sans MS"/>
              </a:rPr>
              <a:t>Support sentence 1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– reasons, examples,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Comic Sans MS"/>
              </a:rPr>
              <a:t>Support sentence 2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– reasons, examples,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Comic Sans MS"/>
              </a:rPr>
              <a:t>Support sentence 3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– reasons, examples,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ossibly a concluding sentence (optional)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ummary, restatement, conclu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n example of a formal paragra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6600ff"/>
                </a:solidFill>
                <a:latin typeface="Comic Sans MS"/>
              </a:rPr>
              <a:t>Fast-food restaurants are important for the student travellers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hr-HR" sz="2800" spc="-1" strike="noStrike" u="sng">
                <a:solidFill>
                  <a:srgbClr val="cc0000"/>
                </a:solidFill>
                <a:uFillTx/>
                <a:latin typeface="Comic Sans MS"/>
              </a:rPr>
              <a:t>First of all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Comic Sans MS"/>
              </a:rPr>
              <a:t>, you do not have to worry about the way you are dressed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; you can walk in with dirty jeans and a backpack and nobody cares. </a:t>
            </a:r>
            <a:r>
              <a:rPr b="0" lang="hr-HR" sz="2800" spc="-1" strike="noStrike" u="sng">
                <a:solidFill>
                  <a:srgbClr val="cc0000"/>
                </a:solidFill>
                <a:uFillTx/>
                <a:latin typeface="Comic Sans MS"/>
              </a:rPr>
              <a:t>Secondly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Comic Sans MS"/>
              </a:rPr>
              <a:t>, they are not expensiv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which is very important if you do not have much money and would prefer to spend it on visiting the sights. </a:t>
            </a:r>
            <a:r>
              <a:rPr b="0" lang="hr-HR" sz="2800" spc="-1" strike="noStrike" u="sng">
                <a:solidFill>
                  <a:srgbClr val="cc0000"/>
                </a:solidFill>
                <a:uFillTx/>
                <a:latin typeface="Comic Sans MS"/>
              </a:rPr>
              <a:t>Finally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Comic Sans MS"/>
              </a:rPr>
              <a:t>, you do not need to speak the language;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all you have to do is point at what you want, and the word ‘hamburger’ is used in most cities in the world. </a:t>
            </a:r>
            <a:r>
              <a:rPr b="0" lang="hr-HR" sz="2800" spc="-1" strike="noStrike">
                <a:solidFill>
                  <a:srgbClr val="00b200"/>
                </a:solidFill>
                <a:latin typeface="Comic Sans MS"/>
              </a:rPr>
              <a:t>Many student travellers depend on fast-food restaurants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Sample outline for a basic ess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76500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.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2000" spc="-1" strike="noStrike">
                <a:solidFill>
                  <a:srgbClr val="cc0000"/>
                </a:solidFill>
                <a:latin typeface="Comic Sans MS"/>
              </a:rPr>
              <a:t>A. Inroductory statement + Thesis statement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I. 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MAIN BOD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A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First Supporting Idea (Topic Sentence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):_______________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1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2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3. facts, examples, reasons, details 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B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Second Supporting Idea (Topic Sentence):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1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2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3. facts, examples, reasons, details 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C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Third Supporting Idea (Topic Sentence):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1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2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3. facts, examples, reasons, details 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II. 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A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Closing stat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    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B. Restate thesis: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-551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696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.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2000" spc="-1" strike="noStrike">
                <a:solidFill>
                  <a:srgbClr val="cc0000"/>
                </a:solidFill>
                <a:latin typeface="Comic Sans MS"/>
              </a:rPr>
              <a:t>A. Inroductory statement + Thesis statement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I like watching movies but I prefer watching them at h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I. 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MAIN BOD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A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First Supporting Idea (Topic Sentence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):_______________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1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2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3. facts, examples, reasons, details 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B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Second Supporting Idea (Topic Sentence):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1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2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3. facts, examples, reasons, details 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C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Third Supporting Idea (Topic Sentence):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1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2. facts, examples,reasons,details 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3. facts, examples, reasons, details 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II. 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A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Closing stat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      </a:t>
            </a:r>
            <a:r>
              <a:rPr b="1" lang="hr-HR" sz="1800" spc="-1" strike="noStrike">
                <a:solidFill>
                  <a:srgbClr val="6600ff"/>
                </a:solidFill>
                <a:latin typeface="Comic Sans MS"/>
              </a:rPr>
              <a:t>B.  Restate thesis: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I.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600" spc="-1" strike="noStrike">
                <a:solidFill>
                  <a:srgbClr val="cc0000"/>
                </a:solidFill>
                <a:latin typeface="Comic Sans MS"/>
              </a:rPr>
              <a:t>A. Inroductory stat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4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1" lang="hr-HR" sz="1600" spc="-1" strike="noStrike">
                <a:solidFill>
                  <a:srgbClr val="cc0000"/>
                </a:solidFill>
                <a:latin typeface="Comic Sans MS"/>
              </a:rPr>
              <a:t>. Thesis statement: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I like watching movies but I prefer watch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them at ho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II.  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A.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First Supporting Idea (Topic Sentence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just getting to the theatre presents difficul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1. bad weather         2. long drive and limited parking spac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3. long waiting to buy a tick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B.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Second Supporting Idea (Topic Sentence)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facing the problems of the theatre itsel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1. old theater’s problems such as smelly carpet, worn-out seats, etc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2. new theater’s problems such as smaller size, noise from the next movi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theater, etc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3. both floors will be rubber-like dirty at the end of the movi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C.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Third Supporting Idea (Topic Sentence):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some of the patrons are annoy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1. bad behavi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2. human noise and disturban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3. dropping cups and popcorn tub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III. 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A.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Closing stat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      </a:t>
            </a:r>
            <a:r>
              <a:rPr b="1" lang="hr-HR" sz="1600" spc="-1" strike="noStrike">
                <a:solidFill>
                  <a:srgbClr val="6600ff"/>
                </a:solidFill>
                <a:latin typeface="Comic Sans MS"/>
              </a:rPr>
              <a:t>B. Restate thesis:</a:t>
            </a: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I prefer to watch movies at home where it i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Comic Sans MS"/>
              </a:rPr>
              <a:t>comfortable, clean and saf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Next steps: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Start writing your ess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03dff"/>
                </a:solidFill>
                <a:latin typeface="Comic Sans MS"/>
              </a:rPr>
              <a:t>Develop your ideas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The topic you have chosen or been assigned must now be </a:t>
            </a:r>
            <a:r>
              <a:rPr b="0" lang="hr-HR" sz="2800" spc="-1" strike="noStrike">
                <a:solidFill>
                  <a:srgbClr val="703dff"/>
                </a:solidFill>
                <a:latin typeface="Comic Sans MS"/>
              </a:rPr>
              <a:t>explained, described, or argu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0" lang="hr-HR" sz="2800" spc="-1" strike="noStrike">
                <a:solidFill>
                  <a:srgbClr val="703dff"/>
                </a:solidFill>
                <a:latin typeface="Comic Sans MS"/>
              </a:rPr>
              <a:t>introduction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hr-HR" sz="2800" spc="-1" strike="noStrike">
                <a:solidFill>
                  <a:srgbClr val="703dff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03dff"/>
                </a:solidFill>
                <a:latin typeface="Comic Sans MS"/>
              </a:rPr>
              <a:t>Review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what you have done; run the </a:t>
            </a:r>
            <a:r>
              <a:rPr b="0" lang="hr-HR" sz="2800" spc="-1" strike="noStrike">
                <a:solidFill>
                  <a:srgbClr val="703dff"/>
                </a:solidFill>
                <a:latin typeface="Comic Sans MS"/>
              </a:rPr>
              <a:t>grammar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hr-HR" sz="2800" spc="-1" strike="noStrike">
                <a:solidFill>
                  <a:srgbClr val="703dff"/>
                </a:solidFill>
                <a:latin typeface="Comic Sans MS"/>
              </a:rPr>
              <a:t>spell che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6656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hr-HR" sz="4400" spc="-1" strike="noStrike">
                <a:solidFill>
                  <a:srgbClr val="703dff"/>
                </a:solidFill>
                <a:latin typeface="Comic Sans MS"/>
              </a:rPr>
              <a:t>Thanks for your attention!</a:t>
            </a:r>
            <a:br>
              <a:rPr sz="4400"/>
            </a:br>
            <a:br>
              <a:rPr sz="4400"/>
            </a:b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ordana.nikolic@du.t-com.h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Brief personal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841400" y="2349360"/>
            <a:ext cx="654048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illing in personal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Writing greeting c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Writing postc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Longer personal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18920" y="2205000"/>
            <a:ext cx="59259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Writ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messag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-m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ersonal le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etters of invitation, acceptance, refusal and than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Official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44240" y="2317680"/>
            <a:ext cx="4559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illing in official fo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Writing CV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etters of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etters of enqui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etters of compla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Extensive writing – 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People, plac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41040" y="1828800"/>
            <a:ext cx="6126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escribing appear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escribing people, their jobs and their l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escribing pl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Narrative wr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Writing about public ev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Extensive writing – 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Evaluation and opin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95280" y="2420640"/>
            <a:ext cx="5113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umma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book or film revie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rtic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ss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3280" y="2781000"/>
            <a:ext cx="6369120" cy="143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ff0000"/>
                </a:solidFill>
                <a:latin typeface="Comic Sans MS"/>
              </a:rPr>
              <a:t>Writing essays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549080" y="3357360"/>
            <a:ext cx="60325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What is an essa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t is a piece of writing that discusses, describes or analyzes one topi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tyle: serious or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ength: range from one paragraph to more than twenty (usually about 250 word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The process of writing is very important (a number of steps should be taken before writing an essa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ordana Nikolić, prof. engl. jezika, Gimnazija Metković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plit, 15. travnja 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40:01Z</dcterms:created>
  <dc:creator>Gordana Nikolić</dc:creator>
  <dc:description/>
  <dc:language>en-US</dc:language>
  <cp:lastModifiedBy>Gordana Nikolić</cp:lastModifiedBy>
  <dcterms:modified xsi:type="dcterms:W3CDTF">2009-04-06T21:39:16Z</dcterms:modified>
  <cp:revision>22</cp:revision>
  <dc:subject/>
  <dc:title>Slajd 1</dc:title>
</cp:coreProperties>
</file>