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5909588" cy="33526413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D06-76B7-466B-9645-978F204F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7822800"/>
            <a:ext cx="233172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19379880"/>
            <a:ext cx="233172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18F-45F5-445A-B294-3A4E41D3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782280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242960" y="782280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1937988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242960" y="1937988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B15-7D71-4A90-A155-7A25EE21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7822800"/>
            <a:ext cx="75078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78920" y="7822800"/>
            <a:ext cx="75078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062560" y="7822800"/>
            <a:ext cx="75078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19379880"/>
            <a:ext cx="75078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178920" y="19379880"/>
            <a:ext cx="75078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062560" y="19379880"/>
            <a:ext cx="75078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13F-500F-4F16-BD3E-07AE8532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7822800"/>
            <a:ext cx="23317200" cy="221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74"/>
              </a:spcBef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8AF-579A-4326-901B-2E5DFBF7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7822800"/>
            <a:ext cx="23317200" cy="2212668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470-3495-428B-8FC1-2D12412A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7822800"/>
            <a:ext cx="11378520" cy="2212668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242960" y="7822800"/>
            <a:ext cx="11378520" cy="2212668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627-E1D8-45C8-A8AA-4C9052AF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E6C-8948-46DA-B656-E7D8AC15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1341360"/>
            <a:ext cx="23317200" cy="259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74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726-9801-4011-B8A6-EE339912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782280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242960" y="7822800"/>
            <a:ext cx="11378520" cy="2212668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1937988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36A-8DE1-4371-8E7F-D8765DCC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7822800"/>
            <a:ext cx="11378520" cy="2212668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242960" y="782280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242960" y="1937988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9C0-425A-4C0E-BA33-5C81A43E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782280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242960" y="782280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19379880"/>
            <a:ext cx="233172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A0B-2F8A-4192-A0C2-5D72F1EE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15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7822800"/>
            <a:ext cx="23317200" cy="2212668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marL="1235160" indent="-1235160">
              <a:spcBef>
                <a:spcPts val="2874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lvl="1" marL="2674800" indent="-1028520">
              <a:spcBef>
                <a:spcPts val="2874"/>
              </a:spcBef>
              <a:buClr>
                <a:srgbClr val="000000"/>
              </a:buClr>
              <a:buFont typeface="Arial"/>
              <a:buChar char="–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lvl="2" marL="4114800" indent="-822240">
              <a:spcBef>
                <a:spcPts val="2874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lvl="3" marL="5761080" indent="-824040">
              <a:spcBef>
                <a:spcPts val="2874"/>
              </a:spcBef>
              <a:buClr>
                <a:srgbClr val="000000"/>
              </a:buClr>
              <a:buFont typeface="Arial"/>
              <a:buChar char="–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lvl="4" marL="7407360" indent="-824040">
              <a:spcBef>
                <a:spcPts val="2874"/>
              </a:spcBef>
              <a:buClr>
                <a:srgbClr val="000000"/>
              </a:buClr>
              <a:buFont typeface="Arial"/>
              <a:buChar char="»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lvl="5" marL="7407360" indent="-824040">
              <a:spcBef>
                <a:spcPts val="2874"/>
              </a:spcBef>
              <a:buClr>
                <a:srgbClr val="000000"/>
              </a:buClr>
              <a:buFont typeface="Arial"/>
              <a:buChar char="»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lvl="6" marL="7407360" indent="-824040">
              <a:spcBef>
                <a:spcPts val="2874"/>
              </a:spcBef>
              <a:buClr>
                <a:srgbClr val="000000"/>
              </a:buClr>
              <a:buFont typeface="Arial"/>
              <a:buChar char="»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30531960"/>
            <a:ext cx="6045480" cy="232884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Autofit/>
          </a:bodyPr>
          <a:lstStyle>
            <a:lvl1pPr indent="0">
              <a:buNone/>
              <a:tabLst>
                <a:tab algn="l" pos="0"/>
                <a:tab algn="l" pos="3292560"/>
                <a:tab algn="l" pos="6585120"/>
                <a:tab algn="l" pos="9877320"/>
              </a:tabLst>
              <a:defRPr b="0" lang="hr-HR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5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851680" y="30531960"/>
            <a:ext cx="8204040" cy="232884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Autofit/>
          </a:bodyPr>
          <a:lstStyle>
            <a:lvl1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  <a:defRPr b="0" lang="hr-HR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5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567360" y="30531960"/>
            <a:ext cx="6045120" cy="232884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Autofit/>
          </a:bodyPr>
          <a:lstStyle>
            <a:lvl1pPr indent="0" algn="r">
              <a:buNone/>
              <a:tabLst>
                <a:tab algn="l" pos="0"/>
                <a:tab algn="l" pos="3292560"/>
                <a:tab algn="l" pos="6585120"/>
                <a:tab algn="l" pos="9877320"/>
              </a:tabLst>
              <a:defRPr b="0" lang="hr-HR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fld id="{F2DF2E0E-E38D-4D80-88DD-98C97F10FC77}" type="slidenum">
              <a:rPr b="0" lang="hr-HR" sz="5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93920" y="446040"/>
            <a:ext cx="22021920" cy="290664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Centar za odgoj i obrazovanje Velika Gorica</a:t>
            </a: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Velika Gorica</a:t>
            </a:r>
            <a:r>
              <a:rPr b="0" lang="hr-HR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8240" y="3128760"/>
            <a:ext cx="20061360" cy="23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874"/>
              </a:spcBef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Auditivna percepcija u ranoj kamunikaciji i radu s djecom s govorno jezičnim teškoćama</a:t>
            </a: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7560" y="6033960"/>
            <a:ext cx="6293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uto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rica Krajnović, prof. logop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irjana Dobrojević, prof. log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1320" y="5811840"/>
            <a:ext cx="93279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ljučne riječ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ercepcija, Poticanje, Gov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ažeta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uditivna percepcija je proces koji djetetu omogućava da čuje, percipira, prepozna, razlikuje osvijesti i memorira određene auditivne doživljaje. Poticanje i razvijanje auditivne percepcije započinje od djetetova rođenja. Raznovrsni zvuci i glasovi u okolini odzvanjaju i potiču u svijesti spoznaju i misli koje nas pokreću, zadivljuju i zastrašuj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vuk dijete čuje i iskustveno doživljava od najranije dobi. Sluša i raspoznaje glasove majke koji ga umiruju i vesele. Na jake i prodorne zvukove često zaplače, pokazuje strah. Zvuk dijeluje na sve procese u mozgu i time neposredno utječe na kongitivne, emocionalne i tjelesne sposob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zvijanje interesa za auditivno opažanje u okolini i stalno izlaganje glasovima i zvukovima od velikog je značenja u radu s djecom koji imaju teškoće u govoru. Među djecom s teškoćama u govoru, kao i kod ostale djece postoje velike individualne razlike u razvoju auditivne percepcije. Zato je važno raditi na poticanju istih. Odabir vježbi treba biti primjeren, od jednostavnijih do složenijih, prema razinama postignuća djete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uditivna percepcija je neraščlanjiv i vrlo važan segment u razvijanju govornih sposobnosti kod djece s teškoćama u govor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389440" y="6229440"/>
            <a:ext cx="75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36800" y="11325240"/>
            <a:ext cx="806760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v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vi korak u komunikaciji s vanjskim svijetom čini zvuk. Početak komunikacije nastaje kada zvuk dođe u svijest. Zvukovi iz okoline izazivaju različite osjećaje. Zvukovi i osjećaji idu zajed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ercepcija je proces kojim osoba prima ili izdvaja određene informacije o okolini tj. kao proces kojim postajemo svjesni predmeta, njihovih svojstava i odnosa (V. Stančić 1991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luhom percipiramo vanjske zvučne podražaje po intenzitetu, visini i trajanju. Zvukovi mogu izazvati ugodu, ali i suprotan učinak. Oni mogu plašiti djete i potaknuti druge osjećaje. Preduvjet za razvoj auditivne percepcije je intaktan slu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onematski sluh je sposobnost razlikovanja svih glasova (jedne od drugih) a posebno diskriminaciju akustički sličnih fon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ez dobro razvijenog fonematskog sluha nema dobrog govora i glasovne analize i sintez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1320" y="24883920"/>
            <a:ext cx="6513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ivna percepcija je proces koji obuhvać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uš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vanje zvuk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ušno razlik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našanje zvukova iz ok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36800" y="27270000"/>
            <a:ext cx="814212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or je prirodna zvučna sposobnost pojedinca da se sporazumijeva s okolinom. Oblikovan je ritmom riječi, rečenica i slogo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or se uči slušanjem. Usvaja se postupno uz dobar uzor i poticajno okružen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 usvajanje govora potreban je dobar sluh, normalna inteligencija, razvijena govorna motorika, auditivna percepcija, fonematski sluh, jezične sposobnosti i poticajno okružen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orne teškoće nastaju ako pojedinac ne uspijeva u cijelosti na vrijeme (kada je toj dobi primjereno) izjednačiti svoj organski govor u količini i vrsti s govorom onih s kojima se želi poistovjetit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d djece od najranije dobi potrebno je razvijati naviku slušanja kako bi naučili reagirati na zvukove, razlikovati ih pjevušiti uz glazbu ili samostalno pjev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58240" y="23991840"/>
            <a:ext cx="784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372600" y="17297280"/>
            <a:ext cx="9328320" cy="14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ježbe za poticanje i razvijanje auditivne percepcije kod djece s teškoćama u govo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rlo su važni rani oblici poticanja. Vježbe počinju od jednostavnih ka složenijima i potrebno ih je ponavljati dok se ne  usvoje. One obuhvaćaj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vijanje navike slušanja (tišina, tiho tiho --- tihi ugodni zvukovi iz okolin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ušanje vlastitog tijela (disanje, otkucaji srca) jednostavno izvođenje do potpunog doživljav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ušanje prič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žanje i prepoznavanje zvukova iz uže i šire ok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našanje glasanja domaćih životi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ska- GA GA, pile- PI PI, kokoš- KO KO, pijetao- KUKURIKU, golub- 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vanje zvukova iz prir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onašanje zvukova vjetra, kiše, liš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onašanje zvukova automobila, vlaka – sirena, s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našanje buđenja, pucketanje prstima, pljeskanje dlanovima, hodanje – kor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vanje zvukova za raspoloženje - oponašanje veselj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vanje zvukova zatvorenih očiju (zvončići, trubice, bubnjevi) i pridržavanje predmeta koji ih proizvo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vanje prozodije govora (trajanje slogova, ritma i intonac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vanje riječ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vanje reče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jevanje uz najjednostavniji glazbeni instrumenta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jedinačno pje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re uz glaz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ušanje govora (vrlo zahtjevna zadaća koje uključuje i razumijevanje poru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ušanje, prepoznavanje i oponašanje domaćih životinja, pjeva ptica i zvukova iz neposredne okoline za dijete je uvijek poseban doživljaj. Zvukove opažamo kao tiše - neke glasnije, sporije – brže, kraće – duže, bliže ili udaljen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akav pristup u kojem dijete spoznaje svijet oko sebe neposrednim doživljajima slušanjem i oponašanjem zvukova ima posebnu širinu, toplinu i uvjerljivo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ivno iskustvo opisujemo prema utiscima koje primamo na naša osjetila iz vanjskog svij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icanje i razvijanje slušne percepcije dijete će doživjeti kao radost ako se provodi kroz igru i njemu najprimjerenije načine: pjesmice i brojal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1320" y="17137080"/>
            <a:ext cx="79930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j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vijanje auditivnog opažan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 dijete spoznaje svijet oko sebe neposrednim doživljajima i da može s okolinom komunicirati na razini svojih spoznajnih mogućnos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vijanje pozor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vijanje verbalnih nal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vijanje fonematskog slu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vijanje i poticanje go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950040" y="22352040"/>
            <a:ext cx="607068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ključ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uditivna percepcija je sposobnost kojom se objedinjuju auditivni doživljaji i spoznaje iz vanjskog svijeta. Kod djece s teškoćama u govoru postoje ograničenja u auditivnoj percepciji. Ona mogu biti u većem ili manjem obi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icanje auditivne percepcije treba se provoditi od najranije dobi, kroz igru i razvojno prilagođene sadrž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 taj način dijete  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 najranije dobi potiče i usmjerava da koristi, opaža i ući slušno, ali i svim ostalim osjetil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vijena auditivna percepcija pridonosi otklanjanju problema kod djece s teškoćama u govoru predškolske i školske dob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97640" y="28163880"/>
            <a:ext cx="61452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iteratu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ančić, V.,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Oštećenje vida – biopsiho socijalni aspek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Zagreb, 1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karić, I.,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Govorni poremećaji i njihovo otklanja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Zagreb, 197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anišić, A., Jandrašek, V., Šimunov. J.,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Razigrani zvuci 1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Zagreb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krbina, D., Šimunović. D.,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Terapijska intervencija kroz igr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Zagreb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51560" y="21085200"/>
            <a:ext cx="2536920" cy="336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950040" y="14231880"/>
            <a:ext cx="5945040" cy="7748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201400" y="8686800"/>
            <a:ext cx="5132520" cy="775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246320" y="20935800"/>
          <a:ext cx="3576600" cy="3576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46320" y="20935800"/>
                    <a:ext cx="3576600" cy="35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7:10:53Z</dcterms:created>
  <dc:creator>Logopedi</dc:creator>
  <dc:description/>
  <dc:language>en-US</dc:language>
  <cp:lastModifiedBy>/</cp:lastModifiedBy>
  <dcterms:modified xsi:type="dcterms:W3CDTF">2009-04-20T18:26:15Z</dcterms:modified>
  <cp:revision>9</cp:revision>
  <dc:subject/>
  <dc:title>Centar za odgoj i obrazovanje Velika Gorica Velika Gorica, Hrvatska </dc:title>
</cp:coreProperties>
</file>