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909588" cy="33526413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CD0-5937-41A4-8C91-DB0669E0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233172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19379880"/>
            <a:ext cx="233172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724-E16E-43E3-91FD-171E525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24296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03C-2714-4C71-BAE1-B551F64C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78920" y="782280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062560" y="782280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1937988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178920" y="1937988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062560" y="19379880"/>
            <a:ext cx="75078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123-A4E7-463E-BEBE-0713A975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7822800"/>
            <a:ext cx="23317200" cy="221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74"/>
              </a:spcBef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303-1A31-4FA6-B5C6-1C3D62F4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2331720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AF3-7B15-4327-9757-A7BB306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4A9-EB24-4625-BCF3-4618A3D7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B59-F9C5-48BA-A3E1-AD1403C2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1341360"/>
            <a:ext cx="23317200" cy="259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74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A30-DD1E-46BF-B2B1-0A4ABAAD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D32-394E-4F24-B056-A8B18C6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42960" y="1937988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36A-E941-48A7-8704-8B4830C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42960" y="7822800"/>
            <a:ext cx="1137852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19379880"/>
            <a:ext cx="23317200" cy="105541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indent="0">
              <a:spcBef>
                <a:spcPts val="2874"/>
              </a:spcBef>
              <a:buNone/>
              <a:tabLst>
                <a:tab algn="l" pos="3292560"/>
                <a:tab algn="l" pos="6585120"/>
                <a:tab algn="l" pos="987732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8DF-E5B1-4E80-8C46-CBD30F0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23317200" cy="558792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7822800"/>
            <a:ext cx="23317200" cy="2212668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rmAutofit/>
          </a:bodyPr>
          <a:p>
            <a:pPr marL="1235160" indent="-1235160"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1" marL="2674800" indent="-1028520">
              <a:spcBef>
                <a:spcPts val="2874"/>
              </a:spcBef>
              <a:buClr>
                <a:srgbClr val="000000"/>
              </a:buClr>
              <a:buFont typeface="Arial"/>
              <a:buChar char="–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2" marL="4114800" indent="-822240"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3" marL="5761080" indent="-824040">
              <a:spcBef>
                <a:spcPts val="2874"/>
              </a:spcBef>
              <a:buClr>
                <a:srgbClr val="000000"/>
              </a:buClr>
              <a:buFont typeface="Arial"/>
              <a:buChar char="–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4" marL="7407360" indent="-824040">
              <a:spcBef>
                <a:spcPts val="2874"/>
              </a:spcBef>
              <a:buClr>
                <a:srgbClr val="000000"/>
              </a:buClr>
              <a:buFont typeface="Arial"/>
              <a:buChar char="»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5" marL="7407360" indent="-824040">
              <a:spcBef>
                <a:spcPts val="2874"/>
              </a:spcBef>
              <a:buClr>
                <a:srgbClr val="000000"/>
              </a:buClr>
              <a:buFont typeface="Arial"/>
              <a:buChar char="»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lvl="6" marL="7407360" indent="-824040">
              <a:spcBef>
                <a:spcPts val="2874"/>
              </a:spcBef>
              <a:buClr>
                <a:srgbClr val="000000"/>
              </a:buClr>
              <a:buFont typeface="Arial"/>
              <a:buChar char="»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30531960"/>
            <a:ext cx="6045480" cy="23288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Autofit/>
          </a:bodyPr>
          <a:lstStyle>
            <a:lvl1pPr indent="0">
              <a:buNone/>
              <a:tabLst>
                <a:tab algn="l" pos="0"/>
                <a:tab algn="l" pos="3292560"/>
                <a:tab algn="l" pos="6585120"/>
                <a:tab algn="l" pos="9877320"/>
              </a:tabLst>
              <a:defRPr b="0" lang="hr-HR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5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851680" y="30531960"/>
            <a:ext cx="8204040" cy="23288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Autofit/>
          </a:bodyPr>
          <a:lstStyle>
            <a:lvl1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  <a:defRPr b="0" lang="hr-HR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5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567360" y="30531960"/>
            <a:ext cx="6045120" cy="23288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t">
            <a:noAutofit/>
          </a:bodyPr>
          <a:lstStyle>
            <a:lvl1pPr indent="0" algn="r">
              <a:buNone/>
              <a:tabLst>
                <a:tab algn="l" pos="0"/>
                <a:tab algn="l" pos="3292560"/>
                <a:tab algn="l" pos="6585120"/>
                <a:tab algn="l" pos="9877320"/>
              </a:tabLst>
              <a:defRPr b="0" lang="hr-HR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fld id="{80BCF0D1-832D-4129-BC50-4A1E5A4906B3}" type="slidenum">
              <a:rPr b="0" lang="hr-HR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93920" y="446040"/>
            <a:ext cx="22021920" cy="2906640"/>
          </a:xfrm>
          <a:prstGeom prst="rect">
            <a:avLst/>
          </a:prstGeom>
          <a:noFill/>
          <a:ln w="0">
            <a:noFill/>
          </a:ln>
        </p:spPr>
        <p:txBody>
          <a:bodyPr lIns="329040" rIns="329040" tIns="164520" bIns="164520" anchor="ctr">
            <a:noAutofit/>
          </a:bodyPr>
          <a:p>
            <a:pPr indent="0" algn="ctr"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entar za odgoj i obrazovanje Velika Gorica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elika Gorica</a:t>
            </a:r>
            <a:r>
              <a:rPr b="0" lang="hr-HR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8240" y="3128760"/>
            <a:ext cx="20061360" cy="23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874"/>
              </a:spcBef>
              <a:buNone/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Auditivna percepcija u ranoj kamunikaciji i radu s djecom s govorno jezičnim teškoćama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7560" y="6033960"/>
            <a:ext cx="6293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u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rica Krajnović, prof. log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rjana Dobrojević, prof. log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1320" y="5811840"/>
            <a:ext cx="93279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ljučne riječ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ercepcija, Poticanje, Gov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žet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uditivna percepcija je proces koji djetetu omogućava da čuje, percipira, prepozna, razlikuje osvijesti i memorira određene auditivne doživljaje. Poticanje i razvijanje auditivne percepcije započinje od djetetova rođenja. Raznovrsni zvuci i glasovi u okolini odzvanjaju i potiču u svijesti spoznaju i misli koje nas pokreću, zadivljuju i zastrašuj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vuk dijete čuje i iskustveno doživljava od najranije dobi. Sluša i raspoznaje glasove majke koji ga umiruju i vesele. Na jake i prodorne zvukove često zaplače, pokazuje strah. Zvuk dijeluje na sve procese u mozgu i time neposredno utječe na kongitivne, emocionalne i tjelesne sposob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vijanje interesa za auditivno opažanje u okolini i stalno izlaganje glasovima i zvukovima od velikog je značenja u radu s djecom koji imaju teškoće u govoru. Među djecom s teškoćama u govoru, kao i kod ostale djece postoje velike individualne razlike u razvoju auditivne percepcije. Zato je važno raditi na poticanju istih. Odabir vježbi treba biti primjeren, od jednostavnijih do složenijih, prema razinama postignuća djet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uditivna percepcija je neraščlanjiv i vrlo važan segment u razvijanju govornih sposobnosti kod djece s teškoćama u govo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389440" y="6229440"/>
            <a:ext cx="75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36800" y="11325240"/>
            <a:ext cx="806760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v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vi korak u komunikaciji s vanjskim svijetom čini zvuk. Početak komunikacije nastaje kada zvuk dođe u svijest. Zvukovi iz okoline izazivaju različite osjećaje. Zvukovi i osjećaji idu zajed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rcepcija je proces kojim osoba prima ili izdvaja određene informacije o okolini tj. kao proces kojim postajemo svjesni predmeta, njihovih svojstava i odnosa (V. Stančić 1991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uhom percipiramo vanjske zvučne podražaje po intenzitetu, visini i trajanju. Zvukovi mogu izazvati ugodu, ali i suprotan učinak. Oni mogu plašiti djete i potaknuti druge osjećaje. Preduvjet za razvoj auditivne percepcije je intaktan slu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onematski sluh je sposobnost razlikovanja svih glasova (jedne od drugih) a posebno diskriminaciju akustički sličnih fon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ez dobro razvijenog fonematskog sluha nema dobrog govora i glasovne analize i sintez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1320" y="24883920"/>
            <a:ext cx="6513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vna percepcija je proces koji obuhvać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no razlik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našanje zvukova iz ok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36800" y="27270000"/>
            <a:ext cx="8142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or je prirodna zvučna sposobnost pojedinca da se sporazumijeva s okolinom. Oblikovan je ritmom riječi, rečenica i slogo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or se uči slušanjem. Usvaja se postupno uz dobar uzor i poticajno okružen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 usvajanje govora potreban je dobar sluh, normalna inteligencija, razvijena govorna motorika, auditivna percepcija, fonematski sluh, jezične sposobnosti i poticajno okružen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orne teškoće nastaju ako pojedinac ne uspijeva u cijelosti na vrijeme (kada je toj dobi primjereno) izjednačiti svoj organski govor u količini i vrsti s govorom onih s kojima se želi poistovjeti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d djece od najranije dobi potrebno je razvijati naviku slušanja kako bi naučili reagirati na zvukove, razlikovati ih pjevušiti uz glazbu ili samostalno pjev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58240" y="23991840"/>
            <a:ext cx="784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372600" y="17297280"/>
            <a:ext cx="9328320" cy="14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ježbe za poticanje i razvijanje auditivne percepcije kod djece s teškoćama u gov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lo su važni rani oblici poticanja. Vježbe počinju od jednostavnih ka složenijima i potrebno ih je ponavljati dok se ne  usvoje. One obuhvaćaj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navike slušanja (tišina, tiho tiho --- tihi ugodni zvukovi iz okolin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 vlastitog tijela (disanje, otkucaji srca) jednostavno izvođenje do potpunog doživljav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 prič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žanje i prepoznavanje zvukova iz uže i šire ok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našanje glasanja domaćih životi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ska- GA GA, pile- PI PI, kokoš- KO KO, pijetao- KUKURIKU, golub- 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 iz prir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onašanje zvukova vjetra, kiše, liš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onašanje zvukova automobila, vlaka – sirena, s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našanje buđenja, pucketanje prstima, pljeskanje dlanovima, hodanje – kor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 za raspoloženje - oponašanje veselj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zvukova zatvorenih očiju (zvončići, trubice, bubnjevi) i pridržavanje predmeta koji ih proizv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prozodije govora (trajanje slogova, ritma i intona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rije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oznavanje reče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jevanje uz najjednostavniji glazbeni instrumenta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jedinačno pje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re uz glaz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 govora (vrlo zahtjevna zadaća koje uključuje i razumijevanje poru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šanje, prepoznavanje i oponašanje domaćih životinja, pjeva ptica i zvukova iz neposredne okoline za dijete je uvijek poseban doživljaj. Zvukove opažamo kao tiše - neke glasnije, sporije – brže, kraće – duže, bliže ili udaljen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akav pristup u kojem dijete spoznaje svijet oko sebe neposrednim doživljajima slušanjem i oponašanjem zvukova ima posebnu širinu, toplinu i uvjerljiv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ivno iskustvo opisujemo prema utiscima koje primamo na naša osjetila iz vanjskog svi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icanje i razvijanje slušne percepcije dijete će doživjeti kao radost ako se provodi kroz igru i njemu najprimjerenije načine: pjesmice i broja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1320" y="17137080"/>
            <a:ext cx="7993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j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auditivnog opaž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 dijete spoznaje svijet oko sebe neposrednim doživljajima i da može s okolinom komunicirati na razini svojih spoznajnih mogućn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pozor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verbalnih na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fonematskog slu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292560"/>
                <a:tab algn="l" pos="6585120"/>
                <a:tab algn="l" pos="9877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ijanje i poticanje go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950040" y="22352040"/>
            <a:ext cx="607068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ključ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ditivna percepcija je sposobnost kojom se objedinjuju auditivni doživljaji i spoznaje iz vanjskog svijeta. Kod djece s teškoćama u govoru postoje ograničenja u auditivnoj percepciji. Ona mogu biti u većem ili manjem obi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icanje auditivne percepcije treba se provoditi od najranije dobi, kroz igru i razvojno prilagođene sadrž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taj način dijete  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 najranije dobi potiče i usmjerava da koristi, opaža i ući slušno, ali i svim ostalim osjetil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ijena auditivna percepcija pridonosi otklanjanju problema kod djece s teškoćama u govoru predškolske i školske dob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97640" y="28163880"/>
            <a:ext cx="61452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čić, V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Oštećenje vida – biopsiho socijalni aspek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karić, I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Govorni poremećaji i njihovo otklanjan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19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išić, A., Jandrašek, V., Šimunov. J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Razigrani zvuci 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292560"/>
                <a:tab algn="l" pos="6585120"/>
                <a:tab algn="l" pos="987732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krbina, D., Šimunović. D.,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Terapijska intervencija kroz igr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Zagreb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51560" y="21085200"/>
            <a:ext cx="2536920" cy="336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50040" y="14231880"/>
            <a:ext cx="5945040" cy="7748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201400" y="8686800"/>
            <a:ext cx="5132520" cy="775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246320" y="20935800"/>
          <a:ext cx="3576600" cy="357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46320" y="20935800"/>
                    <a:ext cx="3576600" cy="35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7:10:53Z</dcterms:created>
  <dc:creator>Logopedi</dc:creator>
  <dc:description/>
  <dc:language>en-US</dc:language>
  <cp:lastModifiedBy>/</cp:lastModifiedBy>
  <dcterms:modified xsi:type="dcterms:W3CDTF">2009-04-20T18:26:15Z</dcterms:modified>
  <cp:revision>9</cp:revision>
  <dc:subject/>
  <dc:title>Centar za odgoj i obrazovanje Velika Gorica Velika Gorica, Hrvatska </dc:title>
</cp:coreProperties>
</file>