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8.jpeg" ContentType="image/jpeg"/>
  <Override PartName="/ppt/media/image29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25.jpeg" ContentType="image/jpeg"/>
  <Override PartName="/ppt/media/image10.wmf" ContentType="image/x-wmf"/>
  <Override PartName="/ppt/media/image28.png" ContentType="image/png"/>
  <Override PartName="/ppt/media/image5.gif" ContentType="image/gif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22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6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37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38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9BC-C546-4B7A-AF9D-0814AD25524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572B-A936-44C9-831E-7651BCF87F3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81EFFB-4E70-4BE4-9318-6C982EFB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B5F239-0305-4A07-B7ED-BC2CF82B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BB2EA-FFA1-450B-96CB-6F40168A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89791-ECB5-4C43-AA88-55E9674B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3D4ED-9FF9-461D-B5A8-62B40CD7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D519C7-9CD5-4DE9-B489-ECF929E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20C44-5278-4C2E-A9C7-A9D35179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00142-8920-4700-B57F-780C4F89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2305A-C95E-479E-9158-6C726B5A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77B6D-26BF-4589-BBC9-9C0566E8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C17C7-AB38-48DC-9042-8DBC752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17C01-8CA6-4746-B2CD-FC319FF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57905-1FA6-4DE2-9BC1-4B1ABB6F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E40B-9A43-4914-8736-3C64046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04A4E-99E5-42AC-9860-E2EC115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23E80-AFBA-4EEC-9BAC-92D44144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047A7-D1DD-4000-8B90-33C760B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97365-39BB-45C6-816B-831FF7D6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A30CA-5D18-4BAA-953E-1503709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3EBC0-0163-48CA-9A57-DF1E81AD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02836-52B7-4006-B911-996630C2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CC7BA-E6C3-480D-B8BE-18881EBE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BD766-AF45-43B1-9948-6D9A3DB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07FF8-907A-481B-A6D2-EA08A7A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B1843-F12F-425D-BE83-9ED72E77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19DC5-AFBC-40A6-B133-6B3B28C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AD01A-4683-41F2-BC89-5C0BB67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5765C-952E-44B9-8507-EBC7AF7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2DA01-6B01-4CD4-A741-BF2695B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BE38B-9A7A-4675-87EE-6843DCC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9A72B-A655-4D38-AADD-91140C40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22CEA-0DA3-4C24-B72D-31FA5F3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0EFDD-AD8E-4D55-9D64-A404134D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01D18-E7C8-42BB-92BC-5E9F47A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5A3764-A3CD-4C3B-BC45-0EE8380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6E4201-A4DE-4F8E-90BF-22CD6FF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034AF-ED77-44C5-A289-C5441C9A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DE9662-BF61-4EA2-A660-5B664FC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CB70A1-5485-4EE1-AA0C-415F76A2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19ED83-9B8C-4A06-9FA3-3DFBC2B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4CC0C5-0BAE-4899-BDE0-69E5491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E4EB44-3DB9-4DFE-9C97-591D499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CB8938-79F8-4A4D-9805-9FC70B2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DF9EC0-B5B6-4C12-B1DE-017842E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7F525-A20D-4455-8AF0-16570A94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ABF66-251F-41FA-8B80-B3A140A8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B113A9-3301-4EF0-AA2D-8C00BC7E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C3CC4B-4EBD-4C20-9A9B-AB5042C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ACB44-E290-4F07-81B8-99046C1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724D42-5521-4E32-ABF4-40997CF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B8C9B8-7E77-4B36-91E7-87D87B0D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213B6E-DA9F-4257-A6A7-A4F783C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B3A100-B319-4F46-8AEF-BFC2038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4E083-ED82-4DCB-836A-7E66B7E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C2621F-A593-4494-88AF-22D348DE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620F9C-8425-44F0-8A7D-C3FB71D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C6761-77F7-4976-AE02-0A3904FF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39325-F1D7-489F-88F3-CAE5A33C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FCDD-DFB1-4A7F-AEE9-1560E7EE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A082-0834-477A-8E66-83B47EB3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93596-8CBA-43F5-8BC1-98DA69F6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A397-422E-496A-BA09-63B689F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1DC6F-F1EB-4790-B078-D6A7C69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FF327-D1B8-4B2C-99E7-0486E8D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B621A-DC69-4372-B558-4713429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BBC74-1E5C-4C2C-827C-2F2D8F0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983A6-6202-4BF0-B6AC-A833977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458A5-7C16-45A9-A794-A26C96CD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BAB95-C632-42E5-BE68-2CF29FB9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0C36C-E082-470F-B779-D1E7B0D7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A8292-F7EE-4A8B-9E71-B766998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ED0A0-0756-41F5-87A0-399FF60A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C3CD1-F675-4DF8-A0A3-6B8E235A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E4C19-8BAD-49F8-81D9-ED25C9D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AF68A-5843-4EA3-9515-7E1665A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0B3ED-A751-4A6E-AE0B-FD156105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3C618-4484-41AA-A873-52E5EBE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98077-C81E-45CA-AF1A-0FC2B8E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E2373-A1A2-46FE-AD5A-674C265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BD33F-E777-4295-93B0-C7DE7E64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A2514-1AC9-4F40-AFC1-1D615A18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48F56-21AC-4635-A4DE-3C050328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B2A60-3BE7-4445-B546-8261F04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70B32-45D2-4B94-8952-9E01C9CB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2C9DE-CBD4-4BAA-A273-5B1DD20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A69CC-CCAC-4F63-A7E8-EFC9618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1F268-FB8C-4C9F-ACC8-2C7920B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0A62C-0CA4-4B44-9B8D-C25404D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BF27B-31CD-48E8-867C-DC6B46A7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E0636-D357-472F-B81B-B1CDDA1A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5B884-B961-431F-881D-465E538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E6B76-AB9D-4F4F-882E-AC88E841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6C76C-F3AF-48F2-9936-B283FC3A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1250B-4FE6-4647-A45D-E3D0DE9E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BBCFC-EE3F-4236-A0B8-9F528E2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81D28-DF34-4DBF-9AB3-E6AFC589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A7164-2B97-4FCD-96D8-BA92EE4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9AC59-901C-4D31-BB56-29104EB0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72CAF0-C7E8-4B0B-8D6E-F07A72E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5E72E-331F-418E-A89B-11D95AF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8E634-7967-4406-BC75-AB348CA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21900-D629-41D3-9021-88C08A47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9C966-549A-4243-8535-4C4FEF4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990CF-0FFE-463A-9551-7F436AFE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F02A8-3ABB-48F5-9626-372C162E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58115-D449-4F2F-A0F7-8F977AEB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1C411-4FC1-4205-9235-D3FEC81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A50E6-B282-4EDB-9B64-D736E5A4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5CBB0-D091-43E7-8367-6BBBC92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A5DDE-B1DC-4334-AB61-70B4452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D95B5-D7C6-42A6-89F5-A0588C92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952FA-CE2B-4308-B294-49EBD76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8B931-171F-48B2-BEC4-2F57FE09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2A1C7-153B-4573-9BF3-1BD518E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F280B-4B15-4E72-9E29-99303AA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27B33-2FC2-412A-9751-A887E182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20800-ED47-4D0B-B802-B3661F67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B96DDC-BC98-41A6-B50E-1F9F52E8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1B5541-501D-4C2D-BF11-D98DA9DB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331C9-0624-4A36-8E22-1F3A4C0D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CE366-D910-453F-AD48-1CF4D13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11BDF9-112B-41C1-B794-5470A22D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E61F0C-202C-4836-9660-9EA801E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E8C338-2B5F-4847-AD72-24F34CF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E82C17-A0B4-4662-8161-0ABE8F0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04502-BC71-4CE0-9E7A-0DA8F9C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C15F5-F712-43D4-A0DE-94E9658A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80A6D-75F1-46CA-91D8-09D3CDCC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E995D-A322-4740-941E-266414FD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EE77D-641F-4876-8985-72DB6A02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9883E-D05F-484B-B38D-01B86DB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3AF6C-FA0A-47C3-93F0-868EDBFD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Hrvatski kvalifikacijski okvir (HKO), Europski kvalifikacijski okvir (EQF), strategijsko planiranje i osiguranje sustava kvalitete u odgojno - obrazovnim ustanovama - Zagreb 10.-21.06.20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II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52F6-B7B1-4BF5-8819-B9A7A2E660D3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Date Placeholder 3"/>
          <p:cNvSpPr/>
          <p:nvPr/>
        </p:nvSpPr>
        <p:spPr>
          <a:xfrm>
            <a:off x="357120" y="649296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II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6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57D-26AD-4A54-A878-CEB8F63145B3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Date Placeholder 3"/>
          <p:cNvSpPr/>
          <p:nvPr/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II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9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6FE-2B16-43E4-919D-29F1952EA68F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2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Predmetno područje: Opći stručni skupovi: III. Modul - Hrvatski kvalifikacijski okvir (HKO), Europski kvalifikacijski okvir (EQF), strategijsko planiranje i osiguranje sustava kvalitete u odgojno - obrazovnim ustanovama - Zagreb 10.-21.06.20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Date Placeholder 3"/>
          <p:cNvSpPr/>
          <p:nvPr/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II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655-4AC8-4A2F-9C02-99467A0A9DB9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7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Calibri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Date Placeholder 3"/>
          <p:cNvSpPr/>
          <p:nvPr/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107172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447-BABB-4F38-8D20-F4CB0D3610CA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333-D64E-4F5A-A090-DB311C8F7E8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Date Placeholder 3"/>
          <p:cNvSpPr/>
          <p:nvPr/>
        </p:nvSpPr>
        <p:spPr>
          <a:xfrm>
            <a:off x="571680" y="6508800"/>
            <a:ext cx="84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B07A-F165-4F4F-AAED-787AF8400E7D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FDF-B16C-4F20-A26E-0A2360511DC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B6E0-E1B6-437E-B1CC-63391BA3CD7D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V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7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CF8-9F11-4374-943F-1F94DA4E0E19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Date Placeholder 3"/>
          <p:cNvSpPr/>
          <p:nvPr/>
        </p:nvSpPr>
        <p:spPr>
          <a:xfrm>
            <a:off x="609480" y="6508800"/>
            <a:ext cx="84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Predmetno područje: Opći stručni skupovi: III. Modul - </a:t>
            </a:r>
            <a:r>
              <a:rPr b="1" lang="hr-HR" sz="1100" spc="-1" strike="noStrike">
                <a:solidFill>
                  <a:srgbClr val="000000"/>
                </a:solidFill>
                <a:latin typeface="Calibri"/>
              </a:rPr>
              <a:t>Hrvatski kvalifikacijski okvir (HKO), Europski kvalifikacijski okvir (EQF), strategijsko planiranje i osiguranje sustava kvalitete u odgojno - obrazovnim ustanovama </a:t>
            </a:r>
            <a:r>
              <a:rPr b="1" lang="hr-HR" sz="1100" spc="-1" strike="noStrike">
                <a:solidFill>
                  <a:srgbClr val="7f7f7f"/>
                </a:solidFill>
                <a:latin typeface="Calibri"/>
              </a:rPr>
              <a:t>- Zagreb 10.-21.06.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336-3FD3-4C91-A418-820E545512E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iskon.hr/2005/01/12/0183007.17.jpg&amp;imgrefurl=http://www.iskon.hr/vijesti/page/2005/11/18/0110006.html&amp;h=286&amp;w=310&amp;sz=18&amp;hl=hr&amp;start=13&amp;tbnid=0bmlxx62bWUErM:&amp;tbnh=103&amp;tbnw=112&amp;prev=/images%3Fq%3DUmirovljenici%26svnum%3D10%26hl%3Dhr%26lr%3D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hr/imgres?imgurl=http://www.iskon.hr/2003/02/13/0121007.17.jpg&amp;imgrefurl=http://www.iskon.hr/bebe/page/2003/02/27/0189006.html&amp;h=231&amp;w=310&amp;sz=20&amp;hl=hr&amp;start=5&amp;tbnid=X73Ysdcb1-WE8M:&amp;tbnh=83&amp;tbnw=112&amp;prev=/images%3Fq%3DDjeca%26svnum%3D10%26hl%3Dhr%26lr%3D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2571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AŽNOST MEĐUSEKTORSKE SURADNJE U OSTVARIVANJU SUSTAVA SOCIJALNE SKRBI U KONTEKSTU EUROPSKOG OKVIRA KLJUČNIH KOMPETENCIJA  ZA CJELOŽIVOTNO UČENJE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50012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Zorana Uzelac, Šef Odsjeka – stručni savjetnik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Grad Zagreb</a:t>
            </a:r>
            <a:br>
              <a:rPr sz="2000"/>
            </a:b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Gradski ured za socijalnu zaštitu i osobe s invaliditet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Oval 2"/>
          <p:cNvSpPr/>
          <p:nvPr/>
        </p:nvSpPr>
        <p:spPr>
          <a:xfrm>
            <a:off x="3348000" y="26028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3"/>
          <p:cNvSpPr/>
          <p:nvPr/>
        </p:nvSpPr>
        <p:spPr>
          <a:xfrm>
            <a:off x="3276720" y="2421000"/>
            <a:ext cx="266364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"/>
          <p:cNvSpPr/>
          <p:nvPr/>
        </p:nvSpPr>
        <p:spPr>
          <a:xfrm>
            <a:off x="179280" y="249228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6300720" y="242100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916360" y="4581360"/>
            <a:ext cx="3384360" cy="20163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4643280" y="155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8"/>
          <p:cNvSpPr/>
          <p:nvPr/>
        </p:nvSpPr>
        <p:spPr>
          <a:xfrm>
            <a:off x="4643280" y="3716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2843280" y="306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59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3235680" y="550080"/>
            <a:ext cx="293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Projekt Gerontološki cen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0 00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4.0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-3960" y="2638080"/>
            <a:ext cx="296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Prigodni pake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za blagdane Uskrsa i Boži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4 00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4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6366960" y="2709000"/>
            <a:ext cx="243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Izleti za umirovljen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 500 umirovlj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5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2963160" y="4655880"/>
            <a:ext cx="3381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Novčana pomo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za osobne potre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korisnicima domova za starije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nemoćne oso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čiji je osnivač Grad Zagre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50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.1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3681000" y="2637720"/>
            <a:ext cx="195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DOMOVI 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STARIJE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NEMOĆNE OS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6" descr="0183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5920"/>
            <a:ext cx="2368800" cy="2178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7" descr="Svjetski dan sporta, Maksimir"/>
          <p:cNvPicPr/>
          <p:nvPr/>
        </p:nvPicPr>
        <p:blipFill>
          <a:blip r:embed="rId3"/>
          <a:stretch/>
        </p:blipFill>
        <p:spPr>
          <a:xfrm>
            <a:off x="250920" y="4941720"/>
            <a:ext cx="2303280" cy="16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3880" y="2357280"/>
            <a:ext cx="7704360" cy="14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OM ZA DJECU I ODRASLE ŽRTVE OBITELJSKOG NASILJ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UGA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ZAGREB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trenutno 20 korisnika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3.500.000,00 kn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AD S POČINITELJIMA OBITELJSKOG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SILJA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350.000,00 k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900000" y="4221000"/>
            <a:ext cx="8013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MCNA00682_0000[1]"/>
          <p:cNvPicPr/>
          <p:nvPr/>
        </p:nvPicPr>
        <p:blipFill>
          <a:blip r:embed="rId1"/>
          <a:stretch/>
        </p:blipFill>
        <p:spPr>
          <a:xfrm>
            <a:off x="3227400" y="115920"/>
            <a:ext cx="5630760" cy="1455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MPj04364430000[1]"/>
          <p:cNvPicPr/>
          <p:nvPr/>
        </p:nvPicPr>
        <p:blipFill>
          <a:blip r:embed="rId2"/>
          <a:stretch/>
        </p:blipFill>
        <p:spPr>
          <a:xfrm>
            <a:off x="3995640" y="4221000"/>
            <a:ext cx="1065240" cy="1605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2195640" y="5734080"/>
            <a:ext cx="450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AUTONOMNA SKLON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TA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ZA ŽRTVE OBITELJSKOG NASILJA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8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900000" y="4221000"/>
            <a:ext cx="8013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MPj04000190000[1]"/>
          <p:cNvPicPr/>
          <p:nvPr/>
        </p:nvPicPr>
        <p:blipFill>
          <a:blip r:embed="rId1"/>
          <a:stretch/>
        </p:blipFill>
        <p:spPr>
          <a:xfrm>
            <a:off x="0" y="1857240"/>
            <a:ext cx="3684600" cy="4500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4"/>
          <p:cNvSpPr/>
          <p:nvPr/>
        </p:nvSpPr>
        <p:spPr>
          <a:xfrm>
            <a:off x="3071880" y="5430240"/>
            <a:ext cx="529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Savjetovanje i pomagan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u prevladavanju posebnih teško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 000 korisnika godiš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.000.000,00 k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3635280" y="1359360"/>
            <a:ext cx="515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avjetovalište za osobe s invalidite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i članove njihovih obitel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3500280" y="4430880"/>
            <a:ext cx="508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avjetovalište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socijalne zašt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Savjetovalište za udomi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989880" y="2573640"/>
            <a:ext cx="427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avjetovalište za djecu i odras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žrtve obiteljskog nasi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2909160" y="36439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avjetovalište u mom kvartu – Mobilni tim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IMG_9718"/>
          <p:cNvPicPr/>
          <p:nvPr/>
        </p:nvPicPr>
        <p:blipFill>
          <a:blip r:embed="rId1"/>
          <a:stretch/>
        </p:blipFill>
        <p:spPr>
          <a:xfrm>
            <a:off x="0" y="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289548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4" descr="P1010005"/>
          <p:cNvPicPr/>
          <p:nvPr/>
        </p:nvPicPr>
        <p:blipFill>
          <a:blip r:embed="rId2"/>
          <a:stretch/>
        </p:blipFill>
        <p:spPr>
          <a:xfrm>
            <a:off x="250920" y="350532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468360" y="549360"/>
            <a:ext cx="5759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SNAGA ORGANIZACIJA </a:t>
            </a:r>
            <a:br>
              <a:rPr sz="2400"/>
            </a:b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CIVILNOG DRU</a:t>
            </a:r>
            <a:r>
              <a:rPr b="0" lang="hr-HR" sz="2400" spc="-1" strike="noStrike">
                <a:solidFill>
                  <a:srgbClr val="0000ff"/>
                </a:solidFill>
                <a:latin typeface="Calibri"/>
              </a:rPr>
              <a:t>Š</a:t>
            </a: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TVA</a:t>
            </a:r>
            <a:br>
              <a:rPr sz="2400"/>
            </a:b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U GRADU ZAGREBU</a:t>
            </a:r>
            <a:br>
              <a:rPr sz="2400"/>
            </a:br>
            <a:r>
              <a:rPr b="0" lang="hr-HR" sz="1800" spc="-1" strike="noStrike">
                <a:solidFill>
                  <a:srgbClr val="0000ff"/>
                </a:solidFill>
                <a:latin typeface="Comic Sans MS"/>
              </a:rPr>
              <a:t>300 financiranih programa i projekata</a:t>
            </a:r>
            <a:br>
              <a:rPr sz="1800"/>
            </a:br>
            <a:r>
              <a:rPr b="0" lang="hr-HR" sz="1800" spc="-1" strike="noStrike">
                <a:solidFill>
                  <a:srgbClr val="0000ff"/>
                </a:solidFill>
                <a:latin typeface="Comic Sans MS"/>
              </a:rPr>
              <a:t>9.000.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Oval 2"/>
          <p:cNvSpPr/>
          <p:nvPr/>
        </p:nvSpPr>
        <p:spPr>
          <a:xfrm>
            <a:off x="3348000" y="26028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3"/>
          <p:cNvSpPr/>
          <p:nvPr/>
        </p:nvSpPr>
        <p:spPr>
          <a:xfrm>
            <a:off x="3276720" y="2421000"/>
            <a:ext cx="266364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4"/>
          <p:cNvSpPr/>
          <p:nvPr/>
        </p:nvSpPr>
        <p:spPr>
          <a:xfrm>
            <a:off x="179280" y="249228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5"/>
          <p:cNvSpPr/>
          <p:nvPr/>
        </p:nvSpPr>
        <p:spPr>
          <a:xfrm>
            <a:off x="6300720" y="2421000"/>
            <a:ext cx="266400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6"/>
          <p:cNvSpPr/>
          <p:nvPr/>
        </p:nvSpPr>
        <p:spPr>
          <a:xfrm>
            <a:off x="2916360" y="4581360"/>
            <a:ext cx="3384360" cy="20163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4643280" y="155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4643280" y="3716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2843280" y="306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59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3758760" y="671400"/>
            <a:ext cx="19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USTAN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SOCIJALNE SKR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54320" y="300312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POSLOVNI S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7023240" y="295236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GRAĐ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3571200" y="5264280"/>
            <a:ext cx="217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ORGANIZACI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CIVILNOG DRUŠ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3276720" y="2615040"/>
            <a:ext cx="28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GRADSKI URED 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SOCIJALNU ZAŠTI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66"/>
                </a:solidFill>
                <a:latin typeface="Comic Sans MS"/>
              </a:rPr>
              <a:t>I OSOBE S INVALIDITE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Organization Chart 2"/>
          <p:cNvGrpSpPr/>
          <p:nvPr/>
        </p:nvGrpSpPr>
        <p:grpSpPr>
          <a:xfrm>
            <a:off x="357120" y="1643040"/>
            <a:ext cx="8227800" cy="4775400"/>
            <a:chOff x="357120" y="1643040"/>
            <a:chExt cx="8227800" cy="4775400"/>
          </a:xfrm>
        </p:grpSpPr>
        <p:cxnSp>
          <p:nvCxnSpPr>
            <p:cNvPr id="709" name="_s2052"/>
            <p:cNvCxnSpPr>
              <a:stCxn id="710" idx="0"/>
              <a:endCxn id="711" idx="2"/>
            </p:cNvCxnSpPr>
            <p:nvPr/>
          </p:nvCxnSpPr>
          <p:spPr>
            <a:xfrm flipV="1">
              <a:off x="4470480" y="3552480"/>
              <a:ext cx="9000" cy="955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1" name="_s2053"/>
            <p:cNvSpPr/>
            <p:nvPr/>
          </p:nvSpPr>
          <p:spPr>
            <a:xfrm>
              <a:off x="357120" y="1643040"/>
              <a:ext cx="8227800" cy="191016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200" spc="-1" strike="noStrike">
                  <a:solidFill>
                    <a:srgbClr val="53548a"/>
                  </a:solidFill>
                  <a:latin typeface="Comic Sans MS"/>
                </a:rPr>
                <a:t>Od zatvorenog načina rada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_s2054"/>
            <p:cNvSpPr/>
            <p:nvPr/>
          </p:nvSpPr>
          <p:spPr>
            <a:xfrm>
              <a:off x="357120" y="4508280"/>
              <a:ext cx="8227800" cy="191016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900" spc="-1" strike="noStrike">
                  <a:solidFill>
                    <a:srgbClr val="53548a"/>
                  </a:solidFill>
                  <a:latin typeface="Comic Sans MS"/>
                </a:rPr>
                <a:t>Do MEĐUSEKTORSKE SURADNJE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900" spc="-1" strike="noStrike">
                  <a:solidFill>
                    <a:srgbClr val="53548a"/>
                  </a:solidFill>
                  <a:latin typeface="Comic Sans MS"/>
                </a:rPr>
                <a:t>i otvorenosti prema građanima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900" spc="-1" strike="noStrike">
                  <a:solidFill>
                    <a:srgbClr val="53548a"/>
                  </a:solidFill>
                  <a:latin typeface="Comic Sans MS"/>
                </a:rPr>
                <a:t>i sredstvima javnog priopćavanj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53548a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53548a"/>
                  </a:solidFill>
                  <a:latin typeface="Comic Sans MS"/>
                </a:rPr>
                <a:t> </a:t>
              </a:r>
              <a:r>
                <a:rPr b="1" lang="hr-HR" sz="2000" spc="-1" strike="noStrike">
                  <a:solidFill>
                    <a:srgbClr val="53548a"/>
                  </a:solidFill>
                  <a:latin typeface="Comic Sans MS"/>
                </a:rPr>
                <a:t>izrada publikacija (vodiči, brošure, leci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53548a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53548a"/>
                  </a:solidFill>
                  <a:latin typeface="Comic Sans MS"/>
                </a:rPr>
                <a:t> </a:t>
              </a:r>
              <a:r>
                <a:rPr b="1" lang="hr-HR" sz="2000" spc="-1" strike="noStrike">
                  <a:solidFill>
                    <a:srgbClr val="53548a"/>
                  </a:solidFill>
                  <a:latin typeface="Comic Sans MS"/>
                </a:rPr>
                <a:t>organizacija manifestacija (Tjedan udruga, Gerontološki tulum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Picture 7" descr=""/>
            <p:cNvPicPr/>
            <p:nvPr/>
          </p:nvPicPr>
          <p:blipFill>
            <a:blip r:embed="rId1"/>
            <a:stretch/>
          </p:blipFill>
          <p:spPr>
            <a:xfrm>
              <a:off x="3669480" y="3115440"/>
              <a:ext cx="1800720" cy="147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" descr="novo1"/>
          <p:cNvPicPr/>
          <p:nvPr/>
        </p:nvPicPr>
        <p:blipFill>
          <a:blip r:embed="rId1"/>
          <a:stretch/>
        </p:blipFill>
        <p:spPr>
          <a:xfrm>
            <a:off x="900000" y="1557360"/>
            <a:ext cx="7745400" cy="474012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11"/>
          <p:cNvSpPr/>
          <p:nvPr/>
        </p:nvSpPr>
        <p:spPr>
          <a:xfrm>
            <a:off x="1835280" y="2708280"/>
            <a:ext cx="575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Comic Sans MS"/>
              </a:rPr>
              <a:t>SURADNJOM DO USPJEŠ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4608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424456"/>
                </a:solidFill>
                <a:latin typeface="Comic Sans MS"/>
              </a:rPr>
              <a:t>HVALA NA PAŽN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3" descr="Picture1"/>
          <p:cNvPicPr/>
          <p:nvPr/>
        </p:nvPicPr>
        <p:blipFill>
          <a:blip r:embed="rId1"/>
          <a:stretch/>
        </p:blipFill>
        <p:spPr>
          <a:xfrm>
            <a:off x="179280" y="3716280"/>
            <a:ext cx="4465800" cy="2967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4" descr="MPj04276880000[1]"/>
          <p:cNvPicPr/>
          <p:nvPr/>
        </p:nvPicPr>
        <p:blipFill>
          <a:blip r:embed="rId2"/>
          <a:stretch/>
        </p:blipFill>
        <p:spPr>
          <a:xfrm>
            <a:off x="5292720" y="476280"/>
            <a:ext cx="3660840" cy="37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Diagram 4"/>
          <p:cNvGrpSpPr/>
          <p:nvPr/>
        </p:nvGrpSpPr>
        <p:grpSpPr>
          <a:xfrm>
            <a:off x="0" y="500040"/>
            <a:ext cx="8857800" cy="5071680"/>
            <a:chOff x="0" y="500040"/>
            <a:chExt cx="8857800" cy="5071680"/>
          </a:xfrm>
        </p:grpSpPr>
        <p:sp>
          <p:nvSpPr>
            <p:cNvPr id="603" name="_s1028"/>
            <p:cNvSpPr/>
            <p:nvPr/>
          </p:nvSpPr>
          <p:spPr>
            <a:xfrm flipH="1" flipV="1">
              <a:off x="3197520" y="2311560"/>
              <a:ext cx="55944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_s1029"/>
            <p:cNvSpPr/>
            <p:nvPr/>
          </p:nvSpPr>
          <p:spPr>
            <a:xfrm>
              <a:off x="2047680" y="1612800"/>
              <a:ext cx="1177200" cy="10717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OBITELJSK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POLITIK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_s1030"/>
            <p:cNvSpPr/>
            <p:nvPr/>
          </p:nvSpPr>
          <p:spPr>
            <a:xfrm flipH="1">
              <a:off x="3624480" y="3075840"/>
              <a:ext cx="3470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1031"/>
            <p:cNvSpPr/>
            <p:nvPr/>
          </p:nvSpPr>
          <p:spPr>
            <a:xfrm>
              <a:off x="2691360" y="3409200"/>
              <a:ext cx="1177560" cy="10713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CIVILN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DRUŠT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1032"/>
            <p:cNvSpPr/>
            <p:nvPr/>
          </p:nvSpPr>
          <p:spPr>
            <a:xfrm>
              <a:off x="4660920" y="3074040"/>
              <a:ext cx="346680" cy="4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1033"/>
            <p:cNvSpPr/>
            <p:nvPr/>
          </p:nvSpPr>
          <p:spPr>
            <a:xfrm>
              <a:off x="4767480" y="3407400"/>
              <a:ext cx="1177200" cy="10717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STANOVANJ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1034"/>
            <p:cNvSpPr/>
            <p:nvPr/>
          </p:nvSpPr>
          <p:spPr>
            <a:xfrm flipV="1">
              <a:off x="4874040" y="2311920"/>
              <a:ext cx="56160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1035"/>
            <p:cNvSpPr/>
            <p:nvPr/>
          </p:nvSpPr>
          <p:spPr>
            <a:xfrm>
              <a:off x="5407560" y="1609920"/>
              <a:ext cx="1177560" cy="10713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OBRAZOVANJ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_s1036"/>
            <p:cNvSpPr/>
            <p:nvPr/>
          </p:nvSpPr>
          <p:spPr>
            <a:xfrm flipV="1">
              <a:off x="4315320" y="1569600"/>
              <a:ext cx="0" cy="53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_s1037"/>
            <p:cNvSpPr/>
            <p:nvPr/>
          </p:nvSpPr>
          <p:spPr>
            <a:xfrm>
              <a:off x="3727440" y="500040"/>
              <a:ext cx="1177560" cy="10717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SOCIJALN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ff"/>
                  </a:solidFill>
                  <a:latin typeface="Comic Sans MS"/>
                </a:rPr>
                <a:t>SKR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_s1038"/>
            <p:cNvSpPr/>
            <p:nvPr/>
          </p:nvSpPr>
          <p:spPr>
            <a:xfrm>
              <a:off x="3727440" y="2108520"/>
              <a:ext cx="1177560" cy="10717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700" spc="-1" strike="noStrike">
                  <a:solidFill>
                    <a:srgbClr val="ffff66"/>
                  </a:solidFill>
                  <a:latin typeface="Comic Sans MS"/>
                </a:rPr>
                <a:t>27%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66"/>
                  </a:solidFill>
                  <a:latin typeface="Comic Sans MS"/>
                </a:rPr>
                <a:t>PRORAČUN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66"/>
                  </a:solidFill>
                  <a:latin typeface="Comic Sans MS"/>
                </a:rPr>
                <a:t>GRA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66"/>
                  </a:solidFill>
                  <a:latin typeface="Comic Sans MS"/>
                </a:rPr>
                <a:t>ZAGREB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ffff66"/>
                  </a:solidFill>
                  <a:latin typeface="Comic Sans MS"/>
                </a:rPr>
                <a:t>ZA 2009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17" descr="Zagrebački beskućnici - svakodnevna slika grada"/>
            <p:cNvPicPr/>
            <p:nvPr/>
          </p:nvPicPr>
          <p:blipFill>
            <a:blip r:embed="rId1"/>
            <a:stretch/>
          </p:blipFill>
          <p:spPr>
            <a:xfrm>
              <a:off x="6278040" y="3810600"/>
              <a:ext cx="2579760" cy="17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BXP_BXP252312.JPG" descr=""/>
            <p:cNvPicPr/>
            <p:nvPr/>
          </p:nvPicPr>
          <p:blipFill>
            <a:blip r:embed="rId2"/>
            <a:stretch/>
          </p:blipFill>
          <p:spPr>
            <a:xfrm>
              <a:off x="0" y="3877560"/>
              <a:ext cx="2058120" cy="125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66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53548a"/>
                </a:solidFill>
                <a:latin typeface="Calibri"/>
              </a:rPr>
              <a:t>Socijalni program usmjeren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građane koji su siromašni ili socijalno isključe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na one građane koji su u povećanom riziku od tih po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one kategorije građana koji su u stanju socijalno zaštitnih potreba (npr. žrtve obiteljskog nasilja, koje nužno nisu siromaš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53548a"/>
                </a:solidFill>
                <a:latin typeface="Calibri"/>
              </a:rPr>
              <a:t>35 000 do 40 000 stanovn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5" descr="MCj04396120000[1]"/>
          <p:cNvPicPr/>
          <p:nvPr/>
        </p:nvPicPr>
        <p:blipFill>
          <a:blip r:embed="rId1"/>
          <a:stretch/>
        </p:blipFill>
        <p:spPr>
          <a:xfrm>
            <a:off x="357120" y="1628640"/>
            <a:ext cx="907272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ustav socijalne skrbi Grada Zagreba, s obzirom na vrstu i oblik pomoći koja se pruža korisnicima, možemo podijeliti na sustav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67afbd"/>
                </a:solidFill>
                <a:latin typeface="Comic Sans MS"/>
              </a:rPr>
              <a:t>socijalnih pomoći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(novčana ili naturalna davanja, subvencije i različiti oblici socijalnih naknada)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67afbd"/>
                </a:solidFill>
                <a:latin typeface="Comic Sans MS"/>
              </a:rPr>
              <a:t>socijalnih uslug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(sm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taj u ustanove, prehrana, pomoć u kući, usluge savjetovali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ta i druge uslu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3" descr="wheelchair_lg_nwm"/>
          <p:cNvPicPr/>
          <p:nvPr/>
        </p:nvPicPr>
        <p:blipFill>
          <a:blip r:embed="rId1"/>
          <a:stretch/>
        </p:blipFill>
        <p:spPr>
          <a:xfrm>
            <a:off x="3132000" y="4221000"/>
            <a:ext cx="2818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0"/>
          <p:cNvPicPr/>
          <p:nvPr/>
        </p:nvPicPr>
        <p:blipFill>
          <a:blip r:embed="rId1"/>
          <a:stretch/>
        </p:blipFill>
        <p:spPr>
          <a:xfrm>
            <a:off x="6877080" y="115920"/>
            <a:ext cx="1442880" cy="1363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0121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365720"/>
            <a:ext cx="1695240" cy="1255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P1010009"/>
          <p:cNvPicPr/>
          <p:nvPr/>
        </p:nvPicPr>
        <p:blipFill>
          <a:blip r:embed="rId4"/>
          <a:stretch/>
        </p:blipFill>
        <p:spPr>
          <a:xfrm>
            <a:off x="6156360" y="4581360"/>
            <a:ext cx="1766880" cy="1325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MPj04309380000[1]"/>
          <p:cNvPicPr/>
          <p:nvPr/>
        </p:nvPicPr>
        <p:blipFill>
          <a:blip r:embed="rId5"/>
          <a:stretch/>
        </p:blipFill>
        <p:spPr>
          <a:xfrm>
            <a:off x="1116000" y="2492280"/>
            <a:ext cx="1789200" cy="1185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MCj04137100000[1]"/>
          <p:cNvPicPr/>
          <p:nvPr/>
        </p:nvPicPr>
        <p:blipFill>
          <a:blip r:embed="rId6"/>
          <a:stretch/>
        </p:blipFill>
        <p:spPr>
          <a:xfrm>
            <a:off x="6804000" y="2276640"/>
            <a:ext cx="1360440" cy="13777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7"/>
          <p:cNvSpPr/>
          <p:nvPr/>
        </p:nvSpPr>
        <p:spPr>
          <a:xfrm>
            <a:off x="3492360" y="28317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53548a"/>
                </a:solidFill>
                <a:latin typeface="Comic Sans MS"/>
              </a:rPr>
              <a:t>DJE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53548a"/>
                </a:solidFill>
                <a:latin typeface="Comic Sans MS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53548a"/>
                </a:solidFill>
                <a:latin typeface="Comic Sans MS"/>
              </a:rPr>
              <a:t>ML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MPj04071440000[1]"/>
          <p:cNvPicPr/>
          <p:nvPr/>
        </p:nvPicPr>
        <p:blipFill>
          <a:blip r:embed="rId7"/>
          <a:stretch/>
        </p:blipFill>
        <p:spPr>
          <a:xfrm>
            <a:off x="2857680" y="1143000"/>
            <a:ext cx="1352520" cy="10350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9"/>
          <p:cNvSpPr/>
          <p:nvPr/>
        </p:nvSpPr>
        <p:spPr>
          <a:xfrm>
            <a:off x="0" y="1521000"/>
            <a:ext cx="403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Pomoć za opremu novorođenog djet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Trend povećanja broja dj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80.000.000,00 k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5796000" y="1483200"/>
            <a:ext cx="334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Pomoć djeci u mliječnoj hr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400 korisn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900.000,00 k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0" y="5659560"/>
            <a:ext cx="392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Pomoć obitelji s troje i više maloljetne dj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1 200 obitelji sa 4 300 dj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6.500.000,00</a:t>
            </a:r>
            <a:r>
              <a:rPr b="0" lang="hr-HR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k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427640" y="5875920"/>
            <a:ext cx="471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Obilježavanje blagdana Uskrsa i Sv. Nik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6 000 pak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1.000.000,00 k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0" y="364356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Dječje ljetovanje i zim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3 200 djece na ljetovanje i 1 200 na zimovanje 5.700.000,00 k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5435640" y="3537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Stipendije za učenike i studente iz obitelji slabijeg socijalnog statusa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22 stipend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800.000,00 k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MPj04093440000[1]"/>
          <p:cNvPicPr/>
          <p:nvPr/>
        </p:nvPicPr>
        <p:blipFill>
          <a:blip r:embed="rId1"/>
          <a:stretch/>
        </p:blipFill>
        <p:spPr>
          <a:xfrm>
            <a:off x="2357280" y="1643040"/>
            <a:ext cx="1792440" cy="11923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010"/>
          <p:cNvPicPr/>
          <p:nvPr/>
        </p:nvPicPr>
        <p:blipFill>
          <a:blip r:embed="rId2"/>
          <a:stretch/>
        </p:blipFill>
        <p:spPr>
          <a:xfrm>
            <a:off x="1258920" y="3860640"/>
            <a:ext cx="1814400" cy="1344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5113"/>
          <p:cNvPicPr/>
          <p:nvPr/>
        </p:nvPicPr>
        <p:blipFill>
          <a:blip r:embed="rId3"/>
          <a:stretch/>
        </p:blipFill>
        <p:spPr>
          <a:xfrm>
            <a:off x="5508720" y="1773360"/>
            <a:ext cx="3098880" cy="20653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59280" y="5184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53548a"/>
                </a:solidFill>
                <a:latin typeface="Comic Sans MS"/>
              </a:rPr>
              <a:t>STAN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5003640" y="3936600"/>
            <a:ext cx="3921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U zadnjih 5 godina po listi izvan liste reda prvenstva dodijeljeno 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287 st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 području Sesveta – Jelkovca dodijeljeno je 200 stanova za obitelji slabijeg i/ili zdravstvenog imovinskog st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2421720"/>
            <a:ext cx="39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Pomoć za podmirivanje troškova stan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11.000.000,00 kn za 1 500 obitel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324000" y="5347080"/>
            <a:ext cx="352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Pomoć za ogrj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1 000 koris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Prava na pomoć za podmirivanje troškova stan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93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843280" y="774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53548a"/>
                </a:solidFill>
                <a:latin typeface="Comic Sans MS"/>
              </a:rPr>
              <a:t>POMOĆI GRAĐA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5222880" y="2134800"/>
            <a:ext cx="392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Prehrana u pučkoj kuhinji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za 4 400 korisnika dnev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godišnje se kuha oko 1 600 000 obro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22.5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01srednje"/>
          <p:cNvPicPr/>
          <p:nvPr/>
        </p:nvPicPr>
        <p:blipFill>
          <a:blip r:embed="rId1"/>
          <a:stretch/>
        </p:blipFill>
        <p:spPr>
          <a:xfrm>
            <a:off x="6156360" y="189000"/>
            <a:ext cx="2533680" cy="190008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-75240" y="2106720"/>
            <a:ext cx="345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Novčana pomoć korisnic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doplatka za pomoć i njeg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i korisnicima osobne invalid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5 30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10.0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http://www.vjesnik.hr/html/2000/06/02/umir.jpg"/>
          <p:cNvPicPr/>
          <p:nvPr/>
        </p:nvPicPr>
        <p:blipFill>
          <a:blip r:embed="rId2"/>
          <a:stretch/>
        </p:blipFill>
        <p:spPr>
          <a:xfrm>
            <a:off x="3071880" y="2000160"/>
            <a:ext cx="1380960" cy="1486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P1010053"/>
          <p:cNvPicPr/>
          <p:nvPr/>
        </p:nvPicPr>
        <p:blipFill>
          <a:blip r:embed="rId3"/>
          <a:stretch/>
        </p:blipFill>
        <p:spPr>
          <a:xfrm>
            <a:off x="1258920" y="3500280"/>
            <a:ext cx="1766880" cy="13258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8"/>
          <p:cNvSpPr/>
          <p:nvPr/>
        </p:nvSpPr>
        <p:spPr>
          <a:xfrm>
            <a:off x="0" y="4653360"/>
            <a:ext cx="4021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Pravo na besplatnu mjesečnu pokaznu kar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a) nezaposlene osobe i b) umirovljenic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Pravo na besplatnu godišnju pokaznu kar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a) dobrovoljni davatelji krv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b) korisnici stalne pomoć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000000"/>
                </a:solidFill>
                <a:uFillTx/>
                <a:latin typeface="Comic Sans MS"/>
              </a:rPr>
              <a:t>nesposobni za rad i privređi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Ukupno 43 880 koris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Ukupno godišnje 25.000.000,00 k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4678200" y="3716280"/>
            <a:ext cx="44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omic Sans MS"/>
              </a:rPr>
              <a:t>Zdravstvena zaštita neosiguranih oso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3 200 korisnika, 100.000,00 kn godiš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0" descr="010b1"/>
          <p:cNvPicPr/>
          <p:nvPr/>
        </p:nvPicPr>
        <p:blipFill>
          <a:blip r:embed="rId4"/>
          <a:stretch/>
        </p:blipFill>
        <p:spPr>
          <a:xfrm>
            <a:off x="6372360" y="4581360"/>
            <a:ext cx="1168200" cy="1676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1"/>
          <p:cNvSpPr/>
          <p:nvPr/>
        </p:nvSpPr>
        <p:spPr>
          <a:xfrm>
            <a:off x="4824360" y="590004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omic Sans MS"/>
              </a:rPr>
              <a:t>Ukop po minimalnom socijalnom standar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1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Oval 2"/>
          <p:cNvSpPr/>
          <p:nvPr/>
        </p:nvSpPr>
        <p:spPr>
          <a:xfrm>
            <a:off x="2916360" y="476280"/>
            <a:ext cx="381636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"/>
          <p:cNvSpPr/>
          <p:nvPr/>
        </p:nvSpPr>
        <p:spPr>
          <a:xfrm>
            <a:off x="324000" y="4292640"/>
            <a:ext cx="381636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4"/>
          <p:cNvSpPr/>
          <p:nvPr/>
        </p:nvSpPr>
        <p:spPr>
          <a:xfrm>
            <a:off x="5003640" y="4292640"/>
            <a:ext cx="381636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"/>
          <p:cNvSpPr/>
          <p:nvPr/>
        </p:nvSpPr>
        <p:spPr>
          <a:xfrm>
            <a:off x="2916360" y="2205000"/>
            <a:ext cx="3816360" cy="1297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66"/>
                </a:solidFill>
                <a:latin typeface="Comic Sans MS"/>
              </a:rPr>
              <a:t>OSOBE STARIJE ŽIVOTNE DO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"/>
          <p:cNvSpPr/>
          <p:nvPr/>
        </p:nvSpPr>
        <p:spPr>
          <a:xfrm>
            <a:off x="478800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7"/>
          <p:cNvSpPr/>
          <p:nvPr/>
        </p:nvSpPr>
        <p:spPr>
          <a:xfrm flipH="1">
            <a:off x="2484360" y="342900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"/>
          <p:cNvSpPr/>
          <p:nvPr/>
        </p:nvSpPr>
        <p:spPr>
          <a:xfrm>
            <a:off x="5796000" y="342900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3098520" y="693000"/>
            <a:ext cx="350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Novčana pomoć umirovljeni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21 70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00.0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617400" y="4582080"/>
            <a:ext cx="34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Pravo na dnevni obrok i do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25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2.0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5961960" y="4582080"/>
            <a:ext cx="225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ffffff"/>
                </a:solidFill>
                <a:uFillTx/>
                <a:latin typeface="Comic Sans MS"/>
              </a:rPr>
              <a:t>Pomoć i njega u kuć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190 koris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mic Sans MS"/>
              </a:rPr>
              <a:t>2.500.000,00 k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2" descr="IMG_-130"/>
          <p:cNvPicPr/>
          <p:nvPr/>
        </p:nvPicPr>
        <p:blipFill>
          <a:blip r:embed="rId1"/>
          <a:stretch/>
        </p:blipFill>
        <p:spPr>
          <a:xfrm>
            <a:off x="3419640" y="5060880"/>
            <a:ext cx="265716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20:37:16Z</dcterms:created>
  <dc:creator>Andreja Marcetić</dc:creator>
  <dc:description/>
  <dc:language>en-US</dc:language>
  <cp:lastModifiedBy>Andreja Marcetić</cp:lastModifiedBy>
  <dcterms:modified xsi:type="dcterms:W3CDTF">2010-06-08T14:16:39Z</dcterms:modified>
  <cp:revision>39</cp:revision>
  <dc:subject/>
  <dc:title>Slide 1</dc:title>
</cp:coreProperties>
</file>