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dt" idx="33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 type="ftr" idx="34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 type="sldNum" idx="35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7865A-D708-47B4-A637-7E244488B74E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vi-VN" sz="1000" spc="-1" strike="noStrike">
                <a:solidFill>
                  <a:srgbClr val="000000"/>
                </a:solidFill>
                <a:latin typeface="Arial"/>
              </a:rPr>
              <a:t>Koncept cjeloživotnog učenja zamisao je usustavljivanja učenja u svim životnim razdobljima (od rane mladosti do starosti) i u svim oblicima u kojima se ostvaruje (formalno, neformalno i informalno). Učenje je pritom kontinuirani proces u kojem su rezultati i motiviranost pojedinca za učenje u određenom životnom razdoblju uvjetovani znanjem, navikama i iskustvima učenja stečenima u mlađoj životnoj dobi. Uz koncept cjeloživotnog učenja najčešće se vezuju ciljevi ekonomske prirode, primjerice postizanje veće konkurentnosti i trajne zapošljivosti. S druge strane ne smiju se zanemariti jednako važni ciljevi koji pridonose aktivnijoj ulozi pojedinca u društvu. Ti su ciljevi poticanje društvene uključenosti, razvoj aktivnoga građanstva te razvijanje individualnih potencijala pojedinaca. </a:t>
            </a:r>
            <a:br>
              <a:rPr sz="1000"/>
            </a:br>
            <a:br>
              <a:rPr sz="1000"/>
            </a:br>
            <a:r>
              <a:rPr b="0" lang="vi-VN" sz="1000" spc="-1" strike="noStrike">
                <a:solidFill>
                  <a:srgbClr val="000000"/>
                </a:solidFill>
                <a:latin typeface="Arial"/>
              </a:rPr>
              <a:t>Pojam cjeloživotno učenje često se zamjenjuje izrazom cjeloživotno obrazovanje, no važno je istaknuti da ta dva pojma nisu istoznačna. Obrazovanje obuhvaća samo organizirano učenje, a učenje je širi koncept koji uključuje i nenamjerno, neorganizirano i spontano stjecanje znanja te se može provoditi cijeli život. U devedesetima se u Europi afirmira cjeloživotno učenje kao politika koja odgovara na probleme ekonomske krize i povećane nezaposlenosti (Žiljak, 2005). U tom razdoblju pomiče se fokus s obrazovanja, koje je institucionalizirani i organizirani proces, na cjeloživotno učenje, koje uključuje sve oblike učenja u svim životnim okolnostima. </a:t>
            </a:r>
            <a:br>
              <a:rPr sz="1000"/>
            </a:br>
            <a:br>
              <a:rPr sz="1000"/>
            </a:br>
            <a:r>
              <a:rPr b="0" lang="vi-VN" sz="1000" spc="-1" strike="noStrike">
                <a:solidFill>
                  <a:srgbClr val="000000"/>
                </a:solidFill>
                <a:latin typeface="Arial"/>
              </a:rPr>
              <a:t>Koncept cjeloživotnog učenja, razvijen u šezdesetim godinama prošlog stoljeća, odgovor je na problem neusklađenosti između obrazovanja mladih i odraslih (Pastuović, 1999.). Usredotočenost tradicionalne pedagogije na probleme osnovnoškolskog odgoja i općeg obrazovanja djece te andragogije na obrazovanje odraslih, rezultirali su nedostatkom teorije koja bi integrirala spoznaje o obrazovanju i učenju kroz sva životna razdoblja. Takvo stanje pogodovalo je razvitku teorije i koncepta cjeloživotnog učenja kao integriranog pristupa proučavanju učenja kao trajnog procesa. </a:t>
            </a:r>
            <a:br>
              <a:rPr sz="1000"/>
            </a:br>
            <a:br>
              <a:rPr sz="1000"/>
            </a:br>
            <a:r>
              <a:rPr b="0" lang="vi-VN" sz="1000" spc="-1" strike="noStrike">
                <a:solidFill>
                  <a:srgbClr val="000000"/>
                </a:solidFill>
                <a:latin typeface="Arial"/>
              </a:rPr>
              <a:t>U proteklih četrdeset godina cjeloživotno učenje se od početne ideje razvilo u dominantno načelo i orijentaciju razvoja brojnih nacionalnih obrazovnih sustava. Njegova važnost ističe se u nizu međunarodnih akcijskih planova, deklaracija, dokumenata i konferencija (primjerice Deklaracija UNESCO-ove konferencije: Poziv na akciju Sofija, Memorandum Europske komisije o cjeloživotnom učenju, ostali dokumenti Europske komisije: Stvaranje jedinstvenog europskog prostora cjeloživotnog učenja, Nikada nije prekasno za učenje, Akcijski plan za obrazovanje odraslih: Uvijek je dobro vrijeme za učenje, i drugi ). Hrvatska ne zaostaje za ovim trendom te je uključivanjem cjeloživotnog učenja u strateške dokumente iz područja obrazovanja (primjerice Bijeli dokument o hrvatskom obrazovanju, Plan razvoja sustava odgoja i obrazovanja 2005.-2010., Strategija obrazovanja odraslih, Deklaraciji o znanju HAZU-a) postalo osnovno načelo razvitka hrvatskoga obrazovnog sustava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2FF05-CE22-428D-8FD7-A65B886C1A02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45562-C0DC-4327-8DF0-D92C6A46F5DA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D0838-C251-4A2A-B3F2-DF58662F999A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1B39-4A43-4B8F-92A3-28E16A51757A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877E9-F9C0-484D-A426-EB0CF4B6EA8F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6C203-2D1B-4B64-8646-A266986CE694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07774E-1B6B-4862-B3FA-6461D6BDE38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A8F2ED-D932-4176-BA4C-05398B64CB0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69D508-124C-481C-8F5B-03268441B67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4A951F-8CD7-4BC0-B2CC-739093CD053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8A62FF-835F-4B66-8114-396F1450640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0C639B-85FB-408B-8EBC-76097C8529F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8A0D60-06B9-4B54-A62A-0A38C4477FD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8C5439-6400-4B71-83B4-F572650906C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24226D-8079-41AA-B5FD-169874A75DC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6EFFCB-6BDB-4334-A3AA-2D251FAB8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BE0C4C-6C80-4FCE-ADD6-30C652946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7B3480-FE74-49CC-A29F-0C23DF4C3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C1DAA4-6488-4E64-BFED-DF41B5EC3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19AE67-A6C0-4892-B59B-016E957C8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82BA71-A4A8-41AF-9053-B95EF36F4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515213-C04F-4CA6-A548-9BCC8E77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B1ACF1-18A2-4065-9BDD-538D39CA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A6AA5F-1188-47BA-828E-7F3C87E0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137B38-392B-4137-88F4-C03F65EB8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D3C723-5E2F-49D7-92D8-458FA11F3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813242-D4F7-4C14-973A-5DB3A2DDE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D12775-B9F9-4939-9000-A886833C5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306B7A-54E5-4157-95B3-E5B9F1DA8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30EFBD2-1C41-422A-8FCB-2886E95F8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879073-9E9A-43FB-AAAB-1A58485C2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6B4515D-21CA-4B8D-B6A4-58F76C7D2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59D3E9-AB8A-4889-AB5A-F51A49217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835A603-C6F6-43DC-A4A2-259A8357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D6092B-C90F-40C9-9ABE-D8F09FF7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33BE22-EE31-45EE-ABC0-745E438F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5A38A2-2C18-432F-94D7-95555AE9B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694740-E2EB-4B8A-82AB-A72BB6BDC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81755D-B05A-43EA-94E8-96862A024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5D22A74-2C8A-4884-B85B-1051B6136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D0A3149-A1FB-4283-A6A2-E053D3E77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8EFD752-5D43-4E9B-BAD9-20BE7EC50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1D3816B-FD5C-49C4-AE49-E8A1103EE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8C329F0-0B2E-4220-87CC-7A2D15C48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DCACC58-38BC-4CEB-BB48-FFD1D610E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22CA71D-07EA-4DC9-9E83-C5CC8E7A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3174B94-C8A5-412A-B61C-2C093532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F876469-856B-41B6-A954-1990C74B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DC6682A-A4B8-4CB0-AE65-C47EDE848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BCF4B75-30EA-4FA6-9C4A-E1D377712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E1C4255-AE68-4123-BDB7-B17C26C6F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B64CCD3-080E-4D39-AA88-B8796A867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0CD8939-967D-4ED6-96E6-26462633D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B55A431-8AED-455C-AAD1-DDA240973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98CD67C-4932-44AA-854F-324B5328F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2EA6084-3E51-401B-AAA6-3BE3DBD10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8AA08BA-87FF-467B-9926-C6180D607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EC4573F-BFB9-4676-A10F-9448CC83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524B07A-4B8B-4A1B-854B-D7510A28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7B5B225-9DA1-457D-8981-7CAC1C14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B5030BF-B913-4D39-BE11-A38F42291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A850A9A-B528-4B2E-9CB1-C6CFF1F6B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EC40CE2-FA64-4498-996E-08A1C4C28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4FB371-9C7E-4FA6-A4D5-72C75D94C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73A2AA-4935-4220-A8D5-858952B28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9F4911-5ACE-4905-902B-7FA21DDAF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AC8E93-3370-48F8-AE3B-7A60F1645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1AF844-9F62-4C42-9531-208B5E585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11BDEA-C5A3-4277-85DD-942EFF46D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85FBC9-4BFE-495A-9953-FA30B770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548377-F661-48D9-A0C3-5EF22E68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210EF0-3A5D-4AF5-962C-9CD29BE3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4942FA-0D0B-41A9-9837-3887C01DF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A809D1-F862-41A0-9BF2-774D3651E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D8F06A-5D92-4C87-BD1F-BC68EE8D2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7F3A38-17DD-43F3-967A-4071A429B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65A9D6-64E4-4E72-A948-BBEB43B44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DA1765-17E4-4401-9918-E4BD431F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152865-D789-420B-9DC7-986129B94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B062DC-9969-4674-AE30-40A3D6901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EE39D5-05C8-4EDD-ADF3-900A06385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1B50B5-DAF1-440E-8947-1B84C248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812668-43E8-441F-9114-2FCEE752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135480-F0EC-482C-BEFE-1CABDE97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A936E6-2BF4-4B3F-BF25-E08F032E7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DEA429-DC1A-4AE2-96B4-D5D326CA3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25F80B-8E78-4C69-9FA4-29A9A9BCF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A4D091-BDFA-4585-83DC-1A0B5D1BB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069543-920E-4DBA-9C2A-AD2BBE4FA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C98116-0904-4F48-AFA2-E13CCBF3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5F50E4-6CC7-4FBD-8DB7-6D404F010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9BD112-6578-4D2A-94CA-A1500228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8F5D57-B40A-416F-A8F1-B63CD2264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3080D2-E4AF-4080-B31D-FE662D90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799641-D2D7-4A35-A017-9BAA78D9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739547-C3B6-4B83-82A5-D57A78E0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CB304A-4D3C-4BFE-AF29-89C0A8EB8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DE0908-406B-41BA-8612-6393699E0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CD4475-9B18-4CE4-AEE9-C24393F73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F58D3E2-1348-4B34-A2CF-FE844E596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4435B7C-DE90-4836-8841-305AD9310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58DDD9-3E47-4401-A334-8641552EC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7C3206-E425-4A49-905F-8EA429A21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954C7B-A2E7-41F3-9273-629A3EE9A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FB9A53-B5D8-4442-9A16-BAEC63956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086D3AE-EDC9-43AC-8162-73088CC9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56AEA7-9F96-4846-9620-74DB7DCB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BE18D9-F7BA-462F-9B8B-154FE7F4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34E1C6-0CB7-4FE6-BA8B-33530E427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BBE851-3790-40D5-9257-B4E628BC8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B27845-8CAC-4C64-8F61-AF038EAC2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E12890-2EA7-4BC4-8B6A-54CB1B845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7F9117-BC43-4308-80A6-387AA7B91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368BA4-DC1B-4AD7-9E96-2B2851935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322415-211A-480C-A1D6-F38B38D26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E152DA-45C4-4DDA-BD98-F773788FE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3183FC-5F99-42D8-B759-43AA03F14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C494A9-F18F-4197-88B1-3862E9D8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346A5C-326F-4B63-AFBD-C0B2A1E7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0DDACA5-2F5F-4DFF-960B-1E7E833F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7D42555-FC1F-4F0D-89DB-7A297A79B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DEF67F-0A5E-4B7B-99FE-290EAD6BF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709F21-2510-48C5-9B21-AAFB4A100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48045-3EE0-417E-B0DD-96543254432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98007-E886-4BF7-839F-1355EB85724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07328-05A0-47A9-BF57-012FF6448E8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D5102-D928-4E44-81F5-A6CF2649F30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585DD6-86C4-435F-961A-BF2F2F8FBE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0C655-75E3-4346-B3AF-C762800209F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236B7-3078-4B43-811D-FD5D0D1A09A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1F440-8902-47B1-B762-450A2A389A3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B893A-E676-4304-BB19-823D0888095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E4A38-F799-4381-846D-35516EB9D61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0B645-78DA-4905-8984-F274917FD1F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27921-C221-4F2D-A660-B9268164044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6F4F1F-E707-43EC-A38D-D5C957DDEBD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CDB823-36DD-4811-BBE2-73BF4FEFE07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C67C5D-D540-4102-9B00-2C13561E46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Picture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28760" y="6492960"/>
            <a:ext cx="8472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100" spc="-1" strike="noStrike">
                <a:solidFill>
                  <a:srgbClr val="7f7f7f"/>
                </a:solidFill>
                <a:latin typeface="Times New Roman"/>
              </a:rPr>
              <a:t>Predmetno područje: Opći stručni skupovi: IV. Modul - Hrvatski kvalifikacijski okvir (HKO), Europski kvalifikacijski okvir (EQF), strategijsko planiranje i osiguranje sustava kvalitete u odgojno - obrazovnim ustanovama - Zagreb 10.-21.06.2010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6" descr="Picture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6" descr="Picture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6" descr="Picture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0" name="Rectangle 6"/>
          <p:cNvSpPr/>
          <p:nvPr/>
        </p:nvSpPr>
        <p:spPr>
          <a:xfrm>
            <a:off x="0" y="65199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7f7f7f"/>
                </a:solidFill>
                <a:latin typeface="Arial"/>
              </a:rPr>
              <a:t>Predmetno područje: Opći stručni skupovi: IV. Modul </a:t>
            </a:r>
            <a:r>
              <a:rPr b="1" lang="hr-HR" sz="1000" spc="-1" strike="noStrike">
                <a:solidFill>
                  <a:srgbClr val="7f7f7f"/>
                </a:solidFill>
                <a:latin typeface="Arial"/>
              </a:rPr>
              <a:t>- </a:t>
            </a:r>
            <a:r>
              <a:rPr b="1" lang="hr-HR" sz="1000" spc="-1" strike="noStrike">
                <a:solidFill>
                  <a:srgbClr val="000000"/>
                </a:solidFill>
                <a:latin typeface="Arial"/>
              </a:rPr>
              <a:t>Hrvatski kvalifikacijski okvir (HKO), Europski kvalifikacijski okvir (EQF), strategijsko planiranje i osiguranje sustava kvalitete u odgojno - obrazovnim ustanovama </a:t>
            </a:r>
            <a:r>
              <a:rPr b="0" lang="hr-HR" sz="1000" spc="-1" strike="noStrike">
                <a:solidFill>
                  <a:srgbClr val="7f7f7f"/>
                </a:solidFill>
                <a:latin typeface="Arial"/>
              </a:rPr>
              <a:t>- Zagreb 10.-11.06.201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1"/>
          </p:nvPr>
        </p:nvSpPr>
        <p:spPr>
          <a:xfrm>
            <a:off x="428760" y="6492960"/>
            <a:ext cx="8472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1BC89-2B85-46C5-9BF3-601F559013A7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6" descr="Picture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6" descr="Picture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6"/>
          <p:cNvSpPr/>
          <p:nvPr/>
        </p:nvSpPr>
        <p:spPr>
          <a:xfrm>
            <a:off x="0" y="65199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7f7f7f"/>
                </a:solidFill>
                <a:latin typeface="Arial"/>
              </a:rPr>
              <a:t>Predmetno područje: Opći stručni skupovi: IV. Modul </a:t>
            </a:r>
            <a:r>
              <a:rPr b="1" lang="hr-HR" sz="1000" spc="-1" strike="noStrike">
                <a:solidFill>
                  <a:srgbClr val="7f7f7f"/>
                </a:solidFill>
                <a:latin typeface="Arial"/>
              </a:rPr>
              <a:t>- </a:t>
            </a:r>
            <a:r>
              <a:rPr b="1" lang="hr-HR" sz="1000" spc="-1" strike="noStrike">
                <a:solidFill>
                  <a:srgbClr val="000000"/>
                </a:solidFill>
                <a:latin typeface="Arial"/>
              </a:rPr>
              <a:t>Hrvatski kvalifikacijski okvir (HKO), Europski kvalifikacijski okvir (EQF), strategijsko planiranje i osiguranje sustava kvalitete u odgojno - obrazovnim ustanovama </a:t>
            </a:r>
            <a:r>
              <a:rPr b="0" lang="hr-HR" sz="1000" spc="-1" strike="noStrike">
                <a:solidFill>
                  <a:srgbClr val="7f7f7f"/>
                </a:solidFill>
                <a:latin typeface="Arial"/>
              </a:rPr>
              <a:t>- Zagreb 10.-11.06.201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4"/>
          </p:nvPr>
        </p:nvSpPr>
        <p:spPr>
          <a:xfrm>
            <a:off x="428760" y="6492960"/>
            <a:ext cx="8472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EF5A9-14C0-4233-9935-13426B51C00D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Picture 6" descr="Picture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6" descr="Picture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8" name="Rectangle 6"/>
          <p:cNvSpPr/>
          <p:nvPr/>
        </p:nvSpPr>
        <p:spPr>
          <a:xfrm>
            <a:off x="0" y="65199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7f7f7f"/>
                </a:solidFill>
                <a:latin typeface="Arial"/>
              </a:rPr>
              <a:t>Predmetno područje: Opći stručni skupovi: IV. Modul </a:t>
            </a:r>
            <a:r>
              <a:rPr b="1" lang="hr-HR" sz="1000" spc="-1" strike="noStrike">
                <a:solidFill>
                  <a:srgbClr val="7f7f7f"/>
                </a:solidFill>
                <a:latin typeface="Arial"/>
              </a:rPr>
              <a:t>- </a:t>
            </a:r>
            <a:r>
              <a:rPr b="1" lang="hr-HR" sz="1000" spc="-1" strike="noStrike">
                <a:solidFill>
                  <a:srgbClr val="000000"/>
                </a:solidFill>
                <a:latin typeface="Arial"/>
              </a:rPr>
              <a:t>Hrvatski kvalifikacijski okvir (HKO), Europski kvalifikacijski okvir (EQF), strategijsko planiranje i osiguranje sustava kvalitete u odgojno - obrazovnim ustanovama </a:t>
            </a:r>
            <a:r>
              <a:rPr b="0" lang="hr-HR" sz="1000" spc="-1" strike="noStrike">
                <a:solidFill>
                  <a:srgbClr val="7f7f7f"/>
                </a:solidFill>
                <a:latin typeface="Arial"/>
              </a:rPr>
              <a:t>- Zagreb 10.-11.06.201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27"/>
          </p:nvPr>
        </p:nvSpPr>
        <p:spPr>
          <a:xfrm>
            <a:off x="428760" y="6492960"/>
            <a:ext cx="8472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7DC53-B114-42FB-97F4-B3A041CAD48E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6" descr="Picture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6" descr="Picture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2" name="Rectangle 6"/>
          <p:cNvSpPr/>
          <p:nvPr/>
        </p:nvSpPr>
        <p:spPr>
          <a:xfrm>
            <a:off x="0" y="65199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7f7f7f"/>
                </a:solidFill>
                <a:latin typeface="Arial"/>
              </a:rPr>
              <a:t>Predmetno područje: Opći stručni skupovi: IV. Modul </a:t>
            </a:r>
            <a:r>
              <a:rPr b="1" lang="hr-HR" sz="1000" spc="-1" strike="noStrike">
                <a:solidFill>
                  <a:srgbClr val="7f7f7f"/>
                </a:solidFill>
                <a:latin typeface="Arial"/>
              </a:rPr>
              <a:t>- </a:t>
            </a:r>
            <a:r>
              <a:rPr b="1" lang="hr-HR" sz="1000" spc="-1" strike="noStrike">
                <a:solidFill>
                  <a:srgbClr val="000000"/>
                </a:solidFill>
                <a:latin typeface="Arial"/>
              </a:rPr>
              <a:t>Hrvatski kvalifikacijski okvir (HKO), Europski kvalifikacijski okvir (EQF), strategijsko planiranje i osiguranje sustava kvalitete u odgojno - obrazovnim ustanovama </a:t>
            </a:r>
            <a:r>
              <a:rPr b="0" lang="hr-HR" sz="1000" spc="-1" strike="noStrike">
                <a:solidFill>
                  <a:srgbClr val="7f7f7f"/>
                </a:solidFill>
                <a:latin typeface="Arial"/>
              </a:rPr>
              <a:t>- Zagreb 10.-11.06.201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6" descr="Picture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6" descr="Picture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3" name="Rectangle 6"/>
          <p:cNvSpPr/>
          <p:nvPr/>
        </p:nvSpPr>
        <p:spPr>
          <a:xfrm>
            <a:off x="0" y="65199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7f7f7f"/>
                </a:solidFill>
                <a:latin typeface="Arial"/>
              </a:rPr>
              <a:t>Predmetno područje: Opći stručni skupovi: IV. Modul </a:t>
            </a:r>
            <a:r>
              <a:rPr b="1" lang="hr-HR" sz="1000" spc="-1" strike="noStrike">
                <a:solidFill>
                  <a:srgbClr val="7f7f7f"/>
                </a:solidFill>
                <a:latin typeface="Arial"/>
              </a:rPr>
              <a:t>- </a:t>
            </a:r>
            <a:r>
              <a:rPr b="1" lang="hr-HR" sz="1000" spc="-1" strike="noStrike">
                <a:solidFill>
                  <a:srgbClr val="000000"/>
                </a:solidFill>
                <a:latin typeface="Arial"/>
              </a:rPr>
              <a:t>Hrvatski kvalifikacijski okvir (HKO), Europski kvalifikacijski okvir (EQF), strategijsko planiranje i osiguranje sustava kvalitete u odgojno - obrazovnim ustanovama </a:t>
            </a:r>
            <a:r>
              <a:rPr b="0" lang="hr-HR" sz="1000" spc="-1" strike="noStrike">
                <a:solidFill>
                  <a:srgbClr val="7f7f7f"/>
                </a:solidFill>
                <a:latin typeface="Arial"/>
              </a:rPr>
              <a:t>- Zagreb 10.-11.06.201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BD853-7860-4120-8BEF-4BF22D18750A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Picture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Picture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0" y="65199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7f7f7f"/>
                </a:solidFill>
                <a:latin typeface="Arial"/>
              </a:rPr>
              <a:t>Predmetno područje: Opći stručni skupovi: IV. Modul </a:t>
            </a:r>
            <a:r>
              <a:rPr b="1" lang="hr-HR" sz="1000" spc="-1" strike="noStrike">
                <a:solidFill>
                  <a:srgbClr val="7f7f7f"/>
                </a:solidFill>
                <a:latin typeface="Arial"/>
              </a:rPr>
              <a:t>- </a:t>
            </a:r>
            <a:r>
              <a:rPr b="1" lang="hr-HR" sz="1000" spc="-1" strike="noStrike">
                <a:solidFill>
                  <a:srgbClr val="000000"/>
                </a:solidFill>
                <a:latin typeface="Arial"/>
              </a:rPr>
              <a:t>Hrvatski kvalifikacijski okvir (HKO), Europski kvalifikacijski okvir (EQF), strategijsko planiranje i osiguranje sustava kvalitete u odgojno - obrazovnim ustanovama </a:t>
            </a:r>
            <a:r>
              <a:rPr b="0" lang="hr-HR" sz="1000" spc="-1" strike="noStrike">
                <a:solidFill>
                  <a:srgbClr val="7f7f7f"/>
                </a:solidFill>
                <a:latin typeface="Arial"/>
              </a:rPr>
              <a:t>- Zagreb 10.-11.06.201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Picture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Picture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6"/>
          <p:cNvSpPr/>
          <p:nvPr/>
        </p:nvSpPr>
        <p:spPr>
          <a:xfrm>
            <a:off x="0" y="65199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7f7f7f"/>
                </a:solidFill>
                <a:latin typeface="Arial"/>
              </a:rPr>
              <a:t>Predmetno područje: Opći stručni skupovi: IV. Modul </a:t>
            </a:r>
            <a:r>
              <a:rPr b="1" lang="hr-HR" sz="1000" spc="-1" strike="noStrike">
                <a:solidFill>
                  <a:srgbClr val="7f7f7f"/>
                </a:solidFill>
                <a:latin typeface="Arial"/>
              </a:rPr>
              <a:t>- </a:t>
            </a:r>
            <a:r>
              <a:rPr b="1" lang="hr-HR" sz="1000" spc="-1" strike="noStrike">
                <a:solidFill>
                  <a:srgbClr val="000000"/>
                </a:solidFill>
                <a:latin typeface="Arial"/>
              </a:rPr>
              <a:t>Hrvatski kvalifikacijski okvir (HKO), Europski kvalifikacijski okvir (EQF), strategijsko planiranje i osiguranje sustava kvalitete u odgojno - obrazovnim ustanovama </a:t>
            </a:r>
            <a:r>
              <a:rPr b="0" lang="hr-HR" sz="1000" spc="-1" strike="noStrike">
                <a:solidFill>
                  <a:srgbClr val="7f7f7f"/>
                </a:solidFill>
                <a:latin typeface="Arial"/>
              </a:rPr>
              <a:t>- Zagreb 10.-11.06.201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2"/>
          </p:nvPr>
        </p:nvSpPr>
        <p:spPr>
          <a:xfrm>
            <a:off x="1071720" y="6675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49A60-BD02-47EC-A260-9AD52F538D51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Picture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Picture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6"/>
          <p:cNvSpPr/>
          <p:nvPr/>
        </p:nvSpPr>
        <p:spPr>
          <a:xfrm>
            <a:off x="0" y="65199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7f7f7f"/>
                </a:solidFill>
                <a:latin typeface="Arial"/>
              </a:rPr>
              <a:t>Predmetno područje: Opći stručni skupovi: IV. Modul </a:t>
            </a:r>
            <a:r>
              <a:rPr b="1" lang="hr-HR" sz="1000" spc="-1" strike="noStrike">
                <a:solidFill>
                  <a:srgbClr val="7f7f7f"/>
                </a:solidFill>
                <a:latin typeface="Arial"/>
              </a:rPr>
              <a:t>- </a:t>
            </a:r>
            <a:r>
              <a:rPr b="1" lang="hr-HR" sz="1000" spc="-1" strike="noStrike">
                <a:solidFill>
                  <a:srgbClr val="000000"/>
                </a:solidFill>
                <a:latin typeface="Arial"/>
              </a:rPr>
              <a:t>Hrvatski kvalifikacijski okvir (HKO), Europski kvalifikacijski okvir (EQF), strategijsko planiranje i osiguranje sustava kvalitete u odgojno - obrazovnim ustanovama </a:t>
            </a:r>
            <a:r>
              <a:rPr b="0" lang="hr-HR" sz="1000" spc="-1" strike="noStrike">
                <a:solidFill>
                  <a:srgbClr val="7f7f7f"/>
                </a:solidFill>
                <a:latin typeface="Arial"/>
              </a:rPr>
              <a:t>- Zagreb 10.-11.06.201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5"/>
          </p:nvPr>
        </p:nvSpPr>
        <p:spPr>
          <a:xfrm>
            <a:off x="428760" y="6492960"/>
            <a:ext cx="8472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33C06-1FCB-4F46-996A-ECACDDC03849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6" descr="Picture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Picture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6"/>
          <p:cNvSpPr/>
          <p:nvPr/>
        </p:nvSpPr>
        <p:spPr>
          <a:xfrm>
            <a:off x="0" y="65199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7f7f7f"/>
                </a:solidFill>
                <a:latin typeface="Arial"/>
              </a:rPr>
              <a:t>Predmetno područje: Opći stručni skupovi: IV. Modul </a:t>
            </a:r>
            <a:r>
              <a:rPr b="1" lang="hr-HR" sz="1000" spc="-1" strike="noStrike">
                <a:solidFill>
                  <a:srgbClr val="7f7f7f"/>
                </a:solidFill>
                <a:latin typeface="Arial"/>
              </a:rPr>
              <a:t>- </a:t>
            </a:r>
            <a:r>
              <a:rPr b="1" lang="hr-HR" sz="1000" spc="-1" strike="noStrike">
                <a:solidFill>
                  <a:srgbClr val="000000"/>
                </a:solidFill>
                <a:latin typeface="Arial"/>
              </a:rPr>
              <a:t>Hrvatski kvalifikacijski okvir (HKO), Europski kvalifikacijski okvir (EQF), strategijsko planiranje i osiguranje sustava kvalitete u odgojno - obrazovnim ustanovama </a:t>
            </a:r>
            <a:r>
              <a:rPr b="0" lang="hr-HR" sz="1000" spc="-1" strike="noStrike">
                <a:solidFill>
                  <a:srgbClr val="7f7f7f"/>
                </a:solidFill>
                <a:latin typeface="Arial"/>
              </a:rPr>
              <a:t>- Zagreb 10.-11.06.201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8"/>
          </p:nvPr>
        </p:nvSpPr>
        <p:spPr>
          <a:xfrm>
            <a:off x="428760" y="6492960"/>
            <a:ext cx="8472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F07A-FC2B-4BE0-BD31-858449283E87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6" descr="Picture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Picture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6"/>
          <p:cNvSpPr/>
          <p:nvPr/>
        </p:nvSpPr>
        <p:spPr>
          <a:xfrm>
            <a:off x="0" y="65199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7f7f7f"/>
                </a:solidFill>
                <a:latin typeface="Arial"/>
              </a:rPr>
              <a:t>Predmetno područje: Opći stručni skupovi: IV. Modul </a:t>
            </a:r>
            <a:r>
              <a:rPr b="1" lang="hr-HR" sz="1000" spc="-1" strike="noStrike">
                <a:solidFill>
                  <a:srgbClr val="7f7f7f"/>
                </a:solidFill>
                <a:latin typeface="Arial"/>
              </a:rPr>
              <a:t>- </a:t>
            </a:r>
            <a:r>
              <a:rPr b="1" lang="hr-HR" sz="1000" spc="-1" strike="noStrike">
                <a:solidFill>
                  <a:srgbClr val="000000"/>
                </a:solidFill>
                <a:latin typeface="Arial"/>
              </a:rPr>
              <a:t>Hrvatski kvalifikacijski okvir (HKO), Europski kvalifikacijski okvir (EQF), strategijsko planiranje i osiguranje sustava kvalitete u odgojno - obrazovnim ustanovama </a:t>
            </a:r>
            <a:r>
              <a:rPr b="0" lang="hr-HR" sz="1000" spc="-1" strike="noStrike">
                <a:solidFill>
                  <a:srgbClr val="7f7f7f"/>
                </a:solidFill>
                <a:latin typeface="Arial"/>
              </a:rPr>
              <a:t>- Zagreb 10.-11.06.201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1"/>
          </p:nvPr>
        </p:nvSpPr>
        <p:spPr>
          <a:xfrm>
            <a:off x="428760" y="6492960"/>
            <a:ext cx="8472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65A48-2678-4E1B-95C8-37D330C4EA49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6" descr="Picture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Picture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6"/>
          <p:cNvSpPr/>
          <p:nvPr/>
        </p:nvSpPr>
        <p:spPr>
          <a:xfrm>
            <a:off x="0" y="65199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7f7f7f"/>
                </a:solidFill>
                <a:latin typeface="Arial"/>
              </a:rPr>
              <a:t>Predmetno područje: Opći stručni skupovi: IV. Modul </a:t>
            </a:r>
            <a:r>
              <a:rPr b="1" lang="hr-HR" sz="1000" spc="-1" strike="noStrike">
                <a:solidFill>
                  <a:srgbClr val="7f7f7f"/>
                </a:solidFill>
                <a:latin typeface="Arial"/>
              </a:rPr>
              <a:t>- </a:t>
            </a:r>
            <a:r>
              <a:rPr b="1" lang="hr-HR" sz="1000" spc="-1" strike="noStrike">
                <a:solidFill>
                  <a:srgbClr val="000000"/>
                </a:solidFill>
                <a:latin typeface="Arial"/>
              </a:rPr>
              <a:t>Hrvatski kvalifikacijski okvir (HKO), Europski kvalifikacijski okvir (EQF), strategijsko planiranje i osiguranje sustava kvalitete u odgojno - obrazovnim ustanovama </a:t>
            </a:r>
            <a:r>
              <a:rPr b="0" lang="hr-HR" sz="1000" spc="-1" strike="noStrike">
                <a:solidFill>
                  <a:srgbClr val="7f7f7f"/>
                </a:solidFill>
                <a:latin typeface="Arial"/>
              </a:rPr>
              <a:t>- Zagreb 10.-11.06.201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4"/>
          </p:nvPr>
        </p:nvSpPr>
        <p:spPr>
          <a:xfrm>
            <a:off x="428760" y="6492960"/>
            <a:ext cx="8472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6F195-7B75-459F-89C1-066DE70586FA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6" descr="Picture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6" descr="Picture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6"/>
          <p:cNvSpPr/>
          <p:nvPr/>
        </p:nvSpPr>
        <p:spPr>
          <a:xfrm>
            <a:off x="0" y="65199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7f7f7f"/>
                </a:solidFill>
                <a:latin typeface="Arial"/>
              </a:rPr>
              <a:t>Predmetno područje: Opći stručni skupovi: IV. Modul </a:t>
            </a:r>
            <a:r>
              <a:rPr b="1" lang="hr-HR" sz="1000" spc="-1" strike="noStrike">
                <a:solidFill>
                  <a:srgbClr val="7f7f7f"/>
                </a:solidFill>
                <a:latin typeface="Arial"/>
              </a:rPr>
              <a:t>- </a:t>
            </a:r>
            <a:r>
              <a:rPr b="1" lang="hr-HR" sz="1000" spc="-1" strike="noStrike">
                <a:solidFill>
                  <a:srgbClr val="000000"/>
                </a:solidFill>
                <a:latin typeface="Arial"/>
              </a:rPr>
              <a:t>Hrvatski kvalifikacijski okvir (HKO), Europski kvalifikacijski okvir (EQF), strategijsko planiranje i osiguranje sustava kvalitete u odgojno - obrazovnim ustanovama </a:t>
            </a:r>
            <a:r>
              <a:rPr b="0" lang="hr-HR" sz="1000" spc="-1" strike="noStrike">
                <a:solidFill>
                  <a:srgbClr val="7f7f7f"/>
                </a:solidFill>
                <a:latin typeface="Arial"/>
              </a:rPr>
              <a:t>- Zagreb 10.-11.06.201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C0EEB-F658-4A8F-A392-27EC6F134BEF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6" descr="Picture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6" descr="Picture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6"/>
          <p:cNvSpPr/>
          <p:nvPr/>
        </p:nvSpPr>
        <p:spPr>
          <a:xfrm>
            <a:off x="0" y="65199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7f7f7f"/>
                </a:solidFill>
                <a:latin typeface="Arial"/>
              </a:rPr>
              <a:t>Predmetno područje: Opći stručni skupovi: IV. Modul </a:t>
            </a:r>
            <a:r>
              <a:rPr b="1" lang="hr-HR" sz="1000" spc="-1" strike="noStrike">
                <a:solidFill>
                  <a:srgbClr val="7f7f7f"/>
                </a:solidFill>
                <a:latin typeface="Arial"/>
              </a:rPr>
              <a:t>- </a:t>
            </a:r>
            <a:r>
              <a:rPr b="1" lang="hr-HR" sz="1000" spc="-1" strike="noStrike">
                <a:solidFill>
                  <a:srgbClr val="000000"/>
                </a:solidFill>
                <a:latin typeface="Arial"/>
              </a:rPr>
              <a:t>Hrvatski kvalifikacijski okvir (HKO), Europski kvalifikacijski okvir (EQF), strategijsko planiranje i osiguranje sustava kvalitete u odgojno - obrazovnim ustanovama </a:t>
            </a:r>
            <a:r>
              <a:rPr b="0" lang="hr-HR" sz="1000" spc="-1" strike="noStrike">
                <a:solidFill>
                  <a:srgbClr val="7f7f7f"/>
                </a:solidFill>
                <a:latin typeface="Arial"/>
              </a:rPr>
              <a:t>- Zagreb 10.-11.06.201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F13ED-127F-40FD-96CE-261526E17C08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mailto:andreja.marcetic@vip.hr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voh.rs/treca-konferencija/provedba-hrvatskog-kvalifikacijskog-okvira-hko-i-razvoj-kompetencija-za-cjelozivotno-ucenje-strucnih-djelatnika-odgojno-obrazovnih-ustanova-republike-hrvatske" TargetMode="External"/><Relationship Id="rId2" Type="http://schemas.openxmlformats.org/officeDocument/2006/relationships/hyperlink" Target="http://www.infonb.net/drustvo/3-drustvo/1148-na-vaspita-na-meunarodnoj-konferenciji.html" TargetMode="External"/><Relationship Id="rId3" Type="http://schemas.openxmlformats.org/officeDocument/2006/relationships/hyperlink" Target="http://www.poslovni-savjetnik.com/CMS/0105/Content.aspx?EID=21145" TargetMode="External"/><Relationship Id="rId4" Type="http://schemas.openxmlformats.org/officeDocument/2006/relationships/hyperlink" Target="http://www.poslovni-savjetnik.com/CMS/0105/Default.aspx?EID=3128" TargetMode="External"/><Relationship Id="rId5" Type="http://schemas.openxmlformats.org/officeDocument/2006/relationships/hyperlink" Target="http://www.hpkz-napredak.hr/HPKZ-program.pdf" TargetMode="External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Title 1"/>
          <p:cNvGrpSpPr/>
          <p:nvPr/>
        </p:nvGrpSpPr>
        <p:grpSpPr>
          <a:xfrm>
            <a:off x="-19080" y="3127320"/>
            <a:ext cx="9175680" cy="2030400"/>
            <a:chOff x="-19080" y="3127320"/>
            <a:chExt cx="9175680" cy="2030400"/>
          </a:xfrm>
        </p:grpSpPr>
        <p:pic>
          <p:nvPicPr>
            <p:cNvPr id="613" name="Title 1" descr=""/>
            <p:cNvPicPr/>
            <p:nvPr/>
          </p:nvPicPr>
          <p:blipFill>
            <a:blip r:embed="rId1"/>
            <a:stretch/>
          </p:blipFill>
          <p:spPr>
            <a:xfrm>
              <a:off x="-19080" y="3127320"/>
              <a:ext cx="9175680" cy="203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4" name=""/>
            <p:cNvSpPr/>
            <p:nvPr/>
          </p:nvSpPr>
          <p:spPr>
            <a:xfrm>
              <a:off x="0" y="3143160"/>
              <a:ext cx="9144000" cy="20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800"/>
              </a:br>
              <a:br>
                <a:rPr sz="2800"/>
              </a:br>
              <a:r>
                <a:rPr b="0" lang="hr-HR" sz="1800" spc="-1" strike="noStrike">
                  <a:solidFill>
                    <a:srgbClr val="7f7f7f"/>
                  </a:solidFill>
                  <a:latin typeface="Arial"/>
                  <a:ea typeface="Arial"/>
                </a:rPr>
                <a:t>Stručni skup za stručne djelatnike odgojno – obrazovnih ustanova </a:t>
              </a:r>
              <a:br>
                <a:rPr sz="1800"/>
              </a:br>
              <a:r>
                <a:rPr b="1" lang="hr-HR" sz="1800" spc="-1" strike="noStrike">
                  <a:solidFill>
                    <a:srgbClr val="7f7f7f"/>
                  </a:solidFill>
                  <a:latin typeface="Arial"/>
                  <a:ea typeface="Arial"/>
                </a:rPr>
                <a:t>Projekt Provedba Hrvatskog kvalifikacijskog okvira (HKO) i razvoj kompetencija za cjeloživotno učenje stručnih djelatnika odgojno – obrazovnih ustanova </a:t>
              </a:r>
              <a:br>
                <a:rPr sz="2800"/>
              </a:br>
              <a:r>
                <a:rPr b="0" lang="hr-HR" sz="2800" spc="-1" strike="noStrike">
                  <a:solidFill>
                    <a:srgbClr val="7f7f7f"/>
                  </a:solidFill>
                  <a:latin typeface="Calibri"/>
                </a:rPr>
                <a:t>IV. Modul </a:t>
              </a:r>
              <a:r>
                <a:rPr b="1" lang="hr-HR" sz="2800" spc="-1" strike="noStrike">
                  <a:solidFill>
                    <a:srgbClr val="7f7f7f"/>
                  </a:solidFill>
                  <a:latin typeface="Calibri"/>
                </a:rPr>
                <a:t>- </a:t>
              </a:r>
              <a:r>
                <a:rPr b="1" lang="hr-HR" sz="2800" spc="-1" strike="noStrike">
                  <a:solidFill>
                    <a:srgbClr val="000000"/>
                  </a:solidFill>
                  <a:latin typeface="Calibri"/>
                </a:rPr>
                <a:t>HRVATSKI KVALIFIKACIJSKI OKVIR (HKO), EUROPSKI KVALIFIKACIJSKI OKVIR (EQF), STRATEGIJSKO PLANIRANJE I OSIGURANJE SUSTAVA KVALITETE U ODGOJNO - OBRAZOVNIM USTANOVAMA</a:t>
              </a:r>
              <a:br>
                <a:rPr sz="2800"/>
              </a:br>
              <a:br>
                <a:rPr sz="2800"/>
              </a:br>
              <a:r>
                <a:rPr b="1" lang="hr-HR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br>
                <a:rPr sz="2800"/>
              </a:br>
              <a:br>
                <a:rPr sz="2800"/>
              </a:br>
              <a:br>
                <a:rPr sz="2800"/>
              </a:br>
              <a:br>
                <a:rPr sz="2800"/>
              </a:b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1285920" y="5143680"/>
            <a:ext cx="6400800" cy="53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mr. sc. Andreja Marcetić, v. suradnik AZO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600" spc="-1" strike="noStrike">
                <a:solidFill>
                  <a:srgbClr val="898989"/>
                </a:solidFill>
                <a:latin typeface="Calibri"/>
              </a:rPr>
              <a:t>voditelj - suradnik na Projekt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8" name="Content Placeholder 2"/>
          <p:cNvGrpSpPr/>
          <p:nvPr/>
        </p:nvGrpSpPr>
        <p:grpSpPr>
          <a:xfrm>
            <a:off x="-19080" y="1627200"/>
            <a:ext cx="9175680" cy="5243400"/>
            <a:chOff x="-19080" y="1627200"/>
            <a:chExt cx="9175680" cy="5243400"/>
          </a:xfrm>
        </p:grpSpPr>
        <p:pic>
          <p:nvPicPr>
            <p:cNvPr id="639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-19080" y="1627200"/>
              <a:ext cx="9175680" cy="524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"/>
            <p:cNvSpPr/>
            <p:nvPr/>
          </p:nvSpPr>
          <p:spPr>
            <a:xfrm>
              <a:off x="0" y="1643040"/>
              <a:ext cx="9144000" cy="52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99960" indent="-399960">
                <a:spcBef>
                  <a:spcPts val="400"/>
                </a:spcBef>
                <a:buClr>
                  <a:srgbClr val="7f7f7f"/>
                </a:buClr>
                <a:buFont typeface="Arial"/>
                <a:buAutoNum type="roman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7f7f7f"/>
                  </a:solidFill>
                  <a:latin typeface="Arial"/>
                  <a:ea typeface="Arial"/>
                </a:rPr>
                <a:t>Uloga Hrvatskog kvalifikacijskog okvira (HKO) u prihvaćanju odgovornosti u radu stručnih djelatnika odgojno – obrazovnih  ustanova te nužnost cjeloživotnog učenja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399960">
                <a:spcBef>
                  <a:spcPts val="400"/>
                </a:spcBef>
                <a:buClr>
                  <a:srgbClr val="7f7f7f"/>
                </a:buClr>
                <a:buFont typeface="Arial"/>
                <a:buAutoNum type="roman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f7f7f"/>
                  </a:solidFill>
                  <a:latin typeface="Arial"/>
                  <a:ea typeface="Arial"/>
                </a:rPr>
                <a:t>Hrvatski kvalifikacijski okvir (HKO), strategijsko planiranje i razvoj ključnih kompetencija u odgojno – obrazovnim ustanovam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399960">
                <a:spcBef>
                  <a:spcPts val="400"/>
                </a:spcBef>
                <a:buClr>
                  <a:srgbClr val="7f7f7f"/>
                </a:buClr>
                <a:buFont typeface="Arial"/>
                <a:buAutoNum type="roman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7f7f7f"/>
                  </a:solidFill>
                  <a:latin typeface="Arial"/>
                  <a:ea typeface="Arial"/>
                </a:rPr>
                <a:t>Unapređivanje rada u odgojno - obrazovnim ustanovama kroz razvoj ključnih kompetencija za cjeloživotno učenje u kontekstu Hrvatskog kvalifikacijskog okvira (HKO) i  Europskog kvalifikacijskog okvira (EQF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399960">
                <a:spcBef>
                  <a:spcPts val="601"/>
                </a:spcBef>
                <a:buClr>
                  <a:srgbClr val="ff0000"/>
                </a:buClr>
                <a:buFont typeface="Arial"/>
                <a:buAutoNum type="roman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Europski kvalifikacijski okvir (EQF), strateško planiranje i osiguranje sustava kvalitete u odgojno – obrazovnim ustanovam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399960">
                <a:spcBef>
                  <a:spcPts val="400"/>
                </a:spcBef>
                <a:buClr>
                  <a:srgbClr val="000000"/>
                </a:buClr>
                <a:buFont typeface="Arial"/>
                <a:buAutoNum type="roman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bilnost i upravljanje projektima u odgojno – obrazovnim ustanovama u skladu s hrvatskim i europskim kvalifikacijskim okvirom (HKO, EQF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399960">
                <a:spcBef>
                  <a:spcPts val="400"/>
                </a:spcBef>
                <a:buClr>
                  <a:srgbClr val="000000"/>
                </a:buClr>
                <a:buFont typeface="Arial"/>
                <a:buAutoNum type="roman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Hrvatski kvalifikacijski okvir (HKO) i unapređivanje rada u odgojno – obrazovnim ustanovama kroz razvoj poduzetništva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399960">
                <a:spcBef>
                  <a:spcPts val="400"/>
                </a:spcBef>
                <a:buClr>
                  <a:srgbClr val="000000"/>
                </a:buClr>
                <a:buFont typeface="Arial"/>
                <a:buAutoNum type="roman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zvoj kvalifikacija temeljenih na kompetencijama (Hrvatski kvalifikacijski okvir, European Reference Framework - HKO, ERF) i odgoj za demokratsko građanstv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399960">
                <a:spcBef>
                  <a:spcPts val="550"/>
                </a:spcBef>
                <a:buClr>
                  <a:srgbClr val="ffffff"/>
                </a:buClr>
                <a:buFont typeface="Arial"/>
                <a:buAutoNum type="roman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399960">
                <a:spcBef>
                  <a:spcPts val="55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0" y="1928880"/>
            <a:ext cx="3008160" cy="86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Teme IV. modu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2785680" y="1000080"/>
            <a:ext cx="63579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  <a:ea typeface="Arial"/>
              </a:rPr>
              <a:t>EUROPSKI KVALIFIKACIJSKI OKVIR (EQF) I IZBOR, OBLIKOVANJE I IMPLEMENTACIJA </a:t>
            </a:r>
            <a:r>
              <a:rPr b="0" lang="hr-HR" sz="2100" spc="-1" strike="noStrike">
                <a:solidFill>
                  <a:srgbClr val="ff0000"/>
                </a:solidFill>
                <a:latin typeface="Arial"/>
                <a:ea typeface="Arial"/>
              </a:rPr>
              <a:t>POSLOVNE STRATEGIJE U OBRAZOVANJU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  <a:ea typeface="Arial"/>
              </a:rPr>
              <a:t>EUROPSKI KVALIFIKACIJSKI OKVIR (EQF) I </a:t>
            </a:r>
            <a:r>
              <a:rPr b="0" lang="hr-HR" sz="2100" spc="-1" strike="noStrike">
                <a:solidFill>
                  <a:srgbClr val="ff0000"/>
                </a:solidFill>
                <a:latin typeface="Arial"/>
                <a:ea typeface="Arial"/>
              </a:rPr>
              <a:t>KOMPETENCIJE</a:t>
            </a:r>
            <a:r>
              <a:rPr b="0" lang="hr-HR" sz="2100" spc="-1" strike="noStrike">
                <a:solidFill>
                  <a:srgbClr val="000000"/>
                </a:solidFill>
                <a:latin typeface="Arial"/>
                <a:ea typeface="Arial"/>
              </a:rPr>
              <a:t> ZA CJELOŽIVOTNO UČENJE (KOMPETENCIJE - NEŠTO NOVO?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ff0000"/>
                </a:solidFill>
                <a:latin typeface="Arial"/>
                <a:ea typeface="Arial"/>
              </a:rPr>
              <a:t>VAŽNOST MEĐUSEKTORSKE SURADNJE </a:t>
            </a:r>
            <a:r>
              <a:rPr b="0" lang="hr-HR" sz="2100" spc="-1" strike="noStrike">
                <a:solidFill>
                  <a:srgbClr val="000000"/>
                </a:solidFill>
                <a:latin typeface="Arial"/>
                <a:ea typeface="Arial"/>
              </a:rPr>
              <a:t>U OSTVARIVANJU SUSTAVA SOCIJALNE SKRBI U KONTEKSTU EUROPSKOG OKVIRA KLJUČNIH KOMPETENCIJA ZA CJELOŽIVOTNO UČENJ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  <a:ea typeface="Arial"/>
              </a:rPr>
              <a:t>EUROPSKI KVALIFIKACIJSKI OKVIR (EQF )I</a:t>
            </a:r>
            <a:r>
              <a:rPr b="0" lang="hr-HR" sz="2100" spc="-1" strike="noStrike">
                <a:solidFill>
                  <a:srgbClr val="ff0000"/>
                </a:solidFill>
                <a:latin typeface="Arial"/>
                <a:ea typeface="Arial"/>
              </a:rPr>
              <a:t> PROMJENE I INOVACIJE U OCJENJIVANJU</a:t>
            </a:r>
            <a:r>
              <a:rPr b="0" lang="hr-HR" sz="2100" spc="-1" strike="noStrike">
                <a:solidFill>
                  <a:srgbClr val="000000"/>
                </a:solidFill>
                <a:latin typeface="Arial"/>
                <a:ea typeface="Arial"/>
              </a:rPr>
              <a:t> POSTIGNUĆA UČENIKA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ff0000"/>
                </a:solidFill>
                <a:latin typeface="Arial"/>
                <a:ea typeface="Arial"/>
              </a:rPr>
              <a:t>STRATEGIJSKI KONTEKST </a:t>
            </a:r>
            <a:r>
              <a:rPr b="0" lang="hr-HR" sz="2100" spc="-1" strike="noStrike">
                <a:solidFill>
                  <a:srgbClr val="000000"/>
                </a:solidFill>
                <a:latin typeface="Arial"/>
                <a:ea typeface="Arial"/>
              </a:rPr>
              <a:t>UPRAVLJANJA KVALITETOM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  <a:ea typeface="Arial"/>
              </a:rPr>
              <a:t>HRVATSKI KVALIFIKACIJSKI OKVIR (HKO) </a:t>
            </a:r>
            <a:r>
              <a:rPr b="0" lang="hr-HR" sz="2100" spc="-1" strike="noStrike">
                <a:solidFill>
                  <a:srgbClr val="ff0000"/>
                </a:solidFill>
                <a:latin typeface="Arial"/>
                <a:ea typeface="Arial"/>
              </a:rPr>
              <a:t>KVALITET</a:t>
            </a:r>
            <a:r>
              <a:rPr b="0" lang="hr-HR" sz="2100" spc="-1" strike="noStrike">
                <a:solidFill>
                  <a:srgbClr val="000000"/>
                </a:solidFill>
                <a:latin typeface="Arial"/>
                <a:ea typeface="Arial"/>
              </a:rPr>
              <a:t>A – RAZUMIJEVANJE, PROVEDBA, POUZDANOS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PREDAVAČ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456840" y="1428480"/>
            <a:ext cx="85438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Calibri"/>
              </a:rPr>
              <a:t>Boris Blažinić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, ravnatelj Instituta za kvalitetu i razvoj ljudskih potencijala, direktor SoftSkills Academy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f. dr.sc.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ile Dželalija, 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Sveučilište u Zadru, voditelj Stručnog tima za potporu Povjerenstvu za provedbu HKO, član EQF AG Europske komisij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dr. sc. </a:t>
            </a:r>
            <a:r>
              <a:rPr b="1" lang="hr-HR" sz="2200" spc="-1" strike="noStrike">
                <a:solidFill>
                  <a:srgbClr val="000000"/>
                </a:solidFill>
                <a:latin typeface="Calibri"/>
              </a:rPr>
              <a:t>Natalija Komljanc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, strukovna direktorica Zavoda Republike Slovenije za šolstv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Doc. dr. sc. </a:t>
            </a:r>
            <a:r>
              <a:rPr b="1" lang="hr-HR" sz="2200" spc="-1" strike="noStrike">
                <a:solidFill>
                  <a:srgbClr val="000000"/>
                </a:solidFill>
                <a:latin typeface="Calibri"/>
              </a:rPr>
              <a:t>Kovačević Sonja, 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Sveučilište u Splitu, Filozofski fakultet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Calibri"/>
              </a:rPr>
              <a:t>Nevenka Lon</a:t>
            </a:r>
            <a:r>
              <a:rPr b="1" lang="hr-HR" sz="22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pl-PL" sz="2200" spc="-1" strike="noStrike">
                <a:solidFill>
                  <a:srgbClr val="000000"/>
                </a:solidFill>
                <a:latin typeface="Calibri"/>
              </a:rPr>
              <a:t>ari</a:t>
            </a:r>
            <a:r>
              <a:rPr b="1" lang="hr-HR" sz="2200" spc="-1" strike="noStrike">
                <a:solidFill>
                  <a:srgbClr val="000000"/>
                </a:solidFill>
                <a:latin typeface="Calibri"/>
              </a:rPr>
              <a:t>ć – </a:t>
            </a:r>
            <a:r>
              <a:rPr b="1" lang="pl-PL" sz="2200" spc="-1" strike="noStrike">
                <a:solidFill>
                  <a:srgbClr val="000000"/>
                </a:solidFill>
                <a:latin typeface="Calibri"/>
              </a:rPr>
              <a:t>Jela</a:t>
            </a:r>
            <a:r>
              <a:rPr b="1" lang="hr-HR" sz="22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pl-PL" sz="2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hr-HR" sz="2200" spc="-1" strike="noStrike">
                <a:solidFill>
                  <a:srgbClr val="000000"/>
                </a:solidFill>
                <a:latin typeface="Calibri"/>
              </a:rPr>
              <a:t>ć, 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Agencija za odgoj i obrazovanje, 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vi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š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a savjetnica za nacionalne program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Zorana Uzelac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Gradski ured za socijalnu zaštitu i osobe s invaliditetom Grada Zagreba, šef Odsjeka - stručni savjetni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doc. dr. sc. </a:t>
            </a:r>
            <a:r>
              <a:rPr b="1" lang="hr-HR" sz="2200" spc="-1" strike="noStrike">
                <a:solidFill>
                  <a:srgbClr val="000000"/>
                </a:solidFill>
                <a:latin typeface="Calibri"/>
              </a:rPr>
              <a:t>Vatroslav Zovko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, Prodekan za poslovanje i razvoj, Učiteljski fakultet Sveučilišta u Zagreb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56760" y="4929120"/>
            <a:ext cx="30085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EQF I OBLIKOVANJE I IMPLEMENTACIJA </a:t>
            </a:r>
            <a:r>
              <a:rPr b="1" lang="hr-HR" sz="2400" spc="-1" strike="noStrike">
                <a:solidFill>
                  <a:srgbClr val="ff0000"/>
                </a:solidFill>
                <a:latin typeface="Calibri"/>
              </a:rPr>
              <a:t>POSLOVNE STRATEGIJE </a:t>
            </a: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U OBRAZOVANJU</a:t>
            </a:r>
            <a:br>
              <a:rPr sz="2400"/>
            </a:br>
            <a:r>
              <a:rPr b="1" lang="hr-HR" sz="2400" spc="-1" strike="noStrike">
                <a:solidFill>
                  <a:srgbClr val="7f7f7f"/>
                </a:solidFill>
                <a:latin typeface="Calibri"/>
              </a:rPr>
              <a:t>Boris Blažinić, ravnatelj Instituta za kvalitetu i razvoj ljudskih potencijala, direktor SoftSkills Academy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3574800" y="785880"/>
            <a:ext cx="511164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         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Ishod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sistematizirati promjene za poboljšanje kvalitete odgojno-obrazovnog proce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navesti tipične prepreke u pružanju kvalitetne uslu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istaknuti važnost sustavnog pristupa prilikom izbora konkurentske predn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potaknuti promišljanja kako oblikovati poslovnu strategij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prepoznato nosioce implementaci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osvrnuti se na kontrolu i revizij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Okvirni sadržaj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odgojno-obrazovna usluga i prepreke u njenoj implementacij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prijedlozi za izbor konkurentske predn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mogućnosti oblikovanja poslovne strategi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nosioci implementacije i kontro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56760" y="1714320"/>
            <a:ext cx="3008520" cy="366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EQF I </a:t>
            </a:r>
            <a:r>
              <a:rPr b="1" lang="hr-HR" sz="2400" spc="-1" strike="noStrike">
                <a:solidFill>
                  <a:srgbClr val="ff0000"/>
                </a:solidFill>
                <a:latin typeface="Calibri"/>
              </a:rPr>
              <a:t>KOMPETENCIJE ZA CJELOŽIVOTNO UČENJE</a:t>
            </a:r>
            <a:br>
              <a:rPr sz="2400"/>
            </a:br>
            <a:r>
              <a:rPr b="1" lang="hr-HR" sz="2400" spc="-1" strike="noStrike">
                <a:solidFill>
                  <a:srgbClr val="7f7f7f"/>
                </a:solidFill>
                <a:latin typeface="Calibri"/>
              </a:rPr>
              <a:t>dr. sc. Natalija Komljanc, strukovna direktorica Zavoda Republike Slovenije za šolstv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571560" y="785880"/>
            <a:ext cx="542916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Ishod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poznati razliku između rezultata učenja i kompetenci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svrha kompetencija za pojedinca i društ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znati, kako postati i ostati kompetent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identificirati razlike između kompetencija u prošlosti i sadašnj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upotrijebiti samoregulaciju za poticanje samorazvoja, odnosno kompetenci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Okvirni sadržaj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opće definicije pojma kompetenc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kompetentnost u 21. stoljeć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formiranje kompetenc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ključni elementi za razvoj kompetentnog  društv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mehanizam za poticanje napretk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56760" y="5143320"/>
            <a:ext cx="3008520" cy="116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VAŽNOST </a:t>
            </a:r>
            <a:r>
              <a:rPr b="1" lang="hr-HR" sz="2000" spc="-1" strike="noStrike">
                <a:solidFill>
                  <a:srgbClr val="ff0000"/>
                </a:solidFill>
                <a:latin typeface="Calibri"/>
              </a:rPr>
              <a:t>MEĐUSEKTORSKE SURADNJE 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U OSTVARIVANJU SUSTAVA SOCIJALNE SKRBI U KONTEKSTU EUROPSKOG OKVIRA KLJUČNIH KOMPETENCIJA ZA CJELOŽIVOTNO UČENJE</a:t>
            </a:r>
            <a:br>
              <a:rPr sz="2000"/>
            </a:br>
            <a:r>
              <a:rPr b="1" lang="hr-HR" sz="2000" spc="-1" strike="noStrike">
                <a:solidFill>
                  <a:srgbClr val="7f7f7f"/>
                </a:solidFill>
                <a:latin typeface="Calibri"/>
              </a:rPr>
              <a:t>Zorana Uzelac, Gradski ured za socijalnu zaštitu i osobe s invaliditetom Grada Zagreba, šef Odsjeka - stručni savjetnik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hr-HR" sz="2200" spc="-1" strike="noStrike">
                <a:solidFill>
                  <a:srgbClr val="000000"/>
                </a:solidFill>
                <a:latin typeface="Calibri"/>
              </a:rPr>
              <a:t>Ishodi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usvojiti osnovna znanja o sustavu socijalne skrbi u Gradu Zagreb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prepoznati važnost međusektorske suradnje u sustavu socijalne skrbi te ga primijeniti na ostale sustav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razumjeti doprinos svih sektora suradnje u cilju ostvarenja sustava socijalne skrb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prepoznati značaj timskog rada i motivacij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Calibri"/>
              </a:rPr>
              <a:t>Okvirni sadržaj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osnovne informacije o sustavu socijalne skrbi u Gradu Zagreb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razvoj međusektorske suradnje u sustavu socijalne skrbi – konkretni primjeri prak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predstavljanje timskog rada i motivacij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-360" y="4572000"/>
            <a:ext cx="37861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EQF I </a:t>
            </a:r>
            <a:r>
              <a:rPr b="1" lang="hr-HR" sz="2400" spc="-1" strike="noStrike">
                <a:solidFill>
                  <a:srgbClr val="ff0000"/>
                </a:solidFill>
                <a:latin typeface="Calibri"/>
              </a:rPr>
              <a:t>PROMJENE I INOVACIJE U OCJENJIVANJU</a:t>
            </a: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 POSTIGNUĆA UČENIKA</a:t>
            </a:r>
            <a:br>
              <a:rPr sz="2400"/>
            </a:br>
            <a:r>
              <a:rPr b="1" lang="pl-PL" sz="2400" spc="-1" strike="noStrike">
                <a:solidFill>
                  <a:srgbClr val="7f7f7f"/>
                </a:solidFill>
                <a:latin typeface="Calibri"/>
              </a:rPr>
              <a:t>Nevenka Lon</a:t>
            </a:r>
            <a:r>
              <a:rPr b="1" lang="hr-HR" sz="2400" spc="-1" strike="noStrike">
                <a:solidFill>
                  <a:srgbClr val="7f7f7f"/>
                </a:solidFill>
                <a:latin typeface="Calibri"/>
              </a:rPr>
              <a:t>č</a:t>
            </a:r>
            <a:r>
              <a:rPr b="1" lang="pl-PL" sz="2400" spc="-1" strike="noStrike">
                <a:solidFill>
                  <a:srgbClr val="7f7f7f"/>
                </a:solidFill>
                <a:latin typeface="Calibri"/>
              </a:rPr>
              <a:t>ari</a:t>
            </a:r>
            <a:r>
              <a:rPr b="1" lang="hr-HR" sz="2400" spc="-1" strike="noStrike">
                <a:solidFill>
                  <a:srgbClr val="7f7f7f"/>
                </a:solidFill>
                <a:latin typeface="Calibri"/>
              </a:rPr>
              <a:t>ć – </a:t>
            </a:r>
            <a:r>
              <a:rPr b="1" lang="pl-PL" sz="2400" spc="-1" strike="noStrike">
                <a:solidFill>
                  <a:srgbClr val="7f7f7f"/>
                </a:solidFill>
                <a:latin typeface="Calibri"/>
              </a:rPr>
              <a:t>Jela</a:t>
            </a:r>
            <a:r>
              <a:rPr b="1" lang="hr-HR" sz="2400" spc="-1" strike="noStrike">
                <a:solidFill>
                  <a:srgbClr val="7f7f7f"/>
                </a:solidFill>
                <a:latin typeface="Calibri"/>
              </a:rPr>
              <a:t>č</a:t>
            </a:r>
            <a:r>
              <a:rPr b="1" lang="pl-PL" sz="2400" spc="-1" strike="noStrike">
                <a:solidFill>
                  <a:srgbClr val="7f7f7f"/>
                </a:solidFill>
                <a:latin typeface="Calibri"/>
              </a:rPr>
              <a:t>i</a:t>
            </a:r>
            <a:r>
              <a:rPr b="1" lang="hr-HR" sz="2400" spc="-1" strike="noStrike">
                <a:solidFill>
                  <a:srgbClr val="7f7f7f"/>
                </a:solidFill>
                <a:latin typeface="Calibri"/>
              </a:rPr>
              <a:t>ć, Agencija za odgoj i obrazovanje, </a:t>
            </a:r>
            <a:r>
              <a:rPr b="1" lang="pl-PL" sz="2400" spc="-1" strike="noStrike">
                <a:solidFill>
                  <a:srgbClr val="7f7f7f"/>
                </a:solidFill>
                <a:latin typeface="Calibri"/>
              </a:rPr>
              <a:t>vi</a:t>
            </a:r>
            <a:r>
              <a:rPr b="1" lang="hr-HR" sz="2400" spc="-1" strike="noStrike">
                <a:solidFill>
                  <a:srgbClr val="7f7f7f"/>
                </a:solidFill>
                <a:latin typeface="Calibri"/>
              </a:rPr>
              <a:t>š</a:t>
            </a:r>
            <a:r>
              <a:rPr b="1" lang="pl-PL" sz="2400" spc="-1" strike="noStrike">
                <a:solidFill>
                  <a:srgbClr val="7f7f7f"/>
                </a:solidFill>
                <a:latin typeface="Calibri"/>
              </a:rPr>
              <a:t>a savjetnica za nacionalne programe </a:t>
            </a:r>
            <a:br>
              <a:rPr sz="24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3714840" y="428400"/>
            <a:ext cx="4540320" cy="42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Ishod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sudionici će biti upoznati s inkluzivnim oblicima ocjenjivanja sukladnim učenju i poučavanju usmjerenom na razvoj kompetenci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Okvirni sadržaj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politika i praksa pristupa ocjenjivanj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razvoj novih metoda ocjenjivanja i samo-ocjenjiva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inkluzivno ocjenjiv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preporuke za politiku i praksu Europske agencije za obrazovna istraživa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85480" y="4643280"/>
            <a:ext cx="32223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STRATEGIJSKI KONTEKST </a:t>
            </a:r>
            <a:r>
              <a:rPr b="1" lang="hr-HR" sz="2400" spc="-1" strike="noStrike">
                <a:solidFill>
                  <a:srgbClr val="ff0000"/>
                </a:solidFill>
                <a:latin typeface="Calibri"/>
              </a:rPr>
              <a:t>UPRAVLJANJA KVALITETOM</a:t>
            </a:r>
            <a:br>
              <a:rPr sz="2400"/>
            </a:br>
            <a:r>
              <a:rPr b="1" lang="hr-HR" sz="2400" spc="-1" strike="noStrike">
                <a:solidFill>
                  <a:srgbClr val="7f7f7f"/>
                </a:solidFill>
                <a:latin typeface="Calibri"/>
              </a:rPr>
              <a:t>doc. dr. sc. Vatroslav Zovko, Prodekan za poslovanje i razvoj, Učiteljski fakultet Sveučilišta u Zagreb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Ishod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upoznati auditorij s osnovama strateškog menadžmen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Određivanje koncepcije odgoja i obrazovanja u okviru strateških ciljev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Identifikacija ključnih dionika u procesima pružanja obrazovnih uslu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Određivanje čimbenika kvalitete kao pokazatelja uspješnosti u ostvarivanju strateških ciljeva odgojno -  obrazovne ustano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Okvirni sadržaj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Definicija ključnih pojmova u strateškom menadžment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Definicija kvalite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Razvoj pokazatelja kvalite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Kvaliteta kao čimbenik pozicioniranja odgojno obrazovnih ustanova u kontekstu gospodarstva Hrvats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0" y="5000760"/>
            <a:ext cx="3857760" cy="142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HKO </a:t>
            </a:r>
            <a:r>
              <a:rPr b="1" lang="hr-HR" sz="2400" spc="-1" strike="noStrike">
                <a:solidFill>
                  <a:srgbClr val="ff0000"/>
                </a:solidFill>
                <a:latin typeface="Calibri"/>
              </a:rPr>
              <a:t>KVALITETA</a:t>
            </a: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 – RAZUMIJEVANJE, PROVEDBA, POUZDANOST</a:t>
            </a:r>
            <a:br>
              <a:rPr sz="2400"/>
            </a:br>
            <a:r>
              <a:rPr b="1" lang="en-US" sz="2400" spc="-1" strike="noStrike">
                <a:solidFill>
                  <a:srgbClr val="7f7f7f"/>
                </a:solidFill>
                <a:latin typeface="Calibri"/>
              </a:rPr>
              <a:t>prof. dr.sc. Mile Dželalija, </a:t>
            </a:r>
            <a:r>
              <a:rPr b="1" lang="hr-HR" sz="2400" spc="-1" strike="noStrike">
                <a:solidFill>
                  <a:srgbClr val="7f7f7f"/>
                </a:solidFill>
                <a:latin typeface="Calibri"/>
              </a:rPr>
              <a:t>Sveučilište u Zadru, voditelj Stručnog tima za potporu Povjerenstvu za provedbu HKO, član EQF AG Europske komisije </a:t>
            </a:r>
            <a:br>
              <a:rPr sz="2400"/>
            </a:br>
            <a:r>
              <a:rPr b="1" lang="hr-HR" sz="2400" spc="-1" strike="noStrike">
                <a:solidFill>
                  <a:srgbClr val="7f7f7f"/>
                </a:solidFill>
                <a:latin typeface="Calibri"/>
              </a:rPr>
              <a:t>dr. sc. Kovačević Sonja, Sveučilište u Splitu, Filozofski fakultet </a:t>
            </a: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3575160" y="428400"/>
            <a:ext cx="542592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Ishodi učenj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Analizirati svojstvo osobne i institucijske dimenzije kvalitete ishoda učenja i kvalifikaci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Analizirati unutrašnji i vanjski sustav osiguravanja kvalitete (unaprjeđivanje i prosudba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000000"/>
                </a:solidFill>
                <a:latin typeface="Calibri"/>
              </a:rPr>
              <a:t>stjecanja kompetencija (formalno učenj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000000"/>
                </a:solidFill>
                <a:latin typeface="Calibri"/>
              </a:rPr>
              <a:t>vrjednovanja stečenih kompetencij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000000"/>
                </a:solidFill>
                <a:latin typeface="Calibri"/>
              </a:rPr>
              <a:t>povezivanja ishoda učenja/kvalifikacija s potrebama društva i pojedinc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000000"/>
                </a:solidFill>
                <a:latin typeface="Calibri"/>
              </a:rPr>
              <a:t>povezivanja HKO-a s EKO-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Protumačiti osnovne elemente kvalitete HKO-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Sadržaj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Svojstvo osobne i institucijske dimenzije kvalitete ishoda učenja i kvalifikaci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Radion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Unutrašnji i vanjski sustav osiguravanja kvalitete (unaprjeđivanje i prosudba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000000"/>
                </a:solidFill>
                <a:latin typeface="Calibri"/>
              </a:rPr>
              <a:t>stjecanja kompetencija (formalno učenj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000000"/>
                </a:solidFill>
                <a:latin typeface="Calibri"/>
              </a:rPr>
              <a:t>vrjednovanja stečenih kompetencij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000000"/>
                </a:solidFill>
                <a:latin typeface="Calibri"/>
              </a:rPr>
              <a:t>povezivanja ishoda učenja/kvalifikacija s potrebama društva i pojedinc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000000"/>
                </a:solidFill>
                <a:latin typeface="Calibri"/>
              </a:rPr>
              <a:t>povezivanja HKO-a s EKO-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Osnovni elementi kvalitete HKO-a: razumijevanje, provedba, pouzdan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2"/>
          <p:cNvSpPr/>
          <p:nvPr/>
        </p:nvSpPr>
        <p:spPr>
          <a:xfrm>
            <a:off x="4357800" y="3368160"/>
            <a:ext cx="47862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r. sc. Andreja Marcetić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, stručna suradnica savjet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bfbfbf"/>
                </a:solidFill>
                <a:latin typeface="Arial"/>
                <a:ea typeface="Times New Roman"/>
              </a:rPr>
              <a:t>Marcetić Andreja, MPhil, Expert Associate Consult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gencija za odgoj i obrazovanje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, v. surad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bfbfbf"/>
                </a:solidFill>
                <a:latin typeface="Arial"/>
                <a:ea typeface="Times New Roman"/>
              </a:rPr>
              <a:t>Education and Teacher Training Agency</a:t>
            </a:r>
            <a:r>
              <a:rPr b="0" lang="hr-HR" sz="1400" spc="-1" strike="noStrike">
                <a:solidFill>
                  <a:srgbClr val="bfbfbf"/>
                </a:solidFill>
                <a:latin typeface="Arial"/>
                <a:ea typeface="Times New Roman"/>
              </a:rPr>
              <a:t> - External Assoc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el:    +385  1 29 11 5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ax:   +385  1 29 50 84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GSM: +385 91 561 49 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-mail: </a:t>
            </a:r>
            <a:r>
              <a:rPr b="0" lang="hr-HR" sz="1400" spc="-1" strike="noStrike" u="sng">
                <a:solidFill>
                  <a:srgbClr val="67afbd"/>
                </a:solidFill>
                <a:uFillTx/>
                <a:latin typeface="Arial"/>
                <a:ea typeface="Times New Roman"/>
                <a:hlinkClick r:id="rId1"/>
              </a:rPr>
              <a:t>andreja.marcetic@vip.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Picture 2" descr="http://blogs.suntimes.com/cornerkicks/question-mark3a.jpg"/>
          <p:cNvPicPr/>
          <p:nvPr/>
        </p:nvPicPr>
        <p:blipFill>
          <a:blip r:embed="rId2"/>
          <a:stretch/>
        </p:blipFill>
        <p:spPr>
          <a:xfrm>
            <a:off x="0" y="1785960"/>
            <a:ext cx="328608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Title 1"/>
          <p:cNvGrpSpPr/>
          <p:nvPr/>
        </p:nvGrpSpPr>
        <p:grpSpPr>
          <a:xfrm>
            <a:off x="-73080" y="1633680"/>
            <a:ext cx="9680760" cy="1963440"/>
            <a:chOff x="-73080" y="1633680"/>
            <a:chExt cx="9680760" cy="1963440"/>
          </a:xfrm>
        </p:grpSpPr>
        <p:pic>
          <p:nvPicPr>
            <p:cNvPr id="617" name="Title 1" descr=""/>
            <p:cNvPicPr/>
            <p:nvPr/>
          </p:nvPicPr>
          <p:blipFill>
            <a:blip r:embed="rId1"/>
            <a:stretch/>
          </p:blipFill>
          <p:spPr>
            <a:xfrm>
              <a:off x="-73080" y="1633680"/>
              <a:ext cx="9680760" cy="196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"/>
            <p:cNvSpPr/>
            <p:nvPr/>
          </p:nvSpPr>
          <p:spPr>
            <a:xfrm>
              <a:off x="0" y="1785960"/>
              <a:ext cx="914400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2060"/>
                  </a:solidFill>
                  <a:latin typeface="Arial"/>
                  <a:ea typeface="Arial"/>
                </a:rPr>
                <a:t>HRVATSKI KVALKIFIKACIJSKI OKVIR (HKO) – Vlada RH</a:t>
              </a:r>
              <a:br>
                <a:rPr sz="2400"/>
              </a:br>
              <a:r>
                <a:rPr b="1" lang="hr-HR" sz="2400" spc="-1" strike="noStrike">
                  <a:solidFill>
                    <a:srgbClr val="002060"/>
                  </a:solidFill>
                  <a:latin typeface="Arial"/>
                  <a:ea typeface="Arial"/>
                </a:rPr>
                <a:t>- Projekt: </a:t>
              </a:r>
              <a:r>
                <a:rPr b="1" lang="hr-HR" sz="2400" spc="-1" strike="noStrike">
                  <a:solidFill>
                    <a:srgbClr val="c00000"/>
                  </a:solidFill>
                  <a:latin typeface="Arial"/>
                  <a:ea typeface="Arial"/>
                </a:rPr>
                <a:t>Provedba Hrvatskog kvalifikacijskog okvira (HKO) i razvoj kompetencija za cjeloživotno učenje stručnih djelatnika odgojno – obrazovnih ustanova - AZO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"/>
          <p:cNvSpPr txBox="1"/>
          <p:nvPr/>
        </p:nvSpPr>
        <p:spPr>
          <a:xfrm>
            <a:off x="0" y="3500280"/>
            <a:ext cx="9144000" cy="29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2007. godine Vlada RH usvojila je Polazne osnove HKO-a, nakon čega je ustrojeno Povjerenstvo za izradu HKO-a, na čelu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s prof. dr. sc. Slobodanom Uzelcem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, potpredsjednikom Vlade RH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, i dr. sc. Radovanom Fuchsom,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ministrom Ministarstva znanosti, obrazovanja i šport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Slijedom toga, tijekom 2010. AZOO provodi </a:t>
            </a:r>
            <a:r>
              <a:rPr b="0" lang="hr-HR" sz="1800" spc="-1" strike="noStrike">
                <a:solidFill>
                  <a:srgbClr val="c00000"/>
                </a:solidFill>
                <a:latin typeface="Arial"/>
                <a:ea typeface="Arial"/>
              </a:rPr>
              <a:t>modularno stručno usavršavanje stručnih djelatnika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(ravnatelja, stručnih suradnika, nastavnika, učitelja, odgajatelja) odgojno – obrazovnih ustanova (škola i učeničkih domova), budući da je za njegovu uspješnu provedbu nužno podići razinu informiranosti te pripremljenosti svih dionika sustav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0" y="20718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00000"/>
                </a:solidFill>
                <a:latin typeface="Calibri"/>
              </a:rPr>
              <a:t>PLANIRANJE – PROVEDBA - ODRŽIV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575160" y="2428920"/>
            <a:ext cx="535464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VODITELJ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prof. dr. sc. Mile Dželalija </a:t>
            </a:r>
            <a:r>
              <a:rPr b="0" lang="hr-HR" sz="2000" spc="-1" strike="noStrike">
                <a:solidFill>
                  <a:srgbClr val="7f7f7f"/>
                </a:solidFill>
                <a:latin typeface="Arial"/>
                <a:ea typeface="Arial"/>
              </a:rPr>
              <a:t>(voditelj Operativnog tima Vlade RH za potporu Povjerenstvu za izradu HKO-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Nevenka Lončarić – Jelačić </a:t>
            </a:r>
            <a:r>
              <a:rPr b="0" lang="hr-HR" sz="2000" spc="-1" strike="noStrike">
                <a:solidFill>
                  <a:srgbClr val="7f7f7f"/>
                </a:solidFill>
                <a:latin typeface="Arial"/>
                <a:ea typeface="Arial"/>
              </a:rPr>
              <a:t>(viša savjetnica za nacionalne programe AZOO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mr.sc. Tomislav Ogrinšak </a:t>
            </a:r>
            <a:r>
              <a:rPr b="0" lang="hr-HR" sz="2000" spc="-1" strike="noStrike">
                <a:solidFill>
                  <a:srgbClr val="7f7f7f"/>
                </a:solidFill>
                <a:latin typeface="Arial"/>
                <a:ea typeface="Arial"/>
              </a:rPr>
              <a:t>(viši savjetnik za nacionalne programe AZOO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doc. dr. sc. Sonja Kovačević </a:t>
            </a:r>
            <a:r>
              <a:rPr b="0" lang="hr-HR" sz="2000" spc="-1" strike="noStrike">
                <a:solidFill>
                  <a:srgbClr val="7f7f7f"/>
                </a:solidFill>
                <a:latin typeface="Arial"/>
                <a:ea typeface="Arial"/>
              </a:rPr>
              <a:t>(član Operativnog tima HKO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mr.sc. Andreja Marcetić </a:t>
            </a:r>
            <a:r>
              <a:rPr b="0" lang="hr-HR" sz="2000" spc="-1" strike="noStrike">
                <a:solidFill>
                  <a:srgbClr val="7f7f7f"/>
                </a:solidFill>
                <a:latin typeface="Arial"/>
                <a:ea typeface="Arial"/>
              </a:rPr>
              <a:t>(v. suradnica AZOO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0" y="3429000"/>
            <a:ext cx="3643200" cy="29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Calibri"/>
              </a:rPr>
              <a:t>AZO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Calibri"/>
              </a:rPr>
              <a:t>VINKO FILIPOVIĆ, prof. – </a:t>
            </a:r>
            <a:r>
              <a:rPr b="0" lang="hr-HR" sz="2800" spc="-1" strike="noStrike">
                <a:solidFill>
                  <a:srgbClr val="7f7f7f"/>
                </a:solidFill>
                <a:latin typeface="Calibri"/>
              </a:rPr>
              <a:t>ravnatelj AZO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Calibri"/>
              </a:rPr>
              <a:t>DARKO TOT – </a:t>
            </a:r>
            <a:r>
              <a:rPr b="0" lang="hr-HR" sz="2800" spc="-1" strike="noStrike">
                <a:solidFill>
                  <a:srgbClr val="7f7f7f"/>
                </a:solidFill>
                <a:latin typeface="Calibri"/>
              </a:rPr>
              <a:t>pomoćnik ravnatelja AZO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Title 1"/>
          <p:cNvSpPr/>
          <p:nvPr/>
        </p:nvSpPr>
        <p:spPr>
          <a:xfrm>
            <a:off x="3643200" y="785880"/>
            <a:ext cx="55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Arial"/>
                <a:ea typeface="Arial"/>
              </a:rPr>
              <a:t>Provedba Hrvatskog kvalifikacijskog okvira (HKO) i razvoj kompetencija za cjeloživotno učenje stručnih djelatnika odgojno – obrazovnih ustan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4" name="Object 5"/>
          <p:cNvGraphicFramePr/>
          <p:nvPr/>
        </p:nvGraphicFramePr>
        <p:xfrm>
          <a:off x="0" y="0"/>
          <a:ext cx="414324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1432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6" name="Object 6"/>
          <p:cNvGraphicFramePr/>
          <p:nvPr/>
        </p:nvGraphicFramePr>
        <p:xfrm>
          <a:off x="4857840" y="0"/>
          <a:ext cx="4286160" cy="685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7840" y="0"/>
                    <a:ext cx="42861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8" name="Picture 2" descr="P5261623"/>
          <p:cNvPicPr/>
          <p:nvPr/>
        </p:nvPicPr>
        <p:blipFill>
          <a:blip r:embed="rId5"/>
          <a:stretch/>
        </p:blipFill>
        <p:spPr>
          <a:xfrm>
            <a:off x="3500280" y="5043600"/>
            <a:ext cx="2428920" cy="1814400"/>
          </a:xfrm>
          <a:prstGeom prst="rect">
            <a:avLst/>
          </a:prstGeom>
          <a:ln w="0">
            <a:noFill/>
          </a:ln>
        </p:spPr>
      </p:pic>
      <p:sp>
        <p:nvSpPr>
          <p:cNvPr id="629" name="Content Placeholder 2"/>
          <p:cNvSpPr/>
          <p:nvPr/>
        </p:nvSpPr>
        <p:spPr>
          <a:xfrm>
            <a:off x="914400" y="1714680"/>
            <a:ext cx="82296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0000"/>
                </a:solidFill>
                <a:latin typeface="Calibri"/>
              </a:rPr>
              <a:t>PREDSTAVLJANJE PROJEK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 txBox="1"/>
          <p:nvPr/>
        </p:nvSpPr>
        <p:spPr>
          <a:xfrm>
            <a:off x="0" y="1356840"/>
            <a:ext cx="91440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III INTERNATIONAL INTERDISCIPLINARY PROFESSIONAL SCIENTIFIC CONFERENCE:  CULTURAL AND EDUCATIONAL HORIZONS, Lifelong Learning –Necessity or a Matter of General Culture of an Individual, 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Subotica, svibanj 2010.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000" spc="-1" strike="noStrike" u="sng">
                <a:solidFill>
                  <a:srgbClr val="67afbd"/>
                </a:solidFill>
                <a:uFillTx/>
                <a:latin typeface="Arial"/>
                <a:ea typeface="Arial"/>
                <a:hlinkClick r:id="rId1"/>
              </a:rPr>
              <a:t>http://www.voh.rs/treca-konferencija/provedba-hrvatskog-kvalifikacijskog-okvira-hko-i-razvoj-kompetencija-za-cjelozivotno-ucenje-strucnih-djelatnika-odgojno-obrazovnih-ustanova-republike-hrvatske</a:t>
            </a:r>
            <a:r>
              <a:rPr b="0" lang="hr-H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, </a:t>
            </a:r>
            <a:r>
              <a:rPr b="0" lang="hr-HR" sz="2000" spc="-1" strike="noStrike" u="sng">
                <a:solidFill>
                  <a:srgbClr val="67afbd"/>
                </a:solidFill>
                <a:uFillTx/>
                <a:latin typeface="Arial"/>
                <a:ea typeface="Arial"/>
                <a:hlinkClick r:id="rId2"/>
              </a:rPr>
              <a:t>http://www.infonb.net/drustvo/3-drustvo/1148-na-vaspita-na-meunarodnoj-konferenciji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  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2. DANI POSLOVNIH EDUKACIJA 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(Zagreb, Hotel Westin, svibanj 2010.)</a:t>
            </a:r>
            <a:r>
              <a:rPr b="0" i="1" lang="hr-HR" sz="2000" spc="-1" strike="noStrike" u="sng">
                <a:solidFill>
                  <a:srgbClr val="67afbd"/>
                </a:solidFill>
                <a:uFillTx/>
                <a:latin typeface="Arial"/>
                <a:ea typeface="Arial"/>
                <a:hlinkClick r:id="rId3"/>
              </a:rPr>
              <a:t>http://www.poslovnisavjetnik.com/CMS/0105/Content.aspx?EID=21145</a:t>
            </a:r>
            <a:r>
              <a:rPr b="0" lang="hr-H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, </a:t>
            </a:r>
            <a:r>
              <a:rPr b="0" lang="hr-HR" sz="2000" spc="-1" strike="noStrike" u="sng">
                <a:solidFill>
                  <a:srgbClr val="67afbd"/>
                </a:solidFill>
                <a:uFillTx/>
                <a:latin typeface="Arial"/>
                <a:ea typeface="Arial"/>
                <a:hlinkClick r:id="rId4"/>
              </a:rPr>
              <a:t>http://www.poslovni-savjetnik.com/CMS/0105/Default.aspx?EID=312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II STRUČNO - ZNANSTVENI SKUP 11. ŠKOLA UČITELJA I  ODGOJITELJA s temom UČENJE I POUČAVANJE U SUVREMENOM VRTIĆU I ŠKOLI - TKO, ŠTO, KAKO I ZAŠTO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u organizaciji HPKZ - a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(Opatija, lipanj 2010) </a:t>
            </a:r>
            <a:r>
              <a:rPr b="0" i="1" lang="hr-HR" sz="2000" spc="-1" strike="noStrike" u="sng">
                <a:solidFill>
                  <a:srgbClr val="67afbd"/>
                </a:solidFill>
                <a:uFillTx/>
                <a:latin typeface="Arial"/>
                <a:ea typeface="Arial"/>
                <a:hlinkClick r:id="rId5"/>
              </a:rPr>
              <a:t>http://www.hpkz-napredak.hr/HPKZ-program.pd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Sudionici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000000"/>
                </a:solidFill>
                <a:latin typeface="Calibri"/>
              </a:rPr>
              <a:t>172 sudionika (I-IV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4" name="Chart 4" descr=""/>
          <p:cNvPicPr/>
          <p:nvPr/>
        </p:nvPicPr>
        <p:blipFill>
          <a:blip r:embed="rId1"/>
          <a:stretch/>
        </p:blipFill>
        <p:spPr>
          <a:xfrm>
            <a:off x="-6480" y="1352520"/>
            <a:ext cx="9156960" cy="52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Content Placeholder 5" descr=""/>
          <p:cNvPicPr/>
          <p:nvPr/>
        </p:nvPicPr>
        <p:blipFill>
          <a:blip r:embed="rId1"/>
          <a:stretch/>
        </p:blipFill>
        <p:spPr>
          <a:xfrm>
            <a:off x="566640" y="1779480"/>
            <a:ext cx="81266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Calibri"/>
              </a:rPr>
              <a:t>MODUL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10:24:59Z</dcterms:created>
  <dc:creator>Sinisa</dc:creator>
  <dc:description/>
  <dc:language>en-US</dc:language>
  <cp:lastModifiedBy>UID</cp:lastModifiedBy>
  <dcterms:modified xsi:type="dcterms:W3CDTF">2010-06-10T06:34:49Z</dcterms:modified>
  <cp:revision>302</cp:revision>
  <dc:subject/>
  <dc:title>Slide 1</dc:title>
</cp:coreProperties>
</file>