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3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 type="sldNum" idx="3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5C7F-B010-4534-831B-D2C9E733768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 zamisao je usustavljivanja učenja u svim životnim razdobljima (od rane mladosti do starosti) i u svim oblicima u kojima se ostvaruje (formalno, neformalno i informalno). Učenje je pritom kontinuirani proces u kojem su rezultati i motiviranost pojedinca za učenje u određenom životnom razdoblju uvjetovani znanjem, navikama i iskustvima učenja stečenima u mlađoj životnoj dobi. Uz koncept cjeloživotnog učenja najčešće se vezuju ciljevi ekonomske prirode, primjerice postizanje veće konkurentnosti i trajne zapošljivosti. S druge strane ne smiju se zanemariti jednako važni ciljevi koji pridonose aktivnijoj ulozi pojedinca u društvu. Ti su ciljevi poticanje društvene uključenosti, razvoj aktivnoga građanstva te razvijanje individualnih potencijala pojedinac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Pojam cjeloživotno učenje često se zamjenjuje izrazom cjeloživotno obrazovanje, no važno je istaknuti da ta dva pojma nisu istoznačna. Obrazovanje obuhvaća samo organizirano učenje, a učenje je širi koncept koji uključuje i nenamjerno, neorganizirano i spontano stjecanje znanja te se može provoditi cijeli život. U devedesetima se u Europi afirmira cjeloživotno učenje kao politika koja odgovara na probleme ekonomske krize i povećane nezaposlenosti (Žiljak, 2005). U tom razdoblju pomiče se fokus s obrazovanja, koje je institucionalizirani i organizirani proces, na cjeloživotno učenje, koje uključuje sve oblike učenja u svim životnim okolnostim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, razvijen u šezdesetim godinama prošlog stoljeća, odgovor je na problem neusklađenosti između obrazovanja mladih i odraslih (Pastuović, 1999.). Usredotočenost tradicionalne pedagogije na probleme osnovnoškolskog odgoja i općeg obrazovanja djece te andragogije na obrazovanje odraslih, rezultirali su nedostatkom teorije koja bi integrirala spoznaje o obrazovanju i učenju kroz sva životna razdoblja. Takvo stanje pogodovalo je razvitku teorije i koncepta cjeloživotnog učenja kao integriranog pristupa proučavanju učenja kao trajnog proces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U proteklih četrdeset godina cjeloživotno učenje se od početne ideje razvilo u dominantno načelo i orijentaciju razvoja brojnih nacionalnih obrazovnih sustava. Njegova važnost ističe se u nizu međunarodnih akcijskih planova, deklaracija, dokumenata i konferencija (primjerice Deklaracija UNESCO-ove konferencije: Poziv na akciju Sofija, Memorandum Europske komisije o cjeloživotnom učenju, ostali dokumenti Europske komisije: Stvaranje jedinstvenog europskog prostora cjeloživotnog učenja, Nikada nije prekasno za učenje, Akcijski plan za obrazovanje odraslih: Uvijek je dobro vrijeme za učenje, i drugi ). Hrvatska ne zaostaje za ovim trendom te je uključivanjem cjeloživotnog učenja u strateške dokumente iz područja obrazovanja (primjerice Bijeli dokument o hrvatskom obrazovanju, Plan razvoja sustava odgoja i obrazovanja 2005.-2010., Strategija obrazovanja odraslih, Deklaraciji o znanju HAZU-a) postalo osnovno načelo razvitka hrvatskoga obrazovnog sustav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45B-A824-4737-9F47-244B7C8875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A32-516C-4E61-956A-0F7CE5C7E00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7DD6-0B06-4445-AB9B-A971A0FD01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A95B-ADD4-4FA8-A33C-0D6810C1200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DAB-D665-4986-A84E-A8597C14E5E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D4D-A50B-463C-82BF-5098EACB679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5274-D98B-4504-8209-9811C692E17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272A-9236-4AD9-A984-1A77A6B08E0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AE0-4121-4DE9-A0B3-537237D7919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AFCE-B4AB-4397-A79C-177F950555E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9BBC-81ED-4FDF-B170-6DD28EC6ED4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B05F-7722-4921-9A44-F00904EF02D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06A-E556-4775-9374-A3E901DCA96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4DD9-1FDE-4A2A-BA0F-A49D00E301D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F2D-77D6-4B51-9DA0-11D1D7C9F37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3AA-A5BF-4BA8-9316-8B45117306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F809-76CE-49A2-B925-43F61CEF81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79A-AB18-45CE-9A87-80580F54666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3AF-31CD-4760-A694-1C6EB247C63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56EC3-DD11-4AB4-AA28-B821DE4EE7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ED6DC-79E8-47DE-A8AF-31BB0E1D8B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CBD8B-4FD0-4CFD-91DA-E62F2230EE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938AE-44F1-4772-92BC-5D6D05A019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72F02-001A-4D7B-AEF2-080CD1025A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43AB5-CBA5-49BB-87D2-1F85313FB0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DC84B-73D4-4EDC-8510-A3A3D8F5F1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0CCFD-5DFE-4B4F-AD66-3188434A7E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E6B64-5688-4D0C-A845-F715641BB2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60F80-733E-4167-9DCA-6D682367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28D0B-C56F-4BF2-9CB2-CAE8D2E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EC14D-685F-446F-8165-D6F690E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1BD33-DBFC-4E9F-9360-5651A46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E9B9B-4054-4DDD-B514-4AF0AB12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DFFF8-4D47-4790-B16D-2BB26F1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E6F5F-177A-433A-9779-590F68A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237AA-54DB-426D-BD0C-5B16491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B788D3-5261-4EE7-841C-CA7E079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52DA3-E496-4B1C-877B-B7E70DD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DCEE0-0028-4462-9093-051FBFC6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55AA7-34DC-49F0-B4E1-C20FA908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1BE94A-8237-4D76-AEE4-CFDAAF0A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4210D-CF4B-4199-915B-347E841D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25AD0-E769-480C-82AF-DF48272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5AB02-1184-4079-942A-FDA26E5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0F042-9ECB-41AC-9F5B-F091E550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2A16E-15BF-4DA7-ADAC-E2D95E3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4D94C-D836-4B15-80AF-EE58C00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9DF38-E336-428E-83DF-EB55B7E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84AC0-0B07-4EA1-BE15-1E777E4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92853-E603-40F4-9D4D-3F61464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4E1D7-3182-4B4D-8839-7614C4BE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1BDBB-EB03-48D5-8C3E-8B272053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9AF2BA-1D56-465A-919E-4E7F47D7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AE60E9-115A-4B23-A6E1-560E7AE5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CA565-8DF8-4C61-A5F9-3F2E6AE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00D2F-8547-42E6-BBB3-E6903EE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D97CF-E36B-4EC9-9F99-7216758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3FCE8-254E-4A1F-B01E-54567D6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DA596-80AE-47FE-BBFB-CBC3DF0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39593-64F5-4229-AF43-FB1D267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C81C51-EAD2-4553-B1EB-7312BD0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D1181-ED6B-4027-B288-1A7E00B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3C22E5-7ECF-48F3-93F9-32330A91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31798A-F91D-4749-B34F-EC199180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DD86C1-0A41-48D6-B81B-5624C7BC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92AD7-8769-4A48-9DB2-DBA35B0B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2E013-41F7-402C-961F-C719A07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5D225A-F2F0-4A57-8F7C-72413F3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E9F8A6-9040-4150-BEB4-4C0A136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341F3-B16C-40D2-A9C8-D6421D6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3A3768-FAF3-4257-9412-EED48D2C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D87D7F-6502-40EC-91BA-3B9A98A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CDD59-46F5-444D-A2AE-4BB0829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19FAFB-BCF8-4416-8D78-E2BC5611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50E356-F443-4FD0-992B-2CC7AE16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C070A0-E9E1-4CED-8109-92B7E9AC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46C3B-BBC5-4D54-9C16-F0606CD9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050F9-CF08-4901-80A2-1AC3866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52294-B450-4B8B-B9D3-6B76F2E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CE68-662B-4D2C-9784-84CF36DD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8ADA-831C-40C2-B74A-DA1CD43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36E4D-C415-4412-A7BB-C69E3E9E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64F95-93F0-46E3-98CD-4361573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8C59C-69F3-4B3D-8EA2-676F371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6CBA-92FB-4C8A-9C17-7F97CEF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C7856-0A8D-47BE-AA98-D4BD008B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1CD0B-09DE-4E8F-8F7D-F3C2CA5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7F325-749A-4FD9-9BB1-FD14BAFC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5675C-250D-4691-ABC9-85EA471B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3786D-8284-4DA4-A8A0-4836B456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F16CC-2FBA-496F-BE5E-4A7B14D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CCB44-EE61-4429-AE5C-F7D876DA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62E85-41DB-4D65-8489-41F6429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D2814-1064-4CAC-8176-0621D5BC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00B2F-98B9-4508-B774-6E6FACE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36184-CBB7-41E6-A1B7-6C054DB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B979E-BF99-453F-BAF7-EEAC756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61992-FA0D-41F9-ABEC-75FEF38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2688A-4C41-44A3-B70A-AA42F7EF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EE7FE-17C9-4E49-8733-B0B89CB5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F7DF9-2E3A-4FE5-8B80-8AD851F7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CECD1-E4BE-4EA5-A44D-7E8CC8DB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3DBF1-AAA0-415A-8863-748BDD6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DCB48-25AF-4983-A31A-9F8BC9BD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F6E4F-3F55-417A-9B29-3016753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EBE90-A6FA-4576-8724-59F61B0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C7E72-3444-43F3-958A-78C40DEB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E43F9-4DE7-4CBA-9475-8E6D5E5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2BBD6-F59E-49C6-B007-9EBC0FD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2EFAA-FD48-42B8-BCEE-8E96E0D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3D5AC-5B50-4585-A26D-FD419F72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79B94-267C-4113-912F-A0C94DC9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FC986D-876E-4150-9A89-9FC090AE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43801E-AF89-47D8-8F78-FC7C295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5A114-F922-4D27-A625-DAE14992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C701ED-9D2B-4B0B-BEDC-DE40341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3D19C1-72BA-41E1-A083-497FB66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66F7E2-516C-4695-AC63-826BDE1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8EEAA-216F-480A-8B9F-7A690F3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D2AE5-148B-4557-B263-F5DC2EA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7370C-F8D9-4642-83E6-120A962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054D39-4117-405D-A997-2330C3E8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47E61-15FF-4728-AC50-C8841285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11B6E-FDFB-4148-8AA9-059AE339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76F57-6AEC-4AEC-9741-9146AC15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D434F-9745-4A67-9FA7-7FAE035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0C30F-B39E-4989-AC05-183A24EF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E4964-B0F6-472E-A43B-F15FF21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6D2EAA-2C33-4DAB-AB94-CC8CADE1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9BCE6-C5FC-4FC7-A003-B1198F66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6A725-772C-478F-81FA-1292E2F1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DE975-A08F-4616-93F0-09FA8AB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E5D14-F20D-45A5-8AA5-55C6310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4156B-C7E1-4480-9CCB-FB9FB94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68123-C432-4984-BDD1-1B75BA6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59DFE-A89E-4A34-9294-DDCBB663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1D6C-52E0-45DC-8461-ECD6CB6689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C9250-09A4-46C8-91AC-A4BEE6AD37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26EA-9CED-41F1-9159-0D7D04644A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963B-54EA-42B1-B8E0-E9069EB3EF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59474-FD36-49AD-8D14-2F04719BE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41A9-72EE-4FF5-9E46-AC6B464DFF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BED3-9F1C-4174-98D5-DABFA55FC6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D145-764F-4F1C-9608-D43539606E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C479-C7A1-4982-9C17-97F4EC3448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CB8C-22C5-4E69-BAC8-BF2EDB2CDF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9E23-55C2-4010-B23B-110F0211EE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1940-95F1-44C5-B68D-C400F68CBE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1CB6B-1D13-48D7-9864-2AE0FF244D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6F7CC-3ABB-4596-9DB1-7FBDFF3CEC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D4C19-86A1-4992-A337-F259FB52A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Times New Roman"/>
              </a:rPr>
              <a:t>Predmetno područje: Opći stručni skupovi: IV. Modul - Hrvatski kvalifikacijski okvir (HKO), Europski kvalifikacijski okvir (EQF), strategijsko planiranje i osiguranje sustava kvalitete u odgojno - obrazovnim ustanovama - Zagreb 10.-21.06.20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1361-F541-4DEB-8EC7-38003E5F56D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B1C-1543-4F34-9665-53A158A9E59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7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6779-4D69-4AC4-886F-7AB74ACD02F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D97-A482-42E2-BADC-A337D316C42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107172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E1B3-1CDF-4A96-ACCE-D3BE2E5E139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5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7B8-58B5-4693-96F5-7F358D53FF1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8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072-6D54-4DC5-AB73-811E2F320B1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AC3B-2788-4284-B87E-A9A19A1252A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BC1-20DD-4C4A-80D0-0269551023E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292-4F0C-42B2-B102-E9C0F9631DE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40C-D5F3-45FF-97D2-1028CF32877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andreja.marcetic@vip.hr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h.rs/treca-konferencija/provedba-hrvatskog-kvalifikacijskog-okvira-hko-i-razvoj-kompetencija-za-cjelozivotno-ucenje-strucnih-djelatnika-odgojno-obrazovnih-ustanova-republike-hrvatske" TargetMode="External"/><Relationship Id="rId2" Type="http://schemas.openxmlformats.org/officeDocument/2006/relationships/hyperlink" Target="http://www.infonb.net/drustvo/3-drustvo/1148-na-vaspita-na-meunarodnoj-konferenciji.html" TargetMode="External"/><Relationship Id="rId3" Type="http://schemas.openxmlformats.org/officeDocument/2006/relationships/hyperlink" Target="http://www.poslovni-savjetnik.com/CMS/0105/Content.aspx?EID=21145" TargetMode="External"/><Relationship Id="rId4" Type="http://schemas.openxmlformats.org/officeDocument/2006/relationships/hyperlink" Target="http://www.poslovni-savjetnik.com/CMS/0105/Default.aspx?EID=3128" TargetMode="External"/><Relationship Id="rId5" Type="http://schemas.openxmlformats.org/officeDocument/2006/relationships/hyperlink" Target="http://www.hpkz-napredak.hr/HPKZ-program.pdf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Title 1"/>
          <p:cNvGrpSpPr/>
          <p:nvPr/>
        </p:nvGrpSpPr>
        <p:grpSpPr>
          <a:xfrm>
            <a:off x="-19080" y="3127320"/>
            <a:ext cx="9175680" cy="2030400"/>
            <a:chOff x="-19080" y="3127320"/>
            <a:chExt cx="9175680" cy="2030400"/>
          </a:xfrm>
        </p:grpSpPr>
        <p:pic>
          <p:nvPicPr>
            <p:cNvPr id="613" name="Title 1" descr=""/>
            <p:cNvPicPr/>
            <p:nvPr/>
          </p:nvPicPr>
          <p:blipFill>
            <a:blip r:embed="rId1"/>
            <a:stretch/>
          </p:blipFill>
          <p:spPr>
            <a:xfrm>
              <a:off x="-19080" y="3127320"/>
              <a:ext cx="91756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3143160"/>
              <a:ext cx="914400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br>
                <a:rPr sz="2800"/>
              </a:br>
              <a:r>
                <a:rPr b="0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Stručni skup za stručne djelatnike odgojno – obrazovnih ustanova </a:t>
              </a:r>
              <a:br>
                <a:rPr sz="1800"/>
              </a:br>
              <a:r>
                <a:rPr b="1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Projekt Provedba Hrvatskog kvalifikacijskog okvira (HKO) i razvoj kompetencija za cjeloživotno učenje stručnih djelatnika odgojno – obrazovnih ustanova </a:t>
              </a:r>
              <a:br>
                <a:rPr sz="2800"/>
              </a:br>
              <a:r>
                <a:rPr b="0" lang="hr-HR" sz="2800" spc="-1" strike="noStrike">
                  <a:solidFill>
                    <a:srgbClr val="7f7f7f"/>
                  </a:solidFill>
                  <a:latin typeface="Calibri"/>
                </a:rPr>
                <a:t>IV. Modul </a:t>
              </a:r>
              <a:r>
                <a:rPr b="1" lang="hr-HR" sz="2800" spc="-1" strike="noStrike">
                  <a:solidFill>
                    <a:srgbClr val="7f7f7f"/>
                  </a:solidFill>
                  <a:latin typeface="Calibri"/>
                </a:rPr>
                <a:t>- </a:t>
              </a:r>
              <a:r>
                <a:rPr b="1" lang="hr-HR" sz="2800" spc="-1" strike="noStrike">
                  <a:solidFill>
                    <a:srgbClr val="000000"/>
                  </a:solidFill>
                  <a:latin typeface="Calibri"/>
                </a:rPr>
                <a:t>HRVATSKI KVALIFIKACIJSKI OKVIR (HKO), EUROPSKI KVALIFIKACIJSKI OKVIR (EQF), STRATEGIJSKO PLANIRANJE I OSIGURANJE SUSTAVA KVALITETE U ODGOJNO - OBRAZOVNIM USTANOVAMA</a:t>
              </a:r>
              <a:br>
                <a:rPr sz="2800"/>
              </a:br>
              <a:br>
                <a:rPr sz="2800"/>
              </a:br>
              <a:r>
                <a:rPr b="1" lang="hr-H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2800"/>
              </a:br>
              <a:br>
                <a:rPr sz="2800"/>
              </a:b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85920" y="5143680"/>
            <a:ext cx="6400800" cy="5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r. sc. Andreja Marcetić, v. suradnik AZO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898989"/>
                </a:solidFill>
                <a:latin typeface="Calibri"/>
              </a:rPr>
              <a:t>voditelj - suradnik na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Content Placeholder 2"/>
          <p:cNvGrpSpPr/>
          <p:nvPr/>
        </p:nvGrpSpPr>
        <p:grpSpPr>
          <a:xfrm>
            <a:off x="-19080" y="1627200"/>
            <a:ext cx="9175680" cy="5243400"/>
            <a:chOff x="-19080" y="1627200"/>
            <a:chExt cx="9175680" cy="5243400"/>
          </a:xfrm>
        </p:grpSpPr>
        <p:pic>
          <p:nvPicPr>
            <p:cNvPr id="63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19080" y="1627200"/>
              <a:ext cx="917568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0" y="164304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loga Hrvatskog kvalifikacijskog okvira (HKO) u prihvaćanju odgovornosti u radu stručnih djelatnika odgojno – obrazovnih  ustanova te nužnost cjeloživotnog učenj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Hrvatski kvalifikacijski okvir (HKO), strategijsko planiranje i razvoj ključnih kompetencija u odgojno – obrazovnim ustanov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napređivanje rada u odgojno - obrazovnim ustanovama kroz razvoj ključnih kompetencija za cjeloživotno učenje u kontekstu Hrvatskog kvalifikacijskog okvira (HKO) i  Europskog kvalifikacijskog okvira (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Calibri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alibri"/>
                </a:rPr>
                <a:t>HRVATSKI KVALIFIKACIJSKI OKVIR (HKO), EUROPSKI KVALIFIKACIJSKI OKVIR (EQF), STRATEGIJSKO PLANIRANJE I OSIGURANJE SUSTAVA KVALITETE U ODGOJNO - OBRAZOVNIM USTANOVA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nost i upravljanje projektima u odgojno – obrazovnim ustanovama u skladu s hrvatskim i europskim kvalifikacijskim okvirom (HKO, 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vatski kvalifikacijski okvir (HKO) i unapređivanje rada u odgojno – obrazovnim ustanovama kroz razvoj poduzetništv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zvoj kvalifikacija temeljenih na kompetencijama (Hrvatski kvalifikacijski okvir, European Reference Framework - HKO, ERF) i odgoj za demokratsko građanst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300816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me IV. mod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785680" y="1000080"/>
            <a:ext cx="6357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IZBOR, OBLIKOVANJE I IMPLEMENTACIJA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POSLOVNE STRATEGIJE U OBRAZOVANJ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OMPETENCI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 ZA CJELOŽIVOTNO UČENJE (KOMPETENCIJE - NEŠTO NOVO?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VAŽNOST MEĐUSEKTORSKE SURADNJE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 OSTVARIVANJU SUSTAVA SOCIJALNE SKRBI U KONTEKSTU EUROPSKOG OKVIRA KLJUČNIH KOMPETENCIJA ZA CJELOŽIVOTNO UČEN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 )I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 PROMJENE I INOVACIJE U OCJENJIVANJU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 POSTIGNUĆA UČENIK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STRATEGIJSKI KONTEKST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PRAVLJANJA KVALITET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HRVATSKI KVALIFIKACIJSKI OKVIR (HKO)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VALITE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A – RAZUMIJEVANJE, PROVEDBA, POUZDANO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DAVAČ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428480"/>
            <a:ext cx="85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Boris Blažinić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ravnatelj Instituta za kvalitetu i razvoj ljudskih potencijala, direktor SoftSkills Acade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f. dr.sc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le Dželalij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Natalija Komljanc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strukovna direktorica Zavoda Republike Slovenije za šolst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onja Kovačević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Splitu, Filozofski fakulte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Nevenka Lon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ar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 –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Jela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gencija za odgoj i obrazovanje,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a savjetnica za nacionalne progra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Zorana Uzela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Gradski ured za socijalnu zaštitu i osobe s invaliditetom Grada Zagreba, šef Odsjeka - stručni savjetn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atroslav Zovko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Prodekan za poslovanje i razvoj, Učiteljski fakultet Sveučilišta 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6760" y="49291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OBLIKOVANJE I IMPLEMENTACIJA POSLOVNE STRATEGIJE U OBRAZOVANJU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Boris Blažinić, ravnatelj Instituta za kvalitetu i razvoj ljudskih potencijala, direktor SoftSkills Academ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574800" y="785880"/>
            <a:ext cx="5111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istematizirati promjene za poboljšanje kvalitete odgojno-obrazovnog proc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vesti tipične prepreke u pružanju kvalitetne uslu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staknuti važnost sustavnog pristupa prilikom izbora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taknuti promišljanja kako oblikovati poslovnu strateg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poznato nosioce implementa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svrnuti se na kontrolu i reviz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gojno-obrazovna usluga i prepreke u njenoj implementaci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jedlozi za izbor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gućnosti oblikovanja poslovne strateg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osioci implementacije i kont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760" y="1714320"/>
            <a:ext cx="3008520" cy="36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KOMPETENCIJE ZA CJELOŽIVOTNO UČENJE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Natalija Komljanc, strukovna direktorica Zavoda Republike Slovenije za šol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571560" y="785880"/>
            <a:ext cx="5429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znati razliku između rezultata učenja i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vrha kompetencija za pojedinca i druš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ti, kako postati i ostati kompete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cirati razlike između kompetencija u prošlosti i sadašnj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trijebiti samoregulaciju za poticanje samorazvoja, odnosno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pće definicije pojma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mpetentnost u 21. stoljeć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rmiranje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ljučni elementi za razvoj kompetentnog  druš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ehanizam za poticanje napret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6760" y="5143320"/>
            <a:ext cx="300852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AŽNOST MEĐUSEKTORSKE SURADNJE U OSTVARIVANJU SUSTAVA SOCIJALNE SKRBI U KONTEKSTU EUROPSKOG OKVIRA KLJUČNIH KOMPETENCIJA ZA CJELOŽIVOTNO UČENJE</a:t>
            </a:r>
            <a:br>
              <a:rPr sz="2000"/>
            </a:b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Zorana Uzelac, Gradski ured za socijalnu zaštitu i osobe s invaliditetom Grada Zagreba, šef Odsjeka - stručni savjetni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Ishod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vojiti osnovna znanja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važnost međusektorske suradnje u sustavu socijalne skrbi te ga primijeniti na ostale susta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umjeti doprinos svih sektora suradnje u cilju ostvarenja sustava socijalne skrb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značaj timskog rada i motiva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Okvirni sadržaj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snovne informacije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međusektorske suradnje u sustavu socijalne skrbi – konkretni primjeri prak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8760" y="4572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PROMJENE I INOVACIJE U OCJENJIVANJU POSTIGNUĆA UČENIKA</a:t>
            </a:r>
            <a:br>
              <a:rPr sz="2400"/>
            </a:b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Nevenka Lon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r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 –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Jela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, Agencija za odgoj i obrazovanje,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v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š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 savjetnica za nacionalne programe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428640" y="1285920"/>
            <a:ext cx="51116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sudionici će biti upoznati s inkluzivnim oblicima ocjenjivanja sukladnim učenju i poučavanju usmjerenom na razvoj kompeten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litika i praksa pristupa ocjenji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voj novih metoda ocjenjivanja i samo-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kluzivno ocjenji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poruke za politiku i praksu Europske agencije za obrazovna istraž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STRATEGIJSKI KONTEKST UPRAVLJANJA KVALITETOM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oc. dr. sc. Vatroslav Zovko, Prodekan za poslovanje i razvoj, Učiteljski fakultet Sveučilišta u Zagreb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znati auditorij s osnovama strateškog menadžm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koncepcije odgoja i obrazovanja u okviru strateških cilj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kacija ključnih dionika u procesima pružanja obrazovnih uslu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čimbenika kvalitete kao pokazatelja uspješnosti u ostvarivanju strateških ciljeva odgojno -  obrazovne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ljučnih pojmova u strateškom menadž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valit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oj pokazatelja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valiteta kao čimbenik pozicioniranja odgojno obrazovnih ustanova u kontekstu gospodarstva Hrvats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5000760"/>
            <a:ext cx="38577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HKO KVALITETA – RAZUMIJEVANJE, PROVEDBA, POUZDANOST</a:t>
            </a:r>
            <a:br>
              <a:rPr sz="2400"/>
            </a:b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prof. dr.sc. Mile Dželalija, 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Kovačević Sonja, Sveučilište u Splitu, Filozofski fakultet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575160" y="428400"/>
            <a:ext cx="54259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shodi uč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otumačiti osnovne elemente kvalitete HKO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dio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snovni elementi kvalitete HKO-a: razumijevanje, provedba, pouzd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357800" y="336816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r. sc. Andreja Marcet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stručna suradnica savjet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Marcetić Andreja, MPhil, Expert Associate Consul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ja za odgoj i obrazovan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v. surad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Education and Teacher Training Agency</a:t>
            </a: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 - External Assoc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:    +385  1 29 11 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x:   +385  1 29 50 8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SM: +385 91 561 49 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: </a:t>
            </a:r>
            <a:r>
              <a:rPr b="0" lang="hr-HR" sz="14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1"/>
              </a:rPr>
              <a:t>andreja.marcetic@vip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blogs.suntimes.com/cornerkicks/question-mark3a.jpg"/>
          <p:cNvPicPr/>
          <p:nvPr/>
        </p:nvPicPr>
        <p:blipFill>
          <a:blip r:embed="rId2"/>
          <a:stretch/>
        </p:blipFill>
        <p:spPr>
          <a:xfrm>
            <a:off x="0" y="178596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Title 1"/>
          <p:cNvGrpSpPr/>
          <p:nvPr/>
        </p:nvGrpSpPr>
        <p:grpSpPr>
          <a:xfrm>
            <a:off x="-73080" y="1633680"/>
            <a:ext cx="9680760" cy="1963440"/>
            <a:chOff x="-73080" y="1633680"/>
            <a:chExt cx="9680760" cy="1963440"/>
          </a:xfrm>
        </p:grpSpPr>
        <p:pic>
          <p:nvPicPr>
            <p:cNvPr id="617" name="Title 1" descr=""/>
            <p:cNvPicPr/>
            <p:nvPr/>
          </p:nvPicPr>
          <p:blipFill>
            <a:blip r:embed="rId1"/>
            <a:stretch/>
          </p:blipFill>
          <p:spPr>
            <a:xfrm>
              <a:off x="-73080" y="1633680"/>
              <a:ext cx="968076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178596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HRVATSKI KVALKIFIKACIJSKI OKVIR (HKO) – Vlada RH</a:t>
              </a:r>
              <a:br>
                <a:rPr sz="2400"/>
              </a:b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- Projekt: </a:t>
              </a:r>
              <a:r>
                <a:rPr b="1" lang="hr-HR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Provedba Hrvatskog kvalifikacijskog okvira (HKO) i razvoj kompetencija za cjeloživotno učenje stručnih djelatnika odgojno – obrazovnih ustanova - AZ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 txBox="1"/>
          <p:nvPr/>
        </p:nvSpPr>
        <p:spPr>
          <a:xfrm>
            <a:off x="0" y="350028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2007. godine Vlada RH usvojila je Polazne osnove HKO-a, nakon čega je ustrojeno Povjerenstvo za izradu HKO-a, na čel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 prof. dr. sc. Slobodanom Uzelc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potpredsjednikom Vlade RH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i dr. sc. Radovanom Fuchsom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inistrom Ministarstva znanosti, obrazovanja i špor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lijedom toga, tijekom 2010. AZOO provodi </a:t>
            </a:r>
            <a:r>
              <a:rPr b="0" lang="hr-HR" sz="1800" spc="-1" strike="noStrike">
                <a:solidFill>
                  <a:srgbClr val="c00000"/>
                </a:solidFill>
                <a:latin typeface="Arial"/>
                <a:ea typeface="Arial"/>
              </a:rPr>
              <a:t>modularno stručno usavršavanje stručnih djelatnik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ravnatelja, stručnih suradnika, nastavnika, učitelja, odgajatelja) odgojno – obrazovnih ustanova (škola i učeničkih domova), budući da je za njegovu uspješnu provedbu nužno podići razinu informiranosti te pripremljenosti svih dionika sust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00000"/>
                </a:solidFill>
                <a:latin typeface="Calibri"/>
              </a:rPr>
              <a:t>Voditelji Projekta  AZOO: </a:t>
            </a:r>
            <a:r>
              <a:rPr b="1" lang="hr-HR" sz="2200" spc="-1" strike="noStrike">
                <a:solidFill>
                  <a:srgbClr val="002060"/>
                </a:solidFill>
                <a:latin typeface="Arial"/>
                <a:ea typeface="Arial"/>
              </a:rPr>
              <a:t>Provedba Hrvatskog kvalifikacijskog okvira (HKO) i razvoj kompetencija za cjeloživotno učenje stručnih djelatnika odgojno – obrazovnih ustan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Content Placeholder 2"/>
          <p:cNvGrpSpPr/>
          <p:nvPr/>
        </p:nvGrpSpPr>
        <p:grpSpPr>
          <a:xfrm>
            <a:off x="480960" y="3408480"/>
            <a:ext cx="8261280" cy="3035160"/>
            <a:chOff x="480960" y="3408480"/>
            <a:chExt cx="8261280" cy="3035160"/>
          </a:xfrm>
        </p:grpSpPr>
        <p:pic>
          <p:nvPicPr>
            <p:cNvPr id="62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80960" y="3408480"/>
              <a:ext cx="826128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500040" y="3429000"/>
              <a:ext cx="822960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. dr. sc. Mile Dželalija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voditelj Operativnog tima Vlade RH za potporu Povjerenstvu za izradu HKO-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venka Lončarić – Jelačić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viša savjetnica za nacionalne programe AZO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.sc. Tomislav Ogrinšak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viši savjetnik za nacionalne programe AZO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. dr. sc. Sonja Kovačević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član Operativnog tima HK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.sc. Andreja Marcetić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v. suradnica AZOO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5"/>
          <p:cNvGraphicFramePr/>
          <p:nvPr/>
        </p:nvGraphicFramePr>
        <p:xfrm>
          <a:off x="0" y="0"/>
          <a:ext cx="4143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143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6"/>
          <p:cNvGraphicFramePr/>
          <p:nvPr/>
        </p:nvGraphicFramePr>
        <p:xfrm>
          <a:off x="4857840" y="0"/>
          <a:ext cx="4286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0"/>
                    <a:ext cx="428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8" name="Picture 2" descr="P5261623"/>
          <p:cNvPicPr/>
          <p:nvPr/>
        </p:nvPicPr>
        <p:blipFill>
          <a:blip r:embed="rId5"/>
          <a:stretch/>
        </p:blipFill>
        <p:spPr>
          <a:xfrm>
            <a:off x="3500280" y="5043600"/>
            <a:ext cx="2428920" cy="1814400"/>
          </a:xfrm>
          <a:prstGeom prst="rect">
            <a:avLst/>
          </a:prstGeom>
          <a:ln w="0">
            <a:noFill/>
          </a:ln>
        </p:spPr>
      </p:pic>
      <p:sp>
        <p:nvSpPr>
          <p:cNvPr id="629" name="Content Placeholder 2"/>
          <p:cNvSpPr/>
          <p:nvPr/>
        </p:nvSpPr>
        <p:spPr>
          <a:xfrm>
            <a:off x="914400" y="17146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</a:rPr>
              <a:t>PREDSTAVLJANJE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0" y="135684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I INTERNATIONAL INTERDISCIPLINARY PROFESSIONAL SCIENTIFIC CONFERENCE:  CULTURAL AND EDUCATIONAL HORIZONS, Lifelong Learning –Necessity or a Matter of General Culture of an Individual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ubotica, svibanj 2010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voh.rs/treca-konferencija/provedba-hrvatskog-kvalifikacijskog-okvira-hko-i-razvoj-kompetencija-za-cjelozivotno-ucenje-strucnih-djelatnika-odgojno-obrazovnih-ustanova-republike-hrvatske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http://www.infonb.net/drustvo/3-drustvo/1148-na-vaspita-na-meunarodnoj-konferenciji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. DANI POSLOVNIH EDUKACIJ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Zagreb, Hotel Westin, svibanj 2010.)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3"/>
              </a:rPr>
              <a:t>http://www.poslovnisavjetnik.com/CMS/0105/Content.aspx?EID=21145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4"/>
              </a:rPr>
              <a:t>http://www.poslovni-savjetnik.com/CMS/0105/Default.aspx?EID=31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 STRUČNO - ZNANSTVENI SKUP 11. ŠKOLA UČITELJA I  ODGOJITELJA s temom UČENJE I POUČAVANJE U SUVREMENOM VRTIĆU I ŠKOLI - TKO, ŠTO, KAKO I ZAŠT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organizaciji HPKZ - 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Opatija, lipanj 2010) 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5"/>
              </a:rPr>
              <a:t>http://www.hpkz-napredak.hr/HPKZ-program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udioni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172 sudionika (I-IV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Chart 4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Content Placeholder 5" descr=""/>
          <p:cNvPicPr/>
          <p:nvPr/>
        </p:nvPicPr>
        <p:blipFill>
          <a:blip r:embed="rId1"/>
          <a:stretch/>
        </p:blipFill>
        <p:spPr>
          <a:xfrm>
            <a:off x="566640" y="1779480"/>
            <a:ext cx="8126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MODU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Valued Acer Customer</cp:lastModifiedBy>
  <dcterms:modified xsi:type="dcterms:W3CDTF">2010-06-09T23:00:53Z</dcterms:modified>
  <cp:revision>300</cp:revision>
  <dc:subject/>
  <dc:title>Slide 1</dc:title>
</cp:coreProperties>
</file>