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C7B6-702C-46A6-9D72-8D9F9415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1C3-EAC2-4CB7-B6C9-1417C0AA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5C5-59D1-474F-A929-D1AE53A8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BCE8-5D1E-4187-A7BE-31105D45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397-817A-46BD-85F3-B2FCF532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4AF9-816D-420B-A082-6C37F2B0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B95-4DC7-4D4B-A0AD-95F548DE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D22-2B6A-4330-AE8D-A8407C1A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A953-FEAA-48CC-B16C-C8518340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C7A-9E57-40D0-AD61-90DD42B8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46A-1E59-4CB1-A176-10248E86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AECE-01D5-416E-AD35-0F62D31B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DFCB-7392-4F34-8376-48805C2B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51BD-C252-4159-887F-63266CDF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3F42-3A8E-4CD2-B686-B38D1A17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5FA0-61D6-4647-81B1-D394C328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C6E7-455E-4407-80E1-88CE8BAB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B6C6-B060-4F38-BAD1-C0A3A593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8DC8-FA49-4C35-B78A-A24A2475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C2FA-8456-44EF-9A45-A02C1468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2E7A-E431-4EF0-88AE-0503D90B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4744-9090-44B6-9064-34EB4832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0F5B-350B-4E62-A5D1-D12DAF03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594C-3CAA-4AC0-95E8-29C46567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D7BB8-929A-4330-80C1-28C242AB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1907E-A648-4339-ADBA-2D01D35E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A2959-FE85-4331-8C25-7BF32E6A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AFAC3-AB75-4C66-B693-3523054A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F9D25-5BF2-4A86-91B6-91061233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F7C87-5FD3-48FD-A344-B286145C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85E38-83AC-408D-85AF-7D1C7E92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92D46-90C3-437E-922E-D8323956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1F517-ED15-41AF-B85B-14E4567F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1D5D1-A8D6-49A3-8E49-2E811A09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5DF2C-C67C-4EEC-B595-D4643EF0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0A2B4-78FE-4409-BC14-0B4E3469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F3A54-7E8E-46E3-9A58-68825239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A2784-13AC-4660-A49D-1E38C6EF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D9C5C-BF05-4D4A-A2C8-1B1FD6A0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7C329-772A-4A8B-B1A1-F971AD65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7B575-2482-4392-A54A-FE40E15D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A142D-885E-478F-9C55-7F42F760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5A614-6C62-4F07-BFFB-720DC545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4756F-6FDA-4C17-9644-C276AE04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47F43-013D-4941-A3E2-585258FC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21FC8-59B9-4E8A-BE45-8C4861D6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F90B7-35BA-4600-8BAF-219E08C0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C20BD-45B0-4DCE-B912-34E7DBA7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3994F-262D-41B1-915E-2049CEA3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9C1B3-2EEE-495C-9971-12C35F4B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A5A16-5DD1-4178-925A-FCCCB106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D226D-26F9-480C-9699-B6FCF444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EE9CE-389C-458B-B128-1704E1AB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1527C-29DA-4CB7-AD89-79D2B3FA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C15F1-DB86-4DF1-895E-DDDCEBB4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2AFE7-6493-402C-A2C3-0E3328E6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516D4-11B4-4E9B-98A3-CA158EDE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05BBF-3EFB-4811-955F-ED7908FE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05667-999B-4472-BCEC-1FCADBD6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845CD-D9F9-4826-850B-75D388C4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6A871-47F7-4D4A-B6D0-4DD12A8A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949E4-819E-4026-B563-795F3D2B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08A74-15FE-4611-B91A-AE6948EA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B0188-3D0A-4F18-AEFF-49E329EE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EAF6B-37DB-4148-AAC5-B6A8209C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2FAEA-D7E4-4ED3-8A95-A5D54C01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BBD91-FAE5-499F-8814-D483FB50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3873A-7134-462C-AD25-2D21E690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B8A6D-39A4-4022-A427-D4377C3D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687CB-DE4E-4EEC-81B9-4B979553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A2A79-005C-4F4A-869C-DAFC4CEF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0AE6B-5403-46E7-9A54-DFB3D3D4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Rectangle 2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50FF-FA48-4494-805E-4649365AC584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traight Connector 2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Isosceles Triangle 3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Isosceles Triangle 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E626-4F6C-48C1-8BAD-F84C2DED3E1E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3AD5-98F4-4BF0-841B-DF7BE1C0FFD4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traight Connector 2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Isosceles Triangle 3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5959-AF0F-49EF-BF91-2E8565B5073A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0ACC-4470-44C1-939B-B5908A6B3E13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3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7B79-6DE8-4777-914F-EE7E3C74EE98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1.jpe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71280" y="3000240"/>
            <a:ext cx="7993080" cy="19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HKO kvaliteta – razumijevanje, provedba, pouzdanost</a:t>
            </a:r>
            <a:br>
              <a:rPr sz="2400"/>
            </a:br>
            <a:r>
              <a:rPr b="1" i="1" lang="hr-HR" sz="14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14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Prof. dr. sc. Mile Dželalija, Sveučilište u Zadru</a:t>
            </a:r>
            <a:br>
              <a:rPr sz="16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Doc. dr. sc. Sonja Kovačević, Sveučilište u Splitu</a:t>
            </a:r>
            <a:br>
              <a:rPr sz="1600"/>
            </a:br>
            <a:br>
              <a:rPr sz="16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Stručni tim za potporu Povjerenstvu za provedbu HKO</a:t>
            </a:r>
            <a:br>
              <a:rPr sz="1600"/>
            </a:br>
            <a:endParaRPr b="0" lang="en-US" sz="1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971280" y="5013000"/>
            <a:ext cx="799308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Agencija za odgoj i obrazovanj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Zagreb, 11. lipnja 2010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755640" y="2857680"/>
            <a:ext cx="8209080" cy="207000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755640" y="5013360"/>
            <a:ext cx="8209080" cy="63036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714240" y="2857680"/>
            <a:ext cx="285840" cy="20700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714240" y="5013360"/>
            <a:ext cx="285840" cy="63036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294" name="Title 1"/>
          <p:cNvSpPr/>
          <p:nvPr/>
        </p:nvSpPr>
        <p:spPr>
          <a:xfrm>
            <a:off x="611280" y="0"/>
            <a:ext cx="122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kvalifikacij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okv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33" descr="HKO_logo"/>
          <p:cNvPicPr/>
          <p:nvPr/>
        </p:nvPicPr>
        <p:blipFill>
          <a:blip r:embed="rId1"/>
          <a:stretch/>
        </p:blipFill>
        <p:spPr>
          <a:xfrm>
            <a:off x="8459640" y="638316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3"/>
          <p:cNvSpPr/>
          <p:nvPr/>
        </p:nvSpPr>
        <p:spPr>
          <a:xfrm rot="5400000">
            <a:off x="5232600" y="3270960"/>
            <a:ext cx="549360" cy="4608360"/>
          </a:xfrm>
          <a:prstGeom prst="upArrow">
            <a:avLst>
              <a:gd name="adj1" fmla="val 54593"/>
              <a:gd name="adj2" fmla="val 143499"/>
            </a:avLst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1908000" y="907920"/>
            <a:ext cx="5700960" cy="2924280"/>
          </a:xfrm>
          <a:prstGeom prst="verticalScroll">
            <a:avLst>
              <a:gd name="adj" fmla="val 15000"/>
            </a:avLst>
          </a:prstGeom>
          <a:solidFill>
            <a:srgbClr val="ffff99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286240" y="907920"/>
            <a:ext cx="2165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6"/>
          <p:cNvSpPr/>
          <p:nvPr/>
        </p:nvSpPr>
        <p:spPr>
          <a:xfrm rot="3540600">
            <a:off x="2065680" y="2875320"/>
            <a:ext cx="692280" cy="4824360"/>
          </a:xfrm>
          <a:prstGeom prst="upArrow">
            <a:avLst>
              <a:gd name="adj1" fmla="val 61009"/>
              <a:gd name="adj2" fmla="val 117405"/>
            </a:avLst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7"/>
          <p:cNvSpPr/>
          <p:nvPr/>
        </p:nvSpPr>
        <p:spPr>
          <a:xfrm rot="19761600">
            <a:off x="677160" y="5014800"/>
            <a:ext cx="38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cc"/>
                </a:solidFill>
                <a:latin typeface="Arial"/>
              </a:rPr>
              <a:t>5 10 15 20 ...    OBUJAM [ECTS/..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9"/>
          <p:cNvSpPr/>
          <p:nvPr/>
        </p:nvSpPr>
        <p:spPr>
          <a:xfrm rot="5400000">
            <a:off x="4225680" y="2479320"/>
            <a:ext cx="692280" cy="8064720"/>
          </a:xfrm>
          <a:prstGeom prst="upArrow">
            <a:avLst>
              <a:gd name="adj1" fmla="val 58259"/>
              <a:gd name="adj2" fmla="val -152165"/>
            </a:avLst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10"/>
          <p:cNvSpPr/>
          <p:nvPr/>
        </p:nvSpPr>
        <p:spPr>
          <a:xfrm>
            <a:off x="0" y="620640"/>
            <a:ext cx="684360" cy="5688000"/>
          </a:xfrm>
          <a:prstGeom prst="upArrow">
            <a:avLst>
              <a:gd name="adj1" fmla="val 53593"/>
              <a:gd name="adj2" fmla="val 16272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2903760" y="6308640"/>
            <a:ext cx="47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                       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[Naziv – 2 dim]    PROFIL (I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179280" y="1052640"/>
            <a:ext cx="43200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14"/>
          <p:cNvSpPr/>
          <p:nvPr/>
        </p:nvSpPr>
        <p:spPr>
          <a:xfrm>
            <a:off x="2820960" y="2103480"/>
            <a:ext cx="1174680" cy="59220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2700360" y="1341360"/>
            <a:ext cx="2663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Jedinični skupovi ishoda u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6"/>
          <p:cNvSpPr/>
          <p:nvPr/>
        </p:nvSpPr>
        <p:spPr>
          <a:xfrm flipH="1">
            <a:off x="1187280" y="2276640"/>
            <a:ext cx="1872000" cy="338436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7"/>
          <p:cNvSpPr/>
          <p:nvPr/>
        </p:nvSpPr>
        <p:spPr>
          <a:xfrm flipH="1" flipV="1">
            <a:off x="684000" y="2133360"/>
            <a:ext cx="2374920" cy="14292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8"/>
          <p:cNvSpPr/>
          <p:nvPr/>
        </p:nvSpPr>
        <p:spPr>
          <a:xfrm flipH="1">
            <a:off x="2571840" y="2276640"/>
            <a:ext cx="487440" cy="393840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19"/>
          <p:cNvSpPr/>
          <p:nvPr/>
        </p:nvSpPr>
        <p:spPr>
          <a:xfrm>
            <a:off x="4213080" y="2637000"/>
            <a:ext cx="1079640" cy="42516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20"/>
          <p:cNvSpPr/>
          <p:nvPr/>
        </p:nvSpPr>
        <p:spPr>
          <a:xfrm>
            <a:off x="4284720" y="2133720"/>
            <a:ext cx="792000" cy="42372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21"/>
          <p:cNvSpPr/>
          <p:nvPr/>
        </p:nvSpPr>
        <p:spPr>
          <a:xfrm>
            <a:off x="3203640" y="2708280"/>
            <a:ext cx="792000" cy="42876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22"/>
          <p:cNvSpPr/>
          <p:nvPr/>
        </p:nvSpPr>
        <p:spPr>
          <a:xfrm>
            <a:off x="8028000" y="620640"/>
            <a:ext cx="1116000" cy="5688000"/>
          </a:xfrm>
          <a:prstGeom prst="upArrow">
            <a:avLst>
              <a:gd name="adj1" fmla="val 53593"/>
              <a:gd name="adj2" fmla="val 99788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3"/>
          <p:cNvSpPr/>
          <p:nvPr/>
        </p:nvSpPr>
        <p:spPr>
          <a:xfrm>
            <a:off x="8317080" y="1052640"/>
            <a:ext cx="57600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99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4"/>
          <p:cNvSpPr/>
          <p:nvPr/>
        </p:nvSpPr>
        <p:spPr>
          <a:xfrm flipV="1">
            <a:off x="6732720" y="2708280"/>
            <a:ext cx="1368360" cy="720720"/>
          </a:xfrm>
          <a:prstGeom prst="line">
            <a:avLst/>
          </a:prstGeom>
          <a:ln w="38160">
            <a:solidFill>
              <a:srgbClr val="000099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25"/>
          <p:cNvSpPr/>
          <p:nvPr/>
        </p:nvSpPr>
        <p:spPr>
          <a:xfrm flipH="1">
            <a:off x="4427280" y="3429000"/>
            <a:ext cx="2305080" cy="1008000"/>
          </a:xfrm>
          <a:prstGeom prst="line">
            <a:avLst/>
          </a:prstGeom>
          <a:ln w="38160">
            <a:solidFill>
              <a:srgbClr val="00008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26"/>
          <p:cNvSpPr/>
          <p:nvPr/>
        </p:nvSpPr>
        <p:spPr>
          <a:xfrm flipH="1">
            <a:off x="5929200" y="3429000"/>
            <a:ext cx="803520" cy="1857240"/>
          </a:xfrm>
          <a:prstGeom prst="line">
            <a:avLst/>
          </a:prstGeom>
          <a:ln w="38160">
            <a:solidFill>
              <a:srgbClr val="000099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8"/>
          <p:cNvSpPr/>
          <p:nvPr/>
        </p:nvSpPr>
        <p:spPr>
          <a:xfrm>
            <a:off x="2564280" y="5373720"/>
            <a:ext cx="47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                       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[Naziv – 2 dim]    PROFIL (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29"/>
          <p:cNvSpPr/>
          <p:nvPr/>
        </p:nvSpPr>
        <p:spPr>
          <a:xfrm rot="5400000">
            <a:off x="4981680" y="-1589040"/>
            <a:ext cx="549360" cy="3959280"/>
          </a:xfrm>
          <a:prstGeom prst="upArrow">
            <a:avLst>
              <a:gd name="adj1" fmla="val 54593"/>
              <a:gd name="adj2" fmla="val 123288"/>
            </a:avLst>
          </a:prstGeom>
          <a:solidFill>
            <a:srgbClr val="c0c0c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30"/>
          <p:cNvSpPr/>
          <p:nvPr/>
        </p:nvSpPr>
        <p:spPr>
          <a:xfrm rot="5400000">
            <a:off x="4944600" y="-1407960"/>
            <a:ext cx="549360" cy="4032360"/>
          </a:xfrm>
          <a:prstGeom prst="upArrow">
            <a:avLst>
              <a:gd name="adj1" fmla="val 54593"/>
              <a:gd name="adj2" fmla="val 125563"/>
            </a:avLst>
          </a:prstGeom>
          <a:solidFill>
            <a:srgbClr val="ffffff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1"/>
          <p:cNvSpPr/>
          <p:nvPr/>
        </p:nvSpPr>
        <p:spPr>
          <a:xfrm>
            <a:off x="2916360" y="404640"/>
            <a:ext cx="40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Arial"/>
              </a:rPr>
              <a:t>                       </a:t>
            </a:r>
            <a:r>
              <a:rPr b="1" lang="hr-HR" sz="1800" spc="-1" strike="noStrike">
                <a:solidFill>
                  <a:srgbClr val="c00000"/>
                </a:solidFill>
                <a:latin typeface="Arial"/>
              </a:rPr>
              <a:t>[2 dim]    KVALIT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32"/>
          <p:cNvSpPr/>
          <p:nvPr/>
        </p:nvSpPr>
        <p:spPr>
          <a:xfrm flipV="1">
            <a:off x="3059280" y="836640"/>
            <a:ext cx="1008000" cy="1440000"/>
          </a:xfrm>
          <a:prstGeom prst="line">
            <a:avLst/>
          </a:prstGeom>
          <a:ln w="38160">
            <a:solidFill>
              <a:srgbClr val="c00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34"/>
          <p:cNvSpPr/>
          <p:nvPr/>
        </p:nvSpPr>
        <p:spPr>
          <a:xfrm flipH="1" flipV="1">
            <a:off x="5867280" y="836280"/>
            <a:ext cx="865440" cy="252108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0" y="0"/>
            <a:ext cx="22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ISHODA U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5"/>
          <p:cNvSpPr/>
          <p:nvPr/>
        </p:nvSpPr>
        <p:spPr>
          <a:xfrm>
            <a:off x="7020000" y="0"/>
            <a:ext cx="212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KVALIFIKA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0" y="620280"/>
            <a:ext cx="914400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Pored razine, obujma i profila, </a:t>
            </a:r>
            <a:r>
              <a:rPr b="1" lang="hr-HR" sz="2400" spc="-1" strike="noStrike" u="sng">
                <a:solidFill>
                  <a:srgbClr val="c00000"/>
                </a:solidFill>
                <a:uFillTx/>
                <a:latin typeface="Arial"/>
              </a:rPr>
              <a:t>KVALITETA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je osnovno svojstvo ishoda učenja / kvalifika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Kvalitetom se iskazuje </a:t>
            </a:r>
            <a:r>
              <a:rPr b="1" lang="hr-HR" sz="2400" spc="-1" strike="noStrike">
                <a:solidFill>
                  <a:srgbClr val="c00000"/>
                </a:solidFill>
                <a:latin typeface="Arial"/>
              </a:rPr>
              <a:t>POUZDANOST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(razine, obujma i profila) ishoda učenja  /  kvalifika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Dvije dimenzije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Osobna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vrjednovanje stečenih kompetenci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Institucijska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vrjednovanje pouzdanosti postupka vrjednova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AutoShape 3"/>
          <p:cNvSpPr/>
          <p:nvPr/>
        </p:nvSpPr>
        <p:spPr>
          <a:xfrm>
            <a:off x="4572000" y="4365720"/>
            <a:ext cx="4103640" cy="2232000"/>
          </a:xfrm>
          <a:prstGeom prst="verticalScroll">
            <a:avLst>
              <a:gd name="adj" fmla="val 17425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4" descr=""/>
          <p:cNvPicPr/>
          <p:nvPr/>
        </p:nvPicPr>
        <p:blipFill>
          <a:blip r:embed="rId1"/>
          <a:stretch/>
        </p:blipFill>
        <p:spPr>
          <a:xfrm>
            <a:off x="6588000" y="5286240"/>
            <a:ext cx="1656000" cy="121932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5"/>
          <p:cNvSpPr/>
          <p:nvPr/>
        </p:nvSpPr>
        <p:spPr>
          <a:xfrm>
            <a:off x="5219640" y="4365720"/>
            <a:ext cx="1484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pl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2" descr="HKO_logo"/>
          <p:cNvPicPr/>
          <p:nvPr/>
        </p:nvPicPr>
        <p:blipFill>
          <a:blip r:embed="rId2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8"/>
          <p:cNvSpPr/>
          <p:nvPr/>
        </p:nvSpPr>
        <p:spPr>
          <a:xfrm>
            <a:off x="2843280" y="0"/>
            <a:ext cx="63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KVALIT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6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9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7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kstniOkvir 3"/>
          <p:cNvSpPr/>
          <p:nvPr/>
        </p:nvSpPr>
        <p:spPr>
          <a:xfrm>
            <a:off x="428760" y="57168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Pravila zapisivanja kompetencija / ishoda učenja (tj. prikaza razine i profil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Vodoravni svitak 6"/>
          <p:cNvSpPr/>
          <p:nvPr/>
        </p:nvSpPr>
        <p:spPr>
          <a:xfrm>
            <a:off x="142920" y="1143000"/>
            <a:ext cx="8786880" cy="5500800"/>
          </a:xfrm>
          <a:prstGeom prst="horizontalScroll">
            <a:avLst>
              <a:gd name="adj" fmla="val 8041"/>
            </a:avLst>
          </a:prstGeom>
          <a:solidFill>
            <a:srgbClr val="ffff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kstniOkvir 7"/>
          <p:cNvSpPr/>
          <p:nvPr/>
        </p:nvSpPr>
        <p:spPr>
          <a:xfrm>
            <a:off x="642960" y="1785960"/>
            <a:ext cx="82868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zapis: “</a:t>
            </a:r>
            <a:r>
              <a:rPr b="1" i="1" lang="hr-HR" sz="2400" spc="-1" strike="noStrike">
                <a:solidFill>
                  <a:srgbClr val="002060"/>
                </a:solidFill>
                <a:latin typeface="Arial"/>
              </a:rPr>
              <a:t>Nakon učenja, pojedinac će ...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” – ne ponavlj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aktivni i precizni glagoli uz sadrž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uvjeti u kojima se ostvaruje aktivnost (samostal., odgovo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jedan glagol za jedan za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više razine uključuju niž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iskaz jasan široj jav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izbjegavati duge i složene iska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jedinični skup – pet do deset isk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6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1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6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1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6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1" dur="5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1" dur="5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Isosceles Triangle 35"/>
          <p:cNvSpPr/>
          <p:nvPr/>
        </p:nvSpPr>
        <p:spPr>
          <a:xfrm>
            <a:off x="142920" y="500040"/>
            <a:ext cx="7000920" cy="6200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34"/>
          <p:cNvSpPr/>
          <p:nvPr/>
        </p:nvSpPr>
        <p:spPr>
          <a:xfrm>
            <a:off x="1428840" y="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Razina kompetencija / ishoda učenja (1 – 8)</a:t>
            </a: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Isosceles Triangle 36"/>
          <p:cNvSpPr/>
          <p:nvPr/>
        </p:nvSpPr>
        <p:spPr>
          <a:xfrm>
            <a:off x="571680" y="1285920"/>
            <a:ext cx="6143400" cy="541476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Isosceles Triangle 37"/>
          <p:cNvSpPr/>
          <p:nvPr/>
        </p:nvSpPr>
        <p:spPr>
          <a:xfrm>
            <a:off x="928800" y="1928880"/>
            <a:ext cx="5429160" cy="47718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Isosceles Triangle 38"/>
          <p:cNvSpPr/>
          <p:nvPr/>
        </p:nvSpPr>
        <p:spPr>
          <a:xfrm>
            <a:off x="1285920" y="2643120"/>
            <a:ext cx="4714920" cy="4057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0a000"/>
              </a:gs>
              <a:gs pos="100000">
                <a:srgbClr val="ffff00"/>
              </a:gs>
            </a:gsLst>
            <a:lin ang="16200000"/>
          </a:gra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Isosceles Triangle 39"/>
          <p:cNvSpPr/>
          <p:nvPr/>
        </p:nvSpPr>
        <p:spPr>
          <a:xfrm>
            <a:off x="1714680" y="3357720"/>
            <a:ext cx="3857400" cy="3342960"/>
          </a:xfrm>
          <a:prstGeom prst="triangle">
            <a:avLst>
              <a:gd name="adj" fmla="val 50000"/>
            </a:avLst>
          </a:prstGeom>
          <a:solidFill>
            <a:srgbClr val="e9e3e1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Isosceles Triangle 40"/>
          <p:cNvSpPr/>
          <p:nvPr/>
        </p:nvSpPr>
        <p:spPr>
          <a:xfrm>
            <a:off x="2143080" y="4071960"/>
            <a:ext cx="3000600" cy="2628720"/>
          </a:xfrm>
          <a:prstGeom prst="triangle">
            <a:avLst>
              <a:gd name="adj" fmla="val 50000"/>
            </a:avLst>
          </a:prstGeom>
          <a:solidFill>
            <a:srgbClr val="d2c7c3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Isosceles Triangle 41"/>
          <p:cNvSpPr/>
          <p:nvPr/>
        </p:nvSpPr>
        <p:spPr>
          <a:xfrm>
            <a:off x="2571840" y="4786200"/>
            <a:ext cx="2143080" cy="1914480"/>
          </a:xfrm>
          <a:prstGeom prst="triangle">
            <a:avLst>
              <a:gd name="adj" fmla="val 50000"/>
            </a:avLst>
          </a:prstGeom>
          <a:solidFill>
            <a:srgbClr val="bcaba5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Isosceles Triangle 42"/>
          <p:cNvSpPr/>
          <p:nvPr/>
        </p:nvSpPr>
        <p:spPr>
          <a:xfrm>
            <a:off x="2928960" y="5500800"/>
            <a:ext cx="1428840" cy="1199880"/>
          </a:xfrm>
          <a:prstGeom prst="triangle">
            <a:avLst>
              <a:gd name="adj" fmla="val 50000"/>
            </a:avLst>
          </a:prstGeom>
          <a:solidFill>
            <a:srgbClr val="6a5650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3643200" y="5572080"/>
            <a:ext cx="5357880" cy="642960"/>
          </a:xfrm>
          <a:prstGeom prst="rect">
            <a:avLst/>
          </a:prstGeom>
          <a:solidFill>
            <a:srgbClr val="6a56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AMĆENJE – OPĆ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(imenovati, iskazati definiciju, nabrojati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3643200" y="4857840"/>
            <a:ext cx="5357880" cy="642960"/>
          </a:xfrm>
          <a:prstGeom prst="rect">
            <a:avLst/>
          </a:prstGeom>
          <a:solidFill>
            <a:srgbClr val="bcaba5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2060"/>
                </a:solidFill>
                <a:latin typeface="Arial"/>
              </a:rPr>
              <a:t>RAZUMIJEVANJE – OSNOVNO, JEDNOSTAV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060"/>
                </a:solidFill>
                <a:latin typeface="Arial"/>
              </a:rPr>
              <a:t>(grupirati, izdvojiti, preoblikovati, prepoznati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3643200" y="4143240"/>
            <a:ext cx="5357880" cy="642960"/>
          </a:xfrm>
          <a:prstGeom prst="rect">
            <a:avLst/>
          </a:prstGeom>
          <a:solidFill>
            <a:srgbClr val="bcaba5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2060"/>
                </a:solidFill>
                <a:latin typeface="Arial"/>
              </a:rPr>
              <a:t>PRIMJENJIVANJE – OSNOV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060"/>
                </a:solidFill>
                <a:latin typeface="Arial"/>
              </a:rPr>
              <a:t>(ilustrirati, izabrati, izložiti, izračunati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3643200" y="3429000"/>
            <a:ext cx="5357880" cy="642960"/>
          </a:xfrm>
          <a:prstGeom prst="rect">
            <a:avLst/>
          </a:prstGeom>
          <a:solidFill>
            <a:srgbClr val="d2c7c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2060"/>
                </a:solidFill>
                <a:latin typeface="Arial"/>
              </a:rPr>
              <a:t>ANALIZIRA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060"/>
                </a:solidFill>
                <a:latin typeface="Arial"/>
              </a:rPr>
              <a:t>(izdvojiti, povezati, razlikovati, riješiti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3643200" y="2714760"/>
            <a:ext cx="5357880" cy="642960"/>
          </a:xfrm>
          <a:prstGeom prst="rect">
            <a:avLst/>
          </a:prstGeom>
          <a:gradFill rotWithShape="0">
            <a:gsLst>
              <a:gs pos="0">
                <a:srgbClr val="a0a0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2060"/>
                </a:solidFill>
                <a:latin typeface="Arial"/>
              </a:rPr>
              <a:t>SINTETIZIRANJE – SVIJEST O POZNATIM G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060"/>
                </a:solidFill>
                <a:latin typeface="Arial"/>
              </a:rPr>
              <a:t>(dizajnirati, oblikovati, izgraditi, osmisliti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3643200" y="2000160"/>
            <a:ext cx="5357880" cy="6429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2060"/>
                </a:solidFill>
                <a:latin typeface="Arial"/>
              </a:rPr>
              <a:t>VRJEDNOVANJE – DIO POZNATE GRAN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060"/>
                </a:solidFill>
                <a:latin typeface="Arial"/>
              </a:rPr>
              <a:t>(argumentirati mišljenje, izmjeriti, kritički prosuditi, 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3643200" y="1285920"/>
            <a:ext cx="5357880" cy="6429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2060"/>
                </a:solidFill>
                <a:latin typeface="Arial"/>
              </a:rPr>
              <a:t>VRJEDNOVANJE – P.G., TEMELJ ZA ZN. IST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3643200" y="571680"/>
            <a:ext cx="5357880" cy="64260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2060"/>
                </a:solidFill>
                <a:latin typeface="Arial"/>
              </a:rPr>
              <a:t>KREIRANJE, VRJEDNOVANJE – ZN. ISTRA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060"/>
                </a:solidFill>
                <a:latin typeface="Arial"/>
              </a:rPr>
              <a:t>(izumiti, stvoriti + “sintetiziranje” + “vrjednovanje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19"/>
          <p:cNvSpPr/>
          <p:nvPr/>
        </p:nvSpPr>
        <p:spPr>
          <a:xfrm rot="16200000">
            <a:off x="-1100520" y="2243520"/>
            <a:ext cx="4786200" cy="1441440"/>
          </a:xfrm>
          <a:prstGeom prst="pie">
            <a:avLst/>
          </a:prstGeom>
          <a:solidFill>
            <a:srgbClr val="3366ff">
              <a:alpha val="7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142920" y="5429160"/>
            <a:ext cx="2556000" cy="743040"/>
          </a:xfrm>
          <a:prstGeom prst="rect">
            <a:avLst/>
          </a:prstGeom>
          <a:solidFill>
            <a:srgbClr val="3366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SAMOSTALNOST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ODGOVOR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eft-Right-Up Arrow 21"/>
          <p:cNvSpPr/>
          <p:nvPr/>
        </p:nvSpPr>
        <p:spPr>
          <a:xfrm>
            <a:off x="1214280" y="857160"/>
            <a:ext cx="4857840" cy="5708880"/>
          </a:xfrm>
          <a:prstGeom prst="pie">
            <a:avLst/>
          </a:prstGeom>
          <a:solidFill>
            <a:srgbClr val="ffff00">
              <a:alpha val="80000"/>
            </a:srgbClr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Content Placeholder 2"/>
          <p:cNvSpPr/>
          <p:nvPr/>
        </p:nvSpPr>
        <p:spPr>
          <a:xfrm>
            <a:off x="0" y="50004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RADIONICA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Analizirati primjer Dodatka diplomi; pronaći informacije o </a:t>
            </a:r>
            <a:r>
              <a:rPr b="1" lang="hr-HR" sz="2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KVALITETI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47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shoda u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619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sobana dimenzija; institucijska dimenz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47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kvalif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619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sobna dimenzija; institucijska dimenz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Raspravi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47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što nedostaje; što je višak; što treba mijenjat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71280" y="3000240"/>
            <a:ext cx="7993080" cy="19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HKO kvaliteta – razumijevanje, provedba, pouzdanost</a:t>
            </a:r>
            <a:br>
              <a:rPr sz="2400"/>
            </a:b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(nastavak)</a:t>
            </a:r>
            <a:r>
              <a:rPr b="1" i="1" lang="hr-HR" sz="14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14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Prof. dr. sc. Mile Dželalija, Sveučilište u Zadru</a:t>
            </a:r>
            <a:br>
              <a:rPr sz="16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Doc. dr. sc. Sonja Kovačević, Sveučilište u Splitu</a:t>
            </a:r>
            <a:br>
              <a:rPr sz="1600"/>
            </a:br>
            <a:br>
              <a:rPr sz="16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Stručni tim za potporu Povjerenstvu za provedbu HKO</a:t>
            </a:r>
            <a:br>
              <a:rPr sz="1600"/>
            </a:br>
            <a:endParaRPr b="0" lang="en-US" sz="1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971280" y="5013000"/>
            <a:ext cx="799308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Agencija za odgoj i obrazovanj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Zagreb, 11. lipnja 2010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755640" y="2857680"/>
            <a:ext cx="8209080" cy="207000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1"/>
          <p:cNvSpPr/>
          <p:nvPr/>
        </p:nvSpPr>
        <p:spPr>
          <a:xfrm>
            <a:off x="755640" y="5013360"/>
            <a:ext cx="8209080" cy="63036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714240" y="2857680"/>
            <a:ext cx="285840" cy="20700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4"/>
          <p:cNvSpPr/>
          <p:nvPr/>
        </p:nvSpPr>
        <p:spPr>
          <a:xfrm>
            <a:off x="714240" y="5013360"/>
            <a:ext cx="285840" cy="63036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436" name="Title 1"/>
          <p:cNvSpPr/>
          <p:nvPr/>
        </p:nvSpPr>
        <p:spPr>
          <a:xfrm>
            <a:off x="611280" y="0"/>
            <a:ext cx="122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kvalifikacij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okv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Content Placeholder 2"/>
          <p:cNvSpPr/>
          <p:nvPr/>
        </p:nvSpPr>
        <p:spPr>
          <a:xfrm>
            <a:off x="0" y="500040"/>
            <a:ext cx="91440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shodi učenja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Analizirati svojstvo osobne i institucijske dimenzije kvalitete ishoda učenja i kvalif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Analizirati unutarnji i vanjski sustav osiguravanja kvalitete (unaprjeđivanje i prosudb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47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tjecanja kompetencija (formalno učen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47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vrjednovanja stečenih kompete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47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vezivanja ishoda učenja/kvalifikacija s potrebama društva i pojedin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47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vezivanja HKO-a s EKO-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otumačiti osnovne elemente kvalitete HKO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8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2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6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500"/>
                            </p:stCondLst>
                            <p:childTnLst>
                              <p:par>
                                <p:cTn id="6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0" dur="5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4" dur="5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6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8" dur="500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6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500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2071440" y="285840"/>
            <a:ext cx="678636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SUSTAV OSIGURAVANJA KVALITE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(institucijska dimenzija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0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441" name="Content Placeholder 2"/>
          <p:cNvSpPr/>
          <p:nvPr/>
        </p:nvSpPr>
        <p:spPr>
          <a:xfrm>
            <a:off x="1857240" y="1643040"/>
            <a:ext cx="356256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UNAPRJEĐ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Content Placeholder 2"/>
          <p:cNvSpPr/>
          <p:nvPr/>
        </p:nvSpPr>
        <p:spPr>
          <a:xfrm>
            <a:off x="5929200" y="1643040"/>
            <a:ext cx="264348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PROSUD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Content Placeholder 2"/>
          <p:cNvSpPr/>
          <p:nvPr/>
        </p:nvSpPr>
        <p:spPr>
          <a:xfrm rot="16200000">
            <a:off x="-30600" y="2745360"/>
            <a:ext cx="206208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VANJ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Content Placeholder 2"/>
          <p:cNvSpPr/>
          <p:nvPr/>
        </p:nvSpPr>
        <p:spPr>
          <a:xfrm rot="16200000">
            <a:off x="-209160" y="5138640"/>
            <a:ext cx="241920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UNUTAR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ounded Rectangle 7"/>
          <p:cNvSpPr/>
          <p:nvPr/>
        </p:nvSpPr>
        <p:spPr>
          <a:xfrm>
            <a:off x="3000240" y="2714760"/>
            <a:ext cx="1057320" cy="1071360"/>
          </a:xfrm>
          <a:custGeom>
            <a:avLst/>
            <a:gdLst>
              <a:gd name="textAreaLeft" fmla="*/ 51480 w 1057320"/>
              <a:gd name="textAreaRight" fmla="*/ 1005840 w 1057320"/>
              <a:gd name="textAreaTop" fmla="*/ 51480 h 1071360"/>
              <a:gd name="textAreaBottom" fmla="*/ 1019880 h 1071360"/>
            </a:gdLst>
            <a:ahLst/>
            <a:rect l="textAreaLeft" t="textAreaTop" r="textAreaRight" b="textAreaBottom"/>
            <a:pathLst>
              <a:path w="21600" h="21887">
                <a:moveTo>
                  <a:pt x="3600" y="0"/>
                </a:moveTo>
                <a:arcTo wR="3600" hR="3600" stAng="16200000" swAng="-5400000"/>
                <a:lnTo>
                  <a:pt x="0" y="18287"/>
                </a:lnTo>
                <a:arcTo wR="3600" hR="3600" stAng="10800000" swAng="-5400000"/>
                <a:lnTo>
                  <a:pt x="18000" y="218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ounded Rectangle 8"/>
          <p:cNvSpPr/>
          <p:nvPr/>
        </p:nvSpPr>
        <p:spPr>
          <a:xfrm>
            <a:off x="6429240" y="2714760"/>
            <a:ext cx="1057320" cy="1071360"/>
          </a:xfrm>
          <a:custGeom>
            <a:avLst/>
            <a:gdLst>
              <a:gd name="textAreaLeft" fmla="*/ 51480 w 1057320"/>
              <a:gd name="textAreaRight" fmla="*/ 1005840 w 1057320"/>
              <a:gd name="textAreaTop" fmla="*/ 51480 h 1071360"/>
              <a:gd name="textAreaBottom" fmla="*/ 1019880 h 1071360"/>
            </a:gdLst>
            <a:ahLst/>
            <a:rect l="textAreaLeft" t="textAreaTop" r="textAreaRight" b="textAreaBottom"/>
            <a:pathLst>
              <a:path w="21600" h="21887">
                <a:moveTo>
                  <a:pt x="3600" y="0"/>
                </a:moveTo>
                <a:arcTo wR="3600" hR="3600" stAng="16200000" swAng="-5400000"/>
                <a:lnTo>
                  <a:pt x="0" y="18287"/>
                </a:lnTo>
                <a:arcTo wR="3600" hR="3600" stAng="10800000" swAng="-5400000"/>
                <a:lnTo>
                  <a:pt x="18000" y="218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66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ounded Rectangle 9"/>
          <p:cNvSpPr/>
          <p:nvPr/>
        </p:nvSpPr>
        <p:spPr>
          <a:xfrm>
            <a:off x="3000240" y="4929120"/>
            <a:ext cx="1057320" cy="1057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ounded Rectangle 10"/>
          <p:cNvSpPr/>
          <p:nvPr/>
        </p:nvSpPr>
        <p:spPr>
          <a:xfrm>
            <a:off x="6429240" y="5000760"/>
            <a:ext cx="1057320" cy="10573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500"/>
                            </p:stCondLst>
                            <p:childTnLst>
                              <p:par>
                                <p:cTn id="6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Content Placeholder 2"/>
          <p:cNvSpPr/>
          <p:nvPr/>
        </p:nvSpPr>
        <p:spPr>
          <a:xfrm>
            <a:off x="0" y="500040"/>
            <a:ext cx="91440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dnosi se na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tjecanja kompetencija (formalno učen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vrjednovanja stečenih kompete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vezivanja ishoda učenja/kvalifikacija s potrebama društva i pojedin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vezivanja HKO-a s EKO-m (međunarodna dimenzij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4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8" dur="5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500"/>
                            </p:stCondLst>
                            <p:childTnLst>
                              <p:par>
                                <p:cTn id="7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6" dur="500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Content Placeholder 2"/>
          <p:cNvSpPr/>
          <p:nvPr/>
        </p:nvSpPr>
        <p:spPr>
          <a:xfrm>
            <a:off x="0" y="50004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RADIONICA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Raspraviti (sve vezano uz institucijsku di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Kako osiguravati kvalitetu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Kako vrjednovati (prosuditi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Koje vrjednosti dati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mjernice: strategija; odobrenje; nadziranje;  dionici; resursi; informiranje; transparentnos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3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1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500"/>
                            </p:stCondLst>
                            <p:childTnLst>
                              <p:par>
                                <p:cTn id="7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5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0" dur="500"/>
                                        <p:tgtEl>
                                          <p:spTgt spid="4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Content Placeholder 2"/>
          <p:cNvSpPr/>
          <p:nvPr/>
        </p:nvSpPr>
        <p:spPr>
          <a:xfrm>
            <a:off x="0" y="500040"/>
            <a:ext cx="91440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shodi učenja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Analizirati svojstvo osobne i institucijske dimenzije kvalitete ishoda učenja i kvalif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Analizirati unutarnji i vanjski sustav osiguravanja kvalitete (unaprjeđivanje i prosudb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47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stjecanja kompetencija (formalno učen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47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vrjednovanja stečenih kompete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47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povezivanja ishoda učenja/kvalifikacija s potrebama društva i pojedin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47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povezivanja HKO-a s EKO-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Protumačiti osnovne elemente kvalitete HKO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Content Placeholder 2"/>
          <p:cNvSpPr/>
          <p:nvPr/>
        </p:nvSpPr>
        <p:spPr>
          <a:xfrm>
            <a:off x="0" y="50004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snovni elementi kvalitete HKO-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Razumije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oved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uzda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7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2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7" dur="50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2" dur="500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1428840" y="1999800"/>
            <a:ext cx="564336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HVALA NA POZORNOSTI 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http://hko.vlada.h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6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Content Placeholder 2"/>
          <p:cNvSpPr/>
          <p:nvPr/>
        </p:nvSpPr>
        <p:spPr>
          <a:xfrm>
            <a:off x="0" y="500040"/>
            <a:ext cx="914400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adržaj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vojstvo osobne i institucijske dimenzije kvalitete ishoda učenja i kvalif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Radio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Unutarnji i vanjski sustav osiguravanja kvalitete (unaprjeđivanje i prosudb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47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tjecanja kompetencija (formalno učen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47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vrjednovanja stečenih kompete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47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vezivanja ishoda učenja/kvalifikacija s potrebama društva i pojedin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47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vezivanja HKO-a s EKO-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snovni elementi kvalitete HKO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47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razumijevanje, provedba, pouzda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2"/>
          <p:cNvSpPr/>
          <p:nvPr/>
        </p:nvSpPr>
        <p:spPr>
          <a:xfrm>
            <a:off x="142920" y="1357200"/>
            <a:ext cx="8786880" cy="4643640"/>
          </a:xfrm>
          <a:prstGeom prst="verticalScroll">
            <a:avLst>
              <a:gd name="adj" fmla="val 12861"/>
            </a:avLst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Cloud"/>
          <p:cNvSpPr/>
          <p:nvPr/>
        </p:nvSpPr>
        <p:spPr>
          <a:xfrm rot="676200">
            <a:off x="1103040" y="3142800"/>
            <a:ext cx="3128760" cy="21020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356840" y="1357200"/>
            <a:ext cx="280836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Kvalifikaci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2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303" name="Content Placeholder 2"/>
          <p:cNvSpPr/>
          <p:nvPr/>
        </p:nvSpPr>
        <p:spPr>
          <a:xfrm>
            <a:off x="1143000" y="3857760"/>
            <a:ext cx="327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Kompeten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8"/>
          <p:cNvSpPr/>
          <p:nvPr/>
        </p:nvSpPr>
        <p:spPr>
          <a:xfrm>
            <a:off x="1143000" y="2286000"/>
            <a:ext cx="3214800" cy="107964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Content Placeholder 2"/>
          <p:cNvSpPr/>
          <p:nvPr/>
        </p:nvSpPr>
        <p:spPr>
          <a:xfrm>
            <a:off x="1214280" y="2357280"/>
            <a:ext cx="3068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Ishodi u</a:t>
            </a:r>
            <a:r>
              <a:rPr b="1" lang="hr-HR" sz="32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hr-HR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324000" y="620640"/>
            <a:ext cx="8640720" cy="5763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inimalni broj osnovnih elemenata HKO-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Content Placeholder 2"/>
          <p:cNvSpPr/>
          <p:nvPr/>
        </p:nvSpPr>
        <p:spPr>
          <a:xfrm>
            <a:off x="4714920" y="3429000"/>
            <a:ext cx="3500280" cy="23036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njihova svojstv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O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RAZ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UJ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KVALITETA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(2 di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Content Placeholder 2"/>
          <p:cNvSpPr/>
          <p:nvPr/>
        </p:nvSpPr>
        <p:spPr>
          <a:xfrm>
            <a:off x="571680" y="6210360"/>
            <a:ext cx="8393040" cy="6476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(te vrijednosti svojstava i njihovo određivan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j0301252"/>
          <p:cNvPicPr/>
          <p:nvPr/>
        </p:nvPicPr>
        <p:blipFill>
          <a:blip r:embed="rId1"/>
          <a:stretch/>
        </p:blipFill>
        <p:spPr>
          <a:xfrm>
            <a:off x="108000" y="2781360"/>
            <a:ext cx="1619280" cy="1384200"/>
          </a:xfrm>
          <a:prstGeom prst="rect">
            <a:avLst/>
          </a:prstGeom>
          <a:ln w="0">
            <a:noFill/>
          </a:ln>
        </p:spPr>
      </p:pic>
      <p:sp>
        <p:nvSpPr>
          <p:cNvPr id="310" name="AutoShape 3"/>
          <p:cNvSpPr/>
          <p:nvPr/>
        </p:nvSpPr>
        <p:spPr>
          <a:xfrm rot="1644000">
            <a:off x="6659280" y="4076280"/>
            <a:ext cx="1008000" cy="432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1771366"/>
                <a:lnTo>
                  <a:pt x="20471" y="10244"/>
                </a:lnTo>
                <a:lnTo>
                  <a:pt x="17280" y="21600"/>
                </a:lnTo>
                <a:lnTo>
                  <a:pt x="11831" y="10244"/>
                </a:lnTo>
                <a:lnTo>
                  <a:pt x="13991" y="10244"/>
                </a:lnTo>
                <a:arcTo wR="7560" hR="21600" stAng="-3628634" swAng="-141393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4" descr="j0195384"/>
          <p:cNvPicPr/>
          <p:nvPr/>
        </p:nvPicPr>
        <p:blipFill>
          <a:blip r:embed="rId2"/>
          <a:stretch/>
        </p:blipFill>
        <p:spPr>
          <a:xfrm>
            <a:off x="250920" y="4292640"/>
            <a:ext cx="1379520" cy="148104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5"/>
          <p:cNvSpPr/>
          <p:nvPr/>
        </p:nvSpPr>
        <p:spPr>
          <a:xfrm>
            <a:off x="2195640" y="4437000"/>
            <a:ext cx="4824360" cy="2232000"/>
          </a:xfrm>
          <a:prstGeom prst="verticalScroll">
            <a:avLst>
              <a:gd name="adj" fmla="val 17921"/>
            </a:avLst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4500720" y="4940280"/>
            <a:ext cx="2016000" cy="79236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Cloud"/>
          <p:cNvSpPr/>
          <p:nvPr/>
        </p:nvSpPr>
        <p:spPr>
          <a:xfrm rot="298200">
            <a:off x="5221080" y="4869000"/>
            <a:ext cx="1293840" cy="1008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Cloud"/>
          <p:cNvSpPr/>
          <p:nvPr/>
        </p:nvSpPr>
        <p:spPr>
          <a:xfrm rot="507000">
            <a:off x="4213080" y="4869000"/>
            <a:ext cx="1135080" cy="1008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9"/>
          <p:cNvSpPr/>
          <p:nvPr/>
        </p:nvSpPr>
        <p:spPr>
          <a:xfrm>
            <a:off x="4427640" y="5013360"/>
            <a:ext cx="2016000" cy="79200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10"/>
          <p:cNvSpPr/>
          <p:nvPr/>
        </p:nvSpPr>
        <p:spPr>
          <a:xfrm>
            <a:off x="3995640" y="5157720"/>
            <a:ext cx="2016360" cy="79236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Cloud"/>
          <p:cNvSpPr/>
          <p:nvPr/>
        </p:nvSpPr>
        <p:spPr>
          <a:xfrm>
            <a:off x="3780000" y="5084640"/>
            <a:ext cx="1008000" cy="8035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Cloud"/>
          <p:cNvSpPr/>
          <p:nvPr/>
        </p:nvSpPr>
        <p:spPr>
          <a:xfrm rot="217200">
            <a:off x="4571640" y="5084280"/>
            <a:ext cx="1440000" cy="9288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AutoShape 13"/>
          <p:cNvSpPr/>
          <p:nvPr/>
        </p:nvSpPr>
        <p:spPr>
          <a:xfrm>
            <a:off x="3924360" y="5229360"/>
            <a:ext cx="2016000" cy="79200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14"/>
          <p:cNvSpPr/>
          <p:nvPr/>
        </p:nvSpPr>
        <p:spPr>
          <a:xfrm>
            <a:off x="3492360" y="5373720"/>
            <a:ext cx="2016360" cy="79200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Cloud"/>
          <p:cNvSpPr/>
          <p:nvPr/>
        </p:nvSpPr>
        <p:spPr>
          <a:xfrm rot="507000">
            <a:off x="3276720" y="5300640"/>
            <a:ext cx="1135080" cy="1008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Cloud"/>
          <p:cNvSpPr/>
          <p:nvPr/>
        </p:nvSpPr>
        <p:spPr>
          <a:xfrm rot="298200">
            <a:off x="4211280" y="5300640"/>
            <a:ext cx="1293840" cy="1008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Cloud"/>
          <p:cNvSpPr/>
          <p:nvPr/>
        </p:nvSpPr>
        <p:spPr>
          <a:xfrm rot="1639800">
            <a:off x="1260000" y="764640"/>
            <a:ext cx="2979720" cy="23101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Cloud"/>
          <p:cNvSpPr/>
          <p:nvPr/>
        </p:nvSpPr>
        <p:spPr>
          <a:xfrm rot="21172800">
            <a:off x="5868720" y="764640"/>
            <a:ext cx="2720880" cy="2213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1258920" y="1268280"/>
            <a:ext cx="284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Zn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(činjenična i teorijs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Cloud"/>
          <p:cNvSpPr/>
          <p:nvPr/>
        </p:nvSpPr>
        <p:spPr>
          <a:xfrm>
            <a:off x="3852720" y="692280"/>
            <a:ext cx="2490840" cy="26762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3924360" y="1268280"/>
            <a:ext cx="249084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Vješ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(spoznajne, psihomotoričke i socijal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2"/>
          <p:cNvSpPr/>
          <p:nvPr/>
        </p:nvSpPr>
        <p:spPr>
          <a:xfrm>
            <a:off x="6156360" y="1268280"/>
            <a:ext cx="237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Samostalnost i odgovor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3"/>
          <p:cNvSpPr/>
          <p:nvPr/>
        </p:nvSpPr>
        <p:spPr>
          <a:xfrm>
            <a:off x="2987640" y="4437000"/>
            <a:ext cx="2098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24"/>
          <p:cNvSpPr/>
          <p:nvPr/>
        </p:nvSpPr>
        <p:spPr>
          <a:xfrm>
            <a:off x="1116000" y="115920"/>
            <a:ext cx="7848720" cy="338436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5"/>
          <p:cNvSpPr/>
          <p:nvPr/>
        </p:nvSpPr>
        <p:spPr>
          <a:xfrm>
            <a:off x="3929040" y="3645000"/>
            <a:ext cx="2428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RJEDNOV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26"/>
          <p:cNvSpPr/>
          <p:nvPr/>
        </p:nvSpPr>
        <p:spPr>
          <a:xfrm>
            <a:off x="3419640" y="5445000"/>
            <a:ext cx="2016000" cy="79236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27"/>
          <p:cNvSpPr/>
          <p:nvPr/>
        </p:nvSpPr>
        <p:spPr>
          <a:xfrm>
            <a:off x="2916360" y="5589720"/>
            <a:ext cx="2016000" cy="79200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Cloud"/>
          <p:cNvSpPr/>
          <p:nvPr/>
        </p:nvSpPr>
        <p:spPr>
          <a:xfrm rot="507000">
            <a:off x="2700360" y="5516640"/>
            <a:ext cx="1135080" cy="1008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Cloud"/>
          <p:cNvSpPr/>
          <p:nvPr/>
        </p:nvSpPr>
        <p:spPr>
          <a:xfrm rot="298200">
            <a:off x="3636720" y="5516640"/>
            <a:ext cx="1293840" cy="1008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30"/>
          <p:cNvSpPr/>
          <p:nvPr/>
        </p:nvSpPr>
        <p:spPr>
          <a:xfrm>
            <a:off x="2844720" y="5661000"/>
            <a:ext cx="2016360" cy="79236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1"/>
          <p:cNvSpPr/>
          <p:nvPr/>
        </p:nvSpPr>
        <p:spPr>
          <a:xfrm>
            <a:off x="2916360" y="5732640"/>
            <a:ext cx="1584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Ishodi u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2"/>
          <p:cNvSpPr/>
          <p:nvPr/>
        </p:nvSpPr>
        <p:spPr>
          <a:xfrm>
            <a:off x="3564000" y="189000"/>
            <a:ext cx="2558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Kompeten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33"/>
          <p:cNvSpPr/>
          <p:nvPr/>
        </p:nvSpPr>
        <p:spPr>
          <a:xfrm>
            <a:off x="2050920" y="3716280"/>
            <a:ext cx="576360" cy="50472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34"/>
          <p:cNvSpPr/>
          <p:nvPr/>
        </p:nvSpPr>
        <p:spPr>
          <a:xfrm>
            <a:off x="1835280" y="4149720"/>
            <a:ext cx="285480" cy="21600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35" descr="j0291984"/>
          <p:cNvPicPr/>
          <p:nvPr/>
        </p:nvPicPr>
        <p:blipFill>
          <a:blip r:embed="rId3"/>
          <a:stretch/>
        </p:blipFill>
        <p:spPr>
          <a:xfrm>
            <a:off x="6659640" y="4653000"/>
            <a:ext cx="1128600" cy="1195200"/>
          </a:xfrm>
          <a:prstGeom prst="rect">
            <a:avLst/>
          </a:prstGeom>
          <a:ln w="0">
            <a:noFill/>
          </a:ln>
        </p:spPr>
      </p:pic>
      <p:sp>
        <p:nvSpPr>
          <p:cNvPr id="343" name="Oval 36"/>
          <p:cNvSpPr/>
          <p:nvPr/>
        </p:nvSpPr>
        <p:spPr>
          <a:xfrm>
            <a:off x="1692360" y="4437000"/>
            <a:ext cx="144360" cy="14436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7"/>
          <p:cNvSpPr/>
          <p:nvPr/>
        </p:nvSpPr>
        <p:spPr>
          <a:xfrm>
            <a:off x="2627280" y="3357720"/>
            <a:ext cx="792360" cy="64764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Cloud"/>
          <p:cNvSpPr/>
          <p:nvPr/>
        </p:nvSpPr>
        <p:spPr>
          <a:xfrm>
            <a:off x="1979640" y="2276640"/>
            <a:ext cx="1368360" cy="36036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Cloud"/>
          <p:cNvSpPr/>
          <p:nvPr/>
        </p:nvSpPr>
        <p:spPr>
          <a:xfrm>
            <a:off x="4356000" y="2565360"/>
            <a:ext cx="1297080" cy="3603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Cloud"/>
          <p:cNvSpPr/>
          <p:nvPr/>
        </p:nvSpPr>
        <p:spPr>
          <a:xfrm>
            <a:off x="6588000" y="2205000"/>
            <a:ext cx="1224000" cy="3589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41" descr="MCj04315540000[1]"/>
          <p:cNvPicPr/>
          <p:nvPr/>
        </p:nvPicPr>
        <p:blipFill>
          <a:blip r:embed="rId4"/>
          <a:stretch/>
        </p:blipFill>
        <p:spPr>
          <a:xfrm>
            <a:off x="8494560" y="515772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2" descr="MCj04260540000[1]"/>
          <p:cNvPicPr/>
          <p:nvPr/>
        </p:nvPicPr>
        <p:blipFill>
          <a:blip r:embed="rId5"/>
          <a:stretch/>
        </p:blipFill>
        <p:spPr>
          <a:xfrm>
            <a:off x="7812000" y="3789360"/>
            <a:ext cx="1116000" cy="973080"/>
          </a:xfrm>
          <a:prstGeom prst="rect">
            <a:avLst/>
          </a:prstGeom>
          <a:ln w="0">
            <a:noFill/>
          </a:ln>
        </p:spPr>
      </p:pic>
      <p:sp>
        <p:nvSpPr>
          <p:cNvPr id="350" name="AutoShape 43"/>
          <p:cNvSpPr/>
          <p:nvPr/>
        </p:nvSpPr>
        <p:spPr>
          <a:xfrm>
            <a:off x="3708360" y="3645000"/>
            <a:ext cx="2808360" cy="720720"/>
          </a:xfrm>
          <a:prstGeom prst="downArrowCallout">
            <a:avLst>
              <a:gd name="adj1" fmla="val 100130"/>
              <a:gd name="adj2" fmla="val 97415"/>
              <a:gd name="adj3" fmla="val 31421"/>
              <a:gd name="adj4" fmla="val 54167"/>
            </a:avLst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44"/>
          <p:cNvSpPr/>
          <p:nvPr/>
        </p:nvSpPr>
        <p:spPr>
          <a:xfrm rot="5400000">
            <a:off x="7847640" y="5050440"/>
            <a:ext cx="576360" cy="501840"/>
          </a:xfrm>
          <a:prstGeom prst="pie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2" descr="HKO_logo"/>
          <p:cNvPicPr/>
          <p:nvPr/>
        </p:nvPicPr>
        <p:blipFill>
          <a:blip r:embed="rId6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7" descr="MCBD20204_0000[1]"/>
          <p:cNvPicPr/>
          <p:nvPr/>
        </p:nvPicPr>
        <p:blipFill>
          <a:blip r:embed="rId7"/>
          <a:stretch/>
        </p:blipFill>
        <p:spPr>
          <a:xfrm>
            <a:off x="7740720" y="5877000"/>
            <a:ext cx="1224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Vodoravni svitak 6"/>
          <p:cNvSpPr/>
          <p:nvPr/>
        </p:nvSpPr>
        <p:spPr>
          <a:xfrm>
            <a:off x="214200" y="285840"/>
            <a:ext cx="8643960" cy="6572160"/>
          </a:xfrm>
          <a:prstGeom prst="horizontalScroll">
            <a:avLst>
              <a:gd name="adj" fmla="val 6300"/>
            </a:avLst>
          </a:prstGeom>
          <a:solidFill>
            <a:srgbClr val="ffff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Content Placeholder 2"/>
          <p:cNvSpPr/>
          <p:nvPr/>
        </p:nvSpPr>
        <p:spPr>
          <a:xfrm>
            <a:off x="714240" y="142920"/>
            <a:ext cx="8429760" cy="65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KOMPETEN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kup znanja i vještina, te pripadajuća samostalnost i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dnos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tečene i povezane informaci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imje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stignuta primjena (u nekim uvjeti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snovna </a:t>
            </a:r>
            <a:r>
              <a:rPr b="1" lang="hr-HR" sz="2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vojstva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OFIL (nazi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RAZINA (1, 2, 3, 4, 5, 6, 7,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BUJAM (za jedinični skup, ECTS, ECV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3" descr="HKO_logo"/>
          <p:cNvPicPr/>
          <p:nvPr/>
        </p:nvPicPr>
        <p:blipFill>
          <a:blip r:embed="rId1"/>
          <a:stretch/>
        </p:blipFill>
        <p:spPr>
          <a:xfrm>
            <a:off x="8459640" y="638316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3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3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642960" y="856800"/>
            <a:ext cx="778680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Pitanj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Što razlikuj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neki skup ishoda učenja od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odgovarajućeg skupa kompetencija ?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SVOJSTVO </a:t>
            </a:r>
            <a:r>
              <a:rPr b="1" lang="hr-HR" sz="2800" spc="-1" strike="noStrike" u="sng">
                <a:solidFill>
                  <a:srgbClr val="c00000"/>
                </a:solidFill>
                <a:uFillTx/>
                <a:latin typeface="Arial"/>
              </a:rPr>
              <a:t>KVALITETE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8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Vodoravni svitak 6"/>
          <p:cNvSpPr/>
          <p:nvPr/>
        </p:nvSpPr>
        <p:spPr>
          <a:xfrm>
            <a:off x="214200" y="285840"/>
            <a:ext cx="8643960" cy="6572160"/>
          </a:xfrm>
          <a:prstGeom prst="horizontalScroll">
            <a:avLst>
              <a:gd name="adj" fmla="val 6300"/>
            </a:avLst>
          </a:prstGeom>
          <a:solidFill>
            <a:srgbClr val="ffff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Content Placeholder 2"/>
          <p:cNvSpPr/>
          <p:nvPr/>
        </p:nvSpPr>
        <p:spPr>
          <a:xfrm>
            <a:off x="714240" y="142920"/>
            <a:ext cx="8429760" cy="65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SHODI UČE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2d050"/>
                </a:solidFill>
                <a:latin typeface="Arial"/>
                <a:ea typeface="Times New Roman"/>
              </a:rPr>
              <a:t>Skup znanja i vještina, te pripadajuća samostalnost i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2d050"/>
                </a:solidFill>
                <a:latin typeface="Arial"/>
                <a:ea typeface="Times New Roman"/>
              </a:rPr>
              <a:t>Odnos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2d050"/>
                </a:solidFill>
                <a:latin typeface="Wingdings"/>
                <a:ea typeface="Wingdings"/>
              </a:rPr>
              <a:t></a:t>
            </a:r>
            <a:r>
              <a:rPr b="1" lang="hr-HR" sz="2800" spc="-1" strike="noStrike">
                <a:solidFill>
                  <a:srgbClr val="92d050"/>
                </a:solidFill>
                <a:latin typeface="Arial"/>
                <a:ea typeface="Times New Roman"/>
              </a:rPr>
              <a:t> </a:t>
            </a:r>
            <a:r>
              <a:rPr b="1" lang="hr-HR" sz="2800" spc="-1" strike="noStrike">
                <a:solidFill>
                  <a:srgbClr val="92d050"/>
                </a:solidFill>
                <a:latin typeface="Arial"/>
                <a:ea typeface="Times New Roman"/>
              </a:rPr>
              <a:t>stečene i povezane informaci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2d050"/>
                </a:solidFill>
                <a:latin typeface="Wingdings"/>
                <a:ea typeface="Wingdings"/>
              </a:rPr>
              <a:t></a:t>
            </a:r>
            <a:r>
              <a:rPr b="1" lang="hr-HR" sz="2800" spc="-1" strike="noStrike">
                <a:solidFill>
                  <a:srgbClr val="92d050"/>
                </a:solidFill>
                <a:latin typeface="Arial"/>
                <a:ea typeface="Times New Roman"/>
              </a:rPr>
              <a:t> </a:t>
            </a:r>
            <a:r>
              <a:rPr b="1" lang="hr-HR" sz="2800" spc="-1" strike="noStrike">
                <a:solidFill>
                  <a:srgbClr val="92d050"/>
                </a:solidFill>
                <a:latin typeface="Arial"/>
                <a:ea typeface="Times New Roman"/>
              </a:rPr>
              <a:t>primje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2d050"/>
                </a:solidFill>
                <a:latin typeface="Wingdings"/>
                <a:ea typeface="Wingdings"/>
              </a:rPr>
              <a:t></a:t>
            </a:r>
            <a:r>
              <a:rPr b="1" lang="hr-HR" sz="2800" spc="-1" strike="noStrike">
                <a:solidFill>
                  <a:srgbClr val="92d050"/>
                </a:solidFill>
                <a:latin typeface="Arial"/>
                <a:ea typeface="Times New Roman"/>
              </a:rPr>
              <a:t> </a:t>
            </a:r>
            <a:r>
              <a:rPr b="1" lang="hr-HR" sz="2800" spc="-1" strike="noStrike">
                <a:solidFill>
                  <a:srgbClr val="92d050"/>
                </a:solidFill>
                <a:latin typeface="Arial"/>
                <a:ea typeface="Times New Roman"/>
              </a:rPr>
              <a:t>postignuta primjena (u nekim uvjeti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2d050"/>
                </a:solidFill>
                <a:latin typeface="Arial"/>
                <a:ea typeface="Times New Roman"/>
              </a:rPr>
              <a:t>Osnovna </a:t>
            </a:r>
            <a:r>
              <a:rPr b="1" lang="hr-HR" sz="2800" spc="-1" strike="noStrike" u="sng">
                <a:solidFill>
                  <a:srgbClr val="92d050"/>
                </a:solidFill>
                <a:uFillTx/>
                <a:latin typeface="Arial"/>
                <a:ea typeface="Times New Roman"/>
              </a:rPr>
              <a:t>svojstva</a:t>
            </a:r>
            <a:r>
              <a:rPr b="1" lang="hr-HR" sz="2800" spc="-1" strike="noStrike">
                <a:solidFill>
                  <a:srgbClr val="92d05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2d050"/>
                </a:solidFill>
                <a:latin typeface="Arial"/>
                <a:ea typeface="Times New Roman"/>
              </a:rPr>
              <a:t>PROFIL (nazi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2d050"/>
                </a:solidFill>
                <a:latin typeface="Arial"/>
                <a:ea typeface="Times New Roman"/>
              </a:rPr>
              <a:t>RAZINA (1, 2, 3, 4, 5, 6, 7,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2d050"/>
                </a:solidFill>
                <a:latin typeface="Arial"/>
                <a:ea typeface="Times New Roman"/>
              </a:rPr>
              <a:t>OBUJAM (za jedinični skup, ECTS, ECV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KVALITETA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– osobna i institucij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3" descr="HKO_logo"/>
          <p:cNvPicPr/>
          <p:nvPr/>
        </p:nvPicPr>
        <p:blipFill>
          <a:blip r:embed="rId1"/>
          <a:stretch/>
        </p:blipFill>
        <p:spPr>
          <a:xfrm>
            <a:off x="8459640" y="638316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500"/>
                            </p:stCondLst>
                            <p:childTnLst>
                              <p:par>
                                <p:cTn id="3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" dur="500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2"/>
          <p:cNvSpPr/>
          <p:nvPr/>
        </p:nvSpPr>
        <p:spPr>
          <a:xfrm>
            <a:off x="0" y="142920"/>
            <a:ext cx="9144000" cy="6572160"/>
          </a:xfrm>
          <a:prstGeom prst="verticalScroll">
            <a:avLst>
              <a:gd name="adj" fmla="val 9625"/>
            </a:avLst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Content Placeholder 2"/>
          <p:cNvSpPr/>
          <p:nvPr/>
        </p:nvSpPr>
        <p:spPr>
          <a:xfrm>
            <a:off x="857160" y="214200"/>
            <a:ext cx="778680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KVALIFIKACI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Formalni naziv za skup kompetencija ... koja se dokazuje javnom ispravom nadležne ustanove    (</a:t>
            </a:r>
            <a:r>
              <a:rPr b="1" i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ihvatljivo vrjednovanje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Dakle – ima određeni skup ishoda u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snovna </a:t>
            </a:r>
            <a:r>
              <a:rPr b="1" lang="hr-HR" sz="2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vojstva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OFIL (naziv; </a:t>
            </a:r>
            <a:r>
              <a:rPr b="1" lang="hr-HR" sz="2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regul.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, prepoz., nepre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BUJAM (ECTS, ECVET, </a:t>
            </a:r>
            <a:r>
              <a:rPr b="1" i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G/O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RAZINA (složenost, uključuje </a:t>
            </a:r>
            <a:r>
              <a:rPr b="1" lang="hr-HR" sz="2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min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. vrijednost obuj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KVALITETA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– osobna i institucijs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3" descr="HKO_logo"/>
          <p:cNvPicPr/>
          <p:nvPr/>
        </p:nvPicPr>
        <p:blipFill>
          <a:blip r:embed="rId1"/>
          <a:stretch/>
        </p:blipFill>
        <p:spPr>
          <a:xfrm>
            <a:off x="8459640" y="638316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5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6:18:42Z</dcterms:created>
  <dc:creator>Mile Dzelalija</dc:creator>
  <dc:description/>
  <dc:language>en-US</dc:language>
  <cp:lastModifiedBy>Andreja Marcetić</cp:lastModifiedBy>
  <dcterms:modified xsi:type="dcterms:W3CDTF">2010-06-08T14:13:37Z</dcterms:modified>
  <cp:revision>502</cp:revision>
  <dc:subject/>
  <dc:title>HKO</dc:title>
</cp:coreProperties>
</file>