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3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 type="sldNum" idx="3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8AC6-C870-47BD-B20B-9178E6D13A4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Koncept cjeloživotnog učenja zamisao je usustavljivanja učenja u svim životnim razdobljima (od rane mladosti do starosti) i u svim oblicima u kojima se ostvaruje (formalno, neformalno i informalno). Učenje je pritom kontinuirani proces u kojem su rezultati i motiviranost pojedinca za učenje u određenom životnom razdoblju uvjetovani znanjem, navikama i iskustvima učenja stečenima u mlađoj životnoj dobi. Uz koncept cjeloživotnog učenja najčešće se vezuju ciljevi ekonomske prirode, primjerice postizanje veće konkurentnosti i trajne zapošljivosti. S druge strane ne smiju se zanemariti jednako važni ciljevi koji pridonose aktivnijoj ulozi pojedinca u društvu. Ti su ciljevi poticanje društvene uključenosti, razvoj aktivnoga građanstva te razvijanje individualnih potencijala pojedinaca. </a:t>
            </a:r>
            <a:br>
              <a:rPr sz="1000"/>
            </a:br>
            <a:br>
              <a:rPr sz="1000"/>
            </a:b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Pojam cjeloživotno učenje često se zamjenjuje izrazom cjeloživotno obrazovanje, no važno je istaknuti da ta dva pojma nisu istoznačna. Obrazovanje obuhvaća samo organizirano učenje, a učenje je širi koncept koji uključuje i nenamjerno, neorganizirano i spontano stjecanje znanja te se može provoditi cijeli život. U devedesetima se u Europi afirmira cjeloživotno učenje kao politika koja odgovara na probleme ekonomske krize i povećane nezaposlenosti (Žiljak, 2005). U tom razdoblju pomiče se fokus s obrazovanja, koje je institucionalizirani i organizirani proces, na cjeloživotno učenje, koje uključuje sve oblike učenja u svim životnim okolnostima. </a:t>
            </a:r>
            <a:br>
              <a:rPr sz="1000"/>
            </a:br>
            <a:br>
              <a:rPr sz="1000"/>
            </a:b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Koncept cjeloživotnog učenja, razvijen u šezdesetim godinama prošlog stoljeća, odgovor je na problem neusklađenosti između obrazovanja mladih i odraslih (Pastuović, 1999.). Usredotočenost tradicionalne pedagogije na probleme osnovnoškolskog odgoja i općeg obrazovanja djece te andragogije na obrazovanje odraslih, rezultirali su nedostatkom teorije koja bi integrirala spoznaje o obrazovanju i učenju kroz sva životna razdoblja. Takvo stanje pogodovalo je razvitku teorije i koncepta cjeloživotnog učenja kao integriranog pristupa proučavanju učenja kao trajnog procesa. </a:t>
            </a:r>
            <a:br>
              <a:rPr sz="1000"/>
            </a:br>
            <a:br>
              <a:rPr sz="1000"/>
            </a:b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U proteklih četrdeset godina cjeloživotno učenje se od početne ideje razvilo u dominantno načelo i orijentaciju razvoja brojnih nacionalnih obrazovnih sustava. Njegova važnost ističe se u nizu međunarodnih akcijskih planova, deklaracija, dokumenata i konferencija (primjerice Deklaracija UNESCO-ove konferencije: Poziv na akciju Sofija, Memorandum Europske komisije o cjeloživotnom učenju, ostali dokumenti Europske komisije: Stvaranje jedinstvenog europskog prostora cjeloživotnog učenja, Nikada nije prekasno za učenje, Akcijski plan za obrazovanje odraslih: Uvijek je dobro vrijeme za učenje, i drugi ). Hrvatska ne zaostaje za ovim trendom te je uključivanjem cjeloživotnog učenja u strateške dokumente iz područja obrazovanja (primjerice Bijeli dokument o hrvatskom obrazovanju, Plan razvoja sustava odgoja i obrazovanja 2005.-2010., Strategija obrazovanja odraslih, Deklaraciji o znanju HAZU-a) postalo osnovno načelo razvitka hrvatskoga obrazovnog sustav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02A5-AC99-4AA4-A717-D18C8697DDE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7FFA-524D-4F73-AA7D-80941839C8F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FA1A-D228-4E4C-A5B3-313AE2E16B5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8FC2-9002-42DA-ABF7-4EA4D14405D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8398-D177-4163-982C-7F5D4F902E1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923C-5B72-4B5C-8A6B-6333452B75E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A142E-D6C4-4D91-A6D6-234610B336D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00BAE-5DBF-4AC2-B0F3-E791F5D078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5222F-A1FF-461E-B085-C140ADB8A3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E89D1-2D7E-4AB7-B0D9-57579B80C3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96751-3C0D-4032-965F-E8EFEAC32C3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C2D6E-DDA1-4D96-AA40-48DD9ABF05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8D9C0-8E22-4902-9D68-DA6AC9018E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FEFB2-4B36-4DC7-AAA8-BE11D5BE81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2C28D-BD30-4BC1-9972-98E9D569172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DC0BAE-6485-48DC-AE97-9994F257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B89199-DE1D-4DF3-8860-173E5AAB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88D17F-A956-4DEB-928C-0E51C0B2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4C20C-30ED-405E-8B42-D22ABDFF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25C1E8-90D4-47EB-A1E0-6C02222B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A6C5AE-CC5D-4310-8C7D-0B9C8726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26972-6B6C-4845-B5A1-7F6FAB6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1D8476-273C-4E0C-940A-CEB4816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2FB513-055E-4429-B400-8D8B081D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8C4162-5ACD-482A-9588-86778187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6A99AC-728A-40A5-978B-DB2390C4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899D45-50A7-4E50-9A10-1048FB3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E5F08-8EA5-42DC-9AFB-80A18D8B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B1785-9911-4DDE-A906-8A3795F6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C5DB02-3124-4EE1-BA1D-EA7AA1D3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A5457A-A2DB-4A73-8E68-B5943B47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C37478-35A3-4992-B5FA-CCE4BF60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1E3124-DED6-4D22-A385-0646E766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91D33-50AB-497D-8E31-AB920DF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8509ED-2E18-435E-8DAA-F20C6FD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907949-B39E-4F3A-8C38-3F5DA0E2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6285A-C19E-48D8-965A-DAB9D49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BC46F-1436-4913-85DD-09E4FFA1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88E9F3-023A-4CC5-9836-144BAF00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2949B8-511C-4E98-BD3B-CCDC4655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83F30B-41D0-4D12-BB6C-63AF5FB3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C77FFF-BE3C-4274-A570-1A46139A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4BC3F4-F417-49CA-B55B-FD1EBF04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32E163-7076-4E62-ABD8-88B53FF7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F9D0C5-C793-4B36-BBD5-C60AF29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F53003-AAC1-4364-8EEB-F5FE999E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231358-004D-4C26-90B9-BDD29B1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F4625-2ECB-4B37-AD65-3EB76A5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C1AA8F-E21F-4795-9145-7BBC05FE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F47DFD-4343-4718-A7E9-C2939E11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4CD795-D65D-423B-A7F9-06DBBF1E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D6A26F-21FF-4C6F-ACBC-3F4B68AF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22E269-5596-4408-AD4C-9A24C9BD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805353-69AC-41E8-B34A-7B7C2B1A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0C5838-11AA-416E-BBB8-91701F9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C051A3-CA63-448C-828C-E1655EDB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5B5DEA-1DD8-4B84-9109-9B4E33B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0D1C89-9807-4512-8C7C-D1A750EF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562F3D-2166-4F9D-86D8-65EB33F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2EB26C-2DCF-4487-9D12-297F66EE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8921B2-8196-477C-8934-4D89E94A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1AE7C9-F0CF-48FF-A15B-F37055D9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D05500-78FD-4309-A8DA-E7EEDBF2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A53F3-7C1B-4864-9BD5-CA2E3856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1BD98-FE51-4C1A-8F4A-8FB7E401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72AC9-63F4-4316-BB86-A99DB8E0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A92E5-4D34-4931-80E1-3270DC6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50AC9-CC09-4703-9AB5-D30D2F54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32D15-0B04-47D8-92A2-7BEF51DA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616AE-88E0-473E-B495-98B8655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39FD9-6ADD-4FBF-9368-5C8E989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DE4E3-FE4C-49E9-BA0E-A80909A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B89ED-71C8-4F21-8229-9743DF5E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C2255-53B7-405F-B80C-27E0F473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CD310-75E6-49A7-B2CB-DC453C6D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54F3C-1870-4C59-BBCC-ECF6C547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F23B1E-3E46-4111-BAFB-3BA45C9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EB4D90-F693-40A6-B32A-14B7F5C1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A896F-E8F1-4F46-B026-05832745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F246A-D529-4C33-84C7-6834828E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0B248-FD99-46C8-AB62-B879283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1B9D0-5047-4D40-ADEF-C1C15B5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9F716-93B7-4ABA-956B-279FA90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03B55-FD95-4A6B-92C6-D30BCA07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6F982-B42A-4B87-8883-DAE68460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692736-3D68-4433-9B8F-C36D1814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BA644-AC21-4FAE-94D7-CEBC36F5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64C32-FC8C-4EA6-B9ED-4AD87BFB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529750-8FEE-4ADC-B6D1-528415E6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52BEE-141F-47A2-AF02-A8B3EFB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BB7DD-4473-4E58-9192-D78B2806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DB51B-1683-4EA8-A450-076167CD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E1C32-6E3C-4EFF-B75A-96940F0A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558D1-0015-4BD5-8EF4-6FAF313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4D76E3-5646-4175-965C-52E307D7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80E8B-D6E5-4A8E-95EB-B891902F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A3642-DA96-45B2-A749-5DE2569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F89E9-45B0-4BC7-BA8E-F5F797E4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76218-168C-4FB0-ADC0-1FFA7345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4406B-26B2-41C1-BAE2-A4E5E119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80CDAF-4753-4A2B-93D0-44194AD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D1F5F-47CC-42DA-938A-4C33570E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1FE9DF-ECB0-42B7-8C32-02099404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2909A-2529-4A9E-B333-771EA589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BD886E-0CB3-4DC3-8FA3-6DA7C615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CE1612-9B6B-4A3B-A1D1-4D97394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66548D-9A88-4C8F-A7A5-47F8E2E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92B53-903C-4AF6-928A-C7CE0AB5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9E1E6-0A2C-4079-AB2E-114140BE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8F08F-88D1-4785-B57E-7D5528CA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C758AE-04F7-4D1C-BBFC-6656D1CD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E233E5-2303-496F-8AA0-2865DBCA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778C08-33B4-4DD3-AFF1-87841DDA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B3A4A1-E8D6-414A-A0CC-11482240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99D8B1-482F-487D-9298-C3AD45A0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C185D0-2155-45C8-9176-56246DBC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44AD33-44B8-4095-9AA5-8581E1BC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E4B451-E7A1-46E8-8870-A25ED4D7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860A1A-FAE7-4E7C-ACC5-99B9B7A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F32F4-7536-4E79-939F-2D17E2D5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9DE350-B25E-49CF-A84C-70859E33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89EAFC-0674-443F-B512-27CD3988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AF3A6B-9B9B-40B0-B96F-BA656FBA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3445C-EE47-4342-81D8-9B69EBB1E2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BC34-DA04-462A-8913-83DB501928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1CA83-933E-4D53-9C53-5D39B256DA0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2CCC5-78FA-412B-99A9-BD1C407F554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50C36-201D-469C-B78D-84029A59F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E5F1-676F-404A-92E1-5B80310F0CE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354FB-B1A1-4273-8444-E07330C3FD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5D2C-7777-4793-9145-36B865B283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19299-F1A4-4791-B922-290200F7DF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FD7F1-06E2-4BD9-A249-6C162755CDB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32351-02E9-475C-9678-0FE61B3861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B84CD-8FDB-41B0-9BA9-53C301F8F1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91A6F-8FF9-4402-BF98-00FBDB64E9F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82C88-906F-4C39-B7AC-17A2ACC704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B70C8-64F2-4DAC-8206-9F12A0068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Times New Roman"/>
              </a:rPr>
              <a:t>Predmetno područje: Opći stručni skupovi: IV. Modul - Hrvatski kvalifikacijski okvir (HKO), Europski kvalifikacijski okvir (EQF), strategijsko planiranje i osiguranje sustava kvalitete u odgojno - obrazovnim ustanovama - Zagreb 10.-21.06.201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3E3B-5366-4073-A5B6-FC9CAB3761B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4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B5CE-366D-43C9-A2B1-5C79B60B47E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7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4C22-CD28-4804-B329-DE93F33D75F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C7C2-DF23-4A6E-B7EC-9FE3449AA219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2"/>
          </p:nvPr>
        </p:nvSpPr>
        <p:spPr>
          <a:xfrm>
            <a:off x="107172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A03E-3C51-4FC5-B543-AF7817945EC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5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472F-291E-471A-B494-C4BAC4BDBBA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8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875D-9FE9-4EEB-8178-4924FBED5DC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BB68-DD97-4E7C-90FF-328068B3A2A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4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0BAA-0F3E-42E1-9029-92E05CE7767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7750-079E-450D-B583-CFF6CE29EEA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BF9D-E3BC-4772-9911-2EEB6515978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andreja.marcetic@vip.hr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oh.rs/treca-konferencija/provedba-hrvatskog-kvalifikacijskog-okvira-hko-i-razvoj-kompetencija-za-cjelozivotno-ucenje-strucnih-djelatnika-odgojno-obrazovnih-ustanova-republike-hrvatske" TargetMode="External"/><Relationship Id="rId2" Type="http://schemas.openxmlformats.org/officeDocument/2006/relationships/hyperlink" Target="http://www.infonb.net/drustvo/3-drustvo/1148-na-vaspita-na-meunarodnoj-konferenciji.html" TargetMode="External"/><Relationship Id="rId3" Type="http://schemas.openxmlformats.org/officeDocument/2006/relationships/hyperlink" Target="http://www.poslovni-savjetnik.com/CMS/0105/Content.aspx?EID=21145" TargetMode="External"/><Relationship Id="rId4" Type="http://schemas.openxmlformats.org/officeDocument/2006/relationships/hyperlink" Target="http://www.poslovni-savjetnik.com/CMS/0105/Default.aspx?EID=3128" TargetMode="External"/><Relationship Id="rId5" Type="http://schemas.openxmlformats.org/officeDocument/2006/relationships/hyperlink" Target="http://www.hpkz-napredak.hr/HPKZ-program.pdf" TargetMode="Externa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Title 1"/>
          <p:cNvGrpSpPr/>
          <p:nvPr/>
        </p:nvGrpSpPr>
        <p:grpSpPr>
          <a:xfrm>
            <a:off x="-19080" y="3127320"/>
            <a:ext cx="9175680" cy="2030400"/>
            <a:chOff x="-19080" y="3127320"/>
            <a:chExt cx="9175680" cy="2030400"/>
          </a:xfrm>
        </p:grpSpPr>
        <p:pic>
          <p:nvPicPr>
            <p:cNvPr id="613" name="Title 1" descr=""/>
            <p:cNvPicPr/>
            <p:nvPr/>
          </p:nvPicPr>
          <p:blipFill>
            <a:blip r:embed="rId1"/>
            <a:stretch/>
          </p:blipFill>
          <p:spPr>
            <a:xfrm>
              <a:off x="-19080" y="3127320"/>
              <a:ext cx="91756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0" y="3143160"/>
              <a:ext cx="914400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br>
                <a:rPr sz="2800"/>
              </a:br>
              <a:r>
                <a:rPr b="0" lang="hr-HR" sz="1800" spc="-1" strike="noStrike">
                  <a:solidFill>
                    <a:srgbClr val="7f7f7f"/>
                  </a:solidFill>
                  <a:latin typeface="Arial"/>
                  <a:ea typeface="Arial"/>
                </a:rPr>
                <a:t>Stručni skup za stručne djelatnike odgojno – obrazovnih ustanova </a:t>
              </a:r>
              <a:br>
                <a:rPr sz="1800"/>
              </a:br>
              <a:r>
                <a:rPr b="1" lang="hr-HR" sz="1800" spc="-1" strike="noStrike">
                  <a:solidFill>
                    <a:srgbClr val="7f7f7f"/>
                  </a:solidFill>
                  <a:latin typeface="Arial"/>
                  <a:ea typeface="Arial"/>
                </a:rPr>
                <a:t>Projekt Provedba Hrvatskog kvalifikacijskog okvira (HKO) i razvoj kompetencija za cjeloživotno učenje stručnih djelatnika odgojno – obrazovnih ustanova </a:t>
              </a:r>
              <a:br>
                <a:rPr sz="2800"/>
              </a:br>
              <a:r>
                <a:rPr b="0" lang="hr-HR" sz="2800" spc="-1" strike="noStrike">
                  <a:solidFill>
                    <a:srgbClr val="7f7f7f"/>
                  </a:solidFill>
                  <a:latin typeface="Calibri"/>
                </a:rPr>
                <a:t>IV. Modul </a:t>
              </a:r>
              <a:r>
                <a:rPr b="1" lang="hr-HR" sz="2800" spc="-1" strike="noStrike">
                  <a:solidFill>
                    <a:srgbClr val="7f7f7f"/>
                  </a:solidFill>
                  <a:latin typeface="Calibri"/>
                </a:rPr>
                <a:t>- </a:t>
              </a:r>
              <a:r>
                <a:rPr b="1" lang="hr-HR" sz="2800" spc="-1" strike="noStrike">
                  <a:solidFill>
                    <a:srgbClr val="000000"/>
                  </a:solidFill>
                  <a:latin typeface="Calibri"/>
                </a:rPr>
                <a:t>HRVATSKI KVALIFIKACIJSKI OKVIR (HKO), EUROPSKI KVALIFIKACIJSKI OKVIR (EQF), STRATEGIJSKO PLANIRANJE I OSIGURANJE SUSTAVA KVALITETE U ODGOJNO - OBRAZOVNIM USTANOVAMA</a:t>
              </a:r>
              <a:br>
                <a:rPr sz="2800"/>
              </a:br>
              <a:br>
                <a:rPr sz="2800"/>
              </a:br>
              <a:r>
                <a:rPr b="1" lang="hr-H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br>
                <a:rPr sz="2800"/>
              </a:br>
              <a:br>
                <a:rPr sz="2800"/>
              </a:br>
              <a:br>
                <a:rPr sz="2800"/>
              </a:b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285920" y="5143680"/>
            <a:ext cx="6400800" cy="53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mr. sc. Andreja Marcetić, v. suradnik AZO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898989"/>
                </a:solidFill>
                <a:latin typeface="Calibri"/>
              </a:rPr>
              <a:t>voditelj - suradnik na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Content Placeholder 2"/>
          <p:cNvGrpSpPr/>
          <p:nvPr/>
        </p:nvGrpSpPr>
        <p:grpSpPr>
          <a:xfrm>
            <a:off x="-19080" y="1627200"/>
            <a:ext cx="9175680" cy="5243400"/>
            <a:chOff x="-19080" y="1627200"/>
            <a:chExt cx="9175680" cy="5243400"/>
          </a:xfrm>
        </p:grpSpPr>
        <p:pic>
          <p:nvPicPr>
            <p:cNvPr id="63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19080" y="1627200"/>
              <a:ext cx="9175680" cy="52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0" y="164304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99960" indent="-399960">
                <a:spcBef>
                  <a:spcPts val="400"/>
                </a:spcBef>
                <a:buClr>
                  <a:srgbClr val="7f7f7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Uloga Hrvatskog kvalifikacijskog okvira (HKO) u prihvaćanju odgovornosti u radu stručnih djelatnika odgojno – obrazovnih  ustanova te nužnost cjeloživotnog učenj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7f7f7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Hrvatski kvalifikacijski okvir (HKO), strategijsko planiranje i razvoj ključnih kompetencija u odgojno – obrazovnim ustanov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7f7f7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Unapređivanje rada u odgojno - obrazovnim ustanovama kroz razvoj ključnih kompetencija za cjeloživotno učenje u kontekstu Hrvatskog kvalifikacijskog okvira (HKO) i  Europskog kvalifikacijskog okvira (EQ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601"/>
                </a:spcBef>
                <a:buClr>
                  <a:srgbClr val="ff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ropski kvalifikacijski okvir (EQF), strateško planiranje i osiguranje sustava kvalitete u odgojno – obrazovnim ustanova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nost i upravljanje projektima u odgojno – obrazovnim ustanovama u skladu s hrvatskim i europskim kvalifikacijskim okvirom (HKO, EQ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rvatski kvalifikacijski okvir (HKO) i unapređivanje rada u odgojno – obrazovnim ustanovama kroz razvoj poduzetništv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zvoj kvalifikacija temeljenih na kompetencijama (Hrvatski kvalifikacijski okvir, European Reference Framework - HKO, ERF) i odgoj za demokratsko građanst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550"/>
                </a:spcBef>
                <a:buClr>
                  <a:srgbClr val="fffff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1928880"/>
            <a:ext cx="300816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me IV. mod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785680" y="1000080"/>
            <a:ext cx="6357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EUROPSKI KVALIFIKACIJSKI OKVIR (EQF) I IZBOR, OBLIKOVANJE I IMPLEMENTACIJA 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POSLOVNE STRATEGIJE U OBRAZOVANJ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EUROPSKI KVALIFIKACIJSKI OKVIR (EQF) I 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KOMPETENCIJ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 ZA CJELOŽIVOTNO UČENJE (KOMPETENCIJE - NEŠTO NOVO?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VAŽNOST MEĐUSEKTORSKE SURADNJE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U OSTVARIVANJU SUSTAVA SOCIJALNE SKRBI U KONTEKSTU EUROPSKOG OKVIRA KLJUČNIH KOMPETENCIJA ZA CJELOŽIVOTNO UČEN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EUROPSKI KVALIFIKACIJSKI OKVIR (EQF )I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 PROMJENE I INOVACIJE U OCJENJIVANJU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 POSTIGNUĆA UČENIK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STRATEGIJSKI KONTEKST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UPRAVLJANJA KVALITETO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HRVATSKI KVALIFIKACIJSKI OKVIR (HKO) 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KVALITET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A – RAZUMIJEVANJE, PROVEDBA, POUZDANO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EDAVAČ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6840" y="1428480"/>
            <a:ext cx="8543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Boris Blažinić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ravnatelj Instituta za kvalitetu i razvoj ljudskih potencijala, direktor SoftSkills Academ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f. dr.sc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le Dželalij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veučilište u Zadru, voditelj Stručnog tima za potporu Povjerenstvu za provedbu HKO, član EQF AG Europske komisij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. sc.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Natalija Komljanc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strukovna direktorica Zavoda Republike Slovenije za šolst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oc. dr. sc.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Kovačević Sonj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veučilište u Splitu, Filozofski fakulte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Nevenka Lon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ari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ć –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Jela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ć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gencija za odgoj i obrazovanje,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a savjetnica za nacionalne progra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Zorana Uzela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Gradski ured za socijalnu zaštitu i osobe s invaliditetom Grada Zagreba, šef Odsjeka - stručni savjetn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oc. dr. sc.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Vatroslav Zovko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Prodekan za poslovanje i razvoj, Učiteljski fakultet Sveučilišta u Zagreb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6760" y="492912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QF I OBLIKOVANJE I IMPLEMENTACIJA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POSLOVNE STRATEGIJE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 OBRAZOVANJU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Boris Blažinić, ravnatelj Instituta za kvalitetu i razvoj ljudskih potencijala, direktor SoftSkills Academ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574800" y="785880"/>
            <a:ext cx="5111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hod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istematizirati promjene za poboljšanje kvalitete odgojno-obrazovnog proce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avesti tipične prepreke u pružanju kvalitetne uslu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staknuti važnost sustavnog pristupa prilikom izbora konkurentske pred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taknuti promišljanja kako oblikovati poslovnu strategi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epoznato nosioce implementa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svrnuti se na kontrolu i revizi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gojno-obrazovna usluga i prepreke u njenoj implementaci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ijedlozi za izbor konkurentske pred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ogućnosti oblikovanja poslovne strateg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osioci implementacije i kont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6760" y="1714320"/>
            <a:ext cx="3008520" cy="366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QF I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KOMPETENCIJE ZA CJELOŽIVOTNO UČENJE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dr. sc. Natalija Komljanc, strukovna direktorica Zavoda Republike Slovenije za šol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571560" y="785880"/>
            <a:ext cx="54291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hod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znati razliku između rezultata učenja i kompeten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vrha kompetencija za pojedinca i druš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nati, kako postati i ostati kompeten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dentificirati razlike između kompetencija u prošlosti i sadašnj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potrijebiti samoregulaciju za poticanje samorazvoja, odnosno kompeten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pće definicije pojma kompeten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mpetentnost u 21. stoljeć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rmiranje kompeten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ljučni elementi za razvoj kompetentnog  društ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ehanizam za poticanje napret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6760" y="5143320"/>
            <a:ext cx="300852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VAŽNOST 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MEĐUSEKTORSKE SURADNJE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U OSTVARIVANJU SUSTAVA SOCIJALNE SKRBI U KONTEKSTU EUROPSKOG OKVIRA KLJUČNIH KOMPETENCIJA ZA CJELOŽIVOTNO UČENJE</a:t>
            </a:r>
            <a:br>
              <a:rPr sz="2000"/>
            </a:br>
            <a:r>
              <a:rPr b="1" lang="hr-HR" sz="2000" spc="-1" strike="noStrike">
                <a:solidFill>
                  <a:srgbClr val="7f7f7f"/>
                </a:solidFill>
                <a:latin typeface="Calibri"/>
              </a:rPr>
              <a:t>Zorana Uzelac, Gradski ured za socijalnu zaštitu i osobe s invaliditetom Grada Zagreba, šef Odsjeka - stručni savjetni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Ishod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vojiti osnovna znanja o sustavu socijalne skrbi u Gradu Zagreb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poznati važnost međusektorske suradnje u sustavu socijalne skrbi te ga primijeniti na ostale susta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umjeti doprinos svih sektora suradnje u cilju ostvarenja sustava socijalne skrb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poznati značaj timskog rada i motivaci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Okvirni sadržaj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snovne informacije o sustavu socijalne skrbi u Gradu Zagreb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oj međusektorske suradnje u sustavu socijalne skrbi – konkretni primjeri prak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dstavljanje timskog rada i motivaci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-360" y="4572000"/>
            <a:ext cx="3786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QF I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PROMJENE I INOVACIJE U OCJENJIVANJU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POSTIGNUĆA UČENIKA</a:t>
            </a:r>
            <a:br>
              <a:rPr sz="2400"/>
            </a:b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Nevenka Lon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č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ari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ć – 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Jela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č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i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ć, Agencija za odgoj i obrazovanje, 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vi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š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a savjetnica za nacionalne programe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714840" y="428400"/>
            <a:ext cx="45403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Isho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udionici će biti upoznati s inkluzivnim oblicima ocjenjivanja sukladnim učenju i poučavanju usmjerenom na razvoj kompeten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litika i praksa pristupa ocjenjiv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zvoj novih metoda ocjenjivanja i samo-ocjenj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kluzivno ocjenji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eporuke za politiku i praksu Europske agencije za obrazovna istraž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5480" y="4643280"/>
            <a:ext cx="3222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STRATEGIJSKI KONTEKST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UPRAVLJANJA KVALITETOM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doc. dr. sc. Vatroslav Zovko, Prodekan za poslovanje i razvoj, Učiteljski fakultet Sveučilišta u Zagreb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hod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poznati auditorij s osnovama strateškog menadžmen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ređivanje koncepcije odgoja i obrazovanja u okviru strateških cilj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dentifikacija ključnih dionika u procesima pružanja obrazovnih uslu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ređivanje čimbenika kvalitete kao pokazatelja uspješnosti u ostvarivanju strateških ciljeva odgojno -  obrazovne ustan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efinicija ključnih pojmova u strateškom menadžmen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efinicija kvalit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voj pokazatelja kvalit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valiteta kao čimbenik pozicioniranja odgojno obrazovnih ustanova u kontekstu gospodarstva Hrvats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5000760"/>
            <a:ext cx="385776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HKO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KVALITETA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– RAZUMIJEVANJE, PROVEDBA, POUZDANOST</a:t>
            </a:r>
            <a:br>
              <a:rPr sz="2400"/>
            </a:b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prof. dr.sc. Mile Dželalija, 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Sveučilište u Zadru, voditelj Stručnog tima za potporu Povjerenstvu za provedbu HKO, član EQF AG Europske komisije 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dr. sc. Kovačević Sonja, Sveučilište u Splitu, Filozofski fakultet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575160" y="428400"/>
            <a:ext cx="54259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Ishodi uč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nalizirati svojstvo osobne i institucijske dimenzije kvalitete ishoda učenja i kvalifikac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nalizirati unutrašnji i vanjski sustav osiguravanja kvalitete (unaprjeđivanje i prosudb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stjecanja kompetencija (formalno učenj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vrjednovanja stečenih kompetenci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ishoda učenja/kvalifikacija s potrebama društva i pojedin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HKO-a s EKO-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otumačiti osnovne elemente kvalitete HKO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adržaj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vojstvo osobne i institucijske dimenzije kvalitete ishoda učenja i kvalifikac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Radio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nutrašnji i vanjski sustav osiguravanja kvalitete (unaprjeđivanje i prosudb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stjecanja kompetencija (formalno učenj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vrjednovanja stečenih kompetenci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ishoda učenja/kvalifikacija s potrebama društva i pojedin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HKO-a s EKO-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Osnovni elementi kvalitete HKO-a: razumijevanje, provedba, pouzda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357800" y="3368160"/>
            <a:ext cx="4786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r. sc. Andreja Marcetić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stručna suradnica savjet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bfbfbf"/>
                </a:solidFill>
                <a:latin typeface="Arial"/>
                <a:ea typeface="Times New Roman"/>
              </a:rPr>
              <a:t>Marcetić Andreja, MPhil, Expert Associate Consul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ija za odgoj i obrazovanje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v. surad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fbfbf"/>
                </a:solidFill>
                <a:latin typeface="Arial"/>
                <a:ea typeface="Times New Roman"/>
              </a:rPr>
              <a:t>Education and Teacher Training Agency</a:t>
            </a:r>
            <a:r>
              <a:rPr b="0" lang="hr-HR" sz="1400" spc="-1" strike="noStrike">
                <a:solidFill>
                  <a:srgbClr val="bfbfbf"/>
                </a:solidFill>
                <a:latin typeface="Arial"/>
                <a:ea typeface="Times New Roman"/>
              </a:rPr>
              <a:t> - External Assoc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l:    +385  1 29 11 5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x:   +385  1 29 50 8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SM: +385 91 561 49 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: </a:t>
            </a:r>
            <a:r>
              <a:rPr b="0" lang="hr-HR" sz="14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1"/>
              </a:rPr>
              <a:t>andreja.marcetic@vip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blogs.suntimes.com/cornerkicks/question-mark3a.jpg"/>
          <p:cNvPicPr/>
          <p:nvPr/>
        </p:nvPicPr>
        <p:blipFill>
          <a:blip r:embed="rId2"/>
          <a:stretch/>
        </p:blipFill>
        <p:spPr>
          <a:xfrm>
            <a:off x="0" y="1785960"/>
            <a:ext cx="3286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Title 1"/>
          <p:cNvGrpSpPr/>
          <p:nvPr/>
        </p:nvGrpSpPr>
        <p:grpSpPr>
          <a:xfrm>
            <a:off x="-73080" y="1633680"/>
            <a:ext cx="9680760" cy="1963440"/>
            <a:chOff x="-73080" y="1633680"/>
            <a:chExt cx="9680760" cy="1963440"/>
          </a:xfrm>
        </p:grpSpPr>
        <p:pic>
          <p:nvPicPr>
            <p:cNvPr id="617" name="Title 1" descr=""/>
            <p:cNvPicPr/>
            <p:nvPr/>
          </p:nvPicPr>
          <p:blipFill>
            <a:blip r:embed="rId1"/>
            <a:stretch/>
          </p:blipFill>
          <p:spPr>
            <a:xfrm>
              <a:off x="-73080" y="1633680"/>
              <a:ext cx="968076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1785960"/>
              <a:ext cx="9144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HRVATSKI KVALKIFIKACIJSKI OKVIR (HKO) – Vlada RH</a:t>
              </a:r>
              <a:br>
                <a:rPr sz="2400"/>
              </a:br>
              <a:r>
                <a:rPr b="1" lang="hr-HR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- Projekt: </a:t>
              </a:r>
              <a:r>
                <a:rPr b="1" lang="hr-HR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Provedba Hrvatskog kvalifikacijskog okvira (HKO) i razvoj kompetencija za cjeloživotno učenje stručnih djelatnika odgojno – obrazovnih ustanova - AZO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 txBox="1"/>
          <p:nvPr/>
        </p:nvSpPr>
        <p:spPr>
          <a:xfrm>
            <a:off x="0" y="350028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2007. godine Vlada RH usvojila je Polazne osnove HKO-a, nakon čega je ustrojeno Povjerenstvo za izradu HKO-a, na čel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 prof. dr. sc. Slobodanom Uzelce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potpredsjednikom Vlade RH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i dr. sc. Radovanom Fuchsom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inistrom Ministarstva znanosti, obrazovanja i špor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lijedom toga, tijekom 2010. AZOO provodi </a:t>
            </a:r>
            <a:r>
              <a:rPr b="0" lang="hr-HR" sz="1800" spc="-1" strike="noStrike">
                <a:solidFill>
                  <a:srgbClr val="c00000"/>
                </a:solidFill>
                <a:latin typeface="Arial"/>
                <a:ea typeface="Arial"/>
              </a:rPr>
              <a:t>modularno stručno usavršavanje stručnih djelatnik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ravnatelja, stručnih suradnika, nastavnika, učitelja, odgajatelja) odgojno – obrazovnih ustanova (škola i učeničkih domova), budući da je za njegovu uspješnu provedbu nužno podići razinu informiranosti te pripremljenosti svih dionika susta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2071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PLANIRANJE – PROVEDBA - ODRŽIV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575160" y="2428920"/>
            <a:ext cx="53546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ODITEL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sc. Mile Dželalija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voditelj Operativnog tima Vlade RH za potporu Povjerenstvu za izradu HKO-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evenka Lončarić – Jelačić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viša savjetnica za nacionalne programe AZO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r.sc. Tomislav Ogrinšak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viši savjetnik za nacionalne programe AZO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oc. dr. sc. Sonja Kovačević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član Operativnog tima HK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r.sc. Andreja Marcetić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v. suradnica AZO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36432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AZ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VINKO FILIPOVIĆ, prof. – </a:t>
            </a:r>
            <a:r>
              <a:rPr b="0" lang="hr-HR" sz="2800" spc="-1" strike="noStrike">
                <a:solidFill>
                  <a:srgbClr val="7f7f7f"/>
                </a:solidFill>
                <a:latin typeface="Calibri"/>
              </a:rPr>
              <a:t>ravnatelj AZ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DARKO TOT – </a:t>
            </a:r>
            <a:r>
              <a:rPr b="0" lang="hr-HR" sz="2800" spc="-1" strike="noStrike">
                <a:solidFill>
                  <a:srgbClr val="7f7f7f"/>
                </a:solidFill>
                <a:latin typeface="Calibri"/>
              </a:rPr>
              <a:t>pomoćnik ravnatelja AZ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itle 1"/>
          <p:cNvSpPr/>
          <p:nvPr/>
        </p:nvSpPr>
        <p:spPr>
          <a:xfrm>
            <a:off x="3643200" y="785880"/>
            <a:ext cx="55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  <a:ea typeface="Arial"/>
              </a:rPr>
              <a:t>Provedba Hrvatskog kvalifikacijskog okvira (HKO) i razvoj kompetencija za cjeloživotno učenje stručnih djelatnika odgojno – obrazovnih ust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Object 5"/>
          <p:cNvGraphicFramePr/>
          <p:nvPr/>
        </p:nvGraphicFramePr>
        <p:xfrm>
          <a:off x="0" y="0"/>
          <a:ext cx="4143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143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6"/>
          <p:cNvGraphicFramePr/>
          <p:nvPr/>
        </p:nvGraphicFramePr>
        <p:xfrm>
          <a:off x="4857840" y="0"/>
          <a:ext cx="42861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0"/>
                    <a:ext cx="428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8" name="Picture 2" descr="P5261623"/>
          <p:cNvPicPr/>
          <p:nvPr/>
        </p:nvPicPr>
        <p:blipFill>
          <a:blip r:embed="rId5"/>
          <a:stretch/>
        </p:blipFill>
        <p:spPr>
          <a:xfrm>
            <a:off x="3500280" y="5043600"/>
            <a:ext cx="2428920" cy="1814400"/>
          </a:xfrm>
          <a:prstGeom prst="rect">
            <a:avLst/>
          </a:prstGeom>
          <a:ln w="0">
            <a:noFill/>
          </a:ln>
        </p:spPr>
      </p:pic>
      <p:sp>
        <p:nvSpPr>
          <p:cNvPr id="629" name="Content Placeholder 2"/>
          <p:cNvSpPr/>
          <p:nvPr/>
        </p:nvSpPr>
        <p:spPr>
          <a:xfrm>
            <a:off x="914400" y="17146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Calibri"/>
              </a:rPr>
              <a:t>PREDSTAVLJANJE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0" y="1356840"/>
            <a:ext cx="9144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II INTERNATIONAL INTERDISCIPLINARY PROFESSIONAL SCIENTIFIC CONFERENCE:  CULTURAL AND EDUCATIONAL HORIZONS, Lifelong Learning –Necessity or a Matter of General Culture of an Individual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ubotica, svibanj 2010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http://www.voh.rs/treca-konferencija/provedba-hrvatskog-kvalifikacijskog-okvira-hko-i-razvoj-kompetencija-za-cjelozivotno-ucenje-strucnih-djelatnika-odgojno-obrazovnih-ustanova-republike-hrvatske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 </a:t>
            </a:r>
            <a:r>
              <a:rPr b="0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2"/>
              </a:rPr>
              <a:t>http://www.infonb.net/drustvo/3-drustvo/1148-na-vaspita-na-meunarodnoj-konferenciji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2. DANI POSLOVNIH EDUKACIJ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Zagreb, Hotel Westin, svibanj 2010.)</a:t>
            </a:r>
            <a:r>
              <a:rPr b="0" i="1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3"/>
              </a:rPr>
              <a:t>http://www.poslovnisavjetnik.com/CMS/0105/Content.aspx?EID=21145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 </a:t>
            </a:r>
            <a:r>
              <a:rPr b="0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4"/>
              </a:rPr>
              <a:t>http://www.poslovni-savjetnik.com/CMS/0105/Default.aspx?EID=31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I STRUČNO - ZNANSTVENI SKUP 11. ŠKOLA UČITELJA I  ODGOJITELJA s temom UČENJE I POUČAVANJE U SUVREMENOM VRTIĆU I ŠKOLI - TKO, ŠTO, KAKO I ZAŠT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organizaciji HPKZ - 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Opatija, lipanj 2010) </a:t>
            </a:r>
            <a:r>
              <a:rPr b="0" i="1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5"/>
              </a:rPr>
              <a:t>http://www.hpkz-napredak.hr/HPKZ-program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Sudioni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Calibri"/>
              </a:rPr>
              <a:t>172 sudionika (I-IV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Chart 4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Content Placeholder 5" descr=""/>
          <p:cNvPicPr/>
          <p:nvPr/>
        </p:nvPicPr>
        <p:blipFill>
          <a:blip r:embed="rId1"/>
          <a:stretch/>
        </p:blipFill>
        <p:spPr>
          <a:xfrm>
            <a:off x="566640" y="1779480"/>
            <a:ext cx="8126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MODU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0:24:59Z</dcterms:created>
  <dc:creator>Sinisa</dc:creator>
  <dc:description/>
  <dc:language>en-US</dc:language>
  <cp:lastModifiedBy>UID</cp:lastModifiedBy>
  <dcterms:modified xsi:type="dcterms:W3CDTF">2010-06-10T06:34:49Z</dcterms:modified>
  <cp:revision>302</cp:revision>
  <dc:subject/>
  <dc:title>Slide 1</dc:title>
</cp:coreProperties>
</file>