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121-FB83-4CFD-A98D-990DCDE5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08F-2CC5-42BC-982A-9D4DC5E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12F-5295-4F93-A256-1001F7F6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E92-90FC-4EF1-8A8D-69649F5B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FC7-14F7-4358-9D62-1D46E88C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CDC-989B-4E8D-838F-55ADADF6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443-786E-4D85-B3B6-E2A2F58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A43-8190-456B-974F-282BB23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A8F-B8C5-4EC4-9E4F-0C1C2FA3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E5E-6A9D-4657-A0BB-C54B7AC7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A64-8BD5-4E4F-AD0C-39B5A66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A26-65FE-45D4-B641-5C04FB8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5B0-33B4-4F6A-8795-8986AE326EC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ecd.org/document/54/0,3343,en_2649_39263231_42980662_1_1_1_1,00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2009.eu/en/meetings_news/2009/9/23/professional_teachers_produce_good_students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ržavni stručni skup za voditelje ŽSV-a za biologiju i kem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ibenik, Solaris – 15. i 16. ožujka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de-AT" sz="32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rofesionaln</a:t>
            </a: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i="1" lang="de-AT" sz="32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razvoj u</a:t>
            </a: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č</a:t>
            </a:r>
            <a:r>
              <a:rPr b="1" i="1" lang="de-AT" sz="32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itelja</a:t>
            </a: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 i nastav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tijek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profesionalne k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zervirano mjesto podnožj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azdoblja profesionalne karij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1557360"/>
          <a:ext cx="6192720" cy="4659120"/>
        </p:xfrm>
        <a:graphic>
          <a:graphicData uri="http://schemas.openxmlformats.org/drawingml/2006/table">
            <a:tbl>
              <a:tblPr/>
              <a:tblGrid>
                <a:gridCol w="752400"/>
                <a:gridCol w="5440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doblja profesionalne karijere (karakteristi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uvođenje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initiation) - </a:t>
                      </a:r>
                      <a:r>
                        <a:rPr b="1" lang="hr-HR" sz="18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priprav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ok realnosti, otkriv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tabilnost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tabilit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urnost, entuzijazam, zre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azilaženje</a:t>
                      </a:r>
                      <a:r>
                        <a:rPr b="0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(+)                                 </a:t>
                      </a: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azilaženje</a:t>
                      </a:r>
                      <a:r>
                        <a:rPr b="0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(-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većenost, entuzijazam         razočarenje, ru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pokojnost</a:t>
                      </a:r>
                      <a:r>
                        <a:rPr b="0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(serenit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ksivnost, osobno zadovoljst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ovrat interesa              isključiva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novljen entuzijazam  povlačenje, zasiće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Line 72"/>
          <p:cNvSpPr/>
          <p:nvPr/>
        </p:nvSpPr>
        <p:spPr>
          <a:xfrm>
            <a:off x="385128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3"/>
          <p:cNvSpPr/>
          <p:nvPr/>
        </p:nvSpPr>
        <p:spPr>
          <a:xfrm flipH="1">
            <a:off x="2484000" y="3429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4"/>
          <p:cNvSpPr/>
          <p:nvPr/>
        </p:nvSpPr>
        <p:spPr>
          <a:xfrm>
            <a:off x="4788000" y="34290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7"/>
          <p:cNvSpPr/>
          <p:nvPr/>
        </p:nvSpPr>
        <p:spPr>
          <a:xfrm>
            <a:off x="2411280" y="4365720"/>
            <a:ext cx="50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8"/>
          <p:cNvSpPr/>
          <p:nvPr/>
        </p:nvSpPr>
        <p:spPr>
          <a:xfrm flipH="1">
            <a:off x="4572000" y="4365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9"/>
          <p:cNvSpPr/>
          <p:nvPr/>
        </p:nvSpPr>
        <p:spPr>
          <a:xfrm>
            <a:off x="270036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0"/>
          <p:cNvSpPr/>
          <p:nvPr/>
        </p:nvSpPr>
        <p:spPr>
          <a:xfrm>
            <a:off x="493236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1"/>
          <p:cNvSpPr/>
          <p:nvPr/>
        </p:nvSpPr>
        <p:spPr>
          <a:xfrm>
            <a:off x="3635280" y="573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588000" y="1557360"/>
          <a:ext cx="2305080" cy="488484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voj komp. pouč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ještine preživlj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novne vještine razvij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voj i proširivanje fleksibilnosti u poučavanj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stignuta stručnost u poučavanj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prinos razvoju ko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prinos razvoju sust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stepping sto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24000" y="242100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Zadata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1. u kojem ste 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azdoblju P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2. koje aktivnosti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bile ključne 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vaše učen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ci 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ECD TALIS (2009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alni, neformalni, informalnim ob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grami stručnog usavršavanja i radionice (predmetni sadrža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erencije i seminari (prezentacija rezultata novijih istraživa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i (na sveučilišt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jeti drugim škol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djelovanje u radu mreža učitelja čija je svrha poticanje profesionalnog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na ili grupna istraž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orstvo i/ili hospitiranje, praćenje rada kolega/-ica (peer observation),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vidualne aktiv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čitanje stručne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formalni dijalog s kolegama o temama relevantnim za unapređenje poučavanja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ktivnosti 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1341360"/>
          <a:ext cx="8229600" cy="5303880"/>
        </p:xfrm>
        <a:graphic>
          <a:graphicData uri="http://schemas.openxmlformats.org/drawingml/2006/table">
            <a:tbl>
              <a:tblPr/>
              <a:tblGrid>
                <a:gridCol w="2689200"/>
                <a:gridCol w="3244680"/>
                <a:gridCol w="2295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lne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 u p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ne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itanje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ir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k. timovi - projek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rada biljež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ćenje izvođenja nastave ko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sko rješ. proble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enje iz svojih pogreš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ćenje nastave priprav./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rada materij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avljanje pit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anje/primanje povratne informaci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stavljanje izvješt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ksija i samoevalu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a promatranog s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čki projek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atranje i praće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vođenje nastavne jedinice u pa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mjena iskustva s kol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sanje (članaka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ušanje/prihvaćanje različit. mišlje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a videa nast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vođenje/praćenje novih  met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mjena ideja, mišljenja,dobre prak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a primjene meto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nje (akcijsko istr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ženje i prihvaćanje pomoći/savj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a test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enje činjenj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rada materijala, testova, priruč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adnja u IKT forum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kupljanje inform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inari, konferen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prema prezent., predavanja,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čni skupovi ŽSV-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prema za rad s  pripravn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tiziraje svoga rada rad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oviranja u zvanja 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prema za vođenje ŽSV-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tepping sto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24000" y="2708280"/>
            <a:ext cx="51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Zadatak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Koliko je s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a VAŠ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ofesionalnom sa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ko želite znati viš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ECD TALIS (2009)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Creating Effective Teaching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Learning Environments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- First Results from 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ecd.org/document/54/0,3343,en_2649_39263231_42980662_1_1_1_1,0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zolucija Europskog parlamenta od 23. rujna 2008. o unapređenju kvalitete obrazovanja nastavnika (2008/2068(IN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y, C. (1999),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Developing Teachers. The Challenges of Lifelong Learning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London: Falmer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argreaves, A. &amp; Fullan, M. (1992.),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nderstanding Teacher Development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ew York: Teachers College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cc0000"/>
                </a:solidFill>
                <a:latin typeface="Arial"/>
              </a:rPr>
              <a:t>Promjena sustava je obvezna, al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cc0000"/>
                </a:solidFill>
                <a:latin typeface="Arial"/>
              </a:rPr>
              <a:t>pojedinca je dobrovoljan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chael Fullan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3399"/>
                </a:solidFill>
                <a:latin typeface="Arial"/>
              </a:rPr>
              <a:t>Hvala na pažnji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U perspektiva: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Göteborg, 23.-24.9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fesionalna karij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fesionaln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učno usavršavanje i profesionaln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doblja profesionalne k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lici i aktivnosti profesionalnog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EU perspek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formalni sastanak ministara obrazovanja zemalja članica EU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BOLJŠANJU KVALITETE OBRAZOVANJA NASTA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3. i 24. rujna 2009., Göteb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2009.eu/en/meetings_news/2009/9/23/professional_teachers_produce_good_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avanje: Dr. Barbara Ischinger, direktorica za obrazovanje, OE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stavljanje rezultata TALIS istraž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LIS - međunarodna studija o rezultatima implementacije obrazovn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itika poticanja učinkovitog poučavanja i učenja na uzorku od 9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stavnika i ravnatelja unutar/izvan EU (23 zemal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TALIS rezultati - učite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vni rezult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Obrazovni rezultati učenika ne mogu nadići kvalitetu učitelja (poučavanja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itel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osjećaju se dovoljno osposobljenim za nove izaz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5% učitelja traži više ciljanog treninga nego što trenutno prima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že bolju podršku kroz sustav praćenja i davanja povratne informacije (feed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znanje njihova rada od strane kolega/ravnatelja je jaki poticaj za 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ažna uloga RUKOVODSTVA (ravnatel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fesionalna karij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fesionalna karijera je </a:t>
            </a: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kontinuirani proces osobnog i profesionalnog razvo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čitelja koji uključ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znanja i vješti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tečene tijekom obrazovanja, osposobljavanja, stručnog usavršav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osob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a svim svojim vrijednostima, uvjerenjima, idejama, “istrčanim milja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utar </a:t>
            </a: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konteksta (ustanove/sustava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kojoj ra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Hargreaves i Fullan, 199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fesionalni razv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 karakteristika profesionalnog razvoja učitel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) razvoj učitelja se odvija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kontinuiran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zapošljavanje - mirov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pojedinac je odgovora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za svoj profesionalan razvoj, ali u domeni zajedničke odgovornosti učitelja i šk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) potrebna je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materijalna i stručna podrš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izv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) treba odgovoriti na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potreb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a i škole (ne nužno istovreme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) kao proces treba biti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vjerodostojan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sam učitelj je osnažen, učenici postižu bolje obrazovne rezultate, kolege vide napreda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) treba biti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diferenciran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odnosu na specifične potrebe određenog razdoblja profesionalnog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Day, 1999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su li seminari dovoljni? Potrebi jesu, dovoljni NI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tručno usavršavanje i profesionalni razv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628640"/>
          <a:ext cx="8229600" cy="4751640"/>
        </p:xfrm>
        <a:graphic>
          <a:graphicData uri="http://schemas.openxmlformats.org/drawingml/2006/table">
            <a:tbl>
              <a:tblPr/>
              <a:tblGrid>
                <a:gridCol w="3862440"/>
                <a:gridCol w="4367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čno usavršavanje kroz stručne skupov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ionalni razvoj nastav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emenski ogranič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tinuitet neovisan o seminar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isi o financijskim mogućnosti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i proces, ne ovisi o financij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to nametnuto (obvez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brovol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đeno potrebama promjena u sustav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 je osobna promj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ekuje se "prijenos" predstavljenih znan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ekivani rezultat je osobni i profesionalni razvo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isno o voditelju stručnog usavrš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visan o voditelju stručnog usavrš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uće samo u grup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osnovi individualan pro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abir tema podređen prioritetima drugi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abir tema prema interesu pojedi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azište je pretpostavka "manjka" znanja, kompeten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jentacija je razvojna, uvažava i nadograđuje dosadašnja znanja, kompetencije pojedi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govornost je na drugima (predavač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govornost je u potpunosti na pojedin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tepping sto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95280" y="1916280"/>
            <a:ext cx="51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Zadata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opišite SVO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ofesionalni 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od početka do 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avodeći događ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i poticaje presudne za vaš profesionalni razvo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(vremenska cr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ejzaž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zervirano mjesto podnožj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16617" t="34346" r="22567" b="330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RH-TDU</cp:lastModifiedBy>
  <dcterms:modified xsi:type="dcterms:W3CDTF">2010-03-18T12:29:51Z</dcterms:modified>
  <cp:revision>88</cp:revision>
  <dc:subject/>
  <dc:title>Slide 1</dc:title>
</cp:coreProperties>
</file>