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2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4.jpeg" ContentType="image/jpeg"/>
  <Override PartName="/ppt/media/image19.jpeg" ContentType="image/jpeg"/>
  <Override PartName="/ppt/media/image20.wmf" ContentType="image/x-wmf"/>
  <Override PartName="/ppt/media/image21.wmf" ContentType="image/x-wmf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25.jpeg" ContentType="image/jpeg"/>
  <Override PartName="/ppt/media/image4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9F2C-B374-41E8-8579-88578DBAF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9EC5-B400-46E6-8598-7AEAE440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8CC9-F1C4-4D6E-B588-A97523B67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10C5-AD04-400A-9F4A-6D5D5E5D6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7BD3-0F10-4F97-918C-1C4298DAD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22A1-7A4C-48F8-A78E-4D6B6715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6D5D-FD44-4004-AE07-17A62FBB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97B2-7714-4453-98DD-6AE75234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AA85-3534-4E47-BFA1-42BF8997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2D9F-408A-445D-A55B-3A47F3D1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4A37-DF67-40D4-BC23-830906EE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380B-DE64-4FD1-94A9-2EA2084C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098A-4C72-4AA3-B407-137B8BD5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7AB2-1A44-482C-A2BB-019F797F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8D55-3733-41D9-92A3-3903B1F6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A0DA-AFD2-463C-9419-EFF32C9A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FA3A-0055-4FEF-B6C8-65AB00F3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4A630-CA68-4542-A920-CBC4CA7A1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52729-E5F3-4B53-9611-717F824E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5F713-5675-41F5-89D4-FDD18596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0CDDA-726E-4417-A94A-9C8C7972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B8481-7411-46E5-BE92-1F85CFB9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1EAD-4E58-45F6-9DFD-EB1B3CD1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110B6-C0BA-42EF-8BE1-48BA5F3D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45B51-A629-48A4-9EAF-FCFA2707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50C84-22E8-4E35-90A2-49DA9A5C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508FA-56D3-450A-9F8B-2203F442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6F847-8421-469E-A84C-0F8FE2F5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BCA69-D9CD-4B71-871F-78B80A383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66200-BB5C-4243-8FCE-E56526E3B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BDA8C-642E-4BFD-95DE-435453FA6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8228E-048B-41C2-8572-EA33D97D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2395B-77CC-4671-90F5-74A6BD30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3003-9141-422A-A375-611D9F38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13E19-0E16-4C83-8D92-7336E7B7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2BAE4-876F-4C54-9CC0-44C5A9C3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1963D-6561-424B-92BD-9DC5B164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FBBB8-FB49-4945-8B4C-FB081ECA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344C8-5E49-4269-943B-CA075A60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F545C-D228-457C-8075-DF678ABE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D29A6-87BA-43B3-B8C8-F7CA7DF5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028DE-D772-4E9B-8AB6-A4CCF5B21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1151C-6709-46D0-BAD5-A04AB479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4F185-5CAE-4CBB-9DB3-09888AB54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BEC3-7551-4051-8798-2BF790B1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3AA66-CFD9-4522-8686-7CFE9B2B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1E517-06D9-4274-B95D-1C0A785F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B6175-2F56-408A-8BD6-1E03420B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C55B8-92E1-42A1-82E2-4DB93B8B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D577C-8EE3-4A95-BFA7-2B22600E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42230-25A4-401A-B4F2-478B6720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AA516-DFC6-4294-A4B2-F4969C32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0A03D-0026-4989-B6E2-EB442CD0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4E583-6046-4C68-B5C4-07619665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6238B-8889-44EC-A1F4-5D1808338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14D1-FF97-454D-9CA3-249A9D09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A1E65-B92E-4A3F-A774-2D20364F7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234C2-42ED-452F-9C40-521ABFF1D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B8440-9EF9-47E4-B33F-FCD58371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86AFB-593D-4D1C-883E-D740786A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51E9B-97E9-4A73-8C16-9B5B63E7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950D2-D2E9-4D30-8A1A-E755C38C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5B490-32D3-4A47-A808-837F66B6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A6F58-6D59-463F-80E9-E484B1CC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CD4DF-9986-4D4F-B03E-D74AFB0B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26B2D-E0BC-4AE5-A130-CB589F06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59A5-00F7-45E7-857B-B15DAD22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41B3A-2A4B-40D2-BF97-88DE058D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5C64D-6D6E-498E-BC07-ED1B01DFE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27F13-DE2C-474E-9701-7AE59CF6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EED21-070D-4A1D-80BE-149D7641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135EC-11F7-46C7-A65D-7DFBFECC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66820-DB8F-4062-94C7-F4FCE5D1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E7298-96C7-470F-A548-591A0E6A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F71DC-EC08-405B-A8D3-C5919B67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094D3-BD52-4132-896F-7F4F9ED0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189EC-7CA9-4651-9D7F-099DA39C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1BE1-AE27-4E29-9EB3-0DB4C346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F2926-49B7-4C42-BE0B-4426CF29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529A5-001F-4364-A251-01E64F32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5361E-2E3C-485E-A41F-F9982B27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2ABCB-6079-4379-9823-70D369265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B3DCD-8742-49E1-8648-731CFEB0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02565-27D7-4825-BB63-DFB3A4216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75027-A666-4956-A0DF-E303C4BA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BA545-05CD-405E-BA9C-9474286D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9B131-170C-4B3F-98C0-4C754D8A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D1D37-6845-4248-887F-5B5D5E90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5D62-3351-4700-9D24-69398310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1DF1C-B728-4CE6-B705-01C9BE5A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64FE6-47FF-479D-BD4D-56EEC49D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D8918-7627-4648-86B8-FAD77F46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3CA6B-6171-49F6-8206-4B18091B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1DAFD-107C-4515-BE12-E6E660D5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091D5-20AF-4C4F-B03E-8BF0BFAAF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54602-DF14-43F4-A894-B99626797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E20D-5E86-4EB7-9826-13A537817F68}" type="slidenum">
              <a:rPr b="0" lang="hr-HR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7186-8564-4AF7-8893-3543876474E8}" type="slidenum">
              <a:rPr b="0" lang="hr-HR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48D7-4FB7-452A-B910-FBC5DF8D91BF}" type="slidenum">
              <a:rPr b="0" lang="hr-HR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D155-3726-45B5-811D-098010FFE670}" type="slidenum">
              <a:rPr b="0" lang="hr-HR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4D93-80D5-472A-857D-EACADEFA8B19}" type="slidenum">
              <a:rPr b="0" lang="hr-HR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083A-2E08-4825-895C-7665B3E633E2}" type="slidenum">
              <a:rPr b="0" lang="hr-HR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CFE7-C5F4-4DEF-A67E-B5E531196179}" type="slidenum">
              <a:rPr b="0" lang="hr-HR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D5BF-6922-4EE8-A487-27A9BF983C05}" type="slidenum">
              <a:rPr b="0" lang="hr-HR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100008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66ff"/>
                </a:solidFill>
                <a:latin typeface="Calibri"/>
              </a:rPr>
              <a:t>PRIRODOSLOVNA TEHNIČKA</a:t>
            </a:r>
            <a:r>
              <a:rPr b="1" lang="hr-HR" sz="28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3366ff"/>
                </a:solidFill>
                <a:latin typeface="Calibri"/>
              </a:rPr>
              <a:t>ŠKOLA</a:t>
            </a:r>
            <a:br>
              <a:rPr sz="24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4952880"/>
            <a:ext cx="9144000" cy="14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66ff"/>
                </a:solidFill>
                <a:latin typeface="Calibri"/>
              </a:rPr>
              <a:t>TRAVANJ, 2009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Text Box 14"/>
          <p:cNvSpPr/>
          <p:nvPr/>
        </p:nvSpPr>
        <p:spPr>
          <a:xfrm>
            <a:off x="0" y="1557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66ff"/>
                </a:solidFill>
                <a:latin typeface="Calibri"/>
              </a:rPr>
              <a:t>SPL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7" descr="skola2"/>
          <p:cNvPicPr/>
          <p:nvPr/>
        </p:nvPicPr>
        <p:blipFill>
          <a:blip r:embed="rId2"/>
          <a:stretch/>
        </p:blipFill>
        <p:spPr>
          <a:xfrm>
            <a:off x="2066760" y="2212920"/>
            <a:ext cx="4724640" cy="2792520"/>
          </a:xfrm>
          <a:prstGeom prst="rect">
            <a:avLst/>
          </a:prstGeom>
          <a:ln w="0">
            <a:noFill/>
          </a:ln>
        </p:spPr>
      </p:pic>
      <p:pic>
        <p:nvPicPr>
          <p:cNvPr id="394" name="Miso Kovac - Dalmacija u mom oku71.WMA" descr=""/>
          <p:cNvPicPr/>
          <p:nvPr/>
        </p:nvPicPr>
        <p:blipFill>
          <a:blip r:embed="rId3"/>
          <a:stretch/>
        </p:blipFill>
        <p:spPr>
          <a:xfrm>
            <a:off x="8501040" y="6072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Box 1"/>
          <p:cNvSpPr/>
          <p:nvPr/>
        </p:nvSpPr>
        <p:spPr>
          <a:xfrm>
            <a:off x="762120" y="6094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66ff"/>
                </a:solidFill>
                <a:latin typeface="Arial"/>
              </a:rPr>
              <a:t>VODOOPSKRBA SPLITSKOG PODRUČ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"/>
          <p:cNvSpPr/>
          <p:nvPr/>
        </p:nvSpPr>
        <p:spPr>
          <a:xfrm>
            <a:off x="500040" y="1285920"/>
            <a:ext cx="7858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dručje u splitskom zaleđu pripada slijevu krških izvor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Jadra i Žrnovn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 Gustirni kraj Trogira zahvaćena je podzemna voda 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tzv. rimskom buna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Gradove Split, Solin, Kaštela i Trogir opskrbljuju se vodom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izvora rijeke Jadro, a Žrnovnica opskrbljuje mjesta Žrnov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i Sitno Gorn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prema se po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i graditi veliki vodozahvat, na izvoru rijek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novnice kao pri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vni izvor za grad Split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4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3"/>
          <p:cNvSpPr/>
          <p:nvPr/>
        </p:nvSpPr>
        <p:spPr>
          <a:xfrm>
            <a:off x="0" y="571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66ff"/>
                </a:solidFill>
                <a:latin typeface="Arial"/>
              </a:rPr>
              <a:t>RIJEKA JAD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4" descr="Picture-nina 060"/>
          <p:cNvPicPr/>
          <p:nvPr/>
        </p:nvPicPr>
        <p:blipFill>
          <a:blip r:embed="rId2"/>
          <a:stretch/>
        </p:blipFill>
        <p:spPr>
          <a:xfrm>
            <a:off x="1143000" y="1357200"/>
            <a:ext cx="6858000" cy="42148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3"/>
          <p:cNvSpPr/>
          <p:nvPr/>
        </p:nvSpPr>
        <p:spPr>
          <a:xfrm>
            <a:off x="4952880" y="4038480"/>
            <a:ext cx="3810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228600" y="914400"/>
            <a:ext cx="381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Rijeka Jadro izvire oko 2,4 km SZ od Solina na 34,6 m nadmorske visine,duga je 4,5 k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10" descr="Picture-nina 083"/>
          <p:cNvPicPr/>
          <p:nvPr/>
        </p:nvPicPr>
        <p:blipFill>
          <a:blip r:embed="rId2"/>
          <a:stretch/>
        </p:blipFill>
        <p:spPr>
          <a:xfrm>
            <a:off x="357120" y="2643120"/>
            <a:ext cx="3505320" cy="26672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3" descr="Picture-nina 062"/>
          <p:cNvPicPr/>
          <p:nvPr/>
        </p:nvPicPr>
        <p:blipFill>
          <a:blip r:embed="rId3"/>
          <a:stretch/>
        </p:blipFill>
        <p:spPr>
          <a:xfrm>
            <a:off x="4648320" y="838080"/>
            <a:ext cx="3794040" cy="266400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9"/>
          <p:cNvSpPr/>
          <p:nvPr/>
        </p:nvSpPr>
        <p:spPr>
          <a:xfrm>
            <a:off x="4570200" y="358128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zvor Jadra - nizvod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250920" y="5373720"/>
            <a:ext cx="46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uliran vodotok Jadra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izini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spina oto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8"/>
          <p:cNvSpPr/>
          <p:nvPr/>
        </p:nvSpPr>
        <p:spPr>
          <a:xfrm>
            <a:off x="4500720" y="4191120"/>
            <a:ext cx="464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Izvor rijeke Jadro služi 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vodoopskrbu Splita, Kaštel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Trogira te Podstranu, Klis, Se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i Okru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5" descr="Picture-nina 087"/>
          <p:cNvPicPr/>
          <p:nvPr/>
        </p:nvPicPr>
        <p:blipFill>
          <a:blip r:embed="rId2"/>
          <a:stretch/>
        </p:blipFill>
        <p:spPr>
          <a:xfrm>
            <a:off x="533520" y="609480"/>
            <a:ext cx="3673440" cy="268632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7"/>
          <p:cNvSpPr/>
          <p:nvPr/>
        </p:nvSpPr>
        <p:spPr>
          <a:xfrm>
            <a:off x="0" y="4114800"/>
            <a:ext cx="621504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Jadro je tipična krška rijeka, kratkog toka, ali bogata vod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Izvor i gornji tok rijeke su od 1984. zaštićeni kao posebno vrijedni prirodni resurs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 ka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oriji posebnog ihtiolo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g rezervata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6"/>
          <p:cNvSpPr/>
          <p:nvPr/>
        </p:nvSpPr>
        <p:spPr>
          <a:xfrm>
            <a:off x="455400" y="335268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zvor Jadra - nizvod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5"/>
          <p:cNvSpPr/>
          <p:nvPr/>
        </p:nvSpPr>
        <p:spPr>
          <a:xfrm>
            <a:off x="4191120" y="1371600"/>
            <a:ext cx="45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Zbog otopljenih soli ubraja se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alcijsko hidrogenkarbonatn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vod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3"/>
          <p:cNvSpPr/>
          <p:nvPr/>
        </p:nvSpPr>
        <p:spPr>
          <a:xfrm>
            <a:off x="380880" y="3809880"/>
            <a:ext cx="756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 rijeci Jadro razvila se endemska podvrsta – mekou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pastr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, tzv.solinka.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i u mirnim tokovima rijeke, a hrani se malim pu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im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sektima.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Izrazito je osjetljiva i neotporna na svako onečišćenje rijeke.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7" descr="uvecaj sliku"/>
          <p:cNvPicPr/>
          <p:nvPr/>
        </p:nvPicPr>
        <p:blipFill>
          <a:blip r:embed="rId2"/>
          <a:stretch/>
        </p:blipFill>
        <p:spPr>
          <a:xfrm>
            <a:off x="1447920" y="838080"/>
            <a:ext cx="5941800" cy="230508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5"/>
          <p:cNvSpPr/>
          <p:nvPr/>
        </p:nvSpPr>
        <p:spPr>
          <a:xfrm>
            <a:off x="1295280" y="32004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kousta pastr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Box 1"/>
          <p:cNvSpPr/>
          <p:nvPr/>
        </p:nvSpPr>
        <p:spPr>
          <a:xfrm>
            <a:off x="714240" y="5716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3366ff"/>
                </a:solidFill>
                <a:latin typeface="Arial"/>
              </a:rPr>
              <a:t>CILJ 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142920" y="1285920"/>
            <a:ext cx="8572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drediti pojedine fizikalno-kemijske pokazatelje ispravnosti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ode z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iće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usporediti ih s MDK koje propisuje Pravilnik 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drastvenoj ispravnosti vode za piće, NN 47/2008. od 25.4.20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Rezultate ispitivanja ukupne tvrdoće, karbonatne tvrdoće i kal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sporediti 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Izvješćem o ispitivanju kakvoće vode izvorišta rije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Jadro Zavoda za javno zdravstvo Splitsko – dalmatinske župan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Istražiti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i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čenici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naju koja rijeka opskrbljuje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odom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grad Spli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oju vodu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čenici najćešće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iju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a li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čenici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štede vod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4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4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5"/>
          <p:cNvSpPr/>
          <p:nvPr/>
        </p:nvSpPr>
        <p:spPr>
          <a:xfrm>
            <a:off x="0" y="433800"/>
            <a:ext cx="8066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KETA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oja rijeka opskrbljuje vodom grad Spl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0" y="3970080"/>
            <a:ext cx="69073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5" name="Object 6"/>
          <p:cNvGraphicFramePr/>
          <p:nvPr/>
        </p:nvGraphicFramePr>
        <p:xfrm>
          <a:off x="2286000" y="1571760"/>
          <a:ext cx="4357800" cy="30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6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1571760"/>
                    <a:ext cx="435780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Rectangle 8"/>
          <p:cNvSpPr/>
          <p:nvPr/>
        </p:nvSpPr>
        <p:spPr>
          <a:xfrm>
            <a:off x="0" y="3224520"/>
            <a:ext cx="9144000" cy="23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A  Prirodoslovna gimnaz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D  Kemijski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tehnič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E  Ekološki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tehnič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Box 3"/>
          <p:cNvSpPr/>
          <p:nvPr/>
        </p:nvSpPr>
        <p:spPr>
          <a:xfrm>
            <a:off x="1071720" y="785880"/>
            <a:ext cx="70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66ff"/>
                </a:solidFill>
                <a:latin typeface="Arial"/>
              </a:rPr>
              <a:t>VODA U PRIRO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4"/>
          <p:cNvSpPr/>
          <p:nvPr/>
        </p:nvSpPr>
        <p:spPr>
          <a:xfrm>
            <a:off x="142920" y="1714680"/>
            <a:ext cx="9117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ko 3/4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Zemljina površine pokrivene su vodom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upna količina v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na Zemlji procjenjuje se na 1,4</a:t>
            </a:r>
            <a:r>
              <a:rPr b="1" lang="hr-HR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hr-HR" sz="20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g, od toga 97,2% čine vode mora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ceana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2% led na Arktiku i Antarktiku, a samo oko 0,8% površinske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dzemne slatke vo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3"/>
          <p:cNvSpPr/>
          <p:nvPr/>
        </p:nvSpPr>
        <p:spPr>
          <a:xfrm>
            <a:off x="142920" y="3357720"/>
            <a:ext cx="857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unčeva toplina uzrok je  neprestanom isparavanj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skih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i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vršinskih voda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dena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se para u viši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ojevim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atmosf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hladi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ondezira te nastaju oblaci nošeni vjetrom i sitne kišne kap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5"/>
              <p:cNvSpPr txBox="1"/>
              <p:nvPr/>
            </p:nvSpPr>
            <p:spPr>
              <a:xfrm>
                <a:off x="0" y="0"/>
                <a:ext cx="12384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53" name="Rectangle 7"/>
          <p:cNvSpPr/>
          <p:nvPr/>
        </p:nvSpPr>
        <p:spPr>
          <a:xfrm>
            <a:off x="1080" y="189720"/>
            <a:ext cx="266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Box 2"/>
          <p:cNvSpPr/>
          <p:nvPr/>
        </p:nvSpPr>
        <p:spPr>
          <a:xfrm>
            <a:off x="0" y="3809880"/>
            <a:ext cx="785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dzemne, bunarske i površinske, tzv.“slatke“ vode, kori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e kao voda za piće. Voda koja se koristi u tu svrhu mo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imati određena fizikalna, kemijska i mikrobiološka svojst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0" y="1681560"/>
            <a:ext cx="13614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 kružni tok vode ukljućeni su i živi organizmi. Drveć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orijenjem upija vodu, koja se kroz lišće transpirira i tak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pet dospijeva u atmosferu. Voda koju životinje popij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dijelom se oslobađa disanjem, a dijelom iz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čuj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Box 1"/>
          <p:cNvSpPr/>
          <p:nvPr/>
        </p:nvSpPr>
        <p:spPr>
          <a:xfrm>
            <a:off x="533520" y="4762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66ff"/>
                </a:solidFill>
                <a:latin typeface="Arial"/>
              </a:rPr>
              <a:t>ANALIZA V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"/>
          <p:cNvSpPr/>
          <p:nvPr/>
        </p:nvSpPr>
        <p:spPr>
          <a:xfrm>
            <a:off x="380880" y="1293840"/>
            <a:ext cx="8361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hr-HR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IZIKALNI POKAZATELJI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AKVOĆE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VODE SU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spršene tvar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mutnoća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oj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ris i oku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emperatur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električna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vodljiv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4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4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66ff"/>
                </a:solidFill>
                <a:latin typeface="Calibri"/>
              </a:rPr>
              <a:t>PITKA VODA GRADA SPLITA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96" name="Picture 5" descr=""/>
          <p:cNvPicPr/>
          <p:nvPr/>
        </p:nvPicPr>
        <p:blipFill>
          <a:blip r:embed="rId2"/>
          <a:stretch/>
        </p:blipFill>
        <p:spPr>
          <a:xfrm>
            <a:off x="1676520" y="2057400"/>
            <a:ext cx="5762520" cy="38386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6"/>
          <p:cNvSpPr/>
          <p:nvPr/>
        </p:nvSpPr>
        <p:spPr>
          <a:xfrm>
            <a:off x="1371600" y="5983200"/>
            <a:ext cx="291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Izvor rijeke Jad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1"/>
          <p:cNvSpPr/>
          <p:nvPr/>
        </p:nvSpPr>
        <p:spPr>
          <a:xfrm>
            <a:off x="533520" y="913680"/>
            <a:ext cx="67816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EMIJSKI POKAZATELJI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AKVOĆE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VODE S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kupno otopljene tvar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oncentracija vodikovih iona, p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kalit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tvrdoća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topljeni plinov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ske tvar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ranjive tvar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ov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stali kemijski pokazatelj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fluoridi, klorid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ulfati, cijanidi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dioaktivne tvari)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4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4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4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4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Box 2"/>
          <p:cNvSpPr/>
          <p:nvPr/>
        </p:nvSpPr>
        <p:spPr>
          <a:xfrm>
            <a:off x="-1066680" y="7621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BIOLOŠKI POKAZATELJI KAKVOĆE VODE S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3"/>
          <p:cNvSpPr/>
          <p:nvPr/>
        </p:nvSpPr>
        <p:spPr>
          <a:xfrm>
            <a:off x="0" y="1752480"/>
            <a:ext cx="850104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Voda za piće ne smije sadržavati bakterije i viruse kao moguć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ijenosnike različitih bolest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Živi organizmi prirodnih voda vrlo su osjetljivi 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fizikalno-kemijske promjene u ekosustavima, pa različ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kazatelji predstavljaju pouzdan način za određivanje vrste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tupnja zagađenja v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Box 1"/>
          <p:cNvSpPr/>
          <p:nvPr/>
        </p:nvSpPr>
        <p:spPr>
          <a:xfrm>
            <a:off x="304920" y="838080"/>
            <a:ext cx="7777080" cy="31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66ff"/>
                </a:solidFill>
                <a:latin typeface="Arial"/>
              </a:rPr>
              <a:t>VODA ZA PIĆE MORA BI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Bistra, bezbojna, bez mirisa, ugodna okusa što joj ga da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topljene soli i plinov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Treba biti otopljenog kisika, ugljikova dioksida i topljiv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ol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NaCl, Na(HCO</a:t>
            </a:r>
            <a:r>
              <a:rPr b="1" lang="hr-H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hr-HR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, Ca(HCO</a:t>
            </a:r>
            <a:r>
              <a:rPr b="1" lang="hr-H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Ne smije sadržavati pat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mikroorganiz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4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4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3"/>
          <p:cNvSpPr/>
          <p:nvPr/>
        </p:nvSpPr>
        <p:spPr>
          <a:xfrm>
            <a:off x="285840" y="4424040"/>
            <a:ext cx="7707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A  Prirodosl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gimnaz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D  Kemijski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tehnič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E  Ekološki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tehnič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4"/>
          <p:cNvSpPr/>
          <p:nvPr/>
        </p:nvSpPr>
        <p:spPr>
          <a:xfrm>
            <a:off x="0" y="9889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oju vodu pij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5" name="Object 6"/>
          <p:cNvGraphicFramePr/>
          <p:nvPr/>
        </p:nvGraphicFramePr>
        <p:xfrm>
          <a:off x="2484360" y="1484280"/>
          <a:ext cx="4714920" cy="314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6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4360" y="1484280"/>
                    <a:ext cx="471492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Rectangle 5"/>
          <p:cNvSpPr/>
          <p:nvPr/>
        </p:nvSpPr>
        <p:spPr>
          <a:xfrm>
            <a:off x="285840" y="500040"/>
            <a:ext cx="885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KET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Box 1"/>
          <p:cNvSpPr/>
          <p:nvPr/>
        </p:nvSpPr>
        <p:spPr>
          <a:xfrm>
            <a:off x="0" y="40464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66ff"/>
                </a:solidFill>
                <a:latin typeface="Arial"/>
              </a:rPr>
              <a:t>PRAKTIČAN 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"/>
          <p:cNvSpPr/>
          <p:nvPr/>
        </p:nvSpPr>
        <p:spPr>
          <a:xfrm>
            <a:off x="395280" y="475560"/>
            <a:ext cx="71485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aktičnom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radu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dređeni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u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izikalno - kemijsk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kazatelji ispravnosti vode z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iće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emperatur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električna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vodljivost,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kupn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tvrdoća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arbonatn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tvrdoća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alkalitet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alcij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orid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4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4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4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4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4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4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Box 1"/>
          <p:cNvSpPr/>
          <p:nvPr/>
        </p:nvSpPr>
        <p:spPr>
          <a:xfrm>
            <a:off x="762120" y="762120"/>
            <a:ext cx="674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zorkovanje i analiza vo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izvršeno je u školskom laboratoriju 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razdoblju  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25.3.- 30.3.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5" descr="PICT0052"/>
          <p:cNvPicPr/>
          <p:nvPr/>
        </p:nvPicPr>
        <p:blipFill>
          <a:blip r:embed="rId2"/>
          <a:stretch/>
        </p:blipFill>
        <p:spPr>
          <a:xfrm>
            <a:off x="2286000" y="2590920"/>
            <a:ext cx="3886200" cy="2781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1026"/>
          <p:cNvSpPr/>
          <p:nvPr/>
        </p:nvSpPr>
        <p:spPr>
          <a:xfrm>
            <a:off x="0" y="4572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ANALIZA UZOR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611280" y="2133720"/>
          <a:ext cx="6265800" cy="1224000"/>
        </p:xfrm>
        <a:graphic>
          <a:graphicData uri="http://schemas.openxmlformats.org/drawingml/2006/table">
            <a:tbl>
              <a:tblPr/>
              <a:tblGrid>
                <a:gridCol w="3095640"/>
                <a:gridCol w="3170160"/>
              </a:tblGrid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j uzor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eratura / </a:t>
                      </a:r>
                      <a:r>
                        <a:rPr b="1" lang="hr-HR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DK za vode za piće 47/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4" name="Rectangle 43"/>
          <p:cNvSpPr/>
          <p:nvPr/>
        </p:nvSpPr>
        <p:spPr>
          <a:xfrm>
            <a:off x="0" y="21672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DREĐIVANJ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TEMPERATUR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emperature uzoraka vo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7"/>
          <p:cNvSpPr/>
          <p:nvPr/>
        </p:nvSpPr>
        <p:spPr>
          <a:xfrm>
            <a:off x="324000" y="3645000"/>
            <a:ext cx="369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DREĐIVANJ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533520" y="4876920"/>
          <a:ext cx="6357960" cy="1214280"/>
        </p:xfrm>
        <a:graphic>
          <a:graphicData uri="http://schemas.openxmlformats.org/drawingml/2006/table">
            <a:tbl>
              <a:tblPr/>
              <a:tblGrid>
                <a:gridCol w="3139920"/>
                <a:gridCol w="3218040"/>
              </a:tblGrid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j uzor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93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DK za vode za piće 47/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 – 9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7" name="Rectangle 49"/>
          <p:cNvSpPr/>
          <p:nvPr/>
        </p:nvSpPr>
        <p:spPr>
          <a:xfrm>
            <a:off x="500040" y="4221000"/>
            <a:ext cx="532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Rezultati mjerenj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8" name=""/>
          <p:cNvGraphicFramePr/>
          <p:nvPr/>
        </p:nvGraphicFramePr>
        <p:xfrm>
          <a:off x="609480" y="2133720"/>
          <a:ext cx="6215040" cy="1285920"/>
        </p:xfrm>
        <a:graphic>
          <a:graphicData uri="http://schemas.openxmlformats.org/drawingml/2006/table">
            <a:tbl>
              <a:tblPr/>
              <a:tblGrid>
                <a:gridCol w="3071880"/>
                <a:gridCol w="3143160"/>
              </a:tblGrid>
              <a:tr h="258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j uzor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ktrična vodljivost / µScm</a:t>
                      </a:r>
                      <a:r>
                        <a:rPr b="1" lang="hr-HR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DK za vode za pić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9" name="Rectangle 1"/>
          <p:cNvSpPr/>
          <p:nvPr/>
        </p:nvSpPr>
        <p:spPr>
          <a:xfrm>
            <a:off x="0" y="1355400"/>
            <a:ext cx="585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1" lang="hr-HR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zultati mjerenj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električne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vodljiv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4"/>
          <p:cNvSpPr/>
          <p:nvPr/>
        </p:nvSpPr>
        <p:spPr>
          <a:xfrm>
            <a:off x="950760" y="857160"/>
            <a:ext cx="412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25"/>
          <p:cNvSpPr/>
          <p:nvPr/>
        </p:nvSpPr>
        <p:spPr>
          <a:xfrm>
            <a:off x="533520" y="762120"/>
            <a:ext cx="64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DREĐIVANJ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KTRI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DLJIVOST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2" name=""/>
          <p:cNvGraphicFramePr/>
          <p:nvPr/>
        </p:nvGraphicFramePr>
        <p:xfrm>
          <a:off x="642960" y="3929040"/>
          <a:ext cx="6072120" cy="1214640"/>
        </p:xfrm>
        <a:graphic>
          <a:graphicData uri="http://schemas.openxmlformats.org/drawingml/2006/table">
            <a:tbl>
              <a:tblPr/>
              <a:tblGrid>
                <a:gridCol w="2963880"/>
                <a:gridCol w="1519200"/>
                <a:gridCol w="1589040"/>
              </a:tblGrid>
              <a:tr h="20844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j uzor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upna tvrdoć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CO</a:t>
                      </a:r>
                      <a:r>
                        <a:rPr b="1" lang="hr-HR" sz="13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g/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4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3" name="Rectangle 1"/>
          <p:cNvSpPr/>
          <p:nvPr/>
        </p:nvSpPr>
        <p:spPr>
          <a:xfrm>
            <a:off x="0" y="3029760"/>
            <a:ext cx="6732720" cy="21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Rezultati određivanja ukupne tvrdoć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8"/>
          <p:cNvSpPr/>
          <p:nvPr/>
        </p:nvSpPr>
        <p:spPr>
          <a:xfrm>
            <a:off x="457200" y="609480"/>
            <a:ext cx="749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DREĐIVANJ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KUPN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VRDO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Ć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2"/>
          <p:cNvSpPr/>
          <p:nvPr/>
        </p:nvSpPr>
        <p:spPr>
          <a:xfrm>
            <a:off x="-612720" y="983160"/>
            <a:ext cx="878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6"/>
          <p:cNvSpPr/>
          <p:nvPr/>
        </p:nvSpPr>
        <p:spPr>
          <a:xfrm>
            <a:off x="642960" y="1357560"/>
            <a:ext cx="85010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</a:t>
            </a:r>
            <a:r>
              <a:rPr b="1" lang="hr-HR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+H</a:t>
            </a:r>
            <a:r>
              <a:rPr b="1" lang="hr-HR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1" lang="hr-HR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-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↔  CaY</a:t>
            </a:r>
            <a:r>
              <a:rPr b="1" lang="hr-HR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-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+ 2H</a:t>
            </a:r>
            <a:r>
              <a:rPr b="1" lang="hr-HR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g</a:t>
            </a:r>
            <a:r>
              <a:rPr b="1" lang="hr-HR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1" lang="hr-HR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1" lang="hr-HR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-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↔  MgY</a:t>
            </a:r>
            <a:r>
              <a:rPr b="1" lang="hr-HR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-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+ 2H</a:t>
            </a:r>
            <a:r>
              <a:rPr b="1" lang="hr-HR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7"/>
          <p:cNvSpPr/>
          <p:nvPr/>
        </p:nvSpPr>
        <p:spPr>
          <a:xfrm>
            <a:off x="642960" y="2104560"/>
            <a:ext cx="850104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</a:t>
            </a:r>
            <a:r>
              <a:rPr b="1" lang="hr-HR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+ Mg</a:t>
            </a:r>
            <a:r>
              <a:rPr b="1" lang="hr-HR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+ I  ↔  Ca</a:t>
            </a:r>
            <a:r>
              <a:rPr b="1" lang="hr-HR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+ M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</a:t>
            </a:r>
            <a:r>
              <a:rPr b="1" lang="hr-HR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+ MgI + 2H</a:t>
            </a:r>
            <a:r>
              <a:rPr b="1" lang="hr-HR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1" lang="hr-HR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-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↔  CaY</a:t>
            </a:r>
            <a:r>
              <a:rPr b="1" lang="hr-HR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-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+ MgY</a:t>
            </a:r>
            <a:r>
              <a:rPr b="1" lang="hr-HR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-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+ I + 4H</a:t>
            </a:r>
            <a:r>
              <a:rPr b="1" lang="hr-HR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ljubičast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oja                                modra bo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1"/>
          <p:cNvSpPr/>
          <p:nvPr/>
        </p:nvSpPr>
        <p:spPr>
          <a:xfrm>
            <a:off x="-1260360" y="947520"/>
            <a:ext cx="17953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21"/>
          <p:cNvSpPr/>
          <p:nvPr/>
        </p:nvSpPr>
        <p:spPr>
          <a:xfrm>
            <a:off x="380880" y="838080"/>
            <a:ext cx="85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DREĐIVANJ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RBONATN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VRDO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Ć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ALKALITET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26"/>
          <p:cNvSpPr/>
          <p:nvPr/>
        </p:nvSpPr>
        <p:spPr>
          <a:xfrm>
            <a:off x="457200" y="2958840"/>
            <a:ext cx="631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Rezultati određivanja karbonatne tvrdoć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609480" y="3581280"/>
          <a:ext cx="5929560" cy="1357560"/>
        </p:xfrm>
        <a:graphic>
          <a:graphicData uri="http://schemas.openxmlformats.org/drawingml/2006/table">
            <a:tbl>
              <a:tblPr/>
              <a:tblGrid>
                <a:gridCol w="2832120"/>
                <a:gridCol w="3097440"/>
              </a:tblGrid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j uzor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bonatna tvrdoća (alkalite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CO</a:t>
                      </a:r>
                      <a:r>
                        <a:rPr b="1" lang="hr-HR" sz="13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 </a:t>
                      </a: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 /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2" name="Rectangle 82"/>
          <p:cNvSpPr/>
          <p:nvPr/>
        </p:nvSpPr>
        <p:spPr>
          <a:xfrm>
            <a:off x="785880" y="1593720"/>
            <a:ext cx="83581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</a:t>
            </a:r>
            <a:r>
              <a:rPr b="1" lang="hr-HR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hr-HR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-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+ HCl  ↔  HCO</a:t>
            </a:r>
            <a:r>
              <a:rPr b="1" lang="hr-HR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hr-HR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ˉ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+ Cl</a:t>
            </a:r>
            <a:r>
              <a:rPr b="1" lang="hr-HR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CO</a:t>
            </a:r>
            <a:r>
              <a:rPr b="1" lang="hr-HR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hr-HR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ˉ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+ HCl  ↔  H</a:t>
            </a:r>
            <a:r>
              <a:rPr b="1" lang="hr-HR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</a:t>
            </a:r>
            <a:r>
              <a:rPr b="1" lang="hr-HR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+Cl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</a:t>
            </a:r>
            <a:r>
              <a:rPr b="1" lang="hr-HR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1" lang="hr-HR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  ↔  H</a:t>
            </a:r>
            <a:r>
              <a:rPr b="1" lang="hr-HR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</a:t>
            </a:r>
            <a:r>
              <a:rPr b="1" lang="hr-HR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0" y="60948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66ff"/>
                </a:solidFill>
                <a:latin typeface="Arial"/>
              </a:rPr>
              <a:t>DOBRODOŠLI U SPL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4191120" y="4114800"/>
            <a:ext cx="5060880" cy="30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mjestio se u samom središtu Jadranske obale i u neposrednoj je blizini rijeke Jadro koja ga već 1700. godina napaja vod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0" y="1143000"/>
            <a:ext cx="50292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plit je veliko povijesno, upravno i        vjersko središte Hrvats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Grad je pod zaštitom UNESCO-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12" descr="pix1_split"/>
          <p:cNvPicPr/>
          <p:nvPr/>
        </p:nvPicPr>
        <p:blipFill>
          <a:blip r:embed="rId2"/>
          <a:stretch/>
        </p:blipFill>
        <p:spPr>
          <a:xfrm>
            <a:off x="4952880" y="1447920"/>
            <a:ext cx="3481560" cy="2808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1" descr="Copy of split_010_1280x960"/>
          <p:cNvPicPr/>
          <p:nvPr/>
        </p:nvPicPr>
        <p:blipFill>
          <a:blip r:embed="rId3"/>
          <a:stretch/>
        </p:blipFill>
        <p:spPr>
          <a:xfrm>
            <a:off x="533520" y="3200400"/>
            <a:ext cx="3456000" cy="2762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63460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DREĐIVANJE KALCIJA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685800" y="3809880"/>
          <a:ext cx="5688000" cy="1216080"/>
        </p:xfrm>
        <a:graphic>
          <a:graphicData uri="http://schemas.openxmlformats.org/drawingml/2006/table">
            <a:tbl>
              <a:tblPr/>
              <a:tblGrid>
                <a:gridCol w="2716200"/>
                <a:gridCol w="2971800"/>
              </a:tblGrid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j uzor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 / CaCO</a:t>
                      </a:r>
                      <a:r>
                        <a:rPr b="1" lang="hr-HR" sz="13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 </a:t>
                      </a: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 /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5" name="Rectangle 58"/>
          <p:cNvSpPr/>
          <p:nvPr/>
        </p:nvSpPr>
        <p:spPr>
          <a:xfrm>
            <a:off x="533520" y="1166760"/>
            <a:ext cx="86104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</a:t>
            </a:r>
            <a:r>
              <a:rPr b="1" lang="hr-HR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+ I  ↔  C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rvena bo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</a:t>
            </a:r>
            <a:r>
              <a:rPr b="1" lang="hr-HR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1" lang="hr-HR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1" lang="hr-HR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-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↔  CaY</a:t>
            </a:r>
            <a:r>
              <a:rPr b="1" lang="hr-HR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-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+ 2H</a:t>
            </a:r>
            <a:r>
              <a:rPr b="1" lang="hr-HR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I + H</a:t>
            </a:r>
            <a:r>
              <a:rPr b="1" lang="hr-HR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1" lang="hr-HR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-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↔  CaY</a:t>
            </a:r>
            <a:r>
              <a:rPr b="1" lang="hr-HR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-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+ I + 2H</a:t>
            </a:r>
            <a:r>
              <a:rPr b="1" lang="hr-HR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rvena boj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    ljubičast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o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1"/>
          <p:cNvSpPr/>
          <p:nvPr/>
        </p:nvSpPr>
        <p:spPr>
          <a:xfrm>
            <a:off x="611280" y="3284640"/>
            <a:ext cx="545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Rezultati određivanja kalci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7" name=""/>
          <p:cNvGraphicFramePr/>
          <p:nvPr/>
        </p:nvGraphicFramePr>
        <p:xfrm>
          <a:off x="785880" y="3143160"/>
          <a:ext cx="5905440" cy="1224000"/>
        </p:xfrm>
        <a:graphic>
          <a:graphicData uri="http://schemas.openxmlformats.org/drawingml/2006/table">
            <a:tbl>
              <a:tblPr/>
              <a:tblGrid>
                <a:gridCol w="2917800"/>
                <a:gridCol w="2987640"/>
              </a:tblGrid>
              <a:tr h="250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j uzor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 (Clˉ)/ /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9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DK za vode za piće 47/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6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,00</a:t>
                      </a: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Text Box 25"/>
          <p:cNvSpPr/>
          <p:nvPr/>
        </p:nvSpPr>
        <p:spPr>
          <a:xfrm>
            <a:off x="685800" y="609480"/>
            <a:ext cx="716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RE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ANJE KLORIDA PO MOH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6"/>
          <p:cNvSpPr/>
          <p:nvPr/>
        </p:nvSpPr>
        <p:spPr>
          <a:xfrm>
            <a:off x="685800" y="2302920"/>
            <a:ext cx="5392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Rezultati određivanja klorid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7"/>
          <p:cNvSpPr/>
          <p:nvPr/>
        </p:nvSpPr>
        <p:spPr>
          <a:xfrm>
            <a:off x="714240" y="1092600"/>
            <a:ext cx="842976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g</a:t>
            </a:r>
            <a:r>
              <a:rPr b="1" lang="hr-HR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+ Clˉ  ↔  AgCl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Ag</a:t>
            </a:r>
            <a:r>
              <a:rPr b="1" lang="hr-HR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+ CrO</a:t>
            </a:r>
            <a:r>
              <a:rPr b="1" lang="hr-HR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hr-HR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-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↔  Ag</a:t>
            </a:r>
            <a:r>
              <a:rPr b="1" lang="hr-HR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rO</a:t>
            </a:r>
            <a:r>
              <a:rPr b="1" lang="hr-HR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Box 1"/>
          <p:cNvSpPr/>
          <p:nvPr/>
        </p:nvSpPr>
        <p:spPr>
          <a:xfrm>
            <a:off x="785880" y="57168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66ff"/>
                </a:solidFill>
                <a:latin typeface="Arial"/>
              </a:rPr>
              <a:t>ZAKLJUČAK PRAKTIČNOG RADA</a:t>
            </a:r>
            <a:r>
              <a:rPr b="1" lang="hr-HR" sz="28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"/>
          <p:cNvSpPr/>
          <p:nvPr/>
        </p:nvSpPr>
        <p:spPr>
          <a:xfrm>
            <a:off x="0" y="-788400"/>
            <a:ext cx="9548640" cy="66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bivene vrijednosti za temperaturu, pH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, električnu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vodljivost i klor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reću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u granicam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DK (Maksimalno dopuštene koncentracije) ko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pisuje Praviln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o zdravstvenoj ispravnosti vode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za pić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N 47x2008 od 25.4.20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zultati ukupne tvrdoće i karbonatne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tvrdoće kreću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u granica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zultata ispitivanja voda Zavoda z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avno zdravstvo Splitsko 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almatinske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županije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zdoblje od srpnja 2008 do 1.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siječnja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200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ema dobivenim rezultatima ukupne tvrdoće vod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rijeke Jadro pr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d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mjereno tvrdoj vodi (8 do 12 </a:t>
            </a:r>
            <a:r>
              <a:rPr b="1" lang="hr-HR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nj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Rezultati odredivanja kalcija su nešto niži od rezultata ispitivanja vod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Zavoda za javno zdravstvo Splitsko - dalmatinske županije za is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razdobl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2000"/>
                                        <p:tgtEl>
                                          <p:spTgt spid="5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2000"/>
                                        <p:tgtEl>
                                          <p:spTgt spid="5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5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5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5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2000"/>
                                        <p:tgtEl>
                                          <p:spTgt spid="5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5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50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50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50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2000"/>
                                        <p:tgtEl>
                                          <p:spTgt spid="50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50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4"/>
          <p:cNvSpPr/>
          <p:nvPr/>
        </p:nvSpPr>
        <p:spPr>
          <a:xfrm>
            <a:off x="142920" y="528120"/>
            <a:ext cx="87850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Budući, pojedini pokazatelji nisu dovoljni za ocjenu kakvoće v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rijeke Jadro, u Zavodu za javno zdravstvo Splitsko - dalmatinsk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županije dobili smo rezultate Izvješća o ispitivanju kakvoće v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izvorišta rijeke Jadro i voda iz vodovodne mreže koje opskrblj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rijeka Jadro ( Tablica 5.1. do 5.8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 razdoblju od srpnja 2008. do 1. siječnja 2009. godine ispitano je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zoraka izvorišta rijeke Jadro i 66 uzoraka pitke vode iz vodovod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mrež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Na osnovu tih ispitivanja je zaključeno da se voda iz izvora rijek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Jadro prema kemijskom sastavu svrstava u krške pukotinske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alcijsko hidrogenkarbonatne vode. U Jadru su kloridi varirali 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6 mg/L do 36 mg/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oncentracije masnoća, mineralnih ulja, fenola, detergenata i tešk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metala kretale su se u okviru normativa za pić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Voda rijeke Jadro bila je bakteriološki onečišćena za piće i trebalo 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lorirat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2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20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2000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5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2000"/>
                                        <p:tgtEl>
                                          <p:spTgt spid="5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5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2000"/>
                                        <p:tgtEl>
                                          <p:spTgt spid="5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5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2000"/>
                                        <p:tgtEl>
                                          <p:spTgt spid="5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2000"/>
                                        <p:tgtEl>
                                          <p:spTgt spid="5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5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2000"/>
                                        <p:tgtEl>
                                          <p:spTgt spid="50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2000"/>
                                        <p:tgtEl>
                                          <p:spTgt spid="50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-1000080" y="419400"/>
            <a:ext cx="1014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KETA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a li štedite vodu u kućanstv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472760" y="3788640"/>
            <a:ext cx="498744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A  Prirodoslovna gimnaz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D  Kemijski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tehnič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E  Ekoloski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tehnič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Object 6"/>
          <p:cNvGraphicFramePr/>
          <p:nvPr/>
        </p:nvGraphicFramePr>
        <p:xfrm>
          <a:off x="2195640" y="1773360"/>
          <a:ext cx="4286160" cy="292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95640" y="1773360"/>
                    <a:ext cx="4286160" cy="29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"/>
  </p:transition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20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0" y="457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66ff"/>
                </a:solidFill>
                <a:latin typeface="Arial"/>
              </a:rPr>
              <a:t>KAKO ŠTEDJETI VOD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762120" y="54864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5"/>
          <p:cNvSpPr/>
          <p:nvPr/>
        </p:nvSpPr>
        <p:spPr>
          <a:xfrm>
            <a:off x="990720" y="5643720"/>
            <a:ext cx="3436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3300"/>
                </a:solidFill>
                <a:latin typeface="Arial"/>
              </a:rPr>
              <a:t>NE PUŠTAJTE VODU 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3300"/>
                </a:solidFill>
                <a:latin typeface="Arial"/>
              </a:rPr>
              <a:t>TEČE BEZ POTREBE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17" descr="IMGA0172"/>
          <p:cNvPicPr/>
          <p:nvPr/>
        </p:nvPicPr>
        <p:blipFill>
          <a:blip r:embed="rId2"/>
          <a:stretch/>
        </p:blipFill>
        <p:spPr>
          <a:xfrm>
            <a:off x="5786280" y="2286000"/>
            <a:ext cx="3167280" cy="201600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9"/>
          <p:cNvSpPr/>
          <p:nvPr/>
        </p:nvSpPr>
        <p:spPr>
          <a:xfrm>
            <a:off x="250920" y="1060920"/>
            <a:ext cx="889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cjenjuje se da u gradu jedna osoba za piće, pripremanje hra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sobnu higijenu, pranje rublja i čišćenje stana potroši oko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litara vode na dan. Samo za jedno kupanje u kadi potroši se 35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litara v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7" descr="IMGA0164"/>
          <p:cNvPicPr/>
          <p:nvPr/>
        </p:nvPicPr>
        <p:blipFill>
          <a:blip r:embed="rId3"/>
          <a:stretch/>
        </p:blipFill>
        <p:spPr>
          <a:xfrm>
            <a:off x="5786280" y="4429080"/>
            <a:ext cx="3168720" cy="1944720"/>
          </a:xfrm>
          <a:prstGeom prst="rect">
            <a:avLst/>
          </a:prstGeom>
          <a:ln w="0">
            <a:noFill/>
          </a:ln>
        </p:spPr>
      </p:pic>
      <p:sp>
        <p:nvSpPr>
          <p:cNvPr id="515" name="TextBox 8"/>
          <p:cNvSpPr/>
          <p:nvPr/>
        </p:nvSpPr>
        <p:spPr>
          <a:xfrm>
            <a:off x="214200" y="2643120"/>
            <a:ext cx="5429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mjesto kupanja petminutno tuš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troši 50% manje tople vode n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upan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Izbjegavajte ostaviti vodu da teče dok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erete zube, ruke, kosu ili posuđ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erilicu za rublje i posuđe uključ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amo kada su pu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2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20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2000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2000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2000"/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2000"/>
                                        <p:tgtEl>
                                          <p:spTgt spid="5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2000"/>
                                        <p:tgtEl>
                                          <p:spTgt spid="5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2514600" y="373356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onstantia"/>
              </a:rPr>
              <a:t>U izradi sudjelovali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66"/>
                </a:solidFill>
                <a:latin typeface="Constantia"/>
              </a:rPr>
              <a:t>	</a:t>
            </a:r>
            <a:r>
              <a:rPr b="1" lang="hr-HR" sz="2000" spc="-1" strike="noStrike">
                <a:solidFill>
                  <a:srgbClr val="000066"/>
                </a:solidFill>
                <a:latin typeface="Constant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7" name="Rectangle 21"/>
          <p:cNvSpPr/>
          <p:nvPr/>
        </p:nvSpPr>
        <p:spPr>
          <a:xfrm>
            <a:off x="2366280" y="4343400"/>
            <a:ext cx="51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Katarina Burmaz, učenica 4e</a:t>
            </a:r>
            <a:r>
              <a:rPr b="1" lang="hr-HR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2"/>
          <p:cNvSpPr/>
          <p:nvPr/>
        </p:nvSpPr>
        <p:spPr>
          <a:xfrm>
            <a:off x="0" y="1981080"/>
            <a:ext cx="91440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66ff"/>
                </a:solidFill>
                <a:latin typeface="Mistral"/>
              </a:rPr>
              <a:t>MORAMO BITI SVJESNI ČINJENICE DA SE ISTA VODA KOJU MI DANAS KORISTIMO KORISTILA VEĆ I U DOBA </a:t>
            </a:r>
            <a:r>
              <a:rPr b="1" lang="en-US" sz="2800" spc="-1" strike="noStrike">
                <a:solidFill>
                  <a:srgbClr val="3366ff"/>
                </a:solidFill>
                <a:latin typeface="Mistral"/>
              </a:rPr>
              <a:t>E</a:t>
            </a:r>
            <a:r>
              <a:rPr b="1" lang="hr-HR" sz="2800" spc="-1" strike="noStrike">
                <a:solidFill>
                  <a:srgbClr val="3366ff"/>
                </a:solidFill>
                <a:latin typeface="Mistral"/>
              </a:rPr>
              <a:t>GIPATSKE KRALJICE KLEOPAT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3300"/>
                </a:solidFill>
                <a:latin typeface="Mistral"/>
              </a:rPr>
              <a:t>ŠTO ZNAČI DA JE SVA VODA KOJE ĆE IKADA BITI,</a:t>
            </a:r>
            <a:r>
              <a:rPr b="1" lang="en-US" sz="2800" spc="-1" strike="noStrike">
                <a:solidFill>
                  <a:srgbClr val="ff3300"/>
                </a:solidFill>
                <a:latin typeface="Mistral"/>
              </a:rPr>
              <a:t> </a:t>
            </a:r>
            <a:r>
              <a:rPr b="1" lang="hr-HR" sz="2800" spc="-1" strike="noStrike">
                <a:solidFill>
                  <a:srgbClr val="ff3300"/>
                </a:solidFill>
                <a:latin typeface="Mistral"/>
              </a:rPr>
              <a:t>VEĆ I SADA TU</a:t>
            </a:r>
            <a:r>
              <a:rPr b="1" lang="hr-HR" sz="2800" spc="-1" strike="noStrike">
                <a:solidFill>
                  <a:srgbClr val="66ccff"/>
                </a:solidFill>
                <a:latin typeface="Mistr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66ff"/>
                </a:solidFill>
                <a:latin typeface="Mistral"/>
              </a:rPr>
              <a:t>TE DA MORAMO PAZITI DA JU SAČUVAMO OD ONEČIŠĆENJA ZA BUDUĆE GENERACIJE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2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20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572040" y="-360"/>
            <a:ext cx="9144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66ff"/>
                </a:solidFill>
                <a:latin typeface="Calibri"/>
              </a:rPr>
              <a:t>DIOKLECIJANOV AKVADUKT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4" name="Picture 7" descr="palaca u boji"/>
          <p:cNvPicPr/>
          <p:nvPr/>
        </p:nvPicPr>
        <p:blipFill>
          <a:blip r:embed="rId2"/>
          <a:stretch/>
        </p:blipFill>
        <p:spPr>
          <a:xfrm>
            <a:off x="2340000" y="2997360"/>
            <a:ext cx="3672000" cy="296856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5"/>
          <p:cNvSpPr/>
          <p:nvPr/>
        </p:nvSpPr>
        <p:spPr>
          <a:xfrm>
            <a:off x="500040" y="1500120"/>
            <a:ext cx="801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a vladavine cara Dioklecijana, u vrijeme izgradn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jegove rezidencije krajem 3.st izgraden je 9 km dug vodovo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akvadukta i tunel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179280" y="1143000"/>
            <a:ext cx="8496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lužio je za napajanje vodom carske rezidencije i tkalačkih   radionica unutar Palače i za opskrbu naselja u okoli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250920" y="3429000"/>
            <a:ext cx="34621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Pušten je u funkciju 305. g. kad i Palač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10" descr=""/>
          <p:cNvPicPr/>
          <p:nvPr/>
        </p:nvPicPr>
        <p:blipFill>
          <a:blip r:embed="rId2"/>
          <a:stretch/>
        </p:blipFill>
        <p:spPr>
          <a:xfrm>
            <a:off x="1905120" y="2438280"/>
            <a:ext cx="5038560" cy="309564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6"/>
          <p:cNvSpPr/>
          <p:nvPr/>
        </p:nvSpPr>
        <p:spPr>
          <a:xfrm>
            <a:off x="1828800" y="5644080"/>
            <a:ext cx="374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Rimski vodovod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26"/>
          <p:cNvSpPr/>
          <p:nvPr/>
        </p:nvSpPr>
        <p:spPr>
          <a:xfrm>
            <a:off x="304920" y="426708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pskrba Palače vodom prekinuta je narednih trinaest stoljeć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028" descr="VODOVOD UNDRA2"/>
          <p:cNvPicPr/>
          <p:nvPr/>
        </p:nvPicPr>
        <p:blipFill>
          <a:blip r:embed="rId2"/>
          <a:stretch/>
        </p:blipFill>
        <p:spPr>
          <a:xfrm>
            <a:off x="609480" y="1066680"/>
            <a:ext cx="8001000" cy="249732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6"/>
          <p:cNvSpPr/>
          <p:nvPr/>
        </p:nvSpPr>
        <p:spPr>
          <a:xfrm>
            <a:off x="285840" y="3160800"/>
            <a:ext cx="8102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dovod je razru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 padom Rimskog carstva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027"/>
          <p:cNvSpPr/>
          <p:nvPr/>
        </p:nvSpPr>
        <p:spPr>
          <a:xfrm>
            <a:off x="285840" y="4786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Rekonstruiran je 1877. godine i danas Split opskrbljuje vod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1027"/>
          <p:cNvSpPr/>
          <p:nvPr/>
        </p:nvSpPr>
        <p:spPr>
          <a:xfrm>
            <a:off x="785880" y="1371600"/>
            <a:ext cx="7858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Nazvana je prema splitskom gradonačelniku Antoniju   Bajamontij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1028" descr="Bajamont"/>
          <p:cNvPicPr/>
          <p:nvPr/>
        </p:nvPicPr>
        <p:blipFill>
          <a:blip r:embed="rId2"/>
          <a:stretch/>
        </p:blipFill>
        <p:spPr>
          <a:xfrm>
            <a:off x="1143000" y="2514600"/>
            <a:ext cx="6705720" cy="373212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1030"/>
          <p:cNvSpPr/>
          <p:nvPr/>
        </p:nvSpPr>
        <p:spPr>
          <a:xfrm>
            <a:off x="1371600" y="2666880"/>
            <a:ext cx="502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031"/>
          <p:cNvSpPr/>
          <p:nvPr/>
        </p:nvSpPr>
        <p:spPr>
          <a:xfrm>
            <a:off x="755640" y="533520"/>
            <a:ext cx="7696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bilježavajući taj trenutak Splićani su 1880. g. na rivi podigli fontan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1"/>
          <p:cNvSpPr/>
          <p:nvPr/>
        </p:nvSpPr>
        <p:spPr>
          <a:xfrm>
            <a:off x="857160" y="857160"/>
            <a:ext cx="72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66ff"/>
                </a:solidFill>
                <a:latin typeface="Arial"/>
              </a:rPr>
              <a:t>VODE U DALMACI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2"/>
          <p:cNvSpPr/>
          <p:nvPr/>
        </p:nvSpPr>
        <p:spPr>
          <a:xfrm>
            <a:off x="357120" y="1700280"/>
            <a:ext cx="8501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lmacij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je k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rško područje s mnogo oborina ali oskudij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vodom zbog podzemnog otjec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r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 je pukotinska voda umjereno tvrda i ubraja se u kalcijs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drogenkarbonatnu vodu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3"/>
          <p:cNvSpPr/>
          <p:nvPr/>
        </p:nvSpPr>
        <p:spPr>
          <a:xfrm flipV="1" rot="10800000">
            <a:off x="357120" y="3623040"/>
            <a:ext cx="721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 mnogim kr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m vodama ima vi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 klorida i sulf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rija i magnezija,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je posljedica utjecaja mora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4"/>
          <p:cNvSpPr/>
          <p:nvPr/>
        </p:nvSpPr>
        <p:spPr>
          <a:xfrm flipV="1" rot="10800000">
            <a:off x="357120" y="4693680"/>
            <a:ext cx="80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rška voda je bakterijski zagađena osobito u kišn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ba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457200" y="785520"/>
            <a:ext cx="8229600" cy="55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r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a podzemna voda mo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 primati vodu s povr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e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ne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titi se. Da se to zbiva vidi se po tome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gotovo na svim izvorima u kr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 izvire mutna voda nakon svake ja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 ki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dzemne su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ovr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ske vode u Dalmaciji razmjerno sa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vale svoje prirodne zna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jke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zdravstveno su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te, budu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da se najvi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 stanovnika, 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reostalih tvornica nalazi na obali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l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2T22:17:50Z</dcterms:created>
  <dc:creator>RH-TDU</dc:creator>
  <dc:description/>
  <dc:language>en-US</dc:language>
  <cp:lastModifiedBy>acapkovic</cp:lastModifiedBy>
  <dcterms:modified xsi:type="dcterms:W3CDTF">2010-03-19T09:26:11Z</dcterms:modified>
  <cp:revision>124</cp:revision>
  <dc:subject/>
  <dc:title>Prirodoslovna tehnička škola  Split</dc:title>
</cp:coreProperties>
</file>