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972-C386-438F-B1FF-69D82684597E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ad slijedi grupni rad (sastavljanje uputa za r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VATKO SAM ZA SEBE MORA PRERADITI ODREĐENU INFORMACIJU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D78-79F2-4516-9FFF-A0F514E6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F47-9CF8-4173-B3FF-404ABD5D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175-5130-481C-BE54-24E9147B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A2C-E6B7-4CD4-8BDA-4C87B81A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6E80-AE72-4889-857D-593B2B68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2E12-A970-4438-8CAD-BB06CCD8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935B-EC67-4CA2-BB01-CCA83495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934E-8971-4BC3-B342-605F7724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13C0-EA05-4C63-B488-DD4B1180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8B3F-7E02-493A-B52C-5278240E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B21E-B06F-42B0-9383-9AC2373F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290-0122-4DA3-B942-BB222E8F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CF45-89B5-4239-B35A-918DFB19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AE44-D76F-4F67-B2EA-B05DB1A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EEE2-1DCD-48BC-9B4A-C5281FA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54B0-783A-433F-8838-4BB0CA7D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9764-26E6-4F7A-9CC5-FDBF809B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A72-7AA7-46F1-B938-3083620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F94-3DB8-4001-B734-5F2FC34E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163-C422-4002-8508-5892B6A2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A0F-F64B-4D76-AB13-8B24B040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978-3A20-4AEF-AF8E-FE0C5BA2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7F7-9D89-40CD-B998-D233F2C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E25-67A1-4E2D-9C6F-4C5DB76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F32-3E92-4556-8215-445DE352B691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349C-AD4E-48D6-B0A1-EB66E65D3E11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SURADNIČKO UČENJ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omic Sans MS"/>
              </a:rPr>
              <a:t>Borjanka Smojver, dipl.ing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. i </a:t>
            </a:r>
            <a:r>
              <a:rPr b="0" i="1" lang="hr-HR" sz="1800" spc="-1" strike="noStrike">
                <a:solidFill>
                  <a:srgbClr val="000000"/>
                </a:solidFill>
                <a:latin typeface="Comic Sans MS"/>
              </a:rPr>
              <a:t>Linda Grubišić Belina, prof.,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KONSTRUKTIVISTIČKA TEORIJA UČENJA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Tahoma"/>
              </a:rPr>
              <a:t>instrukcij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– (u fazi prezentacije tijekom frontalnoga rada); pojedinci ili grupe instruiraju druge iznoseći rezultate svoga rada; svaki učenik iznesene podatke najprije ugrađuje u svoju mentalnu mrežu (konstrukcija); kad uslijedi diskusija o rezultatima, potiče se nova sukonstrukcija (diskusija – sukonstrukcij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AKTIVIRANJE SVIH UČENIKA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erativ poučav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Što je zajedničko svim dobro sročenim </a:t>
            </a:r>
            <a:r>
              <a:rPr b="1" i="1" lang="en-US" sz="4000" spc="-1" strike="noStrike">
                <a:solidFill>
                  <a:srgbClr val="7b9cb5"/>
                </a:solidFill>
                <a:latin typeface="Tahoma"/>
              </a:rPr>
              <a:t>uputama za rad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 POSTUL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RIJEME ZA RAZMIŠLJANJE - zad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ZMJENA MIŠLJENJA - privileg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OBNA ODGOVORNOST – odgojna dimenzija suradničkoga uče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ljedice triju postul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utarnje aktiviranje i sudjelovan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urnost i smanjenje stra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liteta doprinos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7b9cb5"/>
                </a:solidFill>
                <a:latin typeface="Tahoma"/>
              </a:rPr>
              <a:t>GRUPNA SLAGALICA </a:t>
            </a:r>
            <a:br>
              <a:rPr sz="4000"/>
            </a:br>
            <a:r>
              <a:rPr b="0" lang="hr-HR" sz="4000" spc="-1" strike="noStrike">
                <a:solidFill>
                  <a:srgbClr val="7b9cb5"/>
                </a:solidFill>
                <a:latin typeface="Tahoma"/>
              </a:rPr>
              <a:t>(engl. Jigsaw–Classroom)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a ili organizacijski oblik suradničkoga uče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toda pili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ematsko se područje dijeli kao da ga pilicom režemo na jednake dijel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raljevska metod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radničkoga učenja – vrlo zahtjevna, ali i vrlo učinkov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224000" cy="11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STRUKTURA GRUPNE SLAGALICE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aza – faza individualne obrade (konstrukcija) – rad u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matičnoj grup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ili za domaću zadaću; </a:t>
            </a:r>
            <a:r>
              <a:rPr b="1" i="1" lang="hr-HR" sz="2800" spc="-1" strike="noStrike">
                <a:solidFill>
                  <a:srgbClr val="000000"/>
                </a:solidFill>
                <a:latin typeface="Tahoma"/>
              </a:rPr>
              <a:t>što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prenijeti, </a:t>
            </a:r>
            <a:r>
              <a:rPr b="1" i="1" lang="hr-HR" sz="2800" spc="-1" strike="noStrike">
                <a:solidFill>
                  <a:srgbClr val="000000"/>
                </a:solidFill>
                <a:latin typeface="Tahoma"/>
              </a:rPr>
              <a:t>kako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prenijeti i kako konsolidirati zna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aza – faza suradničke obrade (sukonstrukcija) – rad u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stručnoj gru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jedan prezentira, drugi dopunjuju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- jedan od temeljnih oblika razmjene; učenici rješavaju raznovrsne zadatk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STRUKTURA GRUPNE SLAGALICE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aza – faza prenošenja (instrukcija) – rad u </a:t>
            </a: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matičnoj gru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Tahoma"/>
              </a:rPr>
              <a:t>stručnjaci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preuzimaju ulogu nastavn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harearound” -  jedan od temeljnih oblika razmjene; učenici rješavaju istovrsne zadatke; prezentacija u smjeru kazaljke na sat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STRUKTURA GRUPNE SLAGALICE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za – faza prezentacije i integracije – frontalni r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zvani prezentiraju o područjima koja nisu obrađivali u stručnim grupama; nastavnik može putem nastavnoga razgovora s učenicima napraviti skicu na ploči koja prikazuje najvažnije rezul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cb5"/>
                </a:solidFill>
                <a:latin typeface="Tahoma"/>
              </a:rPr>
              <a:t>Pogled unatrag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1052640"/>
            <a:ext cx="2016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adničko uč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760" y="1158840"/>
            <a:ext cx="1979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lace ma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postup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14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1197000"/>
            <a:ext cx="2089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utarnja aktiv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ih uče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184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2492280"/>
            <a:ext cx="1584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snovno nač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0720" y="285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2276640"/>
            <a:ext cx="165564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zmis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zmij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zenti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4005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da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284640"/>
            <a:ext cx="17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40000" y="3645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844640"/>
            <a:ext cx="7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547640" y="1844640"/>
            <a:ext cx="115272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149720"/>
            <a:ext cx="223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struktiviz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47242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5013360"/>
            <a:ext cx="1440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93372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39640" y="5373720"/>
            <a:ext cx="64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445000"/>
            <a:ext cx="18000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suko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4724280"/>
            <a:ext cx="7308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148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"/>
          <p:cNvSpPr/>
          <p:nvPr/>
        </p:nvSpPr>
        <p:spPr>
          <a:xfrm>
            <a:off x="6659640" y="4365720"/>
            <a:ext cx="22399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že se primijeniti u svakoj fazi nastavnog s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3068640"/>
            <a:ext cx="1513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1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        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Preporučena literatura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Brunening,L.; Saum T.,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Suradničkim učenjem do uspješne nastave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,Naklada Kosinj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agreb, 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lippert, H.,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Kako uspješno učiti u timu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Zagreb, Educa,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erhart, E.,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Metode poučavanja i učenj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Zagreb, Educa,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yriacou, C.,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Temeljna nastavna umijeć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Zagreb, Educa, 199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rića, V., 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Život kao igr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, Zagreb, Algoritam, 2009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86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b9cb5"/>
                </a:solidFill>
                <a:latin typeface="Rage Italic"/>
              </a:rPr>
              <a:t>Zahvaljujemo na pozornosti</a:t>
            </a:r>
            <a:r>
              <a:rPr b="0" lang="en-US" sz="4400" spc="-1" strike="noStrike">
                <a:solidFill>
                  <a:srgbClr val="7b9cb5"/>
                </a:solidFill>
                <a:latin typeface="Rage Italic"/>
              </a:rPr>
              <a:t>!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606920" cy="338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TEMELJNO NAČELO SURADNIČKOGA UČENJA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ZMISLI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ZMIJENI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ZENTIR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1. RAZMISLITI – individualni rad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2. RAZMIJENITI – rad u paru ili grupni rad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3. PREZENTIRATI – frontalni rad; prezentira jedan ili grupa učenika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putno je konsolidirati znanje do kojega smo došli (tablice, grafički prikazi, umne mape i sl.) – vizualizacij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Suradničko učenje obuhvaća sve nastavne oblike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Individualni rad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ljučni element suradničkoga učenja; nema suradnje bez prethodnog individualnog 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KONSTRUKTIVISTIČKA TEORIJA UČENJA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astavnik učenicima </a:t>
            </a: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e prenos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nastavni sadrža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spcBef>
                <a:spcPts val="700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konstrukcij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– (u fazi razmišljanja tijekom individualnog rada); učenik potaknut zadatcima u nastavnim materijalima konstruira značenje (konstrukcija); novo se znanje povezuje s postojećim znanjem i iskustvom pa dolazi do preobrazbe spoznajnih sadržaja, tj. uče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KONSTRUKTIVISTIČKA TEORIJA UČENJA 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Tahoma"/>
              </a:rPr>
              <a:t>sukonstrukcij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– (u fazi razmjene); učenik razmjenjuje spoznaje s partnerom ili grupom učenika; uspoređuje svoje s njihovim konstrukcijama i preispituje svoje konstrukcije; posljedica je ispravljanje ili proširivanje vlastitog znanja (sukonstrukcij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jeka, 31.kolovoza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1:27:15Z</dcterms:created>
  <dc:creator>lgbelina</dc:creator>
  <dc:description/>
  <dc:language>en-US</dc:language>
  <cp:lastModifiedBy>bsmojver</cp:lastModifiedBy>
  <dcterms:modified xsi:type="dcterms:W3CDTF">2010-09-10T13:20:10Z</dcterms:modified>
  <cp:revision>36</cp:revision>
  <dc:subject/>
  <dc:title>SURADNIČKO UČENJE</dc:title>
</cp:coreProperties>
</file>