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2827-DED3-48B4-9449-50F7A8A1AC3E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ad slijedi grupni rad (sastavljanje uputa za r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VATKO SAM ZA SEBE MORA PRERADITI ODREĐENU INFORMACIJU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5B1-802C-42D6-8661-45320C28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00D-95B5-42AB-866C-9D4AD498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E79-EC5F-43A4-853D-D30120DB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F5C-B3D9-4B1B-B93E-060C7104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0A20-81AB-41CB-A8B6-9B35F841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F0DB-4BE5-4F06-A41D-D867065F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1BC6-A5DD-4B4A-8B0D-97223F77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1AC2-82CF-4851-8504-0A2F3721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2413-5102-4F1E-AAB4-60DD0A6E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8929-B48A-4D3B-AC87-57D1B92F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0117-6162-4C31-8CDC-E9BE3D03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8D8-3CDD-4488-96D9-0F6556A9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602B-7AAC-41BB-8387-8DEA6E2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ACD6-DA5E-4F99-8366-F23D4E62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3BD9-DF28-429E-A1F6-96819FC2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D1BE-7666-4281-B8E7-1247CD6E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20D8-911E-407A-8A0F-8E4C1B4A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41E-4E14-4771-9EA1-C2D3942B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981-05C6-48A8-83F9-9C57C134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4B9-897E-4B1D-A776-A8AC3BF8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FB7-659B-4DCF-988F-80A25E92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065-D58A-4A0E-B0CF-738CD311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07F-9B1F-4ADD-B77A-A98C35BF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05B-CD80-412D-A6D0-44C805E9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D031-58EF-4E30-B3B5-06A434DB03FE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8EBE-664F-40B8-8C6C-CE962385918F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SURADNIČKO UČENJ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omic Sans MS"/>
              </a:rPr>
              <a:t>Borjanka Smojver, dipl.ing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. i </a:t>
            </a:r>
            <a:r>
              <a:rPr b="0" i="1" lang="hr-HR" sz="1800" spc="-1" strike="noStrike">
                <a:solidFill>
                  <a:srgbClr val="000000"/>
                </a:solidFill>
                <a:latin typeface="Comic Sans MS"/>
              </a:rPr>
              <a:t>Linda Grubišić Belina, prof.,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KONSTRUKTIVISTIČKA TEORIJA UČENJA 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Tahoma"/>
              </a:rPr>
              <a:t>instrukcij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– (u fazi prezentacije tijekom frontalnoga rada); pojedinci ili grupe instruiraju druge iznoseći rezultate svoga rada; svaki učenik iznesene podatke najprije ugrađuje u svoju mentalnu mrežu (konstrukcija); kad uslijedi diskusija o rezultatima, potiče se nova sukonstrukcija (diskusija – sukonstrukcij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AKTIVIRANJE SVIH UČENIKA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erativ poučav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Što je zajedničko svim dobro sročenim </a:t>
            </a:r>
            <a:r>
              <a:rPr b="1" i="1" lang="en-US" sz="4000" spc="-1" strike="noStrike">
                <a:solidFill>
                  <a:srgbClr val="7b9cb5"/>
                </a:solidFill>
                <a:latin typeface="Tahoma"/>
              </a:rPr>
              <a:t>uputama za rad</a:t>
            </a: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 POSTUL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RIJEME ZA RAZMIŠLJANJE - zad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ZMJENA MIŠLJENJA - privileg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OBNA ODGOVORNOST – odgojna dimenzija suradničkoga učen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ljedice triju postul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utarnje aktiviranje i sudjelovan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urnost i smanjenje stra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liteta doprinos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b9cb5"/>
                </a:solidFill>
                <a:latin typeface="Tahoma"/>
              </a:rPr>
              <a:t>GRUPNA SLAGALICA </a:t>
            </a:r>
            <a:br>
              <a:rPr sz="4000"/>
            </a:br>
            <a:r>
              <a:rPr b="0" lang="hr-HR" sz="4000" spc="-1" strike="noStrike">
                <a:solidFill>
                  <a:srgbClr val="7b9cb5"/>
                </a:solidFill>
                <a:latin typeface="Tahoma"/>
              </a:rPr>
              <a:t>(engl. Jigsaw–Classroom)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a ili organizacijski oblik suradničkoga uče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toda pili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tematsko se područje dijeli kao da ga pilicom režemo na jednake dijel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raljevska metod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radničkoga učenja – vrlo zahtjevna, ali i vrlo učinkov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224000" cy="11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STRUKTURA GRUPNE SLAGALICE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aza – faza individualne obrade (konstrukcija) – rad u 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matičnoj grupi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ili za domaću zadaću; </a:t>
            </a:r>
            <a:r>
              <a:rPr b="1" i="1" lang="hr-HR" sz="2800" spc="-1" strike="noStrike">
                <a:solidFill>
                  <a:srgbClr val="000000"/>
                </a:solidFill>
                <a:latin typeface="Tahoma"/>
              </a:rPr>
              <a:t>što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prenijeti, </a:t>
            </a:r>
            <a:r>
              <a:rPr b="1" i="1" lang="hr-HR" sz="2800" spc="-1" strike="noStrike">
                <a:solidFill>
                  <a:srgbClr val="000000"/>
                </a:solidFill>
                <a:latin typeface="Tahoma"/>
              </a:rPr>
              <a:t>kako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prenijeti i kako konsolidirati znan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aza – faza suradničke obrade (sukonstrukcija) – rad u 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stručnoj gru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jedan prezentira, drugi dopunjuju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- jedan od temeljnih oblika razmjene; učenici rješavaju raznovrsne zadatk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STRUKTURA GRUPNE SLAGALICE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aza – faza prenošenja (instrukcija) – rad u </a:t>
            </a:r>
            <a:r>
              <a:rPr b="0" i="1" lang="hr-HR" sz="3200" spc="-1" strike="noStrike">
                <a:solidFill>
                  <a:srgbClr val="000000"/>
                </a:solidFill>
                <a:latin typeface="Tahoma"/>
              </a:rPr>
              <a:t>matičnoj gru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Tahoma"/>
              </a:rPr>
              <a:t>stručnjaci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preuzimaju ulogu nastavn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harearound” -  jedan od temeljnih oblika razmjene; učenici rješavaju istovrsne zadatke; prezentacija u smjeru kazaljke na sat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STRUKTURA GRUPNE SLAGALICE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za – faza prezentacije i integracije – frontalni r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zvani prezentiraju o područjima koja nisu obrađivali u stručnim grupama; nastavnik može putem nastavnoga razgovora s učenicima napraviti skicu na ploči koja prikazuje najvažnije rezul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Pogled unatrag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5075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1052640"/>
            <a:ext cx="2016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adničko uč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760" y="1158840"/>
            <a:ext cx="1979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lace ma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postup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141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1197000"/>
            <a:ext cx="2089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utarnja aktiv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vih uče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184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2492280"/>
            <a:ext cx="1584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snovno nač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0720" y="285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2276640"/>
            <a:ext cx="165564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zmis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zmij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zenti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400536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da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3284640"/>
            <a:ext cx="1729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40000" y="364500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1844640"/>
            <a:ext cx="7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547640" y="1844640"/>
            <a:ext cx="115272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149720"/>
            <a:ext cx="2232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struktiviz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4724280"/>
            <a:ext cx="64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5013360"/>
            <a:ext cx="1440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str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93372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39640" y="5373720"/>
            <a:ext cx="64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445000"/>
            <a:ext cx="180000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ukonstr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4724280"/>
            <a:ext cx="7308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148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loud"/>
          <p:cNvSpPr/>
          <p:nvPr/>
        </p:nvSpPr>
        <p:spPr>
          <a:xfrm>
            <a:off x="6659640" y="4365720"/>
            <a:ext cx="223992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že se primijeniti u svakoj fazi nastavnog s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3068640"/>
            <a:ext cx="1513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1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         </a:t>
            </a: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Preporučena literatura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Brunening,L.; Saum T., 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Suradničkim učenjem do uspješne nastave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,Naklada Kosinj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greb, 200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lippert, H., 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Kako uspješno učiti u timu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, Zagreb, Educa, 20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erhart, E.,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Metode poučavanja i učenja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, Zagreb, Educa, 20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yriacou, C., 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Temeljna nastavna umijeća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, Zagreb, Educa, 199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rića, V., 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Život kao igra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, Zagreb, Algoritam, 2009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86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b9cb5"/>
                </a:solidFill>
                <a:latin typeface="Rage Italic"/>
              </a:rPr>
              <a:t>Zahvaljujemo na pozornosti</a:t>
            </a:r>
            <a:r>
              <a:rPr b="0" lang="en-US" sz="4400" spc="-1" strike="noStrike">
                <a:solidFill>
                  <a:srgbClr val="7b9cb5"/>
                </a:solidFill>
                <a:latin typeface="Rage Italic"/>
              </a:rPr>
              <a:t>!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606920" cy="338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TEMELJNO NAČELO SURADNIČKOGA UČENJA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ZMISLI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ZMIJENI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ZENTIR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1. RAZMISLITI – individualni rad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2. RAZMIJENITI – rad u paru ili grupni rad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3. PREZENTIRATI – frontalni rad; prezentira jedan ili grupa učenika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putno je konsolidirati znanje do kojega smo došli (tablice, grafički prikazi, umne mape i sl.) – vizualizacij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Suradničko učenje obuhvaća sve nastavne oblike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Individualni rad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ljučni element suradničkoga učenja; nema suradnje bez prethodnog individualnog 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KONSTRUKTIVISTIČKA TEORIJA UČENJA 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astavnik učenicima </a:t>
            </a: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ne prenosi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nastavni sadrža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spcBef>
                <a:spcPts val="700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konstrukcija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– (u fazi razmišljanja tijekom individualnog rada); učenik potaknut zadatcima u nastavnim materijalima konstruira značenje (konstrukcija); novo se znanje povezuje s postojećim znanjem i iskustvom pa dolazi do preobrazbe spoznajnih sadržaja, tj. uče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KONSTRUKTIVISTIČKA TEORIJA UČENJA 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Tahoma"/>
              </a:rPr>
              <a:t>sukonstrukcij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– (u fazi razmjene); učenik razmjenjuje spoznaje s partnerom ili grupom učenika; uspoređuje svoje s njihovim konstrukcijama i preispituje svoje konstrukcije; posljedica je ispravljanje ili proširivanje vlastitog znanja (sukonstrukcij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1:27:15Z</dcterms:created>
  <dc:creator>lgbelina</dc:creator>
  <dc:description/>
  <dc:language>en-US</dc:language>
  <cp:lastModifiedBy>bsmojver</cp:lastModifiedBy>
  <dcterms:modified xsi:type="dcterms:W3CDTF">2010-09-10T13:20:36Z</dcterms:modified>
  <cp:revision>36</cp:revision>
  <dc:subject/>
  <dc:title>SURADNIČKO UČENJE</dc:title>
</cp:coreProperties>
</file>