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974-C419-40D2-BC8A-D928811E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D86-06D0-4383-A743-379C00D5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A22-AB76-49D0-A4FD-CD78FD7F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2A3-10E0-4242-9EE1-25DF3622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9A76-7725-49AC-B204-153783F4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299E-1066-4796-B41A-B44FC5B8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EAAC-BB05-42BB-B105-0264DDC6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791C-BA1B-4BED-84F5-91E4F1ED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56FF-5031-49F9-84DF-692B8DAC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6333-E2A8-4785-AFFD-DEAF9C5E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F486-AC7E-4800-8ECA-2E7C077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101-7393-45D8-B731-594793A4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698A-A510-435E-B9EC-04C302AF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71D6-7C0E-4A68-881F-68D5F362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E3F4-6EA8-46DC-AFFD-38A8F66F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95E3-B73D-481D-978E-071B10B3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AB71-94AB-4809-ABD7-C9716753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826-06E3-4405-8843-D62F5B33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BFE-5BE7-4C20-AC42-9445BE99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B8A-834D-4CD5-A9F0-5D4D8941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72C-D09B-4A1E-998E-9D1EF19E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318-64CA-4206-B64F-22B6FDA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146-5C5C-4120-8E7D-CF176439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1C0-0A00-420D-AEDD-CD34DF50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2BB4-3A79-42B1-8C1B-32638D1E14C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E586-6E20-4C5A-ADC7-8DDF220377B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ZAŠTITA I BOLESTI PROBAVNIH ORGANA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55640" y="299736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PRIMJER OBRADE NOVOG GRADIV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RADOM U SKUPINAM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Natalija Zoričić, prof.ment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748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3.KORAK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kako učenici ne bi gubili vrijeme na prepisivanje dobit će listove s planom ploče u obliku mentalne mape s napisanim glavnim pojmovima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- učenici imaju zadatak da za domaću zadaću nadopune tražene činjenice koje smo zajedno obradili te tako utvrde gradivo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132000" y="2637000"/>
            <a:ext cx="2448000" cy="129528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ZAŠTITA I BOLESTI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ROBAVNIH ORGA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2565360"/>
            <a:ext cx="1224000" cy="64764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ZUBI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1844640"/>
            <a:ext cx="1150920" cy="64764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KARIJE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24000" y="1700280"/>
            <a:ext cx="1224000" cy="64764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GRANULOM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8000" y="1916280"/>
            <a:ext cx="1152360" cy="62676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NEZARAZN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08360" y="1413000"/>
            <a:ext cx="1081080" cy="62676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VRIJED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981000"/>
            <a:ext cx="1008000" cy="62712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GASTRITI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1341360"/>
            <a:ext cx="1296720" cy="69840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UPALA SLIJ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CRIJEV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2349360"/>
            <a:ext cx="914400" cy="62712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RAK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3933720"/>
            <a:ext cx="1274760" cy="79236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NAMETNICI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4005360"/>
            <a:ext cx="2016000" cy="86364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TROVANJA HRANOM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3716280"/>
            <a:ext cx="1440000" cy="77004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DJEČJA GLIST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4724280"/>
            <a:ext cx="1130400" cy="62568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TRAKAVIC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4797360"/>
            <a:ext cx="1131840" cy="62712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TRIHIN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5084640"/>
            <a:ext cx="1203120" cy="62568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SALMONEL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0720" y="4797360"/>
            <a:ext cx="1079640" cy="62712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HEPATITI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1081080" cy="648000"/>
          </a:xfrm>
          <a:prstGeom prst="ellipse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GRIŽ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547280" y="2421000"/>
            <a:ext cx="287640" cy="287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84360" y="2349360"/>
            <a:ext cx="14292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932360" y="2492280"/>
            <a:ext cx="21600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716360" y="1915920"/>
            <a:ext cx="216000" cy="14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64000" y="1557000"/>
            <a:ext cx="71640" cy="358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940360" y="1989000"/>
            <a:ext cx="360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2492280"/>
            <a:ext cx="432000" cy="14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92000" y="3789360"/>
            <a:ext cx="7164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3789360"/>
            <a:ext cx="21564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627280" y="3141360"/>
            <a:ext cx="504720" cy="142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84720" y="4005360"/>
            <a:ext cx="216000" cy="71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4724280"/>
            <a:ext cx="289080" cy="14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35640" y="4869000"/>
            <a:ext cx="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19640" y="4724280"/>
            <a:ext cx="215640" cy="73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484360" y="4581360"/>
            <a:ext cx="28728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411280" y="4292640"/>
            <a:ext cx="216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26560" y="2492280"/>
            <a:ext cx="28908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39640" y="1484280"/>
            <a:ext cx="216000" cy="50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187280" y="1267920"/>
            <a:ext cx="14472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1907640" y="1267920"/>
            <a:ext cx="360360" cy="505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411280" y="836280"/>
            <a:ext cx="216000" cy="863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916360" y="765000"/>
            <a:ext cx="215640" cy="935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780000" y="2060640"/>
            <a:ext cx="28728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708360" y="1052280"/>
            <a:ext cx="21600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284720" y="692280"/>
            <a:ext cx="0" cy="720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003640" y="475920"/>
            <a:ext cx="14472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35640" y="620280"/>
            <a:ext cx="14436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796000" y="691920"/>
            <a:ext cx="72072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32720" y="836640"/>
            <a:ext cx="792000" cy="50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628640"/>
            <a:ext cx="648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1989000"/>
            <a:ext cx="574560" cy="14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48360" y="2492280"/>
            <a:ext cx="648000" cy="73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8360" y="2852640"/>
            <a:ext cx="576360" cy="14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7640" y="2997360"/>
            <a:ext cx="216000" cy="14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093080" y="3499920"/>
            <a:ext cx="287280" cy="73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36000" y="3933720"/>
            <a:ext cx="431640" cy="7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77080" y="4149720"/>
            <a:ext cx="574560" cy="287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187280" y="3573360"/>
            <a:ext cx="21600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39640" y="4149720"/>
            <a:ext cx="503280" cy="287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76360" y="450864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900000" y="4437000"/>
            <a:ext cx="503280" cy="647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331640" y="5229360"/>
            <a:ext cx="360360" cy="57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050920" y="5373720"/>
            <a:ext cx="144720" cy="792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5300640"/>
            <a:ext cx="43200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36000" y="4869000"/>
            <a:ext cx="576000" cy="7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4360" y="5373720"/>
            <a:ext cx="432000" cy="431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32720" y="5445000"/>
            <a:ext cx="431640" cy="720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276720" y="5373720"/>
            <a:ext cx="7128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5445000"/>
            <a:ext cx="216000" cy="720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5300640"/>
            <a:ext cx="433440" cy="1081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003280" y="5661000"/>
            <a:ext cx="73080" cy="432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5640" y="5734080"/>
            <a:ext cx="288720" cy="719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96000" y="5661000"/>
            <a:ext cx="21600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7327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7d47d"/>
                </a:solidFill>
                <a:latin typeface="Arial"/>
              </a:rPr>
              <a:t>3. PONAVLJANJE – </a:t>
            </a: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učenici će dobiti  tablicu za ponavljanje u kojoj za navedene bolesti trebaju nadopuniti uzročnika</a:t>
            </a:r>
            <a:br>
              <a:rPr sz="2800"/>
            </a:b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- na ploči je isti zadatak zadan na način da treba spojiti odgovarajuće pojmove koji su ispisani na kartonu i zalijepljeni UHU patafix ljepilom</a:t>
            </a:r>
            <a:br>
              <a:rPr sz="2800"/>
            </a:br>
            <a:r>
              <a:rPr b="0" lang="hr-HR" sz="3200" spc="-1" strike="noStrike">
                <a:solidFill>
                  <a:srgbClr val="f7d47d"/>
                </a:solidFill>
                <a:latin typeface="Arial"/>
              </a:rPr>
              <a:t>4. OCJENJIVANJE – </a:t>
            </a: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učenici će svoj rad u skupini procijeniti ispunjavanjem tablice za samovrjednovanje.Njihova i naša procjena rada zajedno s domaćom zadaćom može biti osnova za ocjenu iz praktičnog rada ili zalaganja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68360" y="5373720"/>
            <a:ext cx="564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63520" y="404640"/>
          <a:ext cx="7386480" cy="61052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ZROCI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OLESTI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RANULOM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RIJ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PALA CRVULJK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ALMONEL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EPATITIS 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RIŽ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IHIN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404640"/>
          <a:ext cx="7386840" cy="5929560"/>
        </p:xfrm>
        <a:graphic>
          <a:graphicData uri="http://schemas.openxmlformats.org/drawingml/2006/table">
            <a:tbl>
              <a:tblPr/>
              <a:tblGrid>
                <a:gridCol w="3694320"/>
                <a:gridCol w="369252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ZROCI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OLESTI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LIJEČENI KARIJ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RANULOM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RES, NEPRAVILNA PREHRAN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RIJ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RANO TIJELO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PALA CRVULJK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OVANJE BAKTERIJAM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ALMONEL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RUSOM ZARAŽENA HRAN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EPATITIS 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RDOBOLJNA AMEB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GRIŽ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EDOVOLJNO PEČENA HRAN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IHINA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22603E91"/>
          <p:cNvPicPr/>
          <p:nvPr/>
        </p:nvPicPr>
        <p:blipFill>
          <a:blip r:embed="rId1">
            <a:lum bright="-24000"/>
          </a:blip>
          <a:srcRect l="0" t="13657" r="0" b="0"/>
          <a:stretch/>
        </p:blipFill>
        <p:spPr>
          <a:xfrm>
            <a:off x="0" y="1484280"/>
            <a:ext cx="7596360" cy="5113440"/>
          </a:xfrm>
          <a:prstGeom prst="rect">
            <a:avLst/>
          </a:prstGeom>
          <a:ln w="9360">
            <a:solidFill>
              <a:srgbClr val="2f1311"/>
            </a:solidFill>
            <a:miter/>
          </a:ln>
        </p:spPr>
      </p:pic>
      <p:sp>
        <p:nvSpPr>
          <p:cNvPr id="280" name="Text Box 5"/>
          <p:cNvSpPr/>
          <p:nvPr/>
        </p:nvSpPr>
        <p:spPr>
          <a:xfrm>
            <a:off x="900000" y="260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Samovrjednovane unutar skupin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VALA NA PAŽNJI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 STRPLJENJU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4967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27160"/>
            <a:ext cx="7445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CILJ: upoznati učenike s putevima zaraze probavnih organa i načinima prevencije, razumjeti povezanost nepravilne i neredovite prehrane s posljedicama po zdravlj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73454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KLJUČNI POJMOVI: zubi i zdravlje,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ezarazne bolesti, trovanja hranom, crijevni nametnici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OBRAZOVNA POSTIGNUĆA: navesti važnost higijenskih navika, redovite i pravilne njege zubi te redovitog odlaska kod zubar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74772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OBLICI RADA: čelni, individualni, rad u skupinama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ASTAVNE METODE: razgovor,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rad s tekstom i radnim listovima,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zlaganje, demonstracija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KTIVNOSTI UČENIKA: pročitati tekst, razgovarati o pročitanom, ispuniti radne listove, zapisati i izložiti bitn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7232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NASTAVNA SREDSTVA I POMAGALA: udžbenik, stručna literatura, internet, slike bolesti, prozirnica, grafoskop, radni listovi, uhu patafix ljepilo</a:t>
            </a:r>
            <a:br>
              <a:rPr sz="3600"/>
            </a:b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KORELACIJA: kemija – kemijski spojevi koji sprječavaju kvarenje hrane i kako djeluju na zdravlj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727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TIJEK SATA:</a:t>
            </a:r>
            <a:br>
              <a:rPr sz="3600"/>
            </a:br>
            <a:br>
              <a:rPr sz="3600"/>
            </a:br>
            <a:r>
              <a:rPr b="0" lang="hr-HR" sz="3200" spc="-1" strike="noStrike">
                <a:solidFill>
                  <a:srgbClr val="f7d47d"/>
                </a:solidFill>
                <a:latin typeface="Arial"/>
              </a:rPr>
              <a:t>1. UVODNI DIO </a:t>
            </a: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:</a:t>
            </a:r>
            <a:br>
              <a:rPr sz="2800"/>
            </a:br>
            <a:r>
              <a:rPr b="1" lang="hr-HR" sz="2800" spc="-1" strike="noStrike">
                <a:solidFill>
                  <a:srgbClr val="f7d47d"/>
                </a:solidFill>
                <a:latin typeface="Arial"/>
              </a:rPr>
              <a:t>Motivacija:</a:t>
            </a: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 - projicirati prozirnicu s rebusom čije rješenje je tema sata</a:t>
            </a:r>
            <a:br>
              <a:rPr sz="2800"/>
            </a:b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- najaviti cilj sata lijepljenjem naslova na sredini ploč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632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2997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- ako imamo blok sat možemo ponoviti građu i ulogu probavnih organa lijepljenjem sličica s dijelovima organa i karticama na kojima je  napisana njihova uloga</a:t>
            </a:r>
            <a:br>
              <a:rPr sz="2800"/>
            </a:b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-  u nastavku podijeliti učenike u skupine izvlačenjem brojeva na papirićima ( zbog različita obima gradiva skupine nemaju isti broj učenika, ukupno najbolje 24 uč. ):</a:t>
            </a: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1.Skupina 4 učenika obrađuje </a:t>
            </a:r>
            <a:r>
              <a:rPr b="1" i="1" lang="hr-HR" sz="2800" spc="-1" strike="noStrike">
                <a:solidFill>
                  <a:srgbClr val="f7d47d"/>
                </a:solidFill>
                <a:latin typeface="Arial"/>
              </a:rPr>
              <a:t>bolesti zubi</a:t>
            </a: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, </a:t>
            </a:r>
            <a:br>
              <a:rPr sz="2800"/>
            </a:b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2.Skupina 8 uč. </a:t>
            </a:r>
            <a:r>
              <a:rPr b="1" i="1" lang="hr-HR" sz="2800" spc="-1" strike="noStrike">
                <a:solidFill>
                  <a:srgbClr val="f7d47d"/>
                </a:solidFill>
                <a:latin typeface="Arial"/>
              </a:rPr>
              <a:t>nezarazne bolesti</a:t>
            </a: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, </a:t>
            </a:r>
            <a:br>
              <a:rPr sz="2800"/>
            </a:b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3.Skupina 6 uč. </a:t>
            </a:r>
            <a:r>
              <a:rPr b="1" i="1" lang="hr-HR" sz="2800" spc="-1" strike="noStrike">
                <a:solidFill>
                  <a:srgbClr val="f7d47d"/>
                </a:solidFill>
                <a:latin typeface="Arial"/>
              </a:rPr>
              <a:t>zarazne</a:t>
            </a: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800"/>
            </a:b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4.Skupina 6 uč. </a:t>
            </a:r>
            <a:r>
              <a:rPr b="1" i="1" lang="hr-HR" sz="2800" spc="-1" strike="noStrike">
                <a:solidFill>
                  <a:srgbClr val="f7d47d"/>
                </a:solidFill>
                <a:latin typeface="Arial"/>
              </a:rPr>
              <a:t>nametnike</a:t>
            </a: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2060640"/>
            <a:ext cx="756144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2. OBRADA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: 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1.KORAK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- zadati učenicima da pročitaju iz udžbenika i dodatne literature tekst koji je zadan njihovoj grupi, prouče slike i podijele zadatke te ispišu na pripremljene radne listove glavne natuknice  o uzročnicima i načinu zaraze, posljedicama i preventivi ( 15 min )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2.KORAK – predstavnici skupina dolaze pred ploču, lijepe svoj radni list na nju kao dio plana ploče te uz pomoć slika koje sam pripremila iznose najvažnije činjenice o zadanoj bolesti 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( 20 min )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6:19:43Z</dcterms:created>
  <dc:creator>Ivan Zoričić</dc:creator>
  <dc:description/>
  <dc:language>en-US</dc:language>
  <cp:lastModifiedBy>Davor Zoričić</cp:lastModifiedBy>
  <dcterms:modified xsi:type="dcterms:W3CDTF">2010-08-31T17:07:23Z</dcterms:modified>
  <cp:revision>33</cp:revision>
  <dc:subject/>
  <dc:title>ZAŠTITA I BOLESTI PROBAVNIH ORGANA</dc:title>
</cp:coreProperties>
</file>