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01B5-54CD-45B0-95FF-279BD694603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B5B6-48F3-4C2C-AEE3-46FB972321B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482-B730-4BE6-83C2-3E718FC6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AD7-7359-4AA7-A2B7-5DA961B8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032-4142-4A51-BF44-23B24F95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F13-8770-4194-9A0F-622CFCAC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AC0-4D4C-44C7-8CFE-F8E8A25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46E-1E9C-43BE-BF31-18DC7985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F69-D01F-45CD-A516-04C10B4E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9D0-284F-4DBF-A528-D043327E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E4D-E551-4A59-B152-DC289E6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09D-598A-47EC-BBB0-838B880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B0B-3797-4057-A4C8-E3F5165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BED-808A-4842-B03C-7AC0495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528-9826-44D6-BD22-BA8219C5076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Kultura rada s pogrešk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4436640"/>
            <a:ext cx="59515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Ladislava Bunjački, učiteljica savj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404040"/>
                </a:solidFill>
                <a:latin typeface="Calibri"/>
              </a:rPr>
              <a:t>OŠ Silvija Strahimira Kranjčevića, Zagr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Arial"/>
              </a:rPr>
              <a:t>Kultura rada s pogrešk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greška se odjednom smatra nečim sasvim drugim: ona je dokaz o napretku u procesu uče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Tko stupa na novi teritorij, taj griješi i to je neizbjež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ANALIZA-NAKON-A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Metoda 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ANA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(analiza-nakon-akcije) omogućava učenje iz pogrešaka koje su se dogodile na ter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 rani osamdesetim metodu uvodi vojska SAD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ANALIZA-NAKON-A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ces "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analiza-nakon-akcij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" kojeg su u svakodnevnoj praksi primijenile i mnoge uspješne kompanije u stvari je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trukturirana diskusij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ilo da je takva diskusija formalne ili neformalne prirode, uvijek pokušava odgovoriti na četiri ključna pitanja: </a:t>
            </a:r>
            <a:br>
              <a:rPr sz="2800"/>
            </a:b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Što su naši ciljevi? Što smo željeli postići? </a:t>
            </a:r>
            <a:br>
              <a:rPr sz="2800"/>
            </a:b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2. Što se dogodilo? </a:t>
            </a:r>
            <a:br>
              <a:rPr sz="2800"/>
            </a:b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3. Zašto se to dogodilo? </a:t>
            </a:r>
            <a:br>
              <a:rPr sz="2800"/>
            </a:b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4. Što možemo poduzeti u skladu s tim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ANALIZA-NAKON-A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uspješno uvođenje metode prijeko je potrebno da lideri stv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sigurno okruženje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nesmetano odvijanje iskrenih razgovora u  kojima se sve vrste pitanja mogu slobodno postavljat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ljuč uspjeha su postavljanje otvorenih pitanja, kao i priče lidera o vlastitim greškam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rilyn Dar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hr-HR" sz="3600" spc="-1" strike="noStrike">
                <a:solidFill>
                  <a:srgbClr val="000000"/>
                </a:solidFill>
                <a:latin typeface="Calibri"/>
              </a:rPr>
              <a:t>U kojoj mjeri u našim školama učenici cijene/ vrednuju pogreške koje su učini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nici uglavnom nemaju osjećaj da ne smiju pogriješiti, ali ipak način na koji učitelji ili vršnjaci u nastavi komentiraju pogreške doživljavaju kao uvredu i sramo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Sigurno okruž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Dr.William Glas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Moramo stvoriti uvjete u kojima se učenici osjećaju sigurnima da mogu riskirati neuspje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trah je glavna prepreka učenju, strah od neuspjeha, strah od kritike, strah da ću ispasti gl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Nastavnik u kvalitetnoj školi omogućava učeniku da griješi bez kazn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Sigurno okruž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Dr.William Glas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Kada se ukloni strah, onda učenik iskušava svoje moguć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Izjaviti dobrodošlicu pogreškama znači ohrabriti dij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Stvoriti povjerenje znači stvoriti osjećaj: ja sam ovdje da ti pomognem, a ne da te povrijedim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Sigurno okruž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ažno je da učitelj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jasno razgraniči fazu vježbanja i ispitiva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da to u svakoj fazi učini transparentnim za učeni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084720" y="4292640"/>
            <a:ext cx="225756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Sigurno okruž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ticati postavljanje pit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Ne ukazivati izravno na rješenje, nego pomoći u pronalaženju strategija pomoću kojih će sami riješiti svoj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2255760" cy="1752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659640" y="1197000"/>
            <a:ext cx="175572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227640" y="4508640"/>
            <a:ext cx="25797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Sigurno okruž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Pogreške koje čine učenici velika s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prilika za uče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 takav rad je potrebno mnogo više vremena, ali se time povećava vjerojatnost da će razumijevanje gradiva biti dubl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ces učenja u kurikularnom pristupu“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(2009.-2010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Proje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Agencije za odgoj i obrazovan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Ureda austrijske koordinatorice za prosvjet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f497d"/>
                </a:solidFill>
                <a:latin typeface="Arial"/>
              </a:rPr>
              <a:t>s</a:t>
            </a: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uradnju po nalogu Saveznog ministar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za nastavu, umjetnost i kulturu Republike Austr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f497d"/>
                </a:solidFill>
                <a:latin typeface="Arial"/>
              </a:rPr>
              <a:t>U</a:t>
            </a:r>
            <a:r>
              <a:rPr b="0" lang="hr-HR" sz="2800" spc="-1" strike="noStrike">
                <a:solidFill>
                  <a:srgbClr val="1f497d"/>
                </a:solidFill>
                <a:latin typeface="Calibri"/>
              </a:rPr>
              <a:t>druge KulturKontakt Austr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titre 1" descr=""/>
          <p:cNvPicPr/>
          <p:nvPr/>
        </p:nvPicPr>
        <p:blipFill>
          <a:blip r:embed="rId5"/>
          <a:stretch/>
        </p:blipFill>
        <p:spPr>
          <a:xfrm>
            <a:off x="826920" y="476280"/>
            <a:ext cx="230508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356000" y="476280"/>
            <a:ext cx="36417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hr-HR" sz="3600" spc="-1" strike="noStrike">
                <a:solidFill>
                  <a:srgbClr val="000000"/>
                </a:solidFill>
                <a:latin typeface="Calibri"/>
              </a:rPr>
              <a:t>U kojoj mjeri u našim školama učitelji cijene/ vrednuju pogreške koje su učini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43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dijeliti i reflektirati iskustva u mrež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Lotieov “obrazac autonomije i pariteta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- ono što se dogodi u učionici isključivo je stvar nastavnika koji u njoj drži nast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- nastavnike doživljavati kao jednake među jednak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hr-HR" sz="3600" spc="-1" strike="noStrike">
                <a:solidFill>
                  <a:srgbClr val="000000"/>
                </a:solidFill>
                <a:latin typeface="Calibri"/>
              </a:rPr>
              <a:t>U kojoj mjeri u našim školama učitelji cijene/ vrednuju pogreške koje su učini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3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dijeliti i reflektirati iskustva u mrež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ako izgraditi kulturu “učenja od drugih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Hospitacije među koleg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ritički prijate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avila feedbac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Primjeri iz nast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Domaća zadać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ogreške na ploč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ogreške u bilježn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Analiza pisanih ispita zn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Auk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300720" y="3933720"/>
            <a:ext cx="20908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Dogovor s učenicima o pisanju zadać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Zadatak koji učenik ne zna riješiti prepiše u bilježnicu i ostavi mjesta za njegovo rješe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Zadatak u zadaći možemo i krivo riješiti, to neće imati utjecaja na ocj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rije zadavanja zadaće razmislim o cilju zadavanja zadać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manjim zadaću na najmanju mjeru, učinim je kraćom i smislenij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rovjeravanje zadać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a uvodnom dijelu satu analiziram zadaću 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sam zadala (10 – 15 minu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čenici u skupinama po četvero usuglase svoja rješenja (5 minu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a klupi im je otvorena bilježnica i u ruci crvena olov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čitelj obilazi skupine,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promatra i sluš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e brišu netočna rješenja, pored njih napišu točan odgovor ako su ga usuglas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zadatke koji su i nakon toga nejasni na ploči rješava učenik čije rješenje je drugačije i ne vidi gdje je pogriješ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Ocjenjivanje domaće zadać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menik za učenike od 5. do 8. razreda ima u rubrici za matematiku jednu od komponenata “zadać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ema pravilniku za ocjenjivanje tu treba stajati ocj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Zašto samo matematika u osnovnoj školi ima tu komponentu za ocjenjivanj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Calibri"/>
              </a:rPr>
              <a:t>Pogreške na ploči - satovi vjež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Calibri"/>
              </a:rPr>
              <a:t>Odvojiti fazu vježbanja od faze ispitivanja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nicima treba biti dopušteno da trenutno “krivo” odgo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dgovore je ponekad korisno staviti na “čekanj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Na ploču napisati sva rješenja koja učenici ponude (i pogrešna), provesti diskusiju, pronaći pogreške, učiniti ih vidljivim na ploči i u bilježn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Calibri"/>
              </a:rPr>
              <a:t>Pogreške na ploči - satovi vjež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rešni odgovori” ponekad mogu biti korisniji od točnih. Najvažniji je proces koji je učenika doveo do odgovo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Eric Jensen “Super nastav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2579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Pogreške u bilježn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lika za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greška se ne briš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itelj obilazi učenike, </a:t>
            </a:r>
            <a:r>
              <a:rPr b="1" i="1" lang="hr-HR" sz="2800" spc="-1" strike="noStrike">
                <a:solidFill>
                  <a:srgbClr val="ff0000"/>
                </a:solidFill>
                <a:latin typeface="Calibri"/>
              </a:rPr>
              <a:t>promatra i sluš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 sigurnom okruženju učenik će tražiti pomoć učitelja ili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Učitelj opažanjem može saznati puno o svojim učenicima, o njihovom stavu prema učenj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Projektni ti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oditeljica projekta – AZO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anja Milović, viša savjetnica za međunarodnu suradn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voditeljica projekta – K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Anita Pašalić, KulturKontakt, Austr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oordinator projekt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Boris Vampula, viši savjetnik za međunarodnu suradnju, AZ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uradnik na projektu – inozemni predavač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mr. sc. Brigitte Schröder, ravnateljica Centra za osobni i profesionalni razvoj, Austr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Trajanje projekta: v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ja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2009. - listopad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0000"/>
                </a:solidFill>
                <a:latin typeface="Calibri"/>
              </a:rPr>
              <a:t>Kako učenik postupa ako tijekom procesa učenja nastanu poteškoć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rži se prethodnog postupka, pokušava pono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Analizira pogreške i donosi zaključ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uzima mjere za promjenu postup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oli za pomoć druge učenike ili nastav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stavlja zadatak nedovršenim i započinje n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pisuje rješenje (kako bi ispunio dužn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Analiza pisanih isp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nici u grupama traže pogreške koje su se pojavile na isp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Obrazlažu kako je došlo do pogre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lasificiraju pogre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(pogreška koncentracije, suštinska pogreška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enose zaključke drugim učenic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Auk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Učenici rješavaju zadat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Rješenja (točna i pogrešna) se “prodaju” na aukc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Učenici u grupama nastoje “kupiti” što više točnih rješ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Nakon aukcije slijedi anali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Tolerancija prema pogreškama!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771640" y="1484280"/>
            <a:ext cx="2006640" cy="3992400"/>
            <a:chOff x="2771640" y="1484280"/>
            <a:chExt cx="2006640" cy="3992400"/>
          </a:xfrm>
        </p:grpSpPr>
        <p:sp>
          <p:nvSpPr>
            <p:cNvPr id="121" name=""/>
            <p:cNvSpPr/>
            <p:nvPr/>
          </p:nvSpPr>
          <p:spPr>
            <a:xfrm>
              <a:off x="3411000" y="1996920"/>
              <a:ext cx="785160" cy="80460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71640" y="1790640"/>
              <a:ext cx="904680" cy="129060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3760" y="2860560"/>
              <a:ext cx="473760" cy="12110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2640" y="2894040"/>
              <a:ext cx="721800" cy="930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99880" y="3948120"/>
              <a:ext cx="878400" cy="150336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47640" y="3944880"/>
              <a:ext cx="590760" cy="15318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979800" y="1484280"/>
              <a:ext cx="362880" cy="452520"/>
              <a:chOff x="3979800" y="1484280"/>
              <a:chExt cx="362880" cy="452520"/>
            </a:xfrm>
          </p:grpSpPr>
          <p:sp>
            <p:nvSpPr>
              <p:cNvPr id="128" name=""/>
              <p:cNvSpPr/>
              <p:nvPr/>
            </p:nvSpPr>
            <p:spPr>
              <a:xfrm>
                <a:off x="4050360" y="1484280"/>
                <a:ext cx="292320" cy="31428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79800" y="1851120"/>
                <a:ext cx="91080" cy="856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Arial"/>
              </a:rPr>
              <a:t>Za kraj nekoliko dobro poznatih poslov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7676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Tko radi taj i griješ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Griješiti je ljudsk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Na greškama se uč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ranz Hofmann: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Jačanje osobnosti i socijalno učenje u nasta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lf Caspary: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Samo onaj tko griješi ide dalje. Putovi k novoj kulturi uč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ilyn Darling: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Učenje na pogrešk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edviđeno je da se ciklus seminara 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6 modula po 2 dana održi tijekom 2009. i 2010. god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Ciljna skupina i korisnic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20 – 25 voditelja Županijskih stručnih vijeća (sve razine OŠ - SŠ, predmetna raznolikost, nacionalna zastupljen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Program aktivnosti, seminara: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ul 1: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Razumjeti, omogućiti i pratiti uče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dul 2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Proces učenja iz perspektive nastavni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dul 3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Proces učenja iz perspektive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dul 4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:  Proces učenja među učitelj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dul 5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Pogled na razred, p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raće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izvođenja nastave kolega/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(hospitacije, posjet)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u  Austriji 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Hrvatsk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odul 6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Obuhvatiti i vrednovat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Ciljevi projek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Razumjeti, pratiti, vrednovati i poboljšati proces učen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ticati razvoj kompetencija koje su potrebne za uspješan rad u kontekstu stručnog usavršavanja nastav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zraditi priručnik/portfolio za voditelje i voditeljice stručnih vijeć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Arial"/>
              </a:rPr>
              <a:t>Kultura rada s pogrešk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greška kao slučajno odstupanje od prav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Učenje metodom pokušaja i pogreš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ultura ispravljanja pogreš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Calibri"/>
              </a:rPr>
              <a:t>Kultura rada s pogrešk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404040"/>
                </a:solidFill>
                <a:latin typeface="Calibri"/>
              </a:rPr>
              <a:t>Reinhard Kahl “ Pogreška je začin učenja”</a:t>
            </a:r>
            <a:r>
              <a:rPr b="1" i="1" lang="hr-HR" sz="28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   “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Možda se neki od nas sjećaju djetinjstva, nervoznih roditelja za ručkom i večerom kada su se kontrolirale zadaće: ‘Pa kako si to opet pogriješio/pogriješila?!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Samo ne pogriješiti! To je u pozadini svega bila poruka ispisana crvenom tint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Kako su na to reagirali učenic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Glumili su savršenstvo, inteligentno su treptali očicama umjesto da postavljaju navodno glupa pitanj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hr-HR" sz="24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000000"/>
                </a:solidFill>
                <a:latin typeface="Arial"/>
              </a:rPr>
              <a:t>Kultura rada s pogrešk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Jesi li danas već pogriješio/pogriješila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sto pitanje, samo s drugačijim naglaskom, savjetnici za upravljanje ljudskim resursima u posljednje vrijeme često postavljaj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a tog pitanja krije se posve nova pretpostavka: 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tko još nije pogriješio, taj možda još nije učinio ništa, ili se barem još nije pokrenu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9:46:12Z</dcterms:created>
  <dc:creator>Bunjacki</dc:creator>
  <dc:description/>
  <dc:language>en-US</dc:language>
  <cp:lastModifiedBy> LADA</cp:lastModifiedBy>
  <dcterms:modified xsi:type="dcterms:W3CDTF">2010-04-06T20:46:36Z</dcterms:modified>
  <cp:revision>28</cp:revision>
  <dc:subject/>
  <dc:title>PRESENTATION  NAME</dc:title>
</cp:coreProperties>
</file>