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F5DA-DE1A-4FBC-AACD-D06F0F02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FD3D-0265-4683-9533-B91A6DCB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867B-9E35-4650-8E00-5C4B70A1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1536-15D4-4DD8-8EFD-65AC6253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7E16-2AC0-4FD9-9ECB-8AD29935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3705-8348-4FA3-A02E-FEC2C4D8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81DC-B49A-4B69-B53F-7CE83B69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8C83-CFFD-4E88-847D-DDFB9F59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B387-AA76-47B1-AA4E-36022179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711D-1E53-4BCC-977A-BF1F99A7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9500-13A5-47FE-B319-BC9FC925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73C-5C3F-494D-9AF7-8D2E1ADE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3CA8-830F-4362-9DAD-119C4D9C1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clipartof.com/small/33078-Clipart-Illustration-Of-A-Female-Math-Teacher-And-Students-With-A-Calculator-And-Numbers.jpg" TargetMode="External"/><Relationship Id="rId3" Type="http://schemas.openxmlformats.org/officeDocument/2006/relationships/image" Target="../media/image6.jpeg"/><Relationship Id="rId4" Type="http://schemas.openxmlformats.org/officeDocument/2006/relationships/package" Target="../embeddings/oleObject1.xls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pages.scu.edu/ftp/kbobbin/math-teacher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Aktivno učenje u nastavi matemati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48360" y="5660640"/>
            <a:ext cx="37764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r. sc. Sanja Rukav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anjar@math.uniri.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Rezultati obrade provedene anke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čenici su ispitivani o kvaliteti održane radionice i stavovima o matematici odmah po završetku radionice. Budući da je ispitivani uzorak bio heterogen s obzirom na dob, ponuđena su vrlo kratka i jednostavna pitanja, na koja je svim učenicima bilo moguće odgovoriti u kratkom vremenu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Anketa se sastojala od 6 anketnih pitanja: 3 pitanja s ponuđenim odgovorima, jedno ocjensko pitanje i dva pitanja u kojima su učenici mogli dati svoje komenta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Uzor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Matematik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636 anketiranih /649 sudionika (98 %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 ispitivanju su sudjelovali učenici dobi od 10 do 15 godina, odnosno 4. do 8. razreda osnovne ško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egled broja anketrianih učenika prema radionicama i prema dobi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1916280"/>
          <a:ext cx="8278560" cy="4542840"/>
        </p:xfrm>
        <a:graphic>
          <a:graphicData uri="http://schemas.openxmlformats.org/drawingml/2006/table">
            <a:tbl>
              <a:tblPr/>
              <a:tblGrid>
                <a:gridCol w="4141440"/>
                <a:gridCol w="706320"/>
                <a:gridCol w="575280"/>
                <a:gridCol w="705600"/>
                <a:gridCol w="705960"/>
                <a:gridCol w="1443960"/>
              </a:tblGrid>
              <a:tr h="502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DIO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Z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KUP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tematika i sudo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Eksperimentalno odr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đivanje broja 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omozite Josephu Kruskalu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tematički origa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Zlatni re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Zaokružimo ig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kup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cjene radionica prema naslovima. Prikazane su srednje vrijednosti i standardne devijacije (SD)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1981080"/>
          <a:ext cx="7772040" cy="4114440"/>
        </p:xfrm>
        <a:graphic>
          <a:graphicData uri="http://schemas.openxmlformats.org/drawingml/2006/table">
            <a:tbl>
              <a:tblPr/>
              <a:tblGrid>
                <a:gridCol w="4674600"/>
                <a:gridCol w="1666800"/>
                <a:gridCol w="1430640"/>
              </a:tblGrid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DIO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rednja ocj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dion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t.de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S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tematika i sudo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Eksperimentalno određivanje broja 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omozite Josephu Kruska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tematički origa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Zlatni re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Zaokružimo ig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kupno za radionice iz matemat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cjene radionica prema dobi učenika. Prikazane su srednje vrijednosti i standardne devijacije</a:t>
            </a:r>
            <a:r>
              <a:rPr b="1" lang="hr-H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5800" y="1981080"/>
          <a:ext cx="7772040" cy="4114080"/>
        </p:xfrm>
        <a:graphic>
          <a:graphicData uri="http://schemas.openxmlformats.org/drawingml/2006/table">
            <a:tbl>
              <a:tblPr/>
              <a:tblGrid>
                <a:gridCol w="1594800"/>
                <a:gridCol w="1567080"/>
                <a:gridCol w="1767600"/>
                <a:gridCol w="1954080"/>
                <a:gridCol w="888480"/>
              </a:tblGrid>
              <a:tr h="151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dion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zrast učen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Broj anketiranih učen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red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cj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dion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1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. raz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. raz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. raz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. raz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50920" y="2492280"/>
          <a:ext cx="8641800" cy="4176000"/>
        </p:xfrm>
        <a:graphic>
          <a:graphicData uri="http://schemas.openxmlformats.org/drawingml/2006/table">
            <a:tbl>
              <a:tblPr/>
              <a:tblGrid>
                <a:gridCol w="1716120"/>
                <a:gridCol w="1441800"/>
                <a:gridCol w="1786320"/>
                <a:gridCol w="1911600"/>
                <a:gridCol w="1785960"/>
              </a:tblGrid>
              <a:tr h="10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Na ovoj sam radionici naučio/la manje, jednako ili više u odnosu na “običan” 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DION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zrast učen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jednak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iš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TEMATI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. raz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. raz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. raz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. raz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0" y="0"/>
          <a:ext cx="3686040" cy="2543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68604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250920" y="2708280"/>
          <a:ext cx="8642160" cy="4059360"/>
        </p:xfrm>
        <a:graphic>
          <a:graphicData uri="http://schemas.openxmlformats.org/drawingml/2006/table">
            <a:tbl>
              <a:tblPr/>
              <a:tblGrid>
                <a:gridCol w="1716120"/>
                <a:gridCol w="1441440"/>
                <a:gridCol w="1787400"/>
                <a:gridCol w="1911240"/>
                <a:gridCol w="1785960"/>
              </a:tblGrid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matram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DION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zrast učen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va radionica je dovoljno, ne trebam više ovakve nast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ovremeno želim učiti na ovaj nač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Želim većinu nastave na ovaj nač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TEMATI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. raz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. raz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. raz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. raz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0" y="0"/>
          <a:ext cx="4788000" cy="3303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4788000" cy="33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41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44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-71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24000" y="44280"/>
          <a:ext cx="8100720" cy="6939000"/>
        </p:xfrm>
        <a:graphic>
          <a:graphicData uri="http://schemas.openxmlformats.org/drawingml/2006/table">
            <a:tbl>
              <a:tblPr/>
              <a:tblGrid>
                <a:gridCol w="5379840"/>
                <a:gridCol w="1360440"/>
                <a:gridCol w="136044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Komentar:</a:t>
                      </a: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“Što ti se na radionici posebno svidjelo?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temati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oku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udjelovanje učeni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adrža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Zanimljivo i zabavno učenje, kao ig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Drugačija nasta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aktičan r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ezenta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Natjeca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Grupni r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Druže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poraba račun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Naučio/la sam nešto no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loženost proble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imjerenost zadata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imjenjiv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Način objašnjavanja, pokazivanja i dolaženja do zaključ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Kreativno rješavanje zadataka, maštovito, zanimljivo i zabav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kup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Zaključa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Pogledaj sliku u punoj veličini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916280"/>
            <a:ext cx="3828960" cy="373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4716360" y="3645000"/>
          <a:ext cx="4427640" cy="30542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16360" y="3645000"/>
                    <a:ext cx="4427640" cy="30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Proble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Nezadovoljstvo nastavom (poučavanj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Dominira pristup “vođenj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astavnici se osjećaju sigurn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elike količine nastavnih sadržaja propisane nastavnim programi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ad interesa (većina učenika razvija svoje interese prije četrnaeste godine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Pogledaj sliku u punoj veličini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0"/>
            <a:ext cx="25938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Na djelu je proces u kojemu nastavnici, bilo da sami izrađuju zadatke ili pripremaju učenike za nacionalne ispite i testove, prilagođavaju način svojega poučavanja načinu provjere znanja, fragmentirajući sadržaj predmeta, koristeći ograničeni raspon nastavnih meto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Rješen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novativni kurikulum i drukčiji načini pouč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Zapošljavanje kvalitetnih nastavnika  (“investiranje” u postojeće i njihovo zadržavanje u sustav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Razvoj drukčijih načina i sadržaja provjera zn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Aktivno učen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ktivno učenje je suprotnost frontalnom poučavanj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ktivno učenje osigurava visok stupanj samostalnosti, nadzora nad organizacijom, tijekom i smjerom aktivnosti koje provodi učeni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Aktivno učen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oni pristupi učenju i poučavanju koji potiču i njeguju viši stupanj samostalnosti učenika, primjenjuju različite misaone strategije i specifične kognitivne vještine koje omogućuju uočavanje bitnog, raščlanjivanje i usporedbu informacija, njihovo povezivanje s postojećim znanjima i kritičku prosudbu njihova značen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Nacionalni okvirni kurikulum – ciljevi matematičkog područ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zvoj sposobnosti logičkog mišljenja, zaključivanja i generaliziranja te matematičke argument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zvoj vještina i sposobnosti formuliranja problema, njihovog rješavanja raznolikim pristupima te interpretiranja, uspoređivanja i vrjednovanja rješ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zvoj sposobnosti matematičkog modeliranja i kritičkog propitivanja pretposatvki mod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Razvoj prirodoznanstvene i matematičke pismenosti aktivnim učenj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rogodišnji program financiran od strane MZOSa “u području izvaninstitucionalnog odgoja i obrazovanja djece i mladih”, započeo  2007./2008. šk. go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prve dvije godine programa održano 35 radionica u osnovnim školama iz matematike i 35 iz fiz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trećoj godini programa – priručni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ikupljane ankete radi evaluacije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 prikupljanja stavova učenika o ovakv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ačinu 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093080" y="4076640"/>
            <a:ext cx="18158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Radionice iz matemati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okružimo ig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Matematički origa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omozite Josephu Kruskal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Eksperimentalno određivanje broja 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latni rez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udoku i matema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5:38:01Z</dcterms:created>
  <dc:creator>Kovačević</dc:creator>
  <dc:description/>
  <dc:language>en-US</dc:language>
  <cp:lastModifiedBy>Sanja</cp:lastModifiedBy>
  <dcterms:modified xsi:type="dcterms:W3CDTF">2010-04-06T15:07:53Z</dcterms:modified>
  <cp:revision>30</cp:revision>
  <dc:subject/>
  <dc:title>PowerPoint Presentation</dc:title>
</cp:coreProperties>
</file>