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AAAA-E544-4E12-BE9A-6E36714C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3AE1-D940-413D-A2E4-93588182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EA76-BC32-4C92-8425-ADC03AF1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1259-25E0-4603-9F1E-63B73917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6DBC-E771-4110-A3DD-063DA349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BBDB-7C1A-4E38-A9BB-8C8B7D6B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375F-BF56-4503-8AC2-B0818CD7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88B0-CF08-4680-8F39-F53A12B7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E6AC-2CB5-43ED-8114-DEB12DBA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B0D3-EBA9-4EDC-8D78-D2605783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AABC-3D98-41B8-AC63-7E0246C7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CBE5-1AC2-47BD-A7C6-3843270F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2CEF-280C-4FCD-9E7B-06D4A4F72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REALNI BROJEVI U OSNOVNOJ </a:t>
            </a: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ŠKO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f.dr.sc. Sanja Varošan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MF-Matematički odj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atija, 7. travnja 20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915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312840"/>
            <a:ext cx="830592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5406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798660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93840"/>
            <a:ext cx="83818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7543800" cy="35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45960"/>
            <a:ext cx="854856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480520" cy="34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48052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63928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57088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31996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61048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12840"/>
            <a:ext cx="899172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760" y="533520"/>
            <a:ext cx="86104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9154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85840"/>
            <a:ext cx="89154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68200"/>
            <a:ext cx="914400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1:41:57Z</dcterms:created>
  <dc:creator>SANJA</dc:creator>
  <dc:description/>
  <dc:language>en-US</dc:language>
  <cp:lastModifiedBy>SANJA</cp:lastModifiedBy>
  <dcterms:modified xsi:type="dcterms:W3CDTF">2010-04-08T07:23:31Z</dcterms:modified>
  <cp:revision>10</cp:revision>
  <dc:subject/>
  <dc:title>Slide 1</dc:title>
</cp:coreProperties>
</file>