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32.png" ContentType="image/png"/>
  <Override PartName="/ppt/media/image35.wmf" ContentType="image/x-wmf"/>
  <Override PartName="/ppt/media/image15.png" ContentType="image/png"/>
  <Override PartName="/ppt/media/image6.wmf" ContentType="image/x-wmf"/>
  <Override PartName="/ppt/media/image10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847-793A-4E7F-8C66-C7D6A565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B52-7021-4C63-9140-0F8AAFF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EE5-6754-47CC-9D80-3D6021AF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790-4CCD-439A-BAC8-272451D0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8BF7-1608-443D-B0EF-F14237AD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79F4-57FA-4D7D-9DC8-31419B9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588D-4A0C-483C-9098-AE30BF68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E02B-4040-4C77-8180-AD536DF8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A6E-28C8-483F-BE7A-940ACDA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26920" y="-36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612-66DE-497F-9DF9-6D04F07D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A66-7716-40EB-A6C8-1C304BD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DE4-F81A-4171-8A71-0FBC1BF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33C1-BC6D-462B-958F-017C82A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023B-CD65-4F74-AFE0-04EC4548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B94-93AB-4426-83A5-57ABD06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B4BE-AFCA-4039-BCFD-B80A20FD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2830-7B1C-44CF-B94F-ED3044B6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44F-4BB3-4929-82CC-FE09032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B5-E98E-4845-A88A-FED847A6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141-A7D4-49AF-931E-C9DFD276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920" y="-36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092-9001-41CE-BD7E-D43ABBA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E48-2361-44F5-9555-7C00F31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FBF-61E9-431C-8F4B-77B4017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92F-0079-4C6E-95FD-BF2847C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799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64280" indent="-381960">
              <a:spcBef>
                <a:spcPts val="799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49120" indent="-38340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674B-1878-466A-8687-C44D6B44A4F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0360" y="189000"/>
            <a:ext cx="703440" cy="1181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2600" y="0"/>
            <a:ext cx="74304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BE6-992F-446F-89B7-E8066F2E7AC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85800" y="1773360"/>
            <a:ext cx="6985080" cy="1320840"/>
          </a:xfrm>
          <a:prstGeom prst="rect">
            <a:avLst/>
          </a:prstGeom>
          <a:gradFill rotWithShape="0">
            <a:gsLst>
              <a:gs pos="0">
                <a:srgbClr val="ff0000">
                  <a:alpha val="54117"/>
                </a:srgbClr>
              </a:gs>
              <a:gs pos="100000">
                <a:srgbClr val="66ff33">
                  <a:alpha val="6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144920" y="3141720"/>
            <a:ext cx="1459080" cy="2598840"/>
            <a:chOff x="7144920" y="3141720"/>
            <a:chExt cx="1459080" cy="2598840"/>
          </a:xfrm>
        </p:grpSpPr>
        <p:sp>
          <p:nvSpPr>
            <p:cNvPr id="51" name=""/>
            <p:cNvSpPr/>
            <p:nvPr/>
          </p:nvSpPr>
          <p:spPr>
            <a:xfrm>
              <a:off x="7203960" y="3187800"/>
              <a:ext cx="1400040" cy="2552760"/>
            </a:xfrm>
            <a:custGeom>
              <a:avLst/>
              <a:gdLst/>
              <a:ahLst/>
              <a:rect l="l" t="t" r="r" b="b"/>
              <a:pathLst>
                <a:path w="882" h="1608">
                  <a:moveTo>
                    <a:pt x="882" y="180"/>
                  </a:moveTo>
                  <a:lnTo>
                    <a:pt x="0" y="1608"/>
                  </a:lnTo>
                  <a:lnTo>
                    <a:pt x="0" y="0"/>
                  </a:lnTo>
                  <a:lnTo>
                    <a:pt x="882" y="0"/>
                  </a:lnTo>
                  <a:lnTo>
                    <a:pt x="882" y="180"/>
                  </a:lnTo>
                  <a:close/>
                </a:path>
              </a:pathLst>
            </a:custGeom>
            <a:solidFill>
              <a:srgbClr val="ea0000"/>
            </a:solidFill>
            <a:ln w="0">
              <a:solidFill>
                <a:srgbClr val="e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45280" y="3141720"/>
              <a:ext cx="1440" cy="2552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45320" y="3141720"/>
              <a:ext cx="1800" cy="285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5280" y="3141720"/>
              <a:ext cx="140004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144920" y="3427560"/>
              <a:ext cx="1400040" cy="22669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6320" y="515880"/>
            <a:ext cx="1439640" cy="2598840"/>
            <a:chOff x="76320" y="515880"/>
            <a:chExt cx="1439640" cy="2598840"/>
          </a:xfrm>
        </p:grpSpPr>
        <p:sp>
          <p:nvSpPr>
            <p:cNvPr id="57" name=""/>
            <p:cNvSpPr/>
            <p:nvPr/>
          </p:nvSpPr>
          <p:spPr>
            <a:xfrm>
              <a:off x="76320" y="515880"/>
              <a:ext cx="1400040" cy="2552760"/>
            </a:xfrm>
            <a:custGeom>
              <a:avLst/>
              <a:gdLst/>
              <a:ahLst/>
              <a:rect l="l" t="t" r="r" b="b"/>
              <a:pathLst>
                <a:path w="882" h="1608">
                  <a:moveTo>
                    <a:pt x="0" y="1428"/>
                  </a:moveTo>
                  <a:lnTo>
                    <a:pt x="882" y="0"/>
                  </a:lnTo>
                  <a:lnTo>
                    <a:pt x="882" y="1608"/>
                  </a:lnTo>
                  <a:lnTo>
                    <a:pt x="0" y="1608"/>
                  </a:lnTo>
                  <a:lnTo>
                    <a:pt x="0" y="1428"/>
                  </a:lnTo>
                  <a:close/>
                </a:path>
              </a:pathLst>
            </a:custGeom>
            <a:solidFill>
              <a:srgbClr val="5bff5b"/>
            </a:solidFill>
            <a:ln w="0">
              <a:solidFill>
                <a:srgbClr val="5bff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8000" y="3112920"/>
              <a:ext cx="140004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80" y="2827440"/>
              <a:ext cx="1440" cy="285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14520" y="560520"/>
              <a:ext cx="1440" cy="2552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14120" y="560520"/>
              <a:ext cx="1400040" cy="22669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0640" algn="ctr">
              <a:spcBef>
                <a:spcPts val="601"/>
              </a:spcBef>
              <a:buClr>
                <a:srgbClr val="66ff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95280" algn="ctr">
              <a:spcBef>
                <a:spcPts val="499"/>
              </a:spcBef>
              <a:buClr>
                <a:srgbClr val="66ff33"/>
              </a:buClr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82640" algn="ctr">
              <a:spcBef>
                <a:spcPts val="4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nlesar/Local%20Settings/Temp/7zO45.tmp/Te&#382;i&#353;te%20&#269;etverokuta.gsp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280" y="1636560"/>
            <a:ext cx="5575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uke po trapezu ili raskoš trapeza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16360" y="3860280"/>
            <a:ext cx="424944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ahoma"/>
              </a:rPr>
              <a:t>Nives Jozić, pro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941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patija, travanj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finicije u stranim izvorima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Is a trapezium a parallel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o.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elogram has two pairs of parallel sides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 The trapezium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has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only on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pair of parallel sid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li  A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apezoid is a quadrilateral with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exactly ON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pair of parallel sid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-100440"/>
            <a:ext cx="7993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finicije u stranim izvorima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Is a trapezium a parallel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 parallelogram can be considered as a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particular cas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of trapezoid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li upućuju na važnost rasprave: Is a trapezium a parallelogram or is a parallelogram a trapezium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-100440"/>
            <a:ext cx="7993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finicije u stranim izvorima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ahoma"/>
              </a:rPr>
              <a:t>Is a trapezium a parallelogra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finitions may be either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inclusiv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exclusiv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248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trapezoid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may be defined </a:t>
            </a: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inclusively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s a quadrilateral with 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a pair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f parallel opposite sides. In this case, parallelogram is a trapezo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248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exclusively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s a quadrilateral with 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exactly on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uch pair. In this case, parallelogram is not a trapezo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ljedica različitih definic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ahoma"/>
              </a:rPr>
              <a:t>RAZLIČITI OBRAZOVNI ISHOD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ma prvoj definiciji: klasa trapeza i klasa paralelograma su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disjunktne klas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ma drugoj definiciji: pojam trapeza je nešto općenitiji od pojma paralelograma -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trapez je nadskup paralelogram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likovni prikazi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5832360" cy="4691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0000" y="1844640"/>
            <a:ext cx="180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ti prikaz koristi se uz različite defini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005360"/>
            <a:ext cx="1584360" cy="23799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likovni prikaz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42920" y="1700280"/>
            <a:ext cx="7199280" cy="4392720"/>
            <a:chOff x="1042920" y="1700280"/>
            <a:chExt cx="7199280" cy="4392720"/>
          </a:xfrm>
        </p:grpSpPr>
        <p:sp>
          <p:nvSpPr>
            <p:cNvPr id="139" name=""/>
            <p:cNvSpPr/>
            <p:nvPr/>
          </p:nvSpPr>
          <p:spPr>
            <a:xfrm>
              <a:off x="1042920" y="1700280"/>
              <a:ext cx="7199280" cy="4392720"/>
            </a:xfrm>
            <a:prstGeom prst="ellipse">
              <a:avLst/>
            </a:prstGeom>
            <a:solidFill>
              <a:srgbClr val="dde7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9280" y="2180880"/>
              <a:ext cx="295992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Četveroku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289160" y="2821680"/>
              <a:ext cx="2589480" cy="2189160"/>
              <a:chOff x="1289160" y="2821680"/>
              <a:chExt cx="2589480" cy="2189160"/>
            </a:xfrm>
          </p:grpSpPr>
          <p:sp>
            <p:nvSpPr>
              <p:cNvPr id="142" name=""/>
              <p:cNvSpPr/>
              <p:nvPr/>
            </p:nvSpPr>
            <p:spPr>
              <a:xfrm>
                <a:off x="1289160" y="2821680"/>
                <a:ext cx="2278800" cy="1847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92480" y="3368880"/>
                <a:ext cx="2486160" cy="164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000000"/>
                    </a:solidFill>
                    <a:latin typeface="Tahoma"/>
                  </a:rPr>
                  <a:t>Trapezoid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954520" y="4263840"/>
              <a:ext cx="2589840" cy="1762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Tahoma"/>
                </a:rPr>
                <a:t>Trapez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9520" y="2981880"/>
              <a:ext cx="3329640" cy="1602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aralelogra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940360" y="1569960"/>
            <a:ext cx="259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isjunktne kla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tražimo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6192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zmimo sljedeću definici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rapez je četverokut kojemu su dvije stranice usporedn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poredne stranice su osnovice trapeza, a preostale dvije krakovi. Udaljenost usporednih stranica je duljina visine trapez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26920" y="4365720"/>
            <a:ext cx="5113440" cy="24192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6388920" y="4435560"/>
            <a:ext cx="2476080" cy="2044440"/>
            <a:chOff x="6388920" y="4435560"/>
            <a:chExt cx="2476080" cy="2044440"/>
          </a:xfrm>
        </p:grpSpPr>
        <p:graphicFrame>
          <p:nvGraphicFramePr>
            <p:cNvPr id="151" name=""/>
            <p:cNvGraphicFramePr/>
            <p:nvPr/>
          </p:nvGraphicFramePr>
          <p:xfrm>
            <a:off x="6732720" y="5300640"/>
            <a:ext cx="576000" cy="447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32720" y="5300640"/>
                      <a:ext cx="5760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7885080" y="5351400"/>
            <a:ext cx="503280" cy="42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85080" y="5351400"/>
                      <a:ext cx="50328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6388920" y="4435560"/>
              <a:ext cx="21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apez ABC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 osnovica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3320" y="535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13400" y="602028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duljina visi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vrdnja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ršina trapeza može se odrediti množenjem poluzbroja duljina osnovica s duljinom visi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ršina trapeza ABCD sa slike je: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932360" y="0"/>
            <a:ext cx="3962520" cy="1874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24000" y="4799160"/>
          <a:ext cx="4608720" cy="14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4799160"/>
                    <a:ext cx="46087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kaz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21225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Dokaz je potpun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ako se sagledaju svi mogući slučajevi – oblici trape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29840" indent="-429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di promatranja svih oblika trapeza označimo s E nožište okomice spuštene iz vrha C, te sa F nožište okomice spuštene iz vrha D na osnovicu     .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Promatrajmo položaj točaka E i 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210280" y="4973760"/>
          <a:ext cx="64908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0280" y="4973760"/>
                    <a:ext cx="649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643280" y="87480"/>
            <a:ext cx="43214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 sluča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Obje točke padaju na osnovic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1673280"/>
            <a:ext cx="5256360" cy="2517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987640" y="4257720"/>
            <a:ext cx="3816360" cy="2368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5000" y="4221000"/>
          <a:ext cx="2313000" cy="23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000" y="4221000"/>
                    <a:ext cx="231300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435640" y="1585800"/>
          <a:ext cx="3744720" cy="342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585800"/>
                    <a:ext cx="374472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9760" y="14400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ilj izlagan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azati na neke propuste, pogreške i nedosljednosti koje se pojavljuju u udžbenici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renuti pozornost na posljedice koje iz toga proizla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i neke prijedloge i rješe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99640" y="-19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 slučaj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Jedna točka pada u krajnju točku osnovice, a druga točka je na osnovici ili izvan osno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24000" y="1685880"/>
            <a:ext cx="4968720" cy="2325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435640" y="1792440"/>
          <a:ext cx="3095640" cy="26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1792440"/>
                    <a:ext cx="309564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324000" y="4292640"/>
            <a:ext cx="4897440" cy="2365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22080" y="513396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1625760"/>
            <a:ext cx="4895640" cy="2479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5280" y="4084560"/>
            <a:ext cx="4824360" cy="2624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292720" y="692280"/>
          <a:ext cx="31384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692280"/>
                    <a:ext cx="31384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877720" y="522936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9800" y="822240"/>
            <a:ext cx="35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slučaj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astav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-7128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oš neke ideje za dokaz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88760" y="1700280"/>
            <a:ext cx="81039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zvođenje analitičkog dokaza može se napraviti samo jednom, a ostale oblike promatra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o</a:t>
            </a: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 osnosimetrične likov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 obzirom na okomiti krak ili osnovic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li kao </a:t>
            </a: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slike rotaci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ko okomitog kraka ili osnovice za 180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di zornosti može se koristiti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model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5611680"/>
            <a:ext cx="2664000" cy="1246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2195640" y="5605560"/>
            <a:ext cx="2592360" cy="1252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589640" y="5602320"/>
            <a:ext cx="2493720" cy="1263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553080" y="5584680"/>
            <a:ext cx="2340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-7128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Što time postižemo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89120" y="1700280"/>
            <a:ext cx="8030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tičemo svojstvo osne simetrije i rotacije -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ovršina ostaje nepromijenjen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zbjegavamo mogućnost pogrešnog zaključivanja - da površina trapeza ovisi o njegovom položaju u ravni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čelo racionalizacije - smanjujemo mogući broj slučajeva za dokazivanj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relacija - povezujemo i ispreplećemo matematičke sadrž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74760" y="1628640"/>
            <a:ext cx="4321080" cy="2471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9080" y="4356720"/>
            <a:ext cx="867564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o E i F obje padnu u krajnje točke osnovice,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pez postaje pravokutnik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o su pri tome krakovi jednake duljine kao i osnovice,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pez postaje kvadrat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5640" y="1870200"/>
          <a:ext cx="2521080" cy="209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1870200"/>
                    <a:ext cx="252108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02880" y="822240"/>
            <a:ext cx="35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slučaj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astav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-2700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. slučaj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Jedna točka pada izvan osnovice , a druga na osnovicu, različito od krajnjih točaka osnovi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668600"/>
            <a:ext cx="4321440" cy="2087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5280" y="4032360"/>
            <a:ext cx="4537080" cy="2374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00720" y="1328760"/>
          <a:ext cx="4176720" cy="28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328760"/>
                    <a:ext cx="41767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219640" y="1321560"/>
            <a:ext cx="3313080" cy="52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bro j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koristiti različite načine dokazivan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bjegavamo ponavljanje i monotono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ičemo istraživački pristup i kreativnost učen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661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da osnovice postignu jednake duljine i krakovi će imati jednake duljine pa trapez postaje paralelogram. (Dobro je provesti dokaz i ove tvrdnje.) Dakle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ralelogram je poseban slučaj trap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29840" indent="-429840">
              <a:spcBef>
                <a:spcPts val="700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 formule za površinu trapeza može se izvesti formula za površinu paralelogram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4360" y="5475240"/>
          <a:ext cx="799128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75240"/>
                    <a:ext cx="79912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148360" y="115920"/>
            <a:ext cx="3384360" cy="1800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2880" y="822240"/>
            <a:ext cx="35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slučaj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astav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42840" y="206064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da se postigne da su duljine krakova međusobno jednake i pri tome jednake duljinama osnovica, trapez postaje rom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mb je jedan od posebnih slučajeva trapez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902880" y="822240"/>
            <a:ext cx="35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slučaj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astav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600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777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 slučaj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 točke padaju izvan osno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788000" y="1509840"/>
          <a:ext cx="403200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509840"/>
                    <a:ext cx="40320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24000" y="1722600"/>
            <a:ext cx="4392360" cy="2127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0920" y="4172040"/>
            <a:ext cx="4751280" cy="2281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292720" y="1989000"/>
            <a:ext cx="345744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direktno izračunavanje površin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jegovati u nastavi matemat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 slučaj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nastava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700280"/>
            <a:ext cx="5508360" cy="2257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003640" y="3111480"/>
          <a:ext cx="4140360" cy="29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3111480"/>
                    <a:ext cx="414036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826920" y="4365720"/>
            <a:ext cx="41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jesto analitičkog dokaza može se koristiti simetrija, rotacija … u odnosu na 1. sluč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9760" y="259920"/>
            <a:ext cx="715788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pis problem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zličiti udžbenici - isti nastavni program prikazuju na različite nač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16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6560" indent="-40860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je (ima nepotpunih, neispravnih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6560" indent="-40860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vrdnje i dokazi (ima nepotpunih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6560" indent="-40860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zualni prikazi (stereotipni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26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osljedic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različito poučavanje i različita obrazovna postignuća učeni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raj dokaza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 sada, kada su razmatrani svi oblici trapeza može se reći da je dokaz tvrdnje za izračunavanje površine trapeza gotov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da ne postoje ograničenja za izračunavanje njegove površi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37372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0385000">
            <a:off x="2273760" y="835200"/>
            <a:ext cx="5221440" cy="52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od prethodno rečenog  se može napraviti na jednom nastavnom sa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ravna defini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rava o četveroku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ja dokaza i rasprava o potpunosti dokazi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777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zultati potpunog dokazivanja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200" y="1628280"/>
            <a:ext cx="8093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krivanje raskoši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zličiti načini dokazivanj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vezivanje različitih sadržaj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pitivanje i primjena različiti svojstava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zvijanje kreativ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k sve zajedno čini jednu zaokruženu cjelin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AŽN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mjeravati učenike na potrebu sagledavanja svih slučajeva, jer postoje matematičke tvrdnje koje vrijede samo uz određene uvje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finicija trapez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13372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rapez je četverokut kojemu su dvije stranice uspored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378936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rapez je četverokut kojemu su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barem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vije stranice uspored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724360" y="2786040"/>
            <a:ext cx="30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pez postaje paralelogram kada krakovi postanu uspored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5651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aralelogram je poseban slučaj trapeza, tj. </a:t>
            </a:r>
            <a:r>
              <a:rPr b="0" lang="hr-HR" sz="2800" spc="-1" strike="noStrike">
                <a:solidFill>
                  <a:srgbClr val="ff0000"/>
                </a:solidFill>
                <a:latin typeface="Tahoma"/>
              </a:rPr>
              <a:t>svaki paralelogram je trap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69760" y="-100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lasificiranj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rot="21007200">
            <a:off x="4205160" y="14076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abiremo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ed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riterij – uspo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18472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kazivanj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874880" y="2205000"/>
            <a:ext cx="5937120" cy="2803680"/>
            <a:chOff x="1874880" y="2205000"/>
            <a:chExt cx="5937120" cy="280368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1874880" y="2205000"/>
              <a:ext cx="5937120" cy="28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314520" y="342900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ahoma"/>
                </a:rPr>
                <a:t>Najčešć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900000" y="12600"/>
            <a:ext cx="674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2200" y="1628640"/>
            <a:ext cx="8713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ŽN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ristiti različite oblike i položaje geometrijskih likova – radi razvijanja vizualne percep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562200" cy="1683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kazivanj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657880" y="2893680"/>
            <a:ext cx="2602440" cy="3380040"/>
            <a:chOff x="2657880" y="2893680"/>
            <a:chExt cx="2602440" cy="3380040"/>
          </a:xfrm>
        </p:grpSpPr>
        <p:sp>
          <p:nvSpPr>
            <p:cNvPr id="259" name=""/>
            <p:cNvSpPr/>
            <p:nvPr/>
          </p:nvSpPr>
          <p:spPr>
            <a:xfrm rot="20586600">
              <a:off x="3137760" y="3110400"/>
              <a:ext cx="1727280" cy="2976480"/>
            </a:xfrm>
            <a:custGeom>
              <a:avLst/>
              <a:gdLst/>
              <a:ahLst/>
              <a:rect l="l" t="t" r="r" b="b"/>
              <a:pathLst>
                <a:path w="882" h="1608">
                  <a:moveTo>
                    <a:pt x="882" y="180"/>
                  </a:moveTo>
                  <a:lnTo>
                    <a:pt x="0" y="1608"/>
                  </a:lnTo>
                  <a:lnTo>
                    <a:pt x="0" y="0"/>
                  </a:lnTo>
                  <a:lnTo>
                    <a:pt x="882" y="0"/>
                  </a:lnTo>
                  <a:lnTo>
                    <a:pt x="882" y="180"/>
                  </a:lnTo>
                  <a:close/>
                </a:path>
              </a:pathLst>
            </a:custGeom>
            <a:solidFill>
              <a:srgbClr val="ea0000"/>
            </a:solidFill>
            <a:ln w="0">
              <a:solidFill>
                <a:srgbClr val="e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7880" y="3395520"/>
              <a:ext cx="866160" cy="2847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10640" y="2893680"/>
              <a:ext cx="98640" cy="3178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657880" y="2895120"/>
              <a:ext cx="1653120" cy="500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522600" y="3212280"/>
              <a:ext cx="884880" cy="3030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53840" y="3571920"/>
            <a:ext cx="2669400" cy="2377800"/>
            <a:chOff x="3453840" y="3571920"/>
            <a:chExt cx="2669400" cy="2377800"/>
          </a:xfrm>
        </p:grpSpPr>
        <p:sp>
          <p:nvSpPr>
            <p:cNvPr id="265" name=""/>
            <p:cNvSpPr/>
            <p:nvPr/>
          </p:nvSpPr>
          <p:spPr>
            <a:xfrm rot="6150000">
              <a:off x="3867840" y="3607920"/>
              <a:ext cx="1891080" cy="2264040"/>
            </a:xfrm>
            <a:custGeom>
              <a:avLst/>
              <a:gdLst/>
              <a:ahLst/>
              <a:rect l="l" t="t" r="r" b="b"/>
              <a:pathLst>
                <a:path w="882" h="1608">
                  <a:moveTo>
                    <a:pt x="0" y="1428"/>
                  </a:moveTo>
                  <a:lnTo>
                    <a:pt x="882" y="0"/>
                  </a:lnTo>
                  <a:lnTo>
                    <a:pt x="882" y="1608"/>
                  </a:lnTo>
                  <a:lnTo>
                    <a:pt x="0" y="1608"/>
                  </a:lnTo>
                  <a:lnTo>
                    <a:pt x="0" y="1428"/>
                  </a:lnTo>
                  <a:close/>
                </a:path>
              </a:pathLst>
            </a:custGeom>
            <a:solidFill>
              <a:srgbClr val="5bff5b"/>
            </a:solidFill>
            <a:ln w="0">
              <a:solidFill>
                <a:srgbClr val="5bff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454560" y="3604680"/>
              <a:ext cx="410760" cy="1846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3862800" y="3615480"/>
              <a:ext cx="247680" cy="529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453840" y="5461560"/>
              <a:ext cx="2210400" cy="488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110840" y="3668040"/>
              <a:ext cx="1553760" cy="2281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418280" y="3229560"/>
            <a:ext cx="2906280" cy="2289240"/>
            <a:chOff x="4418280" y="3229560"/>
            <a:chExt cx="2906280" cy="2289240"/>
          </a:xfrm>
        </p:grpSpPr>
        <p:sp>
          <p:nvSpPr>
            <p:cNvPr id="271" name=""/>
            <p:cNvSpPr/>
            <p:nvPr/>
          </p:nvSpPr>
          <p:spPr>
            <a:xfrm rot="14947200">
              <a:off x="5182560" y="3062160"/>
              <a:ext cx="1400040" cy="2552760"/>
            </a:xfrm>
            <a:custGeom>
              <a:avLst/>
              <a:gdLst/>
              <a:ahLst/>
              <a:rect l="l" t="t" r="r" b="b"/>
              <a:pathLst>
                <a:path w="882" h="1608">
                  <a:moveTo>
                    <a:pt x="882" y="180"/>
                  </a:moveTo>
                  <a:lnTo>
                    <a:pt x="0" y="1608"/>
                  </a:lnTo>
                  <a:lnTo>
                    <a:pt x="0" y="0"/>
                  </a:lnTo>
                  <a:lnTo>
                    <a:pt x="882" y="0"/>
                  </a:lnTo>
                  <a:lnTo>
                    <a:pt x="882" y="180"/>
                  </a:lnTo>
                  <a:close/>
                </a:path>
              </a:pathLst>
            </a:custGeom>
            <a:solidFill>
              <a:srgbClr val="ea0000"/>
            </a:solidFill>
            <a:ln w="0">
              <a:solidFill>
                <a:srgbClr val="e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917240" y="4607640"/>
              <a:ext cx="2384640" cy="911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418280" y="4107240"/>
              <a:ext cx="266400" cy="103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4419720" y="4210200"/>
              <a:ext cx="497520" cy="1308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85400" y="4109400"/>
              <a:ext cx="2617200" cy="500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208200" y="2656080"/>
            <a:ext cx="2056320" cy="3422880"/>
            <a:chOff x="6208200" y="2656080"/>
            <a:chExt cx="2056320" cy="3422880"/>
          </a:xfrm>
        </p:grpSpPr>
        <p:sp>
          <p:nvSpPr>
            <p:cNvPr id="277" name=""/>
            <p:cNvSpPr/>
            <p:nvPr/>
          </p:nvSpPr>
          <p:spPr>
            <a:xfrm rot="202200">
              <a:off x="6302160" y="2706480"/>
              <a:ext cx="1821600" cy="3260520"/>
            </a:xfrm>
            <a:custGeom>
              <a:avLst/>
              <a:gdLst/>
              <a:ahLst/>
              <a:rect l="l" t="t" r="r" b="b"/>
              <a:pathLst>
                <a:path w="882" h="1608">
                  <a:moveTo>
                    <a:pt x="0" y="1428"/>
                  </a:moveTo>
                  <a:lnTo>
                    <a:pt x="882" y="0"/>
                  </a:lnTo>
                  <a:lnTo>
                    <a:pt x="882" y="1608"/>
                  </a:lnTo>
                  <a:lnTo>
                    <a:pt x="0" y="1608"/>
                  </a:lnTo>
                  <a:lnTo>
                    <a:pt x="0" y="1428"/>
                  </a:lnTo>
                  <a:close/>
                </a:path>
              </a:pathLst>
            </a:custGeom>
            <a:solidFill>
              <a:srgbClr val="5bff5b"/>
            </a:solidFill>
            <a:ln w="0">
              <a:solidFill>
                <a:srgbClr val="5bff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6000" y="5969880"/>
              <a:ext cx="1818360" cy="109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256080" y="5606280"/>
              <a:ext cx="19440" cy="363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074800" y="2822760"/>
              <a:ext cx="189720" cy="3254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275520" y="2822760"/>
              <a:ext cx="1988640" cy="27835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kazivanje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95640" y="1986120"/>
            <a:ext cx="3686040" cy="3530520"/>
            <a:chOff x="3995640" y="1986120"/>
            <a:chExt cx="3686040" cy="3530520"/>
          </a:xfrm>
        </p:grpSpPr>
        <p:sp>
          <p:nvSpPr>
            <p:cNvPr id="284" name=""/>
            <p:cNvSpPr/>
            <p:nvPr/>
          </p:nvSpPr>
          <p:spPr>
            <a:xfrm>
              <a:off x="4008240" y="2922840"/>
              <a:ext cx="2594160" cy="2593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7880" y="1986120"/>
              <a:ext cx="2593800" cy="2593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995640" y="1986120"/>
              <a:ext cx="107964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600600" y="4578480"/>
              <a:ext cx="107964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600600" y="1986120"/>
              <a:ext cx="107964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008240" y="4578480"/>
              <a:ext cx="107964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95280" y="422100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li tijelo stoji na podu ili je obješeno o str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2060640"/>
            <a:ext cx="244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li baza ovog tijela paralelogram ili kvadr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20436600">
            <a:off x="611640" y="3213000"/>
            <a:ext cx="8137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zualna percepcija je važna, ali nije dovoljna za razumijevanje pojma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eb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zvijati gledanje mislima, a ne samo o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jena u nastavi matemat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mjesto poučka i strogog dokaza – istraživački zadata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tražite može li se trapezu upisati (opisati) kružnica i pod kojim uvjet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tražite kako bi trapez sastavljen od tri sukladna jednakostranična trokuta podijelili na četiri jednaka dij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01"/>
              </a:spcBef>
              <a:buClr>
                <a:srgbClr val="66ff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tražite što je </a:t>
            </a:r>
            <a:r>
              <a:rPr b="0" lang="hr-HR" sz="24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težište četverokut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 kako bi se konstruiralo težište pravokutnom trapez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stup - u pripremanj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 robovati udžbenicima ni tuđoj nastavnoj prak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jeravati istinitost napisano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traživati mogućnosti i originalne načine poučava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843280" y="4512600"/>
            <a:ext cx="3826080" cy="1791720"/>
            <a:chOff x="2843280" y="4512600"/>
            <a:chExt cx="3826080" cy="179172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2843280" y="4844880"/>
              <a:ext cx="1704960" cy="6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9" name=""/>
            <p:cNvGrpSpPr/>
            <p:nvPr/>
          </p:nvGrpSpPr>
          <p:grpSpPr>
            <a:xfrm>
              <a:off x="3574080" y="4910400"/>
              <a:ext cx="1459800" cy="1393920"/>
              <a:chOff x="3574080" y="4910400"/>
              <a:chExt cx="1459800" cy="1393920"/>
            </a:xfrm>
          </p:grpSpPr>
          <p:sp>
            <p:nvSpPr>
              <p:cNvPr id="300" name=""/>
              <p:cNvSpPr/>
              <p:nvPr/>
            </p:nvSpPr>
            <p:spPr>
              <a:xfrm rot="20586600">
                <a:off x="3761280" y="5056560"/>
                <a:ext cx="1136160" cy="110664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882" y="180"/>
                    </a:moveTo>
                    <a:lnTo>
                      <a:pt x="0" y="160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882" y="180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solidFill>
                  <a:srgbClr val="e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74080" y="5240520"/>
                <a:ext cx="322200" cy="1058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60920" y="4910400"/>
                <a:ext cx="37440" cy="118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574080" y="4910760"/>
                <a:ext cx="1087200" cy="329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895200" y="5028840"/>
                <a:ext cx="801720" cy="1270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998160" y="5234400"/>
              <a:ext cx="1376280" cy="907920"/>
              <a:chOff x="3998160" y="5234400"/>
              <a:chExt cx="1376280" cy="907920"/>
            </a:xfrm>
          </p:grpSpPr>
          <p:sp>
            <p:nvSpPr>
              <p:cNvPr id="306" name=""/>
              <p:cNvSpPr/>
              <p:nvPr/>
            </p:nvSpPr>
            <p:spPr>
              <a:xfrm rot="6150000">
                <a:off x="4377600" y="5061600"/>
                <a:ext cx="642240" cy="124164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0" y="1428"/>
                    </a:moveTo>
                    <a:lnTo>
                      <a:pt x="882" y="0"/>
                    </a:lnTo>
                    <a:lnTo>
                      <a:pt x="882" y="1608"/>
                    </a:lnTo>
                    <a:lnTo>
                      <a:pt x="0" y="160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5bff5b"/>
              </a:solidFill>
              <a:ln w="0">
                <a:solidFill>
                  <a:srgbClr val="5bff5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998160" y="5243760"/>
                <a:ext cx="139680" cy="626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4137480" y="5247000"/>
                <a:ext cx="135720" cy="298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3998520" y="5874120"/>
                <a:ext cx="1212120" cy="268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4273200" y="5276880"/>
                <a:ext cx="937440" cy="865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620240" y="5410800"/>
              <a:ext cx="1424880" cy="495720"/>
              <a:chOff x="4620240" y="5410800"/>
              <a:chExt cx="1424880" cy="495720"/>
            </a:xfrm>
          </p:grpSpPr>
          <p:sp>
            <p:nvSpPr>
              <p:cNvPr id="312" name=""/>
              <p:cNvSpPr/>
              <p:nvPr/>
            </p:nvSpPr>
            <p:spPr>
              <a:xfrm rot="16200000">
                <a:off x="5107320" y="4948560"/>
                <a:ext cx="475560" cy="139968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882" y="180"/>
                    </a:moveTo>
                    <a:lnTo>
                      <a:pt x="0" y="160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882" y="180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solidFill>
                  <a:srgbClr val="e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620240" y="5905800"/>
                <a:ext cx="1399680" cy="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620240" y="5430240"/>
                <a:ext cx="156600" cy="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4620240" y="5430600"/>
                <a:ext cx="720" cy="47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76840" y="5430960"/>
                <a:ext cx="1242720" cy="47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335560" y="4512600"/>
              <a:ext cx="1333800" cy="1406520"/>
              <a:chOff x="5335560" y="4512600"/>
              <a:chExt cx="1333800" cy="1406520"/>
            </a:xfrm>
          </p:grpSpPr>
          <p:sp>
            <p:nvSpPr>
              <p:cNvPr id="318" name=""/>
              <p:cNvSpPr/>
              <p:nvPr/>
            </p:nvSpPr>
            <p:spPr>
              <a:xfrm rot="1184400">
                <a:off x="5493240" y="4648680"/>
                <a:ext cx="999000" cy="110700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0" y="1428"/>
                    </a:moveTo>
                    <a:lnTo>
                      <a:pt x="882" y="0"/>
                    </a:lnTo>
                    <a:lnTo>
                      <a:pt x="882" y="1608"/>
                    </a:lnTo>
                    <a:lnTo>
                      <a:pt x="0" y="160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5bff5b"/>
              </a:solidFill>
              <a:ln w="0">
                <a:solidFill>
                  <a:srgbClr val="5bff5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50320" y="5580000"/>
                <a:ext cx="940320" cy="3380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355720" y="5465160"/>
                <a:ext cx="41040" cy="1162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296400" y="4877280"/>
                <a:ext cx="372960" cy="10418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396400" y="4876920"/>
                <a:ext cx="1272240" cy="5875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zultati takvog pristup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aže se više vremena, više promišljanja, više odgovornosti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iže se kvaliteta i korisnost našeg r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ižu se bolja obrazovna postignuća učeni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843280" y="4512600"/>
            <a:ext cx="3826080" cy="1791720"/>
            <a:chOff x="2843280" y="4512600"/>
            <a:chExt cx="3826080" cy="17917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2843280" y="4844880"/>
              <a:ext cx="1704960" cy="6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7" name=""/>
            <p:cNvGrpSpPr/>
            <p:nvPr/>
          </p:nvGrpSpPr>
          <p:grpSpPr>
            <a:xfrm>
              <a:off x="3574080" y="4910400"/>
              <a:ext cx="1459800" cy="1393920"/>
              <a:chOff x="3574080" y="4910400"/>
              <a:chExt cx="1459800" cy="1393920"/>
            </a:xfrm>
          </p:grpSpPr>
          <p:sp>
            <p:nvSpPr>
              <p:cNvPr id="328" name=""/>
              <p:cNvSpPr/>
              <p:nvPr/>
            </p:nvSpPr>
            <p:spPr>
              <a:xfrm rot="20586600">
                <a:off x="3761280" y="5056560"/>
                <a:ext cx="1136160" cy="110664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882" y="180"/>
                    </a:moveTo>
                    <a:lnTo>
                      <a:pt x="0" y="160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882" y="180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solidFill>
                  <a:srgbClr val="e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74080" y="5240520"/>
                <a:ext cx="322200" cy="1058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60920" y="4910400"/>
                <a:ext cx="37440" cy="118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3574080" y="4910760"/>
                <a:ext cx="1087200" cy="329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895200" y="5028840"/>
                <a:ext cx="801720" cy="1270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998160" y="5234400"/>
              <a:ext cx="1376280" cy="907920"/>
              <a:chOff x="3998160" y="5234400"/>
              <a:chExt cx="1376280" cy="907920"/>
            </a:xfrm>
          </p:grpSpPr>
          <p:sp>
            <p:nvSpPr>
              <p:cNvPr id="334" name=""/>
              <p:cNvSpPr/>
              <p:nvPr/>
            </p:nvSpPr>
            <p:spPr>
              <a:xfrm rot="6150000">
                <a:off x="4377600" y="5061600"/>
                <a:ext cx="642240" cy="124164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0" y="1428"/>
                    </a:moveTo>
                    <a:lnTo>
                      <a:pt x="882" y="0"/>
                    </a:lnTo>
                    <a:lnTo>
                      <a:pt x="882" y="1608"/>
                    </a:lnTo>
                    <a:lnTo>
                      <a:pt x="0" y="160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5bff5b"/>
              </a:solidFill>
              <a:ln w="0">
                <a:solidFill>
                  <a:srgbClr val="5bff5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3998160" y="5243760"/>
                <a:ext cx="139680" cy="626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4137480" y="5247000"/>
                <a:ext cx="135720" cy="298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3998520" y="5874120"/>
                <a:ext cx="1212120" cy="268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4273200" y="5276880"/>
                <a:ext cx="937440" cy="865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620240" y="5410800"/>
              <a:ext cx="1424880" cy="495720"/>
              <a:chOff x="4620240" y="5410800"/>
              <a:chExt cx="1424880" cy="495720"/>
            </a:xfrm>
          </p:grpSpPr>
          <p:sp>
            <p:nvSpPr>
              <p:cNvPr id="340" name=""/>
              <p:cNvSpPr/>
              <p:nvPr/>
            </p:nvSpPr>
            <p:spPr>
              <a:xfrm rot="16200000">
                <a:off x="5107320" y="4948560"/>
                <a:ext cx="475560" cy="139968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882" y="180"/>
                    </a:moveTo>
                    <a:lnTo>
                      <a:pt x="0" y="160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882" y="180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solidFill>
                  <a:srgbClr val="e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4620240" y="5905800"/>
                <a:ext cx="1399680" cy="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4620240" y="5430240"/>
                <a:ext cx="156600" cy="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20240" y="5430600"/>
                <a:ext cx="720" cy="47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76840" y="5430960"/>
                <a:ext cx="1242720" cy="47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335560" y="4512600"/>
              <a:ext cx="1333800" cy="1406520"/>
              <a:chOff x="5335560" y="4512600"/>
              <a:chExt cx="1333800" cy="1406520"/>
            </a:xfrm>
          </p:grpSpPr>
          <p:sp>
            <p:nvSpPr>
              <p:cNvPr id="346" name=""/>
              <p:cNvSpPr/>
              <p:nvPr/>
            </p:nvSpPr>
            <p:spPr>
              <a:xfrm rot="1184400">
                <a:off x="5493240" y="4648680"/>
                <a:ext cx="999000" cy="110700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0" y="1428"/>
                    </a:moveTo>
                    <a:lnTo>
                      <a:pt x="882" y="0"/>
                    </a:lnTo>
                    <a:lnTo>
                      <a:pt x="882" y="1608"/>
                    </a:lnTo>
                    <a:lnTo>
                      <a:pt x="0" y="160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5bff5b"/>
              </a:solidFill>
              <a:ln w="0">
                <a:solidFill>
                  <a:srgbClr val="5bff5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0320" y="5580000"/>
                <a:ext cx="940320" cy="3380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5355720" y="5465160"/>
                <a:ext cx="41040" cy="1162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296400" y="4877280"/>
                <a:ext cx="372960" cy="10418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396400" y="4876920"/>
                <a:ext cx="1272240" cy="5875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42840" y="70920"/>
            <a:ext cx="71582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Zapisi i poučavanje o trapezu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4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cija i klasif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ula za površinu i doka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kaziv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j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47640" y="22046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Zahvaljujem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843280" y="4512600"/>
            <a:ext cx="3826080" cy="1791720"/>
            <a:chOff x="2843280" y="4512600"/>
            <a:chExt cx="3826080" cy="17917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2843280" y="4844880"/>
              <a:ext cx="1704960" cy="6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"/>
            <p:cNvGrpSpPr/>
            <p:nvPr/>
          </p:nvGrpSpPr>
          <p:grpSpPr>
            <a:xfrm>
              <a:off x="3574080" y="4910400"/>
              <a:ext cx="1459800" cy="1393920"/>
              <a:chOff x="3574080" y="4910400"/>
              <a:chExt cx="1459800" cy="1393920"/>
            </a:xfrm>
          </p:grpSpPr>
          <p:sp>
            <p:nvSpPr>
              <p:cNvPr id="355" name=""/>
              <p:cNvSpPr/>
              <p:nvPr/>
            </p:nvSpPr>
            <p:spPr>
              <a:xfrm rot="20586600">
                <a:off x="3761280" y="5056560"/>
                <a:ext cx="1136160" cy="110664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882" y="180"/>
                    </a:moveTo>
                    <a:lnTo>
                      <a:pt x="0" y="160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882" y="180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solidFill>
                  <a:srgbClr val="e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74080" y="5240520"/>
                <a:ext cx="322200" cy="1058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60920" y="4910400"/>
                <a:ext cx="37440" cy="118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3574080" y="4910760"/>
                <a:ext cx="1087200" cy="329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3895200" y="5028840"/>
                <a:ext cx="801720" cy="1270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998160" y="5234400"/>
              <a:ext cx="1376280" cy="907920"/>
              <a:chOff x="3998160" y="5234400"/>
              <a:chExt cx="1376280" cy="907920"/>
            </a:xfrm>
          </p:grpSpPr>
          <p:sp>
            <p:nvSpPr>
              <p:cNvPr id="361" name=""/>
              <p:cNvSpPr/>
              <p:nvPr/>
            </p:nvSpPr>
            <p:spPr>
              <a:xfrm rot="6150000">
                <a:off x="4377600" y="5061600"/>
                <a:ext cx="642240" cy="124164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0" y="1428"/>
                    </a:moveTo>
                    <a:lnTo>
                      <a:pt x="882" y="0"/>
                    </a:lnTo>
                    <a:lnTo>
                      <a:pt x="882" y="1608"/>
                    </a:lnTo>
                    <a:lnTo>
                      <a:pt x="0" y="160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5bff5b"/>
              </a:solidFill>
              <a:ln w="0">
                <a:solidFill>
                  <a:srgbClr val="5bff5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3998160" y="5243760"/>
                <a:ext cx="139680" cy="6267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4137480" y="5247000"/>
                <a:ext cx="135720" cy="298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3998520" y="5874120"/>
                <a:ext cx="1212120" cy="2682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4273200" y="5276880"/>
                <a:ext cx="937440" cy="865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620240" y="5410800"/>
              <a:ext cx="1424880" cy="495720"/>
              <a:chOff x="4620240" y="5410800"/>
              <a:chExt cx="1424880" cy="495720"/>
            </a:xfrm>
          </p:grpSpPr>
          <p:sp>
            <p:nvSpPr>
              <p:cNvPr id="367" name=""/>
              <p:cNvSpPr/>
              <p:nvPr/>
            </p:nvSpPr>
            <p:spPr>
              <a:xfrm rot="16200000">
                <a:off x="5107320" y="4948560"/>
                <a:ext cx="475560" cy="139968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882" y="180"/>
                    </a:moveTo>
                    <a:lnTo>
                      <a:pt x="0" y="160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882" y="180"/>
                    </a:lnTo>
                    <a:close/>
                  </a:path>
                </a:pathLst>
              </a:custGeom>
              <a:solidFill>
                <a:srgbClr val="ea0000"/>
              </a:solidFill>
              <a:ln w="0">
                <a:solidFill>
                  <a:srgbClr val="ea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620240" y="5905800"/>
                <a:ext cx="1399680" cy="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4620240" y="5430240"/>
                <a:ext cx="156600" cy="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620240" y="5430600"/>
                <a:ext cx="720" cy="47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6840" y="5430960"/>
                <a:ext cx="1242720" cy="4755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335560" y="4512600"/>
              <a:ext cx="1333800" cy="1406520"/>
              <a:chOff x="5335560" y="4512600"/>
              <a:chExt cx="1333800" cy="1406520"/>
            </a:xfrm>
          </p:grpSpPr>
          <p:sp>
            <p:nvSpPr>
              <p:cNvPr id="373" name=""/>
              <p:cNvSpPr/>
              <p:nvPr/>
            </p:nvSpPr>
            <p:spPr>
              <a:xfrm rot="1184400">
                <a:off x="5493240" y="4648680"/>
                <a:ext cx="999000" cy="1107000"/>
              </a:xfrm>
              <a:custGeom>
                <a:avLst/>
                <a:gdLst/>
                <a:ahLst/>
                <a:rect l="l" t="t" r="r" b="b"/>
                <a:pathLst>
                  <a:path w="882" h="1608">
                    <a:moveTo>
                      <a:pt x="0" y="1428"/>
                    </a:moveTo>
                    <a:lnTo>
                      <a:pt x="882" y="0"/>
                    </a:lnTo>
                    <a:lnTo>
                      <a:pt x="882" y="1608"/>
                    </a:lnTo>
                    <a:lnTo>
                      <a:pt x="0" y="160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5bff5b"/>
              </a:solidFill>
              <a:ln w="0">
                <a:solidFill>
                  <a:srgbClr val="5bff5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50320" y="5580000"/>
                <a:ext cx="940320" cy="3380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355720" y="5465160"/>
                <a:ext cx="41040" cy="1162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296400" y="4877280"/>
                <a:ext cx="372960" cy="10418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396400" y="4876920"/>
                <a:ext cx="1272240" cy="5875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9760" y="50292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oji likovi sa slike su trapezi?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5978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216000"/>
            <a:ext cx="71582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zmimo prvu definiciju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137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pez je četverokut koji im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am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edan par usporednih stranic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2786040"/>
            <a:ext cx="6048360" cy="345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04000" y="3213000"/>
            <a:ext cx="201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ezi su likovi označeni brojevi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, 4, 5 i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44000"/>
            <a:ext cx="71582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zmimo drugu definiciju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0920" y="1699920"/>
            <a:ext cx="8012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pez je četverokut koji im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ba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edan par usporednih stranic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575928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59640" y="3284640"/>
            <a:ext cx="19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ezi su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kovi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si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ih označeni brojevi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i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zmimo treću definiciju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5640" y="1628280"/>
            <a:ext cx="826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pez je četverokut koji ima jedan par usporednih stranic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2646360"/>
            <a:ext cx="6119640" cy="359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04000" y="2781360"/>
            <a:ext cx="201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neke autore ova definicija je istoznačna prvoj, a za neke drugoj definicij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3213000"/>
            <a:ext cx="1871640" cy="23799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tanj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li trapez paralelogra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66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li svaki paralelogram trapez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8:38:32Z</dcterms:created>
  <dc:creator>nn</dc:creator>
  <dc:description/>
  <dc:language>en-US</dc:language>
  <cp:lastModifiedBy>nlesar</cp:lastModifiedBy>
  <dcterms:modified xsi:type="dcterms:W3CDTF">2010-04-22T09:15:44Z</dcterms:modified>
  <cp:revision>47</cp:revision>
  <dc:subject/>
  <dc:title>Muke po trapezu ili raskoš trapeza?</dc:title>
</cp:coreProperties>
</file>