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Lidija Cvikić, Drugi jezik Hrvats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95D3-324F-44FA-8F76-74B8D2A8B2CF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Lidija Cvikić, Drugi jezik Hrvat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F2D60F4-D3FF-4446-8FC7-7351B9032DA6}" type="slidenum"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Lidija Cvikić, Drugi jezik Hrvat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A75A9-151D-4A32-BEB3-124C7406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8958B-4627-4C84-A52C-35B12677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1802-3737-4A0A-A38A-31D3AE37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ED598-E631-440C-B13E-94B77463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D815-8C2A-48A2-BDA5-E3C2BDFC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C6AC-73DA-4762-8E44-706E508D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26F1-3D7B-4465-80ED-9A6E058F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7155-CBE4-4028-827C-E2A2A3C7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B254-9688-4C67-8ED5-E531F827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4852-B9F4-416B-B0D8-F35599EC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9DA4-F59E-4E82-94F8-EB6A1330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901C-87BE-4EF5-98A0-FA084DBD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5EFE-6A72-46D8-BBB4-D5739A1F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8934-19D5-447A-AF33-BC618872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1A0D-12DD-4B3B-AA01-43FC3CE1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C43A-8B1A-4088-9092-79A94631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FDB5-7B60-4D83-A014-2902F464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BF9EC-5DFE-481A-8568-6E0AA5B3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C4BC-5B54-4670-AC69-2AE36077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E710-3665-4991-BCE4-25DE6D32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A717-452F-438B-B8D4-2F00F876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D401-45C3-4F0D-A06D-6AC40D9B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39B2-B23D-42BA-89F9-FF617A99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91FC-9252-4121-9971-90EF460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8580-BDC4-4DFD-B318-850CE81FCE50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797B-0F70-440B-83AA-ADE6849985F5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45.tinypic.com/28wf5gx.jp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ffffff"/>
                </a:solidFill>
                <a:latin typeface="Arial"/>
              </a:rPr>
              <a:t>Metodički pristupi u nastavi hrvatskoga jezik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"/>
              </a:rPr>
              <a:t>Vesna Budinski, predava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"/>
              </a:rPr>
              <a:t>Učiteljski fakultet Sveučilišta u Zagreb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"/>
              </a:rPr>
              <a:t>Savska 77, Zagre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"/>
              </a:rPr>
              <a:t>E-mail: vesna_budinski@yahoo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SVAJANJE JEZIKA</a:t>
            </a: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Zrinka Jelask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323360"/>
            <a:ext cx="763272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novne su jezične djelat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9999ff"/>
                </a:solidFill>
                <a:latin typeface="Arial"/>
              </a:rPr>
              <a:t>slušanje</a:t>
            </a:r>
            <a:r>
              <a:rPr b="0" lang="hr-HR" sz="24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hr-HR" sz="2400" spc="-1" strike="noStrike">
                <a:solidFill>
                  <a:srgbClr val="9999ff"/>
                </a:solidFill>
                <a:latin typeface="Arial"/>
              </a:rPr>
              <a:t>govore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te </a:t>
            </a:r>
            <a:r>
              <a:rPr b="0" i="1" lang="hr-HR" sz="2400" spc="-1" strike="noStrike">
                <a:solidFill>
                  <a:srgbClr val="9999ff"/>
                </a:solidFill>
                <a:latin typeface="Arial"/>
              </a:rPr>
              <a:t>razgovar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ije ih potrebno posebno pouča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zik se usvaj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jedinim jezičnim djelatnostim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nkretnim primjerim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u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sporazumijevanju (komunikacij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vladavajući jezičnim djelatnostim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dijet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svaja i sam jezik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apstraktni ljudski sustav sporazumije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čenik koji započinje školovanje u dovoljnom je stupnju ovladao (govornim) jeziko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što znači da je sposoban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razumjeti govo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govori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razgova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školi se susreće s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drugotni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jezičnim djelatnostima: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čitanjem i pisanj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5862960" y="6165720"/>
            <a:ext cx="32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(Lidija Cvikić (ur.),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Drugi jezik hrvatski, 2007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_tata"/>
          <p:cNvPicPr/>
          <p:nvPr/>
        </p:nvPicPr>
        <p:blipFill>
          <a:blip r:embed="rId1"/>
          <a:stretch/>
        </p:blipFill>
        <p:spPr>
          <a:xfrm>
            <a:off x="6227640" y="692280"/>
            <a:ext cx="25434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VLADAVANJE JEZIKOM – USVAJANJE I UČENJ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Zrinka Jelask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da se posebno ne želi isticati sam način kako je tko stekao jezik, tj. usvajanje ili učenje, rabe se različiti nazivi. Katkad se govori sam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svajanje jez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katkad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čenje jez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a katkad se naizmjence rabe i usvajanje i učenje bez posebnoga razlikovanja. No ta situacija može dovesti do nesporazuma jer su oba naziva dvosmis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ko ne bi došlo do zabune,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obro je kao nadređeni pojam rabiti </a:t>
            </a:r>
            <a:r>
              <a:rPr b="1" i="1" lang="hr-HR" sz="2000" spc="-1" strike="noStrike">
                <a:solidFill>
                  <a:srgbClr val="9999ff"/>
                </a:solidFill>
                <a:latin typeface="Arial"/>
              </a:rPr>
              <a:t>ovladavanje jezikom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, a usvajanje i učenje kao podređeni poja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(Jelaska i sur., 2005).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Tad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svajanje znači spontano, nesvjesno, u prirodnim okolnostima, a učenje svjesno ili izravno, u obrazovnim okolnostima, dok ovladavanje znači i jedno i drugo...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5647320" y="6093000"/>
            <a:ext cx="32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(Lidija Cvikić (ur.),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Drugi jezik hrvatski, 2007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zik je znakovni susta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munikacija jezikom ostvaruje se jezičnim djelatnosti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slušan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čitan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gledan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govoren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pisan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znakovan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zik se usvaja jezičnim djelatnostima na konkretnim primjerima sporazumije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vladava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jezikom -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nadređe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poj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svaja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čenj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zika -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podređen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j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06 - Track  6-1.wav" descr=""/>
          <p:cNvPicPr/>
          <p:nvPr/>
        </p:nvPicPr>
        <p:blipFill>
          <a:blip r:embed="rId1"/>
          <a:stretch/>
        </p:blipFill>
        <p:spPr>
          <a:xfrm>
            <a:off x="8028000" y="549360"/>
            <a:ext cx="665280" cy="663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78d"/>
          <p:cNvPicPr/>
          <p:nvPr/>
        </p:nvPicPr>
        <p:blipFill>
          <a:blip r:embed="rId2"/>
          <a:stretch/>
        </p:blipFill>
        <p:spPr>
          <a:xfrm>
            <a:off x="3492360" y="4292640"/>
            <a:ext cx="3524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696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JEZIČNE R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Usvajajući jezik, dijete mora ovladati svim njegovim razinam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Jezikoslovci ih različito dij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ODJELA JEZIČNIH RAZIN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9999ff"/>
                </a:solidFill>
                <a:latin typeface="Arial"/>
              </a:rPr>
              <a:t>ZNAČENJSKE RAZ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leksičk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npr. znanje i uporaba različitih riječi, samoznačnih i suznačnih, frazema, koloka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semantičk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npr. značenje rečenica, sinonima, antonima, gramatičkih kategorija poput padež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9999ff"/>
                </a:solidFill>
                <a:latin typeface="Arial"/>
              </a:rPr>
              <a:t>GRAMATIČKE RAZ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fonološk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npr. razlikovni glasovi i njihove inačice, slogovna struktura, naglas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morfološk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npr. sklonidba, sprezanje, vrste riječi, morfemi, tvorba riječ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sintaktičk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npr. sintagme, surečenice, rečenice, sroč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pravopis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npr. pisanje slova, dijakritičkih znakova, interpunkci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9999ff"/>
                </a:solidFill>
                <a:latin typeface="Arial"/>
              </a:rPr>
              <a:t>UPORABNE RAZ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pragmatičk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npr. komunikacijska uloga jezika, ustroj i prilagodba poruke kontekstu, iron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ruštvenojezič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npr. pravila ponašanja, izrazi pozdravljanja, uporaba stila, idio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(Lidija Cvikić (ur.), </a:t>
            </a:r>
            <a:r>
              <a:rPr b="0" i="1" lang="hr-HR" sz="1000" spc="-1" strike="noStrike">
                <a:solidFill>
                  <a:srgbClr val="000000"/>
                </a:solidFill>
                <a:latin typeface="Arial"/>
              </a:rPr>
              <a:t>Drugi jezik hrvatski, 2007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220000" y="8604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Zrinka Jela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zične razine - primj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za rodjendan"/>
          <p:cNvPicPr/>
          <p:nvPr/>
        </p:nvPicPr>
        <p:blipFill>
          <a:blip r:embed="rId1"/>
          <a:stretch/>
        </p:blipFill>
        <p:spPr>
          <a:xfrm>
            <a:off x="2627280" y="907920"/>
            <a:ext cx="54021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za rodjendan 2"/>
          <p:cNvPicPr/>
          <p:nvPr/>
        </p:nvPicPr>
        <p:blipFill>
          <a:blip r:embed="rId1"/>
          <a:stretch/>
        </p:blipFill>
        <p:spPr>
          <a:xfrm>
            <a:off x="1722600" y="525600"/>
            <a:ext cx="56988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za rodjendan 3"/>
          <p:cNvPicPr/>
          <p:nvPr/>
        </p:nvPicPr>
        <p:blipFill>
          <a:blip r:embed="rId1"/>
          <a:stretch/>
        </p:blipFill>
        <p:spPr>
          <a:xfrm>
            <a:off x="2049480" y="476280"/>
            <a:ext cx="526716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sto sve mogu biti"/>
          <p:cNvPicPr/>
          <p:nvPr/>
        </p:nvPicPr>
        <p:blipFill>
          <a:blip r:embed="rId1"/>
          <a:stretch/>
        </p:blipFill>
        <p:spPr>
          <a:xfrm>
            <a:off x="971640" y="404640"/>
            <a:ext cx="2832120" cy="6453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sto sve mogu biti 2"/>
          <p:cNvPicPr/>
          <p:nvPr/>
        </p:nvPicPr>
        <p:blipFill>
          <a:blip r:embed="rId2"/>
          <a:stretch/>
        </p:blipFill>
        <p:spPr>
          <a:xfrm>
            <a:off x="5292720" y="404640"/>
            <a:ext cx="27874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sto sve mogu biti 3"/>
          <p:cNvPicPr/>
          <p:nvPr/>
        </p:nvPicPr>
        <p:blipFill>
          <a:blip r:embed="rId1"/>
          <a:stretch/>
        </p:blipFill>
        <p:spPr>
          <a:xfrm>
            <a:off x="2700360" y="274680"/>
            <a:ext cx="456552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b"/>
          <p:cNvPicPr/>
          <p:nvPr/>
        </p:nvPicPr>
        <p:blipFill>
          <a:blip r:embed="rId1"/>
          <a:stretch/>
        </p:blipFill>
        <p:spPr>
          <a:xfrm>
            <a:off x="468360" y="855720"/>
            <a:ext cx="828036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75D5-C484-4EE4-A444-EAF7FA18FA6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E:\PPS\Tadijanovic.png"/>
          <p:cNvPicPr/>
          <p:nvPr/>
        </p:nvPicPr>
        <p:blipFill>
          <a:blip r:embed="rId1"/>
          <a:stretch/>
        </p:blipFill>
        <p:spPr>
          <a:xfrm>
            <a:off x="1979640" y="620640"/>
            <a:ext cx="5162400" cy="3048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E:\PPS\2005_10_03-Dragutin Tadijanovic 036.jpg"/>
          <p:cNvPicPr/>
          <p:nvPr/>
        </p:nvPicPr>
        <p:blipFill>
          <a:blip r:embed="rId2"/>
          <a:stretch/>
        </p:blipFill>
        <p:spPr>
          <a:xfrm>
            <a:off x="2556000" y="3860640"/>
            <a:ext cx="3313080" cy="2484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08000" y="651672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usret s pjesnikom Dragutinom Tadijanovićem mjesec dana prije 100. rođen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"/>
          <p:cNvPicPr/>
          <p:nvPr/>
        </p:nvPicPr>
        <p:blipFill>
          <a:blip r:embed="rId1"/>
          <a:stretch/>
        </p:blipFill>
        <p:spPr>
          <a:xfrm>
            <a:off x="1760400" y="476280"/>
            <a:ext cx="55976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DUVJETI JEZIČNOGA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51868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a bi dijete uopće moglo usvojiti jezik, mora imati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sposobnost spontanoga uče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bilo kojega ljudskoga jezika (uključujući sposobnost da oponaša jezične uzore: roditelje i ostale bliske ljude), mora biti izloženo jezičnome uzoru u izravnome sporazumijevanju, t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9999ff"/>
                </a:solidFill>
                <a:uFillTx/>
                <a:latin typeface="Arial"/>
              </a:rPr>
              <a:t>netko s njime mora razgovarati, mora se spoznajno razvijati.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791680" y="6165720"/>
            <a:ext cx="3242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(Lidija Cvikić (ur.),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Drugi jezik hrvatski, 2007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654520" y="14842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Zrinka Jel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01 - Track  1-2.wav" descr=""/>
          <p:cNvPicPr/>
          <p:nvPr/>
        </p:nvPicPr>
        <p:blipFill>
          <a:blip r:embed="rId1"/>
          <a:stretch/>
        </p:blipFill>
        <p:spPr>
          <a:xfrm>
            <a:off x="8172360" y="76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1979640" y="4398840"/>
            <a:ext cx="25398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867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666699"/>
                </a:solidFill>
                <a:latin typeface="Arial"/>
              </a:rPr>
              <a:t>GAĐAJTE PREMA MJESECU. ČAK I AKO PROMAŠITE, ZAVRŠIT ĆETE MEĐU ZVIJEZDA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Arial"/>
              </a:rPr>
              <a:t>Les B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sreca2"/>
          <p:cNvPicPr/>
          <p:nvPr/>
        </p:nvPicPr>
        <p:blipFill>
          <a:blip r:embed="rId1"/>
          <a:stretch/>
        </p:blipFill>
        <p:spPr>
          <a:xfrm>
            <a:off x="2843280" y="3110040"/>
            <a:ext cx="63007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EORIJE O USVAJANJU JE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578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orije o usvajanju jezika moguće je svesti na tri skup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va (je) smatra(la) da djeca usvajaju jezik oponašanjem, u skladu s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biheviorističkim pristup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ruga smatra da je jezik urođena sposobnost, da štoviše postoji jezični instinkt; ona je u skladu s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generativnim lingvističkim pristup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eća zapravo objedinjuje različite teorije koje smatraju da se jezik razvija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međudjelovanje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što znači da su mu u temelju opće sposobnosti i iskust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429160" y="6093000"/>
            <a:ext cx="33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(Jelaska i sur., 2005, Kuvač i Palmović, 2007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806880" y="1125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Zrinka Jel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SKU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rebno je da dijete stekne jezično iskustvo, a to znači da uči jezik u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izravnome sporazumijevan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u kojem osim govora igraju ulogu i pokreti tijela, lica, glave, ruku, mimika, tjelesni dodir, dodiri općenito, miris, okus, itd., a vrlo su važni i osjećaji i osjećajno sporazumijev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159240" y="1341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Zrinka Jel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q_skola"/>
          <p:cNvPicPr/>
          <p:nvPr/>
        </p:nvPicPr>
        <p:blipFill>
          <a:blip r:embed="rId1"/>
          <a:stretch/>
        </p:blipFill>
        <p:spPr>
          <a:xfrm>
            <a:off x="1116000" y="4149720"/>
            <a:ext cx="3456000" cy="2303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28wf5g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3860640"/>
            <a:ext cx="3951360" cy="26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SNOVNA NAČELA UČENJA RIJE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 bismo pomogli djeci u učenju riječi hrvatskoga jezika,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trebno je držati se općih načela koja služe u poučavanju riječi bilo kojega jez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enje riječi, kao i svako drugo učenje, treba biti </a:t>
            </a:r>
            <a:r>
              <a:rPr b="1" lang="hr-HR" sz="2000" spc="-1" strike="noStrike">
                <a:solidFill>
                  <a:srgbClr val="9999ff"/>
                </a:solidFill>
                <a:latin typeface="Arial"/>
              </a:rPr>
              <a:t>zorn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U njemu trebaju sudjelovati sva osjetila (vidjeti i dotaknuti predmete, gestama i mimikom predočiti, okusi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liku pažnju treba posvetiti samomu </a:t>
            </a:r>
            <a:r>
              <a:rPr b="1" lang="hr-HR" sz="2000" spc="-1" strike="noStrike">
                <a:solidFill>
                  <a:srgbClr val="9999ff"/>
                </a:solidFill>
                <a:latin typeface="Arial"/>
              </a:rPr>
              <a:t>obliku riječ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izgovoriti riječ koju dijete ne zna nekoliko puta i to izolirano iz konteksta u kojemu ju je susrelo da bi dobro čuo sve glasove od kojih je riječ sastavlje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iječi je potrebno puno puta </a:t>
            </a:r>
            <a:r>
              <a:rPr b="1" lang="hr-HR" sz="2000" spc="-1" strike="noStrike">
                <a:solidFill>
                  <a:srgbClr val="9999ff"/>
                </a:solidFill>
                <a:latin typeface="Arial"/>
              </a:rPr>
              <a:t>ponavljati u različitim kontekstim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da bi se dobilo više potvrda njezina značenja, ali u slučaju hrvatskoga jezika i njezina oblika koji se razlikuje ovisno o okolini u kojoj se riječ naš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bar je postupak i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definira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tj. </a:t>
            </a:r>
            <a:r>
              <a:rPr b="1" lang="hr-HR" sz="2000" spc="-1" strike="noStrike">
                <a:solidFill>
                  <a:srgbClr val="9999ff"/>
                </a:solidFill>
                <a:latin typeface="Arial"/>
              </a:rPr>
              <a:t>objašnjavanje riječ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onim riječima koje dijete već razumije i zna, objašnjavanje jednoga pojma suprotnim pojmom, nadređenim ili podređenim poj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791680" y="6237360"/>
            <a:ext cx="32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(Lidija Cvikić (ur.),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Drugi jezik hrvatski, 2007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087600" y="11970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Zrinka Jel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324360" y="952560"/>
            <a:ext cx="4427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666699"/>
                </a:solidFill>
                <a:latin typeface="Arial"/>
              </a:rPr>
              <a:t>ŠUTNJA JE ZLATO, POSEBNO KADA SE NE MOŽETE SJETITI ODGOVO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Muhammad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voda"/>
          <p:cNvPicPr/>
          <p:nvPr/>
        </p:nvPicPr>
        <p:blipFill>
          <a:blip r:embed="rId1"/>
          <a:stretch/>
        </p:blipFill>
        <p:spPr>
          <a:xfrm>
            <a:off x="4140360" y="1008000"/>
            <a:ext cx="4889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OMUNIKACIJSKE KOMPETENCIJE</a:t>
            </a: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Dunja Pavličević-Fran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elimo li poboljšati jezičnu osposobljenost u mlađoj razvojnoj dobi (početni razredi osnovne škole), proces učenja jezika trebao bi se temeljiti na razvoju općih komunikacijskih sposobnosti i usvajanju jezičnih djelatnosti aktivnoga slušanja, govorenja, čitanja i pisanja na materinskome jeziku, te bogaćenju učenikova rječn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kle, riječ je ponajprije o potica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666699"/>
                </a:solidFill>
                <a:latin typeface="Arial"/>
              </a:rPr>
              <a:t>     </a:t>
            </a:r>
            <a:r>
              <a:rPr b="0" i="1" lang="hr-HR" sz="2000" spc="-1" strike="noStrike">
                <a:solidFill>
                  <a:srgbClr val="9999ff"/>
                </a:solidFill>
                <a:latin typeface="Arial"/>
              </a:rPr>
              <a:t>komunikacijske kompetenc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porabno znanje jez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u svakodnevnim priopćajnim situacijam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 tek potom i nešto kasnije u razvo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666699"/>
                </a:solidFill>
                <a:latin typeface="Arial"/>
              </a:rPr>
              <a:t>     </a:t>
            </a:r>
            <a:r>
              <a:rPr b="0" i="1" lang="hr-HR" sz="2000" spc="-1" strike="noStrike">
                <a:solidFill>
                  <a:srgbClr val="9999ff"/>
                </a:solidFill>
                <a:latin typeface="Arial"/>
              </a:rPr>
              <a:t>lingvističke kompetenc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eorijsko znanje o jezik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oga bi odabir jezičnoga sadržaja, način oblikovanja te postupci učenja i usvajanja u ranojezičnoj fazi nužno trebali biti povezani s dječjim jezičnim iskustvom, predznanjem, interesima te psihofizičkim sposobnostima i spoznajnim mogućnos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Komunikacijom do gramatik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2005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brnuti slijed, </a:t>
            </a:r>
            <a:r>
              <a:rPr b="1" lang="hr-HR" sz="2000" spc="-1" strike="noStrike">
                <a:solidFill>
                  <a:srgbClr val="9999ff"/>
                </a:solidFill>
                <a:latin typeface="Arial"/>
              </a:rPr>
              <a:t>gramatikom do komunikac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koji je na žalost većinom prisutan u školskoj praksi, službenome programu i nekim udžbenicima, </a:t>
            </a:r>
            <a:r>
              <a:rPr b="1" lang="hr-HR" sz="2000" spc="-1" strike="noStrike">
                <a:solidFill>
                  <a:srgbClr val="9999ff"/>
                </a:solidFill>
                <a:latin typeface="Arial"/>
              </a:rPr>
              <a:t>neprimjeran je ranojezičnoj razvojnoj dob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te stoga nesvrhovit i neučinkov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ogika govora koju dijete mlađe školske dobi poznaje suprotna je gramatici govora koju bi tek trebalo usvojiti. Stoga jezikom uspješno može ovladati jedino komunicirajući, u funkciji stvarnih govornih i pisanih komunikacijskih situacija u kojima će s razumijevanjem koristiti riječ, smjestiti u govorni lanac, oblikovati (izreći ili napisati) rečenic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unkcionalno-komunikacijsko usvajanje hrvatskoga jezika nastoji dokinuti neplodonosno jezično teoretiziranje i gramatiziranje u korist zanimljive i razigrane, a ipak primjerene i svrhovite nastave hrvatskoga jezika. To prvenstveno znači </a:t>
            </a:r>
            <a:r>
              <a:rPr b="1" i="1" lang="hr-HR" sz="2000" spc="-1" strike="noStrike">
                <a:solidFill>
                  <a:srgbClr val="9999ff"/>
                </a:solidFill>
                <a:latin typeface="Arial"/>
              </a:rPr>
              <a:t>učiti slušati, razumijevati, govoriti, čitati i pisati</a:t>
            </a:r>
            <a:r>
              <a:rPr b="1" lang="hr-HR" sz="2000" spc="-1" strike="noStrike">
                <a:solidFill>
                  <a:srgbClr val="9999ff"/>
                </a:solidFill>
                <a:latin typeface="Arial"/>
              </a:rPr>
              <a:t>, odnosno </a:t>
            </a:r>
            <a:r>
              <a:rPr b="1" i="1" lang="hr-HR" sz="2000" spc="-1" strike="noStrike">
                <a:solidFill>
                  <a:srgbClr val="9999ff"/>
                </a:solidFill>
                <a:latin typeface="Arial"/>
              </a:rPr>
              <a:t>učiti komunicira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ne ulazeći u podrobno definiranje i analiziranje jezičnih pojava, barem kad je riječ o mlađim razredima osnovne ško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Komunikacijom do gramatik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2005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10 - Track 10.wav" descr=""/>
          <p:cNvPicPr/>
          <p:nvPr/>
        </p:nvPicPr>
        <p:blipFill>
          <a:blip r:embed="rId1"/>
          <a:stretch/>
        </p:blipFill>
        <p:spPr>
          <a:xfrm>
            <a:off x="8388360" y="333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7787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OSOBNO NAJVIŠE VOLIM JAGODE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ŠLAGOM, NO OTKRIO SAM DA IZ MENI NEOBJAŠNJIVIH RAZLO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RIBE VIŠE VOLE CR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ZATO KAD IDEM NA PECANJE NE RAZMIŠLJAM O TOME ŠTO JA VOL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VEĆ O TOME ŠTO VOLE RI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Dale Carne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79280" y="5300640"/>
            <a:ext cx="1822680" cy="1319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jagode-slag"/>
          <p:cNvPicPr/>
          <p:nvPr/>
        </p:nvPicPr>
        <p:blipFill>
          <a:blip r:embed="rId2"/>
          <a:stretch/>
        </p:blipFill>
        <p:spPr>
          <a:xfrm>
            <a:off x="7956720" y="1989000"/>
            <a:ext cx="10159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4032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666699"/>
                </a:solidFill>
                <a:latin typeface="Arial"/>
              </a:rPr>
              <a:t>KAD VAŠE DJELO GOVORI UMJESTO VA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666699"/>
                </a:solidFill>
                <a:latin typeface="Arial"/>
              </a:rPr>
              <a:t>NE UPADAJTE U RIJEČ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666699"/>
                </a:solidFill>
                <a:latin typeface="Arial"/>
              </a:rPr>
              <a:t>Henry Kra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dijete"/>
          <p:cNvPicPr/>
          <p:nvPr/>
        </p:nvPicPr>
        <p:blipFill>
          <a:blip r:embed="rId1"/>
          <a:stretch/>
        </p:blipFill>
        <p:spPr>
          <a:xfrm>
            <a:off x="4788000" y="1628640"/>
            <a:ext cx="3743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ISANI JEZ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ultura pisanja temelji se na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konitostima pisanoga jezi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 Pisani jezik ima svoju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avopisnu, gramatičku, stilističk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leksičku norm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svoje funkcionalne stilove i oblike izražav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je pisanoga jezika (učenje pisanja kao jezične djelatnosti) povezuje se s učenjem govorenja (učenjem govorenoga jezika). </a:t>
            </a:r>
            <a:r>
              <a:rPr b="0" lang="hr-HR" sz="2400" spc="-1" strike="noStrike">
                <a:solidFill>
                  <a:srgbClr val="9999ff"/>
                </a:solidFill>
                <a:latin typeface="Arial"/>
              </a:rPr>
              <a:t>U početnoj nastavi jezičnoga izražavanja ne postoje veće razlike između pisanoga i govorenoga jezika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Djeca pišu onako kako govore (poistovjećuju pisani i govoreni jezik).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Osamostaljivanje pisanoga jezika započinje svjesno na kraju 2. razred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496600" y="148356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Dragutin Rosand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x63132435782575734"/>
          <p:cNvPicPr/>
          <p:nvPr/>
        </p:nvPicPr>
        <p:blipFill>
          <a:blip r:embed="rId1"/>
          <a:stretch/>
        </p:blipFill>
        <p:spPr>
          <a:xfrm>
            <a:off x="6372360" y="358920"/>
            <a:ext cx="2016000" cy="15127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079680" y="6093000"/>
            <a:ext cx="29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(Od slova do teksta  i metatekst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2002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5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JEŠTINA POUČAVANJA I SPOSOBNOST STVARANJA NOVIH METODIČKIH OBLIKA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Ante Bež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78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metodiku su značajne dvije vrste znanja o odgoju i obrazovanju, a to su </a:t>
            </a:r>
            <a:r>
              <a:rPr b="0" lang="hr-HR" sz="2400" spc="-1" strike="noStrike" u="sng">
                <a:solidFill>
                  <a:srgbClr val="9999ff"/>
                </a:solidFill>
                <a:uFillTx/>
                <a:latin typeface="Arial"/>
              </a:rPr>
              <a:t>znanje o sadržaju učenja</a:t>
            </a:r>
            <a:r>
              <a:rPr b="0" lang="hr-HR" sz="2400" spc="-1" strike="noStrike">
                <a:solidFill>
                  <a:srgbClr val="9999ff"/>
                </a:solidFill>
                <a:latin typeface="Arial"/>
              </a:rPr>
              <a:t> i </a:t>
            </a:r>
            <a:r>
              <a:rPr b="0" lang="hr-HR" sz="2400" spc="-1" strike="noStrike" u="sng">
                <a:solidFill>
                  <a:srgbClr val="9999ff"/>
                </a:solidFill>
                <a:uFillTx/>
                <a:latin typeface="Arial"/>
              </a:rPr>
              <a:t>znanje o poučav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Znanje o sadržaju učenja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 znanje koje učenik (polaznik) treba naučiti, a sadržano je u nastavnim programima (kurikulumima), udžbenicima i drugim izvorima znan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Znanje o poučavan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ma posve drukčiji sadržaj i strukturu od znanja o učenju, i po tome što, osim samog znanja o učenju, uključuje i brojna znanja, umijeća (kompetencije) i vještine poučavanja. To znanje trebaju posjedovati učitelji radi prenošenja znanja o učenju učenic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Metodika – znanost o poučavanju nastavnog predmet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2008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Metodičko zn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u cijelosti pripada znanju o odgoju i obrazovanju, a njegova je posebnost u tome što povezuje znanje o učenju i znanje o poučavanju, odnosno sadrži jedno i drugo, te se ne može poistovjetiti ni sa znanjem o učenju ni sa znanjem o poučav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ebna je osobitost metodičkog znanja u tome što to nije samo kognitivno znanje, nego i poznavanje određenih </a:t>
            </a:r>
            <a:r>
              <a:rPr b="0" lang="hr-HR" sz="2400" spc="-1" strike="noStrike">
                <a:solidFill>
                  <a:srgbClr val="9999ff"/>
                </a:solidFill>
                <a:latin typeface="Arial"/>
              </a:rPr>
              <a:t>vještina poučav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hr-HR" sz="2400" spc="-1" strike="noStrike">
                <a:solidFill>
                  <a:srgbClr val="9999ff"/>
                </a:solidFill>
                <a:latin typeface="Arial"/>
              </a:rPr>
              <a:t>sposobnost stvaranja novih metodičkih obli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pristupa, metoda, postupaka i dr.), u čemu je važan afektivni i vrijednosni potencijal učitelja, odnosno metodič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posobljenost za poučavanje, tj. za izvršavanje profesionalnih zadaća učitelja, ima sva obilježja kompetencije. Kako je u tom poslu primaran praktičan rad, među </a:t>
            </a:r>
            <a:r>
              <a:rPr b="0" lang="hr-HR" sz="2400" spc="-1" strike="noStrike">
                <a:solidFill>
                  <a:srgbClr val="9999ff"/>
                </a:solidFill>
                <a:latin typeface="Arial"/>
              </a:rPr>
              <a:t>najvažnije sastavnice osposobljenosti za poučavanje ulazi </a:t>
            </a:r>
            <a:r>
              <a:rPr b="0" lang="hr-HR" sz="2400" spc="-1" strike="noStrike" u="sng">
                <a:solidFill>
                  <a:srgbClr val="9999ff"/>
                </a:solidFill>
                <a:uFillTx/>
                <a:latin typeface="Arial"/>
              </a:rPr>
              <a:t>metodička kompetencija</a:t>
            </a:r>
            <a:r>
              <a:rPr b="0" lang="hr-HR" sz="24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(Metodika – znanost o poučavanju nastavnog predmeta, 2008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666699"/>
                </a:solidFill>
                <a:latin typeface="Arial"/>
              </a:rPr>
              <a:t>KADA BISMO MOGLI PRODATI VLASTITO ISKUSTVO ZA ONOLIKO KOLIKO NAS JE KOŠTAL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6699"/>
                </a:solidFill>
                <a:latin typeface="Arial"/>
              </a:rPr>
              <a:t>POSTALI BISMO MILIJUNAŠ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666699"/>
                </a:solidFill>
                <a:latin typeface="Arial"/>
              </a:rPr>
              <a:t>Abigail van B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kad moja majka govori"/>
          <p:cNvPicPr/>
          <p:nvPr/>
        </p:nvPicPr>
        <p:blipFill>
          <a:blip r:embed="rId1"/>
          <a:stretch/>
        </p:blipFill>
        <p:spPr>
          <a:xfrm>
            <a:off x="900000" y="4437000"/>
            <a:ext cx="23036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Metodički predložak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Metodički instrumentarij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Metodički priručnik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cita_novine"/>
          <p:cNvPicPr/>
          <p:nvPr/>
        </p:nvPicPr>
        <p:blipFill>
          <a:blip r:embed="rId1"/>
          <a:stretch/>
        </p:blipFill>
        <p:spPr>
          <a:xfrm>
            <a:off x="4932360" y="4005360"/>
            <a:ext cx="3240000" cy="2157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djeca-citaju0"/>
          <p:cNvPicPr/>
          <p:nvPr/>
        </p:nvPicPr>
        <p:blipFill>
          <a:blip r:embed="rId2"/>
          <a:stretch/>
        </p:blipFill>
        <p:spPr>
          <a:xfrm>
            <a:off x="611280" y="4005360"/>
            <a:ext cx="3539880" cy="2158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djeca-ce-teze-kasnije-uciti-ako-prerano-pocnu-citati_313x444n_308693"/>
          <p:cNvPicPr/>
          <p:nvPr/>
        </p:nvPicPr>
        <p:blipFill>
          <a:blip r:embed="rId3"/>
          <a:stretch/>
        </p:blipFill>
        <p:spPr>
          <a:xfrm>
            <a:off x="6516720" y="765000"/>
            <a:ext cx="22017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6699"/>
                </a:solidFill>
                <a:latin typeface="Arial"/>
              </a:rPr>
              <a:t>I POSLIJE SLABE ŽET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6699"/>
                </a:solidFill>
                <a:latin typeface="Arial"/>
              </a:rPr>
              <a:t>TREBA SIJAT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666699"/>
                </a:solidFill>
                <a:latin typeface="Arial"/>
              </a:rPr>
              <a:t>Seneka</a:t>
            </a:r>
            <a:r>
              <a:rPr b="0" lang="hr-HR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dva misa2"/>
          <p:cNvPicPr/>
          <p:nvPr/>
        </p:nvPicPr>
        <p:blipFill>
          <a:blip r:embed="rId1"/>
          <a:stretch/>
        </p:blipFill>
        <p:spPr>
          <a:xfrm>
            <a:off x="1979640" y="3386160"/>
            <a:ext cx="50799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ITERATUR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. Babić, S., Brozović, D., Moguš, M., Pavešić, S., Škarić, I., Težak S. (1991):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Povijesni pregled, glasovi i oblici hrvatskoga književnoga jez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HAZU, Zagreb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tr.1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. Bežen, A. (2008):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Metodika – znanost o poučavanju nastavnog predmeta,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fil, Učiteljski fakultet Sveučilišta u Zagrebu, Zagreb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tr. 60-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. Cvikić, L. (ur.) (2007):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Drugi jezik hrvatsk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Profil, Zagreb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tr. 21-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. Lovrenčić, S. (2007):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U potrazi za Ivano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Autorska kuća, Zagr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5. Matanović, J. (2008):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Tko se boji lika još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Profil, Zagr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6. Rosandić, D. (2002):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Od slova do teksta i metateksta,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fil, Zagreb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tr. 54-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7.  Pavličević-Franić, D. (2005):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Komunikacijom do gramati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Alfa, Zagreb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tr. 79-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very smart dog..mathemathical.mpg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8323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9272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000" y="980640"/>
            <a:ext cx="8496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gledajmo i ogledajmo nekolike primj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v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sljednj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ešk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ak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asn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pak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stinit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lavn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ramn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azn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šten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gork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udr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vet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sprazn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mn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jubazn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bičn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Božja rije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iječ uvijek biva u suodnosu s drugom riječju. Riječ se ozbiljuje tek u mreži izrečenih i smislenih riječi poredanih u rečenice i tako razbuđene i oživljene imaju znače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A1CA-F5AF-415B-BA01-70118054DF4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JE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E:\PPS\2005_10_03-Dragutin Tadijanovic 006.jpg"/>
          <p:cNvPicPr/>
          <p:nvPr/>
        </p:nvPicPr>
        <p:blipFill>
          <a:blip r:embed="rId1"/>
          <a:stretch/>
        </p:blipFill>
        <p:spPr>
          <a:xfrm>
            <a:off x="3348000" y="1989000"/>
            <a:ext cx="2338560" cy="345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E:\PPS\2005_10_03-Dragutin Tadijanovic 017.jpg"/>
          <p:cNvPicPr/>
          <p:nvPr/>
        </p:nvPicPr>
        <p:blipFill>
          <a:blip r:embed="rId2"/>
          <a:stretch/>
        </p:blipFill>
        <p:spPr>
          <a:xfrm>
            <a:off x="5867280" y="3141720"/>
            <a:ext cx="3132360" cy="2347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E:\PPS\2005_10_03-Dragutin Tadijanovic 072.jpg"/>
          <p:cNvPicPr/>
          <p:nvPr/>
        </p:nvPicPr>
        <p:blipFill>
          <a:blip r:embed="rId3"/>
          <a:stretch/>
        </p:blipFill>
        <p:spPr>
          <a:xfrm>
            <a:off x="6516720" y="549360"/>
            <a:ext cx="23511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JEČ KAO RIJE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ako bismo mogli shvatiti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rijê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ao riječ i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rijê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a je Riječ, poslužit ćemo se navodom početka Evanđelja po Ivan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En arhe en ho logos (grčk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In principio erat verbum (latinsk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In the beginning was the Word (englesk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Im Anfang war das Wort (njemačk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Au commencement le Verbe etait (francusk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U pocsetku bishe Rics (staro-hrvatsk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U POČETKU BIJAŠE RIJEČ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(Ladan, T., 2009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JEČ KAO RIJE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četak Evanđelja po Ivanu ističe Riječ – to jest božanski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logos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koji prethodi svemu. Mi dodajemo d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ije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nije sam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četak sveg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nego je 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v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Naime, za nas, ljude, bez nje nema ničega, jer je ona najpouzdanije i jedino spoznavalo svijeta koje imamo. Zapravo, i kad ne govorimo – kad šutimo ili spavamo – natopljeni smo u neprekidni fluid riječi dok god smo ž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(Ladan, T., 2009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9F3B-3434-4D75-843F-864B889A9B1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666699"/>
                </a:solidFill>
                <a:latin typeface="Arial"/>
              </a:rPr>
              <a:t>NE RAZUMIJEM ZAŠTO SE LJUDI PLAŠE NOVIH IDE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6699"/>
                </a:solidFill>
                <a:latin typeface="Arial"/>
              </a:rPr>
              <a:t>JA SE PLAŠIM STARI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666699"/>
                </a:solidFill>
                <a:latin typeface="Arial"/>
              </a:rPr>
              <a:t>John C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proljetna utrka"/>
          <p:cNvPicPr/>
          <p:nvPr/>
        </p:nvPicPr>
        <p:blipFill>
          <a:blip r:embed="rId1"/>
          <a:stretch/>
        </p:blipFill>
        <p:spPr>
          <a:xfrm>
            <a:off x="250920" y="1268280"/>
            <a:ext cx="49705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JEDINAC I JEZIK</a:t>
            </a:r>
            <a:br>
              <a:rPr sz="3200"/>
            </a:b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Zrinka Jelask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920" y="601920"/>
            <a:ext cx="849636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zik je apstraktan sustav za sporazumijevanje koji se ostvaruje jezičnim djelatnostima. Jezične se djelatnosti dijele na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jezično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prima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jezičnu proizvodnj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ima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uključuje razumijevanje govora (slušanje), razumijevanje pisanog teksta (čitanje), razumijevanje jezika geste i mimike (gledanje).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n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uključuje zvučno oblikovanje (govorenje), pismovno oblikovanje (pisanje), pokretno oblikovanje (znakovanje).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Jednostavn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jezične djelatnosti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stoje samo od primanja ili samo od proizvodnje.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Složene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jezičn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djelatn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aizmjenično ili istovremeno sastoje i od primanja i od proizvodnje. Takve su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međudjelova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razgovaranje, dopisivanje) i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prevođe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istovremeno ili naizmjenično govorno, pisano, tumačenj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što je važno razlikovati jezik i jezične djelatnosti? Da se shvati kako su t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ličiti pojmov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 kako zahtijevaju različite uvjete da bi se razvi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292720" y="6021360"/>
            <a:ext cx="3414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(Lidija Cvikić (ur.),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Drugi jezik hrvatski, 2007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iagram 17" descr=""/>
          <p:cNvPicPr/>
          <p:nvPr/>
        </p:nvPicPr>
        <p:blipFill>
          <a:blip r:embed="rId1"/>
          <a:stretch/>
        </p:blipFill>
        <p:spPr>
          <a:xfrm>
            <a:off x="920880" y="407880"/>
            <a:ext cx="7454880" cy="4456080"/>
          </a:xfrm>
          <a:prstGeom prst="rect">
            <a:avLst/>
          </a:prstGeom>
          <a:ln w="0">
            <a:noFill/>
          </a:ln>
        </p:spPr>
      </p:pic>
      <p:sp>
        <p:nvSpPr>
          <p:cNvPr id="138" name="Right Arrow 21"/>
          <p:cNvSpPr/>
          <p:nvPr/>
        </p:nvSpPr>
        <p:spPr>
          <a:xfrm rot="19864200">
            <a:off x="5730840" y="1382400"/>
            <a:ext cx="4539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ight Brace 22"/>
          <p:cNvSpPr/>
          <p:nvPr/>
        </p:nvSpPr>
        <p:spPr>
          <a:xfrm rot="5400000">
            <a:off x="4464360" y="3178800"/>
            <a:ext cx="357120" cy="428652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4286520"/>
              <a:gd name="textAreaBottom" fmla="*/ 4277520 h 428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"/>
                  <a:pt x="10800" y="150"/>
                </a:cubicBezTo>
                <a:lnTo>
                  <a:pt x="10800" y="10249"/>
                </a:lnTo>
                <a:cubicBezTo>
                  <a:pt x="10800" y="10324"/>
                  <a:pt x="16200" y="10399"/>
                  <a:pt x="21600" y="10399"/>
                </a:cubicBezTo>
                <a:cubicBezTo>
                  <a:pt x="16200" y="10399"/>
                  <a:pt x="10800" y="10474"/>
                  <a:pt x="10800" y="10549"/>
                </a:cubicBezTo>
                <a:lnTo>
                  <a:pt x="10800" y="21450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24"/>
          <p:cNvSpPr/>
          <p:nvPr/>
        </p:nvSpPr>
        <p:spPr>
          <a:xfrm>
            <a:off x="3286080" y="5692680"/>
            <a:ext cx="3143160" cy="7365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3357720" y="5824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međudjel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Arrow 25"/>
          <p:cNvSpPr/>
          <p:nvPr/>
        </p:nvSpPr>
        <p:spPr>
          <a:xfrm>
            <a:off x="6072120" y="2214720"/>
            <a:ext cx="4539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ight Arrow 26"/>
          <p:cNvSpPr/>
          <p:nvPr/>
        </p:nvSpPr>
        <p:spPr>
          <a:xfrm rot="2763000">
            <a:off x="5682240" y="3087000"/>
            <a:ext cx="4539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ight Arrow 27"/>
          <p:cNvSpPr/>
          <p:nvPr/>
        </p:nvSpPr>
        <p:spPr>
          <a:xfrm rot="8952600">
            <a:off x="3094920" y="3152520"/>
            <a:ext cx="4539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ight Arrow 28"/>
          <p:cNvSpPr/>
          <p:nvPr/>
        </p:nvSpPr>
        <p:spPr>
          <a:xfrm rot="10800000">
            <a:off x="2571480" y="2214360"/>
            <a:ext cx="4539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ight Arrow 29"/>
          <p:cNvSpPr/>
          <p:nvPr/>
        </p:nvSpPr>
        <p:spPr>
          <a:xfrm rot="12863400">
            <a:off x="3234960" y="1364760"/>
            <a:ext cx="4539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30"/>
          <p:cNvSpPr/>
          <p:nvPr/>
        </p:nvSpPr>
        <p:spPr>
          <a:xfrm>
            <a:off x="1643040" y="4643280"/>
            <a:ext cx="1785960" cy="5004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31"/>
          <p:cNvSpPr/>
          <p:nvPr/>
        </p:nvSpPr>
        <p:spPr>
          <a:xfrm>
            <a:off x="5715000" y="4643280"/>
            <a:ext cx="1928880" cy="5004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2"/>
          <p:cNvSpPr/>
          <p:nvPr/>
        </p:nvSpPr>
        <p:spPr>
          <a:xfrm>
            <a:off x="1071720" y="471492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Jezično prim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3"/>
          <p:cNvSpPr/>
          <p:nvPr/>
        </p:nvSpPr>
        <p:spPr>
          <a:xfrm>
            <a:off x="5214960" y="471492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Jezična proizvod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9:21:00Z</dcterms:created>
  <dc:creator>Korisnik</dc:creator>
  <dc:description/>
  <dc:language>en-US</dc:language>
  <cp:lastModifiedBy>irukljac</cp:lastModifiedBy>
  <dcterms:modified xsi:type="dcterms:W3CDTF">2010-10-01T08:15:29Z</dcterms:modified>
  <cp:revision>36</cp:revision>
  <dc:subject/>
  <dc:title>Slide 1</dc:title>
</cp:coreProperties>
</file>