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wmf" ContentType="image/x-wmf"/>
  <Override PartName="/ppt/media/image11.wmf" ContentType="image/x-wmf"/>
  <Override PartName="/ppt/media/image12.png" ContentType="image/pn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299-0422-477F-8981-30841EE0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21E-6D66-48AD-B5E6-543758E8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7A7-EC19-48D3-A702-5CE38C44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92B-D709-42D7-A74A-4A1053A3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032-1647-40DD-958F-6407DA97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A99-7647-4797-8C6E-4ABE18BE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508-45F5-443D-A319-204F6D81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EEC-869E-405F-9456-EB52E5DF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FF3-3F27-405C-B2F0-D02BC321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FBB-0A72-4130-928D-64264E69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D80-077F-4B5D-80ED-75DDDE8D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4F9-61B1-477E-8C0F-EF6BBD6D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EA30-D5D7-442C-A97E-CE03D91DB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d95cd"/>
                </a:solidFill>
                <a:latin typeface="Arial"/>
              </a:rPr>
              <a:t>Kompetentni učitelji 21. Stoljeća </a:t>
            </a:r>
            <a:r>
              <a:rPr b="0" lang="en-US" sz="3200" spc="-1" strike="noStrike">
                <a:solidFill>
                  <a:srgbClr val="1d95cd"/>
                </a:solidFill>
                <a:latin typeface="Arial"/>
              </a:rPr>
              <a:t>Definicija kvalitetne pedagoške prak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378900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18d24"/>
                </a:solidFill>
                <a:latin typeface="Arial"/>
              </a:rPr>
              <a:t>Sanja Brajk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18d24"/>
                </a:solidFill>
                <a:latin typeface="Arial"/>
              </a:rPr>
              <a:t>Pučko otvoreno učilište Korak po kor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48000" y="3429000"/>
            <a:ext cx="5248440" cy="1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41320" cy="841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5400000">
            <a:off x="807120" y="3377520"/>
            <a:ext cx="28497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360" y="3168720"/>
            <a:ext cx="8996400" cy="3666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-531720"/>
            <a:ext cx="9144000" cy="2373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1220760"/>
            <a:ext cx="91440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595ba0"/>
          </a:solidFill>
          <a:ln w="0">
            <a:noFill/>
          </a:ln>
        </p:spPr>
        <p:txBody>
          <a:bodyPr anchor="t">
            <a:normAutofit/>
          </a:bodyPr>
          <a:p>
            <a:pPr marL="609480" indent="-609480" algn="r">
              <a:lnSpc>
                <a:spcPct val="110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Unicode MS"/>
              </a:rPr>
              <a:t>PROMOVIRA DIJALOG/ RAZVIJANJE NOVIH IDEJA ZA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Unicode MS"/>
              </a:rPr>
              <a:t>Još neki koraci ka kvalitetnijoj prak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Unicode MS"/>
              </a:rPr>
              <a:t>Primjerom djeci pokazuje konstruktivno izražavanje mišljenja o nečijem radu, očekujući i pružajući detalje umjesto općenitih izj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Unicode MS"/>
              </a:rPr>
              <a:t>Kada rade u parovima ili manjim grupama omogućuje djeci da jedni drugima redigiraju tekstove i budu kritički prijatel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Unicode MS"/>
              </a:rPr>
              <a:t>Pitanjima poput: 'Recite mi kako vam mogu pomoći da ovo lakše naučite?' 'Kako mogu raditi više s vašim prijateljima?' 'Na koji način mogu u razredu iskoristiti vaš interes za ovu temu?' poziva djecu da procjenjuju rad učiteljice/l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Unicode MS"/>
              </a:rPr>
              <a:t>Poučava učenike kako da propituju kako bi saznali više o nečijoj motivaciji, procesu mišljenja i namje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1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95cd"/>
                </a:solidFill>
                <a:latin typeface="Arial"/>
              </a:rPr>
              <a:t>Kako ISSA-ina definicija kvalitetne pedagoške prakse može pomoći učiteljima u unapređenju kvalitete njihova rada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20" y="1563840"/>
            <a:ext cx="9147240" cy="10800"/>
          </a:xfrm>
          <a:prstGeom prst="line">
            <a:avLst/>
          </a:prstGeom>
          <a:ln w="57240">
            <a:solidFill>
              <a:srgbClr val="fbc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95cd"/>
                </a:solidFill>
                <a:latin typeface="Arial"/>
              </a:rPr>
              <a:t>Kako ISSA-ina definicija kvalitetne pedagoške prakse može pomoći učiteljima u unapređenju kvalitete njihova rada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solidFill>
            <a:srgbClr val="595ba0"/>
          </a:solidFill>
          <a:ln w="0">
            <a:noFill/>
          </a:ln>
        </p:spPr>
        <p:txBody>
          <a:bodyPr anchor="t">
            <a:normAutofit/>
          </a:bodyPr>
          <a:p>
            <a:pPr marL="609480" indent="-609480" algn="r">
              <a:lnSpc>
                <a:spcPct val="110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PROMOVIRA DIJALOG/ RAZVIJANJE NOVIH IDEJA ZA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1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0" y="1563840"/>
            <a:ext cx="9147240" cy="10800"/>
          </a:xfrm>
          <a:prstGeom prst="line">
            <a:avLst/>
          </a:prstGeom>
          <a:ln w="57240">
            <a:solidFill>
              <a:srgbClr val="fbc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4000" y="2852640"/>
          <a:ext cx="8604000" cy="3299040"/>
        </p:xfrm>
        <a:graphic>
          <a:graphicData uri="http://schemas.openxmlformats.org/drawingml/2006/table">
            <a:tbl>
              <a:tblPr/>
              <a:tblGrid>
                <a:gridCol w="2678040"/>
                <a:gridCol w="3200400"/>
                <a:gridCol w="2725560"/>
              </a:tblGrid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bar počet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valitetna prak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orak dal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d učenika traži da kažu što im se sviđa u radovima drugih učenika ili u nekom umjetničkom ili glazbenom  djelu, priči, predstavi ili pjesmi koja im je predstavlje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učava djecu o tome što je efikasna povratna informacija kad se procjenjuje tuđi rad, kako je temeljiti na nečijim snagama i kako biti konkreta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od djece razvija naviku da svoje promišljanja ne temelje samo na pretpostavkama već da istražuju nečije  motive, prošla iskustava i konteks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595ba0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-603360" algn="r">
              <a:lnSpc>
                <a:spcPct val="8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 Unicode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Unicode MS"/>
              </a:rPr>
              <a:t>OMOGUĆAVA STRUKTURIRANU SAMOPROCJENU VLASTITOG RADA I PRISTUPA ODGOJU I OBRAZOVANJ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Razmislite u kojim od područja rada se osjećate najkompetentnijima a u kojim područjima rada mislite da trebate napredova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Najkompetenije se osjećam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Najmanje sam kompetentna u ovim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ovim područjima: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područjima ra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Čitajući za svako od područje standarde i pripadajuće indikatore navedite koje su vaše jake strane i izazov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Ovo su moje jake strane: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Ovo su moji izazov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Ovo je područje rada na čijem unapređenju želim prvo radi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95cd"/>
                </a:solidFill>
                <a:latin typeface="Arial"/>
              </a:rPr>
              <a:t>Kako ISSA-ina definicija kvalitetne pedagoške prakse može pomoći učiteljima u unapređenju kvalitete njihova rada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920" y="1563840"/>
            <a:ext cx="9147240" cy="10800"/>
          </a:xfrm>
          <a:prstGeom prst="line">
            <a:avLst/>
          </a:prstGeom>
          <a:ln w="57240">
            <a:solidFill>
              <a:srgbClr val="fbc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67120" y="704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95cd"/>
                </a:solidFill>
                <a:latin typeface="Arial"/>
              </a:rPr>
              <a:t>Dobre strane samoprocjen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je smjernice za planiranje profesionalnog razvoja odnosno planiranje vlastite karijere što onda rezultira većim stupnjem profesionalnog zadovolj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većava osjećaj vlastite sigurnosti u posao pa su učitelji spremniji na nove izazove i promj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ogućava učiteljima da postanu svjesniji posljedica svojih postupaka tijekom planiranja nastave i njezina izvođenja pa zato mogu i unaprijed predvidjeti eventualno probleme koji bi se mogli dogod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ogućava kontinuirani rad na unapređenju pouča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ogućava učiteljima da bolje verbaliziraju i razumiju na čemu se temelje neke razredne aktivnosti, događaji i dječja ponašan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595ba0"/>
          </a:solidFill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Unicode MS"/>
              </a:rPr>
              <a:t>3. ZA</a:t>
            </a: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 Unicode MS"/>
              </a:rPr>
              <a:t>POSTAVLJANJE</a:t>
            </a: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 Unicode MS"/>
              </a:rPr>
              <a:t>CILJEVA</a:t>
            </a: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 Unicode MS"/>
              </a:rPr>
              <a:t>U</a:t>
            </a: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 Unicode MS"/>
              </a:rPr>
              <a:t>PROFESIONALNOM</a:t>
            </a: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 Unicode MS"/>
              </a:rPr>
              <a:t>RAZVO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15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Arial"/>
              </a:rPr>
              <a:t>Češća upotreba suradničkih strategija poučavanja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 ra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15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- razvijanja osjećaja međusobne ovisnosti kod djece i razvijanja osjećaja razredne zajedni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15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- preuzimanja odgovornosti za vlastite izbore i ponaša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15000"/>
              </a:lnSpc>
              <a:spcBef>
                <a:spcPts val="11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- povećanje mogućnosti postavljanja diferenciranih zadataka u skladu s dječjim interesima, potrebama i razvojnim stupnje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95cd"/>
                </a:solidFill>
                <a:latin typeface="Arial"/>
              </a:rPr>
              <a:t>Kako ISSA-ina definicija kvalitetne pedagoške prakse može pomoći učiteljima u unapređenju kvalitete njihova rada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20" y="1563840"/>
            <a:ext cx="9147240" cy="10800"/>
          </a:xfrm>
          <a:prstGeom prst="line">
            <a:avLst/>
          </a:prstGeom>
          <a:ln w="57240">
            <a:solidFill>
              <a:srgbClr val="fbc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67120" y="704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95cd"/>
                </a:solidFill>
                <a:latin typeface="Arial"/>
              </a:rPr>
              <a:t>Kako ISSA-ina definicija kvalitetne pedagoške prakse može pomoći učiteljima u unapređenju kvalitete njihova rada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595ba0"/>
          </a:solidFill>
          <a:ln w="0">
            <a:noFill/>
          </a:ln>
        </p:spPr>
        <p:txBody>
          <a:bodyPr anchor="t">
            <a:normAutofit/>
          </a:bodyPr>
          <a:p>
            <a:pPr marL="609480" indent="-609480" algn="r">
              <a:lnSpc>
                <a:spcPct val="80000"/>
              </a:lnSpc>
              <a:spcBef>
                <a:spcPts val="1049"/>
              </a:spcBef>
              <a:spcAft>
                <a:spcPts val="700"/>
              </a:spcAft>
              <a:buClr>
                <a:srgbClr val="ffffff"/>
              </a:buClr>
              <a:buFont typeface="Arial Unicode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 Unicode MS"/>
              </a:rPr>
              <a:t>POMAŽE U PLANIRANJU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Arial Unicode MS"/>
              </a:rPr>
              <a:t>UNAPREĐENJA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Arial Unicode MS"/>
              </a:rPr>
              <a:t>VLASTITE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Arial Unicode MS"/>
              </a:rPr>
              <a:t>ODGOJNO-OBRAZOVNE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Arial Unicode MS"/>
              </a:rPr>
              <a:t>PRAKS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15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20" y="1563840"/>
            <a:ext cx="9147240" cy="10800"/>
          </a:xfrm>
          <a:prstGeom prst="line">
            <a:avLst/>
          </a:prstGeom>
          <a:ln w="57240">
            <a:solidFill>
              <a:srgbClr val="fbc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67120" y="704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2421000"/>
          <a:ext cx="9144000" cy="38718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283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LJ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vođenje češćih prilika za suradničko učenje radi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KTIV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KAZATELJ USPJE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zvijanja osjećaja međusobne ovisnosti kod djece i razvijanja osjećaja razredne zajedn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jela uloga za vrijeme suradničkog r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d rada u grupi djeca će svojim grupama davati i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jena doprinosa radu grupe svakog od člana gru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jer učeničke samoprocjene 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jer procjene od strane kol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čiteljske procjene i refleksija o dobrim stranama i poboljšanjima koje treba uvesti u suradnički r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poredba samoprocjena i procjena od strane učitelja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595ba0"/>
          </a:solidFill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Unicode MS"/>
              </a:rPr>
              <a:t>5. TIJEKOM PROCJENE KVALITETE RADA OD STRANE VANJSKIH EVALUA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Arial Unicode MS"/>
              </a:rPr>
              <a:t>Vanjska evaluacija treba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5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 Unicode MS"/>
              </a:rPr>
              <a:t>temeljiti na poznatim kriterijima kvalit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5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 Unicode MS"/>
              </a:rPr>
              <a:t>kombinirati s rezultatima samoevalu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5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 Unicode MS"/>
              </a:rPr>
              <a:t>koristiti kako bi se potaknuo oko kvalitete rada i na razvoj plana za unaprjeđenje kvalitete pouč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95cd"/>
                </a:solidFill>
                <a:latin typeface="Arial"/>
              </a:rPr>
              <a:t>Kako ISSA-ina definicija kvalitetne pedagoške prakse može pomoći učiteljima u unapređenju kvalitete njihova rada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20" y="1563840"/>
            <a:ext cx="9147240" cy="10800"/>
          </a:xfrm>
          <a:prstGeom prst="line">
            <a:avLst/>
          </a:prstGeom>
          <a:ln w="57240">
            <a:solidFill>
              <a:srgbClr val="fbc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67120" y="704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773360"/>
            <a:ext cx="8964720" cy="5084640"/>
          </a:xfrm>
          <a:prstGeom prst="rect">
            <a:avLst/>
          </a:prstGeom>
          <a:solidFill>
            <a:srgbClr val="fbc3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476280"/>
            <a:ext cx="8639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95cd"/>
                </a:solidFill>
                <a:latin typeface="Arial"/>
              </a:rPr>
              <a:t>Kvaliteta odgoja i obraz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4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95cd"/>
                </a:solidFill>
                <a:latin typeface="Arial"/>
                <a:ea typeface="ＭＳ Ｐゴシック"/>
              </a:rPr>
              <a:t>Kvalitet</a:t>
            </a:r>
            <a:r>
              <a:rPr b="1" lang="en-US" sz="3200" spc="-1" strike="noStrike">
                <a:solidFill>
                  <a:srgbClr val="1d95cd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1d95cd"/>
                </a:solidFill>
                <a:latin typeface="Arial"/>
                <a:ea typeface="ＭＳ Ｐゴシック"/>
              </a:rPr>
              <a:t> struk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cionalne komponente okružen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roj učenika, broj odraslih, obrazovanje učitelja,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270828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ira se zakonom i pravilnic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elj je kvalitete, ali ne garantira kvalit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 može predvidjeti postignuća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076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95cd"/>
                </a:solidFill>
                <a:latin typeface="Arial"/>
                <a:ea typeface="ＭＳ Ｐゴシック"/>
              </a:rPr>
              <a:t>Kvalitet</a:t>
            </a:r>
            <a:r>
              <a:rPr b="1" lang="en-US" sz="3200" spc="-1" strike="noStrike">
                <a:solidFill>
                  <a:srgbClr val="1d95cd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1d95cd"/>
                </a:solidFill>
                <a:latin typeface="Arial"/>
                <a:ea typeface="ＭＳ Ｐゴシック"/>
              </a:rPr>
              <a:t> proce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valiteta nastavne prak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terakcije, poticajno okruženje za učenje, uvažavanje potreba,    uključivanje obitelji, aktivno i smisleno učenje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537372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zira se na onome što učitelj svakodnevno radi u raz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že predvidjeti postignuća učenika (učenička postignuć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raju u ovisnosti od kvalitete nastavne prak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čitelji mogu utjec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7129440" cy="44895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95cd"/>
                </a:solidFill>
                <a:latin typeface="Arial"/>
              </a:rPr>
              <a:t>Zašto unapređivati kvalitetu procesa</a:t>
            </a:r>
            <a:br>
              <a:rPr sz="3200"/>
            </a:br>
            <a:r>
              <a:rPr b="0" lang="en-US" sz="3200" spc="-1" strike="noStrike">
                <a:solidFill>
                  <a:srgbClr val="1d95cd"/>
                </a:solidFill>
                <a:latin typeface="Arial"/>
              </a:rPr>
              <a:t>razlog 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44640"/>
            <a:ext cx="9144000" cy="5184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95cd"/>
                </a:solidFill>
                <a:latin typeface="Arial"/>
              </a:rPr>
              <a:t>Zašto unapređivati kvalitetu procesa</a:t>
            </a:r>
            <a:br>
              <a:rPr sz="3200"/>
            </a:br>
            <a:r>
              <a:rPr b="0" lang="hr-HR" sz="3200" spc="-1" strike="noStrike">
                <a:solidFill>
                  <a:srgbClr val="1d95cd"/>
                </a:solidFill>
                <a:latin typeface="Arial"/>
              </a:rPr>
              <a:t>razlog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755640" y="3357720"/>
          <a:ext cx="7488360" cy="2620800"/>
        </p:xfrm>
        <a:graphic>
          <a:graphicData uri="http://schemas.openxmlformats.org/drawingml/2006/table">
            <a:tbl>
              <a:tblPr/>
              <a:tblGrid>
                <a:gridCol w="5977080"/>
                <a:gridCol w="151128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ovećanje znanja iz područja/predm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&lt;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ovećanje znanja iz područja pedagoške prak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-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fesionalne kvalifikacije (magisterij, doktorat i s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0640">
                <a:tc vMerge="1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899280" y="2060640"/>
            <a:ext cx="706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čitelji uzrokuju promjenu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i što uzrokuje promjenu kod učitel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3075120" cy="4321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934520" y="692280"/>
            <a:ext cx="17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d95cd"/>
                </a:solidFill>
                <a:latin typeface="Arial"/>
              </a:rPr>
              <a:t>IZB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66880" y="2060640"/>
            <a:ext cx="29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d95cd"/>
                </a:solidFill>
                <a:latin typeface="Arial"/>
              </a:rPr>
              <a:t>PROCJ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5240" y="3573360"/>
            <a:ext cx="22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d95cd"/>
                </a:solidFill>
                <a:latin typeface="Arial"/>
              </a:rPr>
              <a:t>ODLU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d95cd"/>
                </a:solidFill>
                <a:latin typeface="Arial"/>
              </a:rPr>
              <a:t>'Kvaliteta nije slučajna...ona je rezultat ozbiljnih namjera, iskrenog truda, inteligentnog vođenja i vještog djelovanja: ona predstavlja mudar izbor između mnoštva alternativa </a:t>
            </a:r>
            <a:br>
              <a:rPr sz="2000"/>
            </a:br>
            <a:br>
              <a:rPr sz="2000"/>
            </a:br>
            <a:r>
              <a:rPr b="0" lang="hr-HR" sz="2000" spc="-1" strike="noStrike">
                <a:solidFill>
                  <a:srgbClr val="1d95cd"/>
                </a:solidFill>
                <a:latin typeface="Arial"/>
              </a:rPr>
              <a:t>Willa A. Fo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71600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95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95cd"/>
                </a:solidFill>
                <a:latin typeface="Arial"/>
              </a:rPr>
              <a:t>Koje su i koliko je tih sitnih ali i velikih odluka koje svakodnevno moramo donosi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95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95cd"/>
                </a:solidFill>
                <a:latin typeface="Arial"/>
              </a:rPr>
              <a:t>Postoje li smjernice za njihovo donošenje i o čemu one ovis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769040"/>
            <a:ext cx="4248000" cy="3860280"/>
          </a:xfrm>
          <a:prstGeom prst="rect">
            <a:avLst/>
          </a:prstGeom>
          <a:solidFill>
            <a:srgbClr val="fbc327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1d95cd"/>
                </a:solidFill>
                <a:latin typeface="Arial"/>
              </a:rPr>
              <a:t>Ovisi 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95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95cd"/>
                </a:solidFill>
                <a:latin typeface="Arial"/>
              </a:rPr>
              <a:t>obrazovnoj poli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95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95cd"/>
                </a:solidFill>
                <a:latin typeface="Arial"/>
              </a:rPr>
              <a:t>ciljevima pouča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95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95cd"/>
                </a:solidFill>
                <a:latin typeface="Arial"/>
              </a:rPr>
              <a:t>kontekstu u kojem rad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95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95cd"/>
                </a:solidFill>
                <a:latin typeface="Arial"/>
              </a:rPr>
              <a:t>razumijevanju uloge škole na djetinjstvo i učenje uče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95cd"/>
                </a:solidFill>
                <a:latin typeface="Arial"/>
              </a:rPr>
              <a:t>Kvalitetu lako prepoznati, ali ju je teško opis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427640" y="836640"/>
            <a:ext cx="4411440" cy="5254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759960"/>
            <a:ext cx="40338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d95cd"/>
                </a:solidFill>
                <a:latin typeface="Arial"/>
              </a:rPr>
              <a:t>‘</a:t>
            </a:r>
            <a:r>
              <a:rPr b="0" lang="hr-HR" sz="2000" spc="-1" strike="noStrike">
                <a:solidFill>
                  <a:srgbClr val="1d95cd"/>
                </a:solidFill>
                <a:latin typeface="Arial"/>
              </a:rPr>
              <a:t>Pokazatelj uspješnog obrazovanja nije količina znanja koju će učenici ponijeti sa sobom iz škole već njihova glad za znanjem i njihova sposobnost učenja. Ako škola u svijet pošalje učenika koji želi učiti i ima nekakvu ideju kako bi to mogao postići, ta škola je obavila svoj posao. Nažalost, mnogi napuštaju školu s ugušenom glađu za učenjem i nepreglednom količinom informacija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d95cd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1d95cd"/>
                </a:solidFill>
                <a:latin typeface="Arial"/>
              </a:rPr>
              <a:t>Sir Richard Livingstone</a:t>
            </a:r>
            <a:r>
              <a:rPr b="0" lang="hr-HR" sz="2000" spc="-1" strike="noStrike">
                <a:solidFill>
                  <a:srgbClr val="1d95cd"/>
                </a:solidFill>
                <a:latin typeface="Arial"/>
              </a:rPr>
              <a:t>, 194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42920" y="404640"/>
            <a:ext cx="40388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spcAft>
                <a:spcPts val="1400"/>
              </a:spcAft>
              <a:buClr>
                <a:srgbClr val="1d95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95cd"/>
                </a:solidFill>
                <a:latin typeface="Arial"/>
              </a:rPr>
              <a:t>Kako znam da sam postigla ciljeve ovog pristup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1400"/>
              </a:spcAft>
              <a:buClr>
                <a:srgbClr val="1d95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95cd"/>
                </a:solidFill>
                <a:latin typeface="Arial"/>
              </a:rPr>
              <a:t>Je li ovo što radim dob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1400"/>
              </a:spcAft>
              <a:buClr>
                <a:srgbClr val="1d95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95cd"/>
                </a:solidFill>
                <a:latin typeface="Arial"/>
              </a:rPr>
              <a:t>Jesam li na dobrom pu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1400"/>
              </a:spcAft>
              <a:buClr>
                <a:srgbClr val="1d95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95cd"/>
                </a:solidFill>
                <a:latin typeface="Arial"/>
              </a:rPr>
              <a:t>Što dal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940200" cy="5977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020000" cy="6875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7T13:36:18Z</dcterms:created>
  <dc:creator>sanja</dc:creator>
  <dc:description/>
  <dc:language>en-US</dc:language>
  <cp:lastModifiedBy>irukljac</cp:lastModifiedBy>
  <dcterms:modified xsi:type="dcterms:W3CDTF">2010-09-28T09:12:53Z</dcterms:modified>
  <cp:revision>22</cp:revision>
  <dc:subject/>
  <dc:title>Kompetentni učitelji 21. Stoljeća Definicija kvalitetne predagoške prakse </dc:title>
</cp:coreProperties>
</file>