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6.jpeg" ContentType="image/jpeg"/>
  <Override PartName="/ppt/media/image14.wmf" ContentType="image/x-wmf"/>
  <Override PartName="/ppt/media/image1.png" ContentType="image/png"/>
  <Override PartName="/ppt/media/image7.wmf" ContentType="image/x-wmf"/>
  <Override PartName="/ppt/media/image20.jpeg" ContentType="image/jpeg"/>
  <Override PartName="/ppt/media/image15.jpeg" ContentType="image/jpeg"/>
  <Override PartName="/ppt/media/image3.wmf" ContentType="image/x-wmf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8902700" cy="8902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622D-68E5-4BE0-B934-FE2F7FA2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AB98-6345-47F0-9301-65ABA927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79AC-A3DC-4D63-A222-B574ECDA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03C2-7ECE-4943-9FED-5FC1FB16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AB02-8919-4F29-904E-D9E4AA99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6A95-73F6-48A5-A065-B9DDF562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082D-9485-49CE-B7E9-3CE83159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9804-8C2A-46ED-BEBB-7374C1A7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57C7-59BC-4202-820F-9DAB3A49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96B6-F9BE-4896-A408-E26AFFB7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FE5D-6193-48E3-881D-9D83746A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06E2-C28D-4E7A-A358-BD4DEE69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40FA-0BEC-4A2B-ABD3-9C5ACEFD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6B5B-A79E-489E-B964-55956D9B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DEE5-FEEB-4011-983C-392BF067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ABC9-4996-4695-8BB4-0D7AF00E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C49B-5B6F-447B-8094-BD163378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7BFE-89FE-45CC-B36F-96F01484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AEB6-8A22-4043-807F-8E694378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95DC-F22A-4E88-BCA7-94AA567A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A980D-6D3F-426D-89E0-B00E8985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AEF3-DE7A-436C-9586-A482C0B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A5C7-4484-4A00-A418-905BBA81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8D6C-E600-442A-BE6D-CC0FBA8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E20F-D92B-4FD4-A5D3-A63C55648B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5B4E-CEA1-4783-911E-40F357F3D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469800" y="5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mr. sc. Ivan Mrkonj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čiteljski fakultet Zagre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87240" y="2060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Arial"/>
              </a:rPr>
              <a:t>SUVREMENI PRISTUPI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Arial"/>
              </a:rPr>
              <a:t>OCJENJIVANJU U NASTAVI MATEMATIK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GAGNE-OVA KLASIFIKACIJA 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55640" y="4653000"/>
            <a:ext cx="3456000" cy="1805040"/>
            <a:chOff x="755640" y="4653000"/>
            <a:chExt cx="3456000" cy="1805040"/>
          </a:xfrm>
        </p:grpSpPr>
        <p:sp>
          <p:nvSpPr>
            <p:cNvPr id="155" name=""/>
            <p:cNvSpPr/>
            <p:nvPr/>
          </p:nvSpPr>
          <p:spPr>
            <a:xfrm>
              <a:off x="755640" y="4653000"/>
              <a:ext cx="3456000" cy="165564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71640" y="4849560"/>
              <a:ext cx="287964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otrebljava se kod međunarodnog ispitivanju matematičkog znanja učenika (TIMS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chair1"/>
          <p:cNvSpPr/>
          <p:nvPr/>
        </p:nvSpPr>
        <p:spPr>
          <a:xfrm>
            <a:off x="34920" y="1673280"/>
            <a:ext cx="4176720" cy="676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novno i konceptualno zn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hair1"/>
          <p:cNvSpPr/>
          <p:nvPr/>
        </p:nvSpPr>
        <p:spPr>
          <a:xfrm>
            <a:off x="3130560" y="2852640"/>
            <a:ext cx="2881440" cy="6764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no zn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hair1"/>
          <p:cNvSpPr/>
          <p:nvPr/>
        </p:nvSpPr>
        <p:spPr>
          <a:xfrm>
            <a:off x="5724360" y="3903840"/>
            <a:ext cx="2881440" cy="676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ko zn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hair1"/>
          <p:cNvSpPr/>
          <p:nvPr/>
        </p:nvSpPr>
        <p:spPr>
          <a:xfrm>
            <a:off x="2446200" y="836640"/>
            <a:ext cx="4176720" cy="676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novno i konceptualno zn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46200" y="1773360"/>
            <a:ext cx="1513080" cy="1511280"/>
            <a:chOff x="2446200" y="1773360"/>
            <a:chExt cx="1513080" cy="1511280"/>
          </a:xfrm>
        </p:grpSpPr>
        <p:sp>
          <p:nvSpPr>
            <p:cNvPr id="162" name=""/>
            <p:cNvSpPr/>
            <p:nvPr/>
          </p:nvSpPr>
          <p:spPr>
            <a:xfrm>
              <a:off x="2446200" y="2205000"/>
              <a:ext cx="1513080" cy="107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navanj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jmo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činje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0" y="1773360"/>
              <a:ext cx="0" cy="43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11280" y="3710160"/>
            <a:ext cx="4176360" cy="940680"/>
            <a:chOff x="2411280" y="3710160"/>
            <a:chExt cx="4176360" cy="940680"/>
          </a:xfrm>
        </p:grpSpPr>
        <p:sp>
          <p:nvSpPr>
            <p:cNvPr id="165" name="Text Box 5"/>
            <p:cNvSpPr/>
            <p:nvPr/>
          </p:nvSpPr>
          <p:spPr>
            <a:xfrm>
              <a:off x="2411280" y="3710160"/>
              <a:ext cx="417636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znavanje opsega i sadržaj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jmova i relevantnosti činje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tablica množenja, kružnica i krug…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277880" y="2361960"/>
              <a:ext cx="70920" cy="2896200"/>
            </a:xfrm>
            <a:custGeom>
              <a:avLst/>
              <a:gdLst>
                <a:gd name="textAreaLeft" fmla="*/ 45360 w 70920"/>
                <a:gd name="textAreaRight" fmla="*/ 71280 w 70920"/>
                <a:gd name="textAreaTop" fmla="*/ 75240 h 2896200"/>
                <a:gd name="textAreaBottom" fmla="*/ 2820960 h 28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219640" y="1628640"/>
            <a:ext cx="1512720" cy="1657080"/>
            <a:chOff x="5219640" y="1628640"/>
            <a:chExt cx="1512720" cy="1657080"/>
          </a:xfrm>
        </p:grpSpPr>
        <p:sp>
          <p:nvSpPr>
            <p:cNvPr id="168" name=""/>
            <p:cNvSpPr/>
            <p:nvPr/>
          </p:nvSpPr>
          <p:spPr>
            <a:xfrm>
              <a:off x="5219640" y="2060280"/>
              <a:ext cx="1512720" cy="12254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zumijevanj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jmova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mbola 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inje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1640" y="1628640"/>
              <a:ext cx="0" cy="43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chair1"/>
          <p:cNvSpPr/>
          <p:nvPr/>
        </p:nvSpPr>
        <p:spPr>
          <a:xfrm>
            <a:off x="3130560" y="952560"/>
            <a:ext cx="2881440" cy="676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no zn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348000" y="1843200"/>
            <a:ext cx="2376000" cy="1152360"/>
            <a:chOff x="3348000" y="1843200"/>
            <a:chExt cx="2376000" cy="1152360"/>
          </a:xfrm>
        </p:grpSpPr>
        <p:sp>
          <p:nvSpPr>
            <p:cNvPr id="172" name=""/>
            <p:cNvSpPr/>
            <p:nvPr/>
          </p:nvSpPr>
          <p:spPr>
            <a:xfrm>
              <a:off x="3348000" y="2219760"/>
              <a:ext cx="2376000" cy="775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navanje i uporab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ura i algorit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36000" y="1843200"/>
              <a:ext cx="0" cy="37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35280" y="3257640"/>
            <a:ext cx="2232000" cy="1395360"/>
            <a:chOff x="1835280" y="3257640"/>
            <a:chExt cx="2232000" cy="1395360"/>
          </a:xfrm>
        </p:grpSpPr>
        <p:sp>
          <p:nvSpPr>
            <p:cNvPr id="175" name=""/>
            <p:cNvSpPr/>
            <p:nvPr/>
          </p:nvSpPr>
          <p:spPr>
            <a:xfrm flipH="1">
              <a:off x="3203280" y="3257640"/>
              <a:ext cx="718920" cy="71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chair1"/>
            <p:cNvSpPr/>
            <p:nvPr/>
          </p:nvSpPr>
          <p:spPr>
            <a:xfrm>
              <a:off x="1835280" y="3976560"/>
              <a:ext cx="2232000" cy="6764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utinsko zn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61080" y="3257640"/>
            <a:ext cx="2735280" cy="1395360"/>
            <a:chOff x="4861080" y="3257640"/>
            <a:chExt cx="2735280" cy="1395360"/>
          </a:xfrm>
        </p:grpSpPr>
        <p:sp>
          <p:nvSpPr>
            <p:cNvPr id="178" name=""/>
            <p:cNvSpPr/>
            <p:nvPr/>
          </p:nvSpPr>
          <p:spPr>
            <a:xfrm>
              <a:off x="5219640" y="3257640"/>
              <a:ext cx="719280" cy="71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chair1"/>
            <p:cNvSpPr/>
            <p:nvPr/>
          </p:nvSpPr>
          <p:spPr>
            <a:xfrm>
              <a:off x="4861080" y="3976560"/>
              <a:ext cx="2735280" cy="6764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pleksno zn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9280" y="4987800"/>
            <a:ext cx="3816360" cy="1104840"/>
            <a:chOff x="179280" y="4987800"/>
            <a:chExt cx="3816360" cy="1104840"/>
          </a:xfrm>
        </p:grpSpPr>
        <p:sp>
          <p:nvSpPr>
            <p:cNvPr id="181" name=""/>
            <p:cNvSpPr/>
            <p:nvPr/>
          </p:nvSpPr>
          <p:spPr>
            <a:xfrm>
              <a:off x="179280" y="5348160"/>
              <a:ext cx="3816360" cy="744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navanje i uporabu pravi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ješavanje jednostavnih zadatak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malo podata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87640" y="4987800"/>
              <a:ext cx="0" cy="43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88000" y="4987800"/>
            <a:ext cx="3600360" cy="1104840"/>
            <a:chOff x="4788000" y="4987800"/>
            <a:chExt cx="3600360" cy="1104840"/>
          </a:xfrm>
        </p:grpSpPr>
        <p:sp>
          <p:nvSpPr>
            <p:cNvPr id="184" name=""/>
            <p:cNvSpPr/>
            <p:nvPr/>
          </p:nvSpPr>
          <p:spPr>
            <a:xfrm>
              <a:off x="4788000" y="5348160"/>
              <a:ext cx="3600360" cy="744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oraba kompleksnih postupa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ladavanje algoritmima 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ur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4987800"/>
              <a:ext cx="0" cy="43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hair1"/>
          <p:cNvSpPr/>
          <p:nvPr/>
        </p:nvSpPr>
        <p:spPr>
          <a:xfrm>
            <a:off x="3130560" y="1052640"/>
            <a:ext cx="2881440" cy="676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ko zn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01840" y="1916280"/>
            <a:ext cx="2665440" cy="1512720"/>
            <a:chOff x="3201840" y="1916280"/>
            <a:chExt cx="2665440" cy="1512720"/>
          </a:xfrm>
        </p:grpSpPr>
        <p:sp>
          <p:nvSpPr>
            <p:cNvPr id="188" name=""/>
            <p:cNvSpPr/>
            <p:nvPr/>
          </p:nvSpPr>
          <p:spPr>
            <a:xfrm>
              <a:off x="3201840" y="2708280"/>
              <a:ext cx="2665440" cy="720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oraba znanja 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vim situacij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0" y="1916280"/>
              <a:ext cx="0" cy="43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238560" y="3716280"/>
            <a:ext cx="2665440" cy="720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jedinjuje strategije 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ješavanje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38560" y="4795920"/>
            <a:ext cx="2665440" cy="720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ključuje analizu, sintez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kciju i integr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31640" y="5877000"/>
            <a:ext cx="82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ice između razina znanja nisu oštre nego se djelomice preklapaju i ponekad nije jednostavno razlučiti kojem stupnju znanje prip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PISA 2000. i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125360"/>
            <a:ext cx="820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lasifikacija znanja utemeljena je na Framework for klassroom assessment in mathematics /Jan de Lange, Freudental institut – 1999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hair1"/>
          <p:cNvSpPr/>
          <p:nvPr/>
        </p:nvSpPr>
        <p:spPr>
          <a:xfrm>
            <a:off x="250920" y="1816200"/>
            <a:ext cx="3168720" cy="676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rodukcijsko zn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1989000"/>
            <a:ext cx="1800" cy="5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hair1"/>
          <p:cNvSpPr/>
          <p:nvPr/>
        </p:nvSpPr>
        <p:spPr>
          <a:xfrm>
            <a:off x="5292720" y="3616200"/>
            <a:ext cx="3851280" cy="6764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Matematiziranje i uopća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2060640"/>
            <a:ext cx="1944720" cy="151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627280" y="3357720"/>
            <a:ext cx="2736720" cy="1583640"/>
            <a:chOff x="2627280" y="3357720"/>
            <a:chExt cx="2736720" cy="1583640"/>
          </a:xfrm>
        </p:grpSpPr>
        <p:sp>
          <p:nvSpPr>
            <p:cNvPr id="200" name=""/>
            <p:cNvSpPr/>
            <p:nvPr/>
          </p:nvSpPr>
          <p:spPr>
            <a:xfrm>
              <a:off x="2627280" y="3757320"/>
              <a:ext cx="2736720" cy="1184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ješavanje nerutinski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koji zahtijevaj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ji stupanj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matiza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95640" y="3357720"/>
              <a:ext cx="0" cy="39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192720" y="4292640"/>
            <a:ext cx="2916360" cy="2233440"/>
            <a:chOff x="6192720" y="4292640"/>
            <a:chExt cx="2916360" cy="2233440"/>
          </a:xfrm>
        </p:grpSpPr>
        <p:sp>
          <p:nvSpPr>
            <p:cNvPr id="203" name=""/>
            <p:cNvSpPr/>
            <p:nvPr/>
          </p:nvSpPr>
          <p:spPr>
            <a:xfrm>
              <a:off x="6192720" y="4508640"/>
              <a:ext cx="2916360" cy="20174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poznavanje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oraba matemat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 rješavanju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iz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pretacij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kaziv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iz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24720" y="4292640"/>
              <a:ext cx="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42920" y="2419200"/>
            <a:ext cx="2484360" cy="2376720"/>
            <a:chOff x="142920" y="2419200"/>
            <a:chExt cx="2484360" cy="2376720"/>
          </a:xfrm>
        </p:grpSpPr>
        <p:sp>
          <p:nvSpPr>
            <p:cNvPr id="206" name=""/>
            <p:cNvSpPr/>
            <p:nvPr/>
          </p:nvSpPr>
          <p:spPr>
            <a:xfrm>
              <a:off x="142920" y="3284640"/>
              <a:ext cx="2484360" cy="151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navanje činje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ješavanje rutinski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zadata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oraba standardni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gorit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35280" y="2419200"/>
              <a:ext cx="0" cy="93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chair1"/>
          <p:cNvSpPr/>
          <p:nvPr/>
        </p:nvSpPr>
        <p:spPr>
          <a:xfrm>
            <a:off x="2124000" y="2637000"/>
            <a:ext cx="4176720" cy="676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vezivanje i integracija zn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347640" y="1989000"/>
            <a:ext cx="6476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716360" y="1157400"/>
            <a:ext cx="4248360" cy="30636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5003640" y="5157720"/>
            <a:ext cx="3924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Taksonomija: proceduralno-kompleksno/problem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eprezentacija: simbol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ODABRANI ZADATCI - Sloven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95280" y="1197000"/>
          <a:ext cx="3984480" cy="1795320"/>
        </p:xfrm>
        <a:graphic>
          <a:graphicData uri="http://schemas.openxmlformats.org/drawingml/2006/table">
            <a:tbl>
              <a:tblPr/>
              <a:tblGrid>
                <a:gridCol w="1655640"/>
                <a:gridCol w="232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držaj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e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druč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gnitiv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ješavanje rutinskih probl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5280" y="53928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broj brojeva u svakom retku i svakom stupcu tablice mora biti jednak. Koji broj stoji u praznom kv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)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)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)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)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19280" y="3716280"/>
          <a:ext cx="1584360" cy="1584360"/>
        </p:xfrm>
        <a:graphic>
          <a:graphicData uri="http://schemas.openxmlformats.org/drawingml/2006/table">
            <a:tbl>
              <a:tblPr/>
              <a:tblGrid>
                <a:gridCol w="528480"/>
                <a:gridCol w="527040"/>
                <a:gridCol w="528840"/>
              </a:tblGrid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572000" y="465120"/>
            <a:ext cx="4260960" cy="29638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755640" y="587700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859280" y="49417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Taksonomija: problem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eprezentacija:ikonič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99880" y="692280"/>
          <a:ext cx="3984840" cy="1795320"/>
        </p:xfrm>
        <a:graphic>
          <a:graphicData uri="http://schemas.openxmlformats.org/drawingml/2006/table">
            <a:tbl>
              <a:tblPr/>
              <a:tblGrid>
                <a:gridCol w="1656000"/>
                <a:gridCol w="232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držaj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metr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druč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gnitiv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68360" y="2695680"/>
            <a:ext cx="37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Zarotirat ćemo tijelo sa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oje smo tijelo dobi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b)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95280" y="4437000"/>
          <a:ext cx="3335400" cy="7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37000"/>
                    <a:ext cx="33354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684440" y="3141720"/>
          <a:ext cx="799920" cy="51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84440" y="3141720"/>
                    <a:ext cx="7999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572000" y="517680"/>
            <a:ext cx="4968720" cy="23176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6012000" y="4653000"/>
            <a:ext cx="244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Taksonomija: problem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eprezentacija: simbol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15880" y="907920"/>
          <a:ext cx="3984840" cy="1795320"/>
        </p:xfrm>
        <a:graphic>
          <a:graphicData uri="http://schemas.openxmlformats.org/drawingml/2006/table">
            <a:tbl>
              <a:tblPr/>
              <a:tblGrid>
                <a:gridCol w="1656000"/>
                <a:gridCol w="232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držaj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e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druč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gnitiv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684360" y="2911320"/>
            <a:ext cx="374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adan je ni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, 1, 99, 2, 98,       ,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oja tri broja stoje u kvadratim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97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97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7, 3,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7, 4,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3429000"/>
            <a:ext cx="36036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3429000"/>
            <a:ext cx="36036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64000" y="3429000"/>
            <a:ext cx="36036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1"/>
          <p:cNvSpPr/>
          <p:nvPr/>
        </p:nvSpPr>
        <p:spPr>
          <a:xfrm>
            <a:off x="259200" y="3599280"/>
            <a:ext cx="45151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99"/>
                </a:solidFill>
                <a:latin typeface="Arial"/>
                <a:ea typeface="Arial"/>
              </a:rPr>
              <a:t>PRIRODNI BROJE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99"/>
                </a:solidFill>
                <a:latin typeface="Arial"/>
                <a:ea typeface="Arial"/>
              </a:rPr>
              <a:t>RAZLOMCI I DECIMALNI BROJE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Fractions and dec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99"/>
                </a:solidFill>
                <a:latin typeface="Arial"/>
                <a:ea typeface="Arial"/>
              </a:rPr>
              <a:t>CIJELI BROJE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99"/>
                </a:solidFill>
                <a:latin typeface="Arial"/>
                <a:ea typeface="Arial"/>
              </a:rPr>
              <a:t>OMJERI, PROPORCIONALNOST I POSTOTC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tio, proportion, and per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457200" y="74628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Arial"/>
              </a:rPr>
              <a:t>(MATEMATIČKA) SADRŽAJNA DOMENA</a:t>
            </a:r>
            <a:br>
              <a:rPr sz="2800"/>
            </a:b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Mathematics)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Conten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628640"/>
            <a:ext cx="1655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BROJE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55640" y="2349360"/>
          <a:ext cx="71424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1424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052720" y="1628640"/>
            <a:ext cx="1655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489040" y="2349360"/>
          <a:ext cx="714600" cy="7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9040" y="2349360"/>
                    <a:ext cx="7146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635280" y="1628640"/>
            <a:ext cx="180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MJ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140360" y="2349360"/>
          <a:ext cx="71424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2349360"/>
                    <a:ext cx="71424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435640" y="1628640"/>
            <a:ext cx="187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GEOMET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945040" y="2349360"/>
          <a:ext cx="714600" cy="71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5040" y="2349360"/>
                    <a:ext cx="7146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307280" y="1628640"/>
            <a:ext cx="187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POD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812000" y="2349360"/>
          <a:ext cx="714600" cy="71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12000" y="2349360"/>
                    <a:ext cx="7146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 rot="5400000">
            <a:off x="934560" y="3031920"/>
            <a:ext cx="289080" cy="505080"/>
          </a:xfrm>
          <a:custGeom>
            <a:avLst/>
            <a:gdLst>
              <a:gd name="textAreaLeft" fmla="*/ 45000 w 289080"/>
              <a:gd name="textAreaRight" fmla="*/ 253080 w 2890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1"/>
          <p:cNvSpPr/>
          <p:nvPr/>
        </p:nvSpPr>
        <p:spPr>
          <a:xfrm>
            <a:off x="324000" y="246780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Arial"/>
              </a:rPr>
              <a:t>Preporuka Europskog parlamenta i Europskog vijeća iz 2006. godine o ključnim kompetencijama, kojih je osam, navodi </a:t>
            </a:r>
            <a:r>
              <a:rPr b="1" lang="hr-HR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matematičku kompetenciju</a:t>
            </a: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Arial"/>
              </a:rPr>
              <a:t>, što uključuje primjenu matematike u svakodnevnim situacijama, logičko mišljenje, komunikaciju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457200" y="74628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EUROPSKI REFERENTNI OK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08360" y="28400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kupljanje informacija o razini stečenog znanja iz nastavnog grad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7040" y="3632040"/>
            <a:ext cx="409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tupak kojim učitelj utvrđuje kakvoću i količinu usvojenih znanja i vještina uče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U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640" y="284004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ĆENJE NAPREDOVANJA UČENIKA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2080" y="3632040"/>
            <a:ext cx="48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JERAVANJE ZNANJA (ISPITIVANJE)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4732200"/>
            <a:ext cx="68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tupak kojim se utvrđuje odgojno-obrazovni rezultat i iskazuje razina postignuća u znanjima, vještinama i navikama uče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1080" y="47322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JENJIVANJE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 svrhu ocjenjivanja potrebno je prikupiti podatke na osnovi kojih je moguće mjeriti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postignuć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dnosno osposobljenost za obavljanje određenih zada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457200" y="74628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Arial"/>
              </a:rPr>
              <a:t>KOGNITIVNA DOMENA</a:t>
            </a:r>
            <a:br>
              <a:rPr sz="2800"/>
            </a:b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Cognitiv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8000" y="1628640"/>
            <a:ext cx="1944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POZNAVANJE ČINJENICA I POSTUP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nowing Facts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70160" y="1628640"/>
            <a:ext cx="20145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UPORABA PROCEDURA I ALGORI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sing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27640" y="1628640"/>
            <a:ext cx="20890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RJEŠAVANJE RUTINSKIH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olving Routin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59640" y="1628640"/>
            <a:ext cx="230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ZAKLJUČI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755640" y="3357720"/>
          <a:ext cx="54468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357720"/>
                    <a:ext cx="5446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987640" y="3284640"/>
          <a:ext cx="67644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284640"/>
                    <a:ext cx="6764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219640" y="3357720"/>
          <a:ext cx="447840" cy="8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3357720"/>
                    <a:ext cx="44784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7308720" y="3429000"/>
          <a:ext cx="720720" cy="66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8720" y="3429000"/>
                    <a:ext cx="7207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57200" y="620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TIMSS 2007.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ČETVRTI RAZ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87640" y="1268280"/>
            <a:ext cx="3166920" cy="79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KOGNITIVNA DOM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9280" y="2492280"/>
            <a:ext cx="12240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ZN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n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48360" y="3573360"/>
            <a:ext cx="12240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PRIM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p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4869000"/>
            <a:ext cx="2016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ZAKLJUČ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1916280"/>
            <a:ext cx="0" cy="387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1655640" y="4800600"/>
            <a:ext cx="457200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DOSJEĆ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PREPOZNAVANJE</a:t>
            </a:r>
            <a:r>
              <a:rPr b="0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cog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IZRAČUNAV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OČITAV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MJERE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GRUPIR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lassify ⁄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64000" y="907920"/>
            <a:ext cx="12240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ZN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n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06920" y="2060640"/>
            <a:ext cx="720720" cy="647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5400000">
            <a:off x="3816000" y="4255920"/>
            <a:ext cx="289080" cy="504720"/>
          </a:xfrm>
          <a:custGeom>
            <a:avLst/>
            <a:gdLst>
              <a:gd name="textAreaLeft" fmla="*/ 45000 w 289080"/>
              <a:gd name="textAreaRight" fmla="*/ 253080 w 2890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7640" y="3068640"/>
            <a:ext cx="215892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injenice,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konceptI ko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čenik treba zn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708360" y="907920"/>
            <a:ext cx="12240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PRIM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p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24360" y="1916280"/>
            <a:ext cx="720720" cy="647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539640" y="4292640"/>
            <a:ext cx="763272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SELEKTIR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elec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PRIKAZIVANJE</a:t>
            </a:r>
            <a:r>
              <a:rPr b="0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Re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MODELIR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PRIMJENJIV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MJERE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RJEŠAVANJE </a:t>
            </a:r>
            <a:r>
              <a:rPr b="0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RUTINSKIH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PROBLEM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olve Routin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103280" y="3465360"/>
            <a:ext cx="289080" cy="505080"/>
          </a:xfrm>
          <a:custGeom>
            <a:avLst/>
            <a:gdLst>
              <a:gd name="textAreaLeft" fmla="*/ 45000 w 289080"/>
              <a:gd name="textAreaRight" fmla="*/ 253080 w 2890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35280" y="2852640"/>
            <a:ext cx="468000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mjena znanja i konceptualn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zumijevanja u rješavanju rutinskih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348000" y="76500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ZAKLJUČ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1844640"/>
            <a:ext cx="720720" cy="647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547640" y="2852640"/>
            <a:ext cx="4535640" cy="2734920"/>
            <a:chOff x="1547640" y="2852640"/>
            <a:chExt cx="4535640" cy="2734920"/>
          </a:xfrm>
        </p:grpSpPr>
        <p:sp>
          <p:nvSpPr>
            <p:cNvPr id="284" name=""/>
            <p:cNvSpPr/>
            <p:nvPr/>
          </p:nvSpPr>
          <p:spPr>
            <a:xfrm rot="5400000">
              <a:off x="3887640" y="2744640"/>
              <a:ext cx="289080" cy="504720"/>
            </a:xfrm>
            <a:custGeom>
              <a:avLst/>
              <a:gdLst>
                <a:gd name="textAreaLeft" fmla="*/ 45000 w 289080"/>
                <a:gd name="textAreaRight" fmla="*/ 253080 w 28908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"/>
            <p:cNvSpPr/>
            <p:nvPr/>
          </p:nvSpPr>
          <p:spPr>
            <a:xfrm>
              <a:off x="1547640" y="3573360"/>
              <a:ext cx="4535640" cy="2014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99"/>
                  </a:solidFill>
                  <a:latin typeface="Arial"/>
                </a:rPr>
                <a:t>ANALIZA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ze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GENERALIZACIJA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99"/>
                  </a:solidFill>
                  <a:latin typeface="Arial"/>
                </a:rPr>
                <a:t>SINTEZA</a:t>
              </a:r>
              <a:r>
                <a:rPr b="0" lang="hr-HR" sz="18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hr-HR" sz="18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nthesize ⁄ Interg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99"/>
                  </a:solidFill>
                  <a:latin typeface="Arial"/>
                </a:rPr>
                <a:t>OBRAZLAGANJE  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st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99"/>
                  </a:solidFill>
                  <a:latin typeface="Arial"/>
                </a:rPr>
                <a:t>RJEŠAVANJE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NERUTINSKIH </a:t>
              </a:r>
              <a:r>
                <a:rPr b="0" lang="hr-H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	</a:t>
              </a:r>
              <a:r>
                <a:rPr b="0" lang="hr-H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routine Problem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273480" y="1125360"/>
            <a:ext cx="587052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587520" y="2604960"/>
          <a:ext cx="3984480" cy="1400040"/>
        </p:xfrm>
        <a:graphic>
          <a:graphicData uri="http://schemas.openxmlformats.org/drawingml/2006/table">
            <a:tbl>
              <a:tblPr/>
              <a:tblGrid>
                <a:gridCol w="1655640"/>
                <a:gridCol w="232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držaj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j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gnitiv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n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658800" y="44053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 parkiralištu 762 automobila parkirana su u 6 jednakih redova. Koliko je automobila u svakom red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ODABRANI ZADATCI - TIM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078000" y="476280"/>
            <a:ext cx="6066000" cy="142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"/>
          <p:cNvGraphicFramePr/>
          <p:nvPr/>
        </p:nvGraphicFramePr>
        <p:xfrm>
          <a:off x="611280" y="2276640"/>
          <a:ext cx="3984480" cy="1400040"/>
        </p:xfrm>
        <a:graphic>
          <a:graphicData uri="http://schemas.openxmlformats.org/drawingml/2006/table">
            <a:tbl>
              <a:tblPr/>
              <a:tblGrid>
                <a:gridCol w="1655640"/>
                <a:gridCol w="232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držaj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j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gnitiv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ključi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682560" y="407664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 školi Fairmont prošle je godine bilo 92 dječaka i 83 djevojčice. Ove je godine 210 učenika, od čega je 97 dječaka. Koliko je ove godine više djevojčica nego lani? Napiši rač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395280" y="2060640"/>
          <a:ext cx="3984480" cy="1400040"/>
        </p:xfrm>
        <a:graphic>
          <a:graphicData uri="http://schemas.openxmlformats.org/drawingml/2006/table">
            <a:tbl>
              <a:tblPr/>
              <a:tblGrid>
                <a:gridCol w="1655640"/>
                <a:gridCol w="232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držaj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j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gnitiv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466560" y="3860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ca sadrži 1 litru vode. Toni je odlio u čašu 250 mililitara vode. Koliko je vode ostalo u boc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276720" y="476280"/>
            <a:ext cx="586728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565880" cy="353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179280" y="765000"/>
          <a:ext cx="3984840" cy="1400400"/>
        </p:xfrm>
        <a:graphic>
          <a:graphicData uri="http://schemas.openxmlformats.org/drawingml/2006/table">
            <a:tbl>
              <a:tblPr/>
              <a:tblGrid>
                <a:gridCol w="1656000"/>
                <a:gridCol w="232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držaj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metrijski oblici i mj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gnitiv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n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50920" y="28004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vadrat je podijeljen na 7 dijelova. Označi s X dva trokuta jednake veličine i obli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42920" y="4057560"/>
          <a:ext cx="2324160" cy="23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4057560"/>
                    <a:ext cx="23241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788000" cy="303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179280" y="765000"/>
          <a:ext cx="3984840" cy="1795680"/>
        </p:xfrm>
        <a:graphic>
          <a:graphicData uri="http://schemas.openxmlformats.org/drawingml/2006/table">
            <a:tbl>
              <a:tblPr/>
              <a:tblGrid>
                <a:gridCol w="1656000"/>
                <a:gridCol w="232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držaj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e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druč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ras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gnitivna do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ključi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250920" y="29448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ovi na slici izgrađeni su od šibica. Ako se ovaj niz likova nastavi, koliko će šibica biti potrebno za deseti li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95280" y="4276800"/>
          <a:ext cx="4038480" cy="52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276800"/>
                    <a:ext cx="40384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79280" y="1844640"/>
            <a:ext cx="87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an i vrlo osjetljiv sastavni dio nast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jerila i sk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isu strogo znanstveno utemel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govorni način izražavanja uspje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d n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rojčana ocjena od 1 d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čin ocjenjivanja dio je kulturnog nasljeđa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nosno tradicije obrazovnog sust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ljučak – što je veća brojčana ocjena, veća je količin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kustv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e brojčane ocjene ne određuju jednaku količinu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OCJENJ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64000" y="2709720"/>
            <a:ext cx="2592720" cy="1511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čekivana postignu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drža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35280" y="2997360"/>
            <a:ext cx="1368360" cy="718920"/>
          </a:xfrm>
          <a:prstGeom prst="rightArrow">
            <a:avLst>
              <a:gd name="adj1" fmla="val 50000"/>
              <a:gd name="adj2" fmla="val 4758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2560" y="2709720"/>
            <a:ext cx="2592360" cy="151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L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4402080"/>
            <a:ext cx="2592360" cy="1511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ate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ode pouča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745400">
            <a:off x="3419280" y="3933360"/>
            <a:ext cx="1368360" cy="719280"/>
          </a:xfrm>
          <a:prstGeom prst="rightArrow">
            <a:avLst>
              <a:gd name="adj1" fmla="val 50000"/>
              <a:gd name="adj2" fmla="val 4756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981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ja istaknuti očekivana postignuća i sadržaji proizlaze iz cilja, a strategije i metode poučavanja i učenja osim o cilju ovise i o zakonitostima učenj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87280" y="692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ajčešći kurikulumski dok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16000" y="2997360"/>
            <a:ext cx="1366920" cy="1008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goj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razov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576520" y="2349360"/>
            <a:ext cx="5990760" cy="745200"/>
            <a:chOff x="2576520" y="2349360"/>
            <a:chExt cx="5990760" cy="745200"/>
          </a:xfrm>
        </p:grpSpPr>
        <p:sp>
          <p:nvSpPr>
            <p:cNvPr id="315" name=""/>
            <p:cNvSpPr/>
            <p:nvPr/>
          </p:nvSpPr>
          <p:spPr>
            <a:xfrm flipV="1" rot="20263800">
              <a:off x="2555280" y="2709360"/>
              <a:ext cx="1295640" cy="144720"/>
            </a:xfrm>
            <a:prstGeom prst="rightArrow">
              <a:avLst>
                <a:gd name="adj1" fmla="val 50000"/>
                <a:gd name="adj2" fmla="val 223818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95640" y="2349360"/>
              <a:ext cx="4571640" cy="432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 vrednovanja postignuća učeni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52400" y="2925720"/>
            <a:ext cx="6014880" cy="600120"/>
            <a:chOff x="2552400" y="2925720"/>
            <a:chExt cx="6014880" cy="600120"/>
          </a:xfrm>
        </p:grpSpPr>
        <p:sp>
          <p:nvSpPr>
            <p:cNvPr id="318" name=""/>
            <p:cNvSpPr/>
            <p:nvPr/>
          </p:nvSpPr>
          <p:spPr>
            <a:xfrm rot="21078600">
              <a:off x="2555640" y="3284280"/>
              <a:ext cx="1295280" cy="144360"/>
            </a:xfrm>
            <a:prstGeom prst="rightArrow">
              <a:avLst>
                <a:gd name="adj1" fmla="val 50000"/>
                <a:gd name="adj2" fmla="val 224314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95640" y="2925720"/>
              <a:ext cx="4571640" cy="432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 poučavanja i uče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552400" y="3502080"/>
            <a:ext cx="6014880" cy="431640"/>
            <a:chOff x="2552400" y="3502080"/>
            <a:chExt cx="6014880" cy="431640"/>
          </a:xfrm>
        </p:grpSpPr>
        <p:sp>
          <p:nvSpPr>
            <p:cNvPr id="321" name=""/>
            <p:cNvSpPr/>
            <p:nvPr/>
          </p:nvSpPr>
          <p:spPr>
            <a:xfrm flipV="1" rot="521400">
              <a:off x="2555640" y="3643920"/>
              <a:ext cx="1295280" cy="144720"/>
            </a:xfrm>
            <a:prstGeom prst="rightArrow">
              <a:avLst>
                <a:gd name="adj1" fmla="val 50000"/>
                <a:gd name="adj2" fmla="val 223756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95640" y="3502080"/>
              <a:ext cx="4571640" cy="431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 sadrža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576880" y="3838320"/>
            <a:ext cx="5990400" cy="671760"/>
            <a:chOff x="2576880" y="3838320"/>
            <a:chExt cx="5990400" cy="671760"/>
          </a:xfrm>
        </p:grpSpPr>
        <p:sp>
          <p:nvSpPr>
            <p:cNvPr id="324" name=""/>
            <p:cNvSpPr/>
            <p:nvPr/>
          </p:nvSpPr>
          <p:spPr>
            <a:xfrm rot="1336200">
              <a:off x="2555640" y="4078080"/>
              <a:ext cx="1295280" cy="144360"/>
            </a:xfrm>
            <a:prstGeom prst="rightArrow">
              <a:avLst>
                <a:gd name="adj1" fmla="val 50000"/>
                <a:gd name="adj2" fmla="val 224314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95640" y="4078440"/>
              <a:ext cx="4571640" cy="431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 stručnog usavršava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4"/>
          <p:cNvSpPr/>
          <p:nvPr/>
        </p:nvSpPr>
        <p:spPr>
          <a:xfrm>
            <a:off x="468360" y="5141880"/>
            <a:ext cx="802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cjenjivanje treba biti usklađeno s ciljevima koji su određeni nastavnim planom i programom ili Nacionalnim kurikulumom nastavnog predmeta u kojemu su opisani nastavni sadržaji i ocjenjivačka mjerila za taj pred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RAZREDNO OCJENJ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680" y="1557360"/>
            <a:ext cx="1687320" cy="906480"/>
          </a:xfrm>
          <a:prstGeom prst="borderCallout1">
            <a:avLst>
              <a:gd name="adj1" fmla="val 18750"/>
              <a:gd name="adj2" fmla="val -8333"/>
              <a:gd name="adj3" fmla="val -71453"/>
              <a:gd name="adj4" fmla="val 1301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ćenje rada tijekom nast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95640" y="1773360"/>
            <a:ext cx="1687320" cy="906480"/>
          </a:xfrm>
          <a:prstGeom prst="borderCallout1">
            <a:avLst>
              <a:gd name="adj1" fmla="val 18750"/>
              <a:gd name="adj2" fmla="val -8333"/>
              <a:gd name="adj3" fmla="val -109981"/>
              <a:gd name="adj4" fmla="val 13377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maće zadać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03640" y="1700280"/>
            <a:ext cx="1800360" cy="906480"/>
          </a:xfrm>
          <a:prstGeom prst="borderCallout1">
            <a:avLst>
              <a:gd name="adj1" fmla="val 18750"/>
              <a:gd name="adj2" fmla="val -8333"/>
              <a:gd name="adj3" fmla="val -88263"/>
              <a:gd name="adj4" fmla="val -10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sani ispiti – zadatci objektivnog t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20000" y="1484280"/>
            <a:ext cx="1800000" cy="906480"/>
          </a:xfrm>
          <a:prstGeom prst="borderCallout1">
            <a:avLst>
              <a:gd name="adj1" fmla="val 18750"/>
              <a:gd name="adj2" fmla="val -8333"/>
              <a:gd name="adj3" fmla="val -88263"/>
              <a:gd name="adj4" fmla="val -10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irani test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50920" y="2565360"/>
            <a:ext cx="1871640" cy="2067840"/>
            <a:chOff x="250920" y="2565360"/>
            <a:chExt cx="1871640" cy="2067840"/>
          </a:xfrm>
        </p:grpSpPr>
        <p:sp>
          <p:nvSpPr>
            <p:cNvPr id="333" name=""/>
            <p:cNvSpPr/>
            <p:nvPr/>
          </p:nvSpPr>
          <p:spPr>
            <a:xfrm>
              <a:off x="1114560" y="2565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0920" y="3716280"/>
              <a:ext cx="18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graničenost ljudskog prosuđiva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932360" y="2730600"/>
            <a:ext cx="1871640" cy="1518840"/>
            <a:chOff x="4932360" y="2730600"/>
            <a:chExt cx="1871640" cy="1518840"/>
          </a:xfrm>
        </p:grpSpPr>
        <p:sp>
          <p:nvSpPr>
            <p:cNvPr id="336" name=""/>
            <p:cNvSpPr/>
            <p:nvPr/>
          </p:nvSpPr>
          <p:spPr>
            <a:xfrm>
              <a:off x="5796000" y="273060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32360" y="388116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ste zadata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021440" y="2492280"/>
            <a:ext cx="1871640" cy="2770920"/>
            <a:chOff x="7021440" y="2492280"/>
            <a:chExt cx="1871640" cy="2770920"/>
          </a:xfrm>
        </p:grpSpPr>
        <p:sp>
          <p:nvSpPr>
            <p:cNvPr id="339" name=""/>
            <p:cNvSpPr/>
            <p:nvPr/>
          </p:nvSpPr>
          <p:spPr>
            <a:xfrm>
              <a:off x="7885080" y="24922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021440" y="3643200"/>
              <a:ext cx="187164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uzda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lja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ira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pristra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457200" y="47628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Arial"/>
              </a:rPr>
              <a:t>NASTAVA MATEMATIKE JUČER – DANAS – SUTRA</a:t>
            </a:r>
            <a:br>
              <a:rPr sz="1800"/>
            </a:b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(Engleska varij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1268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1960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Drvosječa prodaje kamion drva za 100 funti. Njegovi su troškovi 4/5 prodajne cijene. Kolika je njegova zar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060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1970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Drvosječa prodaje kamion drva za 100 funti. Njegovi su troškovi 4/5 prodajne cijene, tj. 80 funti. Kolika je njegova zar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0920" y="2852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1975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Drvosječa zamjenjuje skup drva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za skup novca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. Kardinalni broj skupa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je 100, a svaki element vrijedi 1 funtu. Prikaži elemente skupa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sa 100 kružića. Skup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troškova sadrži 20 elemenata manje nego skup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. Prikaži skup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kao podskup skupa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i odgovori na pitanje koliki je kardinalni broj skupa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\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4149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1980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Drvosječa prodaje kamion drva za 100 funti. Njegovi su troškovi 80 funti, a zarada 20 funti. Tvoj je zadatak podvući broj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49482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1990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Drvosječa je sječom prelijepe šume zaradio 20 funti. Što mislite o takvom načinu zarađivanja za život? (Tema za raspravu u razredu: Kako su se osjećale ptice i vjeverice iz te šum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ZADATAK: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Napišite hrvatsku varijan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VRSTE  OCJENJ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572000" y="278136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vedena državna m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vode se nacionalni is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sperimentalno se u nekim školama provodi samovrjednovanje kvalitete rada uz vanjsko vrjednovanje ishoda obrazov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Preporuka Europskog parlamenta o suradnji na unapređivanju kvalitete obrazovanja u Europi 200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2760" y="1125360"/>
            <a:ext cx="56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obzirom na to TKO provodi ocjenjivanje razlikuje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RN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ŠKOLSK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JENJ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19242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EKSTERN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(VANJS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JENJ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339640" y="1484280"/>
            <a:ext cx="16556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1484280"/>
            <a:ext cx="16556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0" y="2833560"/>
            <a:ext cx="457200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ECD-P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anjsko vrednovanje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vodi svake treće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ihvatilo više od 40 zema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 Hrvatskoj od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ključuje matematičku pisme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TIMSS 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(Trends in International Mathematics and Science Stu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eliko međunarodno ispitivanje znanja u kojem za sada Hrvatska ne sudjel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VRSTE OCJENJ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3399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FORMATIV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JENJ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13478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UMATIV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JENJ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907920"/>
            <a:ext cx="16556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907920"/>
            <a:ext cx="16556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205000"/>
            <a:ext cx="38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vodi se u razrednom odj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redovito ocjenjivanje učeničkog napr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regulativna ulog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: na osnovi povratne obavijesti pronalaze se pogreške, manjkavosti i nedostaci i procjenjuje je li potreban dodatni rad radi njihova otklanjanja i poboljšanja uspješnosti u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vjeravanje za učenj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(assessment for lear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227664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lužbeno ocjenjivanje određeno standardom postignu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ajčešće se provodi na kraju obrazovnog razdob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imjeri: ocjene iz školske svjedo-džbe ili rezultati nacionalnih is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vjeravanje naučenog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(assessment of lear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76360" y="7714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ORMATIVNO 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JENJ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949400"/>
            <a:ext cx="403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čenikov se uspjeh mjeri u usporedbi s uspjehom drugih učenika, obično se izražava percentil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imjerice, zanima nas kojih je 10% učenika najuspješnij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76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DIJAGNOSTIČKO 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JENJ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1911240"/>
            <a:ext cx="4032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klapa se s formativnim, ali preciznije određuje cil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odi se prije ili u tijeku poučavanja određenih nastavnih sadržaja radi utvrđivanja uzroka koji mogu utjecati na rezul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mjerice, inicijalno ispitivanje na početku školske g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46040" y="105264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OCJENJ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928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19224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FORMA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24922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temeljeno na aktivnostima u razrednom odj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4922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aprijed se najavljuje – učenici se za njega mogu priprem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39640" y="1503360"/>
            <a:ext cx="16556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92720" y="1503360"/>
            <a:ext cx="16556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457200" y="37162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ostignuća učenika u pogledu razine usvojenog znanja opisujemo pomoću taksonomskih ljestv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Taksonomije (klasifikacije znanja) u dobroj mjeri namijenjene su i postavljanju obrazovnih cilje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692280"/>
            <a:ext cx="820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a utvrđivanje postignuća učenika (provjeravanje znanja i ocjenjiva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trebno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2151000"/>
            <a:ext cx="37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drediti što se podrazumijeva pod znan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2151000"/>
            <a:ext cx="37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tvrditi načine i kriterije mjerenj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276720" y="1646280"/>
            <a:ext cx="107928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1646280"/>
            <a:ext cx="107928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468360" y="486900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BLOOMOVA TAKSONOM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134136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nanje /pamćen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zumije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j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te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ja (vrednova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3716280"/>
            <a:ext cx="7201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nekad se analiza, sinteza i evaluacija sažima u jednu razinu kognitivnog postignuća i naziv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reativno rješavanje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1:06:19Z</dcterms:created>
  <dc:creator>Dva</dc:creator>
  <dc:description/>
  <dc:language>en-US</dc:language>
  <cp:lastModifiedBy>Dita</cp:lastModifiedBy>
  <dcterms:modified xsi:type="dcterms:W3CDTF">2010-09-01T11:35:08Z</dcterms:modified>
  <cp:revision>44</cp:revision>
  <dc:subject/>
  <dc:title>OCJENJIVANJE</dc:title>
</cp:coreProperties>
</file>