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FB9-C01D-46F3-875E-FC568B34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4E7-E855-4CE2-BA8D-E5BEC747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134-0971-4216-B473-2C2D8D60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074-0F89-4972-9C00-3526DF26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6E2-6D42-4C64-A9E8-35EFB581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692-3D19-4833-8D66-172B6891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5C2-46D7-4A39-84B2-159DDB98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47E-AA98-47CD-AD44-10E997C3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03F-0029-4349-9347-0F2AB110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D0A-B9D3-4407-B244-A865420B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C2F-1615-4332-99F0-8CA63C0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749-2315-43D0-964F-F49E82B1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87D8-0503-4CE6-84BD-56A5D78544C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f. dr. sc. Ante Bežen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iteljski fakultet Sveučilišta u Zagre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56920"/>
            <a:ext cx="64008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98989"/>
                </a:solidFill>
                <a:latin typeface="Calibri"/>
              </a:rPr>
              <a:t>Metodika – znanost o poučavanju nastavnog predmeta: suvremena obiljež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Calibri"/>
              </a:rPr>
              <a:t>Agencija za odgoj i obrazovanj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Calibri"/>
              </a:rPr>
              <a:t>lipanj – rujan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Sadržaj suvremenog metodičkog zna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Calibri"/>
              </a:rPr>
              <a:t>Teorijsko metodičko znan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nanje matičnih zna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nanje temeljnih odgojno-obrazovnih znanosti (filozofija, psihologija, sociologija, pedagogija, neuroznanost, informatika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sebna metodička znanja  za pojedinu metodi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Calibri"/>
              </a:rPr>
              <a:t>Praktično metodičko znanj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-    Planiranje nastave  nastavnoga predm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zvođenje nastavnog sata i drugih obl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nanje praktičnog poučavanja (sustavi, metode, oblic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avilna uporaba hrvatskog odnosno stranog jez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poraba tehničkih i drugih nastavnih sredstava i pomaga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zrada metodičkih artefak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tvaranje povoljne klime za poučavanje i druge aktiv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0000"/>
                </a:solidFill>
                <a:uFillTx/>
                <a:latin typeface="Calibri"/>
              </a:rPr>
              <a:t>Metodička kompetencija (umijeće) – temeljna učiteljska kompeten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laniranje i pripre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zvedba nastavnog s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redni ugođ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Disciplina na sa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cjenjivanje učenikova napret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osudba vlastitog r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Etape u razvitku kompetencija: kognitivna, praktična u razredu, povratna obavij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etodičke kompetencije učitelja i metodič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0000"/>
                </a:solidFill>
                <a:uFillTx/>
                <a:latin typeface="Calibri"/>
              </a:rPr>
              <a:t>Tradicionalni i noviji metodički sustavi /strateg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eproduktiv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Eksplikativ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terpretativ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blem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Korelacijsko-integracijski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jekt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Komunikacij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tvore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ultimedij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Tim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Metodičko obrazovanje i usavršavanje učitel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olonjski učitelji / izjednačenje s ostalim zvanjima, osposobljenost  za znanstveni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dbolonjski učitel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čiteljske licen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čno usavršavanje učitelj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elegatsko” usavrša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ravno usavrša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sljedice vanjskog vrjednovanja za učite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hr-HR" sz="3600" spc="-1" strike="noStrike" u="sng">
                <a:solidFill>
                  <a:srgbClr val="000000"/>
                </a:solidFill>
                <a:uFillTx/>
                <a:latin typeface="Calibri"/>
              </a:rPr>
              <a:t>Cjeloživotno učenje – uvjet trajnosti metodičke / učiteljske kompetencije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čna literatura (knjige, novine, časopis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čne udruge (HPKZ, predmetne udruge, autorstvo udžbenika i nastavnog materijal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predovanje u struci – doškolovanje, doktor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čni skupovi – samoinicijativno uključ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čne inicijative u lokalnoj sred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sljedice izostanka stručnog usavrša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Okomica stručnog rasta učitelja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(priprave za nastavu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tudent (temeljito razrađena pripr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čitelj pripravnik (temeljito razrađena pripr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ladi učitelj (sažeta pripr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skusni učitelj (priprava u okviru izvedbenog programa – bez posebnog obras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etodička sloboda i stvaralaštvo učitelja – okviri i gra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djednaka važnost  metodičke teorije i prak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Učitelj  u školskoj i društvenoj zajedni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Identitet učitelja u stručnoj zajednic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Stručni autoritet učitelja u odnosu na učenike i roditel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Pritisci i zlostavljanje učitelja (učenici, roditelji, uprava škole, lokalna sredin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Mehanizmi profesionalne zaštite učitelja (stručne udruge, sindika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Važnost individualnog autoriteta i etičke vjerodostojnosti učitel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Društvena snaga učiteljske struke (rasutost  i nemoć učiteljskih udruga i organizacij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Promjene u obrazovnim struktur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Calibri"/>
              </a:rPr>
              <a:t>Dosadašnje struktur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Nastavni plan i pr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Znanja, vještine, navi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Ocjenjivan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edagogija – opća znanost o odgoju i obrazovanj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Metodika – primijenjena didaktik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Calibri"/>
              </a:rPr>
              <a:t>Nove struk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urikul /uputnik/ nastavna osno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ompetencije za pojedine djelat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nutarnje i vanjsko vrjednovan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Edukologija / teorija kuriku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Metodika  - interdisciplinarna zna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000000"/>
                </a:solidFill>
                <a:uFillTx/>
                <a:latin typeface="Calibri"/>
              </a:rPr>
              <a:t>Stare i nove znanstvene discipline o obrazovanju</a:t>
            </a:r>
            <a:br>
              <a:rPr sz="40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Pravilnik o znanstvenim područjima, poljima i granama,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Stare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odgojne znanost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edagog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ineziolog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ehabilitacijske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Logoped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Nove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- Metodike predmeta prirodnih zna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- Metodike predmeta društvenih zna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- Metodike predmeta humanističkih zna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- Interdisciplinarno polje obrazovnih zna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Obrazovne znanosti–interdisciplinarno pol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sihologija odgoja i obrazo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ociologija obrazo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litologija obrazo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Antropologija obrazo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euroznanost i rano uč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edagoške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etodike prirodnih, društvenih i humanističkih predm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Nove znanosti u temelju obrazovnog susta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Antropologija obrazovanj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kakvog čovjeka želimo – stvaraoca ili poslušnika (problemi globalizaci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uroznanos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moždano-živčane osnove učenja (fiziološka  osnova učenja, podloga za psihologij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Informatika (e-učenje)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strategije e-učenja za sve stupnjeve obraz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Interdisciplinarna koncepcija metodi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atična znanost nastavnog predme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Filozofija – etika, estetika, log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sihologija (razvojna i pozitivna psihologij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ociologija (mikrosociologija  odgojno-obrazovnog proces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edagogija /didak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stale znanosti: antropologija, informatika, neuroznanost, komunikolog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Napuštanje disciplinarnog pristupa obrazovanju i metodike kao praktične recep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0000"/>
                </a:solidFill>
                <a:uFillTx/>
                <a:latin typeface="Calibri"/>
              </a:rPr>
              <a:t>Struktura kurikula zahtijeva interdisciplinarno obrazov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ruštvene potre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iljevi obrazovnog progr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držaji obraz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stavi /strategije, metode, postupci, izv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jednovanje učinaka obrazovanja: unutarnje i vanjs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ermin za kurikul u hrvatskom jez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0000"/>
                </a:solidFill>
                <a:uFillTx/>
                <a:latin typeface="Calibri"/>
              </a:rPr>
              <a:t>Što s HNOS-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nos pojmova: kurikul, nacionalni obrazovni standard, nastavni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urikul: cjelovit odgojno-obrazovni proces (NOK, predmetni kurikul, školski kuriku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OS: izlazni standardi (osnova za vanjsko vrjednovanje  - malu i veliku matu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stavni program: dio predmetnog kurik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HNOS kao nedomišljena i neostvarena metodička reform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Komercijalna metodika” udžben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zdavači – glavni kreatori udžbenič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trategija pohlepe i “komercijalne metodik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bilježja dobrog udžbenika: znanstvena vjerodostojnost, metodička suvremenost, primjerenost  i oblikovanost (metodičnost postupaka i likovnosti) ,relativna trajnost, praktična provjere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ko može biti autor dobrih udžbenika / plagij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ustav i kriteriji za izbora udžbenika / etika izb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elativnost udžbenika (e- udžbenici i dr. izvor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arametodika metodičkih priručnik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21:50:49Z</dcterms:created>
  <dc:creator>Ante Bežen</dc:creator>
  <dc:description/>
  <dc:language>en-US</dc:language>
  <cp:lastModifiedBy>Ante Bežen</cp:lastModifiedBy>
  <dcterms:modified xsi:type="dcterms:W3CDTF">2010-06-27T22:15:14Z</dcterms:modified>
  <cp:revision>32</cp:revision>
  <dc:subject/>
  <dc:title>Prof. dr. sc. Ante Bežen Učiteljski fakultet Sveučilišta u Zagrebu</dc:title>
</cp:coreProperties>
</file>