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723438" cy="7559675"/>
  <p:notesSz cx="6645275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645600" cy="981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645240" cy="9809280"/>
          </a:xfrm>
          <a:custGeom>
            <a:avLst/>
            <a:gdLst>
              <a:gd name="textAreaLeft" fmla="*/ 360 w 6645240"/>
              <a:gd name="textAreaRight" fmla="*/ 6644880 w 6645240"/>
              <a:gd name="textAreaTop" fmla="*/ 360 h 9809280"/>
              <a:gd name="textAreaBottom" fmla="*/ 9808920 h 9809280"/>
            </a:gdLst>
            <a:ahLst/>
            <a:rect l="textAreaLeft" t="textAreaTop" r="textAreaRight" b="textAreaBottom"/>
            <a:pathLst>
              <a:path w="21600" h="31884">
                <a:moveTo>
                  <a:pt x="5" y="0"/>
                </a:moveTo>
                <a:arcTo wR="5" hR="5" stAng="16200000" swAng="-5400000"/>
                <a:lnTo>
                  <a:pt x="0" y="31879"/>
                </a:lnTo>
                <a:arcTo wR="5" hR="5" stAng="10800000" swAng="-5400000"/>
                <a:lnTo>
                  <a:pt x="21595" y="318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885600" y="4659120"/>
            <a:ext cx="4873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0" y="7455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-49320" bIns="-49320" anchor="b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58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1920" y="735120"/>
            <a:ext cx="4729320" cy="36795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85600" y="4659120"/>
            <a:ext cx="4873320" cy="441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U edukacijskom procesu to se odnosi na prilagođavanje redovitog nastavnog programa u navedenim odrednicama sukladno sposobnostima učenika s posebnim potrebama (ovisno o vrsti i stupnju teškoća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61920" y="735120"/>
            <a:ext cx="4729320" cy="3679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5600" y="4659120"/>
            <a:ext cx="4873320" cy="441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Praćenje, ocjenjivanje i utvrđivanje napretka su sastavnice svakog pa tako i prilagođenog pr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1920" y="735120"/>
            <a:ext cx="4729320" cy="3679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5600" y="4659120"/>
            <a:ext cx="4873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Odnosi se na procjenu kvalitete znanja koja ovisi o stupnju usvojenosti činjenica i generalizac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61920" y="735120"/>
            <a:ext cx="4729320" cy="3679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85600" y="4659120"/>
            <a:ext cx="4873320" cy="441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Provodi se u različitim školskim aktivnostima važnim za usvajanje određenog nastavnog predm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F45-40EB-45D8-834F-4BC94D82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875052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5280" y="4353480"/>
            <a:ext cx="875052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ADB-FACB-4B80-9CD2-255A476F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52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690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22C-7FAB-4E42-8622-F2A87100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43760" y="176364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02600" y="176364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85280" y="435348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43760" y="435348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02600" y="435348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6A1-AACF-4881-89D0-BF80B531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BCB6-8346-4F14-A92D-BFA99110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85280" y="1763640"/>
            <a:ext cx="8750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E078-ECD7-4F3E-A0FF-716D2C0B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875052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1BC7-8A49-408D-B215-68202088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84C-BAD4-4B17-A420-5E27E1E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76D0-D9DB-4BE3-BB47-5738F14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85280" y="303120"/>
            <a:ext cx="87505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A136-FA20-4655-A03D-F74BD50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852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71C-1BAD-4D34-9AF9-3D13CC72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85280" y="1763640"/>
            <a:ext cx="8750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AD6-9140-4866-A6ED-90CC0797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690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353E-F1E6-439D-B775-76A44594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5280" y="4353480"/>
            <a:ext cx="875052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07E2-3F1D-49F1-81AE-32DF47C0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875052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280" y="4353480"/>
            <a:ext cx="875052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6C73-5E40-4F5F-8FB5-59C5300D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52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9690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0B2-D70A-4D0A-9A00-56EC4F30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43760" y="176364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02600" y="176364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5280" y="435348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43760" y="435348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02600" y="4353480"/>
            <a:ext cx="28173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0132-6D70-4D47-B1AE-59F73DD7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875052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947-BEE7-4FDC-809C-55E87E07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906-6D6D-4493-AF4E-6C7BA83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FE0-6171-4E84-8AC9-E05BBD44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5280" y="303120"/>
            <a:ext cx="875052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CD8-D682-46ED-983C-A6292A5B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52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6FB-5A9F-4481-9AE7-BEA68BBA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9080" y="435348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34E-9136-4CD2-93FB-38319F70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52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69080" y="1763640"/>
            <a:ext cx="426996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5280" y="4353480"/>
            <a:ext cx="8750520" cy="2364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01B-12D1-4F14-8C86-7629184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687760"/>
            <a:ext cx="9721440" cy="4461840"/>
            <a:chOff x="0" y="2687760"/>
            <a:chExt cx="9721440" cy="4461840"/>
          </a:xfrm>
        </p:grpSpPr>
        <p:sp>
          <p:nvSpPr>
            <p:cNvPr id="1" name=""/>
            <p:cNvSpPr/>
            <p:nvPr/>
          </p:nvSpPr>
          <p:spPr>
            <a:xfrm rot="20175000">
              <a:off x="3579120" y="4536000"/>
              <a:ext cx="5184720" cy="6717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662360"/>
              <a:ext cx="4536360" cy="21423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68920" y="2687760"/>
              <a:ext cx="4052520" cy="215640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00080" y="2687760"/>
              <a:ext cx="3321360" cy="13341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74280" y="4335120"/>
              <a:ext cx="313560" cy="2098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77760" y="4187520"/>
              <a:ext cx="312120" cy="2102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79280" y="3212640"/>
              <a:ext cx="891000" cy="4813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04240" y="3526200"/>
              <a:ext cx="1216800" cy="53532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667480" y="3307320"/>
              <a:ext cx="4050360" cy="154188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479280" y="3244680"/>
              <a:ext cx="973440" cy="45108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991000" y="2873520"/>
              <a:ext cx="828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479280" y="3023640"/>
              <a:ext cx="1208160" cy="67032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828040" y="3974040"/>
              <a:ext cx="536400" cy="39384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651560"/>
              <a:ext cx="4379760" cy="163296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5240160"/>
              <a:ext cx="4595760" cy="190944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85640" y="6889680"/>
            <a:ext cx="2270160" cy="503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sr-Latn-C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320640" y="6889680"/>
            <a:ext cx="3079800" cy="503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hr-HR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966000" y="6889680"/>
            <a:ext cx="2270160" cy="503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hr-HR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AA1ADFB-A36A-48A0-A0AA-364DB8A420E6}" type="slidenum">
              <a:rPr b="0" lang="hr-HR" sz="13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85280" y="1763640"/>
            <a:ext cx="8750520" cy="4957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00ff99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spcBef>
                <a:spcPts val="876"/>
              </a:spcBef>
              <a:buClr>
                <a:srgbClr val="ffffff"/>
              </a:buClr>
              <a:buFont typeface="Garamond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35160" indent="-247680">
              <a:spcBef>
                <a:spcPts val="876"/>
              </a:spcBef>
              <a:buClr>
                <a:srgbClr val="b9efee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28720" indent="-247680">
              <a:spcBef>
                <a:spcPts val="876"/>
              </a:spcBef>
              <a:buClr>
                <a:srgbClr val="ffffff"/>
              </a:buClr>
              <a:buFont typeface="Garamond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22640" indent="-247680">
              <a:spcBef>
                <a:spcPts val="876"/>
              </a:spcBef>
              <a:buClr>
                <a:srgbClr val="ccff66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22640" indent="-247680">
              <a:spcBef>
                <a:spcPts val="876"/>
              </a:spcBef>
              <a:buClr>
                <a:srgbClr val="ffffff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22640" indent="-247680">
              <a:spcBef>
                <a:spcPts val="876"/>
              </a:spcBef>
              <a:buClr>
                <a:srgbClr val="ffffff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687760"/>
            <a:ext cx="9721440" cy="4461840"/>
            <a:chOff x="0" y="2687760"/>
            <a:chExt cx="9721440" cy="4461840"/>
          </a:xfrm>
        </p:grpSpPr>
        <p:sp>
          <p:nvSpPr>
            <p:cNvPr id="58" name=""/>
            <p:cNvSpPr/>
            <p:nvPr/>
          </p:nvSpPr>
          <p:spPr>
            <a:xfrm rot="20175000">
              <a:off x="3579120" y="4536000"/>
              <a:ext cx="5184720" cy="6717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662360"/>
              <a:ext cx="4536360" cy="21423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68920" y="2687760"/>
              <a:ext cx="4052520" cy="215640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0080" y="2687760"/>
              <a:ext cx="3321360" cy="13341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74280" y="4335120"/>
              <a:ext cx="313560" cy="2098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77760" y="4187520"/>
              <a:ext cx="312120" cy="2102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9280" y="3212640"/>
              <a:ext cx="891000" cy="4813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04240" y="3526200"/>
              <a:ext cx="1216800" cy="53532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67480" y="3307320"/>
              <a:ext cx="4050360" cy="154188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79280" y="3244680"/>
              <a:ext cx="973440" cy="45108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91000" y="2873520"/>
              <a:ext cx="828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9280" y="3023640"/>
              <a:ext cx="1208160" cy="67032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28040" y="3974040"/>
              <a:ext cx="536400" cy="39384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651560"/>
              <a:ext cx="4379760" cy="163296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5240160"/>
              <a:ext cx="4595760" cy="190944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8280" y="1949040"/>
            <a:ext cx="8264520" cy="1916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58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85640" y="6889680"/>
            <a:ext cx="2270160" cy="503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sr-Latn-C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320640" y="6889680"/>
            <a:ext cx="3079800" cy="503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hr-HR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966000" y="6889680"/>
            <a:ext cx="2270160" cy="503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hr-HR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7FFF497-6A7B-4681-B298-576AACA767AF}" type="slidenum">
              <a:rPr b="0" lang="hr-HR" sz="13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86000" y="1769040"/>
            <a:ext cx="87508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493560" indent="0" algn="ctr"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987480" algn="ctr">
              <a:spcBef>
                <a:spcPts val="649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3" marL="1481040" algn="ctr"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4" marL="1974960" algn="ctr">
              <a:spcBef>
                <a:spcPts val="550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5" marL="1974960">
              <a:spcBef>
                <a:spcPts val="5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6" marL="1974960">
              <a:spcBef>
                <a:spcPts val="5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4160" y="1638000"/>
            <a:ext cx="9186840" cy="125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br>
              <a:rPr sz="4300"/>
            </a:br>
            <a:r>
              <a:rPr b="1" lang="hr-HR" sz="4300" spc="-1" strike="noStrike">
                <a:solidFill>
                  <a:srgbClr val="b9efee"/>
                </a:solidFill>
                <a:latin typeface="Arial"/>
              </a:rPr>
              <a:t>Prilagodba nastavnih sadržaja za učenike s posebnim potrebama</a:t>
            </a:r>
            <a:br>
              <a:rPr sz="4300"/>
            </a:br>
            <a:r>
              <a:rPr b="1" lang="hr-HR" sz="4300" spc="-1" strike="noStrike">
                <a:solidFill>
                  <a:srgbClr val="b9efee"/>
                </a:solidFill>
                <a:latin typeface="Arial"/>
              </a:rPr>
              <a:t>	</a:t>
            </a:r>
            <a:r>
              <a:rPr b="1" lang="hr-HR" sz="4300" spc="-1" strike="noStrike">
                <a:solidFill>
                  <a:srgbClr val="b9efee"/>
                </a:solidFill>
                <a:latin typeface="Arial"/>
              </a:rPr>
              <a:t>Priroda 5 ,    Kemija 7</a:t>
            </a:r>
            <a:br>
              <a:rPr sz="5200"/>
            </a:br>
            <a:br>
              <a:rPr sz="5200"/>
            </a:br>
            <a:r>
              <a:rPr b="1" lang="hr-HR" sz="3900" spc="-1" strike="noStrike">
                <a:solidFill>
                  <a:srgbClr val="ffffcc"/>
                </a:solidFill>
                <a:latin typeface="Arial"/>
              </a:rPr>
              <a:t>- primjeri iz prakse</a:t>
            </a: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72760" y="5051160"/>
            <a:ext cx="8343720" cy="17478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Stručni suradnik : </a:t>
            </a:r>
            <a:r>
              <a:rPr b="0" lang="en-GB" sz="2200" spc="-1" strike="noStrike">
                <a:solidFill>
                  <a:srgbClr val="ffffcc"/>
                </a:solidFill>
                <a:latin typeface="Arial"/>
              </a:rPr>
              <a:t>Sanda Zlatarić, 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prof. rehabilitato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Jadranka Radovančević, učiteljica biologije – kemije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lipanj 2009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72600" y="367920"/>
            <a:ext cx="9348840" cy="7193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97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5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1" lang="hr-HR" sz="3500" spc="-1" strike="noStrike">
                <a:solidFill>
                  <a:srgbClr val="ffffcc"/>
                </a:solidFill>
                <a:latin typeface="Arial"/>
              </a:rPr>
              <a:t>C) utvrđivanje interes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odnosi se na otkrivanje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hr-HR" sz="3000" spc="-1" strike="noStrike">
                <a:solidFill>
                  <a:srgbClr val="ffff00"/>
                </a:solidFill>
                <a:latin typeface="Arial"/>
              </a:rPr>
              <a:t>aktivnosti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koje učenik voli/želi raditi,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hr-HR" sz="3000" spc="-1" strike="noStrike">
                <a:solidFill>
                  <a:srgbClr val="ffff00"/>
                </a:solidFill>
                <a:latin typeface="Arial"/>
              </a:rPr>
              <a:t>stupnja motivacije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za nastavni predmet /područja/sadržaj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000" spc="-1" strike="noStrike">
                <a:solidFill>
                  <a:srgbClr val="ffff00"/>
                </a:solidFill>
                <a:latin typeface="Arial"/>
              </a:rPr>
              <a:t>interesi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se utvrđuju razgovorom s učenikom, roditeljem, ostalim učenicima i učiteljima te promatranjem reakcija učenika na poticaje za razne nastavne, odnosno školske aktivnosti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4520" y="367920"/>
            <a:ext cx="8804160" cy="6907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0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1" lang="hr-HR" sz="3200" spc="-1" strike="noStrike">
                <a:solidFill>
                  <a:srgbClr val="ffffcc"/>
                </a:solidFill>
                <a:latin typeface="Arial"/>
              </a:rPr>
              <a:t>D) određivanje potr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podrazumijeva sagledavanje učenikova </a:t>
            </a:r>
            <a:r>
              <a:rPr b="0" lang="hr-HR" sz="3000" spc="-1" strike="noStrike">
                <a:solidFill>
                  <a:srgbClr val="ffff00"/>
                </a:solidFill>
                <a:latin typeface="Arial"/>
              </a:rPr>
              <a:t>ponašanja u nastavi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, u </a:t>
            </a:r>
            <a:r>
              <a:rPr b="0" lang="hr-HR" sz="3000" spc="-1" strike="noStrike">
                <a:solidFill>
                  <a:srgbClr val="ffff00"/>
                </a:solidFill>
                <a:latin typeface="Arial"/>
              </a:rPr>
              <a:t>druženju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s vršnjacima, u odnosu prema odraslima, informiranje o obiteljskoj situaciji, o </a:t>
            </a:r>
            <a:r>
              <a:rPr b="0" lang="hr-HR" sz="3000" spc="-1" strike="noStrike">
                <a:solidFill>
                  <a:srgbClr val="ffff00"/>
                </a:solidFill>
                <a:latin typeface="Arial"/>
              </a:rPr>
              <a:t>korištenju slobodnog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00"/>
                </a:solidFill>
                <a:latin typeface="Arial"/>
              </a:rPr>
              <a:t>vremena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i sl., a s ciljem otkrivanja motivacijskih razloga ponašanja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000" spc="-1" strike="noStrike">
                <a:solidFill>
                  <a:srgbClr val="ffff00"/>
                </a:solidFill>
                <a:latin typeface="Arial"/>
              </a:rPr>
              <a:t>procjena sposobnosti, znanja interesa i potreba učenika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s posebnim potrebama osnova je za određivanje daljnjeg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rada učitelja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u odnosu na </a:t>
            </a:r>
            <a:r>
              <a:rPr b="0" lang="hr-HR" sz="3000" spc="-1" strike="noStrike">
                <a:solidFill>
                  <a:srgbClr val="ffff00"/>
                </a:solidFill>
                <a:latin typeface="Arial"/>
              </a:rPr>
              <a:t>planiranje i provođenje prilagođavanja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 u edukacijskom procesu i to u svim njegovim etapam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440" y="604800"/>
            <a:ext cx="4649760" cy="6432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070600" y="523800"/>
            <a:ext cx="46512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5280" y="302760"/>
            <a:ext cx="8751960" cy="1095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marL="903240" indent="0" algn="ctr">
              <a:lnSpc>
                <a:spcPct val="95000"/>
              </a:lnSpc>
              <a:buNone/>
              <a:tabLst>
                <a:tab algn="l" pos="0"/>
                <a:tab algn="l" pos="903240"/>
                <a:tab algn="l" pos="1890720"/>
                <a:tab algn="l" pos="2878200"/>
                <a:tab algn="l" pos="3865680"/>
                <a:tab algn="l" pos="4853160"/>
                <a:tab algn="l" pos="5842080"/>
                <a:tab algn="l" pos="6829560"/>
                <a:tab algn="l" pos="7816680"/>
                <a:tab algn="l" pos="8804160"/>
                <a:tab algn="l" pos="9791640"/>
                <a:tab algn="l" pos="10779120"/>
                <a:tab algn="l" pos="11766600"/>
              </a:tabLst>
            </a:pPr>
            <a:r>
              <a:rPr b="1" lang="hr-HR" sz="43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hr-HR" sz="4300" spc="-1" strike="noStrike">
                <a:solidFill>
                  <a:srgbClr val="66ff33"/>
                </a:solidFill>
                <a:latin typeface="Garamond"/>
              </a:rPr>
              <a:t>2. </a:t>
            </a:r>
            <a:r>
              <a:rPr b="0" lang="hr-HR" sz="4300" spc="-1" strike="noStrike">
                <a:solidFill>
                  <a:srgbClr val="66ff33"/>
                </a:solidFill>
                <a:latin typeface="Arial"/>
              </a:rPr>
              <a:t>Prilagođavanje u edukacijskom procesu</a:t>
            </a:r>
            <a:r>
              <a:rPr b="1" lang="en-GB" sz="43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0040" y="1638000"/>
            <a:ext cx="9221760" cy="5923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510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000" spc="-1" strike="noStrike">
                <a:solidFill>
                  <a:srgbClr val="ffffcc"/>
                </a:solidFill>
                <a:latin typeface="Garamond"/>
              </a:rPr>
              <a:t>                 </a:t>
            </a:r>
            <a:r>
              <a:rPr b="1" lang="hr-HR" sz="3000" spc="-1" strike="noStrike">
                <a:solidFill>
                  <a:srgbClr val="ffffcc"/>
                </a:solidFill>
                <a:latin typeface="Garamond"/>
              </a:rPr>
              <a:t>odnosi se na:</a:t>
            </a: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spcBef>
                <a:spcPts val="975"/>
              </a:spcBef>
              <a:buClr>
                <a:srgbClr val="00ff99"/>
              </a:buClr>
              <a:buFont typeface="Garamond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hr-HR" sz="3600" spc="-1" strike="noStrike">
                <a:solidFill>
                  <a:srgbClr val="ffffcc"/>
                </a:solidFill>
                <a:latin typeface="Garamond"/>
              </a:rPr>
              <a:t>odabir prikladnih </a:t>
            </a: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odrednica</a:t>
            </a:r>
            <a:r>
              <a:rPr b="0" lang="hr-HR" sz="3900" spc="-1" strike="noStrike">
                <a:solidFill>
                  <a:srgbClr val="ffffcc"/>
                </a:solidFill>
                <a:latin typeface="Garamond"/>
              </a:rPr>
              <a:t> prilagođavanja,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spcBef>
                <a:spcPts val="975"/>
              </a:spcBef>
              <a:buClr>
                <a:srgbClr val="00ff99"/>
              </a:buClr>
              <a:buFont typeface="Garamond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9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0" lang="hr-HR" sz="3900" spc="-1" strike="noStrike">
                <a:solidFill>
                  <a:srgbClr val="ffffcc"/>
                </a:solidFill>
                <a:latin typeface="Garamond"/>
              </a:rPr>
              <a:t>planiranje i primjenjivanje prikladnih </a:t>
            </a: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postupaka</a:t>
            </a:r>
            <a:r>
              <a:rPr b="0" lang="hr-HR" sz="3900" spc="-1" strike="noStrike">
                <a:solidFill>
                  <a:srgbClr val="ffffcc"/>
                </a:solidFill>
                <a:latin typeface="Garamond"/>
              </a:rPr>
              <a:t> prilagođavanja,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spcBef>
                <a:spcPts val="975"/>
              </a:spcBef>
              <a:buClr>
                <a:srgbClr val="00ff99"/>
              </a:buClr>
              <a:buFont typeface="Garamond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9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hr-HR" sz="3900" spc="-1" strike="noStrike">
                <a:solidFill>
                  <a:srgbClr val="ffffcc"/>
                </a:solidFill>
                <a:latin typeface="Garamond"/>
              </a:rPr>
              <a:t>adekvatan </a:t>
            </a: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odabir poticaja i sredstava rada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721800" cy="134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br>
              <a:rPr sz="4800"/>
            </a:br>
            <a:r>
              <a:rPr b="1" lang="hr-HR" sz="3900" spc="-1" strike="noStrike" u="sng">
                <a:solidFill>
                  <a:srgbClr val="ffffcc"/>
                </a:solidFill>
                <a:uFillTx/>
                <a:latin typeface="Arial"/>
              </a:rPr>
              <a:t>Odrednice prilagođavanja nastavnog programa</a:t>
            </a: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001880"/>
            <a:ext cx="9721800" cy="6906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9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539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odnose se n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539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posebno određenje </a:t>
            </a:r>
            <a:r>
              <a:rPr b="1" lang="hr-HR" sz="2400" spc="-1" strike="noStrike" u="sng">
                <a:solidFill>
                  <a:srgbClr val="ffff00"/>
                </a:solidFill>
                <a:uFillTx/>
                <a:latin typeface="Arial"/>
              </a:rPr>
              <a:t>nastavnih</a:t>
            </a: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1" lang="hr-HR" sz="2400" spc="-1" strike="noStrike" u="sng">
                <a:solidFill>
                  <a:srgbClr val="ffff00"/>
                </a:solidFill>
                <a:uFillTx/>
                <a:latin typeface="Arial"/>
              </a:rPr>
              <a:t>sadržaja</a:t>
            </a: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hr-HR" sz="2400" spc="-1" strike="noStrike">
                <a:solidFill>
                  <a:srgbClr val="ffffcc"/>
                </a:solidFill>
                <a:latin typeface="Arial"/>
              </a:rPr>
              <a:t> kvantitativno smanjenje i kvalitativno prilagođavanje - primjeren izbor sadržaja, njihovo usustavljivanje i prožimanj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539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posebno određenje </a:t>
            </a:r>
            <a:r>
              <a:rPr b="1" lang="hr-HR" sz="2400" spc="-1" strike="noStrike" u="sng">
                <a:solidFill>
                  <a:srgbClr val="ffff00"/>
                </a:solidFill>
                <a:uFillTx/>
                <a:latin typeface="Arial"/>
              </a:rPr>
              <a:t>vremenskih dimenzij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za određene nastavne sadržaje (kratkoročni i dugoročni ciljev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539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posebno određenje </a:t>
            </a:r>
            <a:r>
              <a:rPr b="1" lang="hr-HR" sz="2400" spc="-1" strike="noStrike" u="sng">
                <a:solidFill>
                  <a:srgbClr val="ffff00"/>
                </a:solidFill>
                <a:uFillTx/>
                <a:latin typeface="Arial"/>
              </a:rPr>
              <a:t>razine usvajanj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određenih nastavnih sadrža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539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posebno određenje nastavnih </a:t>
            </a:r>
            <a:r>
              <a:rPr b="1" lang="hr-HR" sz="2400" spc="-1" strike="noStrike" u="sng">
                <a:solidFill>
                  <a:srgbClr val="ffff00"/>
                </a:solidFill>
                <a:uFillTx/>
                <a:latin typeface="Arial"/>
              </a:rPr>
              <a:t>metoda, oblika i sredstav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r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539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539"/>
              </a:spcBef>
              <a:buClr>
                <a:srgbClr val="ffff00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didaktičko –metodičke forme rad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: postupci, poticaji, sredstva r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39400"/>
            <a:ext cx="9059760" cy="1622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1" lang="hr-HR" sz="4000" spc="-1" strike="noStrike" u="sng">
                <a:solidFill>
                  <a:srgbClr val="ffffcc"/>
                </a:solidFill>
                <a:uFillTx/>
                <a:latin typeface="Arial"/>
              </a:rPr>
              <a:t>Postupci prilagođavanj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4520" y="2100240"/>
            <a:ext cx="9377280" cy="546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65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A) perceptivno prilagođavanj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prilagođavanje sredstava za predočavanje</a:t>
            </a:r>
            <a:r>
              <a:rPr b="0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(slike, crteži, karte, sheme) 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pojednostavljivanjem, izdvajanjem bitnog, izostavljanjem suvišnih detalj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prilagođavanje tiska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uvećanje ili podebljanje tiska, povećanje razmaka među slovima, riječima, rečenicama ili redovim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prilagođavanje prostora za čitanje/pisanje</a:t>
            </a:r>
            <a:r>
              <a:rPr b="0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uvećanje, ograničavanje  prostora za  čitanje / pisanj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razni oblici isticanja u tekstu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podcrtavanje, markiranje, uokvirivanje, mijenjanje boje tiska, papira i s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00040" y="0"/>
            <a:ext cx="9221760" cy="7275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3200" spc="-1" strike="noStrike">
                <a:solidFill>
                  <a:srgbClr val="ff9900"/>
                </a:solidFill>
                <a:latin typeface="Garamond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3200" spc="-1" strike="noStrike">
                <a:solidFill>
                  <a:srgbClr val="ff9900"/>
                </a:solidFill>
                <a:latin typeface="Garamond"/>
              </a:rPr>
              <a:t>                   </a:t>
            </a:r>
            <a:r>
              <a:rPr b="1" lang="hr-HR" sz="3200" spc="-1" strike="noStrike">
                <a:solidFill>
                  <a:srgbClr val="ff9900"/>
                </a:solidFill>
                <a:latin typeface="Garamond"/>
              </a:rPr>
              <a:t>B) 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spoznajno prilagođav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uvođenje u postupak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ffffcc"/>
                </a:solidFill>
                <a:latin typeface="Arial"/>
              </a:rPr>
              <a:t>– stupnjevito pružanje pomoći u rješavanju zadat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planiranje tekst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ffffcc"/>
                </a:solidFill>
                <a:latin typeface="Arial"/>
              </a:rPr>
              <a:t>– osvješčivanje slijeda putem različitih dispozicija (slike, pitanja, riječi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sažimanje tekst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ffffcc"/>
                </a:solidFill>
                <a:latin typeface="Arial"/>
              </a:rPr>
              <a:t>– izdvajanje bitnih odrednica, smanjivanje broja činjen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semantičko pojednostavljivanje sadržaja učenj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ffffcc"/>
                </a:solidFill>
                <a:latin typeface="Arial"/>
              </a:rPr>
              <a:t>– prerada sadržaja sukladno spoznajnim sposobnostima učen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primjena shematskih prikaz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i="1" lang="hr-HR" sz="2400" spc="-1" strike="noStrike">
                <a:solidFill>
                  <a:srgbClr val="ffffcc"/>
                </a:solidFill>
                <a:latin typeface="Arial"/>
              </a:rPr>
              <a:t>analitičko/sintetičko predočavanje sadržaja na pregledan nač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stupnjevito perceptivno  potkrepljenje istog sadržaj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i="1" lang="hr-HR" sz="2400" spc="-1" strike="noStrike">
                <a:solidFill>
                  <a:srgbClr val="ffffcc"/>
                </a:solidFill>
                <a:latin typeface="Arial"/>
              </a:rPr>
              <a:t>postupno uvođenje u apstraktan način mišljen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6760" y="0"/>
            <a:ext cx="9455040" cy="756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              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C)</a:t>
            </a:r>
            <a:r>
              <a:rPr b="1" lang="hr-HR" sz="35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govorno prilagođavanj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0" lang="hr-HR" sz="3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prilagođavanje izražajnosti</a:t>
            </a:r>
            <a:r>
              <a:rPr b="0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boja, visina, jačina glasa, primjerena mimika i gest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1" lang="hr-HR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prilagođavanje razgovijetnosti</a:t>
            </a:r>
            <a:r>
              <a:rPr b="0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govorenje u neposrednoj blizini učenika, licem u lice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prilagođavanje razumljivosti</a:t>
            </a:r>
            <a:r>
              <a:rPr b="0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uporaba jasnih, razgovijetnih, jednostavnih i kraćih rečenica s poznatim (ili objašnjenim novim) riječima, ponavljanje izrečenog, provjera razumijevanja slušanog putem pokazivanja i sl., postavljanje jednog po jednog pitanja, dodatno pojašnjavanje izrečeno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hr-HR" sz="2600" spc="-1" strike="noStrike" u="sng">
                <a:solidFill>
                  <a:srgbClr val="ffffcc"/>
                </a:solidFill>
                <a:uFillTx/>
                <a:latin typeface="Arial"/>
              </a:rPr>
              <a:t>govorno usmjeravanje pažnje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i="1" lang="hr-HR" sz="2600" spc="-1" strike="noStrike">
                <a:solidFill>
                  <a:srgbClr val="ffffcc"/>
                </a:solidFill>
                <a:latin typeface="Arial"/>
              </a:rPr>
              <a:t>izričajima kao što su npr. "molim vas pazite", "molim poslušajte", "ovo je važno"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531360" cy="782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lvl="1" marL="801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1" lang="hr-HR" sz="3500" spc="-1" strike="noStrike">
                <a:solidFill>
                  <a:srgbClr val="ff9900"/>
                </a:solidFill>
                <a:latin typeface="Arial"/>
              </a:rPr>
              <a:t>D) prilagođavanje zahtijev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u odnosu na samostalnost</a:t>
            </a:r>
            <a:r>
              <a:rPr b="0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500" spc="-1" strike="noStrike">
                <a:solidFill>
                  <a:srgbClr val="ffffcc"/>
                </a:solidFill>
                <a:latin typeface="Arial"/>
              </a:rPr>
              <a:t>stupnjevito pružanje pomoći i nadzora pri rješavanju različitih zadataka, izvođenju pokusa ili postupaka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r>
              <a:rPr b="1" lang="hr-HR" sz="25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u odnosu na vrijeme rada</a:t>
            </a:r>
            <a:r>
              <a:rPr b="0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500" spc="-1" strike="noStrike">
                <a:solidFill>
                  <a:srgbClr val="ffffcc"/>
                </a:solidFill>
                <a:latin typeface="Arial"/>
              </a:rPr>
              <a:t>predviđanje duljeg vremena za rješavanje zadataka, osobito u pismenim provjerama znanja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u odnosu na način rada</a:t>
            </a:r>
            <a:r>
              <a:rPr b="0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500" spc="-1" strike="noStrike">
                <a:solidFill>
                  <a:srgbClr val="ffffcc"/>
                </a:solidFill>
                <a:latin typeface="Arial"/>
              </a:rPr>
              <a:t>pojedinačno davanje zadataka, korištenje tipova zadataka različite "težine" (npr. dvočlanog izbora, mnogočlanog izbora, uspoređivanja i sređivanja, nadopunjavanja, dosjećanja, češće vježbanje i ponavljanje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u odnosu na provjeravanje</a:t>
            </a:r>
            <a:r>
              <a:rPr b="0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i="1" lang="hr-HR" sz="2500" spc="-1" strike="noStrike">
                <a:solidFill>
                  <a:srgbClr val="ffffcc"/>
                </a:solidFill>
                <a:latin typeface="Arial"/>
              </a:rPr>
              <a:t>samo usmeno provjeravanje,  davanje mogućnosti da učeniku netko drugi čita (disleksija), češće provjere znanja u kraćim vremenskim jedinicama i s manjim brojem zadataka ili pitanja u ispitivanju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125880"/>
                <a:tab algn="l" pos="4113360"/>
                <a:tab algn="l" pos="5100480"/>
                <a:tab algn="l" pos="6087960"/>
                <a:tab algn="l" pos="7075440"/>
                <a:tab algn="l" pos="8062920"/>
                <a:tab algn="l" pos="9050400"/>
                <a:tab algn="l" pos="10037880"/>
                <a:tab algn="l" pos="11025360"/>
              </a:tabLst>
            </a:pP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u odnosu na aktivnost</a:t>
            </a:r>
            <a:r>
              <a:rPr b="0" lang="hr-HR" sz="25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25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i="1" lang="hr-HR" sz="2500" spc="-1" strike="noStrike">
                <a:solidFill>
                  <a:srgbClr val="ffffcc"/>
                </a:solidFill>
                <a:latin typeface="Arial"/>
              </a:rPr>
              <a:t>zajedničko planiranje rada s učenikom, češće promjene aktivnosti, fizičko približavanje učenika izvoru spoznavanja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1200" y="0"/>
            <a:ext cx="8221680" cy="1160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1" lang="hr-HR" sz="4300" spc="-1" strike="noStrike" u="sng">
                <a:solidFill>
                  <a:srgbClr val="ffffcc"/>
                </a:solidFill>
                <a:uFillTx/>
                <a:latin typeface="Arial"/>
              </a:rPr>
              <a:t>Odabir poticaja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89160"/>
            <a:ext cx="9455040" cy="7572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lvl="1" marL="801720" indent="0">
              <a:lnSpc>
                <a:spcPct val="80000"/>
              </a:lnSpc>
              <a:spcBef>
                <a:spcPts val="488"/>
              </a:spcBef>
              <a:buNone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488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odabrati optimalne oblike rad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(rad u skupinama, parovima, individualan rad s unaprijed određenim zadatkom,samostalna aktivnost učenik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488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odabir primjerenih metoda rad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– razgovora, izlaganja, demonstracije, praktičnog rada, čitanja i pisan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488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primjena emocionalno-socijalnih poticaja/motivacijski plan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( osmjehivanje, dodirivanje, kimanje glavom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488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otvoren stav učitelja-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ohrabrivanje, pohvaljivanje, isticanje , vidljivi oblici pozitivnog vrednovan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488"/>
              </a:spcBef>
              <a:buClr>
                <a:srgbClr val="ffffcc"/>
              </a:buClr>
              <a:buFont typeface="Arial"/>
              <a:buChar char="–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poticanje suradnje među učenicima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različitim oblicima zajedničkih aktivnosti– učenje, igra, sport, suradnja ( </a:t>
            </a:r>
            <a:r>
              <a:rPr b="0" lang="hr-HR" sz="1900" spc="-1" strike="noStrike">
                <a:solidFill>
                  <a:srgbClr val="ffffcc"/>
                </a:solidFill>
                <a:latin typeface="Arial"/>
              </a:rPr>
              <a:t>razvoj pozitivne emocionalno-socijalne klime u razredu )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44520" y="-268200"/>
            <a:ext cx="9140400" cy="2225160"/>
            <a:chOff x="344520" y="-268200"/>
            <a:chExt cx="9140400" cy="2225160"/>
          </a:xfrm>
        </p:grpSpPr>
        <p:sp>
          <p:nvSpPr>
            <p:cNvPr id="121" name=""/>
            <p:cNvSpPr/>
            <p:nvPr/>
          </p:nvSpPr>
          <p:spPr>
            <a:xfrm>
              <a:off x="344520" y="-268200"/>
              <a:ext cx="9140400" cy="222516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520" y="288360"/>
              <a:ext cx="9140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3440"/>
                  <a:tab algn="l" pos="7900920"/>
                  <a:tab algn="l" pos="8888400"/>
                  <a:tab algn="l" pos="9875880"/>
                  <a:tab algn="l" pos="10863360"/>
                </a:tabLst>
              </a:pPr>
              <a:r>
                <a:rPr b="1" i="1" lang="hr-HR" sz="3500" spc="-1" strike="noStrike">
                  <a:solidFill>
                    <a:srgbClr val="ff9900"/>
                  </a:solidFill>
                  <a:latin typeface="Arial"/>
                </a:rPr>
                <a:t>Školovanje učenika s posebnim potrebama u redovnom školskom sustavu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1557360"/>
            <a:ext cx="9721440" cy="6004440"/>
            <a:chOff x="0" y="1557360"/>
            <a:chExt cx="9721440" cy="6004440"/>
          </a:xfrm>
        </p:grpSpPr>
        <p:grpSp>
          <p:nvGrpSpPr>
            <p:cNvPr id="124" name=""/>
            <p:cNvGrpSpPr/>
            <p:nvPr/>
          </p:nvGrpSpPr>
          <p:grpSpPr>
            <a:xfrm>
              <a:off x="8412840" y="2710440"/>
              <a:ext cx="1306080" cy="4848840"/>
              <a:chOff x="8412840" y="2710440"/>
              <a:chExt cx="1306080" cy="4848840"/>
            </a:xfrm>
          </p:grpSpPr>
          <p:sp>
            <p:nvSpPr>
              <p:cNvPr id="125" name=""/>
              <p:cNvSpPr/>
              <p:nvPr/>
            </p:nvSpPr>
            <p:spPr>
              <a:xfrm>
                <a:off x="8412840" y="2710440"/>
                <a:ext cx="1306080" cy="4848840"/>
              </a:xfrm>
              <a:custGeom>
                <a:avLst/>
                <a:gdLst>
                  <a:gd name="textAreaLeft" fmla="*/ 360 w 1306080"/>
                  <a:gd name="textAreaRight" fmla="*/ 1305720 w 1306080"/>
                  <a:gd name="textAreaTop" fmla="*/ 360 h 4848840"/>
                  <a:gd name="textAreaBottom" fmla="*/ 4848480 h 4848840"/>
                </a:gdLst>
                <a:ahLst/>
                <a:rect l="textAreaLeft" t="textAreaTop" r="textAreaRight" b="textAreaBottom"/>
                <a:pathLst>
                  <a:path w="21600" h="80174">
                    <a:moveTo>
                      <a:pt x="29" y="0"/>
                    </a:moveTo>
                    <a:arcTo wR="29" hR="29" stAng="16200000" swAng="-5400000"/>
                    <a:lnTo>
                      <a:pt x="0" y="80145"/>
                    </a:lnTo>
                    <a:arcTo wR="29" hR="29" stAng="10800000" swAng="-5400000"/>
                    <a:lnTo>
                      <a:pt x="21571" y="80174"/>
                    </a:lnTo>
                    <a:arcTo wR="29" hR="29" stAng="5400000" swAng="-5400000"/>
                    <a:lnTo>
                      <a:pt x="21600" y="29"/>
                    </a:lnTo>
                    <a:arcTo wR="29" hR="29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412840" y="2710440"/>
                <a:ext cx="1306080" cy="20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74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700" spc="-1" strike="noStrike">
                    <a:solidFill>
                      <a:srgbClr val="ffffcc"/>
                    </a:solidFill>
                    <a:latin typeface="Times New Roman"/>
                  </a:rPr>
                  <a:t>školovanje u željenoj školi u ovisnosti o postignutim rezultatima</a:t>
                </a:r>
                <a:r>
                  <a:rPr b="0" lang="hr-HR" sz="17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hr-HR" sz="1700" spc="-1" strike="noStrike">
                    <a:solidFill>
                      <a:srgbClr val="ffffcc"/>
                    </a:solidFill>
                    <a:latin typeface="Times New Roman"/>
                  </a:rPr>
                  <a:t>tijekom</a:t>
                </a:r>
                <a:r>
                  <a:rPr b="0" lang="hr-HR" sz="1500" spc="-1" strike="noStrike">
                    <a:solidFill>
                      <a:srgbClr val="ffffcc"/>
                    </a:solidFill>
                    <a:latin typeface="Times New Roman"/>
                  </a:rPr>
                  <a:t> školovanja</a:t>
                </a:r>
                <a:r>
                  <a:rPr b="0" lang="hr-HR" sz="15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832720" y="2710440"/>
              <a:ext cx="2579400" cy="4848840"/>
              <a:chOff x="5832720" y="2710440"/>
              <a:chExt cx="2579400" cy="4848840"/>
            </a:xfrm>
          </p:grpSpPr>
          <p:sp>
            <p:nvSpPr>
              <p:cNvPr id="128" name=""/>
              <p:cNvSpPr/>
              <p:nvPr/>
            </p:nvSpPr>
            <p:spPr>
              <a:xfrm>
                <a:off x="5832720" y="2710440"/>
                <a:ext cx="2579400" cy="4848840"/>
              </a:xfrm>
              <a:custGeom>
                <a:avLst/>
                <a:gdLst>
                  <a:gd name="textAreaLeft" fmla="*/ 360 w 2579400"/>
                  <a:gd name="textAreaRight" fmla="*/ 2579040 w 2579400"/>
                  <a:gd name="textAreaTop" fmla="*/ 360 h 4848840"/>
                  <a:gd name="textAreaBottom" fmla="*/ 4848480 h 4848840"/>
                </a:gdLst>
                <a:ahLst/>
                <a:rect l="textAreaLeft" t="textAreaTop" r="textAreaRight" b="textAreaBottom"/>
                <a:pathLst>
                  <a:path w="21600" h="40602">
                    <a:moveTo>
                      <a:pt x="14" y="0"/>
                    </a:moveTo>
                    <a:arcTo wR="14" hR="14" stAng="16200000" swAng="-5400000"/>
                    <a:lnTo>
                      <a:pt x="0" y="40588"/>
                    </a:lnTo>
                    <a:arcTo wR="14" hR="14" stAng="10800000" swAng="-5400000"/>
                    <a:lnTo>
                      <a:pt x="21586" y="40602"/>
                    </a:lnTo>
                    <a:arcTo wR="14" hR="14" stAng="5400000" swAng="-5400000"/>
                    <a:lnTo>
                      <a:pt x="21600" y="14"/>
                    </a:lnTo>
                    <a:arcTo wR="14" hR="1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32720" y="2710440"/>
                <a:ext cx="2579400" cy="46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1" lang="en-US" sz="1500" spc="-1" strike="noStrike">
                    <a:solidFill>
                      <a:srgbClr val="ffffcc"/>
                    </a:solidFill>
                    <a:latin typeface="Times New Roman"/>
                  </a:rPr>
                  <a:t>medicinska dokumentacija</a:t>
                </a:r>
                <a:r>
                  <a:rPr b="0" lang="en-US" sz="1500" spc="-1" strike="noStrike">
                    <a:solidFill>
                      <a:srgbClr val="ffffcc"/>
                    </a:solidFill>
                    <a:latin typeface="Times New Roman"/>
                  </a:rPr>
                  <a:t>: nalazi liječnika odgovarajućih specijalnosti, mišljenje o psihofizičkom stanju djeteta u svezi pohađanja škole koje izdaje liječnik specijalist školske medicine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3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1" lang="en-US" sz="1500" spc="-1" strike="noStrike">
                    <a:solidFill>
                      <a:srgbClr val="ffffcc"/>
                    </a:solidFill>
                    <a:latin typeface="Times New Roman"/>
                  </a:rPr>
                  <a:t>pedagoška dokumentacija</a:t>
                </a:r>
                <a:r>
                  <a:rPr b="0" lang="en-US" sz="1500" spc="-1" strike="noStrike">
                    <a:solidFill>
                      <a:srgbClr val="ffffcc"/>
                    </a:solidFill>
                    <a:latin typeface="Times New Roman"/>
                  </a:rPr>
                  <a:t>:</a:t>
                </a:r>
                <a:r>
                  <a:rPr b="0" lang="en-US" sz="1300" spc="-1" strike="noStrike">
                    <a:solidFill>
                      <a:srgbClr val="ffffcc"/>
                    </a:solidFill>
                    <a:latin typeface="Times New Roman"/>
                  </a:rPr>
                  <a:t> stručno mišljenje razrednog ili predmetnog učitelja, opis suradnje s roditeljima, radne, kulturne i higijenske navike učenika, pohađanje nastave, učenikova uspješnost tijekom školovanja, ponašanje i odnos prema vršnjacima, reakcije na pohvalu, kaznu. specifične teškoće učenika, razina usvojenosti nastavnih sadržaja po nastavnim predmetima, mišljenje stručnih suradnika škole, nalaz i mišljenje psihologa i defektologa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3185280" y="2710440"/>
              <a:ext cx="2647080" cy="4848840"/>
              <a:chOff x="3185280" y="2710440"/>
              <a:chExt cx="2647080" cy="4848840"/>
            </a:xfrm>
          </p:grpSpPr>
          <p:sp>
            <p:nvSpPr>
              <p:cNvPr id="131" name=""/>
              <p:cNvSpPr/>
              <p:nvPr/>
            </p:nvSpPr>
            <p:spPr>
              <a:xfrm>
                <a:off x="3185280" y="2710440"/>
                <a:ext cx="2647080" cy="4848840"/>
              </a:xfrm>
              <a:custGeom>
                <a:avLst/>
                <a:gdLst>
                  <a:gd name="textAreaLeft" fmla="*/ 360 w 2647080"/>
                  <a:gd name="textAreaRight" fmla="*/ 2646720 w 2647080"/>
                  <a:gd name="textAreaTop" fmla="*/ 360 h 4848840"/>
                  <a:gd name="textAreaBottom" fmla="*/ 4848480 h 4848840"/>
                </a:gdLst>
                <a:ahLst/>
                <a:rect l="textAreaLeft" t="textAreaTop" r="textAreaRight" b="textAreaBottom"/>
                <a:pathLst>
                  <a:path w="21600" h="39564">
                    <a:moveTo>
                      <a:pt x="14" y="0"/>
                    </a:moveTo>
                    <a:arcTo wR="14" hR="14" stAng="16200000" swAng="-5400000"/>
                    <a:lnTo>
                      <a:pt x="0" y="39550"/>
                    </a:lnTo>
                    <a:arcTo wR="14" hR="14" stAng="10800000" swAng="-5400000"/>
                    <a:lnTo>
                      <a:pt x="21586" y="39564"/>
                    </a:lnTo>
                    <a:arcTo wR="14" hR="14" stAng="5400000" swAng="-5400000"/>
                    <a:lnTo>
                      <a:pt x="21600" y="14"/>
                    </a:lnTo>
                    <a:arcTo wR="14" hR="14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85280" y="2710440"/>
                <a:ext cx="2647080" cy="40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437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učenici s oštećenjem vida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37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učenici s oštećenjem sluha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37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učenici s tjelesnim invaliditetom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37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učenici s poremećajima glasovno govorne komunikacije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37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učenici sa specifičnim teškoćama u učenju (disleksija, disgrafija, diskalkulija)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469520" y="2710440"/>
              <a:ext cx="1715760" cy="4849200"/>
            </a:xfrm>
            <a:custGeom>
              <a:avLst/>
              <a:gdLst>
                <a:gd name="textAreaLeft" fmla="*/ 360 w 1715760"/>
                <a:gd name="textAreaRight" fmla="*/ 1715400 w 1715760"/>
                <a:gd name="textAreaTop" fmla="*/ 360 h 4849200"/>
                <a:gd name="textAreaBottom" fmla="*/ 4848840 h 4849200"/>
              </a:gdLst>
              <a:ahLst/>
              <a:rect l="textAreaLeft" t="textAreaTop" r="textAreaRight" b="textAreaBottom"/>
              <a:pathLst>
                <a:path w="21600" h="61039">
                  <a:moveTo>
                    <a:pt x="22" y="0"/>
                  </a:moveTo>
                  <a:arcTo wR="22" hR="22" stAng="16200000" swAng="-5400000"/>
                  <a:lnTo>
                    <a:pt x="0" y="61017"/>
                  </a:lnTo>
                  <a:arcTo wR="22" hR="22" stAng="10800000" swAng="-5400000"/>
                  <a:lnTo>
                    <a:pt x="21578" y="61039"/>
                  </a:lnTo>
                  <a:arcTo wR="22" hR="22" stAng="5400000" swAng="-5400000"/>
                  <a:lnTo>
                    <a:pt x="21600" y="22"/>
                  </a:lnTo>
                  <a:arcTo wR="22" hR="2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710440"/>
              <a:ext cx="1469520" cy="4849200"/>
            </a:xfrm>
            <a:custGeom>
              <a:avLst/>
              <a:gdLst>
                <a:gd name="textAreaLeft" fmla="*/ 360 w 1469520"/>
                <a:gd name="textAreaRight" fmla="*/ 1469160 w 1469520"/>
                <a:gd name="textAreaTop" fmla="*/ 360 h 4849200"/>
                <a:gd name="textAreaBottom" fmla="*/ 4848840 h 4849200"/>
              </a:gdLst>
              <a:ahLst/>
              <a:rect l="textAreaLeft" t="textAreaTop" r="textAreaRight" b="textAreaBottom"/>
              <a:pathLst>
                <a:path w="21600" h="71265">
                  <a:moveTo>
                    <a:pt x="26" y="0"/>
                  </a:moveTo>
                  <a:arcTo wR="26" hR="26" stAng="16200000" swAng="-5400000"/>
                  <a:lnTo>
                    <a:pt x="0" y="71239"/>
                  </a:lnTo>
                  <a:arcTo wR="26" hR="26" stAng="10800000" swAng="-5400000"/>
                  <a:lnTo>
                    <a:pt x="21574" y="71265"/>
                  </a:lnTo>
                  <a:arcTo wR="26" hR="26" stAng="5400000" swAng="-5400000"/>
                  <a:lnTo>
                    <a:pt x="21600" y="26"/>
                  </a:lnTo>
                  <a:arcTo wR="26" hR="2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8412840" y="1557360"/>
              <a:ext cx="1306080" cy="1152720"/>
              <a:chOff x="8412840" y="1557360"/>
              <a:chExt cx="1306080" cy="1152720"/>
            </a:xfrm>
          </p:grpSpPr>
          <p:sp>
            <p:nvSpPr>
              <p:cNvPr id="136" name=""/>
              <p:cNvSpPr/>
              <p:nvPr/>
            </p:nvSpPr>
            <p:spPr>
              <a:xfrm>
                <a:off x="8412840" y="1557360"/>
                <a:ext cx="1306080" cy="115272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412840" y="1557360"/>
                <a:ext cx="1306080" cy="59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37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700" spc="-1" strike="noStrike">
                    <a:solidFill>
                      <a:srgbClr val="ffffcc"/>
                    </a:solidFill>
                    <a:latin typeface="Times New Roman"/>
                  </a:rPr>
                  <a:t>Perspektive školovanja</a:t>
                </a:r>
                <a:r>
                  <a:rPr b="0" lang="en-GB" sz="17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832720" y="1557360"/>
              <a:ext cx="2579400" cy="1152720"/>
              <a:chOff x="5832720" y="1557360"/>
              <a:chExt cx="2579400" cy="1152720"/>
            </a:xfrm>
          </p:grpSpPr>
          <p:sp>
            <p:nvSpPr>
              <p:cNvPr id="139" name=""/>
              <p:cNvSpPr/>
              <p:nvPr/>
            </p:nvSpPr>
            <p:spPr>
              <a:xfrm>
                <a:off x="5832720" y="1557360"/>
                <a:ext cx="2579400" cy="115272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32720" y="1557360"/>
                <a:ext cx="2579400" cy="6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Medicinska i pedagoška dokumentacija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185280" y="1557360"/>
              <a:ext cx="2647080" cy="1152720"/>
              <a:chOff x="3185280" y="1557360"/>
              <a:chExt cx="2647080" cy="1152720"/>
            </a:xfrm>
          </p:grpSpPr>
          <p:sp>
            <p:nvSpPr>
              <p:cNvPr id="142" name=""/>
              <p:cNvSpPr/>
              <p:nvPr/>
            </p:nvSpPr>
            <p:spPr>
              <a:xfrm>
                <a:off x="3185280" y="1557360"/>
                <a:ext cx="2647080" cy="115272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85280" y="1557360"/>
                <a:ext cx="264708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751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Vrsta teškoća</a:t>
                </a:r>
                <a:r>
                  <a:rPr b="0" lang="en-GB" sz="30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469520" y="1557360"/>
              <a:ext cx="1715400" cy="1152720"/>
              <a:chOff x="1469520" y="1557360"/>
              <a:chExt cx="1715400" cy="11527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69520" y="1557360"/>
                <a:ext cx="1715400" cy="115272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69520" y="1557360"/>
                <a:ext cx="171540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en-US" sz="1700" spc="-1" strike="noStrike">
                    <a:solidFill>
                      <a:srgbClr val="ffffcc"/>
                    </a:solidFill>
                    <a:latin typeface="Times New Roman"/>
                  </a:rPr>
                  <a:t>Oblik odgojno obrazvone integracije</a:t>
                </a:r>
                <a:r>
                  <a:rPr b="0" lang="en-US" sz="13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1557360"/>
              <a:ext cx="1469160" cy="1152720"/>
              <a:chOff x="0" y="1557360"/>
              <a:chExt cx="1469160" cy="115272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1557360"/>
                <a:ext cx="1469160" cy="115272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557360"/>
                <a:ext cx="1469160" cy="6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374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en-GB" sz="1900" spc="-1" strike="noStrike">
                    <a:solidFill>
                      <a:srgbClr val="ffffcc"/>
                    </a:solidFill>
                    <a:latin typeface="Times New Roman"/>
                  </a:rPr>
                  <a:t>Modeli </a:t>
                </a:r>
                <a:r>
                  <a:rPr b="0" lang="hr-HR" sz="1900" spc="-1" strike="noStrike">
                    <a:solidFill>
                      <a:srgbClr val="ffffcc"/>
                    </a:solidFill>
                    <a:latin typeface="Times New Roman"/>
                  </a:rPr>
                  <a:t>školovanja</a:t>
                </a:r>
                <a:r>
                  <a:rPr b="0" lang="en-GB" sz="15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1557360"/>
              <a:ext cx="9719640" cy="21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710440"/>
              <a:ext cx="9719640" cy="18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7559640"/>
              <a:ext cx="9719640" cy="21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1557360"/>
              <a:ext cx="1800" cy="60022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9520" y="1557360"/>
              <a:ext cx="1800" cy="6002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85280" y="1557360"/>
              <a:ext cx="1800" cy="6002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32720" y="1557360"/>
              <a:ext cx="1440" cy="6002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12840" y="1557360"/>
              <a:ext cx="1440" cy="6002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719640" y="1557360"/>
              <a:ext cx="1800" cy="60022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16200000">
            <a:off x="-448560" y="4482360"/>
            <a:ext cx="29368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0400" bIns="50400" anchor="t">
            <a:spAutoFit/>
          </a:bodyPr>
          <a:p>
            <a:pPr algn="ctr">
              <a:lnSpc>
                <a:spcPct val="95000"/>
              </a:lnSpc>
              <a:spcBef>
                <a:spcPts val="107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2200" spc="-1" strike="noStrike">
                <a:solidFill>
                  <a:srgbClr val="ffffcc"/>
                </a:solidFill>
                <a:latin typeface="Times New Roman"/>
              </a:rPr>
              <a:t>PRILAGOĐENI PROGRAM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1085400" y="4631040"/>
            <a:ext cx="2935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0400" bIns="50400" anchor="t">
            <a:spAutoFit/>
          </a:bodyPr>
          <a:p>
            <a:pPr algn="ctr">
              <a:lnSpc>
                <a:spcPct val="95000"/>
              </a:lnSpc>
              <a:spcBef>
                <a:spcPts val="107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TPU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br>
              <a:rPr sz="4000"/>
            </a:br>
            <a:r>
              <a:rPr b="1" lang="hr-HR" sz="4000" spc="-1" strike="noStrike" u="sng">
                <a:solidFill>
                  <a:srgbClr val="ffffcc"/>
                </a:solidFill>
                <a:uFillTx/>
                <a:latin typeface="Arial"/>
              </a:rPr>
              <a:t>Odabir izvora spoznavanja, sredstava rada i didaktičkog materijal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2668320"/>
            <a:ext cx="8750520" cy="4606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5000"/>
          </a:bodyPr>
          <a:p>
            <a:pPr marL="351000" indent="-351000">
              <a:lnSpc>
                <a:spcPct val="100000"/>
              </a:lnSpc>
              <a:spcBef>
                <a:spcPts val="488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predstavlja materijalnu osnovu nastave  tj. izvore za stjecanja znanja i razvijanje sposobnosti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100000"/>
              </a:lnSpc>
              <a:spcBef>
                <a:spcPts val="488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500" spc="-1" strike="noStrike">
                <a:solidFill>
                  <a:srgbClr val="ffffcc"/>
                </a:solidFill>
                <a:latin typeface="Arial"/>
              </a:rPr>
              <a:t>prvenstveno koristiti  neposredna iskustva učenika,</a:t>
            </a: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 a potom primijeniti opće i specifične  nastavne didaktičke materijale, sredstva i pomagala (AV, V, A sredstva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14480" y="209520"/>
          <a:ext cx="9570960" cy="7351920"/>
        </p:xfrm>
        <a:graphic>
          <a:graphicData uri="http://schemas.openxmlformats.org/drawingml/2006/table">
            <a:tbl>
              <a:tblPr/>
              <a:tblGrid>
                <a:gridCol w="2941560"/>
                <a:gridCol w="2774880"/>
                <a:gridCol w="3854520"/>
              </a:tblGrid>
              <a:tr h="625680">
                <a:tc gridSpan="3"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LAGODBA NASTAVNE TEME ZA OŽUJAK, TRAVAN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ljka cvjetnjač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Količin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Vrije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Stupanj pomoć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485720"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rije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bljik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vije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od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ff99"/>
                        </a:buClr>
                        <a:buFont typeface="Times New Roman"/>
                        <a:buChar char="-"/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dvojiti vrijeme za uvođenje novih pojmov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ff99"/>
                        </a:buClr>
                        <a:buFont typeface="Times New Roman"/>
                        <a:buChar char="-"/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sigurati dodatno vrijeme za izvršavanje zadatak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pomoć učitelj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pomoć vršnjak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pomoć roditelj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Nastavni sadržaj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Težin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Iskazivanje znanj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619000"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upotrijebiti različita vizuelna sredstva, konkretne primjere,slike, fotografije, dijafilmo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listići za dopunu ili spajanje pojmov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kartice za prepoznavanj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banka riječ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korištenje različitih boj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rad u skupin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ograničiti sadržaj na ključne pojmo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pojednostaviti upute za ra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ponuditi dva do tri odgovor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Usmeno odgovaranje umjesto pismeno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pismeno-zaokruživanje ponuđenih odgovora ili spajanje uz korištenje udžbenik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pokazivanje točnih odgovora na ploč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Stupanj sudjelovanj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Zamjenski cilj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hr-HR" sz="1900" spc="-1" strike="noStrike">
                          <a:solidFill>
                            <a:srgbClr val="ff6600"/>
                          </a:solidFill>
                          <a:latin typeface="Garamond"/>
                        </a:rPr>
                        <a:t>Zamjenski kurikulu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284480"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ktivno uključivanje u rad, stavljanje slika na pano, mjenjanje prozirnice, pomaganje pri dijaprojekciji,djeljenje listić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naslikati vode u nizinskom zavičaju i upisati ispod slike nazive umjesto pisanja pismene provje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nije potreba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8640" marR="986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440" y="604800"/>
            <a:ext cx="4826160" cy="6670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956120" y="684360"/>
            <a:ext cx="4707000" cy="65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59800" cy="92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marL="903240" indent="0" algn="ctr">
              <a:lnSpc>
                <a:spcPct val="95000"/>
              </a:lnSpc>
              <a:buNone/>
              <a:tabLst>
                <a:tab algn="l" pos="0"/>
                <a:tab algn="l" pos="903240"/>
                <a:tab algn="l" pos="1890720"/>
                <a:tab algn="l" pos="2878200"/>
                <a:tab algn="l" pos="3865680"/>
                <a:tab algn="l" pos="4853160"/>
                <a:tab algn="l" pos="5842080"/>
                <a:tab algn="l" pos="6829560"/>
                <a:tab algn="l" pos="7816680"/>
                <a:tab algn="l" pos="8804160"/>
                <a:tab algn="l" pos="9791640"/>
                <a:tab algn="l" pos="10779120"/>
                <a:tab algn="l" pos="11766600"/>
              </a:tabLst>
            </a:pPr>
            <a:r>
              <a:rPr b="0" lang="hr-HR" sz="4000" spc="-1" strike="noStrike">
                <a:solidFill>
                  <a:srgbClr val="66ff33"/>
                </a:solidFill>
                <a:latin typeface="Arial"/>
              </a:rPr>
              <a:t>3. Praćenje, ocjenjivanje i finalna procjena</a:t>
            </a:r>
            <a:r>
              <a:rPr b="1" lang="en-GB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843120"/>
            <a:ext cx="9721800" cy="6718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praćenje</a:t>
            </a:r>
            <a:r>
              <a:rPr b="1" lang="hr-HR" sz="2400" spc="-1" strike="noStrike">
                <a:solidFill>
                  <a:srgbClr val="ffffcc"/>
                </a:solidFill>
                <a:latin typeface="Arial"/>
              </a:rPr>
              <a:t> je: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pojedinačno,  grupno, sveobuhvatno, analitičko,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                          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dosljedno i dokumentirano, a odnosi se na sve korak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                          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odgojno- obrazovnog rada: obradu novog gradiva,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                          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uvježbavanje, ponavljanje i  provjeravanj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hr-HR" sz="2000" spc="-1" strike="noStrike">
                <a:solidFill>
                  <a:srgbClr val="ffffcc"/>
                </a:solidFill>
                <a:latin typeface="Arial"/>
              </a:rPr>
              <a:t>Naputak o praćenju o ocjenjivanju učenika s teškoćama u razvoju u osnovnoj i srednjoj školi,1996.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provjeravanje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naučenog se provod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35160" indent="-247680">
              <a:lnSpc>
                <a:spcPct val="80000"/>
              </a:lnSpc>
              <a:spcBef>
                <a:spcPts val="326"/>
              </a:spcBef>
              <a:buClr>
                <a:srgbClr val="b9efee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1400" spc="-1" strike="noStrike">
                <a:solidFill>
                  <a:srgbClr val="ffffcc"/>
                </a:solidFill>
                <a:latin typeface="Arial"/>
              </a:rPr>
              <a:t>usmeno ili pismen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235160" indent="-247680">
              <a:lnSpc>
                <a:spcPct val="80000"/>
              </a:lnSpc>
              <a:spcBef>
                <a:spcPts val="326"/>
              </a:spcBef>
              <a:buClr>
                <a:srgbClr val="b9efee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1400" spc="-1" strike="noStrike">
                <a:solidFill>
                  <a:srgbClr val="ffffcc"/>
                </a:solidFill>
                <a:latin typeface="Arial"/>
              </a:rPr>
              <a:t>individualno ili grupno </a:t>
            </a:r>
            <a:r>
              <a:rPr b="1" i="1" lang="hr-HR" sz="1400" spc="-1" strike="noStrike">
                <a:solidFill>
                  <a:srgbClr val="ffffcc"/>
                </a:solidFill>
                <a:latin typeface="Arial"/>
              </a:rPr>
              <a:t> uz prilagođavanje zahtijeva osobitostima učenik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235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načini i oblici provjeravanja trebaju djelovati poticajn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(učenici bi trebali stjecati funkcionalna znanja i razvijati sposobnost samoocjenjivan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ocjenjivanje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- opisno i brojčano u odnosu na razine znanja ( od 1-5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Arial"/>
              </a:rPr>
              <a:t>finalna procjena</a:t>
            </a:r>
            <a:r>
              <a:rPr b="0" lang="hr-HR" sz="2000" spc="-1" strike="noStrike">
                <a:solidFill>
                  <a:srgbClr val="ffffcc"/>
                </a:solidFill>
                <a:latin typeface="Arial"/>
              </a:rPr>
              <a:t> se treba temeljiti na kontinuiranom praćenju napredovanju učenika, a može se iskazati u obliku izvješća po pojedinim obrazovnim razdobljim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303120"/>
            <a:ext cx="972180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4300" spc="-1" strike="noStrike">
                <a:solidFill>
                  <a:srgbClr val="b9efee"/>
                </a:solidFill>
                <a:latin typeface="Garamond"/>
              </a:rPr>
              <a:t>Provjera znanja – životinjski organizam</a:t>
            </a:r>
            <a:br>
              <a:rPr sz="4300"/>
            </a:b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5280" y="1763280"/>
            <a:ext cx="8750520" cy="5797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6000"/>
          </a:bodyPr>
          <a:p>
            <a:pPr marL="354600" indent="-354600">
              <a:spcBef>
                <a:spcPts val="876"/>
              </a:spcBef>
              <a:buClr>
                <a:srgbClr val="00ff99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Djevojčice Sara i Dea  jako vole životinje .Od bake i djeda dobile su za rođendan nekoliko kućnih ljubimaca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54600" indent="0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Promatranjem zlatne ribice  uočili su da se spretno kreće kroz vodu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54600" indent="0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Iza glave ima poklopce koji se  stalno podižu i spuštaju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5460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1. Što pomaže ribama pri kretanju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5460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2. Čime ribe dišu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85280" y="446040"/>
            <a:ext cx="8750520" cy="6275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3000"/>
          </a:bodyPr>
          <a:p>
            <a:pPr marL="343800" indent="-343800">
              <a:spcBef>
                <a:spcPts val="876"/>
              </a:spcBef>
              <a:buClr>
                <a:srgbClr val="00ff99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Spustila se noć. No za malog hrčka to je bilo vrijeme za igru i hranjenje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800" indent="0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Glockao je sjemenke i vrtio se na vrtuljku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800" indent="0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80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3.</a:t>
            </a:r>
            <a:r>
              <a:rPr b="1" lang="hr-HR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Što je hrčak po načinu ishrane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80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4. Koji su zubići kod hrčka najrazvijeniji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80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5. Biljnu hranu je: 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80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                            </a:t>
            </a: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a) lako probaviti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80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                            </a:t>
            </a: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b) teško probaviti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85280" y="285840"/>
            <a:ext cx="8750520" cy="6829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2000"/>
          </a:bodyPr>
          <a:p>
            <a:pPr marL="339840" indent="-339840">
              <a:spcBef>
                <a:spcPts val="876"/>
              </a:spcBef>
              <a:buClr>
                <a:srgbClr val="00ff99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500" spc="-1" strike="noStrike">
                <a:solidFill>
                  <a:srgbClr val="ffffff"/>
                </a:solidFill>
                <a:latin typeface="Garamond"/>
              </a:rPr>
              <a:t>Djevojčice je u rano jutro probudio čudan zvuk iz krletke. Papiga je kreštala gledajući  svoj odraz u ogledalu. Dea joj je otvorila kavez . Papiga je živahno je letjela po sobi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5. Kojoj vrsti kralješnjaka pripada papiga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6. Čime joj je pokriveno tijelo 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7. Što joj omogućuje let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900" spc="-1" strike="noStrike">
                <a:solidFill>
                  <a:srgbClr val="ffff00"/>
                </a:solidFill>
                <a:latin typeface="Garamond"/>
              </a:rPr>
              <a:t>8. Zašto se papiga uzbuđeno glasala?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66400" y="285840"/>
            <a:ext cx="9188280" cy="727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9000"/>
          </a:bodyPr>
          <a:p>
            <a:pPr marL="365760" indent="-3657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Sara  je sjela na pod i promatrala macu. Baš se umivala i čistila cijelo tijelo. Mama je otvorila vrata i pozvala djevojčice na doručak. Iz kuhinjeje zamirisalo svježe pecivo i mlijeko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hr-HR" sz="1600" spc="-1" strike="noStrike">
                <a:solidFill>
                  <a:srgbClr val="ffffff"/>
                </a:solidFill>
                <a:latin typeface="Garamond"/>
              </a:rPr>
              <a:t>Maca je vješto  skočila sa stolice. Jesam li i ja pozvana? pitala se maca. Uputila se prema boci s ribicama. Ogledala ih je sa svih strana. Kako ih nije mogla dohvatiti požurila je do svoje zdjelice . Nakon jela zadovoljno se smjestila  u Deino  krilo, zijevnula je i zaspala. Dea je primijetila da su macini zubi malo drugačiji od njezinih. Tijelo mace je bilo toplo i grijalo je njezino krilo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0. Koliko dijelova tijela je Dea vidjela na mački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1. Što maca ima na glavi 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2. Čime je pokriveno tijelo mačk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3. Koji su joj zubi dobro razvijeni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4. Što je mačka po načinu ishrane 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5. Utječe li to na dužinu probavila ? Kakvo je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6. Kako je maca otkrila da je vrijeme objed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7. Što sve  pomaže maci pri skakanju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8. Čime diše mačka ? Što troši pri disanju ? Što nastaje pri disanju 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19. Što macin krvotok raznosi po tijelu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20. Od čega je tijelo mace toplo? Što se u njezinim stanicama oslobađ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21. Može li maca imati mačiće ? Što se treba dogoditi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Garamond"/>
              </a:rPr>
              <a:t>22.Odvija li se u ili izvan tijel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0520" cy="12621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hr-HR" sz="5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01280" y="-360"/>
            <a:ext cx="8264520" cy="66358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900" spc="-1" strike="noStrike">
                <a:solidFill>
                  <a:srgbClr val="ffffcc"/>
                </a:solidFill>
                <a:latin typeface="Arial"/>
              </a:rPr>
              <a:t>Uključi me pa ću znati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4300" spc="-1" strike="noStrike">
                <a:solidFill>
                  <a:srgbClr val="ffffcc"/>
                </a:solidFill>
                <a:latin typeface="Arial"/>
              </a:rPr>
              <a:t>Pokaži mi možda zapamtim</a:t>
            </a: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900" spc="-1" strike="noStrike">
                <a:solidFill>
                  <a:srgbClr val="ffffcc"/>
                </a:solidFill>
                <a:latin typeface="Arial"/>
              </a:rPr>
              <a:t>Reci mi i sigurno ću zaboraviti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3900" spc="-1" strike="noStrike">
                <a:solidFill>
                  <a:srgbClr val="ffffcc"/>
                </a:solidFill>
                <a:latin typeface="Arial"/>
              </a:rPr>
              <a:t>                              </a:t>
            </a:r>
            <a:r>
              <a:rPr b="0" lang="hr-HR" sz="3000" spc="-1" strike="noStrike">
                <a:solidFill>
                  <a:srgbClr val="ffffcc"/>
                </a:solidFill>
                <a:latin typeface="Arial"/>
              </a:rPr>
              <a:t>Kineska poslov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03120"/>
            <a:ext cx="8751960" cy="844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4700" spc="-1" strike="noStrike">
                <a:solidFill>
                  <a:srgbClr val="ff9900"/>
                </a:solidFill>
                <a:latin typeface="Garamond"/>
              </a:rPr>
              <a:t>PRILAGOĐENI PROGRAM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49440" y="1874880"/>
            <a:ext cx="8519760" cy="5343120"/>
            <a:chOff x="649440" y="1874880"/>
            <a:chExt cx="8519760" cy="5343120"/>
          </a:xfrm>
        </p:grpSpPr>
        <p:grpSp>
          <p:nvGrpSpPr>
            <p:cNvPr id="163" name=""/>
            <p:cNvGrpSpPr/>
            <p:nvPr/>
          </p:nvGrpSpPr>
          <p:grpSpPr>
            <a:xfrm>
              <a:off x="6328080" y="1874880"/>
              <a:ext cx="2838960" cy="5343120"/>
              <a:chOff x="6328080" y="1874880"/>
              <a:chExt cx="2838960" cy="5343120"/>
            </a:xfrm>
          </p:grpSpPr>
          <p:sp>
            <p:nvSpPr>
              <p:cNvPr id="164" name=""/>
              <p:cNvSpPr/>
              <p:nvPr/>
            </p:nvSpPr>
            <p:spPr>
              <a:xfrm>
                <a:off x="6328080" y="1874880"/>
                <a:ext cx="2838960" cy="4894560"/>
              </a:xfrm>
              <a:custGeom>
                <a:avLst/>
                <a:gdLst>
                  <a:gd name="textAreaLeft" fmla="*/ 360 w 2838960"/>
                  <a:gd name="textAreaRight" fmla="*/ 2838600 w 2838960"/>
                  <a:gd name="textAreaTop" fmla="*/ 360 h 4894560"/>
                  <a:gd name="textAreaBottom" fmla="*/ 4894200 h 4894560"/>
                </a:gdLst>
                <a:ahLst/>
                <a:rect l="textAreaLeft" t="textAreaTop" r="textAreaRight" b="textAreaBottom"/>
                <a:pathLst>
                  <a:path w="21600" h="37238">
                    <a:moveTo>
                      <a:pt x="13" y="0"/>
                    </a:moveTo>
                    <a:arcTo wR="13" hR="13" stAng="16200000" swAng="-5400000"/>
                    <a:lnTo>
                      <a:pt x="0" y="37225"/>
                    </a:lnTo>
                    <a:arcTo wR="13" hR="13" stAng="10800000" swAng="-5400000"/>
                    <a:lnTo>
                      <a:pt x="21587" y="37238"/>
                    </a:lnTo>
                    <a:arcTo wR="13" hR="13" stAng="5400000" swAng="-5400000"/>
                    <a:lnTo>
                      <a:pt x="21600" y="13"/>
                    </a:lnTo>
                    <a:arcTo wR="13" hR="1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28080" y="1874880"/>
                <a:ext cx="2838960" cy="534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1" lang="hr-HR" sz="22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PRAĆENJE I OCJENJIVANJE 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1" lang="hr-HR" sz="22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FINALNA PROCJENA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2200" spc="-1" strike="noStrike">
                    <a:solidFill>
                      <a:srgbClr val="ffffcc"/>
                    </a:solidFill>
                    <a:latin typeface="Arial"/>
                  </a:rPr>
                  <a:t>1. praćenje 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2200" spc="-1" strike="noStrike">
                    <a:solidFill>
                      <a:srgbClr val="ffffcc"/>
                    </a:solidFill>
                    <a:latin typeface="Arial"/>
                  </a:rPr>
                  <a:t>2. provjeravanje 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2200" spc="-1" strike="noStrike">
                    <a:solidFill>
                      <a:srgbClr val="ffffcc"/>
                    </a:solidFill>
                    <a:latin typeface="Arial"/>
                  </a:rPr>
                  <a:t>3. prilagođavanje zahtjeva osobitostima učenika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lang="hr-HR" sz="2200" spc="-1" strike="noStrike">
                    <a:solidFill>
                      <a:srgbClr val="ffffcc"/>
                    </a:solidFill>
                    <a:latin typeface="Arial"/>
                  </a:rPr>
                  <a:t>4. ocjenjivanje – opisno i brojčano u odnosu na razine znanja ocjenama od 1-5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0" i="1" lang="hr-HR" sz="2200" spc="-1" strike="noStrike">
                    <a:solidFill>
                      <a:srgbClr val="ffffcc"/>
                    </a:solidFill>
                    <a:latin typeface="Arial"/>
                  </a:rPr>
                  <a:t>5.finalna procjena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488760" y="1874880"/>
              <a:ext cx="2838600" cy="4894560"/>
              <a:chOff x="3488760" y="1874880"/>
              <a:chExt cx="2838600" cy="4894560"/>
            </a:xfrm>
          </p:grpSpPr>
          <p:sp>
            <p:nvSpPr>
              <p:cNvPr id="167" name=""/>
              <p:cNvSpPr/>
              <p:nvPr/>
            </p:nvSpPr>
            <p:spPr>
              <a:xfrm>
                <a:off x="3488760" y="1874880"/>
                <a:ext cx="2838600" cy="4894560"/>
              </a:xfrm>
              <a:custGeom>
                <a:avLst/>
                <a:gdLst>
                  <a:gd name="textAreaLeft" fmla="*/ 360 w 2838600"/>
                  <a:gd name="textAreaRight" fmla="*/ 2838240 w 2838600"/>
                  <a:gd name="textAreaTop" fmla="*/ 360 h 4894560"/>
                  <a:gd name="textAreaBottom" fmla="*/ 4894200 h 4894560"/>
                </a:gdLst>
                <a:ahLst/>
                <a:rect l="textAreaLeft" t="textAreaTop" r="textAreaRight" b="textAreaBottom"/>
                <a:pathLst>
                  <a:path w="21600" h="37243">
                    <a:moveTo>
                      <a:pt x="13" y="0"/>
                    </a:moveTo>
                    <a:arcTo wR="13" hR="13" stAng="16200000" swAng="-5400000"/>
                    <a:lnTo>
                      <a:pt x="0" y="37230"/>
                    </a:lnTo>
                    <a:arcTo wR="13" hR="13" stAng="10800000" swAng="-5400000"/>
                    <a:lnTo>
                      <a:pt x="21587" y="37243"/>
                    </a:lnTo>
                    <a:arcTo wR="13" hR="13" stAng="5400000" swAng="-5400000"/>
                    <a:lnTo>
                      <a:pt x="21600" y="13"/>
                    </a:lnTo>
                    <a:arcTo wR="13" hR="1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88760" y="1874880"/>
                <a:ext cx="2838600" cy="105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1" lang="hr-HR" sz="22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PRILAGOĐAVANJE U EDUKACIJSKOM PROCESU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49440" y="1874880"/>
              <a:ext cx="2838960" cy="4894560"/>
              <a:chOff x="649440" y="1874880"/>
              <a:chExt cx="2838960" cy="4894560"/>
            </a:xfrm>
          </p:grpSpPr>
          <p:sp>
            <p:nvSpPr>
              <p:cNvPr id="170" name=""/>
              <p:cNvSpPr/>
              <p:nvPr/>
            </p:nvSpPr>
            <p:spPr>
              <a:xfrm>
                <a:off x="649440" y="1874880"/>
                <a:ext cx="2838960" cy="4894560"/>
              </a:xfrm>
              <a:custGeom>
                <a:avLst/>
                <a:gdLst>
                  <a:gd name="textAreaLeft" fmla="*/ 360 w 2838960"/>
                  <a:gd name="textAreaRight" fmla="*/ 2838600 w 2838960"/>
                  <a:gd name="textAreaTop" fmla="*/ 360 h 4894560"/>
                  <a:gd name="textAreaBottom" fmla="*/ 4894200 h 4894560"/>
                </a:gdLst>
                <a:ahLst/>
                <a:rect l="textAreaLeft" t="textAreaTop" r="textAreaRight" b="textAreaBottom"/>
                <a:pathLst>
                  <a:path w="21600" h="37238">
                    <a:moveTo>
                      <a:pt x="13" y="0"/>
                    </a:moveTo>
                    <a:arcTo wR="13" hR="13" stAng="16200000" swAng="-5400000"/>
                    <a:lnTo>
                      <a:pt x="0" y="37225"/>
                    </a:lnTo>
                    <a:arcTo wR="13" hR="13" stAng="10800000" swAng="-5400000"/>
                    <a:lnTo>
                      <a:pt x="21587" y="37238"/>
                    </a:lnTo>
                    <a:arcTo wR="13" hR="13" stAng="5400000" swAng="-5400000"/>
                    <a:lnTo>
                      <a:pt x="21600" y="13"/>
                    </a:lnTo>
                    <a:arcTo wR="13" hR="1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9440" y="1874880"/>
                <a:ext cx="2838960" cy="73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50400" bIns="504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326"/>
                  </a:spcBef>
                  <a:tabLst>
                    <a:tab algn="l" pos="0"/>
                    <a:tab algn="l" pos="615960"/>
                    <a:tab algn="l" pos="1603440"/>
                    <a:tab algn="l" pos="2590920"/>
                    <a:tab algn="l" pos="3578400"/>
                    <a:tab algn="l" pos="4565520"/>
                    <a:tab algn="l" pos="5553000"/>
                    <a:tab algn="l" pos="6540480"/>
                    <a:tab algn="l" pos="7527960"/>
                    <a:tab algn="l" pos="8515440"/>
                    <a:tab algn="l" pos="9502920"/>
                    <a:tab algn="l" pos="10491840"/>
                    <a:tab algn="l" pos="10861560"/>
                  </a:tabLst>
                </a:pPr>
                <a:r>
                  <a:rPr b="1" lang="hr-HR" sz="22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INICIJALNA PROCJENA</a:t>
                </a:r>
                <a:r>
                  <a:rPr b="1" lang="hr-HR" sz="22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649440" y="1874880"/>
              <a:ext cx="2839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9440" y="6769800"/>
              <a:ext cx="8518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9440" y="1874880"/>
              <a:ext cx="1440" cy="489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88760" y="1874880"/>
              <a:ext cx="1440" cy="489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28080" y="1874880"/>
              <a:ext cx="1800" cy="489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67760" y="1874880"/>
              <a:ext cx="1440" cy="489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88760" y="1874880"/>
              <a:ext cx="28389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28080" y="1874880"/>
              <a:ext cx="2839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H="1">
            <a:off x="2409480" y="1398600"/>
            <a:ext cx="2452680" cy="55872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14800" y="1398600"/>
            <a:ext cx="1800" cy="55872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19720" y="1398600"/>
            <a:ext cx="2297160" cy="63504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440" y="2986200"/>
            <a:ext cx="2297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760" y="3067200"/>
            <a:ext cx="23749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marL="493560" indent="-493560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1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utvrđivanje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sposobnosti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2. utvrđivanj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razine znanja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3. utvrđivanje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interes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4. određivanje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potreb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6640" y="2986200"/>
            <a:ext cx="29862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2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1" lang="hr-HR" sz="22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Odabir prikladnih odrednica prilagođavanja nastavnog program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2. Planiranje i primjena prikladnih postupaka prilagođavanj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3. Odabir poticaja i sredstava rada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(prema potrebi i kvantitativno – kvalitativna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1900" spc="-1" strike="noStrike">
                <a:solidFill>
                  <a:srgbClr val="ffffcc"/>
                </a:solidFill>
                <a:latin typeface="Arial"/>
              </a:rPr>
              <a:t>prerada sadržaja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02760"/>
            <a:ext cx="8751960" cy="970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3900" spc="-1" strike="noStrike">
                <a:solidFill>
                  <a:srgbClr val="ff9900"/>
                </a:solidFill>
                <a:latin typeface="Arial"/>
              </a:rPr>
              <a:t>Smisao izrade prilagođenog programa:</a:t>
            </a:r>
            <a:r>
              <a:rPr b="1" lang="en-GB" sz="47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479600"/>
            <a:ext cx="8391600" cy="6081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97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95000"/>
              </a:lnSpc>
              <a:spcBef>
                <a:spcPts val="876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500" spc="-1" strike="noStrike" u="sng">
                <a:solidFill>
                  <a:srgbClr val="ffffcc"/>
                </a:solidFill>
                <a:uFillTx/>
                <a:latin typeface="Arial"/>
              </a:rPr>
              <a:t>unapređivanje potencijala učenika</a:t>
            </a:r>
            <a:r>
              <a:rPr b="0" lang="hr-HR" sz="35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s ciljem povećanja uspješnosti edukacije, a time i socijalne integracij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100000"/>
              </a:lnSpc>
              <a:spcBef>
                <a:spcPts val="876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500" spc="-1" strike="noStrike" u="sng">
                <a:solidFill>
                  <a:srgbClr val="ffffcc"/>
                </a:solidFill>
                <a:uFillTx/>
                <a:latin typeface="Arial"/>
              </a:rPr>
              <a:t>mijenjanje očekivanja socijalne sredine</a:t>
            </a:r>
            <a:r>
              <a:rPr b="0" lang="hr-HR" sz="35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prema ovim učenicima radi pružanja maksimalne potpore u njihovu napretku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3560" y="0"/>
            <a:ext cx="7535880" cy="1319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4800" spc="-1" strike="noStrike">
                <a:solidFill>
                  <a:srgbClr val="ff9900"/>
                </a:solidFill>
                <a:latin typeface="Arial"/>
              </a:rPr>
              <a:t>Prilagođeni program</a:t>
            </a:r>
            <a:r>
              <a:rPr b="1" lang="hr-HR" sz="48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en-GB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6760" y="1240920"/>
            <a:ext cx="9120240" cy="6588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51000" indent="-351000">
              <a:lnSpc>
                <a:spcPct val="95000"/>
              </a:lnSpc>
              <a:spcBef>
                <a:spcPts val="774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3100" spc="-1" strike="noStrike">
                <a:solidFill>
                  <a:srgbClr val="ffffcc"/>
                </a:solidFill>
                <a:latin typeface="Arial"/>
              </a:rPr>
              <a:t>izrađen je</a:t>
            </a:r>
            <a:r>
              <a:rPr b="1" lang="hr-HR" sz="3100" spc="-1" strike="noStrike">
                <a:solidFill>
                  <a:srgbClr val="ffffcc"/>
                </a:solidFill>
                <a:latin typeface="Arial"/>
              </a:rPr>
              <a:t> za svakog </a:t>
            </a:r>
            <a:r>
              <a:rPr b="1" lang="hr-HR" sz="3100" spc="-1" strike="noStrike" u="sng">
                <a:solidFill>
                  <a:srgbClr val="ffffcc"/>
                </a:solidFill>
                <a:uFillTx/>
                <a:latin typeface="Arial"/>
              </a:rPr>
              <a:t>pojedinog</a:t>
            </a:r>
            <a:r>
              <a:rPr b="1" lang="hr-HR" sz="3100" spc="-1" strike="noStrike">
                <a:solidFill>
                  <a:srgbClr val="ffffcc"/>
                </a:solidFill>
                <a:latin typeface="Arial"/>
              </a:rPr>
              <a:t> učenik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1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0" lang="hr-HR" sz="3100" spc="-1" strike="noStrike">
                <a:solidFill>
                  <a:srgbClr val="ffffcc"/>
                </a:solidFill>
                <a:latin typeface="Arial"/>
              </a:rPr>
              <a:t>( </a:t>
            </a:r>
            <a:r>
              <a:rPr b="1" lang="hr-HR" sz="2700" spc="-1" strike="noStrike">
                <a:solidFill>
                  <a:srgbClr val="ffffcc"/>
                </a:solidFill>
                <a:latin typeface="Arial"/>
              </a:rPr>
              <a:t>Nema univerzalnog prilagođenog programa 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100" spc="-1" strike="noStrike">
                <a:solidFill>
                  <a:srgbClr val="ffffcc"/>
                </a:solidFill>
                <a:latin typeface="Arial"/>
              </a:rPr>
              <a:t>treba se </a:t>
            </a:r>
            <a:r>
              <a:rPr b="1" lang="hr-HR" sz="3100" spc="-1" strike="noStrike">
                <a:solidFill>
                  <a:srgbClr val="ffffcc"/>
                </a:solidFill>
                <a:latin typeface="Arial"/>
              </a:rPr>
              <a:t>temeljiti na sposobnostima </a:t>
            </a:r>
            <a:r>
              <a:rPr b="0" lang="hr-HR" sz="3100" spc="-1" strike="noStrike">
                <a:solidFill>
                  <a:srgbClr val="ffffcc"/>
                </a:solidFill>
                <a:latin typeface="Arial"/>
              </a:rPr>
              <a:t>ili "jakim stranama učenika", a tek potom na ograničenjima tj. "slabim stranama" učenik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100" spc="-1" strike="noStrike">
                <a:solidFill>
                  <a:srgbClr val="ffffcc"/>
                </a:solidFill>
                <a:latin typeface="Arial"/>
              </a:rPr>
              <a:t>nositelj izrade prilagođenog programa je </a:t>
            </a:r>
            <a:r>
              <a:rPr b="1" lang="hr-HR" sz="3100" spc="-1" strike="noStrike" u="sng">
                <a:solidFill>
                  <a:srgbClr val="ffffcc"/>
                </a:solidFill>
                <a:uFillTx/>
                <a:latin typeface="Arial"/>
              </a:rPr>
              <a:t>učitelj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100" spc="-1" strike="noStrike">
                <a:solidFill>
                  <a:srgbClr val="ffffcc"/>
                </a:solidFill>
                <a:latin typeface="Arial"/>
              </a:rPr>
              <a:t>planiranje i programiranje kao i neposredni rad  s učenikom s teškoćama u razvoju (TUR) je </a:t>
            </a:r>
            <a:r>
              <a:rPr b="1" lang="hr-HR" sz="3100" spc="-1" strike="noStrike" u="sng">
                <a:solidFill>
                  <a:srgbClr val="ffffcc"/>
                </a:solidFill>
                <a:uFillTx/>
                <a:latin typeface="Arial"/>
              </a:rPr>
              <a:t>individualizira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100" spc="-1" strike="noStrike">
                <a:solidFill>
                  <a:srgbClr val="ffffcc"/>
                </a:solidFill>
                <a:latin typeface="Arial"/>
              </a:rPr>
              <a:t>pripreme za nastavni sat trebaju sadržavati dio koji se odnosi na učenika s TU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Wingdings" charset="2"/>
              <a:buChar char="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Prema potrebi moguće je provesti izmjene i dopune progra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3320" y="-360"/>
            <a:ext cx="9528120" cy="1638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4300" spc="-1" strike="noStrike">
                <a:solidFill>
                  <a:srgbClr val="ff9900"/>
                </a:solidFill>
                <a:latin typeface="Arial"/>
              </a:rPr>
              <a:t>Koraci pri izradi prilagođenog programa</a:t>
            </a:r>
            <a:r>
              <a:rPr b="0" lang="hr-HR" sz="3900" spc="-1" strike="noStrike">
                <a:solidFill>
                  <a:srgbClr val="ff9900"/>
                </a:solidFill>
                <a:latin typeface="Arial"/>
              </a:rPr>
              <a:t>:</a:t>
            </a: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75960" y="1717200"/>
            <a:ext cx="7845480" cy="5843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657360" indent="-657360">
              <a:lnSpc>
                <a:spcPct val="95000"/>
              </a:lnSpc>
              <a:spcBef>
                <a:spcPts val="1074"/>
              </a:spcBef>
              <a:buClr>
                <a:srgbClr val="00ff99"/>
              </a:buClr>
              <a:buFont typeface="Arial"/>
              <a:buAutoNum type="arabicPeriod"/>
              <a:tabLst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0" lang="hr-HR" sz="4300" spc="-1" strike="noStrike">
                <a:solidFill>
                  <a:srgbClr val="ffffcc"/>
                </a:solidFill>
                <a:latin typeface="Arial"/>
              </a:rPr>
              <a:t>inicijalna procjena</a:t>
            </a: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 marL="657360" indent="-657360">
              <a:lnSpc>
                <a:spcPct val="100000"/>
              </a:lnSpc>
              <a:spcBef>
                <a:spcPts val="1074"/>
              </a:spcBef>
              <a:buClr>
                <a:srgbClr val="00ff99"/>
              </a:buClr>
              <a:buFont typeface="Arial"/>
              <a:buAutoNum type="arabicPeriod"/>
              <a:tabLst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0" lang="hr-HR" sz="4300" spc="-1" strike="noStrike">
                <a:solidFill>
                  <a:srgbClr val="ffffcc"/>
                </a:solidFill>
                <a:latin typeface="Arial"/>
              </a:rPr>
              <a:t>prilagođavanje u edukacijskom procesu</a:t>
            </a: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 marL="657360" indent="-657360">
              <a:lnSpc>
                <a:spcPct val="100000"/>
              </a:lnSpc>
              <a:spcBef>
                <a:spcPts val="1074"/>
              </a:spcBef>
              <a:buClr>
                <a:srgbClr val="00ff99"/>
              </a:buClr>
              <a:buFont typeface="Arial"/>
              <a:buAutoNum type="arabicPeriod"/>
              <a:tabLst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r>
              <a:rPr b="0" lang="hr-HR" sz="4300" spc="-1" strike="noStrike">
                <a:solidFill>
                  <a:srgbClr val="ffffcc"/>
                </a:solidFill>
                <a:latin typeface="Arial"/>
              </a:rPr>
              <a:t>praćenje, ocjenjivanje i finalna procjena</a:t>
            </a: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  <a:p>
            <a:pPr marL="65736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1271520"/>
                <a:tab algn="l" pos="2259000"/>
                <a:tab algn="l" pos="3247920"/>
                <a:tab algn="l" pos="4235400"/>
                <a:tab algn="l" pos="5222880"/>
                <a:tab algn="l" pos="6210360"/>
                <a:tab algn="l" pos="7197840"/>
                <a:tab algn="l" pos="8185320"/>
                <a:tab algn="l" pos="9172440"/>
                <a:tab algn="l" pos="10159920"/>
                <a:tab algn="l" pos="11147400"/>
              </a:tabLst>
            </a:pPr>
            <a:endParaRPr b="0" lang="en-US" sz="4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04600" y="285840"/>
            <a:ext cx="7530840" cy="1596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marL="903240" indent="-903240" algn="ctr">
              <a:lnSpc>
                <a:spcPct val="95000"/>
              </a:lnSpc>
              <a:buClr>
                <a:srgbClr val="66ff33"/>
              </a:buClr>
              <a:buFont typeface="Arial"/>
              <a:buAutoNum type="arabicPeriod"/>
              <a:tabLst>
                <a:tab algn="l" pos="903240"/>
                <a:tab algn="l" pos="1890720"/>
                <a:tab algn="l" pos="2878200"/>
                <a:tab algn="l" pos="3865680"/>
                <a:tab algn="l" pos="4853160"/>
                <a:tab algn="l" pos="5842080"/>
                <a:tab algn="l" pos="6829560"/>
                <a:tab algn="l" pos="7816680"/>
                <a:tab algn="l" pos="8804160"/>
                <a:tab algn="l" pos="9791640"/>
                <a:tab algn="l" pos="10779120"/>
                <a:tab algn="l" pos="11766600"/>
              </a:tabLst>
            </a:pPr>
            <a:r>
              <a:rPr b="0" lang="hr-HR" sz="4800" spc="-1" strike="noStrike">
                <a:solidFill>
                  <a:srgbClr val="66ff33"/>
                </a:solidFill>
                <a:latin typeface="Arial"/>
              </a:rPr>
              <a:t>Inicijalna procjena</a:t>
            </a:r>
            <a:r>
              <a:rPr b="1" lang="en-GB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9120" y="2100240"/>
            <a:ext cx="8575560" cy="493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9720" indent="-369720">
              <a:lnSpc>
                <a:spcPct val="95000"/>
              </a:lnSpc>
              <a:spcBef>
                <a:spcPts val="876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provodi se uglavnom  na početku školske godine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95000"/>
              </a:lnSpc>
              <a:spcBef>
                <a:spcPts val="876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vrednuje se opisno s obzirom na uspješnost i teškoće učenik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hr-HR" sz="3500" spc="-1" strike="noStrike">
                <a:solidFill>
                  <a:srgbClr val="ffffcc"/>
                </a:solidFill>
                <a:latin typeface="Arial"/>
              </a:rPr>
              <a:t>( utvrđivanje sposobnosti, razine znanja, potreba i interesa na područjima važnim za izradu programa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01280" y="0"/>
            <a:ext cx="8753400" cy="83851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200" spc="-1" strike="noStrike">
                <a:solidFill>
                  <a:srgbClr val="ffffcc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3000" spc="-1" strike="noStrike">
                <a:solidFill>
                  <a:srgbClr val="ffffcc"/>
                </a:solidFill>
                <a:latin typeface="Arial"/>
              </a:rPr>
              <a:t>                   </a:t>
            </a:r>
            <a:r>
              <a:rPr b="1" lang="hr-HR" sz="3000" spc="-1" strike="noStrike">
                <a:solidFill>
                  <a:srgbClr val="ffffcc"/>
                </a:solidFill>
                <a:latin typeface="Arial"/>
              </a:rPr>
              <a:t>B) utvrđivanje razine znanj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-308160">
              <a:lnSpc>
                <a:spcPct val="80000"/>
              </a:lnSpc>
              <a:spcBef>
                <a:spcPts val="437"/>
              </a:spcBef>
              <a:buClr>
                <a:srgbClr val="ffffcc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različiti stupnjevi kvalitete znanja prema Poljak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hr-HR" sz="2600" spc="-1" strike="noStrike">
                <a:solidFill>
                  <a:srgbClr val="ffffcc"/>
                </a:solidFill>
                <a:latin typeface="Arial"/>
              </a:rPr>
              <a:t>znanje </a:t>
            </a:r>
            <a:r>
              <a:rPr b="1" i="1" lang="hr-HR" sz="2600" spc="-1" strike="noStrike">
                <a:solidFill>
                  <a:srgbClr val="ffff00"/>
                </a:solidFill>
                <a:latin typeface="Arial"/>
              </a:rPr>
              <a:t>prisjećanja</a:t>
            </a:r>
            <a:r>
              <a:rPr b="1" i="1" lang="hr-HR" sz="2600" spc="-1" strike="noStrike">
                <a:solidFill>
                  <a:srgbClr val="ffffcc"/>
                </a:solidFill>
                <a:latin typeface="Arial"/>
              </a:rPr>
              <a:t> -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samo sjećanje da se nešto učilo (npr. nazivi godine, podaci, simboli , formule, neke informacij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hr-HR" sz="2600" spc="-1" strike="noStrike">
                <a:solidFill>
                  <a:srgbClr val="ffffcc"/>
                </a:solidFill>
                <a:latin typeface="Arial"/>
              </a:rPr>
              <a:t>znanje </a:t>
            </a:r>
            <a:r>
              <a:rPr b="1" i="1" lang="hr-HR" sz="2600" spc="-1" strike="noStrike">
                <a:solidFill>
                  <a:srgbClr val="ffff00"/>
                </a:solidFill>
                <a:latin typeface="Arial"/>
              </a:rPr>
              <a:t>prepoznavanja</a:t>
            </a:r>
            <a:r>
              <a:rPr b="1" i="1" lang="hr-HR" sz="2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točno prepoznavanje nekih sadržaja bez mogućeg šireg objašnjenja tih sadržaj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hr-HR" sz="2600" spc="-1" strike="noStrike">
                <a:solidFill>
                  <a:srgbClr val="ffffcc"/>
                </a:solidFill>
                <a:latin typeface="Arial"/>
              </a:rPr>
              <a:t>znanje </a:t>
            </a:r>
            <a:r>
              <a:rPr b="1" i="1" lang="hr-HR" sz="2600" spc="-1" strike="noStrike">
                <a:solidFill>
                  <a:srgbClr val="ffff00"/>
                </a:solidFill>
                <a:latin typeface="Arial"/>
              </a:rPr>
              <a:t>reprodukcije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 - uglavnom sigurno i točno ponavljanje sadržaja ali bez umijeća primjene u svakodnevnom radu (npr. poznavanje definicija i pravila ali bez mogućnosti primjene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hr-HR" sz="2600" spc="-1" strike="noStrike">
                <a:solidFill>
                  <a:srgbClr val="ffffcc"/>
                </a:solidFill>
                <a:latin typeface="Arial"/>
              </a:rPr>
              <a:t>znanje </a:t>
            </a:r>
            <a:r>
              <a:rPr b="1" i="1" lang="hr-HR" sz="2600" spc="-1" strike="noStrike">
                <a:solidFill>
                  <a:srgbClr val="ffff00"/>
                </a:solidFill>
                <a:latin typeface="Arial"/>
              </a:rPr>
              <a:t>operativnosti</a:t>
            </a:r>
            <a:r>
              <a:rPr b="0" lang="hr-HR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ffcc"/>
                </a:solidFill>
                <a:latin typeface="Arial"/>
              </a:rPr>
              <a:t>- dobro poznavanje sadržaja i mogućnost primjene istog (npr. poznavanje pravila i mogućnost primjen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hr-HR" sz="3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0" i="1" lang="hr-HR" sz="2200" spc="-1" strike="noStrike">
                <a:solidFill>
                  <a:srgbClr val="ffffcc"/>
                </a:solidFill>
                <a:latin typeface="Arial"/>
              </a:rPr>
              <a:t>( treba težiti stjecanju</a:t>
            </a:r>
            <a:r>
              <a:rPr b="1" i="1" lang="hr-H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ff6600"/>
                </a:solidFill>
                <a:latin typeface="Arial"/>
              </a:rPr>
              <a:t>operativnih, funkcionalnih znanja</a:t>
            </a:r>
            <a:r>
              <a:rPr b="0" i="1" lang="hr-HR" sz="2200" spc="-1" strike="noStrike">
                <a:solidFill>
                  <a:srgbClr val="ffffcc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hr-HR" sz="2200" spc="-1" strike="noStrike">
                <a:solidFill>
                  <a:srgbClr val="ffff00"/>
                </a:solidFill>
                <a:latin typeface="Arial"/>
              </a:rPr>
              <a:t>stvaralačko </a:t>
            </a:r>
            <a:r>
              <a:rPr b="1" i="1" lang="hr-HR" sz="2200" spc="-1" strike="noStrike">
                <a:solidFill>
                  <a:srgbClr val="ffffcc"/>
                </a:solidFill>
                <a:latin typeface="Arial"/>
              </a:rPr>
              <a:t>znanje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 -stvaranje novih dobara temeljem stečenih znanja (npr. inovacije na različitim područjima rada i stvaralaštva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37"/>
              </a:spcBef>
              <a:buClr>
                <a:srgbClr val="00ff99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hr-HR" sz="22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1" lang="hr-HR" sz="2200" spc="-1" strike="noStrike" u="sng">
                <a:solidFill>
                  <a:srgbClr val="ffffcc"/>
                </a:solidFill>
                <a:uFillTx/>
                <a:latin typeface="Arial"/>
              </a:rPr>
              <a:t>usmeno ili pismeno; individualno ili grupno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9080" y="-268200"/>
            <a:ext cx="7535880" cy="1270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3440"/>
                <a:tab algn="l" pos="7900920"/>
                <a:tab algn="l" pos="8888400"/>
                <a:tab algn="l" pos="9875880"/>
                <a:tab algn="l" pos="10863360"/>
              </a:tabLst>
            </a:pPr>
            <a:r>
              <a:rPr b="0" lang="hr-HR" sz="4300" spc="-1" strike="noStrike">
                <a:solidFill>
                  <a:srgbClr val="66ff33"/>
                </a:solidFill>
                <a:latin typeface="Arial"/>
              </a:rPr>
              <a:t>Inicijalna procjena </a:t>
            </a:r>
            <a:r>
              <a:rPr b="0" lang="hr-HR" sz="3500" spc="-1" strike="noStrike">
                <a:solidFill>
                  <a:srgbClr val="66ff33"/>
                </a:solidFill>
                <a:latin typeface="Arial"/>
              </a:rPr>
              <a:t>obuhvaća</a:t>
            </a:r>
            <a:r>
              <a:rPr b="0" lang="hr-HR" sz="4300" spc="-1" strike="noStrike">
                <a:solidFill>
                  <a:srgbClr val="66ff33"/>
                </a:solidFill>
                <a:latin typeface="Arial"/>
              </a:rPr>
              <a:t>: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001520"/>
            <a:ext cx="9721800" cy="6559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6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lang="hr-HR" sz="35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1" lang="hr-HR" sz="3000" spc="-1" strike="noStrike">
                <a:solidFill>
                  <a:srgbClr val="ffffcc"/>
                </a:solidFill>
                <a:latin typeface="Arial"/>
              </a:rPr>
              <a:t>A) utvrđivanje  sposobnosti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801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i="1" lang="hr-HR" sz="2200" spc="-1" strike="noStrike">
                <a:solidFill>
                  <a:srgbClr val="ffff00"/>
                </a:solidFill>
                <a:latin typeface="Arial"/>
              </a:rPr>
              <a:t>čitanje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 - tehnika čitanja, pamćenje i razumijevanje pročitanog (</a:t>
            </a:r>
            <a:r>
              <a:rPr b="0" i="1" lang="hr-HR" sz="2200" spc="-1" strike="noStrike">
                <a:solidFill>
                  <a:srgbClr val="ffffcc"/>
                </a:solidFill>
                <a:latin typeface="Arial"/>
              </a:rPr>
              <a:t>uputa, zadataka, postupaka, različitih vrsta tekstova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i="1" lang="hr-HR" sz="2200" spc="-1" strike="noStrike">
                <a:solidFill>
                  <a:srgbClr val="ffff00"/>
                </a:solidFill>
                <a:latin typeface="Arial"/>
              </a:rPr>
              <a:t>slušanje, usmeno i pismeno izražavanje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 - koncentrirano slušanje, razlikovanje, pamćenje i razumijevanje usmenih uputa, naloga, sadržajnih podataka, vještina razgovaranja  i   usmenog izražavanja u različitim oblicima, uspješnost prepisivanja (</a:t>
            </a:r>
            <a:r>
              <a:rPr b="0" i="1" lang="hr-HR" sz="2200" spc="-1" strike="noStrike">
                <a:solidFill>
                  <a:srgbClr val="ffffcc"/>
                </a:solidFill>
                <a:latin typeface="Arial"/>
              </a:rPr>
              <a:t>s ploče, iz knjige)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 i samostalnog pisanja (</a:t>
            </a:r>
            <a:r>
              <a:rPr b="0" i="1" lang="hr-HR" sz="2200" spc="-1" strike="noStrike">
                <a:solidFill>
                  <a:srgbClr val="ffffcc"/>
                </a:solidFill>
                <a:latin typeface="Arial"/>
              </a:rPr>
              <a:t>odgovori na pitanja, diktata, slobodni sastavak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i="1" lang="hr-HR" sz="2200" spc="-1" strike="noStrike">
                <a:solidFill>
                  <a:srgbClr val="ffff00"/>
                </a:solidFill>
                <a:latin typeface="Arial"/>
              </a:rPr>
              <a:t>računanje i geometrijsko predočavanje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 -</a:t>
            </a:r>
            <a:r>
              <a:rPr b="1" i="1" lang="hr-H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pojam broja, relacije među brojevima, osnovne računske operacije, poznavanje geometrijskih tijela, likova, mjera i mjernih jedinica, predočavanje zadanih likova  na papiru, pripremanje i izvođenje rada u određenom vremenu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i="1" lang="hr-HR" sz="2200" spc="-1" strike="noStrike">
                <a:solidFill>
                  <a:srgbClr val="ffff00"/>
                </a:solidFill>
                <a:latin typeface="Arial"/>
              </a:rPr>
              <a:t>rukovanje sredstvima za rad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 - pravilno korištenje alata, pribora, instrumenata, aparat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6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69720" indent="-36972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"/>
              <a:buChar char="•"/>
              <a:tabLst>
                <a:tab algn="l" pos="984240"/>
                <a:tab algn="l" pos="1971720"/>
                <a:tab algn="l" pos="2959200"/>
                <a:tab algn="l" pos="3946680"/>
                <a:tab algn="l" pos="4933800"/>
                <a:tab algn="l" pos="5921280"/>
                <a:tab algn="l" pos="6908760"/>
                <a:tab algn="l" pos="7896240"/>
                <a:tab algn="l" pos="8885160"/>
                <a:tab algn="l" pos="9872640"/>
                <a:tab algn="l" pos="10860120"/>
                <a:tab algn="l" pos="10861560"/>
              </a:tabLst>
            </a:pPr>
            <a:r>
              <a:rPr b="1" i="1" lang="hr-HR" sz="2200" spc="-1" strike="noStrike">
                <a:solidFill>
                  <a:srgbClr val="ffff00"/>
                </a:solidFill>
                <a:latin typeface="Arial"/>
              </a:rPr>
              <a:t>radne navike</a:t>
            </a:r>
            <a:r>
              <a:rPr b="1" i="1" lang="hr-H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cc"/>
                </a:solidFill>
                <a:latin typeface="Arial"/>
              </a:rPr>
              <a:t>- osnovne radne vještine i navike, urednost i preciznost u radu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</cp:lastModifiedBy>
  <dcterms:modified xsi:type="dcterms:W3CDTF">2009-06-10T13:47:10Z</dcterms:modified>
  <cp:revision>51</cp:revision>
  <dc:subject/>
  <dc:title>Prilagođeni programi</dc:title>
</cp:coreProperties>
</file>