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437-C34E-47F1-BF1F-B0AF837E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2B9-3CE9-43E5-9E16-258D553D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CD9-E0CC-4D73-8228-84682285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CEE-46A0-419A-BFDF-A561A067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30B-D224-47CD-A464-6D87D66E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F9E-3A8E-43D5-B86A-4CE5BC7A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BAD-2DEC-49CB-A228-279EB20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997-19DF-4422-9676-141086C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2B8-2FBC-4001-8F94-9504380C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B9-EB29-45F0-97B5-B974B6E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0A5-DDE6-480D-89DC-5DCA337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A19-B595-442D-86A8-F545D48F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288-F083-4BA2-87BC-FC94DC657E0E}" type="slidenum">
              <a:rPr b="0" lang="en-US" sz="1400" spc="-1" strike="noStrike">
                <a:solidFill>
                  <a:srgbClr val="003366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Comic Sans MS"/>
              </a:rPr>
              <a:t>Debeli i mršavi </a:t>
            </a:r>
            <a:br>
              <a:rPr sz="4000"/>
            </a:br>
            <a:r>
              <a:rPr b="1" lang="hr-HR" sz="4000" spc="-1" strike="noStrike">
                <a:solidFill>
                  <a:srgbClr val="003366"/>
                </a:solidFill>
                <a:latin typeface="Comic Sans MS"/>
              </a:rPr>
              <a:t>Ili medicina svakodnevic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53341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Comic Sans MS"/>
              </a:rPr>
              <a:t>Prof. dr. sc. Marija Heffer-L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Comic Sans MS"/>
              </a:rPr>
              <a:t>Medicinski fakul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4625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Comic Sans MS"/>
              </a:rPr>
              <a:t>Ovako smo mislili prije deset godi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63244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.C. Willett &amp; M.J. Stampfer, Sci. Am. Janu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8920" y="900000"/>
            <a:ext cx="60861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8360" y="134100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Postoji li hrana za mozak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96584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Majčino mlijeko ima mnoge funkcij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34657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Zašto se doručak ne preskače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Sposobnost koncentracije ovisi o stabilnim razinama glukoz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4560" y="990720"/>
            <a:ext cx="6914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Kako popuniti zalihe željeza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84360" y="1980720"/>
            <a:ext cx="59738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Comic Sans MS"/>
              </a:rPr>
              <a:t>Crveno meso, sjemenke bundeve, sezam, soja, zobene pahuljice, mak, kopar, špinat, mahunarke, svi orašasti plodovi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61056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Zašto i koliko ribe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3235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73408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iba je najvažniji izvor aminokiselina fenilalanina i tirozina koje su prekursori za nastanak adrenalina, noradrenalina i dopa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Anti-stres terapija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182840" cy="2801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997360"/>
            <a:ext cx="3419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brzi uči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 dugotrajnije djelovanj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24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84360" y="19159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Prva pomoć za mozak: masno i slatko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00996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9280" y="62485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. Weindruch, Sci. Am. , January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52005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Comic Sans MS"/>
              </a:rPr>
              <a:t>Svaka životinjska vrsta ima svoje prehrambene navike..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6324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. Milton, Sci. Am., August 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219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15228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66"/>
                </a:solidFill>
                <a:latin typeface="Comic Sans MS"/>
              </a:rPr>
              <a:t>Može li se živjeti 120 god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62485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. Weindruch, Sci. Am. , January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6248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Comic Sans MS"/>
              </a:rPr>
              <a:t>Dvije godine na 1500 kc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Ako ste potomak stogodišnjaka...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171600" cy="451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9260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cc"/>
                </a:solidFill>
                <a:latin typeface="Comic Sans MS"/>
              </a:rPr>
              <a:t>Uloga antioksidansa....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2485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. Marantz Henig, Sci. Am.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100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Koliko je kava blagotvorna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62440" y="1814400"/>
            <a:ext cx="32191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roge djeluju tako što imitiraju stvarne neurotransmitere ili se upliću negdje u put njihove sinteze ili djelovanja na drugi neuron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518080" cy="4675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3716280"/>
            <a:ext cx="30258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Kokain ometa djelovanje dopamin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324240" cy="30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5640" y="566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dopa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03640" y="2060640"/>
            <a:ext cx="3324240" cy="325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566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kok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Kokain produžuje djelovanje dopamina na sinapsi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4704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Comic Sans MS"/>
              </a:rPr>
              <a:t>Dopamin je neurotransmiter koji djeluje na centar za ugodu (n. accumbens): kad je centar podražen osjećamo samopouzdanje i zadovoljstvo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21632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08720" y="1989000"/>
            <a:ext cx="33480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Količina receptora za </a:t>
            </a: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dopamin u N. accumbens septi:</a:t>
            </a:r>
            <a:br>
              <a:rPr sz="2800"/>
            </a:br>
            <a:br>
              <a:rPr sz="28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GL. Zdrava osoba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GD. Debela osoba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DL. Ovisnik o kokainu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D.D.. Ovisnik o alkoholu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hr-HR" sz="1600" spc="-1" strike="noStrike" u="sng">
                <a:solidFill>
                  <a:srgbClr val="003366"/>
                </a:solidFill>
                <a:uFillTx/>
                <a:latin typeface="Comic Sans MS"/>
              </a:rPr>
              <a:t>Simptomi nedostatka dopamina: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- depresija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- pospanost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- umor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- osjećaj bezvrijednosti</a:t>
            </a:r>
            <a:br>
              <a:rPr sz="1600"/>
            </a:br>
            <a:r>
              <a:rPr b="0" lang="hr-HR" sz="1600" spc="-1" strike="noStrike">
                <a:solidFill>
                  <a:srgbClr val="003366"/>
                </a:solidFill>
                <a:latin typeface="Comic Sans MS"/>
              </a:rPr>
              <a:t>- razvoj tolerancije na dozu i potreba za većom dozom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Veći mozak ima svoju cijenu..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. Milton, Sci. Am. August 199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760" y="1400040"/>
            <a:ext cx="8610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Što je krajnji rezultat uzimanja kokaina ili neke druge droge?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Comic Sans MS"/>
              </a:rPr>
              <a:t>Psihijatrijska bolest koja se razvija kad opetovanim uzimanjem droge dođe do poremećaja kemije mozga!!!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Comic Sans MS"/>
              </a:rPr>
              <a:t>Liječi se mjesecima ili godinama, a cilj joj je oporavak mozga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Autonomni živčani sustav je teži od našeg svjesnog mozga, a regulira reflekse kojih nismo svjesni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2529000" cy="295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34320" y="2565360"/>
            <a:ext cx="2209680" cy="295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700360" y="2565360"/>
            <a:ext cx="402912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Simpatikus protiv parasimpatikus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265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Comic Sans MS"/>
              </a:rPr>
              <a:t>Simpatikus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34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3366"/>
                </a:solidFill>
                <a:latin typeface="Comic Sans MS"/>
              </a:rPr>
              <a:t>3F+S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  <a:p>
            <a:pPr marL="284400" indent="-284400">
              <a:spcBef>
                <a:spcPts val="134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3366"/>
                </a:solidFill>
                <a:latin typeface="Comic Sans MS"/>
              </a:rPr>
              <a:t>Fear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  <a:p>
            <a:pPr marL="284400" indent="-284400">
              <a:spcBef>
                <a:spcPts val="134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3366"/>
                </a:solidFill>
                <a:latin typeface="Comic Sans MS"/>
              </a:rPr>
              <a:t>Fight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  <a:p>
            <a:pPr marL="284400" indent="-284400">
              <a:spcBef>
                <a:spcPts val="134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3366"/>
                </a:solidFill>
                <a:latin typeface="Comic Sans MS"/>
              </a:rPr>
              <a:t>Flight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  <a:p>
            <a:pPr marL="284400" indent="-284400">
              <a:spcBef>
                <a:spcPts val="134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3366"/>
                </a:solidFill>
                <a:latin typeface="Comic Sans MS"/>
              </a:rPr>
              <a:t>Sex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Parasimpatikus je relaksacij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00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Za koga se oba bore? Za središnju strukturu mozga-hipotalamu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246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Malo mašte...uplašeni ili zaljubljeni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4360" y="1628640"/>
            <a:ext cx="50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Šire se zjenice, a očni kapci rastvaraju – više svjetla pada na retinu, a oči se slobodnije pokreću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Kontrahiraju se krvne žile kože i probavnog sustava – preusmjeravanje krvi u mišić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Dlake se nakostriješe – naši dlakavi preci izgledaju veći i strašniji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Dilatiraju se bronhi – povećana oksigenacija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Snaga srca i broj otkucaja se povećavaju – maksimalna perfuzija srca i mozga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Probavne i druge vegetativne funkcije se utišavaju- ukidaju se neprikladne funkcije u danom kontekstu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Comic Sans MS"/>
              </a:rPr>
              <a:t>Srž nadbubrežne žljezde izlučuje adrenalin i noradrenalin i potiče lučenje glukagona i inzulina – povećanje katabolizma reguliranog pankreaso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419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Comic Sans MS"/>
              </a:rPr>
              <a:t>Jesti ili ne jesti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te depresivni ili razočaran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e osjećate usamljeno i ‘down’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te zabrinuti i uznemiren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te uzbuđeni ili kad se dosađujete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te uplašen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Potreba da jedete kad ste ljuti i mrzovoljn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Sklonost emocionalnom prežderavanju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Genetika + okolnost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Terapija: dialektička bihevioralna terapija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1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Druga krajnost su anorexia i bulimia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0,5-3,7% žena razvije anoreksiju (oko puberteta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1,1-4,2% razvije bulimiju (od 18 do 35.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samo 30% anoreksičnih se potpuno oporav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50% osoba sa bulimijom se potpuno oporavi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43640" y="333360"/>
            <a:ext cx="3600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Comic Sans MS"/>
              </a:rPr>
              <a:t>Koliko ukupno prehranom unesene energije troši mozak u mirovanju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3-5% kod malih sisavaca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8-10% kod primata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20-25% kod čovjeka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7242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1g mozga troši 16 x više energije od 1g mišić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Tako velikog potrošača treba hraniti na novi, efikasniji nač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338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Granice su relativne ako se pita ukus, ali medicinski su zadan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3068280"/>
            <a:ext cx="338148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BMI ispod 18-pothranjenos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BMI iznad 25- prekomjerna težina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BMI iznad 30- pretilos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457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24360" y="60912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Što su posljedice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6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87640" y="2707920"/>
            <a:ext cx="35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Comic Sans MS"/>
              </a:rPr>
              <a:t>Anorektičari imaju iste kriterije ljepote kao i ostali, ali sebe vide drugačije nego drug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09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Mi smo ovisni o hrani, ali ta ovisnost je zdrava!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Neki od nas imaju ili sticajem okolnosti</a:t>
            </a: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steknu emocionalno ovisan poremećaj u hranjenju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Emocije su naše nesvjesne reakcije na svijet koje mi ljudi možemo kontrolirati prefrontalnim korteksom, znači mislima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9720" y="1951200"/>
            <a:ext cx="78645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66"/>
                </a:solidFill>
                <a:latin typeface="Comic Sans MS"/>
              </a:rPr>
              <a:t>Nekoliko korisnih inovacija: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Biti mesožder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Comic Sans MS"/>
              </a:rPr>
              <a:t>lišće : voće : meso u kcal = 1 : 10 : 20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Comic Sans MS"/>
              </a:rPr>
              <a:t>Koristiti vatru (izum star 200.000 godina) i kuhat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364200" cy="541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63724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ko 1000 gena (3% cijelog genoma) koji kodiraju receptore za odoranse aktivni su samo u njušnim osjetnim neuronima. Svaki je tip receptora eksprimiran u par tisuća osjetnih stanica i prepoznaje nekoliko odoransnih molekula (i obrnuto), ali vrijedi pravilo jedan receptor jedan neuron. Ukupno smo u stanju raspoznati 10 000 odoransa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64000" y="765000"/>
            <a:ext cx="2714400" cy="465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300720" y="1773360"/>
            <a:ext cx="2419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0560" y="379440"/>
            <a:ext cx="75614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Comic Sans MS"/>
              </a:rPr>
              <a:t>Različite ljudske zajednice imaju različite prehrambene stilove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400" y="6248520"/>
            <a:ext cx="39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W.R. Leonard, Sci. Am. , Decem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001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5480" y="29700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Comic Sans MS"/>
              </a:rPr>
              <a:t>Ovako mislimo dan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6000" y="6553080"/>
            <a:ext cx="43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W.C. Willett &amp; M.J. Stampfer, Sci. Am. Janu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81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5:06:22Z</dcterms:created>
  <dc:creator>Marija Heffer-Lauc</dc:creator>
  <dc:description/>
  <dc:language>en-US</dc:language>
  <cp:lastModifiedBy>Marina Luetić</cp:lastModifiedBy>
  <dcterms:modified xsi:type="dcterms:W3CDTF">2009-10-12T09:04:11Z</dcterms:modified>
  <cp:revision>218</cp:revision>
  <dc:subject/>
  <dc:title>Sedam grijeha pamćenja</dc:title>
</cp:coreProperties>
</file>