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91B-64DF-4D87-A80F-0F70551A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98C-DA8F-4FE1-841D-21CA9372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77D0-F0A6-49C1-91AC-D97E98D0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E10-6F8F-4514-9103-DBDF22D7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BBDF-4E9B-4941-BF29-B3E01EF7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D6D7-87D6-4CFF-8610-A0844F4B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3A31-F9E8-4066-B258-22656972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ABF1-562B-4FD7-BA0F-A9321C75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463A-7B75-4BD7-ABF8-9BC9F5A4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8063-FAA7-4688-B0C0-C41910B2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392B-E805-4CEF-BF0D-53CD5F2B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031A-9091-4974-B631-51A42FC4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3FE1-355B-4C8F-A4F9-B31C1797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D103-B2A8-4E9C-8C2B-31501294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E83D-8612-43EA-83E8-FF20152A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F22C-F5D8-44A7-BE1C-8FBEBD87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D18C-B843-4DCC-90DE-F2691B25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88C7A-3D68-40C5-82F1-D19843E5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A26B6-B4F2-4D11-B4E7-5242909A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0BE31-E46B-4AD6-910C-E91B9410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5EC7D-D460-403F-B444-9F070191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DB983-4304-4DF4-9A0A-B9DC6EA4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3B0C-9F9F-412B-99FC-5D1A5370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095FF-698B-4E31-9F73-24C10F98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703E4-91B0-4E6B-93F0-2B6386AB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BA235-E3E0-40AD-AB57-EEBD5D8E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F3407-85AD-4238-9C24-4AB0FE6F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B48E5-85C2-4F44-9C0E-518501D1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F8486-02F0-4867-9C6E-F3FA52E1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90D41-59F6-438D-AD8E-DE1B4AF2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EF5D-CDE0-4E8F-89C3-C2DCAC8B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E44-F1C7-4AEF-83AC-6B21EBDD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2241-400E-4C48-8592-84BCB414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FBA8-2739-4EE9-B6FB-764FA502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3B03-6029-4920-8884-247DD497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2719-24A8-4EE9-8AF5-6A138AA5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BEB0-4D83-47F6-A1BB-D73B37C5FEE5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8A5E-DE5D-4D07-9D8D-1C682DFB86A1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1494-7979-4731-B231-7D9794185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2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Kemija slasnog 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deserta</a:t>
            </a:r>
            <a:br>
              <a:rPr sz="4000"/>
            </a:br>
            <a:endParaRPr b="0" lang="en-US" sz="40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prof. dr. sc. Marija Heffer Lauc, MF Osijek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Kako pčele proizvode med?</a:t>
            </a: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4897440" cy="3419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788000" y="1484280"/>
            <a:ext cx="381636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3300"/>
                </a:solidFill>
                <a:latin typeface="Comic Sans MS"/>
              </a:rPr>
              <a:t>Nektar se kroz ezofagus skuplja u vrećicu za med. Ovdje je izložen djelovanju enzima koji šećerne lance kidaju na monosaharide i disahar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3300"/>
                </a:solidFill>
                <a:latin typeface="Comic Sans MS"/>
              </a:rPr>
              <a:t>Pčele, po povratku u košnicu, 15-20 min nektar pumpaju iz i u ezofagus formirajući kapljicu na vrhu ticala. Iz ove kapljice evaporira voda, sve dok sadržaj vode ne padne na 40-50%. Zatim se med u tankom filmu odlaže na saće, gdje se dalje koncentrira evaporacijom potaknutom mahanjem krila, sve dok sadržaj vode ne padne na 20%. Ovo ‘sazrijevanje’ meda traje do 3 tje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Mislite da naporno radite za malu plaću?</a:t>
            </a:r>
            <a:endParaRPr b="0" lang="en-US" sz="40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Comic Sans MS"/>
              </a:rPr>
              <a:t>U košnici je obično jedna zrela matica, nekoliko stotina trutova i oko 20 000 radilica</a:t>
            </a: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Comic Sans MS"/>
              </a:rPr>
              <a:t>Za svakih 0,5 L meda koji pčelar proda, pčele su potrošile 4L za svakodnevne aktivnosti</a:t>
            </a: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Comic Sans MS"/>
              </a:rPr>
              <a:t>Za ovih 0,5 L meda pčele su 3 puta obletjele Zemljinim ekvatorom</a:t>
            </a: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Comic Sans MS"/>
              </a:rPr>
              <a:t>Prosječna pčela donosi nektar skupljen unutar 2 km od košnice u 25 dnevnih izlazaka</a:t>
            </a: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Comic Sans MS"/>
              </a:rPr>
              <a:t>Svaki puta donese 0.06 grama nektara što je polovica njene težine, što je 3 miliona kilometara za litru meda</a:t>
            </a: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397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Što je konačno u medu?</a:t>
            </a:r>
            <a:endParaRPr b="0" lang="en-US" sz="40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04316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3300"/>
                </a:solidFill>
                <a:latin typeface="Comic Sans MS"/>
              </a:rPr>
              <a:t>Više od 20 različitih šećera (fruktoza 38%, glukoza 31%, saharoza 1.5%, drugi disaharidi 7%, kompleksni šećeri 1,5%)</a:t>
            </a: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3300"/>
                </a:solidFill>
                <a:latin typeface="Comic Sans MS"/>
              </a:rPr>
              <a:t>Minerali (u tragovima)</a:t>
            </a: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3300"/>
                </a:solidFill>
                <a:latin typeface="Comic Sans MS"/>
              </a:rPr>
              <a:t>Aminokiseline</a:t>
            </a: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3300"/>
                </a:solidFill>
                <a:latin typeface="Comic Sans MS"/>
              </a:rPr>
              <a:t>Antioksidansi (fenoli)</a:t>
            </a: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3300"/>
                </a:solidFill>
                <a:latin typeface="Comic Sans MS"/>
              </a:rPr>
              <a:t>Enzimi</a:t>
            </a: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3300"/>
                </a:solidFill>
                <a:latin typeface="Comic Sans MS"/>
              </a:rPr>
              <a:t>Kiseline (Glukonska kiselina, pH = 3.9)</a:t>
            </a: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3300"/>
                </a:solidFill>
                <a:latin typeface="Comic Sans MS"/>
              </a:rPr>
              <a:t>Peroksid (antibakterijska svojstva)</a:t>
            </a: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663300"/>
                </a:solidFill>
                <a:latin typeface="Comic Sans MS"/>
              </a:rPr>
              <a:t>Svi vitamini ostali su u polenu i pčele su ih potrošile!</a:t>
            </a: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10080" y="0"/>
            <a:ext cx="463392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Med u kolačima!</a:t>
            </a: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Ako dodaješ med u kolač – smanji vodu i dodaj meda manje no što bi šećera  (1 mjera meda zamjenjuje 1.25-1.5 mjere šećera)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Radi antioksidansa kolači s medom se sporije kvare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Meso pečeno s medom duže zadržava okus 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Med je dovoljno kiseo da u nekim receptima može zamijeniti kiselinu i u reakciji sa sodom napraviti CO2 koji će podići kolač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Med ubrzava reakciju tamnjenja u glazurama kolača i mesa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298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Comic Sans MS"/>
              </a:rPr>
              <a:t>Šećerna trska potiče s Nove Gvineje s Južnog Pacifika</a:t>
            </a:r>
            <a:endParaRPr b="0" lang="en-US" sz="36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067280" y="2133720"/>
            <a:ext cx="4411440" cy="3308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95280" y="2133720"/>
            <a:ext cx="316872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Saccharum officinarum je pripadnik visokih trava čiji sok sadržava čak 15% saharo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Tehnologija proizvodnje ‘sirovog šećera’ razvila se u Indiji oko 500 p.n.e. Iscijeđeni sok kuhao se do tamne mase –’gur’ koja se dalje koristila u pripremi slatkih je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Prvi stolni šećer na europske stolove stiže oko 1100.g</a:t>
            </a:r>
            <a:endParaRPr b="0" lang="en-US" sz="40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37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3300"/>
                </a:solidFill>
                <a:latin typeface="Comic Sans MS"/>
              </a:rPr>
              <a:t>Tijekom VI. stoljeća tehnologija prerade tršćanog šećera stiže na obale Eufrata i Tigrisa</a:t>
            </a:r>
            <a:endParaRPr b="0" lang="en-US" sz="18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3300"/>
                </a:solidFill>
                <a:latin typeface="Comic Sans MS"/>
              </a:rPr>
              <a:t>Tijekom Arapskih osvajanja Perzije u VII. stoljeću šećer dospijeva u sjevernu Afriku, a preko Španjolske konačno i u Europu</a:t>
            </a:r>
            <a:endParaRPr b="0" lang="en-US" sz="18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3300"/>
                </a:solidFill>
                <a:latin typeface="Comic Sans MS"/>
              </a:rPr>
              <a:t>U X. stoljeću Egipćani su razvili dekorativne tehnike pa su od šećera izrađivali stabla, životinje i dvorce.</a:t>
            </a:r>
            <a:endParaRPr b="0" lang="en-US" sz="18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3300"/>
                </a:solidFill>
                <a:latin typeface="Comic Sans MS"/>
              </a:rPr>
              <a:t>Tek križari tijekom XI. stoljeća donose šećer i u druge Europske zemlje</a:t>
            </a:r>
            <a:endParaRPr b="0" lang="en-US" sz="18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3300"/>
                </a:solidFill>
                <a:latin typeface="Comic Sans MS"/>
              </a:rPr>
              <a:t>1319. godine pristao je prvi brod sa šećerom u Englesku</a:t>
            </a:r>
            <a:endParaRPr b="0" lang="en-US" sz="18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95640" y="2276640"/>
            <a:ext cx="49150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omic Sans MS"/>
              </a:rPr>
              <a:t>Prve bombone smislio je francuski apotekar koji je presvukao bademe karamelom (oko 1200. g)</a:t>
            </a:r>
            <a:endParaRPr b="0" lang="en-US" sz="28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Do XV. stoljeća cijela Europa je znala za šećer i počela ga je koristiti 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Dvorski slastičari poznavali su sve finese ukrašavanja i izrade figura od šećera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Potrošnja šećera porasla je s 2kg godišnje po osobi 1700. na 5 kg do 1780.g 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34923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Tršćani šećer mora se početi obrađivati na plantaži</a:t>
            </a:r>
            <a:endParaRPr b="0" lang="en-US" sz="40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368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Borba europskih zemalja za kolonije bila je borba za proizvodnju šećera…</a:t>
            </a: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788000" y="2565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omic Sans MS"/>
              </a:rPr>
              <a:t>Europa je žudila za biljkom iz koje se može ekstrahirati šećer u uvjetima hladnije klime</a:t>
            </a:r>
            <a:endParaRPr b="0" lang="en-US" sz="28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3888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1747. Pruski kemičar Andreas Marggraf ekstrahira, uz pomoć alkohola, šećer iz bijele repe </a:t>
            </a:r>
            <a:r>
              <a:rPr b="0" i="1" lang="hr-HR" sz="2400" spc="-1" strike="noStrike">
                <a:solidFill>
                  <a:srgbClr val="663300"/>
                </a:solidFill>
                <a:latin typeface="Comic Sans MS"/>
              </a:rPr>
              <a:t>Beta vulgaris var. altissima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2874960" cy="40338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042920" y="4437000"/>
            <a:ext cx="238140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3300"/>
                </a:solidFill>
                <a:latin typeface="Comic Sans MS"/>
              </a:rPr>
              <a:t>Napoleon dodjeljuje medalju Benjaminu Delessertu za izgradnju prve tvornice šećera od šećerne repe u Francuskoj 1812.</a:t>
            </a:r>
            <a:endParaRPr b="0" lang="en-US" sz="28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484360" y="1989000"/>
            <a:ext cx="37054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Slatko je omiljeni ljudski okus koji mozak uči prepoznati od prvog dana života</a:t>
            </a: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4457520" cy="3343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292720" y="4724280"/>
            <a:ext cx="34653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Mnoge geografske destinacije dobile su ime po šećeru</a:t>
            </a: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716280" cy="5110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00720" y="2133720"/>
            <a:ext cx="417168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Tate se obogatio na kockicama šećera</a:t>
            </a:r>
            <a:endParaRPr b="0" lang="en-US" sz="40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851280" y="2276640"/>
            <a:ext cx="4695840" cy="3524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320040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Industrija šećera doživjela je još dvije revolucije</a:t>
            </a: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43210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Pojava šećernog sirupa od kukuruznih stabljika promijenila je industriju slatkih napitaka. Kukuruzni sirup ima mnogo fruktoze koja je najslađi šećer pa se isti osjećaj slatkoće u hladnim pićima postiže  dvostruko manjom količinom šećera.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Umjetna sladila su počela zamjenjivati stolni šećer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932360" y="2133720"/>
            <a:ext cx="29289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Sjeverna Amerika imala je svoju alternativu šećernog sirupa</a:t>
            </a:r>
            <a:endParaRPr b="0" lang="en-US" sz="40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11280" y="5744880"/>
            <a:ext cx="8145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3300"/>
                </a:solidFill>
                <a:latin typeface="Comic Sans MS"/>
              </a:rPr>
              <a:t>Plemena Algonquins, Iroquois i Ojibways znala su tehnologiju proizvodnje javorovog sirupa iz Acer saccharum. Mada sok teče u proljeće i iz drugog drveća, javor proizvodi više sirupa koji je slađi od svih ostalih vrsta.</a:t>
            </a:r>
            <a:endParaRPr b="0" lang="en-US" sz="18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4330800" cy="25527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148360" y="2133720"/>
            <a:ext cx="367956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Tehnologija proizvodnje javorovog sirupa jednostavnija je od tehnologije proizvodnje stolnog šećera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924360" y="1628640"/>
            <a:ext cx="2881080" cy="2170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3810240" cy="4543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859280" y="3894120"/>
            <a:ext cx="381636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mic Sans MS"/>
              </a:rPr>
              <a:t>Jedno stablo daje 20-60 litara so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mic Sans MS"/>
              </a:rPr>
              <a:t>Od 40 dijelova soka napravi se 1 dio sirupa ukuhavanj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mic Sans MS"/>
              </a:rPr>
              <a:t>Proizvodnja traje 6 tjedana u god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mic Sans MS"/>
              </a:rPr>
              <a:t>Uklanja se 10% cjelokupnog skladišta šećera u drve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mic Sans MS"/>
              </a:rPr>
              <a:t>Sok sadržava 3% saharoze na početku sezone, a polovicu toga na kraju se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omic Sans MS"/>
              </a:rPr>
              <a:t>Konačno sirup sadražava 62% saharoze, 34% vode, 3% glukoze i fruktoze i 0,5%malične kis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Može se načiniti i sirup od brezina soka</a:t>
            </a:r>
            <a:endParaRPr b="0" lang="en-US" sz="40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omic Sans MS"/>
              </a:rPr>
              <a:t>Ovaj sok ima samo 1% saharoze koji je smjesa glukoze i fruktoze</a:t>
            </a:r>
            <a:endParaRPr b="0" lang="en-US" sz="28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omic Sans MS"/>
              </a:rPr>
              <a:t>Treba sto dijelova soka za jedan dio sirupa</a:t>
            </a:r>
            <a:endParaRPr b="0" lang="en-US" sz="28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omic Sans MS"/>
              </a:rPr>
              <a:t>Radi postupka koncentracije ima intenzivniji okus karamela</a:t>
            </a:r>
            <a:endParaRPr b="0" lang="en-US" sz="28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29527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Najizdašniji izvor slatkog soka su tropske biljke</a:t>
            </a:r>
            <a:endParaRPr b="0" lang="en-US" sz="40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Azijska šećerna palma daje sok tijekom pola godine i do litre dnevno, a ovaj sadržava 12 % saharoze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Izdašan sok daju i kokosova palma i datula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Najslađi je sok agave koji se sastoji od 70%fruktoze i 20% glukoze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788000" y="4292640"/>
            <a:ext cx="2539800" cy="2120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227640" y="1557360"/>
            <a:ext cx="241956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3300"/>
                </a:solidFill>
                <a:latin typeface="Comic Sans MS"/>
              </a:rPr>
              <a:t>Neke biljke nemaju samo slatki sok unutar debla već i slatke ekskrete</a:t>
            </a: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3300"/>
                </a:solidFill>
                <a:latin typeface="Comic Sans MS"/>
              </a:rPr>
              <a:t>Tamariks je bila Biblijska mana</a:t>
            </a:r>
            <a:endParaRPr b="0" lang="en-US" sz="28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3300"/>
                </a:solidFill>
                <a:latin typeface="Comic Sans MS"/>
              </a:rPr>
              <a:t>Beduini ga i danas skupljaju i koriste u izradi slastica</a:t>
            </a:r>
            <a:endParaRPr b="0" lang="en-US" sz="28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211640" y="1700280"/>
            <a:ext cx="4535640" cy="3402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780000" y="4797360"/>
            <a:ext cx="252396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d kuda opsesija prehrambene industrije šećerom?</a:t>
            </a:r>
            <a:endParaRPr b="0" lang="en-US" sz="40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Robustan materijal koji se teško denaturira i koagulira za razliku od proteina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Ne pati od oštećenja zrakom kao masti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Šećeri su male i stabilne molekule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Saharoza ima veliki afinitet prema molekulama vode pa se čak dva dijela saharoze mogu otopiti u jednom dijelu vode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Lako kristaliziraju i karameliziraju (saharoza se otapa na 160</a:t>
            </a: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º</a:t>
            </a: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 i karamelizira na 170</a:t>
            </a: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º</a:t>
            </a: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3300"/>
                </a:solidFill>
                <a:latin typeface="Comic Sans MS"/>
              </a:rPr>
              <a:t>Što je karamelizacija?</a:t>
            </a: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529080" cy="32176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771640" y="2349360"/>
            <a:ext cx="4105440" cy="31114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5148360" y="3789360"/>
            <a:ext cx="36464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omic Sans MS"/>
              </a:rPr>
              <a:t>Sastav i relativna slatkoća različitih šećera</a:t>
            </a:r>
            <a:endParaRPr b="0" lang="en-US" sz="2800" spc="-1" strike="noStrike">
              <a:solidFill>
                <a:srgbClr val="663300"/>
              </a:solidFill>
              <a:latin typeface="Comic Sans MS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84360" y="1773360"/>
          <a:ext cx="7859520" cy="4841640"/>
        </p:xfrm>
        <a:graphic>
          <a:graphicData uri="http://schemas.openxmlformats.org/drawingml/2006/table">
            <a:tbl>
              <a:tblPr/>
              <a:tblGrid>
                <a:gridCol w="2620800"/>
                <a:gridCol w="2617920"/>
                <a:gridCol w="2620800"/>
              </a:tblGrid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3300"/>
                          </a:solidFill>
                          <a:latin typeface="Comic Sans MS"/>
                          <a:ea typeface="Arial"/>
                        </a:rPr>
                        <a:t>Šeć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3300"/>
                          </a:solidFill>
                          <a:latin typeface="Comic Sans MS"/>
                          <a:ea typeface="Arial"/>
                        </a:rPr>
                        <a:t>Sasta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3300"/>
                          </a:solidFill>
                          <a:latin typeface="Comic Sans MS"/>
                          <a:ea typeface="Arial"/>
                        </a:rPr>
                        <a:t>Relativna slatkoć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663300"/>
                          </a:solidFill>
                          <a:latin typeface="Comic Sans MS"/>
                          <a:ea typeface="Arial"/>
                        </a:rPr>
                        <a:t>frukto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3300"/>
                          </a:solidFill>
                          <a:latin typeface="Comic Sans MS"/>
                          <a:ea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663300"/>
                          </a:solidFill>
                          <a:latin typeface="Comic Sans MS"/>
                          <a:ea typeface="Arial"/>
                        </a:rPr>
                        <a:t>gluko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3300"/>
                          </a:solidFill>
                          <a:latin typeface="Comic Sans MS"/>
                          <a:ea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663300"/>
                          </a:solidFill>
                          <a:latin typeface="Comic Sans MS"/>
                          <a:ea typeface="Arial"/>
                        </a:rPr>
                        <a:t>saharo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3300"/>
                          </a:solidFill>
                          <a:latin typeface="Comic Sans MS"/>
                          <a:ea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663300"/>
                          </a:solidFill>
                          <a:latin typeface="Comic Sans MS"/>
                          <a:ea typeface="Arial"/>
                        </a:rPr>
                        <a:t>malto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3300"/>
                          </a:solidFill>
                          <a:latin typeface="Comic Sans MS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663300"/>
                          </a:solidFill>
                          <a:latin typeface="Comic Sans MS"/>
                          <a:ea typeface="Arial"/>
                        </a:rPr>
                        <a:t>Lakto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3300"/>
                          </a:solidFill>
                          <a:latin typeface="Comic Sans MS"/>
                          <a:ea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663300"/>
                          </a:solidFill>
                          <a:latin typeface="Comic Sans MS"/>
                          <a:ea typeface="Arial"/>
                        </a:rPr>
                        <a:t>Kukuruzni sir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600" spc="-1" strike="noStrike">
                          <a:solidFill>
                            <a:srgbClr val="663300"/>
                          </a:solidFill>
                          <a:latin typeface="Comic Sans MS"/>
                          <a:ea typeface="Arial"/>
                        </a:rPr>
                        <a:t>Glukoza, malto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3300"/>
                          </a:solidFill>
                          <a:latin typeface="Comic Sans MS"/>
                          <a:ea typeface="Arial"/>
                        </a:rPr>
                        <a:t>3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663300"/>
                          </a:solidFill>
                          <a:latin typeface="Comic Sans MS"/>
                          <a:ea typeface="Arial"/>
                        </a:rPr>
                        <a:t>Visoko-fruktozni kukuruzni sir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600" spc="-1" strike="noStrike">
                          <a:solidFill>
                            <a:srgbClr val="663300"/>
                          </a:solidFill>
                          <a:latin typeface="Comic Sans MS"/>
                          <a:ea typeface="Arial"/>
                        </a:rPr>
                        <a:t>Fruktoza, malto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3300"/>
                          </a:solidFill>
                          <a:latin typeface="Comic Sans MS"/>
                          <a:ea typeface="Arial"/>
                        </a:rPr>
                        <a:t>80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663300"/>
                          </a:solidFill>
                          <a:latin typeface="Comic Sans MS"/>
                          <a:ea typeface="Arial"/>
                        </a:rPr>
                        <a:t>Sirup od invertnog šeć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663300"/>
                          </a:solidFill>
                          <a:latin typeface="Comic Sans MS"/>
                          <a:ea typeface="Arial"/>
                        </a:rPr>
                        <a:t>Glukoza, fruktoza, saharo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3300"/>
                          </a:solidFill>
                          <a:latin typeface="Comic Sans MS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3300"/>
                </a:solidFill>
                <a:latin typeface="Comic Sans MS"/>
              </a:rPr>
              <a:t>Karamelizacija je kemijska reakcija do koje dolazi kada se neki šećer grije do stupnja kidanja molekula</a:t>
            </a:r>
            <a:endParaRPr b="0" lang="en-US" sz="28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3300"/>
                </a:solidFill>
                <a:latin typeface="Comic Sans MS"/>
              </a:rPr>
              <a:t>Od sasvim uniformnih i jednostavnih kristala grijanjem nastaje više od stotinu molekula od kojih su neke kisele ili gorke, druge samo smeđe obojene ili imaju neku posebnu aromu</a:t>
            </a: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3300"/>
                </a:solidFill>
                <a:latin typeface="Comic Sans MS"/>
              </a:rPr>
              <a:t>Što se šećer duže kuha sve je manje sladak, sve više gorak i smeđ</a:t>
            </a: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3300"/>
                </a:solidFill>
                <a:latin typeface="Comic Sans MS"/>
              </a:rPr>
              <a:t>Ako se kuhanom šećeru dodaju proteini i aminokiseline dolazi do Maillardove reakcije i nastaje još veći broj aromatičnih molekula</a:t>
            </a: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3300"/>
                </a:solidFill>
                <a:latin typeface="Comic Sans MS"/>
              </a:rPr>
              <a:t>Pravljenje bombona je topljenje šećera, kombiniranje aroma iz različitih smjesa šećera, proteina i masti i konačno rekristalizacija!</a:t>
            </a: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Pravila za proizvodnju bombona najfinije teksture</a:t>
            </a: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Da bi smo proizveli puno malih kristala iz sirupa šećera i drugih sastojaka (invertnog šećera, mlijeka, masti, želatine, kiseline):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U recept dodaj malo sirupa od kukuruza kako bi fruktoza omela formiranje kristala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S rubova posude makni sav osušeni sirup kako ove čestice ne bi postale jezgre kristalizacije prije no što se sirup počne hladiti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Dozvoli sirupu da se ohladi prije no što iniciraš kristalizaciju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Pazi da ne miješaš sirup dok se hladi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Kad je sirup hladan (sa 113</a:t>
            </a: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º</a:t>
            </a: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 na 43 </a:t>
            </a: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º</a:t>
            </a: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), miješaj neprekidno i žustro sve dok je sirup moguće oblikovati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3300"/>
                </a:solidFill>
                <a:latin typeface="Comic Sans MS"/>
              </a:rPr>
              <a:t>Kad ste postali majstor? Amezaiku?</a:t>
            </a:r>
            <a:endParaRPr b="0" lang="en-US" sz="40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84836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3738600" cy="41767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924360" y="1773360"/>
            <a:ext cx="493380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Kako je nastala čokolada?</a:t>
            </a: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511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3300"/>
                </a:solidFill>
                <a:latin typeface="Comic Sans MS"/>
              </a:rPr>
              <a:t>Drvo kakaovca evoluiralo je u riječnim dolinama ekvatorijalne Južne Amerike</a:t>
            </a: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3300"/>
                </a:solidFill>
                <a:latin typeface="Comic Sans MS"/>
              </a:rPr>
              <a:t>Narod Olmecs prvi ga je kultivirao i 600 p.n.e. prenio Mayama</a:t>
            </a: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3300"/>
                </a:solidFill>
                <a:latin typeface="Comic Sans MS"/>
              </a:rPr>
              <a:t>Maye su trgovale s Aztecima</a:t>
            </a: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3300"/>
                </a:solidFill>
                <a:latin typeface="Comic Sans MS"/>
              </a:rPr>
              <a:t>U Europu ga je prvi donio Kolumbo sa svog 4. putovanja 1502. godine</a:t>
            </a: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3300"/>
                </a:solidFill>
                <a:latin typeface="Comic Sans MS"/>
              </a:rPr>
              <a:t>1519. Cortez ga je uzeo iz dvorca Astečkog cara Montezume</a:t>
            </a: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3300"/>
                </a:solidFill>
                <a:latin typeface="Comic Sans MS"/>
              </a:rPr>
              <a:t>Čokolada je prvo bila samo piće koje se pilo u vrućoj vodi, pomiješano sa začinima kao što su aromatično cvijeće vanilije, čili i divlji med</a:t>
            </a:r>
            <a:endParaRPr b="0" lang="en-US" sz="20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651640" y="1413000"/>
            <a:ext cx="3174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Europa je imala svoje viđenje čokolade</a:t>
            </a:r>
            <a:endParaRPr b="0" lang="en-US" sz="40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5076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663300"/>
                </a:solidFill>
                <a:latin typeface="Comic Sans MS"/>
              </a:rPr>
              <a:t>1580. u Španjolskoj je otvorena prva tvornica čokoladne paste</a:t>
            </a:r>
            <a:endParaRPr b="0" lang="en-US" sz="1600" spc="-1" strike="noStrike">
              <a:solidFill>
                <a:srgbClr val="6633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33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663300"/>
                </a:solidFill>
                <a:latin typeface="Comic Sans MS"/>
              </a:rPr>
              <a:t>U samo jednom stoljeću čokolada se proširila u sve Europske zemlje</a:t>
            </a:r>
            <a:endParaRPr b="0" lang="en-US" sz="1600" spc="-1" strike="noStrike">
              <a:solidFill>
                <a:srgbClr val="6633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33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663300"/>
                </a:solidFill>
                <a:latin typeface="Comic Sans MS"/>
              </a:rPr>
              <a:t>1828 .Nizozemac Conrad van Houten smislio je kako ukloniti kakao maslac iz čokoladne paste i proizveo kakao u prahu</a:t>
            </a:r>
            <a:endParaRPr b="0" lang="en-US" sz="1600" spc="-1" strike="noStrike">
              <a:solidFill>
                <a:srgbClr val="6633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33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663300"/>
                </a:solidFill>
                <a:latin typeface="Comic Sans MS"/>
              </a:rPr>
              <a:t>Engleska firma Fry and Sons proizvela je prvu čokoladu miješajući kako prah i kako maslac</a:t>
            </a:r>
            <a:endParaRPr b="0" lang="en-US" sz="1600" spc="-1" strike="noStrike">
              <a:solidFill>
                <a:srgbClr val="6633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33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663300"/>
                </a:solidFill>
                <a:latin typeface="Comic Sans MS"/>
              </a:rPr>
              <a:t>1876. Švicarac Daniel Peter proizveo je prvu mliječnu čokoladu dodajući mlijeko u prahu, kojega je patentirao njegov zemljak Nestle</a:t>
            </a:r>
            <a:endParaRPr b="0" lang="en-US" sz="1600" spc="-1" strike="noStrike">
              <a:solidFill>
                <a:srgbClr val="6633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33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663300"/>
                </a:solidFill>
                <a:latin typeface="Comic Sans MS"/>
              </a:rPr>
              <a:t>1878. Conrad Lindt je smislio stroj koji je satima mljeo zrna kakaovca, šećer i mlijeko u prahu i tako proizveo čokoladu izvrsne teksture</a:t>
            </a:r>
            <a:endParaRPr b="0" lang="en-US" sz="1600" spc="-1" strike="noStrike">
              <a:solidFill>
                <a:srgbClr val="6633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33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663300"/>
                </a:solidFill>
                <a:latin typeface="Comic Sans MS"/>
              </a:rPr>
              <a:t>Prosječni Švicarac pojede 30g čokolade dnevno</a:t>
            </a:r>
            <a:endParaRPr b="0" lang="en-US" sz="16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995720" y="1989000"/>
            <a:ext cx="414828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Proizvodnja kvalitetne sirovine za čokoladu sastoji se u fermentaciji pulpe kakaovca, sušenju, prženju i mljevenju zrna</a:t>
            </a: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033800" cy="2342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2771640" y="3573360"/>
            <a:ext cx="4154760" cy="30924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6084720" y="1773360"/>
            <a:ext cx="2880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omic Sans MS"/>
              </a:rPr>
              <a:t>Konačni proizvod se razlikuje aromom i može imati 600 različitih molekula koje na to utiču</a:t>
            </a:r>
            <a:endParaRPr b="0" lang="en-US" sz="28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64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Masovna proizvodnja-zrna male kvalitete, šećer, mlijeko i kakao maslac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Fine čokolade-od selektiranih zrna kakaovca, proizvedene u malim serijama, visok postotak kakao maslaca i kakao praha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Tamne čokolade nemaju dodanog mlijeka, imaju i do 85% čokoladnog praha i čokoladnog maslaca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3300"/>
                </a:solidFill>
                <a:latin typeface="Comic Sans MS"/>
              </a:rPr>
              <a:t>Bijele čokolade nemaju u sebi kakao prah, već dezodorirani kako maslac, mlijeko i šećer (nastala 1930.)</a:t>
            </a:r>
            <a:endParaRPr b="0" lang="en-US" sz="24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788000" y="2133720"/>
            <a:ext cx="4176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50920" y="1628280"/>
            <a:ext cx="51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Još nisam sreo šećer koji mi se nije svidio!</a:t>
            </a:r>
            <a:endParaRPr b="0" lang="en-US" sz="40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114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3300"/>
                </a:solidFill>
                <a:latin typeface="Comic Sans MS"/>
              </a:rPr>
              <a:t>Cells are covered with a carbohydrate carpet</a:t>
            </a: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3898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5280" y="422100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Za razliku od mirisa, okus nije posebno diskriminativno svojstvo pa su potrebne veće koncentracije molek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644720" cy="2736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076720" y="2421000"/>
            <a:ext cx="326088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3300"/>
                </a:solidFill>
                <a:latin typeface="Comic Sans MS"/>
              </a:rPr>
              <a:t>... composed of glycoproteins and glycolipids</a:t>
            </a: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54704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ycolipids</a:t>
            </a: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556160" cy="57214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941720" y="1844640"/>
            <a:ext cx="4202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32767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Ganglioside</a:t>
            </a:r>
            <a:br>
              <a:rPr sz="4400"/>
            </a:b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structure</a:t>
            </a:r>
            <a:endParaRPr b="0" lang="en-US" sz="44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778200" y="0"/>
            <a:ext cx="536580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411280" y="4653000"/>
            <a:ext cx="24685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S vremenom naučimo cijeniti i druge okuse…</a:t>
            </a:r>
            <a:endParaRPr b="0" lang="en-US" sz="40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2663640" cy="1949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203640" y="3141720"/>
            <a:ext cx="547380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omic Sans MS"/>
              </a:rPr>
              <a:t>No nikad ne postanemo eksperti kao pripadnici nekih drugih vrsta</a:t>
            </a:r>
            <a:endParaRPr b="0" lang="en-US" sz="28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Prirodni izvori šećera:</a:t>
            </a:r>
            <a:endParaRPr b="0" lang="en-US" sz="40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Tropsko voće  (datule su 60% šećer)</a:t>
            </a: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Sušeno voće umjerene klime</a:t>
            </a: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Med (80% šećera)</a:t>
            </a: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Drvo palme iz južne Azije</a:t>
            </a: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Javor i breza u sjevernim šumama</a:t>
            </a: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Agava</a:t>
            </a: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Kukuruzne stabljike</a:t>
            </a: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Šećerna repa</a:t>
            </a:r>
            <a:endParaRPr b="0" lang="en-US" sz="3200" spc="-1" strike="noStrike">
              <a:solidFill>
                <a:srgbClr val="66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omic Sans MS"/>
              </a:rPr>
              <a:t>Ljudi se najmanje 10 000 godina izlažu riziku da bi došli do meda</a:t>
            </a:r>
            <a:endParaRPr b="0" lang="en-US" sz="28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4859280" y="1584360"/>
            <a:ext cx="374508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663300"/>
                </a:solidFill>
                <a:latin typeface="Comic Sans MS"/>
              </a:rPr>
              <a:t>Medonosna pčela, Apis mellifera, potiče iz Indi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663300"/>
                </a:solidFill>
                <a:latin typeface="Comic Sans MS"/>
              </a:rPr>
              <a:t>Medonosne pčele Novoga Svijeta pripadaju rodu </a:t>
            </a:r>
            <a:r>
              <a:rPr b="1" i="1" lang="hr-HR" sz="2000" spc="-1" strike="noStrike">
                <a:solidFill>
                  <a:srgbClr val="663300"/>
                </a:solidFill>
                <a:latin typeface="Comic Sans MS"/>
              </a:rPr>
              <a:t>Melipona</a:t>
            </a:r>
            <a:r>
              <a:rPr b="1" lang="hr-HR" sz="2000" spc="-1" strike="noStrike">
                <a:solidFill>
                  <a:srgbClr val="663300"/>
                </a:solidFill>
                <a:latin typeface="Comic Sans MS"/>
              </a:rPr>
              <a:t> i </a:t>
            </a:r>
            <a:r>
              <a:rPr b="1" i="1" lang="hr-HR" sz="2000" spc="-1" strike="noStrike">
                <a:solidFill>
                  <a:srgbClr val="663300"/>
                </a:solidFill>
                <a:latin typeface="Comic Sans MS"/>
              </a:rPr>
              <a:t>Trigona</a:t>
            </a:r>
            <a:r>
              <a:rPr b="1" lang="hr-HR" sz="2000" spc="-1" strike="noStrike">
                <a:solidFill>
                  <a:srgbClr val="663300"/>
                </a:solidFill>
                <a:latin typeface="Comic Sans MS"/>
              </a:rPr>
              <a:t> i žive isključivo u tropima. Neugodno bodu, a skupljaju slatki sok iz raznih izvora pa je med neobičnog oku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663300"/>
                </a:solidFill>
                <a:latin typeface="Comic Sans MS"/>
              </a:rPr>
              <a:t>Sjeverna Amerika nema udomaćene medonosne vrste do 1625., dok nije unesena </a:t>
            </a:r>
            <a:r>
              <a:rPr b="1" i="1" lang="hr-HR" sz="2000" spc="-1" strike="noStrike">
                <a:solidFill>
                  <a:srgbClr val="663300"/>
                </a:solidFill>
                <a:latin typeface="Comic Sans MS"/>
              </a:rPr>
              <a:t>Apis mellifera</a:t>
            </a:r>
            <a:r>
              <a:rPr b="1" lang="hr-HR" sz="2000" spc="-1" strike="noStrike">
                <a:solidFill>
                  <a:srgbClr val="6633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9280" y="5950080"/>
            <a:ext cx="388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Crtež iz Paukove spilje, Valencija, Španjolska, 8000 g.p.n.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237492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3300"/>
                </a:solidFill>
                <a:latin typeface="Comic Sans MS"/>
              </a:rPr>
              <a:t>Danas se u svijetu proizvodi više od 300 ‘monofloralnih’ medova…</a:t>
            </a:r>
            <a:br>
              <a:rPr sz="4000"/>
            </a:br>
            <a:endParaRPr b="0" lang="en-US" sz="28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5256360" y="1484280"/>
            <a:ext cx="388764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3300"/>
                </a:solidFill>
                <a:latin typeface="Comic Sans MS"/>
              </a:rPr>
              <a:t>Nektar je slatki sok kojeg proizvode biljke da bi privukle oprašivač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3300"/>
                </a:solidFill>
                <a:latin typeface="Comic Sans MS"/>
              </a:rPr>
              <a:t>Pretežno se sastoji od saharoze, fruktoze i gluko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3300"/>
                </a:solidFill>
                <a:latin typeface="Comic Sans MS"/>
              </a:rPr>
              <a:t>Nektar rododendrona iz okolice Ponta u Turskoj sadržava ‘grajanotoksin’ koji nije otrovan za pčele, ali je otrovan za lju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3300"/>
                </a:solidFill>
                <a:latin typeface="Comic Sans MS"/>
              </a:rPr>
              <a:t>Ako želite probati nešto novo kušajte med od kestena, limuna, lavande, timijana, origan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46083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3:03:19Z</dcterms:created>
  <dc:creator>x</dc:creator>
  <dc:description/>
  <dc:language>en-US</dc:language>
  <cp:lastModifiedBy>Marina Luetić</cp:lastModifiedBy>
  <dcterms:modified xsi:type="dcterms:W3CDTF">2009-10-12T09:31:52Z</dcterms:modified>
  <cp:revision>131</cp:revision>
  <dc:subject/>
  <dc:title>Nanotehnologija</dc:title>
</cp:coreProperties>
</file>