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22"/>
          </p:nvPr>
        </p:nvSpPr>
        <p:spPr>
          <a:xfrm>
            <a:off x="385776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3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4"/>
          </p:nvPr>
        </p:nvSpPr>
        <p:spPr>
          <a:xfrm>
            <a:off x="385776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4A39ED4-1C2E-4059-B50A-07E903021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EE253AC-A746-4244-91AC-10C511A005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088FD87-EEB2-4C2B-BFFB-B7AE3756E9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53A870A-FE41-40AC-B0AE-986EEC82437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129E042-A52F-4AE7-9BE6-2FD97678F7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B338876-4DCF-4252-BEF6-C306757C17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70D2448-EDD4-432F-8FE6-283461CB67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89C2521-BB0D-4739-92EC-EED052A67B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3B837F4-EE8B-4796-B292-E51BA32F155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791B885-2B7C-4CDB-9409-72C57A0AE6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2AA2C8B-9E0D-4DC6-8CAC-FBDA554491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57760" y="9443880"/>
            <a:ext cx="2952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D1B1811-8074-4F11-BD9F-6E8BA652C0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BAC-ED30-4F22-9B0B-3CAB94F9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91-25B8-4358-AB81-19017F28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084-B6BD-4B59-8918-E286F18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F09-191A-48C1-8761-188BCD4D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024-BBF2-45A3-B4BD-3101BD5E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8D1-8B10-4A17-A896-9EC433D7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CAE8-7E98-4EE5-98FB-CA1E0C0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4538-444F-4FC7-8725-A76A17B0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930-3805-455D-880D-8202E966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9EA-37B3-4EAB-96C1-64B9FBAD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9BED-0EEB-4B56-9F8E-1013097C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9DB-016B-4699-B85E-671535F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F7FE-3CB3-4D19-82FD-1F80EBE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E79A-3B6C-48BC-9DD1-1C835D5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4C1F-4BB2-4A1C-9A5B-317F950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992-1172-42EC-A2F4-1DD3E291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6469-CE4F-4A62-A815-EC8339AA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47458-6041-48E9-893D-42C04B8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3AA59-EC2F-448E-9EF5-5CF4B432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32612-065B-460A-862A-1858350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8FD4E-8672-4BF4-BB85-E66DA45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B5D5C-75E7-4F7B-BF55-088365C6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046-AB18-4682-8948-2A36BBF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04569-FA13-4C0D-B4E9-3C214B92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829F-3ACD-44DA-BFED-D39ADFC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DA004-D193-491F-9FCD-DE8365D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3CA99-8B25-498A-8651-A25536F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DD0CD-4E43-40BD-B7D8-A6E612B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EC02B-7ACC-43D3-BF3A-F42291DB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65E1B-6377-48FF-B440-D9D314C8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AE607-9EE9-463D-B2BC-0A2CCF9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B8DDA-41E1-4FD8-9BF8-FF0E359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6A3DA-1767-49F8-B5AC-7F66DB1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B40-6F3D-49D2-8A22-49F2076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E5CFA-C234-4566-A73F-A1F928CF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241FF-8518-497A-9D8E-2627BC77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33925-0155-49C6-96C6-A2D5C6B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721DE-9916-485A-B613-46FCE2C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66BFC-75BF-418D-80C1-607541F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A1B90-DE05-477A-8704-EB0CB7E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62C2C-55AF-4EDC-94AE-802FBFF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081F2-932D-41E0-962A-407C484F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D2247-23C7-4DC5-8565-01C53A70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F7E10-7A3E-4124-8B24-4E98538B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164-9598-4261-B231-F02B1AC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2B0F2-3FA8-427D-B2B2-A0C50F0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209B6-7D78-4BAE-A08C-A87980B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FF844-5DC4-4739-930F-B0E20401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46CAE-9766-4CFA-BD8E-E53A1ED0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9846D-0502-4BA0-9B43-0B60E04F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2BE14-BA00-496F-964A-7C50874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BBFCB-A50C-4E5F-9DA1-1575DA5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4E2C6-70FE-4D66-96BA-186C43EB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F20B5-B772-494C-B605-E33B599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3E87F-0DD8-435D-8444-A6534F71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1F8-48B7-4BAD-9166-45A1FC0B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DC4A3-0068-4128-884E-B9F2DA25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18EB0-612B-4058-A2DE-DD42EE36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93B4D-9508-40D7-94A2-E1984F7F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6AA87-C644-4DE2-9AEC-2628065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AF414-6450-43C9-9825-C865A082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0FD81-6D46-4AE4-B43E-97AB1BF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C3BB6-F50C-4754-8DF1-59E429CA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54F05-BC27-4EC1-8F67-CE64245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2C9E5-B156-477B-B7A5-11BE947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D523D-0B16-46D1-983D-C62F30C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8D6-BE4F-47BD-AB25-E6849D4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D0B8C-5D32-45D8-9656-93107DE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36CB3-3F5B-4BBA-89BB-DFC499F1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CD641-3C06-4E00-AA0E-A2A648BB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DED6-EEA1-415B-8620-5EA8D720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655D-BDD8-4387-B8A7-0FACB67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BE23A-5CA8-4892-B3CB-F916C6D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708C-D636-4B5A-8CB6-71A246C2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78FD-B26A-4B63-8D00-5BF0FF52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B0CF-448C-422C-94B6-FC04300B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1D1E-63A6-4CA8-A491-E48DAD2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9E0-3EDF-48C1-BF89-654B02D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60B5-2378-47BA-B77B-BA07394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CC8F-6C60-4598-B1E8-C7B99D6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859D-7703-4CB4-9D65-2779AC8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CEB3-48B9-4F3B-BE15-7E86B901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17AE-D5EF-4E8F-9707-9D1A7740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89F-B71F-4D5C-B5BD-523B220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9e5dc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088-0C04-4F71-9F6B-46472D2601C2}" type="slidenum">
              <a:rPr b="1" lang="en-GB" sz="1400" spc="-1" strike="noStrike">
                <a:solidFill>
                  <a:srgbClr val="e9e5dc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538-AB48-4E04-AC13-AFC5F2DBFA9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656-D0E3-4672-BD9D-17E97B959712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7A2A-0A2E-4900-B32A-837343921DA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558-9656-49E5-BD38-8F9176033C8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F26-B60C-4B24-BFAB-BC69E966E45F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579-DBF3-4516-B789-FACB18479030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w Cen MT"/>
              </a:rPr>
              <a:t>Metrijske karakteristike zadataka – osnovne pojmovi</a:t>
            </a:r>
            <a:br>
              <a:rPr sz="3600"/>
            </a:br>
            <a:endParaRPr b="0" lang="en-US" sz="36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900000" y="436572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Dr.sc. Boris Joki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Institut za društvena istraživanja u Zagreb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w Cen MT"/>
              </a:rPr>
              <a:t>Centar za istraživanje i razvoj obrazov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Analiza testa iz Biologije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Ocjenj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Ocjenjivanje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Određivanje kriterija za određenu ocje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Broj bodova koji su potrebni za ocje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ećina nastavnika konvencionalno upotrebljava pravilo da je za ocjenu dovoljan potrebno imati 50% mogućih bodova na test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Je li to opravdan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Ocjenjivanje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Nedovoljan – 0 - 1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Dovoljan – 12 - 1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Dobar – 15 –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rlo dobar – 19 – 2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Odličan – 22 - 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Koliko navedeno odgovara analizi po česticama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Bi li se na osnovu navedene analize trebalo drugačije pristupiti ocjenjivanju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9640" y="3213000"/>
            <a:ext cx="80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Hval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96464"/>
                </a:solidFill>
                <a:latin typeface="Tw Cen MT"/>
              </a:rPr>
              <a:t>Struktura izlaganja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24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Osnovni pojmov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Indeks tež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4b4747"/>
                </a:solidFill>
                <a:latin typeface="Tw Cen MT"/>
              </a:rPr>
              <a:t>Analiza distrakto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Analiza testa iz Biologije (inačica A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Ocjenjiv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Populacijski podaci o zaključnom ocjenjivanju iz Biologije i Kemije u osnovnim školama u R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b4747"/>
                </a:solidFill>
                <a:latin typeface="Tw Cen MT"/>
              </a:rPr>
              <a:t>Stav učenika prema Biologiji i Kemiji u OŠ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84360" y="270828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Osnovni pojm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Težina zadatka – indeks težine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4250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ndeks težine (p – vrijednost) se izračunava kao postotak ili proporcija učenika iz neke ispitivane populacije koji točno rješava zadatak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od zadataka višestrukog izbora, p – vrijednost se izračunava kao postotak od maksimalnog broja bodova na zadatku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Što je p vrijednost veća, zadatak je lakši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Najkorisniji su zadaci koji su osrednje teški za ispitivanu populaciju učenika. Zadaci koji su suviše lagani, kao i oni koji su suviše teški ne daju mnogo informacija o mjerenoj osobini, jer ne razlikuju dobro učenik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43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Težina zadatka – indeks težine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4250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sim toga, izrazito lagani zadaci mogu zbuniti učenike, posebno one „dobre“ koji mogu pomisliti da zadatak postavlja neki skriveni problem, pa odgovaraju odabiranjem nekog drugog, a ne očigledno točnog odgovora. Takvi zadaci također neće dobro razlikovati „bolje“ od „lošijih“ učenik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ako preporučena težina zadataka ovisi o svrsi testiranja i osobinama populacije učenika, opća je preporuka da zadaci u testu ne bi trebali imati p – vrijednosti manje od 30% i veće od 80%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trebno je osigurati da se zadatci budu napravljani tako da razlikuju one koji posjeduju ključna znanja i vještine od onih koji ih ne posjeduju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ndeks diskriminativnosti zadatka računa se kao korelacija zadatka i učinka na cijelom testu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dijelite svoje učenike u dvije cjeline prema broju bodova na testu. Za svaku pitanje odredite broj učenika koji su točno riješili zadatak u svakoj od skupina. Od broja učenika s točno riješenim zadatkom iz skupine boljih oduzmite broj učenika koji su uspješno riješili zadatak u skupini lošijih. Taj broj podijelite s brojem učenika u svakoj skupini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ndeksi ne bi smjeli biti negativni (što indicira da učenici koji postižu na cijelom testu lošiji rezultat bolje rješavaju taj zadatak od učenika koji ostvaruju ukupno bolji rezultat) niti blizu 0 (što indicira da zadatak ne razlikuje one koji postižu lošiji i bolji rezultat na cijelom testu). Što je veća i pozitivnija vrijednosti indeksa diskriminativnosti zadatka, to znači da on bolje razlikuje „dobre“ i „loše“ učenike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69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7600" indent="-417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ao i kod indeksa težine, minimalne vrijednosti diskriminativnosti zadatka ovise o svrsi mjerenja i osobinama populacije učenika. Što je populacija učenika homogenija tj. izjednačenija u mjerenoj osobini, teže je postići visoke indekse diskriminativnosti zadatka. Također, višedimenzionalni testovi tj. oni koji mjere različite faktore ili pod-domene dovode do nižih indeksa diskriminativnosti u odnosu na testove koji su jednodimenzionalni te mjere samo jedan faktor. Niski indeks diskriminativnosti može značiti da taj zadatak ima različit predmet mjerenja u odnosu na druge zadatk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17600" indent="-41760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Ipak, može se reći da zadaci s koeficijentima korelacije ispod 0,10 (a ponegdje i ispod 0,20) trebaju biti ponovno pregledani i revidirani od strane stručnih radnih skupina. Indeksi diskriminativnosti preko 0,30 smatraju se dobrim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50920" y="27468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b4747"/>
                </a:solidFill>
                <a:latin typeface="Tw Cen MT"/>
              </a:rPr>
              <a:t>Indeks diskrimina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b4747"/>
                </a:solidFill>
                <a:latin typeface="Tw Cen MT"/>
              </a:rPr>
              <a:t>Analiza distraktora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pomaže u ocjenjivanju kvalitete pojedinog zadatka. U zadacima višestrukog izbora provjerava se koliko je učenika izabralo pojedini odgovor. Prije bodovanja zadataka, potrebno je provjeriti obrasce odgovaranja za sve opcije odgovora, a ne samo za točni odgovor. Ukoliko je 35% ili više učenika izabralo neki odgovor koji nije točan treba provjeriti radi li se doista o netočnom odgovoru. Vrlo je važno utvrditi da je taj odgovor netočan u svakom razmatranju odgovaranja na postavljeno pitanje, a ne samo da je odgovor koji je označen kao točan bolji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pomaže i u otklanjanju nedjelotvornih distraktora. Odgovore koje nitko ne bira nema smisla uključivati u zadatak. Potrebno je ili pronaći drugi distraktor ili smanjiti broj ponuđenih odgovora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w Cen MT"/>
              </a:rPr>
              <a:t>Analiza distraktora može ukazivati i na tendenciju pogađanja kod učenika. Ako se različiti odgovori pojavljuju podjednako često kao izbor učenika, može se posumnjati u to da su učenici nasumce odgovarali.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7:23:09Z</dcterms:created>
  <dc:creator>Petar Bezinović</dc:creator>
  <dc:description/>
  <dc:language>en-US</dc:language>
  <cp:lastModifiedBy>BORIS</cp:lastModifiedBy>
  <dcterms:modified xsi:type="dcterms:W3CDTF">2010-09-07T08:34:42Z</dcterms:modified>
  <cp:revision>88</cp:revision>
  <dc:subject/>
  <dc:title>Samovrednovanje škola korištenje rezultata nacionalnih ispita za unaprjeđivanje rada škola</dc:title>
</cp:coreProperties>
</file>