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520-0E7C-4C07-B5EE-433554FA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9C2-7317-4D47-8240-8073B86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75B-8F53-48D2-BEC9-BA44E96D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F6F-BE6E-40C6-975C-B3BAC0F9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5169-CDF7-40D8-BB70-79EC4ECB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CEA8-9E35-41CC-850E-436F6F7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FAD6-F34B-4C5A-8358-62FD8C33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739-52A3-42B8-A115-453A78E3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80BD-1396-4F9B-BEB2-F29CFA14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C5F2-FBB1-4E6B-842D-654ECDE4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258-A652-4A47-B74A-78999AF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42D-C547-44F8-A0DF-28976FB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B60F-F1EA-4285-91F1-4935085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F2A-8410-4A23-B58E-27BB856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C418-D55F-4656-936C-669ABC6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6ED7-AA55-4DFC-93D0-1AB86D2E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159-086E-41E5-B967-9497EE8A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B30-F2BA-4967-ABC4-F974098B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9BF-848E-40BD-AA02-956D4B8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CF3-4015-4DA5-B284-FE96E34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1EF-0D63-4219-9D9D-EA229A6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89C-0A42-4501-AB5A-8791CCF9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499-5A07-4B06-865F-4A716C6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B7F-0700-4385-BDA7-786DE3A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549E-ECC6-4532-A848-26659F043A4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646-0246-46BE-8866-A1F3BEE234C8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0099"/>
                </a:solidFill>
                <a:latin typeface="Times New Roman"/>
              </a:rPr>
              <a:t>Vrednovanje nastavnog procesa primjenom i varijabilnošću strategija poučavanja u cilju realizacije nastavnog plana i programa</a:t>
            </a:r>
            <a:br>
              <a:rPr sz="4000"/>
            </a:b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r.sc. Marija Pav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tručni skup AZOO, lipanj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rimjer PIP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16286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Vrste tv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ljučni pojmovi:  elementarna tvar, kemijski spoj, metali, nemet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brazovna postignuća: na temelju pokusa shvatiti razliku između elementarnih tvari (metali i nemetali) i kemijskih spojeva; načiniti jednostavniju sintezu spoja iz elementarnih tvari ili razložiti neki spoj na elementarne tvari; upoznati različite vrste kemijskih spojeva (tvari) koje se rabe u kućanstvu (kiseline, lužine i soli) te s pomoću njih usvojiti pojmove kiselina, lužina i sol; shvatiti da su indikatori kiselina i lužina vrste kemijskih spojeva koji mijenjaju boju u kiselim i lužnatim otopinama (čaj, sok crvenoga kupusa, lakmus, metiloranž, fenolftale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rimjer PIP – </a:t>
            </a:r>
            <a:r>
              <a:rPr b="0" lang="hr-HR" sz="2800" spc="-1" strike="noStrike">
                <a:solidFill>
                  <a:srgbClr val="990099"/>
                </a:solidFill>
                <a:latin typeface="Times New Roman"/>
              </a:rPr>
              <a:t>ciljevi i zadaće kemije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42560" y="162864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jecanje znanja o najvažnijim kemijskim procesima te razumijevanje kemijskih procesa i zakonit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đenje u istraživanje i vježbanje primjene znanstvenih metoda (razvijanje umijeća pozorna promatranja i bilježenja pojava u prirodi ili tijekom izvođenja pokusa; vježbanje opisivanja rezultata; opažanja i tumačenja pojava na temelju usvojenih teorija i modela; vježbanje prikazivanja rezultata pokusa (mjerenja) tablicama i grafikonima; njegovanje i razvijanje umijeća shematskoga prikazivanja (crtanja laboratorijskoga pribora) i izradbe skica pokusa (shem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ijanje umijeća sigurnoga i urednoga rukovanja kemijskim priborom i kemikalij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rimjer PIP – </a:t>
            </a:r>
            <a:r>
              <a:rPr b="0" lang="hr-HR" sz="2800" spc="-1" strike="noStrike">
                <a:solidFill>
                  <a:srgbClr val="990099"/>
                </a:solidFill>
                <a:latin typeface="Times New Roman"/>
              </a:rPr>
              <a:t>ciljevi i zadaće kemije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42560" y="1628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ijanje ekološke svijesti i odgovornosti prema radnom i životnom okruženj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ijanje sposobnosti opisivanja uočenih pojava (promjena), izricanja vlastitoga mišljenja i postavljanja pitanja koja potiču rasprav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ijanje sposobnosti logičkoga zaključivanja, apstraktnoga, kritičkog i kreativnoga mišljen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posobljavanje za samostalno rješavanje proble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posobljavanje za timski rad (razvijanje navike timskoga rada i suradničkog učenj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vajanje vještine rada prema uputama i davanje uputa za rad drug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0099"/>
                </a:solidFill>
                <a:latin typeface="Times New Roman"/>
              </a:rPr>
              <a:t>Ishodi učenja i metode poučavanja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676520"/>
          <a:ext cx="7467480" cy="4703760"/>
        </p:xfrm>
        <a:graphic>
          <a:graphicData uri="http://schemas.openxmlformats.org/drawingml/2006/table">
            <a:tbl>
              <a:tblPr/>
              <a:tblGrid>
                <a:gridCol w="3733560"/>
                <a:gridCol w="373392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RAZINA POSTIGNUĆ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MET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SJEĆ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avanje, seminarski rad, rad na teks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UMIJE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ženje i analiziranje primjera, uspoređivanje pojmova i teorija, rasprave, upotreba grafova, tablica, dijagrama…, traženje analogija, stvaranje mod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JENJI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rada pokusa, izrada projekta, rješavanje problema, prepoznavanje kemijskih reakcija, konstruirati prema uputama, eksperi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IZ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ize, rasprave, seminarski rad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EZA - PROSUĐI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ne diskusije, izvještaji, samo-evalu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EDNOVANJE - STVA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brojati prednosti i nedostatke, napisati prikaz istraživanja, metode ili teorije, samostalno istraži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enje novog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činje provjerom učenikova predznanja, na koje se nadograđuje novo znanje – </a:t>
            </a:r>
            <a:r>
              <a:rPr b="0" lang="hr-HR" sz="2800" spc="-1" strike="noStrike">
                <a:solidFill>
                  <a:srgbClr val="ff9933"/>
                </a:solidFill>
                <a:latin typeface="Times New Roman"/>
              </a:rPr>
              <a:t>KONSTRUKTIV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 usmjeren na prepoznavanje i uklanjanje prepreka u postizanju učenikova razumije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Fleksibilno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mijenjanje metoda poučavanja kako bi se učenike potaknulo na primjenu strategija učenja koje potiču strukturiranje i povezivanje gradiva, te promišljanje o svrsi učenja i razvoj kritičkog odnosa prema onome što se u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nstruktivistička teorija uče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6 pretpostav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je ne ovisi samo o okolini u kojoj se uči, već i o znanju onih koji uč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je podrazumijeva konstrukciju zna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strukcija značenja je neprekidan i aktivan pro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struirano značenje se evaluira, te može biti prihvaćeno ili odbač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ici imaju krajnju odgovornost za njihovo u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ici konstruiraju značenje uslijed mnogobrojnih iskustava sa fizičkim svijetom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ako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laniranje nastavnog predm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stupnost u strukturiranju grad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vnoteža između širine i dubine obuhvaćenog grad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herentnost grad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elevantnost gradiva za učen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siguravanje aktivnog i iskustvenog pristupa gradi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mrežavanje (povezivanje)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rijednosti i skriveni kurik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ilovi poučava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dividualne razlike onoga koji pouč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e uzima u obzir vrijednosnu racional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strumentalna je i pretpostavlja da je postignuće određenih ciljeva uvijek znak dobrog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glašava ishode, a ne uzima u obzir ishode nenamjernog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pćenit je i nisu mu važne socijalne, kulturne i individualne raz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drazumijeva da je učenje uvijek mjerlj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učavanja se depersonaliz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moevaluacija primijenjenih metoda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il poučavanja i razumijevan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ygotsky (1978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azumijevanje učenika ne razvija se samo kroz njihovu interakciju s objektivnim svijetom već također kroz njihove aktivne susrete s drugima u odnosu na svij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=&gt; učiteljev stil pomaže razvoju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čenikovog razumij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tjecaj na uspjeh u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gnitivne kompetencije uče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stavnikovo vođenje raz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enikovo kućno okruženje i potpora rodit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akognitivne kompetencije učit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akognitivne kompetencije uče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terakcija nastavnika i učenika pri uč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litika drž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vantiteta nast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Školska 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13800" y="2708280"/>
            <a:ext cx="11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urik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320520" y="2666880"/>
            <a:ext cx="264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ilje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hodi uče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tivnost uočlji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rađena i mjerlj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2819520" y="2895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2063880" y="2144880"/>
            <a:ext cx="4435200" cy="500040"/>
          </a:xfrm>
          <a:custGeom>
            <a:avLst/>
            <a:gdLst/>
            <a:ahLst/>
            <a:rect l="l" t="t" r="r" b="b"/>
            <a:pathLst>
              <a:path w="2794" h="315">
                <a:moveTo>
                  <a:pt x="0" y="315"/>
                </a:moveTo>
                <a:cubicBezTo>
                  <a:pt x="194" y="238"/>
                  <a:pt x="389" y="162"/>
                  <a:pt x="591" y="105"/>
                </a:cubicBezTo>
                <a:cubicBezTo>
                  <a:pt x="634" y="93"/>
                  <a:pt x="680" y="92"/>
                  <a:pt x="724" y="81"/>
                </a:cubicBezTo>
                <a:cubicBezTo>
                  <a:pt x="784" y="65"/>
                  <a:pt x="834" y="31"/>
                  <a:pt x="895" y="19"/>
                </a:cubicBezTo>
                <a:cubicBezTo>
                  <a:pt x="1064" y="21"/>
                  <a:pt x="1488" y="0"/>
                  <a:pt x="1720" y="42"/>
                </a:cubicBezTo>
                <a:cubicBezTo>
                  <a:pt x="1759" y="69"/>
                  <a:pt x="1791" y="87"/>
                  <a:pt x="1837" y="97"/>
                </a:cubicBezTo>
                <a:cubicBezTo>
                  <a:pt x="1880" y="88"/>
                  <a:pt x="1892" y="80"/>
                  <a:pt x="1922" y="50"/>
                </a:cubicBezTo>
                <a:cubicBezTo>
                  <a:pt x="1947" y="85"/>
                  <a:pt x="1974" y="82"/>
                  <a:pt x="2016" y="89"/>
                </a:cubicBezTo>
                <a:cubicBezTo>
                  <a:pt x="2230" y="177"/>
                  <a:pt x="2093" y="142"/>
                  <a:pt x="2491" y="151"/>
                </a:cubicBezTo>
                <a:cubicBezTo>
                  <a:pt x="2570" y="171"/>
                  <a:pt x="2652" y="186"/>
                  <a:pt x="2732" y="198"/>
                </a:cubicBezTo>
                <a:cubicBezTo>
                  <a:pt x="2784" y="216"/>
                  <a:pt x="2764" y="207"/>
                  <a:pt x="2794" y="2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9"/>
          <p:cNvSpPr/>
          <p:nvPr/>
        </p:nvSpPr>
        <p:spPr>
          <a:xfrm>
            <a:off x="2209680" y="3581280"/>
            <a:ext cx="4191120" cy="304920"/>
          </a:xfrm>
          <a:custGeom>
            <a:avLst/>
            <a:gdLst/>
            <a:ahLst/>
            <a:rect l="l" t="t" r="r" b="b"/>
            <a:pathLst>
              <a:path w="2640" h="192">
                <a:moveTo>
                  <a:pt x="0" y="0"/>
                </a:moveTo>
                <a:cubicBezTo>
                  <a:pt x="68" y="96"/>
                  <a:pt x="136" y="192"/>
                  <a:pt x="576" y="192"/>
                </a:cubicBezTo>
                <a:cubicBezTo>
                  <a:pt x="1016" y="192"/>
                  <a:pt x="2296" y="32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"/>
          <p:cNvSpPr/>
          <p:nvPr/>
        </p:nvSpPr>
        <p:spPr>
          <a:xfrm>
            <a:off x="2103480" y="3521160"/>
            <a:ext cx="4383000" cy="1768320"/>
          </a:xfrm>
          <a:custGeom>
            <a:avLst/>
            <a:gdLst/>
            <a:ahLst/>
            <a:rect l="l" t="t" r="r" b="b"/>
            <a:pathLst>
              <a:path w="2761" h="1114">
                <a:moveTo>
                  <a:pt x="53" y="0"/>
                </a:moveTo>
                <a:cubicBezTo>
                  <a:pt x="50" y="13"/>
                  <a:pt x="45" y="26"/>
                  <a:pt x="45" y="39"/>
                </a:cubicBezTo>
                <a:cubicBezTo>
                  <a:pt x="45" y="203"/>
                  <a:pt x="0" y="376"/>
                  <a:pt x="123" y="499"/>
                </a:cubicBezTo>
                <a:cubicBezTo>
                  <a:pt x="138" y="514"/>
                  <a:pt x="156" y="528"/>
                  <a:pt x="169" y="545"/>
                </a:cubicBezTo>
                <a:cubicBezTo>
                  <a:pt x="199" y="583"/>
                  <a:pt x="215" y="614"/>
                  <a:pt x="263" y="631"/>
                </a:cubicBezTo>
                <a:cubicBezTo>
                  <a:pt x="324" y="692"/>
                  <a:pt x="238" y="610"/>
                  <a:pt x="325" y="678"/>
                </a:cubicBezTo>
                <a:cubicBezTo>
                  <a:pt x="363" y="708"/>
                  <a:pt x="390" y="734"/>
                  <a:pt x="434" y="755"/>
                </a:cubicBezTo>
                <a:cubicBezTo>
                  <a:pt x="493" y="843"/>
                  <a:pt x="613" y="849"/>
                  <a:pt x="707" y="872"/>
                </a:cubicBezTo>
                <a:cubicBezTo>
                  <a:pt x="769" y="867"/>
                  <a:pt x="831" y="864"/>
                  <a:pt x="893" y="857"/>
                </a:cubicBezTo>
                <a:cubicBezTo>
                  <a:pt x="942" y="852"/>
                  <a:pt x="963" y="779"/>
                  <a:pt x="995" y="748"/>
                </a:cubicBezTo>
                <a:cubicBezTo>
                  <a:pt x="1010" y="696"/>
                  <a:pt x="1023" y="643"/>
                  <a:pt x="1041" y="592"/>
                </a:cubicBezTo>
                <a:cubicBezTo>
                  <a:pt x="1060" y="620"/>
                  <a:pt x="1083" y="643"/>
                  <a:pt x="1104" y="670"/>
                </a:cubicBezTo>
                <a:cubicBezTo>
                  <a:pt x="1143" y="789"/>
                  <a:pt x="1110" y="673"/>
                  <a:pt x="1127" y="927"/>
                </a:cubicBezTo>
                <a:cubicBezTo>
                  <a:pt x="1129" y="950"/>
                  <a:pt x="1141" y="953"/>
                  <a:pt x="1150" y="973"/>
                </a:cubicBezTo>
                <a:cubicBezTo>
                  <a:pt x="1177" y="1035"/>
                  <a:pt x="1148" y="1007"/>
                  <a:pt x="1189" y="1036"/>
                </a:cubicBezTo>
                <a:cubicBezTo>
                  <a:pt x="1209" y="1093"/>
                  <a:pt x="1180" y="1022"/>
                  <a:pt x="1220" y="1082"/>
                </a:cubicBezTo>
                <a:cubicBezTo>
                  <a:pt x="1225" y="1089"/>
                  <a:pt x="1222" y="1100"/>
                  <a:pt x="1228" y="1106"/>
                </a:cubicBezTo>
                <a:cubicBezTo>
                  <a:pt x="1234" y="1112"/>
                  <a:pt x="1243" y="1111"/>
                  <a:pt x="1251" y="1113"/>
                </a:cubicBezTo>
                <a:cubicBezTo>
                  <a:pt x="1389" y="1107"/>
                  <a:pt x="1397" y="1114"/>
                  <a:pt x="1493" y="1067"/>
                </a:cubicBezTo>
                <a:cubicBezTo>
                  <a:pt x="1531" y="1027"/>
                  <a:pt x="1538" y="993"/>
                  <a:pt x="1555" y="942"/>
                </a:cubicBezTo>
                <a:cubicBezTo>
                  <a:pt x="1562" y="858"/>
                  <a:pt x="1566" y="758"/>
                  <a:pt x="1594" y="678"/>
                </a:cubicBezTo>
                <a:cubicBezTo>
                  <a:pt x="1599" y="612"/>
                  <a:pt x="1583" y="571"/>
                  <a:pt x="1633" y="537"/>
                </a:cubicBezTo>
                <a:cubicBezTo>
                  <a:pt x="1676" y="449"/>
                  <a:pt x="1783" y="460"/>
                  <a:pt x="1866" y="436"/>
                </a:cubicBezTo>
                <a:cubicBezTo>
                  <a:pt x="1882" y="431"/>
                  <a:pt x="1897" y="426"/>
                  <a:pt x="1913" y="421"/>
                </a:cubicBezTo>
                <a:cubicBezTo>
                  <a:pt x="1929" y="416"/>
                  <a:pt x="1960" y="405"/>
                  <a:pt x="1960" y="405"/>
                </a:cubicBezTo>
                <a:cubicBezTo>
                  <a:pt x="2036" y="425"/>
                  <a:pt x="2109" y="450"/>
                  <a:pt x="2185" y="467"/>
                </a:cubicBezTo>
                <a:cubicBezTo>
                  <a:pt x="2216" y="514"/>
                  <a:pt x="2207" y="512"/>
                  <a:pt x="2256" y="561"/>
                </a:cubicBezTo>
                <a:cubicBezTo>
                  <a:pt x="2269" y="574"/>
                  <a:pt x="2302" y="592"/>
                  <a:pt x="2302" y="592"/>
                </a:cubicBezTo>
                <a:cubicBezTo>
                  <a:pt x="2377" y="589"/>
                  <a:pt x="2453" y="594"/>
                  <a:pt x="2528" y="584"/>
                </a:cubicBezTo>
                <a:cubicBezTo>
                  <a:pt x="2534" y="583"/>
                  <a:pt x="2537" y="548"/>
                  <a:pt x="2544" y="530"/>
                </a:cubicBezTo>
                <a:cubicBezTo>
                  <a:pt x="2563" y="485"/>
                  <a:pt x="2579" y="421"/>
                  <a:pt x="2606" y="382"/>
                </a:cubicBezTo>
                <a:cubicBezTo>
                  <a:pt x="2611" y="366"/>
                  <a:pt x="2627" y="324"/>
                  <a:pt x="2637" y="312"/>
                </a:cubicBezTo>
                <a:cubicBezTo>
                  <a:pt x="2643" y="305"/>
                  <a:pt x="2653" y="302"/>
                  <a:pt x="2660" y="296"/>
                </a:cubicBezTo>
                <a:cubicBezTo>
                  <a:pt x="2695" y="267"/>
                  <a:pt x="2731" y="237"/>
                  <a:pt x="2761" y="2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971800" y="1295280"/>
            <a:ext cx="3124080" cy="4419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t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ja i pouč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il pouč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tiv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t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Metodika i didaktik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tjecaj na uspjeh u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0. Kultur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1. Organizacija nastavn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2. Učenikovo porijek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3. Kvaliteta nast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4. Motivacijski i afektivni čimbe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5. Razredno ozrač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6. Ponašanje učenika u slobodno vrij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7. Smisao onoga što se u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Odnos subjekta prema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ktivan – izravna komunikacija s gradivom zasnovana na uviđanju i rješavanju problema – učenje rasuđivanjem – ubraja se među najslože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reativan – učenje stvaralaštvom za stvaralaš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asivan – kontakt s gradivom, ali na niskoj razini – nekritičko usvajanje podataka bez ulaženja u suštinu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akvo poučavanje potiče na aktivno učenje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ohn Biggs, 1999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ikladan motivacijski konte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asno istaknut cilj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isok stupanj učenikove samostalnosti i aktiviteta prema uč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isok stupanj interakcije s drugima u prorađivanju onoga što se treba nauč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obro strukturirana ključna znanja u područ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jenjivanje stečenog znanja u skladu s postavljenim nastavnim cilje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066680" y="5715000"/>
            <a:ext cx="77724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nstruktivno poravnavanje”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tivno učenje je individualna 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</a:rPr>
              <a:t>konstrukci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nja – davanje značenja onome što se u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itelj stvara pogodno okružje za u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ju se daje značenje/smisao kada je 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tivno, konstruktivno i reflektivno, intencionalno (orijentirano na cilj), autentično (kompleksno i kontekstualno), kooperativ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ranice “površnog” učenja: slabo/kratkotrajno zadržavanje činjenica, rijetko stvaranje novih ideja, smetnje kod razumijevanje sličnih koncepata, nemogućnost upotrebe novog znanja za rješavanj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8000"/>
                </a:solidFill>
                <a:latin typeface="Times New Roman"/>
              </a:rPr>
              <a:t>Kako učenikova aktivnost odgovara onome što učitelj smatra da treba bit naučeno (učiteljeva namjera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Ne-konstruktivno poravnavanje”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523880" y="1828800"/>
            <a:ext cx="243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itelj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namj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bjas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ovezati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dokaz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imije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876640" y="1828800"/>
            <a:ext cx="1511280" cy="8254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enik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aktiv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352680" y="2209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279600" y="18288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892600" y="4495680"/>
            <a:ext cx="3276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kontrola/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znanja usmeno i pis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mj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sposobnost memorir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traži op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3962520" y="1828800"/>
            <a:ext cx="457200" cy="3808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4038120" y="1828800"/>
            <a:ext cx="304920" cy="3049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3159000" y="35798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 flipV="1">
            <a:off x="5486400" y="274284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22440" y="32734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smjeren pr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ntroli zn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371600" y="1828800"/>
            <a:ext cx="1523880" cy="8380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819520" y="4495680"/>
            <a:ext cx="3352680" cy="8384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3273840" y="2438280"/>
            <a:ext cx="220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tivacija pu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ja i pouča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8"/>
          <p:cNvSpPr/>
          <p:nvPr/>
        </p:nvSpPr>
        <p:spPr>
          <a:xfrm flipH="1" flipV="1">
            <a:off x="2743200" y="27428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1066680" y="1143000"/>
            <a:ext cx="1676520" cy="533520"/>
          </a:xfrm>
          <a:prstGeom prst="wedgeEllipseCallout">
            <a:avLst>
              <a:gd name="adj1" fmla="val 40717"/>
              <a:gd name="adj2" fmla="val 69347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Times New Roman"/>
              </a:rPr>
              <a:t>Kurik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nstruktivno poravnavanje”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1828800"/>
            <a:ext cx="243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itelj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namj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bjas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ovezati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dokaz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imije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876640" y="1828800"/>
            <a:ext cx="1511280" cy="8254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enik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aktiv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352680" y="2209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279600" y="18288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892600" y="4495680"/>
            <a:ext cx="32760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kontrola/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znanja usmeno i pis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mj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bjas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ovezati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dokaz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imije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819520" y="2819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5486400" y="274284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692400" y="3276720"/>
            <a:ext cx="10357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suočen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ciljev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1371600" y="1828800"/>
            <a:ext cx="1523880" cy="8380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19520" y="4495680"/>
            <a:ext cx="3352680" cy="8384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273480" y="2438280"/>
            <a:ext cx="220464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tivacija pu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ja i pouča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1143000" y="2819520"/>
            <a:ext cx="1828800" cy="1295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7"/>
          <p:cNvSpPr/>
          <p:nvPr/>
        </p:nvSpPr>
        <p:spPr>
          <a:xfrm flipH="1">
            <a:off x="1600200" y="40384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066320" y="44928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jasno postavlj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cilje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1905120" y="525780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mpetencije učitel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ještine u eksperimentalnoj zn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ještine poučavanja eksperimentalne zn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odologija promatranja i analiziranja vlastitog načina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poznavanje stilova učenja uče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ještine postavljanja/zadavanja problemskih za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odologija rješavanja problemskih za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iteljevo pokazivanje, modeliranje, demonstriranje…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odel” – prim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nijeti oduševljenje i interes za 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jelovati poticajno na okol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kazati učenicima kako se zadaci mogu razbiti na manje dijelove i kako se rješavaju dio po 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mijeće postavljanja pitanja – usklađivanje s razinom učeničkog razumije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iferencijacija – sposobnost učitelja da omogući provođenje aktivnosti učenja koje su prilagođene različitim razinama sposobnosti učenika u razr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rocjena učinkovitosti </a:t>
            </a:r>
            <a:br>
              <a:rPr sz="4400"/>
            </a:b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nastavnog sat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kve ishode poučavanja namjeravamo postić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esu li ishodi učenja prikladni za zadovoljavanje učeničkih potreba u kontekstu ciljeva određenog dijela PIP-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kve je aktivnosti učitelj upotrijebio da bi postigao te ish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esu li aktivnosti uspješno djelovale na ostvarenje očekivanih isho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Obrazovni ciljevi i ishodi uče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Times New Roman"/>
              </a:rPr>
              <a:t>Obrazovni ciljevi ili postignuć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isuju što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učitel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čini da bi učenici znali izvršiti na kraju određenog razdoblja učenja. (zapamtiti, znati, razumjeti, cijeniti, upoznati, naučiti, osvijestiti, vrednovati,…</a:t>
            </a:r>
            <a:r>
              <a:rPr b="0" lang="hr-HR" sz="2400" spc="-1" strike="noStrike">
                <a:solidFill>
                  <a:srgbClr val="ff9933"/>
                </a:solidFill>
                <a:latin typeface="Times New Roman"/>
              </a:rPr>
              <a:t>općenitiji glagol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kazi koji opisuju odgojno-obrazovne sadržaje – nastavne 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Times New Roman"/>
              </a:rPr>
              <a:t>Ishodi uče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redstavljaju iskaze kojima se izražava što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učeni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treba znati, razumjeti i/ili biti u mogućnosti učiniti nakon što završi određeni proces učenja. (napraviti, analizirati, komentirati, definirati, opisati…</a:t>
            </a:r>
            <a:r>
              <a:rPr b="0" lang="hr-HR" sz="2400" spc="-1" strike="noStrike">
                <a:solidFill>
                  <a:srgbClr val="ff9933"/>
                </a:solidFill>
                <a:latin typeface="Times New Roman"/>
              </a:rPr>
              <a:t>specifični, aktivni glagol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mjereni na učenike i njihove akti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rimjer...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ilj: Objasniti učiteljima kemije i biologije definiranje ishoda učenja temeljenih na Bloomovoj taksonomi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hod učenja: Sudionici stručnog skupa će moći primijeniti Bloomovu taksonomiju u definiranju ishoda učenja u predmetima kemije i biolog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Ishodi učenja pomažu…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enicima shvatiti što se od njih očekuje – ključna znanja predm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lakšavaju proces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lakšavaju proces provjere znanja (naučen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staju mjerni pokazatelji u kontekstu vredn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stavnicima da točno definiraju činjenična znanja, vještine i stavove koje bi učenici trebali znati na kraju određenog razdoblj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oditeljima, budućim srednjoškolcima i studentima, poslodavcima informirajući ih o vještinama i kompetencijama stečenim tijekom školo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Bloomova taksonomi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češće polazište za definiranje obrazovnih ciljeve, ishoda učenja i zadataka za provjeru naučen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ine postignuća dijele u tri područ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gnitivno (činjenična zn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sihomotoričko (vješt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fektivno (stavovi i uvjere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ako područje sistematizirano je hijerarhijski od niže ka višoj razini usvojenosti zna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ina pojedine kategorije sadrži ključne glagole kojima se definiraju kvalitativni i kvantitativni ishodi uč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sihomotoričko područ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16000" y="981000"/>
          <a:ext cx="7632720" cy="588816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RAZ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AKTIVNI GLAG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PCIJA /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ć zapaž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potreba osjeti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dvojiti, uočiti, promatrati, povezati, izabrati, čuti, slušati, primijetiti, vidjeti, prepoznati, osjetiti, namirisati, okustiti, gledati, prat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EMNOST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entalna, emotivna, fizičk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asniti, pokrenuti, nastaviti, početi, reagirati, odgovor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ĐENI RAZGOVOR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ponašanje i razvijanje vješt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pirati, oponašati, duplicirati, izvršiti uz nadzor, vježbati, ponoviti, prirediti, rastaviti, sastaviti, razdvojiti, pokuš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ATIZIRANI ODGOVOR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čenik s povećanom efikasnošću, sigurnošću izvršava zadane radn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struirati, podići, voditi, provesti, ubrzati, izvršiti, konstruir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ŽENA OPERACIJA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utomatizirano izvršavanje radnj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graditi, upravljati, kontrolirati, popraviti, demonstrirati, održavati, voditi, sintetizirati, ovlad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LAGODBA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prilagodba vještina problemskoj situacij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kladiti, prilagoditi, reorganizirati, promijeniti, preokrenu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IJA / STVARANJE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varanje novih obrazaca za posebne situaci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struirati, izgraditi, sastaviti, izumiti, dizajnirati, urediti, inovir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ako pisati ishode učenja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ći od pitanja što je to što učenici trebaju znati i biti u stanju činiti u određenom području po završetku jedne nastavne jedinice / nastavne cjeline, stupnja obrazovanj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početi s glagolom koji iskazuje učeničku aktivnost, pri čemu treba izbjegavati upotrebu glagola koji su nejasni, općen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efiniranje ishoda učenja (učeničkih postignuća) treba obuhvatiti sve relevantne komponente  Bloomove taksonomije: tri područja (znanje, vještine, vrijednosti i stavov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ako pisati ishode učenja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precizni glagoli: razumjeti, osvijestiti, znati, cijeniti, zapamtiti, upoznati, naučiti, usvojiti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hode učenja (učenička postignuća) uvijek pisati kao mjerljive aktiv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pisivati u obliku „Učenici ć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bjegavati komparative kao što su više ili bolje jer oni podrazumijevaju mjerenje znanja koje prethodi učenju, te mjerenju znanja nakon uč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abrati 5-8 ishoda učenja za pojedinu temu i povezati ih s ciljevima i sadržaj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ljučiti različite razine po Bloomovoj taksonomi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44:44Z</dcterms:created>
  <dc:creator>Big Brain</dc:creator>
  <dc:description/>
  <dc:language>en-US</dc:language>
  <cp:lastModifiedBy>Aspire</cp:lastModifiedBy>
  <dcterms:modified xsi:type="dcterms:W3CDTF">2010-08-24T08:51:39Z</dcterms:modified>
  <cp:revision>106</cp:revision>
  <dc:subject/>
  <dc:title>PowerPoint Presentation</dc:title>
</cp:coreProperties>
</file>