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773160" y="-360"/>
            <a:ext cx="2887560" cy="49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874800" y="738000"/>
            <a:ext cx="4914720" cy="368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338760"/>
            <a:ext cx="288756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773160" y="9338760"/>
            <a:ext cx="288756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72F1-8F2E-4A78-9874-0EF6CC36F9F0}" type="slidenum">
              <a:rPr b="0" lang="hr-H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74800" y="738360"/>
            <a:ext cx="4914720" cy="3686040"/>
          </a:xfrm>
          <a:prstGeom prst="rect">
            <a:avLst/>
          </a:prstGeom>
          <a:ln w="0">
            <a:noFill/>
          </a:ln>
        </p:spPr>
      </p:sp>
      <p:sp>
        <p:nvSpPr>
          <p:cNvPr id="24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245"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7322-AF89-4DCF-BF74-4CA4AE66AE61}"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74800" y="738360"/>
            <a:ext cx="4914720" cy="3686040"/>
          </a:xfrm>
          <a:prstGeom prst="rect">
            <a:avLst/>
          </a:prstGeom>
          <a:ln w="0">
            <a:noFill/>
          </a:ln>
        </p:spPr>
      </p:sp>
      <p:sp>
        <p:nvSpPr>
          <p:cNvPr id="232"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Tema je vrlo kompleksna i široka – stoga su i ciljevi iskazani kroz kompetencije koje će polaznici razviti prilično ambiciozni, ali ipak se iz ovoga razabire smjer kojim smo željeli ići i ako ćemo i malo dodati, makar monomolekularni sloj na vaše već postojeće kompetencije, cilj je ostvaren</a:t>
            </a:r>
            <a:endParaRPr b="0" lang="en-US" sz="1200" spc="-1" strike="noStrike">
              <a:solidFill>
                <a:srgbClr val="000000"/>
              </a:solidFill>
              <a:latin typeface="Calibri"/>
            </a:endParaRPr>
          </a:p>
        </p:txBody>
      </p:sp>
      <p:sp>
        <p:nvSpPr>
          <p:cNvPr id="233"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DCCF-9001-48D4-930D-2C1BF7A22370}"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74800" y="738360"/>
            <a:ext cx="4914720" cy="3686040"/>
          </a:xfrm>
          <a:prstGeom prst="rect">
            <a:avLst/>
          </a:prstGeom>
          <a:ln w="0">
            <a:noFill/>
          </a:ln>
        </p:spPr>
      </p:sp>
      <p:sp>
        <p:nvSpPr>
          <p:cNvPr id="235"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o, željeli smo ipak biti i vrlo konkretni, odnosno ponuditi vam konkretan instrumentarij za različite aspekte vrednovan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Kad je o vrednovanju riječ općenito, nekako biste i vi sigurno željeli da vaša ocjena ne bude neka presuda ili sankcija nad učenikom koji vam stoji na milost i nemilost, nego da vaša procjena upotpuni njegovu vlastitu svijest o napredovanju i razvoju za koje je sam učenik preuzeo odgovornost. Dakle, kao što vi učenicima dajete, a o njima ovisi koliko će toga uzeti i ugraditi u svoj razvoj, tako i stručno usavršavanje ne može drugo nego ponuditi ideje koje vi sami trebate dalje razvijati i odjelotvoriti. Znači, velika je razlika u tome je li netko došao po recept (pa ako mu se čini da ga nije dobio, odlazi nezadovoljan) ili po ideje. Vaš profesionalni razvoj je ono što vi želite na sebi napraviti. Ako to promatramo na taj način, onda je samoevaluacija jako bitna. Stalno sebe procjenjujemo da osvijestimo napredak i da istodobno uočimo nedostat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Dajemo vam jedan primjer – upitnik kojeg ćete ispunjavati na početku (sada samo 1. stranu) i onda nastaviti (2 stranu) na kraju skupa. Na početku se od vas traži da procijenite vlastite aspekte kompetencije Likertovom skalom procjene. </a:t>
            </a:r>
            <a:endParaRPr b="0" lang="en-US" sz="1200" spc="-1" strike="noStrike">
              <a:solidFill>
                <a:srgbClr val="000000"/>
              </a:solidFill>
              <a:latin typeface="Calibri"/>
            </a:endParaRPr>
          </a:p>
        </p:txBody>
      </p:sp>
      <p:sp>
        <p:nvSpPr>
          <p:cNvPr id="236"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B40A-E54F-4053-8731-D4AF3DCE1C9A}"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74800" y="738360"/>
            <a:ext cx="4914720" cy="3686040"/>
          </a:xfrm>
          <a:prstGeom prst="rect">
            <a:avLst/>
          </a:prstGeom>
          <a:ln w="0">
            <a:noFill/>
          </a:ln>
        </p:spPr>
      </p:sp>
      <p:sp>
        <p:nvSpPr>
          <p:cNvPr id="238"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Kompetencija vrednovatelja – ovdje je posebno izdvojena kompetencija u smislu pismene provjere učeničkih postignuća. To je svakako samo dio široke i opsežne i nadasve složene kompetencije u području vrednovan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Danas sve više govorimo o kompetencijama – nije važno što si sve u edukaciji slušao nego što s tim možeš napraviti, što možeš pokazati ili manifestirati. Dakle, i kad govorimo o učeničkim kompetencijama važno je imati na umu da je to ono što se može manifestirati</a:t>
            </a:r>
            <a:endParaRPr b="0" lang="en-US" sz="1200" spc="-1" strike="noStrike">
              <a:solidFill>
                <a:srgbClr val="000000"/>
              </a:solidFill>
              <a:latin typeface="Calibri"/>
            </a:endParaRPr>
          </a:p>
        </p:txBody>
      </p:sp>
      <p:sp>
        <p:nvSpPr>
          <p:cNvPr id="239"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6CCB-8F10-4DF4-8D1D-138FC1CA5BA3}"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74800" y="738360"/>
            <a:ext cx="4914720" cy="3686040"/>
          </a:xfrm>
          <a:prstGeom prst="rect">
            <a:avLst/>
          </a:prstGeom>
          <a:ln w="0">
            <a:noFill/>
          </a:ln>
        </p:spPr>
      </p:sp>
      <p:sp>
        <p:nvSpPr>
          <p:cNvPr id="241"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 početku je rečeno da je ova tema iznimno opsežna i iluzorno je da će jednokratno sudjelovanje na stručnom skupu razviti nečije kompetencije. Ipak, možda ste čuli nešto novo, drugačije od prijašnjih uvjerenja ili rutine koju ste preuzeli… pa imate osjećaj da ste stekli sigurnost ili se osjećate osnaže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 nekim aspektima ste možda čuli nešto različito ili suprotno dosadašnjim uvjerenjima – to vas je svakako moglo pokolebati pa se osjećate manje sigurni nego prije. Važno nam je to znati radi nastavka rada na ovoj temi stručnog usavršavanja.</a:t>
            </a:r>
            <a:endParaRPr b="0" lang="en-US" sz="1200" spc="-1" strike="noStrike">
              <a:solidFill>
                <a:srgbClr val="000000"/>
              </a:solidFill>
              <a:latin typeface="Calibri"/>
            </a:endParaRPr>
          </a:p>
        </p:txBody>
      </p:sp>
      <p:sp>
        <p:nvSpPr>
          <p:cNvPr id="242"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0061-8938-4A82-9C40-5EAF5619483B}"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86BD0-C2E1-46DB-91D0-9BBB2AC62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AC14B-B65F-4424-A435-A0314E76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8B7B4-5353-45C0-AFEF-04942E7E5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27F40-5995-49BB-A094-BC1FC5D08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C796D-67AD-40B8-94C3-78957961C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FB64E-923E-421B-AF06-D2DEF361D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BCB01-3604-4FC1-AD66-5B9E1751D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2B214-F82A-4F8C-B4FD-6B5D5B19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F91DD-5F96-478C-9C72-71836BCB1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F6E4B-1138-4B82-8502-F64E8B9FD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1B5E4-101D-4D6A-96C4-F0F87266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1DD09-92F1-48F7-881E-EADCA9D9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8F3D2-A134-4A64-8E40-4B304585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8DB68-B8FD-465B-A9E6-87FD42901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BD62E-6EBA-4258-B962-A5ED7261F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2027C-D940-4707-840F-CCFF21F2C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726AB-1C68-4FCC-96AC-5CB122B7A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D1CC5D-B999-44FC-A702-B189F7769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CA0BC-1BB1-46C8-8335-ED7F01913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DE18F-D040-4D93-ADAC-881F9D899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FA132-C1CE-4463-8A22-E91323287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6BE9B-FB3A-4019-8B41-22E46837B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F293-0E17-462C-BCCB-1C77AA494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3FA94-9EBD-465C-824A-3D3ECE199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BE1CB-C5B5-4613-97B1-943F98C1D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FD361-164B-43DE-9A9C-3909DEECD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19477-1E34-4D21-BC10-2C70F5520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C44BD-8F8B-44D2-A9F3-4F6AB759D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C3EB9-7D26-4513-B1A3-8A4E304C7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4AB54-2C10-424B-82E4-107ACC1BE6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98495-3D3C-4E95-B4CC-C47D94539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E3380-6B9D-4ED4-A237-66986AFD1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5570F-74D3-417F-9DB7-3B3E9E945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8711-FF45-41D3-A1C1-132D9B768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F30D6-FD9D-46A0-89A3-7BC715660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82E0B-5691-42E4-A004-D4115B903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DFFF1-A468-4A22-925A-4B72EF1D6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88BB7-6071-4BFF-9E53-39E8883D5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E5DD9-5932-45BA-8D06-31D9923C7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E5B7C-EA0D-4160-BB20-28957F403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FBBAE-E0F6-4CA0-B6BB-135FC4FB6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108B4E-CD13-4144-AD9F-D0564EE09B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B40DB-F5B9-49D6-A4EE-2CE59C63E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670C-39AF-4714-A627-C7A7545FC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C9D5-A402-4E66-BCFB-22A5616C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4098-DE02-4610-80D0-DC5B4449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B0B7-0620-493F-B569-07C6447E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6804-0291-4EC4-8D08-2585733AD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620E-C1D2-4936-BD99-F6699CF738FA}" type="slidenum">
              <a:rPr b="0" lang="hr-H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F4D6-8F2D-4DF6-88A3-17216CAD2963}" type="slidenum">
              <a:rPr b="0" lang="hr-H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A7B9-FE94-43F7-9324-A284D2CCAA4C}" type="slidenum">
              <a:rPr b="0" lang="hr-H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94DB-C740-4152-9C5F-D52E2A5C94AE}" type="slidenum">
              <a:rPr b="0" lang="hr-H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560" y="476280"/>
            <a:ext cx="8569080" cy="1657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Calibri"/>
              </a:rPr>
              <a:t>O</a:t>
            </a:r>
            <a:r>
              <a:rPr b="1" lang="hr-HR" sz="2400" spc="-1" strike="noStrike">
                <a:solidFill>
                  <a:srgbClr val="ffffff"/>
                </a:solidFill>
                <a:latin typeface="Comic Sans MS"/>
              </a:rPr>
              <a:t>d </a:t>
            </a:r>
            <a:r>
              <a:rPr b="1" lang="hr-HR" sz="2800" spc="-1" strike="noStrike">
                <a:solidFill>
                  <a:srgbClr val="ffffff"/>
                </a:solidFill>
                <a:latin typeface="Comic Sans MS"/>
              </a:rPr>
              <a:t>vrednovanja učeničkih postignuća</a:t>
            </a:r>
            <a:r>
              <a:rPr b="1" lang="hr-HR" sz="2400" spc="-1" strike="noStrike">
                <a:solidFill>
                  <a:srgbClr val="ffffff"/>
                </a:solidFill>
                <a:latin typeface="Comic Sans MS"/>
              </a:rPr>
              <a:t> do vrednovanja nastavnog procesa i učiteljskog samovrednovanja, </a:t>
            </a:r>
            <a:br>
              <a:rPr sz="2400"/>
            </a:br>
            <a:r>
              <a:rPr b="0" lang="hr-HR" sz="2400" spc="-1" strike="noStrike">
                <a:solidFill>
                  <a:srgbClr val="99ff99"/>
                </a:solidFill>
                <a:latin typeface="Calibri"/>
              </a:rPr>
              <a:t>Skup za učitelje biologije i kemije, kolovoz 2010.</a:t>
            </a:r>
            <a:br>
              <a:rPr sz="4600"/>
            </a:br>
            <a:endParaRPr b="0" lang="en-US" sz="2400" spc="-1" strike="noStrike">
              <a:solidFill>
                <a:srgbClr val="dbf5f9"/>
              </a:solidFill>
              <a:latin typeface="Calibri"/>
            </a:endParaRPr>
          </a:p>
        </p:txBody>
      </p:sp>
      <p:pic>
        <p:nvPicPr>
          <p:cNvPr id="203" name="Text Placeholder 29" descr=""/>
          <p:cNvPicPr/>
          <p:nvPr/>
        </p:nvPicPr>
        <p:blipFill>
          <a:blip r:embed="rId2"/>
          <a:stretch/>
        </p:blipFill>
        <p:spPr>
          <a:xfrm>
            <a:off x="539640" y="1547640"/>
            <a:ext cx="7488360" cy="507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33360"/>
            <a:ext cx="8305920" cy="1511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Stručni skup za učitelje biologije i kemije, kolovoz 2010.</a:t>
            </a:r>
            <a:br>
              <a:rPr sz="2400"/>
            </a:br>
            <a:r>
              <a:rPr b="0" lang="hr-HR" sz="2400" spc="-1" strike="noStrike">
                <a:solidFill>
                  <a:srgbClr val="000000"/>
                </a:solidFill>
                <a:latin typeface="Comic Sans MS"/>
              </a:rPr>
              <a:t> </a:t>
            </a:r>
            <a:r>
              <a:rPr b="1" lang="hr-HR" sz="3200" spc="-1" strike="noStrike">
                <a:solidFill>
                  <a:srgbClr val="000000"/>
                </a:solidFill>
                <a:latin typeface="Comic Sans MS"/>
              </a:rPr>
              <a:t>Završna evaluacija i samoevaluacija</a:t>
            </a:r>
            <a:endParaRPr b="0" lang="en-US" sz="3200" spc="-1" strike="noStrike">
              <a:solidFill>
                <a:srgbClr val="04617b"/>
              </a:solidFill>
              <a:latin typeface="Calibri"/>
            </a:endParaRPr>
          </a:p>
        </p:txBody>
      </p:sp>
      <p:sp>
        <p:nvSpPr>
          <p:cNvPr id="230" name="TextBox 3"/>
          <p:cNvSpPr/>
          <p:nvPr/>
        </p:nvSpPr>
        <p:spPr>
          <a:xfrm>
            <a:off x="539640" y="1916280"/>
            <a:ext cx="8137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Pogledajte prvu stranu upitnika i svoje ocjen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r>
              <a:rPr b="0" lang="hr-HR" sz="2400" spc="-1" strike="noStrike">
                <a:solidFill>
                  <a:srgbClr val="000000"/>
                </a:solidFill>
                <a:latin typeface="Comic Sans MS"/>
              </a:rPr>
              <a:t>Kompetencija ispitivača je vrlo složena – razdvojili smo je u komponente – brojevi odgovaraju pitanjima na prvoj strani upitnik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r>
              <a:rPr b="0" lang="hr-HR" sz="2400" spc="-1" strike="noStrike">
                <a:solidFill>
                  <a:srgbClr val="000000"/>
                </a:solidFill>
                <a:latin typeface="Comic Sans MS"/>
              </a:rPr>
              <a:t>Zadatak A: Ono u čemu se osjećate ojačani zaokružite u popisu komponent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r>
              <a:rPr b="0" lang="hr-HR" sz="2400" spc="-1" strike="noStrike">
                <a:solidFill>
                  <a:srgbClr val="000000"/>
                </a:solidFill>
                <a:latin typeface="Comic Sans MS"/>
              </a:rPr>
              <a:t>Zadatak B: Za ono gdje ste zbunjeni – ispišite brojev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r>
              <a:rPr b="0" lang="hr-HR" sz="2400" spc="-1" strike="noStrike">
                <a:solidFill>
                  <a:srgbClr val="000000"/>
                </a:solidFill>
                <a:latin typeface="Comic Sans MS"/>
              </a:rPr>
              <a:t>Dodajte ako smo nešto zaboravili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 </a:t>
            </a:r>
            <a:r>
              <a:rPr b="1" lang="hr-HR" sz="2400" spc="-1" strike="noStrike">
                <a:solidFill>
                  <a:srgbClr val="000000"/>
                </a:solidFill>
                <a:latin typeface="Comic Sans MS"/>
              </a:rPr>
              <a:t>Zahvaljujemo na pažnji, trudu, suradn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500" spc="-1" strike="noStrike">
                <a:solidFill>
                  <a:srgbClr val="04617b"/>
                </a:solidFill>
                <a:latin typeface="Calibri"/>
              </a:rPr>
              <a:t> </a:t>
            </a:r>
            <a:r>
              <a:rPr b="1" lang="hr-HR" sz="2800" spc="-1" strike="noStrike">
                <a:solidFill>
                  <a:srgbClr val="04617b"/>
                </a:solidFill>
                <a:latin typeface="Calibri"/>
              </a:rPr>
              <a:t>Cilj- razvoj kompetencija</a:t>
            </a:r>
            <a:br>
              <a:rPr sz="2800"/>
            </a:br>
            <a:r>
              <a:rPr b="0" lang="hr-HR" sz="2400" spc="-1" strike="noStrike">
                <a:solidFill>
                  <a:srgbClr val="04617b"/>
                </a:solidFill>
                <a:latin typeface="Calibri"/>
              </a:rPr>
              <a:t>Učitelji će:</a:t>
            </a:r>
            <a:endParaRPr b="0" lang="en-US" sz="2400" spc="-1" strike="noStrike">
              <a:solidFill>
                <a:srgbClr val="04617b"/>
              </a:solidFill>
              <a:latin typeface="Calibri"/>
            </a:endParaRPr>
          </a:p>
        </p:txBody>
      </p:sp>
      <p:sp>
        <p:nvSpPr>
          <p:cNvPr id="205" name="PlaceHolder 2"/>
          <p:cNvSpPr>
            <a:spLocks noGrp="1"/>
          </p:cNvSpPr>
          <p:nvPr>
            <p:ph/>
          </p:nvPr>
        </p:nvSpPr>
        <p:spPr>
          <a:xfrm>
            <a:off x="456840" y="1934640"/>
            <a:ext cx="353844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unaprijediti vještine određivanja razina učeničkih postignuć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povezati planiranje nastavnoga procesa sa strategijama poučavanja i vrednovanja</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3"/>
          <p:cNvSpPr>
            <a:spLocks noGrp="1"/>
          </p:cNvSpPr>
          <p:nvPr>
            <p:ph/>
          </p:nvPr>
        </p:nvSpPr>
        <p:spPr>
          <a:xfrm>
            <a:off x="3995280" y="1628640"/>
            <a:ext cx="4691160" cy="469584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upoznati načine vrednovanja nastavnog procesa i samovrednovanja nastavničkog rada</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 descr=""/>
          <p:cNvPicPr/>
          <p:nvPr/>
        </p:nvPicPr>
        <p:blipFill>
          <a:blip r:embed="rId2"/>
          <a:stretch/>
        </p:blipFill>
        <p:spPr>
          <a:xfrm>
            <a:off x="4859280" y="3284640"/>
            <a:ext cx="2852640" cy="33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4617b"/>
                </a:solidFill>
                <a:latin typeface="Arial"/>
              </a:rPr>
              <a:t>Program stručnog skupa</a:t>
            </a:r>
            <a:r>
              <a:rPr b="0" lang="hr-HR" sz="5000" spc="-1" strike="noStrike">
                <a:solidFill>
                  <a:srgbClr val="04617b"/>
                </a:solidFill>
                <a:latin typeface="Arial"/>
              </a:rPr>
              <a:t>:</a:t>
            </a:r>
            <a:endParaRPr b="0" lang="en-US" sz="5000" spc="-1" strike="noStrike">
              <a:solidFill>
                <a:srgbClr val="04617b"/>
              </a:solidFill>
              <a:latin typeface="Calibri"/>
            </a:endParaRPr>
          </a:p>
        </p:txBody>
      </p:sp>
      <p:sp>
        <p:nvSpPr>
          <p:cNvPr id="209" name="PlaceHolder 2"/>
          <p:cNvSpPr>
            <a:spLocks noGrp="1"/>
          </p:cNvSpPr>
          <p:nvPr>
            <p:ph/>
          </p:nvPr>
        </p:nvSpPr>
        <p:spPr>
          <a:xfrm>
            <a:off x="457200" y="1267920"/>
            <a:ext cx="8229600" cy="50562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9:00 – 9:30</a:t>
            </a:r>
            <a:r>
              <a:rPr b="0" lang="hr-HR" sz="2400" spc="-1" strike="noStrike">
                <a:solidFill>
                  <a:srgbClr val="000000"/>
                </a:solidFill>
                <a:latin typeface="Constantia"/>
              </a:rPr>
              <a:t>	</a:t>
            </a:r>
            <a:r>
              <a:rPr b="0" lang="hr-HR" sz="2400" spc="-1" strike="noStrike">
                <a:solidFill>
                  <a:srgbClr val="000000"/>
                </a:solidFill>
                <a:latin typeface="Constantia"/>
              </a:rPr>
              <a:t> Pozdravna riječ i uvod</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9:30 - 10:30</a:t>
            </a:r>
            <a:r>
              <a:rPr b="0" lang="hr-HR" sz="2400" spc="-1" strike="noStrike">
                <a:solidFill>
                  <a:srgbClr val="000000"/>
                </a:solidFill>
                <a:latin typeface="Constantia"/>
              </a:rPr>
              <a:t>	</a:t>
            </a:r>
            <a:r>
              <a:rPr b="0" lang="hr-HR" sz="2400" spc="-1" strike="noStrike">
                <a:solidFill>
                  <a:srgbClr val="000000"/>
                </a:solidFill>
                <a:latin typeface="Constantia"/>
              </a:rPr>
              <a:t> Vrednovanje nastavnog procesa primjenom i </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Constantia"/>
              </a:rPr>
              <a:t>varijabilnošću strategija poučavanja u cilju</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Constantia"/>
              </a:rPr>
              <a:t>realizacije nastavnih ciljeva </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Constantia"/>
              </a:rPr>
              <a:t>(dr. sc. M. </a:t>
            </a:r>
            <a:r>
              <a:rPr b="0" lang="hr-HR" sz="2400" spc="-1" strike="noStrike">
                <a:solidFill>
                  <a:srgbClr val="000000"/>
                </a:solidFill>
                <a:latin typeface="Arial"/>
              </a:rPr>
              <a:t>P</a:t>
            </a:r>
            <a:r>
              <a:rPr b="0" lang="hr-HR" sz="2400" spc="-1" strike="noStrike">
                <a:solidFill>
                  <a:srgbClr val="000000"/>
                </a:solidFill>
                <a:latin typeface="Constantia"/>
              </a:rPr>
              <a:t>avkov)</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10:30 – 10:45  </a:t>
            </a:r>
            <a:r>
              <a:rPr b="0" lang="hr-HR" sz="2400" spc="-1" strike="noStrike">
                <a:solidFill>
                  <a:srgbClr val="000000"/>
                </a:solidFill>
                <a:latin typeface="Arial"/>
              </a:rPr>
              <a:t> </a:t>
            </a:r>
            <a:r>
              <a:rPr b="0" lang="hr-HR" sz="2400" spc="-1" strike="noStrike">
                <a:solidFill>
                  <a:srgbClr val="000000"/>
                </a:solidFill>
                <a:latin typeface="Constantia"/>
              </a:rPr>
              <a:t>Stanka</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10:45 – 12.45 </a:t>
            </a:r>
            <a:r>
              <a:rPr b="0" lang="hr-HR" sz="2400" spc="-1" strike="noStrike">
                <a:solidFill>
                  <a:srgbClr val="000000"/>
                </a:solidFill>
                <a:latin typeface="Arial"/>
              </a:rPr>
              <a:t>  </a:t>
            </a:r>
            <a:r>
              <a:rPr b="0" lang="hr-HR" sz="2400" spc="-1" strike="noStrike">
                <a:solidFill>
                  <a:srgbClr val="000000"/>
                </a:solidFill>
                <a:latin typeface="Constantia"/>
              </a:rPr>
              <a:t>Oblikovanje ispita i zadataka iz kemije, </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Arial"/>
              </a:rPr>
              <a:t> </a:t>
            </a:r>
            <a:r>
              <a:rPr b="0" lang="hr-HR" sz="2400" spc="-1" strike="noStrike">
                <a:solidFill>
                  <a:srgbClr val="000000"/>
                </a:solidFill>
                <a:latin typeface="Constantia"/>
              </a:rPr>
              <a:t>biologije i prirode (V. Begić, prof., M. Bastić,  </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Arial"/>
              </a:rPr>
              <a:t> </a:t>
            </a:r>
            <a:r>
              <a:rPr b="0" lang="hr-HR" sz="2400" spc="-1" strike="noStrike">
                <a:solidFill>
                  <a:srgbClr val="000000"/>
                </a:solidFill>
                <a:latin typeface="Constantia"/>
              </a:rPr>
              <a:t>prof., S. Kapov, prof., prof. dr. sc. I.          </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Arial"/>
              </a:rPr>
              <a:t> </a:t>
            </a:r>
            <a:r>
              <a:rPr b="0" lang="hr-HR" sz="2400" spc="-1" strike="noStrike">
                <a:solidFill>
                  <a:srgbClr val="000000"/>
                </a:solidFill>
                <a:latin typeface="Constantia"/>
              </a:rPr>
              <a:t>Radanović, dr. sc. M. Pavkov)</a:t>
            </a:r>
            <a:endParaRPr b="0" lang="en-US" sz="2400" spc="-1" strike="noStrike">
              <a:solidFill>
                <a:srgbClr val="000000"/>
              </a:solidFill>
              <a:latin typeface="Constantia"/>
            </a:endParaRPr>
          </a:p>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24000" y="1125360"/>
            <a:ext cx="8362800" cy="51991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12:45 – 13:30  Stanka </a:t>
            </a: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13:30 – 15:30   Osnove metrijske analize pismene</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Constantia"/>
              </a:rPr>
              <a:t>provjere znanja (dr. sc. B. Jokić)</a:t>
            </a: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15:30 – 16:30  Završne poruke, evaluacija i podjela</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Arial"/>
              </a:rPr>
              <a:t>  </a:t>
            </a:r>
            <a:r>
              <a:rPr b="0" lang="hr-HR" sz="2400" spc="-1" strike="noStrike">
                <a:solidFill>
                  <a:srgbClr val="000000"/>
                </a:solidFill>
                <a:latin typeface="Constantia"/>
              </a:rPr>
              <a:t>potvrda o sudjelovanju (mr. sc. D. Garašić</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                          </a:t>
            </a:r>
            <a:r>
              <a:rPr b="0" lang="hr-HR" sz="2400" spc="-1" strike="noStrike">
                <a:solidFill>
                  <a:srgbClr val="000000"/>
                </a:solidFill>
                <a:latin typeface="Constantia"/>
              </a:rPr>
              <a:t>i M. Toljan, prof.)</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0" y="691920"/>
            <a:ext cx="4114800" cy="780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500" spc="-1" strike="noStrike">
                <a:solidFill>
                  <a:srgbClr val="04617b"/>
                </a:solidFill>
                <a:latin typeface="Calibri"/>
              </a:rPr>
              <a:t>Dodani cilj</a:t>
            </a:r>
            <a:endParaRPr b="0" lang="en-US" sz="4500" spc="-1" strike="noStrike">
              <a:solidFill>
                <a:srgbClr val="04617b"/>
              </a:solidFill>
              <a:latin typeface="Calibri"/>
            </a:endParaRPr>
          </a:p>
        </p:txBody>
      </p:sp>
      <p:sp>
        <p:nvSpPr>
          <p:cNvPr id="212" name=""/>
          <p:cNvSpPr txBox="1"/>
          <p:nvPr/>
        </p:nvSpPr>
        <p:spPr>
          <a:xfrm>
            <a:off x="456840" y="764640"/>
            <a:ext cx="4546440" cy="5589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Constantia"/>
              </a:rPr>
              <a:t>Predložiti vam instrumente vrednovanja i  samovrednovanj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Constantia"/>
              </a:rPr>
              <a:t>Upitnik samoevaluacij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Prij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nstantia"/>
              </a:rPr>
              <a:t>Poslij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Constantia"/>
              </a:rPr>
              <a:t>Skala procjene</a:t>
            </a:r>
            <a:endParaRPr b="0" lang="en-US" sz="26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onstantia"/>
              </a:rPr>
              <a:t>1 = imam slabo razvijenu kompetenciju;</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onstantia"/>
              </a:rPr>
              <a:t>2 = imam dosta nesigurnosti i dvojbi;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onstantia"/>
              </a:rPr>
              <a:t>3 = uglavnom se snalazim;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onstantia"/>
              </a:rPr>
              <a:t>4 = imam dobro razvijenu kompetenciju</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3" name="Content Placeholder 5" descr="Two-Frogs1.jpg"/>
          <p:cNvPicPr/>
          <p:nvPr/>
        </p:nvPicPr>
        <p:blipFill>
          <a:blip r:embed="rId2"/>
          <a:stretch/>
        </p:blipFill>
        <p:spPr>
          <a:xfrm>
            <a:off x="5076720" y="1773360"/>
            <a:ext cx="2810160" cy="2592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000" spc="-1" strike="noStrike">
                <a:solidFill>
                  <a:srgbClr val="04617b"/>
                </a:solidFill>
                <a:latin typeface="Comic Sans MS"/>
              </a:rPr>
              <a:t>KOMPETENCIJA</a:t>
            </a:r>
            <a:endParaRPr b="0" lang="en-US" sz="5000" spc="-1" strike="noStrike">
              <a:solidFill>
                <a:srgbClr val="04617b"/>
              </a:solidFill>
              <a:latin typeface="Calibri"/>
            </a:endParaRPr>
          </a:p>
        </p:txBody>
      </p:sp>
      <p:sp>
        <p:nvSpPr>
          <p:cNvPr id="215" name=""/>
          <p:cNvSpPr txBox="1"/>
          <p:nvPr/>
        </p:nvSpPr>
        <p:spPr>
          <a:xfrm>
            <a:off x="456840" y="1920960"/>
            <a:ext cx="5483160" cy="20844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b5395"/>
                </a:solidFill>
                <a:latin typeface="Comic Sans MS"/>
              </a:rPr>
              <a:t>Pokazana vještina ili sposobnost da se nešto učini ili ostvari, a uključuje znanja, vještine, stavove ………. MOTIVACIJU, ISKUSTVO…….</a:t>
            </a:r>
            <a:endParaRPr b="0" lang="en-US" sz="2600" spc="-1" strike="noStrike">
              <a:solidFill>
                <a:srgbClr val="000000"/>
              </a:solidFill>
              <a:latin typeface="Constantia"/>
            </a:endParaRPr>
          </a:p>
        </p:txBody>
      </p:sp>
      <p:sp>
        <p:nvSpPr>
          <p:cNvPr id="216" name=""/>
          <p:cNvSpPr txBox="1"/>
          <p:nvPr/>
        </p:nvSpPr>
        <p:spPr>
          <a:xfrm>
            <a:off x="6372000" y="1920960"/>
            <a:ext cx="2314440" cy="1868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TextBox 5"/>
          <p:cNvSpPr/>
          <p:nvPr/>
        </p:nvSpPr>
        <p:spPr>
          <a:xfrm>
            <a:off x="684360" y="422100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c9b74"/>
                </a:solidFill>
                <a:latin typeface="Comic Sans MS"/>
              </a:rPr>
              <a:t>KOMPETENCIJA VREDNOVATELJA - EVALUATORA</a:t>
            </a:r>
            <a:endParaRPr b="0" lang="en-US" sz="2800" spc="-1" strike="noStrike">
              <a:solidFill>
                <a:srgbClr val="000000"/>
              </a:solidFill>
              <a:latin typeface="Arial"/>
            </a:endParaRPr>
          </a:p>
        </p:txBody>
      </p:sp>
      <p:pic>
        <p:nvPicPr>
          <p:cNvPr id="218" name="Picture 6" descr="frog.jpg"/>
          <p:cNvPicPr/>
          <p:nvPr/>
        </p:nvPicPr>
        <p:blipFill>
          <a:blip r:embed="rId2"/>
          <a:stretch/>
        </p:blipFill>
        <p:spPr>
          <a:xfrm>
            <a:off x="6084720" y="1413000"/>
            <a:ext cx="2428920" cy="21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880"/>
            <a:ext cx="8229600" cy="420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4617b"/>
                </a:solidFill>
                <a:latin typeface="Comic Sans MS"/>
              </a:rPr>
              <a:t>SAMOPROCJENA KOMPONENTI KOMPETENCIJE</a:t>
            </a:r>
            <a:endParaRPr b="0" lang="en-US" sz="3200" spc="-1" strike="noStrike">
              <a:solidFill>
                <a:srgbClr val="04617b"/>
              </a:solidFill>
              <a:latin typeface="Calibri"/>
            </a:endParaRPr>
          </a:p>
        </p:txBody>
      </p:sp>
      <p:sp>
        <p:nvSpPr>
          <p:cNvPr id="220" name=""/>
          <p:cNvSpPr txBox="1"/>
          <p:nvPr/>
        </p:nvSpPr>
        <p:spPr>
          <a:xfrm>
            <a:off x="394920" y="1341360"/>
            <a:ext cx="8209080" cy="4245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Constantia"/>
              </a:rPr>
              <a:t>1</a:t>
            </a:r>
            <a:r>
              <a:rPr b="0" lang="hr-HR" sz="2400" spc="-1" strike="noStrike">
                <a:solidFill>
                  <a:srgbClr val="000000"/>
                </a:solidFill>
                <a:latin typeface="Constantia"/>
              </a:rPr>
              <a:t>. </a:t>
            </a:r>
            <a:r>
              <a:rPr b="0" lang="hr-HR" sz="2000" spc="-1" strike="noStrike">
                <a:solidFill>
                  <a:srgbClr val="000000"/>
                </a:solidFill>
                <a:latin typeface="Comic Sans MS"/>
              </a:rPr>
              <a:t>Kako procjenjujete vlastitu kompetenciju oblikovanja pitanja za pismenu provjeru znanja?</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2. Kako procjenjujete vlastitu kompetenciju oblikovanja  ispita za pismenu provjeru znanja?</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3. Koliko dobro poznajete tipove pitanja te možete    navesti i argumentirati dobre i loše strane svakog tipa?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4. Koliko pri sastavljanju ispita znanja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        </a:t>
            </a:r>
            <a:r>
              <a:rPr b="0" lang="hr-HR" sz="2000" spc="-1" strike="noStrike">
                <a:solidFill>
                  <a:srgbClr val="000000"/>
                </a:solidFill>
                <a:latin typeface="Comic Sans MS"/>
              </a:rPr>
              <a:t>posvećujete pažnje njegovoj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        </a:t>
            </a:r>
            <a:r>
              <a:rPr b="0" lang="hr-HR" sz="2000" spc="-1" strike="noStrike">
                <a:solidFill>
                  <a:srgbClr val="000000"/>
                </a:solidFill>
                <a:latin typeface="Comic Sans MS"/>
              </a:rPr>
              <a:t>pedagoško-psihološkoj dimenzij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http://www.nisdtx.org/1211208816619840/lib/1211208816619840/clip_art_frog_1.jpg"/>
          <p:cNvPicPr/>
          <p:nvPr/>
        </p:nvPicPr>
        <p:blipFill>
          <a:blip r:embed="rId2"/>
          <a:stretch/>
        </p:blipFill>
        <p:spPr>
          <a:xfrm>
            <a:off x="6372360" y="3789360"/>
            <a:ext cx="1589040" cy="22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Content Placeholder 5" descr="steps.jpg"/>
          <p:cNvPicPr/>
          <p:nvPr/>
        </p:nvPicPr>
        <p:blipFill>
          <a:blip r:embed="rId2"/>
          <a:stretch/>
        </p:blipFill>
        <p:spPr>
          <a:xfrm>
            <a:off x="900000" y="2776680"/>
            <a:ext cx="2232000" cy="1674720"/>
          </a:xfrm>
          <a:prstGeom prst="rect">
            <a:avLst/>
          </a:prstGeom>
          <a:ln w="0">
            <a:noFill/>
          </a:ln>
        </p:spPr>
      </p:pic>
      <p:sp>
        <p:nvSpPr>
          <p:cNvPr id="223" name=""/>
          <p:cNvSpPr txBox="1"/>
          <p:nvPr/>
        </p:nvSpPr>
        <p:spPr>
          <a:xfrm>
            <a:off x="4642920" y="1699920"/>
            <a:ext cx="4038840" cy="53751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Constantia"/>
              </a:rPr>
              <a:t>7. </a:t>
            </a:r>
            <a:r>
              <a:rPr b="0" lang="hr-HR" sz="2000" spc="-1" strike="noStrike">
                <a:solidFill>
                  <a:srgbClr val="000000"/>
                </a:solidFill>
                <a:latin typeface="Comic Sans MS"/>
              </a:rPr>
              <a:t>Koliko se osjećate sigurni pri određivanju bodovnog praga za pozitivnu ocjenu i cjelokupne skale ocjena?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8. U kojoj vam mjeri uspijeva da vaša pitanja ispituju baš ono što želite ispitat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9. Kakve ispite najčešće koristite (vlastite izrade, tiskane)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Comic Sans MS"/>
              </a:rPr>
              <a:t>10. Kakve tipove pitanja najčešće koristite</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4"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4617b"/>
                </a:solidFill>
                <a:latin typeface="Comic Sans MS"/>
              </a:rPr>
              <a:t>SAMOPROCJENA KOMPONENTI KOMPETENCIJE</a:t>
            </a:r>
            <a:endParaRPr b="0" lang="en-US" sz="3200" spc="-1" strike="noStrike">
              <a:solidFill>
                <a:srgbClr val="04617b"/>
              </a:solidFill>
              <a:latin typeface="Calibri"/>
            </a:endParaRPr>
          </a:p>
        </p:txBody>
      </p:sp>
      <p:sp>
        <p:nvSpPr>
          <p:cNvPr id="225" name="TextBox 6"/>
          <p:cNvSpPr/>
          <p:nvPr/>
        </p:nvSpPr>
        <p:spPr>
          <a:xfrm>
            <a:off x="611280" y="1413000"/>
            <a:ext cx="4105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a:t>
            </a:r>
            <a:r>
              <a:rPr b="0" lang="hr-HR" sz="2000" spc="-1" strike="noStrike">
                <a:solidFill>
                  <a:srgbClr val="000000"/>
                </a:solidFill>
                <a:latin typeface="Arial"/>
              </a:rPr>
              <a:t>. </a:t>
            </a:r>
            <a:r>
              <a:rPr b="0" lang="hr-HR" sz="2000" spc="-1" strike="noStrike">
                <a:solidFill>
                  <a:srgbClr val="000000"/>
                </a:solidFill>
                <a:latin typeface="Comic Sans MS"/>
              </a:rPr>
              <a:t>U kojoj mjeri u svakoj pismenoj provjeri </a:t>
            </a:r>
            <a:r>
              <a:rPr b="1" lang="hr-HR" sz="2000" spc="-1" strike="noStrike">
                <a:solidFill>
                  <a:srgbClr val="000000"/>
                </a:solidFill>
                <a:latin typeface="Comic Sans MS"/>
              </a:rPr>
              <a:t>nastojite ispitati</a:t>
            </a:r>
            <a:r>
              <a:rPr b="0" lang="hr-HR" sz="2000" spc="-1" strike="noStrike">
                <a:solidFill>
                  <a:srgbClr val="000000"/>
                </a:solidFill>
                <a:latin typeface="Comic Sans MS"/>
              </a:rPr>
              <a:t> </a:t>
            </a:r>
            <a:r>
              <a:rPr b="1" lang="hr-HR" sz="2000" spc="-1" strike="noStrike">
                <a:solidFill>
                  <a:srgbClr val="000000"/>
                </a:solidFill>
                <a:latin typeface="Comic Sans MS"/>
              </a:rPr>
              <a:t>različite razine</a:t>
            </a:r>
            <a:r>
              <a:rPr b="0" lang="hr-HR" sz="2000" spc="-1" strike="noStrike">
                <a:solidFill>
                  <a:srgbClr val="000000"/>
                </a:solidFill>
                <a:latin typeface="Comic Sans MS"/>
              </a:rPr>
              <a:t> učeničkih postignuća</a:t>
            </a:r>
            <a:r>
              <a:rPr b="0" lang="hr-HR" sz="2000" spc="-1" strike="noStrike">
                <a:solidFill>
                  <a:srgbClr val="000000"/>
                </a:solidFill>
                <a:latin typeface="Arial"/>
              </a:rPr>
              <a:t>?</a:t>
            </a:r>
            <a:endParaRPr b="0" lang="en-US" sz="2000" spc="-1" strike="noStrike">
              <a:solidFill>
                <a:srgbClr val="000000"/>
              </a:solidFill>
              <a:latin typeface="Arial"/>
            </a:endParaRPr>
          </a:p>
        </p:txBody>
      </p:sp>
      <p:sp>
        <p:nvSpPr>
          <p:cNvPr id="226" name="TextBox 7"/>
          <p:cNvSpPr/>
          <p:nvPr/>
        </p:nvSpPr>
        <p:spPr>
          <a:xfrm>
            <a:off x="539640" y="4581360"/>
            <a:ext cx="446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a:t>
            </a:r>
            <a:r>
              <a:rPr b="0" lang="hr-HR" sz="2000" spc="-1" strike="noStrike">
                <a:solidFill>
                  <a:srgbClr val="000000"/>
                </a:solidFill>
                <a:latin typeface="Arial"/>
              </a:rPr>
              <a:t>. </a:t>
            </a:r>
            <a:r>
              <a:rPr b="0" lang="hr-HR" sz="2000" spc="-1" strike="noStrike">
                <a:solidFill>
                  <a:srgbClr val="000000"/>
                </a:solidFill>
                <a:latin typeface="Comic Sans MS"/>
              </a:rPr>
              <a:t>Koliko ste vješti u razlučivanju pitanja prema tome </a:t>
            </a:r>
            <a:r>
              <a:rPr b="1" lang="hr-HR" sz="2000" spc="-1" strike="noStrike">
                <a:solidFill>
                  <a:srgbClr val="000000"/>
                </a:solidFill>
                <a:latin typeface="Comic Sans MS"/>
              </a:rPr>
              <a:t>koju razinu učeničkih postignuća</a:t>
            </a:r>
            <a:r>
              <a:rPr b="0" lang="hr-HR" sz="2000" spc="-1" strike="noStrike">
                <a:solidFill>
                  <a:srgbClr val="000000"/>
                </a:solidFill>
                <a:latin typeface="Comic Sans MS"/>
              </a:rPr>
              <a:t> ispituj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3059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Stručni skup za učitelje biologije i kemije, kolovoz 2010.</a:t>
            </a:r>
            <a:br>
              <a:rPr sz="2400"/>
            </a:br>
            <a:endParaRPr b="0" lang="en-US" sz="2400" spc="-1" strike="noStrike">
              <a:solidFill>
                <a:srgbClr val="04617b"/>
              </a:solidFill>
              <a:latin typeface="Calibri"/>
            </a:endParaRPr>
          </a:p>
        </p:txBody>
      </p:sp>
      <p:sp>
        <p:nvSpPr>
          <p:cNvPr id="228" name="TextBox 3"/>
          <p:cNvSpPr/>
          <p:nvPr/>
        </p:nvSpPr>
        <p:spPr>
          <a:xfrm>
            <a:off x="179280" y="1700280"/>
            <a:ext cx="8713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Završna evaluacija i samoevaluacij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Tema vrednovanja je iznimno opsežna i nedostatno teoretski potkrijeplje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Jednokratno sudjelovanje na stručnom skupu ne može razviti kompetencije koje su vrlo slože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Neophodno je, s ciljem trajnog profesionalnog razvoja i individualno kontinuirano promišljati i istraživati pitanje vrednovanja.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07:16:49Z</dcterms:created>
  <dc:creator>Biologija</dc:creator>
  <dc:description/>
  <dc:language>en-US</dc:language>
  <cp:lastModifiedBy>dgarasic</cp:lastModifiedBy>
  <dcterms:modified xsi:type="dcterms:W3CDTF">2010-09-02T08:43:24Z</dcterms:modified>
  <cp:revision>31</cp:revision>
  <dc:subject/>
  <dc:title>Slide 1</dc:title>
</cp:coreProperties>
</file>