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wmf" ContentType="image/x-wmf"/>
  <Override PartName="/ppt/media/image7.png" ContentType="image/png"/>
  <Override PartName="/ppt/media/image1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3.gif" ContentType="image/gif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8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sr-Latn-C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9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0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hr-H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FFB5C-CE0B-47DD-86CF-DD42E34EDC46}" type="slidenum">
              <a:rPr b="0" lang="hr-H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itati publiku, nepotrebno priča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36CE1-F735-4E2C-B064-4C51F941A75E}" type="slidenum">
              <a:rPr b="0" lang="hr-HR" sz="13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itati publiku, ne prezentira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E2833-3940-4740-A0B7-5AED59011746}" type="slidenum">
              <a:rPr b="0" lang="hr-HR" sz="13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FC59E-864F-493F-A417-49C17FF76552}" type="slidenum">
              <a:rPr b="0" lang="hr-HR" sz="13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CF8F7-82F0-43F5-9C14-3B3B73749944}" type="slidenum">
              <a:rPr b="0" lang="hr-HR" sz="13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itati publi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7AB4A-343F-49AF-90D7-E233B70F0C23}" type="slidenum">
              <a:rPr b="0" lang="hr-HR" sz="13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6E2B-98A5-4C0B-B905-4BAE932D3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9BDA-0B70-44A9-BC84-58E41FDFC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ECC0-0259-4AB4-8D83-B0C780795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490A-6173-460A-A5E9-1D7CEAE83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F8F6F-48D6-4876-B556-0C1E7353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544C3-D941-490B-99FA-C3E1AFAD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F134A-4F7F-4FD3-A6AC-08F65B16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2EEC3-3FE7-409C-AC96-B677D52A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6C5A3-46B9-4C9C-B16D-4572CE13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A452D-FACB-42BF-A23C-00893DD4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B73F8-06D9-4405-8CC8-D5D51CC0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0B6C-9C6D-4EFB-BD1B-76F01C3DC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56684-E630-4859-96BA-C37126DC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8538E-04D7-4665-8014-F6EFB826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153AC-13C6-4BCD-9936-1FC5F9AC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BAD3E-661B-4454-BE74-65BA3559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54C07-8E0D-45A3-8B94-4174C73E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D0F49D-E923-4176-B13E-1D88C6B2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1A2894-4D49-459F-889D-73DE3824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E0770B-3714-4803-993A-8CDDEC61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52435-C4C4-4389-97F5-6E629FE5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D0153-1418-4961-87E1-E08FF025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A94A-9EAB-41BF-8E28-126A68EE8B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5228F-8E01-4F21-AAB1-9B793636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9E452-1598-4393-A797-337A5EC3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CFB753-9FF3-45E9-A51D-C696182C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D0EB3-7B67-4857-8862-09D8AD5B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9196B-6BA6-4722-97FE-0092FFE1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5DD811-E559-4294-A03E-75D69068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06CD0D-F26C-46E1-B268-249567C3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6002-257F-44F0-B640-C8D33A4D7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F55D-C82B-4F8A-9669-5BB7BED52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8967-F3C4-478B-95F9-BFC185D35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1453-B3E5-4D60-B99D-C5E98D366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BC53-F6FF-49ED-B9A2-078A83711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F2FB-BA2D-4F0F-B4D2-D9ABC5292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75280" y="70920"/>
            <a:ext cx="468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7196-F4DF-4E43-B60F-1B086BE09EB5}" type="slidenum">
              <a:rPr b="1" lang="en-US" sz="16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68120" y="228600"/>
            <a:ext cx="8823600" cy="6295680"/>
            <a:chOff x="168120" y="228600"/>
            <a:chExt cx="8823600" cy="6295680"/>
          </a:xfrm>
        </p:grpSpPr>
        <p:sp>
          <p:nvSpPr>
            <p:cNvPr id="4" name="AutoShape 6"/>
            <p:cNvSpPr/>
            <p:nvPr/>
          </p:nvSpPr>
          <p:spPr>
            <a:xfrm>
              <a:off x="168120" y="228600"/>
              <a:ext cx="8823600" cy="62956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762120" y="17582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7634160" y="6381720"/>
            <a:ext cx="6098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900000" y="44280"/>
            <a:ext cx="201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Naslov prezentacij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" name="Picture 10" descr="PROFIL"/>
          <p:cNvPicPr/>
          <p:nvPr/>
        </p:nvPicPr>
        <p:blipFill>
          <a:blip r:embed="rId2"/>
          <a:stretch/>
        </p:blipFill>
        <p:spPr>
          <a:xfrm>
            <a:off x="7658280" y="6400800"/>
            <a:ext cx="576000" cy="24912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6300720" y="44280"/>
            <a:ext cx="201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NAZIV UDŽBENIK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7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9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2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54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9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60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3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64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7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8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1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2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5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C8FD-56A3-4A5A-81E4-558CE725A9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31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132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9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5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6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9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50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3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54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7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58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1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62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5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E906-8DF6-47C7-80AE-0EF62677D5B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9680" y="2285640"/>
            <a:ext cx="8317080" cy="15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Comic Sans MS"/>
              </a:rPr>
              <a:t>OBLIKOVANJE ZADATAKA IZ KEMIJE I BIOLOGIJ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TekstniOkvir 3"/>
          <p:cNvSpPr/>
          <p:nvPr/>
        </p:nvSpPr>
        <p:spPr>
          <a:xfrm>
            <a:off x="1785960" y="50004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ĐUŽUPANIJSKI STRUČNI SK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odnaslov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omic Sans MS"/>
              </a:rPr>
              <a:t>Radanović, Garašić, Toljan, Bastić, Begić, Kapo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zervirano mjesto broja slajda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10D7-161C-4B00-9AA6-D440F546345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kstniOkvir 9"/>
          <p:cNvSpPr/>
          <p:nvPr/>
        </p:nvSpPr>
        <p:spPr>
          <a:xfrm>
            <a:off x="428760" y="4214880"/>
            <a:ext cx="8394480" cy="192348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Vodena otopina modre galice koagulira kolagen. TOČN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Obrazovni ishod:</a:t>
            </a: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 Prepoznati svojstva bjelančevin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azina postignuća: </a:t>
            </a: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2. Konceptualno razumijevanj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ocijenjena težina pitanja:</a:t>
            </a: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 0,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kstniOkvir 9"/>
          <p:cNvSpPr/>
          <p:nvPr/>
        </p:nvSpPr>
        <p:spPr>
          <a:xfrm>
            <a:off x="395280" y="1052640"/>
            <a:ext cx="8394840" cy="222840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Kornjače su gmazovi. TOČ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Obrazovni ishod:</a:t>
            </a: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 Prepoznati predstavnike gmazov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azina postignuća: </a:t>
            </a: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1.Reprodukcij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ocijenjena težina pitanja:</a:t>
            </a: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 0,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Zadatci alternativnog izbora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4041720" cy="457200"/>
          </a:xfrm>
          <a:prstGeom prst="rect">
            <a:avLst/>
          </a:prstGeom>
          <a:solidFill>
            <a:srgbClr val="e6f8ff">
              <a:alpha val="25000"/>
            </a:srgbClr>
          </a:solidFill>
          <a:ln w="12600">
            <a:solidFill>
              <a:srgbClr val="ebf7ff"/>
            </a:solidFill>
            <a:miter/>
          </a:ln>
        </p:spPr>
        <p:txBody>
          <a:bodyPr anchor="ctr">
            <a:normAutofit fontScale="86000"/>
          </a:bodyPr>
          <a:p>
            <a:pPr marL="37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Comic Sans MS"/>
              </a:rPr>
              <a:t>PREDN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16000" y="1844640"/>
            <a:ext cx="4041720" cy="457200"/>
          </a:xfrm>
          <a:prstGeom prst="rect">
            <a:avLst/>
          </a:prstGeom>
          <a:solidFill>
            <a:srgbClr val="e6f8ff">
              <a:alpha val="25000"/>
            </a:srgbClr>
          </a:solidFill>
          <a:ln w="12600">
            <a:solidFill>
              <a:srgbClr val="ebf7ff"/>
            </a:solidFill>
            <a:miter/>
          </a:ln>
        </p:spPr>
        <p:txBody>
          <a:bodyPr anchor="ctr">
            <a:normAutofit fontScale="86000"/>
          </a:bodyPr>
          <a:p>
            <a:pPr marL="37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Comic Sans MS"/>
              </a:rPr>
              <a:t>NEDOSTATC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9280" y="2492280"/>
            <a:ext cx="4103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Za testiranje nižih razina znanja i viših razina kognitivnih procesa ako se tvrdnja definira kao zaključak (ako…onda… ) ili se koristi uz graf, kartu i sl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Brzo se rješavaju i ispravljaju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Za ispitivanje uzročno-posljedičnih odnos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Dobri kao “grozd”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716000" y="2491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50% mogućnost pogađan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Treba puno pitanja za pouzdanost test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Ako učenik zna da je neka tvrdnja netočna, ne znači da zna što bi bilo točno tvrdit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Rezervirano mjesto broja slajda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87A0-DA75-4DDC-AB98-DFA2C76A4202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058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Zadatci višestrukog izbor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Rezervirano mjesto broja slajda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09E7-B870-4317-BAF8-32A013A6123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kstniOkvir 8"/>
          <p:cNvSpPr/>
          <p:nvPr/>
        </p:nvSpPr>
        <p:spPr>
          <a:xfrm>
            <a:off x="250920" y="1773360"/>
            <a:ext cx="8429400" cy="201420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Pri razmnožavanju pčela trutovi se razvijaju iz neoplođene, a radilice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matice iz oplođenih jajnih stanica. Koja tvrdnja je istinita?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radilice iz istog legla su međusobno genetički jednak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trutovi iz istog legla su međusobno genetički jednaki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matice u spolnim stanicama imaju dvostruki broj kromosom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trutovi u tjelesnim stanicama imaju polovičan broj kromoso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kstniOkvir 8"/>
          <p:cNvSpPr/>
          <p:nvPr/>
        </p:nvSpPr>
        <p:spPr>
          <a:xfrm>
            <a:off x="250920" y="4076640"/>
            <a:ext cx="8429400" cy="173988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Koji se od navedenih spojeva ubraja u alkohol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acetil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benz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met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324000" y="981000"/>
            <a:ext cx="8424720" cy="647640"/>
          </a:xfrm>
          <a:prstGeom prst="rect">
            <a:avLst/>
          </a:prstGeom>
          <a:solidFill>
            <a:srgbClr val="edfad2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 sljedećem zadatku samo je jedan odgovor toča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Zaokruži slovo ispred točnog odgovor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250920" y="6021360"/>
            <a:ext cx="8424720" cy="647640"/>
          </a:xfrm>
          <a:prstGeom prst="rect">
            <a:avLst/>
          </a:prstGeom>
          <a:solidFill>
            <a:srgbClr val="edfad2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Točan odgovor donosi 1 b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zervirano mjesto broja slajda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2CAD-ECAC-4636-BE72-E88EAC3CE5F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kstniOkvir 8"/>
          <p:cNvSpPr/>
          <p:nvPr/>
        </p:nvSpPr>
        <p:spPr>
          <a:xfrm>
            <a:off x="324000" y="189000"/>
            <a:ext cx="8429400" cy="338580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Pri razmnožavanju pčela trutovi se razvijaju iz neoplođene, a radilice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matice iz oplođenih jajnih stanica. Koja tvrdnja je istinita?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a) radilice iz istog legla su međusobno genetički jednak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b) trutovi iz istog legla su međusobno genetički jednaki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c) matice u spolnim stanicama imaju dvostruki broj kromosom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d) trutovi u tjelesnim stanicama imaju polovičan broj kromoso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Obrazovni ishod: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 Analizirati broj kromosoma u stanicama organizam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                    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nastalih iz oplođene/neoplođene jajne stanic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Razina postignuća: 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3. Rješavanje proble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Procijenjena težina pitanja: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 0,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kstniOkvir 8"/>
          <p:cNvSpPr/>
          <p:nvPr/>
        </p:nvSpPr>
        <p:spPr>
          <a:xfrm>
            <a:off x="285840" y="3857760"/>
            <a:ext cx="8429400" cy="283716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Koji se od navedenih spojeva ubraja u alkohol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acetil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benz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met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Obrazovni ishod: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 Prepoznati princip imenovanja alkohol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Razina postignuća: 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1. Reprodukcij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Procijenjena težina pitanja: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 0,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058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Zadatci višestrukog izbor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4041720" cy="471600"/>
          </a:xfrm>
          <a:prstGeom prst="rect">
            <a:avLst/>
          </a:prstGeom>
          <a:solidFill>
            <a:srgbClr val="e6f8ff">
              <a:alpha val="25000"/>
            </a:srgbClr>
          </a:solidFill>
          <a:ln w="12600">
            <a:solidFill>
              <a:srgbClr val="ebf7ff"/>
            </a:solidFill>
            <a:miter/>
          </a:ln>
        </p:spPr>
        <p:txBody>
          <a:bodyPr anchor="ctr">
            <a:normAutofit fontScale="45000"/>
          </a:bodyPr>
          <a:p>
            <a:pPr marL="1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  <a:p>
            <a:pPr marL="1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Comic Sans MS"/>
              </a:rPr>
              <a:t>PREDN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3280" y="1557360"/>
            <a:ext cx="4042080" cy="457200"/>
          </a:xfrm>
          <a:prstGeom prst="rect">
            <a:avLst/>
          </a:prstGeom>
          <a:solidFill>
            <a:srgbClr val="e6f8ff">
              <a:alpha val="25000"/>
            </a:srgbClr>
          </a:solidFill>
          <a:ln w="12600">
            <a:solidFill>
              <a:srgbClr val="ebf7ff"/>
            </a:solidFill>
            <a:miter/>
          </a:ln>
        </p:spPr>
        <p:txBody>
          <a:bodyPr anchor="ctr">
            <a:normAutofit fontScale="43000"/>
          </a:bodyPr>
          <a:p>
            <a:pPr marL="18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  <a:p>
            <a:pPr marL="18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Comic Sans MS"/>
              </a:rPr>
              <a:t>NEDOSTATC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8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000" y="2420640"/>
            <a:ext cx="410364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ispituje se velika količina sadrža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brzo se rješavaju i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   </a:t>
            </a: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ispravljaju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pogađanje reduciran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   </a:t>
            </a: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ponudom većeg bro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   </a:t>
            </a: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distraktor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ispituju se različite razin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    </a:t>
            </a: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znan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716000" y="2492280"/>
            <a:ext cx="4103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teško sastaviti kvalitetn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    </a:t>
            </a: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distraktor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učenik troši vrijeme na čitanje ponuđenih odgovor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Rezervirano mjesto broja slajda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39A2-1F98-42FE-A027-349F60C722E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81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Zadatci povezivanja i sređivanj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Rezervirano mjesto broja slajda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A33F-C42B-4437-9EB5-8BF1337FC612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kstniOkvir 9"/>
          <p:cNvSpPr/>
          <p:nvPr/>
        </p:nvSpPr>
        <p:spPr>
          <a:xfrm>
            <a:off x="357120" y="1679400"/>
            <a:ext cx="8399520" cy="201420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Poveži dio mozga s funkcijom kojom upravlja.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a) disan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1) Mali mozak _____               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b) gutan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2) Veliki mozak _____ 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c) pisan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3) Produžena moždina _____ 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d) računan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e) rolan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f) šivan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324000" y="836640"/>
            <a:ext cx="8424720" cy="647640"/>
          </a:xfrm>
          <a:prstGeom prst="rect">
            <a:avLst/>
          </a:prstGeom>
          <a:solidFill>
            <a:srgbClr val="edfad2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 sljedećem zadatku svakom pojmu označenim brojem pridruži po d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dgovarajuća pojma označena slovom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kstniOkvir 9"/>
          <p:cNvSpPr/>
          <p:nvPr/>
        </p:nvSpPr>
        <p:spPr>
          <a:xfrm>
            <a:off x="357120" y="3857760"/>
            <a:ext cx="8398080" cy="228852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Poveži skupinu biološki važnih spojeva s odgovarajućim predstavnikom.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a) celuloz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1) Bjelančevine _____            b) glikog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2) Masti i ulja _____ 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c) goveđi loj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3) Ugljikohidrati _____ 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d) hemoglob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e) margar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f) peps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57120" y="6072120"/>
            <a:ext cx="8425080" cy="647640"/>
          </a:xfrm>
          <a:prstGeom prst="rect">
            <a:avLst/>
          </a:prstGeom>
          <a:solidFill>
            <a:srgbClr val="edfad2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Svako točno povezivanje donosi 1 bod. Ukupno 3 bod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zervirano mjesto broja slajda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92D5-BEB2-4ADB-9F98-49ABC6A7E4D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kstniOkvir 9"/>
          <p:cNvSpPr/>
          <p:nvPr/>
        </p:nvSpPr>
        <p:spPr>
          <a:xfrm>
            <a:off x="357120" y="500040"/>
            <a:ext cx="8399520" cy="283716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Poveži dio mozga s funkcijom kojom upravlja.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a) disan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1) Mali mozak </a:t>
            </a: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e, f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              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b) gutan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2) Veliki mozak </a:t>
            </a: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c, d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c) pisan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3) Produžena moždina </a:t>
            </a: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b,a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d) računan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e) rolan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f) šivan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Obrazovni ishod: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 Povezati dijelove mozga s ulogam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Razina postignuća: 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2. Konceptualno razumijevan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Procijenjena težina pitanja: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 0,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kstniOkvir 9"/>
          <p:cNvSpPr/>
          <p:nvPr/>
        </p:nvSpPr>
        <p:spPr>
          <a:xfrm>
            <a:off x="357120" y="3643200"/>
            <a:ext cx="8429760" cy="338580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Poveži skupinu biološki važnih spojeva s odgovarajućim predstavnikom.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a) celuloz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1) Bjelančevine </a:t>
            </a: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d, f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           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b) glikog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2) Masti i ulja </a:t>
            </a: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c, e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c) goveđi loj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3) Ugljikohidrati </a:t>
            </a: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a, b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d) hemoglob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e) margar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f) peps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Obrazovni ishod: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 Razlikovati predstavnike biološki važnih spojev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Razina postignuća: 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1. Reprodukcij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Procijenjena težina pitanja: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 0,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382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Zadatci povezivanja i sređivanj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4041720" cy="457200"/>
          </a:xfrm>
          <a:prstGeom prst="rect">
            <a:avLst/>
          </a:prstGeom>
          <a:solidFill>
            <a:srgbClr val="e6f8ff">
              <a:alpha val="25000"/>
            </a:srgbClr>
          </a:solidFill>
          <a:ln w="12600">
            <a:solidFill>
              <a:srgbClr val="ebf7ff"/>
            </a:solidFill>
            <a:miter/>
          </a:ln>
        </p:spPr>
        <p:txBody>
          <a:bodyPr anchor="ctr">
            <a:normAutofit fontScale="86000"/>
          </a:bodyPr>
          <a:p>
            <a:pPr marL="37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Comic Sans MS"/>
              </a:rPr>
              <a:t>PREDN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640" y="1557360"/>
            <a:ext cx="4041720" cy="457200"/>
          </a:xfrm>
          <a:prstGeom prst="rect">
            <a:avLst/>
          </a:prstGeom>
          <a:solidFill>
            <a:srgbClr val="e6f8ff">
              <a:alpha val="25000"/>
            </a:srgbClr>
          </a:solidFill>
          <a:ln w="12600">
            <a:solidFill>
              <a:srgbClr val="ebf7ff"/>
            </a:solidFill>
            <a:miter/>
          </a:ln>
        </p:spPr>
        <p:txBody>
          <a:bodyPr anchor="ctr">
            <a:normAutofit fontScale="41000"/>
          </a:bodyPr>
          <a:p>
            <a:pPr marL="1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Comic Sans MS"/>
              </a:rPr>
              <a:t>NEDOSTATC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2349360"/>
            <a:ext cx="4071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ispituje se razumijevanje odnosa i povezanosti među pojavam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za ispitivanje sadržaja koji imaju puno činjenica i podata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u jednom zadatku moguće    je ispitati više sadrža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42920" y="2420640"/>
            <a:ext cx="4071960" cy="19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rijetko se ispituju više razine kognitivnih proces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6699"/>
                </a:solidFill>
                <a:latin typeface="Comic Sans MS"/>
              </a:rPr>
              <a:t>problem bodovanja djelomično točnih odgovor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Rezervirano mjesto broja slajda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83EB-0F55-416F-8AC9-7611DBEEE7A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Zadatci dopunjavanja</a:t>
            </a:r>
            <a:r>
              <a:rPr b="0" lang="en-US" sz="3600" spc="-1" strike="noStrike">
                <a:solidFill>
                  <a:srgbClr val="008000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8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Rezervirano mjesto broja slajd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9CA5-C931-46C0-B8FC-70A2EC3C7F4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kstniOkvir 4"/>
          <p:cNvSpPr/>
          <p:nvPr/>
        </p:nvSpPr>
        <p:spPr>
          <a:xfrm>
            <a:off x="434880" y="2470320"/>
            <a:ext cx="8429760" cy="91692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Znanost koja proučava ostatke života iz Zemljine prošlosti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e ______________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428760" y="1285920"/>
            <a:ext cx="8429400" cy="647640"/>
          </a:xfrm>
          <a:prstGeom prst="rect">
            <a:avLst/>
          </a:prstGeom>
          <a:solidFill>
            <a:srgbClr val="edfad2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 sljedećem zadatku na praznu crtu upiši pojam koji nedostaje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kstniOkvir 4"/>
          <p:cNvSpPr/>
          <p:nvPr/>
        </p:nvSpPr>
        <p:spPr>
          <a:xfrm>
            <a:off x="434880" y="3983040"/>
            <a:ext cx="8429760" cy="68004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H + 3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2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395280" y="5877000"/>
            <a:ext cx="8424720" cy="647640"/>
          </a:xfrm>
          <a:prstGeom prst="rect">
            <a:avLst/>
          </a:prstGeom>
          <a:solidFill>
            <a:srgbClr val="edfad2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Točan odgovor donosi 1 b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zervirano mjesto broja slajd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C709-28FB-4ED5-9022-D19852698AC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kstniOkvir 4"/>
          <p:cNvSpPr/>
          <p:nvPr/>
        </p:nvSpPr>
        <p:spPr>
          <a:xfrm>
            <a:off x="395280" y="907920"/>
            <a:ext cx="8429760" cy="201420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Znanost koja proučava ostatke života iz Zemljine prošlosti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paleontologij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Obrazovni ishod:</a:t>
            </a:r>
            <a:r>
              <a:rPr b="1" lang="en-US" sz="1800" spc="-1" strike="noStrike">
                <a:solidFill>
                  <a:srgbClr val="7030a0"/>
                </a:solidFill>
                <a:latin typeface="Comic Sans MS"/>
              </a:rPr>
              <a:t> Imenovati znanost o fosilim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azina postignuća: </a:t>
            </a:r>
            <a:r>
              <a:rPr b="1" lang="en-US" sz="1800" spc="-1" strike="noStrike">
                <a:solidFill>
                  <a:srgbClr val="7030a0"/>
                </a:solidFill>
                <a:latin typeface="Comic Sans MS"/>
              </a:rPr>
              <a:t>1. Reprodukcij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Procijenjena težina pitanja:</a:t>
            </a:r>
            <a:r>
              <a:rPr b="1" lang="en-US" sz="1800" spc="-1" strike="noStrike">
                <a:solidFill>
                  <a:srgbClr val="7030a0"/>
                </a:solidFill>
                <a:latin typeface="Comic Sans MS"/>
              </a:rPr>
              <a:t> 0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kstniOkvir 4"/>
          <p:cNvSpPr/>
          <p:nvPr/>
        </p:nvSpPr>
        <p:spPr>
          <a:xfrm>
            <a:off x="395280" y="3645000"/>
            <a:ext cx="8429760" cy="205164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H + 3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2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3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Obrazovni ishod:</a:t>
            </a:r>
            <a:r>
              <a:rPr b="1" lang="en-US" sz="1800" spc="-1" strike="noStrike">
                <a:solidFill>
                  <a:srgbClr val="7030a0"/>
                </a:solidFill>
                <a:latin typeface="Comic Sans MS"/>
              </a:rPr>
              <a:t> Dovršiti kemijsku jednadžbu gorenja alkohol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azina postignuća: </a:t>
            </a:r>
            <a:r>
              <a:rPr b="1" lang="en-US" sz="1800" spc="-1" strike="noStrike">
                <a:solidFill>
                  <a:srgbClr val="7030a0"/>
                </a:solidFill>
                <a:latin typeface="Comic Sans MS"/>
              </a:rPr>
              <a:t>2. Primje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Procijenjena težina pitanja:</a:t>
            </a:r>
            <a:r>
              <a:rPr b="1" lang="en-US" sz="1800" spc="-1" strike="noStrike">
                <a:solidFill>
                  <a:srgbClr val="7030a0"/>
                </a:solidFill>
                <a:latin typeface="Comic Sans MS"/>
              </a:rPr>
              <a:t> 0,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Comic Sans MS"/>
              </a:rPr>
              <a:t>Ciljevi današnje radionice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definiranje postignuća (ishoda) koje želimo provjeri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blikovanje pitanja za provjeru različitih razina postignuć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rovjera kvalitete pitanja prema zadanim kriterijim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Zadatci dopunjavanja</a:t>
            </a:r>
            <a:r>
              <a:rPr b="0" lang="en-US" sz="3600" spc="-1" strike="noStrike">
                <a:solidFill>
                  <a:srgbClr val="008000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8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Rezervirano mjesto broja slajd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326B-14B6-4249-8B1D-5FC980ED265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zervirano mjesto teksta 2"/>
          <p:cNvSpPr/>
          <p:nvPr/>
        </p:nvSpPr>
        <p:spPr>
          <a:xfrm>
            <a:off x="324000" y="1773360"/>
            <a:ext cx="4041720" cy="457200"/>
          </a:xfrm>
          <a:prstGeom prst="rect">
            <a:avLst/>
          </a:prstGeom>
          <a:solidFill>
            <a:srgbClr val="e6f8ff">
              <a:alpha val="25000"/>
            </a:srgbClr>
          </a:solidFill>
          <a:ln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Comic Sans MS"/>
              </a:rPr>
              <a:t>PREDNOS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zervirano mjesto teksta 2"/>
          <p:cNvSpPr/>
          <p:nvPr/>
        </p:nvSpPr>
        <p:spPr>
          <a:xfrm>
            <a:off x="4716360" y="1773360"/>
            <a:ext cx="4041720" cy="457200"/>
          </a:xfrm>
          <a:prstGeom prst="rect">
            <a:avLst/>
          </a:prstGeom>
          <a:solidFill>
            <a:srgbClr val="e6f8ff">
              <a:alpha val="25000"/>
            </a:srgbClr>
          </a:solidFill>
          <a:ln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Comic Sans MS"/>
              </a:rPr>
              <a:t>NEDOSTAT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24000" y="2708280"/>
            <a:ext cx="400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lako se konstruiraj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ema pogađanj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učenik sam piše odgovo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e izabire g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716360" y="2565360"/>
            <a:ext cx="4214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zahtijeva reprodukciju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memoriranj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edvidjeti sve moguće toč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dgov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spravljanje teško zbog nečitko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rukopi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u ključu za odgovore predvidje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bodovanje krivo napisanih il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gramatički neispravnih odgovo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Zadatci produženog odgovor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Rezervirano mjesto broja slajd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EC22-C413-4B31-9983-E67216545E3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154160" y="3571920"/>
            <a:ext cx="3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68360" y="1052640"/>
            <a:ext cx="8389800" cy="647640"/>
          </a:xfrm>
          <a:prstGeom prst="rect">
            <a:avLst/>
          </a:prstGeom>
          <a:solidFill>
            <a:srgbClr val="edfad2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 sljedećem zadatku odgovori s nekoliko rečenica/izračuno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kstniOkvir 13"/>
          <p:cNvSpPr/>
          <p:nvPr/>
        </p:nvSpPr>
        <p:spPr>
          <a:xfrm>
            <a:off x="428760" y="1857240"/>
            <a:ext cx="8429400" cy="201420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Opiši tok krvi u malom krvotoku čovjek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kstniOkvir 13"/>
          <p:cNvSpPr/>
          <p:nvPr/>
        </p:nvSpPr>
        <p:spPr>
          <a:xfrm>
            <a:off x="434880" y="3841920"/>
            <a:ext cx="8429760" cy="64260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Smjesa sadrži 38% željeza, 59% sumpora, a ostatak su nečistoć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Izračunaj masu nečistoća u 63 grama smje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684360" y="4508640"/>
            <a:ext cx="7920000" cy="129528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428760" y="6000840"/>
            <a:ext cx="8424720" cy="647640"/>
          </a:xfrm>
          <a:prstGeom prst="rect">
            <a:avLst/>
          </a:prstGeom>
          <a:solidFill>
            <a:srgbClr val="edfad2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Potpuno točan odgovor 3 boda. Djelomično riješeni zadatak 1 ili 2 boda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zervirano mjesto broja slajd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980A-E548-43D8-BEEE-F2D5D84D19F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154160" y="3571920"/>
            <a:ext cx="3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kstniOkvir 13"/>
          <p:cNvSpPr/>
          <p:nvPr/>
        </p:nvSpPr>
        <p:spPr>
          <a:xfrm>
            <a:off x="324000" y="1197000"/>
            <a:ext cx="8429400" cy="173988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Opiši tok krvi u malom krvotoku čovjek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DK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 PLUĆA </a:t>
            </a:r>
            <a:r>
              <a:rPr b="1" lang="hr-HR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 LP </a:t>
            </a:r>
            <a:r>
              <a:rPr b="1" lang="hr-HR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 L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Obrazovni ishod: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 Opisati put krvi u malom krvoto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Razina postignuća: 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1. Reprodukcija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Procijenjena težina pitanja: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 0,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kstniOkvir 13"/>
          <p:cNvSpPr/>
          <p:nvPr/>
        </p:nvSpPr>
        <p:spPr>
          <a:xfrm>
            <a:off x="357120" y="3357720"/>
            <a:ext cx="8429760" cy="311148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Smjesa sadrži 38% željeza, 59% sumpora, a ostatak su nečistoć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80"/>
                </a:solidFill>
                <a:latin typeface="Comic Sans MS"/>
              </a:rPr>
              <a:t>Izračunaj masu nečistoća u 63 grama smje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m (nečistoća) = W(nečistoća,smjesa) </a:t>
            </a:r>
            <a:r>
              <a:rPr b="1" lang="hr-HR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 m(smjes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= 0,03 </a:t>
            </a:r>
            <a:r>
              <a:rPr b="1" lang="hr-HR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 63 g = 1,89 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Obrazovni ishod: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 Izračunati maseni udio sastojaka u smjesi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Razina postignuća: 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2. Primje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omic Sans MS"/>
              </a:rPr>
              <a:t>Procijenjena težina pitanja:</a:t>
            </a:r>
            <a:r>
              <a:rPr b="1" lang="hr-HR" sz="1800" spc="-1" strike="noStrike">
                <a:solidFill>
                  <a:srgbClr val="7030a0"/>
                </a:solidFill>
                <a:latin typeface="Comic Sans MS"/>
              </a:rPr>
              <a:t> 0,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Zadatci produženog odgovor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" name="Rezervirano mjesto broja slajd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75CE-8856-4658-80A3-2D1BB88D71F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154160" y="3571920"/>
            <a:ext cx="3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kstniOkvir 5"/>
          <p:cNvSpPr/>
          <p:nvPr/>
        </p:nvSpPr>
        <p:spPr>
          <a:xfrm>
            <a:off x="358920" y="1187280"/>
            <a:ext cx="8427960" cy="91692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česti u kemiji i matematic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učenik na pitanje odgovara složenom rečenicom, objašnjenjem,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zračunom, prikazom, dokazom i sl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Rezervirano mjesto teksta 2"/>
          <p:cNvSpPr/>
          <p:nvPr/>
        </p:nvSpPr>
        <p:spPr>
          <a:xfrm>
            <a:off x="357120" y="2571840"/>
            <a:ext cx="4041720" cy="457200"/>
          </a:xfrm>
          <a:prstGeom prst="rect">
            <a:avLst/>
          </a:prstGeom>
          <a:solidFill>
            <a:srgbClr val="e6f8ff">
              <a:alpha val="25000"/>
            </a:srgbClr>
          </a:solidFill>
          <a:ln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Comic Sans MS"/>
              </a:rPr>
              <a:t>PREDNOS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Rezervirano mjesto teksta 2"/>
          <p:cNvSpPr/>
          <p:nvPr/>
        </p:nvSpPr>
        <p:spPr>
          <a:xfrm>
            <a:off x="4786200" y="2571840"/>
            <a:ext cx="4041720" cy="457200"/>
          </a:xfrm>
          <a:prstGeom prst="rect">
            <a:avLst/>
          </a:prstGeom>
          <a:solidFill>
            <a:srgbClr val="e6f8ff">
              <a:alpha val="25000"/>
            </a:srgbClr>
          </a:solidFill>
          <a:ln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Comic Sans MS"/>
              </a:rPr>
              <a:t>NEDOSTAT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57120" y="3071880"/>
            <a:ext cx="4000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lako se konstruiraj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ema pogađanj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spituju se više razine znanj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analiza, sinteza, primj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evaluacij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učenik sam piše odgovor, 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zabire g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stavljena ograničenj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adržaja i forme olakšavaj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spravljanj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4786200" y="3143160"/>
            <a:ext cx="4100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edvidjeti sve moguće toč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dgov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spravljanje teško zbo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ečitkog rukopi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bodovanje gramatičk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eispravnih odgovora 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dgovora s greškama u postupk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zraču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Comic Sans MS"/>
              </a:rPr>
              <a:t>OBLIKOVANJE ZADATAK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58" name="Picture 3" descr="girl_book"/>
          <p:cNvPicPr/>
          <p:nvPr/>
        </p:nvPicPr>
        <p:blipFill>
          <a:blip r:embed="rId1"/>
          <a:stretch/>
        </p:blipFill>
        <p:spPr>
          <a:xfrm>
            <a:off x="3564000" y="3645000"/>
            <a:ext cx="171288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24364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KRITERIJI ZA ZADATK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500120"/>
            <a:ext cx="8715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VALJANOST 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(1 zadatak  ispituje 1 ishod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EFIKASNOST 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(broj zadataka, ravnoteža lakših i težih 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pitanja,  nepotrebne slike i tekst…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OBJEKTIVNOST 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(ključ za odgovor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SPECIFIČNOST 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(odgovori na temelju znanja i vještin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UPOTREBA JEDNOSTAVNOG I JASNOG JEZIKA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  (jednostavne rečenice, bez suvišnog teksta, izbjegavati negacije…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Provjera kvalitete pitanja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13840" y="1071720"/>
            <a:ext cx="89298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Zadatak je  formuliran tako da mjeri zadani obrazovni ishod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2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Zadatak je formuliran tako da ispituje unaprijed određenu razinu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kognitivnih proces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2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Vrsta zadatka je prikladna za ispitivanje zadanog ishod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2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Uputa je jasna i standardiziran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2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Pitanje je toliko jasno da učenik razumije što se od njega očekuj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2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Zadatak je težinom primjeren očekivanoj razini znanja učenik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2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Zadatak je jezično primjeren dobi učenik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2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Zadatak je pravopisno i gramatički toča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2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U zadatku nema negacije ili je jasno naglašen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2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U zadatku nema suvišnih podatak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2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Zadatkom se ne ispituju učenikovi stavovi i mišljenj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2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Svaki zadatak je samostalna cjelina za seb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65040" indent="-255600">
              <a:lnSpc>
                <a:spcPct val="12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omic Sans MS"/>
                <a:ea typeface="Arial"/>
              </a:rPr>
              <a:t>Odgovor na postavljeno pitanje ne nalazi se u drugim zadatcima iz test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Rezervirano mjesto broja slajd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7DB5-AC3F-44A1-9464-7F7FF3EB149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Comic Sans MS"/>
              </a:rPr>
              <a:t>Problemski zadaci su problematični... za rješavače, a još više za sastavljače </a:t>
            </a:r>
            <a:r>
              <a:rPr b="1" lang="en-US" sz="3400" spc="-1" strike="noStrike">
                <a:solidFill>
                  <a:srgbClr val="006666"/>
                </a:solidFill>
                <a:latin typeface="Wingdings"/>
                <a:ea typeface="Wingdings"/>
              </a:rPr>
              <a:t></a:t>
            </a:r>
            <a:r>
              <a:rPr b="1" lang="en-US" sz="3400" spc="-1" strike="noStrike">
                <a:solidFill>
                  <a:srgbClr val="006666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EDOSTACI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teško se uklapaju u zahtjeve za sastavljanje ispita znanj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dugo se pripremaju, a potroše se jednom primjenom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često sadrže zadatke otvorenog tip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uglavnom ispituju više razine znanj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ff"/>
                </a:solidFill>
                <a:latin typeface="Comic Sans MS"/>
              </a:rPr>
              <a:t>PREDNOSTI</a:t>
            </a:r>
            <a:r>
              <a:rPr b="0" lang="hr-HR" sz="2400" spc="-1" strike="noStrike">
                <a:solidFill>
                  <a:srgbClr val="cc00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99"/>
                </a:solidFill>
                <a:latin typeface="Comic Sans MS"/>
              </a:rPr>
              <a:t>uglavnom ispituju više razine znanja</a:t>
            </a:r>
            <a:r>
              <a:rPr b="1" lang="hr-HR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99"/>
                </a:solidFill>
                <a:latin typeface="Comic Sans MS"/>
              </a:rPr>
              <a:t>neodvojivi su dio problemske nastave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99"/>
                </a:solidFill>
                <a:latin typeface="Comic Sans MS"/>
              </a:rPr>
              <a:t>idealni su za provjeravanje razumijevanja</a:t>
            </a:r>
            <a:r>
              <a:rPr b="1" lang="hr-HR" sz="2400" spc="-1" strike="noStrike" u="sng">
                <a:solidFill>
                  <a:srgbClr val="006699"/>
                </a:solidFill>
                <a:uFillTx/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006699"/>
                </a:solidFill>
                <a:latin typeface="Comic Sans MS"/>
              </a:rPr>
              <a:t>koncepata i viših kognitivnih razin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99"/>
                </a:solidFill>
                <a:latin typeface="Comic Sans MS"/>
              </a:rPr>
              <a:t>pogodni su za kroskurikularno povezivanje</a:t>
            </a:r>
            <a:r>
              <a:rPr b="0" lang="hr-HR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Pogled u PIP.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VODOZEMC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Ključni pojmovi: </a:t>
            </a: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disanje kožom i plućima</a:t>
            </a: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, preobrazb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- nabrojati predstavnike skupina vodozemaca te usporediti prilagodbe za život u vodi i na kopnu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- usporediti građu punoglavca i rib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- </a:t>
            </a: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obrazložiti napredak u građi žab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: srce, </a:t>
            </a: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disan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- opisati preobrazbu vodozemc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- obrazložiti potrebu zaštite vodozemaca</a:t>
            </a:r>
            <a:br>
              <a:rPr sz="2000"/>
            </a:b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VOD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- poznavati </a:t>
            </a: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fizikalna svojstva vod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- poznavati svojstva </a:t>
            </a: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vode kao otapala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.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mic Sans MS"/>
              </a:rPr>
              <a:t>ZRAK I GLAVNI SASTOJCI ZRA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- poznavati osnovna fizikalna svojstva (gustoća, </a:t>
            </a: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topljivost u vodi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) i sastav zraka (glavna 4 sastojka + vodena para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324000" y="2106360"/>
            <a:ext cx="8441280" cy="2586240"/>
            <a:chOff x="324000" y="2106360"/>
            <a:chExt cx="8441280" cy="2586240"/>
          </a:xfrm>
        </p:grpSpPr>
        <p:cxnSp>
          <p:nvCxnSpPr>
            <p:cNvPr id="370" name="_s68612"/>
            <p:cNvCxnSpPr>
              <a:stCxn id="371" idx="1"/>
              <a:endCxn id="372" idx="2"/>
            </p:cNvCxnSpPr>
            <p:nvPr/>
          </p:nvCxnSpPr>
          <p:spPr>
            <a:xfrm rot="10800000">
              <a:off x="3486240" y="2707200"/>
              <a:ext cx="299880" cy="17528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73" name="_s68613"/>
            <p:cNvCxnSpPr>
              <a:stCxn id="374" idx="1"/>
              <a:endCxn id="372" idx="2"/>
            </p:cNvCxnSpPr>
            <p:nvPr/>
          </p:nvCxnSpPr>
          <p:spPr>
            <a:xfrm rot="10800000">
              <a:off x="3486240" y="2707200"/>
              <a:ext cx="299880" cy="10911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75" name="_s68614"/>
            <p:cNvCxnSpPr>
              <a:stCxn id="376" idx="1"/>
              <a:endCxn id="372" idx="2"/>
            </p:cNvCxnSpPr>
            <p:nvPr/>
          </p:nvCxnSpPr>
          <p:spPr>
            <a:xfrm rot="10800000">
              <a:off x="3486240" y="2707200"/>
              <a:ext cx="299880" cy="431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72" name="_s68615"/>
            <p:cNvSpPr/>
            <p:nvPr/>
          </p:nvSpPr>
          <p:spPr>
            <a:xfrm>
              <a:off x="324000" y="2106360"/>
              <a:ext cx="6326640" cy="60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4440" bIns="6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ZRADA PROBLEMSKOG ZADATKA</a:t>
              </a:r>
              <a:endParaRPr b="0" lang="en-US" sz="2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_s68616"/>
            <p:cNvSpPr/>
            <p:nvPr/>
          </p:nvSpPr>
          <p:spPr>
            <a:xfrm>
              <a:off x="3786120" y="2904840"/>
              <a:ext cx="4979160" cy="464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4440" bIns="6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OVI KLJUČNI POJMOVI I ISHODI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_s68617"/>
            <p:cNvSpPr/>
            <p:nvPr/>
          </p:nvSpPr>
          <p:spPr>
            <a:xfrm>
              <a:off x="3786120" y="3566520"/>
              <a:ext cx="4979160" cy="46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4440" bIns="6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OSTOJEĆA ZNANJA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_s68618"/>
            <p:cNvSpPr/>
            <p:nvPr/>
          </p:nvSpPr>
          <p:spPr>
            <a:xfrm>
              <a:off x="3786120" y="4227840"/>
              <a:ext cx="4979160" cy="464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520" rIns="128520" tIns="64440" bIns="64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AVILA “ZANATA”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243640" cy="8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Comic Sans MS"/>
              </a:rPr>
              <a:t>Definiranje postignuća/ishoda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ciljevi poučavanja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u PiP-u su iskazani kroz 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postignuća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 ili 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ishod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ostvarenost ciljeva provjeravamo pitanjima koja </a:t>
            </a: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rebaju biti oblikovana tako da 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provjeravaju obrazovno postignuće/isho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koji smo definiral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ff"/>
                </a:solidFill>
                <a:latin typeface="Comic Sans MS"/>
              </a:rPr>
              <a:t>PRAVILA “ZANATA”, ili, na što sve treba paziti prilikom izrade problemskih zadataka?</a:t>
            </a:r>
            <a:endParaRPr b="0" lang="en-US" sz="3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Osmisliti “kostur” zadat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ronaći relevantan izvor podata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aziti na jasnoću i dužinu uvodnog tekst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Odabrati dobre crteže, skice..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očeti od jednostavnijih..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Prema složenijim zadacima..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Stalno imati na umu cilj (ishod/e koje ispitujemo) i svrhu (povezivanje, bolje razumijevanje...) problemskog zadat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</a:rPr>
              <a:t>Npr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DISANJE</a:t>
            </a:r>
            <a:br>
              <a:rPr sz="4400"/>
            </a:b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VODOZEMAC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Ličinke vodozemaca dišu škrgama, a odrasli plućima i kožom. Koža vodozemaca mora stalno biti vlažna. Za vrijeme disanja usta su zatvorena, a zrak ulazi kroz nosnice i ide do pluća. (slika 1.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3780000" cy="32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Comic Sans MS"/>
              </a:rPr>
              <a:t>Dakle, treba početi s jednostavnim..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1. Plavom i crvenom strelicom na slici 1. označen je smjer kretanja plinova prilikom disanja. Koji plin je prikazan plavom strelicom?  ______________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Rectangle 46" descr=""/>
          <p:cNvPicPr/>
          <p:nvPr/>
        </p:nvPicPr>
        <p:blipFill>
          <a:blip r:embed="rId1"/>
          <a:stretch/>
        </p:blipFill>
        <p:spPr>
          <a:xfrm>
            <a:off x="0" y="1719360"/>
            <a:ext cx="4643280" cy="39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DISANJE</a:t>
            </a:r>
            <a:br>
              <a:rPr sz="4400"/>
            </a:b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VODOZEMAC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0920" y="4941720"/>
            <a:ext cx="82296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Bolje razvijen dišni sustav osigurava veću opskrbu tijela kisikom. Žabe mogu mijenjati omjer sudjelovanja pluća i kože u disanju, ovisno o vanjskim uvjetima. (slika 3.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545080" cy="34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..a onda malo i zakomplicirati.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35280" y="1600200"/>
            <a:ext cx="3251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3. Koji će organ žaba sve više koristiti za disanje ako raste temperatura vode u kojoj se nalazi? Obrazloži svoj odgovor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90" name="Rectangle 46" descr=""/>
          <p:cNvPicPr/>
          <p:nvPr/>
        </p:nvPicPr>
        <p:blipFill>
          <a:blip r:embed="rId1"/>
          <a:stretch/>
        </p:blipFill>
        <p:spPr>
          <a:xfrm>
            <a:off x="0" y="1341360"/>
            <a:ext cx="5400720" cy="396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DISANJE</a:t>
            </a:r>
            <a:br>
              <a:rPr sz="4400"/>
            </a:br>
            <a:r>
              <a:rPr b="1" lang="en-US" sz="4400" spc="-1" strike="noStrike">
                <a:solidFill>
                  <a:srgbClr val="cc00ff"/>
                </a:solidFill>
                <a:latin typeface="Comic Sans MS"/>
              </a:rPr>
              <a:t>VODOZEMAC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8229600" cy="23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Comic Sans MS"/>
              </a:rPr>
              <a:t>Pluća kod žaba su bolje razvijena nego kod ostalih skupina vodozemaca (npr. daždevnjaka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99"/>
                </a:solidFill>
                <a:latin typeface="Comic Sans MS"/>
              </a:rPr>
              <a:t>Ipak, neke vrsta žaba, kao što je afrička «kosmata» žaba, imaju mala pluća. Mužjacima te vrste u vrijeme sezone parenja na leđima izrastu dugačke, dobro prokrvljene resice nalik na dlake (otud i naziv «kosmata»). (slika 2.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93" name="kosmata zaba" descr=""/>
          <p:cNvPicPr/>
          <p:nvPr/>
        </p:nvPicPr>
        <p:blipFill>
          <a:blip r:embed="rId1"/>
          <a:stretch/>
        </p:blipFill>
        <p:spPr>
          <a:xfrm>
            <a:off x="6318360" y="0"/>
            <a:ext cx="282564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-88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5" name="zaba1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3384720" cy="29145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0880" y="147240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kosmata zaba" descr=""/>
          <p:cNvPicPr/>
          <p:nvPr/>
        </p:nvPicPr>
        <p:blipFill>
          <a:blip r:embed="rId2"/>
          <a:stretch/>
        </p:blipFill>
        <p:spPr>
          <a:xfrm>
            <a:off x="5651640" y="0"/>
            <a:ext cx="2531880" cy="33289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0" y="452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1187280" y="3368520"/>
            <a:ext cx="5689800" cy="34894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0" y="747144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lika 3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6949800" y="61650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ka 3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24000" y="441000"/>
            <a:ext cx="8820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Comic Sans MS"/>
              </a:rPr>
              <a:t>Pažljivo promotri slike i odgovori na pitanj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Plavom i crvenom strelicom na slici 1. označen je smjer kretanja plinova prilikom disanj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oji plin je prikazan plavom strelicom?  ___________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Obrazloži zašto mužjacima afričke «kosmate» žabe baš u vrijeme parenja izrastu dobro prokrvljene resice na leđim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Koji će organ žaba sve više koristiti za disanje ako raste temperatura vode u kojoj se nalazi? Obrazloži svoj odgovo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50920" y="617760"/>
            <a:ext cx="8569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Comic Sans MS"/>
              </a:rPr>
              <a:t>U sljedećim zadacima zaokruži točan odgovor</a:t>
            </a: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Daždevnjaci žive na kopnu pa su zato aktivniji od žab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ČNO   -    NETOČN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Žabe imaju veća pluća i zato mogu imati višu tjelesnu temperaturu od daždevnjak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ČNO   -    NETOČN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Za disanje žabe koža je važnija od pluć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ČNO   -    NETOČ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8" descr="Picture24.jpg"/>
          <p:cNvPicPr/>
          <p:nvPr/>
        </p:nvPicPr>
        <p:blipFill>
          <a:blip r:embed="rId1"/>
          <a:stretch/>
        </p:blipFill>
        <p:spPr>
          <a:xfrm>
            <a:off x="2484360" y="189000"/>
            <a:ext cx="5762880" cy="43210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4797360"/>
            <a:ext cx="824400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HVALA NA POZORNOSTI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I SRETNO 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Comic Sans MS"/>
              </a:rPr>
              <a:t>Određivanje razine učeničkih postignuć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9" name="Picture 3" descr="girl_book"/>
          <p:cNvPicPr/>
          <p:nvPr/>
        </p:nvPicPr>
        <p:blipFill>
          <a:blip r:embed="rId1"/>
          <a:stretch/>
        </p:blipFill>
        <p:spPr>
          <a:xfrm>
            <a:off x="3564000" y="3645000"/>
            <a:ext cx="171288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7"/>
          <p:cNvGrpSpPr/>
          <p:nvPr/>
        </p:nvGrpSpPr>
        <p:grpSpPr>
          <a:xfrm>
            <a:off x="179280" y="2071800"/>
            <a:ext cx="8715600" cy="3992400"/>
            <a:chOff x="179280" y="2071800"/>
            <a:chExt cx="8715600" cy="3992400"/>
          </a:xfrm>
        </p:grpSpPr>
        <p:pic>
          <p:nvPicPr>
            <p:cNvPr id="231" name="Picture 4" descr=""/>
            <p:cNvPicPr/>
            <p:nvPr/>
          </p:nvPicPr>
          <p:blipFill>
            <a:blip r:embed="rId1"/>
            <a:stretch/>
          </p:blipFill>
          <p:spPr>
            <a:xfrm>
              <a:off x="179280" y="2071800"/>
              <a:ext cx="8715600" cy="39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Zaobljeni pravokutnik 2"/>
            <p:cNvSpPr/>
            <p:nvPr/>
          </p:nvSpPr>
          <p:spPr>
            <a:xfrm>
              <a:off x="785520" y="2643120"/>
              <a:ext cx="8001360" cy="558720"/>
            </a:xfrm>
            <a:prstGeom prst="roundRect">
              <a:avLst>
                <a:gd name="adj" fmla="val 16667"/>
              </a:avLst>
            </a:prstGeom>
            <a:solidFill>
              <a:srgbClr val="00b050">
                <a:alpha val="40000"/>
              </a:srgbClr>
            </a:solidFill>
            <a:ln w="25560">
              <a:solidFill>
                <a:srgbClr val="aeb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Zaobljeni pravokutnik 4"/>
            <p:cNvSpPr/>
            <p:nvPr/>
          </p:nvSpPr>
          <p:spPr>
            <a:xfrm>
              <a:off x="822240" y="3189240"/>
              <a:ext cx="8001360" cy="1038240"/>
            </a:xfrm>
            <a:prstGeom prst="roundRect">
              <a:avLst>
                <a:gd name="adj" fmla="val 16667"/>
              </a:avLst>
            </a:prstGeom>
            <a:solidFill>
              <a:srgbClr val="ffff00">
                <a:alpha val="40000"/>
              </a:srgbClr>
            </a:solidFill>
            <a:ln w="25560">
              <a:solidFill>
                <a:srgbClr val="aeb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Zaobljeni pravokutnik 5"/>
            <p:cNvSpPr/>
            <p:nvPr/>
          </p:nvSpPr>
          <p:spPr>
            <a:xfrm>
              <a:off x="822240" y="4307040"/>
              <a:ext cx="8001360" cy="15969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40000"/>
              </a:srgbClr>
            </a:solidFill>
            <a:ln w="25560">
              <a:solidFill>
                <a:srgbClr val="aeb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Comic Sans MS"/>
              </a:rPr>
              <a:t>Kognitivna sistematizacija zadataka</a:t>
            </a:r>
            <a:br>
              <a:rPr sz="3200"/>
            </a:br>
            <a:br>
              <a:rPr sz="3200"/>
            </a:br>
            <a:r>
              <a:rPr b="0" lang="hr-HR" sz="2000" spc="-1" strike="noStrike">
                <a:solidFill>
                  <a:srgbClr val="006666"/>
                </a:solidFill>
                <a:latin typeface="Comic Sans MS"/>
              </a:rPr>
              <a:t>Reducirana Bloom-ova shema razina učenja prema Crooks-u (1988)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9" descr="http://www.learningandteaching.info/learning/graphics/cognitive_revised.gif"/>
          <p:cNvPicPr/>
          <p:nvPr/>
        </p:nvPicPr>
        <p:blipFill>
          <a:blip r:embed="rId1"/>
          <a:stretch/>
        </p:blipFill>
        <p:spPr>
          <a:xfrm>
            <a:off x="2898720" y="2133720"/>
            <a:ext cx="6245280" cy="44798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5" descr="bloomcog.gif (4879 bytes)"/>
          <p:cNvPicPr/>
          <p:nvPr/>
        </p:nvPicPr>
        <p:blipFill>
          <a:blip r:embed="rId2"/>
          <a:stretch/>
        </p:blipFill>
        <p:spPr>
          <a:xfrm>
            <a:off x="0" y="0"/>
            <a:ext cx="5148360" cy="37497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7"/>
          <p:cNvSpPr/>
          <p:nvPr/>
        </p:nvSpPr>
        <p:spPr>
          <a:xfrm>
            <a:off x="179280" y="189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c97bf9"/>
                </a:solidFill>
                <a:latin typeface="Calibri"/>
                <a:ea typeface="Arial"/>
              </a:rPr>
              <a:t>Bloom (1956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6838920" y="9079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af3cf6"/>
                </a:solidFill>
                <a:latin typeface="Calibri"/>
                <a:ea typeface="Arial"/>
              </a:rPr>
              <a:t>Anderson &amp; Krathwohl (2001)</a:t>
            </a:r>
            <a:r>
              <a:rPr b="0" lang="hr-HR" sz="1800" spc="-1" strike="noStrike">
                <a:solidFill>
                  <a:srgbClr val="af3cf6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3348000" y="0"/>
            <a:ext cx="4495680" cy="68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5bed"/>
              </a:gs>
              <a:gs pos="50000">
                <a:srgbClr val="debdff"/>
              </a:gs>
              <a:gs pos="100000">
                <a:srgbClr val="b25bed"/>
              </a:gs>
            </a:gsLst>
            <a:lin ang="5400000"/>
          </a:gradFill>
          <a:ln w="9360">
            <a:solidFill>
              <a:srgbClr val="830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0b2"/>
                </a:solidFill>
                <a:latin typeface="Verdana"/>
              </a:rPr>
              <a:t>KOGNITIVNA DOME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3" name="AutoShape 8"/>
          <p:cNvGrpSpPr/>
          <p:nvPr/>
        </p:nvGrpSpPr>
        <p:grpSpPr>
          <a:xfrm>
            <a:off x="324000" y="5772240"/>
            <a:ext cx="4119120" cy="738000"/>
            <a:chOff x="324000" y="5772240"/>
            <a:chExt cx="4119120" cy="738000"/>
          </a:xfrm>
        </p:grpSpPr>
        <p:pic>
          <p:nvPicPr>
            <p:cNvPr id="244" name="AutoShape 8" descr=""/>
            <p:cNvPicPr/>
            <p:nvPr/>
          </p:nvPicPr>
          <p:blipFill>
            <a:blip r:embed="rId3"/>
            <a:stretch/>
          </p:blipFill>
          <p:spPr>
            <a:xfrm>
              <a:off x="324000" y="5772240"/>
              <a:ext cx="41191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31360" y="5891040"/>
              <a:ext cx="3704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buClr>
                  <a:srgbClr val="006699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eprodukcija i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literarno razumijevanj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6" name="AutoShape 8"/>
          <p:cNvGrpSpPr/>
          <p:nvPr/>
        </p:nvGrpSpPr>
        <p:grpSpPr>
          <a:xfrm>
            <a:off x="987480" y="4346640"/>
            <a:ext cx="2901960" cy="1133280"/>
            <a:chOff x="987480" y="4346640"/>
            <a:chExt cx="2901960" cy="1133280"/>
          </a:xfrm>
        </p:grpSpPr>
        <p:pic>
          <p:nvPicPr>
            <p:cNvPr id="247" name="AutoShape 8" descr=""/>
            <p:cNvPicPr/>
            <p:nvPr/>
          </p:nvPicPr>
          <p:blipFill>
            <a:blip r:embed="rId4"/>
            <a:stretch/>
          </p:blipFill>
          <p:spPr>
            <a:xfrm>
              <a:off x="987480" y="4346640"/>
              <a:ext cx="2901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135080" y="4519440"/>
              <a:ext cx="260820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. Konceptualn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azumijevanj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 primjen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9" name="AutoShape 8"/>
          <p:cNvGrpSpPr/>
          <p:nvPr/>
        </p:nvGrpSpPr>
        <p:grpSpPr>
          <a:xfrm>
            <a:off x="5346720" y="1773360"/>
            <a:ext cx="3796920" cy="503280"/>
            <a:chOff x="5346720" y="1773360"/>
            <a:chExt cx="3796920" cy="503280"/>
          </a:xfrm>
        </p:grpSpPr>
        <p:pic>
          <p:nvPicPr>
            <p:cNvPr id="250" name="AutoShape 8" descr=""/>
            <p:cNvPicPr/>
            <p:nvPr/>
          </p:nvPicPr>
          <p:blipFill>
            <a:blip r:embed="rId5"/>
            <a:stretch/>
          </p:blipFill>
          <p:spPr>
            <a:xfrm>
              <a:off x="5346720" y="1773360"/>
              <a:ext cx="37969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537520" y="1855080"/>
              <a:ext cx="3413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. Rješavanje problem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2" name="AutoShape 8"/>
          <p:cNvSpPr/>
          <p:nvPr/>
        </p:nvSpPr>
        <p:spPr>
          <a:xfrm>
            <a:off x="4786200" y="5715000"/>
            <a:ext cx="2214720" cy="533520"/>
          </a:xfrm>
          <a:prstGeom prst="flowChartTerminator">
            <a:avLst/>
          </a:prstGeom>
          <a:gradFill rotWithShape="0">
            <a:gsLst>
              <a:gs pos="0">
                <a:srgbClr val="b25bed"/>
              </a:gs>
              <a:gs pos="50000">
                <a:srgbClr val="debdff"/>
              </a:gs>
              <a:gs pos="100000">
                <a:srgbClr val="b25bed"/>
              </a:gs>
            </a:gsLst>
            <a:lin ang="5400000"/>
          </a:gradFill>
          <a:ln w="9360">
            <a:solidFill>
              <a:srgbClr val="830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0b2"/>
                </a:solidFill>
                <a:latin typeface="Verdana"/>
              </a:rPr>
              <a:t>1. Zapamti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4857840" y="5072040"/>
            <a:ext cx="2143080" cy="533520"/>
          </a:xfrm>
          <a:prstGeom prst="flowChartTerminator">
            <a:avLst/>
          </a:prstGeom>
          <a:gradFill rotWithShape="0">
            <a:gsLst>
              <a:gs pos="0">
                <a:srgbClr val="b25bed"/>
              </a:gs>
              <a:gs pos="50000">
                <a:srgbClr val="debdff"/>
              </a:gs>
              <a:gs pos="100000">
                <a:srgbClr val="b25bed"/>
              </a:gs>
            </a:gsLst>
            <a:lin ang="5400000"/>
          </a:gradFill>
          <a:ln w="9360">
            <a:solidFill>
              <a:srgbClr val="830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0b2"/>
                </a:solidFill>
                <a:latin typeface="Verdana"/>
              </a:rPr>
              <a:t>2. Razumje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4857840" y="4429080"/>
            <a:ext cx="2286000" cy="533520"/>
          </a:xfrm>
          <a:prstGeom prst="flowChartTerminator">
            <a:avLst/>
          </a:prstGeom>
          <a:gradFill rotWithShape="0">
            <a:gsLst>
              <a:gs pos="0">
                <a:srgbClr val="b25bed"/>
              </a:gs>
              <a:gs pos="50000">
                <a:srgbClr val="debdff"/>
              </a:gs>
              <a:gs pos="100000">
                <a:srgbClr val="b25bed"/>
              </a:gs>
            </a:gsLst>
            <a:lin ang="5400000"/>
          </a:gradFill>
          <a:ln w="9360">
            <a:solidFill>
              <a:srgbClr val="830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0b2"/>
                </a:solidFill>
                <a:latin typeface="Verdana"/>
              </a:rPr>
              <a:t>3. Primijeni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4857840" y="3857760"/>
            <a:ext cx="2306520" cy="533160"/>
          </a:xfrm>
          <a:prstGeom prst="flowChartTerminator">
            <a:avLst/>
          </a:prstGeom>
          <a:gradFill rotWithShape="0">
            <a:gsLst>
              <a:gs pos="0">
                <a:srgbClr val="b25bed"/>
              </a:gs>
              <a:gs pos="50000">
                <a:srgbClr val="debdff"/>
              </a:gs>
              <a:gs pos="100000">
                <a:srgbClr val="b25bed"/>
              </a:gs>
            </a:gsLst>
            <a:lin ang="5400000"/>
          </a:gradFill>
          <a:ln w="9360">
            <a:solidFill>
              <a:srgbClr val="830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0b2"/>
                </a:solidFill>
                <a:latin typeface="Verdana"/>
              </a:rPr>
              <a:t>4. Analizira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4786200" y="3214800"/>
            <a:ext cx="2449800" cy="533160"/>
          </a:xfrm>
          <a:prstGeom prst="flowChartTerminator">
            <a:avLst/>
          </a:prstGeom>
          <a:gradFill rotWithShape="0">
            <a:gsLst>
              <a:gs pos="0">
                <a:srgbClr val="b25bed"/>
              </a:gs>
              <a:gs pos="50000">
                <a:srgbClr val="debdff"/>
              </a:gs>
              <a:gs pos="100000">
                <a:srgbClr val="b25bed"/>
              </a:gs>
            </a:gsLst>
            <a:lin ang="5400000"/>
          </a:gradFill>
          <a:ln w="9360">
            <a:solidFill>
              <a:srgbClr val="830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0b2"/>
                </a:solidFill>
                <a:latin typeface="Verdana"/>
              </a:rPr>
              <a:t>5. Vrednova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5143680" y="2571840"/>
            <a:ext cx="1804680" cy="533160"/>
          </a:xfrm>
          <a:prstGeom prst="flowChartTerminator">
            <a:avLst/>
          </a:prstGeom>
          <a:gradFill rotWithShape="0">
            <a:gsLst>
              <a:gs pos="0">
                <a:srgbClr val="b25bed"/>
              </a:gs>
              <a:gs pos="50000">
                <a:srgbClr val="debdff"/>
              </a:gs>
              <a:gs pos="100000">
                <a:srgbClr val="b25bed"/>
              </a:gs>
            </a:gsLst>
            <a:lin ang="5400000"/>
          </a:gradFill>
          <a:ln w="9360">
            <a:solidFill>
              <a:srgbClr val="830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0b2"/>
                </a:solidFill>
                <a:latin typeface="Verdana"/>
              </a:rPr>
              <a:t>6. Kreira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" name="AutoShape 8"/>
          <p:cNvGrpSpPr/>
          <p:nvPr/>
        </p:nvGrpSpPr>
        <p:grpSpPr>
          <a:xfrm>
            <a:off x="3486240" y="701640"/>
            <a:ext cx="3246120" cy="855360"/>
            <a:chOff x="3486240" y="701640"/>
            <a:chExt cx="3246120" cy="855360"/>
          </a:xfrm>
        </p:grpSpPr>
        <p:pic>
          <p:nvPicPr>
            <p:cNvPr id="259" name="AutoShape 8" descr=""/>
            <p:cNvPicPr/>
            <p:nvPr/>
          </p:nvPicPr>
          <p:blipFill>
            <a:blip r:embed="rId6"/>
            <a:stretch/>
          </p:blipFill>
          <p:spPr>
            <a:xfrm>
              <a:off x="3486240" y="701640"/>
              <a:ext cx="324612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652560" y="836640"/>
              <a:ext cx="29134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Comic Sans MS"/>
                </a:rPr>
                <a:t>Razine postignuća/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Comic Sans MS"/>
                </a:rPr>
                <a:t>učenj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400" spc="-1" strike="noStrike">
                  <a:solidFill>
                    <a:srgbClr val="000000"/>
                  </a:solidFill>
                  <a:latin typeface="Verdana"/>
                </a:rPr>
                <a:t>Crooks, 1988.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1" name="Rectangle 18"/>
          <p:cNvSpPr/>
          <p:nvPr/>
        </p:nvSpPr>
        <p:spPr>
          <a:xfrm>
            <a:off x="684000" y="6611040"/>
            <a:ext cx="778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65f91"/>
                </a:solidFill>
                <a:latin typeface="Arial Narrow"/>
                <a:ea typeface="Times New Roman"/>
              </a:rPr>
              <a:t>Crooks, T. (1988) Assessing student performance. (Green Guide No 8). Higher Education Research and Development Society of Australasia (HERDSA), Kensington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ounded Rectangle 19"/>
          <p:cNvSpPr/>
          <p:nvPr/>
        </p:nvSpPr>
        <p:spPr>
          <a:xfrm>
            <a:off x="928800" y="4357800"/>
            <a:ext cx="7643880" cy="1285920"/>
          </a:xfrm>
          <a:prstGeom prst="roundRect">
            <a:avLst>
              <a:gd name="adj" fmla="val 16667"/>
            </a:avLst>
          </a:prstGeom>
          <a:solidFill>
            <a:srgbClr val="daa1f9">
              <a:alpha val="37000"/>
            </a:srgbClr>
          </a:solidFill>
          <a:ln w="9360">
            <a:solidFill>
              <a:srgbClr val="830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ounded Rectangle 20"/>
          <p:cNvSpPr/>
          <p:nvPr/>
        </p:nvSpPr>
        <p:spPr>
          <a:xfrm>
            <a:off x="4716360" y="1557360"/>
            <a:ext cx="4427640" cy="2879640"/>
          </a:xfrm>
          <a:prstGeom prst="roundRect">
            <a:avLst>
              <a:gd name="adj" fmla="val 16667"/>
            </a:avLst>
          </a:prstGeom>
          <a:solidFill>
            <a:srgbClr val="c56ef6">
              <a:alpha val="37000"/>
            </a:srgbClr>
          </a:solidFill>
          <a:ln w="9360">
            <a:solidFill>
              <a:srgbClr val="830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ounded Rectangle 21"/>
          <p:cNvSpPr/>
          <p:nvPr/>
        </p:nvSpPr>
        <p:spPr>
          <a:xfrm>
            <a:off x="324000" y="5661000"/>
            <a:ext cx="8501040" cy="1000080"/>
          </a:xfrm>
          <a:prstGeom prst="roundRect">
            <a:avLst>
              <a:gd name="adj" fmla="val 16667"/>
            </a:avLst>
          </a:prstGeom>
          <a:solidFill>
            <a:srgbClr val="ecd0fc">
              <a:alpha val="37000"/>
            </a:srgbClr>
          </a:solidFill>
          <a:ln w="9360">
            <a:solidFill>
              <a:srgbClr val="830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78920" y="1484280"/>
            <a:ext cx="4286520" cy="673200"/>
          </a:xfrm>
          <a:prstGeom prst="rect">
            <a:avLst/>
          </a:prstGeom>
          <a:solidFill>
            <a:srgbClr val="e6f8ff">
              <a:alpha val="25000"/>
            </a:srgbClr>
          </a:solidFill>
          <a:ln w="12600">
            <a:solidFill>
              <a:srgbClr val="ebf7ff"/>
            </a:solidFill>
            <a:miter/>
          </a:ln>
        </p:spPr>
        <p:txBody>
          <a:bodyPr anchor="ctr">
            <a:normAutofit fontScale="99000"/>
          </a:bodyPr>
          <a:p>
            <a:pPr marL="435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Comic Sans MS"/>
              </a:rPr>
              <a:t>ZADATCI/PITANJA ZATVORENOG TIP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1640" y="1484280"/>
            <a:ext cx="4357800" cy="673200"/>
          </a:xfrm>
          <a:prstGeom prst="rect">
            <a:avLst/>
          </a:prstGeom>
          <a:solidFill>
            <a:srgbClr val="e6f8ff">
              <a:alpha val="25000"/>
            </a:srgbClr>
          </a:solidFill>
          <a:ln w="12600">
            <a:solidFill>
              <a:srgbClr val="ebf7ff"/>
            </a:solidFill>
            <a:miter/>
          </a:ln>
        </p:spPr>
        <p:txBody>
          <a:bodyPr anchor="ctr">
            <a:normAutofit fontScale="79000"/>
          </a:bodyPr>
          <a:p>
            <a:pPr marL="34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Comic Sans MS"/>
              </a:rPr>
              <a:t>ZADATCI/PITANJA OTVORENOG TIP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67" name="Rezervirano mjesto sadržaja 4"/>
          <p:cNvGrpSpPr/>
          <p:nvPr/>
        </p:nvGrpSpPr>
        <p:grpSpPr>
          <a:xfrm>
            <a:off x="182520" y="2498760"/>
            <a:ext cx="4346640" cy="3438360"/>
            <a:chOff x="182520" y="2498760"/>
            <a:chExt cx="4346640" cy="3438360"/>
          </a:xfrm>
        </p:grpSpPr>
        <p:pic>
          <p:nvPicPr>
            <p:cNvPr id="268" name="Rezervirano mjesto sadržaja 4" descr=""/>
            <p:cNvPicPr/>
            <p:nvPr/>
          </p:nvPicPr>
          <p:blipFill>
            <a:blip r:embed="rId1"/>
            <a:stretch/>
          </p:blipFill>
          <p:spPr>
            <a:xfrm>
              <a:off x="182520" y="2498760"/>
              <a:ext cx="434664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47680" y="2562120"/>
              <a:ext cx="4214880" cy="32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Comic Sans MS"/>
                </a:rPr>
                <a:t>Zadatci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c00000"/>
                  </a:solidFill>
                  <a:latin typeface="Comic Sans MS"/>
                </a:rPr>
                <a:t>alternativnog izbor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65040" indent="-255600"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Comic Sans MS"/>
                </a:rPr>
                <a:t>Zadatci višestrukog izbor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65040" indent="-255600"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Comic Sans MS"/>
                </a:rPr>
                <a:t>Zadatci povezivanja i  sređivanja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65040" indent="-255600"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Comic Sans MS"/>
                </a:rPr>
                <a:t>Zadatci višestrukih kombinacij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65040" indent="-255600"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Comic Sans MS"/>
                </a:rPr>
                <a:t>Višestruki zadatci alternativnog izbora (grozd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65040" indent="-255600"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Comic Sans MS"/>
                </a:rPr>
                <a:t>Zadatci redanj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0" name="Rezervirano mjesto sadržaja 5"/>
          <p:cNvGrpSpPr/>
          <p:nvPr/>
        </p:nvGrpSpPr>
        <p:grpSpPr>
          <a:xfrm>
            <a:off x="4498920" y="2498760"/>
            <a:ext cx="4492800" cy="3438360"/>
            <a:chOff x="4498920" y="2498760"/>
            <a:chExt cx="4492800" cy="3438360"/>
          </a:xfrm>
        </p:grpSpPr>
        <p:pic>
          <p:nvPicPr>
            <p:cNvPr id="271" name="Rezervirano mjesto sadržaja 5" descr=""/>
            <p:cNvPicPr/>
            <p:nvPr/>
          </p:nvPicPr>
          <p:blipFill>
            <a:blip r:embed="rId2"/>
            <a:stretch/>
          </p:blipFill>
          <p:spPr>
            <a:xfrm>
              <a:off x="4498920" y="2498760"/>
              <a:ext cx="449280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4567320" y="2562120"/>
              <a:ext cx="4357440" cy="32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buClr>
                  <a:srgbClr val="008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8000"/>
                  </a:solidFill>
                  <a:latin typeface="Comic Sans MS"/>
                </a:rPr>
                <a:t>Zadatci dopunjavanj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65040" indent="-255600">
                <a:spcBef>
                  <a:spcPts val="300"/>
                </a:spcBef>
                <a:buClr>
                  <a:srgbClr val="008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8000"/>
                  </a:solidFill>
                  <a:latin typeface="Comic Sans MS"/>
                </a:rPr>
                <a:t>Zadatci kratkih odgovor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65040" indent="-255600">
                <a:spcBef>
                  <a:spcPts val="300"/>
                </a:spcBef>
                <a:buClr>
                  <a:srgbClr val="008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8000"/>
                  </a:solidFill>
                  <a:latin typeface="Comic Sans MS"/>
                </a:rPr>
                <a:t>Zadatci produženog odgovor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65040" indent="-255600">
                <a:spcBef>
                  <a:spcPts val="300"/>
                </a:spcBef>
                <a:buClr>
                  <a:srgbClr val="008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8000"/>
                  </a:solidFill>
                  <a:latin typeface="Comic Sans MS"/>
                </a:rPr>
                <a:t>Zadatci esejskog tip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65040" indent="-255600">
                <a:spcBef>
                  <a:spcPts val="300"/>
                </a:spcBef>
                <a:buClr>
                  <a:srgbClr val="008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3" name="Rezervirano mjesto broja slajda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91AB-3BFC-43C7-85A9-DB4D6FF6FDF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Naslov 1"/>
          <p:cNvSpPr/>
          <p:nvPr/>
        </p:nvSpPr>
        <p:spPr>
          <a:xfrm>
            <a:off x="611280" y="260280"/>
            <a:ext cx="8381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Vrste zadatak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Comic Sans MS"/>
              </a:rPr>
              <a:t>Specifikacija zadataka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8425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Za sljedeća pitanja trebate odredit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Tip zadat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Način bodo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Obrazovni isho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Razinu postignuć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rocijenjenu težinu pit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Prednosti i nedostatke pojedinih tipova pit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3822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Zadatci alternativnog izbora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Rezervirano mjesto broja slajda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EBCA-D4A3-479A-9873-E6B192DE5DF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28760" y="1428840"/>
            <a:ext cx="8424720" cy="647640"/>
          </a:xfrm>
          <a:prstGeom prst="rect">
            <a:avLst/>
          </a:prstGeom>
          <a:solidFill>
            <a:srgbClr val="edfad2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 sljedećem zadatku zaokruži točan odgov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kstniOkvir 9"/>
          <p:cNvSpPr/>
          <p:nvPr/>
        </p:nvSpPr>
        <p:spPr>
          <a:xfrm>
            <a:off x="428760" y="4214880"/>
            <a:ext cx="8394480" cy="161856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Vodena otopina modre galice koagulira kolage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TOČNO -NETOČ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kstniOkvir 9"/>
          <p:cNvSpPr/>
          <p:nvPr/>
        </p:nvSpPr>
        <p:spPr>
          <a:xfrm>
            <a:off x="428760" y="2428920"/>
            <a:ext cx="8394480" cy="192348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Kornjače su gmazovi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TOČNO -NETOČ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395280" y="6021360"/>
            <a:ext cx="8424720" cy="647640"/>
          </a:xfrm>
          <a:prstGeom prst="rect">
            <a:avLst/>
          </a:prstGeom>
          <a:solidFill>
            <a:srgbClr val="edfad2"/>
          </a:solidFill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Točan odgovor donosi 1 b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5:09:31Z</dcterms:created>
  <dc:creator/>
  <dc:description/>
  <dc:language>en-US</dc:language>
  <cp:lastModifiedBy>dgarasic</cp:lastModifiedBy>
  <dcterms:modified xsi:type="dcterms:W3CDTF">2010-09-02T08:49:08Z</dcterms:modified>
  <cp:revision>198</cp:revision>
  <dc:subject/>
  <dc:title>oblikovanje zadataka iz kemije i biologije</dc:title>
</cp:coreProperties>
</file>