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B5F-6FDC-4A24-B4DF-5F955FCAA92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89A-DAA4-4ADE-9C4E-73E650EAA68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A66-49FC-475B-9332-5365EA0E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0D1-82F6-4568-98C7-F96DB17E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2F7-5F2D-457A-BD0A-5B7972B3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B0F-B53A-400F-A9B3-31D3140B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43C-92CC-4CD6-83EE-F2146EF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B93-E2FF-4FFD-9710-BBD23865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A37-B4C5-4765-ADCC-B9D2273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D86-1238-4A36-A6CE-8A74832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4C4-B5B2-43BF-83C2-3EC1831A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AFD-5B8A-4238-89CE-F99E5DD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B86-5268-45CF-AB61-C33D4BD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465-8B0F-4724-B8EC-C62AF5E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Gea Cetinić, Maja Ljub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562-2126-4AFB-AAF8-B39B68038BA9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79280" y="1988640"/>
            <a:ext cx="6264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PRAĆENJE I VREDNOVANJE</a:t>
            </a:r>
            <a:br>
              <a:rPr sz="4400"/>
            </a:b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OBRAZOVNIH POSTIGNUĆA U </a:t>
            </a:r>
            <a:br>
              <a:rPr sz="4400"/>
            </a:b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PLANU I PROGRAMU T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65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viši savjetnik Žarko Bošnjak, pro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4140360" y="494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greb, 23. kolovoza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99"/>
                </a:solidFill>
                <a:latin typeface="Verdana"/>
              </a:rPr>
              <a:t>PRAĆENJE I VREDN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0000" y="1599840"/>
            <a:ext cx="6443640" cy="47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praćenje i vrednovanje povezani su proc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raćenje je traj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vrednovanje je trenutač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osobe koje se bave vrednovanjem koriste podatke dobivene praćenjem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okazatelja (brojčanih ocj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raćenje djeluje kao sustav za brzo upozoravanje 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ukazuje na probleme odnosno područja u kojima treba provesti vredn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2360" y="546120"/>
          <a:ext cx="8207280" cy="497052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71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N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VJEŠ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MOSTALNOST I                ODGOVOR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843360"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umje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jenji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uđi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naš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kovanje priborom i al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đivanje crteža, predmeta i tehničkih tvorevina na zadanu mj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dinjavanje više različitih dijelova u zadanu cjeli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đivanje tehničkih tvore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i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reban stalni nadz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reban povremeni nadz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stalno i odgovorno izvršava zadać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uje svoj i tuđi 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uzima odgovornost za skupni 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f2f2f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0" name="TextBox 5"/>
          <p:cNvSpPr/>
          <p:nvPr/>
        </p:nvSpPr>
        <p:spPr>
          <a:xfrm>
            <a:off x="250920" y="6093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Verdana"/>
              </a:rPr>
              <a:t>UDJELI U ZAKLJUČNOJ OCJ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PRAĆENJE</a:t>
            </a:r>
            <a:r>
              <a:rPr b="1" lang="hr-HR" sz="4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6443640" cy="478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trajan, kontinuiran, sustavan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upravljačka fun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ispitivanje pokrivenosti i provedb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koristi se brojčano ocjenjivanje kao pokazatelji uspjeha kroz vrij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PRAĆENJE</a:t>
            </a:r>
            <a:r>
              <a:rPr b="1" lang="hr-HR" sz="4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64436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Pitanja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 (pri praćenju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Koliko je učenika ocjenjeno u vreme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Jesmo li zadovoljni ocjenama po sadržaju i razredi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Tko je nezadovolj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  <a:ea typeface="Arial"/>
              </a:rPr>
              <a:t>Jesmo li na dobrom pu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VREDNOVANJE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1)</a:t>
            </a:r>
            <a:r>
              <a:rPr b="1" lang="hr-HR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64436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Prosudba intervencija s obzirom na rezultate, učinak i potrebe koje trebaju zadovoljiti” (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Kritički i objektivan osvrt na ciljeve i kako se oni postižu”(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uključuje prosudbu na temelju krite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sveobuhvatnije od pra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primjenjuje se na politike, </a:t>
            </a:r>
            <a:r>
              <a:rPr b="0" lang="hr-HR" sz="2800" spc="-1" strike="noStrike" u="sng">
                <a:solidFill>
                  <a:srgbClr val="003399"/>
                </a:solidFill>
                <a:uFillTx/>
                <a:latin typeface="Arial"/>
              </a:rPr>
              <a:t>programe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, proj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VREDNOVANJE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64436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99"/>
                </a:solidFill>
                <a:latin typeface="Arial"/>
              </a:rPr>
              <a:t>Vr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mativn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redotočenost na odgov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što je postig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oja je vrijednost programa,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ativn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sredotočenost na razvoj odnosno 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ako možemo poboljšati uspješnost i provedbu programa, projekt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VREDNOVANJE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64436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Kriteriji vredn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Irski pri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ravd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levant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činkovitost - (effectiv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jelotvornost - (ef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tjecaj - (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Verdana"/>
              </a:rPr>
              <a:t>VREDNOVANJE </a:t>
            </a:r>
            <a:r>
              <a:rPr b="1" lang="hr-HR" sz="2000" spc="-1" strike="noStrike">
                <a:solidFill>
                  <a:srgbClr val="003399"/>
                </a:solidFill>
                <a:latin typeface="Verdana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64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Ciklus vredn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4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rije (ex-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cilj je poboljšati materijalne i ljudske res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4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Tijekom (inter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vanjski razvoj i njegovo zna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postiže li program svoje cilj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možemo li poboljšati upravljanje program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4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oslije (ex-p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što je postig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4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kakvi su rez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Verdana"/>
              </a:rPr>
              <a:t>CIKLUS VREDNOVANJA I KRITERI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844640"/>
          <a:ext cx="8640720" cy="3672000"/>
        </p:xfrm>
        <a:graphic>
          <a:graphicData uri="http://schemas.openxmlformats.org/drawingml/2006/table">
            <a:tbl>
              <a:tblPr/>
              <a:tblGrid>
                <a:gridCol w="2960640"/>
                <a:gridCol w="1893960"/>
                <a:gridCol w="1892520"/>
                <a:gridCol w="1893600"/>
              </a:tblGrid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JSKO PIT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-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TER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-P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AVD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VANT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NKOVIT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ELOTVOR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JEC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Verdana"/>
              </a:rPr>
              <a:t>CIKLUS VREDNOVANJA I KRITERI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844640"/>
          <a:ext cx="8713800" cy="3672000"/>
        </p:xfrm>
        <a:graphic>
          <a:graphicData uri="http://schemas.openxmlformats.org/drawingml/2006/table">
            <a:tbl>
              <a:tblPr/>
              <a:tblGrid>
                <a:gridCol w="2986200"/>
                <a:gridCol w="1908000"/>
                <a:gridCol w="1909800"/>
                <a:gridCol w="1909800"/>
              </a:tblGrid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JSKO PIT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-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TER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-P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AVD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VANT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ČINKOVIT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ELOTVOR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JEC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!!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Cetinic, Ljubic</dc:creator>
  <dc:description/>
  <dc:language>en-US</dc:language>
  <cp:lastModifiedBy>Viktorija</cp:lastModifiedBy>
  <dcterms:modified xsi:type="dcterms:W3CDTF">2013-09-11T07:56:52Z</dcterms:modified>
  <cp:revision>36</cp:revision>
  <dc:subject/>
  <dc:title>Slide 1</dc:title>
</cp:coreProperties>
</file>