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move the slide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0935-F0FC-4E95-84DD-2D9387F545BB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3402-57CE-4441-92C9-04C6D159F2AA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F91C-E270-48EA-93F4-5F1FD1DD4C98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ABAA-94B0-4C40-9711-A6A3C8FD1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2514-BB96-443E-8DB9-6E7A51D0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D7FCDD-D6C8-47EC-8A40-4A48389D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1A1E9B-5935-4F1A-9756-7CD049CA6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0404FB-5275-4EFE-B455-EB7D2035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3C1C6-C7F5-41B0-8427-CEE149EA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C4D5E1-E615-4106-9B66-F02F5A81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735638-7172-4001-BF08-404F7CEA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F91EEE-868E-4D6E-9B6A-B7D1303A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E4BB8-0592-43D5-BE0E-ED30EC945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EA702-D7D7-4BFA-8F21-F09311236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C0045B-806D-48E7-889F-4CD4BB914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FE5C-3842-4CAF-B923-2EC1B0453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C64A5F-0283-40F1-B5E1-06C8A101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6D4390-2F70-4FE2-83A4-ABDB273D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A5CFAD-FC35-444E-A3C0-FD189368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70C55D-C20E-4B0A-88B6-0D10B561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E9E6F-DAF2-487E-B081-E88E9F66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D8AF9C-4EFE-4327-8811-77416B0D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AA1735-5927-478F-8B52-801ADC51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8599BD-031C-450D-A43E-06069011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951C5C-B354-4F54-A18C-6E84EDA4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C75F13-DD45-47DB-BA94-D63FE1ED7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1AD1-DD3D-47A4-9BFC-6EF5A5FAE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D1A520-CB9B-49A9-840C-AB7E23134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0F4AE3-CA02-45FA-9D4E-8A79943DB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C16C5-6002-4B57-B9C9-A014B283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D6C51-0E73-4B58-A79E-F25DB6B2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E927E-DABC-40C9-AE81-FC6AE88F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BF7D26-4152-412D-A22A-23E08AD8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E1BB5B-7ECE-43F6-8EA0-A3DD4D06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E6E53-3A23-433E-84D1-BD86CFAE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B02DC8-71B4-4FFF-9FF0-FB7EB6DB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583352-2C7F-4339-AF0A-B6AE61F9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DE68-BC5D-40A7-B5D0-2D44AEC73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223A12-69FF-41B7-9A93-9EACFDE4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7B1E7A-7983-42EB-9BF5-BFF5DA35A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065FD3-84BF-466B-B3F8-D8AC5F9D3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19CDEE-64D1-4673-B3F9-D7ED89199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7597AE-F3A1-4012-BDA7-E4BBE776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3992B3-9E2B-4EBB-8F10-881C1FBD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9ABF64-C54D-40CB-96AC-CF661227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46C2F5-92EC-4A8D-B961-D24885DA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9F5718-EB80-4882-A9E0-90EED96C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A78614-7DF4-4B3C-8CBF-B562CD5B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FA98-136A-4BB9-9EE3-B83F5337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C0CD8E-2756-4C15-870A-5FEC0AEC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ABA7B2-FED3-4C12-A023-76C0DF6C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39C109-13CC-4534-A5E5-CE35C5151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28CA12-FF19-4896-AF86-0DFFD8646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18D8AF-339D-4D7B-BB05-F00D7C7BF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B82761-5D60-4A4B-9980-503861067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FC8C93-D5AE-4D9E-84AA-54AF519F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34ADEE-105E-4E6C-ACAA-B5D5A660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AD0FED-667F-4CE5-9459-A1B5AD89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D59245-FC30-4C83-AC4D-B7717D77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E2220-B7D7-4631-AD6A-EB127895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6C14FE-680C-40E9-A0EE-C014C4C9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432911-0C9C-498C-A639-574B2984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39D64E-0188-4E4A-AB2B-0D528597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7C11D1-8F59-40CD-B3F1-4DA55812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F997FE-E14A-4D89-9093-62B966E8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E4B0EA-76B7-48F0-ABAF-4F3BB1FFB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FC8267-E87B-4660-9550-AB71DCFCC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D0DDA6-78BE-4E42-A66F-5FF755CCC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F7EE3F-5CCF-47DD-9C37-B38014E1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BADC6E-53A4-46E2-8232-BC68D3F7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DEB1-CD2D-473C-8F9F-B3B6D647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9496E5-4BE8-4583-AA81-1437838B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881861-420D-40BE-8549-5EEAA584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6E418C-2FC3-4078-B906-AFF5DB93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9899AC-775E-4292-8C65-E8205492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7CF454-B1DA-4DC6-A98E-C952F390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DEFDEC-3520-4367-B13C-6F339094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A8FC01-CAE2-4B7A-8BB4-15B26561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77EE24-BA08-4F4D-BEF2-0191A3798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3CB374-EEB1-45D5-BA4F-6AF3D3224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51D4-6337-4228-A159-D9D896D0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09A6-0B23-42DD-AC7F-48E8DB8D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F230-F9C0-4A71-9B77-6A670365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02C6-BB17-43CE-9655-EDE3F2E7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26476-D2F6-4EC7-ACDD-F8F300FA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3EEE-03F3-4191-89FD-0FC1F3CB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6942-EEBD-448E-AD2E-2678CBA5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11E8-E999-4780-A8BA-4AA29886F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8A4ED-B610-4BFB-BDC8-566741A02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8BEEA-4192-4FAE-B814-31F9DCBC7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75C51-10A3-4A9B-90EB-C0D77681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D7A5E-D4F1-429E-B4AF-1E3924E4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B0E61-9B06-4D09-8C49-11A6EE5B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7CC2A-8F83-475C-BAD6-04CDDD2E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D409-C931-4C2A-B035-138D222F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029D9-B968-465F-8341-DCB3DE92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48258-EAD4-47A6-BC87-1BBDDA32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F92E9-E91E-40E9-A96D-CCFDB6E2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CBDB3-5F72-4A21-807C-87AED1A3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67CF3-E0CC-4A9B-9DE6-16664258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30D01-7C87-4D59-880F-475CA1BC7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26641-5090-4CB1-91FE-2699D9218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BE33C-78CE-4D9A-9B3F-0F20E9D2F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0B3D4-D2BB-4E2E-B4EB-C6ABD47E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A637E-387E-4791-9ECE-73E5F28C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0412-C214-4245-862F-186F6D35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4B289-E9FF-4FF6-BBAB-FFB4C4BB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B2EDE-E29D-4C42-A90E-1F63F7FF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BB727-797B-4F40-9CC4-3F759516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C235D-B059-454F-8941-1DD74150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F279E-9310-40BF-BAF0-A19C7523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3DC7A-B24D-49F4-B135-2438A5B1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983C1-B03A-4A1C-ABCF-8E9B7E13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5D197-04B2-4B4C-A04B-F0980FAAC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774CF-C147-4083-BFED-8A732C7C1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3A5A8-DA06-4F12-A96E-C50443E91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DC6A-6115-445C-A9B2-523C9CC0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E76D1-FAA3-4816-AE6E-B30653BA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AEF07-4071-4F6A-AB46-5B4EC457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C6816-99C6-4AB2-8523-5BAC81AA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2FC10-7884-43FA-802B-0E25C960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A33F7-D26E-4BC3-A18E-0260F888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9AC32-7086-4930-BC3C-43788442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33632-C005-4B4D-B128-619974B9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38A54-7EDE-4A05-BADF-A4D72F48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FAF33-93D2-4DFC-BF30-85A351B9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7925B-34DD-4E08-8016-DF34CD397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ED2B-C838-4D92-B27E-933F4546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B809D-5EA6-4153-BA83-4C0DF6932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97E9F-CB3A-408C-883E-82395A09D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0C8EF-F16B-4124-AD3B-F7ABB75F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77C09-1E2F-4074-A3C7-BB74676F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6F940-8E0F-4648-91CC-BEACFB4C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B275D-5AAC-46F5-A095-E12A0011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B37FA-56BF-4CE6-97BA-A5DF9AB5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512DE-1E95-43F1-8621-CCDCCEC7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EE58D-B549-4B79-993B-18F0ACD2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4A5E2-D442-4B16-A5C3-F6D3A81A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71B2-D99C-4499-A553-DF34C4BF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A3306-78AC-43B4-BB71-1CBC2311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AECE1-17BF-4473-B5A4-D82F30893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18AEC-B276-4BA6-8DFB-1D08DC5E0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933EF-48E5-4CD8-9BCA-83A4A9CD1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CCDA3-888D-4421-A000-DBDB9DDB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5EB85-DE7B-4613-AB78-394C20D9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908F9-9C8E-41E4-A269-CEDA18EC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56FEF-9052-4C82-A7F2-94BD95F7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FCB7B-0F9A-41F7-8708-F82BCD9F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2C27E-0674-4487-B2FC-C36BE29C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7A45-7C36-4BDD-B9E0-66A1EA62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D4844-201B-4904-92FB-448485F0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CA315-5976-445B-8947-F59955C9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EEB8A-8F5A-4882-8A0E-C0634A64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8EE21-6BE3-4FB3-BBE7-51129BC30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FEA4E-4EEF-4A5C-BF90-3390361BC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4B7A9-69B7-4414-B4C8-7ABB0B26D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DD8C6-F8F1-48C6-861F-8E1F86BB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D86CE-588D-445B-B620-5E1A0D94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80062-D30A-4892-93BC-7E97CF8B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9405A-E229-4918-973C-A1137E95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DB78-E6CC-4E40-BEE9-585FA920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9DE98-A670-4E0B-BB80-16823F58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74A59-146F-40AB-9F70-4B4AA662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04B99-93FE-47C3-BF9A-44374CBB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6EED8-C211-48CF-9FE9-6EA4F0B1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76F05-3089-4B4B-83CE-B9FDA2DE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1F00A-E8D7-4C89-ADB4-8D07BAD9A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8F891-45C0-4173-8200-C3415885C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537F5E-BC38-4EF2-B9F4-5977AF958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CF490F-B6B3-43D4-AEDD-3EDFFB2E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A513E0-D0E3-4B4F-9E46-E480B952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" name="Rectangle 8"/>
            <p:cNvGrpSpPr/>
            <p:nvPr/>
          </p:nvGrpSpPr>
          <p:grpSpPr>
            <a:xfrm>
              <a:off x="548280" y="536400"/>
              <a:ext cx="8058600" cy="5772960"/>
              <a:chOff x="548280" y="536400"/>
              <a:chExt cx="8058600" cy="5772960"/>
            </a:xfrm>
          </p:grpSpPr>
          <p:pic>
            <p:nvPicPr>
              <p:cNvPr id="3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80" y="536400"/>
                <a:ext cx="805860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5332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5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4256-E57A-4B0A-AB1D-488EA164AB86}" type="slidenum">
              <a:rPr b="0" lang="hr-HR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441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2" name="Rectangle 8"/>
            <p:cNvGrpSpPr/>
            <p:nvPr/>
          </p:nvGrpSpPr>
          <p:grpSpPr>
            <a:xfrm>
              <a:off x="548280" y="536400"/>
              <a:ext cx="8058600" cy="5772960"/>
              <a:chOff x="548280" y="536400"/>
              <a:chExt cx="8058600" cy="5772960"/>
            </a:xfrm>
          </p:grpSpPr>
          <p:pic>
            <p:nvPicPr>
              <p:cNvPr id="443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80" y="536400"/>
                <a:ext cx="805860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4" name=""/>
              <p:cNvSpPr/>
              <p:nvPr/>
            </p:nvSpPr>
            <p:spPr>
              <a:xfrm>
                <a:off x="55332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445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TextBox 13"/>
          <p:cNvSpPr/>
          <p:nvPr/>
        </p:nvSpPr>
        <p:spPr>
          <a:xfrm>
            <a:off x="849240" y="9050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“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TextBox 14"/>
          <p:cNvSpPr/>
          <p:nvPr/>
        </p:nvSpPr>
        <p:spPr>
          <a:xfrm>
            <a:off x="7634160" y="28274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Straight Connector 18"/>
          <p:cNvSpPr/>
          <p:nvPr/>
        </p:nvSpPr>
        <p:spPr>
          <a:xfrm>
            <a:off x="1278000" y="414036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8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9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0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0923-8605-4026-B378-BB65FCE59995}" type="slidenum">
              <a:rPr b="0" lang="hr-HR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492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3" name="Rectangle 8"/>
            <p:cNvGrpSpPr/>
            <p:nvPr/>
          </p:nvGrpSpPr>
          <p:grpSpPr>
            <a:xfrm>
              <a:off x="548280" y="536400"/>
              <a:ext cx="8058600" cy="5772960"/>
              <a:chOff x="548280" y="536400"/>
              <a:chExt cx="8058600" cy="5772960"/>
            </a:xfrm>
          </p:grpSpPr>
          <p:pic>
            <p:nvPicPr>
              <p:cNvPr id="494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80" y="536400"/>
                <a:ext cx="805860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5" name=""/>
              <p:cNvSpPr/>
              <p:nvPr/>
            </p:nvSpPr>
            <p:spPr>
              <a:xfrm>
                <a:off x="55332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496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8" name="TextBox 11"/>
          <p:cNvSpPr/>
          <p:nvPr/>
        </p:nvSpPr>
        <p:spPr>
          <a:xfrm>
            <a:off x="878040" y="8967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Verdana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12"/>
          <p:cNvSpPr/>
          <p:nvPr/>
        </p:nvSpPr>
        <p:spPr>
          <a:xfrm>
            <a:off x="7650000" y="2608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Straight Connector 25"/>
          <p:cNvSpPr/>
          <p:nvPr/>
        </p:nvSpPr>
        <p:spPr>
          <a:xfrm>
            <a:off x="1278000" y="342900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1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2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3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0248-11A5-43F4-A26D-08718FEB1449}" type="slidenum">
              <a:rPr b="0" lang="hr-HR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543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4" name="Rectangle 8"/>
            <p:cNvGrpSpPr/>
            <p:nvPr/>
          </p:nvGrpSpPr>
          <p:grpSpPr>
            <a:xfrm>
              <a:off x="548280" y="536400"/>
              <a:ext cx="8058600" cy="5772960"/>
              <a:chOff x="548280" y="536400"/>
              <a:chExt cx="8058600" cy="5772960"/>
            </a:xfrm>
          </p:grpSpPr>
          <p:pic>
            <p:nvPicPr>
              <p:cNvPr id="54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80" y="536400"/>
                <a:ext cx="805860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6" name=""/>
              <p:cNvSpPr/>
              <p:nvPr/>
            </p:nvSpPr>
            <p:spPr>
              <a:xfrm>
                <a:off x="55332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547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Straight Connector 14"/>
          <p:cNvSpPr/>
          <p:nvPr/>
        </p:nvSpPr>
        <p:spPr>
          <a:xfrm>
            <a:off x="1278000" y="3429000"/>
            <a:ext cx="660708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34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35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6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BBF4-44D4-4AA9-A4B6-9E9C594363C2}" type="slidenum">
              <a:rPr b="0" lang="hr-HR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592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3" name="Rectangle 8"/>
            <p:cNvGrpSpPr/>
            <p:nvPr/>
          </p:nvGrpSpPr>
          <p:grpSpPr>
            <a:xfrm>
              <a:off x="548280" y="536400"/>
              <a:ext cx="8058600" cy="5772960"/>
              <a:chOff x="548280" y="536400"/>
              <a:chExt cx="8058600" cy="5772960"/>
            </a:xfrm>
          </p:grpSpPr>
          <p:pic>
            <p:nvPicPr>
              <p:cNvPr id="594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80" y="536400"/>
                <a:ext cx="805860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5" name=""/>
              <p:cNvSpPr/>
              <p:nvPr/>
            </p:nvSpPr>
            <p:spPr>
              <a:xfrm>
                <a:off x="55332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596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8" name="Straight Connector 13"/>
          <p:cNvSpPr/>
          <p:nvPr/>
        </p:nvSpPr>
        <p:spPr>
          <a:xfrm>
            <a:off x="1278000" y="2354400"/>
            <a:ext cx="660708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37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8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9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308F-89B4-4B14-B176-3F3900FF13A1}" type="slidenum">
              <a:rPr b="0" lang="hr-HR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641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2" name="Rectangle 8"/>
            <p:cNvGrpSpPr/>
            <p:nvPr/>
          </p:nvGrpSpPr>
          <p:grpSpPr>
            <a:xfrm>
              <a:off x="548280" y="536400"/>
              <a:ext cx="8058600" cy="5772960"/>
              <a:chOff x="548280" y="536400"/>
              <a:chExt cx="8058600" cy="5772960"/>
            </a:xfrm>
          </p:grpSpPr>
          <p:pic>
            <p:nvPicPr>
              <p:cNvPr id="643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80" y="536400"/>
                <a:ext cx="805860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4" name=""/>
              <p:cNvSpPr/>
              <p:nvPr/>
            </p:nvSpPr>
            <p:spPr>
              <a:xfrm>
                <a:off x="55332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645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6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7" name="Straight Connector 13"/>
          <p:cNvSpPr/>
          <p:nvPr/>
        </p:nvSpPr>
        <p:spPr>
          <a:xfrm>
            <a:off x="6245280" y="906480"/>
            <a:ext cx="0" cy="496872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0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1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2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1E49-E2DD-4078-B85E-1F0EFDA0A69E}" type="slidenum">
              <a:rPr b="0" lang="hr-HR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9" name="Picture 7" descr="SD-PanelTitle-R1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" name="Rectangle 10"/>
            <p:cNvGrpSpPr/>
            <p:nvPr/>
          </p:nvGrpSpPr>
          <p:grpSpPr>
            <a:xfrm>
              <a:off x="1511640" y="1511640"/>
              <a:ext cx="6126120" cy="3840480"/>
              <a:chOff x="1511640" y="1511640"/>
              <a:chExt cx="6126120" cy="3840480"/>
            </a:xfrm>
          </p:grpSpPr>
          <p:pic>
            <p:nvPicPr>
              <p:cNvPr id="51" name="Rectangle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1511640" y="1511640"/>
                <a:ext cx="6126120" cy="384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"/>
              <p:cNvSpPr/>
              <p:nvPr/>
            </p:nvSpPr>
            <p:spPr>
              <a:xfrm>
                <a:off x="1515240" y="1519920"/>
                <a:ext cx="6112800" cy="381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53" name="Picture 11" descr="HDRibbonTitle-UniformTrim.png"/>
            <p:cNvPicPr/>
            <p:nvPr/>
          </p:nvPicPr>
          <p:blipFill>
            <a:blip r:embed="rId5"/>
            <a:srcRect l="0" t="0" r="47963" b="0"/>
            <a:stretch/>
          </p:blipFill>
          <p:spPr>
            <a:xfrm>
              <a:off x="0" y="3128400"/>
              <a:ext cx="1663920" cy="61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2" descr="HDRibbonTitle-UniformTrim.png"/>
            <p:cNvPicPr/>
            <p:nvPr/>
          </p:nvPicPr>
          <p:blipFill>
            <a:blip r:embed="rId6"/>
            <a:srcRect l="0" t="0" r="47963" b="0"/>
            <a:stretch/>
          </p:blipFill>
          <p:spPr>
            <a:xfrm>
              <a:off x="7480080" y="3128400"/>
              <a:ext cx="1663920" cy="61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Straight Connector 14"/>
          <p:cNvSpPr/>
          <p:nvPr/>
        </p:nvSpPr>
        <p:spPr>
          <a:xfrm>
            <a:off x="2019240" y="3471840"/>
            <a:ext cx="511344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6065640" y="5054760"/>
            <a:ext cx="6728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1922040" y="5054760"/>
            <a:ext cx="40640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816240" y="5054760"/>
            <a:ext cx="4143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FA60-6E8C-4D65-8CC0-B731224F4530}" type="slidenum">
              <a:rPr b="0" lang="hr-HR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98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9" name="Rectangle 8"/>
            <p:cNvGrpSpPr/>
            <p:nvPr/>
          </p:nvGrpSpPr>
          <p:grpSpPr>
            <a:xfrm>
              <a:off x="548280" y="536400"/>
              <a:ext cx="8058600" cy="5772960"/>
              <a:chOff x="548280" y="536400"/>
              <a:chExt cx="8058600" cy="5772960"/>
            </a:xfrm>
          </p:grpSpPr>
          <p:pic>
            <p:nvPicPr>
              <p:cNvPr id="10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80" y="536400"/>
                <a:ext cx="805860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5332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102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Straight Connector 6"/>
          <p:cNvSpPr/>
          <p:nvPr/>
        </p:nvSpPr>
        <p:spPr>
          <a:xfrm>
            <a:off x="1278000" y="235584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BE7D-3DD0-4FBE-9E66-6C535BA66FE8}" type="slidenum">
              <a:rPr b="0" lang="hr-HR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47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8" name="Rectangle 8"/>
            <p:cNvGrpSpPr/>
            <p:nvPr/>
          </p:nvGrpSpPr>
          <p:grpSpPr>
            <a:xfrm>
              <a:off x="548280" y="536400"/>
              <a:ext cx="8058600" cy="5772960"/>
              <a:chOff x="548280" y="536400"/>
              <a:chExt cx="8058600" cy="5772960"/>
            </a:xfrm>
          </p:grpSpPr>
          <p:pic>
            <p:nvPicPr>
              <p:cNvPr id="149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80" y="536400"/>
                <a:ext cx="805860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>
                <a:off x="55332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151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Straight Connector 30"/>
          <p:cNvSpPr/>
          <p:nvPr/>
        </p:nvSpPr>
        <p:spPr>
          <a:xfrm>
            <a:off x="1278000" y="359892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891C-48AD-46AD-AE0C-2358800198A6}" type="slidenum">
              <a:rPr b="0" lang="hr-HR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96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7" name="Rectangle 8"/>
            <p:cNvGrpSpPr/>
            <p:nvPr/>
          </p:nvGrpSpPr>
          <p:grpSpPr>
            <a:xfrm>
              <a:off x="548280" y="536400"/>
              <a:ext cx="8058600" cy="5772960"/>
              <a:chOff x="548280" y="536400"/>
              <a:chExt cx="8058600" cy="5772960"/>
            </a:xfrm>
          </p:grpSpPr>
          <p:pic>
            <p:nvPicPr>
              <p:cNvPr id="198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80" y="536400"/>
                <a:ext cx="805860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>
                <a:off x="55332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200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Straight Connector 7"/>
          <p:cNvSpPr/>
          <p:nvPr/>
        </p:nvSpPr>
        <p:spPr>
          <a:xfrm>
            <a:off x="1278000" y="235584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53D5-CC94-437C-B9EC-05B6FCFE4E0F}" type="slidenum">
              <a:rPr b="0" lang="hr-HR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245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6" name="Rectangle 8"/>
            <p:cNvGrpSpPr/>
            <p:nvPr/>
          </p:nvGrpSpPr>
          <p:grpSpPr>
            <a:xfrm>
              <a:off x="548280" y="536400"/>
              <a:ext cx="8058600" cy="5772960"/>
              <a:chOff x="548280" y="536400"/>
              <a:chExt cx="8058600" cy="5772960"/>
            </a:xfrm>
          </p:grpSpPr>
          <p:pic>
            <p:nvPicPr>
              <p:cNvPr id="247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80" y="536400"/>
                <a:ext cx="805860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"/>
              <p:cNvSpPr/>
              <p:nvPr/>
            </p:nvSpPr>
            <p:spPr>
              <a:xfrm>
                <a:off x="55332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249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" name="Straight Connector 40"/>
          <p:cNvSpPr/>
          <p:nvPr/>
        </p:nvSpPr>
        <p:spPr>
          <a:xfrm>
            <a:off x="1278000" y="235440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6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7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8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FA8C-0E19-4C6A-9FD7-CAA62C52F441}" type="slidenum">
              <a:rPr b="0" lang="hr-HR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294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5" name="Rectangle 8"/>
            <p:cNvGrpSpPr/>
            <p:nvPr/>
          </p:nvGrpSpPr>
          <p:grpSpPr>
            <a:xfrm>
              <a:off x="548280" y="536400"/>
              <a:ext cx="8058600" cy="5772960"/>
              <a:chOff x="548280" y="536400"/>
              <a:chExt cx="8058600" cy="5772960"/>
            </a:xfrm>
          </p:grpSpPr>
          <p:pic>
            <p:nvPicPr>
              <p:cNvPr id="296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80" y="536400"/>
                <a:ext cx="805860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"/>
              <p:cNvSpPr/>
              <p:nvPr/>
            </p:nvSpPr>
            <p:spPr>
              <a:xfrm>
                <a:off x="55332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298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0" name="Straight Connector 13"/>
          <p:cNvSpPr/>
          <p:nvPr/>
        </p:nvSpPr>
        <p:spPr>
          <a:xfrm>
            <a:off x="1278000" y="235440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9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0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1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4A9A-4BAD-47F0-BB8C-A457F78BE034}" type="slidenum">
              <a:rPr b="0" lang="hr-HR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343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4" name="Rectangle 8"/>
            <p:cNvGrpSpPr/>
            <p:nvPr/>
          </p:nvGrpSpPr>
          <p:grpSpPr>
            <a:xfrm>
              <a:off x="548280" y="536400"/>
              <a:ext cx="8058600" cy="5772960"/>
              <a:chOff x="548280" y="536400"/>
              <a:chExt cx="8058600" cy="5772960"/>
            </a:xfrm>
          </p:grpSpPr>
          <p:pic>
            <p:nvPicPr>
              <p:cNvPr id="34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80" y="536400"/>
                <a:ext cx="805860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6" name=""/>
              <p:cNvSpPr/>
              <p:nvPr/>
            </p:nvSpPr>
            <p:spPr>
              <a:xfrm>
                <a:off x="55332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347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9" name="Straight Connector 15"/>
          <p:cNvSpPr/>
          <p:nvPr/>
        </p:nvSpPr>
        <p:spPr>
          <a:xfrm>
            <a:off x="1278000" y="2913120"/>
            <a:ext cx="23335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2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3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4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7AE2-17AE-4DA4-B7AA-8ACA4B17CC7E}" type="slidenum">
              <a:rPr b="0" lang="hr-HR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392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3" name="Rectangle 8"/>
            <p:cNvGrpSpPr/>
            <p:nvPr/>
          </p:nvGrpSpPr>
          <p:grpSpPr>
            <a:xfrm>
              <a:off x="548280" y="536400"/>
              <a:ext cx="8058600" cy="5772960"/>
              <a:chOff x="548280" y="536400"/>
              <a:chExt cx="8058600" cy="5772960"/>
            </a:xfrm>
          </p:grpSpPr>
          <p:pic>
            <p:nvPicPr>
              <p:cNvPr id="394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80" y="536400"/>
                <a:ext cx="805860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" name=""/>
              <p:cNvSpPr/>
              <p:nvPr/>
            </p:nvSpPr>
            <p:spPr>
              <a:xfrm>
                <a:off x="55332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396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8" name="Straight Connector 14"/>
          <p:cNvSpPr/>
          <p:nvPr/>
        </p:nvSpPr>
        <p:spPr>
          <a:xfrm>
            <a:off x="1278000" y="4140360"/>
            <a:ext cx="660708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00F3-5029-48DE-8ECA-5B57D53E28E7}" type="slidenum">
              <a:rPr b="0" lang="hr-HR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922400" y="1811160"/>
            <a:ext cx="5308560" cy="151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hr-HR" sz="4800" spc="-1" strike="noStrike">
                <a:solidFill>
                  <a:srgbClr val="262626"/>
                </a:solidFill>
                <a:latin typeface="Garamond"/>
              </a:rPr>
              <a:t>Stručno usavršavanje i profesionalni razvoj</a:t>
            </a:r>
            <a:endParaRPr b="0" lang="en-US" sz="48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1922400" y="3598560"/>
            <a:ext cx="5308560" cy="13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aramond"/>
              </a:rPr>
              <a:t>Ivana Petanjek, prof.</a:t>
            </a:r>
            <a:endParaRPr b="0" lang="en-US" sz="2200" spc="-1" strike="noStrike">
              <a:solidFill>
                <a:srgbClr val="262626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aramond"/>
              </a:rPr>
              <a:t>stručna suradnica pedagoginja, </a:t>
            </a:r>
            <a:endParaRPr b="0" lang="en-US" sz="2200" spc="-1" strike="noStrike">
              <a:solidFill>
                <a:srgbClr val="262626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aramond"/>
              </a:rPr>
              <a:t>COO Goljak</a:t>
            </a:r>
            <a:endParaRPr b="0" lang="en-US" sz="22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4000" spc="-1" strike="noStrike">
                <a:solidFill>
                  <a:srgbClr val="262626"/>
                </a:solidFill>
                <a:latin typeface="Garamond"/>
              </a:rPr>
              <a:t>Razdoblja profesionalne karijere 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Garamond"/>
              </a:rPr>
              <a:t>do 4 god staža... PRIPRAVNICI I POČETNICI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Garamond"/>
              </a:rPr>
              <a:t>4 - 6 god staža... RAZDOBLJE STABILNOSTI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Garamond"/>
              </a:rPr>
              <a:t>7 – 25 god staža... RAZNOLIKOST, EKSPERIMENTIRANJE, AKTIVNOST I PREISPITIVANJE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Garamond"/>
              </a:rPr>
              <a:t>26 – 33 god staža... PROFESIONALNA SMIRENOST ILI KONZERVATIVNOS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Garamond"/>
              </a:rPr>
              <a:t>34 – 40 god staža... POVLAČENJE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22400" y="1268280"/>
            <a:ext cx="5308560" cy="205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4000" spc="-1" strike="noStrike">
                <a:solidFill>
                  <a:srgbClr val="262626"/>
                </a:solidFill>
                <a:latin typeface="Garamond"/>
              </a:rPr>
              <a:t>Motivacija za usavršavanje i profesionalni razvoj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1922400" y="3598560"/>
            <a:ext cx="5308560" cy="13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Poteškoće i izazovi?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Što Vas pokreće i motivira?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922400" y="1811160"/>
            <a:ext cx="5308560" cy="151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4800" spc="-1" strike="noStrike">
                <a:solidFill>
                  <a:srgbClr val="262626"/>
                </a:solidFill>
                <a:latin typeface="Garamond"/>
              </a:rPr>
              <a:t>Bez nove odluke nema promjene!</a:t>
            </a:r>
            <a:endParaRPr b="0" lang="en-US" sz="48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1922400" y="3598560"/>
            <a:ext cx="5308560" cy="13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aramond"/>
              </a:rPr>
              <a:t>Ništa se neće dogoditi samo od sebe, zato </a:t>
            </a:r>
            <a:endParaRPr b="0" lang="en-US" sz="2200" spc="-1" strike="noStrike">
              <a:solidFill>
                <a:srgbClr val="262626"/>
              </a:solidFill>
              <a:latin typeface="Garamond"/>
            </a:endParaRPr>
          </a:p>
          <a:p>
            <a:pPr indent="0" algn="ctr">
              <a:lnSpc>
                <a:spcPct val="60000"/>
              </a:lnSpc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aramond"/>
              </a:rPr>
              <a:t>PODUZIMAJTE I PLANIRAJTE! </a:t>
            </a:r>
            <a:r>
              <a:rPr b="0" lang="hr-HR" sz="1300" spc="-1" strike="noStrike">
                <a:solidFill>
                  <a:srgbClr val="000000"/>
                </a:solidFill>
                <a:latin typeface="Garamond"/>
              </a:rPr>
              <a:t>(Srića, 2009.)</a:t>
            </a:r>
            <a:endParaRPr b="0" lang="en-US" sz="1300" spc="-1" strike="noStrike">
              <a:solidFill>
                <a:srgbClr val="262626"/>
              </a:solidFill>
              <a:latin typeface="Garamond"/>
            </a:endParaRPr>
          </a:p>
          <a:p>
            <a:pPr indent="0" algn="ctr">
              <a:lnSpc>
                <a:spcPct val="60000"/>
              </a:lnSpc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262626"/>
              </a:solidFill>
              <a:latin typeface="Garamond"/>
            </a:endParaRPr>
          </a:p>
          <a:p>
            <a:pPr indent="0" algn="ctr">
              <a:lnSpc>
                <a:spcPct val="60000"/>
              </a:lnSpc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Garamond"/>
              </a:rPr>
              <a:t>A TKO ĆE AKO NEĆEMO</a:t>
            </a:r>
            <a:r>
              <a:rPr b="0" lang="hr-HR" sz="17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Garamond"/>
              </a:rPr>
              <a:t>MI?</a:t>
            </a:r>
            <a:endParaRPr b="0" lang="en-US" sz="22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922400" y="1557000"/>
            <a:ext cx="5308560" cy="177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600" spc="-1" strike="noStrike">
                <a:solidFill>
                  <a:srgbClr val="262626"/>
                </a:solidFill>
                <a:latin typeface="Garamond"/>
              </a:rPr>
              <a:t>Čarobni dućan!!!</a:t>
            </a:r>
            <a:endParaRPr b="0" lang="en-US" sz="36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922400" y="3598560"/>
            <a:ext cx="5308560" cy="13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aramond"/>
              </a:rPr>
              <a:t>Moje drvo snage!!!</a:t>
            </a:r>
            <a:endParaRPr b="0" lang="en-US" sz="32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4700" spc="-1" strike="noStrike">
                <a:solidFill>
                  <a:srgbClr val="262626"/>
                </a:solidFill>
                <a:latin typeface="Garamond"/>
              </a:rPr>
              <a:t>Koliko je sati u mojem profesionalnom životu?</a:t>
            </a:r>
            <a:endParaRPr b="0" lang="en-US" sz="47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22400" y="1811160"/>
            <a:ext cx="5308560" cy="151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4800" spc="-1" strike="noStrike">
                <a:solidFill>
                  <a:srgbClr val="262626"/>
                </a:solidFill>
                <a:latin typeface="Garamond"/>
              </a:rPr>
              <a:t>DRAGO MI JE DA SAM JA – JA…</a:t>
            </a:r>
            <a:endParaRPr b="0" lang="en-US" sz="48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1922400" y="3598560"/>
            <a:ext cx="5308560" cy="13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PRIČA ZA KRAJ!!!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22400" y="1811160"/>
            <a:ext cx="5308560" cy="151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4800" spc="-1" strike="noStrike">
                <a:solidFill>
                  <a:srgbClr val="262626"/>
                </a:solidFill>
                <a:latin typeface="Garamond"/>
              </a:rPr>
              <a:t>Hvala na pažnji!</a:t>
            </a:r>
            <a:endParaRPr b="0" lang="en-US" sz="48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1295280" y="3573000"/>
            <a:ext cx="673272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aramond"/>
              </a:rPr>
              <a:t>Ivana Petanjek,</a:t>
            </a:r>
            <a:endParaRPr b="0" lang="en-US" sz="2200" spc="-1" strike="noStrike">
              <a:solidFill>
                <a:srgbClr val="262626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aramond"/>
              </a:rPr>
              <a:t>stručna suradnica pedagoginja</a:t>
            </a:r>
            <a:endParaRPr b="0" lang="en-US" sz="2200" spc="-1" strike="noStrike">
              <a:solidFill>
                <a:srgbClr val="262626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aramond"/>
              </a:rPr>
              <a:t>ivana.petanjek@skole.hr</a:t>
            </a:r>
            <a:endParaRPr b="0" lang="en-US" sz="2200" spc="-1" strike="noStrike">
              <a:solidFill>
                <a:srgbClr val="262626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922400" y="1811160"/>
            <a:ext cx="5308560" cy="151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4800" spc="-1" strike="noStrike">
                <a:solidFill>
                  <a:srgbClr val="262626"/>
                </a:solidFill>
                <a:latin typeface="Garamond"/>
              </a:rPr>
              <a:t>Priča o mojem imenu</a:t>
            </a:r>
            <a:endParaRPr b="0" lang="en-US" sz="48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1763280" y="3499920"/>
            <a:ext cx="546732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aramond"/>
              </a:rPr>
              <a:t>Kako si dobila ime, tko ti je izabrao ime?</a:t>
            </a:r>
            <a:endParaRPr b="0" lang="en-US" sz="1700" spc="-1" strike="noStrike">
              <a:solidFill>
                <a:srgbClr val="262626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aramond"/>
              </a:rPr>
              <a:t>Znaš li što to ime znači? A u drugim kulturama?</a:t>
            </a:r>
            <a:endParaRPr b="0" lang="en-US" sz="1700" spc="-1" strike="noStrike">
              <a:solidFill>
                <a:srgbClr val="262626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aramond"/>
              </a:rPr>
              <a:t>Postoji li neka obiteljska priča o tom imenu?</a:t>
            </a:r>
            <a:endParaRPr b="0" lang="en-US" sz="1700" spc="-1" strike="noStrike">
              <a:solidFill>
                <a:srgbClr val="262626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aramond"/>
              </a:rPr>
              <a:t>Imaš li nadimak? </a:t>
            </a:r>
            <a:endParaRPr b="0" lang="en-US" sz="1700" spc="-1" strike="noStrike">
              <a:solidFill>
                <a:srgbClr val="262626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aramond"/>
              </a:rPr>
              <a:t>Sviđa li ti se tvoje ime? Sviđa li ti neko drugo ime?</a:t>
            </a:r>
            <a:endParaRPr b="0" lang="en-US" sz="17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4000" spc="-1" strike="noStrike">
                <a:solidFill>
                  <a:srgbClr val="262626"/>
                </a:solidFill>
                <a:latin typeface="Garamond"/>
              </a:rPr>
              <a:t>OVO SAM JA…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262626"/>
                </a:solidFill>
                <a:latin typeface="Garamond"/>
              </a:rPr>
              <a:t>Na jednom listu papira nacrtajte/upišite:</a:t>
            </a:r>
            <a:endParaRPr b="0" lang="en-US" sz="2200" spc="-1" strike="noStrike">
              <a:solidFill>
                <a:srgbClr val="262626"/>
              </a:solidFill>
              <a:latin typeface="Garamond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83992a"/>
              </a:buClr>
              <a:buSzPct val="115000"/>
              <a:buFont typeface="Garamond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262626"/>
                </a:solidFill>
                <a:latin typeface="Garamond"/>
              </a:rPr>
              <a:t>U sredini – svoje ime</a:t>
            </a:r>
            <a:endParaRPr b="0" lang="en-US" sz="2200" spc="-1" strike="noStrike">
              <a:solidFill>
                <a:srgbClr val="262626"/>
              </a:solidFill>
              <a:latin typeface="Garamond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83992a"/>
              </a:buClr>
              <a:buSzPct val="115000"/>
              <a:buFont typeface="Garamond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262626"/>
                </a:solidFill>
                <a:latin typeface="Garamond"/>
              </a:rPr>
              <a:t>Gornji lijevi ugao – simbol koji vas predstavlja</a:t>
            </a:r>
            <a:endParaRPr b="0" lang="en-US" sz="2200" spc="-1" strike="noStrike">
              <a:solidFill>
                <a:srgbClr val="262626"/>
              </a:solidFill>
              <a:latin typeface="Garamond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83992a"/>
              </a:buClr>
              <a:buSzPct val="115000"/>
              <a:buFont typeface="Garamond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262626"/>
                </a:solidFill>
                <a:latin typeface="Garamond"/>
              </a:rPr>
              <a:t>Gornji desni ugao – S kime najradije učite?...sami, u paru, u manjoj skupini, u većoj skupini…prikažite simbolom</a:t>
            </a:r>
            <a:endParaRPr b="0" lang="en-US" sz="2200" spc="-1" strike="noStrike">
              <a:solidFill>
                <a:srgbClr val="262626"/>
              </a:solidFill>
              <a:latin typeface="Garamond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83992a"/>
              </a:buClr>
              <a:buSzPct val="115000"/>
              <a:buFont typeface="Garamond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262626"/>
                </a:solidFill>
                <a:latin typeface="Garamond"/>
              </a:rPr>
              <a:t>Donji lijevi ugao – Koja osjetila najčešće koristite pri učenju? …oko, uho, usta,…</a:t>
            </a:r>
            <a:endParaRPr b="0" lang="en-US" sz="2200" spc="-1" strike="noStrike">
              <a:solidFill>
                <a:srgbClr val="262626"/>
              </a:solidFill>
              <a:latin typeface="Garamond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83992a"/>
              </a:buClr>
              <a:buSzPct val="115000"/>
              <a:buFont typeface="Garamond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262626"/>
                </a:solidFill>
                <a:latin typeface="Garamond"/>
              </a:rPr>
              <a:t>Donji desni ugao – na neki način prikažite ili napišite svoj moto učenja ili poučavanja</a:t>
            </a:r>
            <a:endParaRPr b="0" lang="en-US" sz="22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600" spc="-1" strike="noStrike">
                <a:solidFill>
                  <a:srgbClr val="262626"/>
                </a:solidFill>
                <a:latin typeface="Garamond"/>
              </a:rPr>
              <a:t>Profesionalni identitet</a:t>
            </a:r>
            <a:endParaRPr b="0" lang="en-US" sz="36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Garamond"/>
              </a:rPr>
              <a:t>... kako učitelji vide sami sebe profesionalno, što uključuje njihov osjećaj za vlastite ciljeve, odgovornosti, stil rada i poučavanja, učinkovitost, stupanj zadovoljstva i vlastito planiranje razvoja karijere (Kosnik i Beck, 2009) 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82692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4000" spc="-1" strike="noStrike">
                <a:solidFill>
                  <a:srgbClr val="262626"/>
                </a:solidFill>
                <a:latin typeface="Garamond"/>
              </a:rPr>
              <a:t>Profesionalni razvoj</a:t>
            </a:r>
            <a:br>
              <a:rPr sz="4000"/>
            </a:br>
            <a:r>
              <a:rPr b="0" lang="hr-HR" sz="1600" spc="-1" strike="noStrike">
                <a:solidFill>
                  <a:srgbClr val="262626"/>
                </a:solidFill>
                <a:latin typeface="Garamond"/>
              </a:rPr>
              <a:t>(Bolam, 2002.)</a:t>
            </a:r>
            <a:endParaRPr b="0" lang="en-US" sz="16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262626"/>
                </a:solidFill>
                <a:latin typeface="Garamond"/>
              </a:rPr>
              <a:t>...proces obrazovanja, učenja i potpore koji se događa u vanjskoj ili radnoj okolini</a:t>
            </a:r>
            <a:endParaRPr b="0" lang="en-US" sz="1800" spc="-1" strike="noStrike">
              <a:solidFill>
                <a:srgbClr val="262626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262626"/>
                </a:solidFill>
                <a:latin typeface="Garamond"/>
              </a:rPr>
              <a:t>...ima za cilj promociju učenja i razvoj profesionalnog znanja, vještina i vrijednosti</a:t>
            </a:r>
            <a:endParaRPr b="0" lang="en-US" sz="1800" spc="-1" strike="noStrike">
              <a:solidFill>
                <a:srgbClr val="262626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262626"/>
                </a:solidFill>
                <a:latin typeface="Garamond"/>
              </a:rPr>
              <a:t>...pomaže u odluci i provedbi vrijednih promjena u njihovom ponašanju, djelovanju i stavovima tako da mogu raditi što učinkovitije</a:t>
            </a:r>
            <a:endParaRPr b="0" lang="en-US" sz="18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4000" spc="-1" strike="noStrike">
                <a:solidFill>
                  <a:srgbClr val="262626"/>
                </a:solidFill>
                <a:latin typeface="Garamond"/>
              </a:rPr>
              <a:t>Stručno usavršavanje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Garamond"/>
              </a:rPr>
              <a:t>...individualne i/ili organizirane aktivnosti s ciljem profesionalnog učenja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Garamond"/>
              </a:rPr>
              <a:t>...sudjelovanje na stručnim skupovima, seminarima, konferencijama koje se odvijaju izvan škole...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922400" y="1811160"/>
            <a:ext cx="5308560" cy="151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4000" spc="-1" strike="noStrike">
                <a:solidFill>
                  <a:srgbClr val="262626"/>
                </a:solidFill>
                <a:latin typeface="Garamond"/>
              </a:rPr>
              <a:t>Stručno usavršavanje –</a:t>
            </a:r>
            <a:br>
              <a:rPr sz="4000"/>
            </a:br>
            <a:r>
              <a:rPr b="0" lang="hr-HR" sz="4000" spc="-1" strike="noStrike">
                <a:solidFill>
                  <a:srgbClr val="262626"/>
                </a:solidFill>
                <a:latin typeface="Garamond"/>
              </a:rPr>
              <a:t>PRAVO I OBVEZA</a:t>
            </a:r>
            <a:r>
              <a:rPr b="0" lang="hr-HR" sz="4300" spc="-1" strike="noStrike">
                <a:solidFill>
                  <a:srgbClr val="262626"/>
                </a:solidFill>
                <a:latin typeface="Garamond"/>
              </a:rPr>
              <a:t>!</a:t>
            </a:r>
            <a:br>
              <a:rPr sz="2200"/>
            </a:br>
            <a:r>
              <a:rPr b="0" lang="hr-HR" sz="1800" spc="-1" strike="noStrike">
                <a:solidFill>
                  <a:srgbClr val="262626"/>
                </a:solidFill>
                <a:latin typeface="Garamond"/>
              </a:rPr>
              <a:t>(ČL. 115. Zakona o odgoju i obrazovanju u osnovnoj i srednjoj školi)</a:t>
            </a:r>
            <a:endParaRPr b="0" lang="en-US" sz="18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1922400" y="3598560"/>
            <a:ext cx="5308560" cy="13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hr-HR" sz="2500" spc="-1" strike="noStrike">
                <a:solidFill>
                  <a:srgbClr val="cc0000"/>
                </a:solidFill>
                <a:latin typeface="Garamond"/>
              </a:rPr>
              <a:t>Promjena sustava je obvezna,</a:t>
            </a:r>
            <a:br>
              <a:rPr sz="2500"/>
            </a:br>
            <a:r>
              <a:rPr b="0" i="1" lang="hr-HR" sz="2500" spc="-1" strike="noStrike">
                <a:solidFill>
                  <a:srgbClr val="cc0000"/>
                </a:solidFill>
                <a:latin typeface="Garamond"/>
              </a:rPr>
              <a:t>ali razvoj pojedinca je</a:t>
            </a:r>
            <a:br>
              <a:rPr sz="2500"/>
            </a:br>
            <a:r>
              <a:rPr b="0" i="1" lang="hr-HR" sz="2500" spc="-1" strike="noStrike">
                <a:solidFill>
                  <a:srgbClr val="cc0000"/>
                </a:solidFill>
                <a:latin typeface="Garamond"/>
              </a:rPr>
              <a:t> dobrovoljan</a:t>
            </a:r>
            <a:r>
              <a:rPr b="0" lang="hr-HR" sz="2500" spc="-1" strike="noStrike">
                <a:solidFill>
                  <a:srgbClr val="cc0000"/>
                </a:solidFill>
                <a:latin typeface="Garamond"/>
              </a:rPr>
              <a:t>. </a:t>
            </a:r>
            <a:br>
              <a:rPr sz="2500"/>
            </a:br>
            <a:r>
              <a:rPr b="0" lang="hr-HR" sz="1200" spc="-1" strike="noStrike">
                <a:solidFill>
                  <a:srgbClr val="000000"/>
                </a:solidFill>
                <a:latin typeface="Garamond"/>
              </a:rPr>
              <a:t>Michael Fullan, 1990</a:t>
            </a:r>
            <a:br>
              <a:rPr sz="1200"/>
            </a:br>
            <a:endParaRPr b="0" lang="en-US" sz="12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922400" y="1811160"/>
            <a:ext cx="5308560" cy="151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4800" spc="-1" strike="noStrike">
                <a:solidFill>
                  <a:srgbClr val="262626"/>
                </a:solidFill>
                <a:latin typeface="Garamond"/>
              </a:rPr>
              <a:t>Moj profesionalni put!</a:t>
            </a:r>
            <a:endParaRPr b="0" lang="en-US" sz="48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1922400" y="3598560"/>
            <a:ext cx="5308560" cy="13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- usponi i padovi na Vašem prof. putu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buClr>
                <a:srgbClr val="83992a"/>
              </a:buClr>
              <a:buSzPct val="115000"/>
              <a:buFont typeface="Garamond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Što/tko je bio motivacija da nastavite?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buClr>
                <a:srgbClr val="83992a"/>
              </a:buClr>
              <a:buSzPct val="115000"/>
              <a:buFont typeface="Garamond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Podijelite svoje iskustvo!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buClr>
                <a:srgbClr val="83992a"/>
              </a:buClr>
              <a:buSzPct val="115000"/>
              <a:buFont typeface="Garamond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Zapamtite jedan zanimljiv podatak koji ste čuli!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zervirano mjesto podnožj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Garamond"/>
              </a:rPr>
              <a:t>Sanja Milović - viša savjetnica za međunarodnu suradnju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3" name="Picture 3" descr="stepping stone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4" name="Text Box 4"/>
          <p:cNvSpPr/>
          <p:nvPr/>
        </p:nvSpPr>
        <p:spPr>
          <a:xfrm>
            <a:off x="304920" y="285264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U kojem ste Vi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razdoblju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profesionalne karijere</a:t>
            </a:r>
            <a:r>
              <a:rPr b="1" lang="hr-HR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9:10:47Z</dcterms:created>
  <dc:creator>ipetanjek</dc:creator>
  <dc:description/>
  <dc:language>en-US</dc:language>
  <cp:lastModifiedBy>Ivana</cp:lastModifiedBy>
  <dcterms:modified xsi:type="dcterms:W3CDTF">2015-04-07T19:19:47Z</dcterms:modified>
  <cp:revision>66</cp:revision>
  <dc:subject/>
  <dc:title>Stručno usavršavanje i profesionalni razvoj</dc:title>
</cp:coreProperties>
</file>