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2A3-718E-4C8E-A2AE-1102880C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D98-4284-4D37-8391-31EDC99D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39F-5459-4B81-A317-8D335951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18A-F08D-4AF0-B10F-C78A1CFC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DDF4-021E-4358-B877-DBC23451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0FAC-3D31-4DFA-86F9-380DB974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50AA-B49A-4B8C-9DB9-6634A56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023-01B7-4002-A0F4-146F502C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737-63CA-4A18-854A-EE395DBC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AC5A-83A4-4706-A785-B8CF2458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740D-E0BD-4F8E-A8F3-09787A5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C98-17D8-43DC-B98C-8343B64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1C56-FB86-4758-8CB7-631F268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B95-CBD1-455D-B9E3-192B74B2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4C5A-60C2-4D40-B668-DD132993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93E-D1F0-4D26-9E00-F15DF3AE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BE88-0E2E-426A-AA4B-C7A1695D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733B9-5B95-47F0-B301-7AFC67FE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8950B-6F99-46E9-9218-09125EF8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312AF-834E-4D18-A4BB-5279BB6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437C9-2792-4AF8-A91F-50F3464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CE83A-BF94-4C26-80C2-0ED5F51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22B-8CE0-4511-80E3-D00DF2D2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F4D05-0DF5-4C8D-A640-6689A19E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1E357-3C50-45F8-8462-100CFC0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A5058-5D64-4505-8B7B-9B4EAD0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C66C7-93B9-44F6-A4F6-68CFA7D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7F7D9-711A-4091-A9C8-A6F2772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37E1F-1398-4FDC-85EF-3E7EB328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C39B1-938D-48E9-A0D4-A2EB920A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906C-4C4B-4250-A950-3A6C1BED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1C92-D133-4116-811D-25FF46D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EA5A-4E36-4CDE-83E2-F47C50B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635-4FB6-4A0A-8268-CFFF45E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1E6F-BFD3-4BC1-B946-DE2DCEF9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00D3-3B2E-4F4E-9E30-36D62985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6702-D224-4107-9115-0950C6A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E93F-CB09-48CC-B09F-4BD0034F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FEF4-80D1-4674-9A6A-AF24513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31AF-34E4-488A-8296-CBECF9D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1770-250D-4951-AA87-45D1BBA2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A028-D564-451D-B50C-F30E6507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F99B-E634-4667-88D1-B9B28DB4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149EC-3D70-4920-BB07-7366BC09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DEE-75EA-4121-A5A1-8DBDE08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97CCF-22E4-4B7F-ABDA-DDBB1D6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8D9BF-555F-42B7-8A17-2EB9B467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BABC4-0303-4B27-9683-3671AEDD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21B95-141B-46D4-A62F-72C6ED4D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37606-04EA-4A63-95E4-0168E503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32DC5-B534-4F69-97C5-8DAF86B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BEEEE-791F-41A2-998B-9607527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E24A6-1437-4C95-972E-48C62169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A9F35-B02A-44A2-BAA3-DB024CF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13A11-3733-43D4-BDDB-0768E482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FAD-0536-4064-87A5-58164A72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E1D57-BD3B-44E5-A49E-A9F2ED51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D33AA-D977-4F12-B260-89F69D90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4B7F7-80AF-4531-8ECC-58F4F6A9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58996-20E6-47E8-8837-8E1EBCC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6E41E-9D57-4BF1-9B0C-76F2A84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BEB17-11CB-4643-B969-DB892EEC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AA0ED-C8EB-4FAC-A3E4-3E7A896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744F6-4079-49FA-A781-F8932DC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3A411-5D4A-4DEA-A1F1-69BED2C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C4CBC-6433-40C3-AD7C-DCD0B0C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155-081F-4EC7-B0B1-1132A4F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39400-3BFD-47EA-88A0-BD584BC5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43134-17B4-4A18-813A-6559B0B4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474A4-276A-4CC0-AA7C-096C5458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ED825-67E9-4DEC-9356-2C4C78C1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A7D3F-D7A9-4D08-A858-3C32B06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838E2-D70C-46E9-996A-97556EED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78594-3144-4C73-8E4A-264BF34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92318-F186-4069-B0CE-705341B4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D5C5E-355D-4597-B210-8F0CA00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9DC69-AC19-4E86-A59E-C12325E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73F-F8B6-4C00-A7FF-D955C55D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B071C-A465-4D7E-A45E-ED5C704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8E356-2BFE-4A90-96FF-B7C3C55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DD13B-1AF8-4248-9790-70835686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3E8FE-2573-4C25-AE92-819DC264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4FE44-A272-41A5-9A94-0C9AD2A7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D43-7730-403C-8CBC-88D1C10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8970-71CB-40E8-B12D-B0DE8A961661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ravokutni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ravokutni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avni poveznik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Ravni poveznik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Ravni poveznik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Ravni poveznik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avni poveznik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avni poveznik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ravokut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AFB8-7533-486D-AA0D-87844D137B3C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FB13-FC12-4103-934B-8FB4788F5FDA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avokutni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ravokutni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ravokutni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Ravni poveznik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Ravni poveznik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Ravni poveznik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Ravni poveznik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Ravni poveznik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ravokutni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avni poveznik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A3A3-DF89-4BE1-A1D7-AB77CE836B59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190-50D6-4580-BDF2-62F300F3B616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avni poveznik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Ravni poveznik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avni poveznik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Ravni poveznik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ravokutni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Ravni poveznik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BD0-4BFF-4B66-BF00-332F92D8BA9A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avni poveznik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Ravni poveznik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ravokutni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Ravni poveznik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Ravni poveznik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Ravni poveznik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F41F-639C-4570-AE06-04BBD2DDDA6F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8000" y="907560"/>
            <a:ext cx="8928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Gothic"/>
              </a:rPr>
              <a:t>ULOGA ODGOJITELJA SAVJETNIKA U POTICANJU PROCESA ISTRAŽIVANJA ODGOJNO - OBRAZOVNE PRAKSE U SMJERU REFLEKSIVNOG PROFESIONALIZMA</a:t>
            </a:r>
            <a:endParaRPr b="0" lang="en-US" sz="1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779640" y="5732280"/>
            <a:ext cx="467820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75f6d"/>
                </a:solidFill>
                <a:latin typeface="Century Gothic"/>
              </a:rPr>
              <a:t>Mila Cvrlje odgojitelj savjetnik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75f6d"/>
                </a:solidFill>
                <a:latin typeface="Century Gothic"/>
              </a:rPr>
              <a:t>DV „Radost” Split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Gothic"/>
              </a:rPr>
              <a:t>Ništa nije tako lako naučiti kao iskustvo, i ništa nije tako teško kao primijeniti g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Gothic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0" lang="hr-HR" sz="2800" spc="-1" strike="noStrike">
                <a:solidFill>
                  <a:srgbClr val="000000"/>
                </a:solidFill>
                <a:latin typeface="Century Gothic"/>
              </a:rPr>
              <a:t>Josh Billing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5732640"/>
            <a:ext cx="74246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HVALA  NA  PAŽNJI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56944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ULOGA ODGOJITELJA SAVJETNIKA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8002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Redovito prihvaćanje poslova mentoriranja odgojitelja pripravnika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Redovito prihvaćanje mentoriranja studenata predškolskog odgoja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Redovito stručno usavršavanje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Aktivno sudjelovanje u radu stručnih tijela predškolske ustanove(prenošenje znanja i iskustava sa stručnih skupova)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Redovito preuzimanje uloge refleksivnog prijatelja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Aktivno sudjelovanje u procesu unapređenja profesionalnih kompetencija drugih odgojitelja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Redovito aktivno sudjelovanje na stručnim skupovima u organizaciji AZOO (prikaz prakse,izlaganja,radionice…)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Redovito objavljivanje stručnih članaka u stručnim časopisima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Aktivno sudjelovanje u provedbi odgojno-obrazovnog istraživanja iz područja PO i obrazovanja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Aktivno sudjelovanje u znanstveno-istraživačkim projektima koji pridonose razvoju sustava odgoja i obrazovanja u RH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</a:t>
            </a: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Prosvjetna savjetnica  Tončica  Kalilić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REFLEKSIJA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2060640"/>
            <a:ext cx="746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i="1" lang="hr-HR" sz="2400" spc="-1" strike="noStrike">
                <a:solidFill>
                  <a:srgbClr val="000000"/>
                </a:solidFill>
                <a:latin typeface="Century Gothic"/>
              </a:rPr>
              <a:t>Je proces u kojem osoba promišlja o svojoj praksi,rezultatima i utjecaju vlastite prakse                         (i ponašanja) na okolinu te o mogućnostima unapređenja svoga rada.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„</a:t>
            </a: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Teorija u praksi”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</a:t>
            </a: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Priručnik za profesionalni razvoj odgojitelja (214 str.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</a:t>
            </a: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Pučko otvoreno učilište korak po korak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ZAJEDNICA KOJA UČI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94920" y="162864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Zajednica koja uči je grupa ljudi koji aktivno sudjeluju u zajedničkom učenju, uče jedni od drugih ili podupiru jedni druge u učenju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                       </a:t>
            </a: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POU Korak po korak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                         „</a:t>
            </a: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Teorija u praksi”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Vrtić-zajednica koja uči podrazumijeva kontinuirani razvoj stalno upoznavanje, mijenjanje i dograđivanje  teorije i prakse može dovesti do razvoja kvalitete vrtića - prestanak ulaganja energije i napora dovodi do stagnacije, nakon toga i pada kvalitet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                            </a:t>
            </a: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Edita Slunjski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              „</a:t>
            </a:r>
            <a:r>
              <a:rPr b="0" lang="hr-HR" sz="1400" spc="-1" strike="noStrike">
                <a:solidFill>
                  <a:srgbClr val="000000"/>
                </a:solidFill>
                <a:latin typeface="Century Gothic"/>
              </a:rPr>
              <a:t>Dječji vrtić-Zajednica koja uči”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REFLEKSIVNI  PRAKTIČAR   </a:t>
            </a:r>
            <a:r>
              <a:rPr b="0" lang="hr-HR" sz="3200" spc="-1" strike="noStrike">
                <a:solidFill>
                  <a:srgbClr val="575f6d"/>
                </a:solidFill>
                <a:latin typeface="Century Gothic"/>
              </a:rPr>
              <a:t>(VRTIĆKI ETNOGRAF)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entury Gothic"/>
              </a:rPr>
              <a:t>Refleksivni praktičari nastoje što bolje istražiti, razumjeti i mijenjati vlastitu praksu što se postiže akcijskim istraživanjem (NCV, 2012., str 72)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entury Gothic"/>
              </a:rPr>
              <a:t>Je profesionalac- odgojitelj koji ima razvijenu sposobnost promatranja djeteta kao autonomne ličnosti i tumačenja njegovih akcija ; jednako tako to je onaj odgojitelj koji je fleksibilan u primjeni strategija. Refleksivni praktičar stalno jača svoje kompetencije, zna verbalizirati misao i pretvoriti je u refleksiju, a refleksiju u akciju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entury Gothic"/>
              </a:rPr>
              <a:t>                           </a:t>
            </a:r>
            <a:r>
              <a:rPr b="0" i="1" lang="hr-HR" sz="1600" spc="-1" strike="noStrike">
                <a:solidFill>
                  <a:srgbClr val="000000"/>
                </a:solidFill>
                <a:latin typeface="Century Gothic"/>
              </a:rPr>
              <a:t>Mirjana Šagud „ Odgajatelj kao refleksivni praktičar”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000000"/>
                </a:solidFill>
                <a:latin typeface="Century Gothic"/>
              </a:rPr>
              <a:t>REFLEKSIVNI PRAKTIČAR SE POSTAJE UZ POMOĆ I PODRŠKU KOLEGA!!!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DOKUMENTACIJA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920" y="1599840"/>
            <a:ext cx="8353440" cy="68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dokumentiranje podrazumijeva </a:t>
            </a: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sustavno prikupljanje dokumentacije (etnografskih zapisa)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omogućuje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promatranje i bolje razumijevanje akcija djetet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osigurava</a:t>
            </a: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kvalitetniju potporu djetetovu razvoj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pridonosi </a:t>
            </a: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kreiranju kulture uključenosti i dijaloga između svih sudionika u vrtić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Oblici dokumentacije su</a:t>
            </a: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pisane anegdotske bilješke, dnevnici, transkripti razgovora različitih subjekata i druge narativne forme, dječji likovni radovi, grafički prikazi i makete te audio i video zapisi, fotografije, slajdovi i dr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Dokumentiranje je i samo po sebi istraživački proc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Dokumentacija omogućuje vizualizaciju načina na koji se dijete razvija i uči</a:t>
            </a: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cionalni kurikulum za rani i predškolski odgoj i obrazovanj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PRAVILA GLEDANJA FILMA-VIDEOZAPISA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2205000"/>
            <a:ext cx="7931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entury Gothic"/>
              </a:rPr>
              <a:t>STANI, FOKUSIRAJ 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entury Gothic"/>
              </a:rPr>
              <a:t>PAŽLJIVO GLEDAJ I SLUŠAJ SVE ŠTO DJECA KAŽU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entury Gothic"/>
              </a:rPr>
              <a:t>BILJEŽI ONO ŠTO ČUJEŠ I VIDIŠ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entury Gothic"/>
              </a:rPr>
              <a:t>NE PRETPOSTAVLJAJ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Gothic"/>
              </a:rPr>
              <a:t>OSIGURANJE KVALITET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3640" y="1125000"/>
            <a:ext cx="8135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entury Gothic"/>
              </a:rPr>
              <a:t>Usmjerenost na osiguravanje visoke razine kvalitete odgojno-obrazovne prakse i kurikuluma temeljno je polazište, orijentacija i kontinuirana zadaća svih podsustava Nacionalnoga odgojno-obrazovnog sustav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entury Gothic"/>
              </a:rPr>
              <a:t>Jedno od temeljnih obilježja kvalitete je njezin stalni rast pa je obveza svih čimbenika odgojno-obrazovnoga procesa stalno promišljati, diskutirati i evaluirati kvalitetu odgojno-obrazovne prakse i djelovati u smjeru njezina stalnog unapređivanja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Trajno unapređivanje vlastitih osobnih i profesionalnih kompetencija jest obveza odraslih i postulat u radu s djecom, a njime se želi pružiti primjeren model djeci kako bi se osposobila za samounapređivanje (samoregulacija vlastitog ponašanja) svojih postignuća i izgradnju odnosa s vršnjacima i ostalima u ustanovi i izvan nj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entury Gothic"/>
              </a:rPr>
              <a:t>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Century Gothic"/>
              </a:rPr>
              <a:t>Nacionalni kurikulum za rani i predškolski odgoj i obrazovanj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575f6d"/>
                </a:solidFill>
                <a:latin typeface="Century Gothic"/>
              </a:rPr>
              <a:t>NA TEMELJU ČLANKA 81. USTAVA REPUBLIKE HRVATSKE, HRVATSKI SABOR NA SJEDNICI 17. LISTOPADA 2014</a:t>
            </a:r>
            <a:br>
              <a:rPr sz="1400"/>
            </a:br>
            <a:br>
              <a:rPr sz="1400"/>
            </a:br>
            <a:r>
              <a:rPr b="0" lang="hr-HR" sz="2200" spc="-1" strike="noStrike">
                <a:solidFill>
                  <a:srgbClr val="575f6d"/>
                </a:solidFill>
                <a:latin typeface="Century Gothic"/>
              </a:rPr>
              <a:t>STRATEGIJA  OBRAZOVANJA,  ZNANOSTI I TEHNOLOGIJE</a:t>
            </a:r>
            <a:br>
              <a:rPr sz="2200"/>
            </a:br>
            <a:r>
              <a:rPr b="0" lang="hr-HR" sz="2200" spc="-1" strike="noStrike">
                <a:solidFill>
                  <a:srgbClr val="575f6d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Gothic"/>
              </a:rPr>
              <a:t>Najvažnija načela cjeloživotnog učenja za pojedinca jesu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mogućnost usvajanja unapređenja i/ili proširenja znanja, vještina, stavova i vrijednos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mogućnost i potreba razvoja osobnih potencijala u različitim razdobljima život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mogućnost pristupa različitim oblicima i sadržajima učenja radi ostvarenja osobnih želja i razvoja sposobnos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pravo na priznanje znanja i vještina stečenih u različitim okruženjima i vrstama učenj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5:30:59Z</dcterms:created>
  <dc:creator>Mila</dc:creator>
  <dc:description/>
  <dc:language>en-US</dc:language>
  <cp:lastModifiedBy>Mila</cp:lastModifiedBy>
  <dcterms:modified xsi:type="dcterms:W3CDTF">2015-04-08T06:31:16Z</dcterms:modified>
  <cp:revision>23</cp:revision>
  <dc:subject/>
  <dc:title>ULOGA ODGOJITELJA SAVJETNIKA U POTICANJU PROCESA ISTRAŽIVANJA ODGOJNO - OBRAZOVNE PRAKSE U SMJERU REFLEKSIVNOG PROFESIONALIZMA</dc:title>
</cp:coreProperties>
</file>