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C7A9-4D2A-46C1-BACD-A57DC560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52C-D08E-47B6-BDF9-EF881555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AACF-E90F-453B-9EA5-F19B1971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B988-EAA4-4545-99AE-E58B7DCD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7E4-AB50-4CAD-92D5-A2768C89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30B3-D031-464C-BB9B-08AA782C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F072-5E74-4324-A4C4-C7938863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D0FC-E878-4DC5-87B7-D8DE2D99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190-B6CA-4B8C-83A7-FB469D03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7A7-F66E-420C-B2F1-D55CCEED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745B-7215-4EB6-81D9-5AD8E90F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9AAB-95F5-4BE8-9534-3CC8F29B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8AD3-6D58-46F9-86C6-A6201775A37B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1" descr=""/>
          <p:cNvPicPr/>
          <p:nvPr/>
        </p:nvPicPr>
        <p:blipFill>
          <a:blip r:embed="rId1"/>
          <a:stretch/>
        </p:blipFill>
        <p:spPr>
          <a:xfrm>
            <a:off x="0" y="-291960"/>
            <a:ext cx="9396360" cy="7149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slika13"/>
          <p:cNvPicPr/>
          <p:nvPr/>
        </p:nvPicPr>
        <p:blipFill>
          <a:blip r:embed="rId2"/>
          <a:stretch/>
        </p:blipFill>
        <p:spPr>
          <a:xfrm>
            <a:off x="-15840" y="90360"/>
            <a:ext cx="9396360" cy="75456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2374920" y="1417680"/>
            <a:ext cx="6804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bc003f"/>
                </a:solidFill>
                <a:latin typeface="Arial"/>
              </a:rPr>
              <a:t>komunikacijske vještine – pretpostavka izgradnje kvalitetnih profesionalnih odn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5445000"/>
            <a:ext cx="3564000" cy="107964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6600"/>
                </a:solidFill>
                <a:latin typeface="Arial"/>
              </a:rPr>
              <a:t>Mirjana Milanović, pr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6600"/>
                </a:solidFill>
                <a:latin typeface="Arial"/>
              </a:rPr>
              <a:t>Učiteljski fakultet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6600"/>
                </a:solidFill>
                <a:latin typeface="Arial"/>
              </a:rPr>
              <a:t>odsjek u Petrin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93600"/>
            <a:ext cx="73152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600" spc="-1" strike="noStrike">
                <a:solidFill>
                  <a:srgbClr val="002060"/>
                </a:solidFill>
                <a:latin typeface="Arial"/>
              </a:rPr>
              <a:t>„</a:t>
            </a:r>
            <a:r>
              <a:rPr b="1" i="1" lang="hr-HR" sz="3600" spc="-1" strike="noStrike">
                <a:solidFill>
                  <a:srgbClr val="002060"/>
                </a:solidFill>
                <a:latin typeface="Arial"/>
              </a:rPr>
              <a:t>to smo već radili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Arial"/>
              </a:rPr>
              <a:t>Al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2060"/>
                </a:solidFill>
                <a:latin typeface="Arial"/>
              </a:rPr>
              <a:t>Kada i zašto šutjet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2060"/>
                </a:solidFill>
                <a:latin typeface="Arial"/>
              </a:rPr>
              <a:t>Zašto se moje dijete povjerava drugima, a meni 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2060"/>
                </a:solidFill>
                <a:latin typeface="Arial"/>
              </a:rPr>
              <a:t>Što raditi kada je dijete frustrirano, a što kada je nesret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2060"/>
                </a:solidFill>
                <a:latin typeface="Arial"/>
              </a:rPr>
              <a:t>Što je zdrava povratna informacij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2060"/>
                </a:solidFill>
                <a:latin typeface="Arial"/>
              </a:rPr>
              <a:t>Što reći kada se dijete ponaša na način koji me zabrinja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2060"/>
                </a:solidFill>
                <a:latin typeface="Arial"/>
              </a:rPr>
              <a:t>Kako djetetu osim vremena, ljubavi, vještine, novca, pameti i energije - dati se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861840" y="1376280"/>
            <a:ext cx="7920360" cy="468000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Arial"/>
              </a:rPr>
              <a:t>za doživjeti svijet i sebe</a:t>
            </a:r>
            <a:br>
              <a:rPr sz="3200"/>
            </a:br>
            <a:r>
              <a:rPr b="1" lang="hr-HR" sz="3200" spc="-1" strike="noStrike">
                <a:solidFill>
                  <a:srgbClr val="000099"/>
                </a:solidFill>
                <a:latin typeface="Arial"/>
              </a:rPr>
              <a:t>„šutnja je zlat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2484360" y="4437000"/>
            <a:ext cx="866880" cy="72072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Arial"/>
              </a:rPr>
              <a:t>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1116000" y="1916280"/>
            <a:ext cx="1513080" cy="136836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0000"/>
                </a:solidFill>
                <a:latin typeface="Arial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 flipV="1">
            <a:off x="3708360" y="3212640"/>
            <a:ext cx="1944720" cy="108108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627280" y="3284640"/>
            <a:ext cx="360360" cy="647640"/>
          </a:xfrm>
          <a:prstGeom prst="line">
            <a:avLst/>
          </a:prstGeom>
          <a:ln cap="rnd" w="57240">
            <a:solidFill>
              <a:srgbClr val="cc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5076720" y="2421000"/>
            <a:ext cx="2592360" cy="7920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svi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 flipH="1">
            <a:off x="4211640" y="3429000"/>
            <a:ext cx="1657440" cy="936720"/>
          </a:xfrm>
          <a:prstGeom prst="line">
            <a:avLst/>
          </a:prstGeom>
          <a:ln cap="rnd" w="57240">
            <a:solidFill>
              <a:srgbClr val="cc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0"/>
          <p:cNvSpPr/>
          <p:nvPr/>
        </p:nvSpPr>
        <p:spPr>
          <a:xfrm flipH="1" flipV="1">
            <a:off x="2195640" y="3500280"/>
            <a:ext cx="358560" cy="648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1"/>
          <p:cNvSpPr/>
          <p:nvPr/>
        </p:nvSpPr>
        <p:spPr>
          <a:xfrm rot="19446600">
            <a:off x="1042920" y="3212640"/>
            <a:ext cx="574920" cy="1584360"/>
          </a:xfrm>
          <a:custGeom>
            <a:avLst/>
            <a:gdLst>
              <a:gd name="textAreaLeft" fmla="*/ 77040 w 574920"/>
              <a:gd name="textAreaRight" fmla="*/ 497880 w 57492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 rot="194400">
            <a:off x="3132000" y="1915920"/>
            <a:ext cx="2376720" cy="360360"/>
          </a:xfrm>
          <a:custGeom>
            <a:avLst/>
            <a:gdLst>
              <a:gd name="textAreaLeft" fmla="*/ 415800 w 2376720"/>
              <a:gd name="textAreaRight" fmla="*/ 1723320 w 23767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 flipH="1" flipV="1">
            <a:off x="2410920" y="3500280"/>
            <a:ext cx="289080" cy="503280"/>
          </a:xfrm>
          <a:prstGeom prst="line">
            <a:avLst/>
          </a:prstGeom>
          <a:ln cap="rnd" w="57240">
            <a:solidFill>
              <a:srgbClr val="cc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119160" y="6232680"/>
            <a:ext cx="892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Arial"/>
              </a:rPr>
              <a:t>SIGURNA OKOLINA + ZAINTERESIRAN, NENAMETLJIV, ALI BRIŽAN PROMATR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Arial"/>
              </a:rPr>
              <a:t>Neka tvoje riječi budu dragoc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468360" y="4722840"/>
            <a:ext cx="866880" cy="72072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Arial"/>
              </a:rPr>
              <a:t>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6804000" y="4473720"/>
            <a:ext cx="1513080" cy="136836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0000"/>
                </a:solidFill>
                <a:latin typeface="Arial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362240" y="1149480"/>
            <a:ext cx="6408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Materijalni kontekst skupine i vrtić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119160" y="6232680"/>
            <a:ext cx="892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Arial"/>
              </a:rPr>
              <a:t>VANJSKA REGULACIJA          UNUTARNJI GOVOR          SAMOREGUL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193840" y="2622600"/>
            <a:ext cx="4745160" cy="7920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</a:rPr>
              <a:t>vrsta i količina igrač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2349360" y="2093760"/>
            <a:ext cx="4746600" cy="79236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</a:rPr>
              <a:t>način na koji je prostor organizi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2149560" y="3411360"/>
            <a:ext cx="4744800" cy="79236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</a:rPr>
              <a:t>vizualne poruke o ponašanj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</a:rPr>
              <a:t>o održavanju reda u kutićim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elica zakrivljena udesno 1"/>
          <p:cNvSpPr/>
          <p:nvPr/>
        </p:nvSpPr>
        <p:spPr>
          <a:xfrm rot="10800000">
            <a:off x="7597800" y="2319120"/>
            <a:ext cx="719280" cy="1927080"/>
          </a:xfrm>
          <a:custGeom>
            <a:avLst/>
            <a:gdLst>
              <a:gd name="textAreaLeft" fmla="*/ 96120 w 719280"/>
              <a:gd name="textAreaRight" fmla="*/ 623160 w 719280"/>
              <a:gd name="textAreaTop" fmla="*/ 414360 h 1927080"/>
              <a:gd name="textAreaBottom" fmla="*/ 1422720 h 192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89" stAng="-5400000" swAng="-5400000"/>
                <a:lnTo>
                  <a:pt x="0" y="11303"/>
                </a:lnTo>
                <a:arcTo wR="21600" hR="9289" stAng="10800000" swAng="-3541169"/>
                <a:lnTo>
                  <a:pt x="16200" y="21305"/>
                </a:lnTo>
                <a:lnTo>
                  <a:pt x="21600" y="19585"/>
                </a:lnTo>
                <a:lnTo>
                  <a:pt x="16200" y="17275"/>
                </a:lnTo>
                <a:lnTo>
                  <a:pt x="16200" y="18283"/>
                </a:lnTo>
                <a:arcTo wR="21600" hR="9289" stAng="7258831" swAng="3380068"/>
                <a:lnTo>
                  <a:pt x="127" y="10296"/>
                </a:lnTo>
                <a:arcTo wR="21600" hR="9289" stAng="-10638899" swAng="5238899"/>
                <a:close/>
              </a:path>
              <a:path fill="darkenLess" w="21600" h="21600">
                <a:moveTo>
                  <a:pt x="21600" y="0"/>
                </a:moveTo>
                <a:arcTo wR="21600" hR="9289" stAng="-5400000" swAng="-5400000"/>
                <a:lnTo>
                  <a:pt x="0" y="9289"/>
                </a:lnTo>
                <a:arcTo wR="21600" hR="9289" stAng="10800000" swAng="-161101"/>
                <a:lnTo>
                  <a:pt x="127" y="10296"/>
                </a:lnTo>
                <a:arcTo wR="21600" hR="9289" stAng="-10638899" swAng="5238899"/>
                <a:close/>
              </a:path>
            </a:pathLst>
          </a:custGeom>
          <a:solidFill>
            <a:srgbClr val="bbe0e3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elica zakrivljena ulijevo 2"/>
          <p:cNvSpPr/>
          <p:nvPr/>
        </p:nvSpPr>
        <p:spPr>
          <a:xfrm rot="10800000">
            <a:off x="442800" y="2350800"/>
            <a:ext cx="866880" cy="1911240"/>
          </a:xfrm>
          <a:custGeom>
            <a:avLst/>
            <a:gdLst>
              <a:gd name="textAreaLeft" fmla="*/ 115920 w 866880"/>
              <a:gd name="textAreaRight" fmla="*/ 750960 w 866880"/>
              <a:gd name="textAreaTop" fmla="*/ 396360 h 1911240"/>
              <a:gd name="textAreaBottom" fmla="*/ 1406520 h 19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64" stAng="-5400000" swAng="5400000"/>
                <a:lnTo>
                  <a:pt x="21600" y="11412"/>
                </a:lnTo>
                <a:arcTo wR="21600" hR="8964" stAng="0" swAng="3486606"/>
                <a:lnTo>
                  <a:pt x="5400" y="21315"/>
                </a:lnTo>
                <a:lnTo>
                  <a:pt x="0" y="19151"/>
                </a:lnTo>
                <a:lnTo>
                  <a:pt x="5400" y="16417"/>
                </a:lnTo>
                <a:lnTo>
                  <a:pt x="5400" y="17642"/>
                </a:lnTo>
                <a:arcTo wR="21600" hR="8964" stAng="3486606" swAng="-3290172"/>
                <a:lnTo>
                  <a:pt x="21398" y="10188"/>
                </a:lnTo>
                <a:arcTo wR="21600" hR="8964" stAng="-196434" swAng="-5203566"/>
                <a:close/>
              </a:path>
              <a:path fill="darkenLess" w="21600" h="21600">
                <a:moveTo>
                  <a:pt x="0" y="0"/>
                </a:moveTo>
                <a:arcTo wR="21600" hR="8964" stAng="-5400000" swAng="5400000"/>
                <a:lnTo>
                  <a:pt x="21600" y="11412"/>
                </a:lnTo>
                <a:arcTo wR="21600" hR="8964" stAng="0" swAng="-196434"/>
                <a:lnTo>
                  <a:pt x="21398" y="10188"/>
                </a:lnTo>
                <a:arcTo wR="21600" hR="8964" stAng="-196434" swAng="-5203566"/>
                <a:close/>
              </a:path>
            </a:pathLst>
          </a:custGeom>
          <a:solidFill>
            <a:srgbClr val="bbe0e3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elica udesno 3"/>
          <p:cNvSpPr/>
          <p:nvPr/>
        </p:nvSpPr>
        <p:spPr>
          <a:xfrm>
            <a:off x="3276720" y="6351480"/>
            <a:ext cx="287280" cy="15264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3333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elica udesno 20"/>
          <p:cNvSpPr/>
          <p:nvPr/>
        </p:nvSpPr>
        <p:spPr>
          <a:xfrm>
            <a:off x="6089760" y="6340320"/>
            <a:ext cx="287280" cy="150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3333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32400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Arial"/>
              </a:rPr>
              <a:t>Komunikacijski uvjet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za </a:t>
            </a:r>
            <a:br>
              <a:rPr sz="2800"/>
            </a:b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jasno i jednostavno izražavanje se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203640" y="1773360"/>
            <a:ext cx="2592360" cy="18716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1332000" y="2060640"/>
            <a:ext cx="866520" cy="72072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Arial"/>
              </a:rPr>
              <a:t>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6372360" y="1773360"/>
            <a:ext cx="1512720" cy="136836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0000"/>
                </a:solidFill>
                <a:latin typeface="Arial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 rot="1091400">
            <a:off x="2556000" y="1773000"/>
            <a:ext cx="1726920" cy="576000"/>
          </a:xfrm>
          <a:custGeom>
            <a:avLst/>
            <a:gdLst>
              <a:gd name="textAreaLeft" fmla="*/ 302040 w 1726920"/>
              <a:gd name="textAreaRight" fmla="*/ 1252080 w 172692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 rot="10416600">
            <a:off x="4427280" y="2997000"/>
            <a:ext cx="2087640" cy="431640"/>
          </a:xfrm>
          <a:custGeom>
            <a:avLst/>
            <a:gdLst>
              <a:gd name="textAreaLeft" fmla="*/ 365400 w 2087640"/>
              <a:gd name="textAreaRight" fmla="*/ 1513800 w 208764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6516720" y="4653000"/>
            <a:ext cx="1512720" cy="136836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6877080" y="5084640"/>
            <a:ext cx="866880" cy="720720"/>
          </a:xfrm>
          <a:prstGeom prst="ellipse">
            <a:avLst/>
          </a:prstGeom>
          <a:solidFill>
            <a:srgbClr val="bbe0e3"/>
          </a:solidFill>
          <a:ln cap="rnd" w="7632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Arial"/>
              </a:rPr>
              <a:t>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403280" y="6093000"/>
            <a:ext cx="1224000" cy="50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Arial"/>
              </a:rPr>
              <a:t>Ljub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Arial"/>
              </a:rPr>
              <a:t>prihvać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1"/>
          <p:cNvSpPr/>
          <p:nvPr/>
        </p:nvSpPr>
        <p:spPr>
          <a:xfrm>
            <a:off x="2195640" y="4581360"/>
            <a:ext cx="1512720" cy="136872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0000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0000"/>
                </a:solidFill>
                <a:latin typeface="Arial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2"/>
          <p:cNvSpPr/>
          <p:nvPr/>
        </p:nvSpPr>
        <p:spPr>
          <a:xfrm>
            <a:off x="971640" y="4941720"/>
            <a:ext cx="866520" cy="72072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Arial"/>
              </a:rPr>
              <a:t>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804000" y="6165720"/>
            <a:ext cx="934920" cy="503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Arial"/>
              </a:rPr>
              <a:t>st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179280" y="4076640"/>
            <a:ext cx="87138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0000"/>
                </a:solidFill>
                <a:latin typeface="Arial"/>
              </a:rPr>
              <a:t>Ja – Ti odnos</a:t>
            </a: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: sposobnost pribranog gledanja u potrebu, ljutnju, uradak, pogrešku,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AutoShape 15"/>
          <p:cNvCxnSpPr/>
          <p:nvPr/>
        </p:nvCxnSpPr>
        <p:spPr>
          <a:xfrm flipV="1" rot="16200000">
            <a:off x="4347000" y="411120"/>
            <a:ext cx="465840" cy="5058720"/>
          </a:xfrm>
          <a:prstGeom prst="curvedConnector5">
            <a:avLst>
              <a:gd name="adj1" fmla="val -180201"/>
              <a:gd name="adj2" fmla="val 49996"/>
              <a:gd name="adj3" fmla="val -1802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262673"/>
                </a:solidFill>
                <a:latin typeface="Arial"/>
              </a:rPr>
              <a:t>biti frustriran   =  biti nesre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Biti frustriran      kada nailazimo na prepreke pri zadovoljavanju neke potrebe ili ostvarivanju nekog cilja (1. ljutnja..., 2. plač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Biti nesretan      kada izgubimo nešto do čega nam je bilo stalo – predmet, osobu, način života, ideale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avni poveznik 4"/>
          <p:cNvSpPr/>
          <p:nvPr/>
        </p:nvSpPr>
        <p:spPr>
          <a:xfrm flipH="1">
            <a:off x="4529160" y="593640"/>
            <a:ext cx="287280" cy="50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elica udesno 5"/>
          <p:cNvSpPr/>
          <p:nvPr/>
        </p:nvSpPr>
        <p:spPr>
          <a:xfrm>
            <a:off x="2987640" y="1844640"/>
            <a:ext cx="289080" cy="15228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3333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elica udesno 6"/>
          <p:cNvSpPr/>
          <p:nvPr/>
        </p:nvSpPr>
        <p:spPr>
          <a:xfrm>
            <a:off x="2987640" y="3703680"/>
            <a:ext cx="289080" cy="15228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3333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826920" y="1628640"/>
            <a:ext cx="7561440" cy="4896000"/>
          </a:xfrm>
          <a:prstGeom prst="rect">
            <a:avLst/>
          </a:prstGeom>
          <a:solidFill>
            <a:srgbClr val="bbe0e3"/>
          </a:solidFill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Sigurna i poticajima prikladna okolin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fleksibilno uokvir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1835280" y="3789360"/>
            <a:ext cx="576000" cy="576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6443640" y="4653000"/>
            <a:ext cx="1800360" cy="1655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zainteresir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podržavajuć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ohrabrujuć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odras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4211640" y="2924280"/>
            <a:ext cx="289080" cy="2174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6443640" y="2781360"/>
            <a:ext cx="289080" cy="2174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4643280" y="4365720"/>
            <a:ext cx="289080" cy="2174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3132000" y="5516640"/>
            <a:ext cx="289080" cy="2174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5867280" y="414972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10800" y="592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5868">
                <a:moveTo>
                  <a:pt x="10800" y="630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5868">
                <a:moveTo>
                  <a:pt x="8224" y="10358"/>
                </a:moveTo>
                <a:lnTo>
                  <a:pt x="12088" y="10358"/>
                </a:lnTo>
                <a:lnTo>
                  <a:pt x="12088" y="17356"/>
                </a:lnTo>
                <a:lnTo>
                  <a:pt x="13376" y="17356"/>
                </a:lnTo>
                <a:lnTo>
                  <a:pt x="13376" y="18278"/>
                </a:lnTo>
                <a:lnTo>
                  <a:pt x="8224" y="18278"/>
                </a:lnTo>
                <a:lnTo>
                  <a:pt x="8224" y="17356"/>
                </a:lnTo>
                <a:lnTo>
                  <a:pt x="9512" y="17356"/>
                </a:lnTo>
                <a:lnTo>
                  <a:pt x="9512" y="11263"/>
                </a:lnTo>
                <a:lnTo>
                  <a:pt x="8224" y="1126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8e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6948360" y="335772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10800" y="592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5868">
                <a:moveTo>
                  <a:pt x="10800" y="630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5868">
                <a:moveTo>
                  <a:pt x="8224" y="10358"/>
                </a:moveTo>
                <a:lnTo>
                  <a:pt x="12088" y="10358"/>
                </a:lnTo>
                <a:lnTo>
                  <a:pt x="12088" y="17356"/>
                </a:lnTo>
                <a:lnTo>
                  <a:pt x="13376" y="17356"/>
                </a:lnTo>
                <a:lnTo>
                  <a:pt x="13376" y="18278"/>
                </a:lnTo>
                <a:lnTo>
                  <a:pt x="8224" y="18278"/>
                </a:lnTo>
                <a:lnTo>
                  <a:pt x="8224" y="17356"/>
                </a:lnTo>
                <a:lnTo>
                  <a:pt x="9512" y="17356"/>
                </a:lnTo>
                <a:lnTo>
                  <a:pt x="9512" y="11263"/>
                </a:lnTo>
                <a:lnTo>
                  <a:pt x="8224" y="1126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8e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572000" y="515772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10800" y="593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5890">
                <a:moveTo>
                  <a:pt x="10800" y="631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5890">
                <a:moveTo>
                  <a:pt x="8224" y="10369"/>
                </a:moveTo>
                <a:lnTo>
                  <a:pt x="12088" y="10369"/>
                </a:lnTo>
                <a:lnTo>
                  <a:pt x="12088" y="17366"/>
                </a:lnTo>
                <a:lnTo>
                  <a:pt x="13376" y="17366"/>
                </a:lnTo>
                <a:lnTo>
                  <a:pt x="13376" y="18289"/>
                </a:lnTo>
                <a:lnTo>
                  <a:pt x="8224" y="18289"/>
                </a:lnTo>
                <a:lnTo>
                  <a:pt x="8224" y="17366"/>
                </a:lnTo>
                <a:lnTo>
                  <a:pt x="9512" y="17366"/>
                </a:lnTo>
                <a:lnTo>
                  <a:pt x="9512" y="11274"/>
                </a:lnTo>
                <a:lnTo>
                  <a:pt x="8224" y="1127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8e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>
            <a:off x="2700360" y="2924280"/>
            <a:ext cx="358920" cy="360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5"/>
          <p:cNvSpPr/>
          <p:nvPr/>
        </p:nvSpPr>
        <p:spPr>
          <a:xfrm>
            <a:off x="3851280" y="3500280"/>
            <a:ext cx="358920" cy="360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5580000" y="3068640"/>
            <a:ext cx="358920" cy="360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3203640" y="4581360"/>
            <a:ext cx="431640" cy="360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1692360" y="5373720"/>
            <a:ext cx="431640" cy="360360"/>
          </a:xfrm>
          <a:prstGeom prst="smileyFace">
            <a:avLst>
              <a:gd name="adj" fmla="val -4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3924360" y="5373720"/>
            <a:ext cx="431640" cy="360360"/>
          </a:xfrm>
          <a:prstGeom prst="smileyFace">
            <a:avLst>
              <a:gd name="adj" fmla="val -4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0"/>
          <p:cNvSpPr/>
          <p:nvPr/>
        </p:nvSpPr>
        <p:spPr>
          <a:xfrm>
            <a:off x="4643280" y="306864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1"/>
          <p:cNvSpPr/>
          <p:nvPr/>
        </p:nvSpPr>
        <p:spPr>
          <a:xfrm>
            <a:off x="5292720" y="3716280"/>
            <a:ext cx="216000" cy="289080"/>
          </a:xfrm>
          <a:custGeom>
            <a:avLst/>
            <a:gdLst>
              <a:gd name="textAreaLeft" fmla="*/ 50400 w 216000"/>
              <a:gd name="textAreaRight" fmla="*/ 165600 w 216000"/>
              <a:gd name="textAreaTop" fmla="*/ 30240 h 289080"/>
              <a:gd name="textAreaBottom" fmla="*/ 183240 h 289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2"/>
          <p:cNvSpPr/>
          <p:nvPr/>
        </p:nvSpPr>
        <p:spPr>
          <a:xfrm>
            <a:off x="7093080" y="2276640"/>
            <a:ext cx="358560" cy="3603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3"/>
          <p:cNvSpPr/>
          <p:nvPr/>
        </p:nvSpPr>
        <p:spPr>
          <a:xfrm>
            <a:off x="4356000" y="3860640"/>
            <a:ext cx="1447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4"/>
          <p:cNvSpPr/>
          <p:nvPr/>
        </p:nvSpPr>
        <p:spPr>
          <a:xfrm>
            <a:off x="2484360" y="5157720"/>
            <a:ext cx="216000" cy="5032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5"/>
          <p:cNvSpPr/>
          <p:nvPr/>
        </p:nvSpPr>
        <p:spPr>
          <a:xfrm>
            <a:off x="4211640" y="4581360"/>
            <a:ext cx="216000" cy="5032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6"/>
          <p:cNvSpPr/>
          <p:nvPr/>
        </p:nvSpPr>
        <p:spPr>
          <a:xfrm>
            <a:off x="3492360" y="2781360"/>
            <a:ext cx="216000" cy="5032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7"/>
          <p:cNvSpPr/>
          <p:nvPr/>
        </p:nvSpPr>
        <p:spPr>
          <a:xfrm>
            <a:off x="2627280" y="3933720"/>
            <a:ext cx="647640" cy="360360"/>
          </a:xfrm>
          <a:custGeom>
            <a:avLst/>
            <a:gdLst>
              <a:gd name="textAreaLeft" fmla="*/ 101160 w 647640"/>
              <a:gd name="textAreaRight" fmla="*/ 567000 w 6476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8"/>
          <p:cNvSpPr/>
          <p:nvPr/>
        </p:nvSpPr>
        <p:spPr>
          <a:xfrm>
            <a:off x="1908000" y="3213000"/>
            <a:ext cx="360360" cy="360360"/>
          </a:xfrm>
          <a:custGeom>
            <a:avLst/>
            <a:gdLst>
              <a:gd name="textAreaLeft" fmla="*/ 82080 w 360360"/>
              <a:gd name="textAreaRight" fmla="*/ 278280 w 360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74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9"/>
          <p:cNvSpPr/>
          <p:nvPr/>
        </p:nvSpPr>
        <p:spPr>
          <a:xfrm>
            <a:off x="5435640" y="4941720"/>
            <a:ext cx="360360" cy="360360"/>
          </a:xfrm>
          <a:custGeom>
            <a:avLst/>
            <a:gdLst>
              <a:gd name="textAreaLeft" fmla="*/ 82080 w 360360"/>
              <a:gd name="textAreaRight" fmla="*/ 278280 w 360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74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0"/>
          <p:cNvSpPr/>
          <p:nvPr/>
        </p:nvSpPr>
        <p:spPr>
          <a:xfrm>
            <a:off x="3132000" y="3429000"/>
            <a:ext cx="360360" cy="360360"/>
          </a:xfrm>
          <a:custGeom>
            <a:avLst/>
            <a:gdLst>
              <a:gd name="textAreaLeft" fmla="*/ 82080 w 360360"/>
              <a:gd name="textAreaRight" fmla="*/ 278280 w 360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74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Komunikacijski uvjeti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za </a:t>
            </a: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steći vještine u brizi o sebi i vještine upravljanja svije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55280" y="1773000"/>
            <a:ext cx="7931160" cy="43527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</a:rPr>
              <a:t>Podržavanje djetetove inicij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00"/>
                </a:solidFill>
                <a:latin typeface="Arial"/>
              </a:rPr>
              <a:t>Poticanje na one akcije koje dijete uz određeni napor može uspješno poduzim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</a:rPr>
              <a:t>Usredotočena pozornost odrasle osobe na dij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00"/>
                </a:solidFill>
                <a:latin typeface="Arial"/>
              </a:rPr>
              <a:t>Procjena što dijete može sa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</a:rPr>
              <a:t>Davanje vremena i prava na greš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00"/>
                </a:solidFill>
                <a:latin typeface="Arial"/>
              </a:rPr>
              <a:t>Odavanje priznanja uloženom nap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</a:rPr>
              <a:t>Davanje jasne i precizne povratne informacije o urat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00"/>
                </a:solidFill>
                <a:latin typeface="Arial"/>
              </a:rPr>
              <a:t>Poticanje djeteta da što preciznije definira količinu i vrstu pomoći koju treba od odras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2400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Arial"/>
              </a:rPr>
              <a:t>Komunikacijski uvjeti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za steći vještine u brizi o sebi i vještine manipuliranja svije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9194d"/>
                </a:solidFill>
                <a:latin typeface="Arial"/>
              </a:rPr>
              <a:t>Kako dati  i primiti povratnu informacij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038480" cy="45972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9194d"/>
                </a:solidFill>
                <a:latin typeface="Arial"/>
              </a:rPr>
              <a:t>Opis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9194d"/>
                </a:solidFill>
                <a:latin typeface="Arial"/>
              </a:rPr>
              <a:t>Konkret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9194d"/>
                </a:solidFill>
                <a:latin typeface="Arial"/>
              </a:rPr>
              <a:t>Upotreblj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9194d"/>
                </a:solidFill>
                <a:latin typeface="Arial"/>
              </a:rPr>
              <a:t>Pravodob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9194d"/>
                </a:solidFill>
                <a:latin typeface="Arial"/>
              </a:rPr>
              <a:t>Želje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9194d"/>
                </a:solidFill>
                <a:latin typeface="Arial"/>
              </a:rPr>
              <a:t>Provjer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2920" y="1844280"/>
            <a:ext cx="4038840" cy="45370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9194d"/>
                </a:solidFill>
                <a:latin typeface="Arial"/>
              </a:rPr>
              <a:t>Suspregnuti potrebu za obranom i objašnjavanjem te samo saslušati sa sviješću da je to doživljaj čovjeka koji gov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9194d"/>
                </a:solidFill>
                <a:latin typeface="Arial"/>
              </a:rPr>
              <a:t>Provjeriti jesmo li dobro razumj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9194d"/>
                </a:solidFill>
                <a:latin typeface="Arial"/>
              </a:rPr>
              <a:t>Razmisliti o onome što smo ču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2771640" y="1052640"/>
            <a:ext cx="1295280" cy="2697120"/>
            <a:chOff x="2771640" y="1052640"/>
            <a:chExt cx="1295280" cy="2697120"/>
          </a:xfrm>
        </p:grpSpPr>
        <p:sp>
          <p:nvSpPr>
            <p:cNvPr id="155" name="Freeform 7"/>
            <p:cNvSpPr/>
            <p:nvPr/>
          </p:nvSpPr>
          <p:spPr>
            <a:xfrm>
              <a:off x="3184560" y="1398960"/>
              <a:ext cx="507240" cy="543240"/>
            </a:xfrm>
            <a:custGeom>
              <a:avLst/>
              <a:gdLst/>
              <a:ahLst/>
              <a:rect l="l" t="t" r="r" b="b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8"/>
            <p:cNvSpPr/>
            <p:nvPr/>
          </p:nvSpPr>
          <p:spPr>
            <a:xfrm>
              <a:off x="2771640" y="1259280"/>
              <a:ext cx="583920" cy="871560"/>
            </a:xfrm>
            <a:custGeom>
              <a:avLst/>
              <a:gdLst/>
              <a:ahLst/>
              <a:rect l="l" t="t" r="r" b="b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9"/>
            <p:cNvSpPr/>
            <p:nvPr/>
          </p:nvSpPr>
          <p:spPr>
            <a:xfrm>
              <a:off x="3322080" y="1982160"/>
              <a:ext cx="305280" cy="818280"/>
            </a:xfrm>
            <a:custGeom>
              <a:avLst/>
              <a:gdLst/>
              <a:ahLst/>
              <a:rect l="l" t="t" r="r" b="b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0"/>
            <p:cNvSpPr/>
            <p:nvPr/>
          </p:nvSpPr>
          <p:spPr>
            <a:xfrm>
              <a:off x="3463200" y="2004840"/>
              <a:ext cx="466200" cy="628200"/>
            </a:xfrm>
            <a:custGeom>
              <a:avLst/>
              <a:gdLst/>
              <a:ahLst/>
              <a:rect l="l" t="t" r="r" b="b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1"/>
            <p:cNvSpPr/>
            <p:nvPr/>
          </p:nvSpPr>
          <p:spPr>
            <a:xfrm>
              <a:off x="3499920" y="2716920"/>
              <a:ext cx="567000" cy="1015560"/>
            </a:xfrm>
            <a:custGeom>
              <a:avLst/>
              <a:gdLst/>
              <a:ahLst/>
              <a:rect l="l" t="t" r="r" b="b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2"/>
            <p:cNvSpPr/>
            <p:nvPr/>
          </p:nvSpPr>
          <p:spPr>
            <a:xfrm>
              <a:off x="3143520" y="2714760"/>
              <a:ext cx="381960" cy="1035000"/>
            </a:xfrm>
            <a:custGeom>
              <a:avLst/>
              <a:gdLst/>
              <a:ahLst/>
              <a:rect l="l" t="t" r="r" b="b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13"/>
            <p:cNvGrpSpPr/>
            <p:nvPr/>
          </p:nvGrpSpPr>
          <p:grpSpPr>
            <a:xfrm>
              <a:off x="3552120" y="1052640"/>
              <a:ext cx="234000" cy="305280"/>
              <a:chOff x="3552120" y="1052640"/>
              <a:chExt cx="234000" cy="305280"/>
            </a:xfrm>
          </p:grpSpPr>
          <p:sp>
            <p:nvSpPr>
              <p:cNvPr id="162" name="Freeform 14"/>
              <p:cNvSpPr/>
              <p:nvPr/>
            </p:nvSpPr>
            <p:spPr>
              <a:xfrm>
                <a:off x="3597480" y="1052640"/>
                <a:ext cx="188640" cy="212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  <a:effectLst>
                <a:outerShdw dist="40186" dir="1096358" blurRad="0" rotWithShape="0">
                  <a:srgbClr val="ddddd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5"/>
              <p:cNvSpPr/>
              <p:nvPr/>
            </p:nvSpPr>
            <p:spPr>
              <a:xfrm>
                <a:off x="3552120" y="1300320"/>
                <a:ext cx="58680" cy="57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  <a:effectLst>
                <a:outerShdw dist="40186" dir="1096358" blurRad="0" rotWithShape="0">
                  <a:srgbClr val="ddddd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Line 26"/>
          <p:cNvSpPr/>
          <p:nvPr/>
        </p:nvSpPr>
        <p:spPr>
          <a:xfrm>
            <a:off x="2340000" y="1125360"/>
            <a:ext cx="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7"/>
          <p:cNvSpPr/>
          <p:nvPr/>
        </p:nvSpPr>
        <p:spPr>
          <a:xfrm>
            <a:off x="4140360" y="1125360"/>
            <a:ext cx="1223640" cy="57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250920" y="404640"/>
            <a:ext cx="889308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19194d"/>
                </a:solidFill>
                <a:latin typeface="Arial"/>
              </a:rPr>
              <a:t>Ostati u situaciji i djelova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19194d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19194d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19194d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19194d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19194d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19194d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19194d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19194d"/>
                </a:solidFill>
                <a:latin typeface="Arial"/>
              </a:rPr>
              <a:t>MO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19194d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19194d"/>
                </a:solidFill>
                <a:latin typeface="Arial"/>
              </a:rPr>
              <a:t>Napustiti situac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19194d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19194d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19194d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19194d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19194d"/>
                </a:solidFill>
                <a:latin typeface="Arial"/>
              </a:rPr>
              <a:t>NAUČENA BESPOMOĆ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19194d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19194d"/>
                </a:solidFill>
                <a:latin typeface="Arial"/>
              </a:rPr>
              <a:t>Zbog zaobilaženja neuspjeha – djetetu je teže osjetiti mo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9194d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19194d"/>
                </a:solidFill>
                <a:latin typeface="Arial"/>
              </a:rPr>
              <a:t>Ohrabrivanje jeftinih uspjeha stvorilo je generaciju s vrlo skupim neuspjes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 rot="2362800">
            <a:off x="5363640" y="1341360"/>
            <a:ext cx="1081080" cy="287280"/>
          </a:xfrm>
          <a:custGeom>
            <a:avLst/>
            <a:gdLst>
              <a:gd name="textAreaLeft" fmla="*/ 189000 w 1081080"/>
              <a:gd name="textAreaRight" fmla="*/ 783720 w 108108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 rot="2686200">
            <a:off x="4140000" y="2997360"/>
            <a:ext cx="1081080" cy="287280"/>
          </a:xfrm>
          <a:custGeom>
            <a:avLst/>
            <a:gdLst>
              <a:gd name="textAreaLeft" fmla="*/ 199080 w 1081080"/>
              <a:gd name="textAreaRight" fmla="*/ 734400 w 108108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55" hR="21600" stAng="10800000" swAng="5400000"/>
                <a:lnTo>
                  <a:pt x="10695" y="0"/>
                </a:lnTo>
                <a:arcTo wR="7955" hR="21600" stAng="-5400000" swAng="2770159"/>
                <a:lnTo>
                  <a:pt x="21145" y="14400"/>
                </a:lnTo>
                <a:lnTo>
                  <a:pt x="17280" y="21600"/>
                </a:lnTo>
                <a:lnTo>
                  <a:pt x="12505" y="14400"/>
                </a:lnTo>
                <a:lnTo>
                  <a:pt x="15455" y="14400"/>
                </a:lnTo>
                <a:arcTo wR="7955" hR="21600" stAng="-2629841" swAng="-2549114"/>
                <a:lnTo>
                  <a:pt x="9325" y="323"/>
                </a:lnTo>
                <a:arcTo wR="7955" hR="21600" stAng="-5621044" swAng="-5178956"/>
                <a:close/>
              </a:path>
              <a:path fill="darkenLess" w="21600" h="21600">
                <a:moveTo>
                  <a:pt x="0" y="21600"/>
                </a:moveTo>
                <a:arcTo wR="7955" hR="21600" stAng="10800000" swAng="5400000"/>
                <a:lnTo>
                  <a:pt x="7955" y="0"/>
                </a:lnTo>
                <a:arcTo wR="7955" hR="21600" stAng="-5400000" swAng="221044"/>
                <a:lnTo>
                  <a:pt x="9325" y="323"/>
                </a:lnTo>
                <a:arcTo wR="7955" hR="21600" stAng="-5621044" swAng="-5178956"/>
                <a:close/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2004592-83622-4-embed-embed"/>
          <p:cNvPicPr/>
          <p:nvPr/>
        </p:nvPicPr>
        <p:blipFill>
          <a:blip r:embed="rId1"/>
          <a:stretch/>
        </p:blipFill>
        <p:spPr>
          <a:xfrm>
            <a:off x="6756480" y="476280"/>
            <a:ext cx="206676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262673"/>
                </a:solidFill>
                <a:latin typeface="Arial"/>
              </a:rPr>
              <a:t>Potrebe, osjećaji, misli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03280" y="4292280"/>
            <a:ext cx="2663640" cy="237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Kontakt oč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Dod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Znatižel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Prihvaćanje stanja i osjeć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mig"/>
          <p:cNvPicPr/>
          <p:nvPr/>
        </p:nvPicPr>
        <p:blipFill>
          <a:blip r:embed="rId1"/>
          <a:stretch/>
        </p:blipFill>
        <p:spPr>
          <a:xfrm>
            <a:off x="2987640" y="1628640"/>
            <a:ext cx="3095640" cy="25164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324000" y="1484280"/>
            <a:ext cx="2376360" cy="2016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vidim da si tužna – što se dogodil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Ne sviđa ti se? Meni 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50920" y="3789360"/>
            <a:ext cx="2520720" cy="2808360"/>
          </a:xfrm>
          <a:prstGeom prst="rect">
            <a:avLst/>
          </a:prstGeom>
          <a:solidFill>
            <a:srgbClr val="d3ff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razumijem da ti je teško, to znači da će ti trebati više vremen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Što si mislila kada si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300720" y="1484280"/>
            <a:ext cx="2627280" cy="2376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gdje boli, koliko boli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što te uplašilo, koliko, a ako odemo malo dalje d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6300720" y="4076640"/>
            <a:ext cx="2592360" cy="2592360"/>
          </a:xfrm>
          <a:prstGeom prst="rect">
            <a:avLst/>
          </a:prstGeom>
          <a:solidFill>
            <a:srgbClr val="d3ff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učini kako hoćeš, ali ja ću Nadici reći da joj je baka poslala čokol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2060"/>
                </a:solidFill>
                <a:latin typeface="Arial"/>
              </a:rPr>
              <a:t>komunikacija  = communis = </a:t>
            </a:r>
            <a:r>
              <a:rPr b="0" i="1" lang="hr-HR" sz="2800" spc="-1" strike="noStrike">
                <a:solidFill>
                  <a:srgbClr val="002060"/>
                </a:solidFill>
                <a:latin typeface="Arial"/>
              </a:rPr>
              <a:t>zajedničko + </a:t>
            </a:r>
            <a:r>
              <a:rPr b="1" i="1" lang="hr-HR" sz="2800" spc="-1" strike="noStrike">
                <a:solidFill>
                  <a:srgbClr val="002060"/>
                </a:solidFill>
                <a:latin typeface="Arial"/>
              </a:rPr>
              <a:t>communicaio = </a:t>
            </a:r>
            <a:r>
              <a:rPr b="0" i="1" lang="hr-HR" sz="2800" spc="-1" strike="noStrike">
                <a:solidFill>
                  <a:srgbClr val="002060"/>
                </a:solidFill>
                <a:latin typeface="Arial"/>
              </a:rPr>
              <a:t>obavijest, priopć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42920" y="1916280"/>
            <a:ext cx="6755040" cy="35352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Kada ljudi pokušavaju komunicirati, oni pokušavaju uspostaviti "zajedništvo" s pojedincem ili grupom, ali i prenijeti komunikacijsku poruk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Krauss &amp; Fassell,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44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19194d"/>
                </a:solidFill>
                <a:latin typeface="Arial"/>
              </a:rPr>
              <a:t>unutarnje</a:t>
            </a: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hr-HR" sz="3600" spc="-1" strike="noStrike">
                <a:solidFill>
                  <a:srgbClr val="19194d"/>
                </a:solidFill>
                <a:latin typeface="Arial"/>
              </a:rPr>
              <a:t>vanjsko</a:t>
            </a:r>
            <a:r>
              <a:rPr b="0" lang="hr-HR" sz="4400" spc="-1" strike="noStrike">
                <a:solidFill>
                  <a:srgbClr val="19194d"/>
                </a:solidFill>
                <a:latin typeface="Arial"/>
              </a:rPr>
              <a:t>	</a:t>
            </a:r>
            <a:r>
              <a:rPr b="0" lang="hr-HR" sz="4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r-HR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4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r-HR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"/>
          <p:cNvSpPr/>
          <p:nvPr/>
        </p:nvSpPr>
        <p:spPr>
          <a:xfrm>
            <a:off x="3276720" y="549360"/>
            <a:ext cx="259056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539640" y="1125360"/>
            <a:ext cx="316872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19194d"/>
                </a:solidFill>
                <a:latin typeface="Arial"/>
              </a:rPr>
              <a:t>Samosvij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19194d"/>
                </a:solidFill>
                <a:latin typeface="Arial"/>
              </a:rPr>
              <a:t>JA JES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5292720" y="1125360"/>
            <a:ext cx="3240000" cy="1008360"/>
          </a:xfrm>
          <a:prstGeom prst="rect">
            <a:avLst/>
          </a:prstGeom>
          <a:solidFill>
            <a:srgbClr val="a5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19194d"/>
                </a:solidFill>
                <a:latin typeface="Arial"/>
              </a:rPr>
              <a:t>Samopouzd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19194d"/>
                </a:solidFill>
                <a:latin typeface="Arial"/>
              </a:rPr>
              <a:t>JA MO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611280" y="2565360"/>
            <a:ext cx="7772400" cy="2113200"/>
          </a:xfrm>
          <a:prstGeom prst="rect">
            <a:avLst/>
          </a:prstGeom>
          <a:gradFill rotWithShape="0">
            <a:gsLst>
              <a:gs pos="0">
                <a:srgbClr val="c2f7f6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9194d"/>
                </a:solidFill>
                <a:latin typeface="Tahoma"/>
              </a:rPr>
              <a:t>Samosvijest i samopouzdanje su posve različite vrijednosti i ne mogu se uspoređivati niti nadomjestiti, nego paralelno razvij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9194d"/>
                </a:solidFill>
                <a:latin typeface="Tahoma"/>
              </a:rPr>
              <a:t>Ako svoju ljubav izražavamo putem pohvala i pokuda stvaramo ovisnu, izvana upravljanu djec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11280" y="5229360"/>
            <a:ext cx="7772400" cy="13816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2f7f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9194d"/>
                </a:solidFill>
                <a:latin typeface="Tahoma"/>
              </a:rPr>
              <a:t>Osjećaj da smo netko i nešto u samom sebi treba biti neovisan o onome što možemo, a što 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9194d"/>
                </a:solidFill>
                <a:latin typeface="Tahoma"/>
              </a:rPr>
              <a:t>JA</a:t>
            </a:r>
            <a:r>
              <a:rPr b="0" lang="sr-Latn-RS" sz="2400" spc="-1" strike="noStrike">
                <a:solidFill>
                  <a:srgbClr val="19194d"/>
                </a:solidFill>
                <a:latin typeface="Tahoma"/>
              </a:rPr>
              <a:t> IM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19194d"/>
                </a:solidFill>
                <a:latin typeface="Arial"/>
              </a:rPr>
              <a:t>Dijete je dobro, a djela mogu biti loš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03280" y="4292280"/>
            <a:ext cx="2663640" cy="237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ntakt oč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d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natižel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hvaćanje stanja i osjeć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mig"/>
          <p:cNvPicPr/>
          <p:nvPr/>
        </p:nvPicPr>
        <p:blipFill>
          <a:blip r:embed="rId1"/>
          <a:stretch/>
        </p:blipFill>
        <p:spPr>
          <a:xfrm>
            <a:off x="2987640" y="1628640"/>
            <a:ext cx="3095640" cy="25164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324000" y="1700280"/>
            <a:ext cx="2376360" cy="2016000"/>
          </a:xfrm>
          <a:prstGeom prst="rect">
            <a:avLst/>
          </a:prstGeom>
          <a:solidFill>
            <a:srgbClr val="a5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Tako pametna djevojčica, a takvu glupost naprav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24000" y="4508640"/>
            <a:ext cx="2376360" cy="2016000"/>
          </a:xfrm>
          <a:prstGeom prst="rect">
            <a:avLst/>
          </a:prstGeom>
          <a:solidFill>
            <a:srgbClr val="a5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Tako uredan dječak, a gle mu bilježni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6516720" y="1700280"/>
            <a:ext cx="2376360" cy="2016000"/>
          </a:xfrm>
          <a:prstGeom prst="rect">
            <a:avLst/>
          </a:prstGeom>
          <a:solidFill>
            <a:srgbClr val="a5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imaš se pravo ljutiti, ali ne i baciti olov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6516720" y="4437000"/>
            <a:ext cx="2376360" cy="2016360"/>
          </a:xfrm>
          <a:prstGeom prst="rect">
            <a:avLst/>
          </a:prstGeom>
          <a:solidFill>
            <a:srgbClr val="a5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kada ostaviš pernicu na rubu stola ona lako može pa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73"/>
                </a:solidFill>
                <a:latin typeface="Arial"/>
              </a:rPr>
              <a:t>dobro odmjerena rana iskustva u obitelji, vrtiću i šk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76000" y="4437000"/>
            <a:ext cx="6194520" cy="18050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74007"/>
                </a:solidFill>
                <a:latin typeface="Arial"/>
              </a:rPr>
              <a:t>čuvamo integ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potičemo odgovornost i samosta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00"/>
                </a:solidFill>
                <a:latin typeface="Arial"/>
              </a:rPr>
              <a:t>usmjeravamo razvoj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4500720" y="1268280"/>
            <a:ext cx="0" cy="865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276720" y="2421000"/>
            <a:ext cx="23749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73"/>
                </a:solidFill>
                <a:latin typeface="Arial"/>
              </a:rPr>
              <a:t>razvoj vješt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73"/>
                </a:solidFill>
                <a:latin typeface="Arial"/>
              </a:rPr>
              <a:t>i sposob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539640" y="2421000"/>
            <a:ext cx="244800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73"/>
                </a:solidFill>
                <a:latin typeface="Arial"/>
              </a:rPr>
              <a:t>potr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73"/>
                </a:solidFill>
                <a:latin typeface="Arial"/>
              </a:rPr>
              <a:t>osjećaj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73"/>
                </a:solidFill>
                <a:latin typeface="Arial"/>
              </a:rPr>
              <a:t>osj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6012000" y="2421000"/>
            <a:ext cx="252072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73"/>
                </a:solidFill>
                <a:latin typeface="Arial"/>
              </a:rPr>
              <a:t>građenje odn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73"/>
                </a:solidFill>
                <a:latin typeface="Arial"/>
              </a:rPr>
              <a:t>prema seb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73"/>
                </a:solidFill>
                <a:latin typeface="Arial"/>
              </a:rPr>
              <a:t>i drug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8"/>
          <p:cNvSpPr/>
          <p:nvPr/>
        </p:nvSpPr>
        <p:spPr>
          <a:xfrm flipH="1">
            <a:off x="2050560" y="1268280"/>
            <a:ext cx="2305080" cy="865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4643280" y="1268280"/>
            <a:ext cx="2016360" cy="865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0"/>
          <p:cNvSpPr/>
          <p:nvPr/>
        </p:nvSpPr>
        <p:spPr>
          <a:xfrm>
            <a:off x="2050920" y="3933720"/>
            <a:ext cx="1297080" cy="719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4500720" y="3429000"/>
            <a:ext cx="0" cy="1079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2"/>
          <p:cNvSpPr/>
          <p:nvPr/>
        </p:nvSpPr>
        <p:spPr>
          <a:xfrm flipH="1">
            <a:off x="5867280" y="4005360"/>
            <a:ext cx="122400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5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0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5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19194d"/>
                </a:solidFill>
                <a:latin typeface="Courier New"/>
              </a:rPr>
              <a:t>„</a:t>
            </a:r>
            <a:r>
              <a:rPr b="1" lang="hr-HR" sz="4400" spc="-1" strike="noStrike">
                <a:solidFill>
                  <a:srgbClr val="262673"/>
                </a:solidFill>
                <a:latin typeface="Courier New"/>
              </a:rPr>
              <a:t>takav sam ja, dakle</a:t>
            </a:r>
            <a:r>
              <a:rPr b="1" lang="hr-HR" sz="4400" spc="-1" strike="noStrike">
                <a:solidFill>
                  <a:srgbClr val="19194d"/>
                </a:solidFill>
                <a:latin typeface="Courier New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27320" cy="125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19194d"/>
                </a:solidFill>
                <a:latin typeface="Arial"/>
              </a:rPr>
              <a:t>u potrazi za identitetom dijete je upućeno na poruke odrasl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59280" y="1341360"/>
            <a:ext cx="4038480" cy="1944720"/>
          </a:xfrm>
          <a:prstGeom prst="rect">
            <a:avLst/>
          </a:prstGeom>
          <a:solidFill>
            <a:srgbClr val="d3ff57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19194d"/>
                </a:solidFill>
                <a:latin typeface="Arial"/>
              </a:rPr>
              <a:t>to mišljenje o samom sebi Adler naziva koncept vlastite osobe i ono se danas smatra ključnom varijablom ličnosti i duševnog zdrav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468360" y="2924280"/>
            <a:ext cx="4038480" cy="240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19194d"/>
                </a:solidFill>
                <a:latin typeface="Arial"/>
              </a:rPr>
              <a:t>s vremenom se tisuće poruka o odnosu što ih dijete prima iz svoje okoline zgušnjava u zaključ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9194d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19194d"/>
                </a:solidFill>
                <a:latin typeface="Arial"/>
              </a:rPr>
              <a:t>Takav sam dakle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4859280" y="3429000"/>
            <a:ext cx="4038480" cy="2160720"/>
          </a:xfrm>
          <a:prstGeom prst="rect">
            <a:avLst/>
          </a:prstGeom>
          <a:solidFill>
            <a:srgbClr val="a5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19194d"/>
                </a:solidFill>
                <a:latin typeface="Arial"/>
              </a:rPr>
              <a:t>zbog dalekosežnog značenja poruka o odnosima neki su psiholozi odg.obraz. zbivanja gotovo isključivo promatrali kroz “odnosne naoča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95280" y="5805360"/>
            <a:ext cx="8497800" cy="86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19194d"/>
                </a:solidFill>
                <a:latin typeface="Arial"/>
              </a:rPr>
              <a:t>oni u odnosu odraslog i djete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9194d"/>
                </a:solidFill>
                <a:latin typeface="Arial"/>
              </a:rPr>
              <a:t>naslućuju glavnu skretnicu u razvitku li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262673"/>
                </a:solidFill>
                <a:latin typeface="Arial"/>
              </a:rPr>
              <a:t>Što </a:t>
            </a:r>
            <a:r>
              <a:rPr b="1" lang="sr-Latn-RS" sz="3200" spc="-1" strike="noStrike">
                <a:solidFill>
                  <a:srgbClr val="262673"/>
                </a:solidFill>
                <a:latin typeface="Arial"/>
              </a:rPr>
              <a:t>često</a:t>
            </a:r>
            <a:r>
              <a:rPr b="1" lang="hr-HR" sz="3200" spc="-1" strike="noStrike">
                <a:solidFill>
                  <a:srgbClr val="262673"/>
                </a:solidFill>
                <a:latin typeface="Arial"/>
              </a:rPr>
              <a:t> radi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3467160" cy="82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Kritiziramo dij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>
            <a:off x="3564000" y="1989000"/>
            <a:ext cx="792000" cy="0"/>
          </a:xfrm>
          <a:prstGeom prst="line">
            <a:avLst/>
          </a:prstGeom>
          <a:ln w="57240">
            <a:solidFill>
              <a:srgbClr val="e925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4356000" y="1700280"/>
            <a:ext cx="4464000" cy="79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73"/>
                </a:solidFill>
                <a:latin typeface="Arial"/>
              </a:rPr>
              <a:t>Ne odobravamo ponaš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250920" y="2852640"/>
            <a:ext cx="3313080" cy="792360"/>
          </a:xfrm>
          <a:prstGeom prst="rect">
            <a:avLst/>
          </a:prstGeom>
          <a:solidFill>
            <a:srgbClr val="a5f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Etiketiramo dijete</a:t>
            </a: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3419640" y="3213000"/>
            <a:ext cx="792000" cy="0"/>
          </a:xfrm>
          <a:prstGeom prst="line">
            <a:avLst/>
          </a:prstGeom>
          <a:ln w="57240">
            <a:solidFill>
              <a:srgbClr val="e925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4284720" y="2781360"/>
            <a:ext cx="4537080" cy="863640"/>
          </a:xfrm>
          <a:prstGeom prst="rect">
            <a:avLst/>
          </a:prstGeom>
          <a:solidFill>
            <a:srgbClr val="a5f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73"/>
                </a:solidFill>
                <a:latin typeface="Arial"/>
              </a:rPr>
              <a:t>Potencijalnu manu pretvara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73"/>
                </a:solidFill>
                <a:latin typeface="Arial"/>
              </a:rPr>
              <a:t>u vrli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252360" y="3973680"/>
            <a:ext cx="331164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Zabranjujemo stra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ljutnju, tu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4356000" y="4076640"/>
            <a:ext cx="446400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62673"/>
                </a:solidFill>
                <a:latin typeface="Arial"/>
              </a:rPr>
              <a:t>Zanimamo se za djetetov osjeća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62673"/>
                </a:solidFill>
                <a:latin typeface="Arial"/>
              </a:rPr>
              <a:t>Pitamo “koliko”, “što”, “kad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3419640" y="4437000"/>
            <a:ext cx="863280" cy="0"/>
          </a:xfrm>
          <a:prstGeom prst="line">
            <a:avLst/>
          </a:prstGeom>
          <a:ln w="57240">
            <a:solidFill>
              <a:srgbClr val="e925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179280" y="5229360"/>
            <a:ext cx="3313080" cy="1035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Propisujemo sve š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je dob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3419640" y="5734080"/>
            <a:ext cx="863280" cy="0"/>
          </a:xfrm>
          <a:prstGeom prst="line">
            <a:avLst/>
          </a:prstGeom>
          <a:ln w="57240">
            <a:solidFill>
              <a:srgbClr val="e925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4"/>
          <p:cNvSpPr/>
          <p:nvPr/>
        </p:nvSpPr>
        <p:spPr>
          <a:xfrm>
            <a:off x="4356000" y="5300640"/>
            <a:ext cx="4392720" cy="1035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62673"/>
                </a:solidFill>
                <a:latin typeface="Arial"/>
              </a:rPr>
              <a:t>Potičemo samoinicijativu u odno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62673"/>
                </a:solidFill>
                <a:latin typeface="Arial"/>
              </a:rPr>
              <a:t>na dobra djela, korisne posl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62673"/>
                </a:solidFill>
                <a:latin typeface="Arial"/>
              </a:rPr>
              <a:t>Što kada vidimo ponašanje koje može biti man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248000" cy="3816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Djeca su ponek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Šk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Brbl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Lakovjer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Neposluš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Neprijateljski okrut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Ovisna i bespomoć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5219640" y="1916280"/>
            <a:ext cx="3637080" cy="151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Što će biti od njih ako im ne ukažemo na to kakvi s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5219640" y="4076640"/>
            <a:ext cx="3637080" cy="1513080"/>
          </a:xfrm>
          <a:prstGeom prst="rect">
            <a:avLst/>
          </a:prstGeom>
          <a:solidFill>
            <a:srgbClr val="a5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želimo ih poučiti kakvi bi trebali biti za njihovo dob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10920" y="333000"/>
            <a:ext cx="7848360" cy="93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rijednosni i razvojni kvad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338720" cy="2314800"/>
          </a:xfrm>
          <a:prstGeom prst="rect">
            <a:avLst/>
          </a:prstGeom>
          <a:solidFill>
            <a:srgbClr val="ccecff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ka vrijednost (vrlina, osobina...) može biti konstruktivna samo ako se nalazi u pozitivnoj napetosti (ravnoteži) u odnosu na svoju pozitivnu protuvrije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5508720" y="1557360"/>
            <a:ext cx="3311280" cy="2376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ez te izdržane napetosti vrijednost se svodi na svoj “izopačeni oblik” tj. na svoje obezvrijeđujuče pretjerivanj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859280" y="2708280"/>
            <a:ext cx="647640" cy="431640"/>
          </a:xfrm>
          <a:custGeom>
            <a:avLst/>
            <a:gdLst>
              <a:gd name="textAreaLeft" fmla="*/ 101160 w 647640"/>
              <a:gd name="textAreaRight" fmla="*/ 567000 w 6476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468360" y="4221000"/>
            <a:ext cx="2521080" cy="2087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400" spc="-1" strike="noStrike">
                <a:solidFill>
                  <a:srgbClr val="000099"/>
                </a:solidFill>
                <a:latin typeface="Wingdings"/>
                <a:ea typeface="Wingdings"/>
              </a:rPr>
              <a:t>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3924360" y="4292640"/>
            <a:ext cx="2735280" cy="20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Jin-jang od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rikladan je prik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jer se gorn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vrijednosti uzajam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rožima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3203640" y="5157720"/>
            <a:ext cx="647640" cy="432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7020000" y="5734080"/>
            <a:ext cx="2124000" cy="112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Friedemann Schul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von Thun, 2002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7920000" cy="503280"/>
          </a:xfrm>
          <a:prstGeom prst="rect">
            <a:avLst/>
          </a:prstGeom>
          <a:solidFill>
            <a:srgbClr val="ccecff"/>
          </a:solidFill>
          <a:ln w="28440">
            <a:solidFill>
              <a:srgbClr val="66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rijednosni i razvojni kvad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632720" cy="15116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99"/>
                </a:solidFill>
                <a:latin typeface="Arial"/>
              </a:rPr>
              <a:t>Gornja linija označava odnos pozitivne napetosti među vrlin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99"/>
                </a:solidFill>
                <a:latin typeface="Arial"/>
              </a:rPr>
              <a:t>Dijagonale označavaju oprečne suprotnosti između vrline i m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99"/>
                </a:solidFill>
                <a:latin typeface="Arial"/>
              </a:rPr>
              <a:t>Okomite linije označavaju obezvrijeđujuće pretjeri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99"/>
                </a:solidFill>
                <a:latin typeface="Arial"/>
              </a:rPr>
              <a:t>Donja veza između nevrijednosti označava put kojim idemo kad želimo izbjeći neku nevrijednost, ali se nemamo snage uzdignuti na razinu vrline</a:t>
            </a:r>
            <a:r>
              <a:rPr b="0" lang="hr-HR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611280" y="3141720"/>
            <a:ext cx="1512720" cy="576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štedlj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7020000" y="5734080"/>
            <a:ext cx="1512720" cy="576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asip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11280" y="5589720"/>
            <a:ext cx="1512720" cy="576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škrt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6516720" y="3141720"/>
            <a:ext cx="2089080" cy="576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arežlj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3"/>
          <p:cNvSpPr/>
          <p:nvPr/>
        </p:nvSpPr>
        <p:spPr>
          <a:xfrm>
            <a:off x="2050920" y="3789360"/>
            <a:ext cx="482616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5"/>
          <p:cNvSpPr/>
          <p:nvPr/>
        </p:nvSpPr>
        <p:spPr>
          <a:xfrm>
            <a:off x="2700360" y="3284640"/>
            <a:ext cx="3456000" cy="287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Pozitivni odnos napet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6"/>
          <p:cNvSpPr/>
          <p:nvPr/>
        </p:nvSpPr>
        <p:spPr>
          <a:xfrm>
            <a:off x="2771640" y="5805360"/>
            <a:ext cx="3456000" cy="287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natkompenzacij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7"/>
          <p:cNvSpPr/>
          <p:nvPr/>
        </p:nvSpPr>
        <p:spPr>
          <a:xfrm rot="16200000">
            <a:off x="251280" y="4435920"/>
            <a:ext cx="1656000" cy="50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Obezvrjeđujuć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pretjeri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"/>
          <p:cNvSpPr/>
          <p:nvPr/>
        </p:nvSpPr>
        <p:spPr>
          <a:xfrm rot="16200000">
            <a:off x="7020720" y="4436280"/>
            <a:ext cx="1656000" cy="504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Obezvrjeđujuć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pretjeri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"/>
          <p:cNvSpPr/>
          <p:nvPr/>
        </p:nvSpPr>
        <p:spPr>
          <a:xfrm rot="20238000">
            <a:off x="2700360" y="4508280"/>
            <a:ext cx="3456000" cy="287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ahoma"/>
              </a:rPr>
              <a:t>Oprečne   suprot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10920" y="333360"/>
            <a:ext cx="7848360" cy="574560"/>
          </a:xfrm>
          <a:prstGeom prst="rect">
            <a:avLst/>
          </a:prstGeom>
          <a:solidFill>
            <a:srgbClr val="ffff99"/>
          </a:solidFill>
          <a:ln w="28440">
            <a:solidFill>
              <a:srgbClr val="66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Vrijednosni i razvojni kvad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324000" y="2781360"/>
            <a:ext cx="1873080" cy="576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va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588000" y="5516640"/>
            <a:ext cx="2160720" cy="86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ukavičl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324000" y="5516640"/>
            <a:ext cx="1871640" cy="936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Bezum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hrabr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588000" y="2781360"/>
            <a:ext cx="2160720" cy="647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p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2050920" y="3789360"/>
            <a:ext cx="482616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2700360" y="2997360"/>
            <a:ext cx="3456000" cy="287280"/>
          </a:xfrm>
          <a:prstGeom prst="rect">
            <a:avLst/>
          </a:prstGeom>
          <a:solidFill>
            <a:srgbClr val="a5f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Pozitivni odnos napet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2700360" y="5805360"/>
            <a:ext cx="3456000" cy="287640"/>
          </a:xfrm>
          <a:prstGeom prst="rect">
            <a:avLst/>
          </a:prstGeom>
          <a:solidFill>
            <a:srgbClr val="a5f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natkompenzacij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 rot="16200000">
            <a:off x="-35640" y="4291560"/>
            <a:ext cx="1656000" cy="505080"/>
          </a:xfrm>
          <a:prstGeom prst="rect">
            <a:avLst/>
          </a:prstGeom>
          <a:solidFill>
            <a:srgbClr val="a5f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Obezvrjeđujuć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pretjeri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 rot="16200000">
            <a:off x="6949080" y="4075920"/>
            <a:ext cx="1656000" cy="504720"/>
          </a:xfrm>
          <a:prstGeom prst="rect">
            <a:avLst/>
          </a:prstGeom>
          <a:solidFill>
            <a:srgbClr val="a5f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Obezvrjeđujuć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pretjeri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2"/>
          <p:cNvSpPr/>
          <p:nvPr/>
        </p:nvSpPr>
        <p:spPr>
          <a:xfrm rot="20577000">
            <a:off x="2484360" y="4221000"/>
            <a:ext cx="3888000" cy="43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Oprečne   suprot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6"/>
          <p:cNvSpPr/>
          <p:nvPr/>
        </p:nvSpPr>
        <p:spPr>
          <a:xfrm>
            <a:off x="539640" y="1268280"/>
            <a:ext cx="8229600" cy="1108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je su mogućnosti razvojno primjerenog utjecaja na dijete koje je pretjerano oprez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610920" y="333360"/>
            <a:ext cx="7848360" cy="574560"/>
          </a:xfrm>
          <a:prstGeom prst="rect">
            <a:avLst/>
          </a:prstGeom>
          <a:solidFill>
            <a:srgbClr val="ffff99"/>
          </a:solidFill>
          <a:ln w="28440">
            <a:solidFill>
              <a:srgbClr val="66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Vrijednosni i razvojni kvad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24000" y="2521080"/>
            <a:ext cx="1944360" cy="836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auziman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a s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6588000" y="5516640"/>
            <a:ext cx="2160720" cy="1152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dlo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ustajanje 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vlast.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teg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324000" y="5543640"/>
            <a:ext cx="1946160" cy="936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gresiv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eprijateljst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6588000" y="2679840"/>
            <a:ext cx="2160720" cy="691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Briga za dr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2050920" y="3789360"/>
            <a:ext cx="482616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2700360" y="2997360"/>
            <a:ext cx="3456000" cy="287280"/>
          </a:xfrm>
          <a:prstGeom prst="rect">
            <a:avLst/>
          </a:prstGeom>
          <a:solidFill>
            <a:srgbClr val="a5f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Pozitivni odnos napet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2700360" y="5805360"/>
            <a:ext cx="3456000" cy="287640"/>
          </a:xfrm>
          <a:prstGeom prst="rect">
            <a:avLst/>
          </a:prstGeom>
          <a:solidFill>
            <a:srgbClr val="a5f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natkompenzacij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 rot="16200000">
            <a:off x="-35640" y="4291560"/>
            <a:ext cx="1656000" cy="505080"/>
          </a:xfrm>
          <a:prstGeom prst="rect">
            <a:avLst/>
          </a:prstGeom>
          <a:solidFill>
            <a:srgbClr val="a5f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Obezvrjeđujuć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pretjeri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1"/>
          <p:cNvSpPr/>
          <p:nvPr/>
        </p:nvSpPr>
        <p:spPr>
          <a:xfrm rot="16200000">
            <a:off x="6949080" y="4075920"/>
            <a:ext cx="1656000" cy="504720"/>
          </a:xfrm>
          <a:prstGeom prst="rect">
            <a:avLst/>
          </a:prstGeom>
          <a:solidFill>
            <a:srgbClr val="a5f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Obezvrjeđujuć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pretjeri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 rot="20577000">
            <a:off x="2484360" y="4221000"/>
            <a:ext cx="3888000" cy="43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Oprečne   suprot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6"/>
          <p:cNvSpPr/>
          <p:nvPr/>
        </p:nvSpPr>
        <p:spPr>
          <a:xfrm>
            <a:off x="539640" y="1268280"/>
            <a:ext cx="8229600" cy="1108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je su mogućnosti razvojno primjerenog utjecaja na dijete koje je agresiv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2060"/>
                </a:solidFill>
                <a:latin typeface="Arial"/>
              </a:rPr>
              <a:t>Komunikacija</a:t>
            </a:r>
            <a:r>
              <a:rPr b="0" i="1" lang="hr-HR" sz="3200" spc="-1" strike="noStrike">
                <a:solidFill>
                  <a:srgbClr val="002060"/>
                </a:solidFill>
                <a:latin typeface="Arial"/>
              </a:rPr>
              <a:t> - jedno od najvažnijih iskustava koje odrasli mogu pružiti dje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Razvoj vještina učinkovite međuljudske komunikacije važan je u dvojakom smislu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u prevencijskom smislu 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učinkovite interpersonalne komunikacijske vještine omogućit će djetetu niz </a:t>
            </a: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razvojnih prednosti 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u područj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učen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brige za sebe i dru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stvaranja  kvalitetnih odnosa s vršnjacima i važnim odrasl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pozitivnog identit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6202440" y="5983200"/>
            <a:ext cx="2493720" cy="870120"/>
          </a:xfrm>
          <a:prstGeom prst="rect">
            <a:avLst/>
          </a:prstGeom>
          <a:ln w="0">
            <a:noFill/>
          </a:ln>
        </p:spPr>
      </p:pic>
      <p:pic>
        <p:nvPicPr>
          <p:cNvPr id="52" name="Immagine 2" descr=""/>
          <p:cNvPicPr/>
          <p:nvPr/>
        </p:nvPicPr>
        <p:blipFill>
          <a:blip r:embed="rId2"/>
          <a:stretch/>
        </p:blipFill>
        <p:spPr>
          <a:xfrm>
            <a:off x="457200" y="6121440"/>
            <a:ext cx="1317600" cy="73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10920" y="333360"/>
            <a:ext cx="7848360" cy="574560"/>
          </a:xfrm>
          <a:prstGeom prst="rect">
            <a:avLst/>
          </a:prstGeom>
          <a:solidFill>
            <a:srgbClr val="ffff99"/>
          </a:solidFill>
          <a:ln w="28440">
            <a:solidFill>
              <a:srgbClr val="66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Vrijednosni i razvojni kvad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316080" y="2736720"/>
            <a:ext cx="1873080" cy="576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p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6588000" y="5516640"/>
            <a:ext cx="2160720" cy="86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beshrabre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Bespomoćn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324000" y="5516640"/>
            <a:ext cx="1871640" cy="936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gresiv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Bij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estruk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6588000" y="2505240"/>
            <a:ext cx="2160720" cy="923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ust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eusmjeri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nt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2050920" y="3789360"/>
            <a:ext cx="482616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2700360" y="2997360"/>
            <a:ext cx="3456000" cy="287280"/>
          </a:xfrm>
          <a:prstGeom prst="rect">
            <a:avLst/>
          </a:prstGeom>
          <a:solidFill>
            <a:srgbClr val="a5f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Pozitivni odnos napet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2700360" y="5805360"/>
            <a:ext cx="3456000" cy="287640"/>
          </a:xfrm>
          <a:prstGeom prst="rect">
            <a:avLst/>
          </a:prstGeom>
          <a:solidFill>
            <a:srgbClr val="a5f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natkompenzacij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 rot="16200000">
            <a:off x="-35640" y="4291560"/>
            <a:ext cx="1656000" cy="505080"/>
          </a:xfrm>
          <a:prstGeom prst="rect">
            <a:avLst/>
          </a:prstGeom>
          <a:solidFill>
            <a:srgbClr val="a5f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Obezvrjeđujuć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pretjeri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 rot="16200000">
            <a:off x="6949080" y="4075920"/>
            <a:ext cx="1656000" cy="504720"/>
          </a:xfrm>
          <a:prstGeom prst="rect">
            <a:avLst/>
          </a:prstGeom>
          <a:solidFill>
            <a:srgbClr val="a5f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Obezvrjeđujuć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pretjeri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 rot="20577000">
            <a:off x="2484360" y="4221000"/>
            <a:ext cx="3888000" cy="43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Oprečne   suprot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6"/>
          <p:cNvSpPr/>
          <p:nvPr/>
        </p:nvSpPr>
        <p:spPr>
          <a:xfrm>
            <a:off x="539640" y="1268280"/>
            <a:ext cx="8229600" cy="1108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je su mogućnosti razvojno primjerenog utjecaja na dijete koje je bespomoć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 rot="20577000">
            <a:off x="2626920" y="4292640"/>
            <a:ext cx="3456000" cy="287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Oprečne   suprot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826920" y="404640"/>
            <a:ext cx="784872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66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rijednosni kvadrat međuljudske komunik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468360" y="2997360"/>
            <a:ext cx="1800000" cy="57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ihvać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659640" y="5516640"/>
            <a:ext cx="2016000" cy="936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Neprijateljs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ocrnji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39640" y="5445000"/>
            <a:ext cx="1944720" cy="1008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mrtvljen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sjeć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6588000" y="3070080"/>
            <a:ext cx="2160720" cy="64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učelj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2"/>
          <p:cNvSpPr/>
          <p:nvPr/>
        </p:nvSpPr>
        <p:spPr>
          <a:xfrm>
            <a:off x="2050920" y="3789360"/>
            <a:ext cx="482616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2771640" y="3213000"/>
            <a:ext cx="3456000" cy="287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Pozitivni odnos napet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2916360" y="5300640"/>
            <a:ext cx="3456000" cy="287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natkompenzacij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8"/>
          <p:cNvSpPr/>
          <p:nvPr/>
        </p:nvSpPr>
        <p:spPr>
          <a:xfrm>
            <a:off x="5148360" y="1125360"/>
            <a:ext cx="3456000" cy="1727280"/>
          </a:xfrm>
          <a:prstGeom prst="rect">
            <a:avLst/>
          </a:prstGeom>
          <a:solidFill>
            <a:srgbClr val="ccecff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vađa povezuje samo u ljubavlju ispunjenoj borbi. Bez ljubavi je to nezaustavljiva eskalacija uvreda koja završava mržnjom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Prevelika miroljubivost i uglađenost mogu uroditi umrtvljenošću osjećaja, a svaki se pokušaj oporbe blago smiruje i utapa u toploj omam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9"/>
          <p:cNvSpPr/>
          <p:nvPr/>
        </p:nvSpPr>
        <p:spPr>
          <a:xfrm>
            <a:off x="2771640" y="5877000"/>
            <a:ext cx="3600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P + S = Razv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0"/>
          <p:cNvSpPr/>
          <p:nvPr/>
        </p:nvSpPr>
        <p:spPr>
          <a:xfrm rot="16200000">
            <a:off x="540360" y="4219920"/>
            <a:ext cx="1655640" cy="504720"/>
          </a:xfrm>
          <a:prstGeom prst="rect">
            <a:avLst/>
          </a:prstGeom>
          <a:solidFill>
            <a:srgbClr val="a5f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Obezvrjeđujuć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pretjeri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1"/>
          <p:cNvSpPr/>
          <p:nvPr/>
        </p:nvSpPr>
        <p:spPr>
          <a:xfrm rot="5400000">
            <a:off x="6876000" y="4364640"/>
            <a:ext cx="1655640" cy="505080"/>
          </a:xfrm>
          <a:prstGeom prst="rect">
            <a:avLst/>
          </a:prstGeom>
          <a:solidFill>
            <a:srgbClr val="a5f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Obezvrjeđujuć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pretjeri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2"/>
          <p:cNvSpPr/>
          <p:nvPr/>
        </p:nvSpPr>
        <p:spPr>
          <a:xfrm>
            <a:off x="539640" y="1125360"/>
            <a:ext cx="3816360" cy="1727280"/>
          </a:xfrm>
          <a:prstGeom prst="rect">
            <a:avLst/>
          </a:prstGeom>
          <a:solidFill>
            <a:srgbClr val="ccecff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ijete mora biti ponekad frustrirano da bi osjetilo uspjeh, i treba potporu za izdržati frustra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62673"/>
                </a:solidFill>
                <a:latin typeface="Arial"/>
              </a:rPr>
              <a:t>Dati sebe = autentič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262673"/>
                </a:solidFill>
                <a:latin typeface="Arial"/>
              </a:rPr>
              <a:t>istinitost, izvornost, vjerodostoj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73"/>
                </a:solidFill>
                <a:latin typeface="Arial"/>
              </a:rPr>
              <a:t>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73"/>
                </a:solidFill>
                <a:latin typeface="Arial"/>
              </a:rPr>
              <a:t>izražavanju vlastitih osjećaja, potreba, misli, ideja, nakan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4211640" y="1341360"/>
            <a:ext cx="576360" cy="863640"/>
          </a:xfrm>
          <a:prstGeom prst="downArrow">
            <a:avLst>
              <a:gd name="adj1" fmla="val 50000"/>
              <a:gd name="adj2" fmla="val 37461"/>
            </a:avLst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6" descr="images (6)"/>
          <p:cNvPicPr/>
          <p:nvPr/>
        </p:nvPicPr>
        <p:blipFill>
          <a:blip r:embed="rId1"/>
          <a:stretch/>
        </p:blipFill>
        <p:spPr>
          <a:xfrm>
            <a:off x="3276720" y="479736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6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1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6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262673"/>
                </a:solidFill>
                <a:latin typeface="Arial"/>
              </a:rPr>
              <a:t>Polazište autenti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stanje brižne pozor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prema stvarima koje se u pojedinom trenutku ovdje i s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zbivaju u meni i oko m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>
            <a:off x="4211640" y="1844640"/>
            <a:ext cx="576360" cy="863640"/>
          </a:xfrm>
          <a:prstGeom prst="downArrow">
            <a:avLst>
              <a:gd name="adj1" fmla="val 50000"/>
              <a:gd name="adj2" fmla="val 37461"/>
            </a:avLst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3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8" dur="5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402080" cy="7063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73"/>
                </a:solidFill>
                <a:latin typeface="Arial"/>
              </a:rPr>
              <a:t>Osobine autenti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62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262673"/>
                </a:solidFill>
                <a:latin typeface="Arial"/>
              </a:rPr>
              <a:t>Podudarnost </a:t>
            </a:r>
            <a:r>
              <a:rPr b="0" lang="hr-HR" sz="3200" spc="-1" strike="noStrike">
                <a:solidFill>
                  <a:srgbClr val="262673"/>
                </a:solidFill>
                <a:latin typeface="Arial"/>
              </a:rPr>
              <a:t>(kongruentnost) na osobnoj raz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podudarnost između triju područja ličnost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26267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unutarnjeg doživlja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26267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svije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26267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komunikacije (verbalno i neverbal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Nekongruentnost može biti svjesna i nesvjes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6659640" y="333360"/>
            <a:ext cx="180000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3300"/>
                </a:solidFill>
                <a:latin typeface="Arial Black"/>
              </a:rPr>
              <a:t>Rog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5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8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4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7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0" dur="5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73"/>
                </a:solidFill>
                <a:latin typeface="Arial"/>
              </a:rPr>
              <a:t>Je li ovo kongruentnos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Smiješno mi je što je dijete opsovalo, a pravim se da se ljut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Dijete vidi da nisam dobro i pita me što mi je, a ja mu tužnog pogleda kažem da je sve u r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Jako sam se uplašila, a djetetu pokazujem da sam lj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Baš sam ljuta, ali ne želim da se to vidi pa okrećem leđa ili mijenjam aktiv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"/>
          <p:cNvSpPr/>
          <p:nvPr/>
        </p:nvSpPr>
        <p:spPr>
          <a:xfrm flipH="1">
            <a:off x="324000" y="1197000"/>
            <a:ext cx="8208720" cy="525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"/>
          <p:cNvSpPr/>
          <p:nvPr/>
        </p:nvSpPr>
        <p:spPr>
          <a:xfrm>
            <a:off x="826920" y="952560"/>
            <a:ext cx="7201080" cy="5905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7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41384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3300"/>
                </a:solidFill>
                <a:latin typeface="Arial"/>
              </a:rPr>
              <a:t>2. </a:t>
            </a:r>
            <a:r>
              <a:rPr b="0" lang="hr-HR" sz="3200" spc="-1" strike="noStrike">
                <a:solidFill>
                  <a:srgbClr val="262673"/>
                </a:solidFill>
                <a:latin typeface="Arial"/>
              </a:rPr>
              <a:t>Selektiv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6267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Nastojim što jasnije spoznati vlastite osjećaje, motive i mis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6267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Ono što želim reći iskazujem posve jasno tako da to drugi može prihvat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7" descr="images (6)"/>
          <p:cNvPicPr/>
          <p:nvPr/>
        </p:nvPicPr>
        <p:blipFill>
          <a:blip r:embed="rId1"/>
          <a:stretch/>
        </p:blipFill>
        <p:spPr>
          <a:xfrm>
            <a:off x="0" y="333360"/>
            <a:ext cx="574560" cy="13334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images (6)"/>
          <p:cNvPicPr/>
          <p:nvPr/>
        </p:nvPicPr>
        <p:blipFill>
          <a:blip r:embed="rId2"/>
          <a:stretch/>
        </p:blipFill>
        <p:spPr>
          <a:xfrm>
            <a:off x="0" y="0"/>
            <a:ext cx="574560" cy="1333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" descr="images (6)"/>
          <p:cNvPicPr/>
          <p:nvPr/>
        </p:nvPicPr>
        <p:blipFill>
          <a:blip r:embed="rId3"/>
          <a:stretch/>
        </p:blipFill>
        <p:spPr>
          <a:xfrm>
            <a:off x="0" y="1628640"/>
            <a:ext cx="574560" cy="1333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1" descr="images (6)"/>
          <p:cNvPicPr/>
          <p:nvPr/>
        </p:nvPicPr>
        <p:blipFill>
          <a:blip r:embed="rId4"/>
          <a:stretch/>
        </p:blipFill>
        <p:spPr>
          <a:xfrm>
            <a:off x="0" y="2924280"/>
            <a:ext cx="574560" cy="1333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2" descr="images (6)"/>
          <p:cNvPicPr/>
          <p:nvPr/>
        </p:nvPicPr>
        <p:blipFill>
          <a:blip r:embed="rId5"/>
          <a:stretch/>
        </p:blipFill>
        <p:spPr>
          <a:xfrm>
            <a:off x="0" y="4221000"/>
            <a:ext cx="574560" cy="13338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3" descr="images (6)"/>
          <p:cNvPicPr/>
          <p:nvPr/>
        </p:nvPicPr>
        <p:blipFill>
          <a:blip r:embed="rId6"/>
          <a:stretch/>
        </p:blipFill>
        <p:spPr>
          <a:xfrm>
            <a:off x="0" y="5524560"/>
            <a:ext cx="5745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5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258920" y="907560"/>
            <a:ext cx="719784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3300"/>
                </a:solidFill>
                <a:latin typeface="Arial"/>
              </a:rPr>
              <a:t>3. </a:t>
            </a:r>
            <a:r>
              <a:rPr b="0" lang="hr-HR" sz="3200" spc="-1" strike="noStrike">
                <a:solidFill>
                  <a:srgbClr val="262673"/>
                </a:solidFill>
                <a:latin typeface="Arial"/>
              </a:rPr>
              <a:t>Usklađenost s vanjsk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6267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usklađenost osobnih ciljeva i istinitost odnosa, primateljevog unutarnjeg raspoloženja i zahtjeva situ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6267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Komunikacija je usklađena kad se pruža prilika onome što se u prostoru nalazi – uvijek je iznenađujuće kada netko izgovori ono što “visi u zrak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8" descr=""/>
          <p:cNvPicPr/>
          <p:nvPr/>
        </p:nvPicPr>
        <p:blipFill>
          <a:blip r:embed="rId1"/>
          <a:stretch/>
        </p:blipFill>
        <p:spPr>
          <a:xfrm>
            <a:off x="0" y="4581360"/>
            <a:ext cx="766800" cy="2276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0" descr=""/>
          <p:cNvPicPr/>
          <p:nvPr/>
        </p:nvPicPr>
        <p:blipFill>
          <a:blip r:embed="rId2"/>
          <a:stretch/>
        </p:blipFill>
        <p:spPr>
          <a:xfrm>
            <a:off x="0" y="2276640"/>
            <a:ext cx="766800" cy="2304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1" descr=""/>
          <p:cNvPicPr/>
          <p:nvPr/>
        </p:nvPicPr>
        <p:blipFill>
          <a:blip r:embed="rId3"/>
          <a:stretch/>
        </p:blipFill>
        <p:spPr>
          <a:xfrm>
            <a:off x="0" y="0"/>
            <a:ext cx="7668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5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8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1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73"/>
                </a:solidFill>
                <a:latin typeface="Arial"/>
              </a:rPr>
              <a:t>Autentič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262673"/>
                </a:solidFill>
                <a:latin typeface="Arial"/>
              </a:rPr>
              <a:t>Dobro si primijetila – danas nisam najbolje volje. Malo sam zabrinuta za svoju prijateljicu – bolesna je i trebala bi ići dokt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262673"/>
                </a:solidFill>
                <a:latin typeface="Arial"/>
              </a:rPr>
              <a:t>Marija, jako sam se zabrinula kada sam vidjela da te nema. Bojala sam se da ti se može nešto loše dogoditi. Sretna sam što te vidim živu i zdravu. Kako to da si otišla iz vrtića, a da mi se nisi javila? Što se dogodilo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262673"/>
                </a:solidFill>
                <a:latin typeface="Arial"/>
              </a:rPr>
              <a:t>Ljuta sam što autobus kasni jer sam imala plan da na izletu svašta zabavno radimo. Bojim se da nećemo sve stići vidjeti. Morat ćemo izabrati što nam je najvažni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262673"/>
                </a:solidFill>
                <a:latin typeface="Arial"/>
              </a:rPr>
              <a:t>Idemo u kazalište. Nadam se da će vam biti zanimlj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8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3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8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 flipV="1" rot="9500400">
            <a:off x="2484360" y="4220280"/>
            <a:ext cx="3311280" cy="201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663300"/>
                </a:solidFill>
                <a:latin typeface="Tahoma"/>
              </a:rPr>
              <a:t>Smjer razvo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3300"/>
                </a:solidFill>
                <a:latin typeface="Arial"/>
              </a:rPr>
              <a:t>autentičnost zahtijeva podudarnost i usklađe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395280" y="2781360"/>
            <a:ext cx="2089080" cy="717480"/>
          </a:xfrm>
          <a:prstGeom prst="rect">
            <a:avLst/>
          </a:prstGeom>
          <a:solidFill>
            <a:srgbClr val="ccec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Tahoma"/>
              </a:rPr>
              <a:t>Osob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Tahoma"/>
              </a:rPr>
              <a:t>podudar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6588000" y="5589720"/>
            <a:ext cx="2016360" cy="576000"/>
          </a:xfrm>
          <a:prstGeom prst="rect">
            <a:avLst/>
          </a:prstGeom>
          <a:solidFill>
            <a:srgbClr val="ccec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Tahoma"/>
              </a:rPr>
              <a:t>Podlož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539640" y="5661000"/>
            <a:ext cx="1944720" cy="647640"/>
          </a:xfrm>
          <a:prstGeom prst="rect">
            <a:avLst/>
          </a:prstGeom>
          <a:solidFill>
            <a:srgbClr val="ccec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Tahoma"/>
              </a:rPr>
              <a:t>Samoživost </a:t>
            </a:r>
            <a:r>
              <a:rPr b="0" i="1" lang="hr-HR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6012000" y="2781360"/>
            <a:ext cx="2952720" cy="720720"/>
          </a:xfrm>
          <a:prstGeom prst="rect">
            <a:avLst/>
          </a:prstGeom>
          <a:solidFill>
            <a:srgbClr val="ccec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Tahoma"/>
              </a:rPr>
              <a:t>Usklađenost 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Tahoma"/>
              </a:rPr>
              <a:t>slušateljem i situacij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8"/>
          <p:cNvSpPr/>
          <p:nvPr/>
        </p:nvSpPr>
        <p:spPr>
          <a:xfrm>
            <a:off x="1403280" y="393372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9"/>
          <p:cNvSpPr/>
          <p:nvPr/>
        </p:nvSpPr>
        <p:spPr>
          <a:xfrm>
            <a:off x="7451640" y="4005360"/>
            <a:ext cx="0" cy="863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3"/>
          <p:cNvSpPr/>
          <p:nvPr/>
        </p:nvSpPr>
        <p:spPr>
          <a:xfrm>
            <a:off x="2556000" y="3141720"/>
            <a:ext cx="3456000" cy="287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63300"/>
                </a:solidFill>
                <a:latin typeface="Tahoma"/>
              </a:rPr>
              <a:t>Pozitivni odnos napet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2916360" y="5877000"/>
            <a:ext cx="3456000" cy="287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663300"/>
                </a:solidFill>
                <a:latin typeface="Tahoma"/>
              </a:rPr>
              <a:t>“</a:t>
            </a:r>
            <a:r>
              <a:rPr b="1" lang="hr-HR" sz="1600" spc="-1" strike="noStrike">
                <a:solidFill>
                  <a:srgbClr val="663300"/>
                </a:solidFill>
                <a:latin typeface="Tahoma"/>
              </a:rPr>
              <a:t>natkompenzacij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5"/>
          <p:cNvSpPr/>
          <p:nvPr/>
        </p:nvSpPr>
        <p:spPr>
          <a:xfrm rot="16200000">
            <a:off x="324720" y="4219920"/>
            <a:ext cx="1655640" cy="505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3300"/>
                </a:solidFill>
                <a:latin typeface="Tahoma"/>
              </a:rPr>
              <a:t>Obezvrjeđujuć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3300"/>
                </a:solidFill>
                <a:latin typeface="Tahoma"/>
              </a:rPr>
              <a:t>pretjeri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6"/>
          <p:cNvSpPr/>
          <p:nvPr/>
        </p:nvSpPr>
        <p:spPr>
          <a:xfrm rot="16200000">
            <a:off x="7200000" y="4040280"/>
            <a:ext cx="1584360" cy="649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3300"/>
                </a:solidFill>
                <a:latin typeface="Tahoma"/>
              </a:rPr>
              <a:t>Obezvrjeđujuć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3300"/>
                </a:solidFill>
                <a:latin typeface="Tahoma"/>
              </a:rPr>
              <a:t>pretjeri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7"/>
          <p:cNvSpPr/>
          <p:nvPr/>
        </p:nvSpPr>
        <p:spPr>
          <a:xfrm flipV="1">
            <a:off x="2195640" y="3500280"/>
            <a:ext cx="4608360" cy="19447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8"/>
          <p:cNvSpPr/>
          <p:nvPr/>
        </p:nvSpPr>
        <p:spPr>
          <a:xfrm>
            <a:off x="395280" y="1197000"/>
            <a:ext cx="8209080" cy="1224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663300"/>
                </a:solidFill>
                <a:latin typeface="Arial"/>
              </a:rPr>
              <a:t>podudarnost između triju područja ličnosti – unutarnjeg doživljaja, svijesti i komunikacije vrlina je ako smo se izrazili u skladu sa situacijom i osobinama i dobrobiti onoga kome se obrać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9"/>
          <p:cNvSpPr/>
          <p:nvPr/>
        </p:nvSpPr>
        <p:spPr>
          <a:xfrm>
            <a:off x="1835280" y="2421000"/>
            <a:ext cx="4465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0"/>
          <p:cNvSpPr/>
          <p:nvPr/>
        </p:nvSpPr>
        <p:spPr>
          <a:xfrm>
            <a:off x="1547640" y="4076640"/>
            <a:ext cx="0" cy="863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1"/>
          <p:cNvSpPr/>
          <p:nvPr/>
        </p:nvSpPr>
        <p:spPr>
          <a:xfrm flipH="1">
            <a:off x="2916360" y="5734080"/>
            <a:ext cx="324000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2"/>
          <p:cNvSpPr/>
          <p:nvPr/>
        </p:nvSpPr>
        <p:spPr>
          <a:xfrm>
            <a:off x="1835280" y="2421000"/>
            <a:ext cx="0" cy="360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3"/>
          <p:cNvSpPr/>
          <p:nvPr/>
        </p:nvSpPr>
        <p:spPr>
          <a:xfrm>
            <a:off x="6300720" y="2421000"/>
            <a:ext cx="0" cy="360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2060"/>
                </a:solidFill>
                <a:latin typeface="Arial"/>
              </a:rPr>
              <a:t>Komunikacija</a:t>
            </a:r>
            <a:r>
              <a:rPr b="0" i="1" lang="hr-HR" sz="3200" spc="-1" strike="noStrike">
                <a:solidFill>
                  <a:srgbClr val="002060"/>
                </a:solidFill>
                <a:latin typeface="Arial"/>
              </a:rPr>
              <a:t> - jedno od najvažnijih iskustava koje odrasli mogu pružiti dje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5520" y="1844280"/>
            <a:ext cx="8229600" cy="4135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u situacijama izloženosti riziku 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(primjerice vršnjačkom nasilju i odbacivanju od strane vršnjaka) sposobnost asertivnog ponašanja i učinkovite komunikacijske vještine mogu djetetu značajno pomoći u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čuvanju vlastitog integriteta i zauzimanju za se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povjeravanju i traženju zaš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6202440" y="5776920"/>
            <a:ext cx="2493720" cy="870120"/>
          </a:xfrm>
          <a:prstGeom prst="rect">
            <a:avLst/>
          </a:prstGeom>
          <a:ln w="0">
            <a:noFill/>
          </a:ln>
        </p:spPr>
      </p:pic>
      <p:pic>
        <p:nvPicPr>
          <p:cNvPr id="56" name="Immagine 2" descr=""/>
          <p:cNvPicPr/>
          <p:nvPr/>
        </p:nvPicPr>
        <p:blipFill>
          <a:blip r:embed="rId2"/>
          <a:stretch/>
        </p:blipFill>
        <p:spPr>
          <a:xfrm>
            <a:off x="457200" y="5915160"/>
            <a:ext cx="1317600" cy="73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250560" y="1915920"/>
            <a:ext cx="4033800" cy="3097080"/>
          </a:xfrm>
          <a:prstGeom prst="rect">
            <a:avLst/>
          </a:prstGeom>
          <a:noFill/>
          <a:ln w="284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Tko se usmjerava samo na izraz i ne vodi brigu o učincima koje bi to moglo imati, morat će snositi posljedice i</a:t>
            </a:r>
            <a:r>
              <a:rPr b="0" lang="hr-HR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3300"/>
                </a:solidFill>
                <a:latin typeface="Arial"/>
              </a:rPr>
              <a:t>odreći se</a:t>
            </a:r>
            <a:r>
              <a:rPr b="0" lang="hr-HR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mogućnosti da nametne drugima svoj stav i utječe na nj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47960" y="1125360"/>
            <a:ext cx="3809880" cy="3888000"/>
          </a:xfrm>
          <a:prstGeom prst="rect">
            <a:avLst/>
          </a:prstGeom>
          <a:noFill/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Tko se svjesno ili nesvjesno usmjerava samo na djelovanje i pritom zanemaruje autentični izraz, otuđuje se od sebe samog i drugih, a svojega bližnjega svodi na puki objekt ophođenja, </a:t>
            </a:r>
            <a:r>
              <a:rPr b="1" lang="hr-HR" sz="2400" spc="-1" strike="noStrike">
                <a:solidFill>
                  <a:srgbClr val="ff3300"/>
                </a:solidFill>
                <a:latin typeface="Arial"/>
              </a:rPr>
              <a:t>manipul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4"/>
          <p:cNvSpPr/>
          <p:nvPr/>
        </p:nvSpPr>
        <p:spPr>
          <a:xfrm>
            <a:off x="611280" y="476280"/>
            <a:ext cx="3960720" cy="9367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73"/>
                </a:solidFill>
                <a:latin typeface="Tahoma"/>
              </a:rPr>
              <a:t>Što je dobr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68360" y="5589720"/>
            <a:ext cx="8207280" cy="93492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73"/>
                </a:solidFill>
                <a:latin typeface="Arial"/>
              </a:rPr>
              <a:t>Uspješnost komunikacije </a:t>
            </a:r>
            <a:br>
              <a:rPr sz="2400"/>
            </a:br>
            <a:r>
              <a:rPr b="1" lang="hr-HR" sz="2400" spc="-1" strike="noStrike">
                <a:solidFill>
                  <a:srgbClr val="262673"/>
                </a:solidFill>
                <a:latin typeface="Arial"/>
              </a:rPr>
              <a:t>ovisi o </a:t>
            </a:r>
            <a:r>
              <a:rPr b="1" lang="hr-HR" sz="2400" spc="-1" strike="noStrike">
                <a:solidFill>
                  <a:srgbClr val="ff3300"/>
                </a:solidFill>
                <a:latin typeface="Arial"/>
              </a:rPr>
              <a:t>ravnoteži</a:t>
            </a:r>
            <a:r>
              <a:rPr b="1" lang="hr-HR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262673"/>
                </a:solidFill>
                <a:latin typeface="Arial"/>
              </a:rPr>
              <a:t>oba temeljna asp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6" descr="plot what you don't know"/>
          <p:cNvPicPr/>
          <p:nvPr/>
        </p:nvPicPr>
        <p:blipFill>
          <a:blip r:embed="rId1"/>
          <a:stretch/>
        </p:blipFill>
        <p:spPr>
          <a:xfrm>
            <a:off x="7164360" y="4005360"/>
            <a:ext cx="111780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8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8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68000" y="1483920"/>
            <a:ext cx="8080200" cy="3313080"/>
          </a:xfrm>
          <a:prstGeom prst="rect">
            <a:avLst/>
          </a:prstGeom>
          <a:noFill/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dok kod usmjerenosti na izraziti sebe presudne kriterije tvore usuglašenost i istinit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ovdje se cijene </a:t>
            </a:r>
            <a:r>
              <a:rPr b="1" lang="hr-HR" sz="2800" spc="-1" strike="noStrike">
                <a:solidFill>
                  <a:srgbClr val="262673"/>
                </a:solidFill>
                <a:latin typeface="Arial"/>
              </a:rPr>
              <a:t>takt i takti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262673"/>
                </a:solidFill>
                <a:latin typeface="Arial"/>
              </a:rPr>
              <a:t>Izraziti sebe </a:t>
            </a:r>
            <a:r>
              <a:rPr b="1" lang="hr-HR" sz="2800" spc="-1" strike="noStrike">
                <a:solidFill>
                  <a:srgbClr val="663300"/>
                </a:solidFill>
                <a:latin typeface="Arial"/>
              </a:rPr>
              <a:t>                 </a:t>
            </a:r>
            <a:r>
              <a:rPr b="1" lang="hr-HR" sz="2800" spc="-1" strike="noStrike">
                <a:solidFill>
                  <a:srgbClr val="ff3300"/>
                </a:solidFill>
                <a:latin typeface="Arial"/>
              </a:rPr>
              <a:t>utjecati na dr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3924360" y="620640"/>
            <a:ext cx="936720" cy="504720"/>
          </a:xfrm>
          <a:prstGeom prst="leftRightArrow">
            <a:avLst>
              <a:gd name="adj1" fmla="val 50000"/>
              <a:gd name="adj2" fmla="val 36947"/>
            </a:avLst>
          </a:prstGeom>
          <a:solidFill>
            <a:srgbClr val="bbe0e3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elica zakrivljena ulijevo 1"/>
          <p:cNvSpPr/>
          <p:nvPr/>
        </p:nvSpPr>
        <p:spPr>
          <a:xfrm>
            <a:off x="7380360" y="1125360"/>
            <a:ext cx="1168200" cy="2374920"/>
          </a:xfrm>
          <a:custGeom>
            <a:avLst/>
            <a:gdLst>
              <a:gd name="textAreaLeft" fmla="*/ 156240 w 1168200"/>
              <a:gd name="textAreaRight" fmla="*/ 1011960 w 1168200"/>
              <a:gd name="textAreaTop" fmla="*/ 484200 h 2374920"/>
              <a:gd name="textAreaBottom" fmla="*/ 1744920 h 23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08" stAng="-5400000" swAng="5400000"/>
                <a:lnTo>
                  <a:pt x="21600" y="11464"/>
                </a:lnTo>
                <a:arcTo wR="21600" hR="8808" stAng="0" swAng="3459517"/>
                <a:lnTo>
                  <a:pt x="5400" y="21320"/>
                </a:lnTo>
                <a:lnTo>
                  <a:pt x="0" y="18944"/>
                </a:lnTo>
                <a:lnTo>
                  <a:pt x="5400" y="16008"/>
                </a:lnTo>
                <a:lnTo>
                  <a:pt x="5400" y="17336"/>
                </a:lnTo>
                <a:arcTo wR="21600" hR="8808" stAng="3459517" swAng="-3245990"/>
                <a:lnTo>
                  <a:pt x="21353" y="10136"/>
                </a:lnTo>
                <a:arcTo wR="21600" hR="8808" stAng="-213527" swAng="-5186473"/>
                <a:close/>
              </a:path>
              <a:path fill="darkenLess" w="21600" h="21600">
                <a:moveTo>
                  <a:pt x="0" y="0"/>
                </a:moveTo>
                <a:arcTo wR="21600" hR="8808" stAng="-5400000" swAng="5400000"/>
                <a:lnTo>
                  <a:pt x="21600" y="11464"/>
                </a:lnTo>
                <a:arcTo wR="21600" hR="8808" stAng="0" swAng="-213527"/>
                <a:lnTo>
                  <a:pt x="21353" y="10136"/>
                </a:lnTo>
                <a:arcTo wR="21600" hR="8808" stAng="-213527" swAng="-5186473"/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5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0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 flipV="1" rot="9500400">
            <a:off x="2484360" y="4220280"/>
            <a:ext cx="3311280" cy="201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663300"/>
                </a:solidFill>
                <a:latin typeface="Tahoma"/>
              </a:rPr>
              <a:t>Smjer razvo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262673"/>
                </a:solidFill>
                <a:latin typeface="Arial"/>
              </a:rPr>
              <a:t>Ravnoteža autentičnosti i utjecaja na dr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395280" y="2708280"/>
            <a:ext cx="2089080" cy="790560"/>
          </a:xfrm>
          <a:prstGeom prst="rect">
            <a:avLst/>
          </a:prstGeom>
          <a:solidFill>
            <a:srgbClr val="ccec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Tahoma"/>
              </a:rPr>
              <a:t>Izraziti se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6588000" y="5589720"/>
            <a:ext cx="2016360" cy="576000"/>
          </a:xfrm>
          <a:prstGeom prst="rect">
            <a:avLst/>
          </a:prstGeom>
          <a:solidFill>
            <a:srgbClr val="ccec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Tahoma"/>
              </a:rPr>
              <a:t>Manipula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539640" y="5661000"/>
            <a:ext cx="1944720" cy="647640"/>
          </a:xfrm>
          <a:prstGeom prst="rect">
            <a:avLst/>
          </a:prstGeom>
          <a:solidFill>
            <a:srgbClr val="ccec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Tahoma"/>
              </a:rPr>
              <a:t>Nemoguć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Tahoma"/>
              </a:rPr>
              <a:t>upravlj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6012000" y="2708280"/>
            <a:ext cx="2952720" cy="720720"/>
          </a:xfrm>
          <a:prstGeom prst="rect">
            <a:avLst/>
          </a:prstGeom>
          <a:solidFill>
            <a:srgbClr val="ccec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Tahoma"/>
              </a:rPr>
              <a:t>Utjecati na tuđe osjećaj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Tahoma"/>
              </a:rPr>
              <a:t>misli ili ponaš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8"/>
          <p:cNvSpPr/>
          <p:nvPr/>
        </p:nvSpPr>
        <p:spPr>
          <a:xfrm>
            <a:off x="1403280" y="393372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9"/>
          <p:cNvSpPr/>
          <p:nvPr/>
        </p:nvSpPr>
        <p:spPr>
          <a:xfrm>
            <a:off x="7451640" y="4005360"/>
            <a:ext cx="0" cy="863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0"/>
          <p:cNvSpPr/>
          <p:nvPr/>
        </p:nvSpPr>
        <p:spPr>
          <a:xfrm>
            <a:off x="2700360" y="2924280"/>
            <a:ext cx="3240000" cy="287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63300"/>
                </a:solidFill>
                <a:latin typeface="Tahoma"/>
              </a:rPr>
              <a:t>Pozitivni odnos napet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2916360" y="5877000"/>
            <a:ext cx="3456000" cy="287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663300"/>
                </a:solidFill>
                <a:latin typeface="Tahoma"/>
              </a:rPr>
              <a:t>“</a:t>
            </a:r>
            <a:r>
              <a:rPr b="1" lang="hr-HR" sz="1600" spc="-1" strike="noStrike">
                <a:solidFill>
                  <a:srgbClr val="663300"/>
                </a:solidFill>
                <a:latin typeface="Tahoma"/>
              </a:rPr>
              <a:t>natkompenzacij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2"/>
          <p:cNvSpPr/>
          <p:nvPr/>
        </p:nvSpPr>
        <p:spPr>
          <a:xfrm rot="16200000">
            <a:off x="324720" y="4219920"/>
            <a:ext cx="1655640" cy="505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3300"/>
                </a:solidFill>
                <a:latin typeface="Tahoma"/>
              </a:rPr>
              <a:t>Obezvrjeđujuć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3300"/>
                </a:solidFill>
                <a:latin typeface="Tahoma"/>
              </a:rPr>
              <a:t>pretjeri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3"/>
          <p:cNvSpPr/>
          <p:nvPr/>
        </p:nvSpPr>
        <p:spPr>
          <a:xfrm rot="16200000">
            <a:off x="7200000" y="4040280"/>
            <a:ext cx="1584360" cy="649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3300"/>
                </a:solidFill>
                <a:latin typeface="Tahoma"/>
              </a:rPr>
              <a:t>Obezvrjeđujuć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3300"/>
                </a:solidFill>
                <a:latin typeface="Tahoma"/>
              </a:rPr>
              <a:t>pretjeri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4"/>
          <p:cNvSpPr/>
          <p:nvPr/>
        </p:nvSpPr>
        <p:spPr>
          <a:xfrm flipV="1">
            <a:off x="2195640" y="3500280"/>
            <a:ext cx="4608360" cy="19447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5"/>
          <p:cNvSpPr/>
          <p:nvPr/>
        </p:nvSpPr>
        <p:spPr>
          <a:xfrm>
            <a:off x="395280" y="1197000"/>
            <a:ext cx="8209080" cy="1224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663300"/>
                </a:solidFill>
                <a:latin typeface="Arial"/>
              </a:rPr>
              <a:t>tek kada smo u stanju razmotriti kako učinkovito izraziti sebe i kako u istoj situaciji jasno izraziti potrebu, zamolbu ili zahtjev za tuđim ponašanjem ove dvije krajnosti se mogu harmonizir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7"/>
          <p:cNvSpPr/>
          <p:nvPr/>
        </p:nvSpPr>
        <p:spPr>
          <a:xfrm>
            <a:off x="1547640" y="4076640"/>
            <a:ext cx="0" cy="863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8"/>
          <p:cNvSpPr/>
          <p:nvPr/>
        </p:nvSpPr>
        <p:spPr>
          <a:xfrm flipH="1">
            <a:off x="2916360" y="5734080"/>
            <a:ext cx="324000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9"/>
          <p:cNvSpPr/>
          <p:nvPr/>
        </p:nvSpPr>
        <p:spPr>
          <a:xfrm>
            <a:off x="1979640" y="2349360"/>
            <a:ext cx="4465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0"/>
          <p:cNvSpPr/>
          <p:nvPr/>
        </p:nvSpPr>
        <p:spPr>
          <a:xfrm>
            <a:off x="1979640" y="2349360"/>
            <a:ext cx="0" cy="360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1"/>
          <p:cNvSpPr/>
          <p:nvPr/>
        </p:nvSpPr>
        <p:spPr>
          <a:xfrm>
            <a:off x="6443640" y="2349360"/>
            <a:ext cx="0" cy="360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9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262673"/>
                </a:solidFill>
                <a:latin typeface="Arial"/>
              </a:rPr>
              <a:t>Autentičnost odrasli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62673"/>
                </a:solidFill>
                <a:latin typeface="Arial"/>
              </a:rPr>
              <a:t>podrazumijeva vjerodostojno izražavanje vlastitih emocija, stavova, zahtjev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62673"/>
                </a:solidFill>
                <a:latin typeface="Arial"/>
              </a:rPr>
              <a:t>ali t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62673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262673"/>
                </a:solidFill>
                <a:latin typeface="Arial"/>
              </a:rPr>
              <a:t>ni izdaleka nije razlog da djeci čitaju bukvicu kad su razdraženi, ljutiti, nesretni ili bijesni</a:t>
            </a:r>
            <a:r>
              <a:rPr b="0" lang="pt-BR" sz="3200" spc="-1" strike="noStrike">
                <a:solidFill>
                  <a:srgbClr val="800000"/>
                </a:solidFill>
                <a:latin typeface="Arial"/>
              </a:rPr>
              <a:t>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4"/>
          <p:cNvSpPr/>
          <p:nvPr/>
        </p:nvSpPr>
        <p:spPr>
          <a:xfrm>
            <a:off x="5724360" y="5877000"/>
            <a:ext cx="2880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0000"/>
                </a:solidFill>
                <a:latin typeface="Arial"/>
              </a:rPr>
              <a:t>Juul i Jensen (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9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4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9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73"/>
                </a:solidFill>
                <a:latin typeface="Arial"/>
              </a:rPr>
              <a:t>Autentičan roditelj  </a:t>
            </a:r>
            <a:r>
              <a:rPr b="0" lang="hr-HR" sz="3200" spc="-1" strike="noStrike">
                <a:solidFill>
                  <a:srgbClr val="663300"/>
                </a:solidFill>
                <a:latin typeface="Arial"/>
              </a:rPr>
              <a:t>=  </a:t>
            </a:r>
            <a:r>
              <a:rPr b="0" lang="hr-HR" sz="3200" spc="-1" strike="noStrike">
                <a:solidFill>
                  <a:srgbClr val="262673"/>
                </a:solidFill>
                <a:latin typeface="Arial"/>
              </a:rPr>
              <a:t>autentičan odgojitel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4"/>
          <p:cNvSpPr/>
          <p:nvPr/>
        </p:nvSpPr>
        <p:spPr>
          <a:xfrm flipH="1">
            <a:off x="3708000" y="2852640"/>
            <a:ext cx="792360" cy="64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262673"/>
                </a:solidFill>
                <a:latin typeface="Arial"/>
              </a:rPr>
              <a:t>Ponašanje </a:t>
            </a: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odgojitelja</a:t>
            </a:r>
            <a:r>
              <a:rPr b="0" lang="pt-BR" sz="2400" spc="-1" strike="noStrike">
                <a:solidFill>
                  <a:srgbClr val="262673"/>
                </a:solidFill>
                <a:latin typeface="Arial"/>
              </a:rPr>
              <a:t> prema djetetu mogu jednim dijelom određivati osjećaji, ali i</a:t>
            </a: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profesionalni angažm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osjećaj vlastite vrijedn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unutarnja odgov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262673"/>
                </a:solidFill>
                <a:latin typeface="Arial"/>
              </a:rPr>
              <a:t>Kada odgojitelj uspijeva uskladiti osobne osjećaje, profesionalnu perspektivu i svoje izražavanje onda kažemo da govo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osobnim jezik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262673"/>
                </a:solidFill>
                <a:latin typeface="Arial"/>
              </a:rPr>
              <a:t>Osobnim jezikom odgojitelj ne analizira i ne procjenjuje nego se izraža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262673"/>
                </a:solidFill>
                <a:latin typeface="Arial"/>
              </a:rPr>
              <a:t>Ljuti me kad su igračke ovako razbacane. Želim da ih pospremite</a:t>
            </a:r>
            <a:r>
              <a:rPr b="0" lang="pt-BR" sz="2400" spc="-1" strike="noStrike">
                <a:solidFill>
                  <a:srgbClr val="262673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8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3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8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3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8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3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8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3" dur="500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62673"/>
                </a:solidFill>
                <a:latin typeface="Arial"/>
              </a:rPr>
              <a:t>Pozitivne kvalitete izražavanja tzv. osobnim jezikom u međuljudskoj komunikaciji</a:t>
            </a:r>
            <a:r>
              <a:rPr b="0" lang="hr-HR" sz="2800" spc="-1" strike="noStrike">
                <a:solidFill>
                  <a:srgbClr val="262673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62673"/>
                </a:solidFill>
                <a:latin typeface="Arial"/>
              </a:rPr>
              <a:t>govornik je prisutan u kontaktu i ja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62673"/>
                </a:solidFill>
                <a:latin typeface="Arial"/>
              </a:rPr>
              <a:t>osobni jezik povećava osjećaj vlastite vrijednosti govor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62673"/>
                </a:solidFill>
                <a:latin typeface="Arial"/>
              </a:rPr>
              <a:t>inspirira drugu stranu na osobno priznanje i reakciju, što opet povečava osjećaj vlastite vrije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62673"/>
                </a:solidFill>
                <a:latin typeface="Arial"/>
              </a:rPr>
              <a:t>nikad ne vrijeđa tuđe osjećaje i ne vrednuje želje i potrebe drug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6267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62673"/>
                </a:solidFill>
                <a:latin typeface="Arial"/>
              </a:rPr>
              <a:t>Djeca u vrtiću trebaju stručnu osobu, ali im je također vrijedno da upoznaju njezinu osobnu dimenziju kao dio njezine profesionalne ulo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"/>
          <p:cNvSpPr/>
          <p:nvPr/>
        </p:nvSpPr>
        <p:spPr>
          <a:xfrm>
            <a:off x="5724360" y="5877000"/>
            <a:ext cx="2880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0000"/>
                </a:solidFill>
                <a:latin typeface="Arial"/>
              </a:rPr>
              <a:t>Juul i Jensen (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0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5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0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5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0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5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Jesper Juul, (1995) Vaše kompetentno dijete, Educa, Zagr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artin Seligman (2005) Optimistično dijete, IEP – DZ, Zagr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Friedemann Schulz von Thun (2002) Kako međusobno razgovaramo 1, 2, 3. Erudita, Zagreb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sobito br. 2 Stilovi, vrijednosti i razvitak li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908000" y="5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Group 1" descr=""/>
          <p:cNvPicPr/>
          <p:nvPr/>
        </p:nvPicPr>
        <p:blipFill>
          <a:blip r:embed="rId1"/>
          <a:stretch/>
        </p:blipFill>
        <p:spPr>
          <a:xfrm>
            <a:off x="1182600" y="225360"/>
            <a:ext cx="6924600" cy="1182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82692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825480" y="1449360"/>
            <a:ext cx="3816360" cy="11080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Izražavam i zastupam se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4879800" y="1521000"/>
            <a:ext cx="3672000" cy="10540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Slušam i razumijem dr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2"/>
          <p:cNvSpPr/>
          <p:nvPr/>
        </p:nvSpPr>
        <p:spPr>
          <a:xfrm>
            <a:off x="852480" y="2927520"/>
            <a:ext cx="3527280" cy="2733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6b6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Izražavanje osjećaja i potr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Zauzimanje za s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Asertivno rješavanje suk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/>
          <p:cNvSpPr/>
          <p:nvPr/>
        </p:nvSpPr>
        <p:spPr>
          <a:xfrm>
            <a:off x="4932360" y="2889360"/>
            <a:ext cx="3672000" cy="2735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6b6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Učinkovito sluš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Empat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Komuniciranje ideja i konstruktivno rješavanje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Ravni poveznik sa strelicom 15"/>
          <p:cNvCxnSpPr/>
          <p:nvPr/>
        </p:nvCxnSpPr>
        <p:spPr>
          <a:xfrm>
            <a:off x="2615760" y="2595600"/>
            <a:ext cx="1080" cy="295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5" name="Ravni poveznik sa strelicom 18"/>
          <p:cNvCxnSpPr/>
          <p:nvPr/>
        </p:nvCxnSpPr>
        <p:spPr>
          <a:xfrm>
            <a:off x="6803640" y="2595600"/>
            <a:ext cx="1080" cy="295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66" name="Immagine 2" descr=""/>
          <p:cNvPicPr/>
          <p:nvPr/>
        </p:nvPicPr>
        <p:blipFill>
          <a:blip r:embed="rId2"/>
          <a:stretch/>
        </p:blipFill>
        <p:spPr>
          <a:xfrm>
            <a:off x="3724200" y="5829480"/>
            <a:ext cx="1839960" cy="102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600" spc="-1" strike="noStrike">
                <a:solidFill>
                  <a:srgbClr val="002060"/>
                </a:solidFill>
                <a:latin typeface="Arial"/>
              </a:rPr>
              <a:t>Biti asertiv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400" y="1484280"/>
            <a:ext cx="7315200" cy="46814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Znači ponašati se odlučno, ali ne i agresivno, znači uvažavanje, ali ne i submisivn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Dijete koje se zauzima za seb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jasno izražava svoje potr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daje povratnu informaciju o tuđem ponašanju koje ga sm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objašnjava razloge zbog kojih ga to ponašanje smeta i jasno izražava svoje zahtj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ako treba, ponavlja ih uporno više pu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152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600" spc="-1" strike="noStrike">
                <a:solidFill>
                  <a:srgbClr val="002060"/>
                </a:solidFill>
                <a:latin typeface="Arial"/>
              </a:rPr>
              <a:t>Vještina učinkovitog slušanj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14400" y="1413000"/>
            <a:ext cx="7315200" cy="47592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omogućava djetetu upoznati, razumjeti i prihvatiti drugu oso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dijete ovom vještinom ne može ovladati bez posebne vježbe jer učinkovito slušanje traži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usmjerenost na drugoga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, a ne na sebe - što u doba ranog djetinjstva i predškolsko doba najčešće nije djetetovo spontano ponaš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stoga je aktivno slušanje dobro kombinirati s izražavanjem sebe i osobnih preferencija tijekom različitih igara i aktiv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152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600" spc="-1" strike="noStrike">
                <a:solidFill>
                  <a:srgbClr val="002060"/>
                </a:solidFill>
                <a:latin typeface="Arial"/>
              </a:rPr>
              <a:t>Empat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14400" y="1052280"/>
            <a:ext cx="7315200" cy="51195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sposobnost</a:t>
            </a: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uživljavanja u emocionalna stanja druge osobe i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zumijevanje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 njenog položaja 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na osnovu percipirane ili zamišljene situacije u kojoj se ta osoba nalazi </a:t>
            </a: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(Raboteg-Šarić, 199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empatična osoba ulaže </a:t>
            </a: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svjestan napor 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da s nekim podijeli njegove osjećaje, kao i da točno razumije stanje u kojem je druga osoba, uključujući njene misli i osjećaje, kao i njihove uzr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simpatija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 predstavlja suosjećanje s drugom osobom koje se očituje u doživljavanju emocija sličnih emocijama te oso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600" spc="-1" strike="noStrike">
                <a:solidFill>
                  <a:srgbClr val="002060"/>
                </a:solidFill>
                <a:latin typeface="Arial"/>
              </a:rPr>
              <a:t>Učenje komuniciranja ide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14400" y="1268280"/>
            <a:ext cx="7315200" cy="4903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Komunikacija ne završava kada pošaljemo poruku i kada na nju odgovori onaj komu smo je uputili (Schulz von Thun, 2002). Naprotiv – ona tada počin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2060"/>
                </a:solidFill>
                <a:latin typeface="Arial"/>
              </a:rPr>
              <a:t>Komunikacija ideja nu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pozitivne mogućnosti razvoja svijesti o vlastitom doprin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zadovoljavanje potrebe za moći, odnosno važenjem </a:t>
            </a: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(Glasser,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2060"/>
                </a:solidFill>
                <a:latin typeface="Arial"/>
              </a:rPr>
              <a:t>To djeci potvrđuje da nisu bespomoćni i prepušteni tuđim idejama i tuđoj volj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8:31:02Z</dcterms:created>
  <dc:creator>YOUR NAME</dc:creator>
  <dc:description/>
  <dc:language>en-US</dc:language>
  <cp:lastModifiedBy>RH-TDU</cp:lastModifiedBy>
  <dcterms:modified xsi:type="dcterms:W3CDTF">2015-04-07T09:50:53Z</dcterms:modified>
  <cp:revision>60</cp:revision>
  <dc:subject/>
  <dc:title>Timski rad u vrtiću</dc:title>
</cp:coreProperties>
</file>