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688-E6E3-4FA3-A071-0D069F45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A88-7CF7-43C6-90D5-7433FC2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38F-16E5-4CCD-8BBD-B2A28693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3F7-C2B2-492B-9AD5-6B0A937E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A24-E8A7-43EA-AB4D-B9C08E7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38E-9793-4626-A213-CE576E32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B13-FEC6-4FD1-AFC1-655C8D9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0AB-16D6-4477-9ACD-75BF809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916-46BF-4B0D-98A7-C2AE5B1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5B7-5B79-4DDC-9917-E3A6DA5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D67-089D-4EE9-8A19-112D2F5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E1C-C3F4-4818-A366-17E1169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934-50C1-4850-BFBB-86180497D9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6048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Comic Sans MS"/>
              </a:rPr>
              <a:t>KAKO UNAPRIJEDITI PARTNERSTVO S RODITELJIMA ?</a:t>
            </a: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6021000"/>
            <a:ext cx="44956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ff"/>
                </a:solidFill>
                <a:latin typeface="Comic Sans MS"/>
              </a:rPr>
              <a:t>Dr.sc.Diana Nenadić-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ff"/>
                </a:solidFill>
                <a:latin typeface="Comic Sans MS"/>
              </a:rPr>
              <a:t>Sveučilište u Zad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hr-HR" sz="4400" spc="-1" strike="noStrike">
                <a:solidFill>
                  <a:srgbClr val="333399"/>
                </a:solidFill>
                <a:latin typeface="Comic Sans MS"/>
              </a:rPr>
              <a:t>PARTNERST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333399"/>
                </a:solidFill>
                <a:uFillTx/>
                <a:latin typeface="Comic Sans MS"/>
              </a:rPr>
              <a:t>Epstein, 2001.Oblici partnerst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Pružanje ili traženje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0099"/>
                </a:solidFill>
                <a:latin typeface="Comic Sans MS"/>
              </a:rPr>
              <a:t>Komunikacija roditelja i odgoj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Volontiranje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Pomoć roditeljima u obiteljskom odg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Comic Sans MS"/>
              </a:rPr>
              <a:t>Sudjelovanje roditelja u donošenju odl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f5f5f"/>
                </a:solidFill>
                <a:latin typeface="Comic Sans MS"/>
              </a:rPr>
              <a:t>Uključenost roditelja i odgojitelja u suradnju s lokalnom zajed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999"/>
                </a:solidFill>
                <a:latin typeface="Comic Sans MS"/>
              </a:rPr>
              <a:t>Zadatak br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99"/>
                </a:solidFill>
                <a:latin typeface="Comic Sans MS"/>
              </a:rPr>
              <a:t>Nabroji</a:t>
            </a:r>
            <a:r>
              <a:rPr b="1" lang="sr-Latn-CS" sz="3200" spc="-1" strike="noStrike">
                <a:solidFill>
                  <a:srgbClr val="990099"/>
                </a:solidFill>
                <a:latin typeface="Comic Sans MS"/>
              </a:rPr>
              <a:t>mo</a:t>
            </a:r>
            <a:r>
              <a:rPr b="1" lang="hr-HR" sz="3200" spc="-1" strike="noStrike">
                <a:solidFill>
                  <a:srgbClr val="990099"/>
                </a:solidFill>
                <a:latin typeface="Comic Sans MS"/>
              </a:rPr>
              <a:t> aktivnosti u svakom pojedinom obliku partnerstva roditelja i odgojitel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Comic Sans MS"/>
              </a:rPr>
              <a:t>1.Pružanje ili traženje informaci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Organiziranje predavanja ili radionica za roditelje na temu roditelj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Pružanje informacija roditeljima o djetetovom postignuću i ponaša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Odgojiteljevo traženje informacija od roditelja u svezi osobina, sposobnosti, interesa…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2. Komunikacija roditelja i odgojitel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Individualni razgovori roditelja i odgoj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Grupni roditeljski sast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Komunikacija putem telef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Komunikacija putem e-ma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Tjedno ili mjesečno slanje mape dj.radova na uvid roditeljima u svrhu pregleda ili komen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omic Sans MS"/>
              </a:rPr>
              <a:t>3.Volontiranje roditel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Aktivno sudjelovanje u radu predškolske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Uključivanje u humanitarne a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9999"/>
                </a:solidFill>
                <a:latin typeface="Comic Sans MS"/>
              </a:rPr>
              <a:t>4.Pomoć roditeljima u obiteljskom odgoj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Odgojitelji,pedagozi,psiholozi kao izvor informacija roditeljima u odabiru adekvatnih odgojnih strate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Odgojiteljeva pomoć roditeljima u odabiru različitih izvanvrtićkih radionica i programa za dij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cc6600"/>
                </a:solidFill>
                <a:latin typeface="Comic Sans MS"/>
              </a:rPr>
              <a:t>5.Sudjelovanje roditelja u donošenju odluk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znavanje predstavnika roditelja u upravnom vijeć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Uključenost roditelja u planiranje o.-o.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Uključenost roditelja u procese donošenja odluka u svezi s opremanjem prostora, nabavkom opreme, organizacijom radnog vremen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ticanje roditelja da kontaktiraju manje uključene roditelje kako bi se čule i njihove ideje i prijedlo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5f5f5f"/>
                </a:solidFill>
                <a:latin typeface="Comic Sans MS"/>
              </a:rPr>
              <a:t>6.Uključenost roditelja i odgojitelja u suradnju s lokalnom zajedni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ljučenost u programe i aktivnosti različitih ustanova i službi lokalne zajedn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uge predškolske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e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njiž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uze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tske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rkov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Koji oblici partnerstva su nazočni, a koji nedostaju u Vašoj praks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9999"/>
                </a:solidFill>
                <a:latin typeface="Comic Sans MS"/>
              </a:rPr>
              <a:t>Zadatak br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Navedimo prepreke (barijere) u ostvarivanju partnerskih odnos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hr-HR" sz="4400" spc="-1" strike="noStrike">
                <a:solidFill>
                  <a:srgbClr val="333399"/>
                </a:solidFill>
                <a:latin typeface="Comic Sans MS"/>
              </a:rPr>
              <a:t>PARTNERST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Dobrobiti partner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Preduvjeti partner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Oblici partner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Dosadašnja iskustva u partner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2" descr=""/>
          <p:cNvPicPr/>
          <p:nvPr/>
        </p:nvPicPr>
        <p:blipFill>
          <a:blip r:embed="rId1"/>
          <a:stretch/>
        </p:blipFill>
        <p:spPr>
          <a:xfrm>
            <a:off x="450720" y="615960"/>
            <a:ext cx="82425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Kojim zabludama robujemo kada je riječ o partnerstvu s roditelji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Roditelj kao klijent(a ne part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treba „pridobivanja i rada” s rodi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Generaliziranje (npr.roditelji s niskim primanjima su nezainteresira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Stavljanje naglaska na informiranje, umjesto građenje od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Uspješnost se procjenjuje  prema broju prisut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Zanemaruje se zadovoljenost roditeljskih potreba i oček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999"/>
                </a:solidFill>
                <a:latin typeface="Comic Sans MS"/>
              </a:rPr>
              <a:t>Zadatak br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a) Kako uključiti neuključe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b) Kako zainteresirati roditelje npr.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Comic Sans MS"/>
              </a:rPr>
              <a:t>kutić za roditelje</a:t>
            </a:r>
            <a:r>
              <a:rPr b="1" lang="hr-HR" sz="3600" spc="-1" strike="noStrike">
                <a:solidFill>
                  <a:srgbClr val="990099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 rot="19260000">
            <a:off x="-212400" y="43920"/>
            <a:ext cx="4383000" cy="262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3360000">
            <a:off x="4658760" y="1233360"/>
            <a:ext cx="4944960" cy="370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502000" y="1177920"/>
            <a:ext cx="31557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Individualno prilaziti svakom roditel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Izraziti o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sjećaj dobrodošlice i prihvaće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ravodobno odgovarati na potrebe roditelja, njihove brige i di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Roditelji se uključuju ako razumiju zašto trebaju biti uključeni; ako se osjećaju sposobnima doprinijeti; ako se osjećaju pozvanima sudjelov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Odrediti jasne i specifične ciljeve u partne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Comic Sans MS"/>
              </a:rPr>
              <a:t>Inovirati oblike partnerstva</a:t>
            </a: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e-mail komunikacija; facebook, web stranica ustano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Alumni klub (klub roditelja-bivših korisnika usluga dj.vrtić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roditelj-ment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roditelj-partner; roditelji za druge roditelj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uposliti tzv.obiteljskog koordinato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aktivirati roditeljski foru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uspostaviti partnerstvo s drugim članovima uže i šire obitelj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letak u kolovozu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kućne posje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kutija ide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spomenar; lutka gru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Dani otvorenih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Comic Sans MS"/>
              </a:rPr>
              <a:t>vra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PITANJA ZA SAMOREFLEKSI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Razumijem li roditelj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- Kako opisujem teško dostupnog roditel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Koliko mi roditelji pomažu biti boljom u svom zanima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Koliko mi roditelji pomažu biti boljim čovjek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cc00"/>
                </a:solidFill>
                <a:latin typeface="Comic Sans MS"/>
              </a:rPr>
              <a:t>NESAVRŠENOST </a:t>
            </a:r>
            <a:r>
              <a:rPr b="1" lang="sr-Latn-CS" sz="2400" spc="-1" strike="noStrike">
                <a:solidFill>
                  <a:srgbClr val="99cc00"/>
                </a:solidFill>
                <a:latin typeface="Comic Sans MS"/>
              </a:rPr>
              <a:t>NIJE NEGACIJA SAVRŠENSTVA. TO SE SAMO CJELINA ISKAZUJE U DIJELOVIM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3399"/>
                </a:solidFill>
                <a:latin typeface="Comic Sans MS"/>
              </a:rPr>
              <a:t>Hvala na suradnji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obrobi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450720" y="1547640"/>
            <a:ext cx="8242560" cy="461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5324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Comic Sans MS"/>
              </a:rPr>
              <a:t>Neki preduvjeti 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Comic Sans MS"/>
              </a:rPr>
              <a:t>(Roberts,20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78000" y="1547640"/>
            <a:ext cx="8394480" cy="46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363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Comic Sans MS"/>
              </a:rPr>
              <a:t>Oblici partnerst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U predškolskoj praksi se već realiziraju mnogi oblici surad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Kutići za rodit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Različite vrste sastanaka (individualni, skupni, komunikacijski, ogledni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Zajednička druženja (izleti,šetnj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Radio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Comic Sans MS"/>
              </a:rPr>
              <a:t>Humanitarne a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99"/>
                </a:solidFill>
                <a:latin typeface="Comic Sans MS"/>
              </a:rPr>
              <a:t>……………………</a:t>
            </a:r>
            <a:r>
              <a:rPr b="1" lang="hr-HR" sz="3200" spc="-1" strike="noStrike">
                <a:solidFill>
                  <a:srgbClr val="990099"/>
                </a:solidFill>
                <a:latin typeface="Comic Sans MS"/>
              </a:rPr>
              <a:t>.(dopunim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SUDJELOVANJE RODITELJA U DONOŠENJU  ODL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Znate li tko je roditelj predstavnik u upravnom vijeću predšk.ustanove?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  </a:t>
            </a: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Da18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;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Ne 298;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990099"/>
                </a:solidFill>
                <a:latin typeface="Comic Sans MS"/>
              </a:rPr>
              <a:t>Nisam zainteresiran/a 34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Jeste li uključeni u planiranje odg.-obraz.procesa te u proces donošenja odluka (organizacija radnog vremena,uređenje prostora,nabavka opreme.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Često 2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1" lang="hr-HR" sz="2800" spc="-1" strike="noStrike">
                <a:solidFill>
                  <a:srgbClr val="990099"/>
                </a:solidFill>
                <a:latin typeface="Comic Sans MS"/>
              </a:rPr>
              <a:t>Ponekad 34;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Nikada 3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Jeste li zamoljeni od strane djelatnika da kontaktirate roditelje koji su manje uključeni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kako bi se čule i njihove ide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9999"/>
                </a:solidFill>
                <a:latin typeface="Comic Sans MS"/>
              </a:rPr>
              <a:t>Često-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; </a:t>
            </a:r>
            <a:r>
              <a:rPr b="0" lang="hr-HR" sz="2800" spc="-1" strike="noStrike">
                <a:solidFill>
                  <a:srgbClr val="990099"/>
                </a:solidFill>
                <a:latin typeface="Comic Sans MS"/>
              </a:rPr>
              <a:t>Ponekad 12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;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Nikada3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VOLONTIRANJE RODITELJA U PREDŠKOLSKIM USTANOV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tiču li Vas djelatnici predšk.ustanove na volontiranje( u odg.-obraz.radu, uređenju vrtića, organizaciji predstava, izleta..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Da 128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;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Ne 222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stoji li u predšk.ustanovi soba za susrete s drugim roditeljima i odgojiteljima (dogovor oko zajedničkih akcija,razgovor o literaturi..)?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hr-HR" sz="2800" spc="-1" strike="noStrike">
                <a:solidFill>
                  <a:srgbClr val="009999"/>
                </a:solidFill>
                <a:latin typeface="Comic Sans MS"/>
              </a:rPr>
              <a:t>Da 30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;  </a:t>
            </a:r>
            <a:r>
              <a:rPr b="1" lang="hr-HR" sz="2800" spc="-1" strike="noStrike">
                <a:solidFill>
                  <a:srgbClr val="990099"/>
                </a:solidFill>
                <a:latin typeface="Comic Sans MS"/>
              </a:rPr>
              <a:t>Ne 1</a:t>
            </a:r>
            <a:r>
              <a:rPr b="1" lang="hr-HR" sz="2800" spc="-1" strike="noStrike">
                <a:solidFill>
                  <a:srgbClr val="333399"/>
                </a:solidFill>
                <a:latin typeface="Comic Sans MS"/>
              </a:rPr>
              <a:t>; 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Nije mi poznato 319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Arial"/>
              </a:rPr>
              <a:t>SVAKOG DANA PONESI KANTICU ZEMLJE NA JEDNO MJESTO I SAGRADIT ĆEŠ PLAN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Comic Sans MS"/>
              </a:rPr>
              <a:t>SURADNJA ili PARTNERSTV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artnerstvo je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Comic Sans MS"/>
              </a:rPr>
              <a:t>"difuzan koncept" 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koji uključuje širok spektar ideja kao što su jednakost, konsenzus, harmonija i zajednički tr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Ključni pojmovi koji određuju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artnerstvo (Dunst i Trivette,2010):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odnos(suradnja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hr-HR" sz="2800" spc="-1" strike="noStrike">
                <a:solidFill>
                  <a:srgbClr val="00b050"/>
                </a:solidFill>
                <a:latin typeface="Comic Sans MS"/>
              </a:rPr>
              <a:t>odgovornost(zajednička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hr-HR" sz="2800" spc="-1" strike="noStrike">
                <a:solidFill>
                  <a:srgbClr val="cc6600"/>
                </a:solidFill>
                <a:latin typeface="Comic Sans MS"/>
              </a:rPr>
              <a:t>zajednički cilj, </a:t>
            </a:r>
            <a:r>
              <a:rPr b="0" lang="hr-HR" sz="2800" spc="-1" strike="noStrike">
                <a:solidFill>
                  <a:srgbClr val="7030a0"/>
                </a:solidFill>
                <a:latin typeface="Comic Sans MS"/>
              </a:rPr>
              <a:t>distribucija moći (ravnopravnost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hr-HR" sz="2800" spc="-1" strike="noStrike">
                <a:solidFill>
                  <a:srgbClr val="00b0f0"/>
                </a:solidFill>
                <a:latin typeface="Comic Sans MS"/>
              </a:rPr>
              <a:t>kvalitetna komunikacij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hr-HR" sz="2800" spc="-1" strike="noStrike">
                <a:solidFill>
                  <a:srgbClr val="ffc000"/>
                </a:solidFill>
                <a:latin typeface="Comic Sans MS"/>
              </a:rPr>
              <a:t>energija (djelovan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549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99"/>
                </a:solidFill>
                <a:latin typeface="Comic Sans MS"/>
              </a:rPr>
              <a:t>Suradnj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povremena i “prigodničarsk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roditelji dolaze po poz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pomanjkanje inte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Comic Sans MS"/>
              </a:rPr>
              <a:t>hijerarhijska pozicionir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površna i nedovoljno otvorena komun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inicijativu ima usta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najčešće usmjerena prema informiranju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kalilic</cp:lastModifiedBy>
  <cp:lastPrinted>2015-04-08T10:09:22Z</cp:lastPrinted>
  <dcterms:modified xsi:type="dcterms:W3CDTF">2015-04-15T07:26:52Z</dcterms:modified>
  <cp:revision>553</cp:revision>
  <dc:subject/>
  <dc:title>Diapositiva 1</dc:title>
</cp:coreProperties>
</file>