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85F-61AA-4272-B469-31E86F4BBBF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BD8-8596-4BB2-A5DE-3D0CCC72A57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4F4C-FCAC-4F77-828E-201558B01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692E-3DC1-4E25-A4E3-DBBE2C63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25A2-0AE8-4EDD-B909-E84256706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663E-CE85-4271-809F-258B1E245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9DA8-A46F-421A-B778-F718C729F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DCC7-7F2D-4265-8664-EA347FF33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D45A-C495-4AFF-83B8-0FF3B09B5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2F18-52B3-4842-A531-CA7EAF7D6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B1B2-9050-48D5-A6C5-78BF319AF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A69E-916D-4D41-8DA9-20CF0073C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0F8F-AE97-4420-A939-5E0DDEFF9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F3AE-F39A-4841-93FD-987D969F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53B8-A51F-4ED0-AF32-F9AA42B89CD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EBF-8E8C-46AB-A7E2-BA090727D69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448920"/>
            <a:ext cx="914400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ULOGA ODGOJITELJA/ICE U PRIMJE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PRAVILNIKA O SADRŽAJU I TRAJANJU PROGRAMA PREDŠK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i="1" lang="hr-HR" sz="2800" spc="-1" strike="noStrike">
                <a:solidFill>
                  <a:srgbClr val="333399"/>
                </a:solidFill>
                <a:latin typeface="Monotype Corsiva"/>
              </a:rPr>
              <a:t>Marija Ivanković, prof. voditeljica Služ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za predškolski odgoj i obrazovanje Upr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za odgoj i obrazovanje u MZOS-u 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3399"/>
                </a:solidFill>
                <a:latin typeface="Monotype Corsiva"/>
              </a:rPr>
              <a:t>Zadar, 8. do 10. travnja 20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232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Monotype Corsiva"/>
              </a:rPr>
              <a:t>Članak 2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1)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Odgojitelji su obvezni u neposrednom odgojno-obrazovnom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radu s djetetom i skupinom djece provesti </a:t>
            </a:r>
            <a:r>
              <a:rPr b="1" lang="hr-HR" sz="4000" spc="-1" strike="noStrike">
                <a:solidFill>
                  <a:srgbClr val="c00000"/>
                </a:solidFill>
                <a:latin typeface="Monotype Corsiva"/>
              </a:rPr>
              <a:t>27,5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radnih sati tjedno, a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ostale poslove u sklopu satnice do punoga radnog vremena. (</a:t>
            </a:r>
            <a:r>
              <a:rPr b="1" lang="hr-HR" sz="4000" spc="-1" strike="noStrike">
                <a:solidFill>
                  <a:srgbClr val="c00000"/>
                </a:solidFill>
                <a:latin typeface="Monotype Corsiva"/>
              </a:rPr>
              <a:t>2,50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 sati stanke i </a:t>
            </a:r>
            <a:r>
              <a:rPr b="1" lang="hr-HR" sz="4000" spc="-1" strike="noStrike">
                <a:solidFill>
                  <a:srgbClr val="c00000"/>
                </a:solidFill>
                <a:latin typeface="Monotype Corsiva"/>
              </a:rPr>
              <a:t>10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sati tjedno) 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2) Ostali poslovi odgojitelja obuhvaćaju planiranje, programiranje i vrednovanje rada, pripremu prostora i poticaja, suradnju i savjetodavni rad s roditeljima i ostalima te poslove stručnog usavršavanj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1DA-D0F1-428E-9FF3-F63612D544C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160020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6) Ako je iskazana opravdana potreba za radom dječjeg vrtića s programom duljim od 10 sati dnevno, može se povećati broj odgojitelja prema potrebi programa uz suglasnost osnivača.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7) Ovisno o potrebama djece i roditelja te potrebi programa, </a:t>
            </a: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ustanova može uz suglasnost osnivača imati i veći broj odgojitelja u skupini od broja utvrđenog ovim Standar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1CD-6D85-4021-893A-755D428C220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6664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Akti kojima se uređuju prava, obveze i odgovornosti odgojitelja/ice u dječjem vrtić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740960"/>
            <a:ext cx="91440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Zakon o ustanov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Zakon o predškolskom odgoju i obrazov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Statut dječjeg vrt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Pravilnik o unutarnjem ustroju i sistematizaciji radnih mj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Državni pedagoški standard predškolskog odgoja i naobraz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Zakon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Monotype Corsiva"/>
              </a:rPr>
              <a:t>Konvencija o pravim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D1F-2F5A-4483-B792-D8C1ADA56E8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6094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Statut i drugi opći akti dječjeg vrtića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Članak 40. Zak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(1) Dječji vrtić ima statut i druge opće ak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(2) </a:t>
            </a: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Statutom dječjeg vrtića pobliže se uređuju ustrojstvo, ovlasti i način odlučivanja pojedinih tijela, vrste i trajanje pojedinih programa, uvjeti i način davanja usluga, radno vrijeme dječjeg vrtića, javnost rada te druga pitanja važna za obavljanje djelatnosti i poslovanja dječjeg vrti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(3) Pravilnikom o unutarnjem ustrojstvu i načinu rada dječjeg vrtića pobliže se uređuje unutarnje ustrojstvo te način obavljanja djelatnosti dječjeg vrtića kao javne služ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(4) Dječji vrtić ima i druge opće akte u skladu sa zakonom, aktom o osnivanju i statutom ustan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95C-7926-417B-8BD1-392D63BA076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6094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Članak 4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1) 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Statut dječjeg vrtića i pravilnik o unutarnjem ustrojstvu i načinu rada dječjeg vrtića kao javne službe donosi upravno vijeće uz prethodnu suglasnost osnivača dječjeg vrtić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2) Druge opće akte ustanove donosi upravno vijeće na način propisan aktom o osnivanju ili statu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Članak 4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1) Odredbe statuta i pravilnika o unutarnjem ustrojstvu i načinu rada dječjeg vrtića kojim se uređuje rad dječjeg vrtića u obavljanju djelatnosti kao javne službe moraju biti na pogodan način dostupne jav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2) 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Ravnatelj ustanove dužan je u roku od osam dana od dana donošenja dostaviti statut i pravilnik o unutarnjem ustrojstvu i načinu rada dječjeg vrtića kao javne službe,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 županijskom uredu, odnosno gradskom uredu Grada Zagreba nadležnom za poslove odgoja i obrazovan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613-B635-4B1F-86B6-91D35BAC42D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USTAV REPUBLIKE HRVATSKE 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pročišćeni tekst od 15. siječnja 2014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Članak 129.a  </a:t>
            </a:r>
            <a:r>
              <a:rPr b="0" lang="hr-HR" sz="1600" spc="-1" strike="noStrike">
                <a:solidFill>
                  <a:srgbClr val="333399"/>
                </a:solidFill>
                <a:latin typeface="Monotype Corsiva"/>
              </a:rPr>
              <a:t>(NN113/00, čl. 69. od 9. 11. 200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„ </a:t>
            </a:r>
            <a:r>
              <a:rPr b="0" lang="hr-HR" sz="2800" spc="-1" strike="noStrike">
                <a:solidFill>
                  <a:srgbClr val="c00000"/>
                </a:solidFill>
                <a:latin typeface="Monotype Corsiva"/>
              </a:rPr>
              <a:t>Jedinice lokalne samouprave 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obavljaju poslove iz lokalnog djelokruga kojima se neposredno ostvaruju potrebe građana … </a:t>
            </a:r>
            <a:r>
              <a:rPr b="0" lang="hr-HR" sz="2800" spc="-1" strike="noStrike">
                <a:solidFill>
                  <a:srgbClr val="c00000"/>
                </a:solidFill>
                <a:latin typeface="Monotype Corsiva"/>
              </a:rPr>
              <a:t>briga o djec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Monotype Corsiva"/>
              </a:rPr>
              <a:t>Jedinice područne (regionalne ) samouprave 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obavljaju poslove od područnog (regionalnog) značenja… </a:t>
            </a:r>
            <a:r>
              <a:rPr b="0" lang="hr-HR" sz="2800" spc="-1" strike="noStrike">
                <a:solidFill>
                  <a:srgbClr val="c00000"/>
                </a:solidFill>
                <a:latin typeface="Monotype Corsiva"/>
              </a:rPr>
              <a:t>planiraju  razvoj  mreže obrazovnih ustanov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35A-93DF-4FC3-83C0-90265E54CA6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770040"/>
            <a:ext cx="9144000" cy="58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886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ZAKONSKE OSNOVE PROGRAMA PRED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99"/>
                </a:solidFill>
                <a:latin typeface="Monotype Corsiva"/>
              </a:rPr>
              <a:t>Predškolu</a:t>
            </a: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 određuju član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6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ustroj predš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15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program predš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21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godišnji plan i program ustan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7.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23.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 i 23.a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tko, koja pravna osoba može ostvarivati program predškole i pod kojim uvjet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24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nositelji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29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stručno usavršava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40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statut dječjeg vrtić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- 48.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, 49.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i 50.</a:t>
            </a: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 (financiranje i sufinanciranje programa predškole - javna potreb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Zakona o predškolskom odgoju i </a:t>
            </a:r>
            <a:r>
              <a:rPr b="1" i="1" lang="hr-HR" sz="2400" spc="-1" strike="noStrike">
                <a:solidFill>
                  <a:srgbClr val="333399"/>
                </a:solidFill>
                <a:latin typeface="Monotype Corsiva"/>
              </a:rPr>
              <a:t>obrazovanju </a:t>
            </a:r>
            <a:r>
              <a:rPr b="0" i="1" lang="en-US" sz="2400" spc="-1" strike="noStrike">
                <a:solidFill>
                  <a:srgbClr val="333399"/>
                </a:solidFill>
                <a:latin typeface="Monotype Corsiva"/>
              </a:rPr>
              <a:t>(Narodne novine, broj 10/</a:t>
            </a:r>
            <a:r>
              <a:rPr b="0" i="1" lang="hr-HR" sz="2400" spc="-1" strike="noStrike">
                <a:solidFill>
                  <a:srgbClr val="333399"/>
                </a:solidFill>
                <a:latin typeface="Monotype Corsiva"/>
              </a:rPr>
              <a:t>19</a:t>
            </a:r>
            <a:r>
              <a:rPr b="0" i="1" lang="en-US" sz="2400" spc="-1" strike="noStrike">
                <a:solidFill>
                  <a:srgbClr val="333399"/>
                </a:solidFill>
                <a:latin typeface="Monotype Corsiva"/>
              </a:rPr>
              <a:t>97.</a:t>
            </a:r>
            <a:r>
              <a:rPr b="0" i="1" lang="hr-HR" sz="2400" spc="-1" strike="noStrike">
                <a:solidFill>
                  <a:srgbClr val="333399"/>
                </a:solidFill>
                <a:latin typeface="Monotype Corsiva"/>
              </a:rPr>
              <a:t> , 107/2007. i 94/2013.</a:t>
            </a:r>
            <a:r>
              <a:rPr b="0" i="1" lang="en-US" sz="2400" spc="-1" strike="noStrike">
                <a:solidFill>
                  <a:srgbClr val="333399"/>
                </a:solidFill>
                <a:latin typeface="Monotype Corsi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913-5219-4FE8-B617-D9E79EB6032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60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MREŽA DJEČJIH VRTIĆA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prvi uvjet uređenosti ranog i predškolskog sustav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Članak 14. Zakona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Samo je </a:t>
            </a:r>
            <a:r>
              <a:rPr b="1" lang="hr-HR" sz="3200" spc="-1" strike="noStrike">
                <a:solidFill>
                  <a:srgbClr val="333399"/>
                </a:solidFill>
                <a:latin typeface="Monotype Corsiva"/>
              </a:rPr>
              <a:t>12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 županija donijelo mrežu za svoje područje, stalno je dopunjavaju i razvijaju, </a:t>
            </a:r>
            <a:br>
              <a:rPr sz="3200"/>
            </a:b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a Grad Zagreb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D4BB-A67B-462F-A930-B5731ADDC7D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770040"/>
            <a:ext cx="93470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MJERILA ZA OSIGURAVANJE SREDSTAVA</a:t>
            </a:r>
            <a:br>
              <a:rPr sz="40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drugi uvjet uređenosti ranog i predškolskog s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Članak 49. Zak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Samo </a:t>
            </a: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14 županija 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je donijelo mjerila, a neki gradovi to </a:t>
            </a:r>
            <a:r>
              <a:rPr b="0" lang="hr-HR" sz="3600" spc="-1" strike="noStrike" u="sng">
                <a:solidFill>
                  <a:srgbClr val="333399"/>
                </a:solidFill>
                <a:uFillTx/>
                <a:latin typeface="Monotype Corsiva"/>
              </a:rPr>
              <a:t>nazivaju programima javnih potreba u predškolskom odgoju (Grad Zagreb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1C9-EAE7-4AC8-AF16-3D8E9B0EF57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Zakon o predškolskom odgoju i obrazovanju </a:t>
            </a:r>
            <a:br>
              <a:rPr sz="4000"/>
            </a:br>
            <a:r>
              <a:rPr b="0" i="1" lang="hr-HR" sz="3200" spc="-1" strike="noStrike">
                <a:solidFill>
                  <a:srgbClr val="333399"/>
                </a:solidFill>
                <a:latin typeface="Monotype Corsiva"/>
              </a:rPr>
              <a:t>(Narodne novine, broj 10/1997., 107/2007. i 94/201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26920"/>
            <a:ext cx="82296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Zakon o predškolskom odgoju i obrazovanju  je uredio  program predškole člancima  </a:t>
            </a: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15., 23.a, 48., 49. i 50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., a u skladu s odredbama članaka 16. do 20. Državnog pedagoškog standarda predškolskog odgoja i obraz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9E8-EE12-444D-83D0-BD2E5390270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5232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d2d8a"/>
                </a:solidFill>
                <a:latin typeface="Monotype Corsiva"/>
              </a:rPr>
              <a:t>POŽELJNE OSOBINE ODGOJITELJA/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95080"/>
            <a:ext cx="904248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d2d8a"/>
                </a:solidFill>
                <a:latin typeface="Monotype Corsiva"/>
              </a:rPr>
              <a:t>Cjelovita, stručna, odgovorna i dosljedna osoba predana djeci i zvanj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d2d8a"/>
                </a:solidFill>
                <a:latin typeface="Monotype Corsiva"/>
              </a:rPr>
              <a:t>Osoba koja zna voljeti (a to može ako je i sama voljena), koja razumije druge (djecu i roditelj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d2d8a"/>
                </a:solidFill>
                <a:latin typeface="Monotype Corsiva"/>
              </a:rPr>
              <a:t>Osoba spremna na pomoć, razumijevanje, akciju, strpljivost, produhovljena osoba koja ima identitet, samouvjerena osoba puna samopouzdanja,osoba koja se ne boji govoriti o onom što osjeća, nježna osoba, pažljiva, dobra, ljubazna, nasmiješena, osoba iz koje zrači duhovnost i kreativna oso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A2A-A967-4357-B3EA-37842B7548E0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256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1628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Članci 1., 2., i 16. – 2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Državnog pedagoškog standarda predškolskog odgoja i naobrazbe određuju program pred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(Narodne novine, broj 63/2008. i 90/2010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CBA3-9E60-4DCC-BF22-BD3B83814D6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22720" y="682560"/>
            <a:ext cx="9898200" cy="69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3300"/>
                </a:solidFill>
                <a:latin typeface="Monotype Corsiva"/>
                <a:ea typeface="Times New Roman"/>
              </a:rPr>
              <a:t>Zakon- uređuje ustroj</a:t>
            </a:r>
            <a:r>
              <a:rPr b="1" lang="hr-HR" sz="3600" spc="-1" strike="noStrike">
                <a:solidFill>
                  <a:srgbClr val="cc3300"/>
                </a:solidFill>
                <a:latin typeface="Monotype Corsiva"/>
              </a:rPr>
              <a:t> obveznog programa </a:t>
            </a:r>
            <a:r>
              <a:rPr b="1" lang="hr-HR" sz="3600" spc="-1" strike="noStrike">
                <a:solidFill>
                  <a:srgbClr val="cc3300"/>
                </a:solidFill>
                <a:latin typeface="Monotype Corsiva"/>
                <a:ea typeface="Times New Roman"/>
              </a:rPr>
              <a:t>predšk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(</a:t>
            </a:r>
            <a:r>
              <a:rPr b="0" lang="hr-HR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013. godine je stupio na snagu i ostaje do daljnjega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DPS - Program predškole je kraći program rada namijenjen djeci u godini dana prije upisa u osnovnu školu, koja nisu obuhvaćena redovitim programom predškolskog odgoja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0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ali članak </a:t>
            </a:r>
            <a:r>
              <a:rPr b="1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23 a. Zakona je promijenio definiciju predšk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333399"/>
                </a:solidFill>
                <a:uFillTx/>
                <a:latin typeface="Monotype Corsiva"/>
              </a:rPr>
              <a:t>	</a:t>
            </a:r>
            <a:r>
              <a:rPr b="1" lang="hr-HR" sz="3200" spc="-1" strike="noStrike" u="sng">
                <a:solidFill>
                  <a:srgbClr val="c00000"/>
                </a:solidFill>
                <a:uFillTx/>
                <a:latin typeface="Monotype Corsiva"/>
              </a:rPr>
              <a:t>Članak  23a.  Zakona - od ove pedagoške godine 2014./2015. program predškole je obvezan za svu djecu u godini dana prije polaska u osnovnu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53B-78F7-4941-94A4-D0078B1435B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42DA-FC0A-43A2-9AF2-3B2CF9C8626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520" y="1103040"/>
            <a:ext cx="892656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Predškola se provodi u kontinuitetu od 1. listopada do 31. svibnja</a:t>
            </a:r>
            <a:r>
              <a:rPr b="0" lang="hr-HR" sz="4400" spc="-1" strike="noStrike">
                <a:solidFill>
                  <a:srgbClr val="333399"/>
                </a:solidFill>
                <a:latin typeface="Monotype Corsiva"/>
              </a:rPr>
              <a:t>, ukupno: najmanje 250 sati godišnje</a:t>
            </a:r>
            <a:br>
              <a:rPr sz="4400"/>
            </a:br>
            <a:br>
              <a:rPr sz="4400"/>
            </a:br>
            <a:r>
              <a:rPr b="0" lang="hr-HR" sz="44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broj djece koja nisu u redovitim skupinama u odgojnoj skupini ne može biti veći od 20, a do 22 djece u redovitim mješovitim skupinama u dječjim vrtići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71600" y="696600"/>
            <a:ext cx="82296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PRAVILNIK O SADRŽAJU I TRAJANJU PROGRAMA PREDŠKOLE</a:t>
            </a:r>
            <a:br>
              <a:rPr sz="4000"/>
            </a:br>
            <a:r>
              <a:rPr b="0" i="1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i="1" lang="hr-HR" sz="3200" spc="-1" strike="noStrike">
                <a:solidFill>
                  <a:srgbClr val="333399"/>
                </a:solidFill>
                <a:latin typeface="Monotype Corsiva"/>
              </a:rPr>
              <a:t>Narodne novine, </a:t>
            </a:r>
            <a:r>
              <a:rPr b="1" i="1" lang="hr-HR" sz="3200" spc="-1" strike="noStrike">
                <a:solidFill>
                  <a:srgbClr val="333399"/>
                </a:solidFill>
                <a:latin typeface="Monotype Corsiva"/>
              </a:rPr>
              <a:t>broj 107/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br>
              <a:rPr sz="3200"/>
            </a:b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uređuje sve o predškoli, kompetencijama i područjima odgojno-obrazovnog rada s djeco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članak 5. Pravilnika o vrsti stručne spreme stručnih djelatnika te vrsti i stupnju stručne spreme ostalih djelatnika u dječjem vrtiću </a:t>
            </a:r>
            <a:r>
              <a:rPr b="0" i="1" lang="en-US" sz="3200" spc="-1" strike="noStrike">
                <a:solidFill>
                  <a:srgbClr val="333399"/>
                </a:solidFill>
                <a:latin typeface="Monotype Corsiva"/>
              </a:rPr>
              <a:t>(Narodne novine, broj 133/</a:t>
            </a:r>
            <a:r>
              <a:rPr b="0" i="1" lang="hr-HR" sz="3200" spc="-1" strike="noStrike">
                <a:solidFill>
                  <a:srgbClr val="333399"/>
                </a:solidFill>
                <a:latin typeface="Monotype Corsiva"/>
              </a:rPr>
              <a:t>19</a:t>
            </a:r>
            <a:r>
              <a:rPr b="0" i="1" lang="en-US" sz="3200" spc="-1" strike="noStrike">
                <a:solidFill>
                  <a:srgbClr val="333399"/>
                </a:solidFill>
                <a:latin typeface="Monotype Corsiva"/>
              </a:rPr>
              <a:t>97.)</a:t>
            </a: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-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160-929E-4326-BE83-5E0218A5A3B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novi Pravilnik (donošenje u tijeku) uređuje </a:t>
            </a: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odgovarajuću vrstu obrazovanja </a:t>
            </a: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– Zakon o reguliranim profesij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- </a:t>
            </a:r>
            <a:r>
              <a:rPr b="1" lang="hr-HR" sz="4000" spc="-1" strike="noStrike">
                <a:solidFill>
                  <a:srgbClr val="c00000"/>
                </a:solidFill>
                <a:latin typeface="Monotype Corsiva"/>
              </a:rPr>
              <a:t>odgojitelj i učitelj razredne nastave </a:t>
            </a:r>
            <a:r>
              <a:rPr b="0" lang="hr-HR" sz="4000" spc="-1" strike="noStrike">
                <a:solidFill>
                  <a:srgbClr val="c00000"/>
                </a:solidFill>
                <a:latin typeface="Monotype Corsiva"/>
              </a:rPr>
              <a:t>(ostaju i dalje, ali se novim Pravilnikom mijenja i određuje se </a:t>
            </a:r>
            <a:r>
              <a:rPr b="0" lang="hr-HR" sz="4000" spc="-1" strike="noStrike" u="sng">
                <a:solidFill>
                  <a:srgbClr val="c00000"/>
                </a:solidFill>
                <a:uFillTx/>
                <a:latin typeface="Monotype Corsiva"/>
              </a:rPr>
              <a:t>odgovarajuća vrsta </a:t>
            </a:r>
            <a:r>
              <a:rPr b="0" lang="hr-HR" sz="4000" spc="-1" strike="noStrike">
                <a:solidFill>
                  <a:srgbClr val="c00000"/>
                </a:solidFill>
                <a:latin typeface="Monotype Corsiva"/>
              </a:rPr>
              <a:t>prema HKO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FA6F-1641-4961-B6DF-0DA77AFCF95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A NI 17 GODINA NAKO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9840" y="1916280"/>
            <a:ext cx="888228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Članak 14.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 (samo 12 županija ima mrežu dječjih vrtić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Članak 49.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 (samo 14 županija ima mjerila za sufinanciranje dječjih vrtić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Članak  58.</a:t>
            </a:r>
            <a:r>
              <a:rPr b="1" lang="hr-HR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velik broj vrtića ne usklađuje svoje interne dokumente sa Zakonom, Standardom  i ostalim donesenim ak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0F75-30D0-4DD4-80D2-1BBF15C5A01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5420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POVEZANOST VRTIĆA I ŠKOLE U INTERESU DJETETA -</a:t>
            </a:r>
            <a:br>
              <a:rPr sz="2800"/>
            </a:br>
            <a:r>
              <a:rPr b="1" lang="hr-HR" sz="2800" spc="-1" strike="noStrike">
                <a:solidFill>
                  <a:srgbClr val="9900cc"/>
                </a:solidFill>
                <a:latin typeface="Monotype Corsiva"/>
              </a:rPr>
              <a:t>KAKAV VRTIĆ I ŠKOLU ŽELI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39440"/>
            <a:ext cx="91440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00"/>
                </a:solidFill>
                <a:latin typeface="Monotype Corsiva"/>
              </a:rPr>
              <a:t>Vrtić/škola po mjeri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cc00"/>
                </a:solidFill>
                <a:latin typeface="Monotype Corsiva"/>
              </a:rPr>
              <a:t>Vrtić/škola bez pri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Osnaživanje unutarnje snage i kulture vrtića/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00"/>
                </a:solidFill>
                <a:latin typeface="Monotype Corsiva"/>
              </a:rPr>
              <a:t>Timska suradnja i učenje, partnerstvo s roditeljima i lokalnom zajed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Stvaranje kvalitetnog vrtića za cjelovit razvoj djece rane (ECCE) i predškolske dobi (ISCED 0) i kvalitetne osnovne škole za ISCED 1 i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B17-FA98-4EB8-86E6-96D5446A037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238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PRAVILNIK - PROGRAM PREDŠKOLE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0" i="1" lang="hr-HR" sz="3600" spc="-1" strike="noStrike">
                <a:solidFill>
                  <a:srgbClr val="333399"/>
                </a:solidFill>
                <a:latin typeface="Monotype Corsiva"/>
              </a:rPr>
              <a:t>Narodne novine, broj 107/2014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4000" y="2278080"/>
            <a:ext cx="888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Sadržaj, programske zadaće i organizacija provedbe programa predškole moraju omogućavati zadovoljavanje svih </a:t>
            </a:r>
            <a:r>
              <a:rPr b="1" lang="hr-HR" sz="3200" spc="-1" strike="noStrike" u="sng">
                <a:solidFill>
                  <a:srgbClr val="333399"/>
                </a:solidFill>
                <a:uFillTx/>
                <a:latin typeface="Monotype Corsiva"/>
              </a:rPr>
              <a:t>djetetovih potreba, a posebno njegovih potreba za sigurnošću, pripadnošću, ljubavlju, samopoštovanjem i poštovanjem drugih osoba te potrebe za samoostvarenjem njegovih osobnih potenc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501-E6CA-4EE6-B647-BD34BB0C741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333399"/>
                </a:solidFill>
                <a:uFillTx/>
                <a:latin typeface="Monotype Corsiva"/>
              </a:rPr>
              <a:t>Osnovna zadaća programa predškole je razvijanje i unaprjeđivanje tjelesnih, emocionalnih, socijalnih i spoznajnih potencijala djeteta te poticanje komunikacijskih vještina potrebnih za nove oblike učen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EE9-24EF-478C-AFB2-EFD7450394E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60560" y="928800"/>
            <a:ext cx="93042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Kompetencije koje dijete u godini dana prije polaska u osnovnu školu treba steći i/ili unaprijediti odnose se na </a:t>
            </a:r>
            <a:r>
              <a:rPr b="1" lang="hr-HR" sz="3600" spc="-1" strike="noStrike" u="sng">
                <a:solidFill>
                  <a:srgbClr val="333399"/>
                </a:solidFill>
                <a:uFillTx/>
                <a:latin typeface="Monotype Corsiva"/>
              </a:rPr>
              <a:t>komunikaciju na materinskom jeziku, elementarnu komunikaciju na stranim jezicima, matematičke kompetencije i osnovne kompetencije u prirodoslovlju i tehnologiji, digitalne kompetencije, učiti kako učiti, socijalne i građanske kompetencije, inicijativnost i poduzetništvo, kulturnu svijest i izražavanje te motoričke kompetencije primjerene dob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A64D-9423-4629-A194-9B02BA53145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23520"/>
            <a:ext cx="9144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d2d8a"/>
                </a:solidFill>
                <a:latin typeface="Monotype Corsiva"/>
              </a:rPr>
              <a:t>KOMPETENTAN ODGOJITELJ/ICA – POTREBA SUVREMENOG D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741320"/>
            <a:ext cx="91440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Redovito škol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Stručno usavršavanje, cjeloživotno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Težnja za promjenama koje nameće suvremeni način života i općeg napret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Život u stva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Profesionalizam i osobna izgrađ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Imati na umu da roditeljski dom kao i dječji vrtić mora biti po mjeri djeteta, odnosno mjesto svakodnevnih sus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Činiti djeci i drugim roditeljima samo ono što biste željeli da i oni vama uč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d2d8a"/>
                </a:solidFill>
                <a:latin typeface="Monotype Corsiva"/>
              </a:rPr>
              <a:t>Svakodnevna uporaba literature, interneta i praćenje časopisa za djecu i odras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F556-9AC9-4D78-8943-432A25D7A35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160560" y="899640"/>
            <a:ext cx="9304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c00000"/>
                </a:solidFill>
                <a:uFillTx/>
                <a:latin typeface="Monotype Corsiva"/>
              </a:rPr>
              <a:t>Osobni potencijal i cjeloviti razvoj svakog djeteta 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odnosi se na njegove tjelesne, emocionalne, socijalne, komunikacijske, stvaralačke i spoznajne mogućnosti i zrelosti koje u toj dobi treba poticati da bi dosegnule svoj optimalni razvoj i to ne samo utjecajima u obiteljskom okruženju, nego i preko djetetova interaktivnog odnosa s njegovim vršnjacima, odgojiteljima i drugim stručnjacima te neposrednom prirodnom i društvenom okolin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466F-EC7D-45D5-AE27-7FCB5239D16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1509480"/>
            <a:ext cx="9144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Dječji vrtić/osnovna škola i druga ustanova koja provodi program predškole </a:t>
            </a:r>
            <a:r>
              <a:rPr b="1" lang="hr-HR" sz="3600" spc="-1" strike="noStrike" u="sng">
                <a:solidFill>
                  <a:srgbClr val="c00000"/>
                </a:solidFill>
                <a:uFillTx/>
                <a:latin typeface="Monotype Corsiva"/>
              </a:rPr>
              <a:t>obvezna je surađivati s roditeljima djece u godini dana prije polaska u školu, ustanovama i pojedincima koji mogu sudjelovati u odgoju i obrazovanju te skrbi za djecu u godini dana prije polaska u osnovnu školu te pridonijeti kvaliteti programa predško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32A-0A75-4F07-8A49-7C68A03363D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FINANCIR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116280" y="1103040"/>
            <a:ext cx="92883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Ministarstvo znanosti, obrazovanja i sporta je u državnom proračunu za svu djecu uključenu u Program predškole od 2014./2015. godine osiguralo po 20 kuna mjesečno tijekom razdoblja od 1. listopada do 1. lipnja (</a:t>
            </a: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osam mjeseci godišnje za 41 586 djece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)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Jedinice lokalne i područne samouprave također osiguravaju sredstva za provedbu programa predškole (556 općina i gradova i 20 županija u RH + Grad Zagr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Grad Zagreb je i do sada osiguravao sredstva za provedbu programa predškole </a:t>
            </a:r>
            <a:r>
              <a:rPr b="1" i="1" lang="hr-HR" sz="2800" spc="-1" strike="noStrike">
                <a:solidFill>
                  <a:srgbClr val="c00000"/>
                </a:solidFill>
                <a:latin typeface="Monotype Corsiva"/>
              </a:rPr>
              <a:t>što treba istaknuti kao vrijednost</a:t>
            </a:r>
            <a:r>
              <a:rPr b="0" lang="hr-HR" sz="2800" spc="-1" strike="noStrike">
                <a:solidFill>
                  <a:srgbClr val="c00000"/>
                </a:solidFill>
                <a:latin typeface="Monotype Corsiva"/>
              </a:rPr>
              <a:t>,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 a očekujemo da će osiguravati i u buduće ostatak sredstava za program predškole za svu djecu u godini dana prije polaska u osnovnu školu s njegova područ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28BB-C7D9-4133-9C73-08A57BC5C42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Monotype Corsiva"/>
              </a:rPr>
              <a:t>A KAKAV VRTIĆ ŽELIMO SUTR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Priopćenje Komisije o Ranom obrazovanju i brizi za djecu: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Osigurati svoj djeci najbolji početak za budućnost </a:t>
            </a:r>
            <a:r>
              <a:rPr b="1" lang="hr-HR" sz="2400" spc="-1" strike="noStrike">
                <a:solidFill>
                  <a:srgbClr val="0070c0"/>
                </a:solidFill>
                <a:latin typeface="Monotype Corsiva"/>
              </a:rPr>
              <a:t>(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Objavljeno: 17.02.20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Ovim priopćenjem EK želi doseći dva najvažnija cilja Europe za 2020.:</a:t>
            </a: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1. Smanjiti prestanak školovanja ispod 10% i pomoći barem 20 milijuna ljudi koji su siromašni i socijalno ugrož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Usprkos ciljevima iz Barcelone (33%), uključenost djece od 0-3 godine je manja od 10% u većini EU zemalja. Ipak, drugi „benchmark“ (90% uključenosti u dobi od treće godine do polaska u školu) je postignut u 2/3 zema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2.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Novi EU „benchmark“ za strategiju EU 2020 je 95%  uključenosti  djece od navršene treće godine života do polaska u osnovnu ško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200-10F6-4892-8123-E37424D4CFF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449280"/>
            <a:ext cx="9144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Priopćenjem se nastoji pokrenuti proces suradnje između zemalja članica koja će osigurati uključenost sve djece u ECEC kao i podizanja njegove kvalitete. Ova suradnja će se ustrojiti putem otvorene suradnje. Komisija će zatražiti zemlje članice da posebnu pozornost pridaju ECEC u svojim nacionalnim programima reformi.</a:t>
            </a:r>
            <a:br>
              <a:rPr sz="2800"/>
            </a:b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 </a:t>
            </a:r>
            <a:br>
              <a:rPr sz="2800"/>
            </a:br>
            <a:r>
              <a:rPr b="0" lang="hr-HR" sz="2800" spc="-1" strike="noStrike">
                <a:solidFill>
                  <a:srgbClr val="cc3300"/>
                </a:solidFill>
                <a:latin typeface="Monotype Corsiva"/>
              </a:rPr>
              <a:t>Politička odluka naglašava važnost </a:t>
            </a:r>
            <a:r>
              <a:rPr b="1" lang="hr-HR" sz="2800" spc="-1" strike="noStrike">
                <a:solidFill>
                  <a:srgbClr val="cc3300"/>
                </a:solidFill>
                <a:latin typeface="Monotype Corsiva"/>
              </a:rPr>
              <a:t>financiranja, kurikuluma i kompetencija radnika</a:t>
            </a:r>
            <a:r>
              <a:rPr b="0" lang="hr-HR" sz="2800" spc="-1" strike="noStrike">
                <a:solidFill>
                  <a:srgbClr val="cc3300"/>
                </a:solidFill>
                <a:latin typeface="Monotype Corsiva"/>
              </a:rPr>
              <a:t>. 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Odluka također ističe kako je visoka razina kvalitete ECEC učinkovito sredstvo u borbi protiv socio-ekonomskih neprilika (</a:t>
            </a:r>
            <a:r>
              <a:rPr b="1" lang="hr-HR" sz="2800" spc="-1" strike="noStrike">
                <a:solidFill>
                  <a:srgbClr val="333399"/>
                </a:solidFill>
                <a:latin typeface="Monotype Corsiva"/>
              </a:rPr>
              <a:t>socijalne isključenosti Roma</a:t>
            </a:r>
            <a:r>
              <a:rPr b="0" lang="hr-HR" sz="2800" spc="-1" strike="noStrike">
                <a:solidFill>
                  <a:srgbClr val="333399"/>
                </a:solidFill>
                <a:latin typeface="Monotype Corsiva"/>
              </a:rPr>
              <a:t>, manjina, migranta, invalida, siromašnih). Također, Komisija ističe kako se ECEC mora povezivati s inicijativama u drugim političkim područjima kao sveobuhvatna strategija (zapošljavanje, udomljavanje, zdravlje itd…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AB32-2670-46A6-91B0-5838D7B729B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725400"/>
            <a:ext cx="9462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c00000"/>
                </a:solidFill>
                <a:uFillTx/>
                <a:latin typeface="Monotype Corsiva"/>
              </a:rPr>
              <a:t>Financiranje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 </a:t>
            </a:r>
            <a:br>
              <a:rPr sz="2400"/>
            </a:b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Politika EK naglašava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povećanje investiranja u ECEC, a manje u druge obrazovne sektore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:</a:t>
            </a: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Priopćenje ističe kako povećano investiranje u ECEC nego u kasnije razine obrazovanja, poboljšava omjer troška/dobiti.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hr-HR" sz="2400" spc="-1" strike="noStrike" u="sng">
                <a:solidFill>
                  <a:srgbClr val="c00000"/>
                </a:solidFill>
                <a:uFillTx/>
                <a:latin typeface="Monotype Corsiva"/>
              </a:rPr>
              <a:t>Razvoj kurikuluma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 </a:t>
            </a:r>
            <a:br>
              <a:rPr sz="2400"/>
            </a:b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Kako bi se postigla veća kvaliteta obrazovanja i priprema djece za školu, usredotočujući se na sve njihove kognitivne, emocionalne, socijalne i fizičke potrebe, Komisija izričito preporuča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integraciju usluga brige o djeci (0-3) i predškolskog obrazovanja (od 3 godine do polaska u školu).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Predlaže se razvoj kurikuluma uzimajući rečeno u obzir kao i ravnotežu između kognitivnih i ne-kognitivnih elemenata. Mehanizmi osiguranja kvalitete koji se zasnivaju na pedagoškom okviru trebali bi obuhvatiti čitavo razdoblje od 0. godine do polaska u škol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2A57-6AA9-4DEF-9254-238CF3831A7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72540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c00000"/>
                </a:solidFill>
                <a:uFillTx/>
                <a:latin typeface="Monotype Corsiva"/>
              </a:rPr>
              <a:t>Kadrovi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 </a:t>
            </a:r>
            <a:br>
              <a:rPr sz="2400"/>
            </a:b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U priopćenju se izražava žaljenje zbog neravnoteže spolova uključenih u ECEC kao i zbog činjenice da skrb i njegu provode slabije kvalificirani kadrovi.- Kako bi privukla kadrove (uključujući više muškaraca) te osigurala visoku kvalitetu ECEC, ističe se potreba za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visokim obrazovanjem kadrova, višim plaćama, boljim radnim uvjetima i kontinuiranim pedagoškim i profesionalnim usavršavanjem.</a:t>
            </a:r>
            <a:br>
              <a:rPr sz="2400"/>
            </a:b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U zaključku</a:t>
            </a:r>
            <a:r>
              <a:rPr b="1" lang="hr-HR" sz="24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EK poziva zemlje članice na izradu „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učinkovitih modela financiranja i pravedne ravnoteže javnog i privatnog ulaganja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“; omogućiti pristup svima, razviti „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politike koje će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privući, obrazovati i zadržati prikladno kvalificiran kadar u ECEC</a:t>
            </a:r>
            <a:r>
              <a:rPr b="1" lang="hr-HR" sz="2400" spc="-1" strike="noStrike">
                <a:solidFill>
                  <a:srgbClr val="0070c0"/>
                </a:solidFill>
                <a:latin typeface="Monotype Corsiva"/>
              </a:rPr>
              <a:t>“; 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integrirati skrb i obrazovanje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; poboljšati ravnotežu spolne uključenosti; osigurati kvalitetu uključujući različite dionike. </a:t>
            </a:r>
            <a:br>
              <a:rPr sz="2400"/>
            </a:b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Istovremeno Komisija potiče države članice da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više ulažu u ECEC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uglavnom na usavršavanje kadrova i bolju infrastrukturu) putem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Strukturnih fondova i </a:t>
            </a:r>
            <a:r>
              <a:rPr b="0" lang="hr-HR" sz="2400" spc="-1" strike="noStrike">
                <a:solidFill>
                  <a:srgbClr val="c00000"/>
                </a:solidFill>
                <a:latin typeface="Monotype Corsiva"/>
              </a:rPr>
              <a:t>da </a:t>
            </a:r>
            <a:r>
              <a:rPr b="1" lang="hr-HR" sz="2400" spc="-1" strike="noStrike">
                <a:solidFill>
                  <a:srgbClr val="c00000"/>
                </a:solidFill>
                <a:latin typeface="Monotype Corsiva"/>
              </a:rPr>
              <a:t>razvijaju projekte i mreže u sklopu programa</a:t>
            </a:r>
            <a:r>
              <a:rPr b="0" lang="hr-HR" sz="24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EU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5D4-A738-45BE-B864-6A2B1F14944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56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Monotype Corsiva"/>
              </a:rPr>
              <a:t>REPUBLIKA HRVATSK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Ima zakonski sve uređeno još od 1997. godine što EU traži tek sada od drugih članica Europske unije (do 2020.), </a:t>
            </a:r>
            <a:r>
              <a:rPr b="1" lang="hr-HR" sz="3200" spc="-1" strike="noStrike">
                <a:solidFill>
                  <a:srgbClr val="c00000"/>
                </a:solidFill>
                <a:latin typeface="Monotype Corsiva"/>
              </a:rPr>
              <a:t>samo treba osnivače osvijestiti o važnosti poštivanja propisa koje je donio Hrvatski sabor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(više od 90% poštuju propise, ali 3-4% većih gradova ne žele, iako financijski mogu poštivati propise, oni imaju svoja mjerila kao Grad Zagre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DD2-0DB9-41AE-B10D-CD1C4BC55C6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Monotype Corsiva"/>
              </a:rPr>
              <a:t>VAŽ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Nacionalni okvirni kurikulum za predškolski odgoj i obrazovanje te opće obvezno i srednjoškolsko obrazovanje (srpanj 20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Strategija obrazovanja, znanosti i tehnologije (listopad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Nacionalni  kurikulum ranog i predškolskog odgoja i obrazovanja (siječanj 2015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Kurikuralna reforma u tijek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0903-3CCC-4C96-B511-FB69AF856D0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-101880" y="711000"/>
            <a:ext cx="938988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Uvođenjem obveznog programa predškole </a:t>
            </a: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hrvatski školski sustav od 2014./2015. pedagoške, odnosno školske godine počeo je s provedbom </a:t>
            </a:r>
            <a:r>
              <a:rPr b="1" lang="hr-HR" sz="4000" spc="-1" strike="noStrike">
                <a:solidFill>
                  <a:srgbClr val="333399"/>
                </a:solidFill>
                <a:latin typeface="Monotype Corsiva"/>
              </a:rPr>
              <a:t>devetogodišnjeg obveznog obrazovanja djece od šest do 15 godina,</a:t>
            </a: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 što je veliki doprinos kvaliteti odgoja i obrazovanja u Republici Hrvatskoj, a  time smo mi predškolsci u potpunosti započeli provedbu Strategije obrazovanja, znanosti i tehnologije (listopad 2014.), a dalje možemo samo zajedništv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501-C7D6-4075-843F-49908B479B6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66780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d2d8a"/>
                </a:solidFill>
                <a:latin typeface="Monotype Corsiva"/>
              </a:rPr>
              <a:t>ODGOJITELJI - VI STE PORUK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d2d8a"/>
                </a:solidFill>
                <a:latin typeface="Monotype Corsiva"/>
              </a:rPr>
              <a:t>U svom govoru uvijek morate biti dosljedni – </a:t>
            </a:r>
            <a:r>
              <a:rPr b="1" lang="hr-HR" sz="3600" spc="-1" strike="noStrike">
                <a:solidFill>
                  <a:srgbClr val="2d2d8a"/>
                </a:solidFill>
                <a:latin typeface="Monotype Corsiva"/>
              </a:rPr>
              <a:t>govoriti iz sr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2d2d8a"/>
                </a:solidFill>
                <a:latin typeface="Monotype Corsiva"/>
              </a:rPr>
              <a:t>Ljudi mogu ostvariti istinski kontakt s drugim ljudima samo na ljudskoj, osobnoj razini</a:t>
            </a:r>
            <a:r>
              <a:rPr b="0" lang="hr-HR" sz="3200" spc="-1" strike="noStrike">
                <a:solidFill>
                  <a:srgbClr val="2d2d8a"/>
                </a:solidFill>
                <a:latin typeface="Monotype Corsiva"/>
              </a:rPr>
              <a:t> – to se odnosi na s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0" lang="hr-HR" sz="2000" spc="-1" strike="noStrike">
                <a:solidFill>
                  <a:srgbClr val="2d2d8a"/>
                </a:solidFill>
                <a:latin typeface="Monotype Corsiva"/>
              </a:rPr>
              <a:t>(od predsjedničkih kandidata do članova obitelji tijekom razgovora uz ruča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d2d8a"/>
                </a:solidFill>
                <a:latin typeface="Monotype Corsiva"/>
              </a:rPr>
              <a:t>Iako to zvuči jednostavno i samo po sebi razumljivo, ali treba znati kako većina ljudi provede cijeli život nastojeći </a:t>
            </a:r>
            <a:r>
              <a:rPr b="1" i="1" lang="hr-HR" sz="3200" spc="-1" strike="noStrike">
                <a:solidFill>
                  <a:srgbClr val="2d2d8a"/>
                </a:solidFill>
                <a:latin typeface="Monotype Corsiva"/>
              </a:rPr>
              <a:t>preslikavati i oponašati druge</a:t>
            </a:r>
            <a:r>
              <a:rPr b="0" lang="hr-HR" sz="3200" spc="-1" strike="noStrike">
                <a:solidFill>
                  <a:srgbClr val="2d2d8a"/>
                </a:solidFill>
                <a:latin typeface="Monotype Corsiva"/>
              </a:rPr>
              <a:t>, govoreći ono što mislimo da bismo trebali govoriti, prikrivajući ono što zaista osjećamo, gubeći se u labirintu tehnoloških izuma i skrivajući se iza atraktivnih mogućnosti visoke tehnolog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2d2d8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E56-4B9B-433C-97D3-B3B86BC7E4B0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552-658C-4F07-996F-ED43D7B1DC2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54240" y="1268280"/>
            <a:ext cx="59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http://www.</a:t>
            </a:r>
            <a:r>
              <a:rPr b="1" lang="hr-HR" sz="4400" spc="-1" strike="noStrike">
                <a:solidFill>
                  <a:srgbClr val="333399"/>
                </a:solidFill>
                <a:latin typeface="Monotype Corsiva"/>
              </a:rPr>
              <a:t>mzos</a:t>
            </a: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.h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19040" y="1989000"/>
            <a:ext cx="794376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telefon</a:t>
            </a: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:</a:t>
            </a: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+385 (1) </a:t>
            </a: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4569 023; </a:t>
            </a: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4594 44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fa</a:t>
            </a: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ks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: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+385 (1) </a:t>
            </a: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4594 2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e-</a:t>
            </a: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pošta</a:t>
            </a: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:</a:t>
            </a:r>
            <a:r>
              <a:rPr b="1" lang="hr-HR" sz="3600" spc="-1" strike="noStrike">
                <a:solidFill>
                  <a:srgbClr val="c00000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hr-HR" sz="3600" spc="-1" strike="noStrike" u="sng">
                <a:solidFill>
                  <a:srgbClr val="c00000"/>
                </a:solidFill>
                <a:uFillTx/>
                <a:latin typeface="Monotype Corsiva"/>
              </a:rPr>
              <a:t>mivankov@mzos.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Monotype Corsiva"/>
              </a:rPr>
              <a:t>Donje Svetice 38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, 10000 Zagr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0505334i"/>
          <p:cNvPicPr/>
          <p:nvPr/>
        </p:nvPicPr>
        <p:blipFill>
          <a:blip r:embed="rId1"/>
          <a:stretch/>
        </p:blipFill>
        <p:spPr>
          <a:xfrm>
            <a:off x="7029360" y="498312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Monotype Corsiva"/>
              </a:rPr>
              <a:t>Uloga odgojitelja/ice u dječjem vrtić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5382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Monotype Corsiva"/>
              </a:rPr>
              <a:t>Članak 25. DPS-a </a:t>
            </a:r>
            <a:r>
              <a:rPr b="0" lang="hr-HR" sz="2400" spc="-1" strike="noStrike">
                <a:solidFill>
                  <a:srgbClr val="333399"/>
                </a:solidFill>
                <a:latin typeface="Monotype Corsiva"/>
              </a:rPr>
              <a:t>(NN 63/2008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1) Broj potrebnih radnika u dječjem vrtiću utvrđuje se ovisno </a:t>
            </a: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o broju odgojno-obrazovnih skupina, trajanju i vrsti programa te uvjetima rada u skladu s ovim Standardom.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2) </a:t>
            </a: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Odgojitelji, 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stručni suradnici i ravnatelji imaju </a:t>
            </a: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obvezu trajnoga profesionalnog usavršavanja sukladno planu i programu koji donosi ministar nadležan za obrazovanje. AZ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D306-5F42-4588-9316-8B50F384313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7254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3399"/>
                </a:solidFill>
                <a:latin typeface="Monotype Corsiva"/>
              </a:rPr>
              <a:t>Odgojitelji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Članak 2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(1) </a:t>
            </a: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U dječjem vrtiću neposredne zadaće odgoja i naobrazbe predškolske djece od navršenih šest mjeseci do polaska u osnovnu školu provode odgojitelji</a:t>
            </a:r>
            <a:r>
              <a:rPr b="0" lang="hr-HR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9D1-B52E-4DA5-9218-2E39AF8665E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360" y="1044360"/>
            <a:ext cx="9304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2)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Odgojitelj je stručno osposobljena osoba koja provodi odgojno-obrazovni program rada s djecom predškolske dobi i stručno promišlja odgojno-obrazovni proces u svojoj odgojno-obrazovnoj skupini. On pravodobno planira, programira i vrednuje odgojno-obrazovni rad u dogovorenim razdobljima. Prikuplja, izrađuje i održava sredstva za rad s djecom te vodi brigu o estetskom i funkcionalnom uređenju prostora za izvođenje različitih aktivnosti. Radi na zadovoljenju svakidašnjih potreba djece i njihovih razvojnih zadaća te potiče razvoj svakoga djeteta prema njegovim sposobnost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7C11-3DEE-4C64-86F2-F076254C7CC0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46240" y="1320480"/>
            <a:ext cx="8897760" cy="58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Vodi dokumentaciju o djeci i radu te zadovoljava stručne zahtjeve u organizaciji i unapređenju odgojno-obrazovnog proces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Surađuje s roditeljima, stručnjacima  i stručnim timom u dječjem vrtiću kao i s ostalim sudionicima u odgoju i obrazovanju djece  rane i predškolske dobi u lokalnoj zajednici. Odgovoran je za provedbu programa rada s djecom kao i za opremu i didaktička sredstva kojima se koristi u radu.</a:t>
            </a:r>
            <a:br>
              <a:rPr sz="3600"/>
            </a:br>
            <a:r>
              <a:rPr b="0" lang="hr-HR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1BEA-CFF0-4056-9856-CA2A69791E7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3)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Predškolske programe za djecu s teškoćama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u dječjim vrtićima i u posebnim ustanovama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ostvaruju odgojitelji i stručnjaci edukacijsko-rehabilitacijskog profila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raznih usmjerenja u suradnji s drugim članovima stručnog tima.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(4)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Posebne programe u dječjem vrtiću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mogu provoditi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odgojitelji i odgojno-obrazovni radnici odgovarajuće struke 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koji ispunjavaju uvjete za rad </a:t>
            </a:r>
            <a:r>
              <a:rPr b="0" lang="hr-HR" sz="3200" spc="-1" strike="noStrike">
                <a:solidFill>
                  <a:srgbClr val="c00000"/>
                </a:solidFill>
                <a:latin typeface="Monotype Corsiva"/>
              </a:rPr>
              <a:t>u osnovnoj ško</a:t>
            </a:r>
            <a:r>
              <a:rPr b="0" lang="hr-HR" sz="3200" spc="-1" strike="noStrike">
                <a:solidFill>
                  <a:srgbClr val="333399"/>
                </a:solidFill>
                <a:latin typeface="Monotype Corsiva"/>
              </a:rPr>
              <a:t>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4786-1D01-491B-B5DF-74A800DB4F5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7:55:20Z</dcterms:created>
  <dc:creator>Ivana Fain</dc:creator>
  <dc:description/>
  <dc:language>en-US</dc:language>
  <cp:lastModifiedBy>mivankov</cp:lastModifiedBy>
  <cp:lastPrinted>2015-04-07T11:16:19Z</cp:lastPrinted>
  <dcterms:modified xsi:type="dcterms:W3CDTF">2015-04-07T12:42:38Z</dcterms:modified>
  <cp:revision>156</cp:revision>
  <dc:subject/>
  <dc:title>Slide 1</dc:title>
</cp:coreProperties>
</file>