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80816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834660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126972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480816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834660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0816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4660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26972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80816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34660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80816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834660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126972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480816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834660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80816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834660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126972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480816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834660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80816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834660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126972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480816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834660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0816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34660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26972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480816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834660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80816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834660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126972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480816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834660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80816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834660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126972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480816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834660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0816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4660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26972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480816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834660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80816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834660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126972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480816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834660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80816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834660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126972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480816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834660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1269720" y="203040"/>
            <a:ext cx="10464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1269720" y="5945040"/>
            <a:ext cx="1046484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6631920" y="29462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12697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6631920" y="5945040"/>
            <a:ext cx="5106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0816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8346600" y="29462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126972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480816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8346600" y="5945040"/>
            <a:ext cx="3369600" cy="273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69720" y="5206680"/>
            <a:ext cx="10464840" cy="1460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5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1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2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3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4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5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6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1269720" y="2946240"/>
            <a:ext cx="510516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6000"/>
          </a:bodyPr>
          <a:p>
            <a:pPr marL="61776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marL="103284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2" marL="1437840" indent="-30852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3" marL="187236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4" marL="231624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5" marL="231624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6" marL="231624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607160" y="2946240"/>
            <a:ext cx="412776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65000"/>
          </a:bodyPr>
          <a:p>
            <a:pPr marL="528120" indent="-263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marL="883080" indent="-263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2" marL="1229760" indent="-263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3" marL="1601280" indent="-263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4" marL="1981080" indent="-263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5" marL="1981080" indent="-263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6" marL="1981080" indent="-263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body"/>
          </p:nvPr>
        </p:nvSpPr>
        <p:spPr>
          <a:xfrm>
            <a:off x="1269720" y="1066320"/>
            <a:ext cx="10464840" cy="762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9000"/>
          </a:bodyPr>
          <a:p>
            <a:pPr marL="748440" indent="-387000">
              <a:spcBef>
                <a:spcPts val="6001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1" marL="1234800" indent="-387000">
              <a:spcBef>
                <a:spcPts val="6001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2" marL="1709640" indent="-387000">
              <a:spcBef>
                <a:spcPts val="6001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3" marL="2217960" indent="-387000">
              <a:spcBef>
                <a:spcPts val="6001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4" marL="2737800" indent="-387000">
              <a:spcBef>
                <a:spcPts val="6001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5" marL="2737800" indent="-387000">
              <a:spcBef>
                <a:spcPts val="6001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6" marL="2737800" indent="-387000">
              <a:spcBef>
                <a:spcPts val="6001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2000"/>
          </a:bodyPr>
          <a:p>
            <a:pPr marL="774000" indent="-399960">
              <a:spcBef>
                <a:spcPts val="29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1" marL="1276200" indent="-399960">
              <a:spcBef>
                <a:spcPts val="29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2" marL="1767240" indent="-399960">
              <a:spcBef>
                <a:spcPts val="29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3" marL="2292840" indent="-399960">
              <a:spcBef>
                <a:spcPts val="29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4" marL="2830320" indent="-399960">
              <a:spcBef>
                <a:spcPts val="29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5" marL="2830320" indent="-399960">
              <a:spcBef>
                <a:spcPts val="29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6" marL="2830320" indent="-399960">
              <a:spcBef>
                <a:spcPts val="29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69720" y="7365960"/>
            <a:ext cx="10464840" cy="1828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69720" y="3606480"/>
            <a:ext cx="10464840" cy="25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body"/>
          </p:nvPr>
        </p:nvSpPr>
        <p:spPr>
          <a:xfrm>
            <a:off x="596520" y="4939920"/>
            <a:ext cx="6032520" cy="3048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6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2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3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4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5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6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title"/>
          </p:nvPr>
        </p:nvSpPr>
        <p:spPr>
          <a:xfrm>
            <a:off x="596520" y="1790280"/>
            <a:ext cx="6032520" cy="3048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60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1269720" y="2946240"/>
            <a:ext cx="510516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6000"/>
          </a:bodyPr>
          <a:p>
            <a:pPr marL="61776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marL="103284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2" marL="1437840" indent="-30852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3" marL="187236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4" marL="231624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5" marL="231624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6" marL="231624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1000"/>
          </a:bodyPr>
          <a:p>
            <a:pPr marL="739440" indent="-36972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marL="1236600" indent="-36972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2" marL="1721520" indent="-36936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3" marL="2242080" indent="-36972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4" marL="2773440" indent="-36972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5" marL="2773440" indent="-36972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6" marL="2773440" indent="-36972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269720" y="2514600"/>
            <a:ext cx="10464840" cy="2641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ffffff"/>
                </a:solidFill>
                <a:latin typeface="Chalkboard"/>
              </a:rPr>
              <a:t>SOCIOLOGIJA</a:t>
            </a:r>
            <a:br>
              <a:rPr sz="6400"/>
            </a:br>
            <a:r>
              <a:rPr b="0" lang="en-US" sz="4800" spc="-1" strike="noStrike">
                <a:solidFill>
                  <a:srgbClr val="ffffff"/>
                </a:solidFill>
                <a:latin typeface="Chalkboard"/>
              </a:rPr>
              <a:t>Ispitni katalog za državnu maturu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Chalkboard"/>
              </a:rPr>
              <a:t>u školskoj godini 2011/12</a:t>
            </a:r>
            <a:endParaRPr b="0" lang="en-US" sz="4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269720" y="7023240"/>
            <a:ext cx="10464840" cy="1815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Irena Matoic, NCVVO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Jana Šarinić, Gornjogradska gimnazija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Zagreb, 30. rujna 2011.g.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/>
          </p:nvPr>
        </p:nvSpPr>
        <p:spPr>
          <a:xfrm>
            <a:off x="1269720" y="1320840"/>
            <a:ext cx="10464840" cy="7099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41320" indent="-434880">
              <a:spcBef>
                <a:spcPts val="29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2. Koji primjer </a:t>
            </a:r>
            <a:r>
              <a:rPr b="0" lang="en-US" sz="3600" spc="-1" strike="noStrike">
                <a:solidFill>
                  <a:srgbClr val="ffffff"/>
                </a:solidFill>
                <a:latin typeface="Chalkboard Bold"/>
              </a:rPr>
              <a:t>ne predstavlja</a:t>
            </a: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 birokratsku organizaciju?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1" marL="1438200" indent="-434880">
              <a:lnSpc>
                <a:spcPct val="100000"/>
              </a:lnSpc>
              <a:spcBef>
                <a:spcPts val="2999"/>
              </a:spcBef>
              <a:buClr>
                <a:srgbClr val="ffffff"/>
              </a:buClr>
              <a:buSzPct val="99000"/>
              <a:buFont typeface="Chalkboard Bold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 Bold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Chalkboard Bold"/>
              </a:rPr>
              <a:t>kult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1" marL="1438200" indent="-434880">
              <a:spcBef>
                <a:spcPts val="2999"/>
              </a:spcBef>
              <a:buClr>
                <a:srgbClr val="ffffff"/>
              </a:buClr>
              <a:buSzPct val="99000"/>
              <a:buFont typeface="Chalkboard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Katolička crkva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1" marL="1438200" indent="-434880">
              <a:spcBef>
                <a:spcPts val="2999"/>
              </a:spcBef>
              <a:buClr>
                <a:srgbClr val="ffffff"/>
              </a:buClr>
              <a:buSzPct val="99000"/>
              <a:buFont typeface="Chalkboard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tvornica automobila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1" marL="1438200" indent="-434880">
              <a:spcBef>
                <a:spcPts val="2999"/>
              </a:spcBef>
              <a:buClr>
                <a:srgbClr val="ffffff"/>
              </a:buClr>
              <a:buSzPct val="99000"/>
              <a:buFont typeface="Chalkboard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politička stranka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transition spd="med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ffffff"/>
                </a:solidFill>
                <a:latin typeface="Chalkboard"/>
              </a:rPr>
              <a:t>Primjeri zadataka - kratki odgovor</a:t>
            </a:r>
            <a:endParaRPr b="0" lang="en-US" sz="6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269720" y="2781360"/>
            <a:ext cx="10464840" cy="5905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434880" indent="-28440">
              <a:spcBef>
                <a:spcPts val="2999"/>
              </a:spcBef>
              <a:buClr>
                <a:srgbClr val="ffffff"/>
              </a:buClr>
              <a:buSzPct val="99000"/>
              <a:buFont typeface="Chalkboar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Koje su teorijske perspektive u sociologiji makrosociološke?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434880" indent="-28440">
              <a:spcBef>
                <a:spcPts val="29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O: funkcionalizam, konfliktna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434880" indent="-28440">
              <a:spcBef>
                <a:spcPts val="2999"/>
              </a:spcBef>
              <a:buClr>
                <a:srgbClr val="ffffff"/>
              </a:buClr>
              <a:buSzPct val="99000"/>
              <a:buFont typeface="Chalkboar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Što je, prema P. Bourdieu, kulturni kapital i kako utječe na obrazovne šanse pojedinaca?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434880" indent="-28440">
              <a:spcBef>
                <a:spcPts val="29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O: skup znanja i vještina koji primaju u najranijoj dobi, djeca iz viših klasa dobivaju ga mnogo više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transition spd="med"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1269720" y="202680"/>
            <a:ext cx="1046484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ffffff"/>
                </a:solidFill>
                <a:latin typeface="Chalkboard"/>
              </a:rPr>
              <a:t>Primjeri zadataka - produženi odgovor</a:t>
            </a:r>
            <a:endParaRPr b="0" lang="en-US" sz="6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520560" y="2705040"/>
            <a:ext cx="11938320" cy="5981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434880" indent="-28440">
              <a:spcBef>
                <a:spcPts val="2999"/>
              </a:spcBef>
              <a:buClr>
                <a:srgbClr val="ffffff"/>
              </a:buClr>
              <a:buSzPct val="99000"/>
              <a:buFont typeface="Chalkboar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Navedite dva različita pristupa u istraživanju društvenih pojava. Usporedite ih i objasnite te im pridružite po jednu metodu istraživanja.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434880" indent="-28440">
              <a:spcBef>
                <a:spcPts val="29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O: Razlikujemo dva pristupa istraživanju društvenih pojava u sociologiji: kvantitativni koji se temelji na brojkama, mjerenjima te statističkim i matematičkim metodama i kvalitativni koji je usmjeren na značenja koja ljudi pridaju pojavama, dakle na subjektivni opis i interpretaciju. 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transition spd="med"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/>
          </p:nvPr>
        </p:nvSpPr>
        <p:spPr>
          <a:xfrm>
            <a:off x="1269720" y="2006280"/>
            <a:ext cx="10464840" cy="5740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41320" indent="-434880">
              <a:spcBef>
                <a:spcPts val="29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Primjer metode istraživanja koja se može koristiti u kvantitativnom pristupu istraživanju je anketa, a primjer metode vezane za kvalitativni pristup je promatranje. (3 boda)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841320" indent="-434880">
              <a:spcBef>
                <a:spcPts val="29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2 boda: razlikovanje i objašnjenje dva pristupa istraživanju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841320" indent="-434880">
              <a:spcBef>
                <a:spcPts val="29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1 bod: jedan pristup s objašnjenjem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transition spd="med"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/>
          </p:nvPr>
        </p:nvSpPr>
        <p:spPr>
          <a:xfrm>
            <a:off x="1269720" y="1104480"/>
            <a:ext cx="10464840" cy="7581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4000"/>
          </a:bodyPr>
          <a:p>
            <a:pPr marL="790560" indent="-408600">
              <a:spcBef>
                <a:spcPts val="29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2. Objasnite što je socijalizacija. Navedite razliku između primarne i sekundarne socijalizacije te povežite proces socijalizacije s učenjem tj. usvajanjem devijantnog ponašanja.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790560" indent="-408600">
              <a:spcBef>
                <a:spcPts val="29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O: Socijalizacija je složen proces učenja kojim interakcijom sa svojom društvenom okolinom usvajamo znanja, stavove, vrijednosti i ponašanja neophodna za sudjelovanje u životu društva, to je proces koji traje čitav život. Dijeli se na primarnu i sekundarnu. Primarna se odvija u prvim godinama života u okviru obitelji i izuzetno je bitna za daljnji razvoj pojedinca.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transition spd="med"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/>
          </p:nvPr>
        </p:nvSpPr>
        <p:spPr>
          <a:xfrm>
            <a:off x="1269720" y="1409760"/>
            <a:ext cx="10464840" cy="6921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41320" indent="-434880">
              <a:spcBef>
                <a:spcPts val="29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Prema interakcionističkoj teoriji kulturne transmisije, ona je način učenja devijantnog ponašanja. Sekundarna socijalizacija započinje u kasnijem djetinjstvu u interakciji s drugim ljudima, vezana je uz formalno obrazovanje i traje do kraja života. (3 boda)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841320" indent="-434880">
              <a:spcBef>
                <a:spcPts val="29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2 boda: definicija socijalizacije te objašnjenje podjele na primarnu i sekundarnu socijalizaciju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841320" indent="-434880">
              <a:spcBef>
                <a:spcPts val="29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1 bod: definicija socijalizacije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transition spd="med"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/>
          </p:nvPr>
        </p:nvSpPr>
        <p:spPr>
          <a:xfrm>
            <a:off x="1269720" y="1434600"/>
            <a:ext cx="10464840" cy="670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lvl="3" marL="2108160">
              <a:spcBef>
                <a:spcPts val="29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HVALA NA PAŽNJI!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transition spd="med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ffffff"/>
                </a:solidFill>
                <a:latin typeface="Chalkboard"/>
              </a:rPr>
              <a:t>Stručna radna skupina</a:t>
            </a:r>
            <a:br>
              <a:rPr sz="6400"/>
            </a:br>
            <a:r>
              <a:rPr b="0" lang="en-US" sz="6400" spc="-1" strike="noStrike">
                <a:solidFill>
                  <a:srgbClr val="ffffff"/>
                </a:solidFill>
                <a:latin typeface="Chalkboard"/>
              </a:rPr>
              <a:t>za izradu kataloga</a:t>
            </a:r>
            <a:endParaRPr b="0" lang="en-US" sz="6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41320" indent="-434880">
              <a:spcBef>
                <a:spcPts val="29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prof. dr. sc. Inga Tomić Koludrović (FF Zadar)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841320" indent="-434880">
              <a:spcBef>
                <a:spcPts val="29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prof. dr. sc. Ognjen Čaldarović (FF Zagreb)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841320" indent="-434880">
              <a:spcBef>
                <a:spcPts val="29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prof. dr. sc. Benjamin Čulig (FF Zagreb)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841320" indent="-434880">
              <a:spcBef>
                <a:spcPts val="29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mr. sc. Zdravko Križić, Gimnazija A. G. Matoša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841320" indent="-434880">
              <a:spcBef>
                <a:spcPts val="29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Jana Šarinić, Gornjogradska gimnazija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transition spd="med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32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ffffff"/>
                </a:solidFill>
                <a:latin typeface="Chalkboard"/>
              </a:rPr>
              <a:t>Razlika novog i starog  ispitnog kataloga</a:t>
            </a:r>
            <a:endParaRPr b="0" lang="en-US" sz="6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558720" y="2679840"/>
            <a:ext cx="1182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92080" indent="-434880">
              <a:lnSpc>
                <a:spcPct val="90000"/>
              </a:lnSpc>
              <a:spcBef>
                <a:spcPts val="29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tari katalog: 2 dijela ispita - novi katalog: jedinstveni ispit (u novom katalogu izbačen drugi dio koji se odnosio na</a:t>
            </a:r>
            <a:r>
              <a:rPr b="0" lang="en-US" sz="3600" spc="-1" strike="noStrike">
                <a:solidFill>
                  <a:srgbClr val="ffffff"/>
                </a:solidFill>
                <a:latin typeface="Chalkboard Bold"/>
              </a:rPr>
              <a:t> analizu teksta</a:t>
            </a: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-434880">
              <a:lnSpc>
                <a:spcPct val="90000"/>
              </a:lnSpc>
              <a:spcBef>
                <a:spcPts val="29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tipovi zadataka - stari katalog: 5 tipova; novi katalog: 3 tipa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-434880">
              <a:lnSpc>
                <a:spcPct val="90000"/>
              </a:lnSpc>
              <a:spcBef>
                <a:spcPts val="29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obrazovni ishodi - novi katalog: jači naglasak na razumijevanju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-434880">
              <a:lnSpc>
                <a:spcPct val="90000"/>
              </a:lnSpc>
              <a:spcBef>
                <a:spcPts val="29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promijenjena područja ispitivanja, ali samo u smislu sistematizacije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transition spd="med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269720" y="202680"/>
            <a:ext cx="10464840" cy="224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ffffff"/>
                </a:solidFill>
                <a:latin typeface="Chalkboard"/>
              </a:rPr>
              <a:t>Područja ispitivanja - stari katalog</a:t>
            </a:r>
            <a:endParaRPr b="0" lang="en-US" sz="6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60240" y="2540160"/>
            <a:ext cx="11925360" cy="624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92080" indent="-434880">
              <a:lnSpc>
                <a:spcPct val="80000"/>
              </a:lnSpc>
              <a:spcBef>
                <a:spcPts val="29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ociologija kao znanstveni pogled na društvo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-434880">
              <a:lnSpc>
                <a:spcPct val="80000"/>
              </a:lnSpc>
              <a:spcBef>
                <a:spcPts val="29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kultura i društvo (uključujući kolektivno ponašanje)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-434880">
              <a:lnSpc>
                <a:spcPct val="80000"/>
              </a:lnSpc>
              <a:spcBef>
                <a:spcPts val="29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ocijalizacija, socijalna interakcija, socijalna kontrola i devijantnost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-434880">
              <a:lnSpc>
                <a:spcPct val="80000"/>
              </a:lnSpc>
              <a:spcBef>
                <a:spcPts val="29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ocijalna stratifikacija i pokretljivost (mobilnost), obitelj i obrazovanje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-434880">
              <a:lnSpc>
                <a:spcPct val="80000"/>
              </a:lnSpc>
              <a:spcBef>
                <a:spcPts val="29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političke i ekonomske institucije, populacija, urbanizacija i ekologija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-434880">
              <a:lnSpc>
                <a:spcPct val="80000"/>
              </a:lnSpc>
              <a:spcBef>
                <a:spcPts val="29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religija i ideologija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transition spd="med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ffffff"/>
                </a:solidFill>
                <a:latin typeface="Chalkboard"/>
              </a:rPr>
              <a:t>Područja ispitivanja - novi katalog</a:t>
            </a:r>
            <a:endParaRPr b="0" lang="en-US" sz="6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1269720" y="284472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92080" indent="-434880">
              <a:spcBef>
                <a:spcPts val="29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ociologija kao znanstveni pogled na društvo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-434880">
              <a:spcBef>
                <a:spcPts val="29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Društvo i društvena struktura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-434880">
              <a:spcBef>
                <a:spcPts val="29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Kultura, socijalizacija i identitet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-434880">
              <a:spcBef>
                <a:spcPts val="29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Društvene institucije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-434880">
              <a:spcBef>
                <a:spcPts val="29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Globalizacija i njezine društvene posljedice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transition spd="med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ffffff"/>
                </a:solidFill>
                <a:latin typeface="Chalkboard"/>
              </a:rPr>
              <a:t>Obrazovni ishodi i zadaci</a:t>
            </a:r>
            <a:endParaRPr b="0" lang="en-US" sz="6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028520" y="2298240"/>
            <a:ext cx="10947240" cy="674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92080" indent="-434880">
              <a:spcBef>
                <a:spcPts val="29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ukupno 71 obrazovini ishod: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2" marL="1971720" indent="-434880">
              <a:spcBef>
                <a:spcPts val="2999"/>
              </a:spcBef>
              <a:buSzPct val="100000"/>
              <a:buBlip>
                <a:blip r:embed="rId3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prepoznati, navesti, nabrojati, imenovati, opisati, razlikovati, usporediti, objasniti, povezati...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-434880">
              <a:spcBef>
                <a:spcPts val="29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ukupno 60 zadataka: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2" marL="1971720" indent="-434880">
              <a:spcBef>
                <a:spcPts val="2999"/>
              </a:spcBef>
              <a:buSzPct val="100000"/>
              <a:buBlip>
                <a:blip r:embed="rId5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zadaci višestrukog izbora: 30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4" marL="3127320" indent="-434880">
              <a:lnSpc>
                <a:spcPct val="70000"/>
              </a:lnSpc>
              <a:spcBef>
                <a:spcPts val="2999"/>
              </a:spcBef>
              <a:buSzPct val="100000"/>
              <a:buBlip>
                <a:blip r:embed="rId6"/>
              </a:buBlip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zadaci kratkog odgovora: 20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4" marL="3127320" indent="-434880">
              <a:lnSpc>
                <a:spcPct val="70000"/>
              </a:lnSpc>
              <a:spcBef>
                <a:spcPts val="2999"/>
              </a:spcBef>
              <a:buSzPct val="100000"/>
              <a:buBlip>
                <a:blip r:embed="rId7"/>
              </a:buBlip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zadaci produženog odgovora: 10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transition spd="med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269720" y="685800"/>
            <a:ext cx="10464840" cy="1574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ffffff"/>
                </a:solidFill>
                <a:latin typeface="Chalkboard"/>
              </a:rPr>
              <a:t>Struktura ispita</a:t>
            </a:r>
            <a:endParaRPr b="0" lang="en-US" sz="6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1269720" y="2603520"/>
            <a:ext cx="10464840" cy="6083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92080" indent="-434880">
              <a:spcBef>
                <a:spcPts val="2999"/>
              </a:spcBef>
              <a:buClr>
                <a:srgbClr val="ffffff"/>
              </a:buClr>
              <a:buSzPct val="99000"/>
              <a:buFont typeface="Chalkboar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ociologija kao znanstveni pogled na društvo- 20%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-434880">
              <a:spcBef>
                <a:spcPts val="2999"/>
              </a:spcBef>
              <a:buClr>
                <a:srgbClr val="ffffff"/>
              </a:buClr>
              <a:buSzPct val="99000"/>
              <a:buFont typeface="Chalkboar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Društvo i društvena struktura - 23%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-434880">
              <a:spcBef>
                <a:spcPts val="2999"/>
              </a:spcBef>
              <a:buClr>
                <a:srgbClr val="ffffff"/>
              </a:buClr>
              <a:buSzPct val="99000"/>
              <a:buFont typeface="Chalkboar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Kultura, socijalizacija i identitet - 20%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-434880">
              <a:spcBef>
                <a:spcPts val="2999"/>
              </a:spcBef>
              <a:buClr>
                <a:srgbClr val="ffffff"/>
              </a:buClr>
              <a:buSzPct val="99000"/>
              <a:buFont typeface="Chalkboar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Društvene institucije - 30%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-434880">
              <a:spcBef>
                <a:spcPts val="2999"/>
              </a:spcBef>
              <a:buClr>
                <a:srgbClr val="ffffff"/>
              </a:buClr>
              <a:buSzPct val="99000"/>
              <a:buFont typeface="Chalkboar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Globalizacija - 7%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transition spd="med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ffffff"/>
                </a:solidFill>
                <a:latin typeface="Chalkboard"/>
              </a:rPr>
              <a:t>Tehnički opis ispita i bodovanje</a:t>
            </a:r>
            <a:endParaRPr b="0" lang="en-US" sz="6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92080" indent="-434880">
              <a:spcBef>
                <a:spcPts val="29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trajanje: 90 minuta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-434880">
              <a:spcBef>
                <a:spcPts val="29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ispitna knjižica, list za koncept i list za odgovore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892080" indent="-434880">
              <a:spcBef>
                <a:spcPts val="29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ukupni broj bodova: 100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1" marL="1438200" indent="-434880">
              <a:spcBef>
                <a:spcPts val="2999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višestruki izbor - 1 bod; kratki odgovor - 2 (1 ili 0); produženi odgovor 3 (2, 1 ili 0)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transition spd="med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ffffff"/>
                </a:solidFill>
                <a:latin typeface="Chalkboard"/>
              </a:rPr>
              <a:t>Primjeri zadataka - višestruki izbor</a:t>
            </a:r>
            <a:endParaRPr b="0" lang="en-US" sz="6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92080" indent="-434880">
              <a:spcBef>
                <a:spcPts val="2999"/>
              </a:spcBef>
              <a:buClr>
                <a:srgbClr val="ffffff"/>
              </a:buClr>
              <a:buSzPct val="99000"/>
              <a:buFont typeface="Chalkboar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Kako se naziva sociološki pristup koji proučava dugotrajnije procese društvene promjene?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1" marL="1438200" indent="-434880">
              <a:spcBef>
                <a:spcPts val="2999"/>
              </a:spcBef>
              <a:buClr>
                <a:srgbClr val="ffffff"/>
              </a:buClr>
              <a:buSzPct val="99000"/>
              <a:buFont typeface="Chalkboard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ciklička teorija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1" marL="1438200" indent="-434880">
              <a:lnSpc>
                <a:spcPct val="100000"/>
              </a:lnSpc>
              <a:spcBef>
                <a:spcPts val="2999"/>
              </a:spcBef>
              <a:buClr>
                <a:srgbClr val="ffffff"/>
              </a:buClr>
              <a:buSzPct val="99000"/>
              <a:buFont typeface="Chalkboard Bold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 Bold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Chalkboard Bold"/>
              </a:rPr>
              <a:t>makrosociologija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1" marL="1438200" indent="-434880">
              <a:spcBef>
                <a:spcPts val="2999"/>
              </a:spcBef>
              <a:buClr>
                <a:srgbClr val="ffffff"/>
              </a:buClr>
              <a:buSzPct val="99000"/>
              <a:buFont typeface="Chalkboard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nominalistički pristup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1" marL="1438200" indent="-434880">
              <a:spcBef>
                <a:spcPts val="2999"/>
              </a:spcBef>
              <a:buClr>
                <a:srgbClr val="ffffff"/>
              </a:buClr>
              <a:buSzPct val="99000"/>
              <a:buFont typeface="Chalkboard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ociološka imaginacija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transition spd="med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nvulic</cp:lastModifiedBy>
  <dcterms:modified xsi:type="dcterms:W3CDTF">2011-10-04T12:25:25Z</dcterms:modified>
  <cp:revision>1</cp:revision>
  <dc:subject/>
  <dc:title>SOCIOLOGIJA Ispitni katalog za državnu maturu u školskoj godini 2011/12</dc:title>
</cp:coreProperties>
</file>