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DACC-6B99-4CE9-9990-5681AF8B0F3D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92280" y="43560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Nataša Vuli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školska godina 2008./200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88600" y="5003640"/>
            <a:ext cx="39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ogram rada stručnih vijeć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3664-DF47-4F56-8169-D99A7DAB1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64CE-6D35-431D-BD30-75FC6888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E848-CE97-4C8D-AB8A-F0A66520D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3029-C19E-4DED-8443-7298B7E2D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FC96B-FFBD-4C89-8FF0-15C792BE0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EFF0-8F6C-476F-A98A-3AA3C102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FC20-F3CF-4F65-9467-B6CB5115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EE70-B374-48C3-8F51-40021046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17DCD-73A5-4057-A1F7-1B4B9092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26A8-AF58-49F5-A505-C8C66247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A905-93A4-47D0-8634-103DA01A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16C0-352D-4636-95C5-4718CEE9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EDAEC-E7D0-4A69-8756-2BC70168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8BE1-A2E1-45E7-B48C-D54270F6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99D3-5AB7-4E2E-93B4-C8A37230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D8C3-EFDE-4726-B07F-07234EDED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E7E8-D5FE-4F6A-B43E-5236D553E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E2E0-3F7B-439C-946A-16F30855D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4140-F030-4DAA-9193-05CF0855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4482-1F5E-49F9-85DF-78EA5770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A355-8CBA-43E7-BB27-040EA429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23F5-AED5-4FE1-BAFE-C00C3AD2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56A3-D70A-412D-81AD-9874404D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7DD4-5A29-4AEA-8403-BB174ABA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D878-881D-425C-B493-22640FF50E5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09B9-4072-4DAC-BC50-AB0999E2961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05228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66"/>
                </a:solidFill>
                <a:latin typeface="Arial"/>
              </a:rPr>
              <a:t>Nataša Vulić</a:t>
            </a:r>
            <a:br>
              <a:rPr sz="1800"/>
            </a:b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natasa.vulic@azoo.hr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26560" y="3141720"/>
            <a:ext cx="79930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Kurikularno planiranje i programiranj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            </a:t>
            </a: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/</a:t>
            </a:r>
            <a:r>
              <a:rPr b="0" lang="hr-HR" sz="2000" spc="-1" strike="noStrike">
                <a:solidFill>
                  <a:srgbClr val="006666"/>
                </a:solidFill>
                <a:latin typeface="Arial"/>
              </a:rPr>
              <a:t>godišnje, mjesečno,dnevno/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6666"/>
                </a:solidFill>
                <a:latin typeface="Arial"/>
              </a:rPr>
              <a:t>Primjeri pitanja za PRIMJEN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000" y="2361960"/>
            <a:ext cx="7846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Konstatacija da religija utječe na društvene procese je točna/netoč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koje sve pretpostavke možete napraviti o uzroku ove pojav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koja prethodna znanja ćete iskoristiti u ovom slučaju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kojim činjenicama biste pokušali provjeriti koja je od navedenih pretpostavki točna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280" y="907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6666"/>
                </a:solidFill>
                <a:latin typeface="Arial"/>
              </a:rPr>
              <a:t>Vještine u zadatk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2133720"/>
          <a:ext cx="7772400" cy="3884400"/>
        </p:xfrm>
        <a:graphic>
          <a:graphicData uri="http://schemas.openxmlformats.org/drawingml/2006/table">
            <a:tbl>
              <a:tblPr/>
              <a:tblGrid>
                <a:gridCol w="2878200"/>
                <a:gridCol w="2303280"/>
                <a:gridCol w="2590920"/>
              </a:tblGrid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a/ne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omentar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5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edlaganje idej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5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sredotočenost na zadata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5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zumijevanje uput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5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rganiziranje informacij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32000" y="990360"/>
            <a:ext cx="734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6666"/>
                </a:solidFill>
                <a:latin typeface="Arial"/>
              </a:rPr>
              <a:t>Skala /osobni izbor raspona/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71640" y="2349360"/>
          <a:ext cx="7200720" cy="4114800"/>
        </p:xfrm>
        <a:graphic>
          <a:graphicData uri="http://schemas.openxmlformats.org/drawingml/2006/table">
            <a:tbl>
              <a:tblPr/>
              <a:tblGrid>
                <a:gridCol w="3525840"/>
                <a:gridCol w="3674880"/>
              </a:tblGrid>
              <a:tr h="82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o 25 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edovoljan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d 26% do 30 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ovoljan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d 31% do 45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obar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d 45% do 65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rlo dobar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d 65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dličan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1196640"/>
            <a:ext cx="69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6666"/>
                </a:solidFill>
                <a:latin typeface="Arial"/>
              </a:rPr>
              <a:t>Samoevaluacij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3640" y="2781000"/>
            <a:ext cx="81961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omparacija rezultata na ispitima znanja u nastavi i objavljenih rezultata “državne mature” (podaci  NCVV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vjera ispravnosti planiranja nastave i izvan nastavnih aktivnosti u svrhu pripremanja učenika za Državnu matur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96360" y="979920"/>
            <a:ext cx="86752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rovjera u planiranju i korekcija u nastavi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aliza uspješnosti na kraju I. tri mjese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poredba s očekivanim rezultati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cjena potrebe korekcije u aktivnostima za ostvarenje zadanog cilj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cjena potrebe korekcije cilje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valuacija proces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aluacija učenik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aluacija nastavnik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aluacija neovisnog opažač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drednice plana za pojedino razdoblj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Godišn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-razradu godišnjeg programa po mjeseci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-operacionalizaciju ciljeva (cilj, obrazovni   ishodi, zadaće za učenik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-način vrednovanja (praćenje,procjena,samoevaluacij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Mjesečn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-razradu nastavnih jedin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obrazovne cilje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metodičke oblik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vrednovan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nevno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temeljne pojmo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ishode obrazovan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metodičke oblik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zadaće za učenik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Međupredmetne tem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me predložene NO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me srodnih nastavnih predme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me srodnih nastavnih i znanstvenih područj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Evaluacija i samoevalua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aluacija programa (planirano-izvršen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aluacija postignuć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9172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kvir prezentacij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niranje nasta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ođenje i motiviranje učenika za ocjenjivanje i uspje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aluacija postignuć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spješnost?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Jesmo li planirali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uspjeh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znanje i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zadovoljstv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Što je od toga postignuto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9172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laniranje nastav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vezuju se ciljevi obrazovanja s pretpostavljenim i unaprijed utvrđenim ishodima obrazovanj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27640" y="10627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shodišta plan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stavni ciljev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brazovni ishod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cesi poučavanj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918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gled proces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26920" y="2349360"/>
          <a:ext cx="7693200" cy="3808440"/>
        </p:xfrm>
        <a:graphic>
          <a:graphicData uri="http://schemas.openxmlformats.org/drawingml/2006/table">
            <a:tbl>
              <a:tblPr/>
              <a:tblGrid>
                <a:gridCol w="2345040"/>
                <a:gridCol w="2784240"/>
                <a:gridCol w="256392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iljev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shod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ehnike procjenjivanj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nalitičke vještin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zlikovati/ izdvojiti/ ilustrirati/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est pismenog tipa (točno -netočno, sparivanje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Vještine primjene usvojenih principa na nove situacij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imijeniti/ ilustrirati/ povezat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sej, malo istraživanje, prezentacij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Vještine rješavanje problem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Primijeniti/ilustrirati/ otkrit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ala istraživanja, analiz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Unaprijediti govorne vještin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ikazati/ prepričati/ raspravit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ratka izlaganja, rasprav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68360" y="1773360"/>
          <a:ext cx="8229600" cy="4400280"/>
        </p:xfrm>
        <a:graphic>
          <a:graphicData uri="http://schemas.openxmlformats.org/drawingml/2006/table">
            <a:tbl>
              <a:tblPr/>
              <a:tblGrid>
                <a:gridCol w="4167000"/>
                <a:gridCol w="4062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aziv nastavne cjelin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prema izvedbenom planu i programu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ilj za nastavnu  cjelinu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obrazovni ishodi/ zadaće za učenike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3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 Nastavna cjelina  - </a:t>
                      </a:r>
                      <a:r>
                        <a:rPr b="1" lang="hr-HR" sz="18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Kako istraživati društvene pojav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oje su pretpostavke znanstvenog istraživanj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avesti pretpostavke znanstvenog istraživanj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/test, zadaća, rasprava/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zlikuje li se sociološko od drugih znanstvenih istraživanj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bjasniti razliku između sociološkog i drugih istraživanj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est / zadaća /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oji su modeli sociološkog istraživanja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pisati i objasniti osnovne pojmove i modele sociološkog istraživanja</a:t>
                      </a:r>
                      <a:r>
                        <a:rPr b="0" lang="hr-HR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/Zadaća, opisati primjerima/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oje su metode i tehnike socioloških istraživanj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pisati i protumačiti najznačajnije sociološke metod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/rasprava, primjeri/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3280" y="1269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Temeljne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retpostavke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dobrog vrednovanja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10920" y="2636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cjenjivanje mora biti sastavni dio obrazovnog proces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ra biti valjano (vrednovati očekivana postignuć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ra biti potpuno (jesu li  postigli učenici sva očekivana postignuć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ra biti objektivn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5280" y="9806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6666"/>
                </a:solidFill>
                <a:latin typeface="Arial"/>
              </a:rPr>
              <a:t>Primjeri pitanja za ANALIZ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oji su uzroci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oje su značajk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oje su izjave činjenice a koje mišljenj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bjasnite nenaglašenu pretpostavku koja podržava ovaj argumen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000" y="9806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6666"/>
                </a:solidFill>
                <a:latin typeface="Arial"/>
              </a:rPr>
              <a:t>Primjeri pitanja za RAZUMIJEVANJ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Izrekom …. želi se reći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b)                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Objasni što je kulturni relativizam (na pr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Analiziraj društvene posljedice razvitka sociologi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4T09:23:34Z</dcterms:created>
  <dc:creator>M.WIENNA</dc:creator>
  <dc:description/>
  <dc:language>en-US</dc:language>
  <cp:lastModifiedBy>nvulic</cp:lastModifiedBy>
  <dcterms:modified xsi:type="dcterms:W3CDTF">2011-10-05T08:19:26Z</dcterms:modified>
  <cp:revision>35</cp:revision>
  <dc:subject/>
  <dc:title>Slide 1</dc:title>
</cp:coreProperties>
</file>