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71B-5A4F-4D63-A582-6D1E89BF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334-7D87-4DC7-A8AC-6AD4B25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1AC-1088-4AA1-982C-A2DCD987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93D-09D8-4564-A250-0B8E116E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E19E-FBC2-45A9-A6F0-B9DF311F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D618-D68C-4D20-BFED-85628B49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B716-B353-48C9-8035-B1FE46C6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DF3-A423-42C6-B053-498A40A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068-E4EE-4A79-B678-EC811EDA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2852-DEE8-4396-A896-62BA987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519-63A2-412C-BFF0-E8BF694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F3D-B0CD-44DC-A558-C8FFF51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702C-6D71-49D6-91D2-00411334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E31D-38E0-443E-8428-973BA5CA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A33-DF47-4F83-B17A-6310FE60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6EF3-52A7-4C7C-9374-CDA8AD8A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41D8-1C43-4FA5-9756-00703F00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A0B-C0A1-483D-A937-9B844518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0D7-92E9-43D0-B1A6-70574CAD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A4F-22C8-4A70-9144-DB6BB73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31B-5F16-4707-A428-C4A44F1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D29-D014-42C9-A66D-016583B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F8A-F250-4A27-816F-1AE903D3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20C-539B-4B63-8417-F835DAC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D831-FA45-4979-B393-4492D5906AC6}" type="slidenum"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09C-D9F9-4AA8-9BAF-B33E1DC59992}" type="slidenum">
              <a:rPr b="0" lang="hr-HR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Civilno društvo i sindrom </a:t>
            </a:r>
            <a:r>
              <a:rPr b="0" i="1" lang="en-US" sz="4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en-US" sz="5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e sociološke dileme u hrvatskom društv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eaeaea"/>
                </a:solidFill>
                <a:latin typeface="Arial"/>
              </a:rPr>
              <a:t>Prof. dr. sc. Ognjen Čaldarovi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eaeaea"/>
                </a:solidFill>
                <a:latin typeface="Arial"/>
              </a:rPr>
              <a:t>Filozofski fakultet, Odsjek za sociologiju, Zagre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355B-518C-4EFE-9750-C49B547B02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7. Osnovne dimenzije mobilizirajućeg potencijala rizika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23960"/>
            <a:ext cx="82263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“zamka evidencije”-nepovjerenje u podat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simbolička priroda rizika u distributivnim konfliktima-objektivna i socijalnokonstrukcijska dimenzi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društvena poželjnost ideja u lokalnoj zajednic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strukturalne slabosti agencija za upravljanje rizikom-predstavnici države ili neovisni akteri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“politička paraliza”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717-2385-4ADC-8CFA-200427300A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8. Teorijski pristupi analizi rizik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ocijalna amplifikacija i diminuacija rizika -</a:t>
            </a:r>
            <a:r>
              <a:rPr b="1" lang="hr-HR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imbolička prezentacija rizika toliko je snažna da lako dolazi do pojačavanja svih dojmova o mogućim posljedicama rizi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događaj koji se doživljava hazardnim, u interakciji sa socijalnim i kulturnim procesima, može pojačati, ali i umanjiti percepciju rizika i oblikovati ponašanje prema njem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7FB-FEB7-42FC-809D-AB1251C172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2. socijalna arena rizik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Rizik-socijalni proces koji se odvija u različitim “arenama” (stručna, politička, lokalna, ..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u arenama se sudionici oslanjaju na različite mehanizm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nova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moć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ekspertno znan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socijalni utjecaj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vrijednosna posvećenost problem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6) raspoloživa dokumentacija o riziku-podac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8EE-263C-4BE8-B43E-C9EC8911042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Arial"/>
              </a:rPr>
              <a:t>3. komunikacija rizik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postupci pomoću kojih se može doći do djelotvornijeg upravljanja rizici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Smanjenje rizika kroz komunikaciju rizika?</a:t>
            </a:r>
            <a:r>
              <a:rPr b="0" lang="hr-HR" sz="2800" spc="-1" strike="noStrike">
                <a:solidFill>
                  <a:srgbClr val="65b2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1) angažirati aktivne sudioni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2) postići obostrano povjerenj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3) pojačati stup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nj kolektivne povezan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4) rizici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– da li su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percipira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ni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 kao opća ii specifična, lokalna opasnost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5) pojačati “hipotezu povjerenja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6) pokušaj racionaliziranja situacije .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8F7-CC1F-407B-A232-ECD536D0B0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9. </a:t>
            </a: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Sustav naknada ili kompenzacija-sredstvo za neutralizaciju </a:t>
            </a:r>
            <a:r>
              <a:rPr b="0" i="1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 sindrom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- sustav umanjivanja učinaka sindroma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NIMB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osnovan na pretpostavci da se koncentrirana (lokalna) šteta može kompenzirati ekonomskim (i drugim) sredstvima-na osobnoj i socijetalnoj razin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ljudi radije uživaju prednosti situacije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status quo,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bez obzira na kompenzaciju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- rješenje sindroma NIMBY ne može se tražiti samo u kompenzacijskim mehanizmima? Perspektiva rizika kao socijalne konstrukcije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8B9-7FA5-4769-A613-21E0591CFE1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10. Institucionalna dimenzija sindroma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razina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feed-back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proces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razina razvijenosti političkog susta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načelo distributivne pravde/neprav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predvidljivost ponašanja građ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sindrom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- pretvara se u raspravu o povjerenju u sam politički susta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6) pitanje pravednosti – distribucije, odlučivanja, koristi i šteta, “nas” i “njih”, “mi” i “oni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7) prethistorije i osjećaji o “višku nepravd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DF7-A65C-4BD8-8B3E-3F8168DC78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8) preko ekologijske razine “prelamaju se” mnogo dublja pitan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9) ekologijska razina pokazatelj je stupnja demokratičnosti političkog sustava, stupnja razvijenosti civilnog društ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0)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sindrom NIMBY specifičan je test stupnja razvijenosti civilnog društva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i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u Hrvatskoj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2702-202B-4331-8EAD-6899E32A2F4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5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1. </a:t>
            </a: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ZAKLJUČA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- S porastom stupnja razvijenosti civilnog društva, sindrom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će gubiti na snazi i važnosti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- Što učiniti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razvoj procesa donošenja odluka (lokalna zajednica, neovisni stručnjac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unapređenje transparentnosti tehničke ekspertiz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izrada alternativnih procjena o potencijalnim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elementi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izrada alternativnih kriterija za procjenu opravdanosti rizičnih inicijati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utvrđivanje sličnosti i razlika u distribuciji lokalne pravde i neprav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867-E5ED-489F-BAB6-B76CBA727E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sindrom će vjerojatno nestati (značajno se smanjiti) s hrvatske društvene scene kada kroz razvoj političkog sustava nestane elementarno nepovjerenje u distribuciju pravde/nepravde u društv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kada “teorija urote”, “višak rizika – višak nepravde” ne budu osnovne zamisli o rizik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kada s pravom budemo mogli reći da imamo razvijeno civilno društvo, demokraciju i građane koji neće biti sumnjičavi prema bilo kojoj inicijativi “odozg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A9E-091F-4AC0-BA16-558B9454729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eaeaea"/>
                </a:solidFill>
                <a:latin typeface="Arial"/>
              </a:rPr>
              <a:t>Hvala na pažnji!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CA0-D519-4CC9-9814-DD9141A8E2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-1296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259920"/>
            <a:ext cx="8226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Sadržaj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Uvod: sindrom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ot in my backyard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a obilježja strukture sindroma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a operacionalizacija sindroma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i uvjeti koji dovode do pojave sindroma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e karakteristike sindroma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Sindrom NIMBY i stigmatizacija lokacij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Osnovne dimenzije mobilizirajućeg potencijala rizi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Teorijski pristupi analizi rizi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Sustav naknada ili kompenzacija-sredstvo za neutralizaciju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 sindroma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Institucionalna dimenzija sindroma </a:t>
            </a:r>
            <a:r>
              <a:rPr b="0" i="1" lang="hr-HR" sz="2400" spc="-1" strike="noStrike">
                <a:solidFill>
                  <a:srgbClr val="eaeaea"/>
                </a:solidFill>
                <a:latin typeface="Arial"/>
              </a:rPr>
              <a:t>NIM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aeaea"/>
                </a:solidFill>
                <a:latin typeface="Arial"/>
              </a:rPr>
              <a:t>Zaključa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A06-59B9-4D03-BA6D-09ADBA7B4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Uvod: sindrom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 (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ot in my backyard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Slični pojmovi ... NIMET, NIABY, BANANA,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aeaea"/>
                </a:solidFill>
                <a:latin typeface="Arial"/>
                <a:ea typeface="Arial"/>
              </a:rPr>
              <a:t>→ </a:t>
            </a:r>
            <a:r>
              <a:rPr b="0" lang="hr-HR" sz="3200" spc="-1" strike="noStrike">
                <a:solidFill>
                  <a:srgbClr val="eaeaea"/>
                </a:solidFill>
                <a:latin typeface="Arial"/>
                <a:ea typeface="Arial"/>
              </a:rPr>
              <a:t>generalizirani sindrom odbijanja političkog ustroja donošenja odluk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može se usmjeriti na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1) različite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tehničke 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susta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2) pojedi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3) proizvođače opre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  <a:ea typeface="Arial"/>
              </a:rPr>
              <a:t>4) konkretnog nosioca inicijative za provedbu donesenih odlu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E1C-C89C-4522-93AF-5D7FF18EAB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sindrom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pokazatelj je stupnja funkcioniranja političkog sistema u kojemu se primjenjuje načelo distributivne pravde-neprav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povezanost iskazivanja sindroma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u Hrvatskoj s razvojem civilnog društ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pretpostavka: s rastom djelovanja institucija civilnog društva, rast će i uvjerenje građana da načelo distributivne pravde funkcionira i u slučajevima opasnih i rizičnih postrojenja, te da nitko nije smišljeno napravio iznimku u nečijem slučaj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434-B9C0-4CA8-A0EF-9017C31CAB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2. Osnovna obilježja strukture sindroma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nedostatak povjerenja u vlast i stručnja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predstava, osjećaj o poremećaja načela pravednosti u ravnomjernoj raspodjeli rizi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percepcija utjecaja predloženog projekta na zdravlje i opći stil živo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generalni i specifični strahovi i rizic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problemi koji proistječu iz tehničke racionalnosti i socijalne odgovorn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6) problemi koji proistječu iz nedostatka javne participacije u donošenju odlu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26E-0DBE-4A9C-9ED4-9C692DC5A0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3. Osnovna operacionalizacija sindroma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698120"/>
            <a:ext cx="82263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Da li je problem koji izaziva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NIMBY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reakciju problem sigurnosnog standarda ili institucionalne kontrole, participacije, povjerenja, uvjerenj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Obuhvaća li sve grupe stanovništva ili samo neke kategorije-globalna i lokalna dimenzija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Primjer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: Tsunami u Japanu i NE Fukušima-povezanost prirodnog i tehničkog rizika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E94-36B9-4DEB-90E7-931775357A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4. Osnovni uvjeti koji dovode do pojave sindroma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odnos tehnologije i društ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odnos prirode i društva-ekološka dimenzi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odnos između vlade i segmenata društ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aspekti distributivne jednak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aspekti psihološke konstrukcije opozic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C9E-1F4F-48CB-B253-6CCB35E3AA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5. Osnovne karakteristike sindroma </a:t>
            </a:r>
            <a:r>
              <a:rPr b="0" i="1" lang="hr-HR" sz="32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stra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osjećaj o postojanju nejednakosti i potrebi jednakosti tretm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razlike u koristima i troškovi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nepovjerenje u instituciju vlade i industr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percepcija promjene “imagea” zajedn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6) zbog 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LULU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 sindroma  (</a:t>
            </a:r>
            <a:r>
              <a:rPr b="0" i="1" lang="hr-HR" sz="2800" spc="-1" strike="noStrike">
                <a:solidFill>
                  <a:srgbClr val="eaeaea"/>
                </a:solidFill>
                <a:latin typeface="Arial"/>
              </a:rPr>
              <a:t>locally unwanted land use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) pada vrijednost zemljiš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7) opće ometanje živo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8) osjećaj o poremećaju ideje jednak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A26-D4B1-40D5-BE5E-30D94A302DE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6. Sindrom </a:t>
            </a:r>
            <a:r>
              <a:rPr b="0" i="1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NIMBY</a:t>
            </a:r>
            <a:r>
              <a:rPr b="0" lang="hr-HR" sz="2800" spc="-1" strike="noStrike" u="sng">
                <a:solidFill>
                  <a:srgbClr val="eaeaea"/>
                </a:solidFill>
                <a:uFillTx/>
                <a:latin typeface="Arial"/>
              </a:rPr>
              <a:t> i stigmatizacija lokac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razlozi stigmatizacij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5b2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1) vidljivost instalacij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2) očekivane promjene ambij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3) procjene stupnja narušenosti lokalne oko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4) narušenost estetskih obilježja mjes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5) podrijetlo narušen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eaeaea"/>
                </a:solidFill>
                <a:latin typeface="Arial"/>
              </a:rPr>
              <a:t>6) (pr)ocjena stupnja opasnost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DE3-9B4B-4A08-8DC5-E835AB01A1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4:56:25Z</dcterms:created>
  <dc:creator>ANA</dc:creator>
  <dc:description/>
  <dc:language>en-US</dc:language>
  <cp:lastModifiedBy>nvulic</cp:lastModifiedBy>
  <dcterms:modified xsi:type="dcterms:W3CDTF">2011-10-04T12:22:25Z</dcterms:modified>
  <cp:revision>10</cp:revision>
  <dc:subject/>
  <dc:title>Civilno društvo i sindrom NIMBY:</dc:title>
</cp:coreProperties>
</file>