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marL="1818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 marL="181800" indent="-181800">
              <a:spcBef>
                <a:spcPts val="1199"/>
              </a:spcBef>
              <a:buClr>
                <a:srgbClr val="62b0ff"/>
              </a:buClr>
              <a:buFont typeface="Helvetica Neue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 marL="181800" indent="-181800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 marL="181800" indent="-181800">
              <a:spcBef>
                <a:spcPts val="1199"/>
              </a:spcBef>
              <a:buClr>
                <a:srgbClr val="62b0ff"/>
              </a:buClr>
              <a:buFont typeface="Helvetica Neue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 marL="181800" indent="-181800">
              <a:spcBef>
                <a:spcPts val="1199"/>
              </a:spcBef>
              <a:buClr>
                <a:srgbClr val="62b0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 marL="181800" indent="-181800">
              <a:spcBef>
                <a:spcPts val="1199"/>
              </a:spcBef>
              <a:buClr>
                <a:srgbClr val="ffff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 marL="181800" indent="-181800">
              <a:spcBef>
                <a:spcPts val="1199"/>
              </a:spcBef>
              <a:buClr>
                <a:srgbClr val="ffff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2000"/>
          </a:bodyPr>
          <a:p>
            <a:pPr marL="1782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 marL="178200" indent="-178200">
              <a:spcBef>
                <a:spcPts val="1199"/>
              </a:spcBef>
              <a:buClr>
                <a:srgbClr val="62b0ff"/>
              </a:buClr>
              <a:buFont typeface="Helvetica Neue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 marL="178200" indent="-178200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 marL="178200" indent="-178200">
              <a:spcBef>
                <a:spcPts val="1199"/>
              </a:spcBef>
              <a:buClr>
                <a:srgbClr val="62b0ff"/>
              </a:buClr>
              <a:buFont typeface="Helvetica Neue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 marL="178200" indent="-178200">
              <a:spcBef>
                <a:spcPts val="1199"/>
              </a:spcBef>
              <a:buClr>
                <a:srgbClr val="62b0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 marL="178200" indent="-178200">
              <a:spcBef>
                <a:spcPts val="1199"/>
              </a:spcBef>
              <a:buClr>
                <a:srgbClr val="ffff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 marL="178200" indent="-178200">
              <a:spcBef>
                <a:spcPts val="1199"/>
              </a:spcBef>
              <a:buClr>
                <a:srgbClr val="ffff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marL="1094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 marL="109440" indent="-109440">
              <a:buClr>
                <a:srgbClr val="62b0ff"/>
              </a:buClr>
              <a:buFont typeface="Helvetica Neue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 marL="109440" indent="-109440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 marL="109440" indent="-109440">
              <a:buClr>
                <a:srgbClr val="62b0ff"/>
              </a:buClr>
              <a:buFont typeface="Helvetica Neue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 marL="109440" indent="-109440">
              <a:buClr>
                <a:srgbClr val="62b0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 marL="109440" indent="-109440">
              <a:buClr>
                <a:srgbClr val="ffff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 marL="109440" indent="-109440">
              <a:buClr>
                <a:srgbClr val="ffffff"/>
              </a:buClr>
              <a:buFont typeface="Helvetica Neue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70600" y="1384200"/>
            <a:ext cx="548640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Suvremeno društvo i rizik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87320" y="7264440"/>
            <a:ext cx="1143000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2b0ff"/>
                </a:solidFill>
                <a:latin typeface="Helvetica Neue Light"/>
              </a:rPr>
              <a:t>prof. dr. sc. Ognjen Čaldarović i Jana Šarinić, FFZG</a:t>
            </a:r>
            <a:endParaRPr b="0" lang="en-US" sz="3600" spc="-1" strike="noStrike">
              <a:solidFill>
                <a:srgbClr val="62b0ff"/>
              </a:solidFill>
              <a:latin typeface="Helvetica Neue Light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2b0ff"/>
                </a:solidFill>
                <a:latin typeface="Helvetica Neue Light"/>
              </a:rPr>
              <a:t>STRUČNI SKUP NASTAVNIKA SOCIOLOGIJE I P&amp;Ga</a:t>
            </a:r>
            <a:endParaRPr b="0" lang="en-US" sz="3600" spc="-1" strike="noStrike">
              <a:solidFill>
                <a:srgbClr val="62b0ff"/>
              </a:solidFill>
              <a:latin typeface="Helvetica Neue Light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2b0ff"/>
                </a:solidFill>
                <a:latin typeface="Helvetica Neue Light"/>
              </a:rPr>
              <a:t>Zagreb, 30. rujan 2011.g</a:t>
            </a:r>
            <a:endParaRPr b="0" lang="en-US" sz="3600" spc="-1" strike="noStrike">
              <a:solidFill>
                <a:srgbClr val="62b0ff"/>
              </a:solidFill>
              <a:latin typeface="Helvetica Neue Light"/>
            </a:endParaRPr>
          </a:p>
        </p:txBody>
      </p:sp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552600" y="1447920"/>
            <a:ext cx="576576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71320" y="456840"/>
            <a:ext cx="11861640" cy="883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Opasnosti koje je nemoguće proračunati se, u principu, javljaju u okruženju koje je u principu nepravilno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...” - one su “</a:t>
            </a: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neizvjesnost pod drugim imenom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orijeni naše ranjivosti su “političke i etičke prirode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što su ispale iz društva, nasilno otvorenog pritiskom negativnih globalizacijskih snaga, moć i politika sve više se razdvajaju u međusobno suprotnim pravcima...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Ne postoje lokalna rješenja za globalno stvorene i globalno ojačane probleme, i ne mogu ni postojati. Ponovno sjedinjenje moći i politike morat će se postići na globalnom nivou, ako se uopće postigne.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87320" y="964800"/>
            <a:ext cx="11430000" cy="782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394200" indent="-39420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ecizna podjela rada, stručnosti i funkcija - svaki pothvat uključuje puno ljudi i nitko ne može razumno i uvjerljivo dokazati odgovornost! (“Grijeh bez grešnika, zločin bez zločinaca, krivnja bez krivca!”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stmoderna etika - “skidanje maske iluzije” i stvaranje prilike za “moralizaciju” društvenog život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tička imaginacija nije uspjela i još uvijek ne uspijeva uhvatiti korak s brzorastućom domenom naših odgovornosti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94200" indent="-394200"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umrak ili renesansa moralnosti - to će se tek vidjeti!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787320" y="2755440"/>
            <a:ext cx="11430000" cy="572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 algn="ctr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Hvala na pažnji!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87320" y="558720"/>
            <a:ext cx="11430000" cy="120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sociološka teorija - okvir analize rizika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87320" y="1929960"/>
            <a:ext cx="11430000" cy="737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Weber - racionalizacija; kritika birokratizacije i instrumentalne racionalizacije; Bauman: Holocaust i moderno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asna, tekuća, refleksivna modernost... postmoderno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eck, Giddens: društvo rizika i refleksivna modernizacij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izik i izbjegavanje rizika kao temeljne organizacijske odrednice društv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uštvena konstrukcija rizik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30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J. Urry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11861640" cy="7086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kretljivost (“mobility”) kao ključna paradigma suvremenog društva - “on the move”</a:t>
            </a:r>
            <a:r>
              <a:rPr b="0" lang="ta-IN" sz="3600" spc="-1" strike="noStrike">
                <a:solidFill>
                  <a:srgbClr val="ffffff"/>
                </a:solidFill>
                <a:latin typeface="ヒラギノ角ゴ ProN W3"/>
              </a:rPr>
              <a:t>;  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mobile lives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assive social changes - globalization, mobile technologies, intensive consumerism and climate change - are implicated in the ever-increasing movement of people, things, capital, information and ideas around globe” (Urry, 2010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90000"/>
              </a:lnSpc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ljučni koncepti nove društvenosti su prostor, regije, mreže i tokovi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M. Castells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87320" y="1587600"/>
            <a:ext cx="11430000" cy="761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389880" indent="-3898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formacijsko doba i “umreženo društvo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9880" indent="-3898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velike promjene u poimanju prostora i vremena (“bezvremeno vrijeme”, “prostor tokova” i “prostor mjesta”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9880" indent="-3898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reža kao ključna organizacijska jedinica društvenog život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9880" indent="-389880"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umreženost i isključenost kao dvije suprotnosti današnjic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389880" indent="-38988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umreženost je karakteristična za zločinačke organizacije, a zločin postaje dio društvene strukture (ne samo “siva ekonomija” nego i legalna ekonomija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32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U. Beck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71320" y="1574280"/>
            <a:ext cx="11861640" cy="745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efleksivna modernizacija i “društvo rizika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42400" indent="-402120"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isk may be defined as a systematic way of dealing with the hazards and insecurities induced and introduced by the process of modernization itself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brojni rizici i opasnosti (hazardi) su posljedice znanstvenog i industrijskog razovoj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3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izik kao “proizvedena nesigurnost”; “social hazards” - ne kao što ekonomisti shvaćaju rizik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35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e opasnosti nije moguće ograničiti ni vremenski ni prostorno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refleksivna modernizacija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71320" y="1993680"/>
            <a:ext cx="11861640" cy="726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ao što je modernizacija rastvorila strukturu feudalnog društva u 19. stoljeću i stvorila industrijsko društvo tako danas na prijelazu u 21. stoljeće govorimo o novoj modernizaciji - refleksivnoj modernizaciji industrijskog društv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u klasičnom industrijskom društvu, “logika” proizvodnje dobara  dominira proizvodnjom rizika, u društvu rizika taj odnos je obrnut, rizici više nisu latentni “nusprodukti”; raspodjela dobara i proizvodnja i raspodjela rizika također su obrnut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itanje je kako kontrolirati društveno proizvedene rizik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društvo rizika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1917720"/>
            <a:ext cx="11430000" cy="731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isikogesellschaft” (1986) - društvo  nesigurnosti (suočeni smo sa sustavnom nesigurnosti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izici su danas globalni, oni su implicitne posljedice industrijalizacije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uštvo rizika je katastrofično društvo, u njemu izvanredni uvjeti skoro postaju norm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druga modernost” - društvene promjene traže novi okvir analize - teorijski i metodološki (nacionalizam - kozmopolitanizam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ultura rizika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87320" y="254160"/>
            <a:ext cx="1143000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A. Giddens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87320" y="1777680"/>
            <a:ext cx="11430000" cy="758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kasna modernost - društvo rizika, refleksivnos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manufactured risk” - “external risk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dividualizacija rizika - ovisno o mjestu stanovanja, načinu života, prehrane... ljudi su različito izloženi riziku - važnost dostupnosti znanja i refleksivnih strategija samoaktualizacije - ekspertni sustavi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spcBef>
                <a:spcPts val="35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unaway world” - globalizacija upravlja našim životima, nužno je preuzeti kontrolu (na svakom nivou: osobnom i globalnom - demokratska odgovornost i upravljanje svijetom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Z. Bauman - </a:t>
            </a:r>
            <a:r>
              <a:rPr b="0" lang="en-US" sz="4200" spc="-1" strike="noStrike">
                <a:solidFill>
                  <a:srgbClr val="ffffff"/>
                </a:solidFill>
                <a:latin typeface="Helvetica Neue Light"/>
              </a:rPr>
              <a:t>Liquid Fear (2006/7)</a:t>
            </a:r>
            <a:endParaRPr b="0" lang="en-US" sz="4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71320" y="2057400"/>
            <a:ext cx="11861640" cy="7137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Ono što svijet čini ranjivim prvenstveno su opasnosti od mogućnosti koje je </a:t>
            </a:r>
            <a:r>
              <a:rPr b="0" i="1" lang="en-US" sz="3600" spc="-1" strike="noStrike">
                <a:solidFill>
                  <a:srgbClr val="ffffff"/>
                </a:solidFill>
                <a:latin typeface="Helvetica Neue Light"/>
              </a:rPr>
              <a:t>nemoguće proračunati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, što je potpuno drugačiji fenomen od onih na koje se kocept “rizika“ obično odnosi.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35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deja “rizika” indirektno ponavlja i prešutno reafirmira pretpostavku suštinske regularnosti svijeta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2120" indent="-402120">
              <a:spcBef>
                <a:spcPts val="35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negativna globalizacija”- “visokoselektivna globalizacija trgovine i kapitala, nadgledanja i informacija, prinude i oružja, kriminala i terorizma” - sve to “pokazuje prezir prema teritorijalnom suverenitetu i nepoštovanje državnih granica”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vulic</cp:lastModifiedBy>
  <dcterms:modified xsi:type="dcterms:W3CDTF">2011-10-04T12:23:30Z</dcterms:modified>
  <cp:revision>1</cp:revision>
  <dc:subject/>
  <dc:title>Suvremeno društvo i rizik  </dc:title>
</cp:coreProperties>
</file>