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261E-D66A-4B36-B7CD-4316DE66964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9B60-18F9-4F80-B1B0-937B17B00E2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89F5-7515-4476-AEDF-17EC68703CF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 u="sng">
                <a:solidFill>
                  <a:srgbClr val="000000"/>
                </a:solidFill>
                <a:uFillTx/>
                <a:latin typeface="Calibri"/>
              </a:rPr>
              <a:t>Galerijsk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Male grupe označene brojevima; zatim velike od predstavnika svih malih; obilaze se pojedina radna mjesta, predstavnik svake male grupe objašnjava svima; pomicanje npr. u smjeru kazaljke na satu; ograničeno vrij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 u="sng">
                <a:solidFill>
                  <a:srgbClr val="000000"/>
                </a:solidFill>
                <a:uFillTx/>
                <a:latin typeface="Calibri"/>
              </a:rPr>
              <a:t>Nakon izlaganj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čenici pišu zaključno izvješć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ije prezentacije pišu tri važna pitanja na koja će odgovori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smeno odgovar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95CD-CAD0-4C7D-99D4-45A3817E1D9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KONSTRUKCIJA – važno je da učitelj ne prenosi znanje učeniku; svatko tko uči najprije konstruira značenje (smisao) na što ga potiču zadatci na nastavnim materijalima. U ovoj se fazi </a:t>
            </a: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konstrukcije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edznanje povezuje s novim znanj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429A-BEDA-4C3D-90D2-5552E7644E1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3C22-275D-4732-9439-A0727D001B9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faza – faza individualne obrade (konstrukcija) – rad u </a:t>
            </a: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matičnoj grupi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ili za domaću zadaću; </a:t>
            </a:r>
            <a:r>
              <a:rPr b="1" i="1" lang="hr-HR" sz="1200" spc="-1" strike="noStrike">
                <a:solidFill>
                  <a:srgbClr val="000000"/>
                </a:solidFill>
                <a:latin typeface="Calibri"/>
              </a:rPr>
              <a:t>što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prenijeti, </a:t>
            </a:r>
            <a:r>
              <a:rPr b="1" i="1" lang="hr-HR" sz="1200" spc="-1" strike="noStrike">
                <a:solidFill>
                  <a:srgbClr val="000000"/>
                </a:solidFill>
                <a:latin typeface="Calibri"/>
              </a:rPr>
              <a:t>kako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prenijeti i kako konsolidirati zn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faza – faza suradničke obrade (sukonstrukcija) – rad u </a:t>
            </a: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stručnoj gru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jedan prezentira, drugi dopunjuju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- jedan od temeljnih oblika razmjene; učenici rješavaju raznovrsne zadatk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faza – faza prenošenja (instrukcija) – rad u </a:t>
            </a: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matičnoj gru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stručnjaci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preuzimaju ulogu nastavni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harearound” -  jedan od temeljnih oblika razmjene; učenici rješavaju istovrsne zadatke; prezentacija u smjeru kazaljke na sa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 određeno vrijeme za prezentaciju; mogućnost priključivanja drugoj grupi ako neki stručnjak nije nazoč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 mogućnost dvostrukih stručnja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faza – faza prezentacije i integracije – frontalni r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ozvani prezentiraju o područjima koja nisu obrađivali u stručnim grupama; nastavnik može putem nastavnoga razgovora s učenicima napraviti skicu na ploči koja prikazuje najvažnije rezul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Napom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06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 Zadaci trebaju biti podjednako teški (obimn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 Upute trebaju biti jasne i jednostavne, a materijal dobro označ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62FE-D72C-4CE6-973A-703B4F4A05F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7365-5722-4874-B96E-F2C31F7B9AB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AD18-120D-47CA-8756-F6C9F104AC1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ABF0-F037-4BEA-A761-59212D8DD2C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5A48-1BD6-45EF-9022-8F6AA1B8F1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2F41-824A-4EC0-88E1-252B97685A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1247-FDDE-484A-8C80-F7BF427AEEC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AA35-10C2-450A-8352-D15047A3CCF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 u="sng">
                <a:solidFill>
                  <a:srgbClr val="000000"/>
                </a:solidFill>
                <a:uFillTx/>
                <a:latin typeface="Calibri"/>
              </a:rPr>
              <a:t>Praktične upu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 Veliki papir je privlačniji za r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redina papira se može izrezati (i poslužiti za razredni poster ili plan ploč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Na sredinu se može staviti prozirn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ako nema velikog papira mogu se upotrijebiti mali, za svakog učenika (kružna razmjena) i jedan zajednič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904E-26AA-42ED-BD66-9F219C29A42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165F-2D67-43A7-9F5B-4E2245CDE6B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4E84-623F-481D-A6A7-894FEEAA325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6325-2288-4756-9E73-B5B10C4054F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4C46-F41E-41FF-B2FB-80509ED26B4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BE0F-A0B8-4047-B613-834D9E94092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786-FA32-4528-B240-0058708C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EC2-727C-451B-AF9F-86E89894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B77E-C2A0-4864-BD3A-7DFAC85E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2681-4AE0-4B10-ADDE-2BFE9AEA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318D-39EE-45B5-85E8-831311F1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ED37-E0EF-437F-8F06-2142D492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D318-C93B-4FC8-B630-9E9212E0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9E16-09B9-4732-AA1D-D57F5978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5CA2-660C-4EE0-9389-7B2DA62A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6BF8-CC21-4AEA-9FA2-91A6EE20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5267-FC73-4134-B4E5-BAC9D456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52E-06E7-4712-83D8-CBB76069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EAD6-17CF-45B8-A974-0D0E431C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ACF8-BC39-455B-BB94-E04CD972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6125-F821-4C15-A447-680C9FA0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D0C9-A5AB-401C-9617-3A2C8680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63F6-04CA-4BF4-805D-13F64592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028B7-610D-493A-8A2B-E4EBB85A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DBBA1-7384-4C95-A77B-54E9F0E9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1072-172D-4481-8735-F69BE87D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005CD-6B44-4EC6-AFBB-E11DEE8A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0AF16-D265-4515-B460-98E6A437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DAA-7E1B-494E-86DA-A9AAD99F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39040-4E8B-448C-ADB9-591DDFF4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A220A-737F-4D3B-9C3B-A124D1E5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79746-A6A5-4AE5-95EA-3409BD21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49402-46A5-432F-9A52-F8E4B5FD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21840-B09D-43AB-BC45-695C8FF3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78F2F-F1E1-4939-B5B2-631098A8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CDA8C-20F4-4BEE-9F80-65F61461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B6336-A62D-43E2-935F-46C13D72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4DE40-18D2-431A-A9D1-2D50FE43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B5C87-49EB-403F-95BC-E91A6C42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1D3-1404-43A4-9DA0-66B42BCE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6BC67-74CA-4E38-BE82-850E62B9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897F2-4E4C-4D6A-B0C4-CFD308AB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4A2C1-C292-4DA6-BF56-5AF63606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894A6-DA38-424F-9131-6B58612D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75E50-EAC5-405E-B564-648A03C5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CBB0C-F36C-4E2C-A31A-431500D9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F0B3E-CCDA-4E37-A3AC-70C145FE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4013B-09C8-4C3F-A726-4FB88A38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3DD5A-77E6-49CC-A3ED-10A65159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0C4-FC24-489E-AA3D-1C953DD6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2C31-86DD-456A-93FE-80F9F090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744-41A6-4CF8-80DA-B351A332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6D6-3B18-4087-9649-4E95ADA3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916C-DE77-4D68-A1AA-7C4A1490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66D9-EAF6-4EC1-B5C1-6227D2FD6AB2}" type="slidenum"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EDD0-0F42-4E2A-9FC2-2065FB2B29AF}" type="slidenum"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0A13-8EE5-4F9D-803E-4BC3715D00C7}" type="slidenum"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9F9E-C21E-4E72-B684-C224EE04E97E}" type="slidenum"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225360" y="1255680"/>
            <a:ext cx="875988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Marina Niš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Viša savjetnica za biologij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nstantia"/>
              </a:rPr>
              <a:t>AZOO, Podružnica Osijek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46b86"/>
                </a:solidFill>
                <a:latin typeface="Calibri"/>
              </a:rPr>
              <a:t>Razmjena: Intervju</a:t>
            </a:r>
            <a:br>
              <a:rPr sz="3600"/>
            </a:br>
            <a:endParaRPr b="0" lang="en-US" sz="3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ntervju u tri korak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ntervju s promatračem u tročlanim grupam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ntervju s analitičarem u četveročlanim grupam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FAZA IZLAGANJ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12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moću grafičkih prikaza (važnost vizualiziranja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Galerijski obilaza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Nakon izlaganj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vratak učeniku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ažetak nastavnik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68" name="Straight Arrow Connector 6"/>
          <p:cNvCxnSpPr/>
          <p:nvPr/>
        </p:nvCxnSpPr>
        <p:spPr>
          <a:xfrm flipH="1">
            <a:off x="2819160" y="4571640"/>
            <a:ext cx="838800" cy="305640"/>
          </a:xfrm>
          <a:prstGeom prst="straightConnector1">
            <a:avLst/>
          </a:prstGeom>
          <a:ln w="63360">
            <a:solidFill>
              <a:srgbClr val="9b4632"/>
            </a:solidFill>
            <a:miter/>
            <a:tailEnd len="med" type="triangle" w="med"/>
          </a:ln>
        </p:spPr>
      </p:cxnSp>
      <p:cxnSp>
        <p:nvCxnSpPr>
          <p:cNvPr id="269" name="Straight Arrow Connector 8"/>
          <p:cNvCxnSpPr/>
          <p:nvPr/>
        </p:nvCxnSpPr>
        <p:spPr>
          <a:xfrm>
            <a:off x="5791320" y="4648320"/>
            <a:ext cx="838800" cy="381600"/>
          </a:xfrm>
          <a:prstGeom prst="straightConnector1">
            <a:avLst/>
          </a:prstGeom>
          <a:ln w="63360">
            <a:solidFill>
              <a:srgbClr val="9b463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Konstruktivistička teorija učenj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76520"/>
            <a:ext cx="25909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00400" y="167652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6172200" y="1295280"/>
            <a:ext cx="2743200" cy="5334120"/>
          </a:xfrm>
          <a:prstGeom prst="rect">
            <a:avLst/>
          </a:prstGeom>
          <a:noFill/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nstantia"/>
              </a:rPr>
              <a:t>INSTRU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6477120" y="1371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INSTR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3048120" y="1295280"/>
            <a:ext cx="2971800" cy="533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nstantia"/>
              </a:rPr>
              <a:t>(u fazi razmjene); učenik razmjenjuje spoznaje s partnerom ili grupom učenika; uspoređuje svoje s njihovim konstrukcijama i preispituje svoje konstrukcije; posljedica je ispravljanje ili proširivanje vlastitog znanja (sukonstrukc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3200400" y="12952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SUKONSTRUKCIJA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152280" y="1295280"/>
            <a:ext cx="2743200" cy="533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1"/>
          <p:cNvSpPr/>
          <p:nvPr/>
        </p:nvSpPr>
        <p:spPr>
          <a:xfrm>
            <a:off x="533520" y="13716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KONSTR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2"/>
          <p:cNvSpPr/>
          <p:nvPr/>
        </p:nvSpPr>
        <p:spPr>
          <a:xfrm>
            <a:off x="152280" y="1600200"/>
            <a:ext cx="28195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u fazi razmišljanja tijekom individualnog rad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čenik konstruira značenje (konstrukcija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ovo se znanje povezuje s postojećim znanjem i iskustv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UČ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Elbow Connector 14"/>
          <p:cNvCxnSpPr/>
          <p:nvPr/>
        </p:nvCxnSpPr>
        <p:spPr>
          <a:xfrm flipH="1" rot="16200000">
            <a:off x="1561320" y="5524200"/>
            <a:ext cx="457920" cy="229320"/>
          </a:xfrm>
          <a:prstGeom prst="bentConnector3">
            <a:avLst>
              <a:gd name="adj1" fmla="val 49960"/>
            </a:avLst>
          </a:prstGeom>
          <a:ln w="19080">
            <a:solidFill>
              <a:srgbClr val="9b4632"/>
            </a:solidFill>
            <a:miter/>
            <a:tailEnd len="med" type="triangle" w="med"/>
          </a:ln>
        </p:spPr>
      </p:cxnSp>
      <p:sp>
        <p:nvSpPr>
          <p:cNvPr id="281" name="TextBox 15"/>
          <p:cNvSpPr/>
          <p:nvPr/>
        </p:nvSpPr>
        <p:spPr>
          <a:xfrm>
            <a:off x="1066680" y="205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6"/>
          <p:cNvSpPr/>
          <p:nvPr/>
        </p:nvSpPr>
        <p:spPr>
          <a:xfrm>
            <a:off x="3048120" y="1905120"/>
            <a:ext cx="2895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 fazi razmje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čenik razmjenjuje spoznaje s partnerom ili grupom učenik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spoređuje i preispituje svoje konstrukci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S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LI  PROŠIRIVANJE VLASTITOG ZNANJA (SUKONSTRUKC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Elbow Connector 18"/>
          <p:cNvCxnSpPr/>
          <p:nvPr/>
        </p:nvCxnSpPr>
        <p:spPr>
          <a:xfrm flipH="1" rot="16200000">
            <a:off x="4647240" y="4419360"/>
            <a:ext cx="457920" cy="305640"/>
          </a:xfrm>
          <a:prstGeom prst="bentConnector3">
            <a:avLst>
              <a:gd name="adj1" fmla="val 49960"/>
            </a:avLst>
          </a:prstGeom>
          <a:ln w="19080">
            <a:solidFill>
              <a:srgbClr val="9b4632"/>
            </a:solidFill>
            <a:miter/>
            <a:tailEnd len="med" type="triangle" w="med"/>
          </a:ln>
        </p:spPr>
      </p:cxnSp>
      <p:sp>
        <p:nvSpPr>
          <p:cNvPr id="284" name="TextBox 31"/>
          <p:cNvSpPr/>
          <p:nvPr/>
        </p:nvSpPr>
        <p:spPr>
          <a:xfrm>
            <a:off x="6172200" y="762120"/>
            <a:ext cx="27432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 fazi prezentaci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gradnja u svoju mentalnu mrež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jedinci ili grupe instruiraju druge iznoseći rezultate svoga 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NSTRUK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Elbow Connector 33"/>
          <p:cNvCxnSpPr/>
          <p:nvPr/>
        </p:nvCxnSpPr>
        <p:spPr>
          <a:xfrm flipH="1" rot="16200000">
            <a:off x="7391160" y="4571640"/>
            <a:ext cx="762840" cy="305280"/>
          </a:xfrm>
          <a:prstGeom prst="bentConnector3">
            <a:avLst>
              <a:gd name="adj1" fmla="val 50000"/>
            </a:avLst>
          </a:prstGeom>
          <a:ln w="19080">
            <a:solidFill>
              <a:srgbClr val="9b463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Aktiviranje svih učenik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rijedlog: 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GRUPNA SLAGALICA 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(engl. Jigsaw–Classroom – “metoda pilice”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etoda ili organizacijski oblik suradničkoga učen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8" name="Picture 5" descr="D:\Moji radovi\Suradničko učenje\imagesCAD4N1T6.jpg"/>
          <p:cNvPicPr/>
          <p:nvPr/>
        </p:nvPicPr>
        <p:blipFill>
          <a:blip r:embed="rId1"/>
          <a:stretch/>
        </p:blipFill>
        <p:spPr>
          <a:xfrm>
            <a:off x="6629400" y="91440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D:\Moji radovi\Suradničko učenje\imagesCAD4N1T6.jpg"/>
          <p:cNvPicPr/>
          <p:nvPr/>
        </p:nvPicPr>
        <p:blipFill>
          <a:blip r:embed="rId1"/>
          <a:stretch/>
        </p:blipFill>
        <p:spPr>
          <a:xfrm>
            <a:off x="4267080" y="304920"/>
            <a:ext cx="1333800" cy="1333440"/>
          </a:xfrm>
          <a:prstGeom prst="rect">
            <a:avLst/>
          </a:prstGeom>
          <a:ln w="0">
            <a:noFill/>
          </a:ln>
        </p:spPr>
      </p:pic>
      <p:sp>
        <p:nvSpPr>
          <p:cNvPr id="290" name="Freeform 5"/>
          <p:cNvSpPr/>
          <p:nvPr/>
        </p:nvSpPr>
        <p:spPr>
          <a:xfrm>
            <a:off x="7391520" y="2057400"/>
            <a:ext cx="38088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e947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6"/>
          <p:cNvSpPr/>
          <p:nvPr/>
        </p:nvSpPr>
        <p:spPr>
          <a:xfrm>
            <a:off x="7391520" y="2438280"/>
            <a:ext cx="38088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e947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7848720" y="2514600"/>
            <a:ext cx="38088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e947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1600200" y="4114800"/>
            <a:ext cx="38088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e947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3429000" y="4114800"/>
            <a:ext cx="38088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e947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5562720" y="4114800"/>
            <a:ext cx="38088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e947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7315200" y="3886200"/>
            <a:ext cx="38088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e947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2"/>
          <p:cNvSpPr/>
          <p:nvPr/>
        </p:nvSpPr>
        <p:spPr>
          <a:xfrm>
            <a:off x="7543800" y="5105520"/>
            <a:ext cx="38088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e947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3"/>
          <p:cNvSpPr/>
          <p:nvPr/>
        </p:nvSpPr>
        <p:spPr>
          <a:xfrm>
            <a:off x="7848720" y="5486400"/>
            <a:ext cx="38088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e947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4"/>
          <p:cNvSpPr/>
          <p:nvPr/>
        </p:nvSpPr>
        <p:spPr>
          <a:xfrm>
            <a:off x="7238880" y="5410080"/>
            <a:ext cx="38124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e947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5"/>
          <p:cNvSpPr/>
          <p:nvPr/>
        </p:nvSpPr>
        <p:spPr>
          <a:xfrm>
            <a:off x="7467480" y="5715000"/>
            <a:ext cx="38124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e947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6"/>
          <p:cNvSpPr/>
          <p:nvPr/>
        </p:nvSpPr>
        <p:spPr>
          <a:xfrm>
            <a:off x="5638680" y="2057400"/>
            <a:ext cx="30492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00f66f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7"/>
          <p:cNvSpPr/>
          <p:nvPr/>
        </p:nvSpPr>
        <p:spPr>
          <a:xfrm>
            <a:off x="6095880" y="2133720"/>
            <a:ext cx="304920" cy="30456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00f66f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8"/>
          <p:cNvSpPr/>
          <p:nvPr/>
        </p:nvSpPr>
        <p:spPr>
          <a:xfrm>
            <a:off x="6172200" y="2514600"/>
            <a:ext cx="30492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00f66f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9"/>
          <p:cNvSpPr/>
          <p:nvPr/>
        </p:nvSpPr>
        <p:spPr>
          <a:xfrm>
            <a:off x="5638680" y="2514600"/>
            <a:ext cx="30492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00f66f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0"/>
          <p:cNvSpPr/>
          <p:nvPr/>
        </p:nvSpPr>
        <p:spPr>
          <a:xfrm>
            <a:off x="7924680" y="3886200"/>
            <a:ext cx="30492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00f66f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1"/>
          <p:cNvSpPr/>
          <p:nvPr/>
        </p:nvSpPr>
        <p:spPr>
          <a:xfrm>
            <a:off x="6019920" y="3886200"/>
            <a:ext cx="30456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00f66f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2"/>
          <p:cNvSpPr/>
          <p:nvPr/>
        </p:nvSpPr>
        <p:spPr>
          <a:xfrm>
            <a:off x="1828800" y="3809880"/>
            <a:ext cx="30492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00f66f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3"/>
          <p:cNvSpPr/>
          <p:nvPr/>
        </p:nvSpPr>
        <p:spPr>
          <a:xfrm>
            <a:off x="3733920" y="3809880"/>
            <a:ext cx="30456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00f66f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5105520" y="5486400"/>
            <a:ext cx="30456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00f66f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5"/>
          <p:cNvSpPr/>
          <p:nvPr/>
        </p:nvSpPr>
        <p:spPr>
          <a:xfrm>
            <a:off x="5715000" y="5486400"/>
            <a:ext cx="30492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00f66f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7"/>
          <p:cNvSpPr/>
          <p:nvPr/>
        </p:nvSpPr>
        <p:spPr>
          <a:xfrm>
            <a:off x="5410080" y="5715000"/>
            <a:ext cx="30492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00f66f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8"/>
          <p:cNvSpPr/>
          <p:nvPr/>
        </p:nvSpPr>
        <p:spPr>
          <a:xfrm>
            <a:off x="5410080" y="5105520"/>
            <a:ext cx="304920" cy="30456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00f66f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9"/>
          <p:cNvSpPr/>
          <p:nvPr/>
        </p:nvSpPr>
        <p:spPr>
          <a:xfrm>
            <a:off x="1219320" y="2057400"/>
            <a:ext cx="30456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2605ed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0"/>
          <p:cNvSpPr/>
          <p:nvPr/>
        </p:nvSpPr>
        <p:spPr>
          <a:xfrm>
            <a:off x="5410080" y="3657600"/>
            <a:ext cx="30492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2605ed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1"/>
          <p:cNvSpPr/>
          <p:nvPr/>
        </p:nvSpPr>
        <p:spPr>
          <a:xfrm>
            <a:off x="7391520" y="3505320"/>
            <a:ext cx="304560" cy="30456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2605ed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2"/>
          <p:cNvSpPr/>
          <p:nvPr/>
        </p:nvSpPr>
        <p:spPr>
          <a:xfrm>
            <a:off x="1371600" y="2438280"/>
            <a:ext cx="30492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2605ed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3"/>
          <p:cNvSpPr/>
          <p:nvPr/>
        </p:nvSpPr>
        <p:spPr>
          <a:xfrm>
            <a:off x="1676520" y="2514600"/>
            <a:ext cx="30456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2605ed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4"/>
          <p:cNvSpPr/>
          <p:nvPr/>
        </p:nvSpPr>
        <p:spPr>
          <a:xfrm>
            <a:off x="1676520" y="1981080"/>
            <a:ext cx="30456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2605ed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5"/>
          <p:cNvSpPr/>
          <p:nvPr/>
        </p:nvSpPr>
        <p:spPr>
          <a:xfrm>
            <a:off x="1447920" y="3809880"/>
            <a:ext cx="30456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2605ed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6"/>
          <p:cNvSpPr/>
          <p:nvPr/>
        </p:nvSpPr>
        <p:spPr>
          <a:xfrm>
            <a:off x="3276720" y="3733920"/>
            <a:ext cx="304560" cy="30456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2605ed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7"/>
          <p:cNvSpPr/>
          <p:nvPr/>
        </p:nvSpPr>
        <p:spPr>
          <a:xfrm>
            <a:off x="1905120" y="5410080"/>
            <a:ext cx="30456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2605ed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8"/>
          <p:cNvSpPr/>
          <p:nvPr/>
        </p:nvSpPr>
        <p:spPr>
          <a:xfrm>
            <a:off x="1523880" y="5638680"/>
            <a:ext cx="30492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2605ed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9"/>
          <p:cNvSpPr/>
          <p:nvPr/>
        </p:nvSpPr>
        <p:spPr>
          <a:xfrm>
            <a:off x="1905120" y="5029200"/>
            <a:ext cx="30456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2605ed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0"/>
          <p:cNvSpPr/>
          <p:nvPr/>
        </p:nvSpPr>
        <p:spPr>
          <a:xfrm>
            <a:off x="1447920" y="5181480"/>
            <a:ext cx="304560" cy="30492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2605ed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41"/>
          <p:cNvSpPr/>
          <p:nvPr/>
        </p:nvSpPr>
        <p:spPr>
          <a:xfrm>
            <a:off x="3124080" y="5410080"/>
            <a:ext cx="30492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42"/>
          <p:cNvSpPr/>
          <p:nvPr/>
        </p:nvSpPr>
        <p:spPr>
          <a:xfrm>
            <a:off x="3429000" y="5105520"/>
            <a:ext cx="30492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43"/>
          <p:cNvSpPr/>
          <p:nvPr/>
        </p:nvSpPr>
        <p:spPr>
          <a:xfrm>
            <a:off x="3429000" y="5715000"/>
            <a:ext cx="30492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44"/>
          <p:cNvSpPr/>
          <p:nvPr/>
        </p:nvSpPr>
        <p:spPr>
          <a:xfrm>
            <a:off x="3733920" y="5334120"/>
            <a:ext cx="30456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45"/>
          <p:cNvSpPr/>
          <p:nvPr/>
        </p:nvSpPr>
        <p:spPr>
          <a:xfrm>
            <a:off x="1295280" y="4114800"/>
            <a:ext cx="30492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46"/>
          <p:cNvSpPr/>
          <p:nvPr/>
        </p:nvSpPr>
        <p:spPr>
          <a:xfrm>
            <a:off x="3505320" y="3581280"/>
            <a:ext cx="30456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47"/>
          <p:cNvSpPr/>
          <p:nvPr/>
        </p:nvSpPr>
        <p:spPr>
          <a:xfrm>
            <a:off x="5791320" y="3657600"/>
            <a:ext cx="30456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48"/>
          <p:cNvSpPr/>
          <p:nvPr/>
        </p:nvSpPr>
        <p:spPr>
          <a:xfrm>
            <a:off x="7772400" y="3581280"/>
            <a:ext cx="30492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49"/>
          <p:cNvSpPr/>
          <p:nvPr/>
        </p:nvSpPr>
        <p:spPr>
          <a:xfrm>
            <a:off x="3657600" y="2438280"/>
            <a:ext cx="30492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50"/>
          <p:cNvSpPr/>
          <p:nvPr/>
        </p:nvSpPr>
        <p:spPr>
          <a:xfrm>
            <a:off x="3276720" y="2209680"/>
            <a:ext cx="30456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51"/>
          <p:cNvSpPr/>
          <p:nvPr/>
        </p:nvSpPr>
        <p:spPr>
          <a:xfrm>
            <a:off x="3809880" y="2057400"/>
            <a:ext cx="30492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52"/>
          <p:cNvSpPr/>
          <p:nvPr/>
        </p:nvSpPr>
        <p:spPr>
          <a:xfrm>
            <a:off x="3352680" y="1905120"/>
            <a:ext cx="304920" cy="228600"/>
          </a:xfrm>
          <a:custGeom>
            <a:avLst/>
            <a:gdLst/>
            <a:ahLst/>
            <a:rect l="l" t="t" r="r" b="b"/>
            <a:pathLst>
              <a:path w="740475" h="418505">
                <a:moveTo>
                  <a:pt x="107063" y="163604"/>
                </a:moveTo>
                <a:cubicBezTo>
                  <a:pt x="127075" y="163604"/>
                  <a:pt x="137720" y="176256"/>
                  <a:pt x="153244" y="182077"/>
                </a:cubicBezTo>
                <a:cubicBezTo>
                  <a:pt x="162360" y="185496"/>
                  <a:pt x="171218" y="191313"/>
                  <a:pt x="180954" y="191313"/>
                </a:cubicBezTo>
                <a:cubicBezTo>
                  <a:pt x="190690" y="191313"/>
                  <a:pt x="199427" y="185156"/>
                  <a:pt x="208663" y="182077"/>
                </a:cubicBezTo>
                <a:cubicBezTo>
                  <a:pt x="214820" y="172841"/>
                  <a:pt x="225310" y="165318"/>
                  <a:pt x="227135" y="154368"/>
                </a:cubicBezTo>
                <a:cubicBezTo>
                  <a:pt x="228736" y="144765"/>
                  <a:pt x="222253" y="135367"/>
                  <a:pt x="217899" y="126659"/>
                </a:cubicBezTo>
                <a:cubicBezTo>
                  <a:pt x="202505" y="95872"/>
                  <a:pt x="199425" y="98949"/>
                  <a:pt x="171717" y="80477"/>
                </a:cubicBezTo>
                <a:cubicBezTo>
                  <a:pt x="174796" y="71241"/>
                  <a:pt x="174872" y="60371"/>
                  <a:pt x="180954" y="52768"/>
                </a:cubicBezTo>
                <a:cubicBezTo>
                  <a:pt x="223169" y="0"/>
                  <a:pt x="378225" y="43219"/>
                  <a:pt x="384154" y="43531"/>
                </a:cubicBezTo>
                <a:cubicBezTo>
                  <a:pt x="377996" y="52768"/>
                  <a:pt x="373531" y="63391"/>
                  <a:pt x="365681" y="71241"/>
                </a:cubicBezTo>
                <a:cubicBezTo>
                  <a:pt x="304102" y="132820"/>
                  <a:pt x="368763" y="43527"/>
                  <a:pt x="319499" y="117422"/>
                </a:cubicBezTo>
                <a:cubicBezTo>
                  <a:pt x="322578" y="126658"/>
                  <a:pt x="322653" y="137528"/>
                  <a:pt x="328735" y="145131"/>
                </a:cubicBezTo>
                <a:cubicBezTo>
                  <a:pt x="341757" y="161408"/>
                  <a:pt x="365900" y="166756"/>
                  <a:pt x="384154" y="172841"/>
                </a:cubicBezTo>
                <a:cubicBezTo>
                  <a:pt x="401833" y="169894"/>
                  <a:pt x="458044" y="174376"/>
                  <a:pt x="458044" y="135895"/>
                </a:cubicBezTo>
                <a:cubicBezTo>
                  <a:pt x="458044" y="116423"/>
                  <a:pt x="445730" y="98950"/>
                  <a:pt x="439572" y="80477"/>
                </a:cubicBezTo>
                <a:lnTo>
                  <a:pt x="430335" y="52768"/>
                </a:lnTo>
                <a:cubicBezTo>
                  <a:pt x="509302" y="26446"/>
                  <a:pt x="466432" y="31880"/>
                  <a:pt x="559644" y="43531"/>
                </a:cubicBezTo>
                <a:cubicBezTo>
                  <a:pt x="556565" y="52768"/>
                  <a:pt x="554762" y="62533"/>
                  <a:pt x="550408" y="71241"/>
                </a:cubicBezTo>
                <a:cubicBezTo>
                  <a:pt x="514597" y="142864"/>
                  <a:pt x="545915" y="57009"/>
                  <a:pt x="522699" y="126659"/>
                </a:cubicBezTo>
                <a:cubicBezTo>
                  <a:pt x="525778" y="135895"/>
                  <a:pt x="522490" y="152007"/>
                  <a:pt x="531935" y="154368"/>
                </a:cubicBezTo>
                <a:cubicBezTo>
                  <a:pt x="575159" y="165174"/>
                  <a:pt x="595006" y="146187"/>
                  <a:pt x="624299" y="126659"/>
                </a:cubicBezTo>
                <a:cubicBezTo>
                  <a:pt x="652008" y="129738"/>
                  <a:pt x="681540" y="125541"/>
                  <a:pt x="707426" y="135895"/>
                </a:cubicBezTo>
                <a:cubicBezTo>
                  <a:pt x="716466" y="139511"/>
                  <a:pt x="712309" y="154896"/>
                  <a:pt x="716663" y="163604"/>
                </a:cubicBezTo>
                <a:cubicBezTo>
                  <a:pt x="721627" y="173533"/>
                  <a:pt x="728978" y="182077"/>
                  <a:pt x="735135" y="191313"/>
                </a:cubicBezTo>
                <a:cubicBezTo>
                  <a:pt x="732056" y="206707"/>
                  <a:pt x="740475" y="231664"/>
                  <a:pt x="725899" y="237495"/>
                </a:cubicBezTo>
                <a:cubicBezTo>
                  <a:pt x="700014" y="247849"/>
                  <a:pt x="670652" y="228259"/>
                  <a:pt x="642772" y="228259"/>
                </a:cubicBezTo>
                <a:cubicBezTo>
                  <a:pt x="614892" y="228259"/>
                  <a:pt x="587353" y="234416"/>
                  <a:pt x="559644" y="237495"/>
                </a:cubicBezTo>
                <a:cubicBezTo>
                  <a:pt x="550408" y="240574"/>
                  <a:pt x="533415" y="237108"/>
                  <a:pt x="531935" y="246731"/>
                </a:cubicBezTo>
                <a:cubicBezTo>
                  <a:pt x="524095" y="297692"/>
                  <a:pt x="538389" y="346434"/>
                  <a:pt x="550408" y="394513"/>
                </a:cubicBezTo>
                <a:cubicBezTo>
                  <a:pt x="541172" y="400671"/>
                  <a:pt x="533754" y="411981"/>
                  <a:pt x="522699" y="412986"/>
                </a:cubicBezTo>
                <a:cubicBezTo>
                  <a:pt x="461991" y="418505"/>
                  <a:pt x="458639" y="410304"/>
                  <a:pt x="421099" y="385277"/>
                </a:cubicBezTo>
                <a:cubicBezTo>
                  <a:pt x="414666" y="375627"/>
                  <a:pt x="390840" y="345156"/>
                  <a:pt x="393390" y="329859"/>
                </a:cubicBezTo>
                <a:cubicBezTo>
                  <a:pt x="395215" y="318909"/>
                  <a:pt x="405705" y="311386"/>
                  <a:pt x="411863" y="302150"/>
                </a:cubicBezTo>
                <a:cubicBezTo>
                  <a:pt x="389583" y="268730"/>
                  <a:pt x="367208" y="217495"/>
                  <a:pt x="301026" y="283677"/>
                </a:cubicBezTo>
                <a:cubicBezTo>
                  <a:pt x="287972" y="296731"/>
                  <a:pt x="311631" y="361671"/>
                  <a:pt x="319499" y="385277"/>
                </a:cubicBezTo>
                <a:cubicBezTo>
                  <a:pt x="310263" y="388356"/>
                  <a:pt x="301526" y="394513"/>
                  <a:pt x="291790" y="394513"/>
                </a:cubicBezTo>
                <a:cubicBezTo>
                  <a:pt x="210847" y="394513"/>
                  <a:pt x="213761" y="393134"/>
                  <a:pt x="162481" y="376041"/>
                </a:cubicBezTo>
                <a:cubicBezTo>
                  <a:pt x="156323" y="366804"/>
                  <a:pt x="146929" y="359041"/>
                  <a:pt x="144008" y="348331"/>
                </a:cubicBezTo>
                <a:cubicBezTo>
                  <a:pt x="137477" y="324384"/>
                  <a:pt x="149006" y="294776"/>
                  <a:pt x="134772" y="274441"/>
                </a:cubicBezTo>
                <a:cubicBezTo>
                  <a:pt x="127142" y="263540"/>
                  <a:pt x="47912" y="249679"/>
                  <a:pt x="33172" y="246731"/>
                </a:cubicBezTo>
                <a:cubicBezTo>
                  <a:pt x="30061" y="242064"/>
                  <a:pt x="0" y="202239"/>
                  <a:pt x="5463" y="191313"/>
                </a:cubicBezTo>
                <a:cubicBezTo>
                  <a:pt x="9817" y="182605"/>
                  <a:pt x="23470" y="182885"/>
                  <a:pt x="33172" y="182077"/>
                </a:cubicBezTo>
                <a:cubicBezTo>
                  <a:pt x="60785" y="179776"/>
                  <a:pt x="87051" y="163604"/>
                  <a:pt x="107063" y="163604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3"/>
          <p:cNvSpPr/>
          <p:nvPr/>
        </p:nvSpPr>
        <p:spPr>
          <a:xfrm>
            <a:off x="990720" y="1905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5"/>
          <p:cNvSpPr/>
          <p:nvPr/>
        </p:nvSpPr>
        <p:spPr>
          <a:xfrm>
            <a:off x="1219320" y="3581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6"/>
          <p:cNvSpPr/>
          <p:nvPr/>
        </p:nvSpPr>
        <p:spPr>
          <a:xfrm>
            <a:off x="3124080" y="18288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7"/>
          <p:cNvSpPr/>
          <p:nvPr/>
        </p:nvSpPr>
        <p:spPr>
          <a:xfrm>
            <a:off x="5410080" y="2057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58"/>
          <p:cNvSpPr/>
          <p:nvPr/>
        </p:nvSpPr>
        <p:spPr>
          <a:xfrm>
            <a:off x="7162920" y="1981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9"/>
          <p:cNvSpPr/>
          <p:nvPr/>
        </p:nvSpPr>
        <p:spPr>
          <a:xfrm>
            <a:off x="1295280" y="50292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0"/>
          <p:cNvSpPr/>
          <p:nvPr/>
        </p:nvSpPr>
        <p:spPr>
          <a:xfrm>
            <a:off x="1066680" y="41148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1"/>
          <p:cNvSpPr/>
          <p:nvPr/>
        </p:nvSpPr>
        <p:spPr>
          <a:xfrm>
            <a:off x="1981080" y="3581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2"/>
          <p:cNvSpPr/>
          <p:nvPr/>
        </p:nvSpPr>
        <p:spPr>
          <a:xfrm>
            <a:off x="1905120" y="41148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3"/>
          <p:cNvSpPr/>
          <p:nvPr/>
        </p:nvSpPr>
        <p:spPr>
          <a:xfrm>
            <a:off x="3200400" y="4952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4"/>
          <p:cNvSpPr/>
          <p:nvPr/>
        </p:nvSpPr>
        <p:spPr>
          <a:xfrm>
            <a:off x="5105520" y="50292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65"/>
          <p:cNvSpPr/>
          <p:nvPr/>
        </p:nvSpPr>
        <p:spPr>
          <a:xfrm>
            <a:off x="7315200" y="4952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67"/>
          <p:cNvSpPr/>
          <p:nvPr/>
        </p:nvSpPr>
        <p:spPr>
          <a:xfrm>
            <a:off x="198108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68"/>
          <p:cNvSpPr/>
          <p:nvPr/>
        </p:nvSpPr>
        <p:spPr>
          <a:xfrm>
            <a:off x="3809880" y="1752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69"/>
          <p:cNvSpPr/>
          <p:nvPr/>
        </p:nvSpPr>
        <p:spPr>
          <a:xfrm>
            <a:off x="6248520" y="1905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70"/>
          <p:cNvSpPr/>
          <p:nvPr/>
        </p:nvSpPr>
        <p:spPr>
          <a:xfrm>
            <a:off x="792468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71"/>
          <p:cNvSpPr/>
          <p:nvPr/>
        </p:nvSpPr>
        <p:spPr>
          <a:xfrm>
            <a:off x="32004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2"/>
          <p:cNvSpPr/>
          <p:nvPr/>
        </p:nvSpPr>
        <p:spPr>
          <a:xfrm>
            <a:off x="3048120" y="3505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73"/>
          <p:cNvSpPr/>
          <p:nvPr/>
        </p:nvSpPr>
        <p:spPr>
          <a:xfrm>
            <a:off x="3886200" y="3962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74"/>
          <p:cNvSpPr/>
          <p:nvPr/>
        </p:nvSpPr>
        <p:spPr>
          <a:xfrm>
            <a:off x="3809880" y="3352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75"/>
          <p:cNvSpPr/>
          <p:nvPr/>
        </p:nvSpPr>
        <p:spPr>
          <a:xfrm>
            <a:off x="7924680" y="5181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76"/>
          <p:cNvSpPr/>
          <p:nvPr/>
        </p:nvSpPr>
        <p:spPr>
          <a:xfrm>
            <a:off x="5791320" y="5181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77"/>
          <p:cNvSpPr/>
          <p:nvPr/>
        </p:nvSpPr>
        <p:spPr>
          <a:xfrm>
            <a:off x="380988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8"/>
          <p:cNvSpPr/>
          <p:nvPr/>
        </p:nvSpPr>
        <p:spPr>
          <a:xfrm>
            <a:off x="21337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79"/>
          <p:cNvSpPr/>
          <p:nvPr/>
        </p:nvSpPr>
        <p:spPr>
          <a:xfrm>
            <a:off x="716544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80"/>
          <p:cNvSpPr/>
          <p:nvPr/>
        </p:nvSpPr>
        <p:spPr>
          <a:xfrm>
            <a:off x="541296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1"/>
          <p:cNvSpPr/>
          <p:nvPr/>
        </p:nvSpPr>
        <p:spPr>
          <a:xfrm>
            <a:off x="305064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82"/>
          <p:cNvSpPr/>
          <p:nvPr/>
        </p:nvSpPr>
        <p:spPr>
          <a:xfrm>
            <a:off x="114588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83"/>
          <p:cNvSpPr/>
          <p:nvPr/>
        </p:nvSpPr>
        <p:spPr>
          <a:xfrm>
            <a:off x="701316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84"/>
          <p:cNvSpPr/>
          <p:nvPr/>
        </p:nvSpPr>
        <p:spPr>
          <a:xfrm>
            <a:off x="487944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85"/>
          <p:cNvSpPr/>
          <p:nvPr/>
        </p:nvSpPr>
        <p:spPr>
          <a:xfrm>
            <a:off x="297468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86"/>
          <p:cNvSpPr/>
          <p:nvPr/>
        </p:nvSpPr>
        <p:spPr>
          <a:xfrm>
            <a:off x="129816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87"/>
          <p:cNvSpPr/>
          <p:nvPr/>
        </p:nvSpPr>
        <p:spPr>
          <a:xfrm>
            <a:off x="807984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88"/>
          <p:cNvSpPr/>
          <p:nvPr/>
        </p:nvSpPr>
        <p:spPr>
          <a:xfrm>
            <a:off x="807984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89"/>
          <p:cNvSpPr/>
          <p:nvPr/>
        </p:nvSpPr>
        <p:spPr>
          <a:xfrm>
            <a:off x="632736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90"/>
          <p:cNvSpPr/>
          <p:nvPr/>
        </p:nvSpPr>
        <p:spPr>
          <a:xfrm>
            <a:off x="388908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91"/>
          <p:cNvSpPr/>
          <p:nvPr/>
        </p:nvSpPr>
        <p:spPr>
          <a:xfrm>
            <a:off x="190764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92"/>
          <p:cNvSpPr/>
          <p:nvPr/>
        </p:nvSpPr>
        <p:spPr>
          <a:xfrm>
            <a:off x="213624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93"/>
          <p:cNvSpPr/>
          <p:nvPr/>
        </p:nvSpPr>
        <p:spPr>
          <a:xfrm>
            <a:off x="564156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94"/>
          <p:cNvSpPr/>
          <p:nvPr/>
        </p:nvSpPr>
        <p:spPr>
          <a:xfrm>
            <a:off x="785124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95"/>
          <p:cNvSpPr/>
          <p:nvPr/>
        </p:nvSpPr>
        <p:spPr>
          <a:xfrm>
            <a:off x="70894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96"/>
          <p:cNvSpPr/>
          <p:nvPr/>
        </p:nvSpPr>
        <p:spPr>
          <a:xfrm>
            <a:off x="747036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97"/>
          <p:cNvSpPr/>
          <p:nvPr/>
        </p:nvSpPr>
        <p:spPr>
          <a:xfrm>
            <a:off x="8003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98"/>
          <p:cNvSpPr/>
          <p:nvPr/>
        </p:nvSpPr>
        <p:spPr>
          <a:xfrm>
            <a:off x="594648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99"/>
          <p:cNvSpPr/>
          <p:nvPr/>
        </p:nvSpPr>
        <p:spPr>
          <a:xfrm>
            <a:off x="5336640" y="3962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00"/>
          <p:cNvSpPr/>
          <p:nvPr/>
        </p:nvSpPr>
        <p:spPr>
          <a:xfrm>
            <a:off x="6251040" y="3962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01"/>
          <p:cNvSpPr/>
          <p:nvPr/>
        </p:nvSpPr>
        <p:spPr>
          <a:xfrm>
            <a:off x="52606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ounded Rectangle 103"/>
          <p:cNvSpPr/>
          <p:nvPr/>
        </p:nvSpPr>
        <p:spPr>
          <a:xfrm>
            <a:off x="838080" y="3276720"/>
            <a:ext cx="7848720" cy="1371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ounded Rectangle 104"/>
          <p:cNvSpPr/>
          <p:nvPr/>
        </p:nvSpPr>
        <p:spPr>
          <a:xfrm>
            <a:off x="838080" y="4952880"/>
            <a:ext cx="7848720" cy="1371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onstantia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ounded Rectangle 105"/>
          <p:cNvSpPr/>
          <p:nvPr/>
        </p:nvSpPr>
        <p:spPr>
          <a:xfrm>
            <a:off x="838080" y="1676520"/>
            <a:ext cx="7848720" cy="1371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ounded Rectangle 106"/>
          <p:cNvSpPr/>
          <p:nvPr/>
        </p:nvSpPr>
        <p:spPr>
          <a:xfrm>
            <a:off x="4267080" y="304920"/>
            <a:ext cx="1371600" cy="1295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08"/>
          <p:cNvSpPr/>
          <p:nvPr/>
        </p:nvSpPr>
        <p:spPr>
          <a:xfrm>
            <a:off x="373644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Koristi: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uža sigurnost slabijim/mirnijim učenicim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tiče individualnu odgovornost za rezultate učenj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tiče na promišljanje i pozitivnu te sustavno usmjerenu  komunikacij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većava se broj sudionika u nastavi..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Preduvjeti uspješnog suradničkog učenj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. Socijalne vještin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. Rad u malim grupam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3. Pozitivna uzajamna ovisnos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4. Individualna odgovornos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5. Promišljanje grupnog radnog proces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Timski rad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52600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11111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111111"/>
                </a:solidFill>
                <a:latin typeface="Calibri"/>
              </a:rPr>
              <a:t>GRUPA                                     TIM</a:t>
            </a:r>
            <a:endParaRPr b="0" lang="en-US" sz="32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520" y="2286000"/>
            <a:ext cx="4421160" cy="3951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cilj: razmjena informacij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adni učinak je zbroj pojedinačnog doprinosa članov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glavnom su neutralne, ponekad i negativ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dgovornost je pojedinačna (svatko u svom dijelu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ještine su slučajne i raznolik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876560" y="22860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cilj: zajedničko djelovanj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adni učinak je veći od zbroja pojedinačnih doprinos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vijek pozitiv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dgovornost je i pojedinačna i podijeljen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ještine su komplementar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TextBox 4"/>
          <p:cNvSpPr/>
          <p:nvPr/>
        </p:nvSpPr>
        <p:spPr>
          <a:xfrm>
            <a:off x="228600" y="7621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Razlika između rada u radnoj grupi i tim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46b86"/>
                </a:solidFill>
                <a:latin typeface="Calibri"/>
                <a:ea typeface="Calibri"/>
              </a:rPr>
              <a:t>Literatura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142640" y="1643040"/>
            <a:ext cx="776916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Bruning L. I T. Saum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Suradničkim učenjem do uspješne nastave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 Naklada Kosinj, 2008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Desforges, Ch.(ur.)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Uspješno učenje i poučavanje: psihologijski pristupi,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, Zagreb, Educa, 2001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Jensen, E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Super-nastava. Nastavne strategije za kvalitetnu školu i uspješno učenje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 Educa, 2003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Klippert, H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Kako uspješno učiti u timu: zbirka praktičnih primjera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 Educa, 2001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Kyriacou, K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Temeljna nastavna umijeća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 Educa, 2001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Meyer, H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Didaktika razredne kvake- rasprave o didaktici, metodici i razvoju škole, Zagreb, Educa, 2002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Slaviček, M.; Lukša, Ž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Primjena HNOSa u osnovnoj školi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, Zagreb, Školska knjiga, 2006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Srića, V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Život kao igra,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Zagreb,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Algoritam, 2009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Terhart, E.: </a:t>
            </a:r>
            <a:r>
              <a:rPr b="0" i="1" lang="hr-HR" sz="2200" spc="-1" strike="noStrike">
                <a:solidFill>
                  <a:srgbClr val="000000"/>
                </a:solidFill>
                <a:latin typeface="Calibri"/>
              </a:rPr>
              <a:t>Metode poučavanja i učenja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, Zagreb, Educa, 2001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8cada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8cada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Plan rada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vodni krug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radničko učenj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like rada u radnoj grupi i tim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vršni krug: Znala/znao sam, a bilo mi je novo ..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Vježba: Place 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jela u skupin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jela papira (zajednički + osobni prostor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je suradničko učenje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otacija + zajednički di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vjestitelj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500" spc="-1" strike="noStrike">
                <a:solidFill>
                  <a:srgbClr val="646b86"/>
                </a:solidFill>
                <a:latin typeface="Calibri"/>
              </a:rPr>
              <a:t>Place mat </a:t>
            </a:r>
            <a:r>
              <a:rPr b="0" lang="hr-HR" sz="4500" spc="-1" strike="noStrike">
                <a:solidFill>
                  <a:srgbClr val="646b86"/>
                </a:solidFill>
                <a:latin typeface="Calibri"/>
              </a:rPr>
              <a:t>postupak</a:t>
            </a:r>
            <a:br>
              <a:rPr sz="3600"/>
            </a:br>
            <a:r>
              <a:rPr b="0" lang="hr-HR" sz="3200" spc="-1" strike="noStrike">
                <a:solidFill>
                  <a:srgbClr val="646b86"/>
                </a:solidFill>
                <a:latin typeface="Calibri"/>
              </a:rPr>
              <a:t>(podmetač/podložak)</a:t>
            </a:r>
            <a:endParaRPr b="0" lang="en-US" sz="32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209" name="Content Placeholder 3" descr=""/>
          <p:cNvPicPr/>
          <p:nvPr/>
        </p:nvPicPr>
        <p:blipFill>
          <a:blip r:embed="rId1"/>
          <a:stretch/>
        </p:blipFill>
        <p:spPr>
          <a:xfrm>
            <a:off x="158760" y="1566720"/>
            <a:ext cx="88264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646b86"/>
                </a:solidFill>
                <a:latin typeface="Calibri"/>
              </a:rPr>
              <a:t>Suradničko učenje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Socijalni oblik učenj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Događa se u grupnoj interakcij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Aktivno uključivanje učenika u proces učenja (i podloga za cjeloživotno učenje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Obuhvaća sve nastavne oblike s ciljem poticanja svih učenica i učenika na r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onstantia"/>
              </a:rPr>
              <a:t>Oblici suradničkog učenj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240" y="190476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. rad u par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. grupni rad (skupinski rad; rad u skupinama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3. timsko učenj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4. radionički oblik rad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646b86"/>
                </a:solidFill>
                <a:latin typeface="Calibri"/>
              </a:rPr>
              <a:t>Temeljno načelo suradničkog učenja</a:t>
            </a:r>
            <a:endParaRPr b="0" lang="en-US" sz="45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565164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12"/>
          <p:cNvGrpSpPr/>
          <p:nvPr/>
        </p:nvGrpSpPr>
        <p:grpSpPr>
          <a:xfrm>
            <a:off x="5715000" y="1752480"/>
            <a:ext cx="1905120" cy="1143000"/>
            <a:chOff x="5715000" y="1752480"/>
            <a:chExt cx="1905120" cy="1143000"/>
          </a:xfrm>
        </p:grpSpPr>
        <p:sp>
          <p:nvSpPr>
            <p:cNvPr id="217" name="Oval 4"/>
            <p:cNvSpPr/>
            <p:nvPr/>
          </p:nvSpPr>
          <p:spPr>
            <a:xfrm>
              <a:off x="5715000" y="1752480"/>
              <a:ext cx="1905120" cy="1143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47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Constantia"/>
                </a:rPr>
                <a:t>samostal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5"/>
            <p:cNvSpPr/>
            <p:nvPr/>
          </p:nvSpPr>
          <p:spPr>
            <a:xfrm>
              <a:off x="6023880" y="213336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alibri"/>
                </a:rPr>
                <a:t>samostal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3"/>
          <p:cNvGrpSpPr/>
          <p:nvPr/>
        </p:nvGrpSpPr>
        <p:grpSpPr>
          <a:xfrm>
            <a:off x="7238880" y="3657600"/>
            <a:ext cx="1905120" cy="1447920"/>
            <a:chOff x="7238880" y="3657600"/>
            <a:chExt cx="1905120" cy="1447920"/>
          </a:xfrm>
        </p:grpSpPr>
        <p:sp>
          <p:nvSpPr>
            <p:cNvPr id="220" name="Oval 6"/>
            <p:cNvSpPr/>
            <p:nvPr/>
          </p:nvSpPr>
          <p:spPr>
            <a:xfrm>
              <a:off x="7238880" y="3657600"/>
              <a:ext cx="1752840" cy="1447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47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Constantia"/>
                </a:rPr>
                <a:t>(u paru ili maloj gru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7"/>
            <p:cNvSpPr/>
            <p:nvPr/>
          </p:nvSpPr>
          <p:spPr>
            <a:xfrm>
              <a:off x="7238880" y="40384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nstantia"/>
                </a:rPr>
                <a:t>       </a:t>
              </a:r>
              <a:r>
                <a:rPr b="0" lang="hr-HR" sz="1800" spc="-1" strike="noStrike">
                  <a:solidFill>
                    <a:srgbClr val="000000"/>
                  </a:solidFill>
                  <a:latin typeface="Constantia"/>
                </a:rPr>
                <a:t>u pa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hr-HR" sz="1800" spc="-1" strike="noStrike">
                  <a:solidFill>
                    <a:srgbClr val="000000"/>
                  </a:solidFill>
                  <a:latin typeface="Constantia"/>
                </a:rPr>
                <a:t>ili maloj gru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4"/>
          <p:cNvGrpSpPr/>
          <p:nvPr/>
        </p:nvGrpSpPr>
        <p:grpSpPr>
          <a:xfrm>
            <a:off x="152280" y="3505320"/>
            <a:ext cx="1981440" cy="1447560"/>
            <a:chOff x="152280" y="3505320"/>
            <a:chExt cx="1981440" cy="1447560"/>
          </a:xfrm>
        </p:grpSpPr>
        <p:sp>
          <p:nvSpPr>
            <p:cNvPr id="223" name="Oval 8"/>
            <p:cNvSpPr/>
            <p:nvPr/>
          </p:nvSpPr>
          <p:spPr>
            <a:xfrm>
              <a:off x="152280" y="3505320"/>
              <a:ext cx="1981440" cy="1447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47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9"/>
            <p:cNvSpPr/>
            <p:nvPr/>
          </p:nvSpPr>
          <p:spPr>
            <a:xfrm>
              <a:off x="380880" y="3809880"/>
              <a:ext cx="1371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alibri"/>
                </a:rPr>
                <a:t>najčešće samostalno pa diskus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Down Arrow 10"/>
          <p:cNvSpPr/>
          <p:nvPr/>
        </p:nvSpPr>
        <p:spPr>
          <a:xfrm rot="19943400">
            <a:off x="5641920" y="3641760"/>
            <a:ext cx="370080" cy="43488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own Arrow 11"/>
          <p:cNvSpPr/>
          <p:nvPr/>
        </p:nvSpPr>
        <p:spPr>
          <a:xfrm rot="5635800">
            <a:off x="4572720" y="5182920"/>
            <a:ext cx="381240" cy="37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FAZA INDIVIDUALNOGA RADA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50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Što je važno na početku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Sadrži li nastavni sat uvijek i fazu individualnoga rada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Individualna odgovornost i pouzdanos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Individualni rad je individualni rad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štivanje zadanog vremena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romatranj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stizanje jasnoć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Za početak jednostavne metode!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46b86"/>
                </a:solidFill>
                <a:latin typeface="Calibri"/>
              </a:rPr>
              <a:t>FAZA RAZMJENE</a:t>
            </a:r>
            <a:br>
              <a:rPr sz="4000"/>
            </a:br>
            <a:r>
              <a:rPr b="0" lang="hr-HR" sz="3200" spc="-1" strike="noStrike">
                <a:solidFill>
                  <a:srgbClr val="646b86"/>
                </a:solidFill>
                <a:latin typeface="Calibri"/>
              </a:rPr>
              <a:t>Temeljni oblici razmjene</a:t>
            </a:r>
            <a:endParaRPr b="0" lang="en-US" sz="32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0" name="Quad Arrow Callout 5"/>
          <p:cNvSpPr/>
          <p:nvPr/>
        </p:nvSpPr>
        <p:spPr>
          <a:xfrm>
            <a:off x="762120" y="2971800"/>
            <a:ext cx="1216080" cy="1216080"/>
          </a:xfrm>
          <a:custGeom>
            <a:avLst/>
            <a:gdLst>
              <a:gd name="textAreaLeft" fmla="*/ 315360 w 1216080"/>
              <a:gd name="textAreaRight" fmla="*/ 900720 w 1216080"/>
              <a:gd name="textAreaTop" fmla="*/ 315360 h 1216080"/>
              <a:gd name="textAreaBottom" fmla="*/ 900720 h 1216080"/>
            </a:gdLst>
            <a:ahLst/>
            <a:rect l="textAreaLeft" t="textAreaTop" r="textAreaRight" b="textAreaBottom"/>
            <a:pathLst>
              <a:path w="1216025" h="1216025">
                <a:moveTo>
                  <a:pt x="0" y="608013"/>
                </a:moveTo>
                <a:lnTo>
                  <a:pt x="225147" y="382865"/>
                </a:lnTo>
                <a:lnTo>
                  <a:pt x="225147" y="495439"/>
                </a:lnTo>
                <a:lnTo>
                  <a:pt x="315419" y="495439"/>
                </a:lnTo>
                <a:lnTo>
                  <a:pt x="315419" y="315419"/>
                </a:lnTo>
                <a:lnTo>
                  <a:pt x="495439" y="315419"/>
                </a:lnTo>
                <a:lnTo>
                  <a:pt x="495439" y="225147"/>
                </a:lnTo>
                <a:lnTo>
                  <a:pt x="382865" y="225147"/>
                </a:lnTo>
                <a:lnTo>
                  <a:pt x="608013" y="0"/>
                </a:lnTo>
                <a:lnTo>
                  <a:pt x="833160" y="225147"/>
                </a:lnTo>
                <a:lnTo>
                  <a:pt x="720586" y="225147"/>
                </a:lnTo>
                <a:lnTo>
                  <a:pt x="720586" y="315419"/>
                </a:lnTo>
                <a:lnTo>
                  <a:pt x="900606" y="315419"/>
                </a:lnTo>
                <a:lnTo>
                  <a:pt x="900606" y="495439"/>
                </a:lnTo>
                <a:lnTo>
                  <a:pt x="990878" y="495439"/>
                </a:lnTo>
                <a:lnTo>
                  <a:pt x="990878" y="382865"/>
                </a:lnTo>
                <a:lnTo>
                  <a:pt x="1216025" y="608013"/>
                </a:lnTo>
                <a:lnTo>
                  <a:pt x="990878" y="833160"/>
                </a:lnTo>
                <a:lnTo>
                  <a:pt x="990878" y="720586"/>
                </a:lnTo>
                <a:lnTo>
                  <a:pt x="900606" y="720586"/>
                </a:lnTo>
                <a:lnTo>
                  <a:pt x="900606" y="900606"/>
                </a:lnTo>
                <a:lnTo>
                  <a:pt x="720586" y="900606"/>
                </a:lnTo>
                <a:lnTo>
                  <a:pt x="720586" y="990878"/>
                </a:lnTo>
                <a:lnTo>
                  <a:pt x="833160" y="990878"/>
                </a:lnTo>
                <a:lnTo>
                  <a:pt x="608013" y="1216025"/>
                </a:lnTo>
                <a:lnTo>
                  <a:pt x="382865" y="990878"/>
                </a:lnTo>
                <a:lnTo>
                  <a:pt x="495439" y="990878"/>
                </a:lnTo>
                <a:lnTo>
                  <a:pt x="495439" y="900606"/>
                </a:lnTo>
                <a:lnTo>
                  <a:pt x="315419" y="900606"/>
                </a:lnTo>
                <a:lnTo>
                  <a:pt x="315419" y="720586"/>
                </a:lnTo>
                <a:lnTo>
                  <a:pt x="225147" y="720586"/>
                </a:lnTo>
                <a:lnTo>
                  <a:pt x="225147" y="833160"/>
                </a:lnTo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lowchart: Connector 6"/>
          <p:cNvSpPr/>
          <p:nvPr/>
        </p:nvSpPr>
        <p:spPr>
          <a:xfrm>
            <a:off x="990720" y="2133720"/>
            <a:ext cx="761760" cy="76176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lowchart: Connector 9"/>
          <p:cNvSpPr/>
          <p:nvPr/>
        </p:nvSpPr>
        <p:spPr>
          <a:xfrm>
            <a:off x="2057400" y="335268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lowchart: Connector 10"/>
          <p:cNvSpPr/>
          <p:nvPr/>
        </p:nvSpPr>
        <p:spPr>
          <a:xfrm>
            <a:off x="3352680" y="327672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lowchart: Connector 11"/>
          <p:cNvSpPr/>
          <p:nvPr/>
        </p:nvSpPr>
        <p:spPr>
          <a:xfrm>
            <a:off x="228600" y="335268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Quad Arrow Callout 12"/>
          <p:cNvSpPr/>
          <p:nvPr/>
        </p:nvSpPr>
        <p:spPr>
          <a:xfrm>
            <a:off x="3886200" y="2895480"/>
            <a:ext cx="1216080" cy="1216080"/>
          </a:xfrm>
          <a:custGeom>
            <a:avLst/>
            <a:gdLst>
              <a:gd name="textAreaLeft" fmla="*/ 315360 w 1216080"/>
              <a:gd name="textAreaRight" fmla="*/ 900720 w 1216080"/>
              <a:gd name="textAreaTop" fmla="*/ 315360 h 1216080"/>
              <a:gd name="textAreaBottom" fmla="*/ 900720 h 1216080"/>
            </a:gdLst>
            <a:ahLst/>
            <a:rect l="textAreaLeft" t="textAreaTop" r="textAreaRight" b="textAreaBottom"/>
            <a:pathLst>
              <a:path w="1216025" h="1216025">
                <a:moveTo>
                  <a:pt x="0" y="608013"/>
                </a:moveTo>
                <a:lnTo>
                  <a:pt x="225147" y="382865"/>
                </a:lnTo>
                <a:lnTo>
                  <a:pt x="225147" y="495439"/>
                </a:lnTo>
                <a:lnTo>
                  <a:pt x="315419" y="495439"/>
                </a:lnTo>
                <a:lnTo>
                  <a:pt x="315419" y="315419"/>
                </a:lnTo>
                <a:lnTo>
                  <a:pt x="495439" y="315419"/>
                </a:lnTo>
                <a:lnTo>
                  <a:pt x="495439" y="225147"/>
                </a:lnTo>
                <a:lnTo>
                  <a:pt x="382865" y="225147"/>
                </a:lnTo>
                <a:lnTo>
                  <a:pt x="608013" y="0"/>
                </a:lnTo>
                <a:lnTo>
                  <a:pt x="833160" y="225147"/>
                </a:lnTo>
                <a:lnTo>
                  <a:pt x="720586" y="225147"/>
                </a:lnTo>
                <a:lnTo>
                  <a:pt x="720586" y="315419"/>
                </a:lnTo>
                <a:lnTo>
                  <a:pt x="900606" y="315419"/>
                </a:lnTo>
                <a:lnTo>
                  <a:pt x="900606" y="495439"/>
                </a:lnTo>
                <a:lnTo>
                  <a:pt x="990878" y="495439"/>
                </a:lnTo>
                <a:lnTo>
                  <a:pt x="990878" y="382865"/>
                </a:lnTo>
                <a:lnTo>
                  <a:pt x="1216025" y="608013"/>
                </a:lnTo>
                <a:lnTo>
                  <a:pt x="990878" y="833160"/>
                </a:lnTo>
                <a:lnTo>
                  <a:pt x="990878" y="720586"/>
                </a:lnTo>
                <a:lnTo>
                  <a:pt x="900606" y="720586"/>
                </a:lnTo>
                <a:lnTo>
                  <a:pt x="900606" y="900606"/>
                </a:lnTo>
                <a:lnTo>
                  <a:pt x="720586" y="900606"/>
                </a:lnTo>
                <a:lnTo>
                  <a:pt x="720586" y="990878"/>
                </a:lnTo>
                <a:lnTo>
                  <a:pt x="833160" y="990878"/>
                </a:lnTo>
                <a:lnTo>
                  <a:pt x="608013" y="1216025"/>
                </a:lnTo>
                <a:lnTo>
                  <a:pt x="382865" y="990878"/>
                </a:lnTo>
                <a:lnTo>
                  <a:pt x="495439" y="990878"/>
                </a:lnTo>
                <a:lnTo>
                  <a:pt x="495439" y="900606"/>
                </a:lnTo>
                <a:lnTo>
                  <a:pt x="315419" y="900606"/>
                </a:lnTo>
                <a:lnTo>
                  <a:pt x="315419" y="720586"/>
                </a:lnTo>
                <a:lnTo>
                  <a:pt x="225147" y="720586"/>
                </a:lnTo>
                <a:lnTo>
                  <a:pt x="225147" y="833160"/>
                </a:lnTo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Quad Arrow Callout 13"/>
          <p:cNvSpPr/>
          <p:nvPr/>
        </p:nvSpPr>
        <p:spPr>
          <a:xfrm>
            <a:off x="7010280" y="2895480"/>
            <a:ext cx="1216080" cy="1216080"/>
          </a:xfrm>
          <a:custGeom>
            <a:avLst/>
            <a:gdLst>
              <a:gd name="textAreaLeft" fmla="*/ 315360 w 1216080"/>
              <a:gd name="textAreaRight" fmla="*/ 900720 w 1216080"/>
              <a:gd name="textAreaTop" fmla="*/ 315360 h 1216080"/>
              <a:gd name="textAreaBottom" fmla="*/ 900720 h 1216080"/>
            </a:gdLst>
            <a:ahLst/>
            <a:rect l="textAreaLeft" t="textAreaTop" r="textAreaRight" b="textAreaBottom"/>
            <a:pathLst>
              <a:path w="1216025" h="1216025">
                <a:moveTo>
                  <a:pt x="0" y="608013"/>
                </a:moveTo>
                <a:lnTo>
                  <a:pt x="225147" y="382865"/>
                </a:lnTo>
                <a:lnTo>
                  <a:pt x="225147" y="495439"/>
                </a:lnTo>
                <a:lnTo>
                  <a:pt x="315419" y="495439"/>
                </a:lnTo>
                <a:lnTo>
                  <a:pt x="315419" y="315419"/>
                </a:lnTo>
                <a:lnTo>
                  <a:pt x="495439" y="315419"/>
                </a:lnTo>
                <a:lnTo>
                  <a:pt x="495439" y="225147"/>
                </a:lnTo>
                <a:lnTo>
                  <a:pt x="382865" y="225147"/>
                </a:lnTo>
                <a:lnTo>
                  <a:pt x="608013" y="0"/>
                </a:lnTo>
                <a:lnTo>
                  <a:pt x="833160" y="225147"/>
                </a:lnTo>
                <a:lnTo>
                  <a:pt x="720586" y="225147"/>
                </a:lnTo>
                <a:lnTo>
                  <a:pt x="720586" y="315419"/>
                </a:lnTo>
                <a:lnTo>
                  <a:pt x="900606" y="315419"/>
                </a:lnTo>
                <a:lnTo>
                  <a:pt x="900606" y="495439"/>
                </a:lnTo>
                <a:lnTo>
                  <a:pt x="990878" y="495439"/>
                </a:lnTo>
                <a:lnTo>
                  <a:pt x="990878" y="382865"/>
                </a:lnTo>
                <a:lnTo>
                  <a:pt x="1216025" y="608013"/>
                </a:lnTo>
                <a:lnTo>
                  <a:pt x="990878" y="833160"/>
                </a:lnTo>
                <a:lnTo>
                  <a:pt x="990878" y="720586"/>
                </a:lnTo>
                <a:lnTo>
                  <a:pt x="900606" y="720586"/>
                </a:lnTo>
                <a:lnTo>
                  <a:pt x="900606" y="900606"/>
                </a:lnTo>
                <a:lnTo>
                  <a:pt x="720586" y="900606"/>
                </a:lnTo>
                <a:lnTo>
                  <a:pt x="720586" y="990878"/>
                </a:lnTo>
                <a:lnTo>
                  <a:pt x="833160" y="990878"/>
                </a:lnTo>
                <a:lnTo>
                  <a:pt x="608013" y="1216025"/>
                </a:lnTo>
                <a:lnTo>
                  <a:pt x="382865" y="990878"/>
                </a:lnTo>
                <a:lnTo>
                  <a:pt x="495439" y="990878"/>
                </a:lnTo>
                <a:lnTo>
                  <a:pt x="495439" y="900606"/>
                </a:lnTo>
                <a:lnTo>
                  <a:pt x="315419" y="900606"/>
                </a:lnTo>
                <a:lnTo>
                  <a:pt x="315419" y="720586"/>
                </a:lnTo>
                <a:lnTo>
                  <a:pt x="225147" y="720586"/>
                </a:lnTo>
                <a:lnTo>
                  <a:pt x="225147" y="833160"/>
                </a:lnTo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lowchart: Connector 14"/>
          <p:cNvSpPr/>
          <p:nvPr/>
        </p:nvSpPr>
        <p:spPr>
          <a:xfrm>
            <a:off x="4114800" y="2057400"/>
            <a:ext cx="762120" cy="76212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lowchart: Connector 15"/>
          <p:cNvSpPr/>
          <p:nvPr/>
        </p:nvSpPr>
        <p:spPr>
          <a:xfrm>
            <a:off x="5181480" y="327672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lowchart: Connector 16"/>
          <p:cNvSpPr/>
          <p:nvPr/>
        </p:nvSpPr>
        <p:spPr>
          <a:xfrm>
            <a:off x="4267080" y="419112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lowchart: Connector 17"/>
          <p:cNvSpPr/>
          <p:nvPr/>
        </p:nvSpPr>
        <p:spPr>
          <a:xfrm>
            <a:off x="7391520" y="426708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lowchart: Connector 18"/>
          <p:cNvSpPr/>
          <p:nvPr/>
        </p:nvSpPr>
        <p:spPr>
          <a:xfrm>
            <a:off x="6477120" y="327672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owchart: Connector 19"/>
          <p:cNvSpPr/>
          <p:nvPr/>
        </p:nvSpPr>
        <p:spPr>
          <a:xfrm>
            <a:off x="8305920" y="327672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owchart: Connector 20"/>
          <p:cNvSpPr/>
          <p:nvPr/>
        </p:nvSpPr>
        <p:spPr>
          <a:xfrm>
            <a:off x="7391520" y="236232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lowchart: Connector 21"/>
          <p:cNvSpPr/>
          <p:nvPr/>
        </p:nvSpPr>
        <p:spPr>
          <a:xfrm>
            <a:off x="1143000" y="4267080"/>
            <a:ext cx="457200" cy="457200"/>
          </a:xfrm>
          <a:prstGeom prst="flowChartConnector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38"/>
          <p:cNvCxnSpPr/>
          <p:nvPr/>
        </p:nvCxnSpPr>
        <p:spPr>
          <a:xfrm>
            <a:off x="1752120" y="2819520"/>
            <a:ext cx="38196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6" name="Straight Arrow Connector 39"/>
          <p:cNvCxnSpPr/>
          <p:nvPr/>
        </p:nvCxnSpPr>
        <p:spPr>
          <a:xfrm flipH="1">
            <a:off x="533160" y="2819520"/>
            <a:ext cx="45792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7" name="Straight Arrow Connector 42"/>
          <p:cNvCxnSpPr>
            <a:stCxn id="230" idx="0"/>
          </p:cNvCxnSpPr>
          <p:nvPr/>
        </p:nvCxnSpPr>
        <p:spPr>
          <a:xfrm>
            <a:off x="1370160" y="2971800"/>
            <a:ext cx="2160" cy="838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8" name="Straight Arrow Connector 46"/>
          <p:cNvCxnSpPr/>
          <p:nvPr/>
        </p:nvCxnSpPr>
        <p:spPr>
          <a:xfrm>
            <a:off x="4876560" y="2819520"/>
            <a:ext cx="229320" cy="305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9" name="Straight Arrow Connector 47"/>
          <p:cNvCxnSpPr/>
          <p:nvPr/>
        </p:nvCxnSpPr>
        <p:spPr>
          <a:xfrm flipH="1">
            <a:off x="3962160" y="2819520"/>
            <a:ext cx="305280" cy="305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0" name="Straight Arrow Connector 50"/>
          <p:cNvCxnSpPr/>
          <p:nvPr/>
        </p:nvCxnSpPr>
        <p:spPr>
          <a:xfrm flipH="1">
            <a:off x="4952520" y="3809880"/>
            <a:ext cx="45792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1" name="Straight Arrow Connector 55"/>
          <p:cNvCxnSpPr/>
          <p:nvPr/>
        </p:nvCxnSpPr>
        <p:spPr>
          <a:xfrm flipH="1" flipV="1">
            <a:off x="3657240" y="3809520"/>
            <a:ext cx="45792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2" name="Straight Arrow Connector 59"/>
          <p:cNvCxnSpPr/>
          <p:nvPr/>
        </p:nvCxnSpPr>
        <p:spPr>
          <a:xfrm>
            <a:off x="4495320" y="2895480"/>
            <a:ext cx="1080" cy="534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3" name="Straight Arrow Connector 65"/>
          <p:cNvCxnSpPr/>
          <p:nvPr/>
        </p:nvCxnSpPr>
        <p:spPr>
          <a:xfrm flipV="1">
            <a:off x="3504960" y="2590200"/>
            <a:ext cx="53388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4" name="Straight Arrow Connector 70"/>
          <p:cNvCxnSpPr/>
          <p:nvPr/>
        </p:nvCxnSpPr>
        <p:spPr>
          <a:xfrm>
            <a:off x="7924320" y="2743200"/>
            <a:ext cx="38196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5" name="Straight Arrow Connector 71"/>
          <p:cNvCxnSpPr/>
          <p:nvPr/>
        </p:nvCxnSpPr>
        <p:spPr>
          <a:xfrm>
            <a:off x="6934320" y="3809880"/>
            <a:ext cx="38160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6" name="Straight Arrow Connector 72"/>
          <p:cNvCxnSpPr/>
          <p:nvPr/>
        </p:nvCxnSpPr>
        <p:spPr>
          <a:xfrm flipV="1">
            <a:off x="7010280" y="3429000"/>
            <a:ext cx="534240" cy="76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7" name="Straight Arrow Connector 75"/>
          <p:cNvCxnSpPr/>
          <p:nvPr/>
        </p:nvCxnSpPr>
        <p:spPr>
          <a:xfrm flipH="1" flipV="1">
            <a:off x="7466760" y="3580920"/>
            <a:ext cx="229320" cy="610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8" name="Straight Arrow Connector 77"/>
          <p:cNvCxnSpPr/>
          <p:nvPr/>
        </p:nvCxnSpPr>
        <p:spPr>
          <a:xfrm flipH="1">
            <a:off x="7771680" y="3428640"/>
            <a:ext cx="5310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Straight Arrow Connector 81"/>
          <p:cNvCxnSpPr/>
          <p:nvPr/>
        </p:nvCxnSpPr>
        <p:spPr>
          <a:xfrm flipH="1">
            <a:off x="7162560" y="2895480"/>
            <a:ext cx="3052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0" name="TextBox 87"/>
          <p:cNvSpPr/>
          <p:nvPr/>
        </p:nvSpPr>
        <p:spPr>
          <a:xfrm>
            <a:off x="609480" y="52578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Jedan izlaže, ostali dopunjav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9"/>
          <p:cNvSpPr/>
          <p:nvPr/>
        </p:nvSpPr>
        <p:spPr>
          <a:xfrm>
            <a:off x="3581280" y="52578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Izlaganje u smjeru kazaljke na s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92"/>
          <p:cNvSpPr/>
          <p:nvPr/>
        </p:nvSpPr>
        <p:spPr>
          <a:xfrm>
            <a:off x="6781680" y="525780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Slobodna diskus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Govorne kar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Straight Arrow Connector 93"/>
          <p:cNvCxnSpPr/>
          <p:nvPr/>
        </p:nvCxnSpPr>
        <p:spPr>
          <a:xfrm flipV="1">
            <a:off x="1752480" y="3656880"/>
            <a:ext cx="76680" cy="7628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rina</dc:creator>
  <dc:description/>
  <dc:language>en-US</dc:language>
  <cp:lastModifiedBy>Marina</cp:lastModifiedBy>
  <dcterms:modified xsi:type="dcterms:W3CDTF">2012-01-02T18:43:06Z</dcterms:modified>
  <cp:revision>97</cp:revision>
  <dc:subject/>
  <dc:title>Suradničko učenje i timski rad</dc:title>
</cp:coreProperties>
</file>