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jpeg" ContentType="image/jpeg"/>
  <Override PartName="/ppt/media/image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12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png" ContentType="image/png"/>
  <Override PartName="/ppt/media/image30.wmf" ContentType="image/x-wmf"/>
  <Override PartName="/ppt/media/image33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42.jpeg" ContentType="image/jpeg"/>
  <Override PartName="/ppt/media/image4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754-FCEE-427C-86DA-4034DF6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2F6-8F30-43BE-971A-838191A2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8ED-2BC5-4012-93FB-FDB2649E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F94-4629-4F7D-AF12-7DF9EA2C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9B9C-82F9-4A40-9BB2-89434EFD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6F2A-C1C3-4765-98ED-ACC81CDE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8C31-324C-4BFF-901A-43CA7486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9ED-F6FC-4E14-B037-DE203C10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46F-6F3C-4A8B-94B8-10F7C24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0A0E-0750-485E-9BCB-D715FF58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218C-B20E-41A5-9065-75955E6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EA5-8ACD-4876-8B4F-7E9FEA5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76A0-B306-42BF-89D2-7082B58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708-34DD-46FC-8BB4-9B7724A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991E-DC85-415C-8CE8-BB6F606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0F5-5687-499E-BDE4-B65CAC7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9DF1-CF9F-470A-8B51-2BA012FB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1F8-5A7D-4BE3-8961-31A65DA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AA7-E3B0-4455-A958-0A0B9F0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55D-8DCC-4625-95A1-42339F1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269-2E81-48A5-803C-72546FE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F32-410B-431A-B999-337953D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D98-A5E8-4FD0-87D1-5D6A711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FFD-7D9E-468D-9D96-3B1C7FE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83E-B76A-47B4-8437-AC08FC6E5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9BFA-7211-4439-A874-5F13AC126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GLAVOBLJE%20DJE&#268;JE%20DOBI%20studenti/glavobolja%201.jpg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hr/url?url=http://www.kiropraktika.com/chiropractic-articles/tenzijska-glavobolja&amp;rct=j&amp;frm=1&amp;q=&amp;esrc=s&amp;sa=U&amp;ei=uR8xVOX6L9XbapyngbAF&amp;ved=0CBMQ9QEwAA&amp;usg=AFQjCNFat5mVF_AancpjSo9Ov7Ueu2HW9Q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hr/url?url=http://www.24sata.hr/tagovi/tenzijska-glavobolja-146569&amp;rct=j&amp;frm=1&amp;q=&amp;esrc=s&amp;sa=U&amp;ei=uR8xVOX6L9XbapyngbAF&amp;ved=0CB0Q9QEwBQ&amp;usg=AFQjCNFPi4u5HWTkUvD3bJcSH5MzdMuNeA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oogle.hr/url?url=http://www.vecernji.hr/tag/tenzijska-glavobolja-191204&amp;rct=j&amp;frm=1&amp;q=&amp;esrc=s&amp;sa=U&amp;ei=uR8xVOX6L9XbapyngbAF&amp;ved=0CCUQ9QEwCQ&amp;usg=AFQjCNGQLZ3lbd6Kn8s0PMXDWDJFJK6--w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hr/url?url=http://zena.hr/tag/tenzijska_glavobolja/1/1/3995&amp;rct=j&amp;frm=1&amp;q=&amp;esrc=s&amp;sa=U&amp;ei=uR8xVOX6L9XbapyngbAF&amp;ved=0CCcQ9QEwCg&amp;usg=AFQjCNEB7rUvS9-4zG7SxHq6PLJiAqLvgw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google.hr/url?url=http://www.arabellamagazin.com/2014/04/caj-protiv-glavobolje.html&amp;rct=j&amp;frm=1&amp;q=&amp;esrc=s&amp;sa=U&amp;ei=uR8xVOX6L9XbapyngbAF&amp;ved=0CCkQ9QEwCw&amp;usg=AFQjCNFT4ZKirXuPIPzXpdj2vA-alf1rGA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oogle.hr/url?url=http://www.centar-zdravlja.net/clanci/majka-i-dijete/1/53/glavobolja-u-djece/tenzijske-glavobolje/2/&amp;rct=j&amp;frm=1&amp;q=&amp;esrc=s&amp;sa=U&amp;ei=uR8xVOX6L9XbapyngbAF&amp;ved=0CDEQ9QEwDw&amp;usg=AFQjCNE4uSlCqVDWTWlEiRlym00yuqqu6w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oogle.hr/url?url=http://glavobolja-migrena.com/sta-je-migrena/&amp;rct=j&amp;frm=1&amp;q=&amp;esrc=s&amp;sa=U&amp;ei=fiExVL3ZE83LaJ3mgvgI&amp;ved=0CBkQ9QEwAw&amp;usg=AFQjCNG9v8CyYj0AbA5ukU5zmhfF7LdfEw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imes New Roman"/>
              </a:rPr>
              <a:t>GLAVOBOLJ</a:t>
            </a:r>
            <a:r>
              <a:rPr b="1" lang="hr-HR" sz="5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GB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imes New Roman"/>
              </a:rPr>
              <a:t>DJE</a:t>
            </a:r>
            <a:r>
              <a:rPr b="1" lang="hr-HR" sz="5400" spc="-1" strike="noStrike">
                <a:solidFill>
                  <a:srgbClr val="ffff00"/>
                </a:solidFill>
                <a:latin typeface="Times New Roman"/>
              </a:rPr>
              <a:t>CE I MLADIH</a:t>
            </a:r>
            <a:r>
              <a:rPr b="1" lang="en-GB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Marija Meštrović</a:t>
            </a:r>
            <a:r>
              <a:rPr b="1" lang="hr-HR" sz="4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Akutna glavobolja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Generalizira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istemske infe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nfekcije SŽ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otro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akon konvulzivnog napa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ipertenz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ipoglikem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akon lumbalne pun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embol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rvar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4956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Lokalizirana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inus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ot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refraktorne anomalije o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bolesti zu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okcipitalna neural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0"/>
            <a:ext cx="8915400" cy="81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Akutna povremena glavobol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apadaji glavobolje praćeni mučninom, povraćanj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Između napadaja glavobolje dijete je potpuno zdrav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gr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luster glavob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ronična progresivna hemikr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akon konvulzivnog napad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Tipovi%20glavobolje2" descr=""/>
          <p:cNvPicPr/>
          <p:nvPr/>
        </p:nvPicPr>
        <p:blipFill>
          <a:blip r:embed="rId1"/>
          <a:stretch/>
        </p:blipFill>
        <p:spPr>
          <a:xfrm>
            <a:off x="5153040" y="3581280"/>
            <a:ext cx="3990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0"/>
            <a:ext cx="891540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Kronična progresivna glavobo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ve češća i sve jačeg intenzit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raćena je znacima povišenog intrakranijskog tlak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ovraćanjem, letargijom, ataksijom, ispadima moždanih živa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organski pro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tumor, pseudotumor, apsces moz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ubduralni hematom, krvar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idrocefa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ipertenz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vaskul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359892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356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0"/>
            <a:ext cx="8915400" cy="10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Kronična neprogresivna glavobo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talna  glavobol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bez znakova povišenog intrakranijskog tlaka ili znakova progresivne neurološke bole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uvijek uredan neurološki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mišićne kontra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onverzije, nakon uzbuđe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depresije, anksioz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emikrania kontin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53040" y="3357720"/>
            <a:ext cx="3990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0"/>
            <a:ext cx="8915400" cy="10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Miješani tip glavobol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kutna povremena glavobolja: migr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ronična neprogresivna glavobolja: tenzijska glavob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Neurološki status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ure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67280" y="314172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Anatomske strukture osjetljive na bol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Ekstrakranijs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kož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subkutana tk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mišić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mukozne sluzn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zu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Intrakranijs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vaskularni sinu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v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d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ovojnice arter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arterije na bazi mozg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933720"/>
            <a:ext cx="640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Ekstrakranijske i intrakranijs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kranijalni živ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cervikalni živc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53080" y="4365720"/>
            <a:ext cx="2590920" cy="2492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108240" cy="242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492360" y="170028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0"/>
            <a:ext cx="8915400" cy="10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Anatomske strukture</a:t>
            </a: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 neosjetljive 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na 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oz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ranij ( luban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veći dio 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epend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lexus choroideu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41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0"/>
            <a:ext cx="89154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Patofiziolog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Upale, podražaji ili pomaci na osjetljive ekstra ili intrakranijske anatomske strukture uzrokuju b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odraženi nocioceptivni receptori primarnim aferentnim vlakni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renose podržaj u medulu, talamus do kortek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ercepcija boli ovis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sihologijski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etničkim čimbenici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dobi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987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0"/>
            <a:ext cx="8915400" cy="11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Dijag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Anamn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bitelj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sob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adašnja bol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643280" cy="3933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835440"/>
            <a:ext cx="38512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0"/>
            <a:ext cx="8915400" cy="145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Sadašnja bol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maš li često glavobol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ada glavobolja poči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ako počinje i kako prest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ako često imaš napad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ad je bio zadnji napada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oliko je dugo traj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ostoje li posebni uvjeti u kojima počinje ili prest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javlja li se nakon jela ili kad si gla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maš li vrući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kakva je kvaliteta bo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maš li još koji simptom (mučninu,povraćan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maš li još koji simptom između napa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maš li koji kronični medicinski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uzmeš li koji lij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omogne 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645000"/>
            <a:ext cx="89154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Glavobo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zajednički probl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djece i odrasl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40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0"/>
            <a:ext cx="8915400" cy="159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omatski pre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eurološki pregled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laboratorijski nalaz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undus, vi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tg paranazalnih šuplj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regled neuropedija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psihologijsko testir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EEG nal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CT i / ili MR moz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lumbalna punkcija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57680" cy="2663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4140360" cy="198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4140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0"/>
            <a:ext cx="8915400" cy="15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erapi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Lijekovi za suzbijanje boli u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Acetaminophen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10 - 15 mg/ kg/ do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Ibuprofen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0 mg/ kg/do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aproxen sodium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,5 - 5 mg 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umatriptan ( 5-HT receptor agoni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86680" y="5067360"/>
            <a:ext cx="2857320" cy="17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775640" y="115920"/>
            <a:ext cx="1368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0"/>
            <a:ext cx="8915400" cy="13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Terap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rofilak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antidepresivi</a:t>
            </a:r>
            <a:r>
              <a:rPr b="0" lang="hr-H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amitriptylin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5-50 mg/kg/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antiepile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carbamasepin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0-40 mg/ kg/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valproic acid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0-40 mg/kg/dan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beta bloka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ropranolol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-4 mg/mg/kg/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metoprolol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2-6 mg/kg/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0"/>
            <a:ext cx="8915400" cy="13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Terap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Profilak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omijeniti način živ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edovito uzimati ob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edovito i dostatno sp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sihoterapijska potp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Klinika za dječje bolesti KBC Spli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2012-20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301 dijete liječeno zbog glavobol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bolnički 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ambulantno 24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60280"/>
          <a:ext cx="4427640" cy="38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442764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88000" y="333360"/>
          <a:ext cx="4356000" cy="374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33360"/>
                    <a:ext cx="4356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2400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ajmlađe dijete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3 god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ajstarije dijete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17 go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0"/>
          <a:ext cx="442764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7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427640" y="1125360"/>
          <a:ext cx="4716360" cy="424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125360"/>
                    <a:ext cx="47163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3213000"/>
          <a:ext cx="4356000" cy="3645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13000"/>
                    <a:ext cx="435600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333360"/>
          <a:ext cx="8642160" cy="59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731880"/>
          <a:ext cx="8496360" cy="55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31880"/>
                    <a:ext cx="849636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5280" y="404640"/>
          <a:ext cx="8497800" cy="604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49780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-360"/>
            <a:ext cx="410364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A.Primarn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gr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enzijska glavob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luster glavob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360" y="3573360"/>
            <a:ext cx="381024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B.Sekunda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bolesti SŽ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drugih organa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rganskih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92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Glavobolje kod djece"/>
          <p:cNvPicPr/>
          <p:nvPr/>
        </p:nvPicPr>
        <p:blipFill>
          <a:blip r:embed="rId2"/>
          <a:stretch/>
        </p:blipFill>
        <p:spPr>
          <a:xfrm>
            <a:off x="0" y="393372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ajčešća primarna glavobo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tenzij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40% naših boles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glavobolja u ostale dj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simptomat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najčešće sinuit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38% naših boles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glavobolja u ostale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ijetki ali ozbiljni uzro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arterijska hiperten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% naših boles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subduralni hem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 dij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Tumor SŽS-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 dijagnosticirali smo u šestoro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eurološki ispad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6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glavobolja i povraćanje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 dij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0920" y="404640"/>
            <a:ext cx="830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Svakom djetetu s glavoboljom puna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podrobna anamn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opći klinički preg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eurološki preg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otkrivaju većinu uzroka i tip glavobol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04920"/>
            <a:ext cx="830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et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 naslanjaju se na smjer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nameze i kliničkog pregle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 nalaz slikovnih pretraga je presud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e mogu zamijeniti aktivnu ulogu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europedija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304920"/>
            <a:ext cx="8305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očna dijagnoz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brzi postup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ogućnost ranog početka liječ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kutna glavobolja i kronična neprogresivna glavob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azličiti postupci liječ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enzijske glavobolj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najčešći oblik glavobolje kod djece i mladih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ajčešći uzrok su stresne situ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u obitel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u ško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u odnosu s vršnjac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tres dovodi do stezanja mišića glave, poremećaja mikrocirkulacije i lokalne mišićne ishemi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844640"/>
            <a:ext cx="244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enzijske glavobolj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bol je uvijek obost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imetrič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ljepoočnog, čeonog ili zatiljn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stiskanja ili priti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traje desetak minuta do nekoliko 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ije udružena s mučninom ili povraćanj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neovisna je o fizičkom napor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može biti praćena preosjetljivošću na svjetlosne ili zvučne podraž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70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enzijske glavobolj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češće su 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ovremene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do 15 puta mjesečn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jeđe 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kronične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više od 15 puta mjesečn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ostoji nasljedna sklonos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tres je glavni pokretač tego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estaju tijekom ljeta, za vrijeme školskih praz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08280"/>
            <a:ext cx="2484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Tenzijske glavobolj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Liječ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ahtijeva promjenu životnih nav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dekvatnu količinu s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avilna i redovita prehra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elaksacija uz umjerenu tjelovjež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o potrebi ograničavanje vanškolskih obv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sihoterapij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uz povremenu upotrebu analget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765000"/>
            <a:ext cx="2340000" cy="165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2565360"/>
            <a:ext cx="23400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189000"/>
            <a:ext cx="8915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Tenzijske glavobolje i migr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uznapredovale mogućnosti liječ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izdvojiti što ran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bjasniti roditeljima prirodu bole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989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292640"/>
            <a:ext cx="2771640" cy="2217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244944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9154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is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jelesni čimben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mocionalni čimben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spravna dijagno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rzo i učinkovito liječ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čest simptom neuroloških bol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l neugodna i ograničavajuć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jet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oditel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4932360" cy="324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images" descr=""/>
          <p:cNvPicPr/>
          <p:nvPr/>
        </p:nvPicPr>
        <p:blipFill>
          <a:blip r:embed="rId2"/>
          <a:stretch/>
        </p:blipFill>
        <p:spPr>
          <a:xfrm>
            <a:off x="6156360" y="4686480"/>
            <a:ext cx="2409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nim početkom liječ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dijete se lišava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mogućava mu se uobičajeni živ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grešna dijagnoza i nepravilna terap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epotrebno izlaganje djeteta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pterećenje za roditel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pterećenje za neuropedija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Migrena liječenje, glavobolja migrena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08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9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827748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1844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dodatni potica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sagledavanje proble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mogućnosti boljeg liječ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Odras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rvi zapisi pred 5000 go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migrenska glavobolja - Hipokrat prije 2500 go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emikranija - Galen prije 1800 g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Dj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enry Day  187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Essays on Diseases in Childre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Friedman i Harms 196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eadaches in Childre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Hockday 198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Migraine in Childhoo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800000" cy="201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Objavljene prve smjernice za dijagnozu i liječenje potresa mozga u pedijatriji"/>
          <p:cNvPicPr/>
          <p:nvPr/>
        </p:nvPicPr>
        <p:blipFill>
          <a:blip r:embed="rId2"/>
          <a:stretch/>
        </p:blipFill>
        <p:spPr>
          <a:xfrm>
            <a:off x="4762440" y="4572000"/>
            <a:ext cx="438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60280"/>
            <a:ext cx="8915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Prv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veliko epidemiološko istraživanje o incidenciji i prevalenciji migrene i tenzijske glavobolje u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kandinavija, 9000 dj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Bille BS. Migraine in school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cta Paediatrica Scandinav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962;(suppl. 136) 51:1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1871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4495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Dob djece do 7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gren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enzijsk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,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ovremen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3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495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Dob djece do 15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gren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5,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enzijsk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       15,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ovremen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54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580536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Bille BS. Migraine in school childr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Acta Paediatrica Scandinav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1962;(suppl. 136) 51: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Objavljene prve smjernice za dijagnozu i liječenje potresa mozga u pedijatriji"/>
          <p:cNvPicPr/>
          <p:nvPr/>
        </p:nvPicPr>
        <p:blipFill>
          <a:blip r:embed="rId1"/>
          <a:stretch/>
        </p:blipFill>
        <p:spPr>
          <a:xfrm>
            <a:off x="4716360" y="189000"/>
            <a:ext cx="3635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5556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0"/>
            <a:ext cx="89154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Podj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merican Medical Association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(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ternational Headache Society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98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kut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kutna povrem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ronična progresiv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ronična neprogresiv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ješ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Tipovi%20glavobolje2" descr=""/>
          <p:cNvPicPr/>
          <p:nvPr/>
        </p:nvPicPr>
        <p:blipFill>
          <a:blip r:embed="rId1"/>
          <a:stretch/>
        </p:blipFill>
        <p:spPr>
          <a:xfrm>
            <a:off x="4859280" y="3581280"/>
            <a:ext cx="4284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0"/>
            <a:ext cx="891540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Akutna glavobolj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aćena neurološkim ispad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ahtjeva hitnu obradu i liječen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Vitalno ugroženo dij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infekcije SŽ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ubduralno krvar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rterijska hipertenzij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Tipovi%20glavobolje2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19:08:39Z</dcterms:created>
  <dc:creator>JM</dc:creator>
  <dc:description/>
  <dc:language>en-US</dc:language>
  <cp:lastModifiedBy>Marija Mestrovic</cp:lastModifiedBy>
  <dcterms:modified xsi:type="dcterms:W3CDTF">2014-10-09T07:01:57Z</dcterms:modified>
  <cp:revision>364</cp:revision>
  <dc:subject/>
  <dc:title>No Slide Title</dc:title>
</cp:coreProperties>
</file>