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</p:sldMasterIdLst>
  <p:notesMasterIdLst>
    <p:notesMasterId r:id="rId37"/>
  </p:notes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</p:sldIdLst>
  <p:sldSz cx="9144000" cy="6858000"/>
  <p:notesSz cx="96869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notesMaster" Target="notesMasters/notesMaster1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/>
          <p:nvPr/>
        </p:nvSpPr>
        <p:spPr>
          <a:xfrm>
            <a:off x="0" y="0"/>
            <a:ext cx="9687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972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dt" idx="97"/>
          </p:nvPr>
        </p:nvSpPr>
        <p:spPr>
          <a:xfrm>
            <a:off x="5486400" y="-360"/>
            <a:ext cx="4199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 type="sldImg"/>
          </p:nvPr>
        </p:nvSpPr>
        <p:spPr>
          <a:xfrm>
            <a:off x="312876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 type="body"/>
          </p:nvPr>
        </p:nvSpPr>
        <p:spPr>
          <a:xfrm>
            <a:off x="968400" y="3257640"/>
            <a:ext cx="7750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 type="ftr" idx="98"/>
          </p:nvPr>
        </p:nvSpPr>
        <p:spPr>
          <a:xfrm>
            <a:off x="-360" y="6513120"/>
            <a:ext cx="41972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6"/>
          <p:cNvSpPr>
            <a:spLocks noGrp="1"/>
          </p:cNvSpPr>
          <p:nvPr>
            <p:ph type="sldNum" idx="99"/>
          </p:nvPr>
        </p:nvSpPr>
        <p:spPr>
          <a:xfrm>
            <a:off x="5486400" y="6513120"/>
            <a:ext cx="4199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B869-C96C-428B-81DB-029B10B7CE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Rectangle 7"/>
          <p:cNvSpPr/>
          <p:nvPr/>
        </p:nvSpPr>
        <p:spPr>
          <a:xfrm>
            <a:off x="5486400" y="6513480"/>
            <a:ext cx="4199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AE08-01D4-46EF-8AE5-1B6507BC0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1"/>
          <p:cNvSpPr>
            <a:spLocks noGrp="1"/>
          </p:cNvSpPr>
          <p:nvPr>
            <p:ph type="sldImg"/>
          </p:nvPr>
        </p:nvSpPr>
        <p:spPr>
          <a:xfrm>
            <a:off x="312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968400" y="3257640"/>
            <a:ext cx="7750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Rectangle 7"/>
          <p:cNvSpPr/>
          <p:nvPr/>
        </p:nvSpPr>
        <p:spPr>
          <a:xfrm>
            <a:off x="5486400" y="6513480"/>
            <a:ext cx="4199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62DC-6E2D-4FC7-8149-DFF7DAE56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sldImg"/>
          </p:nvPr>
        </p:nvSpPr>
        <p:spPr>
          <a:xfrm>
            <a:off x="312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1" name="PlaceHolder 2"/>
          <p:cNvSpPr>
            <a:spLocks noGrp="1"/>
          </p:cNvSpPr>
          <p:nvPr>
            <p:ph type="body"/>
          </p:nvPr>
        </p:nvSpPr>
        <p:spPr>
          <a:xfrm>
            <a:off x="968400" y="3257640"/>
            <a:ext cx="7750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Rectangle 7"/>
          <p:cNvSpPr/>
          <p:nvPr/>
        </p:nvSpPr>
        <p:spPr>
          <a:xfrm>
            <a:off x="5486400" y="6513480"/>
            <a:ext cx="4199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26E1-8556-4633-B2CC-23E3C9776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1"/>
          <p:cNvSpPr>
            <a:spLocks noGrp="1"/>
          </p:cNvSpPr>
          <p:nvPr>
            <p:ph type="sldImg"/>
          </p:nvPr>
        </p:nvSpPr>
        <p:spPr>
          <a:xfrm>
            <a:off x="312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4" name="PlaceHolder 2"/>
          <p:cNvSpPr>
            <a:spLocks noGrp="1"/>
          </p:cNvSpPr>
          <p:nvPr>
            <p:ph type="body"/>
          </p:nvPr>
        </p:nvSpPr>
        <p:spPr>
          <a:xfrm>
            <a:off x="968400" y="3257640"/>
            <a:ext cx="7750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Rectangle 7"/>
          <p:cNvSpPr/>
          <p:nvPr/>
        </p:nvSpPr>
        <p:spPr>
          <a:xfrm>
            <a:off x="5486400" y="6513480"/>
            <a:ext cx="4199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667E-BC04-4E4C-A479-A38FF03E6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sldImg"/>
          </p:nvPr>
        </p:nvSpPr>
        <p:spPr>
          <a:xfrm>
            <a:off x="312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968400" y="3257640"/>
            <a:ext cx="7750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Rectangle 7"/>
          <p:cNvSpPr/>
          <p:nvPr/>
        </p:nvSpPr>
        <p:spPr>
          <a:xfrm>
            <a:off x="5486400" y="6513480"/>
            <a:ext cx="4199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970C-D006-44F8-857B-B520F5D9D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1"/>
          <p:cNvSpPr>
            <a:spLocks noGrp="1"/>
          </p:cNvSpPr>
          <p:nvPr>
            <p:ph type="sldImg"/>
          </p:nvPr>
        </p:nvSpPr>
        <p:spPr>
          <a:xfrm>
            <a:off x="312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6" name="PlaceHolder 2"/>
          <p:cNvSpPr>
            <a:spLocks noGrp="1"/>
          </p:cNvSpPr>
          <p:nvPr>
            <p:ph type="body"/>
          </p:nvPr>
        </p:nvSpPr>
        <p:spPr>
          <a:xfrm>
            <a:off x="968400" y="3257640"/>
            <a:ext cx="7750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Rectangle 7"/>
          <p:cNvSpPr/>
          <p:nvPr/>
        </p:nvSpPr>
        <p:spPr>
          <a:xfrm>
            <a:off x="5486400" y="6513480"/>
            <a:ext cx="4199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AEAB-44F7-4C07-801B-1EFDC67AC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1"/>
          <p:cNvSpPr>
            <a:spLocks noGrp="1"/>
          </p:cNvSpPr>
          <p:nvPr>
            <p:ph type="sldImg"/>
          </p:nvPr>
        </p:nvSpPr>
        <p:spPr>
          <a:xfrm>
            <a:off x="312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9" name="PlaceHolder 2"/>
          <p:cNvSpPr>
            <a:spLocks noGrp="1"/>
          </p:cNvSpPr>
          <p:nvPr>
            <p:ph type="body"/>
          </p:nvPr>
        </p:nvSpPr>
        <p:spPr>
          <a:xfrm>
            <a:off x="968400" y="3257640"/>
            <a:ext cx="7750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Rectangle 7"/>
          <p:cNvSpPr/>
          <p:nvPr/>
        </p:nvSpPr>
        <p:spPr>
          <a:xfrm>
            <a:off x="5486400" y="6513480"/>
            <a:ext cx="4199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D623-E8C3-44CC-A037-BE900F2E4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1"/>
          <p:cNvSpPr>
            <a:spLocks noGrp="1"/>
          </p:cNvSpPr>
          <p:nvPr>
            <p:ph type="sldImg"/>
          </p:nvPr>
        </p:nvSpPr>
        <p:spPr>
          <a:xfrm>
            <a:off x="312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2" name="PlaceHolder 2"/>
          <p:cNvSpPr>
            <a:spLocks noGrp="1"/>
          </p:cNvSpPr>
          <p:nvPr>
            <p:ph type="body"/>
          </p:nvPr>
        </p:nvSpPr>
        <p:spPr>
          <a:xfrm>
            <a:off x="968400" y="3257640"/>
            <a:ext cx="7750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Rectangle 7"/>
          <p:cNvSpPr/>
          <p:nvPr/>
        </p:nvSpPr>
        <p:spPr>
          <a:xfrm>
            <a:off x="5486400" y="6513480"/>
            <a:ext cx="4199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4D30-E400-47CF-A73E-92A212DB6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1"/>
          <p:cNvSpPr>
            <a:spLocks noGrp="1"/>
          </p:cNvSpPr>
          <p:nvPr>
            <p:ph type="sldImg"/>
          </p:nvPr>
        </p:nvSpPr>
        <p:spPr>
          <a:xfrm>
            <a:off x="312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5" name="PlaceHolder 2"/>
          <p:cNvSpPr>
            <a:spLocks noGrp="1"/>
          </p:cNvSpPr>
          <p:nvPr>
            <p:ph type="body"/>
          </p:nvPr>
        </p:nvSpPr>
        <p:spPr>
          <a:xfrm>
            <a:off x="968400" y="3257640"/>
            <a:ext cx="7750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54DA1-37D6-4997-82BA-766FCD33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82147-D7AA-4932-B5FC-1EDA9210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02182-FFC1-49E4-9A0A-1298899F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389A7-9951-459C-850A-65EB0828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7696D-5CEC-4E95-8ED2-DF6B464E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080D8-A266-4C9E-B158-A0118F8C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FC1F6-ADE9-4CCD-843C-1BB102FA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3D7A2-DEA6-4C11-A2D3-C3A6E13A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3982B-4842-4CFE-ACC9-2588A5FF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3F2ED-D358-4F2C-A345-0A0A22A6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E9194-BB85-4A88-A709-02357086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BFF87-F7D6-442B-BC2A-C6B043ED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B3D8A-317C-46DE-A0AE-C50B91EA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6E24E-41F1-4633-9089-166B16BB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49CD4-CBDC-44CE-8428-C9BDDE12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510FA-27C2-45FB-89F6-EDD956D7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300B1-0BFA-4032-815E-20B1B33A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A0C51-25BF-401B-8D6E-47E6581F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84432-6F6F-4699-81A4-D50CC1B4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A2E89-F2B1-4D5B-B50E-5A733D4F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56658-47AC-4585-BE2A-3E6474AA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9C95B-1D67-4A50-AD56-16F2C752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BE64B-97E8-4BEB-83A5-35E84B31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53926-010D-4F72-8234-A55E16A1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C72E3-402C-4B65-A218-72DDC80E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7634B-99CA-493F-A351-BE9CD59A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7C195-713B-45FC-BF87-5F3C04F8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3E27A-DDEF-473D-A1CA-87C8094B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7C20D-191A-4A6E-915E-4E552134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6FF8B-DA12-454C-B6A5-522138E2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77EF1-383E-4D57-B55B-D7574B96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5F769-6B19-46DD-8E45-45B87F37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771D8-1D40-4FCB-B397-B81C10C0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5E431-7CDC-4802-B624-D11D7428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199A1-7DBC-43ED-A8E4-45332D8E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22DD8-E07C-42A7-9DE7-AA3BFFA8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99B78-D14F-48E2-B9FB-548D8E35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2CC36-2E18-4C95-86CB-1E42D096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65F44-1AC3-497F-B2E7-6E8259B4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7E8C0-2487-47C3-AE38-76597BEC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226DA-47BD-4B64-91E1-92348EAF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26D0F-99EB-4B23-A6CA-479A3FD7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FD7F4-DB56-413D-A974-51AF44E2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05DC5-2A32-4A57-B169-E208A81E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09DA7-E8DC-4C99-AFB4-7D771693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A7B91-EC37-424A-9418-2627DDA7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542C4-AFE4-442B-9E81-8DFC95D7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C1318-1C91-4690-A888-69E8C9E3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F4BFD-403D-466E-B220-1969A7BC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4A3E2-6AA0-4726-8C6D-E08716BC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09B79-3A64-40FB-818F-4DA1DB89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370E7-D8B2-4655-BD91-E2F9B103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FD758-F2A6-483F-BD56-8AF1050F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CF106-2294-4F2F-8F5F-8D07640C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8A825-FC18-4DA8-864A-45E69530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CA9CA-EDB8-45A6-9282-C4C19283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0C167-AB78-4A6E-9105-379A43F3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E7DB5-3142-4F78-BA09-EB656A6D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A2394-0D86-4E9B-87B7-CAD4A9F4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DFA17-EC6F-4002-824C-FCC20244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BC191-96FA-44BC-92AC-34F8840B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9D62C-37DB-41CA-9D51-7FF0456F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4F604-0480-4D28-8188-BFF708FD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3E796-15CB-4943-A002-F0237DA9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EFBD5-5654-459F-BA31-A717468C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7266D-1E91-414F-AE1E-17A6754A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C9909-EF2C-4638-B75B-03679FBE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9F1BB-B2B4-4E5B-8C8C-11ECDEE8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DBE71-6573-467D-A514-EEBBA492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6BDC7-E08F-43F6-8CDD-6733EAA5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FE3E3-9C20-4E62-998F-8DF7DFD5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0EFC3-C24F-4AA3-9BAA-3E191BF1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9A39E-A633-4202-B9D9-6DF05D0F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624B1-7DF8-4B77-BA37-7576B82B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11451-BEC3-441B-BC74-4355FD69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8556D-60DB-40F1-97E8-1734A8F5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3A3AB-C2DE-4155-B212-76AC07E1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817F9-7258-4682-831B-0DF370B4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278A3-740B-4D4A-BC58-BA6B25E8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2DBBD-7580-4B44-81A5-07D737D0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6843C-96AC-413F-9F76-EF3AEF4B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8D7610-635F-4443-B269-6717AF61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12CCAF-E71A-4BAD-A534-4057356B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5BE420-C694-4240-BAA9-37B74D57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77A4F-3AB3-4BED-8677-C8AA25EB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1F05C-C1EC-4EF5-8E57-E90D6D38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2BAE94-7BE9-47DA-9D28-2AF5D7A1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6D2DF0-7BA2-4DD1-80CE-6C5E3CA4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0ECB3D-FD35-45FC-B4C4-82198690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C8018-6025-4E10-B88B-CCDF4DC4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7907D8-E02A-43E0-AEF2-B042EC39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A5A9A-AAC2-4AF4-9971-DE71D3C4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2F221F-E3BD-4138-8E98-BDF67876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903731-AD62-4895-87FB-1BCA2354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7259E0-1AA8-4800-8651-5C27192A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EACDDE-915F-44C9-A7C9-A775074E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1AA0AA-DA31-44F6-BF20-AF99675E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80613C-F21B-4356-A828-B62FF98C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1C1C0-6B01-4015-8F64-799F52E1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B93F95-CD34-4ABC-9CC4-5D99E91F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42442-D63A-4385-8927-7900B1E6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035E1C-2E91-4337-ABEE-4EFE2DF7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DB0AC-15DA-4502-BCA7-F8FDF04F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2853DE-25CD-4CA1-BA63-0E880DA1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988036-1C46-428E-A389-F355A429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1D892B-3AF3-41D1-A3AE-763DA758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3C48FF-DD47-4E40-BCA4-8DBB5F19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265E55-1A1B-4504-AEA0-5D9DDA77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4B26C9-C85A-4DA0-B9B1-B81AAEC1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DBDA93-F8DE-4A89-AC04-54A119AE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6DA57A-AF90-441A-B8C0-0D516544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DEAD9E-D520-4278-8354-CDC3A46D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7E5BFC-6BB7-4525-A482-2C083BA8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4ADF0C-28D4-4453-87A6-8208AAEB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E11029-F569-4316-A607-10474FA9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0EDB3E-4994-405F-BBF6-98DB4820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EFDA87-351B-41B0-A968-2EC48376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70CF0C-4919-4C61-AA51-5B089FA5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17CBD9-4D62-4AB7-BE9C-14E02929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35DD6E-D873-4874-A07C-1A5AA4B2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4A045F-151C-43EA-BFE5-0F9E9756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9DCF63-3F43-4AA6-9083-A9E0A9F1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0D7429-E1C9-462D-9897-471F01B9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288AF7-EA16-4196-8819-AD3D7738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E6319B-9F3D-49D9-BBCD-458E8ED9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885979-3F39-43F8-B2F7-0649EBB9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6A54CE-0B77-4C00-94E4-386D47E0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C51EC4-EFE0-412A-AFCE-6BA38958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BAB4D2-9D80-4CAB-B963-8B957645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FB2BBC-DF31-4D75-B6D3-1CCE6537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2D0B8E-ECF8-4F19-8351-790A973A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5F60AB-06D0-48B5-9B56-6010B5A2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A46E52-D4FD-4BE5-ACDE-4848A454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C59228-815A-4D42-B136-0D25DFD2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FE7DB9-D161-4916-8995-43EF1CCF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C9A295-074E-4A37-A425-CD8B514C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B63338-42C2-4078-A425-CB2AE9ED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42CAC9-A46A-4697-A6A7-6B60FEF9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430E1E-C345-4DC1-AAF4-6CDF7DC9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DAC957-BEFE-4C22-AEEE-F15A1A43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C7AC02-6CD1-40F2-A940-A38AC246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B7F8A4-7040-4552-8363-C3C8C217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E2C57B-3A1A-4B8D-A740-73026C5F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FC9C9C-D67D-40FC-8A58-8EAF2162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4199E0-5589-4F42-9133-E52CD2A7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CFC411-C5B1-4DAB-83F7-72404227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61E918-40B9-46BF-9E33-67DD3E9B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9CFF1-88A2-4874-AC2E-FF5825B0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989C67-FA2B-421F-8F50-1D5E1D9C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440726-869C-481A-8E10-76C50F6C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FFEC15-07A2-4970-B21C-B818258B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081044-21A0-4AE8-91F4-252BBBC8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3F5043-91F3-43E2-9A79-EF82F647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9E8724-D268-46C7-A2D2-1910539B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029C22-733A-4C57-92B0-6AB31611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431A3E-6467-4553-9C32-E35F2CBF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A4ABD9-032B-405C-B582-F3B51150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E96162-9C4A-4EC3-9612-83C9420B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729D5E-5EE4-4AB3-AB54-A8ABA3F6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6A97B7-9D9C-448F-905A-D1B700A3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F291E0-0476-45E1-811D-101CA4D3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68E38E-0D3E-413E-9CCA-FA9B45F6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EBB62F-3914-4C59-BCBE-80843AB1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5F2BB4-913E-4737-A74A-7BC02E2C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EFEA50-B0DE-44CC-8AB7-B78A8D38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EFC28B-5880-4E34-8066-BF4D1801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9AE758-5C02-4CB3-BE32-DCE5008A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6FE9F8-D06C-4FD5-8CB3-4D65F7D2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85D14A-6877-4754-B817-D0A56A1B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906D2D-6246-4A15-90CF-F9C81E82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2F3888-EB8B-4413-B1CC-94D916A7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07CA0A-10AA-450E-A04A-F1DD3D10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B37800-CCCF-43FC-AA58-66F2772B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F963C3-6092-4E44-933A-5851DD4F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AB1645-D9DC-44DE-9189-C8E26413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FADDD7-A9F1-4FA6-83D6-F05828D9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514C02-54CC-4E97-BB83-BE53EB3C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FE9D50-9B99-434D-A70F-D393F10D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2479BE-76AF-4C16-8E9A-60C94F78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1DB90E-F660-4E9A-9E43-BCC0F08E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A9DE58-7764-4875-AD48-4B8F3F1A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0F5C7A-6A2B-4A5E-B64B-7BF40E60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189099-7593-4D90-8001-A9F9873F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4CF023-19CE-40EC-8D8D-22059320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E23499-1F50-4DB4-9B12-F8781280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427F5C-7B5C-4F81-8FD1-E349EEB2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7FA5A5-1F1B-48F8-8245-4592EB6D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67A472-1C1A-4F1A-8CAE-43297DBB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7D97B2-4832-4166-AE0A-159C24FF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1129D3-E97A-49E6-9962-C49A614B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8D3658-6D45-47F0-A60B-CA00A71B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3AFB6A-C6AB-4B5A-9517-7999F1F7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DFE7E4-A795-4E89-99FB-1E5DB31E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76104B-435D-4CEB-AD93-F355D9FB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845245-B192-47D2-A82B-1B757151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CE1E02-1DB5-46D4-822C-B1282A0D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984718-C906-4619-A570-43A18DB8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B94364-C96F-468E-BE9C-79F9F321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E735CE-89DA-4CB3-A40F-643A1399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746DC4-8440-4ECE-A42F-6D25F80B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86FC20-5ECA-4C28-ADE0-3E6B3504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8797DE-D113-4402-8010-DF0256A6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D255A3-F6B8-4ED1-B76E-EE78AF8E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790836-8DE0-4CA3-A6D4-E7C50D26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D4987B-5840-4D0E-8131-90FF6300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508009-806D-4969-9B85-A3AEEB6C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B88E1F-A4CD-42AD-90FE-4AF23E65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04E237-2247-4AE9-9453-87E6DE84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1ABC0C-ED90-4312-9892-30667392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2016D6-B161-4EFF-AAC0-7BC43BF0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93A237-64BF-4733-993D-DDA7068E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017FBE-182C-40F5-8352-E72BD53B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5430F8-EF13-4A98-AB9B-64C1C9A7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3BB9AC-CBC6-4504-B781-85E53D74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E67F59-24A6-4C93-A2D7-FC0E7133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AA6ED1-4538-4476-B63B-603E0BC0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B64929-259F-4F4D-BF7D-DE289453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925D3D-BED3-4217-A124-B69DADA3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2D02DB-FEF2-444D-8F6C-BC331524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DA4897-91BF-4865-9E9C-9F13EF40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B3E24F-1D3B-46A3-8723-9EC89305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1DF4C8-B8DF-45C6-8B28-716ECE18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DE32F1-EDBE-4552-B980-468AD9D8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D4D7A4-7E9A-4B25-9BEF-C142D266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52E235-AB1D-45B1-A38D-6DD8EB10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16307D-D91C-4F2F-946D-FDE52B62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05C675-6CC2-4DA4-B60B-827D2CC2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318FA9-0F63-4B79-9B57-9D3A97D1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0DE1C2-3D2C-48F1-8D93-66AB0F13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6E4EF2-3FDF-4711-BD15-2FB3E210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980A5B-19D3-4653-82D2-021A5ABD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0E6D3E-BDF2-4217-84DF-73105189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E87982-139B-473A-9D15-1CD94E95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CD2A57-7CC2-41E9-906B-4AC67201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CEC601-1ABD-4C22-8E7B-3C1B18E7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373C13-CE0D-489F-A1DB-18081FC0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96FB18-5A49-41CD-8CD1-1DEBA4EA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509BBB-4D7A-48F6-AACA-5CA9EC56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D0A007-1961-47EE-924F-416F2E23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5FD573-F223-4FA4-8B37-17A0C68F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9ABA78-6BD8-4157-BD1E-7BB11108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10F0E1-98EF-443D-ADC8-D0C7B897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E4A9D6-95F3-4374-88F1-8F4B8F27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F4E9CA-7A23-4965-A12F-3D25A447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6A1454-7199-41E8-AB39-8DD1ED04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F090D2-1A05-4861-85D4-8D1D5FD3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7A1545-96D3-40A7-A882-20D9709C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2EBAC5-1340-4EAD-AD3A-7006EDE1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465D7C-9EFA-40D1-BD34-681CBF4C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9119C0-2F2D-42EB-B87F-D3DF475E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E7B961-C66C-4CD1-9F20-5BF6DA1E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BABD0D-04BA-45C0-92AE-73DE9F10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9CCF52-2592-4F87-B519-5366D24B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AB954D-2869-4FDA-8B0E-E239C58D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4BCFE5-06A5-44E8-8639-1104B873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736E2E-BBFF-455A-8F2F-2A99CA35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CB7124-7C8A-4FCD-8F0F-B61B2A73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086955-6241-439A-B9B7-F895273C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F705F2-0559-4F85-B7FE-6D40ABAE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4D7554-215B-4399-81F1-F097905C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E2AC83-FF80-4BDD-98B6-849FDEAA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433D07-CDB4-4211-B4FA-B28A6D5B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50A28E-5FCE-43BF-B12E-C54B5E40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AB4FD9-FDD6-4564-91D2-70B1204F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8F7434-2D3D-4137-8AF1-92C327EC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70FC23-A880-4C72-9511-4EB4DE6A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F32AEC-1167-4E30-B6F6-B9F492C6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9BCAFF-BFE7-4212-8DFE-AB8EAFD0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6703F2-694D-4D2D-8CCF-1DF8EBE6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C74E43-8EE8-4D99-B09E-375B54D8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863-1E8F-444A-8A95-35042801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5917E5-4F16-4A86-A4E4-28CAC1C9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969D58-3210-45A3-943A-D7AF4FE3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327D5F-9C7A-4189-A442-31E3467F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143CE9-2B3D-4404-85E8-876FE531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6538F1-B7FE-4391-93D1-E96CF54F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9DB908-E49F-4B64-8548-EFE5F7E8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902A85-2F60-4D0A-9CEF-A72D7AE2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6A37EB-6CFA-4535-9668-B77702D7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07B08E-6EF4-4EB2-B1E7-1013823F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F916F5-13F6-4C6C-B3B7-3D6C1471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67C-267A-4ADA-93DF-ABE9F51C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08B774-EDBC-49DA-9DAB-C4A683FD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B52AFC-457C-4307-A39C-4933B153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89587B-4574-4C4B-912F-32540681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3A161C-B48A-4725-A0F5-C75F82B6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576EBF-12C2-4FDD-87BE-A1EF0721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047DE3-5C12-4101-A923-9F3080AB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24908E-527E-412A-90AC-81EAEE30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3750DF-BF78-413B-A5E1-ACF25840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32CC8B-6807-4FE9-A7E6-1473EFF7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F641FE1-0E89-426C-8B14-A6E4A882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A4B2-1E00-4E44-B536-DE06D1FD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E560DE-0CEB-431E-80A6-89B396C2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C77936-5072-4A0E-ADA7-B65ECC4E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601783-18EE-4DAE-BEE5-70138BB3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A0E43D-0C87-4184-BB35-3D90F55C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AA1554-685B-44A9-A565-5C3D16B2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FE5E57-775E-4726-BB9C-6DA6F3FF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A6A3DE-A50F-4DDF-837F-1A2FC609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42CC568-064C-47B8-B0A5-82F934F8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512D66-F22C-4ABC-B1F0-827A5AA1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9DEDCE-1BF0-4C43-8526-4621EE1A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0277-0C68-448C-B3F4-A8087CD9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07087D-76D0-49BA-84F7-0169A1BF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887476-AA55-4C1B-A051-1FDD0B17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CC32B0-9D67-4A01-87BC-95E23A81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02F43B-A840-41B9-8917-081CDC30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AA7F2A3-5A09-4088-B843-D3A84AAE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D37D9A-4E66-47BF-BB8E-22BF8CBB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CEE89A-AC91-4B38-9867-6B0D5BC3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9A6A8E-9042-435D-86E0-14D40B63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9285CC-D0B7-4A1D-BC7B-9B1102FB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ADA3C03-2895-4F4C-B8BA-41677610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643-E8D5-45C4-A768-4BF25D9F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DF73410-CF56-4CCC-A885-341A001B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2F876DE-CAC4-4D06-81AE-337810A1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B05818-209E-42E8-B7E9-8E325501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679871-8BCA-4E21-80F8-ECDDBB9F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F85C56F-0B92-4161-A5FD-9682CB4F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10ECE4-AC3C-4D35-B402-ABCD53B7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52EFB0-784E-404C-A803-9FC0D530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80AA7F-5DA1-4C68-8BCE-5E61B885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957562-92EE-4391-AC71-DB68E917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F227B8-6E6F-4BD2-83EE-A1FA975C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061-7160-42F7-AE10-A01693FE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7EC460D-8FE8-49CA-8A93-3C00C36D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7771-F7F7-4F46-9780-97A89B1D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C103-620A-4EAE-846F-3511EEFE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3FE-E77C-400B-80FA-334A180E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2AF-522D-4723-9746-D3C2C4D0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470B-46E2-4244-8185-5A0A374F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015-9F60-4F4E-8F89-02D729EF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7E03-6761-44B3-8179-B7682BE6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9F5D-83C2-43F7-94ED-3DA4D6F1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C95A-BD71-4274-800D-AEF38BD0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383A-2041-4A71-9B27-36CE8C5F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05B8-42E5-4A4F-9B99-06D96DB2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1126-80D3-42A8-B5DC-D711BDB5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7E9B-0555-47E0-96E1-48053FD9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1D37-80B3-4C0F-AA90-FE09EB3A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6B0C-64B9-4347-93C3-E8F17F1E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CC51-D231-4401-9BAE-FA95CAB9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63AA-BD3E-4D45-B101-F92AA8B0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21F9-3E6C-42B3-86CA-D40091E4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01590-2C41-4D05-BFA1-517A999C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EBD04-2262-4A6B-B396-ACD20952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60660-6B12-4907-9A5C-4383FEA3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E3A82-0421-4898-AAB0-34FCE9FD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18DCB-AA6A-43A3-9A8B-0486D2D8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1B46F-FF84-46A2-A2AC-F92D6765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D2F23-A3D0-4CED-856C-92A71678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FD095-E1AE-4BE7-A967-3AFA97A3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7C739-C553-4633-A70D-E21C415C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C207D-857B-4B0C-9FD8-2B940564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F44A1-015D-4451-BFBB-82953630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E70A1-28EA-47C4-B878-978CE938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056F8-87CC-4CEA-84DD-4BB7BA69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392AC-D08D-459C-BAEF-93C0A1F1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6B49B-76C0-4736-85AE-E3CF0DA8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E2213-6C21-4ED4-8918-334EA9E8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19D34-9502-42C7-8EB9-64389462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99E8B-442C-49CA-BB67-2C399CCD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D1A7F-8D76-4A22-9870-F4DB100B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D4B55-2A01-4990-BBD2-0D1F96A9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2BE94-C389-4B0C-BA91-28D27278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8D634-6664-46D9-9043-27D242F7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DEBB3-01EF-4302-8BDA-67735995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409FF-081A-4A86-94E7-24609080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CD849-9F64-42CA-B28C-8092FB12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421EF-E572-4BE2-AE0B-22D6F66A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7B56B-CDD9-4DC3-BA95-84C3D2E0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A5748-6302-484E-B276-D0E4A0E4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09E91-2B71-49A8-B246-99A061F6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BC6A4-6331-4D4D-8575-B453FA7D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B939E-1518-4158-B2D4-FB7EA9F7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D0669-E802-4FE6-BF95-E7AA57BC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AB30C-4B54-4FF8-BD7C-5B9E9D80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AE8F5-C897-4A50-BB95-B48F293D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4C028-80DD-4DB2-AD68-650E00EB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FA858-BC26-45DE-BD62-EB2E9BA4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9205D-E141-4FB8-A493-AD631931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9A9D5-7975-4B99-9FB0-34992DD4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68AB8-CE73-48C8-B921-E225B293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2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Picture 5" descr="AZOO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97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39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C2F6-0718-4CC2-BD27-30F9F8A78B03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42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44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63B1-7235-4E90-AF90-9D5787C691D1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87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48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45B7-8A9A-4C14-BE75-C12A108CA898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2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53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465D-CD65-4218-AF73-8C3B5621B129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6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57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8DF8-E085-4502-9729-F016BC57A99A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0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621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6E73-7F63-48E4-8A0B-27E22AB6CB79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4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66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BE9E-1AE4-4E01-B549-B49106EC2826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08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70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E207-D732-489D-BA96-A66059E3DC03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2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7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1CDA-B0F4-4267-89BF-94B2072C0E24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6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79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6CDF-C142-41C9-BC72-CF882DBB3B7C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4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0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841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9D3A-25E6-4363-A416-B61D98EFE0AB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4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88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5E96-28B7-4027-AFC0-2FCBAE1B1F5A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8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92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925C-8DB2-4F12-9F9C-D5FCDDD33746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2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97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4784-576A-4A73-B313-FA671E722DF2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01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E2B0-E51C-43E4-97E0-8ACBE2C60E5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061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1062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3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4" name="Picture 5" descr="AZOO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9E61-47AC-40D0-BF5E-B0966C06EA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107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110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67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68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69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7B88-0B59-4DAA-B961-556870F1BC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152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11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4CA9-C8D3-4B26-982F-026A8E9144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7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119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9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dt" idx="73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ftr" idx="74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sldNum" idx="75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7EB8-BE80-492B-8BC6-3EC5AFD2A7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41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1242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3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dt" idx="76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 type="ftr" idx="77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 type="sldNum" idx="78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A996-ABAB-46A7-A54F-6257B4BA1A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grpSp>
        <p:nvGrpSpPr>
          <p:cNvPr id="87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8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4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285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1286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7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E8DA-2E6E-4393-BBC6-F13395F50A0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0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133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 type="dt" idx="8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 type="ftr" idx="8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 type="sldNum" idx="8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04B8-44C5-48F5-8258-595CBD85BC0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5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376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dt" idx="8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ftr" idx="8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 type="sldNum" idx="8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7087-42F9-4DC7-90F3-92799C713DB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 type="dt" idx="8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 type="ftr" idx="8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 type="sldNum" idx="9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9A1E-D5B6-4DDB-A121-A51B7B61ED8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 type="dt" idx="9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 type="ftr" idx="9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 type="sldNum" idx="9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4535-D488-49C3-B7D7-B2C52038F4D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5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50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 type="dt" idx="9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 type="ftr" idx="9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 type="sldNum" idx="9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2451-23F1-4099-9439-D91948D9961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27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12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9642-3B3C-4022-812D-249B7D0DC14E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72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17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F699-F369-466D-9E2E-10C4706EF34B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17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21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4C7C-EC05-485F-9186-9C08D98CD6F9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62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26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AFBB-D89B-4234-B582-72CCB2DAAFD5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07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30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56AF-5557-494F-AB30-0EB21B151B39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52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3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ED65-44E4-41A4-8297-675F90530529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ticica.com/slike/trust/5797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ticica.com/slike/trust/5797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lejac.com/wp-content/uploads/2011/03/bridges_23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ticica.com/slike/povjerenje/275004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1558" name="Picture 4" descr="trus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9" name="Pravokutnik 9"/>
          <p:cNvSpPr/>
          <p:nvPr/>
        </p:nvSpPr>
        <p:spPr>
          <a:xfrm>
            <a:off x="357120" y="585792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ff"/>
                </a:solidFill>
                <a:latin typeface="Arial"/>
              </a:rPr>
              <a:t>Molim vas na trenutak promislite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1"/>
          <p:cNvSpPr/>
          <p:nvPr/>
        </p:nvSpPr>
        <p:spPr>
          <a:xfrm>
            <a:off x="500040" y="3224880"/>
            <a:ext cx="8104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ff6d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 </a:t>
            </a: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slijepo povjerenje na početk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6d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 </a:t>
            </a: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zlouporaba povjerenj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6d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 </a:t>
            </a: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gubitak povjerenj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28400" y="928800"/>
            <a:ext cx="8280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hr-HR" sz="3600" spc="-1" strike="noStrike">
                <a:solidFill>
                  <a:srgbClr val="ff6d09"/>
                </a:solidFill>
                <a:latin typeface="Verdana"/>
                <a:ea typeface="Arial"/>
              </a:rPr>
              <a:t>ŠTO SE MOŽE DOGAĐATI S POVJERENJEM?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42960" y="135684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hr-HR" sz="4000" spc="-1" strike="noStrike">
                <a:solidFill>
                  <a:srgbClr val="ff6d09"/>
                </a:solidFill>
                <a:latin typeface="Verdana"/>
              </a:rPr>
              <a:t>TEMELJNA MISAO IZGRADNJE POVJERENJA JE </a:t>
            </a:r>
            <a:r>
              <a:rPr b="1" i="1" lang="hr-HR" sz="4300" spc="-1" strike="noStrike">
                <a:solidFill>
                  <a:srgbClr val="9a743a"/>
                </a:solidFill>
                <a:latin typeface="Verdana"/>
              </a:rPr>
              <a:t>OBEĆANJE</a:t>
            </a:r>
            <a:r>
              <a:rPr b="1" lang="hr-HR" sz="4000" spc="-1" strike="noStrike">
                <a:solidFill>
                  <a:srgbClr val="ff6d09"/>
                </a:solidFill>
                <a:latin typeface="Verdana"/>
              </a:rPr>
              <a:t>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8" name="Rectangle 6"/>
          <p:cNvSpPr/>
          <p:nvPr/>
        </p:nvSpPr>
        <p:spPr>
          <a:xfrm>
            <a:off x="0" y="1071720"/>
            <a:ext cx="8286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TekstniOkvir 5"/>
          <p:cNvSpPr/>
          <p:nvPr/>
        </p:nvSpPr>
        <p:spPr>
          <a:xfrm>
            <a:off x="571680" y="3786120"/>
            <a:ext cx="82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6d09"/>
                </a:solidFill>
                <a:latin typeface="Verdana"/>
              </a:rPr>
              <a:t>NITKO VAM NE MOŽE DATI ŠTO VAM JA MOGU OBEĆATI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kstniOkvir 6"/>
          <p:cNvSpPr/>
          <p:nvPr/>
        </p:nvSpPr>
        <p:spPr>
          <a:xfrm>
            <a:off x="571680" y="5286240"/>
            <a:ext cx="82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6d09"/>
                </a:solidFill>
                <a:latin typeface="Verdana"/>
              </a:rPr>
              <a:t>NEMOJTE OBEĆAVATI ONO ŠTO NE MOŽETE ISPUNITI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1"/>
          <p:cNvSpPr/>
          <p:nvPr/>
        </p:nvSpPr>
        <p:spPr>
          <a:xfrm>
            <a:off x="500040" y="1520640"/>
            <a:ext cx="810432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Profesionalnim ponašanj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 </a:t>
            </a: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vjerodostojnošć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 </a:t>
            </a: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otvorenošć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 </a:t>
            </a: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pouzdanošć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 </a:t>
            </a: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kulturom komunikacij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 </a:t>
            </a: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empatij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 </a:t>
            </a: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priznavanjem pogrešak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 </a:t>
            </a: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isticanjem uspjeha-pohval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356760" y="428760"/>
            <a:ext cx="83581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hr-HR" sz="3600" spc="-1" strike="noStrike">
                <a:solidFill>
                  <a:srgbClr val="ff6d09"/>
                </a:solidFill>
                <a:latin typeface="Verdana"/>
                <a:ea typeface="Arial"/>
              </a:rPr>
              <a:t>KAKO TO MOŽEMO SPRIJEČITI?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1000"/>
                                        <p:tgtEl>
                                          <p:spTgt spid="1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1000"/>
                                        <p:tgtEl>
                                          <p:spTgt spid="1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1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1000"/>
                                        <p:tgtEl>
                                          <p:spTgt spid="1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1000"/>
                                        <p:tgtEl>
                                          <p:spTgt spid="1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1000"/>
                                        <p:tgtEl>
                                          <p:spTgt spid="1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1000"/>
                                        <p:tgtEl>
                                          <p:spTgt spid="1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1000"/>
                                        <p:tgtEl>
                                          <p:spTgt spid="1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Naslov 6"/>
          <p:cNvSpPr/>
          <p:nvPr/>
        </p:nvSpPr>
        <p:spPr>
          <a:xfrm>
            <a:off x="642960" y="0"/>
            <a:ext cx="77724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500" spc="-1" strike="noStrike">
                <a:solidFill>
                  <a:srgbClr val="ff6d09"/>
                </a:solidFill>
                <a:latin typeface="Verdana"/>
              </a:rPr>
              <a:t>PROFESIONALNIM PONAŠANJEM GRADIMO KULTURU POVJERENJA U ŠKOLAMA.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4" name="Picture 7" descr="http://2.bp.blogspot.com/-onARWJDxE_0/TfeYkIN0WPI/AAAAAAAAHY4/HGJ9pdoYSk0/s400/smijesne-slike-macke-psi.jpg"/>
          <p:cNvPicPr/>
          <p:nvPr/>
        </p:nvPicPr>
        <p:blipFill>
          <a:blip r:embed="rId1"/>
          <a:stretch/>
        </p:blipFill>
        <p:spPr>
          <a:xfrm>
            <a:off x="2357280" y="3000240"/>
            <a:ext cx="4310280" cy="270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1000"/>
                                        <p:tgtEl>
                                          <p:spTgt spid="1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Rectangle 6"/>
          <p:cNvSpPr/>
          <p:nvPr/>
        </p:nvSpPr>
        <p:spPr>
          <a:xfrm>
            <a:off x="571680" y="1071720"/>
            <a:ext cx="82864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785520" y="2928960"/>
            <a:ext cx="7643880" cy="450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- kulturi razgovora</a:t>
            </a:r>
            <a:br>
              <a:rPr sz="3200"/>
            </a:b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- odnosom prema pogreškama i </a:t>
            </a:r>
            <a:br>
              <a:rPr sz="3200"/>
            </a:b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  sukobima</a:t>
            </a:r>
            <a:br>
              <a:rPr sz="3200"/>
            </a:b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- promišljanju i razvoju</a:t>
            </a:r>
            <a:br>
              <a:rPr sz="3200"/>
            </a:b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- delegiranju </a:t>
            </a:r>
            <a:br>
              <a:rPr sz="3200"/>
            </a:b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- zadovoljstvu u radu</a:t>
            </a:r>
            <a:br>
              <a:rPr sz="3200"/>
            </a:b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- motivaciji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7" name="Pravokutnik 7"/>
          <p:cNvSpPr/>
          <p:nvPr/>
        </p:nvSpPr>
        <p:spPr>
          <a:xfrm>
            <a:off x="428760" y="92880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6d09"/>
                </a:solidFill>
                <a:latin typeface="Verdana"/>
              </a:rPr>
              <a:t>PO ČEMU SE MOGU PREPOZNATI ŠKOLE U KOJIMA VLADA KULTURA POVJERENJA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1000"/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1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359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hr-HR" sz="3600" spc="-1" strike="noStrike">
                <a:solidFill>
                  <a:srgbClr val="ff6d09"/>
                </a:solidFill>
                <a:latin typeface="Verdana"/>
              </a:rPr>
              <a:t>VEĆI KOMPLIMENT JE KAD VAM NETKO VJERUJE, NEGO KAD VAS VOLI.</a:t>
            </a:r>
            <a:br>
              <a:rPr sz="3600"/>
            </a:br>
            <a:br>
              <a:rPr sz="3600"/>
            </a:br>
            <a:r>
              <a:rPr b="1" lang="hr-HR" sz="3600" spc="-1" strike="noStrike">
                <a:solidFill>
                  <a:srgbClr val="ff6d09"/>
                </a:solidFill>
                <a:latin typeface="Verdana"/>
              </a:rPr>
              <a:t>                     </a:t>
            </a: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George MacDonald</a:t>
            </a:r>
            <a:br>
              <a:rPr sz="40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9" name="Rectangle 6"/>
          <p:cNvSpPr/>
          <p:nvPr/>
        </p:nvSpPr>
        <p:spPr>
          <a:xfrm>
            <a:off x="571680" y="357120"/>
            <a:ext cx="82864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kstniOkvir 5"/>
          <p:cNvSpPr/>
          <p:nvPr/>
        </p:nvSpPr>
        <p:spPr>
          <a:xfrm>
            <a:off x="857160" y="492912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ff6d09"/>
                </a:solidFill>
                <a:latin typeface="Verdana"/>
              </a:rPr>
              <a:t>Hvala vam na pozornosti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1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1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1562" name="Picture 4" descr="trus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3" name="Pravokutnik 11"/>
          <p:cNvSpPr/>
          <p:nvPr/>
        </p:nvSpPr>
        <p:spPr>
          <a:xfrm>
            <a:off x="3714840" y="0"/>
            <a:ext cx="5429160" cy="9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Tko su osobe u koje imate najviše POVJERENJA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Kojim vrlinama su one zavrijedile vaše POVJERENJ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Tko u Školi ima najviše POVJERENJA u va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Čime ste zavrijedili tu razinu  POVJERENJA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1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1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1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1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1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4" name="Picture 6" descr="http://blejac.com/wp-content/uploads/2011/03/bridges_23.jpg">
            <a:hlinkClick r:id="rId1"/>
          </p:cNvPr>
          <p:cNvPicPr/>
          <p:nvPr/>
        </p:nvPicPr>
        <p:blipFill>
          <a:blip r:embed="rId2">
            <a:lum bright="-2000"/>
          </a:blip>
          <a:stretch/>
        </p:blipFill>
        <p:spPr>
          <a:xfrm>
            <a:off x="357120" y="428760"/>
            <a:ext cx="8353440" cy="6048360"/>
          </a:xfrm>
          <a:prstGeom prst="rect">
            <a:avLst/>
          </a:prstGeom>
          <a:ln w="0">
            <a:noFill/>
          </a:ln>
        </p:spPr>
      </p:pic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900" spc="-1" strike="noStrike">
                <a:solidFill>
                  <a:srgbClr val="ff8d3e"/>
                </a:solidFill>
                <a:latin typeface="Arial"/>
                <a:ea typeface="Arial"/>
              </a:rPr>
              <a:t>KULTURA POVJERENJA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6" name="Rectangle 6"/>
          <p:cNvSpPr/>
          <p:nvPr/>
        </p:nvSpPr>
        <p:spPr>
          <a:xfrm>
            <a:off x="500040" y="1643040"/>
            <a:ext cx="842976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6"/>
          <p:cNvSpPr/>
          <p:nvPr/>
        </p:nvSpPr>
        <p:spPr>
          <a:xfrm>
            <a:off x="395280" y="5229360"/>
            <a:ext cx="8286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6d09"/>
                </a:solidFill>
                <a:latin typeface="Verdana"/>
              </a:rPr>
              <a:t>Vlade Mat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hr-HR" sz="4000" spc="-1" strike="noStrike">
                <a:solidFill>
                  <a:srgbClr val="ff6d09"/>
                </a:solidFill>
                <a:latin typeface="Verdana"/>
              </a:rPr>
              <a:t>Što je s povjerenjem u našem društvu?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9" name="Rectangle 6"/>
          <p:cNvSpPr/>
          <p:nvPr/>
        </p:nvSpPr>
        <p:spPr>
          <a:xfrm>
            <a:off x="571680" y="357120"/>
            <a:ext cx="82864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kstniOkvir 5"/>
          <p:cNvSpPr/>
          <p:nvPr/>
        </p:nvSpPr>
        <p:spPr>
          <a:xfrm>
            <a:off x="428760" y="40006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ff6d09"/>
                </a:solidFill>
                <a:latin typeface="Verdana"/>
              </a:rPr>
              <a:t>Prema nekim istraživanjima 82% radnika ne vjeruje svojim šefovima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hr-HR" sz="4000" spc="-1" strike="noStrike">
                <a:solidFill>
                  <a:srgbClr val="ff6d09"/>
                </a:solidFill>
                <a:latin typeface="Verdana"/>
              </a:rPr>
              <a:t>Što se od vas očekuje?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72" name="Rectangle 6"/>
          <p:cNvSpPr/>
          <p:nvPr/>
        </p:nvSpPr>
        <p:spPr>
          <a:xfrm>
            <a:off x="214200" y="571680"/>
            <a:ext cx="8286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TekstniOkvir 5"/>
          <p:cNvSpPr/>
          <p:nvPr/>
        </p:nvSpPr>
        <p:spPr>
          <a:xfrm>
            <a:off x="395280" y="414972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6d09"/>
                </a:solidFill>
                <a:latin typeface="Verdana"/>
              </a:rPr>
              <a:t>Kako to provesti ako nastavnici i ostalo osoblje u školi nema povjerenja u vas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hr-HR" sz="3600" spc="-1" strike="noStrike">
                <a:solidFill>
                  <a:srgbClr val="ff6d09"/>
                </a:solidFill>
                <a:latin typeface="Verdana"/>
              </a:rPr>
              <a:t> </a:t>
            </a:r>
            <a:r>
              <a:rPr b="1" lang="hr-HR" sz="3600" spc="-1" strike="noStrike">
                <a:solidFill>
                  <a:srgbClr val="ff6d09"/>
                </a:solidFill>
                <a:latin typeface="Verdana"/>
              </a:rPr>
              <a:t>"Najbolji način da saznate možete li nekom vjerovati je da mu vjerujete." </a:t>
            </a:r>
            <a:br>
              <a:rPr sz="3600"/>
            </a:br>
            <a:r>
              <a:rPr b="1" lang="hr-HR" sz="3600" spc="-1" strike="noStrike">
                <a:solidFill>
                  <a:srgbClr val="ff6d09"/>
                </a:solidFill>
                <a:latin typeface="Verdana"/>
              </a:rPr>
              <a:t> </a:t>
            </a:r>
            <a:br>
              <a:rPr sz="3600"/>
            </a:br>
            <a:r>
              <a:rPr b="1" lang="hr-HR" sz="3600" spc="-1" strike="noStrike">
                <a:solidFill>
                  <a:srgbClr val="ff6d09"/>
                </a:solidFill>
                <a:latin typeface="Verdana"/>
              </a:rPr>
              <a:t>       </a:t>
            </a:r>
            <a:br>
              <a:rPr sz="3600"/>
            </a:br>
            <a:r>
              <a:rPr b="1" lang="hr-HR" sz="3600" spc="-1" strike="noStrike">
                <a:solidFill>
                  <a:srgbClr val="ff6d09"/>
                </a:solidFill>
                <a:latin typeface="Verdana"/>
              </a:rPr>
              <a:t>Ernest Hemingway </a:t>
            </a: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75" name="Rectangle 6"/>
          <p:cNvSpPr/>
          <p:nvPr/>
        </p:nvSpPr>
        <p:spPr>
          <a:xfrm>
            <a:off x="571680" y="357120"/>
            <a:ext cx="82864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hr-HR" sz="4000" spc="-1" strike="noStrike">
                <a:solidFill>
                  <a:srgbClr val="ff6d09"/>
                </a:solidFill>
                <a:latin typeface="Verdana"/>
              </a:rPr>
              <a:t> </a:t>
            </a:r>
            <a:r>
              <a:rPr b="1" lang="hr-HR" sz="4000" spc="-1" strike="noStrike">
                <a:solidFill>
                  <a:srgbClr val="ff6d09"/>
                </a:solidFill>
                <a:latin typeface="Verdana"/>
              </a:rPr>
              <a:t>Što je zapravo povjerenje?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77" name="Rectangle 6"/>
          <p:cNvSpPr/>
          <p:nvPr/>
        </p:nvSpPr>
        <p:spPr>
          <a:xfrm>
            <a:off x="285840" y="285840"/>
            <a:ext cx="8286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ravokutnik 6"/>
          <p:cNvSpPr/>
          <p:nvPr/>
        </p:nvSpPr>
        <p:spPr>
          <a:xfrm>
            <a:off x="500040" y="557208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6d09"/>
                </a:solidFill>
                <a:latin typeface="Verdana"/>
              </a:rPr>
              <a:t>ODSUSTVO SUMNJ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9" name="Picture 1" descr="Povjerenj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86040" y="1643040"/>
            <a:ext cx="3357720" cy="385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1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hr-HR" sz="4000" spc="-1" strike="noStrike">
                <a:solidFill>
                  <a:srgbClr val="ff8d3e"/>
                </a:solidFill>
                <a:latin typeface="Verdana"/>
              </a:rPr>
              <a:t>Povjerenje izvire iz samopovjerenja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1" name="Rectangle 6"/>
          <p:cNvSpPr/>
          <p:nvPr/>
        </p:nvSpPr>
        <p:spPr>
          <a:xfrm>
            <a:off x="214200" y="571680"/>
            <a:ext cx="8286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kstniOkvir 5"/>
          <p:cNvSpPr/>
          <p:nvPr/>
        </p:nvSpPr>
        <p:spPr>
          <a:xfrm>
            <a:off x="571680" y="3786120"/>
            <a:ext cx="8286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6d09"/>
                </a:solidFill>
                <a:latin typeface="Verdana"/>
              </a:rPr>
              <a:t>Ljudi koji vjeruju sebi mogu vjerovati i drugima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6d09"/>
                </a:solidFill>
                <a:latin typeface="Verdana"/>
              </a:rPr>
              <a:t>Ljudi koji ne vjeruju sebi ne mogu vjerovati nikom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1"/>
          <p:cNvSpPr/>
          <p:nvPr/>
        </p:nvSpPr>
        <p:spPr>
          <a:xfrm>
            <a:off x="500040" y="1661760"/>
            <a:ext cx="8104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ff6d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6d09"/>
                </a:solidFill>
                <a:latin typeface="Verdana"/>
              </a:rPr>
              <a:t> </a:t>
            </a:r>
            <a:r>
              <a:rPr b="1" lang="hr-HR" sz="3600" spc="-1" strike="noStrike">
                <a:solidFill>
                  <a:srgbClr val="ff6d09"/>
                </a:solidFill>
                <a:latin typeface="Verdana"/>
              </a:rPr>
              <a:t>poštenjem i iskrenošć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6d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6d09"/>
                </a:solidFill>
                <a:latin typeface="Verdana"/>
              </a:rPr>
              <a:t> </a:t>
            </a:r>
            <a:r>
              <a:rPr b="1" lang="hr-HR" sz="3600" spc="-1" strike="noStrike">
                <a:solidFill>
                  <a:srgbClr val="ff6d09"/>
                </a:solidFill>
                <a:latin typeface="Verdana"/>
              </a:rPr>
              <a:t>kompetentnošć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6d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6d09"/>
                </a:solidFill>
                <a:latin typeface="Verdana"/>
              </a:rPr>
              <a:t> </a:t>
            </a:r>
            <a:r>
              <a:rPr b="1" lang="hr-HR" sz="3600" spc="-1" strike="noStrike">
                <a:solidFill>
                  <a:srgbClr val="ff6d09"/>
                </a:solidFill>
                <a:latin typeface="Verdana"/>
              </a:rPr>
              <a:t>dosljednošć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6d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6d09"/>
                </a:solidFill>
                <a:latin typeface="Verdana"/>
              </a:rPr>
              <a:t> </a:t>
            </a:r>
            <a:r>
              <a:rPr b="1" lang="hr-HR" sz="3600" spc="-1" strike="noStrike">
                <a:solidFill>
                  <a:srgbClr val="ff6d09"/>
                </a:solidFill>
                <a:latin typeface="Verdana"/>
              </a:rPr>
              <a:t>lojalnošć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6d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6d09"/>
                </a:solidFill>
                <a:latin typeface="Verdana"/>
              </a:rPr>
              <a:t> </a:t>
            </a:r>
            <a:r>
              <a:rPr b="1" lang="hr-HR" sz="3600" spc="-1" strike="noStrike">
                <a:solidFill>
                  <a:srgbClr val="ff6d09"/>
                </a:solidFill>
                <a:latin typeface="Verdana"/>
              </a:rPr>
              <a:t>otvorenošć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6d09"/>
                </a:solidFill>
                <a:latin typeface="Verdana"/>
                <a:ea typeface="Arial"/>
              </a:rPr>
              <a:t>KAKO STEĆI POVJERENJE?</a:t>
            </a:r>
            <a:br>
              <a:rPr sz="4000"/>
            </a:b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1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1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1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1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1000"/>
                                        <p:tgtEl>
                                          <p:spTgt spid="1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7:02:39Z</dcterms:created>
  <dc:creator>Korisnik</dc:creator>
  <dc:description/>
  <dc:language>en-US</dc:language>
  <cp:lastModifiedBy>WIN7</cp:lastModifiedBy>
  <dcterms:modified xsi:type="dcterms:W3CDTF">2014-04-02T06:35:59Z</dcterms:modified>
  <cp:revision>216</cp:revision>
  <dc:subject/>
  <dc:title>ULOGA RAVNATELJA U UVOĐENJU PRIPRAVNIKA U SAMOSTALAN RAD</dc:title>
</cp:coreProperties>
</file>