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9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0.wmf" ContentType="image/x-wmf"/>
  <Override PartName="/ppt/media/image31.jpeg" ContentType="image/jpeg"/>
  <Override PartName="/ppt/media/image2.png" ContentType="image/png"/>
  <Override PartName="/ppt/media/image25.png" ContentType="image/png"/>
  <Override PartName="/ppt/media/image14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9.wmf" ContentType="image/x-wmf"/>
  <Override PartName="/ppt/media/image11.wmf" ContentType="image/x-wmf"/>
  <Override PartName="/ppt/media/image30.png" ContentType="image/png"/>
  <Override PartName="/ppt/media/image5.png" ContentType="image/png"/>
  <Override PartName="/ppt/media/image33.jpeg" ContentType="image/jpeg"/>
  <Override PartName="/ppt/media/image34.png" ContentType="image/png"/>
  <Override PartName="/ppt/media/image18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3.wmf" ContentType="image/x-wmf"/>
  <Override PartName="/ppt/media/image15.jpeg" ContentType="image/jpeg"/>
  <Override PartName="/ppt/media/image4.wmf" ContentType="image/x-wmf"/>
  <Override PartName="/ppt/media/image35.jpeg" ContentType="image/jpeg"/>
  <Override PartName="/ppt/media/image1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BC65-ABD6-4130-BB11-AE7B4B28C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Rijavec:  Uspješan menadžer – svakodnevne metode upravljanja , str.27 i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9B6EA4-9CA8-4BF4-9185-EEEF133D84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Rasporediti svoje ljude u koordinatni sustav (zvijezde, potencijalne zvijezde, ugasle zvijezde, upitnic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26312D-8872-4033-8D0E-9249AD5EC4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C1C814-2685-48E1-AC4F-E618D32E87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jednički pristup mora uključivati načine učinkovitog sastajanja i komunikacije koji podiže moral i usklađivanje, učinkovito uključujući sve ključne čimbenike grupe i načine da osobe i tim mogu kontinuirano rasti i razvijati se.’ –  Hawkins &amp; Smi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B256-2011-4242-BCEB-A8D220FFD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"Nikad ne podučavam svoje učenike, samo pokušavam stvoriti uvijete u kojima mogu učiti." - </a:t>
            </a:r>
            <a:r>
              <a:rPr b="1" i="1" lang="hr-HR" sz="1200" spc="-1" strike="noStrike">
                <a:solidFill>
                  <a:srgbClr val="000000"/>
                </a:solidFill>
                <a:latin typeface="Calibri"/>
              </a:rPr>
              <a:t>Albert Eins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2573-A9C3-4FB3-AFC2-F9DC82967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"Nikad ne podučavam svoje učenike, samo pokušavam stvoriti uvijete u kojima mogu učiti." - </a:t>
            </a:r>
            <a:r>
              <a:rPr b="1" i="1" lang="hr-HR" sz="1200" spc="-1" strike="noStrike">
                <a:solidFill>
                  <a:srgbClr val="000000"/>
                </a:solidFill>
                <a:latin typeface="Calibri"/>
              </a:rPr>
              <a:t>Albert Eins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51B5-3724-4015-A6F4-E36B229E9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0D00-3D30-4465-8410-9645EF5A9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D829-1878-43B2-A00E-48616945CD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Future of the Symphony Orches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By Leonard Bernste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n Symphony Orchestra League, 18 June 19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605B-DDEF-4DB8-A4A0-8E010E53AEF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CB7-42CE-439D-80E4-61A7E005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428-91DF-4536-B4F5-1CD686A9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686-15DC-4FDA-A200-559CD150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900-D12F-4348-983C-C0BDE7D6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121C-F744-4DC9-A1B0-35872AA9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DA4A-41E9-433C-AA20-2BD24773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0F54-2A31-4024-BADA-7D286311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EB5F-3391-4D1F-8E9E-0004F0E6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A337-DE88-432B-A7BB-66E45BBB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DB33-1709-4FB4-8154-DF1AA559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E136-79A7-455A-ABE9-82A331E5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E46-8236-4D75-A637-9AA664F8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A6D7-BB11-4C77-A103-AA0FED67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20FA-E227-410A-9844-D814A51C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CDE3-95E1-4CA0-8F90-8FDDE9BA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BF64-A0FE-4098-AAFE-B652CDAA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FBC3-8864-4BFD-8F45-2AA41F65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48AA2-1D51-4AF3-A929-E52CE4D74E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0A8CD-C9F8-40B6-877F-2BA4FE4B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E3305-DDB4-4309-9B9D-99E95B60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D6FD8-0DFD-4E65-8EF8-6535E1A0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C6280-4845-48E2-92A7-28B1E9D4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334-CD14-40EC-8C42-1E96304B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59523-8A2E-49DB-9074-C178534B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4DCAA-A476-4CB4-9D59-34CE0CB0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79CD3-DA9F-49AF-82C7-1FF76099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84B4A-35E5-4BF4-A16C-08F478F9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25026-39A0-4703-9AF8-19BC5EF4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96016-46CC-44A3-9356-674C684B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DAA8E-3508-4BB3-96DD-A8DDEA0E75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78C-1A02-4E8A-8C4C-08FF1DEA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794-0E3B-4276-B76E-60C779CD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BB4-ACFA-445B-A041-E5C78207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65E2-5181-4DB9-9476-8918648F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58E-52D4-4512-913D-C69ADB33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538-62AC-4D9B-9D2A-C9672A4A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FC2A-770A-4601-93F4-8141C832147F}" type="slidenum">
              <a:rPr b="0" lang="hr-H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C7A0-57F7-497B-B371-048EDD794BDD}" type="slidenum">
              <a:rPr b="0" lang="hr-H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95959"/>
                </a:solidFill>
                <a:latin typeface="Century Gothic"/>
              </a:rPr>
              <a:t>4.-5. listopad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1A7B-355B-4645-8DF5-BAF9240021B7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ted.com/talks/itay_talgam_lead_like_the_great_conductors" TargetMode="External"/><Relationship Id="rId3" Type="http://schemas.openxmlformats.org/officeDocument/2006/relationships/hyperlink" Target="http://www.ted.com/" TargetMode="External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8920" y="1530360"/>
            <a:ext cx="815364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entury Gothic"/>
              </a:rPr>
              <a:t>Dinamika voditeljskih uloga </a:t>
            </a:r>
            <a:br>
              <a:rPr sz="4400"/>
            </a:br>
            <a:r>
              <a:rPr b="0" lang="hr-HR" sz="4400" spc="-1" strike="noStrike">
                <a:solidFill>
                  <a:srgbClr val="ff0000"/>
                </a:solidFill>
                <a:latin typeface="Century Gothic"/>
              </a:rPr>
              <a:t>&amp; </a:t>
            </a:r>
            <a:br>
              <a:rPr sz="4400"/>
            </a:br>
            <a:r>
              <a:rPr b="0" lang="hr-HR" sz="4400" spc="-1" strike="noStrike">
                <a:solidFill>
                  <a:srgbClr val="ff0000"/>
                </a:solidFill>
                <a:latin typeface="Century Gothic"/>
              </a:rPr>
              <a:t>Tim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979280" y="4437000"/>
            <a:ext cx="503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404040"/>
                </a:solidFill>
                <a:latin typeface="Century Gothic"/>
              </a:rPr>
              <a:t>mr.sc. </a:t>
            </a:r>
            <a:r>
              <a:rPr b="0" i="1" lang="en-US" sz="2800" spc="-1" strike="noStrike">
                <a:solidFill>
                  <a:srgbClr val="404040"/>
                </a:solidFill>
                <a:latin typeface="Century Gothic"/>
              </a:rPr>
              <a:t>Dragan Kne</a:t>
            </a:r>
            <a:r>
              <a:rPr b="0" i="1" lang="hr-HR" sz="2800" spc="-1" strike="noStrike">
                <a:solidFill>
                  <a:srgbClr val="404040"/>
                </a:solidFill>
                <a:latin typeface="Century Gothic"/>
              </a:rPr>
              <a:t>ž</a:t>
            </a:r>
            <a:r>
              <a:rPr b="0" i="1" lang="en-US" sz="2800" spc="-1" strike="noStrike">
                <a:solidFill>
                  <a:srgbClr val="404040"/>
                </a:solidFill>
                <a:latin typeface="Century Gothic"/>
              </a:rPr>
              <a:t>evi</a:t>
            </a:r>
            <a:r>
              <a:rPr b="0" i="1" lang="hr-HR" sz="2800" spc="-1" strike="noStrike">
                <a:solidFill>
                  <a:srgbClr val="404040"/>
                </a:solidFill>
                <a:latin typeface="Century Gothic"/>
              </a:rPr>
              <a:t>ć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Alter Ars</a:t>
            </a:r>
            <a:r>
              <a:rPr b="0" lang="hr-HR" sz="2800" spc="-1" strike="noStrike">
                <a:solidFill>
                  <a:srgbClr val="404040"/>
                </a:solidFill>
                <a:latin typeface="Century Gothic"/>
              </a:rPr>
              <a:t> d.o.o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entury Gothic"/>
              </a:rPr>
              <a:t>Vodice, 1. travanj 2014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2438640" cy="103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5897"/>
                </a:solidFill>
                <a:latin typeface="Century Gothic"/>
              </a:rPr>
              <a:t>Sklad 3 ključne uloge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5" name="Isosceles Triangle 2"/>
          <p:cNvSpPr/>
          <p:nvPr/>
        </p:nvSpPr>
        <p:spPr>
          <a:xfrm>
            <a:off x="2268360" y="2060640"/>
            <a:ext cx="3598920" cy="2950920"/>
          </a:xfrm>
          <a:prstGeom prst="triangle">
            <a:avLst>
              <a:gd name="adj" fmla="val 50000"/>
            </a:avLst>
          </a:prstGeom>
          <a:solidFill>
            <a:srgbClr val="6076b4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179280" y="2495520"/>
            <a:ext cx="2737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f5897"/>
                </a:solidFill>
                <a:latin typeface="Arial"/>
              </a:rPr>
              <a:t>Vodstvo 1/3 vre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ođenje timova i organizacija u cjel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odstvo i utjec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otivacija i inspir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Arial"/>
              </a:rPr>
              <a:t>Komunikacija vođ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4932360" y="2495520"/>
            <a:ext cx="4211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f5897"/>
                </a:solidFill>
                <a:latin typeface="Arial"/>
              </a:rPr>
              <a:t>Upravljanje &amp; struka 1/3 vre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pravljanje organizacij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enadž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ruka i isku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Arial"/>
              </a:rPr>
              <a:t>Komunikacija upravitelj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Arial"/>
              </a:rPr>
              <a:t>Komunikacija struko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1763640" y="5157720"/>
            <a:ext cx="5273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f5897"/>
                </a:solidFill>
                <a:latin typeface="Arial"/>
              </a:rPr>
              <a:t>Zagovaranje 1/3 vre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nosi sa svim čimbenicima izvan šk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obiranje, pregovaranje, prezentacije i sasta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reiranje novih inicija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Arial"/>
              </a:rPr>
              <a:t>Javna –Integralna Komunik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hr-HR" sz="4800" spc="-1" strike="noStrike">
                <a:solidFill>
                  <a:srgbClr val="ff0000"/>
                </a:solidFill>
                <a:latin typeface="Century Gothic"/>
              </a:rPr>
              <a:t>Upravljanje &amp; struka </a:t>
            </a:r>
            <a:br>
              <a:rPr sz="4800"/>
            </a:br>
            <a:r>
              <a:rPr b="0" lang="hr-HR" sz="2000" spc="-1" strike="noStrike">
                <a:solidFill>
                  <a:srgbClr val="ff0000"/>
                </a:solidFill>
                <a:latin typeface="Century Gothic"/>
              </a:rPr>
              <a:t>1/3 ili 33% vremena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24000" y="2565360"/>
            <a:ext cx="7920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Izvrsnost Vaša i iskustvo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Nitko ne zna bolje Vaš posao od Vas samih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5951520" y="50594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Arial"/>
              </a:rPr>
              <a:t>4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8920" y="691920"/>
            <a:ext cx="80614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hr-HR" sz="4800" spc="-1" strike="noStrike">
                <a:solidFill>
                  <a:srgbClr val="ff0000"/>
                </a:solidFill>
                <a:latin typeface="Century Gothic"/>
              </a:rPr>
              <a:t>Zagovaranje</a:t>
            </a:r>
            <a:br>
              <a:rPr sz="4800"/>
            </a:br>
            <a:r>
              <a:rPr b="0" lang="hr-HR" sz="4800" spc="-1" strike="noStrike">
                <a:solidFill>
                  <a:srgbClr val="ff0000"/>
                </a:solidFill>
                <a:latin typeface="Century Gothic"/>
              </a:rPr>
              <a:t>pregovaranje i lobiranje</a:t>
            </a:r>
            <a:br>
              <a:rPr sz="4800"/>
            </a:br>
            <a:r>
              <a:rPr b="0" lang="hr-HR" sz="2000" spc="-1" strike="noStrike">
                <a:solidFill>
                  <a:srgbClr val="ff0000"/>
                </a:solidFill>
                <a:latin typeface="Century Gothic"/>
              </a:rPr>
              <a:t>1/3 ili 33% vremena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866960" y="2637000"/>
            <a:ext cx="5184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entury Gothic"/>
              </a:rPr>
              <a:t>Koja je priča Vaše škole?</a:t>
            </a:r>
            <a:br>
              <a:rPr sz="2800"/>
            </a:b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795320" y="3718080"/>
            <a:ext cx="5183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entury Gothic"/>
              </a:rPr>
              <a:t>Tko ste Vi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290600" y="4797360"/>
            <a:ext cx="709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entury Gothic"/>
              </a:rPr>
              <a:t>Koje su Vaše zajedničke vrijednosti 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8800" y="5734080"/>
            <a:ext cx="7821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entury Gothic"/>
              </a:rPr>
              <a:t>Kakvo je ozračje Vaše škole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0596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576080" y="333360"/>
            <a:ext cx="501156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Priča Vaše škole je ..</a:t>
            </a:r>
            <a:br>
              <a:rPr sz="3200"/>
            </a:b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504800" y="1413000"/>
            <a:ext cx="5011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Vi ste 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539640" y="2492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Vaše zajedničke vrijednosti  su 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68360" y="385272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Miris Vaše škole 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539640" y="486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hr-HR" sz="3600" spc="-1" strike="noStrike">
                <a:solidFill>
                  <a:srgbClr val="ff0000"/>
                </a:solidFill>
                <a:latin typeface="Century Gothic"/>
              </a:rPr>
              <a:t>Živa i cjelovita priča Vaše šk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 rot="20094600">
            <a:off x="595440" y="15775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hr-HR" sz="4800" spc="-1" strike="noStrike">
                <a:solidFill>
                  <a:srgbClr val="ff0000"/>
                </a:solidFill>
                <a:latin typeface="Century Gothic"/>
              </a:rPr>
              <a:t>Ako vi ne (is)pričate svoju priču drugi će je priča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hr-HR" sz="4800" spc="-1" strike="noStrike">
                <a:solidFill>
                  <a:srgbClr val="ff0000"/>
                </a:solidFill>
                <a:latin typeface="Century Gothic"/>
              </a:rPr>
              <a:t>Vodstvo </a:t>
            </a:r>
            <a:br>
              <a:rPr sz="4800"/>
            </a:br>
            <a:r>
              <a:rPr b="0" lang="hr-HR" sz="3200" spc="-1" strike="noStrike">
                <a:solidFill>
                  <a:srgbClr val="ff0000"/>
                </a:solidFill>
                <a:latin typeface="Century Gothic"/>
              </a:rPr>
              <a:t>1/3 ili 33% vremena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324000" y="2565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Tko su oni koje vodite?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Gdje su, kako im je..?</a:t>
            </a:r>
            <a:br>
              <a:rPr sz="3200"/>
            </a:b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611280" y="2276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hr-HR" sz="4800" spc="-1" strike="noStrike">
                <a:solidFill>
                  <a:srgbClr val="ff0000"/>
                </a:solidFill>
                <a:latin typeface="Century Gothic"/>
              </a:rPr>
              <a:t>Vođa &amp; </a:t>
            </a:r>
            <a:r>
              <a:rPr b="0" lang="hr-HR" sz="4800" spc="-1" strike="noStrike">
                <a:solidFill>
                  <a:srgbClr val="404040"/>
                </a:solidFill>
                <a:latin typeface="Century Gothic"/>
              </a:rPr>
              <a:t>Menadžer</a:t>
            </a:r>
            <a:r>
              <a:rPr b="0" lang="hr-HR" sz="4800" spc="-1" strike="noStrike">
                <a:solidFill>
                  <a:srgbClr val="ff0000"/>
                </a:solidFill>
                <a:latin typeface="Century Gothic"/>
              </a:rPr>
              <a:t> </a:t>
            </a:r>
            <a:br>
              <a:rPr sz="4800"/>
            </a:br>
            <a:r>
              <a:rPr b="0" lang="hr-HR" sz="3200" spc="-1" strike="noStrike">
                <a:solidFill>
                  <a:srgbClr val="ff0000"/>
                </a:solidFill>
                <a:latin typeface="Century Gothic"/>
              </a:rPr>
              <a:t>1/3 ili 33% vre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9c5252"/>
                </a:solidFill>
                <a:latin typeface="Calibri"/>
              </a:rPr>
              <a:t>Vođa</a:t>
            </a:r>
            <a:r>
              <a:rPr b="0" lang="hr-HR" sz="5400" spc="-1" strike="noStrike">
                <a:solidFill>
                  <a:srgbClr val="3399ff"/>
                </a:solidFill>
                <a:latin typeface="Calibri"/>
              </a:rPr>
              <a:t>        </a:t>
            </a:r>
            <a:r>
              <a:rPr b="0" lang="hr-HR" sz="5400" spc="-1" strike="noStrike">
                <a:solidFill>
                  <a:srgbClr val="2f5897"/>
                </a:solidFill>
                <a:latin typeface="Calibri"/>
              </a:rPr>
              <a:t>- </a:t>
            </a:r>
            <a:r>
              <a:rPr b="0" lang="hr-HR" sz="5400" spc="-1" strike="noStrike">
                <a:solidFill>
                  <a:srgbClr val="3399ff"/>
                </a:solidFill>
                <a:latin typeface="Calibri"/>
              </a:rPr>
              <a:t>   Menadžer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56000" y="1412640"/>
            <a:ext cx="4788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6076b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70c0"/>
                </a:solidFill>
                <a:latin typeface="Calibri"/>
              </a:rPr>
              <a:t>Održava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6076b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70c0"/>
                </a:solidFill>
                <a:latin typeface="Calibri"/>
              </a:rPr>
              <a:t>Administrira i provodi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6076b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70c0"/>
                </a:solidFill>
                <a:latin typeface="Calibri"/>
              </a:rPr>
              <a:t>Usredotočen na sustav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6076b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70c0"/>
                </a:solidFill>
                <a:latin typeface="Calibri"/>
              </a:rPr>
              <a:t>Kontrolira, mjeri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6076b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70c0"/>
                </a:solidFill>
                <a:latin typeface="Calibri"/>
              </a:rPr>
              <a:t>Mjesečni/godišnji ciljevi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6076b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70c0"/>
                </a:solidFill>
                <a:latin typeface="Calibri"/>
              </a:rPr>
              <a:t>Rješava zadani problem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6076b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70c0"/>
                </a:solidFill>
                <a:latin typeface="Calibri"/>
              </a:rPr>
              <a:t>Traži odgovor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187280" y="616572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I jedno i drugo je potrebno u organizac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1413000"/>
            <a:ext cx="4537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9c525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c5252"/>
                </a:solidFill>
                <a:latin typeface="Calibri"/>
              </a:rPr>
              <a:t>Inovira &amp; Inic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9c525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c5252"/>
                </a:solidFill>
                <a:latin typeface="Calibri"/>
              </a:rPr>
              <a:t>Kreira i razv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9c525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c5252"/>
                </a:solidFill>
                <a:latin typeface="Calibri"/>
              </a:rPr>
              <a:t>Usredotočen na lj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9c525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c5252"/>
                </a:solidFill>
                <a:latin typeface="Calibri"/>
              </a:rPr>
              <a:t>Stvara vjeru, motiv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9c525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c5252"/>
                </a:solidFill>
                <a:latin typeface="Calibri"/>
              </a:rPr>
              <a:t>Dugoročni ciljevi i vizi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9c525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c5252"/>
                </a:solidFill>
                <a:latin typeface="Calibri"/>
              </a:rPr>
              <a:t>Preispituje s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9c525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c5252"/>
                </a:solidFill>
                <a:latin typeface="Calibri"/>
              </a:rPr>
              <a:t>Postavlja 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9c5252"/>
                </a:solidFill>
                <a:latin typeface="Calibri"/>
              </a:rPr>
              <a:t>Vođa</a:t>
            </a:r>
            <a:r>
              <a:rPr b="0" lang="hr-HR" sz="5400" spc="-1" strike="noStrike">
                <a:solidFill>
                  <a:srgbClr val="3399ff"/>
                </a:solidFill>
                <a:latin typeface="Calibri"/>
              </a:rPr>
              <a:t>      </a:t>
            </a:r>
            <a:r>
              <a:rPr b="0" lang="hr-HR" sz="5400" spc="-1" strike="noStrike">
                <a:solidFill>
                  <a:srgbClr val="2f5897"/>
                </a:solidFill>
                <a:latin typeface="Calibri"/>
              </a:rPr>
              <a:t>- </a:t>
            </a:r>
            <a:r>
              <a:rPr b="0" lang="hr-HR" sz="5400" spc="-1" strike="noStrike">
                <a:solidFill>
                  <a:srgbClr val="3399ff"/>
                </a:solidFill>
                <a:latin typeface="Calibri"/>
              </a:rPr>
              <a:t>   Menadžer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211280" y="2781360"/>
            <a:ext cx="4608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e9e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70c0"/>
                </a:solidFill>
                <a:latin typeface="Calibri"/>
              </a:rPr>
              <a:t>Pita: KAKO i KADA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e9e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70c0"/>
                </a:solidFill>
                <a:latin typeface="Calibri"/>
              </a:rPr>
              <a:t>Čini stvari na pravi način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187280" y="616572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entury Gothic"/>
              </a:rPr>
              <a:t>I jedno i drugo je potrebno u organizac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24000" y="2781360"/>
            <a:ext cx="4213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e9e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c5252"/>
                </a:solidFill>
                <a:latin typeface="Calibri"/>
              </a:rPr>
              <a:t>Pita: ŠTO i ZAŠ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e9e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e9e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c5252"/>
                </a:solidFill>
                <a:latin typeface="Calibri"/>
              </a:rPr>
              <a:t>Čini prave stv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17"/>
          <p:cNvSpPr/>
          <p:nvPr/>
        </p:nvSpPr>
        <p:spPr>
          <a:xfrm>
            <a:off x="2135160" y="2201760"/>
            <a:ext cx="2808360" cy="2087640"/>
          </a:xfrm>
          <a:prstGeom prst="roundRect">
            <a:avLst>
              <a:gd name="adj" fmla="val 16667"/>
            </a:avLst>
          </a:prstGeom>
          <a:solidFill>
            <a:srgbClr val="e68422"/>
          </a:solidFill>
          <a:ln w="28440">
            <a:solidFill>
              <a:srgbClr val="a95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ounded Rectangle 18"/>
          <p:cNvSpPr/>
          <p:nvPr/>
        </p:nvSpPr>
        <p:spPr>
          <a:xfrm>
            <a:off x="2103480" y="4395960"/>
            <a:ext cx="2808360" cy="2087280"/>
          </a:xfrm>
          <a:prstGeom prst="roundRect">
            <a:avLst>
              <a:gd name="adj" fmla="val 16667"/>
            </a:avLst>
          </a:prstGeom>
          <a:solidFill>
            <a:srgbClr val="e68422"/>
          </a:solidFill>
          <a:ln w="28440">
            <a:solidFill>
              <a:srgbClr val="a95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19"/>
          <p:cNvSpPr/>
          <p:nvPr/>
        </p:nvSpPr>
        <p:spPr>
          <a:xfrm>
            <a:off x="5002200" y="2201760"/>
            <a:ext cx="2808360" cy="2087640"/>
          </a:xfrm>
          <a:prstGeom prst="roundRect">
            <a:avLst>
              <a:gd name="adj" fmla="val 16667"/>
            </a:avLst>
          </a:prstGeom>
          <a:solidFill>
            <a:srgbClr val="e68422"/>
          </a:solidFill>
          <a:ln w="28440">
            <a:solidFill>
              <a:srgbClr val="a95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ounded Rectangle 20"/>
          <p:cNvSpPr/>
          <p:nvPr/>
        </p:nvSpPr>
        <p:spPr>
          <a:xfrm>
            <a:off x="5002200" y="4395960"/>
            <a:ext cx="2808360" cy="2087280"/>
          </a:xfrm>
          <a:prstGeom prst="roundRect">
            <a:avLst>
              <a:gd name="adj" fmla="val 16667"/>
            </a:avLst>
          </a:prstGeom>
          <a:solidFill>
            <a:srgbClr val="e68422"/>
          </a:solidFill>
          <a:ln w="28440">
            <a:solidFill>
              <a:srgbClr val="a95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ounded Rectangle 21"/>
          <p:cNvSpPr/>
          <p:nvPr/>
        </p:nvSpPr>
        <p:spPr>
          <a:xfrm>
            <a:off x="1042920" y="2201760"/>
            <a:ext cx="865080" cy="2087640"/>
          </a:xfrm>
          <a:custGeom>
            <a:avLst/>
            <a:gdLst>
              <a:gd name="textAreaLeft" fmla="*/ 42120 w 865080"/>
              <a:gd name="textAreaRight" fmla="*/ 822960 w 865080"/>
              <a:gd name="textAreaTop" fmla="*/ 42120 h 2087640"/>
              <a:gd name="textAreaBottom" fmla="*/ 2045520 h 2087640"/>
            </a:gdLst>
            <a:ahLst/>
            <a:rect l="textAreaLeft" t="textAreaTop" r="textAreaRight" b="textAreaBottom"/>
            <a:pathLst>
              <a:path w="21600" h="52113">
                <a:moveTo>
                  <a:pt x="3600" y="0"/>
                </a:moveTo>
                <a:arcTo wR="3600" hR="3600" stAng="16200000" swAng="-5400000"/>
                <a:lnTo>
                  <a:pt x="0" y="48513"/>
                </a:lnTo>
                <a:arcTo wR="3600" hR="3600" stAng="10800000" swAng="-5400000"/>
                <a:lnTo>
                  <a:pt x="18000" y="521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ounded Rectangle 22"/>
          <p:cNvSpPr/>
          <p:nvPr/>
        </p:nvSpPr>
        <p:spPr>
          <a:xfrm rot="5400000">
            <a:off x="3096000" y="408240"/>
            <a:ext cx="863640" cy="2519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2519640"/>
              <a:gd name="textAreaBottom" fmla="*/ 2477520 h 2519640"/>
            </a:gdLst>
            <a:ahLst/>
            <a:rect l="textAreaLeft" t="textAreaTop" r="textAreaRight" b="textAreaBottom"/>
            <a:pathLst>
              <a:path w="21600" h="63000">
                <a:moveTo>
                  <a:pt x="3600" y="0"/>
                </a:moveTo>
                <a:arcTo wR="3600" hR="3600" stAng="16200000" swAng="-5400000"/>
                <a:lnTo>
                  <a:pt x="0" y="59400"/>
                </a:lnTo>
                <a:arcTo wR="3600" hR="3600" stAng="10800000" swAng="-5400000"/>
                <a:lnTo>
                  <a:pt x="18000" y="63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9c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23"/>
          <p:cNvSpPr/>
          <p:nvPr/>
        </p:nvSpPr>
        <p:spPr>
          <a:xfrm>
            <a:off x="1042920" y="4395960"/>
            <a:ext cx="865080" cy="2087280"/>
          </a:xfrm>
          <a:custGeom>
            <a:avLst/>
            <a:gdLst>
              <a:gd name="textAreaLeft" fmla="*/ 42120 w 865080"/>
              <a:gd name="textAreaRight" fmla="*/ 822960 w 865080"/>
              <a:gd name="textAreaTop" fmla="*/ 42120 h 2087280"/>
              <a:gd name="textAreaBottom" fmla="*/ 2045160 h 2087280"/>
            </a:gdLst>
            <a:ahLst/>
            <a:rect l="textAreaLeft" t="textAreaTop" r="textAreaRight" b="textAreaBottom"/>
            <a:pathLst>
              <a:path w="21600" h="52104">
                <a:moveTo>
                  <a:pt x="3600" y="0"/>
                </a:moveTo>
                <a:arcTo wR="3600" hR="3600" stAng="16200000" swAng="-5400000"/>
                <a:lnTo>
                  <a:pt x="0" y="48504"/>
                </a:lnTo>
                <a:arcTo wR="3600" hR="3600" stAng="10800000" swAng="-5400000"/>
                <a:lnTo>
                  <a:pt x="18000" y="521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24"/>
          <p:cNvSpPr/>
          <p:nvPr/>
        </p:nvSpPr>
        <p:spPr>
          <a:xfrm rot="5400000">
            <a:off x="5974200" y="408240"/>
            <a:ext cx="863640" cy="2519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2519640"/>
              <a:gd name="textAreaBottom" fmla="*/ 2477520 h 2519640"/>
            </a:gdLst>
            <a:ahLst/>
            <a:rect l="textAreaLeft" t="textAreaTop" r="textAreaRight" b="textAreaBottom"/>
            <a:pathLst>
              <a:path w="21600" h="63000">
                <a:moveTo>
                  <a:pt x="3600" y="0"/>
                </a:moveTo>
                <a:arcTo wR="3600" hR="3600" stAng="16200000" swAng="-5400000"/>
                <a:lnTo>
                  <a:pt x="0" y="59400"/>
                </a:lnTo>
                <a:arcTo wR="3600" hR="3600" stAng="10800000" swAng="-5400000"/>
                <a:lnTo>
                  <a:pt x="18000" y="63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9c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5"/>
          <p:cNvSpPr/>
          <p:nvPr/>
        </p:nvSpPr>
        <p:spPr>
          <a:xfrm>
            <a:off x="2411280" y="14684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Krivi nač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6"/>
          <p:cNvSpPr/>
          <p:nvPr/>
        </p:nvSpPr>
        <p:spPr>
          <a:xfrm>
            <a:off x="5289480" y="14698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Pravi nač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7"/>
          <p:cNvSpPr/>
          <p:nvPr/>
        </p:nvSpPr>
        <p:spPr>
          <a:xfrm rot="16200000">
            <a:off x="359640" y="30992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Verdana"/>
              </a:rPr>
              <a:t>Prave stv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8"/>
          <p:cNvSpPr/>
          <p:nvPr/>
        </p:nvSpPr>
        <p:spPr>
          <a:xfrm rot="16200000">
            <a:off x="375840" y="51678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Verdana"/>
              </a:rPr>
              <a:t>Krive stv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0"/>
          <p:cNvSpPr/>
          <p:nvPr/>
        </p:nvSpPr>
        <p:spPr>
          <a:xfrm>
            <a:off x="2289240" y="2914560"/>
            <a:ext cx="22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c5252"/>
                </a:solidFill>
                <a:latin typeface="Verdana"/>
              </a:rPr>
              <a:t>Dobar vođa loš menadž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2"/>
          <p:cNvSpPr/>
          <p:nvPr/>
        </p:nvSpPr>
        <p:spPr>
          <a:xfrm>
            <a:off x="5002200" y="28908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c5252"/>
                </a:solidFill>
                <a:latin typeface="Verdana"/>
              </a:rPr>
              <a:t>Dobar vođ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c5252"/>
                </a:solidFill>
                <a:latin typeface="Verdana"/>
              </a:rPr>
              <a:t>Dobar menadž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3"/>
          <p:cNvSpPr/>
          <p:nvPr/>
        </p:nvSpPr>
        <p:spPr>
          <a:xfrm>
            <a:off x="2209680" y="510228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c5252"/>
                </a:solidFill>
                <a:latin typeface="Verdana"/>
              </a:rPr>
              <a:t>Loš vođ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c5252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9c5252"/>
                </a:solidFill>
                <a:latin typeface="Verdana"/>
              </a:rPr>
              <a:t>loš menadž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34"/>
          <p:cNvSpPr/>
          <p:nvPr/>
        </p:nvSpPr>
        <p:spPr>
          <a:xfrm>
            <a:off x="5002200" y="51246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c5252"/>
                </a:solidFill>
                <a:latin typeface="Verdana"/>
              </a:rPr>
              <a:t>Loš vođ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c5252"/>
                </a:solidFill>
                <a:latin typeface="Verdana"/>
              </a:rPr>
              <a:t>Dobar menadž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ight Arrow 35"/>
          <p:cNvSpPr/>
          <p:nvPr/>
        </p:nvSpPr>
        <p:spPr>
          <a:xfrm>
            <a:off x="4392720" y="5129280"/>
            <a:ext cx="501480" cy="611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Arrow 36"/>
          <p:cNvSpPr/>
          <p:nvPr/>
        </p:nvSpPr>
        <p:spPr>
          <a:xfrm rot="16200000">
            <a:off x="6161760" y="4359960"/>
            <a:ext cx="501840" cy="611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ight Arrow 37"/>
          <p:cNvSpPr/>
          <p:nvPr/>
        </p:nvSpPr>
        <p:spPr>
          <a:xfrm>
            <a:off x="4425840" y="3011400"/>
            <a:ext cx="501840" cy="611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ight Arrow 38"/>
          <p:cNvSpPr/>
          <p:nvPr/>
        </p:nvSpPr>
        <p:spPr>
          <a:xfrm rot="16200000">
            <a:off x="3288600" y="4340880"/>
            <a:ext cx="501480" cy="610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9"/>
          <p:cNvSpPr/>
          <p:nvPr/>
        </p:nvSpPr>
        <p:spPr>
          <a:xfrm>
            <a:off x="649440" y="29844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Vođenje i 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2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2f5897"/>
                </a:solidFill>
                <a:latin typeface="Century Gothic"/>
              </a:rPr>
              <a:t>BITI Vođa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2b3949"/>
                </a:solidFill>
                <a:latin typeface="Century Gothic"/>
              </a:rPr>
              <a:t>‘</a:t>
            </a:r>
            <a:r>
              <a:rPr b="0" i="1" lang="hr-HR" sz="2800" spc="-1" strike="noStrike">
                <a:solidFill>
                  <a:srgbClr val="2b3949"/>
                </a:solidFill>
                <a:latin typeface="Century Gothic"/>
              </a:rPr>
              <a:t>Biti vođa je kao biti dama, ako naglašavaš da jesi to je prvi znak da nisi’ M.T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2b3949"/>
                </a:solidFill>
                <a:latin typeface="Century Gothic"/>
              </a:rPr>
              <a:t>Karizma- ‘ono nešto’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0000"/>
                </a:solidFill>
                <a:latin typeface="Century Gothic"/>
              </a:rPr>
              <a:t>Vođa se stvara i razvija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120" y="6202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2f5897"/>
                </a:solidFill>
                <a:latin typeface="Century Gothic"/>
              </a:rPr>
              <a:t>Teme predavanja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1681920" y="2997360"/>
            <a:ext cx="46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f7f7f"/>
                </a:solidFill>
                <a:latin typeface="Century Gothic"/>
              </a:rPr>
              <a:t>Poticajna</a:t>
            </a:r>
            <a:r>
              <a:rPr b="0" lang="hr-HR" sz="3200" spc="-1" strike="noStrike">
                <a:solidFill>
                  <a:srgbClr val="ff0000"/>
                </a:solidFill>
                <a:latin typeface="Century Gothic"/>
              </a:rPr>
              <a:t> komunikaci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43960" y="1920960"/>
            <a:ext cx="36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f7f7f"/>
                </a:solidFill>
                <a:latin typeface="Century Gothic"/>
              </a:rPr>
              <a:t>Poticajno</a:t>
            </a:r>
            <a:r>
              <a:rPr b="0" lang="hr-HR" sz="3200" spc="-1" strike="noStrike">
                <a:solidFill>
                  <a:srgbClr val="ff0000"/>
                </a:solidFill>
                <a:latin typeface="Century Gothic"/>
              </a:rPr>
              <a:t> vodst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057120" y="4076640"/>
            <a:ext cx="14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f7f7f"/>
                </a:solidFill>
                <a:latin typeface="Century Gothic"/>
              </a:rPr>
              <a:t>Potic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66960" y="4076640"/>
            <a:ext cx="16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entury Gothic"/>
              </a:rPr>
              <a:t>Mov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4891680" y="410220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entury Gothic"/>
              </a:rPr>
              <a:t>Inspir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4430160" y="515772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entury Gothic"/>
              </a:rPr>
              <a:t>Timo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5941800" y="609300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entury Gothic"/>
              </a:rPr>
              <a:t>V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7077600" y="609300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7f7f7f"/>
                </a:solidFill>
                <a:latin typeface="Century Gothic"/>
              </a:rPr>
              <a:t>V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900000" y="333360"/>
            <a:ext cx="68407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4 ključne uloge voditel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0" y="3429000"/>
            <a:ext cx="2195640" cy="165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Prosvjetite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Gothic"/>
              </a:rPr>
              <a:t>Inicijator – gdje smo sad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2195640" y="3429000"/>
            <a:ext cx="2089080" cy="165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Vizio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Što nam je san i cil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uda i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4284720" y="3429000"/>
            <a:ext cx="2303280" cy="165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Usmjeritelj</a:t>
            </a:r>
            <a:r>
              <a:rPr b="0" lang="hr-HR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entury Gothic"/>
              </a:rPr>
              <a:t>kuda i kako (po)krenu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Gothic"/>
              </a:rPr>
              <a:t>zašto krenu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6588000" y="3429000"/>
            <a:ext cx="2556000" cy="165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Poticatelj</a:t>
            </a:r>
            <a:r>
              <a:rPr b="0" lang="hr-HR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što dobijemo tamo/na putu zašto zajed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7"/>
          <p:cNvSpPr/>
          <p:nvPr/>
        </p:nvSpPr>
        <p:spPr>
          <a:xfrm flipH="1">
            <a:off x="1116000" y="1341360"/>
            <a:ext cx="3168720" cy="20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8"/>
          <p:cNvSpPr/>
          <p:nvPr/>
        </p:nvSpPr>
        <p:spPr>
          <a:xfrm flipH="1">
            <a:off x="3276720" y="1341360"/>
            <a:ext cx="1008000" cy="20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9"/>
          <p:cNvSpPr/>
          <p:nvPr/>
        </p:nvSpPr>
        <p:spPr>
          <a:xfrm>
            <a:off x="4284720" y="1341360"/>
            <a:ext cx="1295280" cy="20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4284720" y="1341360"/>
            <a:ext cx="3600360" cy="20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1960560" y="5516640"/>
            <a:ext cx="578016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Vođa: zna, hoće i mo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7024680" y="6367320"/>
            <a:ext cx="194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100" spc="-1" strike="noStrike">
                <a:solidFill>
                  <a:srgbClr val="000000"/>
                </a:solidFill>
                <a:latin typeface="Arial"/>
              </a:rPr>
              <a:t>Izvor: V. Srić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556200" y="630864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Činimo prave stvar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"/>
          <p:cNvSpPr/>
          <p:nvPr/>
        </p:nvSpPr>
        <p:spPr>
          <a:xfrm>
            <a:off x="3564000" y="1197000"/>
            <a:ext cx="1512720" cy="647640"/>
          </a:xfrm>
          <a:prstGeom prst="ellipse">
            <a:avLst/>
          </a:prstGeom>
          <a:solidFill>
            <a:srgbClr val="e4e9e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4 u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3880" y="3357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hr-HR" sz="4800" spc="-1" strike="noStrike">
                <a:solidFill>
                  <a:srgbClr val="2f5897"/>
                </a:solidFill>
                <a:latin typeface="Century Gothic"/>
              </a:rPr>
              <a:t>A: Sistemsko vodstvo</a:t>
            </a:r>
            <a:br>
              <a:rPr sz="4800"/>
            </a:br>
            <a:r>
              <a:rPr b="0" lang="hr-HR" sz="4800" spc="-1" strike="noStrike">
                <a:solidFill>
                  <a:srgbClr val="ff0000"/>
                </a:solidFill>
                <a:latin typeface="Century Gothic"/>
              </a:rPr>
              <a:t>Cjelina </a:t>
            </a:r>
            <a:br>
              <a:rPr sz="4800"/>
            </a:br>
            <a:br>
              <a:rPr sz="4800"/>
            </a:br>
            <a:r>
              <a:rPr b="0" lang="hr-HR" sz="4800" spc="-1" strike="noStrike">
                <a:solidFill>
                  <a:srgbClr val="2f5897"/>
                </a:solidFill>
                <a:latin typeface="Century Gothic"/>
              </a:rPr>
              <a:t>B: Situacijsko vodstvo</a:t>
            </a:r>
            <a:br>
              <a:rPr sz="4800"/>
            </a:br>
            <a:r>
              <a:rPr b="0" lang="hr-HR" sz="4800" spc="-1" strike="noStrike">
                <a:solidFill>
                  <a:srgbClr val="ff0000"/>
                </a:solidFill>
                <a:latin typeface="Century Gothic"/>
              </a:rPr>
              <a:t>Individua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395280" y="26028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f5897"/>
                </a:solidFill>
                <a:latin typeface="Century Gothic"/>
              </a:rPr>
              <a:t>Dvije metode vodst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26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2f5897"/>
                </a:solidFill>
                <a:latin typeface="Century Gothic"/>
              </a:rPr>
              <a:t>A: Sistemsko vođenje </a:t>
            </a:r>
            <a:br>
              <a:rPr sz="4800"/>
            </a:br>
            <a:r>
              <a:rPr b="0" lang="hr-HR" sz="2800" spc="-1" strike="noStrike">
                <a:solidFill>
                  <a:srgbClr val="2f5897"/>
                </a:solidFill>
                <a:latin typeface="Century Gothic"/>
              </a:rPr>
              <a:t>Upravljanje cjelinom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b3949"/>
                </a:solidFill>
                <a:latin typeface="Century Gothic"/>
              </a:rPr>
              <a:t>Prije: Vođenje pojedinac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00360" y="1773360"/>
            <a:ext cx="432108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2b3949"/>
                </a:solidFill>
                <a:latin typeface="Century Gothic"/>
              </a:rPr>
              <a:t>Sada: Vođenje sustava-cjeline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graphicFrame>
        <p:nvGraphicFramePr>
          <p:cNvPr id="326" name="Object 8"/>
          <p:cNvGraphicFramePr/>
          <p:nvPr/>
        </p:nvGraphicFramePr>
        <p:xfrm>
          <a:off x="684360" y="2781360"/>
          <a:ext cx="3024000" cy="19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781360"/>
                    <a:ext cx="30240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9"/>
          <p:cNvGraphicFramePr/>
          <p:nvPr/>
        </p:nvGraphicFramePr>
        <p:xfrm>
          <a:off x="4932360" y="2565360"/>
          <a:ext cx="3727440" cy="22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2565360"/>
                    <a:ext cx="372744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TextBox 1"/>
          <p:cNvSpPr/>
          <p:nvPr/>
        </p:nvSpPr>
        <p:spPr>
          <a:xfrm>
            <a:off x="1692360" y="5343480"/>
            <a:ext cx="103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entury Gothic"/>
              </a:rPr>
              <a:t>Ti –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entury Gothic"/>
              </a:rPr>
              <a:t>Ti-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entury Gothic"/>
              </a:rPr>
              <a:t>‘</a:t>
            </a:r>
            <a:r>
              <a:rPr b="1" lang="hr-HR" sz="1800" spc="-1" strike="noStrike">
                <a:solidFill>
                  <a:srgbClr val="000000"/>
                </a:solidFill>
                <a:latin typeface="Century Gothic"/>
              </a:rPr>
              <a:t>I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7"/>
          <p:cNvSpPr/>
          <p:nvPr/>
        </p:nvSpPr>
        <p:spPr>
          <a:xfrm>
            <a:off x="6365880" y="562140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entury Gothic"/>
              </a:rPr>
              <a:t>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2f5897"/>
                </a:solidFill>
                <a:latin typeface="Century Gothic"/>
              </a:rPr>
              <a:t>Sistemsko vođenj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50920" y="2133720"/>
            <a:ext cx="8362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Cjelina je odgovorn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Cjelina je svjesna zadataka i ciljeva i ‘smisla’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Cjelina se sama organizir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Cjelina se sama nužno korigira – najslabiju kariku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4" name="TextBox 1"/>
          <p:cNvSpPr/>
          <p:nvPr/>
        </p:nvSpPr>
        <p:spPr>
          <a:xfrm>
            <a:off x="888840" y="5229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0000"/>
                </a:solidFill>
                <a:latin typeface="Century Gothic"/>
              </a:rPr>
              <a:t>Komunicira se svima na takav način koji potiče odgovorn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0000"/>
                </a:solidFill>
                <a:latin typeface="Century Gothic"/>
              </a:rPr>
              <a:t>CJELINE -SVI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0000"/>
                </a:solidFill>
                <a:latin typeface="Century Gothic"/>
              </a:rPr>
              <a:t>SVAKOG POJEDI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f5897"/>
                </a:solidFill>
                <a:latin typeface="Century Gothic"/>
              </a:rPr>
              <a:t>Prednosti sistemskog vođenja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Ušteda vremena i energij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Odgovornost na svim razinama - Empowerment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Motivacija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Suradnja u timu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Veća razina odgovornosti pojedinaca i tim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Razvoj zaposlenik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Učinkovito rješavanje konflikata, otpora i lijenosti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262626"/>
                </a:solidFill>
                <a:latin typeface="Century Gothic"/>
              </a:rPr>
              <a:t>Više informacija: Systeem thinking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f5897"/>
                </a:solidFill>
                <a:latin typeface="Century Gothic"/>
              </a:rPr>
              <a:t>B: Situacijsko vođenje*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4920" y="1785960"/>
            <a:ext cx="84978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prilagođavati stil vođenja konkretnoj situaciji i specifičnim potrebama pojedinaca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i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i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i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i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i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62626"/>
                </a:solidFill>
                <a:latin typeface="Century Gothic"/>
              </a:rPr>
              <a:t>Treba znati: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lvl="2" marL="1409760" indent="-609480">
              <a:lnSpc>
                <a:spcPct val="90000"/>
              </a:lnSpc>
              <a:spcBef>
                <a:spcPts val="624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262626"/>
                </a:solidFill>
                <a:latin typeface="Century Gothic"/>
              </a:rPr>
              <a:t>Kakvim ljudima rukovodite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lvl="2" marL="1409760" indent="-609480">
              <a:lnSpc>
                <a:spcPct val="90000"/>
              </a:lnSpc>
              <a:spcBef>
                <a:spcPts val="624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262626"/>
                </a:solidFill>
                <a:latin typeface="Century Gothic"/>
              </a:rPr>
              <a:t>Koje stilove vođenja imate na raspolaganju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lvl="2" marL="1409760" indent="-609480">
              <a:lnSpc>
                <a:spcPct val="90000"/>
              </a:lnSpc>
              <a:spcBef>
                <a:spcPts val="624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262626"/>
                </a:solidFill>
                <a:latin typeface="Century Gothic"/>
              </a:rPr>
              <a:t>Koji stil vođenja je </a:t>
            </a:r>
            <a:r>
              <a:rPr b="0" lang="hr-HR" sz="2500" spc="-1" strike="noStrike">
                <a:solidFill>
                  <a:srgbClr val="ff0000"/>
                </a:solidFill>
                <a:latin typeface="Century Gothic"/>
              </a:rPr>
              <a:t>kada i komu </a:t>
            </a:r>
            <a:r>
              <a:rPr b="0" lang="hr-HR" sz="2500" spc="-1" strike="noStrike">
                <a:solidFill>
                  <a:srgbClr val="262626"/>
                </a:solidFill>
                <a:latin typeface="Century Gothic"/>
              </a:rPr>
              <a:t>najprikladniji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lvl="2" marL="1409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lvl="2" marL="1409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hr-HR" sz="25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hr-HR" sz="25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hr-HR" sz="25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hr-HR" sz="2500" spc="-1" strike="noStrike">
                <a:solidFill>
                  <a:srgbClr val="262626"/>
                </a:solidFill>
                <a:latin typeface="Century Gothic"/>
              </a:rPr>
              <a:t>*</a:t>
            </a:r>
            <a:r>
              <a:rPr b="0" i="1" lang="hr-HR" sz="1600" spc="-1" strike="noStrike">
                <a:solidFill>
                  <a:srgbClr val="262626"/>
                </a:solidFill>
                <a:latin typeface="Century Gothic"/>
              </a:rPr>
              <a:t>Teorija Herseya i Blancharda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409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Palatino Linotype"/>
              </a:rPr>
              <a:t>Kakvim ljudima rukovodite?</a:t>
            </a:r>
            <a:endParaRPr b="0" lang="en-US" sz="38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naj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maju motivacij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naj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aju motivacij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 znaj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maju motivacij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 znaj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aju motivacij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41" name="Straight Arrow Connector 4"/>
          <p:cNvCxnSpPr/>
          <p:nvPr/>
        </p:nvCxnSpPr>
        <p:spPr>
          <a:xfrm>
            <a:off x="394920" y="6453000"/>
            <a:ext cx="82810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2" name="Straight Arrow Connector 10"/>
          <p:cNvCxnSpPr/>
          <p:nvPr/>
        </p:nvCxnSpPr>
        <p:spPr>
          <a:xfrm flipV="1">
            <a:off x="394920" y="1557000"/>
            <a:ext cx="1080" cy="4896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43" name="TextBox 12"/>
          <p:cNvSpPr/>
          <p:nvPr/>
        </p:nvSpPr>
        <p:spPr>
          <a:xfrm>
            <a:off x="2315880" y="6081840"/>
            <a:ext cx="45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Verdana"/>
              </a:rPr>
              <a:t>-                    Motivacija                     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6"/>
          <p:cNvSpPr/>
          <p:nvPr/>
        </p:nvSpPr>
        <p:spPr>
          <a:xfrm rot="16200000">
            <a:off x="-1091160" y="3706560"/>
            <a:ext cx="33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Verdana"/>
              </a:rPr>
              <a:t>-                    Znanje          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2f5897"/>
                </a:solidFill>
                <a:latin typeface="Century Gothic"/>
              </a:rPr>
              <a:t>Situacijski stilovi vodstva</a:t>
            </a:r>
            <a:endParaRPr b="0" lang="en-US" sz="3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62626"/>
              </a:buClr>
              <a:buSzPct val="9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Autokratski (Autoritarni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buClr>
                <a:srgbClr val="262626"/>
              </a:buClr>
              <a:buSzPct val="9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Uvjeravajući (Autoritativni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buClr>
                <a:srgbClr val="262626"/>
              </a:buClr>
              <a:buSzPct val="9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Prijateljski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buClr>
                <a:srgbClr val="262626"/>
              </a:buClr>
              <a:buSzPct val="9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Demokratski (Participativni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buClr>
                <a:srgbClr val="262626"/>
              </a:buClr>
              <a:buSzPct val="9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Model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buClr>
                <a:srgbClr val="262626"/>
              </a:buClr>
              <a:buSzPct val="9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Trenerski (coach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buClr>
                <a:srgbClr val="262626"/>
              </a:buClr>
              <a:buSzPct val="9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Delegiranj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1692360" y="6245280"/>
            <a:ext cx="7235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Tko ne zna razlikovati, ne zna niti vladati.(Louis X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ff0000"/>
                </a:solidFill>
                <a:latin typeface="Century Gothic"/>
              </a:rPr>
              <a:t>Izvrsni stvaraju izvrsne*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9640" y="28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62626"/>
                </a:solidFill>
                <a:latin typeface="Century Gothic"/>
              </a:rPr>
              <a:t>Dobri stvaraju prosječne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78544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2f5897"/>
                </a:solidFill>
                <a:latin typeface="Century Gothic"/>
              </a:rPr>
              <a:t>Kada voditelj komunicira?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Uvijek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Kada oni trebaju čuti vas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399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62626"/>
                </a:solidFill>
                <a:latin typeface="Century Gothic"/>
              </a:rPr>
              <a:t>Čak i kada nema novog sadržaja ali oni imaju potreba za glasom vodstva, inspiracije i motivacije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Kada želite čuti što sve imaju za podijeliti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26262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26262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“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Ne </a:t>
            </a:r>
            <a:r>
              <a:rPr b="0" i="1" lang="hr-HR" sz="4000" spc="-1" strike="noStrike">
                <a:solidFill>
                  <a:srgbClr val="2f5897"/>
                </a:solidFill>
                <a:latin typeface="Century Gothic"/>
              </a:rPr>
              <a:t>mogu naučiti nikoga ništa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, </a:t>
            </a:r>
            <a:r>
              <a:rPr b="0" i="1" lang="hr-HR" sz="4000" spc="-1" strike="noStrike">
                <a:solidFill>
                  <a:srgbClr val="2f5897"/>
                </a:solidFill>
                <a:latin typeface="Century Gothic"/>
              </a:rPr>
              <a:t>mogu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 ih samo poticati razmišljanju.”</a:t>
            </a:r>
            <a:br>
              <a:rPr sz="4000"/>
            </a:b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32000" y="28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Sokrat (</a:t>
            </a:r>
            <a:r>
              <a:rPr b="0" i="1" lang="hr-HR" sz="2400" spc="-1" strike="noStrike">
                <a:solidFill>
                  <a:srgbClr val="262626"/>
                </a:solidFill>
                <a:latin typeface="Century Gothic"/>
              </a:rPr>
              <a:t>Socrates</a:t>
            </a: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65280" y="4005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62626"/>
                </a:solidFill>
                <a:latin typeface="Century Gothic"/>
              </a:rPr>
              <a:t>Osobni utjecaj i potica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62626"/>
                </a:solidFill>
                <a:latin typeface="Century Gothic"/>
              </a:rPr>
              <a:t>Osobna kariz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62626"/>
                </a:solidFill>
                <a:latin typeface="Century Gothic"/>
              </a:rPr>
              <a:t>Vi – Ti 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78544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2f5897"/>
                </a:solidFill>
                <a:latin typeface="Century Gothic"/>
              </a:rPr>
              <a:t>Iz kojih sve uloga voditelj možete komunicirati ?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24000" y="1773360"/>
            <a:ext cx="475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Vođa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Menadžer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Ravnatelj – formalna ulog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Stručnjak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Savjetnik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hr-HR" sz="2400" spc="-1" strike="noStrike">
                <a:solidFill>
                  <a:srgbClr val="ff0000"/>
                </a:solidFill>
                <a:latin typeface="Century Gothic"/>
              </a:rPr>
              <a:t>MI -  JA -  TI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4" name="Content Placeholder 2"/>
          <p:cNvSpPr/>
          <p:nvPr/>
        </p:nvSpPr>
        <p:spPr>
          <a:xfrm>
            <a:off x="5076720" y="1773360"/>
            <a:ext cx="381816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Roditel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Susj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Građa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Čovj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entury Gothic"/>
              </a:rPr>
              <a:t>   </a:t>
            </a:r>
            <a:r>
              <a:rPr b="0" lang="hr-HR" sz="2400" spc="-1" strike="noStrike">
                <a:solidFill>
                  <a:srgbClr val="ff0000"/>
                </a:solidFill>
                <a:latin typeface="Century Gothic"/>
              </a:rPr>
              <a:t>MI -  JA - 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2f5897"/>
                </a:solidFill>
                <a:latin typeface="Century Gothic"/>
              </a:rPr>
              <a:t>Stvaralačko </a:t>
            </a:r>
            <a:br>
              <a:rPr sz="5400"/>
            </a:br>
            <a:br>
              <a:rPr sz="5400"/>
            </a:br>
            <a:r>
              <a:rPr b="0" lang="hr-HR" sz="5400" spc="-1" strike="noStrike">
                <a:solidFill>
                  <a:srgbClr val="2f5897"/>
                </a:solidFill>
                <a:latin typeface="Century Gothic"/>
              </a:rPr>
              <a:t>crno bijela slika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1711080" y="2349360"/>
            <a:ext cx="6075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entury Gothic"/>
              </a:rPr>
              <a:t>Bij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entury Gothic"/>
              </a:rPr>
              <a:t>Izvrsna za pro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entury Gothic"/>
              </a:rPr>
              <a:t>Izvrsna za č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entury Gothic"/>
              </a:rPr>
              <a:t>Izvrsna za zajedničko stva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3571560" y="620640"/>
            <a:ext cx="142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hr-HR" sz="8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1212120" y="2359080"/>
            <a:ext cx="708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C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‘</a:t>
            </a: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Ja’ je nebit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Mi je bit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Ti je bit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Odnos je jednako bitan kao i sadrž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2f5897"/>
                </a:solidFill>
                <a:latin typeface="Century Gothic"/>
              </a:rPr>
              <a:t>T I M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3276720" y="4508640"/>
            <a:ext cx="554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70c0"/>
                </a:solidFill>
                <a:latin typeface="Century Gothic"/>
              </a:rPr>
              <a:t>“</a:t>
            </a:r>
            <a:r>
              <a:rPr b="0" i="1" lang="hr-HR" sz="2800" spc="-1" strike="noStrike">
                <a:solidFill>
                  <a:srgbClr val="0070c0"/>
                </a:solidFill>
                <a:latin typeface="Century Gothic"/>
              </a:rPr>
              <a:t>Nitko nije savršen kao osob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0" i="1" lang="hr-HR" sz="2800" spc="-1" strike="noStrike">
                <a:solidFill>
                  <a:srgbClr val="0070c0"/>
                </a:solidFill>
                <a:latin typeface="Century Gothic"/>
              </a:rPr>
              <a:t>ali tim može biti savrš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70c0"/>
                </a:solidFill>
                <a:latin typeface="Century Gothic"/>
              </a:rPr>
              <a:t>Meredith Bel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70c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6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8323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2f5897"/>
                </a:solidFill>
                <a:latin typeface="Century Gothic"/>
              </a:rPr>
              <a:t>Grupa/skupina ili Tim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363" name="Picture 4" descr=""/>
          <p:cNvPicPr/>
          <p:nvPr/>
        </p:nvPicPr>
        <p:blipFill>
          <a:blip r:embed="rId1"/>
          <a:stretch/>
        </p:blipFill>
        <p:spPr>
          <a:xfrm>
            <a:off x="2416320" y="1484280"/>
            <a:ext cx="5113080" cy="44640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2556000" y="6237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entury Gothic"/>
              </a:rPr>
              <a:t>Više od same skup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5897"/>
                </a:solidFill>
                <a:latin typeface="Century Gothic"/>
              </a:rPr>
              <a:t>TIM – što je to zapravo</a:t>
            </a:r>
            <a:br>
              <a:rPr sz="4000"/>
            </a:b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Tim je mali broj ljudi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s komplementarnim vještinama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koji su posvećeni zajedničkoj svrsi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setu izvedbenih ciljeva i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zajedničkom pristupu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za koji se smatraju zajednički odgovornima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entury Gothic"/>
              </a:rPr>
              <a:t>Hawkins &amp; Smith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Ključ uspjeha tima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05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Zajednički ciljevi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Jasno određene ulog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Uspješna komunikacija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Fleksibilnost i neprekidno usavršavanj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369" name="Picture 4" descr="connected_data_big"/>
          <p:cNvPicPr/>
          <p:nvPr/>
        </p:nvPicPr>
        <p:blipFill>
          <a:blip r:embed="rId1"/>
          <a:stretch/>
        </p:blipFill>
        <p:spPr>
          <a:xfrm>
            <a:off x="7068960" y="260280"/>
            <a:ext cx="2089440" cy="19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Obilježja tima</a:t>
            </a:r>
            <a:r>
              <a:rPr b="0" lang="hr-HR" sz="4000" spc="-1" strike="noStrike">
                <a:solidFill>
                  <a:srgbClr val="0070c0"/>
                </a:solidFill>
                <a:latin typeface="Century Gothic"/>
              </a:rPr>
              <a:t>	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79280" y="1700280"/>
            <a:ext cx="80503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Predanost članova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Zajednički cilj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Ravnopravni članovi *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Različite uloge i odgovornosti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Pozitivno ozračj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Timska kohezija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* Ravnopravnost ne smije biti alibi pasivnosti i inertnosti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5334120" y="792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26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2f5897"/>
                </a:solidFill>
                <a:latin typeface="Century Gothic"/>
              </a:rPr>
              <a:t>Inspiracija</a:t>
            </a:r>
            <a:r>
              <a:rPr b="0" lang="hr-HR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8360" y="1844280"/>
            <a:ext cx="822960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262626"/>
                </a:solidFill>
                <a:latin typeface="Century Gothic"/>
              </a:rPr>
              <a:t>Prosječan učitelj govori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262626"/>
                </a:solidFill>
                <a:latin typeface="Century Gothic"/>
              </a:rPr>
              <a:t>Dobar učitelj objašnjava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262626"/>
                </a:solidFill>
                <a:latin typeface="Century Gothic"/>
              </a:rPr>
              <a:t>Izvrstan učitelj demonstrira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262626"/>
                </a:solidFill>
                <a:latin typeface="Century Gothic"/>
              </a:rPr>
              <a:t>Vrhunski učitelj inspirira i nadahnjuje</a:t>
            </a: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i="1" lang="hr-HR" sz="20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i="1" lang="hr-HR" sz="20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i="1" lang="hr-HR" sz="20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i="1" lang="hr-HR" sz="2000" spc="-1" strike="noStrike">
                <a:solidFill>
                  <a:srgbClr val="262626"/>
                </a:solidFill>
                <a:latin typeface="Century Gothic"/>
              </a:rPr>
              <a:t>William Arthur Ward</a:t>
            </a: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2f5897"/>
                </a:solidFill>
                <a:latin typeface="Century Gothic"/>
              </a:rPr>
              <a:t>Formula TIM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42560" y="2852640"/>
            <a:ext cx="7093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entury Gothic"/>
              </a:rPr>
              <a:t>TIM = </a:t>
            </a:r>
            <a:r>
              <a:rPr b="1" lang="hr-HR" sz="2800" spc="-1" strike="noStrike">
                <a:solidFill>
                  <a:srgbClr val="ff0000"/>
                </a:solidFill>
                <a:latin typeface="Century Gothic"/>
              </a:rPr>
              <a:t>Cilj</a:t>
            </a:r>
            <a:r>
              <a:rPr b="0" lang="hr-HR" sz="2800" spc="-1" strike="noStrike">
                <a:solidFill>
                  <a:srgbClr val="ff0000"/>
                </a:solidFill>
                <a:latin typeface="Century Gothic"/>
              </a:rPr>
              <a:t> X </a:t>
            </a:r>
            <a:r>
              <a:rPr b="1" lang="hr-HR" sz="2800" spc="-1" strike="noStrike">
                <a:solidFill>
                  <a:srgbClr val="ff0000"/>
                </a:solidFill>
                <a:latin typeface="Century Gothic"/>
              </a:rPr>
              <a:t>Temelji </a:t>
            </a:r>
            <a:r>
              <a:rPr b="0" lang="hr-HR" sz="2800" spc="-1" strike="noStrike">
                <a:solidFill>
                  <a:srgbClr val="ff0000"/>
                </a:solidFill>
                <a:latin typeface="Century Gothic"/>
              </a:rPr>
              <a:t>X </a:t>
            </a:r>
            <a:r>
              <a:rPr b="1" lang="hr-HR" sz="2800" spc="-1" strike="noStrike">
                <a:solidFill>
                  <a:srgbClr val="ff0000"/>
                </a:solidFill>
                <a:latin typeface="Century Gothic"/>
              </a:rPr>
              <a:t>Razvoj</a:t>
            </a:r>
            <a:r>
              <a:rPr b="0" lang="hr-HR" sz="2800" spc="-1" strike="noStrike">
                <a:solidFill>
                  <a:srgbClr val="ff0000"/>
                </a:solidFill>
                <a:latin typeface="Century Gothic"/>
              </a:rPr>
              <a:t> X  </a:t>
            </a:r>
            <a:r>
              <a:rPr b="1" lang="hr-HR" sz="2800" spc="-1" strike="noStrike">
                <a:solidFill>
                  <a:srgbClr val="ff0000"/>
                </a:solidFill>
                <a:latin typeface="Century Gothic"/>
              </a:rPr>
              <a:t>Rezultati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Vaši mogući timovi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Veliki tim cijele škole zajedno s vam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Tematski – projektno okupljeni timovi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Tim koji čine voditelji timov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graphicFrame>
        <p:nvGraphicFramePr>
          <p:cNvPr id="377" name="Object 3"/>
          <p:cNvGraphicFramePr/>
          <p:nvPr/>
        </p:nvGraphicFramePr>
        <p:xfrm>
          <a:off x="1908000" y="5157720"/>
          <a:ext cx="14400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5157720"/>
                    <a:ext cx="1440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4"/>
          <p:cNvGraphicFramePr/>
          <p:nvPr/>
        </p:nvGraphicFramePr>
        <p:xfrm>
          <a:off x="2341440" y="3006720"/>
          <a:ext cx="3962520" cy="23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1440" y="3006720"/>
                    <a:ext cx="3962520" cy="23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5"/>
          <p:cNvGraphicFramePr/>
          <p:nvPr/>
        </p:nvGraphicFramePr>
        <p:xfrm>
          <a:off x="3492360" y="5157720"/>
          <a:ext cx="1440000" cy="94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5157720"/>
                    <a:ext cx="1440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6"/>
          <p:cNvGraphicFramePr/>
          <p:nvPr/>
        </p:nvGraphicFramePr>
        <p:xfrm>
          <a:off x="5076720" y="5157720"/>
          <a:ext cx="1440000" cy="94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6720" y="5157720"/>
                    <a:ext cx="1440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Evolucija i razvoj tima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468360" y="540720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Form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70c0"/>
                </a:solidFill>
                <a:latin typeface="Arial"/>
              </a:rPr>
              <a:t>F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5288040" y="1973160"/>
            <a:ext cx="16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Djelo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70c0"/>
                </a:solidFill>
                <a:latin typeface="Arial"/>
              </a:rPr>
              <a:t>Perf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3765600" y="306864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Norm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70c0"/>
                </a:solidFill>
                <a:latin typeface="Arial"/>
              </a:rPr>
              <a:t>N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2124000" y="4211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Prev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70c0"/>
                </a:solidFill>
                <a:latin typeface="Arial"/>
              </a:rPr>
              <a:t>St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6659640" y="83664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Kraj- Raspušt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70c0"/>
                </a:solidFill>
                <a:latin typeface="Arial"/>
              </a:rPr>
              <a:t>Adjo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6300720" y="5813280"/>
            <a:ext cx="24116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70c0"/>
                </a:solidFill>
                <a:latin typeface="Arial"/>
              </a:rPr>
              <a:t>Tuckma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70c0"/>
                </a:solidFill>
                <a:latin typeface="Arial"/>
              </a:rPr>
              <a:t>(Tuckman/Bruc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Radni – Stvaralački sklad tima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84872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_1651867_bob_jamaica300"/>
          <p:cNvPicPr/>
          <p:nvPr/>
        </p:nvPicPr>
        <p:blipFill>
          <a:blip r:embed="rId1"/>
          <a:stretch/>
        </p:blipFill>
        <p:spPr>
          <a:xfrm>
            <a:off x="1547640" y="995400"/>
            <a:ext cx="5329440" cy="38257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3"/>
          <p:cNvSpPr/>
          <p:nvPr/>
        </p:nvSpPr>
        <p:spPr>
          <a:xfrm>
            <a:off x="2411280" y="333360"/>
            <a:ext cx="4464360" cy="6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f5897"/>
                </a:solidFill>
                <a:latin typeface="Calibri"/>
              </a:rPr>
              <a:t>Ideja            Izved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611280" y="5157720"/>
            <a:ext cx="77770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Gothic"/>
              </a:rPr>
              <a:t>..tim, organizacija, strast, proved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Gothic"/>
              </a:rPr>
              <a:t>..padovi i podiz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3635280" y="765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Osobine koje potiču timski rad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Druželjubivost – ne povučenost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Otvorenost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Povjerenje u okruženj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Izravnost u nastupu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Odgovornost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Samopouzdanj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Odmjerenost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Sklonost novinama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Senzibilnost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Prednosti timskog rada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79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b3949"/>
                </a:solidFill>
                <a:latin typeface="Century Gothic"/>
              </a:rPr>
              <a:t>Različita stručna znanja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b3949"/>
                </a:solidFill>
                <a:latin typeface="Century Gothic"/>
              </a:rPr>
              <a:t>Različite perspektive za isti problem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b3949"/>
                </a:solidFill>
                <a:latin typeface="Century Gothic"/>
              </a:rPr>
              <a:t>Različitost mišljenja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b3949"/>
                </a:solidFill>
                <a:latin typeface="Century Gothic"/>
              </a:rPr>
              <a:t>Različitost osobina ličnosti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b3949"/>
                </a:solidFill>
                <a:latin typeface="Century Gothic"/>
              </a:rPr>
              <a:t>Različita osobna iskustva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b3949"/>
                </a:solidFill>
                <a:latin typeface="Century Gothic"/>
              </a:rPr>
              <a:t>Brza i učinkovita reakcija na problem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b3949"/>
                </a:solidFill>
                <a:latin typeface="Century Gothic"/>
              </a:rPr>
              <a:t>Sustav “sinergije” jedne cjelin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2f5897"/>
                </a:solidFill>
                <a:latin typeface="Century Gothic"/>
              </a:rPr>
              <a:t>KOJA JE VAŠA TIMSKA ULOGA?</a:t>
            </a:r>
            <a:br>
              <a:rPr sz="4000"/>
            </a:br>
            <a:r>
              <a:rPr b="0" lang="hr-HR" sz="3200" spc="-1" strike="noStrike">
                <a:solidFill>
                  <a:srgbClr val="2f5897"/>
                </a:solidFill>
                <a:latin typeface="Century Gothic"/>
              </a:rPr>
              <a:t>Koje su uloge vaših kolega suradnika?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03" name="Picture 3" descr="timske uloge"/>
          <p:cNvPicPr/>
          <p:nvPr/>
        </p:nvPicPr>
        <p:blipFill>
          <a:blip r:embed="rId1"/>
          <a:stretch/>
        </p:blipFill>
        <p:spPr>
          <a:xfrm>
            <a:off x="2700360" y="2637000"/>
            <a:ext cx="320040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Timske uloge*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98000" y="1757520"/>
            <a:ext cx="48610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entury Gothic"/>
              </a:rPr>
              <a:t>Nositelji ideja i akcija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entury Gothic"/>
              </a:rPr>
              <a:t>Pokretač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entury Gothic"/>
              </a:rPr>
              <a:t>Koordinator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entury Gothic"/>
              </a:rPr>
              <a:t>Kreativac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entury Gothic"/>
              </a:rPr>
              <a:t>Istraživač mogućnosti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35080" y="1757160"/>
            <a:ext cx="4427640" cy="25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entury Gothic"/>
              </a:rPr>
              <a:t>Provoditelji i održavatelji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Century Gothi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entury Gothic"/>
              </a:rPr>
              <a:t>Promatrač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Century Gothi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entury Gothic"/>
              </a:rPr>
              <a:t>Timski radnik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Century Gothi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entury Gothic"/>
              </a:rPr>
              <a:t>Implementator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Century Gothi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entury Gothic"/>
              </a:rPr>
              <a:t>Finišer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2771640" y="6205680"/>
            <a:ext cx="56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898989"/>
                </a:solidFill>
                <a:latin typeface="Century Gothic"/>
              </a:rPr>
              <a:t>*prema M. Belbin: </a:t>
            </a:r>
            <a:r>
              <a:rPr b="1" lang="en-US" sz="2000" spc="-1" strike="noStrike">
                <a:solidFill>
                  <a:srgbClr val="898989"/>
                </a:solidFill>
                <a:latin typeface="Century Gothic"/>
              </a:rPr>
              <a:t>www.belbi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4821840" y="433224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cc00"/>
                </a:solidFill>
                <a:latin typeface="Century Gothic"/>
              </a:rPr>
              <a:t>9. Specij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7000" y="12034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hr-HR" sz="4000" spc="-1" strike="noStrike">
                <a:solidFill>
                  <a:srgbClr val="262626"/>
                </a:solidFill>
                <a:latin typeface="Century Gothic"/>
              </a:rPr>
              <a:t>PO Pokretač</a:t>
            </a:r>
            <a:br>
              <a:rPr sz="4000"/>
            </a:b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7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Jak smisao za hitnost i djelovanj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Sklon nestrpljivosti i provokaciji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Vjerojatno će se ljutiti ako stvari nisu po njegovo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Ima jaku želju biti vođa i  kontrolirati odluke i akcij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Nema vremena čekati na pravila i propis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Može biti skeptičan prema drugima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Ponekad preosjetljiv na kritik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11" name="Picture 5" descr=""/>
          <p:cNvPicPr/>
          <p:nvPr/>
        </p:nvPicPr>
        <p:blipFill>
          <a:blip r:embed="rId1"/>
          <a:stretch/>
        </p:blipFill>
        <p:spPr>
          <a:xfrm>
            <a:off x="7392960" y="189000"/>
            <a:ext cx="1057320" cy="10144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"/>
          <p:cNvSpPr/>
          <p:nvPr/>
        </p:nvSpPr>
        <p:spPr>
          <a:xfrm>
            <a:off x="250920" y="4938840"/>
            <a:ext cx="842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Pokretač je ‘prirodni’ vođa koji izaz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poštovanje i divljenj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Potiče entuzijazam i energiju u drug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26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2f5897"/>
                </a:solidFill>
                <a:latin typeface="Century Gothic"/>
              </a:rPr>
              <a:t>Zašto ste ravnatelj? </a:t>
            </a:r>
            <a:r>
              <a:rPr b="0" lang="hr-HR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844280"/>
            <a:ext cx="914400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53800" indent="-2538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262626"/>
                </a:solidFill>
                <a:latin typeface="Century Gothic"/>
              </a:rPr>
              <a:t>Koja je Vaša/tvoja misija?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53800" indent="-2538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53800" indent="-2538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Da Vas/tebe nema ŠTO bi sve nedostajalo?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53800" indent="-2538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53800" indent="-2538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Da Vas/tebe nema TKO bi nedostajao?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53800" indent="-2538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2" marL="676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i="1" lang="hr-HR" sz="20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i="1" lang="hr-HR" sz="20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i="1" lang="hr-HR" sz="2000" spc="-1" strike="noStrike">
                <a:solidFill>
                  <a:srgbClr val="262626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108000" y="1134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hr-HR" sz="4000" spc="-1" strike="noStrike">
                <a:solidFill>
                  <a:srgbClr val="262626"/>
                </a:solidFill>
                <a:latin typeface="Century Gothic"/>
              </a:rPr>
              <a:t>PO Pokretač</a:t>
            </a:r>
            <a:br>
              <a:rPr sz="4000"/>
            </a:b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2626"/>
                </a:solidFill>
                <a:latin typeface="Century Gothic"/>
              </a:rPr>
              <a:t>     </a:t>
            </a:r>
            <a:r>
              <a:rPr b="1" lang="de-DE" sz="2000" spc="-1" strike="noStrike" u="sng">
                <a:solidFill>
                  <a:srgbClr val="262626"/>
                </a:solidFill>
                <a:uFillTx/>
                <a:latin typeface="Century Gothic"/>
              </a:rPr>
              <a:t>Vrline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S</a:t>
            </a:r>
            <a:r>
              <a:rPr b="0" lang="de-DE" sz="2000" spc="-1" strike="noStrike">
                <a:solidFill>
                  <a:srgbClr val="262626"/>
                </a:solidFill>
                <a:latin typeface="Century Gothic"/>
              </a:rPr>
              <a:t>nažna volja za </a:t>
            </a: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napredovanjem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Originalan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entury Gothic"/>
              </a:rPr>
              <a:t>Društven</a:t>
            </a: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entury Gothic"/>
              </a:rPr>
              <a:t>Otvoren</a:t>
            </a: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entury Gothic"/>
              </a:rPr>
              <a:t>Dinamičan</a:t>
            </a: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 i zahtjevan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Postavlja izazov timu, uporan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Optimist – ‘modelator’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2626"/>
                </a:solidFill>
                <a:latin typeface="Century Gothic"/>
              </a:rPr>
              <a:t>     </a:t>
            </a:r>
            <a:r>
              <a:rPr b="1" lang="hr-HR" sz="2000" spc="-1" strike="noStrike" u="sng">
                <a:solidFill>
                  <a:srgbClr val="262626"/>
                </a:solidFill>
                <a:uFillTx/>
                <a:latin typeface="Century Gothic"/>
              </a:rPr>
              <a:t>Potencijalni nedostaci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Nervozan,  autoritativan, nestrpljiv, sklon ljutnji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Izravnost, grubost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Neki ga doživljavaju kao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pretjerano sklonog hvalisanju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pomalo napadnog ili čak nasilnog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2626"/>
                </a:solidFill>
                <a:latin typeface="Century Gothic"/>
              </a:rPr>
              <a:t>    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1"/>
          <a:stretch/>
        </p:blipFill>
        <p:spPr>
          <a:xfrm>
            <a:off x="7392960" y="189000"/>
            <a:ext cx="1057320" cy="10144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1"/>
          <p:cNvSpPr/>
          <p:nvPr/>
        </p:nvSpPr>
        <p:spPr>
          <a:xfrm>
            <a:off x="6875640" y="1628640"/>
            <a:ext cx="1642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62626"/>
                </a:solidFill>
                <a:latin typeface="Arial"/>
              </a:rPr>
              <a:t>(eng. Shap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32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ff"/>
                </a:solidFill>
                <a:latin typeface="Century Gothic"/>
              </a:rPr>
              <a:t>PO 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Pokretač govori ….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47840"/>
            <a:ext cx="9144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-325800">
              <a:lnSpc>
                <a:spcPct val="7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62626"/>
                </a:solidFill>
                <a:latin typeface="Century Gothic"/>
              </a:rPr>
              <a:t>Izvrši, a kasnije ćemo razgovarati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-325800">
              <a:lnSpc>
                <a:spcPct val="7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62626"/>
                </a:solidFill>
                <a:latin typeface="Century Gothic"/>
              </a:rPr>
              <a:t>Ako kažeš “ja ću to napraviti”, očekujem rezultat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-325800">
              <a:lnSpc>
                <a:spcPct val="7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62626"/>
                </a:solidFill>
                <a:latin typeface="Century Gothic"/>
              </a:rPr>
              <a:t>Možda sam izravan, ali nazivam stvari pravim imenom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-325800">
              <a:lnSpc>
                <a:spcPct val="7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62626"/>
                </a:solidFill>
                <a:latin typeface="Century Gothic"/>
              </a:rPr>
              <a:t>Pokrenut ću stvari - ‘Just do it’!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62626"/>
                </a:solidFill>
                <a:latin typeface="Century Gothic"/>
              </a:rPr>
              <a:t>   </a:t>
            </a:r>
            <a:r>
              <a:rPr b="0" lang="hr-HR" sz="2600" spc="-1" strike="noStrike">
                <a:solidFill>
                  <a:srgbClr val="262626"/>
                </a:solidFill>
                <a:latin typeface="Century Gothic"/>
              </a:rPr>
              <a:t>Kad situacija izgleda bezizlazna, najjači idu naprijed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19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19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19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19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1900" spc="-1" strike="noStrike">
                <a:solidFill>
                  <a:srgbClr val="262626"/>
                </a:solidFill>
                <a:latin typeface="Century Gothic"/>
              </a:rPr>
              <a:t>	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05732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840" y="260280"/>
            <a:ext cx="761832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hr-HR" sz="4000" spc="-1" strike="noStrike">
                <a:solidFill>
                  <a:srgbClr val="0000ff"/>
                </a:solidFill>
                <a:latin typeface="Century Gothic"/>
              </a:rPr>
              <a:t>KO</a:t>
            </a:r>
            <a:r>
              <a:rPr b="0" lang="hr-HR" sz="4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	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KOORDINATOR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7640" y="1412640"/>
            <a:ext cx="878508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  <a:ea typeface="Calibri"/>
              </a:rPr>
              <a:t>Ima jako dobar osjećaj za opće ciljev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  <a:ea typeface="Calibri"/>
              </a:rPr>
              <a:t>Može biti nepristran i cijeniti pomoć s više strana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  <a:ea typeface="Calibri"/>
              </a:rPr>
              <a:t>Dobro mu leži kontrola i koordinacija resursa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  <a:ea typeface="Calibri"/>
              </a:rPr>
              <a:t>Demokratičan je i potiče suradnju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  <a:ea typeface="Calibri"/>
              </a:rPr>
              <a:t>Spreman prihvatiti odgovornost za odluk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  <a:ea typeface="Calibri"/>
              </a:rPr>
              <a:t>Objektivnost mu pomaže da usmjeri trud i napore drugih ka općem cilju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30542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Object 6"/>
          <p:cNvGraphicFramePr/>
          <p:nvPr/>
        </p:nvGraphicFramePr>
        <p:xfrm>
          <a:off x="7596360" y="189000"/>
          <a:ext cx="99036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189000"/>
                    <a:ext cx="9903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61832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hr-HR" sz="2800" spc="-1" strike="noStrike">
                <a:solidFill>
                  <a:srgbClr val="0000ff"/>
                </a:solidFill>
                <a:latin typeface="Palatino Linotype"/>
              </a:rPr>
              <a:t>KO</a:t>
            </a:r>
            <a:r>
              <a:rPr b="1" lang="hr-HR" sz="2800" spc="-1" strike="noStrike">
                <a:solidFill>
                  <a:srgbClr val="ffff00"/>
                </a:solidFill>
                <a:latin typeface="Palatino Linotype"/>
              </a:rPr>
              <a:t> </a:t>
            </a:r>
            <a:r>
              <a:rPr b="1" lang="hr-HR" sz="2800" spc="-1" strike="noStrike">
                <a:solidFill>
                  <a:srgbClr val="2f5897"/>
                </a:solidFill>
                <a:latin typeface="Palatino Linotype"/>
              </a:rPr>
              <a:t>	</a:t>
            </a:r>
            <a:r>
              <a:rPr b="1" lang="hr-HR" sz="2800" spc="-1" strike="noStrike">
                <a:solidFill>
                  <a:srgbClr val="2f5897"/>
                </a:solidFill>
                <a:latin typeface="Palatino Linotype"/>
              </a:rPr>
              <a:t>KOORDINATOR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000" y="1321920"/>
            <a:ext cx="783756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2626"/>
                </a:solidFill>
                <a:latin typeface="Century Gothic"/>
                <a:ea typeface="Calibri"/>
              </a:rPr>
              <a:t>     </a:t>
            </a:r>
            <a:r>
              <a:rPr b="1" lang="hr-HR" sz="2000" spc="-1" strike="noStrike" u="sng">
                <a:solidFill>
                  <a:srgbClr val="262626"/>
                </a:solidFill>
                <a:uFillTx/>
                <a:latin typeface="Century Gothic"/>
                <a:ea typeface="Calibri"/>
              </a:rPr>
              <a:t>Vrline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  <a:ea typeface="Calibri"/>
              </a:rPr>
              <a:t>Odlučan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  <a:ea typeface="Calibri"/>
              </a:rPr>
              <a:t>Nepristran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  <a:ea typeface="Calibri"/>
              </a:rPr>
              <a:t>Entuzijast i spreman pomoći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  <a:ea typeface="Calibri"/>
              </a:rPr>
              <a:t>Miran u svakoj situaciji i staložen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  <a:ea typeface="Calibri"/>
              </a:rPr>
              <a:t>Zna se obuzdati kad je to potrebno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  <a:ea typeface="Calibri"/>
              </a:rPr>
              <a:t>Pouzdan i ima samopouzdanja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2626"/>
                </a:solidFill>
                <a:latin typeface="Century Gothic"/>
                <a:ea typeface="Calibri"/>
              </a:rPr>
              <a:t>     </a:t>
            </a:r>
            <a:r>
              <a:rPr b="1" lang="hr-HR" sz="2000" spc="-1" strike="noStrike" u="sng">
                <a:solidFill>
                  <a:srgbClr val="262626"/>
                </a:solidFill>
                <a:uFillTx/>
                <a:latin typeface="Century Gothic"/>
                <a:ea typeface="Calibri"/>
              </a:rPr>
              <a:t>Potencijalni nedostaci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  <a:ea typeface="Calibri"/>
              </a:rPr>
              <a:t>Voli nekada manipulirati ljudima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  <a:ea typeface="Calibri"/>
              </a:rPr>
              <a:t>Prvo ciljevi pa onda ljudi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  <a:ea typeface="Calibri"/>
              </a:rPr>
              <a:t>Uglavnom prosječno koristi intelekt i kreativnost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2626"/>
                </a:solidFill>
                <a:latin typeface="Century Gothic"/>
                <a:ea typeface="Calibri"/>
              </a:rPr>
              <a:t>    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0" y="30542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Object 6"/>
          <p:cNvGraphicFramePr/>
          <p:nvPr/>
        </p:nvGraphicFramePr>
        <p:xfrm>
          <a:off x="7596360" y="189000"/>
          <a:ext cx="99036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189000"/>
                    <a:ext cx="9903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Rectangle 1"/>
          <p:cNvSpPr/>
          <p:nvPr/>
        </p:nvSpPr>
        <p:spPr>
          <a:xfrm>
            <a:off x="6438240" y="1322280"/>
            <a:ext cx="2274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62626"/>
                </a:solidFill>
                <a:latin typeface="Century Gothic"/>
              </a:rPr>
              <a:t>(eng. Coordin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400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ff"/>
                </a:solidFill>
                <a:latin typeface="Palatino Linotype"/>
              </a:rPr>
              <a:t>KO</a:t>
            </a:r>
            <a:r>
              <a:rPr b="0" lang="hr-HR" sz="4000" spc="-1" strike="noStrike">
                <a:solidFill>
                  <a:srgbClr val="2f5897"/>
                </a:solidFill>
                <a:latin typeface="Palatino Linotype"/>
              </a:rPr>
              <a:t> Koordinator govori …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623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Imajmo stalno na umu glavni cilj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Ima li još netko nešto za dodati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Jesmo se razumjeli, imamo konsenzus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Ne pretpostavljaj, tišina ne predstavlja odobravanj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Dobro delegiranje je umjetnos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‘</a:t>
            </a: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Moji ljudi’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Umijeće vođenja je usmjeriti ljude da izvrše sav posao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24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24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2400" spc="-1" strike="noStrike">
                <a:solidFill>
                  <a:srgbClr val="262626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7812000" y="404640"/>
            <a:ext cx="99072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 </a:t>
            </a:r>
            <a:r>
              <a:rPr b="0" lang="en-GB" sz="4000" spc="-1" strike="noStrike">
                <a:solidFill>
                  <a:srgbClr val="0000ff"/>
                </a:solidFill>
                <a:latin typeface="Century Gothic"/>
              </a:rPr>
              <a:t>IS 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 </a:t>
            </a:r>
            <a:r>
              <a:rPr b="0" lang="en-GB" sz="4000" spc="-1" strike="noStrike">
                <a:solidFill>
                  <a:srgbClr val="2f5897"/>
                </a:solidFill>
                <a:latin typeface="Century Gothic"/>
              </a:rPr>
              <a:t>ISTRAŽIVAČ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 MOGUĆNOSTI</a:t>
            </a:r>
            <a:r>
              <a:rPr b="0" lang="en-US" sz="4000" spc="-1" strike="noStrike">
                <a:solidFill>
                  <a:srgbClr val="2f5897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Ambasador tima u poslovima izvan granica samog tim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Sposoban ostvariti dobre kontakte s ljudima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Istražuje uvijek neke nove opcije i mogućnosti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Zainteresirat će se za nove situacije koje mu predstavljaju izazove, ali će isto tako njegovo zanimanje brzo splasnuti ako je napredak spor ili čim  prođe prva oduševljenost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Različitost ljudi mu je jako bitna, ima sposobnost motivirati druge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Istraživač je ili “na telefonu ili na sastanku”, jer to najviše voli raditi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0" y="30351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9"/>
          <p:cNvGraphicFramePr/>
          <p:nvPr/>
        </p:nvGraphicFramePr>
        <p:xfrm>
          <a:off x="7885080" y="115920"/>
          <a:ext cx="89532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115920"/>
                    <a:ext cx="8953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GB" sz="4000" spc="-1" strike="noStrike">
                <a:solidFill>
                  <a:srgbClr val="0000ff"/>
                </a:solidFill>
                <a:latin typeface="Century Gothic"/>
              </a:rPr>
              <a:t>IS </a:t>
            </a:r>
            <a:r>
              <a:rPr b="0" lang="en-GB" sz="4000" spc="-1" strike="noStrike">
                <a:solidFill>
                  <a:srgbClr val="2f5897"/>
                </a:solidFill>
                <a:latin typeface="Century Gothic"/>
              </a:rPr>
              <a:t>	</a:t>
            </a:r>
            <a:r>
              <a:rPr b="0" lang="en-GB" sz="4000" spc="-1" strike="noStrike">
                <a:solidFill>
                  <a:srgbClr val="2f5897"/>
                </a:solidFill>
                <a:latin typeface="Century Gothic"/>
              </a:rPr>
              <a:t>ISTRAŽIVAČ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 MOGUĆNOSTI</a:t>
            </a:r>
            <a:r>
              <a:rPr b="0" lang="en-US" sz="4000" spc="-1" strike="noStrike">
                <a:solidFill>
                  <a:srgbClr val="2f5897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b3949"/>
                </a:solidFill>
                <a:latin typeface="Century Gothic"/>
                <a:ea typeface="Calibri"/>
              </a:rPr>
              <a:t>     </a:t>
            </a:r>
            <a:r>
              <a:rPr b="1" lang="de-DE" sz="2000" spc="-1" strike="noStrike" u="sng">
                <a:solidFill>
                  <a:srgbClr val="2b3949"/>
                </a:solidFill>
                <a:uFillTx/>
                <a:latin typeface="Century Gothic"/>
                <a:ea typeface="Calibri"/>
              </a:rPr>
              <a:t>Vrline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b3949"/>
                </a:solidFill>
                <a:latin typeface="Century Gothic"/>
                <a:ea typeface="Calibri"/>
              </a:rPr>
              <a:t>Maštovit i </a:t>
            </a:r>
            <a:r>
              <a:rPr b="0" lang="de-DE" sz="2000" spc="-1" strike="noStrike">
                <a:solidFill>
                  <a:srgbClr val="2b3949"/>
                </a:solidFill>
                <a:latin typeface="Century Gothic"/>
                <a:ea typeface="Calibri"/>
              </a:rPr>
              <a:t>znatiželjan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b3949"/>
                </a:solidFill>
                <a:latin typeface="Century Gothic"/>
                <a:ea typeface="Calibri"/>
              </a:rPr>
              <a:t>Entuzijast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b3949"/>
                </a:solidFill>
                <a:latin typeface="Century Gothic"/>
                <a:ea typeface="Calibri"/>
              </a:rPr>
              <a:t>K</a:t>
            </a:r>
            <a:r>
              <a:rPr b="0" lang="de-DE" sz="2000" spc="-1" strike="noStrike">
                <a:solidFill>
                  <a:srgbClr val="2b3949"/>
                </a:solidFill>
                <a:latin typeface="Century Gothic"/>
                <a:ea typeface="Calibri"/>
              </a:rPr>
              <a:t>omunikativan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b3949"/>
                </a:solidFill>
                <a:latin typeface="Century Gothic"/>
                <a:ea typeface="Calibri"/>
              </a:rPr>
              <a:t>O</a:t>
            </a:r>
            <a:r>
              <a:rPr b="0" lang="de-DE" sz="2000" spc="-1" strike="noStrike">
                <a:solidFill>
                  <a:srgbClr val="2b3949"/>
                </a:solidFill>
                <a:latin typeface="Century Gothic"/>
                <a:ea typeface="Calibri"/>
              </a:rPr>
              <a:t>tvoren</a:t>
            </a:r>
            <a:r>
              <a:rPr b="0" lang="hr-HR" sz="2000" spc="-1" strike="noStrike">
                <a:solidFill>
                  <a:srgbClr val="2b3949"/>
                </a:solidFill>
                <a:latin typeface="Century Gothic"/>
                <a:ea typeface="Calibri"/>
              </a:rPr>
              <a:t> &amp; D</a:t>
            </a:r>
            <a:r>
              <a:rPr b="0" lang="de-DE" sz="2000" spc="-1" strike="noStrike">
                <a:solidFill>
                  <a:srgbClr val="2b3949"/>
                </a:solidFill>
                <a:latin typeface="Century Gothic"/>
                <a:ea typeface="Calibri"/>
              </a:rPr>
              <a:t>ruštven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b3949"/>
                </a:solidFill>
                <a:latin typeface="Century Gothic"/>
                <a:ea typeface="Calibri"/>
              </a:rPr>
              <a:t>Kreativan . Inovativan - ‘Out of box’razmišljanje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b3949"/>
                </a:solidFill>
                <a:latin typeface="Century Gothic"/>
                <a:ea typeface="Calibri"/>
              </a:rPr>
              <a:t>Pronalazi i kreira nove mogućnosti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b3949"/>
                </a:solidFill>
                <a:latin typeface="Century Gothic"/>
                <a:ea typeface="Calibri"/>
              </a:rPr>
              <a:t>Ima kontakte za sve- ako nema kreirat će ih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b3949"/>
                </a:solidFill>
                <a:latin typeface="Century Gothic"/>
                <a:ea typeface="Calibri"/>
              </a:rPr>
              <a:t>     </a:t>
            </a:r>
            <a:r>
              <a:rPr b="1" lang="hr-HR" sz="2000" spc="-1" strike="noStrike" u="sng">
                <a:solidFill>
                  <a:srgbClr val="2b3949"/>
                </a:solidFill>
                <a:uFillTx/>
                <a:latin typeface="Century Gothic"/>
                <a:ea typeface="Calibri"/>
              </a:rPr>
              <a:t>Potencijalni nedostaci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b3949"/>
                </a:solidFill>
                <a:latin typeface="Century Gothic"/>
                <a:ea typeface="Calibri"/>
              </a:rPr>
              <a:t>Nestrpljiv, pretjeran entuzijast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b3949"/>
                </a:solidFill>
                <a:latin typeface="Century Gothic"/>
                <a:ea typeface="Calibri"/>
              </a:rPr>
              <a:t>Nedostaje mu samodiscipline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b3949"/>
                </a:solidFill>
                <a:latin typeface="Century Gothic"/>
                <a:ea typeface="Calibri"/>
              </a:rPr>
              <a:t>Ako ga drugi ne potiču brzo se može dosađivati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b3949"/>
                </a:solidFill>
                <a:latin typeface="Century Gothic"/>
                <a:ea typeface="Calibri"/>
              </a:rPr>
              <a:t>Neučinkovit u operativnim  i rutinskim  poslovi ma 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Object 9"/>
          <p:cNvGraphicFramePr/>
          <p:nvPr/>
        </p:nvGraphicFramePr>
        <p:xfrm>
          <a:off x="7885080" y="115920"/>
          <a:ext cx="89532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115920"/>
                    <a:ext cx="8953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1"/>
          <p:cNvSpPr/>
          <p:nvPr/>
        </p:nvSpPr>
        <p:spPr>
          <a:xfrm>
            <a:off x="5435640" y="1125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98989"/>
                </a:solidFill>
                <a:latin typeface="Arial"/>
              </a:rPr>
              <a:t>(eng. Resource investig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9440" y="25992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GB" sz="4000" spc="-1" strike="noStrike">
                <a:solidFill>
                  <a:srgbClr val="0000ff"/>
                </a:solidFill>
                <a:latin typeface="Century Gothic"/>
              </a:rPr>
              <a:t>IS</a:t>
            </a:r>
            <a:r>
              <a:rPr b="0" lang="en-GB" sz="4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Istraživač mogućnosti govori 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7640" y="1484280"/>
            <a:ext cx="881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2b3949"/>
                </a:solidFill>
                <a:latin typeface="Century Gothic"/>
              </a:rPr>
              <a:t>Na tome se možemo obogatiti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2b3949"/>
                </a:solidFill>
                <a:latin typeface="Century Gothic"/>
              </a:rPr>
              <a:t>Ideje treba “krasti”uzdignuta čela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2b3949"/>
                </a:solidFill>
                <a:latin typeface="Century Gothic"/>
              </a:rPr>
              <a:t>Nema potrebe otkrivati toplu vodu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2b3949"/>
                </a:solidFill>
                <a:latin typeface="Century Gothic"/>
              </a:rPr>
              <a:t>Prilike proizlaze iz tuđih pogrešaka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2b3949"/>
                </a:solidFill>
                <a:latin typeface="Century Gothic"/>
              </a:rPr>
              <a:t>Jesi li siguran da to možemo iskoristiti?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2b3949"/>
                </a:solidFill>
                <a:latin typeface="Century Gothic"/>
              </a:rPr>
              <a:t>Kad ne znaš - pitaj!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2b3949"/>
                </a:solidFill>
                <a:latin typeface="Century Gothic"/>
              </a:rPr>
              <a:t>Vrijeme utrošeno na istraživanje je izuzetno korisno utrošeno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2b3949"/>
                </a:solidFill>
                <a:latin typeface="Century Gothic"/>
              </a:rPr>
              <a:t>	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51" name="Picture 5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895320" cy="8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6249960" cy="81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ff"/>
                </a:solidFill>
                <a:latin typeface="Century Gothic"/>
              </a:rPr>
              <a:t>KR</a:t>
            </a:r>
            <a:r>
              <a:rPr b="0" lang="hr-HR" sz="4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 KREATIVAC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2160" y="1412640"/>
            <a:ext cx="9051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Izvor kreativnosti u timu – originalan pogled na stvari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Zaokupljen je izazovom svega novog  - glava u oblacim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Nema vremena za protokole i procedure posl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Ne brinu ga praktične implikacije njegovih ideja i shem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Sam sebi može biti dovoljan – ponekad ‘težak’ suradnik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Entuzijast, za ideje koje mu dovoljno zaokupe maštu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Voli kad mu  laskaju i ne voli kritike na svoje idej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Sposoban se “raštrkati” oko mnogo ideja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od kojih će mnoge  biti odlično realizirane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ali mnoge neć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3006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Object 6"/>
          <p:cNvGraphicFramePr/>
          <p:nvPr/>
        </p:nvGraphicFramePr>
        <p:xfrm>
          <a:off x="7596360" y="189000"/>
          <a:ext cx="89532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189000"/>
                    <a:ext cx="89532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684036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ff"/>
                </a:solidFill>
                <a:latin typeface="Century Gothic"/>
              </a:rPr>
              <a:t>KR</a:t>
            </a:r>
            <a:r>
              <a:rPr b="0" lang="hr-HR" sz="4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 KREATIVAC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20480" y="1236600"/>
            <a:ext cx="813564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     </a:t>
            </a:r>
            <a:r>
              <a:rPr b="1" lang="en-US" sz="2400" spc="-1" strike="noStrike" u="sng">
                <a:solidFill>
                  <a:srgbClr val="262626"/>
                </a:solidFill>
                <a:uFillTx/>
                <a:latin typeface="Century Gothic"/>
                <a:ea typeface="Calibri"/>
              </a:rPr>
              <a:t>Vrline</a:t>
            </a:r>
            <a:r>
              <a:rPr b="1" lang="hr-HR" sz="2400" spc="-1" strike="noStrike" u="sng">
                <a:solidFill>
                  <a:srgbClr val="262626"/>
                </a:solidFill>
                <a:uFillTx/>
                <a:latin typeface="Century Gothic"/>
                <a:ea typeface="Calibri"/>
              </a:rPr>
              <a:t>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Inovativ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Autentičan, Inteligent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Intuitiv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Maštovit i inspirativ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Nemoguće ne postoji-Uvjerljiv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     </a:t>
            </a:r>
            <a:r>
              <a:rPr b="1" lang="hr-HR" sz="2400" spc="-1" strike="noStrike" u="sng">
                <a:solidFill>
                  <a:srgbClr val="262626"/>
                </a:solidFill>
                <a:uFillTx/>
                <a:latin typeface="Century Gothic"/>
                <a:ea typeface="Calibri"/>
              </a:rPr>
              <a:t>Potencijalni nedostaci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Ekscentrik  i neprilagodljiv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Individual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Kaotičan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Odustane ponekad kad nije po njegovo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Veći dio ideja se nikada ne realizir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‘</a:t>
            </a: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Zaljubljen’ u svoje idej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0" y="3006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6"/>
          <p:cNvGraphicFramePr/>
          <p:nvPr/>
        </p:nvGraphicFramePr>
        <p:xfrm>
          <a:off x="7596360" y="189000"/>
          <a:ext cx="89532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189000"/>
                    <a:ext cx="89532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Rectangle 1"/>
          <p:cNvSpPr/>
          <p:nvPr/>
        </p:nvSpPr>
        <p:spPr>
          <a:xfrm>
            <a:off x="7011360" y="1268280"/>
            <a:ext cx="1553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1" lang="hr-HR" sz="1800" spc="-1" strike="noStrike">
                <a:solidFill>
                  <a:srgbClr val="262626"/>
                </a:solidFill>
                <a:latin typeface="Century Gothic"/>
              </a:rPr>
              <a:t>(eng. Pl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f5897"/>
                </a:solidFill>
                <a:latin typeface="Century Gothic"/>
              </a:rPr>
              <a:t>Neurologičke razine – </a:t>
            </a:r>
            <a:r>
              <a:rPr b="0" i="1" lang="hr-HR" sz="3600" spc="-1" strike="noStrike">
                <a:solidFill>
                  <a:srgbClr val="2f5897"/>
                </a:solidFill>
                <a:latin typeface="Century Gothic"/>
              </a:rPr>
              <a:t>R.Dilts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Oval 3"/>
          <p:cNvSpPr/>
          <p:nvPr/>
        </p:nvSpPr>
        <p:spPr>
          <a:xfrm rot="20379000">
            <a:off x="1420920" y="1618920"/>
            <a:ext cx="1746000" cy="17384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"/>
          <p:cNvSpPr/>
          <p:nvPr/>
        </p:nvSpPr>
        <p:spPr>
          <a:xfrm rot="20379000">
            <a:off x="1296720" y="1630080"/>
            <a:ext cx="2422440" cy="231444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 rot="20379000">
            <a:off x="1014480" y="1595160"/>
            <a:ext cx="3305160" cy="3071880"/>
          </a:xfrm>
          <a:prstGeom prst="ellipse">
            <a:avLst/>
          </a:prstGeom>
          <a:noFill/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6"/>
          <p:cNvSpPr/>
          <p:nvPr/>
        </p:nvSpPr>
        <p:spPr>
          <a:xfrm rot="20379000">
            <a:off x="879480" y="1541520"/>
            <a:ext cx="4187880" cy="3957480"/>
          </a:xfrm>
          <a:prstGeom prst="ellipse">
            <a:avLst/>
          </a:prstGeom>
          <a:noFill/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9932000">
            <a:off x="1807920" y="24246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26"/>
                </a:solidFill>
                <a:latin typeface="Century Gothic"/>
              </a:rPr>
              <a:t>Vrijednosti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26"/>
                </a:solidFill>
                <a:latin typeface="Century Gothic"/>
              </a:rPr>
              <a:t>Uvjer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9"/>
          <p:cNvSpPr/>
          <p:nvPr/>
        </p:nvSpPr>
        <p:spPr>
          <a:xfrm rot="19932000">
            <a:off x="2082600" y="32302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26"/>
                </a:solidFill>
                <a:latin typeface="Century Gothic"/>
              </a:rPr>
              <a:t>Sposob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0"/>
          <p:cNvSpPr/>
          <p:nvPr/>
        </p:nvSpPr>
        <p:spPr>
          <a:xfrm rot="19932000">
            <a:off x="2700720" y="38178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26"/>
                </a:solidFill>
                <a:latin typeface="Century Gothic"/>
              </a:rPr>
              <a:t>Ponaš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"/>
          <p:cNvSpPr/>
          <p:nvPr/>
        </p:nvSpPr>
        <p:spPr>
          <a:xfrm rot="19932000">
            <a:off x="3268440" y="4530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26"/>
                </a:solidFill>
                <a:latin typeface="Century Gothic"/>
              </a:rPr>
              <a:t>Okol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"/>
          <p:cNvSpPr/>
          <p:nvPr/>
        </p:nvSpPr>
        <p:spPr>
          <a:xfrm rot="20379000">
            <a:off x="1472760" y="1622160"/>
            <a:ext cx="1254240" cy="9968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"/>
          <p:cNvSpPr/>
          <p:nvPr/>
        </p:nvSpPr>
        <p:spPr>
          <a:xfrm rot="19932000">
            <a:off x="1588680" y="19141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26"/>
                </a:solidFill>
                <a:latin typeface="Century Gothic"/>
              </a:rPr>
              <a:t>Identi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3"/>
          <p:cNvSpPr/>
          <p:nvPr/>
        </p:nvSpPr>
        <p:spPr>
          <a:xfrm>
            <a:off x="4611600" y="4692600"/>
            <a:ext cx="4281480" cy="46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4"/>
          <p:cNvSpPr/>
          <p:nvPr/>
        </p:nvSpPr>
        <p:spPr>
          <a:xfrm>
            <a:off x="3635280" y="3138480"/>
            <a:ext cx="5257800" cy="46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5"/>
          <p:cNvSpPr/>
          <p:nvPr/>
        </p:nvSpPr>
        <p:spPr>
          <a:xfrm>
            <a:off x="3132000" y="2494080"/>
            <a:ext cx="5761080" cy="2376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6"/>
          <p:cNvSpPr/>
          <p:nvPr/>
        </p:nvSpPr>
        <p:spPr>
          <a:xfrm>
            <a:off x="4059360" y="3863880"/>
            <a:ext cx="4833720" cy="478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7"/>
          <p:cNvSpPr/>
          <p:nvPr/>
        </p:nvSpPr>
        <p:spPr>
          <a:xfrm>
            <a:off x="2744640" y="1898640"/>
            <a:ext cx="5759640" cy="2376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2"/>
          <p:cNvSpPr/>
          <p:nvPr/>
        </p:nvSpPr>
        <p:spPr>
          <a:xfrm>
            <a:off x="4749840" y="1434960"/>
            <a:ext cx="23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entury Gothic"/>
              </a:rPr>
              <a:t>Misija i Viz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4898880" y="2001960"/>
            <a:ext cx="17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entury Gothic"/>
              </a:rPr>
              <a:t>Vrijed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5253480" y="266868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Vještine, Zn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5580360" y="344808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Učinak, Rez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1"/>
          <p:cNvSpPr/>
          <p:nvPr/>
        </p:nvSpPr>
        <p:spPr>
          <a:xfrm>
            <a:off x="5569200" y="4230720"/>
            <a:ext cx="36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Organizacija i okruže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662436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ff"/>
                </a:solidFill>
                <a:latin typeface="Century Gothic"/>
              </a:rPr>
              <a:t>KR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 Kreativac govori… 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Pazi ovo: Imam još jednu, bolju ideju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Ja imam rješenje, čak dva .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Ako postoji problem, postoji i rješenj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Što je problem veći i izazov je veći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Ne uznemiruj genija dok radi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Možda vam zvuči čudno ali slušajte me.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Sve je moguć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65" name="Picture 5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895320" cy="93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216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hr-HR" sz="4000" spc="-1" strike="noStrike">
                <a:solidFill>
                  <a:srgbClr val="0000ff"/>
                </a:solidFill>
                <a:latin typeface="Century Gothic"/>
              </a:rPr>
              <a:t>PR 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 PROMATRAČ-PROCJENITELJ</a:t>
            </a:r>
            <a:br>
              <a:rPr sz="4000"/>
            </a:b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84320" y="1628280"/>
            <a:ext cx="8851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Osoba visokog intelekta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Analitično procesira velike količine informacij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Objektivno procjenjuje različita pitanja i idej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Oprezan je i sustav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Perceptivno izoštren i jako kritičan kod propusta drugih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Uočiti (potencijalnu) grešku koju su svi drugi previdjeli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Često mu se zamjera da je previše kritičan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ali je njegova uloga neminovna za uspjeh tim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0" y="30448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6"/>
          <p:cNvGraphicFramePr/>
          <p:nvPr/>
        </p:nvGraphicFramePr>
        <p:xfrm>
          <a:off x="8101080" y="907920"/>
          <a:ext cx="78732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1080" y="907920"/>
                    <a:ext cx="78732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84320" y="68868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hr-HR" sz="4000" spc="-1" strike="noStrike">
                <a:solidFill>
                  <a:srgbClr val="0000ff"/>
                </a:solidFill>
                <a:latin typeface="Century Gothic"/>
              </a:rPr>
              <a:t>PR 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 PROMATRAČ-PROCJENITELJ</a:t>
            </a:r>
            <a:br>
              <a:rPr sz="4000"/>
            </a:b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83960" y="1196640"/>
            <a:ext cx="870876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7f7f7f"/>
                </a:solidFill>
                <a:latin typeface="Century Gothic"/>
                <a:ea typeface="Calibri"/>
              </a:rPr>
              <a:t>     </a:t>
            </a:r>
            <a:r>
              <a:rPr b="1" lang="en-GB" sz="2400" spc="-1" strike="noStrike">
                <a:solidFill>
                  <a:srgbClr val="7f7f7f"/>
                </a:solidFill>
                <a:latin typeface="Century Gothic"/>
                <a:ea typeface="Calibri"/>
              </a:rPr>
              <a:t>Vrline</a:t>
            </a:r>
            <a:r>
              <a:rPr b="1" lang="hr-HR" sz="2400" spc="-1" strike="noStrike">
                <a:solidFill>
                  <a:srgbClr val="7f7f7f"/>
                </a:solidFill>
                <a:latin typeface="Century Gothic"/>
                <a:ea typeface="Calibri"/>
              </a:rPr>
              <a:t>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entury Gothic"/>
                <a:ea typeface="Calibri"/>
              </a:rPr>
              <a:t>Analitičan i promišljen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entury Gothic"/>
                <a:ea typeface="Calibri"/>
              </a:rPr>
              <a:t>Nepristr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entury Gothic"/>
                <a:ea typeface="Calibri"/>
              </a:rPr>
              <a:t>Mudar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entury Gothic"/>
                <a:ea typeface="Calibri"/>
              </a:rPr>
              <a:t>Promatrač - procjenitelj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entury Gothic"/>
                <a:ea typeface="Calibri"/>
              </a:rPr>
              <a:t>Pažljiv i objektivan u pristupu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7f7f7f"/>
                </a:solidFill>
                <a:latin typeface="Century Gothic"/>
                <a:ea typeface="Calibri"/>
              </a:rPr>
              <a:t>     </a:t>
            </a:r>
            <a:r>
              <a:rPr b="1" lang="hr-HR" sz="2400" spc="-1" strike="noStrike">
                <a:solidFill>
                  <a:srgbClr val="7f7f7f"/>
                </a:solidFill>
                <a:latin typeface="Century Gothic"/>
                <a:ea typeface="Calibri"/>
              </a:rPr>
              <a:t>Potencijalni nedostaci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entury Gothic"/>
                <a:ea typeface="Calibri"/>
              </a:rPr>
              <a:t>Spor i nemaštovi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entury Gothic"/>
                <a:ea typeface="Calibri"/>
              </a:rPr>
              <a:t>‘</a:t>
            </a:r>
            <a:r>
              <a:rPr b="0" lang="hr-HR" sz="2400" spc="-1" strike="noStrike">
                <a:solidFill>
                  <a:srgbClr val="7f7f7f"/>
                </a:solidFill>
                <a:latin typeface="Century Gothic"/>
                <a:ea typeface="Calibri"/>
              </a:rPr>
              <a:t>Negativan’ kad je pre-kritičan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entury Gothic"/>
                <a:ea typeface="Calibri"/>
              </a:rPr>
              <a:t>Nedovoljno inspirira drug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entury Gothic"/>
                <a:ea typeface="Calibri"/>
              </a:rPr>
              <a:t>Pomanjkanje zanos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entury Gothic"/>
                <a:ea typeface="Calibri"/>
              </a:rPr>
              <a:t>Ne vidi toliko cilj koliko vidi sve moguće opasnosti na putu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7f7f7f"/>
                </a:solidFill>
                <a:latin typeface="Century Gothic"/>
                <a:ea typeface="Calibri"/>
              </a:rPr>
              <a:t>   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0" y="30448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Object 6"/>
          <p:cNvGraphicFramePr/>
          <p:nvPr/>
        </p:nvGraphicFramePr>
        <p:xfrm>
          <a:off x="8101080" y="692280"/>
          <a:ext cx="787320" cy="68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1080" y="692280"/>
                    <a:ext cx="78732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Rectangle 5"/>
          <p:cNvSpPr/>
          <p:nvPr/>
        </p:nvSpPr>
        <p:spPr>
          <a:xfrm>
            <a:off x="4870800" y="155736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98989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898989"/>
                </a:solidFill>
                <a:latin typeface="Arial"/>
              </a:rPr>
              <a:t>(eng. Monitor, Evalu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ff"/>
                </a:solidFill>
                <a:latin typeface="Century Gothic"/>
              </a:rPr>
              <a:t>PR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 Promatrač-Procjenitelj  govori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170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Razmislit ću o tome i javiti konačnu odluku sutr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Jesmo li stvarno iscrpili sve izvore informacija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Ukoliko nije logički održivo, nije vrijedno trud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Odvagnimo sve opcije i rizike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Bolje donijeti ispravnu odluku polako, nego pogrešnu brzo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79" name="Picture 5" descr=""/>
          <p:cNvPicPr/>
          <p:nvPr/>
        </p:nvPicPr>
        <p:blipFill>
          <a:blip r:embed="rId1"/>
          <a:stretch/>
        </p:blipFill>
        <p:spPr>
          <a:xfrm>
            <a:off x="8172360" y="1413000"/>
            <a:ext cx="787320" cy="68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entury Gothic"/>
              </a:rPr>
              <a:t>TR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 </a:t>
            </a:r>
            <a:r>
              <a:rPr b="0" lang="en-GB" sz="4000" spc="-1" strike="noStrike">
                <a:solidFill>
                  <a:srgbClr val="2f5897"/>
                </a:solidFill>
                <a:latin typeface="Century Gothic"/>
              </a:rPr>
              <a:t>TIMSKI RADNIK</a:t>
            </a:r>
            <a:br>
              <a:rPr sz="4000"/>
            </a:b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534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    </a:t>
            </a: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Potiče timski duh i često je vođa tim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Razveseljava ljude, razumije njihove vrline i man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Ima osjećaj za druge, stalo mu je do njih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Zna privatne teme i probleme i krize ostalih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Može djelovati neodlučno no nit je koja povezuje ti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Prepoznaje dobro različite sposobnosti drugi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‘</a:t>
            </a: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Čita dobro’ druge ljude no to drži za seb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Promovira visoki moral i jak osjećaj za  suradnju i zajedništvo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6"/>
          <p:cNvGraphicFramePr/>
          <p:nvPr/>
        </p:nvGraphicFramePr>
        <p:xfrm>
          <a:off x="7451640" y="115920"/>
          <a:ext cx="98604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115920"/>
                    <a:ext cx="98604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000" y="35352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entury Gothic"/>
              </a:rPr>
              <a:t>TR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 </a:t>
            </a:r>
            <a:r>
              <a:rPr b="0" lang="en-GB" sz="4000" spc="-1" strike="noStrike">
                <a:solidFill>
                  <a:srgbClr val="2f5897"/>
                </a:solidFill>
                <a:latin typeface="Century Gothic"/>
              </a:rPr>
              <a:t>TIMSKI RADNIK</a:t>
            </a:r>
            <a:br>
              <a:rPr sz="4000"/>
            </a:b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776304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     </a:t>
            </a:r>
            <a:r>
              <a:rPr b="1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Vrline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Entuzijast i  komunikativ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Spreman pomoći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Društven i druželjubiv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Otvoren i pouzd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Brižan, nježan, empatič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Diplomatičan, ima takta, sprječava nesuglasic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     </a:t>
            </a:r>
            <a:r>
              <a:rPr b="1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Potencijalni nedostaci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Nedovoljno ambicioz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Djeluje neodluč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Nema puno utjecaja i to ga i ne zanima previš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Neodlučan kad ga se provjerav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0" y="3006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Object 6"/>
          <p:cNvGraphicFramePr/>
          <p:nvPr/>
        </p:nvGraphicFramePr>
        <p:xfrm>
          <a:off x="7451640" y="115920"/>
          <a:ext cx="98604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115920"/>
                    <a:ext cx="98604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Rectangle 1"/>
          <p:cNvSpPr/>
          <p:nvPr/>
        </p:nvSpPr>
        <p:spPr>
          <a:xfrm>
            <a:off x="6201000" y="1413000"/>
            <a:ext cx="2591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2626"/>
                </a:solidFill>
                <a:latin typeface="Century Gothic"/>
              </a:rPr>
              <a:t>(eng. Teamwork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entury Gothic"/>
              </a:rPr>
              <a:t>TR</a:t>
            </a:r>
            <a:r>
              <a:rPr b="0" lang="hr-HR" sz="40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Timski radnik govori…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8567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Lijepa riječ ništa ne košta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Zanimljivo mi je vaše stajališt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Ako se i vi slažete, onda u redu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U svakom treba pronaći ono dobro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Ljudi bi manje pričali kad bi sebe čuli što govor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Uvijek možeš osjetiti dobru atmosferu na poslu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Trudim se biti svestran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2800" spc="-1" strike="noStrike">
                <a:solidFill>
                  <a:srgbClr val="262626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93" name="Picture 5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98568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84320" y="188640"/>
            <a:ext cx="80452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ff"/>
                </a:solidFill>
                <a:latin typeface="Century Gothic"/>
              </a:rPr>
              <a:t>IM</a:t>
            </a:r>
            <a:r>
              <a:rPr b="0" lang="hr-HR" sz="32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hr-HR" sz="3200" spc="-1" strike="noStrike">
                <a:solidFill>
                  <a:srgbClr val="2f5897"/>
                </a:solidFill>
                <a:latin typeface="Century Gothic"/>
              </a:rPr>
              <a:t> IMPLEMENTATOR- IZVRŠITELJ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7760" y="1267920"/>
            <a:ext cx="905184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Predviđa kako će ideje tima zaista funkcionirati u praksi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Poistovjećuje se s organizacijom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Vješt je u predviđanju s kojim se problemima treba suočiti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Potrebno ga je uvjeravati za nove idej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Opipljivi rezultati  su mu mjerilo efektivnosti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Konzervativan je i voli kreirati pravila/procedur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Manje je efikasan kad mu vizija i ciljevi nisu jasni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Organiziran, radišan i discipliniran, ali ne i jako fleksibil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30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Object 6"/>
          <p:cNvGraphicFramePr/>
          <p:nvPr/>
        </p:nvGraphicFramePr>
        <p:xfrm>
          <a:off x="8028000" y="189000"/>
          <a:ext cx="90000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189000"/>
                    <a:ext cx="9000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ff"/>
                </a:solidFill>
                <a:latin typeface="Century Gothic"/>
              </a:rPr>
              <a:t>IM</a:t>
            </a:r>
            <a:r>
              <a:rPr b="0" lang="hr-HR" sz="4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 IMPLEMENTATOR- IZVRŠITELJ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137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     </a:t>
            </a:r>
            <a:r>
              <a:rPr b="1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Vrline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Discipliniran i marljiv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Miran u svakoj situaciji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Praktičan, čvrst i sigur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Organiziran, radišan i strukturiran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Temeljit u rješavanju problem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     </a:t>
            </a:r>
            <a:r>
              <a:rPr b="1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Potencijalni nedostaci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Nefleksibilan i nepopustljiv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Nedovoljno maštovi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Nepokolebljiv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Previše pedant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   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0" y="30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Object 6"/>
          <p:cNvGraphicFramePr/>
          <p:nvPr/>
        </p:nvGraphicFramePr>
        <p:xfrm>
          <a:off x="8028000" y="189000"/>
          <a:ext cx="90000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189000"/>
                    <a:ext cx="9000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Rectangle 1"/>
          <p:cNvSpPr/>
          <p:nvPr/>
        </p:nvSpPr>
        <p:spPr>
          <a:xfrm>
            <a:off x="5414400" y="119700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Century Gothic"/>
              </a:rPr>
              <a:t>	</a:t>
            </a:r>
            <a:r>
              <a:rPr b="1" lang="hr-HR" sz="2000" spc="-1" strike="noStrike">
                <a:solidFill>
                  <a:srgbClr val="898989"/>
                </a:solidFill>
                <a:latin typeface="Century Gothic"/>
              </a:rPr>
              <a:t> </a:t>
            </a:r>
            <a:r>
              <a:rPr b="1" lang="hr-HR" sz="2000" spc="-1" strike="noStrike">
                <a:solidFill>
                  <a:srgbClr val="898989"/>
                </a:solidFill>
                <a:latin typeface="Century Gothic"/>
              </a:rPr>
              <a:t>(eng. Implem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78508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00"/>
                </a:solidFill>
                <a:latin typeface="Century Gothic"/>
              </a:rPr>
              <a:t>        </a:t>
            </a:r>
            <a:r>
              <a:rPr b="0" lang="hr-HR" sz="4000" spc="-1" strike="noStrike">
                <a:solidFill>
                  <a:srgbClr val="0000ff"/>
                </a:solidFill>
                <a:latin typeface="Century Gothic"/>
              </a:rPr>
              <a:t>IM</a:t>
            </a:r>
            <a:r>
              <a:rPr b="0" lang="hr-HR" sz="4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Implementator govori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62626"/>
                </a:solidFill>
                <a:latin typeface="Century Gothic"/>
              </a:rPr>
              <a:t>Ukoliko je moguće mi ćemo to napraviti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62626"/>
                </a:solidFill>
                <a:latin typeface="Century Gothic"/>
              </a:rPr>
              <a:t>Djela a ne riječi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62626"/>
                </a:solidFill>
                <a:latin typeface="Century Gothic"/>
              </a:rPr>
              <a:t>Gram akcije (aktivnosti) vrjedniji je od kila teorije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62626"/>
                </a:solidFill>
                <a:latin typeface="Century Gothic"/>
              </a:rPr>
              <a:t>Teški rad nikad nikog nije ubio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62626"/>
                </a:solidFill>
                <a:latin typeface="Century Gothic"/>
              </a:rPr>
              <a:t>Ukoliko je zahtjevno napravit ćemo odmah, a ako je nemoguće trebat će nam malo vremena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62626"/>
                </a:solidFill>
                <a:latin typeface="Century Gothic"/>
              </a:rPr>
              <a:t>Griješiti jeste ljudski no opraštati nije politika org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62626"/>
                </a:solidFill>
                <a:latin typeface="Century Gothic"/>
              </a:rPr>
              <a:t>Ne ostavljaj za sutra ono što možeš napraviti danas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hr-HR" sz="2600" spc="-1" strike="noStrike">
                <a:solidFill>
                  <a:srgbClr val="262626"/>
                </a:solidFill>
                <a:latin typeface="Century Gothic"/>
              </a:rPr>
              <a:t>	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900000" cy="8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f5897"/>
                </a:solidFill>
                <a:latin typeface="Century Gothic"/>
              </a:rPr>
              <a:t>Misli - naša stvarnost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9" name="Oval 3"/>
          <p:cNvSpPr/>
          <p:nvPr/>
        </p:nvSpPr>
        <p:spPr>
          <a:xfrm rot="20379000">
            <a:off x="1420920" y="1618920"/>
            <a:ext cx="1746000" cy="17384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4"/>
          <p:cNvSpPr/>
          <p:nvPr/>
        </p:nvSpPr>
        <p:spPr>
          <a:xfrm rot="20379000">
            <a:off x="1296720" y="1630080"/>
            <a:ext cx="2422440" cy="231444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5"/>
          <p:cNvSpPr/>
          <p:nvPr/>
        </p:nvSpPr>
        <p:spPr>
          <a:xfrm rot="20379000">
            <a:off x="1014480" y="1595160"/>
            <a:ext cx="3305160" cy="3071880"/>
          </a:xfrm>
          <a:prstGeom prst="ellipse">
            <a:avLst/>
          </a:prstGeom>
          <a:noFill/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6"/>
          <p:cNvSpPr/>
          <p:nvPr/>
        </p:nvSpPr>
        <p:spPr>
          <a:xfrm rot="20379000">
            <a:off x="879480" y="1541520"/>
            <a:ext cx="4187880" cy="3957480"/>
          </a:xfrm>
          <a:prstGeom prst="ellipse">
            <a:avLst/>
          </a:prstGeom>
          <a:noFill/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8"/>
          <p:cNvSpPr/>
          <p:nvPr/>
        </p:nvSpPr>
        <p:spPr>
          <a:xfrm rot="19932000">
            <a:off x="1807920" y="24246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26"/>
                </a:solidFill>
                <a:latin typeface="Century Gothic"/>
              </a:rPr>
              <a:t>Vrijednosti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26"/>
                </a:solidFill>
                <a:latin typeface="Century Gothic"/>
              </a:rPr>
              <a:t>Uvjer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"/>
          <p:cNvSpPr/>
          <p:nvPr/>
        </p:nvSpPr>
        <p:spPr>
          <a:xfrm rot="19932000">
            <a:off x="2082600" y="32302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26"/>
                </a:solidFill>
                <a:latin typeface="Century Gothic"/>
              </a:rPr>
              <a:t>Sposob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0"/>
          <p:cNvSpPr/>
          <p:nvPr/>
        </p:nvSpPr>
        <p:spPr>
          <a:xfrm rot="19932000">
            <a:off x="2700720" y="38178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26"/>
                </a:solidFill>
                <a:latin typeface="Century Gothic"/>
              </a:rPr>
              <a:t>Ponaš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1"/>
          <p:cNvSpPr/>
          <p:nvPr/>
        </p:nvSpPr>
        <p:spPr>
          <a:xfrm rot="19932000">
            <a:off x="3268440" y="4530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26"/>
                </a:solidFill>
                <a:latin typeface="Century Gothic"/>
              </a:rPr>
              <a:t>Okol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"/>
          <p:cNvSpPr/>
          <p:nvPr/>
        </p:nvSpPr>
        <p:spPr>
          <a:xfrm rot="20379000">
            <a:off x="1472760" y="1622160"/>
            <a:ext cx="1254240" cy="9968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"/>
          <p:cNvSpPr/>
          <p:nvPr/>
        </p:nvSpPr>
        <p:spPr>
          <a:xfrm rot="19932000">
            <a:off x="1588680" y="19141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26"/>
                </a:solidFill>
                <a:latin typeface="Century Gothic"/>
              </a:rPr>
              <a:t>Identi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4"/>
          <p:cNvSpPr/>
          <p:nvPr/>
        </p:nvSpPr>
        <p:spPr>
          <a:xfrm>
            <a:off x="3635280" y="3138480"/>
            <a:ext cx="5257800" cy="46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5"/>
          <p:cNvSpPr/>
          <p:nvPr/>
        </p:nvSpPr>
        <p:spPr>
          <a:xfrm>
            <a:off x="3132000" y="2494080"/>
            <a:ext cx="5761080" cy="2376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6"/>
          <p:cNvSpPr/>
          <p:nvPr/>
        </p:nvSpPr>
        <p:spPr>
          <a:xfrm>
            <a:off x="4059360" y="3863880"/>
            <a:ext cx="4833720" cy="478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7"/>
          <p:cNvSpPr/>
          <p:nvPr/>
        </p:nvSpPr>
        <p:spPr>
          <a:xfrm>
            <a:off x="2744640" y="1898640"/>
            <a:ext cx="5759640" cy="2376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22"/>
          <p:cNvSpPr/>
          <p:nvPr/>
        </p:nvSpPr>
        <p:spPr>
          <a:xfrm>
            <a:off x="4611600" y="4692600"/>
            <a:ext cx="4281480" cy="46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23"/>
          <p:cNvSpPr/>
          <p:nvPr/>
        </p:nvSpPr>
        <p:spPr>
          <a:xfrm>
            <a:off x="4059360" y="3863880"/>
            <a:ext cx="4833720" cy="478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8"/>
          <p:cNvSpPr/>
          <p:nvPr/>
        </p:nvSpPr>
        <p:spPr>
          <a:xfrm>
            <a:off x="5148360" y="137016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‘</a:t>
            </a: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Ja sam odgovorna osob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4952880" y="210024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‘</a:t>
            </a: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Točnost = Odgovornos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5018040" y="274644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U stanju sam raditi i po 16 s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1"/>
          <p:cNvSpPr/>
          <p:nvPr/>
        </p:nvSpPr>
        <p:spPr>
          <a:xfrm>
            <a:off x="5148360" y="348768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  </a:t>
            </a: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U liftu uvijek prvi pozdrav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2"/>
          <p:cNvSpPr/>
          <p:nvPr/>
        </p:nvSpPr>
        <p:spPr>
          <a:xfrm>
            <a:off x="4878360" y="4303800"/>
            <a:ext cx="40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‘</a:t>
            </a: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Po osmijehu me prepoznaju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1814040" y="6093000"/>
            <a:ext cx="640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entury Gothic"/>
              </a:rPr>
              <a:t>Misli vremenom postaju naša stvarnost i naša ist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ff"/>
                </a:solidFill>
                <a:latin typeface="Century Gothic"/>
              </a:rPr>
              <a:t>FI</a:t>
            </a:r>
            <a:r>
              <a:rPr b="0" lang="hr-HR" sz="4000" spc="-1" strike="noStrike">
                <a:solidFill>
                  <a:srgbClr val="ffff00"/>
                </a:solidFill>
                <a:latin typeface="Century Gothic"/>
              </a:rPr>
              <a:t>   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FINIŠER </a:t>
            </a:r>
            <a:br>
              <a:rPr sz="4000"/>
            </a:b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4320" y="1221840"/>
            <a:ext cx="85644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Puno brine oko detalj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Izvršava zadatke dobro i na vrijem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Voli i traži od drugih visoke standard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Suviše se bavi  sitnicama što utječe na moral tim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Finišer će se uhvatiti u koštac s problemima i neće odustati dok ne zadovolji svoje visoke standard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Velika sposobnost za izvođenje stvari do kraja u kombinaciji s gorućom željom  za perfekcionizmom, uzrokuje puno nemir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30290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Object 6"/>
          <p:cNvGraphicFramePr/>
          <p:nvPr/>
        </p:nvGraphicFramePr>
        <p:xfrm>
          <a:off x="7451640" y="260280"/>
          <a:ext cx="99072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260280"/>
                    <a:ext cx="99072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ff"/>
                </a:solidFill>
                <a:latin typeface="Century Gothic"/>
              </a:rPr>
              <a:t>FI</a:t>
            </a:r>
            <a:r>
              <a:rPr b="0" lang="hr-HR" sz="4000" spc="-1" strike="noStrike">
                <a:solidFill>
                  <a:srgbClr val="ffff00"/>
                </a:solidFill>
                <a:latin typeface="Century Gothic"/>
              </a:rPr>
              <a:t>   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FINIŠER </a:t>
            </a:r>
            <a:br>
              <a:rPr sz="4000"/>
            </a:b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1240" y="1282320"/>
            <a:ext cx="89438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    </a:t>
            </a:r>
            <a:r>
              <a:rPr b="1" lang="hr-HR" sz="2400" spc="-1" strike="noStrike" u="sng">
                <a:solidFill>
                  <a:srgbClr val="262626"/>
                </a:solidFill>
                <a:uFillTx/>
                <a:latin typeface="Century Gothic"/>
                <a:ea typeface="Calibri"/>
              </a:rPr>
              <a:t>Vrline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Jako točan i preciz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Discipliniran i odluč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Brižan, uredan i pedant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Sustavan i savjest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Čvrst i sigur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     </a:t>
            </a:r>
            <a:r>
              <a:rPr b="1" lang="hr-HR" sz="2400" spc="-1" strike="noStrike" u="sng">
                <a:solidFill>
                  <a:srgbClr val="262626"/>
                </a:solidFill>
                <a:uFillTx/>
                <a:latin typeface="Century Gothic"/>
                <a:ea typeface="Calibri"/>
              </a:rPr>
              <a:t>Potencijalni nedostaci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Previše brine – o detaljima koje drugi ne vid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Pedantnost po svaku cijenu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Hladno djeluje kad je zamišljen/zaposlen u svom svijetu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Nerado delegira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   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26"/>
                </a:solidFill>
                <a:latin typeface="Century Gothic"/>
                <a:ea typeface="Calibri"/>
              </a:rPr>
              <a:t>   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0" y="30290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Object 6"/>
          <p:cNvGraphicFramePr/>
          <p:nvPr/>
        </p:nvGraphicFramePr>
        <p:xfrm>
          <a:off x="7451640" y="260280"/>
          <a:ext cx="99072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260280"/>
                    <a:ext cx="99072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1"/>
          <p:cNvSpPr/>
          <p:nvPr/>
        </p:nvSpPr>
        <p:spPr>
          <a:xfrm>
            <a:off x="5587920" y="134136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98989"/>
                </a:solidFill>
                <a:latin typeface="Arial"/>
              </a:rPr>
              <a:t>(eng. Completer, finis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ff"/>
                </a:solidFill>
                <a:latin typeface="Century Gothic"/>
              </a:rPr>
              <a:t>FI</a:t>
            </a:r>
            <a:r>
              <a:rPr b="0" lang="hr-HR" sz="4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Finišer govori….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95280" y="170028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Moramo obratiti pažnju na sve detalj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Nisi napravio/la sve kako je trebalo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Najbolje da sam to dovršim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Ne idemo dok ne završimo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Vidim da nisi uzeo u obzir moj prijedlog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1" lang="hr-HR" sz="24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Vama se čine sitnice ali upravo one presuđuju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7885080" y="404640"/>
            <a:ext cx="99072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07960"/>
                <a:gridCol w="1901880"/>
                <a:gridCol w="1982880"/>
                <a:gridCol w="1908360"/>
                <a:gridCol w="1942920"/>
              </a:tblGrid>
              <a:tr h="37476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alna ulo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it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ab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našanje koje treba izbjegav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POKRETA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bae1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ikuje aktivnost tima; odupire se inerciji; zaobilazi birokraciju; daje osjećaj užurba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namičan; izaziva; otvoren, pokretač drugih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lonost netaktičnom ponašanju; nestrpljiv; lako se ljuti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ršenje pritisaka na ljude; preuzimanje prevelikih ovlasti; nadmetanje s originalnim misliocem i procjenjivačem; zaletavanje u «glasanju» o odlukam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ISTRAŽIVAČ MOGUĆ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bae1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di posebna znanja; doprinosi tehničkom stručnošć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mjeren na jedan cilj; usamljenik; predan; inicijativa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graničeno polje intere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pokazivanje interesa za druge i njihove idej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KOORDIN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bae1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ira aktivnosti tima;koristi sposobnosti i talente članova tima; provjerava dužnosti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bro komunicira; uživa povjerenje; smiruje; samopouzdan; sabran; pažljiv sluša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že manipulirati ljudima; nije posebno kreativa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dmetanje s drugima; nepriznavanje njihovih sposobnosti; napuštanje uloge vođe u susretu sa otporom ili apatijo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KREATIV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bae1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vodi nove načine rada; nove ideje; smišlja prečice za rješavanje problem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eativan; introvert; reagira na pohvale i kritike; može raditi sam; nekonvencionalan; maštovit; ozbilja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že zanemariti praktične stvari; glava u oblacima; može biti pomalo „težak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laganje energije u vlastiti interes umjesto u ciljeve tima; durenje ili povlačenje u sebe; pravljenje tabora ili nadmetanje s drugim originalnim mislioce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PROMATRA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PROCJENITEL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9494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zira ideje; vrednuje prijedloge; nadgleda ciljev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dravo rasuđivanje; oprezan; neemotivan, vješ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ro reagira, nedostaje mu nadahnuće; rijetko inspirira tj. pokreće drug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aktičnost u kritiziranju tuđih ideja; nadmetanje s koordinatorom ili originalnim misliocem; stalne negativne primjedb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TIMSKI RADN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9494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aže pojedincima; potiče dobru suradnju; dragocjen u slučaju kriz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plomata; društven; fleksibilan; izglađuje sukobe; dobro opaža; susretljiv; ima razumijevanj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odlučan - posebno u kri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žanje strane jednom članu tima; izbjegavanje donošenja odluka; nadmetanje za položaj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8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IMPLEMENT 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IZVRŠITEL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9494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osi planove u praksu; sistematski prilazi stvarima; vidi praktič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odiscipliniran; marljiv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dostatak fleksibilnosti; ne voli neprovjerene ideje; može se prilagoditi samo ako mu se objasni «zašto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rba za status zbog vjernosti ideji ili organizaciji; nekonstruktivno kritiziranje tuđih sugestija; nepopustljiv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INIŠ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9494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zi da se ništa ne propusti; brine se o procesu rada; pazi na detalj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di računa o detaljim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rado povjerava dužnosti; brine; vide ga kao cjepidlak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varenje morala tima pretjeranim kritiziranjem ili brigom; inzistiranje na detaljima na štetu «cjeline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70c0"/>
                </a:solidFill>
                <a:latin typeface="Calibri"/>
              </a:rPr>
              <a:t>Timski rad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524" name="Picture 4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097160" cy="50482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10"/>
          <p:cNvSpPr/>
          <p:nvPr/>
        </p:nvSpPr>
        <p:spPr>
          <a:xfrm>
            <a:off x="324000" y="335772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70c0"/>
                </a:solidFill>
                <a:latin typeface="Calibri"/>
              </a:rPr>
              <a:t>Zdrava tenzija surad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entury Gothic"/>
              </a:rPr>
              <a:t>BITNO u porukama timu</a:t>
            </a:r>
            <a:br>
              <a:rPr sz="3200"/>
            </a:b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ITM* (WIIFM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Jasnoća i razumijevanj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Emocije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Energija- živost- autentičnost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Vjerodostojnost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Jednostavnost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Humor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8" name="TextBox 3"/>
          <p:cNvSpPr/>
          <p:nvPr/>
        </p:nvSpPr>
        <p:spPr>
          <a:xfrm>
            <a:off x="5292720" y="612612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26"/>
                </a:solidFill>
                <a:latin typeface="Century Gothic"/>
              </a:rPr>
              <a:t>ITM: Ima li tu m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2626"/>
                </a:solidFill>
                <a:latin typeface="Century Gothic"/>
              </a:rPr>
              <a:t>WIIFM: What is in it fo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"/>
          <p:cNvSpPr/>
          <p:nvPr/>
        </p:nvSpPr>
        <p:spPr>
          <a:xfrm>
            <a:off x="468360" y="260280"/>
            <a:ext cx="8424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entury Gothic"/>
              </a:rPr>
              <a:t>Velike vođe vide bitne/velike pojave u daljini dok su još male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i="1" lang="hr-HR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i="1" lang="hr-HR" sz="3600" spc="-1" strike="noStrike">
                <a:solidFill>
                  <a:srgbClr val="000000"/>
                </a:solidFill>
                <a:latin typeface="Century Gothic"/>
              </a:rPr>
              <a:t>(‘Umijeće ratovanja’ Sun tz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ontent Placeholder 2"/>
          <p:cNvSpPr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Crni labud - N. Tal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22160" y="1371240"/>
            <a:ext cx="777240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2f5897"/>
                </a:solidFill>
                <a:latin typeface="Palatino Linotype"/>
              </a:rPr>
              <a:t>Vodstvo u 3 slike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f5897"/>
                </a:solidFill>
                <a:latin typeface="Century Gothic"/>
              </a:rPr>
              <a:t>1. Voditelj dirigent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1695600" cy="270504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1"/>
          <p:cNvSpPr/>
          <p:nvPr/>
        </p:nvSpPr>
        <p:spPr>
          <a:xfrm>
            <a:off x="171360" y="5661000"/>
            <a:ext cx="862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http://www.ted.com/talks/itay_talgam_lead_like_the_great_conductors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entury Gothic"/>
              </a:rPr>
              <a:t>Napomena: u donjem desnom kutu pod ‘Subtitles’ imate opcije za Hrvatski prijevo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2"/>
          <p:cNvSpPr/>
          <p:nvPr/>
        </p:nvSpPr>
        <p:spPr>
          <a:xfrm>
            <a:off x="5580000" y="3860640"/>
            <a:ext cx="300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www.ted.co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tay Talgam ili lead like great cond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f5897"/>
                </a:solidFill>
                <a:latin typeface="Century Gothic"/>
              </a:rPr>
              <a:t>Razlike vodstva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44240" y="4653000"/>
            <a:ext cx="837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5897"/>
                </a:solidFill>
                <a:latin typeface="Century Gothic"/>
              </a:rPr>
              <a:t>Inspirativan  i poticajan prikaz vođenja tima koji dotiče nekoliko tema: partnerstva u izvedbi, kontrole, vođenja, cjeline i pojedinca, proces/sadržaj, razvoj suradnika i kako dobiti ono najbolje od njih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38" name="Picture 2" descr="http://www.leonardbernstein.com/img/conductor1.jpg"/>
          <p:cNvPicPr/>
          <p:nvPr/>
        </p:nvPicPr>
        <p:blipFill>
          <a:blip r:embed="rId1"/>
          <a:stretch/>
        </p:blipFill>
        <p:spPr>
          <a:xfrm>
            <a:off x="5470560" y="830160"/>
            <a:ext cx="3043080" cy="3700440"/>
          </a:xfrm>
          <a:prstGeom prst="rect">
            <a:avLst/>
          </a:prstGeom>
          <a:ln w="0">
            <a:noFill/>
          </a:ln>
        </p:spPr>
      </p:pic>
      <p:sp>
        <p:nvSpPr>
          <p:cNvPr id="539" name="TextBox 3"/>
          <p:cNvSpPr/>
          <p:nvPr/>
        </p:nvSpPr>
        <p:spPr>
          <a:xfrm>
            <a:off x="6557760" y="454824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Leonard Ber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4" descr="https://encrypted-tbn3.gstatic.com/images?q=tbn:ANd9GcS40MNMAP8-XH68roeSC8-4ymHLRPhPCjMK0N7Yd63RputgpIPK"/>
          <p:cNvPicPr/>
          <p:nvPr/>
        </p:nvPicPr>
        <p:blipFill>
          <a:blip r:embed="rId2"/>
          <a:stretch/>
        </p:blipFill>
        <p:spPr>
          <a:xfrm>
            <a:off x="444600" y="2109960"/>
            <a:ext cx="361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5897"/>
                </a:solidFill>
                <a:latin typeface="Century Gothic"/>
              </a:rPr>
              <a:t>Ravnatelj je kao glumac</a:t>
            </a:r>
            <a:br>
              <a:rPr sz="4000"/>
            </a:b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32000" y="28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entury Gothic"/>
              </a:rPr>
              <a:t>..ali koji trenutnoj predstavi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4005360"/>
            <a:ext cx="8785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62626"/>
                </a:solidFill>
                <a:latin typeface="Century Gothic"/>
              </a:rPr>
              <a:t>Ima više uloga istovreme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25056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Radost voditelja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Drugačiji vid ‘kontrole’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Poticaj i pozitivna provokacija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Poticati aktiviranja potencijala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2626"/>
                </a:solidFill>
                <a:latin typeface="Century Gothic"/>
              </a:rPr>
              <a:t>Radost sviju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2" name="Title 1"/>
          <p:cNvSpPr/>
          <p:nvPr/>
        </p:nvSpPr>
        <p:spPr>
          <a:xfrm>
            <a:off x="468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f5897"/>
                </a:solidFill>
                <a:latin typeface="Century Gothic"/>
              </a:rPr>
              <a:t>Što nas uče vrhunski dirigent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0720" y="138240"/>
            <a:ext cx="8229600" cy="119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2f5897"/>
                </a:solidFill>
                <a:latin typeface="Century Gothic"/>
              </a:rPr>
              <a:t>2. Voditelj tango plesa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Uvođenje i vođenje promjena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Promjena i vođenje iz središta - u grudima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Pravi trenutak promjene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Senzibilitet za položaj partneric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45" name="02 Cristal.mp3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 rot="20337600">
            <a:off x="5866920" y="5011200"/>
            <a:ext cx="28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  <a:ea typeface="MS PGothic"/>
              </a:rPr>
              <a:t>Ritam surad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327395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hr-HR" sz="4000" spc="-1" strike="noStrike">
                <a:solidFill>
                  <a:srgbClr val="262626"/>
                </a:solidFill>
                <a:latin typeface="Century Gothic"/>
              </a:rPr>
              <a:t>Vođenje je </a:t>
            </a: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obostrana</a:t>
            </a:r>
            <a:r>
              <a:rPr b="0" lang="hr-HR" sz="4000" spc="-1" strike="noStrike">
                <a:solidFill>
                  <a:srgbClr val="262626"/>
                </a:solidFill>
                <a:latin typeface="Century Gothic"/>
              </a:rPr>
              <a:t> predanost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49" name="Picture 6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4524480" cy="439920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1"/>
          <p:cNvSpPr/>
          <p:nvPr/>
        </p:nvSpPr>
        <p:spPr>
          <a:xfrm>
            <a:off x="108000" y="5985000"/>
            <a:ext cx="871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entury Gothic"/>
              </a:rPr>
              <a:t>Kada on izvrsno vodi tada vidimo njenu ljepotu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345440" cy="5508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gladiator movie HD Wallpaper"/>
          <p:cNvPicPr/>
          <p:nvPr/>
        </p:nvPicPr>
        <p:blipFill>
          <a:blip r:embed="rId2"/>
          <a:stretch/>
        </p:blipFill>
        <p:spPr>
          <a:xfrm>
            <a:off x="7631280" y="189000"/>
            <a:ext cx="1218960" cy="10080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6" descr="movies gladiator movie russel crowe HD Wallpaper"/>
          <p:cNvPicPr/>
          <p:nvPr/>
        </p:nvPicPr>
        <p:blipFill>
          <a:blip r:embed="rId3"/>
          <a:stretch/>
        </p:blipFill>
        <p:spPr>
          <a:xfrm>
            <a:off x="3059280" y="3860640"/>
            <a:ext cx="3200400" cy="2667240"/>
          </a:xfrm>
          <a:prstGeom prst="rect">
            <a:avLst/>
          </a:prstGeom>
          <a:ln w="0">
            <a:noFill/>
          </a:ln>
        </p:spPr>
      </p:pic>
      <p:sp>
        <p:nvSpPr>
          <p:cNvPr id="554" name="Title 1"/>
          <p:cNvSpPr/>
          <p:nvPr/>
        </p:nvSpPr>
        <p:spPr>
          <a:xfrm>
            <a:off x="468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f5897"/>
                </a:solidFill>
                <a:latin typeface="Century Gothic"/>
              </a:rPr>
              <a:t>3. Voditelj strateg i bora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22160" y="242100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2f5897"/>
                </a:solidFill>
                <a:latin typeface="Century Gothic"/>
              </a:rPr>
              <a:t>Voditelj</a:t>
            </a:r>
            <a:r>
              <a:rPr b="0" lang="hr-HR" sz="4800" spc="-1" strike="noStrike">
                <a:solidFill>
                  <a:srgbClr val="2f5897"/>
                </a:solidFill>
                <a:latin typeface="Palatino Linotype"/>
              </a:rPr>
              <a:t> i Tim = Jedno 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22160" y="44366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26"/>
                </a:solidFill>
                <a:latin typeface="Century Gothic"/>
              </a:rPr>
              <a:t>Sve manje od toga je nepotpuno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https://encrypted-tbn1.gstatic.com/images?q=tbn:ANd9GcT8TZe32bSsJ1lIzgJ47cHO9_p1f5mGGiGKoI9CMveN4rhjdXkuiQ"/>
          <p:cNvPicPr/>
          <p:nvPr/>
        </p:nvPicPr>
        <p:blipFill>
          <a:blip r:embed="rId1"/>
          <a:stretch/>
        </p:blipFill>
        <p:spPr>
          <a:xfrm>
            <a:off x="2266920" y="2035080"/>
            <a:ext cx="4714920" cy="3495600"/>
          </a:xfrm>
          <a:prstGeom prst="rect">
            <a:avLst/>
          </a:prstGeom>
          <a:ln w="0">
            <a:noFill/>
          </a:ln>
        </p:spPr>
      </p:pic>
      <p:sp>
        <p:nvSpPr>
          <p:cNvPr id="558" name="Title 1"/>
          <p:cNvSpPr/>
          <p:nvPr/>
        </p:nvSpPr>
        <p:spPr>
          <a:xfrm>
            <a:off x="738360" y="549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2f5897"/>
                </a:solidFill>
                <a:latin typeface="Century Gothic"/>
              </a:rPr>
              <a:t>Budite Vi Pro+Mjena prije promjena  </a:t>
            </a:r>
            <a:r>
              <a:rPr b="0" lang="hr-HR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itle 1"/>
          <p:cNvSpPr/>
          <p:nvPr/>
        </p:nvSpPr>
        <p:spPr>
          <a:xfrm>
            <a:off x="892080" y="551664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5897"/>
                </a:solidFill>
                <a:latin typeface="Century Gothic"/>
              </a:rPr>
              <a:t>Mala promjena kursa znači puno na dugom putu</a:t>
            </a:r>
            <a:r>
              <a:rPr b="0" lang="hr-HR" sz="2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2372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262626"/>
                </a:solidFill>
                <a:latin typeface="Century Gothic"/>
              </a:rPr>
              <a:t>Hvala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262626"/>
                </a:solidFill>
                <a:latin typeface="Century Gothic"/>
              </a:rPr>
              <a:t>Dragan Knežević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2f5897"/>
                </a:solidFill>
                <a:latin typeface="Century Gothic"/>
              </a:rPr>
              <a:t>www.alter-ars.com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2f5897"/>
                </a:solidFill>
                <a:latin typeface="Century Gothic"/>
              </a:rPr>
              <a:t>dragan@alter-ars.com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2f5897"/>
                </a:solidFill>
                <a:latin typeface="Century Gothic"/>
              </a:rPr>
              <a:t>098 358 588 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2" name="Footer Placeholder 1"/>
          <p:cNvSpPr/>
          <p:nvPr/>
        </p:nvSpPr>
        <p:spPr>
          <a:xfrm>
            <a:off x="3311640" y="62373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Arial"/>
              </a:rPr>
              <a:t>Alter 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" descr=""/>
          <p:cNvPicPr/>
          <p:nvPr/>
        </p:nvPicPr>
        <p:blipFill>
          <a:blip r:embed="rId1"/>
          <a:stretch/>
        </p:blipFill>
        <p:spPr>
          <a:xfrm>
            <a:off x="8317080" y="195120"/>
            <a:ext cx="67464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2f5897"/>
                </a:solidFill>
                <a:latin typeface="Palatino Linotype"/>
              </a:rPr>
              <a:t>Dodatak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D:\Alter Ars\L ship\Prezentacije BB\01 Uvod u trening - manager vođa PRINT\Slid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5"/>
          <p:cNvSpPr/>
          <p:nvPr/>
        </p:nvSpPr>
        <p:spPr>
          <a:xfrm>
            <a:off x="4427640" y="2854440"/>
            <a:ext cx="21477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uhovni skla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vjera, ljubav, nada i hrabr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6"/>
          <p:cNvSpPr/>
          <p:nvPr/>
        </p:nvSpPr>
        <p:spPr>
          <a:xfrm>
            <a:off x="2255760" y="2836800"/>
            <a:ext cx="21718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oznajni skla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vrijednosti, emocije, misli i osjeti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7"/>
          <p:cNvSpPr/>
          <p:nvPr/>
        </p:nvSpPr>
        <p:spPr>
          <a:xfrm>
            <a:off x="76320" y="2836800"/>
            <a:ext cx="2163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ški sk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vizija, misija, ciljevi i zada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8"/>
          <p:cNvSpPr/>
          <p:nvPr/>
        </p:nvSpPr>
        <p:spPr>
          <a:xfrm>
            <a:off x="6575400" y="2836800"/>
            <a:ext cx="237636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vni skla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produktivnost, samostalnost, solidarnost</a:t>
            </a:r>
            <a:r>
              <a:rPr b="0" lang="hr-HR" sz="1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hr-HR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pripad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4"/>
          <p:cNvSpPr/>
          <p:nvPr/>
        </p:nvSpPr>
        <p:spPr>
          <a:xfrm>
            <a:off x="-12600" y="41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"/>
          <p:cNvSpPr/>
          <p:nvPr/>
        </p:nvSpPr>
        <p:spPr>
          <a:xfrm>
            <a:off x="1138320" y="1193760"/>
            <a:ext cx="68403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4 temelja Integrativnog Vodstv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3492360" y="5084640"/>
            <a:ext cx="2305080" cy="165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S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CJELOVI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"/>
          <p:cNvSpPr/>
          <p:nvPr/>
        </p:nvSpPr>
        <p:spPr>
          <a:xfrm>
            <a:off x="7120080" y="60688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vor:B.Beb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lowchart: Connector 7"/>
          <p:cNvSpPr/>
          <p:nvPr/>
        </p:nvSpPr>
        <p:spPr>
          <a:xfrm>
            <a:off x="5372280" y="3622680"/>
            <a:ext cx="3168360" cy="2952720"/>
          </a:xfrm>
          <a:prstGeom prst="flowChartConnector">
            <a:avLst/>
          </a:prstGeom>
          <a:noFill/>
          <a:ln w="50760">
            <a:solidFill>
              <a:srgbClr val="ffffff"/>
            </a:solidFill>
            <a:prstDash val="dashDot"/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lowchart: Connector 1"/>
          <p:cNvSpPr/>
          <p:nvPr/>
        </p:nvSpPr>
        <p:spPr>
          <a:xfrm>
            <a:off x="971640" y="1268280"/>
            <a:ext cx="3627360" cy="3529080"/>
          </a:xfrm>
          <a:prstGeom prst="flowChartConnector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lowchart: Connector 3"/>
          <p:cNvSpPr/>
          <p:nvPr/>
        </p:nvSpPr>
        <p:spPr>
          <a:xfrm>
            <a:off x="3878280" y="1268280"/>
            <a:ext cx="3517920" cy="3403800"/>
          </a:xfrm>
          <a:prstGeom prst="flowChartConnector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owchart: Connector 4"/>
          <p:cNvSpPr/>
          <p:nvPr/>
        </p:nvSpPr>
        <p:spPr>
          <a:xfrm>
            <a:off x="2700360" y="3321000"/>
            <a:ext cx="3527280" cy="3276720"/>
          </a:xfrm>
          <a:prstGeom prst="flowChartConnector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536400" y="279360"/>
            <a:ext cx="79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700" spc="-1" strike="noStrike">
                <a:solidFill>
                  <a:srgbClr val="2f5897"/>
                </a:solidFill>
                <a:latin typeface="Arial"/>
              </a:rPr>
              <a:t>3 izazovne uloge ravnatelja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614520" y="2852640"/>
            <a:ext cx="3562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5897"/>
                </a:solidFill>
                <a:latin typeface="Arial"/>
              </a:rPr>
              <a:t>Ravnatelj voditelj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5897"/>
                </a:solidFill>
                <a:latin typeface="Arial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5897"/>
                </a:solidFill>
                <a:latin typeface="Arial"/>
              </a:rPr>
              <a:t>vođ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4330800" y="2228760"/>
            <a:ext cx="30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5897"/>
                </a:solidFill>
                <a:latin typeface="Arial"/>
              </a:rPr>
              <a:t>Ravnatelj upravitelj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5897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2f5897"/>
                </a:solidFill>
                <a:latin typeface="Arial"/>
              </a:rPr>
              <a:t>stručnj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2894040" y="4950000"/>
            <a:ext cx="3333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5897"/>
                </a:solidFill>
                <a:latin typeface="Arial"/>
              </a:rPr>
              <a:t>Ravnatelj zagovorn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lowchart: Connector 11"/>
          <p:cNvSpPr/>
          <p:nvPr/>
        </p:nvSpPr>
        <p:spPr>
          <a:xfrm>
            <a:off x="3276720" y="752400"/>
            <a:ext cx="1800000" cy="1476360"/>
          </a:xfrm>
          <a:prstGeom prst="flowChartConnector">
            <a:avLst/>
          </a:prstGeom>
          <a:noFill/>
          <a:ln w="50760">
            <a:solidFill>
              <a:srgbClr val="ffffff"/>
            </a:solidFill>
            <a:prstDash val="dashDot"/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lowchart: Connector 12"/>
          <p:cNvSpPr/>
          <p:nvPr/>
        </p:nvSpPr>
        <p:spPr>
          <a:xfrm>
            <a:off x="250920" y="3473280"/>
            <a:ext cx="3168720" cy="2953080"/>
          </a:xfrm>
          <a:prstGeom prst="flowChartConnector">
            <a:avLst/>
          </a:prstGeom>
          <a:noFill/>
          <a:ln w="50760">
            <a:solidFill>
              <a:srgbClr val="ffffff"/>
            </a:solidFill>
            <a:prstDash val="dashDot"/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95280" y="3141360"/>
            <a:ext cx="8569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f5897"/>
                </a:solidFill>
                <a:latin typeface="Palatino Linotype"/>
              </a:rPr>
              <a:t>ODGOVORNOST zadataka u timu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Century Gothic"/>
              </a:rPr>
              <a:t>Metoda RACI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002060"/>
                </a:solidFill>
                <a:latin typeface="Palatino Linotype"/>
              </a:rPr>
              <a:t>RA</a:t>
            </a:r>
            <a:r>
              <a:rPr b="1" lang="hr-HR" sz="4000" spc="-1" strike="noStrike">
                <a:solidFill>
                  <a:srgbClr val="002060"/>
                </a:solidFill>
                <a:latin typeface="Palatino Linotype"/>
              </a:rPr>
              <a:t>(</a:t>
            </a:r>
            <a:r>
              <a:rPr b="1" lang="hr-HR" sz="5400" spc="-1" strike="noStrike">
                <a:solidFill>
                  <a:srgbClr val="002060"/>
                </a:solidFill>
                <a:latin typeface="Palatino Linotype"/>
              </a:rPr>
              <a:t>S)CI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7f7f7f"/>
                </a:solidFill>
                <a:latin typeface="Century Gothic"/>
              </a:rPr>
              <a:t>R</a:t>
            </a:r>
            <a:r>
              <a:rPr b="0" lang="hr-HR" sz="2400" spc="-1" strike="noStrike">
                <a:solidFill>
                  <a:srgbClr val="7f7f7f"/>
                </a:solidFill>
                <a:latin typeface="Century Gothic"/>
              </a:rPr>
              <a:t>esponsible – </a:t>
            </a:r>
            <a:r>
              <a:rPr b="0" lang="hr-HR" sz="2400" spc="-1" strike="noStrike">
                <a:solidFill>
                  <a:srgbClr val="ff0000"/>
                </a:solidFill>
                <a:latin typeface="Century Gothic"/>
              </a:rPr>
              <a:t>zadužen</a:t>
            </a:r>
            <a:r>
              <a:rPr b="0" lang="hr-HR" sz="2400" spc="-1" strike="noStrike">
                <a:solidFill>
                  <a:srgbClr val="7f7f7f"/>
                </a:solidFill>
                <a:latin typeface="Century Gothic"/>
              </a:rPr>
              <a:t> za zadatak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7f7f7f"/>
                </a:solidFill>
                <a:latin typeface="Century Gothic"/>
              </a:rPr>
              <a:t>A</a:t>
            </a:r>
            <a:r>
              <a:rPr b="0" lang="hr-HR" sz="2400" spc="-1" strike="noStrike">
                <a:solidFill>
                  <a:srgbClr val="7f7f7f"/>
                </a:solidFill>
                <a:latin typeface="Century Gothic"/>
              </a:rPr>
              <a:t>ccountable – </a:t>
            </a:r>
            <a:r>
              <a:rPr b="0" lang="hr-HR" sz="2400" spc="-1" strike="noStrike">
                <a:solidFill>
                  <a:srgbClr val="ff0000"/>
                </a:solidFill>
                <a:latin typeface="Century Gothic"/>
              </a:rPr>
              <a:t>odgovoran</a:t>
            </a:r>
            <a:r>
              <a:rPr b="0" lang="hr-HR" sz="2400" spc="-1" strike="noStrike">
                <a:solidFill>
                  <a:srgbClr val="7f7f7f"/>
                </a:solidFill>
                <a:latin typeface="Century Gothic"/>
              </a:rPr>
              <a:t> i odobrava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7f7f7f"/>
                </a:solidFill>
                <a:latin typeface="Century Gothic"/>
              </a:rPr>
              <a:t>S</a:t>
            </a:r>
            <a:r>
              <a:rPr b="0" lang="hr-HR" sz="2400" spc="-1" strike="noStrike">
                <a:solidFill>
                  <a:srgbClr val="7f7f7f"/>
                </a:solidFill>
                <a:latin typeface="Century Gothic"/>
              </a:rPr>
              <a:t>upportive</a:t>
            </a:r>
            <a:r>
              <a:rPr b="0" lang="hr-HR" sz="3600" spc="-1" strike="noStrike">
                <a:solidFill>
                  <a:srgbClr val="7f7f7f"/>
                </a:solidFill>
                <a:latin typeface="Century Gothic"/>
              </a:rPr>
              <a:t> – </a:t>
            </a:r>
            <a:r>
              <a:rPr b="0" lang="hr-HR" sz="2400" spc="-1" strike="noStrike">
                <a:solidFill>
                  <a:srgbClr val="ff0000"/>
                </a:solidFill>
                <a:latin typeface="Century Gothic"/>
              </a:rPr>
              <a:t>podršk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7f7f7f"/>
                </a:solidFill>
                <a:latin typeface="Century Gothic"/>
              </a:rPr>
              <a:t>C</a:t>
            </a:r>
            <a:r>
              <a:rPr b="0" lang="hr-HR" sz="2400" spc="-1" strike="noStrike">
                <a:solidFill>
                  <a:srgbClr val="7f7f7f"/>
                </a:solidFill>
                <a:latin typeface="Century Gothic"/>
              </a:rPr>
              <a:t>onsulted – </a:t>
            </a:r>
            <a:r>
              <a:rPr b="0" lang="hr-HR" sz="2400" spc="-1" strike="noStrike">
                <a:solidFill>
                  <a:srgbClr val="ff0000"/>
                </a:solidFill>
                <a:latin typeface="Century Gothic"/>
              </a:rPr>
              <a:t>konzultir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7f7f7f"/>
                </a:solidFill>
                <a:latin typeface="Century Gothic"/>
              </a:rPr>
              <a:t>I</a:t>
            </a:r>
            <a:r>
              <a:rPr b="0" lang="hr-HR" sz="2400" spc="-1" strike="noStrike">
                <a:solidFill>
                  <a:srgbClr val="7f7f7f"/>
                </a:solidFill>
                <a:latin typeface="Century Gothic"/>
              </a:rPr>
              <a:t>nformed – </a:t>
            </a:r>
            <a:r>
              <a:rPr b="0" lang="hr-HR" sz="2400" spc="-1" strike="noStrike">
                <a:solidFill>
                  <a:srgbClr val="ff0000"/>
                </a:solidFill>
                <a:latin typeface="Century Gothic"/>
              </a:rPr>
              <a:t>informira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2f5897"/>
                </a:solidFill>
                <a:latin typeface="Palatino Linotype"/>
              </a:rPr>
              <a:t>RACI primjer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08000" y="1484280"/>
          <a:ext cx="8785080" cy="3960720"/>
        </p:xfrm>
        <a:graphic>
          <a:graphicData uri="http://schemas.openxmlformats.org/drawingml/2006/table">
            <a:tbl>
              <a:tblPr/>
              <a:tblGrid>
                <a:gridCol w="1728720"/>
                <a:gridCol w="1200240"/>
                <a:gridCol w="1463760"/>
                <a:gridCol w="1463400"/>
                <a:gridCol w="1465560"/>
                <a:gridCol w="1463400"/>
              </a:tblGrid>
              <a:tr h="62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Iv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Marij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Mark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naliza projek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831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Definicija i cilj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naliza rizik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zrada troškovn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5:21:32Z</dcterms:created>
  <dc:creator>dknezevic</dc:creator>
  <dc:description/>
  <dc:language>en-US</dc:language>
  <cp:lastModifiedBy>G</cp:lastModifiedBy>
  <dcterms:modified xsi:type="dcterms:W3CDTF">2014-04-01T13:49:03Z</dcterms:modified>
  <cp:revision>105</cp:revision>
  <dc:subject/>
  <dc:title>Slide 1</dc:title>
</cp:coreProperties>
</file>