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F68-093E-4AB5-AE20-80825DE2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A30-BADB-46DB-BE93-BDCF401B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4B6-2CA7-48E4-9D26-65EB2C1F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56B-3570-412A-A068-1592056E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6B8-0347-4096-8CE5-9D4D94B9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BD8-CE94-4E95-8E20-C205E11A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F8F-26FF-4E9F-B948-DF0AFE04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5A2-87C6-4760-8BD5-604B0A0A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D1D-1A31-41E0-996A-049D4521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BE9-017C-47B2-9DE8-3D527A9F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ECB-A20E-4AEF-8E07-833A909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5B0-FEAA-4932-BA99-823F865A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7007-C398-41DD-B3EF-AD124DC4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ZOR NAD RADOM RAVNATELJA SREDNJIH ŠKOL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uočene pogreške i propust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iši savjetnik Mario Rogač, pr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gencija za odgoj i obraz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jel za stručno-pedagoški nadz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zlike između inspekcijskog i stručno-pedagoškog nadz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daća prosvjetne inspekcije je nadziran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akonitosti rada ško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daća stručno-pedagoškog nadzora je nadziran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učno-pedagoškog 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lasti prosvjetne inspek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redbe mj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brana odgojno-obrazovn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zrješenje članova školskog odb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jedlog razrješenja ravn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čane ka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kršajne prij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znene prij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čno-pedagoški nadz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predlaž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se mj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a unapređivanje rada školske ustanove, planiranje i organiz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nadležnosti je AZOO i 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čno-pedagoški nadzor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tavlja s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la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akon SP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zor se provodi po unaprij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premljenoj proced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lj nadzora je utvrđivanje činjeničnog stanj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otklanjanje propusta i pogrešaka ako ih 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jetodavni u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stavlja s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zvješć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akon u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vješće se dostavlj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o ravnate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 izriču se mjere nego se daju savj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 je unapređivanje odgojno-obrazovn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id je znatno fleksibilniji, a sadržaje utvrđuju ravnatelj i savjetni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Što j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čno-pedagoški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nadzo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čno-pedagoški nadzor sustavno je i organizirano stručno praćenje ostvarivanja propisanih nastavnih planova i programa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ganizaci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 izvođenja nastave i drugih oblika odgojno-obrazovnog rada u školskim ustanovama 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učnog i pedagoškog ra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dgojitelja, učitelja, nastavnika i stručnih suradnika (članak 2. Zak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kretanje stručno-pedagoškog nadz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zahtjev prosvjetne inspe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zahtjev Ministar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zahtjev pravobraniteljice za dje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lukom ravnatelja Agencij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Kako se obavlja stručno-pedagoški nadzo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idom u izvođen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dišnjeg plana i programa rada školske ustan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idom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dagošku evidenciju i dokumentacij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zgovo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učenicima, roditeljima, nastavnicima i članovima stručnih tijela školske usta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članak 8. zak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Što se osobito nadzi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zvođenje i ostvarivanje godišnjeg pla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 programa školske ustan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ganizaciju i planiranje nasta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 drugih oblika odgojno-obrazovnog r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ođenje ispita i ocjenjivanja učenik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članak 9. Zako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Koje su ovlasti osobe koja provodi nadzo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edlaž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mj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za unapređivanje organizacije, planiranja i metoda rada školske ustano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uža stručnu pomo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avnateljima i skrbi o njihovu stručno-pedagoškom usavršavanj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ati rezult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dgojno-obrazovnog rad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jenjuje funkcionalnost školskog prostora i opr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ati rad stručnih tij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školske ustanov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članak 10. Zak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zlozi izlag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lik broj ravnatelja u prvom (i drugom) mand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očene pogreške i propusti u stručno-pedagoškim i inspekcijskim nadzo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akodnevna 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ljedice pogreš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až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lanak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Školski nadzornik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amosta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e u obavljanju poslova stručno-pedagoškog nadz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lanak 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Školski nadzornik dužan j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avodobn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obavijestiti ravnatelj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školske ustanove o vremenu obavljanja nadzo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znim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stručno-pedagoški nadzor može se obavit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z obavijes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z stavka 1. ovoga članka, ako to zahtijev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vrha nadzor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adržaji nadz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al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amb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odni d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novni po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is utvrđenog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jere i rokovi za izvršenje mj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uta o pravnom lije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jesta dostave na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stava nala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vnatelju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sjedniku školskog odb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Županijskom uredu nadležnom za poslove ško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vjetnoj inspek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arstvu 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smohrani Ag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lementi nadzora nad radom ravnatelja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škola (najvažnij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Školski kuriku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Godišnji plan i program rad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(čl 28. Zakona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lan i program rada ravn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lanovi i programi rada razrednika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amovrednovanje rada škole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čl. 88. Zak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rganizacija 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cija 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cija dežurst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igurnost učenika) i provedb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troj razrednih odj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j nastavnih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rganizacija rada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no vrijeme ravnatelja i stručnih suradnika, termin za primanje str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ermini informacija za rodit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Vremenik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pisanih provj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Kriterij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aćenja, ocjenjivanja, vredn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edagoška dokumenta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zredna knj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jenjivanje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o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ostanci uč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pis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st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Program za suzbijanje nasilja (dokazi proved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Preventivni program (dokazi proved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Evidencije o neprihvatljivim oblicima ponašanja učenik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(čl. 67. al. 7. Zak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kumentacija o rješavanju nasi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Analiza odgojno-obrazovnog stanja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imjena pedagoških mj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ješenja o tjednim i godišnjim zaduženjima uč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čni poslovi ravnatel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vid u rad učitelja (čl. 125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Analiza rada učitelja (čl. 125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aliza uspjeha uč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aliza planova i programa rada uč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ntrola pedagoške dokum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slovi vezani uz AZ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čno usavrša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kumentacija o pripravnic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kumentacija o napredovan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bl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pripremnog osposobljavanj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ije stupanja na dužnost ravn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mentorske pomoć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ijekom rada u prvom mand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 postoji pomoćnik ravnatelj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ao prvi surad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praćenja i vrednovanj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ada ravn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licencir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Podzakonski akti šk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tički kodeks (čl 58. st. 1. Zak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ućni red (čl. 58. st. 2. i 3. Zak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avilnici koje donosi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slovnici koje donosi škola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kumentacij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kumentacija o popravnim ispitim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kumentacija o predmetnim i razrednim ispi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idencija izvannastavnih 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cija o izletima i ekskurzij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pisnici (N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etska stranica škol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Star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čno-pedagoški nadz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ralizir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e, a sve bitne elemente određuje nadležna prosvjetna v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tvrđene s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nkci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a kršenje prop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mjeren je n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dbu propis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 propisanu dokument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ve je isplanira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 unaprijed određ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savjetodavni k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inir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ontrolna ulog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adz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Novi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stručno-pedagoški nadz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savjetodavnog i instruktivnog je karak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cilj je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unapređenj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nastave, učenja i poučavanja (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organizacije rad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trebao bi razvijati samoprocjenu nastavnika i samovrednovanje rad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tiče škole da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samostalno i samoinicijativno riješe većinu odgojno-obrazovnih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ističe primjere dobre praks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nastavnika i ravna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rste stručno-pedagoškog nadzor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jedinačn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jedan savjetn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msk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ekoliko savjetnik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jelov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avjetnici svih predmeta i područ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rste stručno-pedagoškog nadzo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atsk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amo neki sadržaji ili teme, najčešće neki bitni navodi iz podneska)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ompleks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vi relevantni elementi nadzo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Školski nadzor u svije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zličita rješenja (opći i predmet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izirani i decentralizirani sust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zličite ov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oviti nad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mjerenost ustanovi, a ne pojedin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ćenje i unapređivanj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pute roditeljima (i razrednici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ješavanje problema u ško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astav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zredn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čni suradnici (veća uključe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stavničko vijeć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školski od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vnate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ijedloz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oviti stručno-pedagoški nad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mjerenost ustanovi, a ne pojedin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užanje stručne pomo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ćenje i unapređivanje kvalitete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čanje unutarnjih kapacitet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adzor u školstv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RAVNI NADZ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KCIJSKI NADZ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ČNI NADZ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JSKI NADZ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će pogreške i propusti kod staž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 nedovoljna briga pripravnic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u nekim slučajevima ništa, posljedice…)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 ravnatelj ne nadzire stažir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to radi stručna suradnica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skakanje” pripravničkog sta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čl. 109.)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i propusti kod staž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je imenovano povjerenstvo za staž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je prijavljeno staž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je izrađen program staž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je realiziran program staž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tor ne ispunjava svoje obv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odgovarajuća stručna sprema pripra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u vezi zasnivanja radnog od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zakonito zasnivanje radnog od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vrstu spreme (neodređeno vrije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širivanje propisanih uvjeta za zasnivanje radnog odno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otrebno zasnivanje radnog odnosa na određeno vrijeme (Z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pri raskidanju ugovora o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savjetuje radničko vijeće prije otkaza (čl. 118. ZOR-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poštuje propisane kriterije za tehnološki višak (čl. 107. ZOR-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širivanje kriterija za tehnološki viš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vezane uz ugovor o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ugovora o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potpun ugovor o radu (čl. 13. ZOR-a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sti radnik ima nekoliko ugovora o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lizija ugovora i rješ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lizija ugovora i 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starjeli i netočni po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vezane uz rješenja o zaduženj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rješ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ravilno ili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potpu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apisana rješ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su izdana u propisanom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su u skladu s Pravilnik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su u skladu s člankom 104. st. 6. Za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ale pogre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rijavljen prekovremeni r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otreban prekovremeni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laćanje prekovremen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sklađenost zaduženja nasta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 6 dokumenata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vnatelj ne vrši uvid u nastav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malo u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analize rada nasta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bacivanje učenika s nastave iz učio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anje učenika ku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žurstva radnika – sigurnost učenik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kraćivanje trajanja sata (čl. 51. st. 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kraćivanje nast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mjena Nastavnog plana i program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svih podzakonskih a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poraba neodobrenih udžb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poznavanje uredskog poslovanja (Uredba o uredskom poslovanju (NN, broj 7/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dovoljno poznavanje propisa (ZUP, ZO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žurstva učenika (čl. 61. st. 2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kolektivne naplate š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akupljanje nov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porišta u propis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ustanova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l. 6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odgoju i obrazovanju u osnovnoj i srednjoj školi čl. 147. – 1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Agenciji za odgoj i obrazovan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l. 4. i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prosvjetnoj inspekc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stručno-pedagoškom nadz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ganizacija rada i nastave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 pedagoga samo prije po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 pedagoga samo u jednoj smj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 ravnatelja samo prije po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kasno upoznavanje roditelja s promjenama u ustroju (čl. 49. st. 5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ganizacija rada i nastave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abir razred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cijska nepreciz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ridržavanje rasporeda s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organiziranje zamjena nastavnik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stava HJ blok sat četvrtak i pe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ganizacija rada i nastav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 za primanje str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 informacija za rodit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 bez plana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vljenje nevažnim ili manje važnim stva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dišnji plan i program rad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GPIPR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je donesen u propisanom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je provedena rasprava na vijeću roditelja (čl. 137. st. 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školskog kurikul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je dostupan ili objavljen na propisani način (čl. 28. st. 6. i 7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dišnji plan i program rad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azrađeno stručno usavrš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rasporeda dežurnih rad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planskih elemenat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otpuno planiranj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dišnji plan i program rad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nema  preventivnog  programa ili je nerazrađ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nema  programa  za suzbijanje  nasilja ili je nerazrađ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nema samovredn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dokaza o provedenim aktivnostima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PIPR ravnatelj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plana i programa rada ravn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i program rada koji je praktično neupotreblj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otpuni plan i program rada ravnatel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i program rada ravnatelja je zastario (napisan prije 10 i više god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PIPR ravnatelja ško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i program rada ravnatelja nije razrađen po mjesec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i program rada ravnatelja nema planske element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je planiran (ili nedovoljno planiran) posjet nast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alo uz GP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zvješće o realizaciji GPIP rad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čl. 137. st. 4. Zakona – 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zmjene i dopune GPIP rad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lozi GPIP rad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vezane uz popravne isp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laniranje 1. roka popravnog isp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dokumentacije o popravnim ispi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otpuna dokumen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 nepotpunog povjeren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Zakon o Agenciji za odgoj i obrazovanje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čl. 5. st. 1., 2. i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Stručno-pedagoški nadzor Agencija obavlj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zravnim stručno-pedagoškim uvid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 odgojno-obrazovni rad ustanove, rad odgojno-obrazovnih radnika 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d ravnatelja kao stručnog voditelja ustanov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Stručno-pedagoški nadzor uključuje praćenj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stvarivanja nastavnih planova i programa, organizaci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izvođenja nastave i drugih oblika odgojno-obrazovnog rada ustanova te stručnog i pedagoškog rada odgojno-obrazovnih radnika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 Ravnatelj i odgojno-obrazovni radnik ustan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žni su dati na uvid dokumentaciju i druge podat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ebne za obavljanje stručno-pedagoškog uvida i savjetodavnog rada osobama koje provode stručno-pedagoški uvi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vezane uz popravne ispi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pisanog traga da li je učenik znao, djelomično znao ili nije zn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pečata, potpisa, dat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oštivanje Pravilnika (kolizija Statuta i Praviln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rimjerena 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iše 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kod ocjenjivanja uč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ljučna ocjena čl. 73. st.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javno, u razrednom odjelu, na kraju)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ljučna ocjena koja je nestručno izve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oc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su upisane oc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kasno“ upisivanje oc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malo oc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kod ocjenjivanja uče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žnjavanje ocje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risanje oc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ocjenjivanje učenika koji nije prisu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11“ na jednom s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zaključnu ocjenu utvrdio ravnate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čl. 73. st. 3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kod ocjenjivanja učenik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rubriku za ocjene upisivati samo oc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 koristiti korekturni 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 upisivati običnom olov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ekcijske primjedbe“ (+, -, ?, /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kod ocjenjivanja učenik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pisivanje ocjene u neodgovarajuću rubr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cjenjivanje gradiva koje nije obrađ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cjenjivanje gradiva koje nije predviđeno NP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kod ocjenjivanja učenika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objektivno ocjenjiv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š kriterij ocjenj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kriterija ocjenj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gumentirana ocjena iz vlad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kod ocjenjivanja učenik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oša komunikacija nastavnika (u vezi ocje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obavještavanje roditelja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davanje pisanih radova na u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čuvanje pisanih rad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3300"/>
                </a:solidFill>
                <a:uFillTx/>
                <a:latin typeface="Arial"/>
              </a:rPr>
              <a:t>Ravnatelj (ne) prati provođenje Pravilnika tijekom godine (čl. 16. st. 2.)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utvrđene SP nadz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grešno postupanje ili nepostupanje u slučaju ozljede uč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oša provedba Pravilnika o načinima, postupcima i elementima vrednovanj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žurstva nastavnika i drugih radnika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zivanje na izjavu umjesto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porište u propi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utvrđene SP nadzoro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vnatelj ne poduzima m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učenik, nastavn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* nastavnik ne poduzima mjere ili prekasno poduzima m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neobavještavanje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roditelja, CSR, policije itd.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greške utvrđene SP nadzoro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ma pisanih tragova i dok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regledana pedagoška dokumentacija (na vrijeme)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analize odgojno-obrazovnog stanj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ma sveobuhvatne analize uspjeha učenik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rosječna ocjena nije dovoljan pokazatelj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Članak 125. Zakona OOOS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Ravnatelj j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slovodni i stručn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oditelj školske ustan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Ravnatelj j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dgovor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a zakonitost rada i stručni rad školske ustan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ale pogre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ne izdavanje pisanog izvješća na kraju 1. polugodišta * (čl. 138. st. 3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ripreme za maturu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htjev za preispitivanje ocjene nije obavilo nastavničko vijeće (čl. 76. st. 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vjerenstvo za polaganje ispita nije odredilo nastavničko vijeć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čl. 76. st. 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ale pogrešk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je sazvano vijeće roditelja niti jedan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je sazvano vijeće učenika niti jedan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je održan niti jedan roditeljski sastanak do početka prosi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mali broj roditeljskih sastana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3 najmanje, čl. 16. st. 3. Praviln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ale pogrešk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vremenika pisanih radova uč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vremenik nije objavljen na propisani način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u propisanom roku (čl. 10. st. 2. Praviln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nije imenovana osoba za zaštitu dostojanstva radnik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* (Članak 293. st. 1. al. 28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OR-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or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bra komunikacij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ontrola odnosa obrade, ponavljanja i ispitivanj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ontrola planova i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jera osobnih dosjea rad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eporuk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gojna funkcij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gojna uloga nasta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gojna uloga ravn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ziti na upise i broj učenika u razrednim odje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nancijski prekršaj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zakonit zakup pros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zakonita isplata pla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zakonita isplata dodataka na pla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zakonita isplata dnev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jteži prekršaji ravnatel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izvršavanje mjer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nalaz, rješe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vnateljica nije poduzela n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ržavno odvjetništvo poduzima kazneni prog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rivotvoreni potpis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 dokumenta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val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zvadak iz Zakona o prosvjetnoj inspekciji čl. 23. st. 1. i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Inspektor će zatražiti stručno-pedagoški ili drugi stručni nadzor ako u provedbi inspekcijskog nadzora uoči stručno-pedagoške ili druge stručne propuste, nedostatke ili nepravilnosti, ili ako procijeni da je za utvrđivanje činjenica i ocjenu stanja u nadziranoj ustanov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trebno stručno-pedagoško, odnosno drugo stručno zn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 osnovi izvješća o stručno-pedagoškom, odnosno drugom stručnom nadzo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pekt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ž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čitelju, nastavniku, stručnom suradniku i drugoj osobi koja obavlja odgojno-obrazovne posl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narediti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tklanjanje propu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edostataka, odnosno nepravilnosti u određenom ro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zabraniti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bavljanje odgojno-obrazovnih posl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zvadak iz Zakona o prosvjetnoj inspekciji čl. 23. st. 3.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ješenje s naredbom, odnosno zabra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z stavka 2. ovoga članka inspekt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ž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ijeti ako su u stručno-pedagoškom, odnosno drugom stručnom nadzoru utvrđeni propusti, nedostaci ili nepravilnosti 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ko je osoba ovlaštena za stručno-pedagoški, odnosno drugi stručni nadzor, predložila naredbu, odnosno zabr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 Mjere iz stavka 2. ovoga članka moraju se poduzeti u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oku od 15 da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d dana primitka izvješća o provedenom stručno-pedagoškom, odnosno drugom stručnom nadzoru i prijedloga mjera, a ako inspektor obavlja inspekcijski nadzor u toj ustanovi, u roku od 15 dana od dana zaključenja zapis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8:39:53Z</dcterms:created>
  <dc:creator>mrogac</dc:creator>
  <dc:description/>
  <dc:language>en-US</dc:language>
  <cp:lastModifiedBy>mrogac</cp:lastModifiedBy>
  <dcterms:modified xsi:type="dcterms:W3CDTF">2014-03-31T12:54:00Z</dcterms:modified>
  <cp:revision>60</cp:revision>
  <dc:subject/>
  <dc:title>STRUČNO-PEDAGOŠKI NADZOR U OSNOVNIM ŠKOLAMA</dc:title>
</cp:coreProperties>
</file>