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EC2-D486-40C7-BDB1-6F0EB10C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D26-5155-45FF-A4DC-3743EB16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0F2-26ED-41B7-B806-BB75B62D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21D-55EE-4E6D-9A45-5EB5283B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AB75-BCF4-4DE7-B927-E7B72E7B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FC3C-14DE-492B-908A-23913E41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789B-FA2D-4F46-8D21-B055D4BD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0745-BB7E-47D5-B6F4-8709AC1F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90E0-D77A-42D1-B3AF-F1C5854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55BC-7433-4223-BBEB-A13ED21D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8DBE-39A5-4745-BEBE-B5ACCFAF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213-B851-4DEA-BC4E-A7CFF0B8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55FA-E9E8-436E-870A-F80BC9D2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CB5B-6B9C-4EC4-8E1B-0C432BD3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0B6B-87EA-4C19-9B2A-2BA4470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0DE3-E451-4BBC-BAC7-E4E02DCF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D434-7357-4793-8328-01C45095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927-AFBE-4E1B-ACBA-55EB47C7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C33-A82C-4913-9AD0-D4113CE5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EC9-F5FD-4E61-A448-31C22953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B8F-8950-4626-8BF8-E354728B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F14-149F-4C17-999E-83603AA7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6F5-1FA9-47DA-A1BF-7C12CB7A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2AE-E9B8-4BDB-944C-AD53CA9E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ručno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ručno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15BF-EA3C-4552-8730-48FDCDE83547}" type="slidenum">
              <a:rPr b="0" lang="hr-H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Prostoručno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Prostoručno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Prostoručno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Prostoručno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avokutnik s odsječenim zaobljenim jednim kuto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avokutni trokut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rostoručno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ostoručno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1231-A681-4331-9EAD-037CFB859B6E}" type="slidenum">
              <a:rPr b="0" lang="hr-H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523800" y="701640"/>
            <a:ext cx="8132760" cy="2559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42960" y="5516640"/>
            <a:ext cx="8137440" cy="985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Josip Mandurić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Zagreb, 17.05.2012.                           dipl.teolog,dipl.iu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INDIKATORI KVALITETE ZA SAMOVREDNOVANJE ŠKOLA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3. Postignuća učenik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Većina učenika u nastavku školovanja postiže sličan ili bolji uspjeh nego u osnovnoj škol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Uspjeh na kraju školske godine odgovara stvarnom znanju učenik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Većina učitelja primjenjuje jasno ocjenjivanje na temelju razrađenih kriterija ocjenjivanj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Provođenje nastavnog plana i programa osigurava nastavak školovanja u željenim škola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Učenici postižu zapažene rezultate na županijskim i državnim natjecanji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INDIKATORI KVALITETE ZA SAMOVREDNOVANJE ŠKOLA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1" lang="hr-HR" sz="3200" spc="-1" strike="noStrike">
                <a:solidFill>
                  <a:srgbClr val="000000"/>
                </a:solidFill>
                <a:latin typeface="Constantia"/>
              </a:rPr>
              <a:t>Podrška učenicim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Stručna služba brzo pruža pomoć učenicima (učenje, osobni problemi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Učenici se s uvažavanjem odnose prema drugim učenici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Učenici se s uvažavanjem odnose prema učitelji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Učitelji se s uvažavanjem odnose prema učenici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Učitelji se s uvažavanjem odnose međusobn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U školi je organizirana briga za djecu s posebnim potreba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U školi je organizirana sistematična pomoć u radu učenicima kojima to treb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INDIKATORI KVALITETE ZA SAMOVREDNOVANJE ŠKOLA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5. Slobodne aktivnosti učen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Učenici se uključuju u različite projek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Većina učenika može zadovoljiti svoje potrebe za izvannastavnim aktivnosti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U školi se provode humanitarne akci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INDIKATORI KVALITETE ZA SAMOVREDNOVANJE ŠKOLA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6. Poticanje samoinicijativnosti, poduzet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Kod učenika i učitelja se razvija timski r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Škola organizira aktivnosti u kojima učenici razvijaju ekonomske vještine (prodajne izložbe, sakupljanje sekundarnih sirovina, zadruga…)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INDIKATORI KVALITETE ZA SAMOVREDNOVANJE ŠKOLA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hr-HR" sz="2200" spc="-1" strike="noStrike">
                <a:solidFill>
                  <a:srgbClr val="000000"/>
                </a:solidFill>
                <a:latin typeface="Constantia"/>
              </a:rPr>
              <a:t>7. </a:t>
            </a: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Uvjeti r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Škola predstavlja ugodno mjesto za rad i druženje (veličina, higijena, klima,</a:t>
            </a: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uređenost prostor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Škola osigurava fizičku i socijalnu sigurnost učenika i osoblja 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njihove imovine (dežurstva, alarm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Škola je dobro opremljena suvremenim sredstvima i pomagali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Škola sistematično djeluje na poboljšanje kvalitete uvjeta ra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Svim učenicima omogućeno je korištenje zdravog obroka u ško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INDIKATORI KVALITETE ZA SAMOVREDNOVANJE ŠKOLA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8. Rukovođenje škol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Ravnatelj ostvaruje dobru suradnju s djelatnici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Ravnatelj osigurava dobre radne uvje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Ravnatelj ostvaruje suradničke odnose s učenici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(na svim razinama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INDIKATORI KVALITETE ZA SAMOVREDNOVANJE ŠKOLA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9. Suradnja s vanjskim partner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Škola potiče roditelje na suradnj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Škola njeguje odnos R – U – 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Calibri"/>
              </a:rPr>
              <a:t>SWO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560" y="1428480"/>
            <a:ext cx="87138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Razmišljanje iz perspektive učenika, učitelja, stručnih suradnika  i roditelja 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Prednostima (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trengths</a:t>
            </a: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Nedostatcima, slabostima (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eaknesses</a:t>
            </a: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Mogućnostima (Opportuniti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Poteškoćama i opasnostima (Threat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Naslov 1" descr=""/>
          <p:cNvPicPr/>
          <p:nvPr/>
        </p:nvPicPr>
        <p:blipFill>
          <a:blip r:embed="rId1"/>
          <a:stretch/>
        </p:blipFill>
        <p:spPr>
          <a:xfrm>
            <a:off x="530280" y="281160"/>
            <a:ext cx="7864560" cy="699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1500120"/>
            <a:ext cx="78548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1. Čime se možemo pohvaliti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nstantia"/>
              </a:rPr>
              <a:t>(analizirati i navesti sve dobre strane rada škol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2. S kojim teškoćama se svakodnevno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susrećemo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nstantia"/>
              </a:rPr>
              <a:t>(navesti i osvijestiti s kojim se sve teškoćama svakodnevno susrećemo, a koje se odnose 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nstantia"/>
              </a:rPr>
              <a:t>unutrašnji rad i funkcioniranje škol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3. Koji su naši neiskorišteni resursi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nstantia"/>
              </a:rPr>
              <a:t>(navesti koje sve neiskorištene potencijale posjeduje naša škola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4. Što nas koči na putu prema napretku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nstantia"/>
              </a:rPr>
              <a:t>(opisati vanjske prepreke koje onemogućuju napredak škol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5. Što možemo napraviti da budemo još bolji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nstantia"/>
              </a:rPr>
              <a:t>(na temelju unutrašnjih karakteristika škole osmisliti što sve možemo učiniti da budemo još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hr-HR" sz="1600" spc="-1" strike="noStrike">
                <a:solidFill>
                  <a:srgbClr val="000000"/>
                </a:solidFill>
                <a:latin typeface="Constantia"/>
              </a:rPr>
              <a:t>bolji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6. Tko nam može pomoći u napretku (osobe,institucije…)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Constantia"/>
              </a:rPr>
              <a:t>(imenovati institucije, osobe i dr. za koje mislimo da nam mogu pomoći u unaprjeđenju podizanja kvalitete rada škol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KOLIKO JE DOBRA NAŠA ŠKOLA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nstantia"/>
              </a:rPr>
              <a:t>Zadovoljni smo kvalitetom naše škole 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nismo</a:t>
            </a: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           potpuno sm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zadovoljni                                                                                                                                                      zadovoljn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1                                 2                                 3                                 4                                   5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Calibri"/>
              </a:rPr>
              <a:t>Zakon o odgoju i obrazovanju </a:t>
            </a:r>
            <a:br>
              <a:rPr sz="3200"/>
            </a:br>
            <a:r>
              <a:rPr b="0" lang="hr-HR" sz="3200" spc="-1" strike="noStrike">
                <a:solidFill>
                  <a:srgbClr val="04617b"/>
                </a:solidFill>
                <a:latin typeface="Calibri"/>
              </a:rPr>
              <a:t>u osnovnoj i srednjoj škol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Čl. 8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1. U školskim ustanovama se radi unapređenja kvalitete odgojno obrazovne djelatnosti provodi vanjsko vrednovanje i samovrednovanje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4. Škole su obvezne koristiti rezultate nacionalnih ispita i sve druge pokazatelje uspješnosti odgojno-obrazovnog rada za analizu i samovrednovanje, radi trajnog unapređivanja kvalitete rada ško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Calibri"/>
              </a:rPr>
              <a:t>SWOT analiza 2007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Uključeni svi učenici od 3. do 8. razreda, djelatnici škole i roditelj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Učenici                                                    5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Roditelji                                                   8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Učitelji, stručni suradnici i ravnatelj   3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Administrativno tehničko osoblje         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Vijeće roditelja                                        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Ukupno                                                 17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133164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611280" y="4941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Naslov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901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3160" y="2214720"/>
            <a:ext cx="7854840" cy="3929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čiteljsko vijeć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ijeće učenik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ijeće roditel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hr-HR" sz="50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5000"/>
            </a:br>
            <a:r>
              <a:rPr b="1" lang="hr-HR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 uč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Čime se možemo pohvaliti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rad u jednoj smjeni 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tručnost djelatnika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kolektiv, dobri međuljudski odnos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interijer škole, dobra tehnička opremljenost 5, opremljenost nastavnim sredstvima i pomagalim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uspjesi učenika, zapaženi rezultati učenika i nastavnik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osvećenost djeci i djeci s teškoćam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komunikacija s roditeljima, dobra suradnja škola-roditelji-djeca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talno stručno usavršavanj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dobro rukovodstvo, briga ravnatelj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uvjeti rad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 suradnja sa stručnom službom, kompletirana stručna služba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otvorenost, suradnja prema društvenoj zajednic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imjena suvremenih nastavnih metoda i pomagal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ozitivno školsko ozračje, druženja i putovanj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urednost škole 3,  čistoća i urednost škole i okoliša 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ijevoz učenika (školsko vozil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uč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2. S kojim teškoćama se svakodnevno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susrećemo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nepoštivanje Pravilnika škol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 nerazumni roditelji, nerazumijevanje i nerealna očekivanja roditelj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 nedostatak vremena za ra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edostatak vremena za rad s darovitim učenicim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eveliki broj učenika u nekim odjelima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manjak muških djelatnik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komunikacija s nekim roditeljim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edostatak vanjskog igrališta i opreme za tzk, manjak prostora za nastavu tz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brojnost učeničkih odjel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materijalni uvjeti (papir za kopiranj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odgovornost  roditelja prema škol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ve veći broj obiteljskih problema koji direktno utječu na učenik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ve više učenika s teškoćama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200"/>
            </a:br>
            <a:r>
              <a:rPr b="0" lang="hr-HR" sz="3200" spc="-1" strike="noStrike">
                <a:solidFill>
                  <a:srgbClr val="04617b"/>
                </a:solidFill>
                <a:latin typeface="Calibri"/>
              </a:rPr>
              <a:t>KREDA analiza/uč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3. Koji su naši neiskorišteni resursi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izvanučionička nastav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 projek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ejednaka opterećenost učitelj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informatički kabinet nedovoljno iskorišten u razrednoj nastav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vanjsko školsko igralište koje ne možemo ostvariti zbog nedostatka naov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etički kodek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češće korištenje tehničkih pomagal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ehrana učenik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uč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4. Što nas koči na putu prema napretku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financije 4, ekonomska situacija u društvu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 previše administracij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 brzi ritam život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imanje novih (problematičnih) učenik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manjak prostora i financija 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edostatak vremena  za rad s nadarenim učenicim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eopterećenost redovnom satnico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obiteljska situacij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kroz različite propise i pravilnike iskazivanje nepovjerenja u rad učitelj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erealno i neprofesionalno prikazivanje rada škole od strane medij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trah od reakcije javnos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edostatak novca za osobnu motivaciju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uč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5. Što možemo napraviti da budemo još bolj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i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stručno se usavršavati 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sudjelovanje u projektim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suradnja s drugim školam i školama iz inozemstva 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team building (više istog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komunikacija, međusobno uvažavanje i razumijevanje, suradnja, učitelji i razvojna služba i pomoćno osobl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pojačati sigurnost učenika i djelatnika škole (kamere, zaštitari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poboljšati materijalni statu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uključiti roditelje u provođenje projekata i rad ško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podijeliti 3. i 6. Razred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opremiti dvoranu tzk novim rekvizitima 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uređenje školskog dvorišt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šk. parking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dostava rob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nstantia"/>
              </a:rPr>
              <a:t>- rampa na ulazu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uč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6. Tko nam može pomoći u napretku (osobe,institucije…)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roditelji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ojedine tvrtk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 Grad Osijek 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portski klubovi – organizacij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institucije, roditelji, sami djelatnic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vanjski suradnici (profesionalni treneri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šira društvena zajedni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ponzor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ministarstv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športski objekti, galerije, muzeji, knjižnica, kino, kazališt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više asistenata za rad s djecom s posebnim potrebam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eu projek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rod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1. Čime se možemo pohvaliti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otvorenost u komunikacij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dobri uvjeti rada u škol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jednosmjenska nastava 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eko škola, škola bez nasilj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dobar kadar i dobra komunikacija s prof., dobra suradnja s ravnatelj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oduženi boravak, opremljenost škol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vannastavne aktivnosti za učenike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razmjena udžbenik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ostor, namještaj, ormarić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organiziran prijevoz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ateće službe (defektolog, psiholog, pedagog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uno dopunskih aktivnosti u poslijepodnevnoj smjen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rod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2. S kojim teškoćama se svakodnevno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susrećemo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edostatak prostora za izvođenje nastave tz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kvalitetno provođenje školskih odmor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igralište 2, dvoran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omet-blizina ceste 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više praktičnog rad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Calibri"/>
              </a:rPr>
              <a:t>Što je samovrednovanje škol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Samovrednovanje škola je proces sustavnog i trajnog praćenja, analiziranja i preispitivanja vlastite prakse s ciljem unapređivanja rada ško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U postupku samovrednovanja škole odgovaraju na dva ključna pitanj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- Koliko je dobra naša škola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- Što možemo učiniti da bismo bili još bolji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Proces samovrednovanja škola pomaže uočavanju vlastitih prednosti, nedostataka i razvojnih mogućnos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rod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3. Koji su naši neiskorišteni resursi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edostatak praktične nastav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dvorana za priredb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rod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4. Što nas koči na putu prema napretku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nedostatak financijskih  sredstava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edovoljna motiviranost pojedinih nastavnika ali i roditelj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veća povezanost roditelja i škol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rod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5. Što možemo napraviti da budemo još bolji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tvoriti uvjete za bolju komunikaciju roditelja na razini odjeljenja i okolin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bolja i pravovremena organizacija oko školskih knjig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organizirati tematsko druženje dje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zajedničke radionice za djecu i roditelj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roditelj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6. Tko nam može pomoći u napretku (osobe,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institucije…)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Grad, Županija, Ministarstv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uradnja sa drugim školama u nekim projektim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upoznavanje sa sadržajima Grad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učenic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Čime se možemo pohvaliti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aučene stvar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ormarići 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učiteljice, kvaliteta nastavnika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rad u jednoj smjeni 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oduženi borava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klim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ristupačni nastavnic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rad u skupinam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veliki izbor slobodnih aktivnosti, dodatne i dopunske nastave 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udjelovanje u različitim humanitarnim akcijama i akcijama UNICEF-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dobro uređen prostor za ra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dvor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ravnatelj, učionice i učitelji, kuharice, spremači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učenic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2. S kojim teškoćama se svakodnevno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susrećemo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svađa, deranje, upadanje u riječ, tuča, pisanje zadaća, kratki odmori, psovanje, matematik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ukobi učenika, kuhinja, teško nabavljanje knjig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vađa, tuča, izazivanj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kuhinja, sukobi učenik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tuča i svađ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učenic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3. Koji su naši neiskorišteni resursi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računal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uređenje dvorišt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slaba iskorištenost tehničkih pomagala, puno neotkrivenih talenata i pametne dje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više izlet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dvorište, stražnje dvoriš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učenic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4. Što nas koči na putu prema napretku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episanje zadaća, laganj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igralište, manjak knjig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nedostatak radnik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financij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obaveze i nedostatak vreme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hladno vrijeme (zbog cvijeć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učenic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5. Što možemo napraviti da budemo još bolji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više učiti, slušati na satu, ne tući s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dežuranje učenika, igralište, drukčiji kodeks odijevanj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više uči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zapošljavanje radnik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potaknuti učenike da čuvaju školu, imovinu škole i da se potrude sebi omogućiti lijepo školovanj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dežurstvo učenik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biti naprednij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više učiti, zalagati se i nositi pribo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4617b"/>
                </a:solidFill>
                <a:latin typeface="Calibri"/>
              </a:rPr>
              <a:t>KREDA analiza/učenic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53332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6. Tko nam može pomoći u napretku (osobe,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institucije…)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-učitelji, roditelji, obitelj, ravnatelj, stručna osoba, Grad, Županija, sami učenici, svi zaposlenici škol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Calibri"/>
              </a:rPr>
              <a:t>Ciljevi samovrednovanja na razini škol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Ustroj unutarnjeg, školskog sustava za procjenu, praćenje i unapređivanje vlastitog r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Olakšavanje ravnateljima da  efektivnije i efikasnije vode ško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Uključivanje u školske razvojne procese svih sudionika odgoja i obrazovanj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Poticanje veće samostalnosti, odgovornosti i inovativnosti u škola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Razvoj sposobnosti kritičnosti i samokritičnos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4617b"/>
                </a:solidFill>
                <a:latin typeface="Calibri"/>
              </a:rPr>
              <a:t>SAMOEVALUACIJSKO IZVJEŠĆ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Kvaliteta nast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Kvaliteta nastavnog plana i progra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stignuća učen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drška učenic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lobodne aktivnosti učen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ticanje samoinicijativnosti, poduzet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vjeti r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ukovođenje škol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uradnja s vanjskim partner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08./2009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Prioritetna područ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1. Podrška učenic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2. Uvjeti r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3. Slobodne aktivnosti učen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4. Postignuća učen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08./2009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Cilj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manjiti i prevenirati nasilje među učenic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08./2009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hr-HR" sz="3100" spc="-1" strike="noStrike">
                <a:solidFill>
                  <a:srgbClr val="000000"/>
                </a:solidFill>
                <a:latin typeface="Constantia"/>
              </a:rPr>
              <a:t>Metode i aktivnosti za ostvarivanje ciljev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Organizirati edukaciju novih učitelja  za UNICEF-ov projekt: Za sigurno i poticajno okruženje u školama i provedba projekt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Organizirati radionice o nenasilju za rizične skupine učenik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Osnovati i educirati grupu medijatora učenika i grupu vršnjačke pomoć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Izraditi vrijednosti, pravila i posljedice za svaki odj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Osnovati vijeće učenik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Izraditi etički kodeks za učenike i zaposlenik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Organizirati roditeljske sastanke na temu nasilj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Osmisliti program za ispraćaj učenika osmih razred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Organizirati radionice i predavanja za učenike i učitelje na temu tolerancija i predrasu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08./2009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Nužni resursi(financijski, organizacijski, ljudsk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atovi razrednog odje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oditeljske sastan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formalna druženja s roditelj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astanci Učiteljska vijeć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astanci Vijeća roditelja i učenika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ogram rada stručne službe škole s učenicima, učiteljima i roditelj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08./2009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Datum do kojega će se cilj ostvari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Tijekom 2008./ 2009. školske god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08./2009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Nadležne osob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čiteljsko vijeć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ijeće roditel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ijeće učen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oditelj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čeni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tručna služ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anjski suradni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stali djelatnici ško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08./2009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Mjerljivi pokazatelji ostvarivanja cilje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ezultati  anketa o nasilju među učenic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Evidencija broja konflikata i nasilja prema Protokolu o postupanju u slučaju nasil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stojanje Etičkog kodeksa za učenike i zaposlenike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Anketa za zaposlenike, roditelje i učenike  o klimi u ško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11./2012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Prioritetna područ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1.  Podrška učenic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11./2012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Cilj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manjiti i prevenirati nasilje među učenic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aučiti učenike kako uči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Calibri"/>
              </a:rPr>
              <a:t>Tko provodi samovrednovanj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11280" y="1196640"/>
            <a:ext cx="8075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Postupak samovrednovanja u školama provodi povjerenstvo (Tim za kvalitetu) kojeg imenuje ravnatelj ško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TIM ZA KVALITETU OŠ ANTUNA MIHANOVIĆ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2677680"/>
            <a:ext cx="955044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Josip Mandurić, ravnatelj</a:t>
            </a:r>
            <a:r>
              <a:rPr b="0" lang="hr-HR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Gordana Runje, nastavnik razredne nastave i prof. pedagog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mr. spec. Silvija Mihaljević, klinički psiholo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Sanda Zlatarić, prof. rehabilit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Marija Vučak, nastavnik razredne nast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Ksenija Moguš,  prof. matematike i fiz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Tomislav Kralj, prof. 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Kristina Sabljić, učenik 7.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Gordana Skokić, član Školskog odb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Svjetlana Činčurak, predsjednica Vijeća roditel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Marko Pipunić, dir. Žito d.o.o, Osij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Ivica Škojo, dir. Škojo d.o.o, Osij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nstantia"/>
              </a:rPr>
              <a:t>Davor Brust, prof., voditelj Odsjeka za prosvjetu, tehničku kulturu, djecu i mladež u Gradu Osije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11./2012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Metode i aktivnosti za ostvarivanje cilje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Provedba projekta „Prekini lanac“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Daljnja provedba vršnjačke pomoć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Izraditi vrijednosti, pravila i posljedice za svaki odj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Radionice na temu prevencija nasilja i nenasilno rješavanje sukob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nstantia"/>
              </a:rPr>
              <a:t>Edukacija učitelja, učenika i roditelja o tehnikama uspješnog učenj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11./2012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Nužni resursi(financijski, organizacijski, ljudsk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atovi razrednog odje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oditeljske sastan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formalna druženja s roditelj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astanci Učiteljska vijeć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astanci Vijeća roditelja i učenika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ogram rada stručne službe škole s učenicima, učiteljima i roditelj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11./2012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Datum do kojega će se cilj ostvari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Tijekom 2011./ 2012. školske god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11./2012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Nadležne osob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čiteljsko vijeć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ijeće roditel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ijeće učen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oditelj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čeni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tručna služ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anjski suradni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stali djelatnici ško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ŠKOLSKI RAZVOJNI PLAN OŠ ANTUNA MIHANOVIĆA, OSIJEK 2011./2012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Mjerljivi pokazatelji ostvarivanja cilje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ezultati  anketa o nasilju među učenic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Evidencija broja konflikata i nasilja prema Protokolu o postupanju u slučaju nasilja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Anketa za zaposlenike, roditelje i učenike  o klimi u ško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spjeh učenika na polugodištu i kraju nastavne god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Naslov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Josip\Desktop\tim za kvalitetu.jpg"/>
          <p:cNvPicPr/>
          <p:nvPr/>
        </p:nvPicPr>
        <p:blipFill>
          <a:blip r:embed="rId2"/>
          <a:stretch/>
        </p:blipFill>
        <p:spPr>
          <a:xfrm>
            <a:off x="-304920" y="181080"/>
            <a:ext cx="9753840" cy="6495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Calibri"/>
              </a:rPr>
              <a:t>Tko provodi samovrednovanje škol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Školama u procesu samovrednovanja pomažu kritički prijatelj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KRITIČKI PRIJATELJ OŠ ANTUNA MIHANOVIĆ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Marina Ništ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, viša savjetnica za biologiju u Agenciji za odgoj i obrazovanje,Podružnica Osije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40096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INDIKATORI KVALITETE ZA SAMOVREDNOVANJE ŠKOLA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1. Kvaliteta nastave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Škola sistematično vrednuje kvalitetu rada svake god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Škola sistematično vrednuje metode i oblike rada učitelja (učenici vrednuju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Škola osigurava individualizirani pristup nastav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Škola sistematično radi na poboljšanju kvalitete učenja (učitelji redovito pohađaju stručne seminar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Većina učitelja koristi aktivne metode poučavanj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768672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INDIKATORI KVALITETE ZA SAMOVREDNOVANJE ŠKOLA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hr-HR" sz="2600" spc="-1" strike="noStrike">
                <a:solidFill>
                  <a:srgbClr val="000000"/>
                </a:solidFill>
                <a:latin typeface="Constantia"/>
              </a:rPr>
              <a:t>2.  Kvaliteta nastavnog plana i progra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Svim učenicima je omogućeno usvajanje sadržaja nastavnog plana i programa prema željenim razina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Izborni programi zadovoljavaju potrebe većine učenik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Provođenje nastavnih planova priprema učenike za život u zajednic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20:20:56Z</dcterms:created>
  <dc:creator> </dc:creator>
  <dc:description/>
  <dc:language>en-US</dc:language>
  <cp:lastModifiedBy> </cp:lastModifiedBy>
  <dcterms:modified xsi:type="dcterms:W3CDTF">2012-05-16T07:00:28Z</dcterms:modified>
  <cp:revision>8</cp:revision>
  <dc:subject/>
  <dc:title>PROJEKT SAMOVREDNOVANJA  OŠ ANTUNA MIHANOVIĆA, OSIJEK</dc:title>
</cp:coreProperties>
</file>