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  <p:sldId id="268" r:id="rId37"/>
    <p:sldId id="269" r:id="rId38"/>
    <p:sldId id="270" r:id="rId39"/>
    <p:sldId id="271" r:id="rId40"/>
    <p:sldId id="272" r:id="rId41"/>
    <p:sldId id="273" r:id="rId42"/>
    <p:sldId id="274" r:id="rId43"/>
    <p:sldId id="275" r:id="rId44"/>
    <p:sldId id="276" r:id="rId45"/>
    <p:sldId id="277" r:id="rId46"/>
    <p:sldId id="278" r:id="rId47"/>
    <p:sldId id="279" r:id="rId48"/>
    <p:sldId id="280" r:id="rId49"/>
    <p:sldId id="281" r:id="rId50"/>
    <p:sldId id="282" r:id="rId51"/>
    <p:sldId id="283" r:id="rId52"/>
    <p:sldId id="284" r:id="rId53"/>
    <p:sldId id="285" r:id="rId54"/>
    <p:sldId id="286" r:id="rId55"/>
    <p:sldId id="287" r:id="rId56"/>
    <p:sldId id="288" r:id="rId57"/>
    <p:sldId id="289" r:id="rId58"/>
    <p:sldId id="290" r:id="rId59"/>
    <p:sldId id="291" r:id="rId60"/>
    <p:sldId id="292" r:id="rId61"/>
    <p:sldId id="293" r:id="rId62"/>
    <p:sldId id="294" r:id="rId63"/>
    <p:sldId id="295" r:id="rId64"/>
    <p:sldId id="296" r:id="rId65"/>
    <p:sldId id="297" r:id="rId66"/>
    <p:sldId id="298" r:id="rId67"/>
    <p:sldId id="299" r:id="rId68"/>
    <p:sldId id="300" r:id="rId69"/>
    <p:sldId id="301" r:id="rId70"/>
    <p:sldId id="302" r:id="rId71"/>
    <p:sldId id="303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slide" Target="slides/slide13.xml"/><Relationship Id="rId38" Type="http://schemas.openxmlformats.org/officeDocument/2006/relationships/slide" Target="slides/slide14.xml"/><Relationship Id="rId39" Type="http://schemas.openxmlformats.org/officeDocument/2006/relationships/slide" Target="slides/slide15.xml"/><Relationship Id="rId40" Type="http://schemas.openxmlformats.org/officeDocument/2006/relationships/slide" Target="slides/slide16.xml"/><Relationship Id="rId41" Type="http://schemas.openxmlformats.org/officeDocument/2006/relationships/slide" Target="slides/slide17.xml"/><Relationship Id="rId42" Type="http://schemas.openxmlformats.org/officeDocument/2006/relationships/slide" Target="slides/slide18.xml"/><Relationship Id="rId43" Type="http://schemas.openxmlformats.org/officeDocument/2006/relationships/slide" Target="slides/slide19.xml"/><Relationship Id="rId44" Type="http://schemas.openxmlformats.org/officeDocument/2006/relationships/slide" Target="slides/slide20.xml"/><Relationship Id="rId45" Type="http://schemas.openxmlformats.org/officeDocument/2006/relationships/slide" Target="slides/slide21.xml"/><Relationship Id="rId46" Type="http://schemas.openxmlformats.org/officeDocument/2006/relationships/slide" Target="slides/slide22.xml"/><Relationship Id="rId47" Type="http://schemas.openxmlformats.org/officeDocument/2006/relationships/slide" Target="slides/slide23.xml"/><Relationship Id="rId48" Type="http://schemas.openxmlformats.org/officeDocument/2006/relationships/slide" Target="slides/slide24.xml"/><Relationship Id="rId49" Type="http://schemas.openxmlformats.org/officeDocument/2006/relationships/slide" Target="slides/slide25.xml"/><Relationship Id="rId50" Type="http://schemas.openxmlformats.org/officeDocument/2006/relationships/slide" Target="slides/slide26.xml"/><Relationship Id="rId51" Type="http://schemas.openxmlformats.org/officeDocument/2006/relationships/slide" Target="slides/slide27.xml"/><Relationship Id="rId52" Type="http://schemas.openxmlformats.org/officeDocument/2006/relationships/slide" Target="slides/slide28.xml"/><Relationship Id="rId53" Type="http://schemas.openxmlformats.org/officeDocument/2006/relationships/slide" Target="slides/slide29.xml"/><Relationship Id="rId54" Type="http://schemas.openxmlformats.org/officeDocument/2006/relationships/slide" Target="slides/slide30.xml"/><Relationship Id="rId55" Type="http://schemas.openxmlformats.org/officeDocument/2006/relationships/slide" Target="slides/slide31.xml"/><Relationship Id="rId56" Type="http://schemas.openxmlformats.org/officeDocument/2006/relationships/slide" Target="slides/slide32.xml"/><Relationship Id="rId57" Type="http://schemas.openxmlformats.org/officeDocument/2006/relationships/slide" Target="slides/slide33.xml"/><Relationship Id="rId58" Type="http://schemas.openxmlformats.org/officeDocument/2006/relationships/slide" Target="slides/slide34.xml"/><Relationship Id="rId59" Type="http://schemas.openxmlformats.org/officeDocument/2006/relationships/slide" Target="slides/slide35.xml"/><Relationship Id="rId60" Type="http://schemas.openxmlformats.org/officeDocument/2006/relationships/slide" Target="slides/slide36.xml"/><Relationship Id="rId61" Type="http://schemas.openxmlformats.org/officeDocument/2006/relationships/slide" Target="slides/slide37.xml"/><Relationship Id="rId62" Type="http://schemas.openxmlformats.org/officeDocument/2006/relationships/slide" Target="slides/slide38.xml"/><Relationship Id="rId63" Type="http://schemas.openxmlformats.org/officeDocument/2006/relationships/slide" Target="slides/slide39.xml"/><Relationship Id="rId64" Type="http://schemas.openxmlformats.org/officeDocument/2006/relationships/slide" Target="slides/slide40.xml"/><Relationship Id="rId65" Type="http://schemas.openxmlformats.org/officeDocument/2006/relationships/slide" Target="slides/slide41.xml"/><Relationship Id="rId66" Type="http://schemas.openxmlformats.org/officeDocument/2006/relationships/slide" Target="slides/slide42.xml"/><Relationship Id="rId67" Type="http://schemas.openxmlformats.org/officeDocument/2006/relationships/slide" Target="slides/slide43.xml"/><Relationship Id="rId68" Type="http://schemas.openxmlformats.org/officeDocument/2006/relationships/slide" Target="slides/slide44.xml"/><Relationship Id="rId69" Type="http://schemas.openxmlformats.org/officeDocument/2006/relationships/slide" Target="slides/slide45.xml"/><Relationship Id="rId70" Type="http://schemas.openxmlformats.org/officeDocument/2006/relationships/slide" Target="slides/slide46.xml"/><Relationship Id="rId71" Type="http://schemas.openxmlformats.org/officeDocument/2006/relationships/slide" Target="slides/slide47.xml"/><Relationship Id="rId72" Type="http://schemas.openxmlformats.org/officeDocument/2006/relationships/slide" Target="slides/slide48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AF5FC-C77E-46E6-BABF-F3DF54C88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231DA7-E555-43ED-A827-EA90A407F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ED583-720F-49E3-9DAE-3D5198472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6C940-735C-4A57-8425-74AACE79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E431E-70D8-4F65-8A97-239023E5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33DBC-A55E-4239-AE24-DDFC0BE2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1FA92-525B-41A0-8E54-2409F89F7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3A009-535C-42A1-AD82-50CC61B8D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76CC2-DF9B-456D-923A-05DDC0037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07920-46A7-4E8F-B786-86F59B79A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D85B3F-A5AC-47C8-B558-68EAC82C6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EA375-6490-420E-877F-409B96DF7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82897A-8A09-43C5-8EBF-7E6F2932E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4F92B-3319-4966-BD02-002B93FC9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20909E-F65C-4C7C-A421-50B73C20E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0626BB-6858-4BB8-8B07-27557615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3E979-B699-4DB0-BB30-6CCC5040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3CBC1B-5606-4BC9-A0E5-FA417059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CB355-832D-4685-81A6-FB4CB38EB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3D8955-87EE-40C1-9DE0-135549666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0ED2D-5160-487D-B96D-0E74ECAD8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472A17-9622-4AD1-801B-5C266A297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8742DF-9A2A-4997-896D-832C1289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D91104-59F2-40D8-825E-61473860E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ADD2C7-3FBF-4E4E-ACB8-9FB3B08B6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07F17F-BFF6-409D-B9F6-EC80F5575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CE44E8-5C32-4CD8-81BE-1E0D95C84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9EC761-B8AE-4161-8C59-17353A2E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9D249A-83F3-490B-9B49-453F872D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6F862-6C0F-4931-9D71-8871D622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32BC60-5C81-4FB6-B750-907B4ED13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A0D407-817F-49DB-969D-F90EB6323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A13743-207A-4D15-9BF2-4D9334170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D61D69-3C1B-4909-B3EF-09C8938CC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165E99-940A-4AFD-94EE-6AF675ED1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86E953-D86C-411D-977B-AA7A8C6FF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862FF1-0B54-41B9-8C5E-8DB252D4A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8B66AD-F273-4F0B-B9C3-BD5331A4D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91DC32-7CC9-4FAD-BE43-7FEA311BE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77B71E-21A0-4788-BB5E-59425781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057585-5E05-4FA6-B17C-71161EE8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82553D-4F96-41FA-8FCC-2D5FABAE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5507BC-0133-4F49-90C5-DCE7DDC8F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FFFD2A-8F8A-44EE-BFEE-1C751748F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E77CDD-2E08-4A33-9476-FC557E77E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92D1BB-9313-4771-808A-D363E19EB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C96EA5-4F59-4FE1-8018-72BDED0DD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8CF238-60E4-469C-9DFD-0630A2498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3F7E43-C1D2-4F90-8A54-E5A5D1215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E867F3-E481-43CD-95B2-5A159828C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CAB858-75EC-4575-8251-E1CFA5F7C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4BE24C-BAA6-4A3B-B3CB-3A408B60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32AB38-73DB-4FF1-8098-2B6FE231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4F550E-C881-4126-9DB0-B0C76D8E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4B7AFC-D409-402A-9B7C-C15423EB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543165-660F-40BE-A1F7-4A465FC96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0BD923-A67A-4E02-9024-EB2255E31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6A0308-EBCF-42DD-AD58-2C4500DB7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2DAC23-0BE5-4EEA-9C00-DE8BD55B7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0423B7-CF33-438D-A0FF-5E82CC202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49C1A2-C20D-4849-9BCC-9E50CC1C9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F0FA54-CDBC-4547-8E7E-0D345550C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A05F67-7F87-49CC-9C59-0298879CB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31776F-FEF2-478C-A2F3-7E964917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D5F121-395D-4E81-A6E0-65C48419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9BD05B-6AD7-45FB-9CB1-C5DEDDCB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37157D-8F55-4DDB-9D1C-01426E7AB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E1186B-D97B-4C1E-BBAE-8BF02652B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4D9B2E-D64A-4A37-BB02-E75BDD63F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051A9E-CFDB-4A20-9CC9-7D5288A97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880A0E-2C02-4DE6-B09A-2BBD17F07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4D163B-7BF7-4EB0-A9A2-2CEF24BF7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953418-8275-4D8C-9122-A936B670E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AD05EC-368B-4309-884C-8792855A1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966FFB-E503-4E7F-9BD1-DD07195B9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2E49E5-1856-489B-B736-6603CBC0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6FC7A5-06C7-4623-92F9-ADF0957B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F59204-CDEA-445B-840E-824A7FF8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C8E51D-25B4-41AE-91A0-1935484A1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F3B109-1704-45F3-BAC8-5FA074EDC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3EEA55-DD55-4FB1-AD94-C73704662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258840-3A47-4E38-80C7-DA6C98B0B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63BDA7-8E4E-430A-AA36-E6470550A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265E6D-8CC1-4324-BEDB-9B1198F6D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C35710-1202-4EBF-87B0-C0E3B834B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7D51D5-6E75-488C-B50A-19E2417C4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DF774A-1DBC-407C-8B76-FD845A04F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020C46-4D6B-4928-A247-5B1DCB4C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732A49-BB9A-45DD-B302-A805BF64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157C92-08F5-416A-AE89-32D2A462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F31AF3-C970-4818-ACFA-296F84442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8459DA-0C40-4517-9E4B-0777166B6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0B93BC-AD2C-4A69-A831-987FE77F1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B1B63C-6D8B-4B23-A2EE-FF5F74E13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47614A-DCA2-4FF4-A5F2-B9D325E06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94A8A0-D293-4F66-8EC1-3C711D83B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9199CA-7EB7-416D-8D4B-2B24E57F5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B7DDDA-524E-437F-B3B0-81632A52B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3E4FBA-B88F-40C2-A245-A097A44AE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7F7F01-0146-4A57-9BEC-8CD95159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FD6214-AC1E-43E4-9E5E-E46AE994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5B05BA-1B62-4A9A-97F5-4E85E2B7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CEBEFC-05B5-461F-8DB2-AAD55B948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8E4B29-2E0D-4FFB-A0D7-B4CE0A59C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3749F3-E8C8-45E9-99EC-DFB1F9481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6378DE-44F6-4DDF-A36B-02E78A4C6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C03890-9CB1-47A5-8E65-0360EECD4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887E62-2008-4EC6-9C8A-2EDBC07BB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E9DBFA-E043-430F-A36D-94660F6EF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838F68-B43A-43B7-8CEC-950B3B266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CB9A62-7F25-4CCA-9E8B-AF8FF9B47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4AF665-6389-4861-B9E6-AA3D2364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D6658D-3369-4762-AD4B-86BB39C4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E3D7CD-6B76-4E84-9CEE-85090D5A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6E05A6-9967-4B80-8AC3-CADE1D135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DCDF70-288F-43EC-BDF5-3E581743E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9B852B-77BA-46A3-945B-F60D05884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5B23DD-DA77-4504-A06C-878CF6CB4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575868-A404-45A1-8D21-A9A7AD100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47DB0C-D294-4218-80E6-C62A64D03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548614-8447-420D-A247-7B01EE75C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261606-8990-4E84-BB00-50A72A6E7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DB5540-9D23-4506-BA85-B1CA2308E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1D1BEE-0C2F-43EC-8770-F36F0FD3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605F16-C46F-476F-880D-86403574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062775-B788-46BB-B780-FB374A14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A74D24-0068-4574-802C-D2526161B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428B49-5558-41CD-930A-B064D6E2A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DDBF2F-CFE7-4A20-A2A9-5F28A0E91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BE064D-2EA8-49E4-B6B7-D9A6D2FA8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13665F-E105-4FB6-8628-C7B22599F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D84CE5-70DC-4CCC-BAE9-7559DB521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5F9AC8-37DD-433B-A202-958FDB6D3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1C171B-5ADC-4934-AC57-3401E95A3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CB0869-8EB4-437F-9E79-3AB83C372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7F5603-2A92-4C10-A5E9-90191497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1C3B57-853F-4432-832E-FC4226AC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E8D88A-2B05-4FBC-A1DF-5E82CA46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924B75-3FD6-4C7D-A037-4E7D93FCA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84E8AD-EEF4-4C77-9286-5D692DDFD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9A2208-FF12-433C-878D-9BD7C1512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3D888D-4868-4A8E-8D8F-1F1D24419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4BF930-6BE6-4FAE-ACAA-73FC606CD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7090A9-8D86-4E02-9870-397D16AE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27A84B-7DC3-4713-85F6-C96533EB0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70BCBF-099B-4BE6-815A-3AFD99842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BA2F1E-3025-4AE3-B0AB-2D38471A5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A707BD-816C-4AAF-9C2D-4295614A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7E50B3-2F52-435E-BD5E-3F5EDE30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B3633C-1089-4CE0-A3A4-A8FF7E36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3A39C1-852B-42F3-834D-DF7E76321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FAB910-6456-409B-B379-FD9ED57A7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B4869A-EABE-426E-9D10-36FE9005A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4886CC-5AED-4AE2-B2C6-A0F23EE08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A9E89A-38B3-40C4-8C57-CA297C6A4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C8E137-8267-4E3F-8254-21B999EF0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DB22C8-FD36-40CE-9A4E-1FE53573E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B957DB-C22C-4ADA-A335-804A44592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F13B98-B5CC-4245-8C8F-94657AF42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21D212-5AED-466E-AD65-62765945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10AA98-B217-40B6-A215-D0A716DD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7FC8BE-C221-4275-9191-E4EB913D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6D73BB-1A7C-4CF6-8064-725D42BC8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DD423A-9566-48EF-A1F1-0B7125097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9B683C-96EC-4B10-8F32-8BDA44C42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C5686D-7570-4694-8073-022C839C0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387610-CA02-46D3-BA02-6C0D466FF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F9F409-414B-4F3B-885E-7F471F60C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517052-15F8-445E-B7F7-CA0A36D46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C4D5D2-7BE3-4519-8E32-92BC1A5F7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58F991-2744-4AF1-87D1-0CE3416C9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EFEE96-0202-4CBC-A2BF-D6733C97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89871C-2575-4292-A2E8-C31D97E1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F44F4B-1C80-4BBB-8515-9296BB76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2D2EA7-F0D5-4543-9B60-8C9E9922D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A1361B-0C74-4CE1-984B-5786F96E8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2A2BC2-00B0-488E-B006-CC76391A5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0C71-DCC6-44B9-882F-0EB6ADC57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61F3-F593-4A81-BD32-0385CC8AD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69A8-8355-4C18-9B16-69D8C6459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589B-5645-435C-9891-788071C5B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016B-5BF7-4146-B3D6-397DB074D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F9D5-EE42-424E-8C24-555DF3C4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C49B-2318-436D-882F-9B6DD5E8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270C-71FB-4170-8BDB-8887BFAE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C97F-1B42-4863-99A0-06E78ACD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B70E-1014-449C-A5C6-B3EA1A704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5086-965C-4B86-8058-A73F9E6D0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54B4-6F99-4800-AC83-6094D8C79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163E0-FD2D-442B-86DE-FF00ED8C3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6FF1A-F25B-45B5-86D6-2C3A644A2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C7D57-FDF2-41AB-B8BA-B123D659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4EB4D-768C-4404-85F6-B134450AE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366FA-9E29-46C2-8CDA-40FF9EFA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04ED1-BA98-4565-91AF-006F35347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1ACE5-F190-4B11-9E65-30C8D87C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A97B0-60D6-40A6-8DC2-F977D821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E2EB7-BF06-47AA-BA2B-9E156AFA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35926-9AB1-456E-AE60-F3F3D46E4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7D4D1-E41D-4465-A952-E90C8880D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BCE39-6BDC-41B4-B199-5C6F298F1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8934D-B8CC-4E75-B672-4F4452A31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78D73-64D6-4BFE-A4FB-87C4572A9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D4549-5033-46AF-8166-8B9218C08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1001C-07B5-4AB9-9130-94CFF0BB4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BC4DA-CA25-4606-872E-D357844D7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41CE5-7A99-433B-B128-E307910EC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848E4-0A53-4616-905B-F0C1B0CB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BCAA0-0521-4686-B085-14E4DA2C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77EB9-F0B5-4548-81F9-0F682D47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E312B-8E7A-4B2D-B881-9040A6A01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0D31C-ADAD-4D9F-9EC1-84FA9E604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CB49E-5FFA-4DD2-AFF6-BDBF1020B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6F162-494E-4CA8-8489-4DD52B31B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0344F-4BBB-45FF-9CE2-F1E3D0DDD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11221-CFC7-4E6F-926F-7B5AB7AFF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F3A13-1B32-4A2D-8DC1-B6288800D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E090C-6AA9-405C-8456-6430D3D81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F0706-FE8F-44C0-A2DF-570EF9F24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46371-1008-42E1-B208-01F3502F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FB11F-2B77-4490-9D15-33F78813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80303-8F74-46C7-B72E-40DEC38D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3D1DD-A8F6-48CC-B4DC-A6F9823D8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1FBB1-8E94-49E4-B765-F204D4228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D21F7-2F01-4C06-ADFE-88FAD8E89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109CD-8C4F-4FCC-BFD7-67B3CA7CF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5201B-B958-4A55-A17E-8C14FA7D6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63AD0-76F1-4E34-B5B5-19243F807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E06AE-D67E-4DBB-B9D0-E3D55A2B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712E3-1BDB-4554-A8E5-231EFDEB2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BB405-4ED1-4858-85C1-CF730F409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19D7F-8D06-4B9B-9EE6-65422241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20982-6FD1-4FB5-9803-3EDE7BB9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DE79E-8426-4F89-A0C5-F57F7786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5C1E9-E505-41F0-AFD6-AC888BD42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D006D-3099-4853-8D6E-5EEE171EE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54D07-BA79-4B3F-8537-1E346350E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C34A53-CDD1-4425-982A-73D9EA85B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A67BD-FEDC-4A6F-B269-269A928A5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7B8EB-540B-46CF-BF66-34CA0312C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4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397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398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39F2A-E3FD-4013-A0A0-7E285C244E91}" type="slidenum">
              <a:rPr b="0" lang="hr-H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442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443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EAE6A-1642-4B20-86E2-E1A1047E5D2C}" type="slidenum">
              <a:rPr b="0" lang="hr-H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487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488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C1363-5928-4B8B-912B-F2DB65136357}" type="slidenum">
              <a:rPr b="0" lang="hr-H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2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533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631E-5DC0-48AB-B0CE-CA275281D3AB}" type="slidenum">
              <a:rPr b="0" lang="hr-H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76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577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53B02-67DB-41E8-977F-45D97201D486}" type="slidenum">
              <a:rPr b="0" lang="hr-H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20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621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2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03EA7-EF44-4516-B4F8-A68A2DD3FF63}" type="slidenum">
              <a:rPr b="0" lang="hr-H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64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665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6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02FF8-BBA4-49A9-8B16-7396675B26AC}" type="slidenum">
              <a:rPr b="0" lang="hr-H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08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709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EDE75-B34A-4CE0-813C-9F956F817B9E}" type="slidenum">
              <a:rPr b="0" lang="hr-H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52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753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D1229-DA54-4CAB-A306-DC7013D888D9}" type="slidenum">
              <a:rPr b="0" lang="hr-H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6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97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798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9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1BB72-2FAD-44F0-830D-83DE65B120F6}" type="slidenum">
              <a:rPr b="0" lang="hr-H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grpSp>
        <p:nvGrpSpPr>
          <p:cNvPr id="44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45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0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41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842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3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E7EA5-0F99-47D6-893E-E9C6FFE58F1A}" type="slidenum">
              <a:rPr b="0" lang="hr-H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85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886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7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4EE8A-5EB5-47A5-99C4-8D400517832B}" type="slidenum">
              <a:rPr b="0" lang="hr-H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29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930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1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7F48D-08C0-4523-BF3F-732CFAB9C71E}" type="slidenum">
              <a:rPr b="0" lang="hr-H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73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974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5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28CA1-79D2-428C-840C-F78A79B78506}" type="slidenum">
              <a:rPr b="0" lang="hr-H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84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85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Picture 5" descr="AZOO1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127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128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CAEA6-62FE-4631-984C-C635532C8993}" type="slidenum">
              <a:rPr b="0" lang="hr-H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172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173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CF7AC-A223-4B8D-A5E2-636F7ABBB9F2}" type="slidenum">
              <a:rPr b="0" lang="hr-H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217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218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3B78B-D44E-42EB-98A3-0C3EB0293529}" type="slidenum">
              <a:rPr b="0" lang="hr-H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262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263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32D19-8DB3-4927-B612-82030064CAA1}" type="slidenum">
              <a:rPr b="0" lang="hr-H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307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308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18E81-F3D6-4E13-9862-50CF20DFAAE2}" type="slidenum">
              <a:rPr b="0" lang="hr-H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352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353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F24E9-20A0-4FD9-9073-BCEF889290CC}" type="slidenum">
              <a:rPr b="0" lang="hr-H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85800" y="1700280"/>
            <a:ext cx="7772400" cy="19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POGREŠKE I PROPUSTI U RADU RAVNATELJA SREDNJIH ŠKOLA</a:t>
            </a:r>
            <a:br>
              <a:rPr sz="3200"/>
            </a:b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viši savjetnik Mario Rogač, prof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Agencija za odgoj i obrazovan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Odjel za stručno-pedagoški nadz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Pogreške pri raskidanju ugovora o radu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 savjetuje radničko vijeće prije otka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(čl. 118. ZOR-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 poštuje propisane kriterije za tehnološki višak (čl. 107. ZOR-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oširivanje kriterija za tehnološki viš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Pogreške vezane uz ugovor o radu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otuzakonit ugov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isti radnik ima nekoliko ugovora o rad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ma ugovora o rad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potpun ugovor o radu (čl. 13. ZOR-a)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kolizija ugovora i rješe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kolizija ugovora i rad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zastarjeli i netočni poda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Pogreške vezane uz rješenja o zaduženju</a:t>
            </a: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	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nema rješe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pravilno ili </a:t>
            </a: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nepotpuno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 napisana rješe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nisu izdana u propisanom ro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isu u skladu s Pravilniko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isu u skladu s člankom 104. st.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Zak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Veće pogreške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prijavljen prekovremeni ra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potreban prekovremeni r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plaćanje prekovremenog r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usklađenost zaduženja nastavn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(u 6 dokumenata)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Veće pogreške 2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ravnatelj ne vrši uvid u nastav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emalo uvi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ma analize rada nastavn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izbacivanje učenika s nastave iz učion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slanje učenika kuć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dežurstva radnika – sigurnost učen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Veće pogreške 3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skraćivanje trajanja sata (čl. 51. st. 4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skraćivanje nasta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imjena Nastavnog plana i programa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potrebna štet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ma svih podzakonskih ak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uporaba neodobrenih udžben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Ostale pogreške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poznavanje uredskog poslovanja (Uredba o uredskom poslovanju (NN, broj 7/09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dovoljno poznavanje propisa (ZUP, ZOR…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dežurstva učenika (čl. 61. st. 2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ma kolektivne naplate šte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sakupljanje nov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sve što se plaća nije obvez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Organizacija rada i nastave</a:t>
            </a:r>
            <a:br>
              <a:rPr sz="3200"/>
            </a:b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   </a:t>
            </a: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	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rad pedagoga samo prije pod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rad pedagoga samo u jednoj smje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rad ravnatelja samo prije pod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ekasno upoznavanje roditelja s promjenama u ustroju (čl. 49. st. 5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Organizacija rada i nastave 2</a:t>
            </a: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	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odabir razrednik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organizacijska nepreciznos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epridržavanje rasporeda sat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eorganiziranje zamjena nastavn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astava HJ blok sat četvrtak i pet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Organizacija rada i nastave 3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termin za primanje stran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termin informacija za roditel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rad bez pl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bavljenje nevažnim ili manje važnim stvari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Razlozi izlaganja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19" name=""/>
          <p:cNvSpPr txBox="1"/>
          <p:nvPr/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velik broj ravnatelja u prvom manda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uočene pogreške i propusti u stručno-pedagoškim i inspekcijskim nadzori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svakodnevna pita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osljedice pogreš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Godišnji plan i program rada škole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ma GPIPR ško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ije donesen u propisanom ro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ije provedena rasprava na N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ije provedena rasprava na vijeću roditel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(čl. 137. st. 4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ma školskog kurikulu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ije dostupan ili objavljen na propisani način (čl. 28. st. 6. i 7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Godišnji plan i program rada 2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razrađeno stručno usavršavan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razrađena zaduženja nastavn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ma rasporeda dežurnih radn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ma planskih elemenata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potpuno planiran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Godišnji plan i program rada 3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nema  preventivnog  programa ili je nerazrađ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nema  programa  za suzbijanje  nasilja ili je nerazrađ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nema samovrednova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ma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isanih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 dokaza o provedenim aktivnostima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GPIPR ravnatelja škole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ma plana i programa rada ravnatel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lan i program rada koji je praktično neupotreblji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lan i program rada ravnatelja je nepotpu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lan i program rada ravnatelja je zastario (napisan prije 10 i više godin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GPIPR ravnatelja škole 2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lan i program rada ravnatelja nije razrađen po mjeseci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lan i program rada ravnatelja nema planske eleme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ije planiran (ili nedovoljno planiran) posjet nastav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lan i program rada ravnatelja piše stručna suradnica pedagogi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GPIP rada škole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Izvješće o realizaciji GPIP rada ško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Izmjene i dopune GPIP rada ško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ilozi GPIP rada ško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Pogreške vezane uz popravne ispite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planiranje 1. roka popravnog ispi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ma dokumentacije o popravnim ispiti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potpuna dokumentaci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rad nepotpunog povjerenst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Pogreške vezane uz popravne ispite 2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ma pisanog traga da li je učenik znao, djelomično znao ili nije zna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ma pečata, potpisa, datu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poštivanje Pravilnika (kolizija Statuta i Pravilnik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primjerena pita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eviše pita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Pogreške kod ocjenjivanja učenika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zaključna ocjena čl. 73. st. 2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javno, u razrednom odjelu, na kraju)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 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zaključna ocjena koja je nestručno izvede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ma ocje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isu upisane ocj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ekasno“ upisivanje ocje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emalo ocje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Pogreške kod ocjenjivanja učenika 2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kažnjavanje ocjen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brisanje ocje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ocjenjivanje učenika koji nije prisut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1111“ na jednom sa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zaključnu ocjenu utvrdio ravnatelj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(čl. 73. st. 3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Problemi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ma pripremnog osposobljavanja prije stupanja na dužnost ravnatel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ma mentorske pomoći tijekom rada u prvom manda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 postoji pomoćnik ravnatelja kao prvi suradni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ma praćenja i vrednovanja rada ravnatel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ma licenciranja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Pogreške kod ocjenjivanja učenika 3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u rubriku za ocjene upisivati samo ocj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 koristiti korekturni l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 upisivati običnom olovk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inspekcijske primjedbe“ (+, -, ?, /, …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Pogreške kod ocjenjivanja učenika 4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upisivanje ocjene u neodgovarajuću rubri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ocjenjivanje gradiva koje nije obrađe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ocjenjivanje gradiva koje nije predviđeno NP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Pogreške kod ocjenjivanja učenika 5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objektivno ocjenjivanj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loš kriteriji ocjenjiva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ma kriterija ocjenjiva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argumentirana ocjena iz vlada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Pogreške kod ocjenjivanja učenika 6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loša komunikacija nastavnika (u vezi ocjen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obavještavanje roditelja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 davanje pisanih radova na uv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 čuvanje pisanih rado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ff"/>
                </a:solidFill>
                <a:uFillTx/>
                <a:latin typeface="Calibri"/>
              </a:rPr>
              <a:t>Ravnatelj ne prati provođenje Pravilnika tijekom godine (čl. 16. st. 2.)</a:t>
            </a:r>
            <a:r>
              <a:rPr b="0" lang="hr-HR" sz="3200" spc="-1" strike="noStrike" u="sng">
                <a:solidFill>
                  <a:srgbClr val="0000ff"/>
                </a:solidFill>
                <a:uFillTx/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Pogreške utvrđene SP nadzorom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lažni iskazi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ogrešno postupanje ili nepostupanje u slučaju ozljede učen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loša provedba Pravilnika o načinima, postupcima i elementima vrednovanja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dežurstva nastavnika i drugih radnika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ozivanje na izjavu umjesto </a:t>
            </a: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uporište u propisu i pisanu dokumentacij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Pogreške utvrđene SP nadzorom 2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nepoduzimanje mjera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 (učenik, nastavnik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neobavještavanje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 (roditelja, policije itd.)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Pogreške utvrđene SP nadzorom 3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ma pisanih tragova i doka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pregledana pedagoška dokumentacij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(na vrijeme)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nema analize odgojno-obrazovnog stanja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nema sveobuhvatne analize uspjeha učen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(prosječna ocjena nije dovoljan pokazatelj)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Pogreške utvrđene SP nadzorom 4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ma evidencije o neprihvatljivim oblicima ponašanja učenika (čl. 67. al. 7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neizricanje pedagoških mje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formalni i pravni propu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primjerena uporaba školskih računala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Pogreške utvrđene nadzorom u zadnjih šest mjeseci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ne izdavanje pisanog izvješća na kraju 1. polugodišta * (čl. 138. st. 3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pripreme za maturu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zahtjev za preispitivanje ocjene nije obavilo nastavničko vijeće (čl. 76. st. 1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ovjerenstvo za polaganje ispita nije odredilo nastavničko vijeće (čl. 76. st. 4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Pogreške utvrđene nadzorom u zadnjih šest mjeseci 2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ije sazvano vijeće roditelja niti jedan p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ije sazvano vijeće učenika niti jedan p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ije održan niti jedan roditeljski sastan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u prvom polugodiš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emali broj roditeljskih sastanak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(3 najmanje, čl. 16. st. 3. Pravilnik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NADZOR U ŠKOLSTVU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Vrste nadz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Uporišta u propisi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Ovlasti inspekcije i Agenci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Pogreške utvrđene nadzorom u zadnjih šest mjeseci 3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ma vremenika pisanih radova učen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vremenik nije objavljen na propisani način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 u propisanom roku (čl. 10. st. 2. Pravilnik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nije imenovana osoba za zaštitu dostojanstva radnika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 *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Članak 293. st. 1. al. 28.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ZOR-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Preporuke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dobra komunikacija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poticajno rukovođenje i upravljan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 stvarati nepotrebno „neprijatelje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ovjera usklađenosti svjedodžbe, matične knjige i imenika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egledavati pedagošku dokumentaciju, praviti pisane bilješke, poduzimati mj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Preporuke 2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kontrola odnosa obrade, ponavljanja i ispitivanja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kontrola planova i progra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kontrola ocjena i ocjenjiva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egledati neke bilježnice učen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Preporuke 3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imati potvrdu o primitku pisanog dopi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ovjera osobnih dosjea radn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isteklo zvanje mentora ili savjetn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Teži prekršaji ravnatelja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Rad bez ugovora o rad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Rad bez rješenja o zaduženj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zakonito zapošljavanje (uvjet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Zataškavanje težih inciden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Financijski prekršaji  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ezakonit zakup pro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ovčane malverzacij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ezakonita isplata plać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ezakonita isplata dodataka na plać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ezakonita isplata dnevn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Najteži prekršaji ravnatelja 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Falsificiranje dokumentaci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Falsificiranje potpi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Falsificiranje javne ispra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Najteži prekršaji ravnatelja 2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zakonit raskid ugovora o rad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Neizvršavanje mjera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 (nalaz, rješenj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Ravnateljica nije poduzela niš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(državno odvjetništvo poduzima kazneni prog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c00000"/>
                </a:solidFill>
                <a:latin typeface="Calibri"/>
              </a:rPr>
              <a:t>Hvala!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Članak 125. Zakona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(1) Ravnatelj je </a:t>
            </a:r>
            <a:r>
              <a:rPr b="1" lang="hr-HR" sz="3200" spc="-1" strike="noStrike" u="sng">
                <a:solidFill>
                  <a:srgbClr val="c0504d"/>
                </a:solidFill>
                <a:uFillTx/>
                <a:latin typeface="Calibri"/>
              </a:rPr>
              <a:t>poslovodni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1" lang="hr-HR" sz="3200" spc="-1" strike="noStrike">
                <a:solidFill>
                  <a:srgbClr val="0000ff"/>
                </a:solidFill>
                <a:latin typeface="Calibri"/>
              </a:rPr>
              <a:t>stručni voditelj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 školske ustano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(2) Ravnatelj je </a:t>
            </a: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odgovoran za </a:t>
            </a:r>
            <a:r>
              <a:rPr b="1" lang="hr-HR" sz="3200" spc="-1" strike="noStrike" u="sng">
                <a:solidFill>
                  <a:srgbClr val="c0504d"/>
                </a:solidFill>
                <a:uFillTx/>
                <a:latin typeface="Calibri"/>
              </a:rPr>
              <a:t>zakonitost rada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1" lang="hr-HR" sz="3200" spc="-1" strike="noStrike">
                <a:solidFill>
                  <a:srgbClr val="0000ff"/>
                </a:solidFill>
                <a:latin typeface="Calibri"/>
              </a:rPr>
              <a:t>stručni rad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 školske ustano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Pogreške ravnatelja vezane uz djelatnost AZOO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Stažiranje i stručni ispi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Stručno-pedagoški r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apredovanja i obnove zva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Pogreške i propusti kod stažiranja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dovoljna briga pripravnicim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(u nekim slučajevima ništa, posljedice…)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ravnatelj ne nadzire stažiranj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(to radi stručna suradnica…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eskakanje“ pripravničkog staža (čl. 109.)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Veće pogreške i propusti kod stažiranja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ije imenovano povjerenstvo za stažiran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ije prijavljeno stažiran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ije izrađen program stažira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ije realiziran program stažira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mentor ne ispunjava svoje obvez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neodgovarajuća stručna sprema pripravnika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 (apsolvent ili nestručna osoba)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Pogreške u vezi zasnivanja radnog odnosa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zakonito zasnivanje radnog odno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ma vrstu spreme (neodređeno vrijem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oširivanje propisanih uvjeta za zasnivanje radnog odnos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potrebno zasnivanje radnog odnosa na određeno vrije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ma suglasnost školskog odb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6T10:41:54Z</dcterms:created>
  <dc:creator>Željka</dc:creator>
  <dc:description/>
  <dc:language>en-US</dc:language>
  <cp:lastModifiedBy>mrogac</cp:lastModifiedBy>
  <dcterms:modified xsi:type="dcterms:W3CDTF">2014-02-18T09:47:51Z</dcterms:modified>
  <cp:revision>73</cp:revision>
  <dc:subject/>
  <dc:title>Slide 1</dc:title>
</cp:coreProperties>
</file>