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19.jpeg" ContentType="image/jpeg"/>
  <Override PartName="/ppt/media/image11.png" ContentType="image/png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FC73-66F7-453B-81BE-5BA07234C54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C0BE-1101-4149-B02E-32B28861593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EBC7-A20C-46DA-82F9-784E2E36A87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B63C-1CE9-41CD-B1F7-476C49DBC14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FBD8-1D19-483D-852F-4A32D198086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35EC-8B62-42A5-9A83-4F2F6B2CE0A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38E2-AA3A-4D5F-AE2E-54ADD6229A6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65E-9FDC-496A-B7CD-1DBE66072AE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B1F5-7BF2-4CC8-86C3-F2C3059ACA7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A17-ECD3-4B45-97A4-E1CD53DE724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92C-4730-4A8D-A9D8-7AB86DC279F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B93-627F-4B8F-A4E3-19052BBAB0D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8DEB-985D-4107-B949-907BEDA268F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9543-87EF-4811-A2A2-F7E3BF942B8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6280-E549-4524-9616-A74FE2EB887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8828-13F0-4E9E-ABCA-CEFD5B820FF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8433-E98F-472C-ADC2-913ED4D015F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29BF-ECF6-42A6-B8FF-456534B7DA1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E527-78A7-4286-AE5E-F55A6C17DC8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1DD-DB0A-436F-829F-B5FA36A7D33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E090-0B14-45D9-84C0-137552EEE7B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F5C-98E3-4660-A822-2743FDE79C3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200-83AA-446E-9C90-1C5AB6666DE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7C8-1042-4E61-ACB0-7736EC48F4E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AFB7-6DF2-40D7-B3B1-6D23A7374DE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4EF9-01A9-4595-B347-90E34899004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CF51-EB17-46C3-AB34-97CC2B567BC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72C5-5300-41CB-8820-C26F14010EE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9363-9B1C-4F18-A413-03BFD657897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4A22-0AB4-4733-92B4-DEE4D3D0B2D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2FEA-3CF1-4518-A7D3-1399D44BBE5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6F5C-C932-4EE3-B866-343C88B63AD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54C-BBAF-4275-BB18-6FAB65D0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0AB-1734-4078-8602-BCE02E9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DB0-1288-4BD0-9564-DE961575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54C-5400-4B74-B61E-348F0AC3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8D2-6129-410F-8BB9-BF225103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FC6-8CD2-44E3-BC47-8A8A78D6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232-0A3F-431A-AC04-8DFF2C42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FCF-0196-4F60-BEE5-D40D9BEC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F71-D5A9-4214-B647-77C1C02F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62B-AF94-4C26-AFCB-84C5D7F0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6B6-5265-4A10-8B72-99F1AC63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65F-6850-469D-825D-1FC2F28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1277-E7E7-46B3-B2DD-201E9F0B38B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10.xml"/><Relationship Id="rId4" Type="http://schemas.openxmlformats.org/officeDocument/2006/relationships/image" Target="../media/image17.jpeg"/><Relationship Id="rId5" Type="http://schemas.openxmlformats.org/officeDocument/2006/relationships/slide" Target="slide10.xml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" Target="slide10.xml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5280" y="333360"/>
          <a:ext cx="856944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56944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"/>
          <p:cNvSpPr/>
          <p:nvPr/>
        </p:nvSpPr>
        <p:spPr>
          <a:xfrm>
            <a:off x="357120" y="2000160"/>
            <a:ext cx="820908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  <a:ea typeface="Arial"/>
              </a:rPr>
              <a:t>dr. sc. Stjepan Staničić, izv. pro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Calibri"/>
                <a:ea typeface="Arial"/>
              </a:rPr>
              <a:t>Upravljanje i (ruko)vođ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Calibri"/>
                <a:ea typeface="Arial"/>
              </a:rPr>
              <a:t>srednjom školom/učeničkim dom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hr-HR" sz="1800" spc="-1" strike="noStrike">
                <a:solidFill>
                  <a:srgbClr val="0066ff"/>
                </a:solidFill>
                <a:latin typeface="Calibri"/>
                <a:ea typeface="Arial"/>
              </a:rPr>
              <a:t>Stručni skup ravnatelja srednjih škola i učeničkih dom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hr-HR" sz="1800" spc="-1" strike="noStrike">
                <a:solidFill>
                  <a:srgbClr val="0066ff"/>
                </a:solidFill>
                <a:latin typeface="Calibri"/>
                <a:ea typeface="Arial"/>
              </a:rPr>
              <a:t>AZOO - Rijeka, 20. 02. 20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14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Oval 4"/>
          <p:cNvSpPr/>
          <p:nvPr/>
        </p:nvSpPr>
        <p:spPr>
          <a:xfrm>
            <a:off x="900000" y="2565360"/>
            <a:ext cx="2952720" cy="28796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2f8de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1332000" y="321300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51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1835280" y="4005360"/>
            <a:ext cx="1079280" cy="1079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b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622160" y="28494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pravlj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263960" y="34941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833840" y="43624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143240" y="1428840"/>
            <a:ext cx="4681800" cy="4231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6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libri"/>
              </a:rPr>
              <a:t>Pitanja vezana za rukovođen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Planiranje, organiziranja, vođenje i vrednovanje rada u ško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Uloga i obveze ravnatelja kao rukovodite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Kompetencijski standardi za ravn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Izbor, imenovanje, uvođenje u rad i stručno usavršavanje ravnate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Odgovornost ravnatelja za provedbu propisa, financijsko poslovanje i s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Vrednovanje rada ravnate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Calibri"/>
              </a:rPr>
              <a:t>Nositelji rukovođ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Mini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Pomoćnici mini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Pročeln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Donačeln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ffffff"/>
                </a:solidFill>
                <a:uFillTx/>
                <a:latin typeface="Calibri"/>
              </a:rPr>
              <a:t>Ravnatelji</a:t>
            </a: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076720" y="415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14200" y="128592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zvršna funkcija upravljanja. Usklađivanje potencijala da bi se ostvarili </a:t>
            </a: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ciljevi škole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796000" y="260280"/>
            <a:ext cx="2808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Rukovođ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14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11"/>
          <p:cNvSpPr/>
          <p:nvPr/>
        </p:nvSpPr>
        <p:spPr>
          <a:xfrm>
            <a:off x="5076720" y="415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357120" y="1571760"/>
            <a:ext cx="30006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dručja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1680" y="2214720"/>
            <a:ext cx="8132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Ravnatelj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ff"/>
                </a:solidFill>
                <a:latin typeface="Calibri"/>
              </a:rPr>
              <a:t>Poslovodni   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 i    </a:t>
            </a:r>
            <a:r>
              <a:rPr b="1" lang="hr-HR" sz="3600" spc="-1" strike="noStrike">
                <a:solidFill>
                  <a:srgbClr val="ff9900"/>
                </a:solidFill>
                <a:latin typeface="Calibri"/>
              </a:rPr>
              <a:t>pedagošk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rukovoditel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icipira u svim poslovima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dgovoran je za proces i rezultate rada ustan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dložan je sankcij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364000" y="404640"/>
            <a:ext cx="345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Odrednice ravna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14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11"/>
          <p:cNvSpPr/>
          <p:nvPr/>
        </p:nvSpPr>
        <p:spPr>
          <a:xfrm>
            <a:off x="5076720" y="415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2071800" y="1071720"/>
            <a:ext cx="5262480" cy="5010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571680" y="1857240"/>
            <a:ext cx="2000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Fu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64000" y="404640"/>
            <a:ext cx="345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Odrednice ravna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4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11"/>
          <p:cNvSpPr/>
          <p:nvPr/>
        </p:nvSpPr>
        <p:spPr>
          <a:xfrm>
            <a:off x="5076720" y="415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2714760" y="1714680"/>
          <a:ext cx="4176720" cy="39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1714680"/>
                    <a:ext cx="41767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13"/>
          <p:cNvSpPr/>
          <p:nvPr/>
        </p:nvSpPr>
        <p:spPr>
          <a:xfrm>
            <a:off x="571680" y="1857240"/>
            <a:ext cx="3000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Kompet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64000" y="404640"/>
            <a:ext cx="345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Odrednice ravna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Oval 15"/>
          <p:cNvSpPr/>
          <p:nvPr/>
        </p:nvSpPr>
        <p:spPr>
          <a:xfrm>
            <a:off x="900000" y="2854440"/>
            <a:ext cx="2952720" cy="28796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2f8de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1332000" y="3502080"/>
            <a:ext cx="2016000" cy="20160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51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1835280" y="4294080"/>
            <a:ext cx="1079280" cy="1079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b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1622160" y="31384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pravlj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549440" y="38592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uko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1692360" y="4575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Vođ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4500720" y="2494080"/>
            <a:ext cx="4103640" cy="3228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6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Pitanja vezana za vođ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Komuniciranje u šk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Motiviranje zaposleni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Stilovi vođenja u šk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Sukobi i njihovo rješa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Djelotvorni sastanci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Nositelji vođe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Ravnatel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Pomoćnik/zamjenik ravnate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Voditel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Pedag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alibri"/>
              </a:rPr>
              <a:t>Učitelj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324000" y="1341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sklađivanje </a:t>
            </a: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ljudskog potencijala</a:t>
            </a:r>
            <a:r>
              <a:rPr b="0" lang="hr-HR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da se optimalno ostvare ciljevi odgojno-obrazovnog pro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5796000" y="549360"/>
            <a:ext cx="2808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Vođ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57120" y="12142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Funkcija rukovođenja – nova koncep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5796000" y="549360"/>
            <a:ext cx="2808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Vođ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avokutnik 5"/>
          <p:cNvSpPr/>
          <p:nvPr/>
        </p:nvSpPr>
        <p:spPr>
          <a:xfrm>
            <a:off x="357120" y="18572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Od menadžmenta prema vodstvu (vođenj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63640" y="2637000"/>
          <a:ext cx="5429160" cy="3047760"/>
        </p:xfrm>
        <a:graphic>
          <a:graphicData uri="http://schemas.openxmlformats.org/drawingml/2006/table">
            <a:tbl>
              <a:tblPr/>
              <a:tblGrid>
                <a:gridCol w="2714760"/>
                <a:gridCol w="27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dž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ođ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tv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ilj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ministr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ormaliz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Organiz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Kontr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tandardiz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Lju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Viz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Komunik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nspir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Kl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Ohrabri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Kreativ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724360" y="333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Uspješna 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kenproba1"/>
          <p:cNvPicPr/>
          <p:nvPr/>
        </p:nvPicPr>
        <p:blipFill>
          <a:blip r:embed="rId3"/>
          <a:stretch/>
        </p:blipFill>
        <p:spPr>
          <a:xfrm>
            <a:off x="1906560" y="1644480"/>
            <a:ext cx="4394160" cy="4448520"/>
          </a:xfrm>
          <a:prstGeom prst="rect">
            <a:avLst/>
          </a:prstGeom>
          <a:ln w="0">
            <a:noFill/>
          </a:ln>
        </p:spPr>
      </p:pic>
      <p:sp>
        <p:nvSpPr>
          <p:cNvPr id="153" name="Line 5"/>
          <p:cNvSpPr/>
          <p:nvPr/>
        </p:nvSpPr>
        <p:spPr>
          <a:xfrm>
            <a:off x="1835280" y="2205000"/>
            <a:ext cx="2087280" cy="15112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H="1">
            <a:off x="3924000" y="2060640"/>
            <a:ext cx="2087640" cy="165564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3922560" y="3716280"/>
            <a:ext cx="1800" cy="2521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niOkvir 11"/>
          <p:cNvSpPr/>
          <p:nvPr/>
        </p:nvSpPr>
        <p:spPr>
          <a:xfrm>
            <a:off x="2993040" y="11253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Zajedniš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niOkvir 12"/>
          <p:cNvSpPr/>
          <p:nvPr/>
        </p:nvSpPr>
        <p:spPr>
          <a:xfrm rot="17358000">
            <a:off x="5350320" y="406224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Poticajna sre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niOkvir 13"/>
          <p:cNvSpPr/>
          <p:nvPr/>
        </p:nvSpPr>
        <p:spPr>
          <a:xfrm rot="3922800">
            <a:off x="183240" y="429084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Učenje i pouč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419640" y="90792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Vođenje uspješn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1916280"/>
            <a:ext cx="81342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Rukovođenje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 (Management) i </a:t>
            </a: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vođenje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 (Lead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Menadžer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  (radi stvari na pravi način)  </a:t>
            </a:r>
            <a:r>
              <a:rPr b="1" lang="hr-HR" sz="2000" spc="-1" strike="noStrike">
                <a:solidFill>
                  <a:srgbClr val="595959"/>
                </a:solidFill>
                <a:latin typeface="Calibri"/>
              </a:rPr>
              <a:t>Lider</a:t>
            </a:r>
            <a:r>
              <a:rPr b="0" lang="hr-HR" sz="2000" spc="-1" strike="noStrike">
                <a:solidFill>
                  <a:srgbClr val="595959"/>
                </a:solidFill>
                <a:latin typeface="Calibri"/>
              </a:rPr>
              <a:t> (radi prave stv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Ravnatelj uspješne škole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radi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ave stvari na prav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avokutnik 2"/>
          <p:cNvSpPr/>
          <p:nvPr/>
        </p:nvSpPr>
        <p:spPr>
          <a:xfrm>
            <a:off x="1000080" y="1285920"/>
            <a:ext cx="75726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Preporu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Pojasnite sebi </a:t>
            </a:r>
            <a:r>
              <a:rPr b="1" i="1" lang="hr-HR" sz="2000" spc="-1" strike="noStrike">
                <a:solidFill>
                  <a:srgbClr val="0066ff"/>
                </a:solidFill>
                <a:latin typeface="Calibri"/>
              </a:rPr>
              <a:t>ciljeve</a:t>
            </a: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što ih želite postić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Potražite stručnu </a:t>
            </a:r>
            <a:r>
              <a:rPr b="1" i="1" lang="hr-HR" sz="2000" spc="-1" strike="noStrike">
                <a:solidFill>
                  <a:srgbClr val="0066ff"/>
                </a:solidFill>
                <a:latin typeface="Calibri"/>
              </a:rPr>
              <a:t>pomoć</a:t>
            </a: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za najvažnije zadat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Iskoristite znanje i iskustvo svojeg </a:t>
            </a:r>
            <a:r>
              <a:rPr b="1" i="1" lang="hr-HR" sz="2000" spc="-1" strike="noStrike">
                <a:solidFill>
                  <a:srgbClr val="0066ff"/>
                </a:solidFill>
                <a:latin typeface="Calibri"/>
              </a:rPr>
              <a:t>pretho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1" i="1" lang="hr-HR" sz="2000" spc="-1" strike="noStrike">
                <a:solidFill>
                  <a:srgbClr val="0066ff"/>
                </a:solidFill>
                <a:latin typeface="Calibri"/>
              </a:rPr>
              <a:t>Sprijateljite</a:t>
            </a: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se s dobrim i afirmiranim ravna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Nemojte izgubiti svoj </a:t>
            </a:r>
            <a:r>
              <a:rPr b="1" i="1" lang="hr-HR" sz="2000" spc="-1" strike="noStrike">
                <a:solidFill>
                  <a:srgbClr val="0066ff"/>
                </a:solidFill>
                <a:latin typeface="Calibri"/>
              </a:rPr>
              <a:t>ident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1" i="1" lang="hr-HR" sz="2000" spc="-1" strike="noStrike">
                <a:solidFill>
                  <a:srgbClr val="0066ff"/>
                </a:solidFill>
                <a:latin typeface="Calibri"/>
              </a:rPr>
              <a:t>Upoznajte</a:t>
            </a:r>
            <a:r>
              <a:rPr b="0" i="1" lang="hr-HR" sz="2000" spc="-1" strike="noStrike">
                <a:solidFill>
                  <a:srgbClr val="0066ff"/>
                </a:solidFill>
                <a:latin typeface="Calibri"/>
              </a:rPr>
              <a:t> svoje ljude (znanja, sposobnosti, afinitete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upa 47"/>
          <p:cNvGrpSpPr/>
          <p:nvPr/>
        </p:nvGrpSpPr>
        <p:grpSpPr>
          <a:xfrm>
            <a:off x="1500120" y="2060640"/>
            <a:ext cx="6767640" cy="3240000"/>
            <a:chOff x="1500120" y="2060640"/>
            <a:chExt cx="6767640" cy="3240000"/>
          </a:xfrm>
        </p:grpSpPr>
        <p:grpSp>
          <p:nvGrpSpPr>
            <p:cNvPr id="172" name="Group 4"/>
            <p:cNvGrpSpPr/>
            <p:nvPr/>
          </p:nvGrpSpPr>
          <p:grpSpPr>
            <a:xfrm>
              <a:off x="1500120" y="2214360"/>
              <a:ext cx="6767640" cy="3086280"/>
              <a:chOff x="1500120" y="2214360"/>
              <a:chExt cx="6767640" cy="3086280"/>
            </a:xfrm>
          </p:grpSpPr>
          <p:sp>
            <p:nvSpPr>
              <p:cNvPr id="173" name="AutoShape 5"/>
              <p:cNvSpPr/>
              <p:nvPr/>
            </p:nvSpPr>
            <p:spPr>
              <a:xfrm>
                <a:off x="1500120" y="2214360"/>
                <a:ext cx="676764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6"/>
              <p:cNvSpPr/>
              <p:nvPr/>
            </p:nvSpPr>
            <p:spPr>
              <a:xfrm>
                <a:off x="2820600" y="2351520"/>
                <a:ext cx="0" cy="238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7"/>
              <p:cNvSpPr/>
              <p:nvPr/>
            </p:nvSpPr>
            <p:spPr>
              <a:xfrm>
                <a:off x="2820600" y="2351520"/>
                <a:ext cx="409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8"/>
              <p:cNvSpPr/>
              <p:nvPr/>
            </p:nvSpPr>
            <p:spPr>
              <a:xfrm>
                <a:off x="2820600" y="4735800"/>
                <a:ext cx="409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9"/>
              <p:cNvSpPr/>
              <p:nvPr/>
            </p:nvSpPr>
            <p:spPr>
              <a:xfrm>
                <a:off x="6913080" y="2351520"/>
                <a:ext cx="0" cy="238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0"/>
              <p:cNvSpPr/>
              <p:nvPr/>
            </p:nvSpPr>
            <p:spPr>
              <a:xfrm>
                <a:off x="4866840" y="2351520"/>
                <a:ext cx="0" cy="238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1"/>
              <p:cNvSpPr/>
              <p:nvPr/>
            </p:nvSpPr>
            <p:spPr>
              <a:xfrm>
                <a:off x="2820600" y="3613320"/>
                <a:ext cx="409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"/>
              <p:cNvSpPr/>
              <p:nvPr/>
            </p:nvSpPr>
            <p:spPr>
              <a:xfrm>
                <a:off x="2971440" y="2632320"/>
                <a:ext cx="16592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"</a:t>
                </a:r>
                <a:r>
                  <a:rPr b="1" lang="hr-HR" sz="1800" spc="-1" strike="noStrike">
                    <a:solidFill>
                      <a:srgbClr val="990000"/>
                    </a:solidFill>
                    <a:latin typeface="Calibri"/>
                  </a:rPr>
                  <a:t>Konji za vuču</a:t>
                </a: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13"/>
              <p:cNvSpPr/>
              <p:nvPr/>
            </p:nvSpPr>
            <p:spPr>
              <a:xfrm>
                <a:off x="5102640" y="2632320"/>
                <a:ext cx="149400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"</a:t>
                </a:r>
                <a:r>
                  <a:rPr b="1" lang="hr-HR" sz="1800" spc="-1" strike="noStrike">
                    <a:solidFill>
                      <a:srgbClr val="990000"/>
                    </a:solidFill>
                    <a:latin typeface="Calibri"/>
                  </a:rPr>
                  <a:t>Zvijezde</a:t>
                </a: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4"/>
              <p:cNvSpPr/>
              <p:nvPr/>
            </p:nvSpPr>
            <p:spPr>
              <a:xfrm>
                <a:off x="3292200" y="3893760"/>
                <a:ext cx="1135080" cy="56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"</a:t>
                </a:r>
                <a:r>
                  <a:rPr b="1" lang="hr-HR" sz="1800" spc="-1" strike="noStrike">
                    <a:solidFill>
                      <a:srgbClr val="990000"/>
                    </a:solidFill>
                    <a:latin typeface="Calibri"/>
                  </a:rPr>
                  <a:t>Klade</a:t>
                </a: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5"/>
              <p:cNvSpPr/>
              <p:nvPr/>
            </p:nvSpPr>
            <p:spPr>
              <a:xfrm>
                <a:off x="4928760" y="3893760"/>
                <a:ext cx="1856880" cy="56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990000"/>
                    </a:solidFill>
                    <a:latin typeface="Calibri"/>
                  </a:rPr>
                  <a:t>"Problematični djelatnici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6"/>
              <p:cNvSpPr/>
              <p:nvPr/>
            </p:nvSpPr>
            <p:spPr>
              <a:xfrm>
                <a:off x="1711800" y="2345040"/>
                <a:ext cx="938520" cy="265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Visok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000000"/>
                    </a:solidFill>
                    <a:latin typeface="Calibri"/>
                  </a:rPr>
                  <a:t>Radna uspješ-nost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Nisk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7"/>
              <p:cNvSpPr/>
              <p:nvPr/>
            </p:nvSpPr>
            <p:spPr>
              <a:xfrm>
                <a:off x="2656080" y="4870440"/>
                <a:ext cx="4643280" cy="42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Nizak  </a:t>
                </a: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1" lang="hr-HR" sz="1800" spc="-1" strike="noStrike">
                    <a:solidFill>
                      <a:srgbClr val="000000"/>
                    </a:solidFill>
                    <a:latin typeface="Calibri"/>
                  </a:rPr>
                  <a:t>Razvojni potencijal</a:t>
                </a:r>
                <a:r>
                  <a:rPr b="0" lang="hr-HR" sz="1800" spc="-1" strike="noStrike">
                    <a:solidFill>
                      <a:srgbClr val="000000"/>
                    </a:solidFill>
                    <a:latin typeface="Calibri"/>
                  </a:rPr>
                  <a:t>         Vis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0"/>
            <p:cNvSpPr/>
            <p:nvPr/>
          </p:nvSpPr>
          <p:spPr>
            <a:xfrm flipV="1">
              <a:off x="2842920" y="2060640"/>
              <a:ext cx="0" cy="26640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>
              <a:off x="2842920" y="4724640"/>
              <a:ext cx="439272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12"/>
          <p:cNvSpPr/>
          <p:nvPr/>
        </p:nvSpPr>
        <p:spPr>
          <a:xfrm>
            <a:off x="395280" y="1268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66ff"/>
                </a:solidFill>
                <a:latin typeface="Calibri"/>
              </a:rPr>
              <a:t>Upoznavanje zaposle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avokutnik 23"/>
          <p:cNvSpPr/>
          <p:nvPr/>
        </p:nvSpPr>
        <p:spPr>
          <a:xfrm>
            <a:off x="6804000" y="40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repor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4"/>
          <p:cNvSpPr/>
          <p:nvPr/>
        </p:nvSpPr>
        <p:spPr>
          <a:xfrm>
            <a:off x="785880" y="1714680"/>
            <a:ext cx="77803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  <a:ea typeface="Arial"/>
              </a:rPr>
              <a:t>Struktura izlag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  <a:ea typeface="Arial"/>
              </a:rPr>
              <a:t>Termin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  <a:ea typeface="Arial"/>
              </a:rPr>
              <a:t>Upravl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  <a:ea typeface="Arial"/>
              </a:rPr>
              <a:t>Rukovođenje i vođenje uspješn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  <a:ea typeface="Arial"/>
              </a:rPr>
              <a:t>Preporu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  <a:ea typeface="Arial"/>
              </a:rPr>
              <a:t>Stručne i upravne pretposta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2708280"/>
            <a:ext cx="799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5435640" y="333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Calibri"/>
              </a:rPr>
              <a:t>Preporu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34880" y="1143000"/>
            <a:ext cx="870912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Uključite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učitelje i suradnike u osmišljavanje vizije i ciljeva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Posjećujte razrede i potičite učitelje da se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posjećuju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u razr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Stvarajte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timove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, ali se ne uplićite u njihov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Zaposlenicima dodijelite odgovornost i uključite ih u donošenje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Ističite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vrijedne pojedince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– učitelje i učenike koji doprinose uspjehu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Saznajte potrebe zaposlenika, aktivno ih slušajte i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pokažite da ih cij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Potaknite učitelje i str. sur. da uvode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nova pedagoška rješ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Pridobijte učitelje i sur. da svoje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znanje i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darovitosti podijele s koleg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Novim radnicima predočite zahtjeve što proizlaze iz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kulture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vaše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Od učitelja tražite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visoke standarde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, ali ih i sami ostvaruj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Pružajte 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potporu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 i zaštitu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u radu svojim ljud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Zaštitite pedagoški rad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 svojih učitelja i suradnika od “</a:t>
            </a:r>
            <a:r>
              <a:rPr b="1" i="1" lang="hr-HR" sz="1800" spc="-1" strike="noStrike">
                <a:solidFill>
                  <a:srgbClr val="0066ff"/>
                </a:solidFill>
                <a:latin typeface="Calibri"/>
              </a:rPr>
              <a:t>papirologije</a:t>
            </a:r>
            <a:r>
              <a:rPr b="0" i="1" lang="hr-HR" sz="1800" spc="-1" strike="noStrike">
                <a:solidFill>
                  <a:srgbClr val="0066ff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ravokutnik 2"/>
          <p:cNvSpPr/>
          <p:nvPr/>
        </p:nvSpPr>
        <p:spPr>
          <a:xfrm>
            <a:off x="1000080" y="1285920"/>
            <a:ext cx="757260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Gospodarite svojim vrem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0200" y="2500200"/>
          <a:ext cx="3786480" cy="2500560"/>
        </p:xfrm>
        <a:graphic>
          <a:graphicData uri="http://schemas.openxmlformats.org/drawingml/2006/table">
            <a:tbl>
              <a:tblPr/>
              <a:tblGrid>
                <a:gridCol w="1893960"/>
                <a:gridCol w="1892520"/>
              </a:tblGrid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201" name="TekstniOkvir 4"/>
          <p:cNvSpPr/>
          <p:nvPr/>
        </p:nvSpPr>
        <p:spPr>
          <a:xfrm rot="16200000">
            <a:off x="1619640" y="286344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evaž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kstniOkvir 5"/>
          <p:cNvSpPr/>
          <p:nvPr/>
        </p:nvSpPr>
        <p:spPr>
          <a:xfrm rot="16200000">
            <a:off x="1729800" y="4227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Važ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kstniOkvir 6"/>
          <p:cNvSpPr/>
          <p:nvPr/>
        </p:nvSpPr>
        <p:spPr>
          <a:xfrm>
            <a:off x="3004200" y="51436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Hit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kstniOkvir 7"/>
          <p:cNvSpPr/>
          <p:nvPr/>
        </p:nvSpPr>
        <p:spPr>
          <a:xfrm>
            <a:off x="4885560" y="514368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ije hit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ravokutnik 11"/>
          <p:cNvSpPr/>
          <p:nvPr/>
        </p:nvSpPr>
        <p:spPr>
          <a:xfrm>
            <a:off x="6804000" y="40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repor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kstniOkvir 4"/>
          <p:cNvSpPr/>
          <p:nvPr/>
        </p:nvSpPr>
        <p:spPr>
          <a:xfrm>
            <a:off x="597600" y="1773360"/>
            <a:ext cx="6913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Stručne i uprav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etpostavke za uspješan rad ravn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Međunarodna konferencija </a:t>
            </a:r>
            <a:r>
              <a:rPr b="0" lang="vi-VN" sz="2400" spc="-1" strike="noStrike">
                <a:solidFill>
                  <a:srgbClr val="0066ff"/>
                </a:solidFill>
                <a:latin typeface="Calibri"/>
              </a:rPr>
              <a:t>Status i položaj ravna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Dubrovnik, 24.-26.10.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3665520" cy="4730760"/>
          </a:xfrm>
          <a:prstGeom prst="rect">
            <a:avLst/>
          </a:prstGeom>
          <a:ln w="0">
            <a:noFill/>
          </a:ln>
        </p:spPr>
      </p:pic>
      <p:sp>
        <p:nvSpPr>
          <p:cNvPr id="214" name="TekstniOkvir 5"/>
          <p:cNvSpPr/>
          <p:nvPr/>
        </p:nvSpPr>
        <p:spPr>
          <a:xfrm>
            <a:off x="4029840" y="2997360"/>
            <a:ext cx="486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Kriterij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(za izbor i vrednova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Profesionalizacija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(obrazovanje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savršava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Calibri"/>
              </a:rPr>
              <a:t>3.   Ugovor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(na neodređeno radno vrije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kstniOkvir 8"/>
          <p:cNvSpPr/>
          <p:nvPr/>
        </p:nvSpPr>
        <p:spPr>
          <a:xfrm>
            <a:off x="4573800" y="566100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Školske novine, br. 37 (22.11.2011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kstniOkvir 5"/>
          <p:cNvSpPr/>
          <p:nvPr/>
        </p:nvSpPr>
        <p:spPr>
          <a:xfrm>
            <a:off x="395280" y="19890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00000"/>
                </a:solidFill>
                <a:latin typeface="Calibri"/>
              </a:rPr>
              <a:t>Strategi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00000"/>
                </a:solidFill>
                <a:latin typeface="Calibri"/>
              </a:rPr>
              <a:t>obrazovanja, znanosti i tehnolog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o rukovođenju i ravnatel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268280"/>
          <a:ext cx="7921440" cy="5029200"/>
        </p:xfrm>
        <a:graphic>
          <a:graphicData uri="http://schemas.openxmlformats.org/drawingml/2006/table">
            <a:tbl>
              <a:tblPr/>
              <a:tblGrid>
                <a:gridCol w="2922480"/>
                <a:gridCol w="4998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1. Preuzimanje  funkc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dređenost uloge ravnat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Kompetencijski standar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sposobljenost kandi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zbor i imenovanje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8fcf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2. Djelovanje na funkci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vođenje u 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tručno usavrša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avjetodavna pomoć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Vredno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apredovanje  u zvanju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3. Odlazak s funkc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skazivanje priznanja za dobar rad (nagrade, otpremnina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articipacija u sustavu (mentorstvo,  savjetništvo, predavanja,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8fcf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4. Razvoj profes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straživanja (teorijska i empirijs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Časopis – litera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rogrami na fakultetima (</a:t>
                      </a:r>
                      <a:r>
                        <a:rPr b="0" lang="hr-HR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diplomski, poslijediplomski</a:t>
                      </a: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Zakonodavstv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1f8f9"/>
                    </a:solidFill>
                  </a:tcPr>
                </a:tc>
              </a:tr>
            </a:tbl>
          </a:graphicData>
        </a:graphic>
      </p:graphicFrame>
      <p:sp>
        <p:nvSpPr>
          <p:cNvPr id="224" name="Pravokutnik 12"/>
          <p:cNvSpPr/>
          <p:nvPr/>
        </p:nvSpPr>
        <p:spPr>
          <a:xfrm>
            <a:off x="5724360" y="333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Pristup - karij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kstniOkvir 10"/>
          <p:cNvSpPr/>
          <p:nvPr/>
        </p:nvSpPr>
        <p:spPr>
          <a:xfrm>
            <a:off x="7524720" y="1125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kstniOkvir 17"/>
          <p:cNvSpPr/>
          <p:nvPr/>
        </p:nvSpPr>
        <p:spPr>
          <a:xfrm>
            <a:off x="7524720" y="242100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kstniOkvir 18"/>
          <p:cNvSpPr/>
          <p:nvPr/>
        </p:nvSpPr>
        <p:spPr>
          <a:xfrm>
            <a:off x="7596360" y="3789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kstniOkvir 19"/>
          <p:cNvSpPr/>
          <p:nvPr/>
        </p:nvSpPr>
        <p:spPr>
          <a:xfrm>
            <a:off x="7667640" y="494172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00000" y="1413000"/>
          <a:ext cx="3240360" cy="4619520"/>
        </p:xfrm>
        <a:graphic>
          <a:graphicData uri="http://schemas.openxmlformats.org/drawingml/2006/table">
            <a:tbl>
              <a:tblPr/>
              <a:tblGrid>
                <a:gridCol w="324036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dređenost ulo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Kompetencijski standar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brazovanje/osposoblje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ce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savrša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avjetodavna pomo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Vredno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apredo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akon odla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…</a:t>
                      </a:r>
                      <a:r>
                        <a:rPr b="0" lang="hr-HR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500720" y="1413000"/>
          <a:ext cx="3541680" cy="46083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350640"/>
                <a:gridCol w="2543040"/>
              </a:tblGrid>
              <a:tr h="46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61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" name="TekstniOkvir 18"/>
          <p:cNvSpPr/>
          <p:nvPr/>
        </p:nvSpPr>
        <p:spPr>
          <a:xfrm>
            <a:off x="4356000" y="981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niOkvir 19"/>
          <p:cNvSpPr/>
          <p:nvPr/>
        </p:nvSpPr>
        <p:spPr>
          <a:xfrm>
            <a:off x="7093080" y="98100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Optimal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ravokutnik 20"/>
          <p:cNvSpPr/>
          <p:nvPr/>
        </p:nvSpPr>
        <p:spPr>
          <a:xfrm>
            <a:off x="6477480" y="404640"/>
            <a:ext cx="28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01800" indent="-9018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Nala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avni poveznik 26"/>
          <p:cNvSpPr/>
          <p:nvPr/>
        </p:nvSpPr>
        <p:spPr>
          <a:xfrm>
            <a:off x="6300720" y="1197000"/>
            <a:ext cx="0" cy="45356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611280" y="2205000"/>
            <a:ext cx="813744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Calibri"/>
              </a:rPr>
              <a:t>Profesionalizirati ravn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Redefiniranjem </a:t>
            </a: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ul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Izradom kompetencijskih </a:t>
            </a: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stand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Institucionalizacijom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Izvedbom </a:t>
            </a: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licenc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Vrednovanjem </a:t>
            </a: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pomoću indikatora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Calibri"/>
              </a:rPr>
              <a:t>Važnost i međusobna uvjetovanost cil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ravokutnik 8"/>
          <p:cNvSpPr/>
          <p:nvPr/>
        </p:nvSpPr>
        <p:spPr>
          <a:xfrm>
            <a:off x="2340000" y="1052640"/>
            <a:ext cx="453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95959"/>
                </a:solidFill>
                <a:latin typeface="Calibri"/>
              </a:rPr>
              <a:t>Prioritetni strateški ciljevi </a:t>
            </a:r>
            <a:r>
              <a:rPr b="0" lang="hr-HR" sz="2800" spc="-1" strike="noStrike">
                <a:solidFill>
                  <a:srgbClr val="7f7f7f"/>
                </a:solidFill>
                <a:latin typeface="Calibri"/>
              </a:rPr>
              <a:t>(Prijedlog TRGru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2892240" cy="3717720"/>
          </a:xfrm>
          <a:prstGeom prst="rect">
            <a:avLst/>
          </a:prstGeom>
          <a:ln w="0">
            <a:noFill/>
          </a:ln>
        </p:spPr>
      </p:pic>
      <p:sp>
        <p:nvSpPr>
          <p:cNvPr id="247" name="TekstniOkvir 7"/>
          <p:cNvSpPr/>
          <p:nvPr/>
        </p:nvSpPr>
        <p:spPr>
          <a:xfrm>
            <a:off x="6588000" y="623736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04040"/>
                </a:solidFill>
                <a:latin typeface="Calibri"/>
              </a:rPr>
              <a:t>Dr. sc. Stjepan Stanič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ravokutnik 8"/>
          <p:cNvSpPr/>
          <p:nvPr/>
        </p:nvSpPr>
        <p:spPr>
          <a:xfrm>
            <a:off x="6804000" y="260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Calibri"/>
              </a:rPr>
              <a:t>Standar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"/>
          <p:cNvPicPr/>
          <p:nvPr/>
        </p:nvPicPr>
        <p:blipFill>
          <a:blip r:embed="rId4"/>
          <a:stretch/>
        </p:blipFill>
        <p:spPr>
          <a:xfrm>
            <a:off x="1332000" y="2781360"/>
            <a:ext cx="3022560" cy="3889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"/>
          <p:cNvPicPr/>
          <p:nvPr/>
        </p:nvPicPr>
        <p:blipFill>
          <a:blip r:embed="rId5"/>
          <a:stretch/>
        </p:blipFill>
        <p:spPr>
          <a:xfrm>
            <a:off x="5435640" y="1052640"/>
            <a:ext cx="3362400" cy="25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"/>
          <p:cNvPicPr/>
          <p:nvPr/>
        </p:nvPicPr>
        <p:blipFill>
          <a:blip r:embed="rId6"/>
          <a:stretch/>
        </p:blipFill>
        <p:spPr>
          <a:xfrm>
            <a:off x="5651640" y="2997360"/>
            <a:ext cx="2663640" cy="3533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7"/>
          <a:stretch/>
        </p:blipFill>
        <p:spPr>
          <a:xfrm>
            <a:off x="3132000" y="189000"/>
            <a:ext cx="2737080" cy="3628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ravokutnik 8"/>
          <p:cNvSpPr/>
          <p:nvPr/>
        </p:nvSpPr>
        <p:spPr>
          <a:xfrm>
            <a:off x="669600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Calibri"/>
              </a:rPr>
              <a:t>Obraz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6134040" cy="4619520"/>
          </a:xfrm>
          <a:prstGeom prst="rect">
            <a:avLst/>
          </a:prstGeom>
          <a:ln w="0">
            <a:noFill/>
          </a:ln>
        </p:spPr>
      </p:pic>
      <p:sp>
        <p:nvSpPr>
          <p:cNvPr id="258" name="TekstniOkvir 10"/>
          <p:cNvSpPr/>
          <p:nvPr/>
        </p:nvSpPr>
        <p:spPr>
          <a:xfrm>
            <a:off x="5148360" y="2276640"/>
            <a:ext cx="2519280" cy="1191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Arial"/>
              </a:rPr>
              <a:t>EU države u kojima ravnatelji stječ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95959"/>
                </a:solidFill>
                <a:latin typeface="Arial"/>
              </a:rPr>
              <a:t>obrazovanje za vođenje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niOkvir 11"/>
          <p:cNvSpPr/>
          <p:nvPr/>
        </p:nvSpPr>
        <p:spPr>
          <a:xfrm>
            <a:off x="6012000" y="5373720"/>
            <a:ext cx="244764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595959"/>
                </a:solidFill>
                <a:latin typeface="Arial"/>
              </a:rPr>
              <a:t>Izvor: Eurydice 2013</a:t>
            </a:r>
            <a:r>
              <a:rPr b="0" lang="hr-HR" sz="1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3"/>
          <p:cNvSpPr/>
          <p:nvPr/>
        </p:nvSpPr>
        <p:spPr>
          <a:xfrm>
            <a:off x="324000" y="1484280"/>
            <a:ext cx="871200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Calibri"/>
              </a:rPr>
              <a:t>Upravljanje, rukovođenje, vođ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Calibri"/>
              </a:rPr>
              <a:t>Administration, Management,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Calibri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3300"/>
                </a:solidFill>
                <a:latin typeface="Calibri"/>
              </a:rPr>
              <a:t>Obrazovni menadž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3300"/>
                </a:solidFill>
                <a:latin typeface="Calibri"/>
              </a:rPr>
              <a:t>Školski menadž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3300"/>
                </a:solidFill>
                <a:latin typeface="Calibri"/>
              </a:rPr>
              <a:t>Pedagoški menadž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3300"/>
                </a:solidFill>
                <a:latin typeface="Calibri"/>
              </a:rPr>
              <a:t>Menadžment i vodstvo/vođenje u odgoju i obrazovanju </a:t>
            </a:r>
            <a:r>
              <a:rPr b="0" lang="hr-HR" sz="2400" spc="-1" strike="noStrike">
                <a:solidFill>
                  <a:srgbClr val="cc3300"/>
                </a:solidFill>
                <a:latin typeface="Calibri"/>
              </a:rPr>
              <a:t>(djelat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5500800" y="4287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Termin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Slika 66" descr="PA136104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1557360"/>
            <a:ext cx="2879640" cy="2232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2"/>
          <p:cNvSpPr/>
          <p:nvPr/>
        </p:nvSpPr>
        <p:spPr>
          <a:xfrm>
            <a:off x="3780000" y="98100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Calibri"/>
              </a:rPr>
              <a:t>Priručna literatura za ravnate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P411001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92360" y="1052640"/>
            <a:ext cx="2303640" cy="2447640"/>
          </a:xfrm>
          <a:prstGeom prst="rect">
            <a:avLst/>
          </a:prstGeom>
          <a:ln w="0">
            <a:noFill/>
          </a:ln>
        </p:spPr>
      </p:pic>
      <p:pic>
        <p:nvPicPr>
          <p:cNvPr id="266" name="Slika 30" descr="PA136100.JPG"/>
          <p:cNvPicPr/>
          <p:nvPr/>
        </p:nvPicPr>
        <p:blipFill>
          <a:blip r:embed="rId7"/>
          <a:stretch/>
        </p:blipFill>
        <p:spPr>
          <a:xfrm>
            <a:off x="5940360" y="155736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267" name="Slika 15" descr="PA136075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940360" y="3933720"/>
            <a:ext cx="2952720" cy="2374920"/>
          </a:xfrm>
          <a:prstGeom prst="rect">
            <a:avLst/>
          </a:prstGeom>
          <a:ln w="0">
            <a:noFill/>
          </a:ln>
        </p:spPr>
      </p:pic>
      <p:sp>
        <p:nvSpPr>
          <p:cNvPr id="268" name="TekstniOkvir 11"/>
          <p:cNvSpPr/>
          <p:nvPr/>
        </p:nvSpPr>
        <p:spPr>
          <a:xfrm>
            <a:off x="406440" y="6381720"/>
            <a:ext cx="63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Školske novine, Narodne novine, Napredak, Odgojne znanosti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Slika 13" descr="P6030941.JPG"/>
          <p:cNvPicPr/>
          <p:nvPr/>
        </p:nvPicPr>
        <p:blipFill>
          <a:blip r:embed="rId10"/>
          <a:stretch/>
        </p:blipFill>
        <p:spPr>
          <a:xfrm>
            <a:off x="3708360" y="371628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70" name="Slika 14" descr="SL-12.JPG"/>
          <p:cNvPicPr/>
          <p:nvPr/>
        </p:nvPicPr>
        <p:blipFill>
          <a:blip r:embed="rId11"/>
          <a:stretch/>
        </p:blipFill>
        <p:spPr>
          <a:xfrm>
            <a:off x="468360" y="3933720"/>
            <a:ext cx="3130560" cy="2347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22"/>
          <p:cNvSpPr/>
          <p:nvPr/>
        </p:nvSpPr>
        <p:spPr>
          <a:xfrm>
            <a:off x="507672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868400" y="3139920"/>
            <a:ext cx="48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Calibri"/>
                <a:ea typeface="Arial"/>
              </a:rPr>
              <a:t>stjepan.stanicic@ri.t-com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3"/>
          <p:cNvSpPr/>
          <p:nvPr/>
        </p:nvSpPr>
        <p:spPr>
          <a:xfrm>
            <a:off x="611280" y="1211400"/>
            <a:ext cx="7921440" cy="44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entury Gothic"/>
              </a:rPr>
              <a:t>Menadžment</a:t>
            </a:r>
            <a:r>
              <a:rPr b="1" lang="hr-HR" sz="3200" spc="-1" strike="noStrike">
                <a:solidFill>
                  <a:srgbClr val="0066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ff"/>
                </a:solidFill>
                <a:latin typeface="Century Gothic"/>
              </a:rPr>
              <a:t>(Umijeće usklađivanja ljudskih i materijalnih potencijala na putu ostvarenja nekog cil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entury Gothic"/>
              </a:rPr>
              <a:t>Pojava – </a:t>
            </a:r>
            <a:r>
              <a:rPr b="0" lang="hr-HR" sz="2400" spc="-1" strike="noStrike">
                <a:solidFill>
                  <a:srgbClr val="0066ff"/>
                </a:solidFill>
                <a:latin typeface="Century Gothic"/>
              </a:rPr>
              <a:t>s počecima civil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entury Gothic"/>
              </a:rPr>
              <a:t>Suvr. shvaćanje </a:t>
            </a:r>
            <a:r>
              <a:rPr b="0" lang="hr-HR" sz="2400" spc="-1" strike="noStrike">
                <a:solidFill>
                  <a:srgbClr val="0066ff"/>
                </a:solidFill>
                <a:latin typeface="Century Gothic"/>
              </a:rPr>
              <a:t>–</a:t>
            </a:r>
            <a:r>
              <a:rPr b="1" lang="hr-HR" sz="2400" spc="-1" strike="noStrike">
                <a:solidFill>
                  <a:srgbClr val="0066ff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0066ff"/>
                </a:solidFill>
                <a:latin typeface="Century Gothic"/>
              </a:rPr>
              <a:t>s</a:t>
            </a:r>
            <a:r>
              <a:rPr b="1" lang="hr-HR" sz="2400" spc="-1" strike="noStrike">
                <a:solidFill>
                  <a:srgbClr val="0066ff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0066ff"/>
                </a:solidFill>
                <a:latin typeface="Century Gothic"/>
              </a:rPr>
              <a:t>pojavom industrijskog druš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entury Gothic"/>
              </a:rPr>
              <a:t>Ekspanzija – </a:t>
            </a:r>
            <a:r>
              <a:rPr b="0" lang="hr-HR" sz="2400" spc="-1" strike="noStrike">
                <a:solidFill>
                  <a:srgbClr val="0066ff"/>
                </a:solidFill>
                <a:latin typeface="Century Gothic"/>
              </a:rPr>
              <a:t>zadnjih 30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entury Gothic"/>
              </a:rPr>
              <a:t>Uzrok</a:t>
            </a:r>
            <a:r>
              <a:rPr b="0" lang="hr-HR" sz="2400" spc="-1" strike="noStrike">
                <a:solidFill>
                  <a:srgbClr val="0066ff"/>
                </a:solidFill>
                <a:latin typeface="Century Gothic"/>
              </a:rPr>
              <a:t> – kumulacija spoznaja - profesionaliz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Century Gothic"/>
              </a:rPr>
              <a:t>	</a:t>
            </a:r>
            <a:r>
              <a:rPr b="0" lang="hr-HR" sz="2400" spc="-1" strike="noStrike">
                <a:solidFill>
                  <a:srgbClr val="0066ff"/>
                </a:solidFill>
                <a:latin typeface="Century Gothic"/>
              </a:rPr>
              <a:t>i specijaliz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3"/>
          <p:cNvSpPr/>
          <p:nvPr/>
        </p:nvSpPr>
        <p:spPr>
          <a:xfrm>
            <a:off x="428760" y="1143000"/>
            <a:ext cx="856908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42880"/>
                <a:tab algn="l" pos="622440"/>
                <a:tab algn="l" pos="803160"/>
                <a:tab algn="l" pos="12556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</a:rPr>
              <a:t>Menadžment </a:t>
            </a:r>
            <a:r>
              <a:rPr b="1" lang="hr-HR" sz="3600" spc="-1" strike="noStrike">
                <a:solidFill>
                  <a:srgbClr val="cc3300"/>
                </a:solidFill>
                <a:latin typeface="Calibri"/>
              </a:rPr>
              <a:t>u obrazovan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2880"/>
                <a:tab algn="l" pos="622440"/>
                <a:tab algn="l" pos="803160"/>
                <a:tab algn="l" pos="12556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Calibri"/>
              </a:rPr>
              <a:t>Ekspanzija menadžmenta u drugim područjima rada (neprofitnim – vojsci, administraciji, sportu, zdravstvu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542880"/>
                <a:tab algn="l" pos="622440"/>
                <a:tab algn="l" pos="803160"/>
                <a:tab algn="l" pos="12556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2880"/>
                <a:tab algn="l" pos="622440"/>
                <a:tab algn="l" pos="803160"/>
                <a:tab algn="l" pos="12556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Calibri"/>
              </a:rPr>
              <a:t>Zadnjih 20-tak godina u odgoju i obrazovanju (odgojni, obrazovni, pedagoški, školski menadžment)</a:t>
            </a:r>
            <a:r>
              <a:rPr b="0" lang="hr-HR" sz="2000" spc="-1" strike="noStrike">
                <a:solidFill>
                  <a:srgbClr val="cc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500040" y="3857760"/>
            <a:ext cx="8104320" cy="21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ravokutnik 4"/>
          <p:cNvSpPr/>
          <p:nvPr/>
        </p:nvSpPr>
        <p:spPr>
          <a:xfrm>
            <a:off x="571680" y="4143240"/>
            <a:ext cx="778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1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entury Gothic"/>
              </a:rPr>
              <a:t>Usklađivanje ljudskih, </a:t>
            </a: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fizičkih</a:t>
            </a:r>
            <a:r>
              <a:rPr b="1" lang="hr-HR" sz="2800" spc="-1" strike="noStrike">
                <a:solidFill>
                  <a:srgbClr val="c00000"/>
                </a:solidFill>
                <a:latin typeface="Century Gothic"/>
              </a:rPr>
              <a:t> i financijskih potencijala da bi se ostvarili ciljevi u djelatnosti odgoja i 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3"/>
          <p:cNvSpPr/>
          <p:nvPr/>
        </p:nvSpPr>
        <p:spPr>
          <a:xfrm>
            <a:off x="324000" y="1285920"/>
            <a:ext cx="8208720" cy="53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</a:rPr>
              <a:t>Zašto menadžment u obrazovanj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Redefiniran karakter i misija šk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70c0"/>
                </a:solidFill>
                <a:latin typeface="Calibri"/>
              </a:rPr>
              <a:t>(od općeobrazovne prema razvojnoj funkcij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Nova uloga državnog upravljanja školstvom </a:t>
            </a:r>
            <a:r>
              <a:rPr b="0" lang="hr-HR" sz="2000" spc="-1" strike="noStrike">
                <a:solidFill>
                  <a:srgbClr val="0070c0"/>
                </a:solidFill>
                <a:latin typeface="Calibri"/>
              </a:rPr>
              <a:t>(decentralizac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Calibri"/>
              </a:rPr>
              <a:t>Primjena novih znanja (ruko)vođenja u odgojno-obrazovnoj ustanovi kao inovativnoj organizaciji koja trajno uči</a:t>
            </a:r>
            <a:r>
              <a:rPr b="0" lang="hr-HR" sz="32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14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Diagram 4"/>
          <p:cNvGrpSpPr/>
          <p:nvPr/>
        </p:nvGrpSpPr>
        <p:grpSpPr>
          <a:xfrm>
            <a:off x="2394720" y="2633400"/>
            <a:ext cx="3634920" cy="3390840"/>
            <a:chOff x="2394720" y="2633400"/>
            <a:chExt cx="3634920" cy="3390840"/>
          </a:xfrm>
        </p:grpSpPr>
        <p:sp>
          <p:nvSpPr>
            <p:cNvPr id="72" name="_s7173"/>
            <p:cNvSpPr/>
            <p:nvPr/>
          </p:nvSpPr>
          <p:spPr>
            <a:xfrm>
              <a:off x="3483000" y="3115440"/>
              <a:ext cx="1458000" cy="13777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7174"/>
            <p:cNvSpPr/>
            <p:nvPr/>
          </p:nvSpPr>
          <p:spPr>
            <a:xfrm>
              <a:off x="4019040" y="2633400"/>
              <a:ext cx="387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Century Gothic"/>
                </a:rPr>
                <a:t>Upravljan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7175"/>
            <p:cNvSpPr/>
            <p:nvPr/>
          </p:nvSpPr>
          <p:spPr>
            <a:xfrm>
              <a:off x="4038120" y="3639960"/>
              <a:ext cx="1458000" cy="13777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7176"/>
            <p:cNvSpPr/>
            <p:nvPr/>
          </p:nvSpPr>
          <p:spPr>
            <a:xfrm>
              <a:off x="5641920" y="4156560"/>
              <a:ext cx="387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Century Gothic"/>
                </a:rPr>
                <a:t>Ruko</a:t>
              </a:r>
              <a:r>
                <a:rPr b="1" lang="en-US" sz="2400" spc="-1" strike="noStrike">
                  <a:solidFill>
                    <a:srgbClr val="0000ff"/>
                  </a:solidFill>
                  <a:latin typeface="Century Gothic"/>
                </a:rPr>
                <a:t>vođen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7177"/>
            <p:cNvSpPr/>
            <p:nvPr/>
          </p:nvSpPr>
          <p:spPr>
            <a:xfrm>
              <a:off x="3483000" y="4164480"/>
              <a:ext cx="1458000" cy="13777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7178"/>
            <p:cNvSpPr/>
            <p:nvPr/>
          </p:nvSpPr>
          <p:spPr>
            <a:xfrm>
              <a:off x="4019040" y="5679720"/>
              <a:ext cx="387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entury Gothic"/>
                </a:rPr>
                <a:t>Vođen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7179"/>
            <p:cNvSpPr/>
            <p:nvPr/>
          </p:nvSpPr>
          <p:spPr>
            <a:xfrm>
              <a:off x="2928240" y="3639960"/>
              <a:ext cx="1458000" cy="13777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7180"/>
            <p:cNvSpPr/>
            <p:nvPr/>
          </p:nvSpPr>
          <p:spPr>
            <a:xfrm>
              <a:off x="2394720" y="4156560"/>
              <a:ext cx="387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Century Gothic"/>
                </a:rPr>
                <a:t>Škola ka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Century Gothic"/>
                </a:rPr>
                <a:t>organizacij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3"/>
          <p:cNvSpPr/>
          <p:nvPr/>
        </p:nvSpPr>
        <p:spPr>
          <a:xfrm>
            <a:off x="468360" y="1197000"/>
            <a:ext cx="79200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00000"/>
                </a:solidFill>
                <a:latin typeface="Calibri"/>
              </a:rPr>
              <a:t>Sastav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menadžmenta u odgoju i obrazov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3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Oval 13"/>
          <p:cNvSpPr/>
          <p:nvPr/>
        </p:nvSpPr>
        <p:spPr>
          <a:xfrm>
            <a:off x="900000" y="2708280"/>
            <a:ext cx="2952720" cy="28796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2f8de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1332000" y="335592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51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1835280" y="4148280"/>
            <a:ext cx="1079280" cy="1079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b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1357200" y="285768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Upravl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1549440" y="37130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uko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1833840" y="45054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4211640" y="1627200"/>
            <a:ext cx="4681440" cy="43563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006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Calibri"/>
              </a:rPr>
              <a:t>Pitanja vezana za upravljan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Prosvjetna administra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Službe i tijela upravljanja na nacionalnoj, regionalnoj, lokalnoj razini i na razini šk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Centralizacija i decentralizacija upravlj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Financiranje školstva, školsko zakonodavstv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hr-HR" sz="1400" spc="-1" strike="noStrike">
                <a:solidFill>
                  <a:srgbClr val="ffffff"/>
                </a:solidFill>
                <a:latin typeface="Calibri"/>
              </a:rPr>
              <a:t>Administrativna infrastruktura u školstv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Ministarstvo prosvjete i športa (prosvjetna politik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Prosvjetna inspekcije (upravni nadz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Uredi državne uprave za prosvjetu (žup. upr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Upravni odjeli za školstvo (žup./reg. samouprav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Gradski odjeli za odgoj i školst. (lok. samoupr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Calibri"/>
              </a:rPr>
              <a:t>Općinske službe za prosvje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Calibri"/>
              </a:rPr>
              <a:t>Strukovna infrastruktura u školstv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99"/>
                </a:solidFill>
                <a:latin typeface="Calibri"/>
              </a:rPr>
              <a:t>Zavod/Agencija za šk. (stručni nadzor i usavr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99"/>
                </a:solidFill>
                <a:latin typeface="Calibri"/>
              </a:rPr>
              <a:t>Institucije za obrazovanje učitelja i struč. suradn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99"/>
                </a:solidFill>
                <a:latin typeface="Calibri"/>
              </a:rPr>
              <a:t>Institucije za istraživanje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99"/>
                </a:solidFill>
                <a:latin typeface="Calibri"/>
              </a:rPr>
              <a:t>Institucije za vrednovanje školstva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5076720" y="429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71680" y="11430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sklađivanje materijalnih, ljudskih i dr. potencijala u odgoju i obrazovanju da se optimalno ostvare </a:t>
            </a: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ciljevi školskog</a:t>
            </a:r>
            <a:r>
              <a:rPr b="0" lang="hr-HR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sust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5500800" y="4287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3"/>
          <p:cNvGraphicFramePr/>
          <p:nvPr/>
        </p:nvGraphicFramePr>
        <p:xfrm>
          <a:off x="324000" y="276120"/>
          <a:ext cx="8569080" cy="63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6120"/>
                    <a:ext cx="856908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20"/>
          <p:cNvSpPr/>
          <p:nvPr/>
        </p:nvSpPr>
        <p:spPr>
          <a:xfrm>
            <a:off x="5076720" y="429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5500800" y="4287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Calibri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avokutnik 8"/>
          <p:cNvSpPr/>
          <p:nvPr/>
        </p:nvSpPr>
        <p:spPr>
          <a:xfrm>
            <a:off x="1143000" y="2214720"/>
            <a:ext cx="775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2160">
              <a:lnSpc>
                <a:spcPct val="100000"/>
              </a:lnSpc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pravljanje s obzirom na </a:t>
            </a: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ovlasti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>
              <a:lnSpc>
                <a:spcPct val="100000"/>
              </a:lnSpc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>
              <a:lnSpc>
                <a:spcPct val="100000"/>
              </a:lnSpc>
              <a:buClr>
                <a:srgbClr val="0066ff"/>
              </a:buClr>
              <a:buFont typeface="Wingdings" charset="2"/>
              <a:buChar char="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Centralizirano</a:t>
            </a:r>
            <a:r>
              <a:rPr b="0" lang="hr-HR" sz="2800" spc="-1" strike="noStrike">
                <a:solidFill>
                  <a:srgbClr val="0066ff"/>
                </a:solidFill>
                <a:latin typeface="Calibri"/>
              </a:rPr>
              <a:t> (koncentracija ovlasti </a:t>
            </a:r>
            <a:r>
              <a:rPr b="0" lang="hr-HR" sz="28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66ff"/>
                </a:solidFill>
                <a:latin typeface="Calibri"/>
              </a:rPr>
              <a:t>na državnoj razi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>
              <a:lnSpc>
                <a:spcPct val="100000"/>
              </a:lnSpc>
              <a:buClr>
                <a:srgbClr val="0066ff"/>
              </a:buClr>
              <a:buFont typeface="Wingdings" charset="2"/>
              <a:buChar char="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Calibri"/>
              </a:rPr>
              <a:t>Decentralizirano</a:t>
            </a:r>
            <a:r>
              <a:rPr b="0" lang="hr-HR" sz="2800" spc="-1" strike="noStrike">
                <a:solidFill>
                  <a:srgbClr val="0066ff"/>
                </a:solidFill>
                <a:latin typeface="Calibri"/>
              </a:rPr>
              <a:t> (disperzija ovlasti na          niže razine - bliže mjestu odlučiva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2:52:12Z</dcterms:created>
  <dc:creator>Stjepan Stanicic</dc:creator>
  <dc:description/>
  <dc:language>en-US</dc:language>
  <cp:lastModifiedBy>Stjepan</cp:lastModifiedBy>
  <dcterms:modified xsi:type="dcterms:W3CDTF">2014-02-19T10:37:26Z</dcterms:modified>
  <cp:revision>259</cp:revision>
  <dc:subject/>
  <dc:title>Slide 1</dc:title>
</cp:coreProperties>
</file>