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  <p:sldId id="286" r:id="rId55"/>
    <p:sldId id="287" r:id="rId56"/>
    <p:sldId id="288" r:id="rId57"/>
    <p:sldId id="289" r:id="rId58"/>
    <p:sldId id="290" r:id="rId59"/>
    <p:sldId id="291" r:id="rId60"/>
    <p:sldId id="292" r:id="rId61"/>
    <p:sldId id="293" r:id="rId62"/>
    <p:sldId id="294" r:id="rId63"/>
    <p:sldId id="295" r:id="rId64"/>
    <p:sldId id="296" r:id="rId65"/>
    <p:sldId id="297" r:id="rId66"/>
    <p:sldId id="29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slide" Target="slides/slide31.xml"/><Relationship Id="rId56" Type="http://schemas.openxmlformats.org/officeDocument/2006/relationships/slide" Target="slides/slide32.xml"/><Relationship Id="rId57" Type="http://schemas.openxmlformats.org/officeDocument/2006/relationships/slide" Target="slides/slide33.xml"/><Relationship Id="rId58" Type="http://schemas.openxmlformats.org/officeDocument/2006/relationships/slide" Target="slides/slide34.xml"/><Relationship Id="rId59" Type="http://schemas.openxmlformats.org/officeDocument/2006/relationships/slide" Target="slides/slide35.xml"/><Relationship Id="rId60" Type="http://schemas.openxmlformats.org/officeDocument/2006/relationships/slide" Target="slides/slide36.xml"/><Relationship Id="rId61" Type="http://schemas.openxmlformats.org/officeDocument/2006/relationships/slide" Target="slides/slide37.xml"/><Relationship Id="rId62" Type="http://schemas.openxmlformats.org/officeDocument/2006/relationships/slide" Target="slides/slide38.xml"/><Relationship Id="rId63" Type="http://schemas.openxmlformats.org/officeDocument/2006/relationships/slide" Target="slides/slide39.xml"/><Relationship Id="rId64" Type="http://schemas.openxmlformats.org/officeDocument/2006/relationships/slide" Target="slides/slide40.xml"/><Relationship Id="rId65" Type="http://schemas.openxmlformats.org/officeDocument/2006/relationships/slide" Target="slides/slide41.xml"/><Relationship Id="rId66" Type="http://schemas.openxmlformats.org/officeDocument/2006/relationships/slide" Target="slides/slide42.xml"/><Relationship Id="rId67" Type="http://schemas.openxmlformats.org/officeDocument/2006/relationships/slide" Target="slides/slide43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4924F-3EE6-4768-8008-F52EF73E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6A5B5-D2D9-4AC3-9F0F-917C7D18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02793-1315-4842-96BD-8EC11BD7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0294D-2CC4-453B-A498-A2CCF672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21D16-2E52-4EA2-B80E-15916A4F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05405-9677-4325-9DE8-EBE14C1C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56163-1D5D-4ED1-9CA4-1C7CAC6C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4EBF6-E151-4FAB-8E90-FD96F310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126B0-8B88-447E-8417-152FD1BB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D4928-85AC-4628-BC87-C3DCFFE6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80DD4-5B3A-461A-928D-F921EEA8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73122-0341-4B98-B98E-C15D87D9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717AF-F454-476E-967D-E6A66377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DCFAC-82AA-4074-AFC8-ECC22A75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00E9E-3184-4A32-8211-F35FCDD2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B27B6-CA81-4DC7-A456-DE057A53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757ED-9694-45FF-A63D-092621A7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E4487-2361-44D0-A877-6C425E78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815E5-D219-45CD-8310-B44922EC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6DBD1-9FED-4D5B-B172-22F0846D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D3D3E-F746-4B60-AA09-83EFF471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5D106-F024-4714-B1EF-D4BE9729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96277-4E9A-4074-B8F1-DD31A94A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11DEB-E2B1-4DBF-97A1-499789FA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BBCC9-458B-4732-B1FE-A1A4D0D8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0F348-6856-422A-8C00-F9B40BCE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BC6DB-18DA-4A67-92B9-6B8653B4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6390B-66DE-428D-8E13-6534B97F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ECE89-B69D-49B2-BFDB-248C2C31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CB26C-CCB1-4F56-9CFB-872191D1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2B070-9DAE-425A-873F-2E13CCB5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51E22-0467-4F37-8E9B-7558D9D9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3F0F8-6489-47D3-8E62-51C4A6E8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C5A36-B04B-47D4-B0FF-D1DEC0C3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BE970-26A2-49FD-9BBD-CD9A1082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E2E5E-CDA6-4C29-B7C9-1885D16C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826F9-9480-4776-B7A6-217A4A0D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BE9F1-88A9-4657-99AE-F6459219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04EEA-BE6A-46C1-9EB5-488FB851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3A9F1-B1AA-42E2-A167-BF3B618A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58180-5EF2-43EA-939C-B136AFEE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37D5B-BCFE-4195-81C2-99B535BC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0B40F-B2DC-4DCE-9759-C3F869AC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91968-B46E-40A7-A08F-712BFF7C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23344-D783-4952-98F9-99C4E4AD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274AF-CB11-465B-A560-0960268B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4BE49-1C56-4C14-B8D5-EE416907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87250-0126-407B-99BB-62A19A5D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8D119-4BED-451D-B875-626A912C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B6DBE-70C1-4319-A958-6B14CD42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6247F-CAC7-4EA1-8B03-5E00100E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B2E02-1877-434B-B0EA-5FA15A93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BDC2B-7107-4450-83DF-AA29CC64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B7DDD-A588-4CE0-B4FC-7F70CA98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A2499-D77A-468F-9F28-A25221D8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DAB50-6EF2-4A5A-B9FE-707E12DB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DB371-558A-4FED-BDDC-5D78F86E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B556E-270F-4DF3-B3C4-B3F5CC1B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6EF85-53BC-4651-B3FD-B4701F3B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668E2-D204-47DE-AD60-E048248C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08E46-4870-4393-A2C2-C621E661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D5ADD-8E7A-4B3D-9B15-737F1A45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038B3-F118-4505-B28C-81A9FA73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EE123-2754-4106-8659-8910E174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8F4F7-AA25-490B-868A-BE02AD18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E8269-D8BD-451D-A056-77E09EE3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F8376-4F3A-4852-9E98-70A6B511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B6B4C-1937-4284-831C-0475EA0C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1472B-B21B-4921-9E95-32A287F5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920E1-8659-43F5-8647-2709C73E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8DD6F-9CDA-49C5-823F-369A87A3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7CC92-AD9D-49F0-827E-30FE45A3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38F6B-EDF4-4235-B2BB-8D4816A7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C3353-4396-4126-9C41-D920B7CA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96DF1-81F1-4118-8D56-171A255A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C95F4-B62D-4983-BCDD-88714696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F681E-905F-4EAA-AA2C-D23E240E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0DB71-A4A6-4363-997D-FB3F053D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4B29C-C757-47A1-9F8C-CBDC0470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B553D-9590-488F-9064-9C4FD0E3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8F216-5413-4D6C-8D8C-071B774C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C6682-D89A-47FC-876D-9CFCE14C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B0C95-CC5A-41FE-9ECB-03510CC9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3FE42-3CAE-4364-BAE1-3C1F7D4F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10682-BCF9-4E21-8ABA-5B9B0869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AC640-E165-47BA-AD60-D138C272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15ACF-93E3-4DFF-B25B-98EBC2A2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6E2B60-DA2A-40DA-87DB-874C8A4F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99F66B-1ADB-4F97-A4C0-BE308E66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92DD3-5849-4505-A70A-6C4AC079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0A5F8D-B29C-40C8-A005-FB2E1C22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CF738-F728-4E3C-A1D1-B6B49455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7FB7B-3E24-4AEC-8E05-984086F2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6C4D68-4F88-487F-AEC0-C9F32A35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1F7DFC-1FEE-4686-89B3-B8F3AFF0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358177-F171-4DA8-8032-1D5016D1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2F8D52-D6A4-4E5B-ACBF-E21681F1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0A9B81-94C0-409E-BCC9-B8DA6F0F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76F4A-9632-4C7D-9E3B-1C0DEC47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D00CAD-A1C6-49EA-8519-10AB5EF5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F8196-AE0F-4458-B95B-921EF1B2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FFCC7D-4742-4EE4-BC73-32665FED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8CCF3-5527-49CB-A742-0F6F63A5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D276C2-BEF1-408C-A2D7-FE059D84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5CD296-4E7C-49D2-A503-8F85257C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ABED99-1122-4D1C-ACF7-C42CE8C5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3C166D-FEF5-43EB-A219-DBF4D2E8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34FBB3-1E10-486D-A45A-C43ED484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69C59F-3D74-405B-B176-3CE1D975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C76BB-C9FD-4139-945D-F106E30E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4A0F3A-8E8B-490C-9E41-17B63130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1304FE-0DF3-4D65-BB4B-DBD924C1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AE6BB7-ED91-4DBB-A662-E8149A84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93B494-72B1-4945-B44A-77E44A9E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706C38-36BD-4505-9FC1-4C32FC20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3D6F4D-6034-4721-A60A-766DBE44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7A3975-3C2A-4DFA-9631-96065C98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58CD0B-F737-4BE4-88BC-A9CD6B9C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6B197C-CE6E-456F-8DC8-622ED213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7CED80-D59F-4A4F-96B3-F0CEDB96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A76CDC-917E-4D25-8675-40048FA4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36B676-F82C-4000-BCC6-6AF96E56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C31DC4-3E59-491C-9098-CD84B54A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56AFF6-92E0-4849-B6C2-E9B9262D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499663-38AB-49BE-B9D3-6657D46D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8B98F1-903D-4841-99D4-D06A33CA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596C91-C6C5-4B74-974F-5564F069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605D81-96DD-41E0-BB02-38C4BAA3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DF02DC-8214-49A7-A450-8AFBCE09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2FFD20-5B11-4DD2-9447-ECBD0365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F61061-3173-4821-AF01-5B858A5A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D72759-6EF0-41FF-821B-5832FA57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DED003-58E0-4D06-9B6B-36CD2E0E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E63F31-6329-4684-AD5E-F9593A9F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A445CE-B67A-4A87-961A-E35FFCEB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2550BF-DE2D-423F-BAB1-8819CA45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082000-34A0-441F-B85F-41573A87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44D127-4660-477D-BFCF-C93B15C4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5C166E-04D0-4ED3-BD16-FD8D6984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748D3C-3FBE-47F0-8DEC-BEB6698F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DFFDDB-364F-42C1-B18E-0C3A3D46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A04C71-8D12-495F-AC31-90DD8B99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2C3E90-668E-4A01-833A-A47813EE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53D216-DBA3-4874-B98E-87BB93CB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CDA5EB-FFA8-44A0-BC8E-B00799C2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50F72E-34A9-4895-A7AE-D9C8D77F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FC23FD-8413-4596-BE37-6AC3DC76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CA6CDE-7B49-49F0-B293-1F1E93A9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43C1C4-73F3-4D40-9004-EC0D1B87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BA7B62-1F73-4A3F-8180-B472916B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0AC720-1179-4D57-8DAF-C0968E3C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15CEC4-0A93-47B3-86BE-221BBD24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4B35F8-8C35-4D4B-8D28-8F7DCE2E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584EAB-3BCE-4EDC-8F90-19D5FBDE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9255D5-ADA1-4370-A9DA-29C212FD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D30F4C-7FC5-4A84-818A-9C00BE4D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57F8C5-C9FD-4B59-9DB3-DDE20B7F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2E9A22-E41D-4A01-85C6-92AB6F37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42F118-1507-41CE-A5E3-0559F0FA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B3147E-1368-4AC2-B11E-4347CF6F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D67EDD-F280-45D1-8701-D37814C8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8D05C5-4CB6-4B47-AA34-BAAFE086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CF0FA1-7E89-454E-8BD1-98D2850C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D3DD9A-09BA-4245-966C-3CC9CE9F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58700C-1697-4247-9D4B-FD28F905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769A9A-3A3F-4A4B-8553-14872014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2E0590-9272-415F-8636-9FBE918F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E70723-D881-45BA-9259-E3B13F02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C73336-4CFD-49EF-AF68-3D9626FD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950B5E-7C31-467B-997D-946969BA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F66D57-1C91-4BD3-9CBF-C797DEFC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52327C-0EC2-4880-B8C6-85D9FF83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B73D65-CC10-4510-B525-BEA636A9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6B64C3-FA19-469F-AEE1-58590969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6F4540-7A6D-481B-B27E-ABD93BBA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41A194-5267-4E8F-B9CC-12E60D60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22AFA1-A2BA-43FA-B513-DB5E03E2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5CF-657F-45A3-AB91-DEBB577C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BC6-5536-4C61-A657-2D5DA3C9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001-8B09-4A3D-8C94-B4F3265D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FF5-362B-4085-A8F7-096BC46C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0E8-3E9B-40C9-BF03-62C63B7B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4C79-DAAD-4528-8812-3295FB1C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ACD-0FC2-4353-A24F-8963C187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ABDB-6C03-4562-B74C-EA58B665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785-6AD5-43C4-8FFE-6ED6544B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9AB-191A-44E1-A5CD-FA4B831E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AB37-26F2-40AA-A936-2611E626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2F2-FC42-4FD5-A2E3-3E634E02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D02B-DDB0-49EA-99BF-BA3416DC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D0B1-EAC1-46AC-9F8C-F3A79E92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D180-5B2E-4D22-A5DA-2F15A6B8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7B2A-CBEC-43D3-A74C-B0E02B31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AADA-214B-4B42-8E69-AB73B72A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796F-6428-48F3-87DD-F5FD4577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B442-BF3B-405E-962E-665BF3E4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713E-A71A-458D-AB88-81D28DDB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32F9-6E51-4D11-A79F-0CFCCFA3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B5A6-845B-494C-895E-9FA1575F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BD95-F678-4FDF-9D2D-8B7C2E2A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DDA8-94BC-4060-B4F0-70E132E0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05E14-7EC2-402D-9596-192D6FAC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BA3A1-860F-418F-BF0F-A4D6ED4A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83598-08DB-4946-A9FA-6C330B8F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251D4-B132-4B8E-8164-8DCE34C0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82940-62A1-4BB0-9462-A4CB230E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CB121-9502-45A0-AA00-D2D4C1C3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58592-9835-43A2-B9E2-EB7AF288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8CF55-B463-48F4-8997-22068387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ABA29-457B-4F0B-BABB-2D9A7EC9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CB077-01FA-4C5C-94FD-BF4AA860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EE7C4-2381-440F-A41D-56BB9D0D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4A2DE-6221-44B4-B6B4-EDE7CEA6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C09C5-5788-4A1D-A159-E0E458CE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DAB9A-7E22-415B-AFEA-F0E4E9BC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58DFC-CC51-431D-AD30-ACF250B3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6B123-84F8-418D-BED9-F671A2D7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51D0F-8830-4028-A030-836DB935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439C6-37BD-4C7A-B7B6-E61B7FE8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E751C-159C-4527-AC07-EB632003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0DE0C-EA0D-4A9D-800E-7BED5BEE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26912-2564-4CDC-AF04-B0C5F8B4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AC9E6-AE91-4FD8-8F57-592F3166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240BF-1DE3-444D-8D16-13C7C900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7131B-5172-4738-99C4-0CA35082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BCCD0-101F-4CEE-B23F-F74A2A25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EF70C-A0B8-4276-97BC-4AC3F916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91415-1FA3-4857-BC6F-7C7EC26F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19D4E-98AC-445E-8BBD-B96C32D0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2DCDE-9216-42C9-AC0C-084C9239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980AE-6C2A-4305-9391-917652E9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F29BD-A132-4E5D-8354-607BC1ED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D6C8F-2D39-4597-AEF1-15D1E24E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977FB-5A11-469D-A825-E0C5A1E8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2911A-B15A-4E3C-B371-D57325FC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1ABB5-3BE9-482F-B06E-4BC81FBC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024C4-A784-4C0A-9D9D-4D1FB49C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23991-4E96-4408-8124-9CFB7016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F17E7-80DA-46FE-A4D8-4F5B1D45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10F57-84BF-4C9E-8804-6989A7E8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9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9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DEE2-8DF0-428C-95A3-0E71F7F409D9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4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4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F3C5-9417-4B69-9BC1-F08075BE54B3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8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8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7454-7161-4201-92CE-3FF3FC93D6EE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53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6CF5-9CBD-4A51-9ADC-D5FDAA8356B1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6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57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DBB8-DFDF-4CC0-A8EC-5E576F81859B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0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621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29D7-B0CA-4325-9D12-716980A647B0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4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66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6593-EDDD-405F-94CC-AEF8ED89A1CE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8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0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16EF-A564-46D6-A336-F94AE23BC09E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8538-F874-40E1-8B6C-B64B3A9153E7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7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9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DD9A-661B-491A-B84C-6AC7C3C6A9C6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grpSp>
        <p:nvGrpSpPr>
          <p:cNvPr id="44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4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1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42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0E1B-7477-410B-B800-FDB78CB795FA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5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86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9617-D5E2-4CB4-B152-7132226D0296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9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930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00EB-2233-4182-9D2B-92D7B0A2B75E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3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974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C619-3294-4E45-9D89-7B7F5C9651A0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84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8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5" descr="AZOO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2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12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A865-C000-447E-BDFB-1F8346DFB5FE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7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17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E1B4-2E20-4CF8-8E1B-5D6249F5B67A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1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1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FF40-330D-4811-9A56-1A6EF00EB3B8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6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6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2CB7-491E-4B83-87A7-EE127D000BF9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0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0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6CAB-59A4-4F53-8F6D-BDAE9EEB034B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5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9BCA-3521-4AFE-ACE9-7C9AF815F763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 u="sng">
                <a:solidFill>
                  <a:srgbClr val="c00000"/>
                </a:solidFill>
                <a:uFillTx/>
                <a:latin typeface="Calibri"/>
              </a:rPr>
              <a:t>Rad ravnatelja srednje škole u prvom mandatu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viši savjetni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Mario Rogač, prof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roblemi 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izdvajanje za školstvo (postotak BN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status i plać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broj visokoobrazovanih u R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nema sustavnog praćenja i vrednovan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Specifični problemi 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ačin imenovanja ravnatelj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astav školskog odb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osebnih kriterija za izbor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očetnog osposoblja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prije stupanja na dužno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raćenja i vrednovanja rada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dovoljno decentralizacije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Specifični problemi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ma napredovanja (trenutn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ma licenciranj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labe ovlasti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dostatak pravne zašt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emalo iskorišteni najbolji ravnatel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riješeni odlazak ravnatelja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Savjetnici za ravnatelj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kada (puno, pa nitko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a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trebalo bi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ložaj ravnatelja u školi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obre i loše strane pos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lanirani poslo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ligon za iskušavanj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mjena okoline prema ravnatel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važnost dobrog počet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zne ulo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dgovornost za s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amostalnost i kreativ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Ravnatelji u svijetu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zličita rješenja imeno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razine: državna, pokrajinska, lokal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sposobljavanje prije početka rada i licenciranje (uglavno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ni odnos u većini zema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ntenzivno usavršavanje i praćenje rada u prvom manda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edovito praćenje i vrednovanje rada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ružanje stručne pomoći i informacij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sobe za pružanje pomoć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AZOO, MZOS, UHSR, GLOS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voditelji ŽSV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skusni i uspješni ravnatel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vnatelji s NSO licen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nternetske stranice, AZOO, UHSR, MZOS,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ZNAMEN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, UTIRUŠ, E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njige i tekstovi (namijenjeni ravnatelji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NSO ravnatelji SŠ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uzana Hitrec, Zagr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arija Rašan-Križanac, Zagr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arijan Puljiz, Spl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ražen Blažeka, Čakov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lan Labus, Zapreš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Čedomir Ružić, Lab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nježana Barabaš-Seršić, Osij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senija Beljan, Opat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slovi ravnatel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„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ravnateljski“ poslo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elekcija i delegiranje poslo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rganizacija rada i praćenje realiz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ćenje rada, ispravljanje pogrešaka i propusta, pravovremeno izvješći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analiza ra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nastavnika, pedagoške dokumentacij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lanova i programa)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slovi ravnatelja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administrativna pisme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redsko poslovanje (Uredba, ZU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ačin obraćanja i pis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učavanje propi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cedure i protoko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dgovornost za finan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dgovornost za sigu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Obilježja ravnatelja</a:t>
            </a:r>
            <a:br>
              <a:rPr sz="2800"/>
            </a:b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     u prvom mandatu 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jambiciozn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jhrabr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jopterećen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jkreativn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slovi ravnatelja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isani tragovi (dopisi, obavijesti, izvješća, službene bilješke, zapisnici,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otvrda o primitku dopi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isani odgovori na pisane podnes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tužbe, prigovori,žalbe, službeni odgovori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zasnivanje i raskidanje radnog odnosa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Važno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reventivni program (dokazi provedb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rogram za suzbijanje nasilja (dokazi provedb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bavještavanje nadležnih institu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MZOS, AZOO, CSS, DORH, POLICIJ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* dokumentacija o rješavanju nasi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* stručno usavršavanje sebe i drugi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Organizacija rad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vremenik i popis poslov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brasci i koncep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nutarnji dogovori i proced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Organizacija rada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ežurstva nastavnika i sigurnost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ontrola ulaza i izla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spored sa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opterećenje učenika, rupe u raspored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rogrami rad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GPIPR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GPIPR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Školski kurik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ealizacija programa (dokazi provedb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okvirni i izvedbeni programi nastavnika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lanovi i programi rada razrednika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Učenici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ovi “Pravilnik o ocjenjivanju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cjenjivanje učenika i bilješ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cjena iz vlad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zostanci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rimjena pedagoških mj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Ostala važna dokumentaci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okumentacija o popravnim ispit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okumentacija o predmetnim ispit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okumentacija o izletima i ekskurzijama učenika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Ostalo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isani radovi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bilježnice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ovi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Najvažnija pedagoška dokumentaci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atične knji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pomenica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zredna knj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Najvažniji podzakonski akti škol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tatut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tički kodeks (čl. 58. st. 1. Za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ućni  (školski) red (čl. 58. st. 2. i 3. Za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Obilježja ravnatelja</a:t>
            </a:r>
            <a:br>
              <a:rPr sz="3200"/>
            </a:b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u prvom mandatu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samljeni (prepušteni sami seb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sigur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bunj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 stres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pre)velika očeki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tpuno novi posa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elika odgovo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ravilnici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ravilnik  o  ra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vilnik  o  zaštiti  na  rad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vilnik  o  zaštiti  od  poža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vilnik  o  zaštiti  okoliš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vilnik  o  promicanju  spoznaja o štetnosti  duhanskih proizvo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Ostali pravilnici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vilnik  o  radu  školske  knjiž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vilnik  o  radu  školskog  sportskog  klu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slovnici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vnik o radu kolegijalnih tije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vnik o radu nastavničkog vijeć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vnik o radu razrednih vijeć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vnik o radu školskog odb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vnik o radu vijeća rodi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vnik o radu vijeća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oslovnici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vnik o radu komisije za stažiranje (Glasnik MPŠ, br. 5, 30. 4. 1996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Ostalo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ate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uporabna dozv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ozvole, rješ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no vrijeme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no vrijeme stručnih surad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ermin informacija za roditel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Preporuk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ritički razmotriti rad prethod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ovjeriti osobne dosjee rad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oslanjati se na usmene poru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jvažnije rješavati odmah ili u najkraćem roku (priorite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Tajnica škole mora znati gdje je ravnatel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davati lažne iska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Preporuke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drediti razine kontr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Usmjeriti rješavanje problema na Šk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Hitnost postupanja u posebnim situacij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Biti prisutan kada je važ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“bježati” od ljud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Preporuke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mati jasne i realne plan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Pokušati imati što veću podrš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 prvom mandatu što više čitati i uči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Preporuke 4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Biti uz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aziti na izj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obro vođenje sjednica i sastan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otivacija rad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biti najpametniji i najzaslužn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mati jasne priorite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Najvažnije preporuk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ačuvajte zdravlje i živce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sao je važan, ali nije najvažn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raditi premalo ni previš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sekirati se oko stvari na koji nemate utjecaj ili nisu u vašoj ingerenc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uzimati “prevelike zalogaj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ko doista ne ide bolje je odust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oložaj ravnatelja u RH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položaj 1. vrs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(Uredba VRH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poslovodni i stručni voditelj škol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(čl. 125. st. 1. Zakon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Najveća opasnos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Upisi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aznena odgovornost u raznim zakon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kon o OO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kon o ra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kon o pravobranitelju za djec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FINANCIJSKO POSLO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Najveći izvori problem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Loša komunik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cjene i način ocjenji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zricanje pedagoških mj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igurnost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Kako bi trebalo biti ?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Radno mjes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Jasni kriteriji za izbor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sposobljavanje prije početka r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tručna pomoć u prvom manda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aćenje i vrednovanje rada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ogućnost napredovanja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eće ovlasti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moćnik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00000"/>
                </a:solidFill>
                <a:latin typeface="Calibri"/>
              </a:rPr>
              <a:t>Hvala!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Odgovornost ravnatel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čl. 125. st. 2. Zak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vnatelj je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odgovoran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za zakonitost rada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tručni rad školske ustano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*Zašto vi dozvolit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*Znate li da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*Što ste poduzeli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Status  ravnatel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vnatelj: funkcija, položaj ili radno mjesto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ituacija u zadnjih dvadesetak godi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- ministar, skupština, školski od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- nekad sa, nekad bez suglasnosti mini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- dan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roblemi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la stoljeća komunizm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omovinski r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mobilizacija, prognanici i izbjeglice, oskudi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ijeratno razdoblj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mjene dužnosnika u nadležnom Ministarstvu (9  ministara  od 1990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Ministri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latko Pavlet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esna Girardi-Jurk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Ljilja Vok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Božidar Pugeln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nsi Ivanišev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ladimir Stru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ragan Primor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Radovan Fuc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Željko Jovanov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Ostalo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vostruko više pomoćnik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lično u Zavodu za školstv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danas AZO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lično u županijskim ured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pročelnici za školstv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0:41:54Z</dcterms:created>
  <dc:creator>Željka</dc:creator>
  <dc:description/>
  <dc:language>en-US</dc:language>
  <cp:lastModifiedBy>mrogac</cp:lastModifiedBy>
  <dcterms:modified xsi:type="dcterms:W3CDTF">2014-02-18T14:14:29Z</dcterms:modified>
  <cp:revision>33</cp:revision>
  <dc:subject/>
  <dc:title>Slide 1</dc:title>
</cp:coreProperties>
</file>