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7816-D0FD-44C5-8E3B-9A2BFF78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84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3954960"/>
            <a:ext cx="784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5981-83D4-419C-8B3F-0EFA358D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39549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4920" y="39549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7B1D-051D-4DA1-A9C7-1F41B4EA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2527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96920" y="1447560"/>
            <a:ext cx="2527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50840" y="1447560"/>
            <a:ext cx="2527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3954960"/>
            <a:ext cx="2527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96920" y="3954960"/>
            <a:ext cx="2527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50840" y="3954960"/>
            <a:ext cx="2527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521A-0D3F-4701-94F4-33F0AC8A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1886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39549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25A0-3ABC-46E9-B7C3-4DFE18F4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64920" y="39549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3954960"/>
            <a:ext cx="784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84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3954960"/>
            <a:ext cx="784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9549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64920" y="39549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2527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6920" y="1447560"/>
            <a:ext cx="2527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50840" y="1447560"/>
            <a:ext cx="2527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3954960"/>
            <a:ext cx="2527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96920" y="3954960"/>
            <a:ext cx="2527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50840" y="3954960"/>
            <a:ext cx="2527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8039-6749-4B7F-AF32-E7D1D61D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78B2-F9C5-4690-8B89-F616D843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4F23-1885-4C6F-B5ED-8C452A9F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3000" y="1886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A48A-EEFE-4191-9CBB-CDE5B3C3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39549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4AFD-C255-4079-9C15-52982DF4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4920" y="39549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6DB7-B40E-4490-90BD-EA3FBDF1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3954960"/>
            <a:ext cx="784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133F-C4F6-4728-8A5F-569C0B84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609480" indent="-609480">
              <a:spcBef>
                <a:spcPts val="601"/>
              </a:spcBef>
              <a:buClr>
                <a:srgbClr val="ca0000"/>
              </a:buClr>
              <a:buSzPct val="10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2" marL="609480" indent="-609480">
              <a:spcBef>
                <a:spcPts val="601"/>
              </a:spcBef>
              <a:buClr>
                <a:srgbClr val="ca0000"/>
              </a:buClr>
              <a:buSzPct val="9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3" marL="609480" indent="-609480">
              <a:spcBef>
                <a:spcPts val="601"/>
              </a:spcBef>
              <a:buClr>
                <a:srgbClr val="808080"/>
              </a:buClr>
              <a:buFont typeface="Cong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4" marL="609480" indent="-609480">
              <a:spcBef>
                <a:spcPts val="601"/>
              </a:spcBef>
              <a:buClr>
                <a:srgbClr val="808080"/>
              </a:buClr>
              <a:buFont typeface="Cong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5" marL="609480" indent="-609480">
              <a:spcBef>
                <a:spcPts val="601"/>
              </a:spcBef>
              <a:buClr>
                <a:srgbClr val="000000"/>
              </a:buClr>
              <a:buFont typeface="Cong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6" marL="609480" indent="-609480">
              <a:spcBef>
                <a:spcPts val="601"/>
              </a:spcBef>
              <a:buClr>
                <a:srgbClr val="000000"/>
              </a:buClr>
              <a:buFont typeface="Cong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3" name="Line 12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22320">
            <a:solidFill>
              <a:srgbClr val="b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7813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961D-7860-4EB0-ADF5-46778903FF66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10663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581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22320">
            <a:solidFill>
              <a:srgbClr val="b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HOO logo he"/>
          <p:cNvPicPr/>
          <p:nvPr/>
        </p:nvPicPr>
        <p:blipFill>
          <a:blip r:embed="rId3"/>
          <a:stretch/>
        </p:blipFill>
        <p:spPr>
          <a:xfrm>
            <a:off x="179280" y="6308640"/>
            <a:ext cx="41904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4"/>
          <p:cNvSpPr/>
          <p:nvPr/>
        </p:nvSpPr>
        <p:spPr>
          <a:xfrm>
            <a:off x="723600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www.hoo.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HOO logo"/>
          <p:cNvPicPr/>
          <p:nvPr/>
        </p:nvPicPr>
        <p:blipFill>
          <a:blip r:embed="rId3"/>
          <a:stretch/>
        </p:blipFill>
        <p:spPr>
          <a:xfrm>
            <a:off x="3805200" y="333360"/>
            <a:ext cx="1558800" cy="1582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4300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609480" indent="-609480">
              <a:spcBef>
                <a:spcPts val="601"/>
              </a:spcBef>
              <a:buClr>
                <a:srgbClr val="ca0000"/>
              </a:buClr>
              <a:buSzPct val="10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2" marL="609480" indent="-609480">
              <a:spcBef>
                <a:spcPts val="601"/>
              </a:spcBef>
              <a:buClr>
                <a:srgbClr val="ca0000"/>
              </a:buClr>
              <a:buSzPct val="9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3" marL="609480" indent="-609480">
              <a:spcBef>
                <a:spcPts val="601"/>
              </a:spcBef>
              <a:buClr>
                <a:srgbClr val="808080"/>
              </a:buClr>
              <a:buFont typeface="Cong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4" marL="609480" indent="-609480">
              <a:spcBef>
                <a:spcPts val="601"/>
              </a:spcBef>
              <a:buClr>
                <a:srgbClr val="808080"/>
              </a:buClr>
              <a:buFont typeface="Cong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5" marL="609480" indent="-609480">
              <a:spcBef>
                <a:spcPts val="601"/>
              </a:spcBef>
              <a:buClr>
                <a:srgbClr val="000000"/>
              </a:buClr>
              <a:buFont typeface="Cong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6" marL="609480" indent="-609480">
              <a:spcBef>
                <a:spcPts val="601"/>
              </a:spcBef>
              <a:buClr>
                <a:srgbClr val="000000"/>
              </a:buClr>
              <a:buFont typeface="Cong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437920"/>
            <a:ext cx="8839440" cy="141948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c0c0c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40000"/>
                </a:solidFill>
                <a:latin typeface="Tahoma"/>
              </a:rPr>
              <a:t>KVALITETA OBRAZOVANJA TALENTIRANIH SPORTAŠA</a:t>
            </a:r>
            <a:endParaRPr b="1" lang="en-US" sz="36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280" y="4343040"/>
            <a:ext cx="8839440" cy="15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5f5f5f"/>
                </a:solidFill>
                <a:latin typeface="Tahoma"/>
              </a:rPr>
              <a:t>Državni stručni skup ravnatelja srednjih škola i učeničkih domova RH</a:t>
            </a:r>
            <a:endParaRPr b="1" lang="en-US" sz="3200" spc="-1" strike="noStrike">
              <a:solidFill>
                <a:srgbClr val="5f5f5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5f5f5f"/>
                </a:solidFill>
                <a:latin typeface="Tahoma"/>
              </a:rPr>
              <a:t>Opatija, 9. travnja, 2013.</a:t>
            </a:r>
            <a:endParaRPr b="1" lang="en-US" sz="32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57160" y="0"/>
            <a:ext cx="81345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73"/>
                </a:solidFill>
                <a:latin typeface="Tahoma"/>
              </a:rPr>
              <a:t>Prijedlog izmjena i dopuna Zakona o odgoju i obrazovanju u osnovnoj i srednjoj školi (lipanj, 2012.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Temeljen na stručnoj raspravi s ravnateljima srednjih škola (skup u Zagrebu, 2009.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Izmjene bodovanja pri upisu za kategorizirane sportaše (1-5 bodova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Nedostatak suradnje nacionalnih športskih saveza (prezentacija 4. 04. 2013.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Nedostatak (nemogućnost) suradnje trenera u svrhu skrbi i potpore mladim sportašima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Ukidanje razrednih odjeljenja za sportaše (Velika Gorica, Čakovec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Prijedlog dodatka u čl. 43 (posebne obrazovne skupine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“</a:t>
            </a:r>
            <a:r>
              <a:rPr b="0" lang="hr-HR" sz="2400" spc="-1" strike="noStrike">
                <a:solidFill>
                  <a:srgbClr val="7575d1"/>
                </a:solidFill>
                <a:latin typeface="Tahoma"/>
              </a:rPr>
              <a:t>posebne uvjete škole su dužne osigurati i kategoriziranim sportašima radi usklađivanja obveza u športu i školi”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7816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DB7C-A0E6-4544-AD74-78A6137D776E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www.vizioshop.com/Majica-Smile-35384-1.png"/>
          <p:cNvPicPr/>
          <p:nvPr/>
        </p:nvPicPr>
        <p:blipFill>
          <a:blip r:embed="rId1"/>
          <a:stretch/>
        </p:blipFill>
        <p:spPr>
          <a:xfrm>
            <a:off x="-285840" y="3286080"/>
            <a:ext cx="1500120" cy="189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t0.gstatic.com/images?q=tbn:ANd9GcSx9TvZJCyZ8B-H7ctsG5Ql4n4lQVEwK88r69z4ZaGnoQqBC7S3Lw"/>
          <p:cNvPicPr/>
          <p:nvPr/>
        </p:nvPicPr>
        <p:blipFill>
          <a:blip r:embed="rId2"/>
          <a:stretch/>
        </p:blipFill>
        <p:spPr>
          <a:xfrm>
            <a:off x="0" y="200016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189000"/>
            <a:ext cx="72867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b40000"/>
                </a:solidFill>
                <a:latin typeface="Tahoma"/>
              </a:rPr>
              <a:t>Prijedlog suradnje (1) (2013.)</a:t>
            </a: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85520" y="1142640"/>
            <a:ext cx="8072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ca000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naliz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zakonske regulative, primjena regulative u praksi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 izrada prijedloga u okviru kojih bi se propisali uvjeti za kategorizirane sportaše u obrazovanju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ca000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duzete aktivnosti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   Odluka o elementima i kriterijima za izbor kandidata za upis u srednje škole u školskoj godini 2012./2013.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 algn="just">
              <a:spcBef>
                <a:spcPts val="349"/>
              </a:spcBef>
              <a:buClr>
                <a:srgbClr val="ca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Podloga za izradu Pravilnika o obrazovanju kategoriziranih sportaša (</a:t>
            </a:r>
            <a:r>
              <a:rPr b="1" lang="vi-VN" sz="1800" spc="-1" strike="noStrike">
                <a:solidFill>
                  <a:srgbClr val="5f5f5f"/>
                </a:solidFill>
                <a:latin typeface="Tahoma"/>
              </a:rPr>
              <a:t>Kategorizirani športaš može upisati, pohađati i završiti osnovno i srednjoškolsko obrazovanje prema posebnim uvjetima koje pravilnikom propisuje ministar, a visokoškolsko obrazovanje samo ako to nije protivno načelima autonomije sveučilišta. </a:t>
            </a:r>
            <a:r>
              <a:rPr b="1" lang="hr-HR" sz="1800" spc="-1" strike="noStrike">
                <a:solidFill>
                  <a:srgbClr val="5f5f5f"/>
                </a:solidFill>
                <a:latin typeface="Tahoma"/>
              </a:rPr>
              <a:t>) </a:t>
            </a:r>
            <a:r>
              <a:rPr b="1" lang="hr-HR" sz="1400" spc="-1" strike="noStrike">
                <a:solidFill>
                  <a:srgbClr val="5f5f5f"/>
                </a:solidFill>
                <a:latin typeface="Tahoma"/>
              </a:rPr>
              <a:t>Zakonu o športu (2008., članak 7. Stavak 4.) i Zakonu o odgoju i obrazovanju u osnovnoj i srednjoj školi (članak 81. stavak, 1 i stavak 2.) propisuju potrebu izrade Pravilnika. </a:t>
            </a:r>
            <a:endParaRPr b="1" lang="en-US" sz="1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ca000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ca000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ca000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ca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7816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C8DE-D5DD-4B80-9BB4-C86C3DAA8533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b40000"/>
                </a:solidFill>
                <a:latin typeface="Tahoma"/>
              </a:rPr>
              <a:t>Plan aktivnosti – poziv na suradnju</a:t>
            </a: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85880" y="1143000"/>
            <a:ext cx="8205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Tahoma"/>
              </a:rPr>
              <a:t>Pravilnik o obrazovanju kategoriziranih sportaša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EU Guidelines on Dual Careers of Athletes - </a:t>
            </a:r>
            <a:r>
              <a:rPr b="1" lang="hr-HR" sz="2400" spc="-1" strike="noStrike">
                <a:solidFill>
                  <a:srgbClr val="7575d1"/>
                </a:solidFill>
                <a:latin typeface="Tahoma"/>
              </a:rPr>
              <a:t>Recommended Policy Actions in Support of Dual Careers in High Performance Sport, Europska komisija (Brussels, November, 2012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POLICY AREAS – CROSS-SECTORAL  APPROACH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SPORT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EDUCATION  (distance learning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EMPLOYMENT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HEALTH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FINANCIAL INCENTIVES (schoolarship – pension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7816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6E27-A583-4325-9CF6-CB4690ED5BC1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b40000"/>
                </a:solidFill>
                <a:latin typeface="Tahoma"/>
              </a:rPr>
              <a:t>Osnovne odrednice EU dokumenta – školovanje sportaša</a:t>
            </a: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57160" y="1785960"/>
            <a:ext cx="80726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Dual karijera – period od 15-20 godine sportaša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42160" indent="-542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Ovisi o vrsti sporta (rana specijalizacija 6-11 godine)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42160" indent="-542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spolu i osobnim sposobnostima (sport osoba s invaliditetom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42160" indent="-542160">
              <a:spcBef>
                <a:spcPts val="601"/>
              </a:spcBef>
              <a:buClr>
                <a:srgbClr val="ca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Ostali uzroci prekida karijere: ozljede, promjena trenera, sazrijevanje, okolina ....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42160" indent="-542160">
              <a:spcBef>
                <a:spcPts val="601"/>
              </a:spcBef>
              <a:buClr>
                <a:srgbClr val="ca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1/3 mladih talentiranih sportaša (10-17 god.) odustaje svake godine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42160" indent="-542160">
              <a:spcBef>
                <a:spcPts val="601"/>
              </a:spcBef>
              <a:buClr>
                <a:srgbClr val="ca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analiza sportaša u razrednim odjeljenjima u odnosu na učenike u ostalim odjeljenjima – sportaši u razrednim odjeljenjima nisu u većem broju značajno uspješniji u sportu i obrazovanju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42160" indent="-542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7816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E56C-F2F8-4352-914C-2AE2776E22A3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b40000"/>
                </a:solidFill>
                <a:latin typeface="Tahoma"/>
              </a:rPr>
              <a:t>OSNOVNE SMJERNICE EU DOKUMENTA</a:t>
            </a:r>
            <a:br>
              <a:rPr sz="2800"/>
            </a:b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3840" y="856800"/>
            <a:ext cx="8929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ca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Talentirani i vrhunski uključujući i mlade sportaše s invaliditetom – </a:t>
            </a: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posebna odgojno obrazovna skupina u relevantnim zakonima, aktima i dr.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ca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Status – prepoznat i ostvarivan suradnjom različitih tijela (vladinih i nevladinih) nadležnih za sport, obrazovanje  i zapošljavanje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ca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Suradnjom tijela izraditi </a:t>
            </a: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nacionalne smjernice za karijeru nakon sportske karijere </a:t>
            </a: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(EU smjernice, posebnosti, interesi, potrebe…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ca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Škola: produžen status redovitog polaznika</a:t>
            </a:r>
            <a:r>
              <a:rPr b="0" lang="hr-HR" sz="3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☺</a:t>
            </a:r>
            <a:endParaRPr b="1" lang="en-US" sz="3200" spc="-1" strike="noStrike">
              <a:solidFill>
                <a:srgbClr val="5f5f5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ca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fleksibilnost (nastava, ispiti), školarine, mentorstvo, ispunjavanje obveza (zadaće, ispiti) elektroničkim putem (skijanje, jedrenje, tenis…) – (Športska gimnazija -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ca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Pravilnik o načinima,postupcima i elementima vrednovanja učenika…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7816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6A5D-2650-41DB-9947-962259445D69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b40000"/>
                </a:solidFill>
                <a:latin typeface="Tahoma"/>
              </a:rPr>
              <a:t>Prijedlog suradnje (2) (2013.)</a:t>
            </a: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56800" y="1428840"/>
            <a:ext cx="80010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5f5f5f"/>
                </a:solidFill>
                <a:latin typeface="Tahoma"/>
              </a:rPr>
              <a:t>Sudjelovanje na promotivnom danu Karijera nakon sportske karijere </a:t>
            </a:r>
            <a:r>
              <a:rPr b="0" lang="hr-HR" sz="2000" spc="-1" strike="noStrike">
                <a:solidFill>
                  <a:srgbClr val="5f5f5f"/>
                </a:solidFill>
                <a:latin typeface="Tahoma"/>
              </a:rPr>
              <a:t>koji će se održati kao pilot projekt u 6 najvećih županija tijekom 2013. godine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f5f5f"/>
                </a:solidFill>
                <a:latin typeface="Tahoma"/>
              </a:rPr>
              <a:t>Dobivena suglasnost </a:t>
            </a:r>
            <a:r>
              <a:rPr b="1" lang="hr-HR" sz="2000" spc="-1" strike="noStrike">
                <a:solidFill>
                  <a:srgbClr val="5f5f5f"/>
                </a:solidFill>
                <a:latin typeface="Tahoma"/>
              </a:rPr>
              <a:t>zajednica saveza sportova županija </a:t>
            </a:r>
            <a:r>
              <a:rPr b="0" lang="hr-HR" sz="2000" spc="-1" strike="noStrike">
                <a:solidFill>
                  <a:srgbClr val="5f5f5f"/>
                </a:solidFill>
                <a:latin typeface="Tahoma"/>
              </a:rPr>
              <a:t>članica HOO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f5f5f"/>
                </a:solidFill>
                <a:latin typeface="Tahoma"/>
              </a:rPr>
              <a:t>Prijava za sredstva iz Olimpijske solidarnosti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5f5f5f"/>
                </a:solidFill>
                <a:latin typeface="Tahoma"/>
              </a:rPr>
              <a:t>Uključivanje  i predstavljanje škola (razredni odjeli za sportaše) , </a:t>
            </a:r>
            <a:r>
              <a:rPr b="0" lang="hr-HR" sz="2000" spc="-1" strike="noStrike">
                <a:solidFill>
                  <a:srgbClr val="5f5f5f"/>
                </a:solidFill>
                <a:latin typeface="Tahoma"/>
              </a:rPr>
              <a:t>prof. kineziologije, sportaša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f5f5f"/>
                </a:solidFill>
                <a:latin typeface="Tahoma"/>
              </a:rPr>
              <a:t>Analiza programa --- </a:t>
            </a: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sport, obrazovanje, zapošljavanje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f5f5f"/>
                </a:solidFill>
                <a:latin typeface="Tahoma"/>
              </a:rPr>
              <a:t>Smjernice i potrebe na županijskog razini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f5f5f"/>
                </a:solidFill>
                <a:latin typeface="Tahoma"/>
              </a:rPr>
              <a:t>Povezivanje i dijalog – suradnja svih nadležnih za ključne segmente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Razgovor s poznatim aktivnim i bivšim sportašima - </a:t>
            </a:r>
            <a:r>
              <a:rPr b="0" lang="hr-HR" sz="2000" spc="-1" strike="noStrike" u="sng">
                <a:solidFill>
                  <a:srgbClr val="ff0000"/>
                </a:solidFill>
                <a:uFillTx/>
                <a:latin typeface="Tahoma"/>
              </a:rPr>
              <a:t>promotori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Posjet sportaša </a:t>
            </a:r>
            <a:r>
              <a:rPr b="0" lang="hr-HR" sz="2000" spc="-1" strike="noStrike">
                <a:solidFill>
                  <a:srgbClr val="5f5f5f"/>
                </a:solidFill>
                <a:latin typeface="Tahoma"/>
              </a:rPr>
              <a:t>i sudionika Promocijskog dana školi koja ima razredno odjeljenje za sportaše i/ili sportskom klubu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7816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545B-8DE6-4FE7-9D90-83065CAAE297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b40000"/>
                </a:solidFill>
                <a:latin typeface="Tahoma"/>
              </a:rPr>
              <a:t>Planirane aktivnosti do lipnja, 2013.</a:t>
            </a: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85880" y="1285560"/>
            <a:ext cx="8205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Prezentacija za voditelje ekipa u okviru Državnog prvenstva športskih društava srednjih škola (svibanj, 2013.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Provedba upitnika o interesima, problemima i potrebama sportaša – srednjoškolaca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Sporazum HOO i Rektorskog zbora visokih učilišta Republike Hrvatske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Informacijska brošura za sadašnje i buduće kategorizirane sportaše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Promocijski dan u Gradu Zagrebu, Zagrebačka županije i Primorsko-goranska županija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Osijek, Split, Dubrovnik – rujan – listopad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Završna konferencija Promocijskog dana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7816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8851-365C-4782-B054-58B7BA55D13E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b40000"/>
                </a:solidFill>
                <a:latin typeface="Tahoma"/>
              </a:rPr>
              <a:t>Rasprava i prijedlozi</a:t>
            </a: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43000" y="1785960"/>
            <a:ext cx="7500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Mišljenje o predloženim aktivnostima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Prijedlog ostalih važnih aktivnosti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Dobri primjeri prakse (za brošuru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Loši  - problemi koje je potrebno rješavati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Sporazum o suradnji sa sportskim klubovima – suradnja s trenerima – suglasnost roditelja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Način komunikacije koordinatora Projekta sa srednjim školama (info na škole…promicanje projekta i kontakta na mrežnim stranicama škola….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7816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C1DE-272A-43F1-96CE-9B03DECAA373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2438280"/>
            <a:ext cx="8839440" cy="134784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c0c0c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b40000"/>
                </a:solidFill>
                <a:latin typeface="Tahoma"/>
              </a:rPr>
              <a:t>Zahvaljujem na pažnji</a:t>
            </a:r>
            <a:endParaRPr b="1" lang="en-US" sz="36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52280" y="43434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5f5f5f"/>
                </a:solidFill>
                <a:latin typeface="Tahoma"/>
              </a:rPr>
              <a:t>Kontakt e-mail: rcaput@agr.hr</a:t>
            </a:r>
            <a:endParaRPr b="1" lang="en-US" sz="36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88640"/>
            <a:ext cx="60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b40000"/>
                </a:solidFill>
                <a:latin typeface="Tahoma"/>
              </a:rPr>
              <a:t>Vrhunski - kategorizirani</a:t>
            </a: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85880" y="1285560"/>
            <a:ext cx="81439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MZOS (2004./2005.) analiza 1048 učenika -10 SŠ (posjet školama, upitnici o stanju u srednjim školama – utvrđeni problemi: potvrde za upis u SŠ – suradnja s NŠS, suradnja s trenerima…. 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Projekt Sportaši i obrazovanje (2012.-2016.) </a:t>
            </a: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- nastavak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projekta </a:t>
            </a: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Kategorizirani sportaši u sustavu obrazovanja (2008-2011)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pojam kategorizirani sportaš (ne samo vrhunski)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propisivanje uvjeta studiranja (Preporuka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Preporuka Nacionalnog vijeća za sport – PRAĆENJE PROVOĐENJA AKTIVNOSTI U PRAKSI  - skromni rezultati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7816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64D7-358C-4A13-B9C7-5DD521450362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www.lupiga.com/vijesti/slike/20111219172229sportovi_sports.jpg"/>
          <p:cNvPicPr/>
          <p:nvPr/>
        </p:nvPicPr>
        <p:blipFill>
          <a:blip r:embed="rId1"/>
          <a:stretch/>
        </p:blipFill>
        <p:spPr>
          <a:xfrm>
            <a:off x="7215120" y="0"/>
            <a:ext cx="1928880" cy="1090440"/>
          </a:xfrm>
          <a:prstGeom prst="rect">
            <a:avLst/>
          </a:prstGeom>
          <a:ln w="0">
            <a:noFill/>
          </a:ln>
        </p:spPr>
      </p:pic>
      <p:cxnSp>
        <p:nvCxnSpPr>
          <p:cNvPr id="92" name="Straight Arrow Connector 6"/>
          <p:cNvCxnSpPr/>
          <p:nvPr/>
        </p:nvCxnSpPr>
        <p:spPr>
          <a:xfrm>
            <a:off x="2857320" y="5928840"/>
            <a:ext cx="64332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b40000"/>
                </a:solidFill>
                <a:latin typeface="Tahoma"/>
              </a:rPr>
              <a:t>Iz dokumenta NACIONALNOG VIJEĆA ZA ŠPORT (2.2.2011.)</a:t>
            </a: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4300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Udruga ravnatelja srednjih škola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 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“</a:t>
            </a: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U okviru nadležnosti </a:t>
            </a:r>
            <a:r>
              <a:rPr b="1" lang="hr-HR" sz="2400" spc="-1" strike="noStrike" u="sng">
                <a:solidFill>
                  <a:srgbClr val="5f5f5f"/>
                </a:solidFill>
                <a:uFillTx/>
                <a:latin typeface="Tahoma"/>
              </a:rPr>
              <a:t>predložiti aktivnosti kojima bi se unaprijedila komunikacija sa športskim klubovima </a:t>
            </a: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i ostalim tijelima nadležnim za šport i obrazovanje u domicilu škole.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Aktivna suradnja u </a:t>
            </a:r>
            <a:r>
              <a:rPr b="1" lang="hr-HR" sz="2400" spc="-1" strike="noStrike" u="sng">
                <a:solidFill>
                  <a:srgbClr val="5f5f5f"/>
                </a:solidFill>
                <a:uFillTx/>
                <a:latin typeface="Tahoma"/>
              </a:rPr>
              <a:t>prilagodbi srednjoškolskog sustava potrebama kategoriziranih športaša </a:t>
            </a: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i ostalih posebnih obrazovnih kategorija (akti, mentor, fleksibilnost sustava, sportska odjeljenja). “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7816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8FC0-ECC7-4268-A494-CFADC35E7BA2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b40000"/>
                </a:solidFill>
                <a:latin typeface="Tahoma"/>
              </a:rPr>
              <a:t>kategorizacija</a:t>
            </a: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3880" y="1285560"/>
            <a:ext cx="82155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5800" indent="-595800" algn="just">
              <a:spcBef>
                <a:spcPts val="499"/>
              </a:spcBef>
              <a:buClr>
                <a:srgbClr val="ca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Kategorizirani sportaši 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oni sportaši koji su ostvarili određene sportske rezultate ili poredak na natjecanjima koja organiziraju ili koja su pod jurisdikcijom nacionalnih sportskih saveza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(međunarodnoga sportskog saveza koje priznaje Međunarodni olimpijski odbor, odnosno Međunarodni paraolimpijski odbor i Međunarodni sportski savez gluhih).. 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595800" indent="-595800" algn="just">
              <a:spcBef>
                <a:spcPts val="499"/>
              </a:spcBef>
              <a:buClr>
                <a:srgbClr val="ca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Kriteriji kategorizacije, postupak izdavanja kategorizacije, vrijeme trajanja pojedine kategorizacije te ostali elementi važni za kategorizaciju športaša, propisani su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Pravilnikom o kategorizaciji športaša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hr-HR" sz="2000" spc="-1" strike="noStrike">
                <a:solidFill>
                  <a:srgbClr val="262673"/>
                </a:solidFill>
                <a:latin typeface="Tahoma"/>
              </a:rPr>
              <a:t>Hrvatski olimpijski odbor, Hrvatski paraolimpijski odbor i Hrvatski sportski savez gluhih, na temelju odredbi  Zakona o sportu)...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595800" indent="-595800" algn="just">
              <a:spcBef>
                <a:spcPts val="499"/>
              </a:spcBef>
              <a:buClr>
                <a:srgbClr val="ca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73"/>
                </a:solidFill>
                <a:latin typeface="Tahoma"/>
              </a:rPr>
              <a:t>I.-III. - vrhunski sportaši, IV. - vrsni, V.-VI. daroviti 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595800" indent="-595800" algn="just">
              <a:spcBef>
                <a:spcPts val="499"/>
              </a:spcBef>
              <a:buClr>
                <a:srgbClr val="ca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73"/>
                </a:solidFill>
                <a:latin typeface="Tahoma"/>
              </a:rPr>
              <a:t>HPO, od I.-IV. 94 sportaša (atletika i plivanje) 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595800" indent="-595800" algn="just">
              <a:spcBef>
                <a:spcPts val="499"/>
              </a:spcBef>
              <a:buClr>
                <a:srgbClr val="ca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2673"/>
                </a:solidFill>
                <a:latin typeface="Tahoma"/>
              </a:rPr>
              <a:t>HSSG od I.-IV. 57 sportaša (rukomet)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595800" indent="-59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7816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96A3-95C5-436E-8DE6-2AE8DE0A574F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b40000"/>
                </a:solidFill>
                <a:latin typeface="Tahoma"/>
              </a:rPr>
              <a:t>Izdana rješenja u kategorizaciji (2009. i 2010., prema Varvodić i sur. 2011.)</a:t>
            </a: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4200" y="1928880"/>
          <a:ext cx="8715600" cy="242892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1560"/>
                <a:gridCol w="871560"/>
                <a:gridCol w="871560"/>
                <a:gridCol w="871560"/>
                <a:gridCol w="87156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.-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V.-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8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01" name="Slide Number Placeholder 3"/>
          <p:cNvSpPr/>
          <p:nvPr/>
        </p:nvSpPr>
        <p:spPr>
          <a:xfrm>
            <a:off x="67816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C308-17E7-4775-BB3D-F2F98731F788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714240" y="5000760"/>
            <a:ext cx="70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kateg. najviše - rukomet i pli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b40000"/>
                </a:solidFill>
                <a:latin typeface="Tahoma"/>
              </a:rPr>
              <a:t>Partneri u projektu SPORTAŠI I OBRAZOVANJE (imenovani koordinatori)</a:t>
            </a: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85880" y="1285560"/>
            <a:ext cx="820584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Ministarstvo znanosti, obrazovanja i sporta Republike Hrvatske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Nacionalno vijeće za sport,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575d1"/>
                </a:solidFill>
                <a:latin typeface="Tahoma"/>
              </a:rPr>
              <a:t>Nacionalno vijeće za odgoj i obrazovanje (u planu …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Rektorski zbor visokih učilišta Republike Hrvatske, Sportska televizija,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Hrvatska olimpijska akademija,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Hrvatski školski sportski savez,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Udruga ravnatelja srednjih škola,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Športska gimnazija u Zagrebu, 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f5f5f"/>
                </a:solidFill>
                <a:latin typeface="Tahoma"/>
              </a:rPr>
              <a:t>članice, komisije i radne skupine Hrvatskog olimpijskog odbora (Hrvatski klub olimpijaca, Komisija za sportaše, nacionalni sportski savezi, zajednice sportova…)</a:t>
            </a: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7816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FCEC-9D99-4B87-808E-F0BAEA6DA7DF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67816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5EAD-51AE-43D3-94B9-53EA929C8C7F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Content Placeholder 4" descr=""/>
          <p:cNvPicPr/>
          <p:nvPr/>
        </p:nvPicPr>
        <p:blipFill>
          <a:blip r:embed="rId1"/>
          <a:stretch/>
        </p:blipFill>
        <p:spPr>
          <a:xfrm>
            <a:off x="1139760" y="573120"/>
            <a:ext cx="7858080" cy="5742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4214880" y="321480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ROJEKT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ODRUČ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2012.-20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714240" y="4143240"/>
            <a:ext cx="2071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7030a0"/>
                </a:solidFill>
                <a:latin typeface="Arial"/>
              </a:rPr>
              <a:t>NACIONALNI PROGRAM RAZVOJA KARIJERE NAKON SPORTSKE KARIJ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7816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8F49-2EFC-4FEA-883C-4550591E4CF0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b40000"/>
                </a:solidFill>
                <a:latin typeface="Tahoma"/>
              </a:rPr>
              <a:t>Ciljevi projekta (2013.)</a:t>
            </a: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213920"/>
            <a:ext cx="7429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ca000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Analiza 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zakonske regulative, primjena regulative u praksi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hr-HR" sz="2000" spc="-1" strike="noStrike" u="sng">
                <a:solidFill>
                  <a:srgbClr val="ff0000"/>
                </a:solidFill>
                <a:uFillTx/>
                <a:latin typeface="Tahoma"/>
              </a:rPr>
              <a:t>izrada prijedloga </a:t>
            </a: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u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kviru kojih bi se propisali uvjeti za kategorizirane sportaše u obrazovanju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buClr>
                <a:srgbClr val="ca0000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zrada </a:t>
            </a:r>
            <a:r>
              <a:rPr b="1" lang="hr-HR" sz="2000" spc="-1" strike="noStrike">
                <a:solidFill>
                  <a:srgbClr val="ff0000"/>
                </a:solidFill>
                <a:latin typeface="Tahoma"/>
              </a:rPr>
              <a:t>Nacionalnog dokumenta razvoja karijere nakon sportske karijere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u sportu temeljena na dokumentu EU Guidelines on Dual Careers of Athletes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3. Analiza i poticanje </a:t>
            </a:r>
            <a:r>
              <a:rPr b="1" lang="hr-HR" sz="2000" spc="-1" strike="noStrike">
                <a:solidFill>
                  <a:srgbClr val="ff0000"/>
                </a:solidFill>
                <a:latin typeface="Tahoma"/>
              </a:rPr>
              <a:t>provođenja aktivnosti i mjera Nacionalnog vijeća za sport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hr-HR" sz="2000" spc="-1" strike="noStrike" u="sng">
                <a:solidFill>
                  <a:srgbClr val="ff0000"/>
                </a:solidFill>
                <a:uFillTx/>
                <a:latin typeface="Tahoma"/>
              </a:rPr>
              <a:t>Provođenja istraživanja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na aktivnim mladim sportašima o interesima u obrazovanju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3.1. Provođenje istraživanja na uzorku bivših sportaša o razlozima prekida 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4.  Analiza priznavanja 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inozemnih obrazovnih kvalifikacija u sportu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b40000"/>
                </a:solidFill>
                <a:latin typeface="Tahoma"/>
              </a:rPr>
              <a:t>ciljevi</a:t>
            </a:r>
            <a:endParaRPr b="1" lang="en-US" sz="2800" spc="-1" strike="noStrike">
              <a:solidFill>
                <a:srgbClr val="b40000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9720" y="1356840"/>
            <a:ext cx="7643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f5f5f"/>
                </a:solidFill>
                <a:latin typeface="Tahoma"/>
              </a:rPr>
              <a:t>5</a:t>
            </a:r>
            <a:r>
              <a:rPr b="1" lang="hr-HR" sz="2400" spc="-1" strike="noStrike">
                <a:solidFill>
                  <a:srgbClr val="5f5f5f"/>
                </a:solidFill>
                <a:latin typeface="Tahoma"/>
              </a:rPr>
              <a:t>.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oticanje 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obrazovnih ustanova na izradu e-obrazovnih programa i cjeloživotnih programa obrazovanja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koji nude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završnost i nastavak karijere nakon sportske karijere u sportu 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hr-HR" sz="2000" spc="-1" strike="noStrike" u="sng">
                <a:solidFill>
                  <a:srgbClr val="ff0000"/>
                </a:solidFill>
                <a:uFillTx/>
                <a:latin typeface="Tahoma"/>
              </a:rPr>
              <a:t>Promocijski dan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„Karijera nakon sportske karijere“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u suradnji s poznatim aktivnim i bivšim vrhunskim sportašima  (2013.)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- 6 ŽUPANIJA  </a:t>
            </a:r>
            <a:r>
              <a:rPr b="0" lang="hr-HR" sz="2000" spc="-1" strike="noStrike" u="sng">
                <a:solidFill>
                  <a:srgbClr val="ff0000"/>
                </a:solidFill>
                <a:uFillTx/>
                <a:latin typeface="Tahoma"/>
              </a:rPr>
              <a:t>(škole – posjet)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7. Izrada 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stručne analize o mogućnostima ciljanog obrazovanja i zapošljavanja u RH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u području sporta i poveznim područjima.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8. Pokretanje nacionalne platforme: Sportaši i obrazovanje (web portal)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9. </a:t>
            </a:r>
            <a:r>
              <a:rPr b="0" lang="hr-HR" sz="2000" spc="-1" strike="noStrike" u="sng">
                <a:solidFill>
                  <a:srgbClr val="ff0000"/>
                </a:solidFill>
                <a:uFillTx/>
                <a:latin typeface="Tahoma"/>
              </a:rPr>
              <a:t>Publiciranje informativnog materijala za sportaše (“ZA SADAŠNJE I BUDUĆE KATEGORIZIRANE SPORTAŠE”) </a:t>
            </a:r>
            <a:endParaRPr b="1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7816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78A9-33DB-475E-9AE6-71B37A134C2A}" type="slidenum">
              <a:rPr b="0" lang="de-DE" sz="12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8:37:01Z</dcterms:created>
  <dc:creator>.</dc:creator>
  <dc:description/>
  <dc:language>en-US</dc:language>
  <cp:lastModifiedBy>.</cp:lastModifiedBy>
  <dcterms:modified xsi:type="dcterms:W3CDTF">2013-04-09T07:17:03Z</dcterms:modified>
  <cp:revision>76</cp:revision>
  <dc:subject/>
  <dc:title>Slide 1</dc:title>
</cp:coreProperties>
</file>