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1D5B-26AF-4DC7-951F-E8B7DA63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4434-578C-4C34-9412-227708EA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0137-CF26-4BF3-8987-D52CF599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A1D-5503-4D58-A446-94475920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7AF2-25ED-44C4-91E7-C38A7B3C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FBC-9C38-48B4-B3C1-2B7F05E0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958-8608-498F-8387-F8337F3F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568C-E22E-4B99-B52B-88C6A893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005-225A-4496-BD9E-774EF665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5608-815C-45C4-AE53-4FD1B9BA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F23-96C1-48CC-8878-7E16F75F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2B81-E402-4E88-854D-640C4F58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29CC-B87A-4D19-8AE6-9DBF5AEFE04D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tihana.radojcic@azoo.hr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tihana.radojcic@azoo.hr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22EA-3BA4-4EF8-BA1B-D428B96B525D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        </a:t>
            </a:r>
            <a:br>
              <a:rPr sz="1800"/>
            </a:br>
            <a:br>
              <a:rPr sz="1800"/>
            </a:br>
            <a:br>
              <a:rPr sz="1200"/>
            </a:br>
            <a:r>
              <a:rPr b="1" lang="hr-HR" sz="12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r>
              <a:rPr b="1" lang="hr-HR" sz="1200" spc="-1" strike="noStrike">
                <a:solidFill>
                  <a:srgbClr val="ff3300"/>
                </a:solidFill>
                <a:latin typeface="Arial"/>
              </a:rPr>
              <a:t>Stručni skup za ravnatelje </a:t>
            </a:r>
            <a:br>
              <a:rPr sz="1200"/>
            </a:br>
            <a:r>
              <a:rPr b="1" lang="hr-HR" sz="12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                                                 srednjih škola i učeničkih domova                                                                                                         </a:t>
            </a:r>
            <a:br>
              <a:rPr sz="1200"/>
            </a:br>
            <a:r>
              <a:rPr b="1" lang="hr-HR" sz="12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                                      “Upravljanje kvalitetom škole i učeničkog doma”</a:t>
            </a:r>
            <a:br>
              <a:rPr sz="1200"/>
            </a:br>
            <a:br>
              <a:rPr sz="1200"/>
            </a:br>
            <a:r>
              <a:rPr b="1" lang="hr-HR" sz="12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                                                       </a:t>
            </a:r>
            <a:r>
              <a:rPr b="1" lang="sr-Latn-CS" sz="1200" spc="-1" strike="noStrike">
                <a:solidFill>
                  <a:srgbClr val="ff3300"/>
                </a:solidFill>
                <a:latin typeface="Arial"/>
              </a:rPr>
              <a:t>Opatija</a:t>
            </a:r>
            <a:r>
              <a:rPr b="1" lang="hr-HR" sz="1200" spc="-1" strike="noStrike">
                <a:solidFill>
                  <a:srgbClr val="ff3300"/>
                </a:solidFill>
                <a:latin typeface="Arial"/>
              </a:rPr>
              <a:t>, 9. i 10. travnja 2013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Procedura i program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pripravničkog staž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ihana Radojčić, pro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voditeljica Odjela za opće poslove i pomoćnica ravnatelja Agen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</a:t>
            </a:r>
            <a:r>
              <a:rPr b="0" lang="hr-HR" sz="1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tihana.radojcic@azoo.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3"/>
          <a:stretch/>
        </p:blipFill>
        <p:spPr>
          <a:xfrm>
            <a:off x="3780000" y="3789360"/>
            <a:ext cx="129672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E565-C5D1-4FAA-B7EE-8087AE5236C9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PRIPRAVNIČKI STAŽ I POLAGANJE STRUČNOGA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AVILNIK* DEFIN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ovjerenstvo za stažiran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bveze povjerenstva za stažiran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olaganje ispita osoba sa završeni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dvopredmetnim studi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način prijave stažiranja i polaganja stručnog ispi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i="1" lang="hr-HR" sz="1600" spc="-1" strike="noStrike">
                <a:solidFill>
                  <a:srgbClr val="ff0000"/>
                </a:solidFill>
                <a:latin typeface="Arial"/>
              </a:rPr>
              <a:t>* Pravilnik o polaganju stručnog ispita učitelja i stručnih suradnika u osnovnom školstvu i nastavnika u srednjem školstvu (Narodne novine, 88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45FB-9AF5-42C8-BEE3-D69E4D1C7474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PRIPRAVNIČKI STAŽ I POLAGANJE STRUČNOGA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MOGUĆI PROBLE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novi” akademski nazi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Pravilnik o stručnoj spremi i pedagoško-psihološkom obrazovanju nastavnika u srednjem školstvu (Narodne novine, 1/96 i 80/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ješenje/ mišljenje Ministarstva znanosti, obrazovanja i sporta sukladno čl. 58. Pravil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3d man looking at red question mark in his hand and thinking by 3dconceptsman - Stock Photo"/>
          <p:cNvPicPr/>
          <p:nvPr/>
        </p:nvPicPr>
        <p:blipFill>
          <a:blip r:embed="rId5"/>
          <a:stretch/>
        </p:blipFill>
        <p:spPr>
          <a:xfrm>
            <a:off x="7093080" y="5810400"/>
            <a:ext cx="122400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F2FD-70E3-4C41-BE58-0F967C09DFFC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PRIPRAVNIČKI STAŽ I POLAGANJE STRUČNOGA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MOGUĆI PROBLE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sobe koje su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završile studij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izvan teritorija Republike Hrvatske: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ješenje Agencije za znanost i visoko obrazo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(stručno priznavanje inozemne visokoškolske kvalifikacije u svrhu zapošljavanja 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RH – formalno se potvrđuje vrijednost inozemne obrazovne kvalifikacij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ješenje/mišljenje Ministarstva znanosti, obrazovanja i spor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(smatra li se konkretna inozemna visokoškolska kvalifikacija odgovarajućom 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bavljanje poslova nastavnika ili stručnog suradnik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3d man looking at red question mark in his hand and thinking by 3dconceptsman - Stock Photo"/>
          <p:cNvPicPr/>
          <p:nvPr/>
        </p:nvPicPr>
        <p:blipFill>
          <a:blip r:embed="rId5"/>
          <a:stretch/>
        </p:blipFill>
        <p:spPr>
          <a:xfrm>
            <a:off x="7093080" y="5810400"/>
            <a:ext cx="122400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2EA5-EC24-4D30-BD3D-9C1F66D19039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PRIPRAVNIČKI STAŽ I POLAGANJE STRUČNOGA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MOGUĆI PROBLE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sobe koje su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položile stručni ispit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izvan teritorija Republike Hrvatske: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kaz o položenom stručnom ispi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gram polaganja položenog stručnoga isp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3d man looking at red question mark in his hand and thinking by 3dconceptsman - Stock Photo"/>
          <p:cNvPicPr/>
          <p:nvPr/>
        </p:nvPicPr>
        <p:blipFill>
          <a:blip r:embed="rId5"/>
          <a:stretch/>
        </p:blipFill>
        <p:spPr>
          <a:xfrm>
            <a:off x="7093080" y="5810400"/>
            <a:ext cx="122400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CE94-8A0C-4A38-BE1A-7E13E348171B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PRIPRAVNIČKI STAŽ I POLAGANJE STRUČNOGA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MOGUĆI PROBLE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sobe koje izvode nastavu na jeziku i pismu nacionalne manjine po modelu A, B ili C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obe se pri prijavi trebaju odlučiti za jezik i pismo na kojemu žele polagati stručni isp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3d man looking at red question mark in his hand and thinking by 3dconceptsman - Stock Photo"/>
          <p:cNvPicPr/>
          <p:nvPr/>
        </p:nvPicPr>
        <p:blipFill>
          <a:blip r:embed="rId4"/>
          <a:stretch/>
        </p:blipFill>
        <p:spPr>
          <a:xfrm>
            <a:off x="7164360" y="5810400"/>
            <a:ext cx="122400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0599-8499-4DAF-88B9-2A7209C5B5BD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PRIPRAVNIČKI STAŽ I POLAGANJE STRUČNOGA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MOGUĆI PROBLE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za ponovno polaganje stručnoga ispita ili njegovog dijela potrebno poslati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na vrijeme prijavnicu i dokaz o uplaćenim troškovim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Odluka o sufinanciranju rada mentora i ispitnih povjerenstava učitelja i nastavnika u osnovnim i srednjim školama u 2012. godin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od 21. lipnja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Odluka o obračunu troškova rada ispitnog povjerenstva za dio/dijelove stručnoga ispita koje pripravnik ponavl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od 3. listopada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3d man looking at red question mark in his hand and thinking by 3dconceptsman - Stock Photo"/>
          <p:cNvPicPr/>
          <p:nvPr/>
        </p:nvPicPr>
        <p:blipFill>
          <a:blip r:embed="rId5"/>
          <a:stretch/>
        </p:blipFill>
        <p:spPr>
          <a:xfrm>
            <a:off x="7164360" y="5810400"/>
            <a:ext cx="122400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B128-F395-4295-A412-B7D358BB4FAB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PRIPRAVNIČKI STAŽ I POLAGANJE STRUČNOGA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MOGUĆI PROBLE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sobe koje se stručno osposobljavaju za rad bez zasnivanja radnoga odno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ma Pravilniku – 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volonteri* sami snose troškove stažiranja i polaganja stručnog isp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ma Uputama za provedbu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Zakona o poticanju zapošljavanja**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poslodavac snosi troškove stažiranja i polaganja stručnog isp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hr-HR" sz="16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0" i="1" lang="hr-HR" sz="1600" spc="-1" strike="noStrike">
                <a:solidFill>
                  <a:srgbClr val="ff0000"/>
                </a:solidFill>
                <a:latin typeface="Arial"/>
              </a:rPr>
              <a:t>pojam u smislu tadašnjeg Zakona o radu, a ne u smislu Zakona o volonterst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i="1" lang="hr-HR" sz="1600" spc="-1" strike="noStrike">
                <a:solidFill>
                  <a:srgbClr val="ff0000"/>
                </a:solidFill>
                <a:latin typeface="Arial"/>
              </a:rPr>
              <a:t>** koje je donijelo Ministarstvo rada i mirovinskog sus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3d man looking at red question mark in his hand and thinking by 3dconceptsman - Stock Photo"/>
          <p:cNvPicPr/>
          <p:nvPr/>
        </p:nvPicPr>
        <p:blipFill>
          <a:blip r:embed="rId5"/>
          <a:stretch/>
        </p:blipFill>
        <p:spPr>
          <a:xfrm>
            <a:off x="7164360" y="5810400"/>
            <a:ext cx="122400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B38A-2914-4DE3-A5FA-9B6AD781F3BC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STAŽIRANJ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POLAG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STRUČNOG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Diagram 17"/>
          <p:cNvGrpSpPr/>
          <p:nvPr/>
        </p:nvGrpSpPr>
        <p:grpSpPr>
          <a:xfrm>
            <a:off x="2369160" y="2026080"/>
            <a:ext cx="4980960" cy="3700440"/>
            <a:chOff x="2369160" y="2026080"/>
            <a:chExt cx="4980960" cy="3700440"/>
          </a:xfrm>
        </p:grpSpPr>
        <p:sp>
          <p:nvSpPr>
            <p:cNvPr id="124" name="_s1028"/>
            <p:cNvSpPr/>
            <p:nvPr/>
          </p:nvSpPr>
          <p:spPr>
            <a:xfrm>
              <a:off x="3861000" y="2550960"/>
              <a:ext cx="1998000" cy="1504800"/>
            </a:xfrm>
            <a:prstGeom prst="ellipse">
              <a:avLst/>
            </a:prstGeom>
            <a:solidFill>
              <a:srgbClr val="00a800">
                <a:alpha val="50000"/>
              </a:srgbClr>
            </a:solidFill>
            <a:ln w="4680">
              <a:solidFill>
                <a:srgbClr val="00a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29"/>
            <p:cNvSpPr/>
            <p:nvPr/>
          </p:nvSpPr>
          <p:spPr>
            <a:xfrm>
              <a:off x="4593960" y="2026080"/>
              <a:ext cx="53172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609480" indent="-609480"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RAVNATELJ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39"/>
            <p:cNvSpPr/>
            <p:nvPr/>
          </p:nvSpPr>
          <p:spPr>
            <a:xfrm>
              <a:off x="4620960" y="3123720"/>
              <a:ext cx="1998360" cy="1504800"/>
            </a:xfrm>
            <a:prstGeom prst="ellipse">
              <a:avLst/>
            </a:prstGeom>
            <a:solidFill>
              <a:srgbClr val="0066cc">
                <a:alpha val="50000"/>
              </a:srgbClr>
            </a:solidFill>
            <a:ln w="468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0"/>
            <p:cNvSpPr/>
            <p:nvPr/>
          </p:nvSpPr>
          <p:spPr>
            <a:xfrm>
              <a:off x="6818400" y="3688560"/>
              <a:ext cx="53172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609480" indent="-6094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AGENCI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ZA ODGOJ I OBRAZOVAN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30"/>
            <p:cNvSpPr/>
            <p:nvPr/>
          </p:nvSpPr>
          <p:spPr>
            <a:xfrm>
              <a:off x="3861000" y="3696480"/>
              <a:ext cx="1998000" cy="150480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4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1"/>
            <p:cNvSpPr/>
            <p:nvPr/>
          </p:nvSpPr>
          <p:spPr>
            <a:xfrm>
              <a:off x="4593960" y="5351040"/>
              <a:ext cx="53172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609480" indent="-6094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UČNI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RADNI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2"/>
            <p:cNvSpPr/>
            <p:nvPr/>
          </p:nvSpPr>
          <p:spPr>
            <a:xfrm>
              <a:off x="3100320" y="3123720"/>
              <a:ext cx="1998360" cy="15048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3"/>
            <p:cNvSpPr/>
            <p:nvPr/>
          </p:nvSpPr>
          <p:spPr>
            <a:xfrm>
              <a:off x="2369160" y="3688560"/>
              <a:ext cx="53172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609480" indent="-6094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PRAVNIKOV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STRUČNJA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E9CC-DFCC-4C6F-A09F-B1D520A00CBD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hr-HR" sz="12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r>
              <a:rPr b="1" lang="hr-HR" sz="1200" spc="-1" strike="noStrike">
                <a:solidFill>
                  <a:srgbClr val="ff3300"/>
                </a:solidFill>
                <a:latin typeface="Arial"/>
              </a:rPr>
              <a:t>Stručni skup za ravnatelje </a:t>
            </a:r>
            <a:br>
              <a:rPr sz="1200"/>
            </a:br>
            <a:r>
              <a:rPr b="1" lang="hr-HR" sz="12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                                                 srednjih škola i učeničkih domova                                                                                                         </a:t>
            </a:r>
            <a:br>
              <a:rPr sz="1200"/>
            </a:br>
            <a:r>
              <a:rPr b="1" lang="hr-HR" sz="12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                                      “Upravljanje kvalitetom škole i učeničkog doma”</a:t>
            </a:r>
            <a:br>
              <a:rPr sz="1200"/>
            </a:br>
            <a:br>
              <a:rPr sz="1200"/>
            </a:br>
            <a:r>
              <a:rPr b="1" lang="hr-HR" sz="12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                                                       </a:t>
            </a:r>
            <a:r>
              <a:rPr b="1" lang="sr-Latn-CS" sz="1200" spc="-1" strike="noStrike">
                <a:solidFill>
                  <a:srgbClr val="ff3300"/>
                </a:solidFill>
                <a:latin typeface="Arial"/>
              </a:rPr>
              <a:t>Opatija</a:t>
            </a:r>
            <a:r>
              <a:rPr b="1" lang="hr-HR" sz="1200" spc="-1" strike="noStrike">
                <a:solidFill>
                  <a:srgbClr val="ff3300"/>
                </a:solidFill>
                <a:latin typeface="Arial"/>
              </a:rPr>
              <a:t>, 9. i 10. travnja 2013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zahvaljujem na pozor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tihana.radojcic@azoo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http://content.presentermedia.com/files/clipart/00011000/11135/group_running_to_target_md_wm.jpg"/>
          <p:cNvPicPr/>
          <p:nvPr/>
        </p:nvPicPr>
        <p:blipFill>
          <a:blip r:embed="rId3"/>
          <a:stretch/>
        </p:blipFill>
        <p:spPr>
          <a:xfrm>
            <a:off x="395280" y="4797360"/>
            <a:ext cx="1800360" cy="16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6937-D2C1-4410-93C8-5517D282D7CA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OSOBITOSTI PRIPRAVNIČKOG STAŽ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usret pripravnika s odgojno-obrazovnom ustanovom i nastavnim procesom u novoj ulozi u novim odnosima (prije toga uloga učenika, student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izualni doživljaj škole i zbor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sret s učenicima i koleg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vođenje u profesiju prvenstveno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pedagoški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č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važno zadovoljiti pripravnikove potre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http://www.presentermedia.com/files/clipart/00007000/7171/introduction_to_a_friend_md_wm.jpg"/>
          <p:cNvPicPr/>
          <p:nvPr/>
        </p:nvPicPr>
        <p:blipFill>
          <a:blip r:embed="rId7"/>
          <a:stretch/>
        </p:blipFill>
        <p:spPr>
          <a:xfrm>
            <a:off x="7020000" y="5300640"/>
            <a:ext cx="147312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C02A-7170-47CA-A995-8F53626AD20E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OSOBITOSTI PRIPRAVNIČKOG STAŽ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motivacij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kao bitan čimbenik stažira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zitivni osjećaji, osjećaj prihvaćan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jecanje povjerenja u samoga se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jecanje povjerenja kolega i ravnatelja šk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stavnik je motiviran za obavljanje svoga posla u skladu sa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slikom o seb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amopoštovanje izravno utječe na odnos između učinka i zadovoljstva nastavničkim posl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odgovornos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http://barry-overstreet.com/wp-content/uploads/2011/12/Effecting-Organizational-Culture.jpg"/>
          <p:cNvPicPr/>
          <p:nvPr/>
        </p:nvPicPr>
        <p:blipFill>
          <a:blip r:embed="rId8"/>
          <a:stretch/>
        </p:blipFill>
        <p:spPr>
          <a:xfrm>
            <a:off x="6659640" y="5300640"/>
            <a:ext cx="1655640" cy="11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49DB-A5C4-45C9-B2E5-0EDB4DFEE500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OSOBITOSTI PRIPRAVNIČKOG STAŽ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tažiranje kao sastavnica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učenja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dnosno etapa u cjeloživotnom obrazovanju i usavršavanj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očetno obrazovanje (diploma) samo pretpostavka općih, stručnih i profesionalnih zna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443640" y="5157720"/>
            <a:ext cx="1962000" cy="10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AF18-CA2E-48E5-A80B-FC91D1DF4D8A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OSOBITOSTI PRIPRAVNIČKOG STAŽ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profesionalni razvoj nastavnik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: složeni suodnos učitelja s određenim osobinama i različitih čimbenika okružja u kojem ostvaruje svoju profesionalnu ulog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oces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profesionalnog učenj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temelji se na refleksiji svakidašnjeg nastavnikova iskustva utemeljenog na njegovu praktičnom i teorijskom znanj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http://1.bp.blogspot.com/-z9eHM1ts7B4/T8JJPNC1L8I/AAAAAAAABBg/fXFsxehLECg/s1600/Social+Media+Teaching+Linchi+Kwok+Blog.jpg"/>
          <p:cNvPicPr/>
          <p:nvPr/>
        </p:nvPicPr>
        <p:blipFill>
          <a:blip r:embed="rId4"/>
          <a:stretch/>
        </p:blipFill>
        <p:spPr>
          <a:xfrm>
            <a:off x="6948360" y="5157720"/>
            <a:ext cx="144000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436B-C0BD-4570-999D-9941393039BC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OSOBITOSTI PRIPRAVNIČKOG STAŽ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ipravnikova osob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fesionalna i sociopsihološka prilagodljiv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ofesionalno znanje i umijeć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ćeobrazovni, stručni, pedagoški sadrža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škola i njezino okruž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isana i nepisana pravila razrednog odjela, aktiva, zbornice, škole, lokalne zajed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Organizacijska kultura"/>
          <p:cNvPicPr/>
          <p:nvPr/>
        </p:nvPicPr>
        <p:blipFill>
          <a:blip r:embed="rId8"/>
          <a:stretch/>
        </p:blipFill>
        <p:spPr>
          <a:xfrm>
            <a:off x="6877080" y="5157720"/>
            <a:ext cx="14400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708B-24FE-495F-B3A6-5137BC43D378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KULTURA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znimno je važna jasnoća: uloga, strukture i granica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ko nema jasne strukture, gubi se vrijeme i energija na utvrđivanje uloga, puno restriktivnih mjera, osjećaj tjesk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ko nema jasnih granica, nema osjećaja pripadnosti niti zašt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ko uloge nisu jasne, nema niti jasnih očeki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0000"/>
                </a:solidFill>
                <a:latin typeface="Arial"/>
                <a:ea typeface="Arial"/>
              </a:rPr>
              <a:t>    → </a:t>
            </a:r>
            <a:r>
              <a:rPr b="1" lang="hr-HR" sz="2600" spc="-1" strike="noStrike">
                <a:solidFill>
                  <a:srgbClr val="ff0000"/>
                </a:solidFill>
                <a:latin typeface="Arial"/>
              </a:rPr>
              <a:t>ORGANIZACIJSKA KUL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6516720" y="4941720"/>
            <a:ext cx="1800360" cy="14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26C2-DAE3-4BFD-9EC2-81A9458FF79A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ORGANIZACIJSKA K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ili “način kako radimo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formalna struktura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ustav vrijednosti, uvjerenja i običaja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način života i rada u koji se vjeruje i koji se preno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http://selekcija.hr/wp-content/uploads/2011/11/Organizacijska-kultura-tipovi-organizacijske-kulture.jpg"/>
          <p:cNvPicPr/>
          <p:nvPr/>
        </p:nvPicPr>
        <p:blipFill>
          <a:blip r:embed="rId5"/>
          <a:stretch/>
        </p:blipFill>
        <p:spPr>
          <a:xfrm>
            <a:off x="3348000" y="4581360"/>
            <a:ext cx="1903320" cy="18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C548-9963-4ED9-ACB9-F3647E71D090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358920" y="1773360"/>
            <a:ext cx="87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PRIPRAVNIČKI STAŽ I POLAGANJE STRUČNOGA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ZAKON* DEFINI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vjete za zasnivanje radnoga odno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tko je pripravnik odnosno osoba koja treba stažirati i polagati stručni isp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koliko traje pripravnički sta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 kojem je roku pripravnik odnosno osoba dužna položiti stručni isp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i="1" lang="hr-HR" sz="1600" spc="-1" strike="noStrike">
                <a:solidFill>
                  <a:srgbClr val="ff0000"/>
                </a:solidFill>
                <a:latin typeface="Arial"/>
              </a:rPr>
              <a:t>* Zakon o odgoju i obrazovanju u osnovnoj i srednjoj školi (Narodne novine, 87/08, 86/09, 92/10, 105/10-ispr., 90/11, 5/12-Uredba, 86/12 i 126/12-pročišćeni tek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9:23:34Z</dcterms:created>
  <dc:creator>M.WIENNA</dc:creator>
  <dc:description/>
  <dc:language>en-US</dc:language>
  <cp:lastModifiedBy>Tihana</cp:lastModifiedBy>
  <dcterms:modified xsi:type="dcterms:W3CDTF">2013-04-09T06:34:09Z</dcterms:modified>
  <cp:revision>213</cp:revision>
  <dc:subject/>
  <dc:title>Slide 1</dc:title>
</cp:coreProperties>
</file>