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A062-3706-4868-A9D2-587645868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82AA-F78F-4D7F-A634-8BF230166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3BBD-F4D7-42BF-B375-4F2B21823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5C4D-F02C-485A-B61D-C5B110ADD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4954-E4DF-4C69-AFD6-756A7C437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B962-339F-4B60-8EBA-C815CDCB8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BD28-032D-434F-B20D-69E2BF54D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7D1F-8171-4178-8BBC-EC9E9E091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3575-071B-45C8-A2A3-80EAF6572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7E18-3ED4-46B5-93AD-46BA0486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7B4F-D89C-4609-B8F0-6F56E7F5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20D6-4093-464C-9A17-942E64EA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Picture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55045-2FB0-40B4-BEB9-508E380A02DD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"/>
          <p:cNvSpPr/>
          <p:nvPr/>
        </p:nvSpPr>
        <p:spPr>
          <a:xfrm>
            <a:off x="0" y="6336000"/>
            <a:ext cx="9144000" cy="5202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7f7f7f"/>
                </a:solidFill>
                <a:latin typeface="Arial Narrow"/>
                <a:ea typeface="Times New Roman"/>
              </a:rPr>
              <a:t>ŽSV odgoj  za ljudska prava i demokratsko građanstvo ( 3-11-09): </a:t>
            </a:r>
            <a:r>
              <a:rPr b="0" lang="hr-HR" sz="1400" spc="-1" strike="noStrike">
                <a:solidFill>
                  <a:srgbClr val="bfbfbf"/>
                </a:solidFill>
                <a:latin typeface="Arial Narrow"/>
                <a:ea typeface="Times New Roman"/>
              </a:rPr>
              <a:t>Razvijanje temeljnih kompetencija i uvođenje sustava upravljanja kvalitetom u odgojno – obrazovni rad učeničkih domo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zoo.hr/" TargetMode="External"/><Relationship Id="rId2" Type="http://schemas.openxmlformats.org/officeDocument/2006/relationships/hyperlink" Target="http://www.mzos.hr/" TargetMode="Externa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mailto:nevenka.loncaric-jelacic@azoo.hr" TargetMode="External"/><Relationship Id="rId2" Type="http://schemas.openxmlformats.org/officeDocument/2006/relationships/hyperlink" Target="http://www.azoo.hr/projekti/nacionalni" TargetMode="External"/><Relationship Id="rId3" Type="http://schemas.openxmlformats.org/officeDocument/2006/relationships/hyperlink" Target="http://ec.europa.eu/education/index_en.htm" TargetMode="External"/><Relationship Id="rId4" Type="http://schemas.openxmlformats.org/officeDocument/2006/relationships/hyperlink" Target="http://www.coe.int/T/E/Cultural_Co-operation/education/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00280"/>
            <a:ext cx="7772400" cy="19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Osnovne odrednice Kurikuluma građanskog odgoja i obrazovanja (GOO-a) i mogućnosti njegova integriranja u plan i program srednje škole</a:t>
            </a:r>
            <a:br>
              <a:rPr sz="2800"/>
            </a:b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Nevenka Lončarić Jelači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viša savjetnica za nacionalne progr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Agencija za odgoj i obrazov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odologija razvoja građanske kompetencije je spiralno-razvojno postavlje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Građanska kompetencija obuhvać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funkcionalnu dimenziju koja se sastoji od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86800" indent="-225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znanja i razumijevanja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86800" indent="-225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vještina i sposobnosti t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86800" indent="-225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vrijednosti i stavo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strukturnu dimenziju koja se sastoji od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86800" indent="-225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ljudsko-pravne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86800" indent="-225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olitičke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86800" indent="-225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društvene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86800" indent="-225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ulturološke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86800" indent="-225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gospodarske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86800" indent="-225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ekološk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- 4. razred OŠ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Strukturne dimenzije GOO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Ljudsko-pravn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dostojanstvo osobe, ljudska prava, slobode i odgovornosti u sklopu razreda, škole i lokalne zajedn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ravnopravnost  u odnosu na dob i spol te etničke, nacionalne, vjerske, rasne i druge razlik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općeprihvaćena pravila i pravne norme kao instrumenti zaštite prava učeni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zbijanje ponižavajućeg i nepoštenog ponašanj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Politička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ktivno i odgovorno građanstvo kao temelj razvoja demokraci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demokratsko upravljanje razredom, školom i lokalnom zajedni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sudjelovanje u demokratskom upravljanju (kandidiranje i izbo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istraživanje i rješavanje problema razredne, školske i lokalne zajedn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štvena;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društvene komunikacijske vješt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upravljanje emocija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upravljanje sukobi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timski r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volontiranje i društvena solidarn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Kulturološk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zvoj  osobnog, zavičajnog, većinskog  i manjinskih nacionalnih identiteta te domovinskog identitet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kulturna osjetljivost 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kulturni dijalo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Gospodarsk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odgovorno gospodarstvo, poduzetnost i poduzetništv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ravo na učenje za konkurentnost na tržištu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zaštita potrošač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Ekološk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rživi razvoj i lokalna zajedn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cionalno i odgovorno trošenje prirodnih resur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govornost građana za održivi razvo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- 8. razred OŠ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judsko-pravn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dostojanstvo osobe, ljudska prava, slobode i odgovornosti u kontekstu ustavnih i zakonskih odredbi Republike Hrvatsk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ravnopravnost  u odnosu na dob, spol, te etničku, vjersku, klasnu i drugu pripadnost, rasu i druge razlike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oštivanje vladavine pra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suzbijanje neljudskog, ponižavajućeg i nepošteno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koruptivnog ) ponaša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suzbijanje društvene isključenosti i drugih oblika diskriminacije pojedinc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itičk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i demokraci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vlast i demokratsko upravljanje držav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sudjelovanje građana u demokratskom upravljanju na lokalnoj i nacionalnoj razini (kandidiranje i izbo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istraživanje i rješavanje problema lokalne i nacionalne zajedn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štven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društvene komunikacijske vješt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timski r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upravljanje emocija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upravljanje sukobi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volontiranje i  razvoj socijalne solidarno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lturološka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zvoj  osobnog, zavičajnog, većinskog  i manjinskih nacionalnih  identiteta kao dio hrvatskog domovinskog identitet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kulturna osjetljivost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kulturni dijalo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vještavanje i uklanjanje stereotipa i predrasu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spodarska;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odgovorno gospodarstvo, poduzetnost i poduzetništv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ravo i odgovornosti u očuvanju i raspolaganju nacionalnim bogatstvi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ravo na učenje za konkurentnost na tržištu i planiranje profesionalnog razvo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va potrošač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ološk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tavne odredbe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pravu  na zdravi okoli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održivi razvoj Republike Hrvatsk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uloga građana u održivom razvoj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s građanskog odgoja i obrazovanja u hrvatskom odgojno-obrazovnom sustavu od 1999. do 2012. godin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68360" y="1557360"/>
            <a:ext cx="851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9. godine Vlada Republike Hrvatske 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osi prvi </a:t>
            </a:r>
            <a:r>
              <a:rPr b="0" i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ionalni program odgoja i obrazovanja za ljudska prav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kom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la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Klasa: 004-01/99-01/05, urbroj: 503018-99-17, od 14. listopada 1999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vez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j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inistarstvo znanosti, obrazovanja i sport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njegovu primjen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vedba toga programa ostala 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dobrovoljnoj osnovi sve do 2012. godine, kada je dovršen novi Kurikulum građanskog odgoja i obrazovanja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 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star je donio odluku o njegovoj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sperimentaln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edb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jekom proteklog desetljeća razvijeni su brojni 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jeri dobre prakse 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ji su, između ostalog, omogućili razvoj ovog Kurikulum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tijeku je eksperimentalno praćenje obvezne provedbe GOO-a u 12 osnovnih i srednjih škola, a u ostalima postupno uvođenje  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ma mogućnostima ško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ći broj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ionaln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h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(od njih 34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egriran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j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 odgojno-obrazovni sustav kroz 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đanski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goj i obrazovan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ednja škol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judsko-pravn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dostojanstvo osobe, ljudska prava , slobode i odgovornosti u nacionalnom, europskom i međunarodnom pravnom sustav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ravnopravnost  u odnosu na dob, spol, te etničku, vjersku, klasnu i drugu pripadnost, rasu i druge razlike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vladavina prava i zaštita ljudskih pra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zbijanje neljudskog, ponižavajućeg i nepošteno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koruptivnog ) ponašanj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suzbijanju društvene isključenosti na različitim razin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itička;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određenje i značaj demokraci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vlast i demokratsko upravljanje, razred, škola, lokalna zajednica, država, Europska unija, međunarodna zajedn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sudjelovanje građana u demokratskom upravljanj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istraživanje i rješavanje problema od školske do međunarodne raz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suzbijanje neljudskog, ponižavajućeg i nepoštenog - koruptivnog  ponaša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suzbijanje društvene isključenosti i drugih oblika diskriminacije pojedinca na nacionalnoj, europskoj i međunarodnoj razin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štvena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društvene komunikacijske vješt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timski r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upravljanje grupnim rad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upravljanje emocijam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upravljanje sukobi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volontiranje i  razvoj socijalne solidarn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lturološka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razvoj  osobnog, zavičajnog, većinskog  i manjinskih nacionalnih  identiteta kao dijela hrvatskog domovinskog identiteta te europskog i globalnog identitet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interkulturna  osjetljivost, komunikacija i dijalo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osvještavanje i uklanjanje stereotipa i predrasu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spodarska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odgovorno gospodarstvo, poduzetnost i poduzetništv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ravo na r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ravo na učenje za konkurentnost na tržištu,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zaštita i moć potrošača, utjecaj na proizvodnju, tržište i društvo potrošnj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ološk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rživi razvoj Hrvatske, Europe i svije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uloga građana u održivom razvoju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r-H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drovski uvjeti za ostvarivanje GOO-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Svi učitelji sudjeluju u ostvarivanju GOO-a i trebaju stručno usavršavanje u sljedećim područjim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znanje o temama GOO-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planiranje i ostvarivanje nastavnog procesa usmjerenog na ishode i postignuća učenika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metode interaktivnog učenja i poučavanja, iskustveno učenje rješavanjem problema, istraživanjem, promišljanjem, zaključivanjem, inovativno učenje stvaranjem novog znanja, inovacija, učenje radeći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Učitelji koji GOO ostvaruju kao zaseban predmet trebaju odgovarajuću vrstu stručne spreme i stručno usavršavanje u prethodno navedenim područjima u trajanju određenog broja sati utvrđenog u Kadrovskim uvjetima za ostvarivanje Kurikuluma GOO-a (str. 1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petencije učitelja i nastavnik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Tijekom eksperimentalnog provođenja GOO-a  odgojno-obrazovnim radnicima  bit će pružene mogućnosti da nadopune i usavrše svoje kompetencije kako je to utvrđeno u  Kurikuluma GOO-a u tekstu pod brojem </a:t>
            </a:r>
            <a:r>
              <a:rPr b="0" i="1" lang="hr-HR" sz="2800" spc="-1" strike="noStrike">
                <a:solidFill>
                  <a:srgbClr val="000000"/>
                </a:solidFill>
                <a:latin typeface="Times New Roman"/>
              </a:rPr>
              <a:t>5. Kompetencije učitelja i nastavnika za poučavanje i učenje GOO-a i 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i="1" lang="hr-HR" sz="2800" spc="-1" strike="noStrike">
                <a:solidFill>
                  <a:srgbClr val="000000"/>
                </a:solidFill>
                <a:latin typeface="Times New Roman"/>
              </a:rPr>
              <a:t>Kadrovski uvjeti za ostvarivanje GOO-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OO – stručno usavršavanje na temu GOO-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Savjetnici  AZOO-a organiziraju stručna usavršavanja na temu GOO-a za  voditelje ŽSV-a svih nastavnih predmeta, uključujući stručne suradnike i ravnatelj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Voditelji županijskih stručnih vijeća organiziraju usavršavanje na temu GOO-a za sve učitelje svih predmeta i struk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i ocjenjivanja postignuća učenika u </a:t>
            </a:r>
            <a:br>
              <a:rPr sz="2800"/>
            </a:b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zvoju građanske kompetenci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da se građanski odgoj i obrazovanje ostvaruje kao izborni ili redoviti predmet podliježe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vilniku o praćenju i ocjenjivanju odgojno-obrazovnih postignuća učenika u osnovnoj i srednjoj škol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i ocjenjivanja su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injenično znanje i razumijevanje (znanje </a:t>
            </a:r>
            <a:r>
              <a:rPr b="1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to i 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anje</a:t>
            </a:r>
            <a:r>
              <a:rPr b="1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ašto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zumijevanje pojmova, vrednota, procesa, institucija i zakonitosti koje čine temelj aktivnog i odgovornog građanstva; potvrđuje se imenovanjem, određivanjem, opisivanjem, analizom, tumačenjem, usporedbom, vrednovanjem i zaključivanjem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kole u uzorku za eksperimentalno provođenje Kurikuluma GOO-a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A projekt i MM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novna škola Ivan Goran Kovačić, Petrinja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novna škola „Ivan Goran Kovačić“, Duga Resa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novna škola Siniše Glavaševića, Vukovar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novna škola „Ivan Goran Kovačić“, Velika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onomska i turistička škola, Daruvar 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ednja škola Obrovac, Obrovac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luka o eksperimentalnom provođenju Kurikuluma GOO-a i Kurikulum nalaze se na </a:t>
            </a:r>
            <a:r>
              <a:rPr b="0" lang="hr-HR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www.azoo.hr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na </a:t>
            </a:r>
            <a:r>
              <a:rPr b="0" lang="hr-HR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www.mzos.hr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edbeno znanje (znanje </a:t>
            </a:r>
            <a:r>
              <a:rPr b="1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ko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zvoj i primjena građanskih vještina i sposobnosti prilikom rješavanja problema koji spadaju u područje aktivnog i odgovornog građanstva; potvrđuje se uspješnom primjenom stečenih ili inovativnih znanja i vještina u konkretnoj situaciji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rijednosno usmjerenje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razumijevanje i prihvaćanje vrednota koje čine temelj aktivnog i odgovornog građanstva; potvrđuje se odgovarajućim obrascima ponašanja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e tri dimenzije znanja u GOO-u  tijesno  su povezane, međusobno su ovisne i vode razvoju građanske kompetencije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koliko se taj proces zbiva u odgovarajućem </a:t>
            </a:r>
            <a:r>
              <a:rPr b="0" i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olišu učenja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- demokratska kultura razreda i škole te otvorenost i suradnja s lokalnom zajednicom)</a:t>
            </a:r>
            <a:r>
              <a:rPr b="0" i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483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da se građanski odgoj i obrazovanje ostvaruje kao među predmetna tema, modularno, izvan-nastavno u svim razinama odgoja i obrazovanja u eksperimentalnoj fazi se ne ocjenjuj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jekom eksperimentalne faze provjerit će se više mogućnosti i modela u eksperimentalnim školama, nakon čega će se najprikladniji model ocjenjivanja preporučiti svim školam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kumentacij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9640" y="141264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kola izrađuje izvedbeni plan i program (kurikulum) GOO-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kumentiranje njegove proved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rubriku bilježaka u dnevniku, upisuje se kratka bilješka da je na određenom satu na integriran način ostvarena tema GOO-a (preklapajuća s predmetnom temo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zredna mapa za GOO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da se GOO ostvaruje među predmetno svi nastavnici unose podatke - kopiju pripreme za nastavnu jedinicu u okviru koje su na integrirani način razvijali građansku kompetenciju kod učenika, najuspješnije uratke učenika, materijale vezano za izvannastavne aktivnosti i projekte i s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čenički dnevnik iz GOO-a;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luži samo-evaluaciji učenikovih postignuć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čenik upisuje u kojim je projektima i aktivnostima sudjelovao, što je tijekom godine izradio u vezi GOO-a, zapažanja, bilješke, osvrti na naučeno, nove ideje i rješenja do kojih je došao, koje su mu vrijednosti važne i s kojim se teškoćama susretao, što želi bolje naučiti,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laže potvrde, priznanja, zahvalnice, učeničke radov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kon eksperimentalne provjere kurikuluma on će postati obvezan za sve ško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čin učenja i poučavanja u GOO-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Nastavnici su pozvani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oristiti  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interaktivne i participativne  metode učenja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i poučavanja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eirati i osmišljavati nova rješenja za nastavne procese usmjerene prema učeniku i više individualiziranim oblicima učenja - daroviti, djeca s teškoćama, različite sposobnosti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pronalaziti u čemu učenik može biti uspješan, na tome graditi njegovo samopouzdanje, motivaciju i uspjeh u učenj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omogućavati prepoznavanje talenata kao uporišta za uspješno učenje i planiranje uspješnog profesionalnog razvo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konska osnova za demokratsko sudjelovanje učenika u ško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lanci 61., 67., 70., i 71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kona o odgoju i obrazovanju u osnovnoj i srednjoj škol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NN 87/08) govore o pravima i obvezama učenika, zaštiti prava učenika te o vijećima učenika i stvaraju uvjete za aktivno uključivanje učenika u život i rad škole kao zajednice koja uči. 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lankom 137 spomenutog Zakona uvodi se vijeće roditelja sastavljeno od po jednog predstavnika svakog razreda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čin na koji se uči, odnosi koji se  uspostavljaju između učitelja, učenika, roditelja, plan i program, kurikulum škole, skriveni kurikulum, stvaraju kulturu ško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z razvoja demokratske građanske kulture u društvu, nema demokraci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ga je jedna od misija škole inkulturiranje  demokratskih načela i vrijed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voj demokratskih procedura za </a:t>
            </a:r>
            <a:r>
              <a:rPr b="1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djelovanje učen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lici vlasti u kojima sudjeluju učenici 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snovnim i srednjim školama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ao što su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edsjednik razreda, 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redno vijeće učenika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lsko vijeće učenika,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stavnici učenika 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glasnogovornici), gradsko vijeće učenika, 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onalno vijeće učenika Republike Hrvatske pri Ministarstvu znanosti, obrazovanja i 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a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ode 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djelujućeg, iskustveno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čen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z Kurikulum GOO-a izrađen je popis i opis metoda prikladnih za poučavanje i učenje GOO-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ija komuniciranja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čitelj-učenik-učenik-učitelj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čenje otkrivanjem sposobnosti i talenat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lenti – jakosti učenika - uporišta za uspješno učenje i planiranje uspješnog profesionalnog razvoja – ostvarenje temeljnog prava djeteta na obrazovanje i cjeloživotno učenj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djelovanje u donošenju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vila razreda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rištenje načela proceduralne, distributivne i korektivne pravednosti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 provedbi pravila; izgrađivanje razreda kao demokratske zajednice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rištenje intelektualnih alata za procjenu položaja vlasti; pripadajuće dužnosti i sposobnosti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ravljanje konfliktima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ravljanje emocijama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encij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silja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oznavanje, istraživanje i rješavanje problema društvene zajednice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govornost za zajedničko dobro, i dr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OO i MZ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novna škola „Đuro Ester“, Koprivnica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. osnovna škola Čakovec, Čakovec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novna škola Pavleka Miškine, Zagreb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novna škola Matije Gupca, Zagreb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mnazija „Fran Galović“, Koprivnica 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ednja škola Dugo Selo, Dugo Selo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ZAHVALJUJEM  NA  POZORNOSTI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nevenka.loncaric-jelacic@azoo.h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Dodatne informacije, materijal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www.azoo.hr/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progra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Opširnije na web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0000ff"/>
                </a:solidFill>
                <a:uFillTx/>
                <a:latin typeface="Times New Roman"/>
                <a:hlinkClick r:id="rId3"/>
              </a:rPr>
              <a:t>http://ec.europa.eu/education/index_en.ht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0000ff"/>
                </a:solidFill>
                <a:uFillTx/>
                <a:latin typeface="Times New Roman"/>
                <a:hlinkClick r:id="rId4"/>
              </a:rPr>
              <a:t>http://www.coe.int/T/E/Cultural_Co-operation/edu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rha eksperimentalnog praćenja Kurikuluma GOO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Eksperimentalnu provedbu Kurikuluma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-a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sustavno će pratiti i vrednovati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Times New Roman"/>
              </a:rPr>
              <a:t>Agencija za odgoj i obrazovanje 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vi-V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Times New Roman"/>
              </a:rPr>
              <a:t>Istraživačko-obrazovni centar za ljudska prava Filozofskog fakulteta Sveučilišta u Zagrebu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ionalni centar za vanjsko vrednovanje obrazovanja u suradnji  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starstvom znanosti, obrazovanja i sport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Rezultati dobiveni eksperimentalnom provedbom Kurikuluma  te analize provedenoga praćenja i vrednovanja koristit će se u svrhu donošenja Kurikuluma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-a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a obvezno uvođenje 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e 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kole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stavnice Kurikuluma GOO-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vir za razvoj kurikuluma GOO-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stavni plan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OO-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Elementi ocjenjivanja postignuća učenika u razvoju građanske kompetenci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Vođenje dokumentacije za praćenje i ocjenjivanje  GOO-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petencije učitelja za poučavanje i učenje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OO-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drovski uvjeti za ostvarivanje kurikul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m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OO-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hodi ostvarivanja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-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 svim razinama osnovne i srednje ško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vir za razvoj Kurikulu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ju se kratka, jasna i pregledna određenja osnovnih pojmova Kurikulu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rebno je osigurati razumijevanje pojmova kao što su: kompetencija, ishod učenja, postignuć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zviti razumijevanje i prihvaćanje da usmjerenost na kompetenciju u obrazovanju znači stavljanje naglaska na 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hod ili rezultat učenja, odnosno na učenika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ona uključuje znanja, vještine, vrijednosti, stavove, osobine ličnosti, motivaciju i obrasce ponašanja kojima pojedinac raspolaže i koje po potrebi pokreće kako bi riješio neki problem ili zadatak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petentna osoba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s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a koja zna i umije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i i koja djeluje u skladu sa svojim znanjima i vještin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 zato što mora ili zato što joj to donosi puku materijalnu korist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o zato što vjeruje 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je takvo djelovanje ispravno i dobro za nju, posao koji obavlja i zajednicu u kojoj živi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ja umije držati u ravnoteži osobni i zajednički interes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stavni plan GOO-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4.</a:t>
            </a:r>
            <a:r>
              <a:rPr b="1" lang="hr-H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razred OŠ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đupredmetno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van-nastavno:  projekti škole i društvene 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jednice u sklopu školskog kurikuluma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KUPNO 35 sati godišnje, obvez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- 8. razred OŠ: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đupredmetno</a:t>
            </a:r>
            <a:r>
              <a:rPr b="0" lang="hr-H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van-nastavno: projekti škole i društvene zajednice 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lopu školskog kurikuluma</a:t>
            </a:r>
            <a:r>
              <a:rPr b="0" lang="hr-H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 mogućnošću izbornog predmeta u 7. i 8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0" lang="hr-H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zred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r-H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r-H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lang="hr-H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KUPNO 35 sati godišnje, obvezno </a:t>
            </a:r>
            <a:r>
              <a:rPr b="0" lang="hr-H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lang="hr-H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 sati predmet ili moduli, izbor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-2. razred SŠ: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bvezni predm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1" lang="hr-H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KUPNO 35 sati godišnje, obvez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đupredmetno</a:t>
            </a:r>
            <a:r>
              <a:rPr b="0" lang="hr-H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arno</a:t>
            </a:r>
            <a:r>
              <a:rPr b="0" lang="hr-H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van-nastavno: projekti škole i društven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jednice u sklopu školskog kurikulum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1" lang="hr-H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KUPNO 15 sati godišnje, obvez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-4. razred SŠ;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arno – tematski usmjereno na struku</a:t>
            </a:r>
            <a:r>
              <a:rPr b="0" lang="hr-H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van-nastavno: istraživački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kti škole i društvene zajednice u sklopu školskog kurikulum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1" lang="hr-H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KUPNO 35 sati godišnje, obvez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10:24:59Z</dcterms:created>
  <dc:creator>Sinisa</dc:creator>
  <dc:description/>
  <dc:language>en-US</dc:language>
  <cp:lastModifiedBy>Agencija</cp:lastModifiedBy>
  <dcterms:modified xsi:type="dcterms:W3CDTF">2013-04-09T21:11:02Z</dcterms:modified>
  <cp:revision>379</cp:revision>
  <dc:subject/>
  <dc:title>Slide 1</dc:title>
</cp:coreProperties>
</file>