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A6BF-0786-4261-9121-80B7D5BC0F1D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6A9A-CE54-4C8A-B655-FAEED1D0B73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5EA8-0129-4DB3-80A3-758FE1A2341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0A08-E2C6-4FF9-B078-98F29969C97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BE45-9B2D-4F7A-929C-23AFC7A9AF8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A06D-970B-4C65-A890-60E11E31D0E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91F-AA64-4C84-9E0C-6F8F5709BE2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650B-46FE-47D1-A27A-CAFC29DE11D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27EB-730A-48C2-8972-F7CF29822DA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07A-A76C-4109-8C93-E1CDBD35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C80-2809-416E-9B0D-D806A18F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370D7-E63F-45D2-BD8B-6F855149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8F456-97C5-4A81-A4E3-341E3E76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DE5D9-EA9A-4A38-AD45-17AC7AE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5A251-5B03-4584-B5BC-93AD846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33655-D9F3-4381-A3D5-11EE63A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644E7-2B93-4139-9A2F-E43C715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BFEFD-7164-4792-9C38-64CAE83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2154C-7659-4B87-8A1A-3E134DCF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3B294-9F81-4EBB-9270-79DBEB52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240-9288-4347-9C5F-9A56FE8D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AF8-403A-4522-B689-E9507FE5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D008-049D-47D1-AE05-B4B8B525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DF36-FBAA-4CA7-BEE2-958D7F05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AD68-88D4-4280-B8F7-1072796C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A9FE-33D3-4A28-B6A0-06A71E8C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22E6-D6A9-4B63-88D5-A42CE5EF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F88C-2287-4D49-83A1-9B0F52D8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C6A4-0442-4670-B581-56AA59E4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6AA-2BCB-4EDD-B357-478B24C7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5E85-54D0-479B-8EF1-220EDFD5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2DAA-3552-4013-833B-5B3DCBF3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CCE1-CB78-4D2A-B932-5F044138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B49A-B1EB-4BCF-9D1D-DBBC8D35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FDA-3414-4086-B84E-8F426DA5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39E8-435C-49AE-9540-09A95AB6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A4E2-0BF4-41C9-8581-D3849CA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0C6D-035E-4924-AEF5-DFC0A2B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76AA-160F-40D5-A113-A6CA7EA3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349B-2ABB-422C-B06E-9D17358C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C6D-E6C8-4350-88BB-8DE5AF0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DFEF-058F-4DD7-9AA2-A2B70A4E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0D9B-CD28-41E8-98F2-1CE65AF6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9538-33BD-4DD3-AD90-3CB98E4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E2C8-02FF-4C6E-BCFF-947A9205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6C5C-DD6A-4E9C-9B32-274B57DE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38B8-4BBA-4B7F-99DB-33816E48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01D5-B838-47F7-8B05-6D075611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9F2D-099A-48E1-B0D1-0F0D2F77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E7508-D5AC-4164-BD83-994F3F90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FB52B-6349-41D6-9D82-B51B110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BB1-46FA-4C24-9304-C110B489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4103D-D526-433F-82AF-F92303AA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0B70-C2F2-4D73-AE91-8EF57122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399E-9E35-421E-BAFB-9AF6430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B6F1-90F1-406D-BDA1-D1D6B57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80FF-0D23-4A82-A6BF-6D9208A6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D4F9-792F-488D-A774-F2001DF1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C6C34-38E6-4DDD-8DAC-2D3D04D7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5DAA-A269-4ACD-97B9-771DE137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B46F-A29C-41D7-A852-3055DAD6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091A-371B-4A6F-904F-DFA58F7A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2E3-2A00-47FD-8EBE-0D6C1B51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9C14-A6B9-44DB-913E-E6C40176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D94F4-11DD-4165-B9F1-48D7F5FB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A550-A151-4126-8903-8C5D70D4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A060-1E82-4149-BA12-82D49115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29DE-4D6D-4D40-A570-B6B13731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ACF3-D520-4C9B-A627-1CC6CE5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55E57-67E4-4449-BE9D-994BD1EF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4E851-11D0-4A8C-80E7-06EFD19E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90F92-192C-4C98-B7CE-2F26FC4D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C733-F50A-47C6-BC1E-6AEABF62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59A-7B87-4AA4-A789-8000B707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954F1-0CDA-4CBF-9592-6047F41D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65CF3-E544-41C4-83AF-E9A75049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B6C6-369E-41E3-B7F9-9DA00AF1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02A3-5B83-432A-976F-8AF7B488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6265A-292A-41E2-A2BC-D88D1876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EC44-B11E-42B5-88FC-A33EE3A3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C32C2-05AD-43E6-ACB3-EEA7FD71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13B61-1F52-4E44-BBE7-46C02EB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276B-2E7E-490B-A0E1-D3B52DD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DD65-E8C2-4A67-B5BF-4A02426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D0A-ECDB-427C-8148-57FA944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C6EC-D9A6-4F61-B060-48A25179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C788D-AE02-4EA7-9E27-4160D2E7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72E14-379A-4F8E-A924-AC99CC7D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EC8FD-601E-4170-AB73-AB28170B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1FA21-073F-4DAD-B078-EEA47422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564B-A4B2-40F1-9C11-FE072D56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6EBD-47F8-4B94-A693-FE0BE9F5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6BF2A-2D55-43E0-8AA8-E2EEF410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1555-6F5F-40A9-B1D6-44ACA91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5BAC-A051-42B3-B1BC-3147BCD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922-7148-45A1-8842-A498B0FB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05A6-D8B1-4AB7-BD4B-6B2EA16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D58F-2AD5-4020-A1C1-A2AC668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260A9-AEC2-4350-A5AC-B4627833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EE2E6-2771-4713-9BB0-FD3A0926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8CCC4-2472-412B-8CB2-6060B852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DE748-87A4-4B52-80C6-489CB31B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28244-ADAE-4D73-BEEE-2939AC1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3B28D-0B1C-4D8F-AA81-0509110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2EB7D-1C35-47EB-B51C-2626B326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88BE6-762F-4C56-B151-D92E500C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69D-4283-4A29-B5B0-208700D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567AE-455D-4559-95F6-A2AAE2F1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87403-4533-4EB1-83B6-6923D66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B408-5015-45C0-B324-B9B556A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C50C-9433-4E20-8637-68D36329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FA9E0-443F-4123-8AB7-E35A43DD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F4060-5D0A-4AD0-ADBF-D819288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B04E-AA15-49CB-B563-60A03BC6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036A0-3A4E-4395-AF34-CBD142D9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1B442-18BA-452A-B312-077C80CE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34CB4-49DC-459C-AF5F-F4BBE85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avni poveznik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avni poveznik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827E-777D-40B6-9FFE-F99FEA9ACC67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avni poveznik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avni poveznik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avni poveznik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avni poveznik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avni poveznik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avni poveznik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6EA3-C27D-4363-8B7E-BED95C969AA9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avni poveznik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avni poveznik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avni poveznik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avni poveznik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avni poveznik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avni poveznik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88E-FEA8-4237-9336-9F0A7C070E3A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avni poveznik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avni poveznik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6660-E5AC-43E1-B295-FF8DC6CB752F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avni poveznik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avni poveznik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558B-A4A2-44B5-A23E-E85C72B5E438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27C8-439E-465D-8225-5363AC63FE88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avni poveznik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avni poveznik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BCD8-CD50-4B6F-9217-C9408A6D0F70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C13E-CF07-4B3A-92ED-40F4BCF173F7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8A85-A948-42E5-9C31-64C77509CECE}" type="slidenum">
              <a:rPr b="0" lang="hr-H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tjepan.stanicic@ri.t-com.hr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611280" y="1484280"/>
            <a:ext cx="788508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Dr. sc. Stjepan Staničić, izv. pr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Na putu do strateg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rukovođenja u predtercijarnom odgoju i obrazova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Stručni skup ravnatelja srednjih škola i učeničkih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Opatija, 10. travnja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kstniOkvir 9"/>
          <p:cNvSpPr/>
          <p:nvPr/>
        </p:nvSpPr>
        <p:spPr>
          <a:xfrm>
            <a:off x="69444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Calibri"/>
              </a:rPr>
              <a:t>Na putu do strategije rukovođenja u odgoju i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avni poveznik 11"/>
          <p:cNvSpPr/>
          <p:nvPr/>
        </p:nvSpPr>
        <p:spPr>
          <a:xfrm>
            <a:off x="826920" y="907920"/>
            <a:ext cx="7632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avni poveznik 13"/>
          <p:cNvSpPr/>
          <p:nvPr/>
        </p:nvSpPr>
        <p:spPr>
          <a:xfrm>
            <a:off x="971640" y="6165720"/>
            <a:ext cx="7416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kstniOkvir 14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755640" y="1916280"/>
            <a:ext cx="7883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Što je cilj Tematske radne gru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Kako ga namjeravamo ostvarit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Što smo do sada uradi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Što nam predstoj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Kako se možete uključiti i doprinije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kstniOkvir 9"/>
          <p:cNvSpPr/>
          <p:nvPr/>
        </p:nvSpPr>
        <p:spPr>
          <a:xfrm>
            <a:off x="69444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Calibri"/>
              </a:rPr>
              <a:t>Na putu do strategije rukovođenja u odgoju i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avni poveznik 11"/>
          <p:cNvSpPr/>
          <p:nvPr/>
        </p:nvSpPr>
        <p:spPr>
          <a:xfrm>
            <a:off x="826920" y="907920"/>
            <a:ext cx="7632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avni poveznik 13"/>
          <p:cNvSpPr/>
          <p:nvPr/>
        </p:nvSpPr>
        <p:spPr>
          <a:xfrm>
            <a:off x="971640" y="6165720"/>
            <a:ext cx="7416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kstniOkvir 14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755640" y="1341360"/>
            <a:ext cx="7883640" cy="47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Cil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Oblikovati strategiju 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rukovođenj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 koj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a </a:t>
            </a:r>
            <a:r>
              <a:rPr b="1" lang="hr-HR" sz="2800" spc="-1" strike="noStrike">
                <a:solidFill>
                  <a:srgbClr val="404040"/>
                </a:solidFill>
                <a:latin typeface="Calibri"/>
              </a:rPr>
              <a:t>optimalno 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doprinosi kvaliteti i razvoju školstva, a prije svega znanju, vještinama i vrednotama naših učeni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utvrditi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 postojeće slabosti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 (</a:t>
            </a:r>
            <a:r>
              <a:rPr b="0" lang="hr-HR" sz="2800" spc="-1" strike="noStrike">
                <a:solidFill>
                  <a:srgbClr val="c00000"/>
                </a:solidFill>
                <a:latin typeface="Calibri"/>
              </a:rPr>
              <a:t>postojeće stanje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predložiti bolja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rješenja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 (</a:t>
            </a:r>
            <a:r>
              <a:rPr b="0" lang="hr-HR" sz="2800" spc="-1" strike="noStrike">
                <a:solidFill>
                  <a:srgbClr val="c00000"/>
                </a:solidFill>
                <a:latin typeface="Calibri"/>
              </a:rPr>
              <a:t>poželjno stanje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projektirati put 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do boljih rješenja (</a:t>
            </a:r>
            <a:r>
              <a:rPr b="0" lang="hr-HR" sz="2800" spc="-1" strike="noStrike">
                <a:solidFill>
                  <a:srgbClr val="c00000"/>
                </a:solidFill>
                <a:latin typeface="Calibri"/>
              </a:rPr>
              <a:t>razvoj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niOkvir 9"/>
          <p:cNvSpPr/>
          <p:nvPr/>
        </p:nvSpPr>
        <p:spPr>
          <a:xfrm>
            <a:off x="69444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Calibri"/>
              </a:rPr>
              <a:t>Na putu do strategije rukovođenja u odgoju i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avni poveznik 11"/>
          <p:cNvSpPr/>
          <p:nvPr/>
        </p:nvSpPr>
        <p:spPr>
          <a:xfrm>
            <a:off x="826920" y="907920"/>
            <a:ext cx="7632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avni poveznik 13"/>
          <p:cNvSpPr/>
          <p:nvPr/>
        </p:nvSpPr>
        <p:spPr>
          <a:xfrm>
            <a:off x="971640" y="6165720"/>
            <a:ext cx="7416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kstniOkvir 14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755640" y="907920"/>
            <a:ext cx="788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c00000"/>
                </a:solidFill>
                <a:latin typeface="Calibri"/>
              </a:rPr>
              <a:t>Tematska radna grup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c00000"/>
                </a:solidFill>
                <a:latin typeface="Calibri"/>
              </a:rPr>
              <a:t>Tim za upravljanje i rukovođenje u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c00000"/>
                </a:solidFill>
                <a:latin typeface="Calibri"/>
              </a:rPr>
              <a:t>Tim za upravljanje i rukovođenje 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c00000"/>
                </a:solidFill>
                <a:latin typeface="Calibri"/>
              </a:rPr>
              <a:t>Tim za upravljanje i rukovođenje SŠ i 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kstniOkvir 9"/>
          <p:cNvSpPr/>
          <p:nvPr/>
        </p:nvSpPr>
        <p:spPr>
          <a:xfrm>
            <a:off x="69444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Calibri"/>
              </a:rPr>
              <a:t>Na putu do strategije rukovođenja u odgoju i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avni poveznik 11"/>
          <p:cNvSpPr/>
          <p:nvPr/>
        </p:nvSpPr>
        <p:spPr>
          <a:xfrm>
            <a:off x="826920" y="907920"/>
            <a:ext cx="7632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avni poveznik 13"/>
          <p:cNvSpPr/>
          <p:nvPr/>
        </p:nvSpPr>
        <p:spPr>
          <a:xfrm>
            <a:off x="971640" y="6165720"/>
            <a:ext cx="7416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kstniOkvir 14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kstniOkvir 9"/>
          <p:cNvSpPr/>
          <p:nvPr/>
        </p:nvSpPr>
        <p:spPr>
          <a:xfrm>
            <a:off x="69444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Calibri"/>
              </a:rPr>
              <a:t>Na putu do strategije rukovođenja u odgoju i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avni poveznik 11"/>
          <p:cNvSpPr/>
          <p:nvPr/>
        </p:nvSpPr>
        <p:spPr>
          <a:xfrm>
            <a:off x="826920" y="907920"/>
            <a:ext cx="7632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avni poveznik 13"/>
          <p:cNvSpPr/>
          <p:nvPr/>
        </p:nvSpPr>
        <p:spPr>
          <a:xfrm>
            <a:off x="971640" y="6165720"/>
            <a:ext cx="7416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kstniOkvir 14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900000" y="1484280"/>
          <a:ext cx="2880000" cy="4548240"/>
        </p:xfrm>
        <a:graphic>
          <a:graphicData uri="http://schemas.openxmlformats.org/drawingml/2006/table">
            <a:tbl>
              <a:tblPr/>
              <a:tblGrid>
                <a:gridCol w="28800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ripremlje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zb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eno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vođ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savrša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avjetodavna pomo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eizb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Vredno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apredo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cencija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4859280" y="1484280"/>
          <a:ext cx="3245040" cy="4548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65320"/>
                <a:gridCol w="2115720"/>
              </a:tblGrid>
              <a:tr h="455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3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1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2" name="TekstniOkvir 18"/>
          <p:cNvSpPr/>
          <p:nvPr/>
        </p:nvSpPr>
        <p:spPr>
          <a:xfrm>
            <a:off x="4716360" y="1052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kstniOkvir 19"/>
          <p:cNvSpPr/>
          <p:nvPr/>
        </p:nvSpPr>
        <p:spPr>
          <a:xfrm>
            <a:off x="7236000" y="105264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Optimal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ravokutnik 20"/>
          <p:cNvSpPr/>
          <p:nvPr/>
        </p:nvSpPr>
        <p:spPr>
          <a:xfrm>
            <a:off x="5308920" y="404640"/>
            <a:ext cx="40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01800" indent="-9018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Calibri"/>
              </a:rPr>
              <a:t>Postojeće st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kstniOkvir 9"/>
          <p:cNvSpPr/>
          <p:nvPr/>
        </p:nvSpPr>
        <p:spPr>
          <a:xfrm>
            <a:off x="69444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Calibri"/>
              </a:rPr>
              <a:t>Na putu do strategije rukovođenja u odgoju i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avni poveznik 11"/>
          <p:cNvSpPr/>
          <p:nvPr/>
        </p:nvSpPr>
        <p:spPr>
          <a:xfrm>
            <a:off x="826920" y="907920"/>
            <a:ext cx="7632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avni poveznik 13"/>
          <p:cNvSpPr/>
          <p:nvPr/>
        </p:nvSpPr>
        <p:spPr>
          <a:xfrm>
            <a:off x="971640" y="6165720"/>
            <a:ext cx="7416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kstniOkvir 14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ravokutnik 7"/>
          <p:cNvSpPr/>
          <p:nvPr/>
        </p:nvSpPr>
        <p:spPr>
          <a:xfrm>
            <a:off x="5292720" y="333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oželjno</a:t>
            </a:r>
            <a:r>
              <a:rPr b="1" lang="vi-VN" sz="2400" spc="-1" strike="noStrike">
                <a:solidFill>
                  <a:srgbClr val="c00000"/>
                </a:solidFill>
                <a:latin typeface="Calibri"/>
              </a:rPr>
              <a:t> st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84360" y="981000"/>
          <a:ext cx="7920000" cy="5029200"/>
        </p:xfrm>
        <a:graphic>
          <a:graphicData uri="http://schemas.openxmlformats.org/drawingml/2006/table">
            <a:tbl>
              <a:tblPr/>
              <a:tblGrid>
                <a:gridCol w="2920680"/>
                <a:gridCol w="49993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 Pripremljeno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19574"/>
                      </a:solidFill>
                    </a:lnL>
                    <a:lnR w="5760">
                      <a:solidFill>
                        <a:srgbClr val="a19574"/>
                      </a:solidFill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f0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edefinirati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logu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 ravnat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tvrditi kompetencijske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tanda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nstitucionalizirati 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brazovanje/osposoblja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cencirati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19574"/>
                      </a:solidFill>
                    </a:lnL>
                    <a:lnR w="5760">
                      <a:solidFill>
                        <a:srgbClr val="a19574"/>
                      </a:solidFill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f0efe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. Optimalno djelo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19574"/>
                      </a:solidFill>
                    </a:lnL>
                    <a:lnR w="5760">
                      <a:solidFill>
                        <a:srgbClr val="a19574"/>
                      </a:solidFill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e0dd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ptimalizirati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vođe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tandardizirati stručno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savrša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sigurati savjetodavnu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omoć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Vrednovanje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prema indikatorima kvali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apredovanje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 u zvanju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19574"/>
                      </a:solidFill>
                    </a:lnL>
                    <a:lnR w="5760">
                      <a:solidFill>
                        <a:srgbClr val="a19574"/>
                      </a:solidFill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e0ddd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 Dostojanstveni odlaz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19574"/>
                      </a:solidFill>
                    </a:lnL>
                    <a:lnR w="5760">
                      <a:solidFill>
                        <a:srgbClr val="a19574"/>
                      </a:solidFill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f0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skazivanje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zahvalnosti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 (nagrade, otpremnina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articipacija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u sustavu (mentorstvo,  savjetništvo, predavanja,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19574"/>
                      </a:solidFill>
                    </a:lnL>
                    <a:lnR w="5760">
                      <a:solidFill>
                        <a:srgbClr val="a19574"/>
                      </a:solidFill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f0ef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. Razvoj profes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19574"/>
                      </a:solidFill>
                    </a:lnL>
                    <a:lnR w="5760">
                      <a:solidFill>
                        <a:srgbClr val="a19574"/>
                      </a:solidFill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e0dd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otaknuti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straživanja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(teorijska i empirijs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okrenuti stručni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časo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bjaviti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teraturu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(domaću i inozemn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Aktualizirati </a:t>
                      </a:r>
                      <a:r>
                        <a:rPr b="1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zakonodavstvo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19574"/>
                      </a:solidFill>
                    </a:lnL>
                    <a:lnR w="5760">
                      <a:solidFill>
                        <a:srgbClr val="a19574"/>
                      </a:solidFill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e0ddd6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kstniOkvir 9"/>
          <p:cNvSpPr/>
          <p:nvPr/>
        </p:nvSpPr>
        <p:spPr>
          <a:xfrm>
            <a:off x="69444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Calibri"/>
              </a:rPr>
              <a:t>Na putu do strategije rukovođenja u odgoju i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avni poveznik 11"/>
          <p:cNvSpPr/>
          <p:nvPr/>
        </p:nvSpPr>
        <p:spPr>
          <a:xfrm>
            <a:off x="826920" y="907920"/>
            <a:ext cx="7632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avni poveznik 13"/>
          <p:cNvSpPr/>
          <p:nvPr/>
        </p:nvSpPr>
        <p:spPr>
          <a:xfrm>
            <a:off x="971640" y="6165720"/>
            <a:ext cx="7416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kstniOkvir 14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684360" y="836640"/>
            <a:ext cx="813564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Calibri"/>
              </a:rPr>
              <a:t>Put do poželjnog stanj</a:t>
            </a:r>
            <a:r>
              <a:rPr b="1" lang="vi-VN" sz="28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C</a:t>
            </a:r>
            <a:r>
              <a:rPr b="1" lang="vi-VN" sz="2800" spc="-1" strike="noStrike">
                <a:solidFill>
                  <a:srgbClr val="c00000"/>
                </a:solidFill>
                <a:latin typeface="Calibri"/>
              </a:rPr>
              <a:t>iljev</a:t>
            </a: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i – Prioriteti - P</a:t>
            </a:r>
            <a:r>
              <a:rPr b="1" lang="vi-VN" sz="2800" spc="-1" strike="noStrike">
                <a:solidFill>
                  <a:srgbClr val="c00000"/>
                </a:solidFill>
                <a:latin typeface="Calibri"/>
              </a:rPr>
              <a:t>rimjen</a:t>
            </a: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Definirati strateške </a:t>
            </a:r>
            <a:r>
              <a:rPr b="1" lang="vi-VN" sz="2800" spc="-1" strike="noStrike">
                <a:solidFill>
                  <a:srgbClr val="404040"/>
                </a:solidFill>
                <a:latin typeface="Calibri"/>
              </a:rPr>
              <a:t>ciljeve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 rukovođ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Utvrditi </a:t>
            </a:r>
            <a:r>
              <a:rPr b="1" lang="vi-VN" sz="2800" spc="-1" strike="noStrike">
                <a:solidFill>
                  <a:srgbClr val="404040"/>
                </a:solidFill>
                <a:latin typeface="Calibri"/>
              </a:rPr>
              <a:t>prioritete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 u području 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r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ukovođ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Odrediti </a:t>
            </a:r>
            <a:r>
              <a:rPr b="1" lang="vi-VN" sz="2800" spc="-1" strike="noStrike">
                <a:solidFill>
                  <a:srgbClr val="404040"/>
                </a:solidFill>
                <a:latin typeface="Calibri"/>
              </a:rPr>
              <a:t>pretpostavke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 da bi se prioriteti mogli ostva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Razraditi </a:t>
            </a:r>
            <a:r>
              <a:rPr b="1" lang="vi-VN" sz="2800" spc="-1" strike="noStrike">
                <a:solidFill>
                  <a:srgbClr val="404040"/>
                </a:solidFill>
                <a:latin typeface="Calibri"/>
              </a:rPr>
              <a:t>plan primjene </a:t>
            </a:r>
            <a:r>
              <a:rPr b="0" lang="vi-VN" sz="2800" spc="-1" strike="noStrike">
                <a:solidFill>
                  <a:srgbClr val="404040"/>
                </a:solidFill>
                <a:latin typeface="Calibri"/>
              </a:rPr>
              <a:t>(što, kada, kako,…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404040"/>
                </a:solidFill>
                <a:latin typeface="Calibri"/>
              </a:rPr>
              <a:t>Šira ras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kstniOkvir 9"/>
          <p:cNvSpPr/>
          <p:nvPr/>
        </p:nvSpPr>
        <p:spPr>
          <a:xfrm>
            <a:off x="69444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Calibri"/>
              </a:rPr>
              <a:t>Na putu do strategije rukovođenja u odgoju i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avni poveznik 11"/>
          <p:cNvSpPr/>
          <p:nvPr/>
        </p:nvSpPr>
        <p:spPr>
          <a:xfrm>
            <a:off x="826920" y="907920"/>
            <a:ext cx="7632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avni poveznik 13"/>
          <p:cNvSpPr/>
          <p:nvPr/>
        </p:nvSpPr>
        <p:spPr>
          <a:xfrm>
            <a:off x="971640" y="6165720"/>
            <a:ext cx="7416720" cy="0"/>
          </a:xfrm>
          <a:prstGeom prst="line">
            <a:avLst/>
          </a:prstGeom>
          <a:ln w="10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kstniOkvir 14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755640" y="836640"/>
            <a:ext cx="813744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Kako možete pomoć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Znanjem , iskustvom, prijedlozima, idejama, … pravodobnim negodovanjem  </a:t>
            </a: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- do 1.05.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Voditelj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tematske radne grup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. sc. Stjepan Staničić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stjepan.stanicic@ri.t-com.hr</a:t>
            </a:r>
            <a:r>
              <a:rPr b="0" lang="hr-HR" sz="2000" spc="-1" strike="noStrike" u="sng">
                <a:solidFill>
                  <a:srgbClr val="404040"/>
                </a:solidFill>
                <a:uFillTx/>
                <a:latin typeface="Calibri"/>
              </a:rPr>
              <a:t> </a:t>
            </a: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Koordinator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tematske radne gru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dovan Šoljaga, dr.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ed-skola-rijeka@ri.t-com.h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Radni tim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a srednje školstv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. sc. Oleg Đaković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libri"/>
              </a:rPr>
              <a:t>oleg.dakovic@azoo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uzana Hitrec, prof.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libri"/>
              </a:rPr>
              <a:t>suzana.hitrec@zg.htnet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Ljubica Banović, prof.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libri"/>
              </a:rPr>
              <a:t>ljubica.banovic@ma-ja.hr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dovan Šoljaga, dr.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libri"/>
              </a:rPr>
              <a:t>med-skola-rijeka@ri.t-com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Vlado Prskalo, prof.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libri"/>
              </a:rPr>
              <a:t>dvvi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Čedomir Ružić, prof.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alibri"/>
              </a:rPr>
              <a:t>cedomir.ruzic@pu.t-com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2:52:12Z</dcterms:created>
  <dc:creator>Stjepan Stanicic</dc:creator>
  <dc:description/>
  <dc:language>en-US</dc:language>
  <cp:lastModifiedBy>Stjepan</cp:lastModifiedBy>
  <dcterms:modified xsi:type="dcterms:W3CDTF">2013-04-08T08:37:00Z</dcterms:modified>
  <cp:revision>321</cp:revision>
  <dc:subject/>
  <dc:title>Slide 1</dc:title>
</cp:coreProperties>
</file>