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406-9EF8-4221-B814-76802EC8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B9D-1B7D-49B1-87C8-E330451D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E4A-1405-4592-A874-D5451102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AC4-D1C9-4B0C-AA8E-A7FC3C08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3CA-C0C9-4498-8551-71FE939A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4B71-7056-496A-BE6D-9679E5F8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0D50-BC4C-415E-853F-9B1D7D00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2071-5ADF-4670-A5DE-54F64047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EA95-674A-4E49-9B25-7FF9DA0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0597-89C5-4B3B-8356-B7E6E7A8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9E4A-2CC4-4AE3-9B1F-2DDAE0C8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7F2-A58D-406A-8256-3BC3303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6AFD-E373-411C-8124-806BF331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9F78-3C8B-4C43-BBF5-C1E3244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9418-AEC0-4BE8-B943-E0ECE38B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7D8F-9B4E-4FF1-903E-8E1E67CF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4D71-FFA5-4A15-9CE2-5B0C66D5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8E9-421B-46AC-A3BF-FF4A2413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BFA-89CB-43F7-8629-538A4536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440-A5FD-40E1-8837-E6FD654A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7CF-F087-4813-AFEE-6F257DC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FCA-F76A-4AF9-A6FD-4E8E33E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8F0-40A7-4F00-942A-27DBDD2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37A-0C80-4596-98D0-8A681FA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25E6-D6CA-49DE-88C9-5EA2DC48865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ovač i Buchberger (2012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80BA-7810-4076-8A3A-04FEC965B60C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VKOVAC@FFRI.HR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1" descr="FFRi logo s novog weba"/>
          <p:cNvPicPr/>
          <p:nvPr/>
        </p:nvPicPr>
        <p:blipFill>
          <a:blip r:embed="rId1"/>
          <a:stretch/>
        </p:blipFill>
        <p:spPr>
          <a:xfrm>
            <a:off x="0" y="231840"/>
            <a:ext cx="3059280" cy="6394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8"/>
          <p:cNvSpPr/>
          <p:nvPr/>
        </p:nvSpPr>
        <p:spPr>
          <a:xfrm>
            <a:off x="3059280" y="260280"/>
            <a:ext cx="60847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Državni stručni skup ravnatelja srednjih škola i učeničkih domova RH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Opatija, 9.04.2013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LEGIJALNO UPRAVLJANJE KAO PRETPOSTAVKA UČINKOVITOG UPRAVLJANJA KVALITETOM ŠKOL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esna Kovač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Filozofski fakultet u Rijeci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kovac@ffri.hr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5" descr="Logo bottom PPT 1"/>
          <p:cNvPicPr/>
          <p:nvPr/>
        </p:nvPicPr>
        <p:blipFill>
          <a:blip r:embed="rId3"/>
          <a:stretch/>
        </p:blipFill>
        <p:spPr>
          <a:xfrm>
            <a:off x="0" y="0"/>
            <a:ext cx="9153360" cy="26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Logo bottom PPT 1"/>
          <p:cNvPicPr/>
          <p:nvPr/>
        </p:nvPicPr>
        <p:blipFill>
          <a:blip r:embed="rId4"/>
          <a:stretch/>
        </p:blipFill>
        <p:spPr>
          <a:xfrm>
            <a:off x="-9360" y="6597720"/>
            <a:ext cx="915336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OSVRT NA ODABRANE REZULTATE ISTRAŽI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cjene učitelja i nastavnika o ostvarenom stupnju suradnje s navedenim dionici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cjene učitelja i nastavnika o zadovoljstvu suradnjom s navedenim dioni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liza iskaza o primjerima uspješne suradnje i prijedlozima za poboljšanje suradnje iz različitih perspektiva (školskih učitelja i nastavnika, visokoškolskih nastavnika i donositelja odlu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CJENE UČITELJA I NASTAVNIKA O OSTVARENOM STUPNJU SURADNJE S NAVEDENIM DIONICIMA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ijelima lokalne samouprave (županije, grada, općine) odgovorno za djelatnost odgoja i obrazovanja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isokoškolskim institucijama za obrazovanje učitelja i nastavnika   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avnatelj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rugim učiteljima/nastavnicima u školi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čiteljima i nastavnicima iz drugih škola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oditelji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able 3" descr=""/>
          <p:cNvPicPr/>
          <p:nvPr/>
        </p:nvPicPr>
        <p:blipFill>
          <a:blip r:embed="rId1"/>
          <a:stretch/>
        </p:blipFill>
        <p:spPr>
          <a:xfrm>
            <a:off x="469800" y="328680"/>
            <a:ext cx="8204400" cy="6230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spAutoFit/>
          </a:bodyPr>
          <a:p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CJENE UČITELJA I NASTAVNIKA O ZADOVOLJSTVU SURADNJOM S NAVEDENIM DIONICIM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ijelima lokalne samouprave (županije, grada, općine) odgovorno za djelatnost odgoja i obrazovanja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isokoškolskim institucijama za obrazovanje učitelja i nastavnika   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avnatelj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rugim učiteljima/nastavnicima u školi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čiteljima i nastavnicima iz drugih škola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oditeljima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116000" y="476280"/>
          <a:ext cx="7343640" cy="6192720"/>
        </p:xfrm>
        <a:graphic>
          <a:graphicData uri="http://schemas.openxmlformats.org/drawingml/2006/table">
            <a:tbl>
              <a:tblPr/>
              <a:tblGrid>
                <a:gridCol w="506520"/>
                <a:gridCol w="5473440"/>
                <a:gridCol w="628920"/>
                <a:gridCol w="734760"/>
              </a:tblGrid>
              <a:tr h="1506600">
                <a:tc gridSpan="2">
                  <a:txBody>
                    <a:bodyPr lIns="90000" rIns="90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LSKI UČITELJI I N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TAVNICI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ZADOVOLJSTVO SURADNJO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jelo lokalne samouprave (županije, grada, općine) odgovorno za djelatnost odgoja i obrazovanja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6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22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isokoškolske institucije za obrazovanje učitelja i nastavnika  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6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27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avnatelj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7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1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ugi učitelji/nastavnici u školi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6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,89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čitelji i nastavnici iz drugih škola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6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04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ditelji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8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ALIZA KVALITATIV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JČEŠĆE T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onici s kojima škole najviše surađu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tivnosti kojima se realizira najviše sura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željni ciljevi suradnje škola i vanjskih dio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encijalni uzroci loše sura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duvjeti za bolju suradn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IONICI S KOJIMA ŠKOLE NAJVIŠE SURAĐUJU (1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kolski učitelji i nast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čite ustanove iz lokalne zajednice (kulturne ustanove poput knjižnica, muzeja, kazališta; javne ustanove; znanstveno obrazovne i turističke ustano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inice lokalne samou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ruge škole iz u zemlji i inozem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isokoškolske institu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gencija za odgoj i obraz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IONICI S KOJIMA ŠKOLE NAJVIŠE SURAĐUJU (2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sokoškolski nast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čiteljski/nastavnički fakult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nositelji odlu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ručne službe koje brinu o povezanosti osnovnih i srednjih š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gencija za odgoj i obraz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gencija za mobilnost i program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TIVNOSTI KOJIMA SE REALIZIRA NAJVIŠE SURADNJE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kolski učitelji i nast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tivnosti u različitim oblicima nastave (izvanučionička, terenska, praktič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tivnosti škole u lokalnoj zajednici (priredbe, izlož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tivnosti predstavnika lokalne zajednice u školi (gostovanja, predava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dion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je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STRUKTURA IZLAG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ilježja kolegijalnog upravl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glasci recentnih istraživanja o povezanosti kolegijalnog upravljanja školom i kvalitet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loga ravnatelja u poticanju kolegijalnog upravljanja kroz jačanje suradnje škole i vanjskih dio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kaz rezultata istraživanja o stanju i perspektivama suradnje škola i vanjskih dionika u R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ključna razmatranja: osnaživanje prakse kolegijalnog upravljanja škol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TIVNOSTI KOJIMA SE REALIZIRA NAJVIŠE SURADNJE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isokoškolski nastav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alizacija nastavne prak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je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traž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io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nositelji odlu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mjena informacija o učenicima između osnovnih i srednjih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grami stručnog usavrš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osti škole u lokalnoj zaje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jek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ŽELJNI CILJEVI SURADNJE ŠKOLA I VANJSKIH DIONIKA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kolski učitelji i nast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ljevi usmjereni na dobrobit učenika (stjecanje određenih kompetencija, širenje poželjnih vrijednosti i navi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ljevi usmjereni na školu (jačanje komunikacije i umrežavanja, jačanje veza s tržištem rada, pružanje financijske potpore za rad ško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ŽELJNI CILJEVI SURADNJE ŠKOLA I VANJSKIH DIONIKA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nositelji odlu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ljevi usmjereni na dobrobit učenika (olakšavanje učenicima u osnovnoj školi odabir srednje škole, financijsko praćenje izvannastavnih i slobodnih aktivnosti uče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ljevi usmjereni na učitelje i nastavnike (jačati mobilnost djelatnika škole, osigurati stručnu potporu, koristiti iskustva razvijenijih zemalja i zastupati učitelje i nastavnike od strane državnih institu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ljevi usmjereni na školu (uvažavati razvojna postignuća škole, uspostaviti bolju komunikaciju, učiniti rad škola transparentnij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OTENCIJALNI UZROCI LOŠE SURADNJE (1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kolski učitelji i nast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radnji se ne pridaje dovoljna va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ži se deklarativno, ali se malo potiče i doprinosi njenom odvij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dostaje komunikacije i inform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cijeni se kompetent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ložaj školstva u društvu nije do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glašavaju se nove orijentacije u radu škola (komercijalizacija, pritisak za okretanje EU fondov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OTENCIJALNI UZROCI LOŠE SURADNJE (2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sokoškolski nast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radnja je rijetka i sporadič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esto ovisi o vezama i poznanstvim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dostaje materijalna potpora za sura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OTENCIJALNI UZROCI LOŠE SURADNJE (3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nositelji odlu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oš način planiranja i provođenja obrazovnih reformi (neprohodnost, udaljenost od prak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dostatan utjecaj učitelja i nastavnika na kreiranje kurikul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tvorenost znanstvene zajed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itko nije zadužen za sura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radnja je deklarativna i ovisi o entuzijazmu učitelja i nast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financijske podrške i nagrađ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EDUVJETI ZA BOLJU SURADNJU (1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kolski učitelji i nastav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olja financijska i materijalna potpora za surad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tvoreniji sustav napredovanja i usavrš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mpetentni ravna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eća zainteresiranost i međusobna komunikacija di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uzimanje obaveza i odgovornosti dionika prema odgoju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jedničko odluč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mrežavanje di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EDUVJETI ZA BOLJU SURADNJU (2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sokoškolski nast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iguravanje financijske pot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iguravanje obaveznosti sura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iguravanje boljeg društvenog statusa učitelja i nast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tvorenost i spremnost svih dionika za sura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EDUVJETI ZA BOLJU SURADNJU (3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nositelji odlu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ulirati suradnju škole i vanjskih dionika unutar zakonskih okv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igurati bolji društveni položaj obraz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icati otvorenost i bolju vertikalnu suradnju u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igurati bolje uvjete rada u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igurati sudjelovanje učitelja i nastavnika u kreiranju kuriku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še dobre volje i entuzija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olja osposobljenost ravna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eća participacija visokoškolskih institu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ZAKLJUČNA RAZMATRANJA: KAKO OSNAŽITI SURADNIČKI I KOLEGIJALNI POTENCIJAL ŠKO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ILJEŽJA KOLEGIJALNOG UPRAVL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24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jedničko (ravnopravno) sudjelovanje svih dionika u odlučivanju i njihova zajednička odgovornost u tom proc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jegovanje zajedničkih ciljeva i vrijednosti te osjećaja pripadnosti organiz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anjski članovi predstavljaju širi interes javnosti za rad škole – način integriranja mišljenja zajednice u strateške institucionalne odl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očljivo u radu kolegijalnih tijela upravljanja (škol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jedničko preuzimanje odgovornosti za stalno preispitivanje i usavršavanje kval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fesionalna autonomija kao pretpostavka kolegijalnog upravljanja: sve dok institucije uspijevaju održati kontrolu nad svojim temeljnim profesionalnim djelatnostima, održat će se i kolegijali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postavka kolegijalnog upravljanja: učinkovita suradnja škole i svih di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aknuti poželjnu aktivnu ulogu učitelja i nastavnika u kreiranju i implementaciji obrazovnih politik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Konačno, trebali bismo razviti aktivni međusobni dijalog za sinkroniziranje osnovnog, srednjeg i visokog obrazovanja umjesto međusobnog optuživanja za loše rezultate kod naših učenika/studenata. Međutim, to pretpostavlja našu posve drugu poziciju u odnosu na prosvjetnu politiku: umjesto donošenja reformi "odozgo" krajnje je vrijeme da se nastavnike i škole počne tretirati kao aktivne dionike izrade i provedbe procesa reforme.“ (visokoškolski nastavnik/ica)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ljučiti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sukreiranje kulturne i pedagoške politike uže i šire zajednice“ (školski učitelj/ica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praviti neusklađenost obrazovnih razina kao prepreku za uspostavljanje bolje surad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Najprije bi se trebala postići usklađenost različitih obrazovnih razina, vrtići-osnovne škole-srednje škole-fakulteti, a zatim raditi na međusobnoj suradnji“ (ravnatelj/ica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guliranje suradnje kroz pravne okvire kao obavezne djelatnosti šk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Preduvjet je motiviranost, kao i to da se takva suradnja predvidi unutar zakonskog okvira“ (ravnatelj/ic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iguravanje financijskih poticaja za suradn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bit će uspješnija kada obrazovanje uistinu postane prioritet i kada se počnu ulagati materijalna sredstava potrebna za napredak i poboljšanje obrazovanja“ (ravnatelj/ic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igurati bolji položaj učiteljske profesije u društv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Kako se ne cijeni učitelja i profesora, tako se ne drži ni do njegovih riječi pa nas nitko nema potrebe ni za što pitat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" (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školski učitelj/ica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postaviti bolju suradnju škola sa visokoškolskim institucij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 svakom slučaju potrebna je veća participacija brojnih sastavnica Sveučilišta u kreiranju ne samo obrazovne politike već i u brojnim područjima života i rada škole.“ (donositelj/ica odluka na nacionalnoj razi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Apsurdna je trenutna pozicija prema kojoj (na temelju rezultata istraživanja koje sam proveo) manje od 5% sudjelujemo u daljnjem razvoju kompetencija nastavnika koje smo u cijelosti inicijalno obrazovali za ulazak u profesiju (što i nastavnici od nas očeku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“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visokoškolski nastavnik/ica)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Suradnja bi se mogla uspostaviti uključivanjem škola u različite istraživačke projekte, ali ne samo kao poligon za provođenje istraživanja, nego kao suradnike na istraživačkom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jektu“ (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školski učitelj/ic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Smatram da zaposleni u školama i na fakultetima imaju zajednički interes u provedbi različitih projekata financiranih od strane EU. Uz znanstvenu i stručnu korist, takvi projekti bi rezultirati i financijskom dobiti za škole i fakultete“ (visokoškolski nastavnik/ica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ačati institucijske kapacitete za sura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Razviti djelatnost centra zaduženog za međusobnu suradnju fakulteta i obrazovnih institucija“ (visokoškolski nastavnik/ica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uradnja je samo formalna. Nitko za to nije zadužen, zato i ne funkcionira. Treba postojati koordinator iz upravnih odjela za školstvo. Ta priča za njih ne postoji“ (ravnatelj/ic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oformiti ljude koji će raditi na tim poslovima. U školi ne postoji zaduženja učitelja za tu vrstu poslova, ako nije u tjednom zaduženju onda nije u realnosti“ (ravnatelj/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ODATNI PRIJEDLO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jačati kapacitete ravnatelja za rad s većim brojem dio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isliti o sastavima i načinu rada školskih odb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HVALA NA PAŽNJ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GLASCI IZ RELEVANTNIH IS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U je odredila kvalitetu obrazovanja prioritetom ostvarivanja pametnog rasta, a suradnju različitih dionika iz područja odgoja i obrazovanja jednim od najvažnijih indikatora te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ljučna dimenzija održivosti obrazovnih reformi – povezanost uloge ključnih dionika obrazovnih sustava na tri temeljne razine (škole, lokalne zajednice i drž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varanje profesionalnih kolaborativnih zajednica učitelja i nastavnika – okosnica održivih obrazovnih reformi i preduvjet učinkovitosti škole i obrazovnog su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LOGA RAVNATELJA U POTICANJU KOLEGIJALNOG UPRAVL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pecifična pozicija u školskoj organizaciji – povezivanje i umrežavanje unutarnjih i vanjskih di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posobnost upravljanja odnosima i s vanjskim i s unutarnjim dioni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ilježja uspješnih škola snažno se povezuju s većom uključenosti školskih djelatnika i vanjskih dionika u proces odlučivanja unutar šk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ijeljena odgovornost s drugim profesionalcima u školi i sa školskim odbo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nositelji obrazovnih politika moraju podržati i omogućiti podjelu kolegijalne odgovor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ITANJA ZA RASPRAV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su li ostvarene nužne pretpostavke za kolegijalno upravljanje škol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oji način je ostvarena suradnja škola i različitih dionika iz vanjskog okruže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osnažiti suradnički i kolegijalni potencijal škol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ETODOLOGIJA IS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traživanje provedeno u okviru projekta “Sveučilište i vanjsko okruženje u kontekstu europskih integracijskih procesa” (MZ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okus prikazanih rezultata: procjena ostvarene suradnje škola odnosno učitelja i nastavnika s različitim dionicima iz vanjskog okruž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ZO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čitelji i nastavnici u osnovnim i srednjim školama  (4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isokoškolski nastavnici koji sudjeluju u obrazovanju učitelja, nastavnika i drugih djelatnika u odgoju i obrazovanju (1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nositelji odluka na institucionalnoj, lokalnoj i nacionalnoj razini (1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KUPLJANJE I OBRADA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režna ank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kale procjena o određenim aspektima suradnje između škola i vanjskih dionika (frekvencije, aritmetičke sredine, standardna devijacija, testovi značajnosti razlik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tvorena pi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i uspješne suradnje škola i vanjskih di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jedlozi za poboljšanje suradnje škola i vanjskih di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tativna obrada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20:35:49Z</dcterms:created>
  <dc:creator>ogogajam</dc:creator>
  <dc:description/>
  <dc:language>en-US</dc:language>
  <cp:lastModifiedBy>O.I.P.</cp:lastModifiedBy>
  <dcterms:modified xsi:type="dcterms:W3CDTF">2013-04-09T07:03:57Z</dcterms:modified>
  <cp:revision>211</cp:revision>
  <dc:subject/>
  <dc:title>Slide 1</dc:title>
</cp:coreProperties>
</file>