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5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FF14-5701-4177-95E2-50CFDD56EB11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propisanom obliku objavila upr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B30-02E2-4195-B5F4-8F7B58F1BC5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prolaznos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spješnost na nacionalnim ispitim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zadovoljstvo polaznika i onih kod kojih učenici nastavljaju školovanje ili kod poslodavca koji procjenjuje njihovu kvalificira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E0F8-9B5F-4CFF-AC1B-81A138C630B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zgrađivati školu čija će kultura biti prepoznatljiva u lokalnoj zajedn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školu u kojoj učitelji, učenici i roditelji zajednički rade na dobrobiti učenika i njegovoj uspješno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školu u kojoj će se poticati kvalitetna komunikacija između svih čimbenika odgojno obrazovnog proce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školu koja učeniku pruža osjećaj zadovoljstva i prihvaćeno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školu u kojoj je svaki učenik uspješan i zadovolj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F7C-1CC1-42AA-897C-10E4B184D28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poznatljivost na tržištu rada, konkurentnost stručnjaka- uloga kvalitetnog obrazov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AF4B-AF9E-4435-B08F-AFE75B432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naliza većeg broja istraživan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919B-C66D-41B1-AEBE-199900987C0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naliza većeg broja istraživan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1F95-DBBB-4139-B00E-2739B3B765D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 obrazovne in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titucije ulaze pojedinci s raznolikim dispozicijama, s različitim početnim znanjima i vještin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EDFD-ED18-46F8-9481-0692933F730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869A-6F95-48C9-BA62-97E26E4EBDB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jsko vrednovanje i samovrednovanj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a m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obno su komplementarni pristupi i potencijalno se mogu dobro koristiti za unapr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anje rada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a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itno je m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tim kako su strat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 postavljen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se prikupljeni podaci korist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s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e pripremljene i kakva im se podr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pr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a bi najbolje koristile nove mehanizme vrednovanja za vlastiti razvoj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F46-CCDF-498E-AF6A-0E956C9673D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ovrednovanje bi se trebalo kontinuirano provoditi nakon uvida u rezultate različitih postupaka vrednov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mjena upitnika za samovrednovanje osnova je samoanalize koja treba rezultirati definiranjem institucijskog razvojnog pl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CA7-1D30-4DAA-8F46-1BFE3B6833A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siguravanje kvalitete u visokom obrazovanju temelji se na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stroj učinkovitog sustava za osiguranje kvalite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nutarnja prosudba i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follow-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anjska QA agencija → vanjska prosudba - javno osiguravanje kvalit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DE00-7295-4C08-8337-EBBD1498F1C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Interpretacija podataka dobivenih ispitivanjem stavova o zastupljenosti indikatora kvalit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oguće razlike u procjeni zastupljenosti nekih indikatora od strane različitih skupina- rezultat različitog osobnog doživljaja tog aspekta (perspektiva učenika/nastavnika/roditelj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B99-CF32-48E1-9377-79D77313C81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1. 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ici : ravnatelj, stručni suradnici, nastavnici, administrativno i tehničko osoblj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učenici: predstavnici vijeća učenika, predstavnici razrednih odjeljenja, pojedini učenic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roditelji: predstavnici vijeća roditelja, pojedinc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predstavnici lokalne zajednice: poduzetnici, osobe iz političkog i javnog života, predstavn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ladinih udruga i organizacija, predstavnici socijalnih ustanova, školskoga odbora 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ključen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natel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sitelji odgojno-obrazovnih aktivnosti (nastavnici), neposredn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risnici (učeni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žbe podrške (stručne i tehničk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redni korisnici (roditelji, lokalna zajednic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eučilišta, tržište rad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 kojim se ravnatelj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olakšava rad na unaprjeđenju kvalitete ško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1D4-6DD8-4A56-A4D3-270004EE2F5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eutralan promatrač koji umanjuje moguću samodopadnost tima za kvalite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koju se lako može upasti, ako timu za kvalitetu nije priključen netko neutralan izvan instituci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2FB5-ED85-4F60-870E-CCAD1B3D5FD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Motivacijski aspekt najviše ovisi o rukovođenju institucij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i njezinoj predanosti ciljevima u procesu osiguranja kvalit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z jasne motivacij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čelnik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a institucije, provedba procedura mož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formaln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ovesti i biti 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sama sebi svr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0E8D-70E9-44E0-BEAF-B41642FB795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Motivacijski aspekt najviše ovisi o rukovođenju institucije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i njezinoj predanosti ciljevima u procesu osiguranja kvalit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z jasne motivacij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čelnik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a institucije, provedba procedura mož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formaln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ovesti i biti 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sama sebi svr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062E-73D0-42D4-82EC-1F4D2440837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institucionaliziranja sustava za unaprjeđivanje kvalitete u listopadu 2003. formiran je Ured za promicanje kvalitete u kojemu je, uz podršku Ministarstva znanosti, obrazovanja i športa zaposlena jedna djelatnica. Ovaj je Ured zamišljen kao središnje tijelo koje koordinira sve razvojne projekte i inicijative usmjerene ka unaprjeđivanju kvalitete. Unaprjeđivanje kvalitete je u novom Statutu Sveučilišta eksplicitno definirano kao obveza svih članica Sveučilišta (200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jedničkim djelovanjem navedenih ustrojbenih jedinica stvorena je suradnička mreža za osiguranje kvalitete na razini znanstveno-nastavnih sastavnica i Sveučiliš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5A9-488C-43F6-9049-7284E2C87EF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D3AC-4EA1-45AF-8A1B-91B61FD0D24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Zbog specifičnost obrazovanog procesa, učinkovitost osiguranja kvalitete u obrazovanju ovisi, više nego u proizv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nom sektoru, o motiviranostu i entuzijazmu svih uključenih u taj pro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Postojanje procedura i standarda je nužan preduvjet, ali bez ljudi koji ne prepoznaju važnost sustava za kvalitetu, onih kojima je stalo raditi što bolje i koji su spremni stalno analizirati svoja postignuća s ciljem njihova poboljšanja- nema nužnog napret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Stoga je važno osim formalnih birokratskih procedura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isticati važnost 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širenj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 kulture kvalitete među zaposlenima i korisnicima usluga. Istovremeno je važno uzeti u obzir i sve nedoumice, strahove, nepovjerenja i odbojnost koja se pokazuje na različite nač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pjeh u procesu osiguranja kvalitete ovisi o prepoznatosti njegove važnosti od strane zaposlenih, nastavnog i nenastanog osoblja kao i djece, učenika i njihovih roditelja tijekom predškolskog, osnovnoškolskog ili srednješkoslkog obrazovanja ili studen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986-3FDF-472C-93D6-D8BD9E506C5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99F-0BAF-4C94-BDF4-C9AE024E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BEA-DF73-455D-8674-300DC2CA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A48-EDC9-4E57-8431-158BC714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E36-06B3-487B-8381-101A8555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0686-68CB-47E4-9E90-C4F3CBE8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41B-785D-4FE2-8E3B-3DF5C648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5CD3-0764-40E2-A799-F3D8254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99EA-AE1D-47B2-A5BF-DE0F5EF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BF49-7FF4-46F1-B8B3-C1B7CAD1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BAD6-21DC-4FD0-B3F7-AF74785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1662-DF75-4433-A767-849A775B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B00-B018-4284-9D48-706D9D3C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BF72-19F4-44FF-B700-BE25987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DAEC-2610-4F95-98FF-5A280BFD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8A69-F5AE-4DAE-B703-D043369F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72F-EAD2-4887-8796-C33BDC34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F13C-462E-47EC-A798-677B8B73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B56C-A093-4B9D-8473-ECE30D1D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8ADD-2D13-4A68-BA89-9E104718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FEC5-0F92-4D23-BB1A-738F5687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E158-9ECD-47D2-B1D8-ECE2EF79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4437-9955-4689-A07C-8F3C7FD6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48C-7574-4BF9-B1F5-E61FD75F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83FE-3106-4BBA-B849-6FC8A45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FF43-248C-45E9-A0A3-C1FF491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272F-177B-4A8C-B961-5184C53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18A2-C72E-47C8-A93F-9A870AE7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CFA4-6F95-4266-A923-87DF5784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8597-D1C6-4D2C-BA12-BF092BCC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9A27-D0C0-4E8B-9A6E-15255CB5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168E-37A6-4F14-82F8-33BB686E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9730-FBD4-4FD2-BDFD-69AECCBE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D40D-FF79-4CB5-A4DE-AC7D1F4E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E23-0B34-4CAF-83F1-A5ED143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5D3A-0A92-458D-B484-FAD63FE8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A848-54C5-43CA-9703-CCD4F63C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FC1D-6161-4E65-AE75-815059C8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6495-70C7-40AD-8B9F-96CBBE2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3ADD-2CD5-40DB-AB76-A27A008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86B8-3126-4942-823F-B4DF8CBB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741D7-9E02-42D5-924B-7813AE35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B1CC-983A-4EC9-809A-6986B84B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F980-1CBB-411E-B24F-AECDA0CD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1D0F1-3A17-4E39-9AB4-BF014927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B7C-1837-452D-A507-B6ED7067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8204-2E04-4F12-88BA-120AD3A7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D3179-B001-4420-8C1E-0807BEE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CE4BA-5291-4B30-B66C-9FEFE6BE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B205-DB4D-4365-81E7-C875DD1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11464-6FA3-46C2-9D43-BFD6A88B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ABA6F-526A-478E-87B1-E699374D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7F12A-8C1D-4400-AFF7-5C6F411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0509-DD83-4129-A7F1-B208547F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C001-E33A-48D2-B4F0-9DCDC45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37B2F-1398-45EE-92EE-A0764EA3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8E4-8B45-4635-BFA5-578E0AD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81DB-EC3F-4C5F-8734-1E70A677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03D-F0F2-48EA-B7B6-3A1EDAB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E33-F547-4C79-9241-A8242BA1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78D-A9C0-4F89-9EA4-BED4DF3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A05B-6A05-451B-9B92-046367018201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40C8-AEE2-4194-BE40-ABBDDB54369D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0" y="1557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30320" y="1916280"/>
            <a:ext cx="9013680" cy="4572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28520" y="1989000"/>
            <a:ext cx="901548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34F-E568-4BCF-ADBB-866A25BF81CB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C086-A5D7-4CE4-B7FB-75C46B89BBB4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B38-D8E3-4E18-A0A6-1310759EB297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0" y="508428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1f497d"/>
                </a:solidFill>
                <a:latin typeface="Calibri"/>
              </a:rPr>
              <a:t>Državni stručni skup ravnatelja srednjih škola i učeničkih domova R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1f497d"/>
                </a:solidFill>
                <a:latin typeface="Calibri"/>
              </a:rPr>
              <a:t>Upravljanje kvalitetom škole – učeničkog doma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Calibri"/>
              </a:rPr>
              <a:t>Osiguravanje kvalitete od predškolskog do visokog obraz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1" name="Picture 1" descr="zzs novi logo - hrv eng"/>
          <p:cNvPicPr/>
          <p:nvPr/>
        </p:nvPicPr>
        <p:blipFill>
          <a:blip r:embed="rId1"/>
          <a:stretch/>
        </p:blipFill>
        <p:spPr>
          <a:xfrm>
            <a:off x="3276720" y="6093000"/>
            <a:ext cx="2663640" cy="588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1619280" y="3357720"/>
            <a:ext cx="662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f497d"/>
                </a:solidFill>
                <a:latin typeface="Calibri"/>
              </a:rPr>
              <a:t>dr. sc. Sanja Smojver-Až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Calibri"/>
              </a:rPr>
              <a:t>Odsjek za psihologi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Calibri"/>
              </a:rPr>
              <a:t>Filozofski fakult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Calibri"/>
              </a:rPr>
              <a:t>Sveučilište u Rij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  <a:ea typeface="Times New Roman"/>
              </a:rPr>
              <a:t>Pojam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išeznačan, nejas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dređen subjektivnim procjen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svaka osoba može imati svoje viđenje, procjenu i definiciju kvalitete  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(Bauer, Duffy, &amp; Westcott, 2006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kvaliteta: ono što korisnik vidi i osjeća kao kvalite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Pojam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7" name="Content Placeholder 3" descr=""/>
          <p:cNvPicPr/>
          <p:nvPr/>
        </p:nvPicPr>
        <p:blipFill>
          <a:blip r:embed="rId1"/>
          <a:stretch/>
        </p:blipFill>
        <p:spPr>
          <a:xfrm>
            <a:off x="865080" y="1444680"/>
            <a:ext cx="78343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4"/>
          <p:cNvSpPr/>
          <p:nvPr/>
        </p:nvSpPr>
        <p:spPr>
          <a:xfrm>
            <a:off x="900000" y="1916280"/>
            <a:ext cx="2303640" cy="98712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osigurava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684360" y="3141720"/>
            <a:ext cx="2303280" cy="91440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kultura kvalit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3203640" y="4797360"/>
            <a:ext cx="2376360" cy="107964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tim za kvalite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872320" y="3141720"/>
            <a:ext cx="2303280" cy="91440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tandardi kvalit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364000" y="4437000"/>
            <a:ext cx="2735280" cy="100800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movrednova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1042920" y="4221000"/>
            <a:ext cx="2303640" cy="91440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vanjsko vrednova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3203640" y="1341360"/>
            <a:ext cx="2303280" cy="98604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pravlja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ounded Rectangle 12"/>
          <p:cNvSpPr/>
          <p:nvPr/>
        </p:nvSpPr>
        <p:spPr>
          <a:xfrm>
            <a:off x="3059280" y="2492280"/>
            <a:ext cx="2592360" cy="20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kvali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5835600" y="1833480"/>
            <a:ext cx="2303640" cy="98748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olitika kvalit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pravljanje kvalitetom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669960" y="1444680"/>
            <a:ext cx="80294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  <a:ea typeface="Times New Roman"/>
              </a:rPr>
              <a:t>Kvaliteta obrazovanja?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11280" y="1447920"/>
            <a:ext cx="807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valiteta obrazovanja               proizvodnja kvalitetnog proizvod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Cilj - poticanje i razvoj ljudskih potencija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Interpretacija modela osiguranja kvalitete nužno drugačija od uobičajenih ekonomskih ili marketinških mode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Not Equal 3"/>
          <p:cNvSpPr/>
          <p:nvPr/>
        </p:nvSpPr>
        <p:spPr>
          <a:xfrm>
            <a:off x="4140360" y="2060640"/>
            <a:ext cx="625320" cy="288720"/>
          </a:xfrm>
          <a:custGeom>
            <a:avLst/>
            <a:gdLst>
              <a:gd name="textAreaLeft" fmla="*/ 82800 w 625320"/>
              <a:gd name="textAreaRight" fmla="*/ 542520 w 625320"/>
              <a:gd name="textAreaTop" fmla="*/ 59400 h 288720"/>
              <a:gd name="textAreaBottom" fmla="*/ 229320 h 288720"/>
            </a:gdLst>
            <a:ahLst/>
            <a:rect l="textAreaLeft" t="textAreaTop" r="textAreaRight" b="textAreaBottom"/>
            <a:pathLst>
              <a:path w="625475" h="288925">
                <a:moveTo>
                  <a:pt x="82907" y="59519"/>
                </a:moveTo>
                <a:lnTo>
                  <a:pt x="307496" y="59519"/>
                </a:lnTo>
                <a:lnTo>
                  <a:pt x="329159" y="0"/>
                </a:lnTo>
                <a:lnTo>
                  <a:pt x="393016" y="23242"/>
                </a:lnTo>
                <a:lnTo>
                  <a:pt x="379813" y="59519"/>
                </a:lnTo>
                <a:lnTo>
                  <a:pt x="542568" y="59519"/>
                </a:lnTo>
                <a:lnTo>
                  <a:pt x="542568" y="127474"/>
                </a:lnTo>
                <a:lnTo>
                  <a:pt x="355079" y="127474"/>
                </a:lnTo>
                <a:lnTo>
                  <a:pt x="342712" y="161451"/>
                </a:lnTo>
                <a:lnTo>
                  <a:pt x="542568" y="161451"/>
                </a:lnTo>
                <a:lnTo>
                  <a:pt x="542568" y="229406"/>
                </a:lnTo>
                <a:lnTo>
                  <a:pt x="317979" y="229406"/>
                </a:lnTo>
                <a:lnTo>
                  <a:pt x="296316" y="288925"/>
                </a:lnTo>
                <a:lnTo>
                  <a:pt x="232459" y="265683"/>
                </a:lnTo>
                <a:lnTo>
                  <a:pt x="245662" y="229406"/>
                </a:lnTo>
                <a:lnTo>
                  <a:pt x="82907" y="229406"/>
                </a:lnTo>
                <a:lnTo>
                  <a:pt x="82907" y="161451"/>
                </a:lnTo>
                <a:lnTo>
                  <a:pt x="270396" y="161451"/>
                </a:lnTo>
                <a:lnTo>
                  <a:pt x="282763" y="127474"/>
                </a:lnTo>
                <a:lnTo>
                  <a:pt x="82907" y="127474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1471680" cy="1198440"/>
          </a:xfrm>
          <a:prstGeom prst="rect">
            <a:avLst/>
          </a:prstGeom>
          <a:ln w="0">
            <a:noFill/>
          </a:ln>
        </p:spPr>
      </p:pic>
      <p:sp>
        <p:nvSpPr>
          <p:cNvPr id="283" name="Straight Connector 2"/>
          <p:cNvSpPr/>
          <p:nvPr/>
        </p:nvSpPr>
        <p:spPr>
          <a:xfrm flipV="1">
            <a:off x="5651640" y="4797360"/>
            <a:ext cx="1800000" cy="1511280"/>
          </a:xfrm>
          <a:prstGeom prst="line">
            <a:avLst/>
          </a:prstGeom>
          <a:ln w="9360">
            <a:solidFill>
              <a:srgbClr val="396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traight Connector 5"/>
          <p:cNvSpPr/>
          <p:nvPr/>
        </p:nvSpPr>
        <p:spPr>
          <a:xfrm>
            <a:off x="5364000" y="4797360"/>
            <a:ext cx="2160720" cy="1511280"/>
          </a:xfrm>
          <a:prstGeom prst="line">
            <a:avLst/>
          </a:prstGeom>
          <a:ln w="9360">
            <a:solidFill>
              <a:srgbClr val="396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Kvaliteta – kriterij izbora obrazovne institucije </a:t>
            </a: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(upis u vrtić, školu fakultet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86" name="Content Placeholder 3" descr=""/>
          <p:cNvPicPr/>
          <p:nvPr/>
        </p:nvPicPr>
        <p:blipFill>
          <a:blip r:embed="rId1"/>
          <a:stretch/>
        </p:blipFill>
        <p:spPr>
          <a:xfrm>
            <a:off x="907920" y="1444680"/>
            <a:ext cx="77853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Content Placeholder 4" descr=""/>
          <p:cNvPicPr/>
          <p:nvPr/>
        </p:nvPicPr>
        <p:blipFill>
          <a:blip r:embed="rId1"/>
          <a:stretch/>
        </p:blipFill>
        <p:spPr>
          <a:xfrm>
            <a:off x="652320" y="689040"/>
            <a:ext cx="7888320" cy="5840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101960" cy="1468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Documents and Settings\Soba 15\Local Settings\Temporary Internet Files\Content.IE5\3SXARQUD\MC900078622[1].wmf"/>
          <p:cNvPicPr/>
          <p:nvPr/>
        </p:nvPicPr>
        <p:blipFill>
          <a:blip r:embed="rId3"/>
          <a:stretch/>
        </p:blipFill>
        <p:spPr>
          <a:xfrm>
            <a:off x="4356000" y="4892760"/>
            <a:ext cx="4971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O čemu ovisi ishod obrazovanja?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91" name="Content Placeholder 3" descr=""/>
          <p:cNvPicPr/>
          <p:nvPr/>
        </p:nvPicPr>
        <p:blipFill>
          <a:blip r:embed="rId1"/>
          <a:stretch/>
        </p:blipFill>
        <p:spPr>
          <a:xfrm>
            <a:off x="749160" y="1603440"/>
            <a:ext cx="78343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Što su </a:t>
            </a:r>
            <a:r>
              <a:rPr b="0" lang="de-AT" sz="4000" spc="-1" strike="noStrike">
                <a:solidFill>
                  <a:srgbClr val="1f497d"/>
                </a:solidFill>
                <a:latin typeface="Calibri"/>
              </a:rPr>
              <a:t>pokazatelji efikasnosti obrazovanja</a:t>
            </a: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93" name="Content Placeholder 3" descr=""/>
          <p:cNvPicPr/>
          <p:nvPr/>
        </p:nvPicPr>
        <p:blipFill>
          <a:blip r:embed="rId1"/>
          <a:stretch/>
        </p:blipFill>
        <p:spPr>
          <a:xfrm>
            <a:off x="907920" y="1444680"/>
            <a:ext cx="7791480" cy="4584600"/>
          </a:xfrm>
          <a:prstGeom prst="rect">
            <a:avLst/>
          </a:prstGeom>
          <a:ln w="0">
            <a:noFill/>
          </a:ln>
        </p:spPr>
      </p:pic>
      <p:sp>
        <p:nvSpPr>
          <p:cNvPr id="294" name="Rounded Rectangle 4"/>
          <p:cNvSpPr/>
          <p:nvPr/>
        </p:nvSpPr>
        <p:spPr>
          <a:xfrm>
            <a:off x="6875640" y="1617840"/>
            <a:ext cx="1800000" cy="113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broj visoko obrazovanih u populacij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Kvaliteta obrazovanja?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mpleksnost mjerenja obrazovnih ishoda s ciljem praćenja kvalit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elativnost promjena razina znanja učenika, njihovih obilježja i ponaš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ema jedinstvene definicije kvalitete primjenjive na sustav obrazovanja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Michael,199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išestrukost definicije kvalitete u obrazov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azličite metode procjene kvalit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Down Arrow 1"/>
          <p:cNvSpPr/>
          <p:nvPr/>
        </p:nvSpPr>
        <p:spPr>
          <a:xfrm>
            <a:off x="4502160" y="4581360"/>
            <a:ext cx="431640" cy="57636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Osobna iskustva povezana s temom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003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d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suradnica u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lot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kt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zinov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ovrednovanj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la u funkciji unapr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anja kvalitete obrazovanj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skustvo kritičkog prijatelja na  3 raz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006. voditeljica projekta NZZ Razvoj sustava za osiguranje kvalitete na Filozofskom fakultetu Sveučilišta  u Rije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iteljica Odbora za kvalitetu Filozofskog fakult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Član Sveučilišnog odbora za kvalit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uditor sustava za kvalit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ositeljica kolegija Razvojna psihologija,  Nastavnički mod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184720" cy="107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Razine na kojima se ostvaruju funkcije škol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1"/>
          <a:stretch/>
        </p:blipFill>
        <p:spPr>
          <a:xfrm>
            <a:off x="450720" y="2408400"/>
            <a:ext cx="8699760" cy="420048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6732720" y="1046160"/>
            <a:ext cx="2000160" cy="2288520"/>
          </a:xfrm>
          <a:prstGeom prst="rect">
            <a:avLst/>
          </a:prstGeom>
          <a:solidFill>
            <a:srgbClr val="17375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Funkcije šk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Odgojno obrazov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Socija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Politič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Kultu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Ekonom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468360" y="26028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cjena  učinkovitosti obrazovne institu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visno o njezinoj funkciji i razini djel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Domović, 2009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Europska dimenzija vrednovanja kvalitete obrazovanj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84360" y="3213000"/>
            <a:ext cx="7991280" cy="26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Europski parlament i Savjet-  preporuke vezane uz promoviranje osiguranja kvalitete u visokom obrazovanj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1998. god. – razvoj transparentnog sustav aosiguranja kvalit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2006. god. – poticaj razvoju europske suradnje u osiguranju kvalitete u 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9480" indent="-252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razvoj internog sustava osiguranja kvalitete i primjena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Europskih normi i smjernica u osiguranju kvalitete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9480" indent="-252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dgovornost za kvalitetu u visokom obrazovanju je na institucijama visokog obrazo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684360" y="1700280"/>
            <a:ext cx="7559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Europsko izvješće o kvaliteti školskog obrazovanja- 16 indikatora kvalit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(European Commission, Directorate-General for Education and Culture, 2001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Empirijska utemeljenost važnosti osiguranja kvalitete obrazovanj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84464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l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ga pozitivnog školskog okruženj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(Cohen i sur. 2010.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kademsko postignuće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inkovita prevencija nasi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drav razvoj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fesionalno zadovoljstvo nastav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Empirijska utemeljenost važnosti osiguranja kvalitete obraz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Brown i sur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Diagram 3" descr=""/>
          <p:cNvPicPr/>
          <p:nvPr/>
        </p:nvPicPr>
        <p:blipFill>
          <a:blip r:embed="rId1"/>
          <a:stretch/>
        </p:blipFill>
        <p:spPr>
          <a:xfrm>
            <a:off x="1255680" y="1841400"/>
            <a:ext cx="71136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Empirijska utemeljenost važnosti osiguranja kvalitete obraz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ažnost kvalitetnog okruženja i poticajnog odnosa odgojitelja i djece predškolske dobi,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(Mashburn, 2008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indent="1792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Diagram 6" descr=""/>
          <p:cNvPicPr/>
          <p:nvPr/>
        </p:nvPicPr>
        <p:blipFill>
          <a:blip r:embed="rId1"/>
          <a:stretch/>
        </p:blipFill>
        <p:spPr>
          <a:xfrm>
            <a:off x="963720" y="2054160"/>
            <a:ext cx="7289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Sustav za kvalitet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Sustav za osiguravanje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isija, vizija, jasni cilje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smišljen, koordiniran susta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Definirane odgov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adgledanje i mjere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sporedba sustava osiguranja kvalitete na raznim razinama obraz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Calibri"/>
              </a:rPr>
              <a:t>Priručnici za kvalitet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Calibri"/>
              </a:rPr>
              <a:t>Priručnici za samovredn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24000" y="1746360"/>
            <a:ext cx="83516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Opis proced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Objašnj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177840"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dlog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za provedbu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samovrednovanja institu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okument koji je potrebno nadopunjavati i unaprjeđiv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381720" y="657360"/>
            <a:ext cx="1349280" cy="217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7180200" y="4437000"/>
            <a:ext cx="149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Osiguravanje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rednovanje kvalitete sustava obrazovanja i  obrazovnih ustan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egulatorni mehaniz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efiniranje odgovor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formacije i prosudbe putem dogovorenog i konzistentnog postupka i utvrđenih kriter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Calibri"/>
              </a:rPr>
              <a:t>Standardi/indikatori kvalit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 algn="ctr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Ciljana kvaliteta ili željeni stupanj kvalit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own Arrow 4"/>
          <p:cNvSpPr/>
          <p:nvPr/>
        </p:nvSpPr>
        <p:spPr>
          <a:xfrm flipH="1">
            <a:off x="4067280" y="3860640"/>
            <a:ext cx="458640" cy="93528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Content Placeholder 3" descr=""/>
          <p:cNvPicPr/>
          <p:nvPr/>
        </p:nvPicPr>
        <p:blipFill>
          <a:blip r:embed="rId1"/>
          <a:stretch/>
        </p:blipFill>
        <p:spPr>
          <a:xfrm>
            <a:off x="-12600" y="396720"/>
            <a:ext cx="887544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TEM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6" name="Content Placeholder 3" descr=""/>
          <p:cNvPicPr/>
          <p:nvPr/>
        </p:nvPicPr>
        <p:blipFill>
          <a:blip r:embed="rId1"/>
          <a:stretch/>
        </p:blipFill>
        <p:spPr>
          <a:xfrm>
            <a:off x="901800" y="1341360"/>
            <a:ext cx="78343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Odrednice učinkovitosti obrazovne institucije </a:t>
            </a:r>
            <a:r>
              <a:rPr b="0" lang="hr-HR" sz="1800" spc="-1" strike="noStrike">
                <a:solidFill>
                  <a:srgbClr val="1f497d"/>
                </a:solidFill>
                <a:latin typeface="Calibri"/>
              </a:rPr>
              <a:t>(Bezinović, 2010.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6" name="Rounded Rectangle 3"/>
          <p:cNvSpPr/>
          <p:nvPr/>
        </p:nvSpPr>
        <p:spPr>
          <a:xfrm>
            <a:off x="468360" y="1628640"/>
            <a:ext cx="1655640" cy="475308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4753080"/>
              <a:gd name="textAreaBottom" fmla="*/ 4672440 h 4753080"/>
            </a:gdLst>
            <a:ahLst/>
            <a:rect l="textAreaLeft" t="textAreaTop" r="textAreaRight" b="textAreaBottom"/>
            <a:pathLst>
              <a:path w="21600" h="62001">
                <a:moveTo>
                  <a:pt x="3600" y="0"/>
                </a:moveTo>
                <a:arcTo wR="3600" hR="3600" stAng="16200000" swAng="-5400000"/>
                <a:lnTo>
                  <a:pt x="0" y="58401"/>
                </a:lnTo>
                <a:arcTo wR="3600" hR="3600" stAng="10800000" swAng="-5400000"/>
                <a:lnTo>
                  <a:pt x="18000" y="620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Upravlj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Strate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Uvjeti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Ozrač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2411280" y="1700280"/>
            <a:ext cx="12034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Ljudski resur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ounded Rectangle 5"/>
          <p:cNvSpPr/>
          <p:nvPr/>
        </p:nvSpPr>
        <p:spPr>
          <a:xfrm>
            <a:off x="2411280" y="3357720"/>
            <a:ext cx="1297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Učenic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studen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ounded Rectangle 6"/>
          <p:cNvSpPr/>
          <p:nvPr/>
        </p:nvSpPr>
        <p:spPr>
          <a:xfrm>
            <a:off x="2484360" y="5373720"/>
            <a:ext cx="12733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Surad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ounded Rectangle 7"/>
          <p:cNvSpPr/>
          <p:nvPr/>
        </p:nvSpPr>
        <p:spPr>
          <a:xfrm>
            <a:off x="3995640" y="1700280"/>
            <a:ext cx="1513080" cy="468144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4681440"/>
              <a:gd name="textAreaBottom" fmla="*/ 4607640 h 4681440"/>
            </a:gdLst>
            <a:ahLst/>
            <a:rect l="textAreaLeft" t="textAreaTop" r="textAreaRight" b="textAreaBottom"/>
            <a:pathLst>
              <a:path w="21600" h="66819">
                <a:moveTo>
                  <a:pt x="3600" y="0"/>
                </a:moveTo>
                <a:arcTo wR="3600" hR="3600" stAng="16200000" swAng="-5400000"/>
                <a:lnTo>
                  <a:pt x="0" y="63219"/>
                </a:lnTo>
                <a:arcTo wR="3600" hR="3600" stAng="10800000" swAng="-5400000"/>
                <a:lnTo>
                  <a:pt x="18000" y="66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Proce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libri"/>
              </a:rPr>
              <a:t>učenja i poučavanj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libri"/>
              </a:rPr>
              <a:t>odno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8"/>
          <p:cNvSpPr/>
          <p:nvPr/>
        </p:nvSpPr>
        <p:spPr>
          <a:xfrm>
            <a:off x="5940360" y="1700280"/>
            <a:ext cx="12240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Razvoj djelat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ounded Rectangle 9"/>
          <p:cNvSpPr/>
          <p:nvPr/>
        </p:nvSpPr>
        <p:spPr>
          <a:xfrm>
            <a:off x="6012000" y="3357720"/>
            <a:ext cx="12031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Razvoj dje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ounded Rectangle 10"/>
          <p:cNvSpPr/>
          <p:nvPr/>
        </p:nvSpPr>
        <p:spPr>
          <a:xfrm>
            <a:off x="6012000" y="5373720"/>
            <a:ext cx="12031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Razvoj šk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ounded Rectangle 11"/>
          <p:cNvSpPr/>
          <p:nvPr/>
        </p:nvSpPr>
        <p:spPr>
          <a:xfrm>
            <a:off x="7689960" y="1700280"/>
            <a:ext cx="1274760" cy="4681440"/>
          </a:xfrm>
          <a:custGeom>
            <a:avLst/>
            <a:gdLst>
              <a:gd name="textAreaLeft" fmla="*/ 61920 w 1274760"/>
              <a:gd name="textAreaRight" fmla="*/ 1212840 w 1274760"/>
              <a:gd name="textAreaTop" fmla="*/ 61920 h 4681440"/>
              <a:gd name="textAreaBottom" fmla="*/ 4619520 h 4681440"/>
            </a:gdLst>
            <a:ahLst/>
            <a:rect l="textAreaLeft" t="textAreaTop" r="textAreaRight" b="textAreaBottom"/>
            <a:pathLst>
              <a:path w="21600" h="79308">
                <a:moveTo>
                  <a:pt x="3600" y="0"/>
                </a:moveTo>
                <a:arcTo wR="3600" hR="3600" stAng="16200000" swAng="-5400000"/>
                <a:lnTo>
                  <a:pt x="0" y="75708"/>
                </a:lnTo>
                <a:arcTo wR="3600" hR="3600" stAng="10800000" swAng="-5400000"/>
                <a:lnTo>
                  <a:pt x="18000" y="79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Isho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Znan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Vrijed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Zadovoljstv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Ugl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5" name="Straight Arrow Connector 13"/>
          <p:cNvCxnSpPr/>
          <p:nvPr/>
        </p:nvCxnSpPr>
        <p:spPr>
          <a:xfrm>
            <a:off x="610920" y="1412640"/>
            <a:ext cx="4825080" cy="1080"/>
          </a:xfrm>
          <a:prstGeom prst="straightConnector1">
            <a:avLst/>
          </a:prstGeom>
          <a:ln w="3168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336" name="Straight Arrow Connector 15"/>
          <p:cNvCxnSpPr/>
          <p:nvPr/>
        </p:nvCxnSpPr>
        <p:spPr>
          <a:xfrm>
            <a:off x="6084360" y="1412640"/>
            <a:ext cx="2809080" cy="1080"/>
          </a:xfrm>
          <a:prstGeom prst="straightConnector1">
            <a:avLst/>
          </a:prstGeom>
          <a:ln w="28440">
            <a:solidFill>
              <a:srgbClr val="39659b"/>
            </a:solidFill>
            <a:miter/>
            <a:tailEnd len="med" type="arrow" w="med"/>
          </a:ln>
        </p:spPr>
      </p:cxnSp>
      <p:cxnSp>
        <p:nvCxnSpPr>
          <p:cNvPr id="337" name="Straight Arrow Connector 20"/>
          <p:cNvCxnSpPr/>
          <p:nvPr/>
        </p:nvCxnSpPr>
        <p:spPr>
          <a:xfrm flipH="1">
            <a:off x="610560" y="6597360"/>
            <a:ext cx="8282520" cy="1080"/>
          </a:xfrm>
          <a:prstGeom prst="straightConnector1">
            <a:avLst/>
          </a:prstGeom>
          <a:ln w="9360">
            <a:solidFill>
              <a:srgbClr val="39659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1280" y="272520"/>
            <a:ext cx="8075520" cy="99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Standardi kvalitete na obrazovnoj vertikal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Predškolski odgoj i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Osnovnoškolsko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2174760"/>
            <a:ext cx="4043520" cy="3951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hr-H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strategija ustan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2. kurikulum i odgojno-obrazovni pro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3. ljudski resur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4. organizacijsko vođenje ustan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5. kultura ustan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6. prostorno-materijalni i tehnički uvjeti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7. zdravstveno-higijenski uvjeti rada i sigur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8. suradnja s užom i širom društvenom zajedni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dnos učenika prema drugim učenicima i šk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dnos učenika i učitel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oučavanje i učen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rjednovanje učeničkog napretka i postignuć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dnos učitelja, roditelja i ško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aniranje nastavnog proc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adno ozrač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Standardi kvalitete na obrazovnoj vertikal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Strukovno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Srednjoškolsko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4000" y="2247480"/>
            <a:ext cx="3963960" cy="3886200"/>
          </a:xfrm>
          <a:prstGeom prst="rect">
            <a:avLst/>
          </a:prstGeom>
          <a:solidFill>
            <a:srgbClr val="558ed5">
              <a:alpha val="8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aniranje i programiranje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. poučavanje i podrška učen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. postignuća polaz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4. materijalni uvjeti i ljudski potencij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. profesionalni razvoj zaposle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6. međuljudski odnosi u ustanovi za strukovno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7. vođenje i upravlj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8. suradnja s ostalim dionic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788000" y="2247480"/>
            <a:ext cx="3898800" cy="3886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hr-H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astavni plan i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poučavanje i uče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aćenje i vrjedn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materijalno – tehnički uvje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judski resurs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školsko ozrač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7. </a:t>
            </a: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organizacija nastave i rada šk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8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pravljanje ško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9.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 suradnja s različitim sudionicima odgojno-obrazovnoga sust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Standardi kvalitete u visokom obrazovanju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14040" y="1628280"/>
            <a:ext cx="4089240" cy="37450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politika i postupci za osiguravanje kvalit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2. odobrenje, praćenje i periodične provjere programa i kvalifik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3. ocjenjivanje studen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4. osiguravanje kvalitete nastav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5. obrazovni resursi i pomoć studenti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6. informacijski sustav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7. informiranje javnos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Standardi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užna raznolikost u njihovom dostizanju s obzirom na početne razl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 različite dispozicijama (različito predznanje i vješt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brazovni proces - dinamična interakcija među učenicima i studenima i nastavnicima rezultira različitim mogućim ishod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Standardi i kvaliteta u obrazovanju nisu trajna kategori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ijenjaju se ovisno o okruženju, svrsi i vrem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Standardi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moć u samoprocjeni vlastitog rad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snova za planiranje kvalitetnije prak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roz analizu zastupljenosti osvještavaju se čimbenici kvalitetnog r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upak rezultira poželjnim promjenama u radu s ciljem zadovoljavanja ovih indikatora -  veće zadovoljstvo djece, roditelja i djelat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omjene u načinu rada u skladu s indikatorima kvalitete rezultiraju promjenama u prilagodbi djece/učeni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7227720" y="83664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197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Vrednov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Diagram 7" descr=""/>
          <p:cNvPicPr/>
          <p:nvPr/>
        </p:nvPicPr>
        <p:blipFill>
          <a:blip r:embed="rId1"/>
          <a:stretch/>
        </p:blipFill>
        <p:spPr>
          <a:xfrm>
            <a:off x="463680" y="1212840"/>
            <a:ext cx="8435880" cy="4816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4356000" y="5067360"/>
            <a:ext cx="1152720" cy="11034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5"/>
          <p:cNvSpPr/>
          <p:nvPr/>
        </p:nvSpPr>
        <p:spPr>
          <a:xfrm flipV="1" rot="10800000">
            <a:off x="4370040" y="617004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Calibri"/>
              </a:rPr>
              <a:t>quotesabouteducation.n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Ciljevi samovrednovanja </a:t>
            </a:r>
            <a:br>
              <a:rPr sz="3600"/>
            </a:br>
            <a:r>
              <a:rPr b="0" lang="hr-HR" sz="2000" spc="-1" strike="noStrike">
                <a:solidFill>
                  <a:srgbClr val="1f497d"/>
                </a:solidFill>
                <a:latin typeface="Calibri"/>
              </a:rPr>
              <a:t>Bezinović, 2007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2" name="Content Placeholder 3" descr=""/>
          <p:cNvPicPr/>
          <p:nvPr/>
        </p:nvPicPr>
        <p:blipFill>
          <a:blip r:embed="rId1"/>
          <a:stretch/>
        </p:blipFill>
        <p:spPr>
          <a:xfrm>
            <a:off x="781200" y="1689120"/>
            <a:ext cx="740556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Ciklus vrednovanja i samovredn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907920" y="1444680"/>
            <a:ext cx="7785360" cy="458460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4"/>
          <p:cNvGrpSpPr/>
          <p:nvPr/>
        </p:nvGrpSpPr>
        <p:grpSpPr>
          <a:xfrm>
            <a:off x="5724360" y="1125360"/>
            <a:ext cx="2178360" cy="1928880"/>
            <a:chOff x="5724360" y="1125360"/>
            <a:chExt cx="2178360" cy="1928880"/>
          </a:xfrm>
        </p:grpSpPr>
        <p:sp>
          <p:nvSpPr>
            <p:cNvPr id="366" name="Oval 5"/>
            <p:cNvSpPr/>
            <p:nvPr/>
          </p:nvSpPr>
          <p:spPr>
            <a:xfrm>
              <a:off x="5724360" y="1125360"/>
              <a:ext cx="2178360" cy="192888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Oval 4"/>
            <p:cNvSpPr/>
            <p:nvPr/>
          </p:nvSpPr>
          <p:spPr>
            <a:xfrm>
              <a:off x="6043320" y="1407960"/>
              <a:ext cx="15400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Calibri"/>
                </a:rPr>
                <a:t>Uvid u stanj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Group 7"/>
          <p:cNvGrpSpPr/>
          <p:nvPr/>
        </p:nvGrpSpPr>
        <p:grpSpPr>
          <a:xfrm>
            <a:off x="6443640" y="3789360"/>
            <a:ext cx="2166840" cy="2049480"/>
            <a:chOff x="6443640" y="3789360"/>
            <a:chExt cx="2166840" cy="2049480"/>
          </a:xfrm>
        </p:grpSpPr>
        <p:sp>
          <p:nvSpPr>
            <p:cNvPr id="369" name="Oval 8"/>
            <p:cNvSpPr/>
            <p:nvPr/>
          </p:nvSpPr>
          <p:spPr>
            <a:xfrm>
              <a:off x="6443640" y="3789360"/>
              <a:ext cx="2166840" cy="204948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Oval 4"/>
            <p:cNvSpPr/>
            <p:nvPr/>
          </p:nvSpPr>
          <p:spPr>
            <a:xfrm>
              <a:off x="6761160" y="4089240"/>
              <a:ext cx="153180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Calibri"/>
                </a:rPr>
                <a:t>Analiza po pokazateljima kvalite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Group 10"/>
          <p:cNvGrpSpPr/>
          <p:nvPr/>
        </p:nvGrpSpPr>
        <p:grpSpPr>
          <a:xfrm>
            <a:off x="1835280" y="4508640"/>
            <a:ext cx="2085840" cy="2063520"/>
            <a:chOff x="1835280" y="4508640"/>
            <a:chExt cx="2085840" cy="2063520"/>
          </a:xfrm>
        </p:grpSpPr>
        <p:sp>
          <p:nvSpPr>
            <p:cNvPr id="372" name="Oval 11"/>
            <p:cNvSpPr/>
            <p:nvPr/>
          </p:nvSpPr>
          <p:spPr>
            <a:xfrm>
              <a:off x="1835280" y="4508640"/>
              <a:ext cx="2085840" cy="206352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Oval 4"/>
            <p:cNvSpPr/>
            <p:nvPr/>
          </p:nvSpPr>
          <p:spPr>
            <a:xfrm>
              <a:off x="2139840" y="4809960"/>
              <a:ext cx="14763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Calibri"/>
                </a:rPr>
                <a:t>Određivanje prioritetnih područj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Group 13"/>
          <p:cNvGrpSpPr/>
          <p:nvPr/>
        </p:nvGrpSpPr>
        <p:grpSpPr>
          <a:xfrm>
            <a:off x="900000" y="1557360"/>
            <a:ext cx="2065320" cy="2058840"/>
            <a:chOff x="900000" y="1557360"/>
            <a:chExt cx="2065320" cy="2058840"/>
          </a:xfrm>
        </p:grpSpPr>
        <p:sp>
          <p:nvSpPr>
            <p:cNvPr id="375" name="Oval 14"/>
            <p:cNvSpPr/>
            <p:nvPr/>
          </p:nvSpPr>
          <p:spPr>
            <a:xfrm>
              <a:off x="900000" y="1557360"/>
              <a:ext cx="2065320" cy="205884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"/>
            <p:cNvSpPr/>
            <p:nvPr/>
          </p:nvSpPr>
          <p:spPr>
            <a:xfrm>
              <a:off x="1203120" y="1858680"/>
              <a:ext cx="1459080" cy="14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Calibri"/>
                </a:rPr>
                <a:t>Praćenj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Ciklus vrednovanja i samovredn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907920" y="1444680"/>
            <a:ext cx="7785360" cy="4584600"/>
          </a:xfrm>
          <a:prstGeom prst="rect">
            <a:avLst/>
          </a:prstGeom>
          <a:ln w="0">
            <a:noFill/>
          </a:ln>
        </p:spPr>
      </p:pic>
      <p:sp>
        <p:nvSpPr>
          <p:cNvPr id="379" name="Vertical Scroll 4"/>
          <p:cNvSpPr/>
          <p:nvPr/>
        </p:nvSpPr>
        <p:spPr>
          <a:xfrm>
            <a:off x="5651640" y="1052640"/>
            <a:ext cx="1873080" cy="1800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Isp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Upit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6948360" y="4149720"/>
            <a:ext cx="1584360" cy="12240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Tim za kvalitetu; SWOT/KRE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Isosceles Triangle 8"/>
          <p:cNvSpPr/>
          <p:nvPr/>
        </p:nvSpPr>
        <p:spPr>
          <a:xfrm>
            <a:off x="3276720" y="5732640"/>
            <a:ext cx="2950920" cy="865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odgovor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ight Arrow Callout 9"/>
          <p:cNvSpPr/>
          <p:nvPr/>
        </p:nvSpPr>
        <p:spPr>
          <a:xfrm>
            <a:off x="539640" y="2924280"/>
            <a:ext cx="1633680" cy="1563480"/>
          </a:xfrm>
          <a:prstGeom prst="rightArrowCallout">
            <a:avLst>
              <a:gd name="adj1" fmla="val 25002"/>
              <a:gd name="adj2" fmla="val 25000"/>
              <a:gd name="adj3" fmla="val 25005"/>
              <a:gd name="adj4" fmla="val 6497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NCV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Cilj MZOS: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Održiva kvaliteta odgojno-obrazovnog sustav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...Osiguranje kvalitetnog sustava odgoja i obrazovanja od predškolskog, osnovnoškolskog, srednjoškolskog do visokog, uključujući i obrazovanje odraslih, omogućit će pretpostavke za kontinuirano stjecanje novog znanja i vještina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3440" indent="-2534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... Najvažnija očekivanja od odgojno-obrazovnog sustava vezana su uz uspostavu sustava osiguranja kvalitete djelatnosti i unaprjeđenje sustava..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3440" indent="-2534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d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  <a:ea typeface="Calibri"/>
              </a:rPr>
              <a:t>2004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god.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vođenje sustava za kvalitetu i unaprjeđenja odgoja i obrazo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3440" indent="-2534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rateški plan Ministarstva znanosti, obrazovanja i sporta RH za razdoblje 2012. – 20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Ciklus vrednovanja i samovrednovanja – sustav visokog obraz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tretch/>
        </p:blipFill>
        <p:spPr>
          <a:xfrm>
            <a:off x="907920" y="1444680"/>
            <a:ext cx="7785360" cy="4584600"/>
          </a:xfrm>
          <a:prstGeom prst="rect">
            <a:avLst/>
          </a:prstGeom>
          <a:ln w="0">
            <a:noFill/>
          </a:ln>
        </p:spPr>
      </p:pic>
      <p:sp>
        <p:nvSpPr>
          <p:cNvPr id="385" name="Vertical Scroll 4"/>
          <p:cNvSpPr/>
          <p:nvPr/>
        </p:nvSpPr>
        <p:spPr>
          <a:xfrm>
            <a:off x="5651640" y="1052640"/>
            <a:ext cx="1873080" cy="1800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Isp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Evaluacije nastav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7308720" y="4149720"/>
            <a:ext cx="1584360" cy="12240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Tim za kvalitet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Isosceles Triangle 8"/>
          <p:cNvSpPr/>
          <p:nvPr/>
        </p:nvSpPr>
        <p:spPr>
          <a:xfrm>
            <a:off x="3348000" y="5661000"/>
            <a:ext cx="2952720" cy="936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odgovor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ight Arrow Callout 9"/>
          <p:cNvSpPr/>
          <p:nvPr/>
        </p:nvSpPr>
        <p:spPr>
          <a:xfrm>
            <a:off x="179280" y="2924280"/>
            <a:ext cx="2089080" cy="1563480"/>
          </a:xfrm>
          <a:prstGeom prst="rightArrowCallout">
            <a:avLst>
              <a:gd name="adj1" fmla="val 25002"/>
              <a:gd name="adj2" fmla="val 25000"/>
              <a:gd name="adj3" fmla="val 25004"/>
              <a:gd name="adj4" fmla="val 6497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ununtar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AZ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Što poslije uvida u rezultate vrednovanja?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rednovanje nedovoljno za realizaciju ciljeva koji su potaknuli potrebu za vrednovanj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dovoljna samo prezentacija rezultata koji će se pohraniti i biti dio arh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euvažavanje rezultata ima negativne posljedice za buduće postupke vredno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duvjet uspješnih budućih vrednovanja je definiranje koraka koji se poduzimaju nakon vrednovanja i samovredn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ranje posljedica po one koji se toga ne pridržavaju i određivanje odgovornosti za nadgledanje poslje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Tim za kvalitet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392" name="Diagram 2"/>
          <p:cNvGrpSpPr/>
          <p:nvPr/>
        </p:nvGrpSpPr>
        <p:grpSpPr>
          <a:xfrm>
            <a:off x="539640" y="1336680"/>
            <a:ext cx="7705080" cy="5233680"/>
            <a:chOff x="539640" y="1336680"/>
            <a:chExt cx="7705080" cy="5233680"/>
          </a:xfrm>
        </p:grpSpPr>
        <p:sp>
          <p:nvSpPr>
            <p:cNvPr id="393" name="_s59396"/>
            <p:cNvSpPr/>
            <p:nvPr/>
          </p:nvSpPr>
          <p:spPr>
            <a:xfrm>
              <a:off x="3562920" y="2105280"/>
              <a:ext cx="2253600" cy="21974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_s59397"/>
            <p:cNvSpPr/>
            <p:nvPr/>
          </p:nvSpPr>
          <p:spPr>
            <a:xfrm>
              <a:off x="3562920" y="1336680"/>
              <a:ext cx="225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a8"/>
                  </a:solidFill>
                  <a:latin typeface="Calibri"/>
                </a:rPr>
                <a:t>ravnatelj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_s59398"/>
            <p:cNvSpPr/>
            <p:nvPr/>
          </p:nvSpPr>
          <p:spPr>
            <a:xfrm>
              <a:off x="4305240" y="2521440"/>
              <a:ext cx="2253600" cy="2197440"/>
            </a:xfrm>
            <a:prstGeom prst="ellipse">
              <a:avLst/>
            </a:prstGeom>
            <a:solidFill>
              <a:srgbClr val="bfbfbf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_s59399"/>
            <p:cNvSpPr/>
            <p:nvPr/>
          </p:nvSpPr>
          <p:spPr>
            <a:xfrm>
              <a:off x="6083640" y="2636280"/>
              <a:ext cx="1873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a8"/>
                  </a:solidFill>
                  <a:latin typeface="Calibri"/>
                </a:rPr>
                <a:t>nastavnic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_s59400"/>
            <p:cNvSpPr/>
            <p:nvPr/>
          </p:nvSpPr>
          <p:spPr>
            <a:xfrm>
              <a:off x="4307040" y="3358080"/>
              <a:ext cx="2253600" cy="2197800"/>
            </a:xfrm>
            <a:prstGeom prst="ellipse">
              <a:avLst/>
            </a:prstGeom>
            <a:solidFill>
              <a:srgbClr val="948a54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_s59401"/>
            <p:cNvSpPr/>
            <p:nvPr/>
          </p:nvSpPr>
          <p:spPr>
            <a:xfrm>
              <a:off x="6083640" y="4941000"/>
              <a:ext cx="2161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a8"/>
                  </a:solidFill>
                  <a:latin typeface="Calibri"/>
                </a:rPr>
                <a:t>stručni suradnici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a8"/>
                  </a:solidFill>
                  <a:latin typeface="Calibri"/>
                </a:rPr>
                <a:t>administrativno osoblj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_s59402"/>
            <p:cNvSpPr/>
            <p:nvPr/>
          </p:nvSpPr>
          <p:spPr>
            <a:xfrm>
              <a:off x="3564720" y="3778200"/>
              <a:ext cx="2254320" cy="2197800"/>
            </a:xfrm>
            <a:prstGeom prst="ellipse">
              <a:avLst/>
            </a:prstGeom>
            <a:solidFill>
              <a:srgbClr val="dce6f2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_s59403"/>
            <p:cNvSpPr/>
            <p:nvPr/>
          </p:nvSpPr>
          <p:spPr>
            <a:xfrm>
              <a:off x="3636360" y="6021360"/>
              <a:ext cx="2254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_s59404"/>
            <p:cNvSpPr/>
            <p:nvPr/>
          </p:nvSpPr>
          <p:spPr>
            <a:xfrm>
              <a:off x="2820600" y="3360240"/>
              <a:ext cx="2254320" cy="2197440"/>
            </a:xfrm>
            <a:prstGeom prst="ellipse">
              <a:avLst/>
            </a:prstGeom>
            <a:solidFill>
              <a:srgbClr val="7f7f7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_s59405"/>
            <p:cNvSpPr/>
            <p:nvPr/>
          </p:nvSpPr>
          <p:spPr>
            <a:xfrm>
              <a:off x="3636360" y="6021360"/>
              <a:ext cx="2254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a8"/>
                  </a:solidFill>
                  <a:latin typeface="Calibri"/>
                </a:rPr>
                <a:t>učenic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_s59406"/>
            <p:cNvSpPr/>
            <p:nvPr/>
          </p:nvSpPr>
          <p:spPr>
            <a:xfrm>
              <a:off x="2818440" y="2523960"/>
              <a:ext cx="2251800" cy="2197440"/>
            </a:xfrm>
            <a:prstGeom prst="ellipse">
              <a:avLst/>
            </a:prstGeom>
            <a:solidFill>
              <a:srgbClr val="ddd9c3">
                <a:alpha val="50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_s59407"/>
            <p:cNvSpPr/>
            <p:nvPr/>
          </p:nvSpPr>
          <p:spPr>
            <a:xfrm>
              <a:off x="539640" y="4725720"/>
              <a:ext cx="225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a8"/>
                  </a:solidFill>
                  <a:latin typeface="Calibri"/>
                </a:rPr>
                <a:t>predstavnici roditel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TextBox 15"/>
          <p:cNvSpPr/>
          <p:nvPr/>
        </p:nvSpPr>
        <p:spPr>
          <a:xfrm>
            <a:off x="1042920" y="2708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06abc"/>
                </a:solidFill>
                <a:latin typeface="Calibri"/>
              </a:rPr>
              <a:t>predstavnici  lokalne zajedni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6516720" y="620640"/>
            <a:ext cx="2232000" cy="2160720"/>
          </a:xfrm>
          <a:prstGeom prst="ellipse">
            <a:avLst/>
          </a:prstGeom>
          <a:solidFill>
            <a:srgbClr val="558ed5">
              <a:alpha val="72000"/>
            </a:srgbClr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6735240" y="1413000"/>
            <a:ext cx="193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Suradnik mrež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kritički prijatel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Tim za kvalitet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dgovornost ravnatelja u izbo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riteriji izbo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loga entuzijazma i otvorenosti za promje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ažnost dodatne edukaci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zumijevanje uključenih postupaka i načina interpretacije podataka vanjskog  vredn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4" descr="C:\Documents and Settings\Soba 15\Local Settings\Temporary Internet Files\Content.IE5\3SXARQUD\MM910001094[1].gif"/>
          <p:cNvPicPr/>
          <p:nvPr/>
        </p:nvPicPr>
        <p:blipFill>
          <a:blip r:embed="rId1"/>
          <a:stretch/>
        </p:blipFill>
        <p:spPr>
          <a:xfrm>
            <a:off x="7308720" y="981000"/>
            <a:ext cx="6526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Suradnik mreže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Suradnik mreže/kritički prijatelj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gled na instituciju «izvana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drška u procesu samovrednovanja- savjetodavna ulog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ipremljenost za ulog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željna  pozicija neformalnog autorit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 druge obrazovne institucije ili iz agen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Saveznik institucije koji može uputiti kritiku i pitanja koja potiču na preispitivanje onoga što se događa u instituciji s ciljem unaprjeđenja kvalite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Suradnik mreže/kritički prijatelj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bjektivni vanjski promatrač i facilitator u proces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tiče na rasprav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manjuje moguće subjektivno procenjivanje i analizira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 procesu definiranja razvojnih planova usmjerava ka ostvarivim promjen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Daje konstruktivnu kritiku s ciljem prevazilaženja subjektivnih nerealno pozitivnih procje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Prednosti uključivanja suradnika mrež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tvorenost prema konstruktivnim kritik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Sudjelovanje u otvorenim i iskrenim razgovori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stizanje boljih rezultate u nastavi i izvannastavnim aktivnosti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Jasnije definiranje razvojnih cilje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Razvijanje samopouzdanja nastavni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herty i sur. 2001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Primjena samovredn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Pred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Prepre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ogućnosti za pozitivne promje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omoviranje autonomi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valitetniji odno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zitivniji isho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Strah od promje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elagoda zbog  nepoznat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sjećaj dodatne nepotrebne birokratizaci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edostatak vreme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pterećnost drugim funkci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loga ravnatelja/čelnika instituci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Smjernice za strategiju odgoja, obrazovanja, znanosti i tehnologije</a:t>
            </a: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, 2012.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stavnici - ključna uloga u obrazo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boljšanje obrazovnog sustav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ofesionalizacija odgajateljskog, učiteljskog i nastavničkog zanimanj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jačanje povjerenja u obrazovne instituc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ažnost kvalitete inicijalnog i cjeloživotnog obrazovanja nastavni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mišljen odgoj, pristupi učenju i iskustva s učenjem stečeni u predškolskim ustanovama osnova za kontinuirano i samoinicijativno učenje i obrazovanje tijekom cijelog život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ažnost cjeloživotnog obrazovanja; promoviranja kompeten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loga ravnatelja/čelnika instituci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taknuti nastavnike za sudjelovanje u procesu samovredno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kazati osobnu odlučnost i preda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tvorenost ravnatelja za samovrednovanje- vrednovanje rada ravnatelja i rukovođenja škol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Jeste li ravnatelj spreman na izazove? </a:t>
            </a:r>
            <a:r>
              <a:rPr b="0" i="1" lang="hr-HR" sz="1600" spc="-1" strike="noStrike">
                <a:solidFill>
                  <a:srgbClr val="000000"/>
                </a:solidFill>
                <a:latin typeface="Calibri"/>
              </a:rPr>
              <a:t>(Priručnik za samovrednovanj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5508720" y="4508640"/>
            <a:ext cx="2749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896080" cy="44546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loga ravnatelja/čelnika instituci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943600" y="6083280"/>
            <a:ext cx="17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www.nonprofitkinect.org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loga ravnatelja/čelnika instituci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55280" y="177336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otivacijski aspekt najviše ovisi o rukovođenju institucij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i njezinoj predanosti ciljevima u procesu osiguranja kvalit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z jasne motivacij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vnatelja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 provedba procedura mož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malno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provesti i biti 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ama sebi svr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716360" y="1773000"/>
            <a:ext cx="39672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mica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j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lim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jeren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7120" indent="-17784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lobod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 u odlučivanju o metodama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7120" indent="-17784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poticanje međusobne komunika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7120" indent="-17784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jačanje 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sjećaj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 odgovornosti za izvršenje zadatka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koje 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ide kao doprinos ostvarenju zajedničkog cil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Promjene u ulozi:</a:t>
            </a:r>
            <a:br>
              <a:rPr sz="3600"/>
            </a:b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 suradnička uloga ravnatelj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većanje predanost poslu i motivacije nastav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oguće opiranje pojedinih nastav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boljšava se komunikacija i razvija se proces zajedničkog donošenja odluk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(Hallinger, 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čin upravljanja institucijom utječe na percepciju uvjeta u šk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loga ravnatelja u afirmiranju škole ne samo kao mjesta učenja i poučavanja nego i kao organizacije koja trajno uč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premnost na promjene i stručno usavrša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izravni utjecaj upravljanja kroz djelovanje na ozračje u cjelini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(Domović , 2003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naprjeđenje sustava za kvalitetu u obrazovanju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Calibri"/>
                <a:ea typeface="Arial"/>
              </a:rPr>
              <a:t>Preduvjeti unaprjeđivanja kvalitete u obrazovanju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560" y="1447920"/>
            <a:ext cx="785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Kvaliteta rukovođenja na nacionalnoj razini – financ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Društveni projekti za poboljšanje obraz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Kvaliteta rukovođenja u šk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Pozicija učiteljske profes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Kontinuitet politika tijekom duljeg vremenskog razdobl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Razvoj sustava za osiguranje kvalitet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ocedure se postupno usvajaju na razini instituci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loga politike kvalitete institucije kao namjere i odluke upravljanja institucijom u smjeru kvalite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loga formalnih propisa i akata kojima se propisuju proced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efiniranje strukture, pravila, kriterija i standarda kvalitete  kroz priručnike - nužan formalni okvir za ostvarivanje sustava za kvalit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Osiguranje kvalitete obrazovanja-formalni preduvjet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44" name="Content Placeholder 3" descr=""/>
          <p:cNvPicPr/>
          <p:nvPr/>
        </p:nvPicPr>
        <p:blipFill>
          <a:blip r:embed="rId1"/>
          <a:stretch/>
        </p:blipFill>
        <p:spPr>
          <a:xfrm>
            <a:off x="987480" y="1603440"/>
            <a:ext cx="7265880" cy="4645080"/>
          </a:xfrm>
          <a:prstGeom prst="rect">
            <a:avLst/>
          </a:prstGeom>
          <a:ln w="0">
            <a:noFill/>
          </a:ln>
        </p:spPr>
      </p:pic>
      <p:pic>
        <p:nvPicPr>
          <p:cNvPr id="445" name="Content Placeholder 3" descr=""/>
          <p:cNvPicPr/>
          <p:nvPr/>
        </p:nvPicPr>
        <p:blipFill>
          <a:blip r:embed="rId2"/>
          <a:stretch/>
        </p:blipFill>
        <p:spPr>
          <a:xfrm>
            <a:off x="3949560" y="974880"/>
            <a:ext cx="4797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Calibri"/>
              </a:rPr>
              <a:t>Dokumentacija sustava osiguravanja kvalitete visokog obrazovanja – primjer Sveučilišta u Rijeci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tatut Sveučilišta u Rijeci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trategija Sveučilišta u Rijeci 2007-2013.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avilnik o sustavu za kvalitetu Sveučilišta u Rijeci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slovnik o radu Odbora za kvalitetu Sveučilišta u Rijeci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avilnik o studijima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avilnik o akreditiranju studijskih programa Sveučilišta u Rij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avilnik o vrednovanju programa cjeloživotnog učenja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avilnik o obliku diplome i sadržaju i obliku svjedodžbe, potvrde i uvjerenja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avilnik o postupku izbora nastavnika, znanstvenika i suradnika u zvanja i na odgovarajuća radna mjesta na Sveučilištu u Rijeci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tički kodeks Sveučilišta u Rijeci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emeljni dokument za cjeloživotno učenj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ručnik o kvaliteti studiranja Sveučilišta u Rij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057400" cy="2870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3059280" y="2997360"/>
            <a:ext cx="2041200" cy="3284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327400" cy="3335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4"/>
          <a:stretch/>
        </p:blipFill>
        <p:spPr>
          <a:xfrm>
            <a:off x="3675240" y="765000"/>
            <a:ext cx="380988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Obrazovna vertikal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6960"/>
            <a:ext cx="8254800" cy="4535640"/>
          </a:xfrm>
          <a:prstGeom prst="rect">
            <a:avLst/>
          </a:prstGeom>
          <a:ln w="0">
            <a:noFill/>
          </a:ln>
        </p:spPr>
      </p:pic>
      <p:sp>
        <p:nvSpPr>
          <p:cNvPr id="253" name="Right Arrow 4"/>
          <p:cNvSpPr/>
          <p:nvPr/>
        </p:nvSpPr>
        <p:spPr>
          <a:xfrm rot="16200000">
            <a:off x="6707160" y="4894200"/>
            <a:ext cx="534960" cy="484200"/>
          </a:xfrm>
          <a:prstGeom prst="rightArrow">
            <a:avLst>
              <a:gd name="adj1" fmla="val 50000"/>
              <a:gd name="adj2" fmla="val 49994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ight Arrow 5"/>
          <p:cNvSpPr/>
          <p:nvPr/>
        </p:nvSpPr>
        <p:spPr>
          <a:xfrm rot="16200000">
            <a:off x="6707160" y="4101840"/>
            <a:ext cx="534960" cy="484200"/>
          </a:xfrm>
          <a:prstGeom prst="rightArrow">
            <a:avLst>
              <a:gd name="adj1" fmla="val 50000"/>
              <a:gd name="adj2" fmla="val 49994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ight Arrow 6"/>
          <p:cNvSpPr/>
          <p:nvPr/>
        </p:nvSpPr>
        <p:spPr>
          <a:xfrm rot="16200000">
            <a:off x="6708240" y="2157840"/>
            <a:ext cx="533160" cy="484200"/>
          </a:xfrm>
          <a:prstGeom prst="rightArrow">
            <a:avLst>
              <a:gd name="adj1" fmla="val 50000"/>
              <a:gd name="adj2" fmla="val 49978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ight Arrow 7"/>
          <p:cNvSpPr/>
          <p:nvPr/>
        </p:nvSpPr>
        <p:spPr>
          <a:xfrm rot="16200000">
            <a:off x="6707160" y="3166920"/>
            <a:ext cx="534960" cy="484200"/>
          </a:xfrm>
          <a:prstGeom prst="rightArrow">
            <a:avLst>
              <a:gd name="adj1" fmla="val 50000"/>
              <a:gd name="adj2" fmla="val 49994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Wave 10"/>
          <p:cNvSpPr/>
          <p:nvPr/>
        </p:nvSpPr>
        <p:spPr>
          <a:xfrm rot="20302800">
            <a:off x="568440" y="2392200"/>
            <a:ext cx="7700760" cy="2754360"/>
          </a:xfrm>
          <a:custGeom>
            <a:avLst/>
            <a:gdLst>
              <a:gd name="textAreaLeft" fmla="*/ 0 w 7700760"/>
              <a:gd name="textAreaRight" fmla="*/ 7701120 w 7700760"/>
              <a:gd name="textAreaTop" fmla="*/ 688680 h 2754360"/>
              <a:gd name="textAreaBottom" fmla="*/ 2066040 h 2754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cecff">
              <a:alpha val="19000"/>
            </a:srgbClr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Calibri"/>
              </a:rPr>
              <a:t>OSIGURAVANJE KVALIT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1f497d"/>
                </a:solidFill>
                <a:latin typeface="Calibri"/>
              </a:rPr>
              <a:t>Osiguranje kvalitete obrazovanja-formalni preduvjeti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54" name="Content Placeholder 3" descr=""/>
          <p:cNvPicPr/>
          <p:nvPr/>
        </p:nvPicPr>
        <p:blipFill>
          <a:blip r:embed="rId1"/>
          <a:stretch/>
        </p:blipFill>
        <p:spPr>
          <a:xfrm>
            <a:off x="987480" y="1603440"/>
            <a:ext cx="7265880" cy="4645080"/>
          </a:xfrm>
          <a:prstGeom prst="rect">
            <a:avLst/>
          </a:prstGeom>
          <a:ln w="0">
            <a:noFill/>
          </a:ln>
        </p:spPr>
      </p:pic>
      <p:pic>
        <p:nvPicPr>
          <p:cNvPr id="455" name="Content Placeholder 6" descr=""/>
          <p:cNvPicPr/>
          <p:nvPr/>
        </p:nvPicPr>
        <p:blipFill>
          <a:blip r:embed="rId2"/>
          <a:stretch/>
        </p:blipFill>
        <p:spPr>
          <a:xfrm>
            <a:off x="433440" y="3279600"/>
            <a:ext cx="3790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loga vanjskih agenci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57" name="Content Placeholder 3" descr=""/>
          <p:cNvPicPr/>
          <p:nvPr/>
        </p:nvPicPr>
        <p:blipFill>
          <a:blip r:embed="rId1"/>
          <a:stretch/>
        </p:blipFill>
        <p:spPr>
          <a:xfrm>
            <a:off x="853920" y="1444680"/>
            <a:ext cx="78692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Verdana"/>
              </a:rPr>
              <a:t>Okosnica nacionalne mreže za osiguranje kvalitete visokog obrazovanj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3059280" y="1676520"/>
            <a:ext cx="2655720" cy="46479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276720" y="1755720"/>
            <a:ext cx="236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gencija za visoko obrazova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419640" y="5168880"/>
            <a:ext cx="22190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Jedinice za osiguranje kvalitete u sastavnicama sveučiliš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276720" y="3357720"/>
            <a:ext cx="22906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veučilišni centri za osiguranje kvalit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AutoShape 7"/>
          <p:cNvSpPr/>
          <p:nvPr/>
        </p:nvSpPr>
        <p:spPr>
          <a:xfrm rot="16200000">
            <a:off x="3987720" y="4444920"/>
            <a:ext cx="838080" cy="533160"/>
          </a:xfrm>
          <a:prstGeom prst="leftRightArrow">
            <a:avLst>
              <a:gd name="adj1" fmla="val 50000"/>
              <a:gd name="adj2" fmla="val 31292"/>
            </a:avLst>
          </a:prstGeom>
          <a:solidFill>
            <a:srgbClr val="ffff00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AutoShape 8"/>
          <p:cNvSpPr/>
          <p:nvPr/>
        </p:nvSpPr>
        <p:spPr>
          <a:xfrm rot="16200000">
            <a:off x="3987720" y="2573280"/>
            <a:ext cx="838080" cy="533160"/>
          </a:xfrm>
          <a:prstGeom prst="leftRightArrow">
            <a:avLst>
              <a:gd name="adj1" fmla="val 50000"/>
              <a:gd name="adj2" fmla="val 31292"/>
            </a:avLst>
          </a:prstGeom>
          <a:solidFill>
            <a:srgbClr val="ffff00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9"/>
          <p:cNvGrpSpPr/>
          <p:nvPr/>
        </p:nvGrpSpPr>
        <p:grpSpPr>
          <a:xfrm>
            <a:off x="425520" y="1484280"/>
            <a:ext cx="8321760" cy="5133600"/>
            <a:chOff x="425520" y="1484280"/>
            <a:chExt cx="8321760" cy="5133600"/>
          </a:xfrm>
        </p:grpSpPr>
        <p:sp>
          <p:nvSpPr>
            <p:cNvPr id="466" name="Rectangle 10"/>
            <p:cNvSpPr/>
            <p:nvPr/>
          </p:nvSpPr>
          <p:spPr>
            <a:xfrm>
              <a:off x="426960" y="1484280"/>
              <a:ext cx="7037640" cy="132480"/>
            </a:xfrm>
            <a:prstGeom prst="rect">
              <a:avLst/>
            </a:prstGeom>
            <a:gradFill rotWithShape="0">
              <a:gsLst>
                <a:gs pos="0">
                  <a:srgbClr val="edecf2"/>
                </a:gs>
                <a:gs pos="100000">
                  <a:srgbClr val="4c48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AutoShape 11"/>
            <p:cNvSpPr/>
            <p:nvPr/>
          </p:nvSpPr>
          <p:spPr>
            <a:xfrm>
              <a:off x="425520" y="6503400"/>
              <a:ext cx="8321760" cy="11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cf2"/>
                </a:gs>
                <a:gs pos="100000">
                  <a:srgbClr val="4c48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TextBox 11"/>
          <p:cNvSpPr/>
          <p:nvPr/>
        </p:nvSpPr>
        <p:spPr>
          <a:xfrm>
            <a:off x="6012000" y="2708280"/>
            <a:ext cx="2881080" cy="1465560"/>
          </a:xfrm>
          <a:prstGeom prst="rect">
            <a:avLst/>
          </a:prstGeom>
          <a:solidFill>
            <a:srgbClr val="558ed5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ajedničkim djelovanj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vedenih  ustrojbenih jedinica  stvorena je suradnička mrež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a osiguranje kvalit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Specifičnosti sustava za kvalitetu kroz obrazovnu vertikalu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887640" cy="761760"/>
          </a:xfrm>
          <a:prstGeom prst="rect">
            <a:avLst/>
          </a:prstGeom>
          <a:noFill/>
          <a:ln cap="sq" w="12600">
            <a:solidFill>
              <a:srgbClr val="4f81bd"/>
            </a:solidFill>
            <a:miter/>
          </a:ln>
        </p:spPr>
        <p:txBody>
          <a:bodyPr anchor="b">
            <a:normAutofit fontScale="63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Predškolske ustanove, osnovne i srednje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03640" y="1773360"/>
            <a:ext cx="3733920" cy="761760"/>
          </a:xfrm>
          <a:prstGeom prst="rect">
            <a:avLst/>
          </a:prstGeom>
          <a:noFill/>
          <a:ln cap="sq" w="12600">
            <a:solidFill>
              <a:srgbClr val="4f81bd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f81bd"/>
                </a:solidFill>
                <a:latin typeface="Calibri"/>
              </a:rPr>
              <a:t>Institucije visokog obraz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4360" y="2565000"/>
            <a:ext cx="3892320" cy="3886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samovredn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suradnik mreže/ kritički prijatel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vanjsko vrednovanje (nacionalni ispit, državna matu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003640" y="2565000"/>
            <a:ext cx="3733920" cy="3886200"/>
          </a:xfrm>
          <a:prstGeom prst="rect">
            <a:avLst/>
          </a:prstGeom>
          <a:solidFill>
            <a:srgbClr val="558ed5">
              <a:alpha val="98000"/>
            </a:srgbClr>
          </a:solidFill>
          <a:ln w="0">
            <a:noFill/>
          </a:ln>
        </p:spPr>
        <p:txBody>
          <a:bodyPr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evaluacije nastav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vanjski audit- provjera sus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autonomija u postupcima osiguranja kvalit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sporedba sustav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konska regulativa: osiguranje kvalitete implementirano u dokumentima, pravilni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olja razrađenost procesa samovrednovanja na razini predškolskog, osnovnoškolskog i srednjoškolskog sus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efinirana procedura, uloge, kriterij izbor t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ces samovrednovanja prilagođava se potrebama i specifičnostima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Samostalna procjena prioritetnih podru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Samostalni odabir koraka i načina 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utonomij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stitucije visokog obrazovanja samostalno definiraju metodologiju praćenja različitih aspekata kvalit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Održivost sustava za kvalitet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omoviranje osiguranja kvalitete ne bi trebalo shvatiti samo kao formalnu obavez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pisi i procedure  su potrebna i korisna potpora i sredstvo za ostvarivanje ciljeva u procesu osiguranja kvalitete,  nisu sami sebi cilj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Jasno postavljena i razrađena procedura je poželj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više obvezujuća/doživljaj nametnutosti rezultira primjenom samo radi udovoljavanja for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ma osjećaja autonomije u provedbi i cil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egativnosti kontrole kvalitete  -  preveliko birokratizira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Kultura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4360" y="1447920"/>
            <a:ext cx="403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mjesto kontrole kvalite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imjena sustava osiguravanja kvalitete u svakodnevnom rad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ontinuirana briga o kvaliteti, neovisno o rezultatima periodičke evalu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širenje kulture kvalitete putem stalne rasprave o kvalite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787640" y="1484280"/>
            <a:ext cx="389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Ideja kvalitete kao 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</a:rPr>
              <a:t>zajedničke vrijednosti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</a:rPr>
              <a:t>zajedničke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svih uključeni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sklađenost kulture  kvalitete s vizijom institucij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stvo institucije usmjerava razv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oaktivno djelova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C:\Documents and Settings\Soba 15\Local Settings\Temporary Internet Files\Content.IE5\3SXARQUD\MC900445508[1].wmf"/>
          <p:cNvPicPr/>
          <p:nvPr/>
        </p:nvPicPr>
        <p:blipFill>
          <a:blip r:embed="rId1"/>
          <a:stretch/>
        </p:blipFill>
        <p:spPr>
          <a:xfrm>
            <a:off x="7524720" y="333360"/>
            <a:ext cx="10209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280" y="556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Calibri"/>
              </a:rPr>
              <a:t>Osnovni  pokazatelji za razvoj kulture kvalitete:</a:t>
            </a:r>
            <a:br>
              <a:rPr sz="2800"/>
            </a:br>
            <a:r>
              <a:rPr b="0" lang="hr-HR" sz="1800" spc="-1" strike="noStrike">
                <a:solidFill>
                  <a:srgbClr val="1f497d"/>
                </a:solidFill>
                <a:latin typeface="Calibri"/>
              </a:rPr>
              <a:t>(Lee Harvey 2008.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Akademska angažira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epoznavanje potreba OK (ne samo birokratski pristu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Fokusiranje na promjenu ponašanja, a ne samo izgradnja mehanizama sustava za osiguravanje kvalite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Dijete/ učenik/ student u centru zbi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Fokusiranje na timski i društveno korisni r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tvorenost za vanjska vredno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ontinuirane provedbe samoanaliz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omicanje inicijativa za poboljš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Uravnotežiti osiguravanje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85" name="Content Placeholder 3" descr=""/>
          <p:cNvPicPr/>
          <p:nvPr/>
        </p:nvPicPr>
        <p:blipFill>
          <a:blip r:embed="rId1"/>
          <a:stretch/>
        </p:blipFill>
        <p:spPr>
          <a:xfrm>
            <a:off x="907920" y="1438200"/>
            <a:ext cx="5035680" cy="4597560"/>
          </a:xfrm>
          <a:prstGeom prst="rect">
            <a:avLst/>
          </a:prstGeom>
          <a:ln w="0">
            <a:noFill/>
          </a:ln>
        </p:spPr>
      </p:pic>
      <p:sp>
        <p:nvSpPr>
          <p:cNvPr id="486" name="TextBox 7"/>
          <p:cNvSpPr/>
          <p:nvPr/>
        </p:nvSpPr>
        <p:spPr>
          <a:xfrm>
            <a:off x="6084720" y="1628640"/>
            <a:ext cx="259092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 porastom učinkovitosti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oguća je veća fleksibilnost i man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visnost o jednoznačnim standardi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Održivost sustava za kvalitet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88" name="Content Placeholder 4" descr=""/>
          <p:cNvPicPr/>
          <p:nvPr/>
        </p:nvPicPr>
        <p:blipFill>
          <a:blip r:embed="rId1"/>
          <a:stretch/>
        </p:blipFill>
        <p:spPr>
          <a:xfrm>
            <a:off x="603360" y="1395360"/>
            <a:ext cx="79437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Polazišta u osiguravanju kvalitete obrazovanj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Zakonski okv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mjernice za unaprjeđenje odgojno obrazovne politi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treba za sustavnim pristupom unaprjeđivanja kvalitete na svim odgojno obrazovnim raz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svješćivanje standarda kvalitete svih ključnih dioni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Zaštitna funkcija osiguranja kvalitete prema korisnicim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3178080" y="1187280"/>
            <a:ext cx="3056040" cy="42087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3783240" y="5465880"/>
            <a:ext cx="1591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 u="sng">
                <a:solidFill>
                  <a:srgbClr val="000000"/>
                </a:solidFill>
                <a:uFillTx/>
                <a:latin typeface="Calibri"/>
              </a:rPr>
              <a:t>www.politicalsavvy.com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992160" y="1357200"/>
            <a:ext cx="6892920" cy="4713480"/>
          </a:xfrm>
          <a:prstGeom prst="rect">
            <a:avLst/>
          </a:prstGeom>
          <a:ln w="0">
            <a:noFill/>
          </a:ln>
        </p:spPr>
      </p:pic>
      <p:sp>
        <p:nvSpPr>
          <p:cNvPr id="492" name="TextBox 2"/>
          <p:cNvSpPr/>
          <p:nvPr/>
        </p:nvSpPr>
        <p:spPr>
          <a:xfrm>
            <a:off x="4800600" y="616572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ema Bezinović, 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f497d"/>
                </a:solidFill>
                <a:latin typeface="Calibri"/>
              </a:rPr>
              <a:t>Faze prihvaćanja promjene, </a:t>
            </a:r>
            <a:br>
              <a:rPr sz="3600"/>
            </a:br>
            <a:r>
              <a:rPr b="0" lang="hr-HR" sz="1800" spc="-1" strike="noStrike">
                <a:solidFill>
                  <a:srgbClr val="1f497d"/>
                </a:solidFill>
                <a:latin typeface="Calibri"/>
              </a:rPr>
              <a:t>Tromp i Ruben, 2004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Dinamika sustava osiguranja kvalitet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95" name="Content Placeholder 2" descr=""/>
          <p:cNvPicPr/>
          <p:nvPr/>
        </p:nvPicPr>
        <p:blipFill>
          <a:blip r:embed="rId1"/>
          <a:stretch/>
        </p:blipFill>
        <p:spPr>
          <a:xfrm>
            <a:off x="878040" y="1444680"/>
            <a:ext cx="7821360" cy="4584600"/>
          </a:xfrm>
          <a:prstGeom prst="rect">
            <a:avLst/>
          </a:prstGeom>
          <a:ln w="0">
            <a:noFill/>
          </a:ln>
        </p:spPr>
      </p:pic>
      <p:pic>
        <p:nvPicPr>
          <p:cNvPr id="496" name="Diagram 1" descr=""/>
          <p:cNvPicPr/>
          <p:nvPr/>
        </p:nvPicPr>
        <p:blipFill>
          <a:blip r:embed="rId2"/>
          <a:stretch/>
        </p:blipFill>
        <p:spPr>
          <a:xfrm>
            <a:off x="5072040" y="4791240"/>
            <a:ext cx="33228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ZAKLJUČAK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98" name="Content Placeholder 1" descr=""/>
          <p:cNvPicPr/>
          <p:nvPr/>
        </p:nvPicPr>
        <p:blipFill>
          <a:blip r:embed="rId1"/>
          <a:stretch/>
        </p:blipFill>
        <p:spPr>
          <a:xfrm>
            <a:off x="865080" y="1444680"/>
            <a:ext cx="78343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71640" y="364464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HVALA NA PAŽNJI!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3708360" y="765000"/>
            <a:ext cx="1898640" cy="18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Društvo znanja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31000" indent="-2214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veobuhvatnost osnovnog obraz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000" indent="-2214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isoki i ujednačeni  obrazovni standar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000" indent="-2214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ključenost većeg broja djece predškolskim obrazova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000" indent="-2214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tvaranje uvjeta da visoko obrazovanje bude jednako dostupno svima i da bude kvalitetno ostvare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Podizanje kvalitete tercijarnog, visokoškolskog, obrazovanja jedna je od važnih zadaća, a to se ne može postići bez kvalitetnih promjena na prethodnim razinama obrazovanja - predškolskom, osnovnoškolskom i srednjoškolskom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”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Jovanović, 2013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Polazišta u osiguravanju kvalitete obrazovan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f497d"/>
                </a:solidFill>
                <a:latin typeface="Calibri"/>
              </a:rPr>
              <a:t>Pojam kvalitete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53:38Z</dcterms:created>
  <dc:creator>Marko Malikovic</dc:creator>
  <dc:description/>
  <dc:language>en-US</dc:language>
  <cp:lastModifiedBy> </cp:lastModifiedBy>
  <cp:lastPrinted>2013-04-08T17:00:59Z</cp:lastPrinted>
  <dcterms:modified xsi:type="dcterms:W3CDTF">2013-04-09T08:16:19Z</dcterms:modified>
  <cp:revision>151</cp:revision>
  <dc:subject/>
  <dc:title>PowerPoint Presentation</dc:title>
</cp:coreProperties>
</file>