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2494-4A42-48C4-A9AF-558C6316B1F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F4B-B572-455B-9FF4-4BAEC28635E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045-4C2E-4E75-B027-44AD35075C5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36D-EE25-4691-832C-F4CFD9A97D5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ED1-216D-407D-9AD3-768185E4CDA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8D67-C5E8-41AE-B225-0E6367BC673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F0F-F84E-4E3E-A265-22F70BEED2F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BBD-ADA4-4B70-9690-50169ECA2D7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E7DE-05BA-4097-AB14-9D9B1D1F5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65A0-0A29-4A37-B382-6C7B1F000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E103-357B-4E29-801E-DA9EF3797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9CEC-295B-4CEF-9D17-4E33355A4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040F-F60B-455B-B49D-6E6B61272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7B2D-BFC8-4B9C-9908-04A1AF1AE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D3EA-EF43-4B9B-A834-FF9127B86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CBF1-A7EB-4E25-BF9F-1FC8D5799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0BDB-E8D5-41F0-B043-3683D605C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CB51-4615-406C-A9EC-CBFA9FEFE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F1A5-26ED-4BEF-9FEA-906A1B0C3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6FA1-4548-46E0-B2DA-C266D7228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6733-4BBC-4BF1-B3E2-893A524CA1B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69236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333399"/>
                </a:solidFill>
                <a:latin typeface="Arial"/>
              </a:rPr>
              <a:t>Ankica Nježić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Naslov 1" descr=""/>
          <p:cNvPicPr/>
          <p:nvPr/>
        </p:nvPicPr>
        <p:blipFill>
          <a:blip r:embed="rId1"/>
          <a:stretch/>
        </p:blipFill>
        <p:spPr>
          <a:xfrm>
            <a:off x="324000" y="2170080"/>
            <a:ext cx="86976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6160" y="1881000"/>
            <a:ext cx="8139240" cy="38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nastavnicima i ostalim djelatnicima u školama potrebno je osigurati pot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onošenjem Pravilnika o lic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ogrami kontinuiranoga stručnog usavršavanja koje se temelji na razvojnim potrebama šk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11. 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veći broj djece u škol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 sport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 sekci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uvođenj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ojek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  „Juda u škole“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12.  odgovornost snose i mediji koji načinom izvještavanja pojačavaju dojam o „nerješivom“ problemu vršnjačkog i drugih oblika nasil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37D-F806-49B6-AF30-C70741B4E0D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Naslov 8" descr=""/>
          <p:cNvPicPr/>
          <p:nvPr/>
        </p:nvPicPr>
        <p:blipFill>
          <a:blip r:embed="rId1"/>
          <a:stretch/>
        </p:blipFill>
        <p:spPr>
          <a:xfrm>
            <a:off x="212760" y="69516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Naslov 8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2659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058480"/>
            <a:ext cx="434664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  <a:ea typeface="Adobe Kaiti Std R"/>
              </a:rPr>
              <a:t>na temelju članka 70. </a:t>
            </a:r>
            <a:r>
              <a:rPr b="0" i="1" lang="hr-HR" sz="2000" spc="-1" strike="noStrike">
                <a:solidFill>
                  <a:srgbClr val="000000"/>
                </a:solidFill>
                <a:latin typeface="Tw Cen MT"/>
                <a:ea typeface="Adobe Kaiti Std R"/>
              </a:rPr>
              <a:t>Zakona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  <a:ea typeface="Adobe Kaiti Std R"/>
              </a:rPr>
              <a:t>(</a:t>
            </a:r>
            <a:r>
              <a:rPr b="0" i="1" lang="hr-HR" sz="2000" spc="-1" strike="noStrike">
                <a:solidFill>
                  <a:srgbClr val="000000"/>
                </a:solidFill>
                <a:latin typeface="Tw Cen MT"/>
                <a:ea typeface="Adobe Kaiti Std R"/>
              </a:rPr>
              <a:t>Narodne novine, broj 87/2008., 86/2009., 92/2010., 105/2010.-ispr., 90/2011., 5/2012., 16/2012. i. 86/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8120" y="4146120"/>
            <a:ext cx="42498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w Cen MT"/>
              </a:rPr>
              <a:t>propisuje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e </a:t>
            </a:r>
            <a:r>
              <a:rPr b="0" i="1" lang="hr-HR" sz="2000" spc="-1" strike="noStrike">
                <a:solidFill>
                  <a:srgbClr val="000000"/>
                </a:solidFill>
                <a:latin typeface="Tw Cen MT"/>
              </a:rPr>
              <a:t>način postupanj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svih radnika škole, a posebno učitelja, nastavnika, odgajatelja, stručnih suradnika  i ravnatelja </a:t>
            </a:r>
            <a:r>
              <a:rPr b="0" i="1" lang="hr-HR" sz="2000" spc="-1" strike="noStrike">
                <a:solidFill>
                  <a:srgbClr val="000000"/>
                </a:solidFill>
                <a:latin typeface="Tw Cen MT"/>
              </a:rPr>
              <a:t>u poduzimanju mjera zaštite prava učenika te obveze prijave svakog kršenja tih prava nadležnim tije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80A-1506-46E1-AD5A-FF58CC1BE64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Naslov 1" descr=""/>
          <p:cNvPicPr/>
          <p:nvPr/>
        </p:nvPicPr>
        <p:blipFill>
          <a:blip r:embed="rId1"/>
          <a:stretch/>
        </p:blipFill>
        <p:spPr>
          <a:xfrm>
            <a:off x="701640" y="689040"/>
            <a:ext cx="8313840" cy="1463760"/>
          </a:xfrm>
          <a:prstGeom prst="rect">
            <a:avLst/>
          </a:prstGeom>
          <a:ln w="0">
            <a:noFill/>
          </a:ln>
        </p:spPr>
      </p:pic>
      <p:pic>
        <p:nvPicPr>
          <p:cNvPr id="95" name="Slika 10" descr="zakon -slika.TIF"/>
          <p:cNvPicPr/>
          <p:nvPr/>
        </p:nvPicPr>
        <p:blipFill>
          <a:blip r:embed="rId2"/>
          <a:stretch/>
        </p:blipFill>
        <p:spPr>
          <a:xfrm>
            <a:off x="5246640" y="2035080"/>
            <a:ext cx="3164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0F5D-B6D2-48DE-9424-54F03460092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98" name="TekstniOkvir 6"/>
          <p:cNvSpPr/>
          <p:nvPr/>
        </p:nvSpPr>
        <p:spPr>
          <a:xfrm>
            <a:off x="317160" y="773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ahoma"/>
              </a:rPr>
              <a:t>Čl. 61. Zako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zervirano mjesto sadržaja 2"/>
          <p:cNvSpPr/>
          <p:nvPr/>
        </p:nvSpPr>
        <p:spPr>
          <a:xfrm>
            <a:off x="266760" y="1152360"/>
            <a:ext cx="444636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obaviještenost o svim pitanjima koja se na njega odno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savjet i pomoć u rješavanju problema, a sukladno njegovom najboljem interesu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uvažavanje njegovog mišljenj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pomoć drugih učenika školske ustanov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pritužbu koju može predati učiteljima, odnosno nastavnicima, ravnatelju i školskom odboru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sudjelovanje u radu vijeća učenika te u izradi i provedbi kućnog red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 na predlaganje poboljšanja odgojno-obrazovnog procesa i 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Slika 7" descr="gimnazija3.jpg"/>
          <p:cNvPicPr/>
          <p:nvPr/>
        </p:nvPicPr>
        <p:blipFill>
          <a:blip r:embed="rId2"/>
          <a:srcRect l="27697" t="0" r="0" b="0"/>
          <a:stretch/>
        </p:blipFill>
        <p:spPr>
          <a:xfrm>
            <a:off x="5145120" y="1181160"/>
            <a:ext cx="3166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96E-1DBB-438C-B917-6BF205B047D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Naslov 8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229600" cy="828360"/>
          </a:xfrm>
          <a:prstGeom prst="rect">
            <a:avLst/>
          </a:prstGeom>
          <a:ln w="0">
            <a:noFill/>
          </a:ln>
        </p:spPr>
      </p:pic>
      <p:pic>
        <p:nvPicPr>
          <p:cNvPr id="103" name="Naslov 8" descr=""/>
          <p:cNvPicPr/>
          <p:nvPr/>
        </p:nvPicPr>
        <p:blipFill>
          <a:blip r:embed="rId2"/>
          <a:stretch/>
        </p:blipFill>
        <p:spPr>
          <a:xfrm>
            <a:off x="390600" y="933480"/>
            <a:ext cx="8302680" cy="1108080"/>
          </a:xfrm>
          <a:prstGeom prst="rect">
            <a:avLst/>
          </a:prstGeom>
          <a:ln w="0">
            <a:noFill/>
          </a:ln>
        </p:spPr>
      </p:pic>
      <p:pic>
        <p:nvPicPr>
          <p:cNvPr id="104" name="Naslov 8" descr=""/>
          <p:cNvPicPr/>
          <p:nvPr/>
        </p:nvPicPr>
        <p:blipFill>
          <a:blip r:embed="rId3"/>
          <a:stretch/>
        </p:blipFill>
        <p:spPr>
          <a:xfrm>
            <a:off x="781200" y="1895400"/>
            <a:ext cx="7966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6AA-2B99-40F5-BBF0-5484108B7D8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07" name="TekstniOkvir 6"/>
          <p:cNvSpPr/>
          <p:nvPr/>
        </p:nvSpPr>
        <p:spPr>
          <a:xfrm>
            <a:off x="279360" y="153180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ahoma"/>
              </a:rPr>
              <a:t>čl. 61. Zakona  </a:t>
            </a:r>
            <a:r>
              <a:rPr b="1" lang="hr-HR" sz="1800" spc="-1" strike="noStrike">
                <a:solidFill>
                  <a:srgbClr val="c00000"/>
                </a:solidFill>
                <a:latin typeface="Arial"/>
                <a:ea typeface="Arial"/>
              </a:rPr>
              <a:t>→</a:t>
            </a: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   Pravilnik čl. 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zervirano mjesto sadržaja 2"/>
          <p:cNvSpPr/>
          <p:nvPr/>
        </p:nvSpPr>
        <p:spPr>
          <a:xfrm>
            <a:off x="351000" y="2104920"/>
            <a:ext cx="4133520" cy="40179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1" i="1" lang="hr-HR" sz="2400" spc="-1" strike="noStrike">
                <a:solidFill>
                  <a:srgbClr val="000000"/>
                </a:solidFill>
                <a:latin typeface="Tw Cen MT"/>
              </a:rPr>
              <a:t>ropisuje se način prijave kršenja pr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stavnik/razredni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tručni suradni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ravnatel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Slika 16" descr="143746-bullying-no-way.jpg"/>
          <p:cNvPicPr/>
          <p:nvPr/>
        </p:nvPicPr>
        <p:blipFill>
          <a:blip r:embed="rId2"/>
          <a:stretch/>
        </p:blipFill>
        <p:spPr>
          <a:xfrm>
            <a:off x="4572000" y="1685880"/>
            <a:ext cx="4365720" cy="4483080"/>
          </a:xfrm>
          <a:prstGeom prst="rect">
            <a:avLst/>
          </a:prstGeom>
          <a:ln w="0">
            <a:noFill/>
          </a:ln>
        </p:spPr>
      </p:pic>
      <p:sp>
        <p:nvSpPr>
          <p:cNvPr id="110" name="TekstniOkvir 17"/>
          <p:cNvSpPr/>
          <p:nvPr/>
        </p:nvSpPr>
        <p:spPr>
          <a:xfrm>
            <a:off x="5740200" y="19321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ahoma"/>
              </a:rPr>
              <a:t>Pomoć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niOkvir 18"/>
          <p:cNvSpPr/>
          <p:nvPr/>
        </p:nvSpPr>
        <p:spPr>
          <a:xfrm>
            <a:off x="6088320" y="5435640"/>
            <a:ext cx="81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Tahoma"/>
              </a:rPr>
              <a:t>UČENIK/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Tahoma"/>
              </a:rPr>
              <a:t>UČENIC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kstniOkvir 19"/>
          <p:cNvSpPr/>
          <p:nvPr/>
        </p:nvSpPr>
        <p:spPr>
          <a:xfrm>
            <a:off x="7241760" y="5214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NASTAVNIK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NASTAVNIC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kstniOkvir 20"/>
          <p:cNvSpPr/>
          <p:nvPr/>
        </p:nvSpPr>
        <p:spPr>
          <a:xfrm>
            <a:off x="5151240" y="4079880"/>
            <a:ext cx="86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STRUČNI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SURADNIK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000000"/>
                </a:solidFill>
                <a:latin typeface="Tahoma"/>
              </a:rPr>
              <a:t>SURADNIC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Strelica zakrivljena gore 22"/>
          <p:cNvGrpSpPr/>
          <p:nvPr/>
        </p:nvGrpSpPr>
        <p:grpSpPr>
          <a:xfrm>
            <a:off x="6784920" y="5467320"/>
            <a:ext cx="811440" cy="476280"/>
            <a:chOff x="6784920" y="5467320"/>
            <a:chExt cx="811440" cy="476280"/>
          </a:xfrm>
        </p:grpSpPr>
        <p:pic>
          <p:nvPicPr>
            <p:cNvPr id="115" name="Strelica zakrivljena gore 22" descr=""/>
            <p:cNvPicPr/>
            <p:nvPr/>
          </p:nvPicPr>
          <p:blipFill>
            <a:blip r:embed="rId3"/>
            <a:stretch/>
          </p:blipFill>
          <p:spPr>
            <a:xfrm>
              <a:off x="6784920" y="5467320"/>
              <a:ext cx="811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20623200">
              <a:off x="6860880" y="5574960"/>
              <a:ext cx="7095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Strelica zakrivljena ulijevo 24"/>
          <p:cNvSpPr/>
          <p:nvPr/>
        </p:nvSpPr>
        <p:spPr>
          <a:xfrm rot="9022200">
            <a:off x="5651280" y="4854600"/>
            <a:ext cx="228600" cy="938160"/>
          </a:xfrm>
          <a:custGeom>
            <a:avLst/>
            <a:gdLst>
              <a:gd name="textAreaLeft" fmla="*/ 30600 w 228600"/>
              <a:gd name="textAreaRight" fmla="*/ 198000 w 228600"/>
              <a:gd name="textAreaTop" fmla="*/ 213120 h 938160"/>
              <a:gd name="textAreaBottom" fmla="*/ 69660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14" stAng="-5400000" swAng="5400000"/>
                <a:lnTo>
                  <a:pt x="21600" y="11129"/>
                </a:lnTo>
                <a:arcTo wR="21600" hR="9814" stAng="0" swAng="3623404"/>
                <a:lnTo>
                  <a:pt x="5400" y="21288"/>
                </a:lnTo>
                <a:lnTo>
                  <a:pt x="0" y="20285"/>
                </a:lnTo>
                <a:lnTo>
                  <a:pt x="5400" y="18657"/>
                </a:lnTo>
                <a:lnTo>
                  <a:pt x="5400" y="19315"/>
                </a:lnTo>
                <a:arcTo wR="21600" hR="9814" stAng="3623404" swAng="-3518556"/>
                <a:lnTo>
                  <a:pt x="21551" y="10471"/>
                </a:lnTo>
                <a:arcTo wR="21600" hR="9814" stAng="-104848" swAng="-5295152"/>
                <a:close/>
              </a:path>
              <a:path fill="darkenLess" w="21600" h="21600">
                <a:moveTo>
                  <a:pt x="0" y="0"/>
                </a:moveTo>
                <a:arcTo wR="21600" hR="9814" stAng="-5400000" swAng="5400000"/>
                <a:lnTo>
                  <a:pt x="21600" y="11129"/>
                </a:lnTo>
                <a:arcTo wR="21600" hR="9814" stAng="0" swAng="-104848"/>
                <a:lnTo>
                  <a:pt x="21551" y="10471"/>
                </a:lnTo>
                <a:arcTo wR="21600" hR="9814" stAng="-104848" swAng="-5295152"/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Strelica zakrivljena dolje 25"/>
          <p:cNvGrpSpPr/>
          <p:nvPr/>
        </p:nvGrpSpPr>
        <p:grpSpPr>
          <a:xfrm>
            <a:off x="5907240" y="2792520"/>
            <a:ext cx="1804680" cy="322200"/>
            <a:chOff x="5907240" y="2792520"/>
            <a:chExt cx="1804680" cy="322200"/>
          </a:xfrm>
        </p:grpSpPr>
        <p:pic>
          <p:nvPicPr>
            <p:cNvPr id="119" name="Strelica zakrivljena dolje 25" descr=""/>
            <p:cNvPicPr/>
            <p:nvPr/>
          </p:nvPicPr>
          <p:blipFill>
            <a:blip r:embed="rId4"/>
            <a:stretch/>
          </p:blipFill>
          <p:spPr>
            <a:xfrm>
              <a:off x="5907240" y="2792520"/>
              <a:ext cx="1804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959440" y="2819520"/>
              <a:ext cx="17208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1" name="Slika 26" descr="3237551-business-man-standing-illustration-silhouette-isolated-over-a-white-background.jpg"/>
          <p:cNvPicPr/>
          <p:nvPr/>
        </p:nvPicPr>
        <p:blipFill>
          <a:blip r:embed="rId5"/>
          <a:stretch/>
        </p:blipFill>
        <p:spPr>
          <a:xfrm>
            <a:off x="3516480" y="2475000"/>
            <a:ext cx="2420640" cy="3790800"/>
          </a:xfrm>
          <a:prstGeom prst="rect">
            <a:avLst/>
          </a:prstGeom>
          <a:ln w="0">
            <a:noFill/>
          </a:ln>
        </p:spPr>
      </p:pic>
      <p:sp>
        <p:nvSpPr>
          <p:cNvPr id="122" name="Strelica zakrivljena ulijevo 28"/>
          <p:cNvSpPr/>
          <p:nvPr/>
        </p:nvSpPr>
        <p:spPr>
          <a:xfrm rot="6676800">
            <a:off x="5319360" y="4946400"/>
            <a:ext cx="243000" cy="1252440"/>
          </a:xfrm>
          <a:custGeom>
            <a:avLst/>
            <a:gdLst>
              <a:gd name="textAreaLeft" fmla="*/ 32400 w 243000"/>
              <a:gd name="textAreaRight" fmla="*/ 210600 w 243000"/>
              <a:gd name="textAreaTop" fmla="*/ 290160 h 1252440"/>
              <a:gd name="textAreaBottom" fmla="*/ 93204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15" stAng="-5400000" swAng="5400000"/>
                <a:lnTo>
                  <a:pt x="21600" y="11063"/>
                </a:lnTo>
                <a:arcTo wR="21600" hR="10015" stAng="0" swAng="3653188"/>
                <a:lnTo>
                  <a:pt x="5400" y="21282"/>
                </a:lnTo>
                <a:lnTo>
                  <a:pt x="0" y="20553"/>
                </a:lnTo>
                <a:lnTo>
                  <a:pt x="5400" y="19188"/>
                </a:lnTo>
                <a:lnTo>
                  <a:pt x="5400" y="19711"/>
                </a:lnTo>
                <a:arcTo wR="21600" hR="10015" stAng="3653188" swAng="-3569693"/>
                <a:lnTo>
                  <a:pt x="21570" y="10539"/>
                </a:lnTo>
                <a:arcTo wR="21600" hR="10015" stAng="-83495" swAng="-5316505"/>
                <a:close/>
              </a:path>
              <a:path fill="darkenLess" w="21600" h="21600">
                <a:moveTo>
                  <a:pt x="0" y="0"/>
                </a:moveTo>
                <a:arcTo wR="21600" hR="10015" stAng="-5400000" swAng="5400000"/>
                <a:lnTo>
                  <a:pt x="21600" y="11063"/>
                </a:lnTo>
                <a:arcTo wR="21600" hR="10015" stAng="0" swAng="-83495"/>
                <a:lnTo>
                  <a:pt x="21570" y="10539"/>
                </a:lnTo>
                <a:arcTo wR="21600" hR="10015" stAng="-83495" swAng="-5316505"/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trelica zakrivljena gore 29"/>
          <p:cNvSpPr/>
          <p:nvPr/>
        </p:nvSpPr>
        <p:spPr>
          <a:xfrm rot="12229200">
            <a:off x="4774680" y="2897280"/>
            <a:ext cx="700200" cy="108000"/>
          </a:xfrm>
          <a:custGeom>
            <a:avLst/>
            <a:gdLst>
              <a:gd name="textAreaLeft" fmla="*/ 164880 w 700200"/>
              <a:gd name="textAreaRight" fmla="*/ 522000 w 700200"/>
              <a:gd name="textAreaTop" fmla="*/ 14400 h 108000"/>
              <a:gd name="textAreaBottom" fmla="*/ 9360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76" hR="21600" stAng="10800000" swAng="-5400000"/>
                <a:lnTo>
                  <a:pt x="11009" y="21600"/>
                </a:lnTo>
                <a:arcTo wR="10176" hR="21600" stAng="5400000" swAng="-3676396"/>
                <a:lnTo>
                  <a:pt x="21277" y="5400"/>
                </a:lnTo>
                <a:lnTo>
                  <a:pt x="20768" y="0"/>
                </a:lnTo>
                <a:lnTo>
                  <a:pt x="19612" y="5400"/>
                </a:lnTo>
                <a:lnTo>
                  <a:pt x="20028" y="5400"/>
                </a:lnTo>
                <a:arcTo wR="10176" hR="21600" stAng="1723604" swAng="3610061"/>
                <a:lnTo>
                  <a:pt x="10592" y="21582"/>
                </a:lnTo>
                <a:arcTo wR="10176" hR="21600" stAng="5466335" swAng="5333665"/>
                <a:close/>
              </a:path>
              <a:path fill="darkenLess" w="21600" h="21600">
                <a:moveTo>
                  <a:pt x="0" y="0"/>
                </a:moveTo>
                <a:arcTo wR="10176" hR="21600" stAng="10800000" swAng="-5400000"/>
                <a:lnTo>
                  <a:pt x="11009" y="21600"/>
                </a:lnTo>
                <a:arcTo wR="10176" hR="21600" stAng="5400000" swAng="66335"/>
                <a:lnTo>
                  <a:pt x="10592" y="21582"/>
                </a:lnTo>
                <a:arcTo wR="10176" hR="21600" stAng="5466335" swAng="5333665"/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18680" y="1091880"/>
            <a:ext cx="46767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jelesno i emocionalno nasil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polne zlouporab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nemarivan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hajnog postupan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lostavljanja ili izrabljivanja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3274-6D9F-4B0D-8D7C-69E5960472F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27" name="TekstniOkvir 6"/>
          <p:cNvSpPr/>
          <p:nvPr/>
        </p:nvSpPr>
        <p:spPr>
          <a:xfrm>
            <a:off x="465480" y="730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ahoma"/>
              </a:rPr>
              <a:t>Čl. 70. Zako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zervirano mjesto sadržaja 2"/>
          <p:cNvSpPr/>
          <p:nvPr/>
        </p:nvSpPr>
        <p:spPr>
          <a:xfrm>
            <a:off x="403200" y="3664080"/>
            <a:ext cx="8474040" cy="29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prječavanje nasil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java kršenja prava učenika stručnim tijelima školske ustanove i nadležnim tijelima izvan školske ustan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tupanje stručnih tijela školske ustanove prema žrtvama i kršiteljima prava učen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Tw Cen MT"/>
              </a:rPr>
              <a:t>↓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tupanje školske ustanove u suradnji s nadležnim  tijelima izvan školske ustanove prema žrtvama nasilja i kršiteljima prava učen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kstniOkvir 8"/>
          <p:cNvSpPr/>
          <p:nvPr/>
        </p:nvSpPr>
        <p:spPr>
          <a:xfrm>
            <a:off x="896760" y="3057480"/>
            <a:ext cx="45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Pravilnik  - Mjere zaštite – čl. 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Slika 21" descr="bullying.jpg"/>
          <p:cNvPicPr/>
          <p:nvPr/>
        </p:nvPicPr>
        <p:blipFill>
          <a:blip r:embed="rId2"/>
          <a:stretch/>
        </p:blipFill>
        <p:spPr>
          <a:xfrm>
            <a:off x="5788080" y="885960"/>
            <a:ext cx="29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534-F402-44CC-8B16-4858743BCED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33" name="TekstniOkvir 6"/>
          <p:cNvSpPr/>
          <p:nvPr/>
        </p:nvSpPr>
        <p:spPr>
          <a:xfrm>
            <a:off x="427680" y="8874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ahoma"/>
              </a:rPr>
              <a:t>Čl. 70. Zakona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zervirano mjesto sadržaja 2"/>
          <p:cNvSpPr/>
          <p:nvPr/>
        </p:nvSpPr>
        <p:spPr>
          <a:xfrm>
            <a:off x="192240" y="1751040"/>
            <a:ext cx="4228920" cy="478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zaštitu prava osiguravaju odgojno-obrazovni radnici školske ustanove u suradnji s nadležnim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institucijama i tijeli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odmah poduzeti sve mjere da se zaustavi i prekine aktualno nasilno postupanje prema učeniku, a u slučaju potrebe pozvati djelatnika policij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užiti liječničku pomoć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ozvati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roditelje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policiju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razgovor s žrtvom i počiniteljem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centar za socijalnu skrb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vladanje ne može biti primj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kstniOkvir 8"/>
          <p:cNvSpPr/>
          <p:nvPr/>
        </p:nvSpPr>
        <p:spPr>
          <a:xfrm>
            <a:off x="2703240" y="896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Pravilnik čl. 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kstniOkvir 9"/>
          <p:cNvSpPr/>
          <p:nvPr/>
        </p:nvSpPr>
        <p:spPr>
          <a:xfrm>
            <a:off x="4886280" y="95256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dopu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zervirano mjesto sadržaja 2"/>
          <p:cNvSpPr/>
          <p:nvPr/>
        </p:nvSpPr>
        <p:spPr>
          <a:xfrm>
            <a:off x="4483080" y="1909800"/>
            <a:ext cx="4229280" cy="46101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čl. 3. U slučaju povreda ili ozbiljnih psiholoških stanja koja ugrožavaju ili mogu ugroziti  život i zdravlje učenika, te da u slučaju kršenja prava učenika s teškoćama školske ustanove dužne su obavijesti i odgovarajuću zdravstvenu ustanov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čl. 4. Nadležna tijela i ustanove dužne su izvijestiti školsku  ustanovu o poduzetim mjera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čl. 5. U slučaju da nadležna tijela i institucije ustanovila kršenje  prava učenika, dogovorit će s ravnateljem  zajedničke aktivnosti  koje će se ostvarivati u školi, a vezano uz zaštiti prava učenik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trelica udesno 11"/>
          <p:cNvSpPr/>
          <p:nvPr/>
        </p:nvSpPr>
        <p:spPr>
          <a:xfrm>
            <a:off x="4194000" y="2792520"/>
            <a:ext cx="476280" cy="586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b4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C835-4E94-4A5B-94E0-504B717B47B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kstniOkvir 7"/>
          <p:cNvSpPr/>
          <p:nvPr/>
        </p:nvSpPr>
        <p:spPr>
          <a:xfrm>
            <a:off x="511920" y="92556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NACRT PRAVIL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Čl. 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grpSp>
        <p:nvGrpSpPr>
          <p:cNvPr id="142" name="Rezervirano mjesto sadržaja 2"/>
          <p:cNvGrpSpPr/>
          <p:nvPr/>
        </p:nvGrpSpPr>
        <p:grpSpPr>
          <a:xfrm>
            <a:off x="3602160" y="1463760"/>
            <a:ext cx="5419440" cy="5533920"/>
            <a:chOff x="3602160" y="1463760"/>
            <a:chExt cx="5419440" cy="5533920"/>
          </a:xfrm>
        </p:grpSpPr>
        <p:pic>
          <p:nvPicPr>
            <p:cNvPr id="143" name="Rezervirano mjesto sadržaja 2" descr=""/>
            <p:cNvPicPr/>
            <p:nvPr/>
          </p:nvPicPr>
          <p:blipFill>
            <a:blip r:embed="rId2"/>
            <a:stretch/>
          </p:blipFill>
          <p:spPr>
            <a:xfrm>
              <a:off x="3602160" y="1463760"/>
              <a:ext cx="541944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699000" y="1527120"/>
              <a:ext cx="5194080" cy="52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c00000"/>
                  </a:solidFill>
                  <a:latin typeface="Tw Cen MT"/>
                </a:rPr>
                <a:t>predlaže se da samo odgojno-obrazovni radnici trebaju poduzeti mjer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c00000"/>
                  </a:solidFill>
                  <a:latin typeface="Tw Cen MT"/>
                </a:rPr>
                <a:t>↓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Tw Cen MT"/>
                </a:rPr>
                <a:t>Je li prijedlog opravdan?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Može li domar, tajnik ili spremačica samo promatrati nasilje, a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učenici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koji su promatrali nasilje u jednoj srednjoj školi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osuđeni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 su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w Cen MT"/>
                </a:rPr>
                <a:t>PREDLAŽE SE NOVI STAVAK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w Cen MT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U slučajevima nasilnog postupanja od strane odgojno-obrazovnih radnika ili drugih radnika školske ustanove ili drugih odraslih osoba (npr. roditelja učenika prema drugom učeniku) svaki učenik ili radnik školske ustanove dužan je o tome odmah  izvijestiti  ravnatelja ili najbližeg odgojno-obrazovnog radnika koji će poduzeti sve mjere da se zaustavi i prekine aktualno nasilno postupanje prema učeniku te odmah pozvati policiju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00000"/>
                  </a:solidFill>
                  <a:latin typeface="Tw Cen MT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" name="TekstniOkvir 13"/>
          <p:cNvSpPr/>
          <p:nvPr/>
        </p:nvSpPr>
        <p:spPr>
          <a:xfrm>
            <a:off x="4690800" y="88884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zervirano mjesto sadržaja 2"/>
          <p:cNvSpPr/>
          <p:nvPr/>
        </p:nvSpPr>
        <p:spPr>
          <a:xfrm>
            <a:off x="0" y="2014560"/>
            <a:ext cx="3448080" cy="444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evima nasilnog postupanja učenika </a:t>
            </a:r>
            <a:r>
              <a:rPr b="1" lang="hr-HR" sz="1800" spc="-1" strike="noStrike">
                <a:solidFill>
                  <a:srgbClr val="c00000"/>
                </a:solidFill>
                <a:latin typeface="Tw Cen MT"/>
              </a:rPr>
              <a:t>svi radnici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 školske ustanove dužni su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odmah poduzeti sve mjere da se zaustavi i prekine aktualno nasilno postupanje prema učeniku, a u slučaju potrebe pozvati djelatnika policij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ako je učenik povrijeđen u mjeri koja zahtijeva liječničku pomoć , odmah zatražiti pomoć liječnika te postupiti po njegovoj preporuc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trelica dolje 12"/>
          <p:cNvSpPr/>
          <p:nvPr/>
        </p:nvSpPr>
        <p:spPr>
          <a:xfrm rot="14489400">
            <a:off x="3673080" y="1956960"/>
            <a:ext cx="136440" cy="72396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8E2-934F-4BBB-9DE6-FC14DD109AB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kstniOkvir 7"/>
          <p:cNvSpPr/>
          <p:nvPr/>
        </p:nvSpPr>
        <p:spPr>
          <a:xfrm>
            <a:off x="511920" y="105084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NACRT PRAVIL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Čl. 2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grpSp>
        <p:nvGrpSpPr>
          <p:cNvPr id="151" name="Rezervirano mjesto sadržaja 2"/>
          <p:cNvGrpSpPr/>
          <p:nvPr/>
        </p:nvGrpSpPr>
        <p:grpSpPr>
          <a:xfrm>
            <a:off x="4286160" y="2127240"/>
            <a:ext cx="4718160" cy="4249800"/>
            <a:chOff x="4286160" y="2127240"/>
            <a:chExt cx="4718160" cy="4249800"/>
          </a:xfrm>
        </p:grpSpPr>
        <p:pic>
          <p:nvPicPr>
            <p:cNvPr id="152" name="Rezervirano mjesto sadržaja 2" descr=""/>
            <p:cNvPicPr/>
            <p:nvPr/>
          </p:nvPicPr>
          <p:blipFill>
            <a:blip r:embed="rId2"/>
            <a:stretch/>
          </p:blipFill>
          <p:spPr>
            <a:xfrm>
              <a:off x="4286160" y="2127240"/>
              <a:ext cx="471816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383000" y="2189160"/>
              <a:ext cx="449604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niti omogućiti medijima da sami u školskoj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ustanovi prikupljaju osobne i drug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podatke o učenici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w Cen MT"/>
                <a:buAutoNum type="alphaL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Iznimno, od točke a) ovoga stavka, školska ustanova može dati medijima podatke vezano  uz postignute rezultate učenika,  ali samo uz pisanu suglasnost roditelja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w Cen MT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Školska ustanova može objavljivati fotografske i druge snimke o učenicima na  mrežnim stranicama školske ustanove s posebnom pažnjom i opravdanim ciljem, uz suglasnost roditelja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00000"/>
                  </a:solidFill>
                  <a:latin typeface="Tw Cen MT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TekstniOkvir 13"/>
          <p:cNvSpPr/>
          <p:nvPr/>
        </p:nvSpPr>
        <p:spPr>
          <a:xfrm>
            <a:off x="4690800" y="106380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zervirano mjesto sadržaja 2"/>
          <p:cNvSpPr/>
          <p:nvPr/>
        </p:nvSpPr>
        <p:spPr>
          <a:xfrm>
            <a:off x="306360" y="2314440"/>
            <a:ext cx="3441600" cy="14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Školska ustanova dužna 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štititi prava učenika te medijima ne smije davati osobne i ostale podatke o učenicim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elica udesno 14"/>
          <p:cNvSpPr/>
          <p:nvPr/>
        </p:nvSpPr>
        <p:spPr>
          <a:xfrm>
            <a:off x="3795840" y="3622680"/>
            <a:ext cx="476280" cy="586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b4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elica udesno 15"/>
          <p:cNvSpPr/>
          <p:nvPr/>
        </p:nvSpPr>
        <p:spPr>
          <a:xfrm>
            <a:off x="3767040" y="2811600"/>
            <a:ext cx="476280" cy="586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b4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A03-B922-4869-A171-05A80FE47C4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zervirano mjesto sadržaja 2"/>
          <p:cNvSpPr/>
          <p:nvPr/>
        </p:nvSpPr>
        <p:spPr>
          <a:xfrm>
            <a:off x="141120" y="1911240"/>
            <a:ext cx="3991320" cy="188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da učenik ometa odgojno-obrazovni rad predmetima koji nisu predviđeni i koje nije odobrio odgojno-obrazovni radnik, učenik je na zahtjev odgojno-obrazovnog radnika dužan odložiti predmet na vidljivo mjes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kstniOkvir 7"/>
          <p:cNvSpPr/>
          <p:nvPr/>
        </p:nvSpPr>
        <p:spPr>
          <a:xfrm>
            <a:off x="501480" y="92556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AVIL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Čl. 2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62" name="Rezervirano mjesto sadržaja 2"/>
          <p:cNvSpPr/>
          <p:nvPr/>
        </p:nvSpPr>
        <p:spPr>
          <a:xfrm>
            <a:off x="4565520" y="4013280"/>
            <a:ext cx="4375440" cy="25128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Ako roditelj učestalo zanemaruje obveze iz stavka 4. ovog članka, škola je dužna o  tome obavijestiti ured državne uprave, odnosno Gradski ured i nadležnu ustanovu socijalne skrbi koji su dužni izvijestiti školu o poduzetim mjera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trelica udesno 12"/>
          <p:cNvSpPr/>
          <p:nvPr/>
        </p:nvSpPr>
        <p:spPr>
          <a:xfrm>
            <a:off x="4208400" y="5151600"/>
            <a:ext cx="300240" cy="6012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bbe0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kstniOkvir 13"/>
          <p:cNvSpPr/>
          <p:nvPr/>
        </p:nvSpPr>
        <p:spPr>
          <a:xfrm>
            <a:off x="4655880" y="83340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Dodati odred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zervirano mjesto sadržaja 2"/>
          <p:cNvSpPr/>
          <p:nvPr/>
        </p:nvSpPr>
        <p:spPr>
          <a:xfrm>
            <a:off x="4635360" y="1979640"/>
            <a:ext cx="4348440" cy="18320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da je odgojno-obrazovni radnik kod učenika zamijetio  predmete opasne za zdravlje i život učenika,  učenik ih je odmah dužan predati razredniku ili stručnom suradniku , koji će pozvati roditelja i uručiti mu predmet ili čak nadležnoj institucij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zervirano mjesto sadržaja 2"/>
          <p:cNvSpPr/>
          <p:nvPr/>
        </p:nvSpPr>
        <p:spPr>
          <a:xfrm>
            <a:off x="209520" y="4040280"/>
            <a:ext cx="3867120" cy="25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Kada učenik ne reagira na upozorenje iz stavka 1. i 2. ovoga članka, odgojno-obrazovni radnik je dužan zbog osiguravanja zaštite prava ostalih učenika pozvati stručnog suradnika ili razrednika/odgajatelja učenika koji će s njim razgovarati te odmah pozvati i roditelja uče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trelica udesno 15"/>
          <p:cNvSpPr/>
          <p:nvPr/>
        </p:nvSpPr>
        <p:spPr>
          <a:xfrm>
            <a:off x="4200480" y="2819520"/>
            <a:ext cx="300240" cy="586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bbe0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8280" y="1623960"/>
            <a:ext cx="43639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Članak 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Adobe Heiti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Obrazovanje je u Republici Hrvatskoj svakomu dostupno, pod jednakim uvjetima, u skladu s njegovim sposobnos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lika 4" descr="USTAV.gif"/>
          <p:cNvPicPr/>
          <p:nvPr/>
        </p:nvPicPr>
        <p:blipFill>
          <a:blip r:embed="rId1"/>
          <a:srcRect l="3386" t="1645" r="1141" b="1268"/>
          <a:stretch/>
        </p:blipFill>
        <p:spPr>
          <a:xfrm>
            <a:off x="4917960" y="1154160"/>
            <a:ext cx="3703680" cy="5521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Naslov 1" descr=""/>
          <p:cNvPicPr/>
          <p:nvPr/>
        </p:nvPicPr>
        <p:blipFill>
          <a:blip r:embed="rId2"/>
          <a:stretch/>
        </p:blipFill>
        <p:spPr>
          <a:xfrm>
            <a:off x="384120" y="165240"/>
            <a:ext cx="8229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61A-37A1-4BE5-ABBC-8ECEEF4CE00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zervirano mjesto sadržaja 2"/>
          <p:cNvSpPr/>
          <p:nvPr/>
        </p:nvSpPr>
        <p:spPr>
          <a:xfrm>
            <a:off x="216000" y="1338120"/>
            <a:ext cx="8767800" cy="547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povrede prava učenika tijekom odgojno-obrazovnog rada od strane 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 odgojno-obrazovnih radnika, tj.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neprimjerenog, neprofesionalnog i neetičnim postupanjima, kao što su primjerice vrijeđanje, omalovažavanje učenika, ali i druga nasilna učenik ili roditelj učenika ima pra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ijaviti povredu prava razredniku, stručnom suradniku ili ravnatelju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ravnatelj i stručni suradnici dužni su razgovarati s odgojno-obrazovnim radnikom i učenicima, utvrditi činjenice, a ako se utvrdi da su one točne, ravnatelj je dužan odgojno-obrazovnom radniku izreći mu mjere upozorenja te ga uputiti na potrebnu edukaciju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da se odgojno-obrazovni radnik ne pridržava predloženih mjera, ravnatelj je dužan o tome izvijestiti nadležnu agenciju ili inspekciju te zatražiti nadzor nad radom odgojno-obrazovnog radnik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roditelj učenika ima pravo na informaciju o učinjeno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w Cen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učenika s teškoćama odgojno-obrazovni radnik ima obvezu sva postupanja  prilagoditi teškoćama koje učenik ima te u skladu s vrstom teškoća, programskom pomoći i primjerenim oblikom školovanj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lučaju učestalog kršenja prava učenika s teškoćama, a koja su povezana upravo s teškoćama, školska ustanova organizira dodatne edukacije za odgojno-obrazovne radnike, roditelje i učenik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kstniOkvir 13"/>
          <p:cNvSpPr/>
          <p:nvPr/>
        </p:nvSpPr>
        <p:spPr>
          <a:xfrm>
            <a:off x="2503440" y="387360"/>
            <a:ext cx="39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Čl. 23. – dodati stavk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79B4-89EA-4B42-B8CE-AA75241F051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kstniOkvir 5"/>
          <p:cNvSpPr/>
          <p:nvPr/>
        </p:nvSpPr>
        <p:spPr>
          <a:xfrm>
            <a:off x="1326960" y="35067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Pravil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zervirano mjesto sadržaja 2"/>
          <p:cNvSpPr/>
          <p:nvPr/>
        </p:nvSpPr>
        <p:spPr>
          <a:xfrm>
            <a:off x="190440" y="1695600"/>
            <a:ext cx="2602080" cy="150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eventivni progra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Građanski odg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Zdravstveni odg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ojekt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kstniOkvir 7"/>
          <p:cNvSpPr/>
          <p:nvPr/>
        </p:nvSpPr>
        <p:spPr>
          <a:xfrm>
            <a:off x="460440" y="84924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Školski kurik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zervirano mjesto sadržaja 2"/>
          <p:cNvSpPr/>
          <p:nvPr/>
        </p:nvSpPr>
        <p:spPr>
          <a:xfrm>
            <a:off x="368280" y="4245120"/>
            <a:ext cx="2611440" cy="21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redovita nast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sat razred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ojekt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edavanj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ruge aktivnosti ško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77" name="Rezervirano mjesto sadržaja 2"/>
          <p:cNvSpPr/>
          <p:nvPr/>
        </p:nvSpPr>
        <p:spPr>
          <a:xfrm>
            <a:off x="3398760" y="1652760"/>
            <a:ext cx="5529240" cy="46782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Izrada i provođenje u suradnji 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rugim institucijama, tijelima, obiteljskim centrima i udrugama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Provođenje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i na roditeljskim sastancima - najmanje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jednom godišnje, a u okviru kojeg se roditelji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odnosi i zadnje izvještaj ravnatel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Školska ustanova dužna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je u sklopu stručno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savršavanja odgojno-obrazovnih radn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najmanje jedanput godišnje planirati i ostvariti teme vezane uz  prevenciju nasilja i zaštite prava uče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suradnji s zavodom za javno zdravstvo organizirati najmanje jedanput u dvije edukaciju pružanja prve pomoći te osposobljavanja odgojno-obrazovnih radnika za pružanje pomoći djeci s zdravstvenim teškoća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elica udesno 12"/>
          <p:cNvSpPr/>
          <p:nvPr/>
        </p:nvSpPr>
        <p:spPr>
          <a:xfrm>
            <a:off x="2952720" y="2198520"/>
            <a:ext cx="300240" cy="60480"/>
          </a:xfrm>
          <a:prstGeom prst="rightArrow">
            <a:avLst>
              <a:gd name="adj1" fmla="val 50000"/>
              <a:gd name="adj2" fmla="val 49896"/>
            </a:avLst>
          </a:prstGeom>
          <a:solidFill>
            <a:srgbClr val="bbe0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kstniOkvir 13"/>
          <p:cNvSpPr/>
          <p:nvPr/>
        </p:nvSpPr>
        <p:spPr>
          <a:xfrm>
            <a:off x="4683960" y="792000"/>
            <a:ext cx="367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Tahoma"/>
              </a:rPr>
              <a:t>PRIJEDLOG IZ JAVNE RASP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Čl. 24. – dadat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71600" y="116676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inistarstvo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ati potrebe u su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premno je na suradnju sa svim dionicima i korisnicima sustava odgoja i obraz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duzima promjene i izmjene ili izrade novih propisa kako bi se odgoj i obrazovanje ostvarivali kvalitetnije i u što sigurnijem okruže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B0D-EE57-49C3-82AB-F511C1925AC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183" name="Rezervirano mjesto sadržaja 2"/>
          <p:cNvSpPr/>
          <p:nvPr/>
        </p:nvSpPr>
        <p:spPr>
          <a:xfrm>
            <a:off x="546120" y="3462480"/>
            <a:ext cx="82296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00000"/>
                </a:solidFill>
                <a:latin typeface="Tw Cen MT"/>
              </a:rPr>
              <a:t>KRAJEM TJEDNA POČINJE JAVNA RASPRAVA o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Nacrtu Pravilnika o utvrđivanju psihofizičkog stanja djeteta, učenik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te sastavu stručnih povjerenst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41280" y="760320"/>
            <a:ext cx="842184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dobe Heiti Std 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Ustav Republike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odgoju i obrazovanju u osnovnoj i srednjoj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</a:rPr>
              <a:t>Zakona o strukovnom obrazovanj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umjetničkom obrazovanj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dgoju i obrazovanju na jeziku i pismu nacionalnih manj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udžbenicima za osnovnu i srednju škol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agenciji za odgoj i obrazo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stručno-pedagoškom nadzo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akon o prosvjetnoj inspekc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</a:rPr>
              <a:t>Državni pedagoški standard  srednjoškolskog sustava odgoja i obrazo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postupku utvrđivanja psihofizičkoga stanja djeteta, učenika te sastavu stručnoga povjerenst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načinima, postupcima i elementima vrednovanja učenika u osnovnoj i srednjoj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sadržaju i obliku svjedodžbi i drugih javnih isprava te pedagoškoj dokumentaciji i evidenc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pedagoškoj mjeri odgojno-obrazovnog tretmana produženog stručnog postup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</a:rPr>
              <a:t>Pravilnik o izradbi i obrani završnoga 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 provođenju pripremne i dopunske nastave za učenike koji ne znaju ili nedostatno znaju hrvatski jezik i nastave materinskoga jezika i kulture države podrijetla učen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 načinu provođenja programa i provjeri znanja tražitelja azila, azilanata, stranaca pod privremenom zaštitom i stranaca pod supsidijarnom zaštitom, radi pristupa obrazovnom sustavu Republike Hrvats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načinu provođenja aktivnosti u školskim ustanovama na promicanju spoznaje o štetnosti uporabe duhanskih proizvoda za zdravl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osnovnoškolskom odgoju i obrazovanju učenika s teškoćama u razvoj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</a:rPr>
              <a:t>Pravilnik o srednjoškolskom obrazovanju učenika s teškoćama i većim teškoćama u razvoj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avilnik o  odgoju i obrazovanju darovitih učen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w Cen MT"/>
              </a:rPr>
              <a:t>Pravilnik o polaganju državne m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E62-2531-405F-9DA3-B5B62F22F77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Naslov 1" descr=""/>
          <p:cNvPicPr/>
          <p:nvPr/>
        </p:nvPicPr>
        <p:blipFill>
          <a:blip r:embed="rId1"/>
          <a:stretch/>
        </p:blipFill>
        <p:spPr>
          <a:xfrm>
            <a:off x="914400" y="255600"/>
            <a:ext cx="82296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71CA-55B5-4607-B55B-0BF9CB2FDC0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Naslov 1" descr=""/>
          <p:cNvPicPr/>
          <p:nvPr/>
        </p:nvPicPr>
        <p:blipFill>
          <a:blip r:embed="rId1"/>
          <a:stretch/>
        </p:blipFill>
        <p:spPr>
          <a:xfrm>
            <a:off x="774720" y="268200"/>
            <a:ext cx="822960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66760" y="1233360"/>
            <a:ext cx="8400960" cy="26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onvencija o pravima djet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onvencija o pravima osoba s invaliditet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onvencija Vijeća Europe o zaštiti djece od seksualno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iskorištavanja i seksualnog zlostavljanj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onvencija o zabrani i trenutnim djelovanjima za ukidanje najgorih oblika dječjeg 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onvencija o najnižoj dobi za zapošljava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Slika 4" descr="united-nations-flag-icon1.jpg"/>
          <p:cNvPicPr/>
          <p:nvPr/>
        </p:nvPicPr>
        <p:blipFill>
          <a:blip r:embed="rId2"/>
          <a:stretch/>
        </p:blipFill>
        <p:spPr>
          <a:xfrm>
            <a:off x="7261200" y="838080"/>
            <a:ext cx="1633680" cy="1629000"/>
          </a:xfrm>
          <a:prstGeom prst="rect">
            <a:avLst/>
          </a:prstGeom>
          <a:ln w="0">
            <a:noFill/>
          </a:ln>
        </p:spPr>
      </p:pic>
      <p:sp>
        <p:nvSpPr>
          <p:cNvPr id="57" name="Rezervirano mjesto sadržaja 2"/>
          <p:cNvSpPr/>
          <p:nvPr/>
        </p:nvSpPr>
        <p:spPr>
          <a:xfrm>
            <a:off x="316080" y="4038480"/>
            <a:ext cx="3474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opisi vezani uz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obitelj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zdravlje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socijalnu skr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kaz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prom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  <a:ea typeface="Adobe Heiti Std R"/>
              </a:rPr>
              <a:t>azila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Slika 12" descr="bus.jpg"/>
          <p:cNvPicPr/>
          <p:nvPr/>
        </p:nvPicPr>
        <p:blipFill>
          <a:blip r:embed="rId3"/>
          <a:stretch/>
        </p:blipFill>
        <p:spPr>
          <a:xfrm>
            <a:off x="4467240" y="4048200"/>
            <a:ext cx="4152960" cy="2333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5640" y="1519200"/>
          <a:ext cx="8001000" cy="2805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Mjesto događ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Osn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Srednj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00000"/>
                          </a:solidFill>
                          <a:latin typeface="Tw Cen MT"/>
                          <a:ea typeface="Times New Roman"/>
                        </a:rPr>
                        <a:t>Prostor u kojima se izvodi redovita nast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82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Ostali unutarnji prostori odgojno-obrazovne ustan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00000"/>
                          </a:solidFill>
                          <a:latin typeface="Tw Cen MT"/>
                          <a:ea typeface="Times New Roman"/>
                        </a:rPr>
                        <a:t>Dvorište odgojno-obrazovne ustan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U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1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60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CF83-5BD9-4225-A439-5B0BB5B321D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kstniOkvir 5"/>
          <p:cNvSpPr/>
          <p:nvPr/>
        </p:nvSpPr>
        <p:spPr>
          <a:xfrm>
            <a:off x="6470640" y="45068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Pravil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zervirano mjesto sadržaja 2"/>
          <p:cNvSpPr/>
          <p:nvPr/>
        </p:nvSpPr>
        <p:spPr>
          <a:xfrm>
            <a:off x="266760" y="4933800"/>
            <a:ext cx="4276800" cy="15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avila sigurnosti i zaštite od socijalno neprihvatljivih oblika ponašanja, diskriminacije, neprijateljstva i nasilj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kstniOkvir 7"/>
          <p:cNvSpPr/>
          <p:nvPr/>
        </p:nvSpPr>
        <p:spPr>
          <a:xfrm>
            <a:off x="561600" y="450684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Kućni 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zervirano mjesto sadržaja 2"/>
          <p:cNvSpPr/>
          <p:nvPr/>
        </p:nvSpPr>
        <p:spPr>
          <a:xfrm>
            <a:off x="4676760" y="4915080"/>
            <a:ext cx="433404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 ulazu –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drasla osob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školi i na vanjskim prostorima šk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↓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čitel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7040" y="1294920"/>
            <a:ext cx="4276800" cy="20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tjelesno i emocionalno nasilj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spolne zloupora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zanemarivan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nehajnog postupan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zlostavljanja ili izrabljivanja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AB6-3A2C-4F68-ABE2-FF6D1CBAC3D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Naslov 8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229600" cy="830160"/>
          </a:xfrm>
          <a:prstGeom prst="rect">
            <a:avLst/>
          </a:prstGeom>
          <a:ln w="0">
            <a:noFill/>
          </a:ln>
        </p:spPr>
      </p:pic>
      <p:sp>
        <p:nvSpPr>
          <p:cNvPr id="69" name="TekstniOkvir 6"/>
          <p:cNvSpPr/>
          <p:nvPr/>
        </p:nvSpPr>
        <p:spPr>
          <a:xfrm>
            <a:off x="1441080" y="8874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Čl. 61. Zako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zervirano mjesto sadržaja 2"/>
          <p:cNvSpPr/>
          <p:nvPr/>
        </p:nvSpPr>
        <p:spPr>
          <a:xfrm>
            <a:off x="4734000" y="1285920"/>
            <a:ext cx="4276800" cy="4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štitu prava osiguravaju odgojno-obrazovni radnici školske ustanove u suradnji s nadležnim institucijama i tijel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dmah poduzeti sve mjere da se zaustavi i prekine aktualno nasilno postupanje prema učeniku, a u slučaju potrebe pozvati djelatnika policij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užiti liječničku pomoć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zvati roditelje i </a:t>
            </a:r>
            <a:r>
              <a:rPr b="1" lang="hr-HR" sz="2000" spc="-1" strike="noStrike">
                <a:solidFill>
                  <a:srgbClr val="c00000"/>
                </a:solidFill>
                <a:latin typeface="Tw Cen MT"/>
              </a:rPr>
              <a:t>policiju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azgovor s žrtvom i počiniteljem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centar za socijalnu skrb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ladanje ne može biti primj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kstniOkvir 8"/>
          <p:cNvSpPr/>
          <p:nvPr/>
        </p:nvSpPr>
        <p:spPr>
          <a:xfrm>
            <a:off x="6099120" y="8492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ahoma"/>
              </a:rPr>
              <a:t>Pravil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Slika 9" descr="stop_nasilju.jpg"/>
          <p:cNvPicPr/>
          <p:nvPr/>
        </p:nvPicPr>
        <p:blipFill>
          <a:blip r:embed="rId2"/>
          <a:stretch/>
        </p:blipFill>
        <p:spPr>
          <a:xfrm>
            <a:off x="1054080" y="3705120"/>
            <a:ext cx="2584440" cy="2610000"/>
          </a:xfrm>
          <a:prstGeom prst="rect">
            <a:avLst/>
          </a:prstGeom>
          <a:ln w="0">
            <a:noFill/>
          </a:ln>
        </p:spPr>
      </p:pic>
      <p:cxnSp>
        <p:nvCxnSpPr>
          <p:cNvPr id="73" name="Ravni poveznik sa strelicom 11"/>
          <p:cNvCxnSpPr/>
          <p:nvPr/>
        </p:nvCxnSpPr>
        <p:spPr>
          <a:xfrm flipH="1">
            <a:off x="2189880" y="3123720"/>
            <a:ext cx="10440" cy="5533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4" name="Ravni poveznik sa strelicom 13"/>
          <p:cNvCxnSpPr/>
          <p:nvPr/>
        </p:nvCxnSpPr>
        <p:spPr>
          <a:xfrm>
            <a:off x="3610080" y="4714560"/>
            <a:ext cx="1010160" cy="19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5840" y="2125800"/>
            <a:ext cx="8138880" cy="32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organizaciji Ministarstva znanosti, obrazovanja i spo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 ciljem podizanja svijesti i osvješćivanja javnosti o vršnjačkom nasilju i drugim oblicima nasilja u školskim ustanov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vodno izlag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i okrugla stola o uzrocima i posljedicama nasilja i postojećim te novim modelima i načinima sprječavanja vršnjačkog nasilja i drugih oblika nasilja u ško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253-CC0F-4A1E-A30B-2B1B381B590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Naslov 8" descr=""/>
          <p:cNvPicPr/>
          <p:nvPr/>
        </p:nvPicPr>
        <p:blipFill>
          <a:blip r:embed="rId1"/>
          <a:stretch/>
        </p:blipFill>
        <p:spPr>
          <a:xfrm>
            <a:off x="212760" y="69516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78" name="Naslov 8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2659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36160" y="1881360"/>
            <a:ext cx="8139240" cy="49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oblem nasilja u školi zahtijeva proaktivno, kontinuirano, sustavno, ciljano, multidimenzionalno i pravodobno djelovanje. Retroaktivni, represivni, parcijalni i suviše uski modeli nisu uspješni u sprječavanju i suzbijanju nasi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.  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Potrebno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je implementirati postojeće preventivne i intervencijske programe uz odgovarajući model njihova praćenja i vrjednovanja te prema potrebama razvijati nov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3.    je provoditi sustavna istraživ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aralelno djelovanje na svim trima razinama prevencije/intervencije (univerzalna, selektivna, indiciran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aktivnosti prevencije i suzbijanja vršnjačkog nasilja i ostalih oblika nasilja usmjeriti na razinu: škole, razinu lokalne zajednice, obitelji, sustava, cjelokupnog društ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6.    uspostaviti bolju koordiniranost djelovanja institucija uključenih u prevenciju 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suzbijanja nasil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B5D9-19ED-4FE8-AF22-983A214BFC5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Naslov 8" descr=""/>
          <p:cNvPicPr/>
          <p:nvPr/>
        </p:nvPicPr>
        <p:blipFill>
          <a:blip r:embed="rId1"/>
          <a:stretch/>
        </p:blipFill>
        <p:spPr>
          <a:xfrm>
            <a:off x="212760" y="69516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82" name="Naslov 8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2659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36160" y="1881360"/>
            <a:ext cx="8139240" cy="49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otrebno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oraditi normativni okvir za prevenciju i suzbijanje nasilja u škol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skladiti relevantne propise i izbjeći nedosljednosti i nedorečenosti u njihovoj primje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protokolima i drugim propisima prepoznati i imenovati nove pojavne oblike nasilnog ponašanja (npr. elektroničko nasilj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eispitati sustav pedagoških mje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u programe prevencije i suzbijanja nasilja izravno uključiti obitelji i vršnjake pomagače u funkciji pozitivnih modela učenja socijalnog ponaš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9. u školama je potrebno jačati demokratsku kulturu škola i uspostaviti školsko okruženje koje poštuje prava učenika, ravnatelja, učitelja, nastavnika i stručnih suradnika te njegovati suradničke i tolerantne odnose u šk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w Cen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zervirano mjesto broja slajda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8DB3-F97F-4825-B3ED-3836FC92112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Naslov 8" descr=""/>
          <p:cNvPicPr/>
          <p:nvPr/>
        </p:nvPicPr>
        <p:blipFill>
          <a:blip r:embed="rId1"/>
          <a:stretch/>
        </p:blipFill>
        <p:spPr>
          <a:xfrm>
            <a:off x="212760" y="69516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86" name="Naslov 8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2659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7:55:20Z</dcterms:created>
  <dc:creator>Ivana Fain</dc:creator>
  <dc:description/>
  <dc:language>en-US</dc:language>
  <cp:lastModifiedBy>DubrovnikSun</cp:lastModifiedBy>
  <dcterms:modified xsi:type="dcterms:W3CDTF">2013-04-10T06:14:37Z</dcterms:modified>
  <cp:revision>282</cp:revision>
  <dc:subject/>
  <dc:title>Slide 1</dc:title>
</cp:coreProperties>
</file>