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207A-C9F6-4571-9060-A7949B225691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889-0FD6-40EB-93A4-927B3345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A3A-B3CB-406D-85E0-178843D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F33-AED4-461B-B84C-95BC64C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DEE-E38D-48D2-B33B-53BD835B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D506-BCAC-4BB2-BCFD-97FB9CB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537-E276-4031-B927-08EBB8A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66F-08DE-4B59-8B53-E7E4147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8C64-6529-4F11-973E-16B6F74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0151-0285-4884-9AD8-44203E1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19C1-480B-4A4D-AEBF-7D45D95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9E1-8B52-4FF7-9DEB-8CB078C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CBB-5289-4F6A-A937-78AB409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2C0-62B9-4B10-9F44-91F999E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DE09-2C6A-4441-9704-4F69D02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D1E-8EB8-4880-94B3-40FDFA4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F6D7-381E-4664-9FFB-FD108D3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435-5A0B-49E7-86D3-F5CDAD53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292-9EAE-40FE-A091-36C51DD0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68C-BD76-40AF-A3B4-3A083978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310-2999-4E07-93EE-C4515FB7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DC2-BFC3-4E51-8370-721C6DE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B0D-9811-4AD0-91B9-DA3F826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A0B-CA09-4599-A211-FF92A21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425-12F0-4876-8D09-2D6B6B9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90B-8EBE-430A-98DA-4C1B961982E2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780D-6D88-4B4B-8301-BBA0C6892821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0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000" spc="-1" strike="noStrike">
                <a:solidFill>
                  <a:srgbClr val="e5ffff"/>
                </a:solidFill>
                <a:latin typeface="Tahoma"/>
              </a:rPr>
              <a:t>Poučavanje o interpretacijama:</a:t>
            </a:r>
            <a:br>
              <a:rPr sz="4000"/>
            </a:b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primjer sporazuma </a:t>
            </a:r>
            <a:br>
              <a:rPr sz="4000"/>
            </a:b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Cvetković-Mač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395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. sc. Snježana Ko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eučilište u Zagre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Stupnjev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poznavanje tem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nanje o događaju i/ili razdoblju koje se interpreti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dentifikacija i razumijevanje interpretacije/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upoznavanje sa sadržajem interpretaci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nanje o interpretaciji – o vremenu i mjestu nastanka, o autoru/autoric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naliza interpretacije/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ronalaziti ključne podat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uspoređivati (pronalaženje sličnosti i razlik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razlikovati činjenice i mišljen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dentificirati pretpostavke i emocionalni jezi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dentificirati izvore koji su korišt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dentificirati interpretativne obras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bjašnjavanje interpretacije/a u njihovom povijesnom kontekstu (svrha, ciljevi, zašto se razlikuju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valuacija interpretacije/a: jesu li neke interpretacije vrednije od drugih i zaš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vješće (usmeno, pisan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Pitanja o interpretacijama (1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ko je autor/ica interpretacije? Koje je njegovo/njezino polazište? Što znamo o njoj/njem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Gdje je i kada nastala interpretacija? Koji su izvori korišteni i koliko su vrijedn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ja je bila ciljana publik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što je nastala određena interpretacija?  Što je bila njezina svrh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bavi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odati prošlost ili sliku o prošlosti (oglašavanj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nformira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voriti mit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traga za isti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pravdati ili objasniti sadašnj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tjecati sadašnju i buduću politiku ili diskus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Pitanja o interpretacijama (2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Zašto se interpretacije mogu razlikovati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judi koriste izvore na različite nač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judi imaju različite izvore na raspolag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dostaci u izvorima i dokaz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javili su se novi izvo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stup se mijenja tijekom vremena – drugačiji interpretativni mode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mjene u idejama, stavovima i vjerovanjima u društ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ijeklo i vjerovanja autora interpre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ljana publ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že li se nekim interpretacijama vjerovati više nego drugima? Zaš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Primj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cjene sporazuma Cvetković-Mač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201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-27000"/>
          <a:ext cx="9144000" cy="6899400"/>
        </p:xfrm>
        <a:graphic>
          <a:graphicData uri="http://schemas.openxmlformats.org/drawingml/2006/table">
            <a:tbl>
              <a:tblPr/>
              <a:tblGrid>
                <a:gridCol w="4427640"/>
                <a:gridCol w="982440"/>
                <a:gridCol w="914400"/>
                <a:gridCol w="914400"/>
                <a:gridCol w="91440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bio uspješan za Hrvatsku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bio polovično rješenj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nije uzimao u obzir muslimansko pitanje u Bi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zaoštrio je odnose u zemlji jer je imao mnogo protivnik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došao prekas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om je predviđena hrvatska autonomija unutar Jugoslavij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Neki dijelovi sporazuma bili su dobro rješenj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om je Hrvatska obnovila svoju državnos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ostao samo na papiru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EKIFL A+ HR Frutiger Light"/>
                        </a:rPr>
                        <a:t>Sporazum je bio hrvatsko-srpski dogovo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48722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20000" y="43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9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7640"/>
            <a:ext cx="8532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76800" cy="602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46720" y="0"/>
            <a:ext cx="469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572000" cy="366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4500720" cy="369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58920" y="458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197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4581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197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Što je interpretacij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jesna refleksija o prošlosti koja obično uključuje različite izvore informaci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pretirati ne znači samo prezentirati informaciju, već ujedno 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(re)konstruirati odnose, obrasce i model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idavati/pripisivati određena značenja prošlim događajima, procesima, pojavama i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ako pisanje o prošlome u sebi ujedno sadrži i interpretaciju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vijest nije samo pisanje o onome što se dogodilo, već i konstantni dijalog između povjesničara i njegovih izvora, te među povjesničarim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Pitanja o interpretacija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ko je autor/ica interpretacije? Koje je njegovo/njezino polazište? Što znamo o njoj/njem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Gdje je i kada nastala interpretacija? Koji su izvori korišteni i koliko su vrijedn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ja je bila ciljana publik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što je nastala određena interpretacija?  Što je bila njezina svrh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Zašto se interpretacije mogu razlikovati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že li se nekim interpretacijama vjerovati više nego drugima? Zaš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Što rade povjesničari dok konstruiraju svoja objašnjenja?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pisivanje određenih značenja i vrijednosti prošlim događajima, osobama, procesima, pojav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Hijerarhija – neki su događaji važniji od drug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elekcija – što uključiti u pripovijest, a što 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tpostavke (nedostatak izvora, praznine u postojećim izvorima, izvori koji donose različita tumačenja itd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ffff"/>
                </a:solidFill>
                <a:latin typeface="Tahoma"/>
              </a:rPr>
              <a:t>Zašto je važno poučavati o interpretacijam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Što bi učenici trebali naučiti o interpretacijam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čenici uočavaju da se prošlost prikazuje i interpretira na različite načine (historiografija, filmovi, dokumentarne serije, povijesni romani, pjesme, muzejski postavi i sl.); znaju objasniti zašto je to tako te evaluirati pojedine interpretacije i stvarati vlastito mišljenje utemeljeno na argumentima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Prva verzija NPP-a za OŠ, 20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čenici […] upoznaju različite načine prikazivanja i interpretiranja prošlosti (historiografija, filmovi, dokumentarne serije, povijesni romani, pjesme, muzejski postavi i sl.).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Konačna verzija NPP-a za OŠ,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Zašto je važno poučavati učenike o interpretacijama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čenici mog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azlikovati činjenice od nečijeg mišljenj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onalaziti sličnosti i razlik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dentificirati pristranosti, dvosmislene tvrdnje/argumente i/ili pretpostavke koje nemaju potporu u izvor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dlučivati o snazi argumenta i/ill vjerodostojnosti izvo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ovesti u pitanje tvrdnje o neizbježnosti ishoda određenih povijesnih proce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azumjeti da ponekad postoji više od jednog točnog odgovo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azumjeti da ponekad ne postoji jedan “ispravan” odgov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Razumjeti da se na neka pitanja ne može odgovorit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hvatiti da zaključci koje donose povjesničari ponekad uključuju pretpostavk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hvatiti da na temelju istih izvora povjesničari mogu doći do različitih, no podjednako vrijednih interpretacij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hvatiti da sve interpretacije nisu jednako vrijed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hvatiti da su sve interpretacije o prošlosti privreme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voditi vlastite hipoteze ili pretpostavke i oblikovati vlastite racionalne prikaze prošlosti utemeljene na argument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Zašto je učenje o interpretacijama zahtjevno za učenike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Jezik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može biti prepreka, osobito kada je riječ o historiografiji – složene jezične strukture, nepoznate riječi, suptilne nijanse it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rebno je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dosta znanj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 temi – znanje o temi koja se obrađuje, kao i poznavanje razdoblja u kojemu nastaju interpretacij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učavanje o interpretacijama je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proces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– učenike treba postupno uvoditi u učenje takvih sadrža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početi s jednostavnim i zornim primjeri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stupno ih voditi složenijim sadržajima i teorijskom shvaćanju problem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Korisno je započeti s onim interpretacijama koje su učenicima bliske,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pr. filmovima, povijesnim romanima, stripovima, muzejskim izložbama i vodičima, it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5ffff"/>
                </a:solidFill>
                <a:latin typeface="Tahoma"/>
              </a:rPr>
              <a:t>Što učenici trebaju naučiti o interpretacijama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39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ojnost i raznolikost</a:t>
            </a:r>
            <a:r>
              <a:rPr b="1" i="1" lang="hr-HR" sz="2800" spc="-1" strike="noStrike">
                <a:solidFill>
                  <a:srgbClr val="ffffff"/>
                </a:solidFill>
                <a:latin typeface="Tahoma"/>
              </a:rPr>
              <a:t> interpretaci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čenici se upoznaju s pisanjem povjesničara i s tipičnim povjesničarskim kontroverza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im historiografije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stoji široka javna uporaba povijesti koja uglavnom uključuje interpretacije: politika, novinarstvo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ediji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pularne interpretacije, programi i udžbenici povijest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i="1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zloge njihova nastanka</a:t>
            </a: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ko povjesničari i ostali oblikuju interpretacij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što povjesničari i ostali interpretiraju prošlost na različite načine i pomoću različitih medij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koje svrhe nastaju pojedine interpretacij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Tahoma"/>
              </a:rPr>
              <a:t>Kako vrednovati interpretacij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ko su različite interpretacije prošlosti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gitimn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iz toga automatski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e proizlazi da su sve podjednako vrijedn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ko i zašto nastaju pojedine interpretacije, te kako ih vrednova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19400"/>
                <a:gridCol w="60246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b5481"/>
                          </a:solidFill>
                          <a:latin typeface="Tahoma"/>
                          <a:ea typeface="Times New Roman"/>
                        </a:rPr>
                        <a:t>Tipovi interpretac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b5481"/>
                          </a:solidFill>
                          <a:latin typeface="Tahoma"/>
                          <a:ea typeface="Times New Roman"/>
                        </a:rPr>
                        <a:t>Primj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Znanstv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njige i časopisi profesionalnih povjesniča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zvješća o iskapanjim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edava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ukativ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stavni progra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džbeni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uzej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kumentarni filmov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mjetničke rekonstrukc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mjetnič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oma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lmov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V dr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azališne dr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likarstvo, kiparst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opular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rodne uzrečice o prošl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matski parkov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ostalgični prikazi u oglašavanj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sob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sobne refleks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21:09:46Z</dcterms:created>
  <dc:creator>Snjezana</dc:creator>
  <dc:description/>
  <dc:language>en-US</dc:language>
  <cp:lastModifiedBy>korisnik</cp:lastModifiedBy>
  <dcterms:modified xsi:type="dcterms:W3CDTF">2013-01-06T08:22:30Z</dcterms:modified>
  <cp:revision>188</cp:revision>
  <dc:subject/>
  <dc:title>Teaching conflicts of contemporary history. Examples from South East Europe</dc:title>
</cp:coreProperties>
</file>