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0AA-08AB-4C34-949F-04672399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E76-D99C-4229-8388-FC6C265E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EB3-A826-41B7-82C1-5935B509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3BE-3D1D-4DC0-BF5F-995187E9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E5B-41BD-4A0D-A6A6-9AF96379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98-78C0-43D9-B1A5-B807A1FE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CBE4-647A-45DA-B677-BE80041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AC6B-7AF8-4AC2-AE2B-8EB545D3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ED8-C58D-4A9D-AC52-6DF42D7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9F3-2A47-49A6-8EE5-47A31664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916-96C3-4B13-9B2B-4E0A850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3C1-5361-4380-8880-E05BB072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EDD5-2DA3-4DD0-96EC-A31B3DD47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7596360" y="4941720"/>
            <a:ext cx="1201680" cy="178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844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Bookman Old Style"/>
              </a:rPr>
              <a:t>UZLET SREDNJOVJEKOVNE EUROPE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1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primjer suradničkog učenj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2195640" y="135576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aniela Jugo-Sup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Nera Malbaša Kovač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l_fi" descr="0415007"/>
          <p:cNvPicPr/>
          <p:nvPr/>
        </p:nvPicPr>
        <p:blipFill>
          <a:blip r:embed="rId1"/>
          <a:stretch/>
        </p:blipFill>
        <p:spPr>
          <a:xfrm>
            <a:off x="611280" y="476280"/>
            <a:ext cx="2342880" cy="15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Description: http://www.medievalarchives.com/wp-content/uploads/2010/10/dover_castle.jpg"/>
          <p:cNvPicPr/>
          <p:nvPr/>
        </p:nvPicPr>
        <p:blipFill>
          <a:blip r:embed="rId2"/>
          <a:stretch/>
        </p:blipFill>
        <p:spPr>
          <a:xfrm>
            <a:off x="3708360" y="260280"/>
            <a:ext cx="2341440" cy="2011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8000" y="249192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Bookman Old Style"/>
              </a:rPr>
              <a:t>Učenici će interpretirati svakodnevni život pojedinih staleža srednjovjekovne Europe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3"/>
          <a:stretch/>
        </p:blipFill>
        <p:spPr>
          <a:xfrm>
            <a:off x="755640" y="4292640"/>
            <a:ext cx="2028960" cy="1952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escription: PREDAVANJE AMALRICHA IZ BENE"/>
          <p:cNvPicPr/>
          <p:nvPr/>
        </p:nvPicPr>
        <p:blipFill>
          <a:blip r:embed="rId4"/>
          <a:stretch/>
        </p:blipFill>
        <p:spPr>
          <a:xfrm>
            <a:off x="4067280" y="443700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serfs"/>
          <p:cNvPicPr/>
          <p:nvPr/>
        </p:nvPicPr>
        <p:blipFill>
          <a:blip r:embed="rId1"/>
          <a:stretch/>
        </p:blipFill>
        <p:spPr>
          <a:xfrm>
            <a:off x="250920" y="2060640"/>
            <a:ext cx="2492280" cy="3313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7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I ISHODI UČENJA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42920" y="1267920"/>
            <a:ext cx="5616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ci će pomoću radnih materijala i udžbenika nabrojati četiri osnovna srednjovjekovna stalež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ci će pomoću skupnih prezentacija navodeći po jedan primjer kritički prosuditi položaj i svakodnevicu seljaka, vlastelinske obitelji, vitezova i gradskog stanovništv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I ISHODI UČENJA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enici će svojim riječima objasniti pojmove: tropoljna zemljoradnja, dvorac, vitez, patriciji, pučani, ceh, gilda, sveučilište, romanika, gotik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116000" y="3933720"/>
            <a:ext cx="1901880" cy="267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140360" y="4043520"/>
            <a:ext cx="251928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I ISHODI UČENJA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484280"/>
            <a:ext cx="626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ci će pomoću udžbenika, radnih materijala i skupnih prezentacija navodeći najmanje dva primjera objasniti utjecaj Crkve i crkvenih redova na razvoj obrazovanja i umjetnost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ci će pomoću udžbenika, radnog materijala i skupnih prezentacija usporediti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značajke romaničkih i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gotičkih crkava navodeći najmanje dva element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5" name="Picture 16" descr="Description: http://www.scanno.org/images/s_francesco_01.jpg"/>
          <p:cNvPicPr/>
          <p:nvPr/>
        </p:nvPicPr>
        <p:blipFill>
          <a:blip r:embed="rId1"/>
          <a:srcRect l="0" t="0" r="-173" b="0"/>
          <a:stretch/>
        </p:blipFill>
        <p:spPr>
          <a:xfrm>
            <a:off x="6516720" y="1052640"/>
            <a:ext cx="2076480" cy="261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Description: mx_1200673110_Katedrala_Sv_Stosije"/>
          <p:cNvPicPr/>
          <p:nvPr/>
        </p:nvPicPr>
        <p:blipFill>
          <a:blip r:embed="rId2"/>
          <a:stretch/>
        </p:blipFill>
        <p:spPr>
          <a:xfrm>
            <a:off x="5580000" y="4508640"/>
            <a:ext cx="32418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enici će pomoću udžbenika, radnih materijala i skupnih prezentacija usporediti život ljudi u srednjem vijeku s današnjim prilikama navodeći najmanje tri primjer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enici će pomoću udžbenika i radnih materijala izraditi skupni plakat o svojoj temi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I ISHODI UČENJA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009800" y="1125360"/>
            <a:ext cx="72961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46040" y="148428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enici će pomoću udžbenika i  radnih materijala pripremiti skupnu prezentaciju (izvješće)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enici će procijeniti vlastiti rad i rad svoje skupin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I ISHODI UČENJA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508720" y="1197000"/>
            <a:ext cx="32493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ŠTINE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3280" y="549360"/>
            <a:ext cx="4500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ježbati suradnički rad u timu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ježbati prezentacijske vještin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ježbati opisivanje slik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ježbati tumačenje povijesnih izvor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zradu umnih map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5" name="Picture 2" descr="KOVAČKA RADIONICA"/>
          <p:cNvPicPr/>
          <p:nvPr/>
        </p:nvPicPr>
        <p:blipFill>
          <a:blip r:embed="rId1"/>
          <a:stretch/>
        </p:blipFill>
        <p:spPr>
          <a:xfrm>
            <a:off x="250920" y="2276640"/>
            <a:ext cx="4392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37447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hr-HR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UZIMANJE STAJALIŠTA</a:t>
            </a:r>
            <a:br>
              <a:rPr sz="2900"/>
            </a:br>
            <a:br>
              <a:rPr sz="29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35280" y="333000"/>
            <a:ext cx="4105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ocijeniti položaj i način života pojedinih staleža i društvenih skupin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zvijati osjećaj za lijepo analizom umjetničkih djela srednjovjekovlj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zauzeti stav o praznovjerjim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311292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OBLICI RADA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0" name="Zaobljeni pravokutnik 4"/>
          <p:cNvSpPr/>
          <p:nvPr/>
        </p:nvSpPr>
        <p:spPr>
          <a:xfrm>
            <a:off x="826920" y="1989000"/>
            <a:ext cx="2953080" cy="9352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Timski rad u skupi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aobljeni pravokutnik 5"/>
          <p:cNvSpPr/>
          <p:nvPr/>
        </p:nvSpPr>
        <p:spPr>
          <a:xfrm>
            <a:off x="2987640" y="4076640"/>
            <a:ext cx="2952720" cy="936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Individual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aobljeni pravokutnik 6"/>
          <p:cNvSpPr/>
          <p:nvPr/>
        </p:nvSpPr>
        <p:spPr>
          <a:xfrm>
            <a:off x="5292720" y="2276640"/>
            <a:ext cx="2951280" cy="936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Frontal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METODE POUČAVANJA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4" name="Zaobljeni pravokutnik 3"/>
          <p:cNvSpPr/>
          <p:nvPr/>
        </p:nvSpPr>
        <p:spPr>
          <a:xfrm>
            <a:off x="1258920" y="1557360"/>
            <a:ext cx="3025800" cy="144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vođeni i slobodni razgov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aobljeni pravokutnik 7"/>
          <p:cNvSpPr/>
          <p:nvPr/>
        </p:nvSpPr>
        <p:spPr>
          <a:xfrm>
            <a:off x="539640" y="4437000"/>
            <a:ext cx="2952720" cy="1584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d s posebno pripremljenim materija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aobljeni pravokutnik 9"/>
          <p:cNvSpPr/>
          <p:nvPr/>
        </p:nvSpPr>
        <p:spPr>
          <a:xfrm>
            <a:off x="5867280" y="1916280"/>
            <a:ext cx="2665440" cy="1008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d s udžbeni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aobljeni pravokutnik 10"/>
          <p:cNvSpPr/>
          <p:nvPr/>
        </p:nvSpPr>
        <p:spPr>
          <a:xfrm>
            <a:off x="4500720" y="3933720"/>
            <a:ext cx="2735280" cy="11509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učeničko izlag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ONAJ TKO SE NAUČIO RADITI U GRUPI TAJ SE PRIPREMIO ZA ŽIVOT”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Heinz Klipper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METODE UČENJA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9" name="Zaobljeni pravokutnik 3"/>
          <p:cNvSpPr/>
          <p:nvPr/>
        </p:nvSpPr>
        <p:spPr>
          <a:xfrm>
            <a:off x="1258920" y="1557360"/>
            <a:ext cx="3025800" cy="1440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isana obrada t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aobljeni pravokutnik 7"/>
          <p:cNvSpPr/>
          <p:nvPr/>
        </p:nvSpPr>
        <p:spPr>
          <a:xfrm>
            <a:off x="2556000" y="4292640"/>
            <a:ext cx="2952720" cy="1584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eproduktivni i kreativni praktič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aobljeni pravokutnik 10"/>
          <p:cNvSpPr/>
          <p:nvPr/>
        </p:nvSpPr>
        <p:spPr>
          <a:xfrm>
            <a:off x="5867280" y="2870280"/>
            <a:ext cx="2737080" cy="1152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zauzimanje stav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4000" y="4046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ZA RAD SU POTREBNI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3" name="Zaobljeni pravokutnik 7"/>
          <p:cNvSpPr/>
          <p:nvPr/>
        </p:nvSpPr>
        <p:spPr>
          <a:xfrm>
            <a:off x="5796000" y="141300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udžbe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aobljeni pravokutnik 11"/>
          <p:cNvSpPr/>
          <p:nvPr/>
        </p:nvSpPr>
        <p:spPr>
          <a:xfrm>
            <a:off x="6443640" y="306864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adna biljež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aobljeni pravokutnik 13"/>
          <p:cNvSpPr/>
          <p:nvPr/>
        </p:nvSpPr>
        <p:spPr>
          <a:xfrm>
            <a:off x="1763640" y="1341360"/>
            <a:ext cx="2233800" cy="7192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boj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aobljeni pravokutnik 14"/>
          <p:cNvSpPr/>
          <p:nvPr/>
        </p:nvSpPr>
        <p:spPr>
          <a:xfrm>
            <a:off x="3564000" y="2924280"/>
            <a:ext cx="2232000" cy="7189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šk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aobljeni pravokutnik 15"/>
          <p:cNvSpPr/>
          <p:nvPr/>
        </p:nvSpPr>
        <p:spPr>
          <a:xfrm>
            <a:off x="539640" y="4437000"/>
            <a:ext cx="2448000" cy="10526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nogo dobre vo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aobljeni pravokutnik 16"/>
          <p:cNvSpPr/>
          <p:nvPr/>
        </p:nvSpPr>
        <p:spPr>
          <a:xfrm>
            <a:off x="3995640" y="443700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jep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aobljeni pravokutnik 8"/>
          <p:cNvSpPr/>
          <p:nvPr/>
        </p:nvSpPr>
        <p:spPr>
          <a:xfrm>
            <a:off x="324000" y="2565360"/>
            <a:ext cx="2232000" cy="1224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datni materij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aobljeni pravokutnik 9"/>
          <p:cNvSpPr/>
          <p:nvPr/>
        </p:nvSpPr>
        <p:spPr>
          <a:xfrm>
            <a:off x="3635280" y="580536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apir za pla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ownRibbonSharp"/>
          <p:cNvSpPr/>
          <p:nvPr/>
        </p:nvSpPr>
        <p:spPr>
          <a:xfrm>
            <a:off x="179280" y="2637000"/>
            <a:ext cx="8569440" cy="2409840"/>
          </a:xfrm>
          <a:custGeom>
            <a:avLst/>
            <a:gdLst>
              <a:gd name="textAreaLeft" fmla="*/ 2142360 w 8569440"/>
              <a:gd name="textAreaRight" fmla="*/ 6427080 w 8569440"/>
              <a:gd name="textAreaTop" fmla="*/ 300960 h 2409840"/>
              <a:gd name="textAreaBottom" fmla="*/ 2410200 h 24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lnTo>
                  <a:pt x="0" y="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8eb4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RADA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3284640"/>
            <a:ext cx="496872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am koraka</a:t>
            </a:r>
            <a:endParaRPr b="0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4" name="Zaobljeni pravokutnik 4"/>
          <p:cNvSpPr/>
          <p:nvPr/>
        </p:nvSpPr>
        <p:spPr>
          <a:xfrm>
            <a:off x="3276720" y="5732640"/>
            <a:ext cx="2879640" cy="720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kroz obr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5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TIPOVI ZADATAKA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6" name="Zaobljeni pravokutnik 13"/>
          <p:cNvSpPr/>
          <p:nvPr/>
        </p:nvSpPr>
        <p:spPr>
          <a:xfrm>
            <a:off x="324000" y="141300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pisivanje s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aobljeni pravokutnik 13"/>
          <p:cNvSpPr/>
          <p:nvPr/>
        </p:nvSpPr>
        <p:spPr>
          <a:xfrm>
            <a:off x="6018120" y="5342040"/>
            <a:ext cx="2879640" cy="12240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straživanje u školskoj knjiž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aobljeni pravokutnik 13"/>
          <p:cNvSpPr/>
          <p:nvPr/>
        </p:nvSpPr>
        <p:spPr>
          <a:xfrm>
            <a:off x="347760" y="2575080"/>
            <a:ext cx="2233440" cy="8632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itanja uz tek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aobljeni pravokutnik 13"/>
          <p:cNvSpPr/>
          <p:nvPr/>
        </p:nvSpPr>
        <p:spPr>
          <a:xfrm>
            <a:off x="755640" y="5521320"/>
            <a:ext cx="2233800" cy="86508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itanja uz sl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aobljeni pravokutnik 13"/>
          <p:cNvSpPr/>
          <p:nvPr/>
        </p:nvSpPr>
        <p:spPr>
          <a:xfrm>
            <a:off x="6018120" y="3008160"/>
            <a:ext cx="2592360" cy="12146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itanja uz povijesnu kar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aobljeni pravokutnik 13"/>
          <p:cNvSpPr/>
          <p:nvPr/>
        </p:nvSpPr>
        <p:spPr>
          <a:xfrm>
            <a:off x="5613480" y="1509840"/>
            <a:ext cx="2808360" cy="1296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punjavanje usporedne ta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aobljeni pravokutnik 13"/>
          <p:cNvSpPr/>
          <p:nvPr/>
        </p:nvSpPr>
        <p:spPr>
          <a:xfrm>
            <a:off x="3143160" y="3008160"/>
            <a:ext cx="2233800" cy="12924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zrada lente vrem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aobljeni pravokutnik 13"/>
          <p:cNvSpPr/>
          <p:nvPr/>
        </p:nvSpPr>
        <p:spPr>
          <a:xfrm>
            <a:off x="3139920" y="1549440"/>
            <a:ext cx="2233800" cy="12571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zrada skupnog pla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aobljeni pravokutnik 13"/>
          <p:cNvSpPr/>
          <p:nvPr/>
        </p:nvSpPr>
        <p:spPr>
          <a:xfrm>
            <a:off x="468360" y="3824280"/>
            <a:ext cx="2448000" cy="129240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zrada shematskog prik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aobljeni pravokutnik 13"/>
          <p:cNvSpPr/>
          <p:nvPr/>
        </p:nvSpPr>
        <p:spPr>
          <a:xfrm>
            <a:off x="3125880" y="4470480"/>
            <a:ext cx="2847960" cy="129204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opunjavanje tek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ZAVRŠNO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IZLAGANJ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izlaganje popraćeno slikama na ppt prezentaciji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samostalno dopunjavanje individualnih radnih listić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sinteza pomoću pitanja na pp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LITERATURA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Klippert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Heinz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Kako uspješno učiti u timu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, Educa, Zagreb 2001.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Sadaić, K.: </a:t>
            </a:r>
            <a:r>
              <a:rPr b="0" i="1" lang="hr-HR" sz="2700" spc="-1" strike="noStrike">
                <a:solidFill>
                  <a:srgbClr val="000000"/>
                </a:solidFill>
                <a:latin typeface="Bookman Old Style"/>
              </a:rPr>
              <a:t>Strategije primjerene malim skupinama 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Bognar, Ladislav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Suradničko učenje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,(2006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.), http://ladislav-bognar.net/node/30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Brüning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Ludger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;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 Saum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Bookman Old Style"/>
              </a:rPr>
              <a:t>Tobias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Suradničkim učenjem do uspješne nastave</a:t>
            </a:r>
            <a:r>
              <a:rPr b="0" i="1" lang="hr-HR" sz="27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Naklada Kosinj</a:t>
            </a:r>
            <a:r>
              <a:rPr b="0" i="1" lang="hr-HR" sz="27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Bookman Old Style"/>
              </a:rPr>
              <a:t>Zagreb 2008. 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A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000" y="11970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Burke, Peter: „Očevid – upotreba slike kao povijesnog dokaza“, Antibarbarus, Zagreb 2003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Cartwright, Frederick i Biddiss, Michael: „Bolest i povijest“, Naklada Ljevak, Zagreb 2006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Goldstein, Ivo i Grgin, Borislav: „Europa i Sredozemlje u srednjem vijeku“, Novi Liber 2008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Grupa autora-Kako gdje zašto i kao dogodilo? Mozaik knjiga 2005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Grupa autora: Povijest (sv. 5-9), Jutarnji list 2007./2008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Huizniga, Johan: „Jesen srednjeg vijeka“, Naprijed, Zagreb 1991.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A</a:t>
            </a: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600200"/>
            <a:ext cx="82803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Le Goff, Jacques: „Civilizacija srednjevjekovnog Zapada“, Golden marketing, Zagreb 1998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e Goff, Jacques: Priča o Europi, Školska knjiga,  Zagreb 2003</a:t>
            </a:r>
            <a:r>
              <a:rPr b="0" lang="hr-HR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endić-Miočević, Ivo: Učenik istražitelj prošlosti, ŠK, Zagreb 2000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Užasi povijesti –Lukavi Slaveni,Povijest ljudskog roda –Velika otkrića-Založba mladinska knjiga,1990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POJMOVI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grupni (skupni)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rad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suradničko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čenj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788000" y="1190520"/>
            <a:ext cx="42274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O GRUPNOM RADU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optimalno 3-4 član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iste grupe trebaju raditi zajedno duže vrijem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nitko nije isključen iz rad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nitko ne grabi posao samo za seb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grupa treba moći izvesti grupno izlaganje i bez pokojeg člana grup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O GRUPNOM RADU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ad u 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grupi</a:t>
            </a: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 ne znači samo sjediti zajedno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Grupni </a:t>
            </a: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rad znači surađivati pridržavajući se pravila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 i</a:t>
            </a: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 koncentrirati 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se </a:t>
            </a: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na rješavanje zadatk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učenici 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su </a:t>
            </a:r>
            <a:r>
              <a:rPr b="0" lang="vi-VN" sz="3200" spc="-1" strike="noStrike">
                <a:solidFill>
                  <a:srgbClr val="000000"/>
                </a:solidFill>
                <a:latin typeface="Bookman Old Style"/>
              </a:rPr>
              <a:t>na najbolji mogući način upućeni jedni na druge, jedni drugima pružaju podršku pri učenju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Bookman Old Style"/>
              </a:rPr>
              <a:t>O SURADNIČKOM UČENJU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spjeh grupe ovisi o svim članovima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uspjeh svakog člana ovisi o uspjehu grupe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antiteza natjecateljskom učenju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razvija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iz socijalnih vještina</a:t>
            </a:r>
            <a:r>
              <a:rPr b="0" lang="hr-HR" sz="32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611280" y="4797360"/>
            <a:ext cx="1657080" cy="719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leranci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2843280" y="4797360"/>
            <a:ext cx="1800000" cy="719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dogova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5148360" y="4797360"/>
            <a:ext cx="1655640" cy="719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djela za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2827440" y="5805360"/>
            <a:ext cx="1657080" cy="719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pomag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LET SREDNJOVJEKOVNE EUROPE OD 11.-14. STOLJEĆ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000" y="13413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djela nastavne </a:t>
            </a:r>
            <a:r>
              <a:rPr b="0" lang="hr-HR" sz="2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cjeline (TEME)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u sedam radnih skupina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Napredak u poljodjelstvu i nove tehnologij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rednjovjekovni dvorc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Vitezov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rednjovjekovni gradov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brazovanje i trubadur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rocvat graditeljstva-romanika i gotik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pasnosti i strahov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loud"/>
          <p:cNvSpPr/>
          <p:nvPr/>
        </p:nvSpPr>
        <p:spPr>
          <a:xfrm>
            <a:off x="684360" y="1844640"/>
            <a:ext cx="6983280" cy="4032360"/>
          </a:xfrm>
          <a:custGeom>
            <a:avLst/>
            <a:gdLst>
              <a:gd name="textAreaLeft" fmla="*/ 962280 w 6983280"/>
              <a:gd name="textAreaRight" fmla="*/ 5524200 w 6983280"/>
              <a:gd name="textAreaTop" fmla="*/ 608760 h 4032360"/>
              <a:gd name="textAreaBottom" fmla="*/ 3236760 h 4032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8eb4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02920" y="2636640"/>
            <a:ext cx="6193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ri školska sata - rad  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četvrti i peti sat – </a:t>
            </a:r>
            <a:r>
              <a:rPr b="0" lang="hr-HR" sz="28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rezentiranje, sinteza, evaluacija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vi  učenici - ocijenjen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743280" cy="1495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0" y="333000"/>
            <a:ext cx="437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jevi nastavne jedinice: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600200"/>
            <a:ext cx="5699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STJEČU ZNANJA O: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promjenama u poljoprivrednoj proizvodnji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načinu života pojedinih staleža (vlastelina, vitezova, građana, seljaka)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razvoju obrazovanja i kultur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Bookman Old Style"/>
              </a:rPr>
              <a:t>bolestima i praznovjerjima srednjovjekovnih ljudi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372360" y="1557360"/>
          <a:ext cx="2336760" cy="2879640"/>
        </p:xfrm>
        <a:graphic>
          <a:graphicData uri="http://schemas.openxmlformats.org/drawingml/2006/table">
            <a:tbl>
              <a:tblPr/>
              <a:tblGrid>
                <a:gridCol w="2336760"/>
              </a:tblGrid>
              <a:tr h="960480">
                <a:tc>
                  <a:txBody>
                    <a:bodyPr lIns="68400" rIns="68400" tIns="0" bIns="0" anchor="t">
                      <a:noAutofit/>
                    </a:bodyPr>
                    <a:p>
                      <a:pPr indent="45720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ŠE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586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PO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UP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60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PO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IŠ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6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7" descr="Description: http://www.revelation-today.com/SymbolWheat.jpg"/>
          <p:cNvPicPr/>
          <p:nvPr/>
        </p:nvPicPr>
        <p:blipFill>
          <a:blip r:embed="rId2"/>
          <a:stretch/>
        </p:blipFill>
        <p:spPr>
          <a:xfrm>
            <a:off x="7885080" y="1628640"/>
            <a:ext cx="530280" cy="66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Description: http://t3.gstatic.com/images?q=tbn:ANd9GcRQI96BH3Ln-LZ00hxVp53LLbLyWy9IOlxvYO3JVoTlg3BRWlNLPg"/>
          <p:cNvPicPr/>
          <p:nvPr/>
        </p:nvPicPr>
        <p:blipFill>
          <a:blip r:embed="rId3"/>
          <a:stretch/>
        </p:blipFill>
        <p:spPr>
          <a:xfrm>
            <a:off x="7956720" y="270828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0T08:11:46Z</dcterms:created>
  <dc:creator>Daniela</dc:creator>
  <dc:description/>
  <dc:language>en-US</dc:language>
  <cp:lastModifiedBy>Daniela</cp:lastModifiedBy>
  <dcterms:modified xsi:type="dcterms:W3CDTF">2013-01-07T18:44:24Z</dcterms:modified>
  <cp:revision>48</cp:revision>
  <dc:subject/>
  <dc:title>PowerPoint Presentation</dc:title>
</cp:coreProperties>
</file>